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4D2-55B8-4607-A1EE-B1D48E14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7FF-383F-439D-BE22-CE308332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B10-1605-4295-99BB-E0B8E4C4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586-5BC7-4913-907C-1742B1AA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C9F-025A-4880-8DCE-7BB4F35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727-C42C-4E4C-97D7-F2ADA592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54F-9063-475C-9171-4B502C88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3DD-63E4-4701-AD51-E6D9B55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4AD-2E4A-40C6-B0EC-06193909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397-79AF-433B-A43D-C0EEB51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7D1-99A2-49DE-8EE5-FAC8F697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3B7-3962-487A-AF4C-E76161B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ADD0-1335-47D7-A424-92720EDE70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淡蓝汇报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2607c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30D-51DD-4427-ADB5-8AA4D67A3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26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2607c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7:14:25Z</dcterms:created>
  <dc:creator>keke</dc:creator>
  <dc:description/>
  <dc:language>en-US</dc:language>
  <cp:lastModifiedBy>toshiba</cp:lastModifiedBy>
  <dcterms:modified xsi:type="dcterms:W3CDTF">2015-08-09T01:10:51Z</dcterms:modified>
  <cp:revision>4</cp:revision>
  <dc:subject/>
  <dc:title>站长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