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437-FCF6-425C-B0DB-5ECC4951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33D-316B-4614-AFFB-906D5B47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CFF-B5F4-4A62-B69B-AF422E9A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FFB-14B9-4595-AE42-A8DB2A04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978-7615-42A8-8B32-777FF68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DC1-1E58-4655-A329-AFFFD22B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17D-5BE2-4080-A089-41A9E6C0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2CD-A355-4439-84C1-9A95DC7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6FB-3F23-41CC-98BA-7ED9A41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66A-4895-42BB-BCF2-555C436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7CF-3E09-4272-B7BD-35F8733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17E-064D-43AA-A7A6-67F2B11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B6A-587A-46EA-9E4E-8FCD19F9E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未标题-3.png"/>
          <p:cNvPicPr/>
          <p:nvPr/>
        </p:nvPicPr>
        <p:blipFill>
          <a:blip r:embed="rId2"/>
          <a:stretch/>
        </p:blipFill>
        <p:spPr>
          <a:xfrm>
            <a:off x="0" y="6242040"/>
            <a:ext cx="6588000" cy="7873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6418440" y="648828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54000" y="404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典雅背景论文答辩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2AB-2C1F-4B90-8720-A6BD3A8513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未标题-3.png"/>
          <p:cNvPicPr/>
          <p:nvPr/>
        </p:nvPicPr>
        <p:blipFill>
          <a:blip r:embed="rId2"/>
          <a:stretch/>
        </p:blipFill>
        <p:spPr>
          <a:xfrm>
            <a:off x="0" y="6242040"/>
            <a:ext cx="6588000" cy="78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Baron Wang</dc:creator>
  <dc:description/>
  <dc:language>en-US</dc:language>
  <cp:lastModifiedBy>黄炜炜</cp:lastModifiedBy>
  <dcterms:modified xsi:type="dcterms:W3CDTF">2015-08-09T01:09:0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