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EC9-E367-4542-8ED5-E5E5BBD3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975-5582-417D-BF37-40FEB874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D41-CFFD-4C6C-8415-A5B7D13C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D0B-0722-4FD3-9E8D-92D10809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935E-98D1-4B85-A114-78A92209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4F95-ED70-4DD1-BACD-FEFF840A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262F-2F13-4290-A63E-A9EB1E49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BA9D-270E-4705-B155-204B9448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04E4-B140-48EF-B313-C661C7D4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3FF0-D452-4301-8247-1DD1B073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8A1F-92D3-4049-94E4-011BA091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B75-779A-4C74-B215-B1CBA521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AD4E-9439-4BA5-9385-8EA5B0B4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E2DB-90B4-4E97-9A8C-BE4BC9AC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2E18-77A0-42CE-ACAA-186AADE1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E7D4-9078-4F35-89E0-0A94F757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93F5-6AD1-4172-9C0B-6EC47916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CEBEC-8151-4926-A8FB-25160925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6F32A-881C-487D-91C0-C75A7C88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05979-33DA-42C9-B761-2A27CB5D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EA1BE-EE64-406B-BC12-D5DF2798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778B9-3473-42E0-96A8-E60311D4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CA5-3DF0-4C8B-9364-D1FDF8B1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F352-5CF7-45A5-875E-8D5C9E20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88DFE-6B3B-425D-98AB-03CB85E6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F6E74-71F2-4DF2-96CD-22394954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59C6D-FE8E-49FB-A945-2A8975F6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A7EBF-B639-4705-A107-77F850FB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06DF9-2ADE-4196-BF60-02BE7FCC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F5822-31A2-41B9-9CAC-37DAABD9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F71-83C7-4EB6-8B24-CF859448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11F-9455-45D4-B83E-28C89A2C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2EA-D10E-4269-AEF2-785DA071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BB7-FBD4-4EAC-B05E-67AEB826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20D-E7D5-4B5A-BB75-3E10B16B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DA8-8C62-4259-84A0-5DE95EA7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03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6492-FB78-400C-91ED-4F06D39E8643}" type="slidenum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E3A7-BDA6-475B-A3DA-7F9D8B9EF20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8">
            <a:hlinkClick r:id="rId4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93840" y="62654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16160" y="6265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4156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2312-D190-4C6A-9808-29833F7099C9}" type="slidenum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8" descr="Unbenannt-2"/>
          <p:cNvPicPr/>
          <p:nvPr/>
        </p:nvPicPr>
        <p:blipFill>
          <a:blip r:embed="rId2"/>
          <a:stretch/>
        </p:blipFill>
        <p:spPr>
          <a:xfrm>
            <a:off x="5724360" y="2997360"/>
            <a:ext cx="279720" cy="431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58320" y="1341360"/>
            <a:ext cx="52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淡雅风格汇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华文细黑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5950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713-28CE-4295-84E9-98E21A1F85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71960" y="2571840"/>
            <a:ext cx="33861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感谢您的关注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08:43:48Z</dcterms:created>
  <dc:creator>PowerBar_lxym148</dc:creator>
  <dc:description>PowerBar：中国专业ppt设计交流论坛，是基于PowerPoint软件，以设计，创意，技巧，讨论，赏析，模板发布内容为主。
通过Nordri设计团队并汇集国内优秀PowerPoint设计者/爱好者的原创力量，建立更多与PPT相关的专业内容，为网友共享。 
</dc:description>
  <cp:keywords>ppt模板 PPT专业模板 PowerBar 专业PPT论坛</cp:keywords>
  <dc:language>en-US</dc:language>
  <cp:lastModifiedBy>toshiba</cp:lastModifiedBy>
  <dcterms:modified xsi:type="dcterms:W3CDTF">2015-08-09T01:10:52Z</dcterms:modified>
  <cp:revision>39</cp:revision>
  <dc:subject>PowerBar原创专业PPT模板</dc:subject>
  <dc:title>PowerBar原创专业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