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5.gif" ContentType="image/gi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8E6E-59AB-4255-A8B7-2C1A2213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7E18-25E7-4844-86DD-A17B64CD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8935-E8AF-4B47-87FF-9C999859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1F60-C901-414B-B540-F1303B41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E938-5636-48E6-940C-26B1E76F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A0F9-2512-4D86-8446-8C03123E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92DE-E6EC-4F75-924D-9E1841E1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450F-AAA0-4800-8FA6-0B96C277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77D4-A8D5-4F62-9AF9-A33877F1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E3BB-205D-4CE2-B1BD-CF3848A3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5DBE-DCAC-46C1-A0B9-C239D1A8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704B7-F3B4-4A28-8BF3-EF75026F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72440" cy="887400"/>
          </a:xfrm>
          <a:custGeom>
            <a:avLst/>
            <a:gdLst/>
            <a:ahLst/>
            <a:rect l="l" t="t" r="r" b="b"/>
            <a:pathLst>
              <a:path w="5778" h="565">
                <a:moveTo>
                  <a:pt x="0" y="565"/>
                </a:moveTo>
                <a:lnTo>
                  <a:pt x="0" y="0"/>
                </a:lnTo>
                <a:lnTo>
                  <a:pt x="5766" y="0"/>
                </a:lnTo>
                <a:lnTo>
                  <a:pt x="5778" y="565"/>
                </a:lnTo>
                <a:lnTo>
                  <a:pt x="0" y="565"/>
                </a:lnTo>
                <a:close/>
              </a:path>
            </a:pathLst>
          </a:custGeom>
          <a:gradFill rotWithShape="0">
            <a:gsLst>
              <a:gs pos="0">
                <a:srgbClr val="20a0ba"/>
              </a:gs>
              <a:gs pos="100000">
                <a:srgbClr val="2029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3917" r="0" b="0"/>
          <a:stretch/>
        </p:blipFill>
        <p:spPr>
          <a:xfrm>
            <a:off x="3048120" y="0"/>
            <a:ext cx="6095880" cy="9302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4514400" y="5410080"/>
            <a:ext cx="4638600" cy="1517760"/>
            <a:chOff x="4514400" y="5410080"/>
            <a:chExt cx="4638600" cy="1517760"/>
          </a:xfrm>
        </p:grpSpPr>
        <p:sp>
          <p:nvSpPr>
            <p:cNvPr id="3" name=""/>
            <p:cNvSpPr/>
            <p:nvPr/>
          </p:nvSpPr>
          <p:spPr>
            <a:xfrm flipH="1" flipV="1">
              <a:off x="4603320" y="5508360"/>
              <a:ext cx="4541040" cy="1403280"/>
            </a:xfrm>
            <a:custGeom>
              <a:avLst/>
              <a:gdLst/>
              <a:ahLst/>
              <a:rect l="l" t="t" r="r" b="b"/>
              <a:pathLst>
                <a:path w="3682" h="1203">
                  <a:moveTo>
                    <a:pt x="0" y="1203"/>
                  </a:moveTo>
                  <a:lnTo>
                    <a:pt x="0" y="51"/>
                  </a:lnTo>
                  <a:cubicBezTo>
                    <a:pt x="0" y="51"/>
                    <a:pt x="3475" y="0"/>
                    <a:pt x="3682" y="51"/>
                  </a:cubicBezTo>
                  <a:cubicBezTo>
                    <a:pt x="2491" y="76"/>
                    <a:pt x="2161" y="90"/>
                    <a:pt x="1242" y="355"/>
                  </a:cubicBezTo>
                  <a:cubicBezTo>
                    <a:pt x="323" y="620"/>
                    <a:pt x="0" y="1203"/>
                    <a:pt x="0" y="1203"/>
                  </a:cubicBezTo>
                  <a:close/>
                </a:path>
              </a:pathLst>
            </a:custGeom>
            <a:gradFill rotWithShape="0">
              <a:gsLst>
                <a:gs pos="0">
                  <a:srgbClr val="20a0ba"/>
                </a:gs>
                <a:gs pos="100000">
                  <a:srgbClr val="2029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flipV="1">
              <a:off x="4514040" y="5410080"/>
              <a:ext cx="4638600" cy="1517760"/>
            </a:xfrm>
            <a:custGeom>
              <a:avLst/>
              <a:gdLst/>
              <a:ahLst/>
              <a:rect l="l" t="t" r="r" b="b"/>
              <a:pathLst>
                <a:path w="3761" h="1301">
                  <a:moveTo>
                    <a:pt x="0" y="1301"/>
                  </a:moveTo>
                  <a:cubicBezTo>
                    <a:pt x="537" y="615"/>
                    <a:pt x="887" y="532"/>
                    <a:pt x="1514" y="330"/>
                  </a:cubicBezTo>
                  <a:cubicBezTo>
                    <a:pt x="2141" y="128"/>
                    <a:pt x="3761" y="80"/>
                    <a:pt x="3747" y="65"/>
                  </a:cubicBezTo>
                  <a:cubicBezTo>
                    <a:pt x="2738" y="0"/>
                    <a:pt x="2001" y="110"/>
                    <a:pt x="1469" y="246"/>
                  </a:cubicBezTo>
                  <a:cubicBezTo>
                    <a:pt x="939" y="382"/>
                    <a:pt x="395" y="615"/>
                    <a:pt x="7" y="1081"/>
                  </a:cubicBezTo>
                  <a:lnTo>
                    <a:pt x="0" y="1301"/>
                  </a:lnTo>
                  <a:close/>
                </a:path>
              </a:pathLst>
            </a:custGeom>
            <a:solidFill>
              <a:srgbClr val="1c1c1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a0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822240"/>
            <a:ext cx="9144000" cy="128520"/>
          </a:xfrm>
          <a:prstGeom prst="rect">
            <a:avLst/>
          </a:prstGeom>
          <a:solidFill>
            <a:srgbClr val="1c1c1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4292-D57D-41E6-A928-5FBA6E87423E}" type="slidenum"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8267760" y="138240"/>
            <a:ext cx="762120" cy="765000"/>
            <a:chOff x="8267760" y="138240"/>
            <a:chExt cx="762120" cy="765000"/>
          </a:xfrm>
        </p:grpSpPr>
        <p:sp>
          <p:nvSpPr>
            <p:cNvPr id="12" name=""/>
            <p:cNvSpPr/>
            <p:nvPr/>
          </p:nvSpPr>
          <p:spPr>
            <a:xfrm>
              <a:off x="8502120" y="138240"/>
              <a:ext cx="248760" cy="765000"/>
            </a:xfrm>
            <a:custGeom>
              <a:avLst/>
              <a:gdLst/>
              <a:ahLst/>
              <a:rect l="l" t="t" r="r" b="b"/>
              <a:pathLst>
                <a:path w="558" h="1716">
                  <a:moveTo>
                    <a:pt x="273" y="12"/>
                  </a:moveTo>
                  <a:lnTo>
                    <a:pt x="318" y="0"/>
                  </a:lnTo>
                  <a:lnTo>
                    <a:pt x="351" y="27"/>
                  </a:lnTo>
                  <a:lnTo>
                    <a:pt x="342" y="294"/>
                  </a:lnTo>
                  <a:lnTo>
                    <a:pt x="327" y="741"/>
                  </a:lnTo>
                  <a:lnTo>
                    <a:pt x="306" y="828"/>
                  </a:lnTo>
                  <a:lnTo>
                    <a:pt x="321" y="933"/>
                  </a:lnTo>
                  <a:lnTo>
                    <a:pt x="303" y="1026"/>
                  </a:lnTo>
                  <a:lnTo>
                    <a:pt x="315" y="1140"/>
                  </a:lnTo>
                  <a:lnTo>
                    <a:pt x="297" y="1248"/>
                  </a:lnTo>
                  <a:lnTo>
                    <a:pt x="306" y="1314"/>
                  </a:lnTo>
                  <a:lnTo>
                    <a:pt x="297" y="1386"/>
                  </a:lnTo>
                  <a:lnTo>
                    <a:pt x="327" y="1554"/>
                  </a:lnTo>
                  <a:lnTo>
                    <a:pt x="444" y="1653"/>
                  </a:lnTo>
                  <a:lnTo>
                    <a:pt x="558" y="1677"/>
                  </a:lnTo>
                  <a:lnTo>
                    <a:pt x="543" y="1695"/>
                  </a:lnTo>
                  <a:lnTo>
                    <a:pt x="309" y="1716"/>
                  </a:lnTo>
                  <a:lnTo>
                    <a:pt x="147" y="1713"/>
                  </a:lnTo>
                  <a:lnTo>
                    <a:pt x="15" y="1689"/>
                  </a:lnTo>
                  <a:lnTo>
                    <a:pt x="0" y="1665"/>
                  </a:lnTo>
                  <a:lnTo>
                    <a:pt x="45" y="1653"/>
                  </a:lnTo>
                  <a:lnTo>
                    <a:pt x="141" y="1620"/>
                  </a:lnTo>
                  <a:lnTo>
                    <a:pt x="228" y="1539"/>
                  </a:lnTo>
                  <a:lnTo>
                    <a:pt x="246" y="1473"/>
                  </a:lnTo>
                  <a:lnTo>
                    <a:pt x="243" y="1443"/>
                  </a:lnTo>
                  <a:lnTo>
                    <a:pt x="255" y="1368"/>
                  </a:lnTo>
                  <a:lnTo>
                    <a:pt x="249" y="1311"/>
                  </a:lnTo>
                  <a:lnTo>
                    <a:pt x="261" y="1227"/>
                  </a:lnTo>
                  <a:lnTo>
                    <a:pt x="252" y="1146"/>
                  </a:lnTo>
                  <a:lnTo>
                    <a:pt x="264" y="1008"/>
                  </a:lnTo>
                  <a:lnTo>
                    <a:pt x="255" y="933"/>
                  </a:lnTo>
                  <a:lnTo>
                    <a:pt x="270" y="819"/>
                  </a:lnTo>
                  <a:lnTo>
                    <a:pt x="258" y="741"/>
                  </a:lnTo>
                  <a:lnTo>
                    <a:pt x="27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52800" y="202320"/>
              <a:ext cx="388440" cy="49320"/>
            </a:xfrm>
            <a:custGeom>
              <a:avLst/>
              <a:gdLst/>
              <a:ahLst/>
              <a:rect l="l" t="t" r="r" b="b"/>
              <a:pathLst>
                <a:path w="871" h="111">
                  <a:moveTo>
                    <a:pt x="51" y="45"/>
                  </a:moveTo>
                  <a:cubicBezTo>
                    <a:pt x="40" y="45"/>
                    <a:pt x="12" y="31"/>
                    <a:pt x="6" y="39"/>
                  </a:cubicBezTo>
                  <a:cubicBezTo>
                    <a:pt x="0" y="47"/>
                    <a:pt x="7" y="86"/>
                    <a:pt x="15" y="96"/>
                  </a:cubicBezTo>
                  <a:lnTo>
                    <a:pt x="54" y="99"/>
                  </a:lnTo>
                  <a:lnTo>
                    <a:pt x="111" y="57"/>
                  </a:lnTo>
                  <a:lnTo>
                    <a:pt x="246" y="33"/>
                  </a:lnTo>
                  <a:lnTo>
                    <a:pt x="462" y="30"/>
                  </a:lnTo>
                  <a:lnTo>
                    <a:pt x="717" y="66"/>
                  </a:lnTo>
                  <a:lnTo>
                    <a:pt x="789" y="111"/>
                  </a:lnTo>
                  <a:lnTo>
                    <a:pt x="843" y="87"/>
                  </a:lnTo>
                  <a:cubicBezTo>
                    <a:pt x="855" y="75"/>
                    <a:pt x="871" y="47"/>
                    <a:pt x="861" y="39"/>
                  </a:cubicBezTo>
                  <a:cubicBezTo>
                    <a:pt x="851" y="31"/>
                    <a:pt x="799" y="37"/>
                    <a:pt x="783" y="39"/>
                  </a:cubicBezTo>
                  <a:lnTo>
                    <a:pt x="765" y="54"/>
                  </a:lnTo>
                  <a:lnTo>
                    <a:pt x="669" y="18"/>
                  </a:lnTo>
                  <a:lnTo>
                    <a:pt x="387" y="0"/>
                  </a:lnTo>
                  <a:lnTo>
                    <a:pt x="234" y="0"/>
                  </a:lnTo>
                  <a:lnTo>
                    <a:pt x="72" y="42"/>
                  </a:lnTo>
                  <a:lnTo>
                    <a:pt x="5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1600" y="232920"/>
              <a:ext cx="299520" cy="419760"/>
            </a:xfrm>
            <a:custGeom>
              <a:avLst/>
              <a:gdLst/>
              <a:ahLst/>
              <a:rect l="l" t="t" r="r" b="b"/>
              <a:pathLst>
                <a:path w="672" h="942">
                  <a:moveTo>
                    <a:pt x="363" y="33"/>
                  </a:moveTo>
                  <a:lnTo>
                    <a:pt x="39" y="864"/>
                  </a:lnTo>
                  <a:lnTo>
                    <a:pt x="0" y="888"/>
                  </a:lnTo>
                  <a:lnTo>
                    <a:pt x="63" y="891"/>
                  </a:lnTo>
                  <a:lnTo>
                    <a:pt x="81" y="819"/>
                  </a:lnTo>
                  <a:lnTo>
                    <a:pt x="369" y="63"/>
                  </a:lnTo>
                  <a:lnTo>
                    <a:pt x="627" y="903"/>
                  </a:lnTo>
                  <a:lnTo>
                    <a:pt x="618" y="930"/>
                  </a:lnTo>
                  <a:lnTo>
                    <a:pt x="660" y="942"/>
                  </a:lnTo>
                  <a:lnTo>
                    <a:pt x="672" y="918"/>
                  </a:lnTo>
                  <a:lnTo>
                    <a:pt x="645" y="897"/>
                  </a:lnTo>
                  <a:lnTo>
                    <a:pt x="369" y="0"/>
                  </a:lnTo>
                  <a:lnTo>
                    <a:pt x="354" y="5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53320" y="228960"/>
              <a:ext cx="342360" cy="457200"/>
            </a:xfrm>
            <a:custGeom>
              <a:avLst/>
              <a:gdLst/>
              <a:ahLst/>
              <a:rect l="l" t="t" r="r" b="b"/>
              <a:pathLst>
                <a:path w="768" h="1026">
                  <a:moveTo>
                    <a:pt x="369" y="21"/>
                  </a:moveTo>
                  <a:lnTo>
                    <a:pt x="26" y="960"/>
                  </a:lnTo>
                  <a:lnTo>
                    <a:pt x="0" y="1026"/>
                  </a:lnTo>
                  <a:lnTo>
                    <a:pt x="66" y="1017"/>
                  </a:lnTo>
                  <a:lnTo>
                    <a:pt x="54" y="975"/>
                  </a:lnTo>
                  <a:lnTo>
                    <a:pt x="375" y="78"/>
                  </a:lnTo>
                  <a:lnTo>
                    <a:pt x="711" y="999"/>
                  </a:lnTo>
                  <a:lnTo>
                    <a:pt x="693" y="1017"/>
                  </a:lnTo>
                  <a:lnTo>
                    <a:pt x="738" y="1023"/>
                  </a:lnTo>
                  <a:lnTo>
                    <a:pt x="768" y="1014"/>
                  </a:lnTo>
                  <a:lnTo>
                    <a:pt x="735" y="990"/>
                  </a:lnTo>
                  <a:lnTo>
                    <a:pt x="380" y="3"/>
                  </a:lnTo>
                  <a:lnTo>
                    <a:pt x="36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42880" y="542880"/>
              <a:ext cx="387000" cy="173880"/>
            </a:xfrm>
            <a:custGeom>
              <a:avLst/>
              <a:gdLst/>
              <a:ahLst/>
              <a:rect l="l" t="t" r="r" b="b"/>
              <a:pathLst>
                <a:path w="868" h="390">
                  <a:moveTo>
                    <a:pt x="360" y="3"/>
                  </a:moveTo>
                  <a:cubicBezTo>
                    <a:pt x="340" y="0"/>
                    <a:pt x="293" y="1"/>
                    <a:pt x="266" y="3"/>
                  </a:cubicBezTo>
                  <a:cubicBezTo>
                    <a:pt x="239" y="5"/>
                    <a:pt x="204" y="13"/>
                    <a:pt x="197" y="17"/>
                  </a:cubicBezTo>
                  <a:lnTo>
                    <a:pt x="225" y="30"/>
                  </a:lnTo>
                  <a:lnTo>
                    <a:pt x="221" y="46"/>
                  </a:lnTo>
                  <a:lnTo>
                    <a:pt x="279" y="52"/>
                  </a:lnTo>
                  <a:lnTo>
                    <a:pt x="219" y="51"/>
                  </a:lnTo>
                  <a:lnTo>
                    <a:pt x="210" y="78"/>
                  </a:lnTo>
                  <a:lnTo>
                    <a:pt x="344" y="91"/>
                  </a:lnTo>
                  <a:lnTo>
                    <a:pt x="207" y="84"/>
                  </a:lnTo>
                  <a:lnTo>
                    <a:pt x="329" y="96"/>
                  </a:lnTo>
                  <a:lnTo>
                    <a:pt x="204" y="93"/>
                  </a:lnTo>
                  <a:lnTo>
                    <a:pt x="198" y="108"/>
                  </a:lnTo>
                  <a:lnTo>
                    <a:pt x="207" y="153"/>
                  </a:lnTo>
                  <a:lnTo>
                    <a:pt x="219" y="180"/>
                  </a:lnTo>
                  <a:lnTo>
                    <a:pt x="219" y="192"/>
                  </a:lnTo>
                  <a:lnTo>
                    <a:pt x="264" y="201"/>
                  </a:lnTo>
                  <a:lnTo>
                    <a:pt x="213" y="198"/>
                  </a:lnTo>
                  <a:lnTo>
                    <a:pt x="207" y="219"/>
                  </a:lnTo>
                  <a:lnTo>
                    <a:pt x="228" y="228"/>
                  </a:lnTo>
                  <a:lnTo>
                    <a:pt x="273" y="235"/>
                  </a:lnTo>
                  <a:lnTo>
                    <a:pt x="212" y="231"/>
                  </a:lnTo>
                  <a:lnTo>
                    <a:pt x="201" y="231"/>
                  </a:lnTo>
                  <a:lnTo>
                    <a:pt x="198" y="261"/>
                  </a:lnTo>
                  <a:lnTo>
                    <a:pt x="174" y="297"/>
                  </a:lnTo>
                  <a:lnTo>
                    <a:pt x="113" y="301"/>
                  </a:lnTo>
                  <a:lnTo>
                    <a:pt x="0" y="321"/>
                  </a:lnTo>
                  <a:lnTo>
                    <a:pt x="5" y="340"/>
                  </a:lnTo>
                  <a:cubicBezTo>
                    <a:pt x="17" y="348"/>
                    <a:pt x="23" y="362"/>
                    <a:pt x="72" y="370"/>
                  </a:cubicBezTo>
                  <a:cubicBezTo>
                    <a:pt x="121" y="378"/>
                    <a:pt x="204" y="389"/>
                    <a:pt x="300" y="390"/>
                  </a:cubicBezTo>
                  <a:cubicBezTo>
                    <a:pt x="393" y="390"/>
                    <a:pt x="569" y="382"/>
                    <a:pt x="651" y="375"/>
                  </a:cubicBezTo>
                  <a:cubicBezTo>
                    <a:pt x="733" y="368"/>
                    <a:pt x="764" y="354"/>
                    <a:pt x="795" y="345"/>
                  </a:cubicBezTo>
                  <a:lnTo>
                    <a:pt x="837" y="322"/>
                  </a:lnTo>
                  <a:cubicBezTo>
                    <a:pt x="849" y="315"/>
                    <a:pt x="868" y="307"/>
                    <a:pt x="864" y="300"/>
                  </a:cubicBezTo>
                  <a:cubicBezTo>
                    <a:pt x="859" y="294"/>
                    <a:pt x="837" y="285"/>
                    <a:pt x="810" y="282"/>
                  </a:cubicBezTo>
                  <a:lnTo>
                    <a:pt x="699" y="282"/>
                  </a:lnTo>
                  <a:lnTo>
                    <a:pt x="656" y="274"/>
                  </a:lnTo>
                  <a:lnTo>
                    <a:pt x="650" y="247"/>
                  </a:lnTo>
                  <a:lnTo>
                    <a:pt x="626" y="244"/>
                  </a:lnTo>
                  <a:lnTo>
                    <a:pt x="615" y="226"/>
                  </a:lnTo>
                  <a:lnTo>
                    <a:pt x="593" y="223"/>
                  </a:lnTo>
                  <a:lnTo>
                    <a:pt x="566" y="232"/>
                  </a:lnTo>
                  <a:lnTo>
                    <a:pt x="557" y="208"/>
                  </a:lnTo>
                  <a:lnTo>
                    <a:pt x="549" y="187"/>
                  </a:lnTo>
                  <a:lnTo>
                    <a:pt x="500" y="196"/>
                  </a:lnTo>
                  <a:lnTo>
                    <a:pt x="546" y="181"/>
                  </a:lnTo>
                  <a:lnTo>
                    <a:pt x="546" y="175"/>
                  </a:lnTo>
                  <a:lnTo>
                    <a:pt x="489" y="187"/>
                  </a:lnTo>
                  <a:lnTo>
                    <a:pt x="540" y="172"/>
                  </a:lnTo>
                  <a:lnTo>
                    <a:pt x="474" y="184"/>
                  </a:lnTo>
                  <a:lnTo>
                    <a:pt x="534" y="168"/>
                  </a:lnTo>
                  <a:lnTo>
                    <a:pt x="549" y="141"/>
                  </a:lnTo>
                  <a:lnTo>
                    <a:pt x="537" y="126"/>
                  </a:lnTo>
                  <a:lnTo>
                    <a:pt x="486" y="138"/>
                  </a:lnTo>
                  <a:lnTo>
                    <a:pt x="531" y="120"/>
                  </a:lnTo>
                  <a:lnTo>
                    <a:pt x="465" y="133"/>
                  </a:lnTo>
                  <a:lnTo>
                    <a:pt x="528" y="114"/>
                  </a:lnTo>
                  <a:cubicBezTo>
                    <a:pt x="536" y="105"/>
                    <a:pt x="529" y="82"/>
                    <a:pt x="510" y="78"/>
                  </a:cubicBezTo>
                  <a:cubicBezTo>
                    <a:pt x="491" y="74"/>
                    <a:pt x="434" y="88"/>
                    <a:pt x="414" y="90"/>
                  </a:cubicBezTo>
                  <a:lnTo>
                    <a:pt x="390" y="93"/>
                  </a:lnTo>
                  <a:lnTo>
                    <a:pt x="381" y="78"/>
                  </a:lnTo>
                  <a:lnTo>
                    <a:pt x="387" y="70"/>
                  </a:lnTo>
                  <a:lnTo>
                    <a:pt x="305" y="63"/>
                  </a:lnTo>
                  <a:lnTo>
                    <a:pt x="386" y="66"/>
                  </a:lnTo>
                  <a:lnTo>
                    <a:pt x="389" y="54"/>
                  </a:lnTo>
                  <a:cubicBezTo>
                    <a:pt x="392" y="49"/>
                    <a:pt x="406" y="40"/>
                    <a:pt x="405" y="36"/>
                  </a:cubicBezTo>
                  <a:cubicBezTo>
                    <a:pt x="404" y="32"/>
                    <a:pt x="389" y="32"/>
                    <a:pt x="384" y="27"/>
                  </a:cubicBezTo>
                  <a:lnTo>
                    <a:pt x="377" y="7"/>
                  </a:lnTo>
                  <a:lnTo>
                    <a:pt x="36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267760" y="624960"/>
              <a:ext cx="352800" cy="52920"/>
            </a:xfrm>
            <a:custGeom>
              <a:avLst/>
              <a:gdLst/>
              <a:ahLst/>
              <a:rect l="l" t="t" r="r" b="b"/>
              <a:pathLst>
                <a:path w="791" h="119">
                  <a:moveTo>
                    <a:pt x="370" y="6"/>
                  </a:moveTo>
                  <a:lnTo>
                    <a:pt x="208" y="6"/>
                  </a:lnTo>
                  <a:lnTo>
                    <a:pt x="88" y="0"/>
                  </a:lnTo>
                  <a:lnTo>
                    <a:pt x="13" y="24"/>
                  </a:lnTo>
                  <a:cubicBezTo>
                    <a:pt x="2" y="33"/>
                    <a:pt x="0" y="42"/>
                    <a:pt x="19" y="54"/>
                  </a:cubicBezTo>
                  <a:cubicBezTo>
                    <a:pt x="38" y="66"/>
                    <a:pt x="83" y="87"/>
                    <a:pt x="127" y="96"/>
                  </a:cubicBezTo>
                  <a:cubicBezTo>
                    <a:pt x="171" y="105"/>
                    <a:pt x="221" y="108"/>
                    <a:pt x="286" y="111"/>
                  </a:cubicBezTo>
                  <a:cubicBezTo>
                    <a:pt x="351" y="114"/>
                    <a:pt x="454" y="119"/>
                    <a:pt x="520" y="117"/>
                  </a:cubicBezTo>
                  <a:lnTo>
                    <a:pt x="682" y="102"/>
                  </a:lnTo>
                  <a:lnTo>
                    <a:pt x="751" y="90"/>
                  </a:lnTo>
                  <a:cubicBezTo>
                    <a:pt x="769" y="83"/>
                    <a:pt x="789" y="64"/>
                    <a:pt x="790" y="57"/>
                  </a:cubicBezTo>
                  <a:cubicBezTo>
                    <a:pt x="791" y="50"/>
                    <a:pt x="787" y="49"/>
                    <a:pt x="760" y="45"/>
                  </a:cubicBezTo>
                  <a:lnTo>
                    <a:pt x="628" y="30"/>
                  </a:lnTo>
                  <a:cubicBezTo>
                    <a:pt x="582" y="26"/>
                    <a:pt x="527" y="22"/>
                    <a:pt x="484" y="18"/>
                  </a:cubicBezTo>
                  <a:cubicBezTo>
                    <a:pt x="441" y="14"/>
                    <a:pt x="394" y="9"/>
                    <a:pt x="37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-12600" y="5416560"/>
            <a:ext cx="4779720" cy="1517760"/>
            <a:chOff x="-12600" y="5416560"/>
            <a:chExt cx="4779720" cy="1517760"/>
          </a:xfrm>
        </p:grpSpPr>
        <p:sp>
          <p:nvSpPr>
            <p:cNvPr id="19" name=""/>
            <p:cNvSpPr/>
            <p:nvPr/>
          </p:nvSpPr>
          <p:spPr>
            <a:xfrm flipV="1">
              <a:off x="-3240" y="5514840"/>
              <a:ext cx="4678920" cy="1403280"/>
            </a:xfrm>
            <a:custGeom>
              <a:avLst/>
              <a:gdLst/>
              <a:ahLst/>
              <a:rect l="l" t="t" r="r" b="b"/>
              <a:pathLst>
                <a:path w="3682" h="1203">
                  <a:moveTo>
                    <a:pt x="0" y="1203"/>
                  </a:moveTo>
                  <a:lnTo>
                    <a:pt x="0" y="51"/>
                  </a:lnTo>
                  <a:cubicBezTo>
                    <a:pt x="0" y="51"/>
                    <a:pt x="3475" y="0"/>
                    <a:pt x="3682" y="51"/>
                  </a:cubicBezTo>
                  <a:cubicBezTo>
                    <a:pt x="2491" y="76"/>
                    <a:pt x="2161" y="90"/>
                    <a:pt x="1242" y="355"/>
                  </a:cubicBezTo>
                  <a:cubicBezTo>
                    <a:pt x="323" y="620"/>
                    <a:pt x="0" y="1203"/>
                    <a:pt x="0" y="1203"/>
                  </a:cubicBezTo>
                  <a:close/>
                </a:path>
              </a:pathLst>
            </a:custGeom>
            <a:gradFill rotWithShape="0">
              <a:gsLst>
                <a:gs pos="0">
                  <a:srgbClr val="20a0ba"/>
                </a:gs>
                <a:gs pos="100000">
                  <a:srgbClr val="2029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-12240" y="5416560"/>
              <a:ext cx="4779720" cy="1517760"/>
            </a:xfrm>
            <a:custGeom>
              <a:avLst/>
              <a:gdLst/>
              <a:ahLst/>
              <a:rect l="l" t="t" r="r" b="b"/>
              <a:pathLst>
                <a:path w="3761" h="1301">
                  <a:moveTo>
                    <a:pt x="0" y="1301"/>
                  </a:moveTo>
                  <a:cubicBezTo>
                    <a:pt x="537" y="615"/>
                    <a:pt x="887" y="532"/>
                    <a:pt x="1514" y="330"/>
                  </a:cubicBezTo>
                  <a:cubicBezTo>
                    <a:pt x="2141" y="128"/>
                    <a:pt x="3761" y="80"/>
                    <a:pt x="3747" y="65"/>
                  </a:cubicBezTo>
                  <a:cubicBezTo>
                    <a:pt x="2738" y="0"/>
                    <a:pt x="2001" y="110"/>
                    <a:pt x="1469" y="246"/>
                  </a:cubicBezTo>
                  <a:cubicBezTo>
                    <a:pt x="939" y="382"/>
                    <a:pt x="395" y="615"/>
                    <a:pt x="7" y="1081"/>
                  </a:cubicBezTo>
                  <a:lnTo>
                    <a:pt x="0" y="1301"/>
                  </a:lnTo>
                  <a:close/>
                </a:path>
              </a:pathLst>
            </a:custGeom>
            <a:solidFill>
              <a:srgbClr val="1c1c1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" name="" descr=""/>
          <p:cNvPicPr/>
          <p:nvPr/>
        </p:nvPicPr>
        <p:blipFill>
          <a:blip r:embed="rId3"/>
          <a:srcRect l="0" t="0" r="0" b="23595"/>
          <a:stretch/>
        </p:blipFill>
        <p:spPr>
          <a:xfrm>
            <a:off x="0" y="0"/>
            <a:ext cx="2733840" cy="884160"/>
          </a:xfrm>
          <a:prstGeom prst="rect">
            <a:avLst/>
          </a:prstGeom>
          <a:ln w="0">
            <a:noFill/>
          </a:ln>
        </p:spPr>
      </p:pic>
      <p:sp>
        <p:nvSpPr>
          <p:cNvPr id="24" name="PlaceHolder 5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-50760" y="76320"/>
            <a:ext cx="1941480" cy="774720"/>
          </a:xfrm>
          <a:custGeom>
            <a:avLst/>
            <a:gdLst/>
            <a:ahLst/>
            <a:rect l="l" t="t" r="r" b="b"/>
            <a:pathLst>
              <a:path w="1478" h="488">
                <a:moveTo>
                  <a:pt x="0" y="424"/>
                </a:moveTo>
                <a:lnTo>
                  <a:pt x="272" y="100"/>
                </a:lnTo>
                <a:lnTo>
                  <a:pt x="847" y="378"/>
                </a:lnTo>
                <a:lnTo>
                  <a:pt x="1386" y="50"/>
                </a:lnTo>
                <a:lnTo>
                  <a:pt x="1332" y="2"/>
                </a:lnTo>
                <a:lnTo>
                  <a:pt x="1474" y="0"/>
                </a:lnTo>
                <a:lnTo>
                  <a:pt x="1478" y="152"/>
                </a:lnTo>
                <a:lnTo>
                  <a:pt x="1418" y="90"/>
                </a:lnTo>
                <a:lnTo>
                  <a:pt x="847" y="462"/>
                </a:lnTo>
                <a:lnTo>
                  <a:pt x="278" y="184"/>
                </a:lnTo>
                <a:lnTo>
                  <a:pt x="33" y="488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a0ba"/>
            </a:gs>
            <a:gs pos="100000">
              <a:srgbClr val="2029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294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-912240" y="2743560"/>
            <a:ext cx="10327680" cy="3886200"/>
            <a:chOff x="-912240" y="2743560"/>
            <a:chExt cx="10327680" cy="3886200"/>
          </a:xfrm>
        </p:grpSpPr>
        <p:pic>
          <p:nvPicPr>
            <p:cNvPr id="64" name="" descr=""/>
            <p:cNvPicPr/>
            <p:nvPr/>
          </p:nvPicPr>
          <p:blipFill>
            <a:blip r:embed="rId3"/>
            <a:srcRect l="0" t="12108" r="0" b="0"/>
            <a:stretch/>
          </p:blipFill>
          <p:spPr>
            <a:xfrm flipH="1" rot="21468600">
              <a:off x="926280" y="3537360"/>
              <a:ext cx="8422920" cy="24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rcRect l="0" t="12108" r="0" b="0"/>
            <a:stretch/>
          </p:blipFill>
          <p:spPr>
            <a:xfrm flipH="1" rot="21260400">
              <a:off x="-793440" y="3233880"/>
              <a:ext cx="10090440" cy="290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819000" y="4592520"/>
            <a:ext cx="11160" cy="3204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2" y="13"/>
                  <a:pt x="7" y="0"/>
                  <a:pt x="7" y="0"/>
                </a:cubicBezTo>
                <a:cubicBezTo>
                  <a:pt x="7" y="0"/>
                  <a:pt x="2" y="13"/>
                  <a:pt x="0" y="20"/>
                </a:cubicBezTo>
                <a:close/>
              </a:path>
            </a:pathLst>
          </a:custGeom>
          <a:gradFill rotWithShape="0">
            <a:gsLst>
              <a:gs pos="0">
                <a:srgbClr val="20296a"/>
              </a:gs>
              <a:gs pos="100000">
                <a:srgbClr val="5a6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52560" y="4619520"/>
            <a:ext cx="1646280" cy="2238480"/>
          </a:xfrm>
          <a:custGeom>
            <a:avLst/>
            <a:gdLst/>
            <a:ahLst/>
            <a:rect l="l" t="t" r="r" b="b"/>
            <a:pathLst>
              <a:path w="1037" h="1410">
                <a:moveTo>
                  <a:pt x="252" y="5"/>
                </a:moveTo>
                <a:cubicBezTo>
                  <a:pt x="255" y="0"/>
                  <a:pt x="268" y="26"/>
                  <a:pt x="274" y="26"/>
                </a:cubicBezTo>
                <a:lnTo>
                  <a:pt x="292" y="5"/>
                </a:lnTo>
                <a:lnTo>
                  <a:pt x="321" y="15"/>
                </a:lnTo>
                <a:lnTo>
                  <a:pt x="341" y="15"/>
                </a:lnTo>
                <a:lnTo>
                  <a:pt x="354" y="5"/>
                </a:lnTo>
                <a:lnTo>
                  <a:pt x="393" y="8"/>
                </a:lnTo>
                <a:lnTo>
                  <a:pt x="445" y="15"/>
                </a:lnTo>
                <a:lnTo>
                  <a:pt x="463" y="36"/>
                </a:lnTo>
                <a:lnTo>
                  <a:pt x="507" y="68"/>
                </a:lnTo>
                <a:lnTo>
                  <a:pt x="498" y="84"/>
                </a:lnTo>
                <a:lnTo>
                  <a:pt x="500" y="102"/>
                </a:lnTo>
                <a:lnTo>
                  <a:pt x="490" y="145"/>
                </a:lnTo>
                <a:lnTo>
                  <a:pt x="490" y="179"/>
                </a:lnTo>
                <a:lnTo>
                  <a:pt x="482" y="216"/>
                </a:lnTo>
                <a:lnTo>
                  <a:pt x="466" y="260"/>
                </a:lnTo>
                <a:lnTo>
                  <a:pt x="464" y="279"/>
                </a:lnTo>
                <a:lnTo>
                  <a:pt x="456" y="309"/>
                </a:lnTo>
                <a:lnTo>
                  <a:pt x="455" y="325"/>
                </a:lnTo>
                <a:lnTo>
                  <a:pt x="471" y="344"/>
                </a:lnTo>
                <a:lnTo>
                  <a:pt x="534" y="365"/>
                </a:lnTo>
                <a:lnTo>
                  <a:pt x="575" y="385"/>
                </a:lnTo>
                <a:cubicBezTo>
                  <a:pt x="588" y="391"/>
                  <a:pt x="606" y="391"/>
                  <a:pt x="614" y="400"/>
                </a:cubicBezTo>
                <a:cubicBezTo>
                  <a:pt x="622" y="406"/>
                  <a:pt x="623" y="421"/>
                  <a:pt x="623" y="432"/>
                </a:cubicBezTo>
                <a:lnTo>
                  <a:pt x="619" y="479"/>
                </a:lnTo>
                <a:lnTo>
                  <a:pt x="640" y="521"/>
                </a:lnTo>
                <a:lnTo>
                  <a:pt x="641" y="541"/>
                </a:lnTo>
                <a:lnTo>
                  <a:pt x="659" y="557"/>
                </a:lnTo>
                <a:lnTo>
                  <a:pt x="672" y="585"/>
                </a:lnTo>
                <a:lnTo>
                  <a:pt x="711" y="619"/>
                </a:lnTo>
                <a:lnTo>
                  <a:pt x="724" y="647"/>
                </a:lnTo>
                <a:lnTo>
                  <a:pt x="750" y="647"/>
                </a:lnTo>
                <a:lnTo>
                  <a:pt x="802" y="630"/>
                </a:lnTo>
                <a:lnTo>
                  <a:pt x="830" y="614"/>
                </a:lnTo>
                <a:lnTo>
                  <a:pt x="852" y="593"/>
                </a:lnTo>
                <a:lnTo>
                  <a:pt x="873" y="578"/>
                </a:lnTo>
                <a:lnTo>
                  <a:pt x="894" y="546"/>
                </a:lnTo>
                <a:lnTo>
                  <a:pt x="920" y="526"/>
                </a:lnTo>
                <a:lnTo>
                  <a:pt x="945" y="513"/>
                </a:lnTo>
                <a:lnTo>
                  <a:pt x="989" y="538"/>
                </a:lnTo>
                <a:lnTo>
                  <a:pt x="1032" y="552"/>
                </a:lnTo>
                <a:lnTo>
                  <a:pt x="1037" y="577"/>
                </a:lnTo>
                <a:lnTo>
                  <a:pt x="963" y="544"/>
                </a:lnTo>
                <a:lnTo>
                  <a:pt x="1029" y="567"/>
                </a:lnTo>
                <a:lnTo>
                  <a:pt x="1021" y="590"/>
                </a:lnTo>
                <a:lnTo>
                  <a:pt x="990" y="630"/>
                </a:lnTo>
                <a:lnTo>
                  <a:pt x="912" y="663"/>
                </a:lnTo>
                <a:lnTo>
                  <a:pt x="924" y="677"/>
                </a:lnTo>
                <a:lnTo>
                  <a:pt x="919" y="697"/>
                </a:lnTo>
                <a:lnTo>
                  <a:pt x="901" y="736"/>
                </a:lnTo>
                <a:lnTo>
                  <a:pt x="894" y="762"/>
                </a:lnTo>
                <a:lnTo>
                  <a:pt x="870" y="767"/>
                </a:lnTo>
                <a:lnTo>
                  <a:pt x="779" y="820"/>
                </a:lnTo>
                <a:lnTo>
                  <a:pt x="737" y="832"/>
                </a:lnTo>
                <a:lnTo>
                  <a:pt x="698" y="819"/>
                </a:lnTo>
                <a:lnTo>
                  <a:pt x="654" y="789"/>
                </a:lnTo>
                <a:lnTo>
                  <a:pt x="632" y="776"/>
                </a:lnTo>
                <a:lnTo>
                  <a:pt x="604" y="767"/>
                </a:lnTo>
                <a:lnTo>
                  <a:pt x="604" y="741"/>
                </a:lnTo>
                <a:lnTo>
                  <a:pt x="580" y="724"/>
                </a:lnTo>
                <a:lnTo>
                  <a:pt x="571" y="708"/>
                </a:lnTo>
                <a:lnTo>
                  <a:pt x="552" y="679"/>
                </a:lnTo>
                <a:lnTo>
                  <a:pt x="534" y="684"/>
                </a:lnTo>
                <a:lnTo>
                  <a:pt x="531" y="702"/>
                </a:lnTo>
                <a:lnTo>
                  <a:pt x="562" y="702"/>
                </a:lnTo>
                <a:lnTo>
                  <a:pt x="575" y="713"/>
                </a:lnTo>
                <a:lnTo>
                  <a:pt x="531" y="726"/>
                </a:lnTo>
                <a:lnTo>
                  <a:pt x="528" y="752"/>
                </a:lnTo>
                <a:lnTo>
                  <a:pt x="528" y="780"/>
                </a:lnTo>
                <a:lnTo>
                  <a:pt x="544" y="804"/>
                </a:lnTo>
                <a:lnTo>
                  <a:pt x="552" y="846"/>
                </a:lnTo>
                <a:lnTo>
                  <a:pt x="554" y="877"/>
                </a:lnTo>
                <a:cubicBezTo>
                  <a:pt x="560" y="884"/>
                  <a:pt x="581" y="879"/>
                  <a:pt x="593" y="890"/>
                </a:cubicBezTo>
                <a:cubicBezTo>
                  <a:pt x="604" y="902"/>
                  <a:pt x="625" y="928"/>
                  <a:pt x="628" y="942"/>
                </a:cubicBezTo>
                <a:lnTo>
                  <a:pt x="619" y="984"/>
                </a:lnTo>
                <a:lnTo>
                  <a:pt x="640" y="1043"/>
                </a:lnTo>
                <a:cubicBezTo>
                  <a:pt x="644" y="1059"/>
                  <a:pt x="651" y="1069"/>
                  <a:pt x="654" y="1079"/>
                </a:cubicBezTo>
                <a:cubicBezTo>
                  <a:pt x="657" y="1090"/>
                  <a:pt x="654" y="1101"/>
                  <a:pt x="654" y="1113"/>
                </a:cubicBezTo>
                <a:lnTo>
                  <a:pt x="659" y="1140"/>
                </a:lnTo>
                <a:cubicBezTo>
                  <a:pt x="662" y="1150"/>
                  <a:pt x="670" y="1157"/>
                  <a:pt x="675" y="1168"/>
                </a:cubicBezTo>
                <a:cubicBezTo>
                  <a:pt x="679" y="1179"/>
                  <a:pt x="685" y="1197"/>
                  <a:pt x="685" y="1210"/>
                </a:cubicBezTo>
                <a:lnTo>
                  <a:pt x="680" y="1243"/>
                </a:lnTo>
                <a:lnTo>
                  <a:pt x="685" y="1288"/>
                </a:lnTo>
                <a:cubicBezTo>
                  <a:pt x="688" y="1298"/>
                  <a:pt x="700" y="1295"/>
                  <a:pt x="701" y="1304"/>
                </a:cubicBezTo>
                <a:cubicBezTo>
                  <a:pt x="703" y="1313"/>
                  <a:pt x="692" y="1326"/>
                  <a:pt x="695" y="1343"/>
                </a:cubicBezTo>
                <a:lnTo>
                  <a:pt x="721" y="1410"/>
                </a:lnTo>
                <a:lnTo>
                  <a:pt x="446" y="1410"/>
                </a:lnTo>
                <a:lnTo>
                  <a:pt x="419" y="1301"/>
                </a:lnTo>
                <a:lnTo>
                  <a:pt x="375" y="1261"/>
                </a:lnTo>
                <a:lnTo>
                  <a:pt x="326" y="1405"/>
                </a:lnTo>
                <a:lnTo>
                  <a:pt x="54" y="1407"/>
                </a:lnTo>
                <a:lnTo>
                  <a:pt x="71" y="1194"/>
                </a:lnTo>
                <a:lnTo>
                  <a:pt x="84" y="1173"/>
                </a:lnTo>
                <a:lnTo>
                  <a:pt x="107" y="1002"/>
                </a:lnTo>
                <a:lnTo>
                  <a:pt x="128" y="916"/>
                </a:lnTo>
                <a:lnTo>
                  <a:pt x="120" y="890"/>
                </a:lnTo>
                <a:lnTo>
                  <a:pt x="97" y="893"/>
                </a:lnTo>
                <a:lnTo>
                  <a:pt x="60" y="885"/>
                </a:lnTo>
                <a:lnTo>
                  <a:pt x="34" y="885"/>
                </a:lnTo>
                <a:cubicBezTo>
                  <a:pt x="24" y="876"/>
                  <a:pt x="10" y="843"/>
                  <a:pt x="5" y="827"/>
                </a:cubicBezTo>
                <a:cubicBezTo>
                  <a:pt x="2" y="811"/>
                  <a:pt x="5" y="799"/>
                  <a:pt x="5" y="789"/>
                </a:cubicBezTo>
                <a:lnTo>
                  <a:pt x="0" y="773"/>
                </a:lnTo>
                <a:lnTo>
                  <a:pt x="16" y="690"/>
                </a:lnTo>
                <a:lnTo>
                  <a:pt x="13" y="640"/>
                </a:lnTo>
                <a:lnTo>
                  <a:pt x="0" y="616"/>
                </a:lnTo>
                <a:lnTo>
                  <a:pt x="5" y="593"/>
                </a:lnTo>
                <a:cubicBezTo>
                  <a:pt x="10" y="557"/>
                  <a:pt x="6" y="437"/>
                  <a:pt x="19" y="400"/>
                </a:cubicBezTo>
                <a:cubicBezTo>
                  <a:pt x="34" y="361"/>
                  <a:pt x="67" y="374"/>
                  <a:pt x="88" y="365"/>
                </a:cubicBezTo>
                <a:lnTo>
                  <a:pt x="146" y="346"/>
                </a:lnTo>
                <a:lnTo>
                  <a:pt x="203" y="325"/>
                </a:lnTo>
                <a:lnTo>
                  <a:pt x="260" y="291"/>
                </a:lnTo>
                <a:lnTo>
                  <a:pt x="247" y="271"/>
                </a:lnTo>
                <a:lnTo>
                  <a:pt x="247" y="255"/>
                </a:lnTo>
                <a:lnTo>
                  <a:pt x="229" y="250"/>
                </a:lnTo>
                <a:lnTo>
                  <a:pt x="221" y="197"/>
                </a:lnTo>
                <a:lnTo>
                  <a:pt x="229" y="151"/>
                </a:lnTo>
                <a:lnTo>
                  <a:pt x="239" y="114"/>
                </a:lnTo>
                <a:lnTo>
                  <a:pt x="239" y="80"/>
                </a:lnTo>
                <a:cubicBezTo>
                  <a:pt x="237" y="70"/>
                  <a:pt x="226" y="55"/>
                  <a:pt x="229" y="52"/>
                </a:cubicBezTo>
                <a:cubicBezTo>
                  <a:pt x="231" y="47"/>
                  <a:pt x="250" y="60"/>
                  <a:pt x="253" y="52"/>
                </a:cubicBezTo>
                <a:cubicBezTo>
                  <a:pt x="258" y="44"/>
                  <a:pt x="248" y="8"/>
                  <a:pt x="252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126200" y="2111400"/>
            <a:ext cx="1733760" cy="4746600"/>
          </a:xfrm>
          <a:custGeom>
            <a:avLst/>
            <a:gdLst/>
            <a:ahLst/>
            <a:rect l="l" t="t" r="r" b="b"/>
            <a:pathLst>
              <a:path w="1243" h="3407">
                <a:moveTo>
                  <a:pt x="109" y="377"/>
                </a:moveTo>
                <a:lnTo>
                  <a:pt x="128" y="466"/>
                </a:lnTo>
                <a:cubicBezTo>
                  <a:pt x="137" y="505"/>
                  <a:pt x="151" y="571"/>
                  <a:pt x="166" y="611"/>
                </a:cubicBezTo>
                <a:cubicBezTo>
                  <a:pt x="181" y="651"/>
                  <a:pt x="222" y="678"/>
                  <a:pt x="217" y="704"/>
                </a:cubicBezTo>
                <a:lnTo>
                  <a:pt x="133" y="770"/>
                </a:lnTo>
                <a:cubicBezTo>
                  <a:pt x="112" y="788"/>
                  <a:pt x="98" y="794"/>
                  <a:pt x="92" y="813"/>
                </a:cubicBezTo>
                <a:cubicBezTo>
                  <a:pt x="85" y="829"/>
                  <a:pt x="95" y="865"/>
                  <a:pt x="95" y="884"/>
                </a:cubicBezTo>
                <a:cubicBezTo>
                  <a:pt x="95" y="903"/>
                  <a:pt x="88" y="905"/>
                  <a:pt x="91" y="926"/>
                </a:cubicBezTo>
                <a:lnTo>
                  <a:pt x="112" y="1008"/>
                </a:lnTo>
                <a:lnTo>
                  <a:pt x="128" y="1079"/>
                </a:lnTo>
                <a:lnTo>
                  <a:pt x="113" y="1112"/>
                </a:lnTo>
                <a:lnTo>
                  <a:pt x="104" y="1192"/>
                </a:lnTo>
                <a:lnTo>
                  <a:pt x="113" y="1274"/>
                </a:lnTo>
                <a:cubicBezTo>
                  <a:pt x="115" y="1297"/>
                  <a:pt x="111" y="1314"/>
                  <a:pt x="113" y="1332"/>
                </a:cubicBezTo>
                <a:cubicBezTo>
                  <a:pt x="115" y="1351"/>
                  <a:pt x="122" y="1366"/>
                  <a:pt x="124" y="1383"/>
                </a:cubicBezTo>
                <a:cubicBezTo>
                  <a:pt x="126" y="1400"/>
                  <a:pt x="125" y="1418"/>
                  <a:pt x="128" y="1434"/>
                </a:cubicBezTo>
                <a:cubicBezTo>
                  <a:pt x="123" y="1450"/>
                  <a:pt x="99" y="1467"/>
                  <a:pt x="95" y="1487"/>
                </a:cubicBezTo>
                <a:cubicBezTo>
                  <a:pt x="91" y="1507"/>
                  <a:pt x="103" y="1535"/>
                  <a:pt x="104" y="1555"/>
                </a:cubicBezTo>
                <a:lnTo>
                  <a:pt x="95" y="1595"/>
                </a:lnTo>
                <a:lnTo>
                  <a:pt x="85" y="1629"/>
                </a:lnTo>
                <a:lnTo>
                  <a:pt x="88" y="1674"/>
                </a:lnTo>
                <a:cubicBezTo>
                  <a:pt x="86" y="1687"/>
                  <a:pt x="74" y="1696"/>
                  <a:pt x="71" y="1707"/>
                </a:cubicBezTo>
                <a:cubicBezTo>
                  <a:pt x="68" y="1718"/>
                  <a:pt x="79" y="1728"/>
                  <a:pt x="68" y="1743"/>
                </a:cubicBezTo>
                <a:cubicBezTo>
                  <a:pt x="58" y="1758"/>
                  <a:pt x="18" y="1782"/>
                  <a:pt x="10" y="1800"/>
                </a:cubicBezTo>
                <a:cubicBezTo>
                  <a:pt x="0" y="1817"/>
                  <a:pt x="11" y="1822"/>
                  <a:pt x="19" y="1854"/>
                </a:cubicBezTo>
                <a:lnTo>
                  <a:pt x="28" y="1916"/>
                </a:lnTo>
                <a:lnTo>
                  <a:pt x="64" y="1982"/>
                </a:lnTo>
                <a:lnTo>
                  <a:pt x="71" y="2037"/>
                </a:lnTo>
                <a:lnTo>
                  <a:pt x="85" y="2090"/>
                </a:lnTo>
                <a:lnTo>
                  <a:pt x="173" y="2259"/>
                </a:lnTo>
                <a:lnTo>
                  <a:pt x="223" y="2352"/>
                </a:lnTo>
                <a:lnTo>
                  <a:pt x="249" y="2402"/>
                </a:lnTo>
                <a:lnTo>
                  <a:pt x="301" y="2490"/>
                </a:lnTo>
                <a:lnTo>
                  <a:pt x="335" y="2559"/>
                </a:lnTo>
                <a:lnTo>
                  <a:pt x="362" y="2615"/>
                </a:lnTo>
                <a:cubicBezTo>
                  <a:pt x="371" y="2634"/>
                  <a:pt x="385" y="2659"/>
                  <a:pt x="391" y="2676"/>
                </a:cubicBezTo>
                <a:cubicBezTo>
                  <a:pt x="397" y="2693"/>
                  <a:pt x="392" y="2702"/>
                  <a:pt x="401" y="2717"/>
                </a:cubicBezTo>
                <a:lnTo>
                  <a:pt x="443" y="2765"/>
                </a:lnTo>
                <a:lnTo>
                  <a:pt x="346" y="2816"/>
                </a:lnTo>
                <a:lnTo>
                  <a:pt x="262" y="2874"/>
                </a:lnTo>
                <a:cubicBezTo>
                  <a:pt x="248" y="2892"/>
                  <a:pt x="263" y="2915"/>
                  <a:pt x="263" y="2922"/>
                </a:cubicBezTo>
                <a:cubicBezTo>
                  <a:pt x="263" y="2929"/>
                  <a:pt x="254" y="2913"/>
                  <a:pt x="260" y="2919"/>
                </a:cubicBezTo>
                <a:cubicBezTo>
                  <a:pt x="266" y="2932"/>
                  <a:pt x="276" y="2956"/>
                  <a:pt x="298" y="2958"/>
                </a:cubicBezTo>
                <a:lnTo>
                  <a:pt x="386" y="2942"/>
                </a:lnTo>
                <a:lnTo>
                  <a:pt x="367" y="2961"/>
                </a:lnTo>
                <a:lnTo>
                  <a:pt x="341" y="3069"/>
                </a:lnTo>
                <a:lnTo>
                  <a:pt x="370" y="3103"/>
                </a:lnTo>
                <a:lnTo>
                  <a:pt x="298" y="3273"/>
                </a:lnTo>
                <a:lnTo>
                  <a:pt x="268" y="3344"/>
                </a:lnTo>
                <a:cubicBezTo>
                  <a:pt x="266" y="3363"/>
                  <a:pt x="269" y="3380"/>
                  <a:pt x="284" y="3389"/>
                </a:cubicBezTo>
                <a:cubicBezTo>
                  <a:pt x="296" y="3397"/>
                  <a:pt x="335" y="3407"/>
                  <a:pt x="361" y="3396"/>
                </a:cubicBezTo>
                <a:lnTo>
                  <a:pt x="443" y="3321"/>
                </a:lnTo>
                <a:lnTo>
                  <a:pt x="491" y="3249"/>
                </a:lnTo>
                <a:lnTo>
                  <a:pt x="515" y="3140"/>
                </a:lnTo>
                <a:lnTo>
                  <a:pt x="564" y="3103"/>
                </a:lnTo>
                <a:lnTo>
                  <a:pt x="588" y="3055"/>
                </a:lnTo>
                <a:lnTo>
                  <a:pt x="631" y="2934"/>
                </a:lnTo>
                <a:lnTo>
                  <a:pt x="647" y="2831"/>
                </a:lnTo>
                <a:lnTo>
                  <a:pt x="668" y="2811"/>
                </a:lnTo>
                <a:cubicBezTo>
                  <a:pt x="671" y="2801"/>
                  <a:pt x="665" y="2789"/>
                  <a:pt x="667" y="2771"/>
                </a:cubicBezTo>
                <a:cubicBezTo>
                  <a:pt x="669" y="2753"/>
                  <a:pt x="679" y="2716"/>
                  <a:pt x="680" y="2702"/>
                </a:cubicBezTo>
                <a:cubicBezTo>
                  <a:pt x="678" y="2685"/>
                  <a:pt x="670" y="2695"/>
                  <a:pt x="670" y="2685"/>
                </a:cubicBezTo>
                <a:lnTo>
                  <a:pt x="679" y="2640"/>
                </a:lnTo>
                <a:lnTo>
                  <a:pt x="676" y="2589"/>
                </a:lnTo>
                <a:lnTo>
                  <a:pt x="685" y="2499"/>
                </a:lnTo>
                <a:lnTo>
                  <a:pt x="703" y="2448"/>
                </a:lnTo>
                <a:lnTo>
                  <a:pt x="712" y="2400"/>
                </a:lnTo>
                <a:lnTo>
                  <a:pt x="718" y="2331"/>
                </a:lnTo>
                <a:lnTo>
                  <a:pt x="733" y="2257"/>
                </a:lnTo>
                <a:lnTo>
                  <a:pt x="760" y="2133"/>
                </a:lnTo>
                <a:cubicBezTo>
                  <a:pt x="771" y="2106"/>
                  <a:pt x="793" y="2115"/>
                  <a:pt x="799" y="2096"/>
                </a:cubicBezTo>
                <a:cubicBezTo>
                  <a:pt x="805" y="2077"/>
                  <a:pt x="802" y="2051"/>
                  <a:pt x="796" y="2021"/>
                </a:cubicBezTo>
                <a:lnTo>
                  <a:pt x="764" y="1916"/>
                </a:lnTo>
                <a:lnTo>
                  <a:pt x="769" y="1788"/>
                </a:lnTo>
                <a:lnTo>
                  <a:pt x="757" y="1725"/>
                </a:lnTo>
                <a:lnTo>
                  <a:pt x="758" y="1676"/>
                </a:lnTo>
                <a:lnTo>
                  <a:pt x="745" y="1625"/>
                </a:lnTo>
                <a:lnTo>
                  <a:pt x="740" y="1476"/>
                </a:lnTo>
                <a:lnTo>
                  <a:pt x="757" y="1418"/>
                </a:lnTo>
                <a:lnTo>
                  <a:pt x="767" y="1338"/>
                </a:lnTo>
                <a:lnTo>
                  <a:pt x="787" y="1280"/>
                </a:lnTo>
                <a:lnTo>
                  <a:pt x="797" y="1223"/>
                </a:lnTo>
                <a:lnTo>
                  <a:pt x="806" y="1218"/>
                </a:lnTo>
                <a:lnTo>
                  <a:pt x="842" y="1223"/>
                </a:lnTo>
                <a:lnTo>
                  <a:pt x="997" y="1176"/>
                </a:lnTo>
                <a:lnTo>
                  <a:pt x="1070" y="1137"/>
                </a:lnTo>
                <a:lnTo>
                  <a:pt x="1093" y="1083"/>
                </a:lnTo>
                <a:cubicBezTo>
                  <a:pt x="1116" y="1063"/>
                  <a:pt x="1187" y="1039"/>
                  <a:pt x="1207" y="1017"/>
                </a:cubicBezTo>
                <a:cubicBezTo>
                  <a:pt x="1226" y="993"/>
                  <a:pt x="1204" y="970"/>
                  <a:pt x="1210" y="951"/>
                </a:cubicBezTo>
                <a:cubicBezTo>
                  <a:pt x="1216" y="932"/>
                  <a:pt x="1238" y="919"/>
                  <a:pt x="1241" y="902"/>
                </a:cubicBezTo>
                <a:cubicBezTo>
                  <a:pt x="1243" y="881"/>
                  <a:pt x="1230" y="867"/>
                  <a:pt x="1229" y="848"/>
                </a:cubicBezTo>
                <a:cubicBezTo>
                  <a:pt x="1228" y="829"/>
                  <a:pt x="1242" y="810"/>
                  <a:pt x="1237" y="789"/>
                </a:cubicBezTo>
                <a:cubicBezTo>
                  <a:pt x="1234" y="763"/>
                  <a:pt x="1208" y="745"/>
                  <a:pt x="1201" y="720"/>
                </a:cubicBezTo>
                <a:cubicBezTo>
                  <a:pt x="1195" y="689"/>
                  <a:pt x="1208" y="660"/>
                  <a:pt x="1195" y="641"/>
                </a:cubicBezTo>
                <a:cubicBezTo>
                  <a:pt x="1179" y="620"/>
                  <a:pt x="1144" y="620"/>
                  <a:pt x="1121" y="608"/>
                </a:cubicBezTo>
                <a:cubicBezTo>
                  <a:pt x="1098" y="596"/>
                  <a:pt x="1069" y="583"/>
                  <a:pt x="1055" y="569"/>
                </a:cubicBezTo>
                <a:cubicBezTo>
                  <a:pt x="1037" y="556"/>
                  <a:pt x="1038" y="541"/>
                  <a:pt x="1037" y="522"/>
                </a:cubicBezTo>
                <a:cubicBezTo>
                  <a:pt x="1036" y="503"/>
                  <a:pt x="1044" y="481"/>
                  <a:pt x="1051" y="452"/>
                </a:cubicBezTo>
                <a:cubicBezTo>
                  <a:pt x="1058" y="423"/>
                  <a:pt x="1076" y="374"/>
                  <a:pt x="1081" y="345"/>
                </a:cubicBezTo>
                <a:cubicBezTo>
                  <a:pt x="1088" y="304"/>
                  <a:pt x="1087" y="297"/>
                  <a:pt x="1082" y="281"/>
                </a:cubicBezTo>
                <a:cubicBezTo>
                  <a:pt x="1077" y="265"/>
                  <a:pt x="1066" y="251"/>
                  <a:pt x="1052" y="246"/>
                </a:cubicBezTo>
                <a:cubicBezTo>
                  <a:pt x="1040" y="242"/>
                  <a:pt x="1016" y="232"/>
                  <a:pt x="999" y="249"/>
                </a:cubicBezTo>
                <a:cubicBezTo>
                  <a:pt x="983" y="265"/>
                  <a:pt x="963" y="309"/>
                  <a:pt x="953" y="344"/>
                </a:cubicBezTo>
                <a:cubicBezTo>
                  <a:pt x="945" y="376"/>
                  <a:pt x="945" y="434"/>
                  <a:pt x="941" y="462"/>
                </a:cubicBezTo>
                <a:lnTo>
                  <a:pt x="927" y="515"/>
                </a:lnTo>
                <a:lnTo>
                  <a:pt x="907" y="545"/>
                </a:lnTo>
                <a:lnTo>
                  <a:pt x="883" y="626"/>
                </a:lnTo>
                <a:lnTo>
                  <a:pt x="866" y="690"/>
                </a:lnTo>
                <a:lnTo>
                  <a:pt x="869" y="780"/>
                </a:lnTo>
                <a:lnTo>
                  <a:pt x="860" y="782"/>
                </a:lnTo>
                <a:lnTo>
                  <a:pt x="832" y="699"/>
                </a:lnTo>
                <a:lnTo>
                  <a:pt x="794" y="659"/>
                </a:lnTo>
                <a:cubicBezTo>
                  <a:pt x="777" y="648"/>
                  <a:pt x="750" y="636"/>
                  <a:pt x="727" y="633"/>
                </a:cubicBezTo>
                <a:cubicBezTo>
                  <a:pt x="706" y="630"/>
                  <a:pt x="677" y="642"/>
                  <a:pt x="656" y="641"/>
                </a:cubicBezTo>
                <a:cubicBezTo>
                  <a:pt x="634" y="640"/>
                  <a:pt x="610" y="632"/>
                  <a:pt x="602" y="627"/>
                </a:cubicBezTo>
                <a:lnTo>
                  <a:pt x="605" y="609"/>
                </a:lnTo>
                <a:lnTo>
                  <a:pt x="533" y="545"/>
                </a:lnTo>
                <a:cubicBezTo>
                  <a:pt x="524" y="530"/>
                  <a:pt x="544" y="530"/>
                  <a:pt x="550" y="521"/>
                </a:cubicBezTo>
                <a:cubicBezTo>
                  <a:pt x="556" y="512"/>
                  <a:pt x="565" y="503"/>
                  <a:pt x="572" y="489"/>
                </a:cubicBezTo>
                <a:cubicBezTo>
                  <a:pt x="582" y="469"/>
                  <a:pt x="591" y="455"/>
                  <a:pt x="595" y="434"/>
                </a:cubicBezTo>
                <a:cubicBezTo>
                  <a:pt x="597" y="419"/>
                  <a:pt x="596" y="402"/>
                  <a:pt x="593" y="399"/>
                </a:cubicBezTo>
                <a:cubicBezTo>
                  <a:pt x="590" y="396"/>
                  <a:pt x="578" y="393"/>
                  <a:pt x="578" y="389"/>
                </a:cubicBezTo>
                <a:cubicBezTo>
                  <a:pt x="578" y="385"/>
                  <a:pt x="588" y="378"/>
                  <a:pt x="592" y="374"/>
                </a:cubicBezTo>
                <a:lnTo>
                  <a:pt x="604" y="365"/>
                </a:lnTo>
                <a:lnTo>
                  <a:pt x="599" y="342"/>
                </a:lnTo>
                <a:lnTo>
                  <a:pt x="613" y="345"/>
                </a:lnTo>
                <a:lnTo>
                  <a:pt x="602" y="306"/>
                </a:lnTo>
                <a:cubicBezTo>
                  <a:pt x="603" y="298"/>
                  <a:pt x="617" y="300"/>
                  <a:pt x="617" y="294"/>
                </a:cubicBezTo>
                <a:cubicBezTo>
                  <a:pt x="618" y="290"/>
                  <a:pt x="600" y="277"/>
                  <a:pt x="599" y="270"/>
                </a:cubicBezTo>
                <a:lnTo>
                  <a:pt x="622" y="261"/>
                </a:lnTo>
                <a:cubicBezTo>
                  <a:pt x="621" y="252"/>
                  <a:pt x="594" y="221"/>
                  <a:pt x="593" y="216"/>
                </a:cubicBezTo>
                <a:cubicBezTo>
                  <a:pt x="594" y="211"/>
                  <a:pt x="623" y="249"/>
                  <a:pt x="617" y="231"/>
                </a:cubicBezTo>
                <a:cubicBezTo>
                  <a:pt x="611" y="213"/>
                  <a:pt x="599" y="197"/>
                  <a:pt x="595" y="189"/>
                </a:cubicBezTo>
                <a:cubicBezTo>
                  <a:pt x="591" y="182"/>
                  <a:pt x="575" y="164"/>
                  <a:pt x="604" y="177"/>
                </a:cubicBezTo>
                <a:cubicBezTo>
                  <a:pt x="633" y="190"/>
                  <a:pt x="581" y="155"/>
                  <a:pt x="575" y="146"/>
                </a:cubicBezTo>
                <a:cubicBezTo>
                  <a:pt x="569" y="137"/>
                  <a:pt x="565" y="127"/>
                  <a:pt x="566" y="122"/>
                </a:cubicBezTo>
                <a:cubicBezTo>
                  <a:pt x="567" y="117"/>
                  <a:pt x="584" y="121"/>
                  <a:pt x="581" y="117"/>
                </a:cubicBezTo>
                <a:cubicBezTo>
                  <a:pt x="578" y="113"/>
                  <a:pt x="560" y="107"/>
                  <a:pt x="550" y="98"/>
                </a:cubicBezTo>
                <a:cubicBezTo>
                  <a:pt x="540" y="89"/>
                  <a:pt x="537" y="74"/>
                  <a:pt x="523" y="63"/>
                </a:cubicBezTo>
                <a:cubicBezTo>
                  <a:pt x="507" y="48"/>
                  <a:pt x="485" y="40"/>
                  <a:pt x="467" y="31"/>
                </a:cubicBezTo>
                <a:cubicBezTo>
                  <a:pt x="449" y="22"/>
                  <a:pt x="434" y="16"/>
                  <a:pt x="416" y="11"/>
                </a:cubicBezTo>
                <a:cubicBezTo>
                  <a:pt x="398" y="6"/>
                  <a:pt x="378" y="0"/>
                  <a:pt x="359" y="2"/>
                </a:cubicBezTo>
                <a:cubicBezTo>
                  <a:pt x="339" y="5"/>
                  <a:pt x="321" y="19"/>
                  <a:pt x="304" y="21"/>
                </a:cubicBezTo>
                <a:cubicBezTo>
                  <a:pt x="287" y="23"/>
                  <a:pt x="275" y="8"/>
                  <a:pt x="256" y="12"/>
                </a:cubicBezTo>
                <a:cubicBezTo>
                  <a:pt x="239" y="15"/>
                  <a:pt x="208" y="31"/>
                  <a:pt x="190" y="44"/>
                </a:cubicBezTo>
                <a:lnTo>
                  <a:pt x="136" y="87"/>
                </a:lnTo>
                <a:cubicBezTo>
                  <a:pt x="127" y="92"/>
                  <a:pt x="137" y="72"/>
                  <a:pt x="134" y="75"/>
                </a:cubicBezTo>
                <a:cubicBezTo>
                  <a:pt x="132" y="77"/>
                  <a:pt x="125" y="96"/>
                  <a:pt x="121" y="104"/>
                </a:cubicBezTo>
                <a:cubicBezTo>
                  <a:pt x="118" y="105"/>
                  <a:pt x="117" y="80"/>
                  <a:pt x="115" y="84"/>
                </a:cubicBezTo>
                <a:cubicBezTo>
                  <a:pt x="113" y="88"/>
                  <a:pt x="115" y="111"/>
                  <a:pt x="112" y="126"/>
                </a:cubicBezTo>
                <a:cubicBezTo>
                  <a:pt x="109" y="141"/>
                  <a:pt x="100" y="170"/>
                  <a:pt x="94" y="174"/>
                </a:cubicBezTo>
                <a:cubicBezTo>
                  <a:pt x="90" y="187"/>
                  <a:pt x="72" y="133"/>
                  <a:pt x="77" y="152"/>
                </a:cubicBezTo>
                <a:cubicBezTo>
                  <a:pt x="82" y="171"/>
                  <a:pt x="86" y="196"/>
                  <a:pt x="85" y="200"/>
                </a:cubicBezTo>
                <a:cubicBezTo>
                  <a:pt x="84" y="204"/>
                  <a:pt x="73" y="170"/>
                  <a:pt x="70" y="176"/>
                </a:cubicBezTo>
                <a:cubicBezTo>
                  <a:pt x="87" y="212"/>
                  <a:pt x="67" y="215"/>
                  <a:pt x="68" y="237"/>
                </a:cubicBezTo>
                <a:cubicBezTo>
                  <a:pt x="66" y="252"/>
                  <a:pt x="77" y="263"/>
                  <a:pt x="58" y="269"/>
                </a:cubicBezTo>
                <a:cubicBezTo>
                  <a:pt x="39" y="275"/>
                  <a:pt x="77" y="275"/>
                  <a:pt x="77" y="279"/>
                </a:cubicBezTo>
                <a:cubicBezTo>
                  <a:pt x="77" y="283"/>
                  <a:pt x="74" y="297"/>
                  <a:pt x="58" y="294"/>
                </a:cubicBezTo>
                <a:cubicBezTo>
                  <a:pt x="42" y="291"/>
                  <a:pt x="80" y="310"/>
                  <a:pt x="85" y="318"/>
                </a:cubicBezTo>
                <a:cubicBezTo>
                  <a:pt x="90" y="326"/>
                  <a:pt x="85" y="334"/>
                  <a:pt x="89" y="344"/>
                </a:cubicBezTo>
                <a:lnTo>
                  <a:pt x="109" y="3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166760" y="4968720"/>
            <a:ext cx="3905280" cy="2489400"/>
          </a:xfrm>
          <a:custGeom>
            <a:avLst/>
            <a:gdLst/>
            <a:ahLst/>
            <a:rect l="l" t="t" r="r" b="b"/>
            <a:pathLst>
              <a:path w="3988" h="2543">
                <a:moveTo>
                  <a:pt x="4" y="1407"/>
                </a:moveTo>
                <a:lnTo>
                  <a:pt x="828" y="1187"/>
                </a:lnTo>
                <a:lnTo>
                  <a:pt x="788" y="1059"/>
                </a:lnTo>
                <a:lnTo>
                  <a:pt x="764" y="979"/>
                </a:lnTo>
                <a:lnTo>
                  <a:pt x="1004" y="903"/>
                </a:lnTo>
                <a:lnTo>
                  <a:pt x="1156" y="887"/>
                </a:lnTo>
                <a:lnTo>
                  <a:pt x="1248" y="1075"/>
                </a:lnTo>
                <a:lnTo>
                  <a:pt x="1412" y="1019"/>
                </a:lnTo>
                <a:lnTo>
                  <a:pt x="1380" y="899"/>
                </a:lnTo>
                <a:lnTo>
                  <a:pt x="1344" y="855"/>
                </a:lnTo>
                <a:lnTo>
                  <a:pt x="1372" y="835"/>
                </a:lnTo>
                <a:lnTo>
                  <a:pt x="1516" y="787"/>
                </a:lnTo>
                <a:lnTo>
                  <a:pt x="1644" y="799"/>
                </a:lnTo>
                <a:lnTo>
                  <a:pt x="1688" y="955"/>
                </a:lnTo>
                <a:lnTo>
                  <a:pt x="1752" y="935"/>
                </a:lnTo>
                <a:lnTo>
                  <a:pt x="1696" y="839"/>
                </a:lnTo>
                <a:lnTo>
                  <a:pt x="1668" y="775"/>
                </a:lnTo>
                <a:lnTo>
                  <a:pt x="1740" y="747"/>
                </a:lnTo>
                <a:lnTo>
                  <a:pt x="1800" y="619"/>
                </a:lnTo>
                <a:lnTo>
                  <a:pt x="1844" y="559"/>
                </a:lnTo>
                <a:lnTo>
                  <a:pt x="1832" y="491"/>
                </a:lnTo>
                <a:lnTo>
                  <a:pt x="1888" y="415"/>
                </a:lnTo>
                <a:lnTo>
                  <a:pt x="1968" y="423"/>
                </a:lnTo>
                <a:lnTo>
                  <a:pt x="2000" y="455"/>
                </a:lnTo>
                <a:lnTo>
                  <a:pt x="1996" y="527"/>
                </a:lnTo>
                <a:lnTo>
                  <a:pt x="1976" y="583"/>
                </a:lnTo>
                <a:lnTo>
                  <a:pt x="1952" y="611"/>
                </a:lnTo>
                <a:lnTo>
                  <a:pt x="1936" y="663"/>
                </a:lnTo>
                <a:lnTo>
                  <a:pt x="1972" y="707"/>
                </a:lnTo>
                <a:lnTo>
                  <a:pt x="1980" y="639"/>
                </a:lnTo>
                <a:lnTo>
                  <a:pt x="2024" y="615"/>
                </a:lnTo>
                <a:lnTo>
                  <a:pt x="2028" y="587"/>
                </a:lnTo>
                <a:lnTo>
                  <a:pt x="2000" y="539"/>
                </a:lnTo>
                <a:lnTo>
                  <a:pt x="2000" y="467"/>
                </a:lnTo>
                <a:lnTo>
                  <a:pt x="2060" y="439"/>
                </a:lnTo>
                <a:lnTo>
                  <a:pt x="2112" y="471"/>
                </a:lnTo>
                <a:lnTo>
                  <a:pt x="2136" y="535"/>
                </a:lnTo>
                <a:lnTo>
                  <a:pt x="2124" y="627"/>
                </a:lnTo>
                <a:lnTo>
                  <a:pt x="2176" y="683"/>
                </a:lnTo>
                <a:lnTo>
                  <a:pt x="2180" y="723"/>
                </a:lnTo>
                <a:lnTo>
                  <a:pt x="2188" y="615"/>
                </a:lnTo>
                <a:lnTo>
                  <a:pt x="2164" y="547"/>
                </a:lnTo>
                <a:lnTo>
                  <a:pt x="2200" y="447"/>
                </a:lnTo>
                <a:lnTo>
                  <a:pt x="2160" y="399"/>
                </a:lnTo>
                <a:lnTo>
                  <a:pt x="2164" y="291"/>
                </a:lnTo>
                <a:lnTo>
                  <a:pt x="2176" y="195"/>
                </a:lnTo>
                <a:lnTo>
                  <a:pt x="2276" y="147"/>
                </a:lnTo>
                <a:lnTo>
                  <a:pt x="2256" y="100"/>
                </a:lnTo>
                <a:cubicBezTo>
                  <a:pt x="2251" y="79"/>
                  <a:pt x="2230" y="36"/>
                  <a:pt x="2244" y="20"/>
                </a:cubicBezTo>
                <a:cubicBezTo>
                  <a:pt x="2255" y="5"/>
                  <a:pt x="2318" y="0"/>
                  <a:pt x="2340" y="3"/>
                </a:cubicBezTo>
                <a:lnTo>
                  <a:pt x="2375" y="37"/>
                </a:lnTo>
                <a:lnTo>
                  <a:pt x="2380" y="83"/>
                </a:lnTo>
                <a:lnTo>
                  <a:pt x="2380" y="167"/>
                </a:lnTo>
                <a:lnTo>
                  <a:pt x="2468" y="203"/>
                </a:lnTo>
                <a:lnTo>
                  <a:pt x="2468" y="263"/>
                </a:lnTo>
                <a:lnTo>
                  <a:pt x="2468" y="383"/>
                </a:lnTo>
                <a:lnTo>
                  <a:pt x="2480" y="439"/>
                </a:lnTo>
                <a:lnTo>
                  <a:pt x="2456" y="507"/>
                </a:lnTo>
                <a:lnTo>
                  <a:pt x="2436" y="555"/>
                </a:lnTo>
                <a:lnTo>
                  <a:pt x="2424" y="595"/>
                </a:lnTo>
                <a:lnTo>
                  <a:pt x="2416" y="771"/>
                </a:lnTo>
                <a:lnTo>
                  <a:pt x="2496" y="739"/>
                </a:lnTo>
                <a:lnTo>
                  <a:pt x="2772" y="751"/>
                </a:lnTo>
                <a:lnTo>
                  <a:pt x="2808" y="683"/>
                </a:lnTo>
                <a:lnTo>
                  <a:pt x="2844" y="627"/>
                </a:lnTo>
                <a:lnTo>
                  <a:pt x="2852" y="571"/>
                </a:lnTo>
                <a:lnTo>
                  <a:pt x="2920" y="551"/>
                </a:lnTo>
                <a:lnTo>
                  <a:pt x="2876" y="515"/>
                </a:lnTo>
                <a:lnTo>
                  <a:pt x="2896" y="475"/>
                </a:lnTo>
                <a:lnTo>
                  <a:pt x="2900" y="435"/>
                </a:lnTo>
                <a:lnTo>
                  <a:pt x="2932" y="407"/>
                </a:lnTo>
                <a:lnTo>
                  <a:pt x="3016" y="407"/>
                </a:lnTo>
                <a:lnTo>
                  <a:pt x="3060" y="427"/>
                </a:lnTo>
                <a:lnTo>
                  <a:pt x="3068" y="499"/>
                </a:lnTo>
                <a:lnTo>
                  <a:pt x="3032" y="539"/>
                </a:lnTo>
                <a:lnTo>
                  <a:pt x="3132" y="563"/>
                </a:lnTo>
                <a:lnTo>
                  <a:pt x="3144" y="615"/>
                </a:lnTo>
                <a:lnTo>
                  <a:pt x="3132" y="671"/>
                </a:lnTo>
                <a:lnTo>
                  <a:pt x="3120" y="703"/>
                </a:lnTo>
                <a:lnTo>
                  <a:pt x="3184" y="691"/>
                </a:lnTo>
                <a:lnTo>
                  <a:pt x="3236" y="695"/>
                </a:lnTo>
                <a:lnTo>
                  <a:pt x="3200" y="623"/>
                </a:lnTo>
                <a:lnTo>
                  <a:pt x="3200" y="571"/>
                </a:lnTo>
                <a:lnTo>
                  <a:pt x="3200" y="491"/>
                </a:lnTo>
                <a:lnTo>
                  <a:pt x="3228" y="451"/>
                </a:lnTo>
                <a:lnTo>
                  <a:pt x="3320" y="407"/>
                </a:lnTo>
                <a:lnTo>
                  <a:pt x="3396" y="447"/>
                </a:lnTo>
                <a:lnTo>
                  <a:pt x="3448" y="479"/>
                </a:lnTo>
                <a:lnTo>
                  <a:pt x="3452" y="531"/>
                </a:lnTo>
                <a:lnTo>
                  <a:pt x="3424" y="579"/>
                </a:lnTo>
                <a:lnTo>
                  <a:pt x="3464" y="627"/>
                </a:lnTo>
                <a:lnTo>
                  <a:pt x="3520" y="679"/>
                </a:lnTo>
                <a:lnTo>
                  <a:pt x="3600" y="759"/>
                </a:lnTo>
                <a:lnTo>
                  <a:pt x="3664" y="679"/>
                </a:lnTo>
                <a:lnTo>
                  <a:pt x="3696" y="635"/>
                </a:lnTo>
                <a:lnTo>
                  <a:pt x="3636" y="599"/>
                </a:lnTo>
                <a:lnTo>
                  <a:pt x="3652" y="535"/>
                </a:lnTo>
                <a:lnTo>
                  <a:pt x="3628" y="503"/>
                </a:lnTo>
                <a:lnTo>
                  <a:pt x="3668" y="487"/>
                </a:lnTo>
                <a:lnTo>
                  <a:pt x="3700" y="423"/>
                </a:lnTo>
                <a:lnTo>
                  <a:pt x="3788" y="391"/>
                </a:lnTo>
                <a:lnTo>
                  <a:pt x="3864" y="423"/>
                </a:lnTo>
                <a:lnTo>
                  <a:pt x="3900" y="475"/>
                </a:lnTo>
                <a:lnTo>
                  <a:pt x="3888" y="571"/>
                </a:lnTo>
                <a:lnTo>
                  <a:pt x="3876" y="603"/>
                </a:lnTo>
                <a:lnTo>
                  <a:pt x="3940" y="671"/>
                </a:lnTo>
                <a:lnTo>
                  <a:pt x="3988" y="831"/>
                </a:lnTo>
                <a:lnTo>
                  <a:pt x="3968" y="927"/>
                </a:lnTo>
                <a:lnTo>
                  <a:pt x="3920" y="979"/>
                </a:lnTo>
                <a:lnTo>
                  <a:pt x="3976" y="1039"/>
                </a:lnTo>
                <a:lnTo>
                  <a:pt x="3964" y="1099"/>
                </a:lnTo>
                <a:lnTo>
                  <a:pt x="3916" y="1207"/>
                </a:lnTo>
                <a:lnTo>
                  <a:pt x="3840" y="1371"/>
                </a:lnTo>
                <a:lnTo>
                  <a:pt x="3836" y="1615"/>
                </a:lnTo>
                <a:lnTo>
                  <a:pt x="3792" y="1667"/>
                </a:lnTo>
                <a:lnTo>
                  <a:pt x="3776" y="1455"/>
                </a:lnTo>
                <a:lnTo>
                  <a:pt x="3680" y="1487"/>
                </a:lnTo>
                <a:lnTo>
                  <a:pt x="3708" y="1635"/>
                </a:lnTo>
                <a:lnTo>
                  <a:pt x="3676" y="1671"/>
                </a:lnTo>
                <a:lnTo>
                  <a:pt x="3656" y="1507"/>
                </a:lnTo>
                <a:lnTo>
                  <a:pt x="3580" y="1583"/>
                </a:lnTo>
                <a:lnTo>
                  <a:pt x="3624" y="1835"/>
                </a:lnTo>
                <a:lnTo>
                  <a:pt x="3576" y="1875"/>
                </a:lnTo>
                <a:lnTo>
                  <a:pt x="3524" y="1591"/>
                </a:lnTo>
                <a:lnTo>
                  <a:pt x="3360" y="1723"/>
                </a:lnTo>
                <a:lnTo>
                  <a:pt x="3392" y="2063"/>
                </a:lnTo>
                <a:lnTo>
                  <a:pt x="3352" y="2115"/>
                </a:lnTo>
                <a:lnTo>
                  <a:pt x="3300" y="1739"/>
                </a:lnTo>
                <a:lnTo>
                  <a:pt x="3204" y="1791"/>
                </a:lnTo>
                <a:lnTo>
                  <a:pt x="3244" y="2219"/>
                </a:lnTo>
                <a:lnTo>
                  <a:pt x="3196" y="2255"/>
                </a:lnTo>
                <a:lnTo>
                  <a:pt x="3128" y="1787"/>
                </a:lnTo>
                <a:lnTo>
                  <a:pt x="3052" y="1791"/>
                </a:lnTo>
                <a:lnTo>
                  <a:pt x="3028" y="1679"/>
                </a:lnTo>
                <a:lnTo>
                  <a:pt x="2940" y="1743"/>
                </a:lnTo>
                <a:lnTo>
                  <a:pt x="2960" y="1975"/>
                </a:lnTo>
                <a:lnTo>
                  <a:pt x="2976" y="2447"/>
                </a:lnTo>
                <a:lnTo>
                  <a:pt x="2928" y="2495"/>
                </a:lnTo>
                <a:lnTo>
                  <a:pt x="2888" y="1991"/>
                </a:lnTo>
                <a:lnTo>
                  <a:pt x="2728" y="2023"/>
                </a:lnTo>
                <a:lnTo>
                  <a:pt x="2724" y="2531"/>
                </a:lnTo>
                <a:lnTo>
                  <a:pt x="2640" y="2535"/>
                </a:lnTo>
                <a:lnTo>
                  <a:pt x="2552" y="2087"/>
                </a:lnTo>
                <a:lnTo>
                  <a:pt x="2336" y="1951"/>
                </a:lnTo>
                <a:lnTo>
                  <a:pt x="2176" y="2063"/>
                </a:lnTo>
                <a:lnTo>
                  <a:pt x="1644" y="2543"/>
                </a:lnTo>
                <a:lnTo>
                  <a:pt x="0" y="2535"/>
                </a:lnTo>
                <a:lnTo>
                  <a:pt x="4" y="14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>
            <a:lum contrast="12000"/>
          </a:blip>
          <a:srcRect l="-426" t="0" r="0" b="29688"/>
          <a:stretch/>
        </p:blipFill>
        <p:spPr>
          <a:xfrm>
            <a:off x="5342040" y="0"/>
            <a:ext cx="38019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62360" y="3852720"/>
            <a:ext cx="2600280" cy="3314880"/>
          </a:xfrm>
          <a:custGeom>
            <a:avLst/>
            <a:gdLst/>
            <a:ahLst/>
            <a:rect l="l" t="t" r="r" b="b"/>
            <a:pathLst>
              <a:path w="1539" h="1965">
                <a:moveTo>
                  <a:pt x="609" y="300"/>
                </a:moveTo>
                <a:lnTo>
                  <a:pt x="597" y="273"/>
                </a:lnTo>
                <a:lnTo>
                  <a:pt x="612" y="243"/>
                </a:lnTo>
                <a:lnTo>
                  <a:pt x="609" y="192"/>
                </a:lnTo>
                <a:lnTo>
                  <a:pt x="624" y="150"/>
                </a:lnTo>
                <a:lnTo>
                  <a:pt x="585" y="102"/>
                </a:lnTo>
                <a:lnTo>
                  <a:pt x="516" y="84"/>
                </a:lnTo>
                <a:lnTo>
                  <a:pt x="450" y="93"/>
                </a:lnTo>
                <a:lnTo>
                  <a:pt x="393" y="168"/>
                </a:lnTo>
                <a:lnTo>
                  <a:pt x="396" y="225"/>
                </a:lnTo>
                <a:lnTo>
                  <a:pt x="405" y="249"/>
                </a:lnTo>
                <a:lnTo>
                  <a:pt x="381" y="276"/>
                </a:lnTo>
                <a:lnTo>
                  <a:pt x="351" y="297"/>
                </a:lnTo>
                <a:lnTo>
                  <a:pt x="348" y="336"/>
                </a:lnTo>
                <a:lnTo>
                  <a:pt x="246" y="420"/>
                </a:lnTo>
                <a:lnTo>
                  <a:pt x="213" y="462"/>
                </a:lnTo>
                <a:lnTo>
                  <a:pt x="180" y="471"/>
                </a:lnTo>
                <a:lnTo>
                  <a:pt x="183" y="534"/>
                </a:lnTo>
                <a:lnTo>
                  <a:pt x="183" y="576"/>
                </a:lnTo>
                <a:lnTo>
                  <a:pt x="180" y="621"/>
                </a:lnTo>
                <a:lnTo>
                  <a:pt x="192" y="654"/>
                </a:lnTo>
                <a:lnTo>
                  <a:pt x="183" y="696"/>
                </a:lnTo>
                <a:lnTo>
                  <a:pt x="195" y="741"/>
                </a:lnTo>
                <a:lnTo>
                  <a:pt x="174" y="774"/>
                </a:lnTo>
                <a:lnTo>
                  <a:pt x="177" y="801"/>
                </a:lnTo>
                <a:lnTo>
                  <a:pt x="174" y="831"/>
                </a:lnTo>
                <a:lnTo>
                  <a:pt x="174" y="873"/>
                </a:lnTo>
                <a:lnTo>
                  <a:pt x="165" y="954"/>
                </a:lnTo>
                <a:lnTo>
                  <a:pt x="162" y="1020"/>
                </a:lnTo>
                <a:lnTo>
                  <a:pt x="162" y="1044"/>
                </a:lnTo>
                <a:lnTo>
                  <a:pt x="126" y="987"/>
                </a:lnTo>
                <a:lnTo>
                  <a:pt x="111" y="969"/>
                </a:lnTo>
                <a:lnTo>
                  <a:pt x="81" y="978"/>
                </a:lnTo>
                <a:lnTo>
                  <a:pt x="48" y="999"/>
                </a:lnTo>
                <a:lnTo>
                  <a:pt x="0" y="1188"/>
                </a:lnTo>
                <a:lnTo>
                  <a:pt x="225" y="1437"/>
                </a:lnTo>
                <a:lnTo>
                  <a:pt x="246" y="1458"/>
                </a:lnTo>
                <a:lnTo>
                  <a:pt x="297" y="1449"/>
                </a:lnTo>
                <a:lnTo>
                  <a:pt x="315" y="1404"/>
                </a:lnTo>
                <a:lnTo>
                  <a:pt x="345" y="1311"/>
                </a:lnTo>
                <a:lnTo>
                  <a:pt x="354" y="1254"/>
                </a:lnTo>
                <a:lnTo>
                  <a:pt x="327" y="1224"/>
                </a:lnTo>
                <a:lnTo>
                  <a:pt x="246" y="1125"/>
                </a:lnTo>
                <a:lnTo>
                  <a:pt x="261" y="1104"/>
                </a:lnTo>
                <a:lnTo>
                  <a:pt x="252" y="1065"/>
                </a:lnTo>
                <a:lnTo>
                  <a:pt x="285" y="1059"/>
                </a:lnTo>
                <a:lnTo>
                  <a:pt x="273" y="945"/>
                </a:lnTo>
                <a:lnTo>
                  <a:pt x="288" y="834"/>
                </a:lnTo>
                <a:lnTo>
                  <a:pt x="291" y="1092"/>
                </a:lnTo>
                <a:lnTo>
                  <a:pt x="291" y="1140"/>
                </a:lnTo>
                <a:lnTo>
                  <a:pt x="312" y="1152"/>
                </a:lnTo>
                <a:lnTo>
                  <a:pt x="327" y="1227"/>
                </a:lnTo>
                <a:lnTo>
                  <a:pt x="354" y="1362"/>
                </a:lnTo>
                <a:lnTo>
                  <a:pt x="351" y="1389"/>
                </a:lnTo>
                <a:lnTo>
                  <a:pt x="312" y="1407"/>
                </a:lnTo>
                <a:lnTo>
                  <a:pt x="288" y="1455"/>
                </a:lnTo>
                <a:lnTo>
                  <a:pt x="333" y="1497"/>
                </a:lnTo>
                <a:lnTo>
                  <a:pt x="351" y="1491"/>
                </a:lnTo>
                <a:lnTo>
                  <a:pt x="369" y="1557"/>
                </a:lnTo>
                <a:lnTo>
                  <a:pt x="423" y="1635"/>
                </a:lnTo>
                <a:lnTo>
                  <a:pt x="429" y="1668"/>
                </a:lnTo>
                <a:lnTo>
                  <a:pt x="468" y="1704"/>
                </a:lnTo>
                <a:lnTo>
                  <a:pt x="507" y="1746"/>
                </a:lnTo>
                <a:lnTo>
                  <a:pt x="519" y="1797"/>
                </a:lnTo>
                <a:lnTo>
                  <a:pt x="549" y="1836"/>
                </a:lnTo>
                <a:lnTo>
                  <a:pt x="564" y="1926"/>
                </a:lnTo>
                <a:lnTo>
                  <a:pt x="624" y="1965"/>
                </a:lnTo>
                <a:lnTo>
                  <a:pt x="663" y="1947"/>
                </a:lnTo>
                <a:lnTo>
                  <a:pt x="675" y="1899"/>
                </a:lnTo>
                <a:lnTo>
                  <a:pt x="651" y="1848"/>
                </a:lnTo>
                <a:lnTo>
                  <a:pt x="621" y="1809"/>
                </a:lnTo>
                <a:lnTo>
                  <a:pt x="621" y="1695"/>
                </a:lnTo>
                <a:lnTo>
                  <a:pt x="588" y="1656"/>
                </a:lnTo>
                <a:lnTo>
                  <a:pt x="543" y="1575"/>
                </a:lnTo>
                <a:lnTo>
                  <a:pt x="552" y="1437"/>
                </a:lnTo>
                <a:lnTo>
                  <a:pt x="594" y="1380"/>
                </a:lnTo>
                <a:lnTo>
                  <a:pt x="642" y="1320"/>
                </a:lnTo>
                <a:lnTo>
                  <a:pt x="657" y="1293"/>
                </a:lnTo>
                <a:lnTo>
                  <a:pt x="684" y="1110"/>
                </a:lnTo>
                <a:lnTo>
                  <a:pt x="684" y="990"/>
                </a:lnTo>
                <a:lnTo>
                  <a:pt x="669" y="870"/>
                </a:lnTo>
                <a:lnTo>
                  <a:pt x="684" y="882"/>
                </a:lnTo>
                <a:lnTo>
                  <a:pt x="711" y="951"/>
                </a:lnTo>
                <a:lnTo>
                  <a:pt x="717" y="975"/>
                </a:lnTo>
                <a:lnTo>
                  <a:pt x="714" y="1005"/>
                </a:lnTo>
                <a:lnTo>
                  <a:pt x="753" y="1002"/>
                </a:lnTo>
                <a:lnTo>
                  <a:pt x="768" y="990"/>
                </a:lnTo>
                <a:lnTo>
                  <a:pt x="774" y="1038"/>
                </a:lnTo>
                <a:lnTo>
                  <a:pt x="819" y="1053"/>
                </a:lnTo>
                <a:lnTo>
                  <a:pt x="849" y="1035"/>
                </a:lnTo>
                <a:lnTo>
                  <a:pt x="849" y="981"/>
                </a:lnTo>
                <a:lnTo>
                  <a:pt x="906" y="1137"/>
                </a:lnTo>
                <a:lnTo>
                  <a:pt x="930" y="1233"/>
                </a:lnTo>
                <a:lnTo>
                  <a:pt x="900" y="1254"/>
                </a:lnTo>
                <a:lnTo>
                  <a:pt x="882" y="1254"/>
                </a:lnTo>
                <a:lnTo>
                  <a:pt x="867" y="1284"/>
                </a:lnTo>
                <a:lnTo>
                  <a:pt x="873" y="1308"/>
                </a:lnTo>
                <a:lnTo>
                  <a:pt x="864" y="1407"/>
                </a:lnTo>
                <a:lnTo>
                  <a:pt x="885" y="1476"/>
                </a:lnTo>
                <a:lnTo>
                  <a:pt x="945" y="1515"/>
                </a:lnTo>
                <a:lnTo>
                  <a:pt x="978" y="1500"/>
                </a:lnTo>
                <a:lnTo>
                  <a:pt x="960" y="1428"/>
                </a:lnTo>
                <a:lnTo>
                  <a:pt x="969" y="1386"/>
                </a:lnTo>
                <a:lnTo>
                  <a:pt x="984" y="1446"/>
                </a:lnTo>
                <a:lnTo>
                  <a:pt x="1008" y="1506"/>
                </a:lnTo>
                <a:lnTo>
                  <a:pt x="1023" y="1590"/>
                </a:lnTo>
                <a:lnTo>
                  <a:pt x="1056" y="1635"/>
                </a:lnTo>
                <a:lnTo>
                  <a:pt x="1080" y="1671"/>
                </a:lnTo>
                <a:lnTo>
                  <a:pt x="1125" y="1746"/>
                </a:lnTo>
                <a:lnTo>
                  <a:pt x="1188" y="1788"/>
                </a:lnTo>
                <a:lnTo>
                  <a:pt x="1245" y="1764"/>
                </a:lnTo>
                <a:lnTo>
                  <a:pt x="1218" y="1698"/>
                </a:lnTo>
                <a:lnTo>
                  <a:pt x="1164" y="1632"/>
                </a:lnTo>
                <a:lnTo>
                  <a:pt x="1140" y="1614"/>
                </a:lnTo>
                <a:lnTo>
                  <a:pt x="1173" y="1578"/>
                </a:lnTo>
                <a:lnTo>
                  <a:pt x="1143" y="1524"/>
                </a:lnTo>
                <a:lnTo>
                  <a:pt x="1116" y="1491"/>
                </a:lnTo>
                <a:lnTo>
                  <a:pt x="1119" y="1449"/>
                </a:lnTo>
                <a:lnTo>
                  <a:pt x="1104" y="1353"/>
                </a:lnTo>
                <a:lnTo>
                  <a:pt x="1110" y="1293"/>
                </a:lnTo>
                <a:lnTo>
                  <a:pt x="1116" y="1263"/>
                </a:lnTo>
                <a:lnTo>
                  <a:pt x="1122" y="1245"/>
                </a:lnTo>
                <a:lnTo>
                  <a:pt x="1167" y="1167"/>
                </a:lnTo>
                <a:lnTo>
                  <a:pt x="1188" y="1044"/>
                </a:lnTo>
                <a:lnTo>
                  <a:pt x="1197" y="1020"/>
                </a:lnTo>
                <a:lnTo>
                  <a:pt x="1212" y="1005"/>
                </a:lnTo>
                <a:lnTo>
                  <a:pt x="1191" y="705"/>
                </a:lnTo>
                <a:lnTo>
                  <a:pt x="1185" y="669"/>
                </a:lnTo>
                <a:lnTo>
                  <a:pt x="1221" y="741"/>
                </a:lnTo>
                <a:lnTo>
                  <a:pt x="1272" y="855"/>
                </a:lnTo>
                <a:lnTo>
                  <a:pt x="1290" y="882"/>
                </a:lnTo>
                <a:lnTo>
                  <a:pt x="1278" y="909"/>
                </a:lnTo>
                <a:lnTo>
                  <a:pt x="1293" y="927"/>
                </a:lnTo>
                <a:lnTo>
                  <a:pt x="1323" y="927"/>
                </a:lnTo>
                <a:lnTo>
                  <a:pt x="1341" y="942"/>
                </a:lnTo>
                <a:lnTo>
                  <a:pt x="1359" y="936"/>
                </a:lnTo>
                <a:lnTo>
                  <a:pt x="1368" y="954"/>
                </a:lnTo>
                <a:lnTo>
                  <a:pt x="1311" y="951"/>
                </a:lnTo>
                <a:lnTo>
                  <a:pt x="1293" y="924"/>
                </a:lnTo>
                <a:lnTo>
                  <a:pt x="1287" y="957"/>
                </a:lnTo>
                <a:lnTo>
                  <a:pt x="1233" y="957"/>
                </a:lnTo>
                <a:lnTo>
                  <a:pt x="1221" y="984"/>
                </a:lnTo>
                <a:lnTo>
                  <a:pt x="1281" y="1218"/>
                </a:lnTo>
                <a:lnTo>
                  <a:pt x="1320" y="1227"/>
                </a:lnTo>
                <a:lnTo>
                  <a:pt x="1470" y="1251"/>
                </a:lnTo>
                <a:lnTo>
                  <a:pt x="1521" y="1251"/>
                </a:lnTo>
                <a:lnTo>
                  <a:pt x="1539" y="1218"/>
                </a:lnTo>
                <a:lnTo>
                  <a:pt x="1506" y="1149"/>
                </a:lnTo>
                <a:lnTo>
                  <a:pt x="1470" y="1068"/>
                </a:lnTo>
                <a:lnTo>
                  <a:pt x="1494" y="1059"/>
                </a:lnTo>
                <a:lnTo>
                  <a:pt x="1464" y="972"/>
                </a:lnTo>
                <a:lnTo>
                  <a:pt x="1443" y="948"/>
                </a:lnTo>
                <a:lnTo>
                  <a:pt x="1419" y="957"/>
                </a:lnTo>
                <a:lnTo>
                  <a:pt x="1395" y="942"/>
                </a:lnTo>
                <a:lnTo>
                  <a:pt x="1368" y="930"/>
                </a:lnTo>
                <a:lnTo>
                  <a:pt x="1359" y="912"/>
                </a:lnTo>
                <a:lnTo>
                  <a:pt x="1374" y="897"/>
                </a:lnTo>
                <a:lnTo>
                  <a:pt x="1356" y="864"/>
                </a:lnTo>
                <a:lnTo>
                  <a:pt x="1344" y="846"/>
                </a:lnTo>
                <a:lnTo>
                  <a:pt x="1344" y="786"/>
                </a:lnTo>
                <a:lnTo>
                  <a:pt x="1317" y="726"/>
                </a:lnTo>
                <a:lnTo>
                  <a:pt x="1314" y="699"/>
                </a:lnTo>
                <a:lnTo>
                  <a:pt x="1320" y="657"/>
                </a:lnTo>
                <a:lnTo>
                  <a:pt x="1299" y="636"/>
                </a:lnTo>
                <a:lnTo>
                  <a:pt x="1257" y="435"/>
                </a:lnTo>
                <a:lnTo>
                  <a:pt x="1224" y="303"/>
                </a:lnTo>
                <a:lnTo>
                  <a:pt x="1209" y="279"/>
                </a:lnTo>
                <a:lnTo>
                  <a:pt x="1173" y="270"/>
                </a:lnTo>
                <a:lnTo>
                  <a:pt x="1095" y="252"/>
                </a:lnTo>
                <a:lnTo>
                  <a:pt x="1050" y="246"/>
                </a:lnTo>
                <a:lnTo>
                  <a:pt x="1032" y="225"/>
                </a:lnTo>
                <a:lnTo>
                  <a:pt x="1053" y="210"/>
                </a:lnTo>
                <a:lnTo>
                  <a:pt x="1062" y="162"/>
                </a:lnTo>
                <a:lnTo>
                  <a:pt x="1053" y="144"/>
                </a:lnTo>
                <a:lnTo>
                  <a:pt x="1071" y="63"/>
                </a:lnTo>
                <a:lnTo>
                  <a:pt x="1047" y="30"/>
                </a:lnTo>
                <a:lnTo>
                  <a:pt x="951" y="0"/>
                </a:lnTo>
                <a:lnTo>
                  <a:pt x="882" y="21"/>
                </a:lnTo>
                <a:lnTo>
                  <a:pt x="837" y="81"/>
                </a:lnTo>
                <a:lnTo>
                  <a:pt x="816" y="72"/>
                </a:lnTo>
                <a:lnTo>
                  <a:pt x="831" y="87"/>
                </a:lnTo>
                <a:lnTo>
                  <a:pt x="840" y="120"/>
                </a:lnTo>
                <a:lnTo>
                  <a:pt x="858" y="129"/>
                </a:lnTo>
                <a:lnTo>
                  <a:pt x="861" y="171"/>
                </a:lnTo>
                <a:lnTo>
                  <a:pt x="861" y="216"/>
                </a:lnTo>
                <a:lnTo>
                  <a:pt x="885" y="270"/>
                </a:lnTo>
                <a:lnTo>
                  <a:pt x="879" y="291"/>
                </a:lnTo>
                <a:lnTo>
                  <a:pt x="777" y="351"/>
                </a:lnTo>
                <a:lnTo>
                  <a:pt x="738" y="390"/>
                </a:lnTo>
                <a:lnTo>
                  <a:pt x="723" y="414"/>
                </a:lnTo>
                <a:lnTo>
                  <a:pt x="720" y="456"/>
                </a:lnTo>
                <a:lnTo>
                  <a:pt x="708" y="471"/>
                </a:lnTo>
                <a:lnTo>
                  <a:pt x="690" y="381"/>
                </a:lnTo>
                <a:lnTo>
                  <a:pt x="663" y="312"/>
                </a:lnTo>
                <a:lnTo>
                  <a:pt x="630" y="303"/>
                </a:lnTo>
                <a:lnTo>
                  <a:pt x="609" y="3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1133800">
            <a:off x="4124160" y="3865320"/>
            <a:ext cx="3260880" cy="1949400"/>
          </a:xfrm>
          <a:custGeom>
            <a:avLst/>
            <a:gdLst/>
            <a:ahLst/>
            <a:rect l="l" t="t" r="r" b="b"/>
            <a:pathLst>
              <a:path w="1776" h="1050">
                <a:moveTo>
                  <a:pt x="0" y="801"/>
                </a:moveTo>
                <a:lnTo>
                  <a:pt x="309" y="309"/>
                </a:lnTo>
                <a:lnTo>
                  <a:pt x="1188" y="945"/>
                </a:lnTo>
                <a:lnTo>
                  <a:pt x="1644" y="93"/>
                </a:lnTo>
                <a:lnTo>
                  <a:pt x="1566" y="57"/>
                </a:lnTo>
                <a:lnTo>
                  <a:pt x="1716" y="0"/>
                </a:lnTo>
                <a:lnTo>
                  <a:pt x="1776" y="174"/>
                </a:lnTo>
                <a:lnTo>
                  <a:pt x="1707" y="126"/>
                </a:lnTo>
                <a:lnTo>
                  <a:pt x="1200" y="1050"/>
                </a:lnTo>
                <a:lnTo>
                  <a:pt x="315" y="399"/>
                </a:lnTo>
                <a:lnTo>
                  <a:pt x="39" y="846"/>
                </a:lnTo>
                <a:lnTo>
                  <a:pt x="0" y="8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9292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a0ba"/>
            </a:gs>
            <a:gs pos="100000">
              <a:srgbClr val="2029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28880" y="1593720"/>
            <a:ext cx="32734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Verdana"/>
              </a:rPr>
              <a:t>PowerTemplate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7896240" y="0"/>
            <a:ext cx="11700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96a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34680" y="5587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反白效果商业会议</a:t>
            </a: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60" y="60292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c1c1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64960" y="2357280"/>
            <a:ext cx="2306880" cy="2681280"/>
          </a:xfrm>
          <a:prstGeom prst="rect">
            <a:avLst/>
          </a:prstGeom>
          <a:noFill/>
          <a:ln w="19080">
            <a:solidFill>
              <a:srgbClr val="a0d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64960" y="2368440"/>
            <a:ext cx="2306880" cy="777960"/>
          </a:xfrm>
          <a:prstGeom prst="rect">
            <a:avLst/>
          </a:prstGeom>
          <a:gradFill rotWithShape="0">
            <a:gsLst>
              <a:gs pos="0">
                <a:srgbClr val="a0d35d"/>
              </a:gs>
              <a:gs pos="100000">
                <a:srgbClr val="799f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har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67040" y="2513160"/>
            <a:ext cx="2604960" cy="2641320"/>
          </a:xfrm>
          <a:prstGeom prst="ellips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2506680"/>
            <a:ext cx="2593440" cy="265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0787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07877"/>
              </a:path>
            </a:pathLst>
          </a:custGeom>
          <a:gradFill rotWithShape="0">
            <a:gsLst>
              <a:gs pos="0">
                <a:srgbClr val="a0d35d"/>
              </a:gs>
              <a:gs pos="100000">
                <a:srgbClr val="799f4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70240" y="32544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43%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81160" y="1474920"/>
            <a:ext cx="242604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1500"/>
              </a:spcBef>
              <a:buClr>
                <a:srgbClr val="a0d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d35d"/>
                </a:solidFill>
                <a:latin typeface="Arial"/>
                <a:ea typeface="宋体"/>
              </a:rPr>
              <a:t>Description of the contents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24520" y="4821120"/>
            <a:ext cx="2805120" cy="56196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924520" y="4230720"/>
            <a:ext cx="2805120" cy="5634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924520" y="3639960"/>
            <a:ext cx="2805120" cy="56376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24520" y="3049560"/>
            <a:ext cx="2805120" cy="56376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24520" y="2459160"/>
            <a:ext cx="2805120" cy="5634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864400" y="538308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0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16520" y="478008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200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808600" y="419400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400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10400" y="361008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600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11840" y="303516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800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03920" y="2421000"/>
            <a:ext cx="67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1,000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67640" y="3983040"/>
            <a:ext cx="233280" cy="1392120"/>
          </a:xfrm>
          <a:prstGeom prst="rect">
            <a:avLst/>
          </a:prstGeom>
          <a:gradFill rotWithShape="0">
            <a:gsLst>
              <a:gs pos="0">
                <a:srgbClr val="a0d35d"/>
              </a:gs>
              <a:gs pos="100000">
                <a:srgbClr val="799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454880" y="2641680"/>
            <a:ext cx="233280" cy="2733480"/>
          </a:xfrm>
          <a:prstGeom prst="rect">
            <a:avLst/>
          </a:prstGeom>
          <a:gradFill rotWithShape="0">
            <a:gsLst>
              <a:gs pos="0">
                <a:srgbClr val="a0d35d"/>
              </a:gs>
              <a:gs pos="100000">
                <a:srgbClr val="799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155080" y="3049560"/>
            <a:ext cx="233280" cy="2325600"/>
          </a:xfrm>
          <a:prstGeom prst="rect">
            <a:avLst/>
          </a:prstGeom>
          <a:gradFill rotWithShape="0">
            <a:gsLst>
              <a:gs pos="0">
                <a:srgbClr val="a0d35d"/>
              </a:gs>
              <a:gs pos="100000">
                <a:srgbClr val="799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8308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Oct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296120" y="538308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Nov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981920" y="538308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c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48440" y="220356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(unit: $)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3160" y="341136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pptcn  is a Design Digital Content &amp; Contents mall developed by Guild Design Inc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2680" y="251784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14960" y="1474920"/>
            <a:ext cx="242568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1500"/>
              </a:spcBef>
              <a:buClr>
                <a:srgbClr val="a0d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d35d"/>
                </a:solidFill>
                <a:latin typeface="Arial"/>
                <a:ea typeface="宋体"/>
              </a:rPr>
              <a:t>Description of the contents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fc75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2520" y="2189160"/>
            <a:ext cx="8238960" cy="364824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84f25"/>
              </a:gs>
              <a:gs pos="50000">
                <a:srgbClr val="dfc75f"/>
              </a:gs>
              <a:gs pos="100000">
                <a:srgbClr val="584f2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49520" y="2577960"/>
            <a:ext cx="252360" cy="1558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58960" y="2946240"/>
            <a:ext cx="295200" cy="21276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57680" y="3298680"/>
            <a:ext cx="399960" cy="34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397560" y="4030560"/>
            <a:ext cx="630360" cy="76068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46840" y="3724200"/>
            <a:ext cx="495000" cy="47628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43080" y="18288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90680" y="184464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44840" y="18493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75040" y="18414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73640" y="18381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0760" y="296064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62040" y="35067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714680" y="41385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67200" y="476892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11560" y="549756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422" name=""/>
          <p:cNvCxnSpPr>
            <a:stCxn id="407" idx="3"/>
            <a:endCxn id="417" idx="0"/>
          </p:cNvCxnSpPr>
          <p:nvPr/>
        </p:nvCxnSpPr>
        <p:spPr>
          <a:xfrm rot="5400000">
            <a:off x="1442880" y="262800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2243160" y="2944080"/>
            <a:ext cx="348480" cy="778320"/>
          </a:xfrm>
          <a:prstGeom prst="bentConnector3">
            <a:avLst>
              <a:gd name="adj1" fmla="val 4974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3270240" y="345204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1" idx="3"/>
            <a:endCxn id="420" idx="0"/>
          </p:cNvCxnSpPr>
          <p:nvPr/>
        </p:nvCxnSpPr>
        <p:spPr>
          <a:xfrm rot="5400000">
            <a:off x="4579200" y="4053960"/>
            <a:ext cx="568800" cy="861120"/>
          </a:xfrm>
          <a:prstGeom prst="bentConnector3">
            <a:avLst>
              <a:gd name="adj1" fmla="val 4996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0" idx="3"/>
            <a:endCxn id="421" idx="0"/>
          </p:cNvCxnSpPr>
          <p:nvPr/>
        </p:nvCxnSpPr>
        <p:spPr>
          <a:xfrm rot="5400000">
            <a:off x="5742000" y="4526640"/>
            <a:ext cx="707040" cy="1235880"/>
          </a:xfrm>
          <a:prstGeom prst="bentConnector3">
            <a:avLst>
              <a:gd name="adj1" fmla="val 49872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6397560" y="2239920"/>
            <a:ext cx="630360" cy="192744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46840" y="2236680"/>
            <a:ext cx="495000" cy="159696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57680" y="2233440"/>
            <a:ext cx="399960" cy="11700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58960" y="2241720"/>
            <a:ext cx="295200" cy="7664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49520" y="2243160"/>
            <a:ext cx="252360" cy="398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4941720" y="1889280"/>
            <a:ext cx="3862440" cy="537840"/>
          </a:xfrm>
          <a:prstGeom prst="roundRect">
            <a:avLst>
              <a:gd name="adj" fmla="val 14583"/>
            </a:avLst>
          </a:prstGeom>
          <a:gradFill rotWithShape="0">
            <a:gsLst>
              <a:gs pos="0">
                <a:srgbClr val="20296a"/>
              </a:gs>
              <a:gs pos="100000">
                <a:srgbClr val="151a45"/>
              </a:gs>
            </a:gsLst>
            <a:lin ang="5400000"/>
          </a:gradFill>
          <a:ln w="19080">
            <a:solidFill>
              <a:srgbClr val="2029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935600" y="2001960"/>
            <a:ext cx="3859200" cy="438120"/>
          </a:xfrm>
          <a:custGeom>
            <a:avLst/>
            <a:gdLst/>
            <a:ahLst/>
            <a:rect l="l" t="t" r="r" b="b"/>
            <a:pathLst>
              <a:path w="1360" h="183">
                <a:moveTo>
                  <a:pt x="3" y="44"/>
                </a:moveTo>
                <a:lnTo>
                  <a:pt x="3" y="143"/>
                </a:lnTo>
                <a:cubicBezTo>
                  <a:pt x="4" y="162"/>
                  <a:pt x="0" y="181"/>
                  <a:pt x="52" y="183"/>
                </a:cubicBezTo>
                <a:lnTo>
                  <a:pt x="1315" y="183"/>
                </a:lnTo>
                <a:cubicBezTo>
                  <a:pt x="1351" y="183"/>
                  <a:pt x="1360" y="168"/>
                  <a:pt x="1360" y="140"/>
                </a:cubicBezTo>
                <a:lnTo>
                  <a:pt x="1360" y="0"/>
                </a:lnTo>
                <a:cubicBezTo>
                  <a:pt x="1281" y="26"/>
                  <a:pt x="1213" y="95"/>
                  <a:pt x="985" y="96"/>
                </a:cubicBezTo>
                <a:cubicBezTo>
                  <a:pt x="802" y="101"/>
                  <a:pt x="481" y="26"/>
                  <a:pt x="316" y="15"/>
                </a:cubicBezTo>
                <a:cubicBezTo>
                  <a:pt x="152" y="6"/>
                  <a:pt x="70" y="40"/>
                  <a:pt x="3" y="44"/>
                </a:cubicBezTo>
                <a:close/>
              </a:path>
            </a:pathLst>
          </a:custGeom>
          <a:gradFill rotWithShape="0">
            <a:gsLst>
              <a:gs pos="0">
                <a:srgbClr val="70759f"/>
              </a:gs>
              <a:gs pos="100000">
                <a:srgbClr val="2029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Column Char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30920" y="2583000"/>
            <a:ext cx="41274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1.Describe contents for a Chart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2.Describe contents for a Chart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06560" y="1925640"/>
            <a:ext cx="277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246240" y="1219320"/>
            <a:ext cx="4625640" cy="539424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1945800" y="5234040"/>
            <a:ext cx="495360" cy="361440"/>
            <a:chOff x="1945800" y="5234040"/>
            <a:chExt cx="495360" cy="361440"/>
          </a:xfrm>
        </p:grpSpPr>
        <p:sp>
          <p:nvSpPr>
            <p:cNvPr id="439" name=""/>
            <p:cNvSpPr/>
            <p:nvPr/>
          </p:nvSpPr>
          <p:spPr>
            <a:xfrm flipH="1">
              <a:off x="1945440" y="5307480"/>
              <a:ext cx="249480" cy="28800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036520" y="5234040"/>
              <a:ext cx="66240" cy="75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02840" y="5312880"/>
              <a:ext cx="238320" cy="2764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91760" y="5243400"/>
              <a:ext cx="63000" cy="71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286080" y="5311800"/>
            <a:ext cx="447840" cy="383760"/>
            <a:chOff x="3286080" y="5311800"/>
            <a:chExt cx="447840" cy="383760"/>
          </a:xfrm>
        </p:grpSpPr>
        <p:sp>
          <p:nvSpPr>
            <p:cNvPr id="444" name=""/>
            <p:cNvSpPr/>
            <p:nvPr/>
          </p:nvSpPr>
          <p:spPr>
            <a:xfrm>
              <a:off x="3377520" y="5311800"/>
              <a:ext cx="266760" cy="266040"/>
            </a:xfrm>
            <a:prstGeom prst="roundRect">
              <a:avLst>
                <a:gd name="adj" fmla="val 6250"/>
              </a:avLst>
            </a:pr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86080" y="5577840"/>
              <a:ext cx="447840" cy="117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00920" y="5337000"/>
              <a:ext cx="220680" cy="209160"/>
            </a:xfrm>
            <a:prstGeom prst="roundRect">
              <a:avLst>
                <a:gd name="adj" fmla="val 7972"/>
              </a:avLst>
            </a:prstGeom>
            <a:solidFill>
              <a:srgbClr val="ffffff">
                <a:alpha val="40000"/>
              </a:srgbClr>
            </a:solidFill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3601440" y="5634360"/>
              <a:ext cx="67320" cy="0"/>
            </a:xfrm>
            <a:prstGeom prst="line">
              <a:avLst/>
            </a:prstGeom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482280" y="5391360"/>
              <a:ext cx="111960" cy="0"/>
            </a:xfrm>
            <a:prstGeom prst="line">
              <a:avLst/>
            </a:prstGeom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510720" y="5419800"/>
              <a:ext cx="68760" cy="0"/>
            </a:xfrm>
            <a:prstGeom prst="line">
              <a:avLst/>
            </a:prstGeom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3529800" y="5508000"/>
              <a:ext cx="48600" cy="0"/>
            </a:xfrm>
            <a:prstGeom prst="line">
              <a:avLst/>
            </a:prstGeom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590920" y="5273640"/>
            <a:ext cx="374400" cy="374760"/>
            <a:chOff x="2590920" y="5273640"/>
            <a:chExt cx="374400" cy="374760"/>
          </a:xfrm>
        </p:grpSpPr>
        <p:sp>
          <p:nvSpPr>
            <p:cNvPr id="452" name=""/>
            <p:cNvSpPr/>
            <p:nvPr/>
          </p:nvSpPr>
          <p:spPr>
            <a:xfrm>
              <a:off x="2590920" y="5273640"/>
              <a:ext cx="374400" cy="3722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79560" y="5273640"/>
              <a:ext cx="0" cy="369720"/>
            </a:xfrm>
            <a:prstGeom prst="line">
              <a:avLst/>
            </a:prstGeom>
            <a:ln w="19080">
              <a:solidFill>
                <a:srgbClr val="fffff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90920" y="5458320"/>
              <a:ext cx="374400" cy="0"/>
            </a:xfrm>
            <a:prstGeom prst="line">
              <a:avLst/>
            </a:prstGeom>
            <a:ln w="19080">
              <a:solidFill>
                <a:srgbClr val="fffff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04760" y="5275800"/>
              <a:ext cx="77760" cy="3672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8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77680" y="5278680"/>
              <a:ext cx="84240" cy="369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5400000">
              <a:off x="2747160" y="5425920"/>
              <a:ext cx="48240" cy="2790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 rot="16200000">
              <a:off x="2750400" y="5212800"/>
              <a:ext cx="48240" cy="2790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501920" y="5292360"/>
            <a:ext cx="365040" cy="282600"/>
            <a:chOff x="1501920" y="5292360"/>
            <a:chExt cx="365040" cy="282600"/>
          </a:xfrm>
        </p:grpSpPr>
        <p:sp>
          <p:nvSpPr>
            <p:cNvPr id="460" name=""/>
            <p:cNvSpPr/>
            <p:nvPr/>
          </p:nvSpPr>
          <p:spPr>
            <a:xfrm flipV="1">
              <a:off x="1775520" y="5292360"/>
              <a:ext cx="0" cy="72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59960" y="5496480"/>
              <a:ext cx="52200" cy="687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06320" y="5432760"/>
              <a:ext cx="35280" cy="34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33040" y="5432760"/>
              <a:ext cx="35280" cy="34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01920" y="5304600"/>
              <a:ext cx="365040" cy="270360"/>
            </a:xfrm>
            <a:prstGeom prst="upArrow">
              <a:avLst>
                <a:gd name="adj1" fmla="val 63676"/>
                <a:gd name="adj2" fmla="val 44657"/>
              </a:avLst>
            </a:prstGeom>
            <a:solidFill>
              <a:srgbClr val="ffffff">
                <a:alpha val="35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179360" y="1765440"/>
            <a:ext cx="465120" cy="465120"/>
          </a:xfrm>
          <a:prstGeom prst="ellipse">
            <a:avLst/>
          </a:prstGeom>
          <a:solidFill>
            <a:srgbClr val="dfc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603520" y="1765440"/>
            <a:ext cx="465120" cy="465120"/>
          </a:xfrm>
          <a:prstGeom prst="ellipse">
            <a:avLst/>
          </a:prstGeom>
          <a:solidFill>
            <a:srgbClr val="dfc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051440" y="1765440"/>
            <a:ext cx="465120" cy="465120"/>
          </a:xfrm>
          <a:prstGeom prst="ellipse">
            <a:avLst/>
          </a:prstGeom>
          <a:solidFill>
            <a:srgbClr val="dfc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491080" y="1765440"/>
            <a:ext cx="465120" cy="465120"/>
          </a:xfrm>
          <a:prstGeom prst="ellipse">
            <a:avLst/>
          </a:prstGeom>
          <a:solidFill>
            <a:srgbClr val="dfc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939000" y="1765440"/>
            <a:ext cx="465120" cy="465120"/>
          </a:xfrm>
          <a:prstGeom prst="ellipse">
            <a:avLst/>
          </a:prstGeom>
          <a:solidFill>
            <a:srgbClr val="dfc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162080" y="1846440"/>
            <a:ext cx="7072200" cy="4006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160880" y="3435480"/>
            <a:ext cx="260280" cy="2602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88840" y="576432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65480" y="576432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27360" y="576432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992840" y="576432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75240" y="576432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38560" y="3112920"/>
            <a:ext cx="1628640" cy="25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600" y="27563"/>
                </a:moveTo>
                <a:lnTo>
                  <a:pt x="22611" y="9541"/>
                </a:lnTo>
              </a:path>
              <a:path w="21600" h="21600">
                <a:moveTo>
                  <a:pt x="22611" y="0"/>
                </a:moveTo>
                <a:lnTo>
                  <a:pt x="22611" y="21600"/>
                </a:lnTo>
              </a:path>
            </a:pathLst>
          </a:custGeom>
          <a:solidFill>
            <a:srgbClr val="cc0066"/>
          </a:solidFill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Special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63800" y="1174680"/>
            <a:ext cx="36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Contents Title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(2005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87320" y="1257480"/>
            <a:ext cx="276480" cy="276120"/>
            <a:chOff x="787320" y="1257480"/>
            <a:chExt cx="276480" cy="276120"/>
          </a:xfrm>
        </p:grpSpPr>
        <p:grpSp>
          <p:nvGrpSpPr>
            <p:cNvPr id="480" name=""/>
            <p:cNvGrpSpPr/>
            <p:nvPr/>
          </p:nvGrpSpPr>
          <p:grpSpPr>
            <a:xfrm>
              <a:off x="787320" y="1257480"/>
              <a:ext cx="276480" cy="276120"/>
              <a:chOff x="787320" y="1257480"/>
              <a:chExt cx="276480" cy="276120"/>
            </a:xfrm>
          </p:grpSpPr>
          <p:sp>
            <p:nvSpPr>
              <p:cNvPr id="481" name=""/>
              <p:cNvSpPr/>
              <p:nvPr/>
            </p:nvSpPr>
            <p:spPr>
              <a:xfrm>
                <a:off x="787320" y="1257480"/>
                <a:ext cx="276480" cy="2761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4520" y="1262880"/>
                <a:ext cx="263880" cy="26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5320" y="1273680"/>
                <a:ext cx="241920" cy="2433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12520" y="1279440"/>
                <a:ext cx="227520" cy="228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15760" y="1283040"/>
                <a:ext cx="219960" cy="22140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820080" y="128772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afa"/>
                </a:solidFill>
                <a:latin typeface="Arial"/>
                <a:ea typeface="宋体"/>
              </a:rPr>
              <a:t>Line Char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346040" y="1987560"/>
            <a:ext cx="2365560" cy="3171960"/>
          </a:xfrm>
          <a:prstGeom prst="rect">
            <a:avLst/>
          </a:prstGeom>
          <a:solidFill>
            <a:srgbClr val="effbf7">
              <a:alpha val="20000"/>
            </a:srgbClr>
          </a:solidFill>
          <a:ln cap="rnd" w="3816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504800" y="1689120"/>
            <a:ext cx="2033640" cy="537840"/>
            <a:chOff x="1504800" y="1689120"/>
            <a:chExt cx="2033640" cy="537840"/>
          </a:xfrm>
        </p:grpSpPr>
        <p:sp>
          <p:nvSpPr>
            <p:cNvPr id="490" name=""/>
            <p:cNvSpPr/>
            <p:nvPr/>
          </p:nvSpPr>
          <p:spPr>
            <a:xfrm>
              <a:off x="1504800" y="1689120"/>
              <a:ext cx="2033640" cy="537840"/>
            </a:xfrm>
            <a:prstGeom prst="roundRect">
              <a:avLst>
                <a:gd name="adj" fmla="val 14583"/>
              </a:avLst>
            </a:prstGeom>
            <a:gradFill rotWithShape="0">
              <a:gsLst>
                <a:gs pos="0">
                  <a:srgbClr val="20a0ba"/>
                </a:gs>
                <a:gs pos="100000">
                  <a:srgbClr val="15697a"/>
                </a:gs>
              </a:gsLst>
              <a:lin ang="5400000"/>
            </a:gradFill>
            <a:ln w="19080">
              <a:solidFill>
                <a:srgbClr val="20a0ba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09120" y="1800720"/>
              <a:ext cx="2021400" cy="410400"/>
            </a:xfrm>
            <a:custGeom>
              <a:avLst/>
              <a:gdLst/>
              <a:ahLst/>
              <a:rect l="l" t="t" r="r" b="b"/>
              <a:pathLst>
                <a:path w="1360" h="183">
                  <a:moveTo>
                    <a:pt x="3" y="44"/>
                  </a:moveTo>
                  <a:lnTo>
                    <a:pt x="3" y="143"/>
                  </a:lnTo>
                  <a:cubicBezTo>
                    <a:pt x="4" y="162"/>
                    <a:pt x="0" y="181"/>
                    <a:pt x="52" y="183"/>
                  </a:cubicBezTo>
                  <a:lnTo>
                    <a:pt x="1315" y="183"/>
                  </a:lnTo>
                  <a:cubicBezTo>
                    <a:pt x="1351" y="183"/>
                    <a:pt x="1360" y="168"/>
                    <a:pt x="1360" y="140"/>
                  </a:cubicBezTo>
                  <a:lnTo>
                    <a:pt x="1360" y="0"/>
                  </a:lnTo>
                  <a:cubicBezTo>
                    <a:pt x="1281" y="26"/>
                    <a:pt x="1213" y="95"/>
                    <a:pt x="985" y="96"/>
                  </a:cubicBezTo>
                  <a:cubicBezTo>
                    <a:pt x="802" y="101"/>
                    <a:pt x="481" y="26"/>
                    <a:pt x="316" y="15"/>
                  </a:cubicBezTo>
                  <a:cubicBezTo>
                    <a:pt x="152" y="6"/>
                    <a:pt x="70" y="40"/>
                    <a:pt x="3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70c1d2"/>
                </a:gs>
                <a:gs pos="100000">
                  <a:srgbClr val="20a0ba"/>
                </a:gs>
              </a:gsLst>
              <a:lin ang="5400000"/>
            </a:gradFill>
            <a:ln w="9360">
              <a:solidFill>
                <a:srgbClr val="20a0ba"/>
              </a:solidFill>
              <a:round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 flipH="1" flipV="1">
            <a:off x="3701520" y="5165280"/>
            <a:ext cx="2046600" cy="630360"/>
          </a:xfrm>
          <a:prstGeom prst="line">
            <a:avLst/>
          </a:prstGeom>
          <a:ln w="936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3660480" y="1987560"/>
            <a:ext cx="3058920" cy="920880"/>
          </a:xfrm>
          <a:prstGeom prst="line">
            <a:avLst/>
          </a:prstGeom>
          <a:ln w="936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932360" y="3244680"/>
            <a:ext cx="2604960" cy="2641680"/>
          </a:xfrm>
          <a:prstGeom prst="ellipse">
            <a:avLst/>
          </a:prstGeom>
          <a:gradFill rotWithShape="0">
            <a:gsLst>
              <a:gs pos="0">
                <a:srgbClr val="756b2f"/>
              </a:gs>
              <a:gs pos="100000">
                <a:srgbClr val="413b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6625200">
            <a:off x="4671360" y="2788200"/>
            <a:ext cx="2946240" cy="2976480"/>
          </a:xfrm>
          <a:prstGeom prst="blockArc">
            <a:avLst>
              <a:gd name="adj1" fmla="val 20619484"/>
              <a:gd name="adj2" fmla="val 11780516"/>
              <a:gd name="adj3" fmla="val 44028"/>
            </a:avLst>
          </a:prstGeom>
          <a:gradFill rotWithShape="0">
            <a:gsLst>
              <a:gs pos="0">
                <a:srgbClr val="a1d6e1"/>
              </a:gs>
              <a:gs pos="100000">
                <a:srgbClr val="20a0ba"/>
              </a:gs>
            </a:gsLst>
            <a:lin ang="20376000"/>
          </a:gra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53040" y="4148280"/>
            <a:ext cx="344520" cy="344520"/>
          </a:xfrm>
          <a:prstGeom prst="ellips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46560" y="344952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57%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523400" y="2667240"/>
            <a:ext cx="1950840" cy="2017080"/>
            <a:chOff x="4523400" y="2667240"/>
            <a:chExt cx="1950840" cy="2017080"/>
          </a:xfrm>
        </p:grpSpPr>
        <p:grpSp>
          <p:nvGrpSpPr>
            <p:cNvPr id="500" name=""/>
            <p:cNvGrpSpPr/>
            <p:nvPr/>
          </p:nvGrpSpPr>
          <p:grpSpPr>
            <a:xfrm>
              <a:off x="4523400" y="2725200"/>
              <a:ext cx="1469520" cy="1959120"/>
              <a:chOff x="4523400" y="2725200"/>
              <a:chExt cx="1469520" cy="1959120"/>
            </a:xfrm>
          </p:grpSpPr>
          <p:sp>
            <p:nvSpPr>
              <p:cNvPr id="501" name=""/>
              <p:cNvSpPr/>
              <p:nvPr/>
            </p:nvSpPr>
            <p:spPr>
              <a:xfrm rot="1164600">
                <a:off x="4818960" y="3118680"/>
                <a:ext cx="37764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980000">
                <a:off x="4914000" y="2879280"/>
                <a:ext cx="377640" cy="154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275800">
                <a:off x="5001120" y="2758680"/>
                <a:ext cx="377640" cy="154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808000">
                <a:off x="5110920" y="2618640"/>
                <a:ext cx="377640" cy="154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4563360" y="2667240"/>
              <a:ext cx="1910880" cy="1510560"/>
              <a:chOff x="4563360" y="2667240"/>
              <a:chExt cx="1910880" cy="1510560"/>
            </a:xfrm>
          </p:grpSpPr>
          <p:sp>
            <p:nvSpPr>
              <p:cNvPr id="506" name=""/>
              <p:cNvSpPr/>
              <p:nvPr/>
            </p:nvSpPr>
            <p:spPr>
              <a:xfrm rot="2517600">
                <a:off x="5032080" y="2701800"/>
                <a:ext cx="37944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3333000">
                <a:off x="5211360" y="2517480"/>
                <a:ext cx="37944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3628800">
                <a:off x="5338440" y="2439720"/>
                <a:ext cx="37944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4161000">
                <a:off x="5493600" y="2352240"/>
                <a:ext cx="37944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"/>
          <p:cNvGrpSpPr/>
          <p:nvPr/>
        </p:nvGrpSpPr>
        <p:grpSpPr>
          <a:xfrm>
            <a:off x="6459120" y="4030560"/>
            <a:ext cx="939960" cy="695160"/>
            <a:chOff x="6459120" y="4030560"/>
            <a:chExt cx="939960" cy="695160"/>
          </a:xfrm>
        </p:grpSpPr>
        <p:sp>
          <p:nvSpPr>
            <p:cNvPr id="511" name=""/>
            <p:cNvSpPr/>
            <p:nvPr/>
          </p:nvSpPr>
          <p:spPr>
            <a:xfrm flipH="1">
              <a:off x="6458760" y="4172040"/>
              <a:ext cx="473400" cy="55368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631200" y="4030560"/>
              <a:ext cx="126000" cy="14544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46560" y="4182120"/>
              <a:ext cx="452520" cy="5310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15040" y="4048560"/>
              <a:ext cx="119520" cy="1375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506920" y="2386080"/>
            <a:ext cx="765000" cy="946080"/>
            <a:chOff x="5506920" y="2386080"/>
            <a:chExt cx="765000" cy="946080"/>
          </a:xfrm>
        </p:grpSpPr>
        <p:sp>
          <p:nvSpPr>
            <p:cNvPr id="516" name=""/>
            <p:cNvSpPr/>
            <p:nvPr/>
          </p:nvSpPr>
          <p:spPr>
            <a:xfrm>
              <a:off x="5789520" y="2386080"/>
              <a:ext cx="200160" cy="195120"/>
            </a:xfrm>
            <a:prstGeom prst="ellipse">
              <a:avLst/>
            </a:prstGeom>
            <a:solidFill>
              <a:srgbClr val="fee3a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06920" y="2414520"/>
              <a:ext cx="765000" cy="9176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415880" y="2405160"/>
            <a:ext cx="22752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94800" y="1720800"/>
            <a:ext cx="189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261120" y="480708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"/>
          <p:cNvGrpSpPr/>
          <p:nvPr/>
        </p:nvGrpSpPr>
        <p:grpSpPr>
          <a:xfrm>
            <a:off x="3592440" y="4753080"/>
            <a:ext cx="1843200" cy="1096920"/>
            <a:chOff x="3592440" y="4753080"/>
            <a:chExt cx="1843200" cy="1096920"/>
          </a:xfrm>
        </p:grpSpPr>
        <p:sp>
          <p:nvSpPr>
            <p:cNvPr id="522" name=""/>
            <p:cNvSpPr/>
            <p:nvPr/>
          </p:nvSpPr>
          <p:spPr>
            <a:xfrm>
              <a:off x="3592440" y="5585040"/>
              <a:ext cx="1839960" cy="257040"/>
            </a:xfrm>
            <a:prstGeom prst="ellipse">
              <a:avLst/>
            </a:prstGeom>
            <a:gradFill rotWithShape="0">
              <a:gsLst>
                <a:gs pos="0">
                  <a:srgbClr val="20296a"/>
                </a:gs>
                <a:gs pos="50000">
                  <a:srgbClr val="9fa3bf"/>
                </a:gs>
                <a:gs pos="100000">
                  <a:srgbClr val="2029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95680" y="4753080"/>
              <a:ext cx="1839960" cy="1096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1230"/>
                </a:gs>
                <a:gs pos="50000">
                  <a:srgbClr val="20296a">
                    <a:alpha val="50196"/>
                  </a:srgbClr>
                </a:gs>
                <a:gs pos="100000">
                  <a:srgbClr val="0e12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592440" y="3924360"/>
            <a:ext cx="1843200" cy="1096920"/>
            <a:chOff x="3592440" y="3924360"/>
            <a:chExt cx="1843200" cy="1096920"/>
          </a:xfrm>
        </p:grpSpPr>
        <p:sp>
          <p:nvSpPr>
            <p:cNvPr id="525" name=""/>
            <p:cNvSpPr/>
            <p:nvPr/>
          </p:nvSpPr>
          <p:spPr>
            <a:xfrm>
              <a:off x="3592440" y="4756320"/>
              <a:ext cx="1839960" cy="257040"/>
            </a:xfrm>
            <a:prstGeom prst="ellipse">
              <a:avLst/>
            </a:prstGeom>
            <a:gradFill rotWithShape="0">
              <a:gsLst>
                <a:gs pos="0">
                  <a:srgbClr val="20a0ba"/>
                </a:gs>
                <a:gs pos="50000">
                  <a:srgbClr val="9fd5e0"/>
                </a:gs>
                <a:gs pos="100000">
                  <a:srgbClr val="20a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95680" y="3924360"/>
              <a:ext cx="1839960" cy="1096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4955"/>
                </a:gs>
                <a:gs pos="50000">
                  <a:srgbClr val="20a0ba">
                    <a:alpha val="50196"/>
                  </a:srgbClr>
                </a:gs>
                <a:gs pos="100000">
                  <a:srgbClr val="0e49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592440" y="3092400"/>
            <a:ext cx="1843200" cy="1096920"/>
            <a:chOff x="3592440" y="3092400"/>
            <a:chExt cx="1843200" cy="1096920"/>
          </a:xfrm>
        </p:grpSpPr>
        <p:sp>
          <p:nvSpPr>
            <p:cNvPr id="528" name=""/>
            <p:cNvSpPr/>
            <p:nvPr/>
          </p:nvSpPr>
          <p:spPr>
            <a:xfrm>
              <a:off x="3592440" y="3924360"/>
              <a:ext cx="1839960" cy="257040"/>
            </a:xfrm>
            <a:prstGeom prst="ellipse">
              <a:avLst/>
            </a:prstGeom>
            <a:gradFill rotWithShape="0">
              <a:gsLst>
                <a:gs pos="0">
                  <a:srgbClr val="dfc75f"/>
                </a:gs>
                <a:gs pos="50000">
                  <a:srgbClr val="f0e6ba"/>
                </a:gs>
                <a:gs pos="100000">
                  <a:srgbClr val="dfc7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95680" y="3092400"/>
              <a:ext cx="1839960" cy="1096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5b2b"/>
                </a:gs>
                <a:gs pos="50000">
                  <a:srgbClr val="dfc75f">
                    <a:alpha val="50196"/>
                  </a:srgbClr>
                </a:gs>
                <a:gs pos="100000">
                  <a:srgbClr val="665b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 rot="21418800">
            <a:off x="2859120" y="2933640"/>
            <a:ext cx="3271680" cy="1208160"/>
          </a:xfrm>
          <a:prstGeom prst="donut">
            <a:avLst>
              <a:gd name="adj" fmla="val 1518"/>
            </a:avLst>
          </a:prstGeom>
          <a:gradFill rotWithShape="0">
            <a:gsLst>
              <a:gs pos="0">
                <a:srgbClr val="d5d5fe"/>
              </a:gs>
              <a:gs pos="50000">
                <a:srgbClr val="9999ff"/>
              </a:gs>
              <a:gs pos="100000">
                <a:srgbClr val="d5d5fe"/>
              </a:gs>
            </a:gsLst>
            <a:lin ang="5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147840" y="2021040"/>
            <a:ext cx="2832120" cy="693720"/>
          </a:xfrm>
          <a:prstGeom prst="roundRect">
            <a:avLst>
              <a:gd name="adj" fmla="val 11505"/>
            </a:avLst>
          </a:prstGeom>
          <a:solidFill>
            <a:srgbClr val="ffffff">
              <a:alpha val="50000"/>
            </a:srgbClr>
          </a:solidFill>
          <a:ln w="64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1440" y="1539720"/>
            <a:ext cx="21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301920" y="2057400"/>
            <a:ext cx="2849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2960" y="32288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245280" y="321948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3840" y="3656160"/>
            <a:ext cx="2760480" cy="745920"/>
          </a:xfrm>
          <a:prstGeom prst="roundRect">
            <a:avLst>
              <a:gd name="adj" fmla="val 11505"/>
            </a:avLst>
          </a:prstGeom>
          <a:solidFill>
            <a:srgbClr val="ffffff">
              <a:alpha val="50000"/>
            </a:srgbClr>
          </a:solidFill>
          <a:ln w="64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5520" y="3726000"/>
            <a:ext cx="2849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919840" y="3656160"/>
            <a:ext cx="2760480" cy="745920"/>
          </a:xfrm>
          <a:prstGeom prst="roundRect">
            <a:avLst>
              <a:gd name="adj" fmla="val 11505"/>
            </a:avLst>
          </a:prstGeom>
          <a:solidFill>
            <a:srgbClr val="ffffff">
              <a:alpha val="50000"/>
            </a:srgbClr>
          </a:solidFill>
          <a:ln w="64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85000" y="3726000"/>
            <a:ext cx="2670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754280" y="4513320"/>
            <a:ext cx="56880" cy="466560"/>
            <a:chOff x="1754280" y="4513320"/>
            <a:chExt cx="56880" cy="466560"/>
          </a:xfrm>
        </p:grpSpPr>
        <p:sp>
          <p:nvSpPr>
            <p:cNvPr id="542" name=""/>
            <p:cNvSpPr/>
            <p:nvPr/>
          </p:nvSpPr>
          <p:spPr>
            <a:xfrm>
              <a:off x="1754280" y="4513320"/>
              <a:ext cx="5688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54280" y="4649760"/>
              <a:ext cx="5688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54280" y="4786200"/>
              <a:ext cx="5688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54280" y="4923000"/>
              <a:ext cx="56880" cy="568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237440" y="4513320"/>
            <a:ext cx="57240" cy="466560"/>
            <a:chOff x="7237440" y="4513320"/>
            <a:chExt cx="57240" cy="466560"/>
          </a:xfrm>
        </p:grpSpPr>
        <p:sp>
          <p:nvSpPr>
            <p:cNvPr id="547" name=""/>
            <p:cNvSpPr/>
            <p:nvPr/>
          </p:nvSpPr>
          <p:spPr>
            <a:xfrm>
              <a:off x="7237440" y="4513320"/>
              <a:ext cx="5724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37440" y="4649760"/>
              <a:ext cx="5724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37440" y="4786200"/>
              <a:ext cx="5724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37440" y="4923000"/>
              <a:ext cx="57240" cy="568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00040" y="5035680"/>
            <a:ext cx="257004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cn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985000" y="5035680"/>
            <a:ext cx="257004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cn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868480" y="2914560"/>
            <a:ext cx="3272040" cy="1208160"/>
          </a:xfrm>
          <a:prstGeom prst="donut">
            <a:avLst>
              <a:gd name="adj" fmla="val 1518"/>
            </a:avLst>
          </a:prstGeom>
          <a:gradFill rotWithShape="0">
            <a:gsLst>
              <a:gs pos="0">
                <a:srgbClr val="d5d5fe"/>
              </a:gs>
              <a:gs pos="50000">
                <a:srgbClr val="9999ff"/>
              </a:gs>
              <a:gs pos="100000">
                <a:srgbClr val="d5d5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782800" y="3298680"/>
            <a:ext cx="257400" cy="267840"/>
            <a:chOff x="2782800" y="3298680"/>
            <a:chExt cx="257400" cy="267840"/>
          </a:xfrm>
        </p:grpSpPr>
        <p:pic>
          <p:nvPicPr>
            <p:cNvPr id="555" name="" descr=""/>
            <p:cNvPicPr/>
            <p:nvPr/>
          </p:nvPicPr>
          <p:blipFill>
            <a:blip r:embed="rId1"/>
            <a:stretch/>
          </p:blipFill>
          <p:spPr>
            <a:xfrm>
              <a:off x="2782800" y="3298680"/>
              <a:ext cx="25740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2782800" y="3298680"/>
              <a:ext cx="255960" cy="2498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2804400" y="3480120"/>
              <a:ext cx="201240" cy="86400"/>
              <a:chOff x="2804400" y="3480120"/>
              <a:chExt cx="201240" cy="8640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2836800" y="3492000"/>
                <a:ext cx="168840" cy="68040"/>
                <a:chOff x="2836800" y="3492000"/>
                <a:chExt cx="168840" cy="68040"/>
              </a:xfrm>
            </p:grpSpPr>
            <p:sp>
              <p:nvSpPr>
                <p:cNvPr id="559" name=""/>
                <p:cNvSpPr/>
                <p:nvPr/>
              </p:nvSpPr>
              <p:spPr>
                <a:xfrm flipH="1" flipV="1" rot="4217400">
                  <a:off x="2928600" y="346500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 flipV="1" rot="5032800">
                  <a:off x="2909160" y="347076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flipV="1" rot="5328600">
                  <a:off x="2898000" y="34711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 flipV="1" rot="5860800">
                  <a:off x="2883960" y="347220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2804400" y="3480120"/>
                <a:ext cx="164520" cy="86400"/>
                <a:chOff x="2804400" y="3480120"/>
                <a:chExt cx="164520" cy="86400"/>
              </a:xfrm>
            </p:grpSpPr>
            <p:sp>
              <p:nvSpPr>
                <p:cNvPr id="564" name=""/>
                <p:cNvSpPr/>
                <p:nvPr/>
              </p:nvSpPr>
              <p:spPr>
                <a:xfrm flipH="1" flipV="1" rot="5570400">
                  <a:off x="2892600" y="34729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 rot="6385800">
                  <a:off x="2872800" y="34711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 flipV="1" rot="6681600">
                  <a:off x="2862000" y="3468240"/>
                  <a:ext cx="29160" cy="12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 flipV="1" rot="7213800">
                  <a:off x="2849400" y="346248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8" name=""/>
            <p:cNvSpPr/>
            <p:nvPr/>
          </p:nvSpPr>
          <p:spPr>
            <a:xfrm>
              <a:off x="2809080" y="3303720"/>
              <a:ext cx="200880" cy="86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456080" y="2882880"/>
            <a:ext cx="152280" cy="158040"/>
            <a:chOff x="4456080" y="2882880"/>
            <a:chExt cx="152280" cy="158040"/>
          </a:xfrm>
        </p:grpSpPr>
        <p:pic>
          <p:nvPicPr>
            <p:cNvPr id="570" name="" descr=""/>
            <p:cNvPicPr/>
            <p:nvPr/>
          </p:nvPicPr>
          <p:blipFill>
            <a:blip r:embed="rId2"/>
            <a:stretch/>
          </p:blipFill>
          <p:spPr>
            <a:xfrm>
              <a:off x="4456080" y="2882880"/>
              <a:ext cx="152280" cy="1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4456080" y="2882880"/>
              <a:ext cx="151560" cy="14688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4468680" y="2989800"/>
              <a:ext cx="118800" cy="51120"/>
              <a:chOff x="4468680" y="2989800"/>
              <a:chExt cx="118800" cy="5112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4488120" y="2995920"/>
                <a:ext cx="99360" cy="40320"/>
                <a:chOff x="4488120" y="2995920"/>
                <a:chExt cx="99360" cy="40320"/>
              </a:xfrm>
            </p:grpSpPr>
            <p:sp>
              <p:nvSpPr>
                <p:cNvPr id="574" name=""/>
                <p:cNvSpPr/>
                <p:nvPr/>
              </p:nvSpPr>
              <p:spPr>
                <a:xfrm flipH="1" flipV="1" rot="4217400">
                  <a:off x="4542120" y="298008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flipV="1" rot="5032800">
                  <a:off x="4530960" y="298368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 flipV="1" rot="5328600">
                  <a:off x="4524480" y="298404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 flipV="1" rot="5860800">
                  <a:off x="4515480" y="298440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4468680" y="2989800"/>
                <a:ext cx="97560" cy="51120"/>
                <a:chOff x="4468680" y="2989800"/>
                <a:chExt cx="97560" cy="51120"/>
              </a:xfrm>
            </p:grpSpPr>
            <p:sp>
              <p:nvSpPr>
                <p:cNvPr id="579" name=""/>
                <p:cNvSpPr/>
                <p:nvPr/>
              </p:nvSpPr>
              <p:spPr>
                <a:xfrm flipH="1" flipV="1" rot="5570400">
                  <a:off x="4521240" y="298476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 flipV="1" rot="6385800">
                  <a:off x="4509360" y="298368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 flipV="1" rot="6681600">
                  <a:off x="4503240" y="298152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 flipV="1" rot="7213800">
                  <a:off x="4495320" y="2978640"/>
                  <a:ext cx="1728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3" name=""/>
            <p:cNvSpPr/>
            <p:nvPr/>
          </p:nvSpPr>
          <p:spPr>
            <a:xfrm>
              <a:off x="4471560" y="2885760"/>
              <a:ext cx="118800" cy="50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925960" y="3379680"/>
            <a:ext cx="257400" cy="267840"/>
            <a:chOff x="5925960" y="3379680"/>
            <a:chExt cx="257400" cy="267840"/>
          </a:xfrm>
        </p:grpSpPr>
        <p:pic>
          <p:nvPicPr>
            <p:cNvPr id="585" name="" descr=""/>
            <p:cNvPicPr/>
            <p:nvPr/>
          </p:nvPicPr>
          <p:blipFill>
            <a:blip r:embed="rId3"/>
            <a:stretch/>
          </p:blipFill>
          <p:spPr>
            <a:xfrm>
              <a:off x="5925960" y="3379680"/>
              <a:ext cx="25740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5925960" y="3379680"/>
              <a:ext cx="255960" cy="2498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5947560" y="3561120"/>
              <a:ext cx="201240" cy="86400"/>
              <a:chOff x="5947560" y="3561120"/>
              <a:chExt cx="201240" cy="864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979960" y="3573000"/>
                <a:ext cx="168840" cy="68040"/>
                <a:chOff x="5979960" y="3573000"/>
                <a:chExt cx="168840" cy="6804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 rot="4217400">
                  <a:off x="6071760" y="354600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 flipV="1" rot="5032800">
                  <a:off x="6052320" y="355176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 flipV="1" rot="5328600">
                  <a:off x="6041160" y="35521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flipV="1" rot="5860800">
                  <a:off x="6027120" y="355320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947560" y="3561120"/>
                <a:ext cx="164520" cy="86400"/>
                <a:chOff x="5947560" y="3561120"/>
                <a:chExt cx="164520" cy="86400"/>
              </a:xfrm>
            </p:grpSpPr>
            <p:sp>
              <p:nvSpPr>
                <p:cNvPr id="594" name=""/>
                <p:cNvSpPr/>
                <p:nvPr/>
              </p:nvSpPr>
              <p:spPr>
                <a:xfrm flipH="1" flipV="1" rot="5570400">
                  <a:off x="6035760" y="35539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H="1" flipV="1" rot="6385800">
                  <a:off x="6015960" y="35521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H="1" flipV="1" rot="6681600">
                  <a:off x="6005160" y="3549240"/>
                  <a:ext cx="29160" cy="12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 flipV="1" rot="7213800">
                  <a:off x="5992560" y="354348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8" name=""/>
            <p:cNvSpPr/>
            <p:nvPr/>
          </p:nvSpPr>
          <p:spPr>
            <a:xfrm>
              <a:off x="5952240" y="3384720"/>
              <a:ext cx="200880" cy="86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 flipH="1">
            <a:off x="3645720" y="249696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739880" y="25336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679400" y="3540240"/>
            <a:ext cx="3003840" cy="2771280"/>
            <a:chOff x="1679400" y="3540240"/>
            <a:chExt cx="3003840" cy="2771280"/>
          </a:xfrm>
        </p:grpSpPr>
        <p:grpSp>
          <p:nvGrpSpPr>
            <p:cNvPr id="602" name=""/>
            <p:cNvGrpSpPr/>
            <p:nvPr/>
          </p:nvGrpSpPr>
          <p:grpSpPr>
            <a:xfrm>
              <a:off x="1854000" y="4728960"/>
              <a:ext cx="2706840" cy="1582560"/>
              <a:chOff x="1854000" y="4728960"/>
              <a:chExt cx="2706840" cy="1582560"/>
            </a:xfrm>
          </p:grpSpPr>
          <p:sp>
            <p:nvSpPr>
              <p:cNvPr id="603" name=""/>
              <p:cNvSpPr/>
              <p:nvPr/>
            </p:nvSpPr>
            <p:spPr>
              <a:xfrm>
                <a:off x="1854000" y="52617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905200" y="51807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dfc7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854000" y="4728960"/>
                <a:ext cx="2706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1796040" y="4342320"/>
              <a:ext cx="2802600" cy="1582560"/>
              <a:chOff x="1796040" y="4342320"/>
              <a:chExt cx="2802600" cy="1582560"/>
            </a:xfrm>
          </p:grpSpPr>
          <p:sp>
            <p:nvSpPr>
              <p:cNvPr id="607" name=""/>
              <p:cNvSpPr/>
              <p:nvPr/>
            </p:nvSpPr>
            <p:spPr>
              <a:xfrm>
                <a:off x="1796040" y="48751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884680" y="4794120"/>
                <a:ext cx="1713960" cy="112572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20a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96040" y="4342320"/>
                <a:ext cx="2802600" cy="130140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1737360" y="3942000"/>
              <a:ext cx="2903040" cy="1582560"/>
              <a:chOff x="1737360" y="3942000"/>
              <a:chExt cx="2903040" cy="1582560"/>
            </a:xfrm>
          </p:grpSpPr>
          <p:sp>
            <p:nvSpPr>
              <p:cNvPr id="611" name=""/>
              <p:cNvSpPr/>
              <p:nvPr/>
            </p:nvSpPr>
            <p:spPr>
              <a:xfrm>
                <a:off x="1737360" y="44748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64880" y="4393800"/>
                <a:ext cx="17755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0d3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737360" y="3942000"/>
                <a:ext cx="29030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1679400" y="3540240"/>
              <a:ext cx="3003840" cy="1582560"/>
              <a:chOff x="1679400" y="3540240"/>
              <a:chExt cx="3003840" cy="1582560"/>
            </a:xfrm>
          </p:grpSpPr>
          <p:sp>
            <p:nvSpPr>
              <p:cNvPr id="615" name=""/>
              <p:cNvSpPr/>
              <p:nvPr/>
            </p:nvSpPr>
            <p:spPr>
              <a:xfrm>
                <a:off x="1679400" y="40730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46160" y="3992040"/>
                <a:ext cx="18370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202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79400" y="3540240"/>
                <a:ext cx="3003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"/>
          <p:cNvSpPr/>
          <p:nvPr/>
        </p:nvSpPr>
        <p:spPr>
          <a:xfrm>
            <a:off x="5421240" y="305748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96a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07200" y="3770280"/>
            <a:ext cx="3133440" cy="6256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0d35d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8920" y="5097600"/>
            <a:ext cx="3065760" cy="644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fc75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98920" y="4471920"/>
            <a:ext cx="3097440" cy="5558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a0ba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21055800">
            <a:off x="1248840" y="374004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20296a"/>
              </a:gs>
              <a:gs pos="100000">
                <a:srgbClr val="ffffff"/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20800" y="58150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1389240" y="1574640"/>
            <a:ext cx="2447640" cy="27594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4956120" y="161928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68280" y="1512720"/>
            <a:ext cx="4186440" cy="113220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bcb98"/>
              </a:gs>
              <a:gs pos="100000">
                <a:srgbClr val="80800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49360" y="1500120"/>
            <a:ext cx="1323720" cy="1320840"/>
            <a:chOff x="549360" y="1500120"/>
            <a:chExt cx="1323720" cy="1320840"/>
          </a:xfrm>
        </p:grpSpPr>
        <p:grpSp>
          <p:nvGrpSpPr>
            <p:cNvPr id="629" name=""/>
            <p:cNvGrpSpPr/>
            <p:nvPr/>
          </p:nvGrpSpPr>
          <p:grpSpPr>
            <a:xfrm>
              <a:off x="549360" y="1500120"/>
              <a:ext cx="1323720" cy="1320840"/>
              <a:chOff x="549360" y="1500120"/>
              <a:chExt cx="1323720" cy="1320840"/>
            </a:xfrm>
          </p:grpSpPr>
          <p:sp>
            <p:nvSpPr>
              <p:cNvPr id="630" name=""/>
              <p:cNvSpPr/>
              <p:nvPr/>
            </p:nvSpPr>
            <p:spPr>
              <a:xfrm>
                <a:off x="549360" y="150012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4280" y="15264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36120" y="157860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71040" y="160560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86160" y="162252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705960" y="164520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79400" y="1708200"/>
            <a:ext cx="879480" cy="885240"/>
            <a:chOff x="779400" y="1708200"/>
            <a:chExt cx="879480" cy="885240"/>
          </a:xfrm>
        </p:grpSpPr>
        <p:sp>
          <p:nvSpPr>
            <p:cNvPr id="637" name=""/>
            <p:cNvSpPr/>
            <p:nvPr/>
          </p:nvSpPr>
          <p:spPr>
            <a:xfrm>
              <a:off x="779400" y="1708200"/>
              <a:ext cx="879480" cy="87948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22200" y="1708200"/>
              <a:ext cx="0" cy="87336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9400" y="214488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81240" y="1713960"/>
              <a:ext cx="182520" cy="8676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83160" y="1720080"/>
              <a:ext cx="197640" cy="873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5400000">
              <a:off x="1146960" y="207036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 rot="16200000">
              <a:off x="1154520" y="156672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693720" y="1963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98640" y="1660680"/>
            <a:ext cx="31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283360" y="170820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956120" y="318276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c1933f"/>
              </a:gs>
              <a:gs pos="100000">
                <a:srgbClr val="86662b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268280" y="307656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5d2b1"/>
              </a:gs>
              <a:gs pos="100000">
                <a:srgbClr val="c1933f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549360" y="3063960"/>
            <a:ext cx="1323720" cy="1320840"/>
            <a:chOff x="549360" y="3063960"/>
            <a:chExt cx="1323720" cy="1320840"/>
          </a:xfrm>
        </p:grpSpPr>
        <p:grpSp>
          <p:nvGrpSpPr>
            <p:cNvPr id="650" name=""/>
            <p:cNvGrpSpPr/>
            <p:nvPr/>
          </p:nvGrpSpPr>
          <p:grpSpPr>
            <a:xfrm>
              <a:off x="549360" y="3063960"/>
              <a:ext cx="1323720" cy="1320840"/>
              <a:chOff x="549360" y="3063960"/>
              <a:chExt cx="1323720" cy="1320840"/>
            </a:xfrm>
          </p:grpSpPr>
          <p:sp>
            <p:nvSpPr>
              <p:cNvPr id="651" name=""/>
              <p:cNvSpPr/>
              <p:nvPr/>
            </p:nvSpPr>
            <p:spPr>
              <a:xfrm>
                <a:off x="549360" y="30639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4280" y="30902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36120" y="314244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1040" y="31694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6160" y="31863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705960" y="320904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58431d"/>
                </a:gs>
                <a:gs pos="100000">
                  <a:srgbClr val="c193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63560" y="3271680"/>
            <a:ext cx="879480" cy="885600"/>
            <a:chOff x="763560" y="3271680"/>
            <a:chExt cx="879480" cy="885600"/>
          </a:xfrm>
        </p:grpSpPr>
        <p:sp>
          <p:nvSpPr>
            <p:cNvPr id="658" name=""/>
            <p:cNvSpPr/>
            <p:nvPr/>
          </p:nvSpPr>
          <p:spPr>
            <a:xfrm>
              <a:off x="763560" y="327168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06360" y="327168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3560" y="370836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65400" y="327744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67320" y="328356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5400000">
              <a:off x="1131120" y="363420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 rot="16200000">
              <a:off x="1138680" y="313056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693720" y="3527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98640" y="3224160"/>
            <a:ext cx="30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83360" y="327168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956120" y="474660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955577"/>
              </a:gs>
              <a:gs pos="100000">
                <a:srgbClr val="673b52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268280" y="464040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3bac7"/>
              </a:gs>
              <a:gs pos="100000">
                <a:srgbClr val="955577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549360" y="4627440"/>
            <a:ext cx="1323720" cy="1320840"/>
            <a:chOff x="549360" y="4627440"/>
            <a:chExt cx="1323720" cy="1320840"/>
          </a:xfrm>
        </p:grpSpPr>
        <p:grpSp>
          <p:nvGrpSpPr>
            <p:cNvPr id="671" name=""/>
            <p:cNvGrpSpPr/>
            <p:nvPr/>
          </p:nvGrpSpPr>
          <p:grpSpPr>
            <a:xfrm>
              <a:off x="549360" y="4627440"/>
              <a:ext cx="1323720" cy="1320840"/>
              <a:chOff x="549360" y="4627440"/>
              <a:chExt cx="1323720" cy="1320840"/>
            </a:xfrm>
          </p:grpSpPr>
          <p:sp>
            <p:nvSpPr>
              <p:cNvPr id="672" name=""/>
              <p:cNvSpPr/>
              <p:nvPr/>
            </p:nvSpPr>
            <p:spPr>
              <a:xfrm>
                <a:off x="549360" y="462744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4280" y="465372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36120" y="470592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71040" y="473292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6160" y="474984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705960" y="477252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442736"/>
                </a:gs>
                <a:gs pos="100000">
                  <a:srgbClr val="9555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63560" y="4835520"/>
            <a:ext cx="879480" cy="885600"/>
            <a:chOff x="763560" y="4835520"/>
            <a:chExt cx="879480" cy="885600"/>
          </a:xfrm>
        </p:grpSpPr>
        <p:sp>
          <p:nvSpPr>
            <p:cNvPr id="679" name=""/>
            <p:cNvSpPr/>
            <p:nvPr/>
          </p:nvSpPr>
          <p:spPr>
            <a:xfrm>
              <a:off x="763560" y="483552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06360" y="483552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3560" y="527220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65400" y="484128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67320" y="484740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5400000">
              <a:off x="1131120" y="519804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 rot="16200000">
              <a:off x="1138680" y="469440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693720" y="5091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283360" y="483552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898640" y="4799160"/>
            <a:ext cx="30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406680" y="2550960"/>
            <a:ext cx="2341800" cy="2343240"/>
          </a:xfrm>
          <a:prstGeom prst="donut">
            <a:avLst>
              <a:gd name="adj" fmla="val 28564"/>
            </a:avLst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5400000"/>
          </a:gradFill>
          <a:ln w="28440">
            <a:solidFill>
              <a:srgbClr val="353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79920" y="3722760"/>
            <a:ext cx="2000160" cy="1353960"/>
          </a:xfrm>
          <a:prstGeom prst="line">
            <a:avLst/>
          </a:prstGeom>
          <a:ln w="9360">
            <a:solidFill>
              <a:srgbClr val="353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712960" y="3722760"/>
            <a:ext cx="1866960" cy="1342800"/>
          </a:xfrm>
          <a:prstGeom prst="line">
            <a:avLst/>
          </a:prstGeom>
          <a:ln w="9360">
            <a:solidFill>
              <a:srgbClr val="353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4579920" y="1854360"/>
            <a:ext cx="0" cy="186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 rot="3774000">
            <a:off x="4023720" y="3081240"/>
            <a:ext cx="1609920" cy="106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8797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695" name=""/>
          <p:cNvSpPr txBox="1"/>
          <p:nvPr/>
        </p:nvSpPr>
        <p:spPr>
          <a:xfrm rot="17728800">
            <a:off x="3517920" y="2999880"/>
            <a:ext cx="1655640" cy="1211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07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696" name=""/>
          <p:cNvSpPr txBox="1"/>
          <p:nvPr/>
        </p:nvSpPr>
        <p:spPr>
          <a:xfrm rot="21471600">
            <a:off x="3938400" y="4003200"/>
            <a:ext cx="1269720" cy="617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091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697" name=""/>
          <p:cNvSpPr/>
          <p:nvPr/>
        </p:nvSpPr>
        <p:spPr>
          <a:xfrm>
            <a:off x="4527720" y="3666960"/>
            <a:ext cx="101520" cy="10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3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55600" y="5105520"/>
            <a:ext cx="3159360" cy="382320"/>
          </a:xfrm>
          <a:prstGeom prst="roundRect">
            <a:avLst>
              <a:gd name="adj" fmla="val 22815"/>
            </a:avLst>
          </a:prstGeom>
          <a:solidFill>
            <a:srgbClr val="20296a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76480" y="5113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964040" y="5105520"/>
            <a:ext cx="3159360" cy="382320"/>
          </a:xfrm>
          <a:prstGeom prst="roundRect">
            <a:avLst>
              <a:gd name="adj" fmla="val 22815"/>
            </a:avLst>
          </a:prstGeom>
          <a:solidFill>
            <a:srgbClr val="20a0ba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884920" y="5114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005280" y="1400040"/>
            <a:ext cx="3159000" cy="382680"/>
          </a:xfrm>
          <a:prstGeom prst="roundRect">
            <a:avLst>
              <a:gd name="adj" fmla="val 22815"/>
            </a:avLst>
          </a:prstGeom>
          <a:solidFill>
            <a:srgbClr val="dfc75f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36960" y="1419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89240" y="5551560"/>
            <a:ext cx="273816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68800" y="5553000"/>
            <a:ext cx="29908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technology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532400" y="2158920"/>
            <a:ext cx="777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605480" y="2073240"/>
            <a:ext cx="3066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948280" y="4632480"/>
            <a:ext cx="7776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2000" y="4545000"/>
            <a:ext cx="2966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20920" y="4632480"/>
            <a:ext cx="7776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8080" y="4537080"/>
            <a:ext cx="3012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 rot="21175800">
            <a:off x="631800" y="2959200"/>
            <a:ext cx="1812960" cy="2336760"/>
          </a:xfrm>
          <a:custGeom>
            <a:avLst/>
            <a:gdLst/>
            <a:ahLst/>
            <a:rect l="l" t="t" r="r" b="b"/>
            <a:pathLst>
              <a:path w="2220" h="2878">
                <a:moveTo>
                  <a:pt x="832" y="20"/>
                </a:moveTo>
                <a:lnTo>
                  <a:pt x="784" y="20"/>
                </a:lnTo>
                <a:lnTo>
                  <a:pt x="756" y="0"/>
                </a:lnTo>
                <a:lnTo>
                  <a:pt x="676" y="20"/>
                </a:lnTo>
                <a:lnTo>
                  <a:pt x="624" y="44"/>
                </a:lnTo>
                <a:lnTo>
                  <a:pt x="568" y="112"/>
                </a:lnTo>
                <a:lnTo>
                  <a:pt x="536" y="164"/>
                </a:lnTo>
                <a:lnTo>
                  <a:pt x="508" y="208"/>
                </a:lnTo>
                <a:lnTo>
                  <a:pt x="464" y="212"/>
                </a:lnTo>
                <a:lnTo>
                  <a:pt x="392" y="164"/>
                </a:lnTo>
                <a:lnTo>
                  <a:pt x="352" y="140"/>
                </a:lnTo>
                <a:lnTo>
                  <a:pt x="300" y="164"/>
                </a:lnTo>
                <a:lnTo>
                  <a:pt x="280" y="184"/>
                </a:lnTo>
                <a:lnTo>
                  <a:pt x="216" y="184"/>
                </a:lnTo>
                <a:lnTo>
                  <a:pt x="180" y="156"/>
                </a:lnTo>
                <a:lnTo>
                  <a:pt x="108" y="152"/>
                </a:lnTo>
                <a:lnTo>
                  <a:pt x="48" y="184"/>
                </a:lnTo>
                <a:lnTo>
                  <a:pt x="16" y="184"/>
                </a:lnTo>
                <a:lnTo>
                  <a:pt x="0" y="264"/>
                </a:lnTo>
                <a:lnTo>
                  <a:pt x="4" y="312"/>
                </a:lnTo>
                <a:lnTo>
                  <a:pt x="68" y="368"/>
                </a:lnTo>
                <a:lnTo>
                  <a:pt x="124" y="408"/>
                </a:lnTo>
                <a:lnTo>
                  <a:pt x="196" y="432"/>
                </a:lnTo>
                <a:lnTo>
                  <a:pt x="224" y="460"/>
                </a:lnTo>
                <a:lnTo>
                  <a:pt x="256" y="588"/>
                </a:lnTo>
                <a:lnTo>
                  <a:pt x="272" y="636"/>
                </a:lnTo>
                <a:lnTo>
                  <a:pt x="272" y="664"/>
                </a:lnTo>
                <a:lnTo>
                  <a:pt x="276" y="724"/>
                </a:lnTo>
                <a:lnTo>
                  <a:pt x="256" y="812"/>
                </a:lnTo>
                <a:lnTo>
                  <a:pt x="248" y="900"/>
                </a:lnTo>
                <a:lnTo>
                  <a:pt x="216" y="964"/>
                </a:lnTo>
                <a:lnTo>
                  <a:pt x="216" y="1012"/>
                </a:lnTo>
                <a:lnTo>
                  <a:pt x="180" y="1072"/>
                </a:lnTo>
                <a:lnTo>
                  <a:pt x="180" y="1100"/>
                </a:lnTo>
                <a:lnTo>
                  <a:pt x="132" y="1160"/>
                </a:lnTo>
                <a:lnTo>
                  <a:pt x="144" y="1240"/>
                </a:lnTo>
                <a:lnTo>
                  <a:pt x="156" y="1296"/>
                </a:lnTo>
                <a:lnTo>
                  <a:pt x="184" y="1372"/>
                </a:lnTo>
                <a:lnTo>
                  <a:pt x="236" y="1476"/>
                </a:lnTo>
                <a:lnTo>
                  <a:pt x="268" y="1500"/>
                </a:lnTo>
                <a:lnTo>
                  <a:pt x="292" y="1500"/>
                </a:lnTo>
                <a:lnTo>
                  <a:pt x="328" y="1556"/>
                </a:lnTo>
                <a:lnTo>
                  <a:pt x="404" y="1640"/>
                </a:lnTo>
                <a:lnTo>
                  <a:pt x="412" y="1716"/>
                </a:lnTo>
                <a:lnTo>
                  <a:pt x="436" y="1772"/>
                </a:lnTo>
                <a:lnTo>
                  <a:pt x="452" y="1796"/>
                </a:lnTo>
                <a:lnTo>
                  <a:pt x="460" y="1824"/>
                </a:lnTo>
                <a:lnTo>
                  <a:pt x="452" y="1964"/>
                </a:lnTo>
                <a:lnTo>
                  <a:pt x="452" y="2152"/>
                </a:lnTo>
                <a:lnTo>
                  <a:pt x="424" y="2196"/>
                </a:lnTo>
                <a:lnTo>
                  <a:pt x="384" y="2196"/>
                </a:lnTo>
                <a:lnTo>
                  <a:pt x="264" y="2276"/>
                </a:lnTo>
                <a:lnTo>
                  <a:pt x="116" y="2392"/>
                </a:lnTo>
                <a:lnTo>
                  <a:pt x="140" y="2420"/>
                </a:lnTo>
                <a:lnTo>
                  <a:pt x="76" y="2420"/>
                </a:lnTo>
                <a:lnTo>
                  <a:pt x="16" y="2472"/>
                </a:lnTo>
                <a:lnTo>
                  <a:pt x="64" y="2572"/>
                </a:lnTo>
                <a:lnTo>
                  <a:pt x="100" y="2708"/>
                </a:lnTo>
                <a:lnTo>
                  <a:pt x="136" y="2828"/>
                </a:lnTo>
                <a:cubicBezTo>
                  <a:pt x="151" y="2851"/>
                  <a:pt x="171" y="2878"/>
                  <a:pt x="188" y="2848"/>
                </a:cubicBezTo>
                <a:cubicBezTo>
                  <a:pt x="213" y="2839"/>
                  <a:pt x="221" y="2698"/>
                  <a:pt x="240" y="2648"/>
                </a:cubicBezTo>
                <a:cubicBezTo>
                  <a:pt x="259" y="2598"/>
                  <a:pt x="280" y="2563"/>
                  <a:pt x="300" y="2548"/>
                </a:cubicBezTo>
                <a:lnTo>
                  <a:pt x="360" y="2556"/>
                </a:lnTo>
                <a:lnTo>
                  <a:pt x="408" y="2484"/>
                </a:lnTo>
                <a:lnTo>
                  <a:pt x="524" y="2420"/>
                </a:lnTo>
                <a:lnTo>
                  <a:pt x="680" y="2340"/>
                </a:lnTo>
                <a:lnTo>
                  <a:pt x="736" y="2224"/>
                </a:lnTo>
                <a:lnTo>
                  <a:pt x="752" y="2144"/>
                </a:lnTo>
                <a:lnTo>
                  <a:pt x="744" y="2076"/>
                </a:lnTo>
                <a:lnTo>
                  <a:pt x="748" y="1972"/>
                </a:lnTo>
                <a:lnTo>
                  <a:pt x="756" y="1720"/>
                </a:lnTo>
                <a:lnTo>
                  <a:pt x="736" y="1644"/>
                </a:lnTo>
                <a:lnTo>
                  <a:pt x="728" y="1584"/>
                </a:lnTo>
                <a:lnTo>
                  <a:pt x="728" y="1500"/>
                </a:lnTo>
                <a:lnTo>
                  <a:pt x="756" y="1412"/>
                </a:lnTo>
                <a:lnTo>
                  <a:pt x="808" y="1412"/>
                </a:lnTo>
                <a:lnTo>
                  <a:pt x="844" y="1332"/>
                </a:lnTo>
                <a:lnTo>
                  <a:pt x="888" y="1304"/>
                </a:lnTo>
                <a:lnTo>
                  <a:pt x="940" y="1320"/>
                </a:lnTo>
                <a:lnTo>
                  <a:pt x="980" y="1308"/>
                </a:lnTo>
                <a:lnTo>
                  <a:pt x="1060" y="1292"/>
                </a:lnTo>
                <a:lnTo>
                  <a:pt x="1164" y="1312"/>
                </a:lnTo>
                <a:lnTo>
                  <a:pt x="1240" y="1304"/>
                </a:lnTo>
                <a:lnTo>
                  <a:pt x="1260" y="1328"/>
                </a:lnTo>
                <a:lnTo>
                  <a:pt x="1312" y="1332"/>
                </a:lnTo>
                <a:lnTo>
                  <a:pt x="1364" y="1360"/>
                </a:lnTo>
                <a:lnTo>
                  <a:pt x="1400" y="1380"/>
                </a:lnTo>
                <a:lnTo>
                  <a:pt x="1488" y="1384"/>
                </a:lnTo>
                <a:lnTo>
                  <a:pt x="1548" y="1460"/>
                </a:lnTo>
                <a:lnTo>
                  <a:pt x="1672" y="1484"/>
                </a:lnTo>
                <a:lnTo>
                  <a:pt x="1744" y="1500"/>
                </a:lnTo>
                <a:lnTo>
                  <a:pt x="1808" y="1488"/>
                </a:lnTo>
                <a:lnTo>
                  <a:pt x="1856" y="1432"/>
                </a:lnTo>
                <a:lnTo>
                  <a:pt x="1908" y="1304"/>
                </a:lnTo>
                <a:lnTo>
                  <a:pt x="1912" y="1228"/>
                </a:lnTo>
                <a:lnTo>
                  <a:pt x="1896" y="1148"/>
                </a:lnTo>
                <a:lnTo>
                  <a:pt x="1932" y="1028"/>
                </a:lnTo>
                <a:lnTo>
                  <a:pt x="1996" y="936"/>
                </a:lnTo>
                <a:lnTo>
                  <a:pt x="2032" y="832"/>
                </a:lnTo>
                <a:lnTo>
                  <a:pt x="2168" y="856"/>
                </a:lnTo>
                <a:lnTo>
                  <a:pt x="2196" y="860"/>
                </a:lnTo>
                <a:lnTo>
                  <a:pt x="2220" y="140"/>
                </a:lnTo>
                <a:lnTo>
                  <a:pt x="2144" y="132"/>
                </a:lnTo>
                <a:lnTo>
                  <a:pt x="1988" y="136"/>
                </a:lnTo>
                <a:lnTo>
                  <a:pt x="1788" y="108"/>
                </a:lnTo>
                <a:lnTo>
                  <a:pt x="1724" y="120"/>
                </a:lnTo>
                <a:lnTo>
                  <a:pt x="1712" y="188"/>
                </a:lnTo>
                <a:lnTo>
                  <a:pt x="1724" y="320"/>
                </a:lnTo>
                <a:lnTo>
                  <a:pt x="1652" y="340"/>
                </a:lnTo>
                <a:lnTo>
                  <a:pt x="1674" y="356"/>
                </a:lnTo>
                <a:lnTo>
                  <a:pt x="1723" y="351"/>
                </a:lnTo>
                <a:lnTo>
                  <a:pt x="1724" y="536"/>
                </a:lnTo>
                <a:lnTo>
                  <a:pt x="1660" y="536"/>
                </a:lnTo>
                <a:lnTo>
                  <a:pt x="1620" y="548"/>
                </a:lnTo>
                <a:lnTo>
                  <a:pt x="1712" y="584"/>
                </a:lnTo>
                <a:lnTo>
                  <a:pt x="1720" y="612"/>
                </a:lnTo>
                <a:lnTo>
                  <a:pt x="1700" y="780"/>
                </a:lnTo>
                <a:lnTo>
                  <a:pt x="1668" y="820"/>
                </a:lnTo>
                <a:lnTo>
                  <a:pt x="1664" y="868"/>
                </a:lnTo>
                <a:lnTo>
                  <a:pt x="1632" y="904"/>
                </a:lnTo>
                <a:lnTo>
                  <a:pt x="1564" y="900"/>
                </a:lnTo>
                <a:lnTo>
                  <a:pt x="1496" y="924"/>
                </a:lnTo>
                <a:lnTo>
                  <a:pt x="1424" y="952"/>
                </a:lnTo>
                <a:lnTo>
                  <a:pt x="1384" y="980"/>
                </a:lnTo>
                <a:lnTo>
                  <a:pt x="1368" y="1008"/>
                </a:lnTo>
                <a:lnTo>
                  <a:pt x="1216" y="992"/>
                </a:lnTo>
                <a:lnTo>
                  <a:pt x="1168" y="956"/>
                </a:lnTo>
                <a:lnTo>
                  <a:pt x="1088" y="956"/>
                </a:lnTo>
                <a:lnTo>
                  <a:pt x="992" y="956"/>
                </a:lnTo>
                <a:lnTo>
                  <a:pt x="924" y="940"/>
                </a:lnTo>
                <a:lnTo>
                  <a:pt x="892" y="924"/>
                </a:lnTo>
                <a:lnTo>
                  <a:pt x="876" y="884"/>
                </a:lnTo>
                <a:lnTo>
                  <a:pt x="888" y="832"/>
                </a:lnTo>
                <a:lnTo>
                  <a:pt x="912" y="784"/>
                </a:lnTo>
                <a:lnTo>
                  <a:pt x="928" y="728"/>
                </a:lnTo>
                <a:lnTo>
                  <a:pt x="976" y="712"/>
                </a:lnTo>
                <a:lnTo>
                  <a:pt x="1060" y="732"/>
                </a:lnTo>
                <a:lnTo>
                  <a:pt x="1204" y="740"/>
                </a:lnTo>
                <a:lnTo>
                  <a:pt x="1288" y="712"/>
                </a:lnTo>
                <a:lnTo>
                  <a:pt x="1388" y="660"/>
                </a:lnTo>
                <a:lnTo>
                  <a:pt x="1468" y="592"/>
                </a:lnTo>
                <a:lnTo>
                  <a:pt x="1520" y="536"/>
                </a:lnTo>
                <a:lnTo>
                  <a:pt x="1544" y="508"/>
                </a:lnTo>
                <a:lnTo>
                  <a:pt x="1592" y="520"/>
                </a:lnTo>
                <a:lnTo>
                  <a:pt x="1624" y="548"/>
                </a:lnTo>
                <a:lnTo>
                  <a:pt x="1647" y="536"/>
                </a:lnTo>
                <a:lnTo>
                  <a:pt x="1612" y="492"/>
                </a:lnTo>
                <a:lnTo>
                  <a:pt x="1632" y="456"/>
                </a:lnTo>
                <a:lnTo>
                  <a:pt x="1632" y="420"/>
                </a:lnTo>
                <a:lnTo>
                  <a:pt x="1648" y="376"/>
                </a:lnTo>
                <a:lnTo>
                  <a:pt x="1672" y="356"/>
                </a:lnTo>
                <a:lnTo>
                  <a:pt x="1656" y="341"/>
                </a:lnTo>
                <a:lnTo>
                  <a:pt x="1584" y="344"/>
                </a:lnTo>
                <a:lnTo>
                  <a:pt x="1536" y="356"/>
                </a:lnTo>
                <a:lnTo>
                  <a:pt x="1540" y="392"/>
                </a:lnTo>
                <a:lnTo>
                  <a:pt x="1496" y="424"/>
                </a:lnTo>
                <a:lnTo>
                  <a:pt x="1444" y="464"/>
                </a:lnTo>
                <a:lnTo>
                  <a:pt x="1444" y="492"/>
                </a:lnTo>
                <a:lnTo>
                  <a:pt x="1392" y="492"/>
                </a:lnTo>
                <a:lnTo>
                  <a:pt x="1384" y="520"/>
                </a:lnTo>
                <a:lnTo>
                  <a:pt x="1340" y="520"/>
                </a:lnTo>
                <a:lnTo>
                  <a:pt x="1300" y="540"/>
                </a:lnTo>
                <a:lnTo>
                  <a:pt x="1236" y="572"/>
                </a:lnTo>
                <a:lnTo>
                  <a:pt x="1208" y="584"/>
                </a:lnTo>
                <a:lnTo>
                  <a:pt x="1148" y="564"/>
                </a:lnTo>
                <a:lnTo>
                  <a:pt x="1080" y="556"/>
                </a:lnTo>
                <a:lnTo>
                  <a:pt x="1048" y="528"/>
                </a:lnTo>
                <a:lnTo>
                  <a:pt x="1028" y="500"/>
                </a:lnTo>
                <a:lnTo>
                  <a:pt x="1012" y="480"/>
                </a:lnTo>
                <a:lnTo>
                  <a:pt x="976" y="432"/>
                </a:lnTo>
                <a:lnTo>
                  <a:pt x="936" y="388"/>
                </a:lnTo>
                <a:lnTo>
                  <a:pt x="904" y="368"/>
                </a:lnTo>
                <a:lnTo>
                  <a:pt x="844" y="372"/>
                </a:lnTo>
                <a:lnTo>
                  <a:pt x="824" y="344"/>
                </a:lnTo>
                <a:lnTo>
                  <a:pt x="820" y="316"/>
                </a:lnTo>
                <a:lnTo>
                  <a:pt x="844" y="264"/>
                </a:lnTo>
                <a:lnTo>
                  <a:pt x="860" y="212"/>
                </a:lnTo>
                <a:lnTo>
                  <a:pt x="868" y="152"/>
                </a:lnTo>
                <a:lnTo>
                  <a:pt x="880" y="120"/>
                </a:lnTo>
                <a:lnTo>
                  <a:pt x="876" y="96"/>
                </a:lnTo>
                <a:lnTo>
                  <a:pt x="856" y="72"/>
                </a:lnTo>
                <a:lnTo>
                  <a:pt x="852" y="48"/>
                </a:lnTo>
                <a:lnTo>
                  <a:pt x="83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949400" y="2464920"/>
            <a:ext cx="4784760" cy="302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1909800" y="5349240"/>
            <a:ext cx="216000" cy="219600"/>
            <a:chOff x="1909800" y="5349240"/>
            <a:chExt cx="216000" cy="219600"/>
          </a:xfrm>
        </p:grpSpPr>
        <p:pic>
          <p:nvPicPr>
            <p:cNvPr id="716" name="" descr=""/>
            <p:cNvPicPr/>
            <p:nvPr/>
          </p:nvPicPr>
          <p:blipFill>
            <a:blip r:embed="rId1"/>
            <a:stretch/>
          </p:blipFill>
          <p:spPr>
            <a:xfrm>
              <a:off x="1932480" y="536904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932480" y="536904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121212"/>
                </a:gs>
                <a:gs pos="50000">
                  <a:srgbClr val="292929">
                    <a:alpha val="50196"/>
                  </a:srgbClr>
                </a:gs>
                <a:gs pos="100000">
                  <a:srgbClr val="1212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1945440" y="5500440"/>
              <a:ext cx="170280" cy="68400"/>
              <a:chOff x="1945440" y="5500440"/>
              <a:chExt cx="170280" cy="6840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1975680" y="5500440"/>
                <a:ext cx="140040" cy="64080"/>
                <a:chOff x="1975680" y="5500440"/>
                <a:chExt cx="140040" cy="64080"/>
              </a:xfrm>
            </p:grpSpPr>
            <p:sp>
              <p:nvSpPr>
                <p:cNvPr id="720" name=""/>
                <p:cNvSpPr/>
                <p:nvPr/>
              </p:nvSpPr>
              <p:spPr>
                <a:xfrm flipH="1" flipV="1" rot="3964800">
                  <a:off x="2051280" y="5481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 flipV="1" rot="4780200">
                  <a:off x="2035800" y="54878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 flipV="1" rot="5076000">
                  <a:off x="2026080" y="548928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 flipV="1" rot="5608200">
                  <a:off x="2014920" y="549036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1945440" y="5501160"/>
                <a:ext cx="140760" cy="67680"/>
                <a:chOff x="1945440" y="5501160"/>
                <a:chExt cx="140760" cy="67680"/>
              </a:xfrm>
            </p:grpSpPr>
            <p:sp>
              <p:nvSpPr>
                <p:cNvPr id="725" name=""/>
                <p:cNvSpPr/>
                <p:nvPr/>
              </p:nvSpPr>
              <p:spPr>
                <a:xfrm flipH="1" flipV="1" rot="5317800">
                  <a:off x="2021760" y="5490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 flipV="1" rot="6133800">
                  <a:off x="2004840" y="549036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H="1" flipV="1" rot="6429000">
                  <a:off x="1995480" y="5487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H="1" flipV="1" rot="6961200">
                  <a:off x="1983600" y="5483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29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19029600">
              <a:off x="1922040" y="538560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0" name=""/>
          <p:cNvGrpSpPr/>
          <p:nvPr/>
        </p:nvGrpSpPr>
        <p:grpSpPr>
          <a:xfrm>
            <a:off x="3592440" y="4253760"/>
            <a:ext cx="216000" cy="219600"/>
            <a:chOff x="3592440" y="4253760"/>
            <a:chExt cx="216000" cy="219600"/>
          </a:xfrm>
        </p:grpSpPr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>
              <a:off x="3615120" y="427356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3615120" y="427356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121212"/>
                </a:gs>
                <a:gs pos="50000">
                  <a:srgbClr val="292929">
                    <a:alpha val="50196"/>
                  </a:srgbClr>
                </a:gs>
                <a:gs pos="100000">
                  <a:srgbClr val="1212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3628080" y="4404960"/>
              <a:ext cx="170280" cy="68400"/>
              <a:chOff x="3628080" y="4404960"/>
              <a:chExt cx="170280" cy="68400"/>
            </a:xfrm>
          </p:grpSpPr>
          <p:grpSp>
            <p:nvGrpSpPr>
              <p:cNvPr id="734" name=""/>
              <p:cNvGrpSpPr/>
              <p:nvPr/>
            </p:nvGrpSpPr>
            <p:grpSpPr>
              <a:xfrm>
                <a:off x="3658320" y="4404960"/>
                <a:ext cx="140040" cy="64080"/>
                <a:chOff x="3658320" y="4404960"/>
                <a:chExt cx="140040" cy="64080"/>
              </a:xfrm>
            </p:grpSpPr>
            <p:sp>
              <p:nvSpPr>
                <p:cNvPr id="735" name=""/>
                <p:cNvSpPr/>
                <p:nvPr/>
              </p:nvSpPr>
              <p:spPr>
                <a:xfrm flipH="1" flipV="1" rot="3964800">
                  <a:off x="3733920" y="43858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H="1" flipV="1" rot="4780200">
                  <a:off x="3718440" y="4392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H="1" flipV="1" rot="5076000">
                  <a:off x="3708720" y="43938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 flipV="1" rot="5608200">
                  <a:off x="3697560" y="43948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3628080" y="4405680"/>
                <a:ext cx="140760" cy="67680"/>
                <a:chOff x="3628080" y="4405680"/>
                <a:chExt cx="140760" cy="6768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flipV="1" rot="5317800">
                  <a:off x="3704400" y="43945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flipV="1" rot="6133800">
                  <a:off x="3687480" y="4394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flipV="1" rot="6429000">
                  <a:off x="3678120" y="43916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flipV="1" rot="6961200">
                  <a:off x="3666240" y="43884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44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19029600">
              <a:off x="3604680" y="429012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5" name=""/>
          <p:cNvGrpSpPr/>
          <p:nvPr/>
        </p:nvGrpSpPr>
        <p:grpSpPr>
          <a:xfrm>
            <a:off x="5200920" y="3255120"/>
            <a:ext cx="215280" cy="219600"/>
            <a:chOff x="5200920" y="3255120"/>
            <a:chExt cx="215280" cy="219600"/>
          </a:xfrm>
        </p:grpSpPr>
        <p:pic>
          <p:nvPicPr>
            <p:cNvPr id="746" name="" descr=""/>
            <p:cNvPicPr/>
            <p:nvPr/>
          </p:nvPicPr>
          <p:blipFill>
            <a:blip r:embed="rId5"/>
            <a:stretch/>
          </p:blipFill>
          <p:spPr>
            <a:xfrm>
              <a:off x="5223240" y="327492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5223240" y="327492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121212"/>
                </a:gs>
                <a:gs pos="50000">
                  <a:srgbClr val="292929">
                    <a:alpha val="50196"/>
                  </a:srgbClr>
                </a:gs>
                <a:gs pos="100000">
                  <a:srgbClr val="1212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236200" y="3406680"/>
              <a:ext cx="169920" cy="68040"/>
              <a:chOff x="5236200" y="3406680"/>
              <a:chExt cx="169920" cy="6804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266440" y="3406680"/>
                <a:ext cx="139680" cy="64080"/>
                <a:chOff x="5266440" y="3406680"/>
                <a:chExt cx="139680" cy="64080"/>
              </a:xfrm>
            </p:grpSpPr>
            <p:sp>
              <p:nvSpPr>
                <p:cNvPr id="750" name=""/>
                <p:cNvSpPr/>
                <p:nvPr/>
              </p:nvSpPr>
              <p:spPr>
                <a:xfrm flipH="1" flipV="1" rot="3964800">
                  <a:off x="5341680" y="33876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H="1" flipV="1" rot="4780200">
                  <a:off x="5326200" y="33937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flipV="1" rot="5076000">
                  <a:off x="5316480" y="33951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flipV="1" rot="5608200">
                  <a:off x="5305680" y="339624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5236200" y="3407040"/>
                <a:ext cx="140400" cy="67680"/>
                <a:chOff x="5236200" y="3407040"/>
                <a:chExt cx="140400" cy="67680"/>
              </a:xfrm>
            </p:grpSpPr>
            <p:sp>
              <p:nvSpPr>
                <p:cNvPr id="755" name=""/>
                <p:cNvSpPr/>
                <p:nvPr/>
              </p:nvSpPr>
              <p:spPr>
                <a:xfrm flipH="1" flipV="1" rot="5317800">
                  <a:off x="5312160" y="3395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 flipV="1" rot="6133800">
                  <a:off x="5294880" y="3395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flipV="1" rot="6429000">
                  <a:off x="5285880" y="3393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 rot="6961200">
                  <a:off x="5274360" y="33897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9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19029600">
              <a:off x="5213520" y="329112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"/>
          <p:cNvGrpSpPr/>
          <p:nvPr/>
        </p:nvGrpSpPr>
        <p:grpSpPr>
          <a:xfrm>
            <a:off x="6556320" y="2370960"/>
            <a:ext cx="216000" cy="219600"/>
            <a:chOff x="6556320" y="2370960"/>
            <a:chExt cx="216000" cy="219600"/>
          </a:xfrm>
        </p:grpSpPr>
        <p:pic>
          <p:nvPicPr>
            <p:cNvPr id="761" name="" descr=""/>
            <p:cNvPicPr/>
            <p:nvPr/>
          </p:nvPicPr>
          <p:blipFill>
            <a:blip r:embed="rId7"/>
            <a:stretch/>
          </p:blipFill>
          <p:spPr>
            <a:xfrm>
              <a:off x="6579000" y="239076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6579000" y="239076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05675"/>
                </a:gs>
                <a:gs pos="50000">
                  <a:srgbClr val="01bcff">
                    <a:alpha val="50196"/>
                  </a:srgbClr>
                </a:gs>
                <a:gs pos="100000">
                  <a:srgbClr val="005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6591960" y="2522160"/>
              <a:ext cx="170280" cy="68400"/>
              <a:chOff x="6591960" y="2522160"/>
              <a:chExt cx="170280" cy="6840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622200" y="2522160"/>
                <a:ext cx="140040" cy="64080"/>
                <a:chOff x="6622200" y="2522160"/>
                <a:chExt cx="140040" cy="64080"/>
              </a:xfrm>
            </p:grpSpPr>
            <p:sp>
              <p:nvSpPr>
                <p:cNvPr id="765" name=""/>
                <p:cNvSpPr/>
                <p:nvPr/>
              </p:nvSpPr>
              <p:spPr>
                <a:xfrm flipH="1" flipV="1" rot="3964800">
                  <a:off x="6697800" y="25030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 flipV="1" rot="4780200">
                  <a:off x="6682320" y="25095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 flipV="1" rot="5076000">
                  <a:off x="6672600" y="25110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 flipV="1" rot="5608200">
                  <a:off x="6661440" y="25120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91960" y="2522880"/>
                <a:ext cx="140760" cy="67680"/>
                <a:chOff x="6591960" y="2522880"/>
                <a:chExt cx="140760" cy="67680"/>
              </a:xfrm>
            </p:grpSpPr>
            <p:sp>
              <p:nvSpPr>
                <p:cNvPr id="770" name=""/>
                <p:cNvSpPr/>
                <p:nvPr/>
              </p:nvSpPr>
              <p:spPr>
                <a:xfrm flipH="1" flipV="1" rot="5317800">
                  <a:off x="6668280" y="25117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 flipV="1" rot="6133800">
                  <a:off x="6651360" y="25120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flipV="1" rot="6429000">
                  <a:off x="6642000" y="25088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flipV="1" rot="6961200">
                  <a:off x="6630120" y="25056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4" name="" descr=""/>
            <p:cNvPicPr/>
            <p:nvPr/>
          </p:nvPicPr>
          <p:blipFill>
            <a:blip r:embed="rId8"/>
            <a:srcRect l="0" t="23740" r="0" b="0"/>
            <a:stretch/>
          </p:blipFill>
          <p:spPr>
            <a:xfrm rot="19029600">
              <a:off x="6568560" y="240732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5" name=""/>
          <p:cNvSpPr/>
          <p:nvPr/>
        </p:nvSpPr>
        <p:spPr>
          <a:xfrm>
            <a:off x="550800" y="5041800"/>
            <a:ext cx="1339920" cy="327240"/>
          </a:xfrm>
          <a:prstGeom prst="roundRect">
            <a:avLst>
              <a:gd name="adj" fmla="val 22815"/>
            </a:avLst>
          </a:prstGeom>
          <a:solidFill>
            <a:srgbClr val="20296a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265480" y="3946680"/>
            <a:ext cx="1339560" cy="326880"/>
          </a:xfrm>
          <a:prstGeom prst="roundRect">
            <a:avLst>
              <a:gd name="adj" fmla="val 22815"/>
            </a:avLst>
          </a:prstGeom>
          <a:solidFill>
            <a:srgbClr val="20296a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808440" y="294804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20296a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24040" y="5022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1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490840" y="3933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2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094280" y="29304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3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9"/>
          <a:stretch/>
        </p:blipFill>
        <p:spPr>
          <a:xfrm>
            <a:off x="6729480" y="1228680"/>
            <a:ext cx="1434960" cy="128124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2028960" y="547848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747960" y="4383000"/>
            <a:ext cx="3094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361120" y="341784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14520" y="4371840"/>
            <a:ext cx="628560" cy="67176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2960" y="4468680"/>
            <a:ext cx="4248000" cy="44316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be55d3"/>
              </a:gs>
              <a:gs pos="100000">
                <a:srgbClr val="9f47b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7320" y="451944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afafa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afafa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7760" y="45720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5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5840" y="4697280"/>
            <a:ext cx="1046160" cy="0"/>
          </a:xfrm>
          <a:prstGeom prst="line">
            <a:avLst/>
          </a:prstGeom>
          <a:ln cap="rnd" w="38160">
            <a:solidFill>
              <a:srgbClr val="f8f8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4520" y="3782880"/>
            <a:ext cx="628560" cy="67176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2960" y="3879720"/>
            <a:ext cx="4248000" cy="44316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20a0ba"/>
              </a:gs>
              <a:gs pos="100000">
                <a:srgbClr val="1a86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7320" y="393048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afafa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afafa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7760" y="39830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4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35840" y="4137120"/>
            <a:ext cx="1046160" cy="0"/>
          </a:xfrm>
          <a:prstGeom prst="line">
            <a:avLst/>
          </a:prstGeom>
          <a:ln cap="rnd" w="38160">
            <a:solidFill>
              <a:srgbClr val="f8f8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4520" y="3198960"/>
            <a:ext cx="628560" cy="67140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2960" y="3295800"/>
            <a:ext cx="424800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a0d35d"/>
              </a:gs>
              <a:gs pos="100000">
                <a:srgbClr val="86b14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7320" y="334656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afafa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afafa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7760" y="339876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3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35840" y="3524400"/>
            <a:ext cx="1046160" cy="0"/>
          </a:xfrm>
          <a:prstGeom prst="line">
            <a:avLst/>
          </a:prstGeom>
          <a:ln cap="rnd" w="38160">
            <a:solidFill>
              <a:srgbClr val="f8f8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4520" y="2610000"/>
            <a:ext cx="628560" cy="67140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2960" y="2706840"/>
            <a:ext cx="424800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dfc75f"/>
              </a:gs>
              <a:gs pos="100000">
                <a:srgbClr val="bba74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7320" y="275760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afafa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afafa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7760" y="28098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2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5840" y="2963880"/>
            <a:ext cx="1046160" cy="0"/>
          </a:xfrm>
          <a:prstGeom prst="line">
            <a:avLst/>
          </a:prstGeom>
          <a:ln cap="rnd" w="38160">
            <a:solidFill>
              <a:srgbClr val="f8f8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4520" y="2033640"/>
            <a:ext cx="628560" cy="67140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2960" y="2130480"/>
            <a:ext cx="424800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20296a"/>
              </a:gs>
              <a:gs pos="100000">
                <a:srgbClr val="1a225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7320" y="218124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afafa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afafa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17760" y="22334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1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35840" y="2387520"/>
            <a:ext cx="1046160" cy="0"/>
          </a:xfrm>
          <a:prstGeom prst="line">
            <a:avLst/>
          </a:prstGeom>
          <a:ln cap="rnd" w="38160">
            <a:solidFill>
              <a:srgbClr val="f8f8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89920" y="4576680"/>
            <a:ext cx="244440" cy="26028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89920" y="3987720"/>
            <a:ext cx="244440" cy="26028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89920" y="3403440"/>
            <a:ext cx="244440" cy="26064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89920" y="2814480"/>
            <a:ext cx="244440" cy="26064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89920" y="2238480"/>
            <a:ext cx="244440" cy="26028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C8C7-5435-4349-82BD-A780C24F56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a0ba"/>
            </a:gs>
            <a:gs pos="100000">
              <a:srgbClr val="2029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7527960" y="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523880" y="1473120"/>
            <a:ext cx="588024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e4955"/>
                    </a:gs>
                    <a:gs pos="100000">
                      <a:srgbClr val="20a0b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e4955"/>
                  </a:gs>
                  <a:gs pos="100000">
                    <a:srgbClr val="20a0b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9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0360" y="18208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99"/>
              </a:spcBef>
              <a:buClr>
                <a:srgbClr val="1c1c1c"/>
              </a:buClr>
              <a:buFont typeface="Wingdings" charset="2"/>
              <a:buChar char=""/>
              <a:tabLst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How do I incorporate my logo to a slid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799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that will apply to all the other slides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-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 the [View] menu, point to [Master], and then click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[Slide Master] or Notes Master.  Change images to the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e you like, the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it will apply to all the other slides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93880" y="4707000"/>
            <a:ext cx="7315200" cy="1218960"/>
          </a:xfrm>
          <a:prstGeom prst="rect">
            <a:avLst/>
          </a:prstGeom>
          <a:solidFill>
            <a:srgbClr val="a0d35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6160" y="4881600"/>
            <a:ext cx="5791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Title Master :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www.photosclub.com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Note to customers : This image has been licensed to be used within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PowerPoint template only.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You may not extract the image for any other use.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Introduc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63720" y="1395360"/>
            <a:ext cx="1365120" cy="1339920"/>
          </a:xfrm>
          <a:prstGeom prst="flowChartConnector">
            <a:avLst/>
          </a:prstGeom>
          <a:gradFill rotWithShape="0">
            <a:gsLst>
              <a:gs pos="0">
                <a:srgbClr val="698b3d"/>
              </a:gs>
              <a:gs pos="100000">
                <a:srgbClr val="a0d35d"/>
              </a:gs>
            </a:gsLst>
            <a:lin ang="135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63720" y="2962440"/>
            <a:ext cx="1365120" cy="1339560"/>
          </a:xfrm>
          <a:prstGeom prst="flowChartConnector">
            <a:avLst/>
          </a:prstGeom>
          <a:gradFill rotWithShape="0">
            <a:gsLst>
              <a:gs pos="0">
                <a:srgbClr val="93833e"/>
              </a:gs>
              <a:gs pos="100000">
                <a:srgbClr val="dfc75f"/>
              </a:gs>
            </a:gsLst>
            <a:lin ang="135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63720" y="4543560"/>
            <a:ext cx="1365120" cy="1339560"/>
          </a:xfrm>
          <a:prstGeom prst="flowChartConnector">
            <a:avLst/>
          </a:prstGeom>
          <a:gradFill rotWithShape="0">
            <a:gsLst>
              <a:gs pos="0">
                <a:srgbClr val="15697a"/>
              </a:gs>
              <a:gs pos="100000">
                <a:srgbClr val="20a0ba"/>
              </a:gs>
            </a:gsLst>
            <a:lin ang="135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1600200"/>
            <a:ext cx="58672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Mission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2760" y="3138480"/>
            <a:ext cx="5743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Vision 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5240" y="4748040"/>
            <a:ext cx="5514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Business Model 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31480" y="188424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Miss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3920" y="34560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9160" y="493236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Model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62040" y="1160640"/>
            <a:ext cx="4283280" cy="4555800"/>
          </a:xfrm>
          <a:custGeom>
            <a:avLst/>
            <a:gdLst/>
            <a:ahLst/>
            <a:rect l="l" t="t" r="r" b="b"/>
            <a:pathLst>
              <a:path w="2698" h="2870">
                <a:moveTo>
                  <a:pt x="744" y="1107"/>
                </a:moveTo>
                <a:lnTo>
                  <a:pt x="0" y="2479"/>
                </a:lnTo>
                <a:cubicBezTo>
                  <a:pt x="323" y="2693"/>
                  <a:pt x="608" y="2838"/>
                  <a:pt x="977" y="2854"/>
                </a:cubicBezTo>
                <a:cubicBezTo>
                  <a:pt x="1346" y="2870"/>
                  <a:pt x="1870" y="2745"/>
                  <a:pt x="2200" y="2440"/>
                </a:cubicBezTo>
                <a:cubicBezTo>
                  <a:pt x="2530" y="2135"/>
                  <a:pt x="2634" y="1715"/>
                  <a:pt x="2666" y="1469"/>
                </a:cubicBezTo>
                <a:cubicBezTo>
                  <a:pt x="2698" y="1223"/>
                  <a:pt x="2575" y="827"/>
                  <a:pt x="2466" y="583"/>
                </a:cubicBezTo>
                <a:cubicBezTo>
                  <a:pt x="2357" y="339"/>
                  <a:pt x="2258" y="175"/>
                  <a:pt x="2077" y="0"/>
                </a:cubicBezTo>
                <a:cubicBezTo>
                  <a:pt x="1410" y="553"/>
                  <a:pt x="744" y="1107"/>
                  <a:pt x="744" y="1107"/>
                </a:cubicBez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rot="2467200">
            <a:off x="2811600" y="1437840"/>
            <a:ext cx="2833200" cy="518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272" y="528"/>
                  <a:pt x="2943" y="5080"/>
                  <a:pt x="2943" y="10800"/>
                </a:cubicBezTo>
                <a:cubicBezTo>
                  <a:pt x="2943" y="16520"/>
                  <a:pt x="12272" y="210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9c9c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rot="2428200">
            <a:off x="2874960" y="1931760"/>
            <a:ext cx="1506600" cy="276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272" y="528"/>
                  <a:pt x="2943" y="5080"/>
                  <a:pt x="2943" y="10800"/>
                </a:cubicBezTo>
                <a:cubicBezTo>
                  <a:pt x="2943" y="16520"/>
                  <a:pt x="12272" y="210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9c9c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752920" y="2020320"/>
            <a:ext cx="2873160" cy="896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5520" y="2923920"/>
            <a:ext cx="3201840" cy="662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8240" y="2925000"/>
            <a:ext cx="2171520" cy="21747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61560" y="2932560"/>
            <a:ext cx="123840" cy="28980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52720" y="2236680"/>
            <a:ext cx="1527120" cy="1208160"/>
            <a:chOff x="2052720" y="2236680"/>
            <a:chExt cx="1527120" cy="1208160"/>
          </a:xfrm>
        </p:grpSpPr>
        <p:sp>
          <p:nvSpPr>
            <p:cNvPr id="168" name=""/>
            <p:cNvSpPr/>
            <p:nvPr/>
          </p:nvSpPr>
          <p:spPr>
            <a:xfrm>
              <a:off x="2055960" y="2236680"/>
              <a:ext cx="1520640" cy="120816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6633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52720" y="2725560"/>
              <a:ext cx="1527120" cy="255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20840" y="1611360"/>
            <a:ext cx="1177920" cy="117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481120" y="2801880"/>
            <a:ext cx="641520" cy="10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5221440" y="2944800"/>
            <a:ext cx="961920" cy="1009800"/>
            <a:chOff x="5221440" y="2944800"/>
            <a:chExt cx="961920" cy="1009800"/>
          </a:xfrm>
        </p:grpSpPr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313600" y="3735360"/>
              <a:ext cx="79056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221440" y="2944800"/>
              <a:ext cx="96192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221440" y="2944800"/>
              <a:ext cx="955800" cy="9320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299920" y="3622320"/>
              <a:ext cx="752400" cy="321840"/>
              <a:chOff x="5299920" y="3622320"/>
              <a:chExt cx="752400" cy="32184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5422320" y="3665880"/>
                <a:ext cx="630000" cy="254520"/>
                <a:chOff x="5422320" y="3665880"/>
                <a:chExt cx="630000" cy="2545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flipV="1" rot="4217400">
                  <a:off x="5766480" y="3566160"/>
                  <a:ext cx="108000" cy="453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flipV="1" rot="5032800">
                  <a:off x="5694480" y="358884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 rot="5328600">
                  <a:off x="5650560" y="3592080"/>
                  <a:ext cx="10800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 rot="5860800">
                  <a:off x="5599440" y="359316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299920" y="3622320"/>
                <a:ext cx="616320" cy="321840"/>
                <a:chOff x="5299920" y="3622320"/>
                <a:chExt cx="616320" cy="321840"/>
              </a:xfrm>
            </p:grpSpPr>
            <p:sp>
              <p:nvSpPr>
                <p:cNvPr id="183" name=""/>
                <p:cNvSpPr/>
                <p:nvPr/>
              </p:nvSpPr>
              <p:spPr>
                <a:xfrm flipH="1" flipV="1" rot="5570400">
                  <a:off x="5632920" y="3595320"/>
                  <a:ext cx="108360" cy="453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flipV="1" rot="6385800">
                  <a:off x="5558400" y="358920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flipV="1" rot="6681600">
                  <a:off x="5516640" y="357552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 rot="7213800">
                  <a:off x="5467680" y="355680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5319720" y="2963880"/>
              <a:ext cx="750960" cy="3240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292720" y="32670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0920" y="2278080"/>
            <a:ext cx="163980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68600" y="2976480"/>
            <a:ext cx="163980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86280" y="3641760"/>
            <a:ext cx="163980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4010040"/>
            <a:ext cx="164016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73840" y="1779480"/>
            <a:ext cx="163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15040" y="3191040"/>
            <a:ext cx="163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19880" y="4782960"/>
            <a:ext cx="163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58920" y="603720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184720" y="1662120"/>
            <a:ext cx="723960" cy="758520"/>
            <a:chOff x="5184720" y="1662120"/>
            <a:chExt cx="723960" cy="758520"/>
          </a:xfrm>
        </p:grpSpPr>
        <p:pic>
          <p:nvPicPr>
            <p:cNvPr id="198" name="" descr=""/>
            <p:cNvPicPr/>
            <p:nvPr/>
          </p:nvPicPr>
          <p:blipFill>
            <a:blip r:embed="rId5"/>
            <a:stretch/>
          </p:blipFill>
          <p:spPr>
            <a:xfrm>
              <a:off x="5253840" y="2256120"/>
              <a:ext cx="594720" cy="1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6"/>
            <a:stretch/>
          </p:blipFill>
          <p:spPr>
            <a:xfrm>
              <a:off x="5184720" y="1662120"/>
              <a:ext cx="723960" cy="6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184720" y="1662120"/>
              <a:ext cx="719280" cy="70020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5243400" y="2171160"/>
              <a:ext cx="565920" cy="242280"/>
              <a:chOff x="5243400" y="2171160"/>
              <a:chExt cx="565920" cy="2422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5335200" y="2203920"/>
                <a:ext cx="474120" cy="191160"/>
                <a:chOff x="5335200" y="2203920"/>
                <a:chExt cx="474120" cy="191160"/>
              </a:xfrm>
            </p:grpSpPr>
            <p:sp>
              <p:nvSpPr>
                <p:cNvPr id="203" name=""/>
                <p:cNvSpPr/>
                <p:nvPr/>
              </p:nvSpPr>
              <p:spPr>
                <a:xfrm flipH="1" flipV="1" rot="4217400">
                  <a:off x="5594040" y="2128680"/>
                  <a:ext cx="81360" cy="340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 rot="5032800">
                  <a:off x="5540760" y="214632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 rot="5328600">
                  <a:off x="5507640" y="214704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 rot="5860800">
                  <a:off x="5469120" y="2148840"/>
                  <a:ext cx="81360" cy="34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243400" y="2171160"/>
                <a:ext cx="464040" cy="242280"/>
                <a:chOff x="5243400" y="2171160"/>
                <a:chExt cx="464040" cy="242280"/>
              </a:xfrm>
            </p:grpSpPr>
            <p:sp>
              <p:nvSpPr>
                <p:cNvPr id="208" name=""/>
                <p:cNvSpPr/>
                <p:nvPr/>
              </p:nvSpPr>
              <p:spPr>
                <a:xfrm flipH="1" flipV="1" rot="5570400">
                  <a:off x="5493960" y="215100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 rot="6385800">
                  <a:off x="5437440" y="214524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 rot="6681600">
                  <a:off x="5406840" y="2135160"/>
                  <a:ext cx="8100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 rot="7213800">
                  <a:off x="5370480" y="212148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5258520" y="1676160"/>
              <a:ext cx="565200" cy="2433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162400" y="18399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62400" y="4384800"/>
            <a:ext cx="1193400" cy="1253520"/>
            <a:chOff x="4262400" y="4384800"/>
            <a:chExt cx="1193400" cy="1253520"/>
          </a:xfrm>
        </p:grpSpPr>
        <p:pic>
          <p:nvPicPr>
            <p:cNvPr id="215" name="" descr=""/>
            <p:cNvPicPr/>
            <p:nvPr/>
          </p:nvPicPr>
          <p:blipFill>
            <a:blip r:embed="rId7"/>
            <a:stretch/>
          </p:blipFill>
          <p:spPr>
            <a:xfrm>
              <a:off x="4376520" y="5366160"/>
              <a:ext cx="981000" cy="2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8"/>
            <a:stretch/>
          </p:blipFill>
          <p:spPr>
            <a:xfrm>
              <a:off x="4262400" y="4384800"/>
              <a:ext cx="1193400" cy="115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262400" y="4384800"/>
              <a:ext cx="1185840" cy="11570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359240" y="5225400"/>
              <a:ext cx="934200" cy="398880"/>
              <a:chOff x="4359240" y="5225400"/>
              <a:chExt cx="934200" cy="3988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511160" y="5280840"/>
                <a:ext cx="782280" cy="315000"/>
                <a:chOff x="4511160" y="5280840"/>
                <a:chExt cx="782280" cy="315000"/>
              </a:xfrm>
            </p:grpSpPr>
            <p:sp>
              <p:nvSpPr>
                <p:cNvPr id="220" name=""/>
                <p:cNvSpPr/>
                <p:nvPr/>
              </p:nvSpPr>
              <p:spPr>
                <a:xfrm flipH="1" flipV="1" rot="4217400">
                  <a:off x="4938840" y="5157000"/>
                  <a:ext cx="13392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 flipV="1" rot="5032800">
                  <a:off x="4849920" y="5184720"/>
                  <a:ext cx="13392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flipV="1" rot="5328600">
                  <a:off x="4795560" y="5187960"/>
                  <a:ext cx="13392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flipV="1" rot="5860800">
                  <a:off x="4731120" y="5189760"/>
                  <a:ext cx="13392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359240" y="5225400"/>
                <a:ext cx="765360" cy="398880"/>
                <a:chOff x="4359240" y="5225400"/>
                <a:chExt cx="765360" cy="398880"/>
              </a:xfrm>
            </p:grpSpPr>
            <p:sp>
              <p:nvSpPr>
                <p:cNvPr id="225" name=""/>
                <p:cNvSpPr/>
                <p:nvPr/>
              </p:nvSpPr>
              <p:spPr>
                <a:xfrm flipH="1" flipV="1" rot="5570400">
                  <a:off x="4773240" y="519372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 rot="6385800">
                  <a:off x="4678920" y="518436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 rot="6681600">
                  <a:off x="4628520" y="516744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7213800">
                  <a:off x="4568040" y="514368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"/>
            <p:cNvSpPr/>
            <p:nvPr/>
          </p:nvSpPr>
          <p:spPr>
            <a:xfrm>
              <a:off x="4384080" y="4408200"/>
              <a:ext cx="931680" cy="402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395960" y="4767120"/>
            <a:ext cx="9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400480" y="5103720"/>
            <a:ext cx="892080" cy="936360"/>
            <a:chOff x="2400480" y="5103720"/>
            <a:chExt cx="892080" cy="936360"/>
          </a:xfrm>
        </p:grpSpPr>
        <p:pic>
          <p:nvPicPr>
            <p:cNvPr id="232" name="" descr=""/>
            <p:cNvPicPr/>
            <p:nvPr/>
          </p:nvPicPr>
          <p:blipFill>
            <a:blip r:embed="rId9"/>
            <a:stretch/>
          </p:blipFill>
          <p:spPr>
            <a:xfrm>
              <a:off x="2485800" y="5837040"/>
              <a:ext cx="73296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0"/>
            <a:stretch/>
          </p:blipFill>
          <p:spPr>
            <a:xfrm>
              <a:off x="2400480" y="5103720"/>
              <a:ext cx="892080" cy="8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400480" y="5103720"/>
              <a:ext cx="886320" cy="86436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472840" y="5731920"/>
              <a:ext cx="697320" cy="297720"/>
              <a:chOff x="2472840" y="5731920"/>
              <a:chExt cx="697320" cy="29772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2586240" y="5771880"/>
                <a:ext cx="583920" cy="236160"/>
                <a:chOff x="2586240" y="5771880"/>
                <a:chExt cx="583920" cy="236160"/>
              </a:xfrm>
            </p:grpSpPr>
            <p:sp>
              <p:nvSpPr>
                <p:cNvPr id="237" name=""/>
                <p:cNvSpPr/>
                <p:nvPr/>
              </p:nvSpPr>
              <p:spPr>
                <a:xfrm flipH="1" flipV="1" rot="4217400">
                  <a:off x="2905200" y="5679720"/>
                  <a:ext cx="10008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 rot="5032800">
                  <a:off x="2838600" y="5700600"/>
                  <a:ext cx="10008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flipV="1" rot="5328600">
                  <a:off x="2798640" y="5703840"/>
                  <a:ext cx="10008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 rot="5860800">
                  <a:off x="2750400" y="5704560"/>
                  <a:ext cx="10008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472840" y="5731920"/>
                <a:ext cx="571320" cy="297720"/>
                <a:chOff x="2472840" y="5731920"/>
                <a:chExt cx="571320" cy="297720"/>
              </a:xfrm>
            </p:grpSpPr>
            <p:sp>
              <p:nvSpPr>
                <p:cNvPr id="242" name=""/>
                <p:cNvSpPr/>
                <p:nvPr/>
              </p:nvSpPr>
              <p:spPr>
                <a:xfrm flipH="1" flipV="1" rot="5570400">
                  <a:off x="2781360" y="5707800"/>
                  <a:ext cx="10044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 rot="6385800">
                  <a:off x="2711160" y="5701320"/>
                  <a:ext cx="10044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 rot="6681600">
                  <a:off x="2673720" y="5688360"/>
                  <a:ext cx="10044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 rot="7213800">
                  <a:off x="2629080" y="5670360"/>
                  <a:ext cx="10044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2491560" y="5121360"/>
              <a:ext cx="696240" cy="300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427120" y="53737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6218280" y="1515960"/>
            <a:ext cx="1187280" cy="876240"/>
            <a:chOff x="6218280" y="1515960"/>
            <a:chExt cx="1187280" cy="876240"/>
          </a:xfrm>
        </p:grpSpPr>
        <p:sp>
          <p:nvSpPr>
            <p:cNvPr id="250" name=""/>
            <p:cNvSpPr/>
            <p:nvPr/>
          </p:nvSpPr>
          <p:spPr>
            <a:xfrm>
              <a:off x="6218280" y="1515960"/>
              <a:ext cx="1187280" cy="87624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a0d35d"/>
                </a:gs>
                <a:gs pos="50000">
                  <a:srgbClr val="4b632b"/>
                </a:gs>
                <a:gs pos="100000">
                  <a:srgbClr val="a0d3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18280" y="1869120"/>
              <a:ext cx="1187280" cy="183600"/>
            </a:xfrm>
            <a:prstGeom prst="ellipse">
              <a:avLst/>
            </a:prstGeom>
            <a:gradFill rotWithShape="0">
              <a:gsLst>
                <a:gs pos="0">
                  <a:srgbClr val="a0d35d"/>
                </a:gs>
                <a:gs pos="100000">
                  <a:srgbClr val="b8dd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426360" y="2054160"/>
            <a:ext cx="73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478560" y="2400480"/>
            <a:ext cx="668520" cy="126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H="1" rot="3125400">
            <a:off x="6306480" y="2160000"/>
            <a:ext cx="96840" cy="42840"/>
          </a:xfrm>
          <a:prstGeom prst="ellipse">
            <a:avLst/>
          </a:prstGeom>
          <a:gradFill rotWithShape="0">
            <a:gsLst>
              <a:gs pos="0">
                <a:srgbClr val="151e26"/>
              </a:gs>
              <a:gs pos="50000">
                <a:srgbClr val="6e99c0"/>
              </a:gs>
              <a:gs pos="100000">
                <a:srgbClr val="151e26"/>
              </a:gs>
            </a:gsLst>
            <a:lin ang="139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4718000">
            <a:off x="5594040" y="1707480"/>
            <a:ext cx="98280" cy="157788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f6e8a"/>
              </a:gs>
              <a:gs pos="50000">
                <a:srgbClr val="6e99c0"/>
              </a:gs>
              <a:gs pos="100000">
                <a:srgbClr val="4f6e8a"/>
              </a:gs>
            </a:gsLst>
            <a:lin ang="176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246480" y="1936800"/>
            <a:ext cx="1815840" cy="1452240"/>
            <a:chOff x="3246480" y="1936800"/>
            <a:chExt cx="1815840" cy="1452240"/>
          </a:xfrm>
        </p:grpSpPr>
        <p:sp>
          <p:nvSpPr>
            <p:cNvPr id="258" name=""/>
            <p:cNvSpPr/>
            <p:nvPr/>
          </p:nvSpPr>
          <p:spPr>
            <a:xfrm>
              <a:off x="3246480" y="1936800"/>
              <a:ext cx="1815840" cy="145224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a0d35d"/>
                </a:gs>
                <a:gs pos="50000">
                  <a:srgbClr val="4b632b"/>
                </a:gs>
                <a:gs pos="100000">
                  <a:srgbClr val="a0d3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46480" y="2522160"/>
              <a:ext cx="1815840" cy="304560"/>
            </a:xfrm>
            <a:prstGeom prst="ellipse">
              <a:avLst/>
            </a:prstGeom>
            <a:gradFill rotWithShape="0">
              <a:gsLst>
                <a:gs pos="0">
                  <a:srgbClr val="a0d35d"/>
                </a:gs>
                <a:gs pos="100000">
                  <a:srgbClr val="b8dd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591000" y="29005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649680" y="3441600"/>
            <a:ext cx="1012680" cy="206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rot="3124800">
            <a:off x="3430800" y="3086640"/>
            <a:ext cx="177840" cy="42840"/>
          </a:xfrm>
          <a:prstGeom prst="ellipse">
            <a:avLst/>
          </a:prstGeom>
          <a:gradFill rotWithShape="0">
            <a:gsLst>
              <a:gs pos="0">
                <a:srgbClr val="151e26"/>
              </a:gs>
              <a:gs pos="50000">
                <a:srgbClr val="6e99c0"/>
              </a:gs>
              <a:gs pos="100000">
                <a:srgbClr val="151e26"/>
              </a:gs>
            </a:gsLst>
            <a:lin ang="76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3004400">
            <a:off x="2639520" y="2840760"/>
            <a:ext cx="327240" cy="237996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f6e8a"/>
              </a:gs>
              <a:gs pos="50000">
                <a:srgbClr val="6e99c0"/>
              </a:gs>
              <a:gs pos="100000">
                <a:srgbClr val="4f6e8a"/>
              </a:gs>
            </a:gsLst>
            <a:lin ang="193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76160" y="3965400"/>
            <a:ext cx="2628720" cy="2092320"/>
            <a:chOff x="776160" y="3965400"/>
            <a:chExt cx="2628720" cy="2092320"/>
          </a:xfrm>
        </p:grpSpPr>
        <p:sp>
          <p:nvSpPr>
            <p:cNvPr id="265" name=""/>
            <p:cNvSpPr/>
            <p:nvPr/>
          </p:nvSpPr>
          <p:spPr>
            <a:xfrm>
              <a:off x="776160" y="3965400"/>
              <a:ext cx="2628720" cy="209232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a0d35d"/>
                </a:gs>
                <a:gs pos="50000">
                  <a:srgbClr val="4b632b"/>
                </a:gs>
                <a:gs pos="100000">
                  <a:srgbClr val="a0d3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6160" y="4808520"/>
              <a:ext cx="2628720" cy="438480"/>
            </a:xfrm>
            <a:prstGeom prst="ellipse">
              <a:avLst/>
            </a:prstGeom>
            <a:gradFill rotWithShape="0">
              <a:gsLst>
                <a:gs pos="0">
                  <a:srgbClr val="a0d35d"/>
                </a:gs>
                <a:gs pos="100000">
                  <a:srgbClr val="cbe6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265400" y="536904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374920" y="414036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ebd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325520" y="61452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381720" y="2646360"/>
            <a:ext cx="251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83160" y="2743200"/>
            <a:ext cx="0" cy="809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8480" y="2446200"/>
            <a:ext cx="0" cy="906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2430360"/>
            <a:ext cx="2217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a0ba"/>
                </a:solidFill>
                <a:latin typeface="Arial"/>
                <a:ea typeface="宋体"/>
              </a:rPr>
              <a:t>pptcn</a:t>
            </a:r>
            <a:r>
              <a:rPr b="1" lang="en-US" sz="1400" spc="-1" strike="noStrike">
                <a:solidFill>
                  <a:srgbClr val="a0d35d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38520" y="5079960"/>
            <a:ext cx="0" cy="72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24120" y="5043600"/>
            <a:ext cx="33321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a0ba"/>
                </a:solidFill>
                <a:latin typeface="Arial"/>
                <a:ea typeface="宋体"/>
              </a:rPr>
              <a:t>pptc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429560" y="3489120"/>
            <a:ext cx="1393920" cy="1633680"/>
            <a:chOff x="1429560" y="3489120"/>
            <a:chExt cx="1393920" cy="1633680"/>
          </a:xfrm>
        </p:grpSpPr>
        <p:sp>
          <p:nvSpPr>
            <p:cNvPr id="277" name=""/>
            <p:cNvSpPr/>
            <p:nvPr/>
          </p:nvSpPr>
          <p:spPr>
            <a:xfrm rot="291600">
              <a:off x="2015640" y="3502440"/>
              <a:ext cx="331920" cy="324000"/>
            </a:xfrm>
            <a:prstGeom prst="ellipse">
              <a:avLst/>
            </a:prstGeom>
            <a:solidFill>
              <a:srgbClr val="fee3a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91600">
              <a:off x="1491840" y="3547080"/>
              <a:ext cx="126936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767760" y="1776240"/>
            <a:ext cx="784080" cy="917640"/>
            <a:chOff x="3767760" y="1776240"/>
            <a:chExt cx="784080" cy="917640"/>
          </a:xfrm>
        </p:grpSpPr>
        <p:sp>
          <p:nvSpPr>
            <p:cNvPr id="280" name=""/>
            <p:cNvSpPr/>
            <p:nvPr/>
          </p:nvSpPr>
          <p:spPr>
            <a:xfrm rot="291600">
              <a:off x="4096800" y="1783800"/>
              <a:ext cx="186840" cy="1818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91600">
              <a:off x="3802320" y="18086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996840" y="41544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ebd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618960" y="1482480"/>
            <a:ext cx="412560" cy="476640"/>
            <a:chOff x="6618960" y="1482480"/>
            <a:chExt cx="412560" cy="476640"/>
          </a:xfrm>
        </p:grpSpPr>
        <p:sp>
          <p:nvSpPr>
            <p:cNvPr id="284" name=""/>
            <p:cNvSpPr/>
            <p:nvPr/>
          </p:nvSpPr>
          <p:spPr>
            <a:xfrm rot="363600">
              <a:off x="6796800" y="1488240"/>
              <a:ext cx="96120" cy="93600"/>
            </a:xfrm>
            <a:prstGeom prst="ellipse">
              <a:avLst/>
            </a:prstGeom>
            <a:solidFill>
              <a:srgbClr val="cc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363600">
              <a:off x="6640920" y="1500480"/>
              <a:ext cx="368280" cy="4402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cc99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436920" y="2097000"/>
            <a:ext cx="1463400" cy="379080"/>
            <a:chOff x="3436920" y="2097000"/>
            <a:chExt cx="1463400" cy="379080"/>
          </a:xfrm>
        </p:grpSpPr>
        <p:sp>
          <p:nvSpPr>
            <p:cNvPr id="287" name=""/>
            <p:cNvSpPr/>
            <p:nvPr/>
          </p:nvSpPr>
          <p:spPr>
            <a:xfrm flipH="1">
              <a:off x="4350240" y="20970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36920" y="21067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343560" y="1641600"/>
            <a:ext cx="979560" cy="204480"/>
            <a:chOff x="6343560" y="1641600"/>
            <a:chExt cx="979560" cy="204480"/>
          </a:xfrm>
        </p:grpSpPr>
        <p:sp>
          <p:nvSpPr>
            <p:cNvPr id="290" name=""/>
            <p:cNvSpPr/>
            <p:nvPr/>
          </p:nvSpPr>
          <p:spPr>
            <a:xfrm flipH="1">
              <a:off x="6955200" y="1641600"/>
              <a:ext cx="367920" cy="19980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43560" y="1646640"/>
              <a:ext cx="367920" cy="19944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69840" y="2289240"/>
            <a:ext cx="1990800" cy="3303360"/>
          </a:xfrm>
          <a:prstGeom prst="bevel">
            <a:avLst>
              <a:gd name="adj" fmla="val 2551"/>
            </a:avLst>
          </a:prstGeom>
          <a:gradFill rotWithShape="0">
            <a:gsLst>
              <a:gs pos="0">
                <a:srgbClr val="20a0ba"/>
              </a:gs>
              <a:gs pos="100000">
                <a:srgbClr val="9cd4df"/>
              </a:gs>
            </a:gsLst>
            <a:lin ang="5400000"/>
          </a:gradFill>
          <a:ln w="0">
            <a:noFill/>
          </a:ln>
          <a:effectLst>
            <a:outerShdw dist="40186" dir="4303641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38320" y="2009880"/>
            <a:ext cx="1636560" cy="506160"/>
          </a:xfrm>
          <a:prstGeom prst="roundRect">
            <a:avLst>
              <a:gd name="adj" fmla="val 3197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29400" y="20876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91000" y="2289240"/>
            <a:ext cx="1990800" cy="3303360"/>
          </a:xfrm>
          <a:prstGeom prst="bevel">
            <a:avLst>
              <a:gd name="adj" fmla="val 3032"/>
            </a:avLst>
          </a:prstGeom>
          <a:gradFill rotWithShape="0">
            <a:gsLst>
              <a:gs pos="0">
                <a:srgbClr val="dfc75f"/>
              </a:gs>
              <a:gs pos="100000">
                <a:srgbClr val="f0e5b8"/>
              </a:gs>
            </a:gsLst>
            <a:lin ang="5400000"/>
          </a:gradFill>
          <a:ln w="0">
            <a:noFill/>
          </a:ln>
          <a:effectLst>
            <a:outerShdw dist="40186" dir="4303641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57680" y="2009880"/>
            <a:ext cx="1638360" cy="506160"/>
          </a:xfrm>
          <a:prstGeom prst="roundRect">
            <a:avLst>
              <a:gd name="adj" fmla="val 36051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50200" y="20876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11800" y="2289240"/>
            <a:ext cx="1990800" cy="3303360"/>
          </a:xfrm>
          <a:prstGeom prst="bevel">
            <a:avLst>
              <a:gd name="adj" fmla="val 3588"/>
            </a:avLst>
          </a:prstGeom>
          <a:gradFill rotWithShape="0">
            <a:gsLst>
              <a:gs pos="0">
                <a:srgbClr val="a0d35d"/>
              </a:gs>
              <a:gs pos="100000">
                <a:srgbClr val="d4eab7"/>
              </a:gs>
            </a:gsLst>
            <a:lin ang="5400000"/>
          </a:gradFill>
          <a:ln w="0">
            <a:noFill/>
          </a:ln>
          <a:effectLst>
            <a:outerShdw dist="40186" dir="4303641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80280" y="2009880"/>
            <a:ext cx="1636560" cy="506160"/>
          </a:xfrm>
          <a:prstGeom prst="roundRect">
            <a:avLst>
              <a:gd name="adj" fmla="val 36051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68120" y="20876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20600" y="2744640"/>
            <a:ext cx="194004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01000" y="4573800"/>
            <a:ext cx="915480" cy="849240"/>
            <a:chOff x="7101000" y="4573800"/>
            <a:chExt cx="915480" cy="849240"/>
          </a:xfrm>
        </p:grpSpPr>
        <p:sp>
          <p:nvSpPr>
            <p:cNvPr id="303" name=""/>
            <p:cNvSpPr/>
            <p:nvPr/>
          </p:nvSpPr>
          <p:spPr>
            <a:xfrm rot="16200000">
              <a:off x="7097400" y="4949280"/>
              <a:ext cx="139320" cy="1321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7458480" y="5101200"/>
              <a:ext cx="197280" cy="18756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7317720" y="4780800"/>
              <a:ext cx="146880" cy="1396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200000">
              <a:off x="7916040" y="513540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50360" y="5194440"/>
              <a:ext cx="27072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7422840" y="4901760"/>
              <a:ext cx="65160" cy="21996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210080" y="4895640"/>
              <a:ext cx="117000" cy="8640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7223040" y="457632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7600320" y="4704840"/>
              <a:ext cx="117720" cy="11196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459920" y="4784760"/>
              <a:ext cx="168840" cy="3636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7269840" y="4668120"/>
              <a:ext cx="94320" cy="1090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7311240" y="532260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400880" y="5275440"/>
              <a:ext cx="87840" cy="874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82760" y="4789800"/>
              <a:ext cx="45360" cy="15984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7684200" y="492048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7701480" y="4690440"/>
              <a:ext cx="44280" cy="3636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7753320" y="461016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3618000" y="2747880"/>
            <a:ext cx="193680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73720" y="3062160"/>
            <a:ext cx="187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5704"/>
                </a:solidFill>
                <a:latin typeface="Arial"/>
                <a:ea typeface="宋体"/>
              </a:rPr>
              <a:t>pptc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065400" y="360360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260880" y="360360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08520" y="3603600"/>
            <a:ext cx="2160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903280" y="3603600"/>
            <a:ext cx="2156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601640" y="1434960"/>
            <a:ext cx="5838840" cy="501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3440" y="2873520"/>
            <a:ext cx="7740360" cy="618840"/>
          </a:xfrm>
          <a:prstGeom prst="rect">
            <a:avLst/>
          </a:prstGeom>
          <a:solidFill>
            <a:srgbClr val="d7d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92280" y="2873520"/>
            <a:ext cx="2053440" cy="618480"/>
            <a:chOff x="692280" y="2873520"/>
            <a:chExt cx="2053440" cy="618480"/>
          </a:xfrm>
        </p:grpSpPr>
        <p:sp>
          <p:nvSpPr>
            <p:cNvPr id="330" name=""/>
            <p:cNvSpPr/>
            <p:nvPr/>
          </p:nvSpPr>
          <p:spPr>
            <a:xfrm>
              <a:off x="692280" y="2873520"/>
              <a:ext cx="1915920" cy="618480"/>
            </a:xfrm>
            <a:prstGeom prst="rect">
              <a:avLst/>
            </a:prstGeom>
            <a:solidFill>
              <a:srgbClr val="dfc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2506320" y="3088440"/>
              <a:ext cx="288360" cy="190440"/>
            </a:xfrm>
            <a:prstGeom prst="triangle">
              <a:avLst>
                <a:gd name="adj" fmla="val 50000"/>
              </a:avLst>
            </a:prstGeom>
            <a:solidFill>
              <a:srgbClr val="dfc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606760" y="30052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4240" y="29797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78160" y="3040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dfc75f"/>
              </a:gs>
              <a:gs pos="100000">
                <a:srgbClr val="d7d7c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5760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07120" y="3040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dfc75f"/>
              </a:gs>
              <a:gs pos="100000">
                <a:srgbClr val="d7d7c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54516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28920" y="1434960"/>
            <a:ext cx="24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88920" y="3622680"/>
            <a:ext cx="1114560" cy="1114560"/>
          </a:xfrm>
          <a:prstGeom prst="diamond">
            <a:avLst/>
          </a:prstGeom>
          <a:solidFill>
            <a:srgbClr val="dfc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70360" y="3622680"/>
            <a:ext cx="1114200" cy="111456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60800" y="3622680"/>
            <a:ext cx="1114560" cy="111456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04080" y="3622680"/>
            <a:ext cx="1114560" cy="111456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39" idx="3"/>
            <a:endCxn id="340" idx="1"/>
          </p:cNvCxnSpPr>
          <p:nvPr/>
        </p:nvCxnSpPr>
        <p:spPr>
          <a:xfrm>
            <a:off x="2103480" y="417960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344" name=""/>
          <p:cNvCxnSpPr>
            <a:stCxn id="340" idx="3"/>
            <a:endCxn id="341" idx="1"/>
          </p:cNvCxnSpPr>
          <p:nvPr/>
        </p:nvCxnSpPr>
        <p:spPr>
          <a:xfrm>
            <a:off x="4084560" y="41796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345" name=""/>
          <p:cNvCxnSpPr>
            <a:stCxn id="341" idx="3"/>
            <a:endCxn id="342" idx="1"/>
          </p:cNvCxnSpPr>
          <p:nvPr/>
        </p:nvCxnSpPr>
        <p:spPr>
          <a:xfrm>
            <a:off x="6075360" y="41796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346" name=""/>
          <p:cNvSpPr/>
          <p:nvPr/>
        </p:nvSpPr>
        <p:spPr>
          <a:xfrm>
            <a:off x="1092240" y="39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59280" y="3948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51520" y="3948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21440" y="39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5120" y="48276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78040" y="4827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92600" y="4827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40560" y="4827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17600" y="217980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ptcn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3D Pie Char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33840" y="3198960"/>
            <a:ext cx="3582720" cy="1566720"/>
          </a:xfrm>
          <a:prstGeom prst="rightArrow">
            <a:avLst>
              <a:gd name="adj1" fmla="val 61093"/>
              <a:gd name="adj2" fmla="val 42051"/>
            </a:avLst>
          </a:prstGeom>
          <a:gradFill rotWithShape="0">
            <a:gsLst>
              <a:gs pos="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27200" y="3467160"/>
            <a:ext cx="3648240" cy="1006560"/>
          </a:xfrm>
          <a:prstGeom prst="rightArrow">
            <a:avLst>
              <a:gd name="adj1" fmla="val 53880"/>
              <a:gd name="adj2" fmla="val 43645"/>
            </a:avLst>
          </a:prstGeom>
          <a:solidFill>
            <a:srgbClr val="202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49160" y="4903920"/>
            <a:ext cx="1967040" cy="388800"/>
            <a:chOff x="749160" y="4903920"/>
            <a:chExt cx="1967040" cy="388800"/>
          </a:xfrm>
        </p:grpSpPr>
        <p:grpSp>
          <p:nvGrpSpPr>
            <p:cNvPr id="360" name=""/>
            <p:cNvGrpSpPr/>
            <p:nvPr/>
          </p:nvGrpSpPr>
          <p:grpSpPr>
            <a:xfrm>
              <a:off x="749160" y="4903920"/>
              <a:ext cx="1965600" cy="388800"/>
              <a:chOff x="749160" y="4903920"/>
              <a:chExt cx="1965600" cy="388800"/>
            </a:xfrm>
          </p:grpSpPr>
          <p:sp>
            <p:nvSpPr>
              <p:cNvPr id="361" name=""/>
              <p:cNvSpPr/>
              <p:nvPr/>
            </p:nvSpPr>
            <p:spPr>
              <a:xfrm>
                <a:off x="749880" y="4933440"/>
                <a:ext cx="1964520" cy="35928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49160" y="4903920"/>
                <a:ext cx="1965600" cy="359280"/>
              </a:xfrm>
              <a:prstGeom prst="ellipse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b6b6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58520" y="4903920"/>
              <a:ext cx="1957680" cy="351720"/>
            </a:xfrm>
            <a:prstGeom prst="ellipse">
              <a:avLst/>
            </a:prstGeom>
            <a:gradFill rotWithShape="0">
              <a:gsLst>
                <a:gs pos="0">
                  <a:srgbClr val="727272"/>
                </a:gs>
                <a:gs pos="50000">
                  <a:srgbClr val="c0c0c0"/>
                </a:gs>
                <a:gs pos="100000">
                  <a:srgbClr val="72727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479600" y="4792680"/>
            <a:ext cx="476280" cy="309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d0d0d0"/>
              </a:gs>
            </a:gsLst>
            <a:lin ang="5400000"/>
          </a:gra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54120" y="2990880"/>
            <a:ext cx="2119320" cy="18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98400" y="3009960"/>
            <a:ext cx="2035440" cy="1801800"/>
          </a:xfrm>
          <a:prstGeom prst="rect">
            <a:avLst/>
          </a:prstGeom>
          <a:gradFill rotWithShape="0">
            <a:gsLst>
              <a:gs pos="0">
                <a:srgbClr val="64a5bc">
                  <a:alpha val="99215"/>
                </a:srgbClr>
              </a:gs>
              <a:gs pos="100000">
                <a:srgbClr val="3c778c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6280" y="3211560"/>
            <a:ext cx="190476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18920" y="2832840"/>
            <a:ext cx="4400640" cy="206208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88200" y="1662120"/>
            <a:ext cx="2054160" cy="574560"/>
          </a:xfrm>
          <a:custGeom>
            <a:avLst/>
            <a:gdLst/>
            <a:ahLst/>
            <a:rect l="l" t="t" r="r" b="b"/>
            <a:pathLst>
              <a:path w="1532" h="347">
                <a:moveTo>
                  <a:pt x="17" y="347"/>
                </a:moveTo>
                <a:cubicBezTo>
                  <a:pt x="17" y="347"/>
                  <a:pt x="0" y="284"/>
                  <a:pt x="25" y="197"/>
                </a:cubicBezTo>
                <a:cubicBezTo>
                  <a:pt x="57" y="143"/>
                  <a:pt x="94" y="50"/>
                  <a:pt x="217" y="25"/>
                </a:cubicBezTo>
                <a:cubicBezTo>
                  <a:pt x="340" y="0"/>
                  <a:pt x="292" y="15"/>
                  <a:pt x="443" y="13"/>
                </a:cubicBezTo>
                <a:cubicBezTo>
                  <a:pt x="594" y="10"/>
                  <a:pt x="985" y="14"/>
                  <a:pt x="1127" y="14"/>
                </a:cubicBezTo>
                <a:cubicBezTo>
                  <a:pt x="1269" y="14"/>
                  <a:pt x="1206" y="2"/>
                  <a:pt x="1292" y="16"/>
                </a:cubicBezTo>
                <a:cubicBezTo>
                  <a:pt x="1380" y="30"/>
                  <a:pt x="1466" y="96"/>
                  <a:pt x="1520" y="216"/>
                </a:cubicBezTo>
                <a:cubicBezTo>
                  <a:pt x="1532" y="300"/>
                  <a:pt x="1527" y="346"/>
                  <a:pt x="1527" y="346"/>
                </a:cubicBezTo>
                <a:lnTo>
                  <a:pt x="17" y="347"/>
                </a:lnTo>
                <a:close/>
              </a:path>
            </a:pathLst>
          </a:custGeom>
          <a:solidFill>
            <a:srgbClr val="20296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68720" y="1793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386400" y="3075120"/>
            <a:ext cx="204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ptcn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398760" y="4159080"/>
            <a:ext cx="1922400" cy="1656000"/>
          </a:xfrm>
          <a:prstGeom prst="downArrowCallout">
            <a:avLst>
              <a:gd name="adj1" fmla="val 14824"/>
              <a:gd name="adj2" fmla="val 15725"/>
              <a:gd name="adj3" fmla="val 16620"/>
              <a:gd name="adj4" fmla="val 74819"/>
            </a:avLst>
          </a:prstGeom>
          <a:gradFill rotWithShape="0">
            <a:gsLst>
              <a:gs pos="0">
                <a:srgbClr val="9cc5d4"/>
              </a:gs>
              <a:gs pos="100000">
                <a:srgbClr val="dceaef"/>
              </a:gs>
            </a:gsLst>
            <a:lin ang="5400000"/>
          </a:gradFill>
          <a:ln w="28440">
            <a:solidFill>
              <a:srgbClr val="72b7cc"/>
            </a:solidFill>
            <a:miter/>
          </a:ln>
          <a:effectLst>
            <a:outerShdw dist="17819" dir="2700000" blurRad="0" rotWithShape="0">
              <a:srgbClr val="302a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8760" y="2122560"/>
            <a:ext cx="1922400" cy="1682640"/>
          </a:xfrm>
          <a:prstGeom prst="downArrowCallout">
            <a:avLst>
              <a:gd name="adj1" fmla="val 14589"/>
              <a:gd name="adj2" fmla="val 15476"/>
              <a:gd name="adj3" fmla="val 16620"/>
              <a:gd name="adj4" fmla="val 74819"/>
            </a:avLst>
          </a:prstGeom>
          <a:gradFill rotWithShape="0">
            <a:gsLst>
              <a:gs pos="0">
                <a:srgbClr val="9cc5d4"/>
              </a:gs>
              <a:gs pos="100000">
                <a:srgbClr val="dceaef"/>
              </a:gs>
            </a:gsLst>
            <a:lin ang="5400000"/>
          </a:gradFill>
          <a:ln w="28440">
            <a:solidFill>
              <a:srgbClr val="72b7cc"/>
            </a:solidFill>
            <a:miter/>
          </a:ln>
          <a:effectLst>
            <a:outerShdw dist="17819" dir="2700000" blurRad="0" rotWithShape="0">
              <a:srgbClr val="302a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381480" y="2502000"/>
            <a:ext cx="193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98760" y="5075280"/>
            <a:ext cx="194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4:19:34Z</dcterms:created>
  <dc:creator>杨光旭</dc:creator>
  <dc:description/>
  <dc:language>en-US</dc:language>
  <cp:lastModifiedBy>微软用户</cp:lastModifiedBy>
  <dcterms:modified xsi:type="dcterms:W3CDTF">2015-08-09T01:09:1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