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9AF-80C6-41A2-ABD8-709F2402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83A-C8B7-4786-B088-9F04E655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7C4-55DC-49D4-B915-6C88E947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447-5ED7-445E-9F60-87DA660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09A-E4F6-4044-9F3A-422F3E8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F1A-476A-4F66-B447-1A61E4D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439-5B80-45A8-90D7-F90DA0B4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2D9-A2C0-44B5-8273-6C463C05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0BE-8CD4-4368-92F8-135284DD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197-3ACE-41CD-B18A-C2824C5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786-B00A-4668-A9D0-EBC7925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153-CFA5-448A-B169-4BDBBD4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39C-826D-4A6F-B4A7-A54835CD11D5}" type="datetime">
              <a:rPr b="0" lang="zh-CN" sz="1400" spc="-1" strike="noStrike">
                <a:solidFill>
                  <a:srgbClr val="444d26"/>
                </a:solidFill>
                <a:latin typeface="Arial"/>
              </a:rPr>
              <a:t>26/7/28</a:t>
            </a:fld>
            <a:r>
              <a:rPr b="0" lang="zh-CN" sz="1400" spc="-1" strike="noStrike">
                <a:solidFill>
                  <a:srgbClr val="444d26"/>
                </a:solidFill>
                <a:latin typeface="Arial"/>
              </a:rPr>
              <a:t> </a:t>
            </a:r>
            <a:fld id="{27142939-836A-487E-9059-0EE2AB973174}" type="datetime10">
              <a:rPr b="0" lang="zh-CN" sz="1400" spc="-1" strike="noStrike">
                <a:solidFill>
                  <a:srgbClr val="444d26"/>
                </a:solidFill>
                <a:latin typeface="Arial"/>
              </a:rPr>
              <a:t>21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125E-02C5-4D5C-9F4A-71215C760E2B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7920" y="6053040"/>
            <a:ext cx="224964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43434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7c9263"/>
                </a:solidFill>
                <a:latin typeface="Tw Cen MT"/>
              </a:rPr>
              <a:t>Presentation Title</a:t>
            </a:r>
            <a:br>
              <a:rPr sz="3600"/>
            </a:br>
            <a:r>
              <a:rPr b="0" lang="en-US" sz="3600" spc="-1" strike="noStrike">
                <a:solidFill>
                  <a:srgbClr val="7c9263"/>
                </a:solidFill>
                <a:latin typeface="Tw Cen MT"/>
              </a:rPr>
              <a:t>Presentation Subtitle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Instructo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ours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"/>
          <p:cNvSpPr/>
          <p:nvPr/>
        </p:nvSpPr>
        <p:spPr>
          <a:xfrm>
            <a:off x="2012760" y="533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翻开的书会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55627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onclusion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your conclusions he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32B8-4D47-4FBE-95FF-E9FA75068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44d26"/>
                </a:solidFill>
                <a:latin typeface="Tw Cen MT"/>
              </a:rPr>
              <a:t>使用规范说明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w Cen M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8e58b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2FD-2291-4E2B-A6C6-DDD255358F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m_book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604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Questions/Discussions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Questions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scu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3F7-4768-48DD-859D-99086001C8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hed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-W-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b Tues-Thu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f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ma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ok(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quired Tex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dition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tem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C8E-AF16-464F-B8F9-2A06713AC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Schedul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2720" y="1600200"/>
          <a:ext cx="8153280" cy="33368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Class/W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Tw Cen MT"/>
                        </a:rPr>
                        <a:t>Assign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3697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</a:tr>
              <a:tr h="37008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op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  <a:ea typeface="Tw Cen MT"/>
                        </a:rPr>
                        <a:t>Ta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</a:tr>
              <a:tr h="37116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</a:tr>
              <a:tr h="37008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</a:tr>
              <a:tr h="3715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5db"/>
                    </a:solidFill>
                  </a:tcPr>
                </a:tc>
              </a:tr>
              <a:tr h="369720"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2ee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FEA-E73F-4B86-A52F-072F796DF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m_book.png"/>
          <p:cNvPicPr/>
          <p:nvPr/>
        </p:nvPicPr>
        <p:blipFill>
          <a:blip r:embed="rId2"/>
          <a:stretch/>
        </p:blipFill>
        <p:spPr>
          <a:xfrm>
            <a:off x="612720" y="1755720"/>
            <a:ext cx="161604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w Cen MT"/>
              </a:rPr>
              <a:t>Introduction/Course Description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roductory no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4A8-883C-4CA2-ADD5-98B31164F6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Objectives and Results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jectiv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rse objective 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pected resul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kills develop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kill 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e58b6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F04-94D9-4D2B-96B5-5B4B9AAA06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Vocabulary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 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w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rm Thre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1EA-681E-4B12-BE25-5859FC679F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Procedures/Lectur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d procedure he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o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a5b592"/>
              </a:buClr>
              <a:buSzPct val="70000"/>
              <a:buFont typeface="Wingdings" charset="2"/>
              <a:buChar char="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ep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4388040" cy="4800600"/>
          </a:xfrm>
          <a:prstGeom prst="rect">
            <a:avLst/>
          </a:prstGeom>
          <a:ln w="50760">
            <a:solidFill>
              <a:srgbClr val="dd7e0e"/>
            </a:solidFill>
            <a:miter/>
          </a:ln>
        </p:spPr>
      </p:pic>
      <p:pic>
        <p:nvPicPr>
          <p:cNvPr id="67" name="Content Placeholder 4" descr="book.png"/>
          <p:cNvPicPr/>
          <p:nvPr/>
        </p:nvPicPr>
        <p:blipFill>
          <a:blip r:embed="rId3"/>
          <a:stretch/>
        </p:blipFill>
        <p:spPr>
          <a:xfrm>
            <a:off x="4495680" y="1600200"/>
            <a:ext cx="4388040" cy="4800600"/>
          </a:xfrm>
          <a:prstGeom prst="rect">
            <a:avLst/>
          </a:prstGeom>
          <a:ln w="50760">
            <a:solidFill>
              <a:srgbClr val="dd7e0e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7C0-CF13-4166-9513-01E26DF966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Graphs/Charts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pic>
        <p:nvPicPr>
          <p:cNvPr id="69" name="Content Placeholder 3" descr=""/>
          <p:cNvPicPr/>
          <p:nvPr/>
        </p:nvPicPr>
        <p:blipFill>
          <a:blip r:embed="rId2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F9C-DE4B-487A-8AFB-BA3AFED982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Graphs/Charts 2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pic>
        <p:nvPicPr>
          <p:cNvPr id="71" name="Content Placeholder 3" descr=""/>
          <p:cNvPicPr/>
          <p:nvPr/>
        </p:nvPicPr>
        <p:blipFill>
          <a:blip r:embed="rId2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2DE-2920-4F42-8B80-8F3C580FE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01:00Z</dcterms:created>
  <dc:creator>pc</dc:creator>
  <dc:description/>
  <dc:language>en-US</dc:language>
  <cp:lastModifiedBy/>
  <dcterms:modified xsi:type="dcterms:W3CDTF">2015-08-09T01:11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3524801033</vt:lpwstr>
  </property>
</Properties>
</file>