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C1B-B21E-4F46-B53C-FFCCAB28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977-B7BB-4BD1-951E-1885396E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091-0A3E-4440-8C71-0028DDD6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17D-5A74-411E-81C7-1E749A8D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E8B-6BA8-4B4A-B8A9-ED23F1A1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D81-B674-44D4-89B9-364F6788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39B-8FBF-476C-957F-95BC1469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F9C-9C95-4EDC-ACBE-3649AC98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4BC-4D53-4986-96E2-E747A260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D79-8E34-4969-8AA5-A1D47E65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48F-1A00-477B-8738-55109792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DDB2-1821-431F-9B3F-0ADBB552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7317-5CE9-4E31-9851-637791C489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0" y="3400560"/>
            <a:ext cx="4429080" cy="4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500720" y="2828880"/>
            <a:ext cx="372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ff9900"/>
                </a:solidFill>
                <a:latin typeface="华康俪金黑W8(P)"/>
                <a:ea typeface="华康俪金黑W8(P)"/>
              </a:rPr>
              <a:t>轻松办公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7763040" y="3357720"/>
            <a:ext cx="4429080" cy="45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4457880" y="2986200"/>
            <a:ext cx="56880" cy="7142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7658280" y="2986200"/>
            <a:ext cx="56880" cy="7142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5908680" y="2075040"/>
            <a:ext cx="1900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9900"/>
                </a:solidFill>
                <a:latin typeface="华康俪金黑W8(P)"/>
                <a:ea typeface="华康俪金黑W8(P)"/>
              </a:rPr>
              <a:t>WPS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783960" y="936720"/>
            <a:ext cx="47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公司企业办公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4396E-006 -3.33333E-006 L 0.26208 -3.33333E-006 E">
                                      <p:cBhvr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1"/>
                            </p:stCondLst>
                            <p:childTnLst>
                              <p:par>
                                <p:cTn id="2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1"/>
                            </p:stCondLst>
                            <p:childTnLst>
                              <p:par>
                                <p:cTn id="30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52 0.00208 L -0.26013 0.00416 E">
                                      <p:cBhvr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1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1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1"/>
                            </p:stCondLst>
                            <p:childTnLst>
                              <p:par>
                                <p:cTn id="45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501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2"/>
          <p:cNvSpPr/>
          <p:nvPr/>
        </p:nvSpPr>
        <p:spPr>
          <a:xfrm>
            <a:off x="0" y="3357720"/>
            <a:ext cx="3571920" cy="45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6"/>
          <p:cNvSpPr/>
          <p:nvPr/>
        </p:nvSpPr>
        <p:spPr>
          <a:xfrm rot="16200000">
            <a:off x="1799280" y="3313800"/>
            <a:ext cx="3571920" cy="4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7"/>
          <p:cNvSpPr/>
          <p:nvPr/>
        </p:nvSpPr>
        <p:spPr>
          <a:xfrm rot="16200000">
            <a:off x="4806720" y="421920"/>
            <a:ext cx="3571920" cy="582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4543560" y="2046240"/>
            <a:ext cx="31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健康工作、快捷办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4543560" y="2757600"/>
            <a:ext cx="31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健康工作、快捷办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4543560" y="3468600"/>
            <a:ext cx="31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健康工作、快捷办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4543560" y="4179960"/>
            <a:ext cx="31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健康工作、快捷办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5"/>
          <p:cNvSpPr/>
          <p:nvPr/>
        </p:nvSpPr>
        <p:spPr>
          <a:xfrm>
            <a:off x="8620200" y="3343320"/>
            <a:ext cx="3571920" cy="4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2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3"/>
          <p:cNvSpPr/>
          <p:nvPr/>
        </p:nvSpPr>
        <p:spPr>
          <a:xfrm>
            <a:off x="0" y="3357720"/>
            <a:ext cx="5138640" cy="53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10"/>
          <p:cNvSpPr/>
          <p:nvPr/>
        </p:nvSpPr>
        <p:spPr>
          <a:xfrm rot="16200000">
            <a:off x="5272200" y="-61920"/>
            <a:ext cx="6858000" cy="6981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11"/>
          <p:cNvSpPr/>
          <p:nvPr/>
        </p:nvSpPr>
        <p:spPr>
          <a:xfrm rot="16200000">
            <a:off x="1709640" y="3406680"/>
            <a:ext cx="6858000" cy="44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5"/>
          <p:cNvGrpSpPr/>
          <p:nvPr/>
        </p:nvGrpSpPr>
        <p:grpSpPr>
          <a:xfrm>
            <a:off x="1698480" y="1943280"/>
            <a:ext cx="3468960" cy="1293480"/>
            <a:chOff x="1698480" y="1943280"/>
            <a:chExt cx="3468960" cy="1293480"/>
          </a:xfrm>
        </p:grpSpPr>
        <p:grpSp>
          <p:nvGrpSpPr>
            <p:cNvPr id="61" name="Group 6"/>
            <p:cNvGrpSpPr/>
            <p:nvPr/>
          </p:nvGrpSpPr>
          <p:grpSpPr>
            <a:xfrm>
              <a:off x="1698480" y="2583360"/>
              <a:ext cx="3323880" cy="653400"/>
              <a:chOff x="1698480" y="2583360"/>
              <a:chExt cx="3323880" cy="653400"/>
            </a:xfrm>
          </p:grpSpPr>
          <p:sp>
            <p:nvSpPr>
              <p:cNvPr id="62" name="椭圆 7"/>
              <p:cNvSpPr/>
              <p:nvPr/>
            </p:nvSpPr>
            <p:spPr>
              <a:xfrm>
                <a:off x="1698480" y="2583360"/>
                <a:ext cx="653040" cy="653400"/>
              </a:xfrm>
              <a:prstGeom prst="ellipse">
                <a:avLst/>
              </a:prstGeom>
              <a:solidFill>
                <a:srgbClr val="ff9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TextBox 12"/>
              <p:cNvSpPr/>
              <p:nvPr/>
            </p:nvSpPr>
            <p:spPr>
              <a:xfrm>
                <a:off x="1887120" y="2714040"/>
                <a:ext cx="313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</a:t>
                </a:r>
                <a:r>
                  <a:rPr b="1" lang="zh-CN" sz="2000" spc="-1" strike="noStrike">
                    <a:solidFill>
                      <a:srgbClr val="ff9b05"/>
                    </a:solidFill>
                    <a:latin typeface="微软雅黑"/>
                    <a:ea typeface="微软雅黑"/>
                  </a:rPr>
                  <a:t>健康工作、快捷办公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" name="TextBox 14"/>
            <p:cNvSpPr/>
            <p:nvPr/>
          </p:nvSpPr>
          <p:spPr>
            <a:xfrm>
              <a:off x="3179880" y="1943280"/>
              <a:ext cx="198756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ff9900"/>
                  </a:solidFill>
                  <a:latin typeface="华康俪金黑W8(P)"/>
                  <a:ea typeface="华康俪金黑W8(P)"/>
                </a:rPr>
                <a:t>WPS</a:t>
              </a:r>
              <a:endParaRPr b="0" lang="en-US" sz="5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Box 17"/>
          <p:cNvSpPr/>
          <p:nvPr/>
        </p:nvSpPr>
        <p:spPr>
          <a:xfrm>
            <a:off x="5994360" y="1989000"/>
            <a:ext cx="571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压力可以说是现代都市人最大的心理压力之一，对于现代都市人来说，上班就像是打仗，从上班到下班，永远都有忙不完的工作。问渠心理网建议大家，在中午休息的一二个小时中，如果能适当的午睡一下，那么对缓解工作压力是有很大帮助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2"/>
          <p:cNvSpPr/>
          <p:nvPr/>
        </p:nvSpPr>
        <p:spPr>
          <a:xfrm rot="16200000">
            <a:off x="2666880" y="-2666880"/>
            <a:ext cx="6858000" cy="12192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组合 3" descr=""/>
          <p:cNvPicPr/>
          <p:nvPr/>
        </p:nvPicPr>
        <p:blipFill>
          <a:blip r:embed="rId1"/>
          <a:stretch/>
        </p:blipFill>
        <p:spPr>
          <a:xfrm>
            <a:off x="7553160" y="-168120"/>
            <a:ext cx="3638880" cy="1466640"/>
          </a:xfrm>
          <a:prstGeom prst="rect">
            <a:avLst/>
          </a:prstGeom>
          <a:ln w="0">
            <a:noFill/>
          </a:ln>
        </p:spPr>
      </p:pic>
      <p:sp>
        <p:nvSpPr>
          <p:cNvPr id="69" name="矩形 8"/>
          <p:cNvSpPr/>
          <p:nvPr/>
        </p:nvSpPr>
        <p:spPr>
          <a:xfrm>
            <a:off x="0" y="961920"/>
            <a:ext cx="7489800" cy="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10710720" y="957240"/>
            <a:ext cx="148140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536400" y="1857240"/>
            <a:ext cx="606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吃点零食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可能很多都市白领都有一边工作，一边吃零食的习惯，这在紧张的工作状态中，对缓解压力是很有效果的。适当的泡杯咖啡，泡杯绿茶，不但在生理上能缓解疲劳，在心理上也可以进行放松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下烦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我们在工作中，总会有很多烦恼，这些烦恼我们建议你将它们写出来，从而达到缓解烦恼与压力的目的。不要小看了这个方法，一支笔、一张纸，它们可以神奇的将你心中的烦恼、压力与心理体验都释放出来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Documents and Settings\Administrator\桌面\06.jpg"/>
          <p:cNvPicPr/>
          <p:nvPr/>
        </p:nvPicPr>
        <p:blipFill>
          <a:blip r:embed="rId2"/>
          <a:stretch/>
        </p:blipFill>
        <p:spPr>
          <a:xfrm>
            <a:off x="6608880" y="1878120"/>
            <a:ext cx="5460840" cy="3663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CBF-9314-4460-8E6E-0FDBFFF42B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2"/>
          <p:cNvSpPr/>
          <p:nvPr/>
        </p:nvSpPr>
        <p:spPr>
          <a:xfrm>
            <a:off x="0" y="3400560"/>
            <a:ext cx="4429080" cy="4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4500720" y="2828880"/>
            <a:ext cx="372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ff9900"/>
                </a:solidFill>
                <a:latin typeface="华康俪金黑W8(P)"/>
                <a:ea typeface="华康俪金黑W8(P)"/>
              </a:rPr>
              <a:t>谢谢大家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7763040" y="3357720"/>
            <a:ext cx="4429080" cy="45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4457880" y="2986200"/>
            <a:ext cx="56880" cy="7142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7658280" y="2986200"/>
            <a:ext cx="56880" cy="7142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3149640" y="3844800"/>
            <a:ext cx="63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华康俪金黑W8(P)"/>
                <a:ea typeface="华康俪金黑W8(P)"/>
              </a:rPr>
              <a:t>WPS </a:t>
            </a:r>
            <a:r>
              <a:rPr b="0" lang="zh-CN" sz="3600" spc="-1" strike="noStrike">
                <a:solidFill>
                  <a:srgbClr val="ff9900"/>
                </a:solidFill>
                <a:latin typeface="华康俪金黑W8(P)"/>
                <a:ea typeface="华康俪金黑W8(P)"/>
              </a:rPr>
              <a:t>轻松工作 快捷办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4396E-006 -3.33333E-006 L 0.26208 -3.33333E-006 E">
                                      <p:cBhvr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1"/>
                            </p:stCondLst>
                            <p:childTnLst>
                              <p:par>
                                <p:cTn id="165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1"/>
                            </p:stCondLst>
                            <p:childTnLst>
                              <p:par>
                                <p:cTn id="169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52 0.00208 L -0.26013 0.00416 E">
                                      <p:cBhvr>
                                        <p:cTn id="170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1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1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1"/>
                            </p:stCondLst>
                            <p:childTnLst>
                              <p:par>
                                <p:cTn id="184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501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123</cp:lastModifiedBy>
  <dcterms:modified xsi:type="dcterms:W3CDTF">2015-08-09T01:09:0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