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B2E-8587-498D-A1F6-8E2E8A28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746-583F-4892-91C6-58551149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738-FFF1-47DB-B13D-2CFFFB33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428-A519-4A7A-9119-251E1AFF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77D-6A06-44CF-89E2-DF36B195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737-13FD-4BE4-9FBC-5A143E2A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8D9-943D-4D60-B049-A7581D4D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4C0-89A8-42E8-AE8D-4444A150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B82-8288-404F-B845-435EB718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067-A69A-43EE-882C-E346BB0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A3A-611F-48BD-8BFC-DA3D81DA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7D7-BA69-4C6B-BF43-816DA54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F7D6-6C1A-4A21-9660-E0CDC166CD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52680" y="189000"/>
            <a:ext cx="60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司员工办公彩色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52680" y="189000"/>
            <a:ext cx="60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司员工办公彩色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8F6-96B0-485A-876B-93A941BE5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:\个人简历\1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123</cp:lastModifiedBy>
  <dcterms:modified xsi:type="dcterms:W3CDTF">2015-08-09T01:09:05Z</dcterms:modified>
  <cp:revision>5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