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184-DC54-4404-B9BF-66D733EE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996-956E-4511-A8B1-3379997C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31E-C430-4FBC-A392-D137E30B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C79-7125-4CAF-9A45-8AE64F2F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EDD-FE62-4D37-937F-2B272CE1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024-F39A-48F8-A770-42D6DFFE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AD3-D407-4D05-9E14-4ACD01E0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A33-DB54-485F-AF46-BB5E1B8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BA8-4B05-47EA-9566-366596D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071-1B5B-4416-8FD0-8C7B844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EF4-70E8-4426-999B-FB90952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B74-F5A4-4BC0-A798-F2891C8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2A6-6E44-4450-AF7A-864542926F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017-5258-4F88-AD61-B5191D60FC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887760" y="2413080"/>
            <a:ext cx="6578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HAPPYMEL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4000" y="3594240"/>
            <a:ext cx="101581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INSTRUC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3320" y="1189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扁平化简单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699720" y="2425680"/>
            <a:ext cx="317052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899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4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G Skinny Latte"/>
              </a:rPr>
              <a:t>	</a:t>
            </a: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"/>
          <p:cNvSpPr/>
          <p:nvPr/>
        </p:nvSpPr>
        <p:spPr>
          <a:xfrm>
            <a:off x="2155680" y="3784680"/>
            <a:ext cx="4016520" cy="129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071720" y="2438280"/>
            <a:ext cx="5974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4.DAY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62160" y="4457880"/>
            <a:ext cx="429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s check whether you have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light. Film preferably during the da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ptimal light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3"/>
          <p:cNvSpPr/>
          <p:nvPr/>
        </p:nvSpPr>
        <p:spPr>
          <a:xfrm>
            <a:off x="0" y="0"/>
            <a:ext cx="10691640" cy="754056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-15840" y="66200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49440" y="423720"/>
            <a:ext cx="1479240" cy="13687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8694720" y="0"/>
            <a:ext cx="199692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18440" y="406440"/>
            <a:ext cx="157320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3"/>
          <p:cNvSpPr/>
          <p:nvPr/>
        </p:nvSpPr>
        <p:spPr>
          <a:xfrm>
            <a:off x="2098800" y="3773520"/>
            <a:ext cx="5887800" cy="1220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03840" y="2438280"/>
            <a:ext cx="96386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5.ARTIFICIAL 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2171160" y="4457880"/>
            <a:ext cx="4834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pply the right camera settings when fil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side using artificial light so that you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esn’t appear dark or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9820440" y="3621240"/>
            <a:ext cx="320400" cy="32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8064360" y="6475320"/>
            <a:ext cx="1366920" cy="247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8690040" y="4638600"/>
            <a:ext cx="114120" cy="1838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8567640" y="4443480"/>
            <a:ext cx="357120" cy="357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9363240" y="2746440"/>
            <a:ext cx="644400" cy="1050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8705880" y="2289240"/>
            <a:ext cx="974520" cy="841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7764480" y="2297160"/>
            <a:ext cx="1539720" cy="172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8677440" y="3724200"/>
            <a:ext cx="1360440" cy="955800"/>
          </a:xfrm>
          <a:prstGeom prst="pie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2330280" y="2597040"/>
            <a:ext cx="6293160" cy="40928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3"/>
          <p:cNvSpPr/>
          <p:nvPr/>
        </p:nvSpPr>
        <p:spPr>
          <a:xfrm>
            <a:off x="2147760" y="3794040"/>
            <a:ext cx="4254480" cy="98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011600" y="2438280"/>
            <a:ext cx="66117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6.BACK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168640" y="4457880"/>
            <a:ext cx="47127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the backlight! The light source ha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 behind the camera at all times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resulting picture will be too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12600" y="4680"/>
            <a:ext cx="10679040" cy="754560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3352680" y="355680"/>
            <a:ext cx="398628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3892680" y="874800"/>
            <a:ext cx="2906640" cy="2906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49440" y="39528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3987720" y="3262320"/>
            <a:ext cx="27129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4848120" y="2222640"/>
            <a:ext cx="992160" cy="992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-15840" y="6607080"/>
            <a:ext cx="10712520" cy="1303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784680" y="762120"/>
            <a:ext cx="31240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513000" y="4446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IGUR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3"/>
          <p:cNvSpPr/>
          <p:nvPr/>
        </p:nvSpPr>
        <p:spPr>
          <a:xfrm>
            <a:off x="2127240" y="3801960"/>
            <a:ext cx="6383520" cy="122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71720" y="2438280"/>
            <a:ext cx="10341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7.CAMERA 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172600" y="4457880"/>
            <a:ext cx="4178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he shots should be film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ont. Avoid profile sh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221200" y="5257800"/>
            <a:ext cx="44186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Use either the whole figure in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 or a half figure. Don’t use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lose-ups and don’t zoom-out to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427120" y="24130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757520" y="3594240"/>
            <a:ext cx="72673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BACKGROUND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4113360" y="612720"/>
            <a:ext cx="2465280" cy="24652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674640" y="414360"/>
            <a:ext cx="147960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968480" y="3187800"/>
            <a:ext cx="6756480" cy="4371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71712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933640" y="0"/>
            <a:ext cx="4826160" cy="355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66760" y="3759120"/>
            <a:ext cx="10172520" cy="38005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932360" y="4917960"/>
            <a:ext cx="826920" cy="1046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5194440" y="4599000"/>
            <a:ext cx="303120" cy="3031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3"/>
          <p:cNvSpPr/>
          <p:nvPr/>
        </p:nvSpPr>
        <p:spPr>
          <a:xfrm>
            <a:off x="2066760" y="3803760"/>
            <a:ext cx="2697480" cy="1141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56120" y="2438280"/>
            <a:ext cx="40302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8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153880" y="4457880"/>
            <a:ext cx="49582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there is enough space arou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gure and that it does not appear offscree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ny part of the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429000" y="984240"/>
            <a:ext cx="3957480" cy="50022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36480" y="396720"/>
            <a:ext cx="1764000" cy="1368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673520" y="0"/>
            <a:ext cx="1473120" cy="927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3"/>
          <p:cNvSpPr/>
          <p:nvPr/>
        </p:nvSpPr>
        <p:spPr>
          <a:xfrm>
            <a:off x="2141640" y="3790800"/>
            <a:ext cx="5925960" cy="120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223200" y="2438280"/>
            <a:ext cx="95410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9.FIGURE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2138400" y="4457880"/>
            <a:ext cx="4716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ing can be either central or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 the left area of the screen or right 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666288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2328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13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8432640" y="2540160"/>
            <a:ext cx="2259000" cy="3454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2063880" y="3767040"/>
            <a:ext cx="3619440" cy="149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897120" y="2438280"/>
            <a:ext cx="5695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.INDOOR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167920" y="4457880"/>
            <a:ext cx="42145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door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lain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rominen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ithi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3"/>
          <p:cNvSpPr/>
          <p:nvPr/>
        </p:nvSpPr>
        <p:spPr>
          <a:xfrm>
            <a:off x="2077920" y="3819600"/>
            <a:ext cx="4172040" cy="730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64280" y="2438280"/>
            <a:ext cx="65523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0.FACEAREA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2160000" y="4457880"/>
            <a:ext cx="438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obstructing the face (do not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face, drink or put any objects in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2296800" y="5524560"/>
            <a:ext cx="4051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ake in account that the Happy 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sk” will be added as an extra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n top of your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26400" y="457200"/>
            <a:ext cx="1381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2075040" y="3830760"/>
            <a:ext cx="2641320" cy="109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006920" y="2438280"/>
            <a:ext cx="4633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1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2240640" y="4457880"/>
            <a:ext cx="4635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erify that there is sufficient spac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head and that it does not nearly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picture fame. The Happy Melly “ma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ould then be cropped by the video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52560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35448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3162600" y="3606840"/>
            <a:ext cx="4363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QUAL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2100240" y="3809880"/>
            <a:ext cx="2171880" cy="842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1314000" y="2438280"/>
            <a:ext cx="3617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2.SIZ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2151720" y="4457880"/>
            <a:ext cx="3746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your video has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154240" y="4724280"/>
            <a:ext cx="4335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esolution and will not appear pixe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 film using the highes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your device. Minimum siz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aw material should be 1024x576 p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3"/>
          <p:cNvSpPr/>
          <p:nvPr/>
        </p:nvSpPr>
        <p:spPr>
          <a:xfrm>
            <a:off x="2095560" y="3805200"/>
            <a:ext cx="2898720" cy="889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1091880" y="2438280"/>
            <a:ext cx="48758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3.FOCU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175480" y="4457880"/>
            <a:ext cx="4280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uble-check if the shot is shar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. The figure has to be in focu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7448400" y="1324080"/>
            <a:ext cx="1978200" cy="127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1590840" y="2654280"/>
            <a:ext cx="163800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1622520" y="2703600"/>
            <a:ext cx="1592280" cy="480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1809720" y="3911760"/>
            <a:ext cx="1257480" cy="2057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398952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48499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574640" y="2730600"/>
            <a:ext cx="166392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404120" y="762120"/>
            <a:ext cx="217152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29076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3040200" y="3606840"/>
            <a:ext cx="462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GENERAL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3"/>
          <p:cNvSpPr/>
          <p:nvPr/>
        </p:nvSpPr>
        <p:spPr>
          <a:xfrm>
            <a:off x="2128680" y="3789360"/>
            <a:ext cx="4243680" cy="125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687240" y="2438280"/>
            <a:ext cx="70524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4.VARIA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2173320" y="4457880"/>
            <a:ext cx="4816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want to create multiple shot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ary in background and/or camera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o emphasize that you are filming a new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-15840" y="5883120"/>
            <a:ext cx="1071396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649440" y="368280"/>
            <a:ext cx="14792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d11f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3"/>
          <p:cNvSpPr/>
          <p:nvPr/>
        </p:nvSpPr>
        <p:spPr>
          <a:xfrm>
            <a:off x="2111400" y="3807000"/>
            <a:ext cx="5877000" cy="110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277560" y="2438280"/>
            <a:ext cx="9378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5.GESTURESON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2160720" y="4457880"/>
            <a:ext cx="46382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 not use objects, drawing or writ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emphasize or illustrate the script. Act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gestur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-15840" y="5883120"/>
            <a:ext cx="1074888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650880" y="368280"/>
            <a:ext cx="17636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4181400" y="2952720"/>
            <a:ext cx="2328840" cy="2446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4815000" y="3720960"/>
            <a:ext cx="1022400" cy="1209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808520" y="3714840"/>
            <a:ext cx="1035000" cy="122220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5067360" y="4821120"/>
            <a:ext cx="523800" cy="4129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5060880" y="4815000"/>
            <a:ext cx="536760" cy="42516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5087880" y="4948200"/>
            <a:ext cx="487440" cy="55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075280" y="4935600"/>
            <a:ext cx="512640" cy="82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094360" y="5059440"/>
            <a:ext cx="465120" cy="586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5081760" y="5046840"/>
            <a:ext cx="490320" cy="83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5037120" y="4168800"/>
            <a:ext cx="561960" cy="701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5978520" y="4425840"/>
            <a:ext cx="330120" cy="133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965920" y="4413240"/>
            <a:ext cx="355680" cy="158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6045120" y="3855960"/>
            <a:ext cx="399960" cy="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6032520" y="3843360"/>
            <a:ext cx="425520" cy="1191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780160" y="3355920"/>
            <a:ext cx="276120" cy="271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5767560" y="3343320"/>
            <a:ext cx="301320" cy="296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5280120" y="3127320"/>
            <a:ext cx="95040" cy="344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5267160" y="3114720"/>
            <a:ext cx="120960" cy="3697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4608360" y="3349800"/>
            <a:ext cx="293760" cy="250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4595760" y="3336840"/>
            <a:ext cx="319320" cy="2764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4317840" y="3925800"/>
            <a:ext cx="325440" cy="127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4305240" y="3911760"/>
            <a:ext cx="351000" cy="152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410000" y="4484520"/>
            <a:ext cx="298440" cy="125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4384800" y="4459320"/>
            <a:ext cx="349200" cy="176040"/>
          </a:xfrm>
          <a:prstGeom prst="pie">
            <a:avLst/>
          </a:prstGeom>
          <a:noFill/>
          <a:ln w="507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98600" y="4190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47560" y="207720"/>
            <a:ext cx="9598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7080" y="1399680"/>
            <a:ext cx="1043928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852012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C8C-F1E5-4575-8CE9-D396278CF0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3013200" y="2374920"/>
            <a:ext cx="39081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KG Skinny Latte"/>
              </a:rPr>
              <a:t>ENJO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628360" y="4140360"/>
            <a:ext cx="5013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CONTACT HAPPY ME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3"/>
          <p:cNvSpPr/>
          <p:nvPr/>
        </p:nvSpPr>
        <p:spPr>
          <a:xfrm>
            <a:off x="2075040" y="3809880"/>
            <a:ext cx="3062160" cy="856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1403640" y="2438280"/>
            <a:ext cx="41810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2.WHIT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140920" y="4457880"/>
            <a:ext cx="4638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ry to avoid white backgrounds. Off-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r color backgrounds are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3"/>
          <p:cNvSpPr/>
          <p:nvPr/>
        </p:nvSpPr>
        <p:spPr>
          <a:xfrm>
            <a:off x="2048040" y="3801960"/>
            <a:ext cx="2563560" cy="101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634040" y="2438280"/>
            <a:ext cx="3094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3.C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162880" y="4457880"/>
            <a:ext cx="4886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decide to film outdoors make su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t is not too busy. Choose an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drop. If you are filming in a metropol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ity make it recognizable in the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6502320" y="492120"/>
            <a:ext cx="550800" cy="7318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6442200" y="762120"/>
            <a:ext cx="674640" cy="225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137280" y="3225960"/>
            <a:ext cx="1316160" cy="1396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6126120" y="3406680"/>
            <a:ext cx="1305000" cy="1368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541840" y="5329080"/>
            <a:ext cx="2452680" cy="1130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541840" y="5486400"/>
            <a:ext cx="2430720" cy="1810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6727680" y="109440"/>
            <a:ext cx="100080" cy="4381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632952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677700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808600" y="3583080"/>
            <a:ext cx="1941480" cy="17049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288040" y="5711760"/>
            <a:ext cx="2963880" cy="9651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3987720" y="3271680"/>
            <a:ext cx="27147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848120" y="2230560"/>
            <a:ext cx="993960" cy="9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-15840" y="6610320"/>
            <a:ext cx="10713960" cy="1335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火韦</cp:lastModifiedBy>
  <dcterms:modified xsi:type="dcterms:W3CDTF">2015-08-09T01:09:2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