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902-A32C-4264-8D3F-631ACC8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516-7F41-44DB-AA72-B3DA0E4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328-9041-4D65-BE27-7EB52C10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BAF-E323-41CB-BFD9-4C1FDF45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48A-5A2C-47E0-9C13-176AB05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ACFB-E814-44A9-A57A-B9F2C016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CC34-9E6A-40C0-AF61-BCBB7BF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0565-0894-4FF0-8917-9438EDCA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D52-CEBE-4189-959F-AB2FB3C1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510-4EDE-42BC-9515-DF587CF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698-ADCD-4E1B-A6A7-BFB9D26E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85E-3E7F-4EEA-ACBC-8623B7B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AE64-7AB1-4BC9-998E-CD0E230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B7A7-66E6-4CEA-BFE8-71563CA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DC0-F13C-428B-B66C-91C4568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5FD-BF75-4E3D-B690-891C2CEB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68F6-076F-4436-9A8A-FAAF347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65D-6019-4767-908B-719620A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64E-5D7E-4003-8138-E9037ED6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0AF-3C01-4B11-B6A1-F940347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046-B27A-4E33-B524-045B62A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132-3A08-4E98-A497-21D0D51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C64-10E9-42EC-A75B-E9C323F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91D-3C4E-44EA-8BFB-1BFD4E8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\\192.168.125.11\Non Voice Data\rinkesh\Rinkesh\Collection\07.09.2009\more collection\EPS\dd_logo_new.png"/>
          <p:cNvPicPr/>
          <p:nvPr/>
        </p:nvPicPr>
        <p:blipFill>
          <a:blip r:embed="rId2"/>
          <a:stretch/>
        </p:blipFill>
        <p:spPr>
          <a:xfrm>
            <a:off x="6553080" y="5735520"/>
            <a:ext cx="2365560" cy="10461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9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41D7-AF64-4500-A505-0CFF15B1204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BDC-3859-40E9-80C3-6843CE452A6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136&amp;utm_source=free-template&amp;utm_medium=link&amp;utm_campaign=product" TargetMode="External"/><Relationship Id="rId2" Type="http://schemas.openxmlformats.org/officeDocument/2006/relationships/image" Target="../media/image17.png"/><Relationship Id="rId3" Type="http://schemas.openxmlformats.org/officeDocument/2006/relationships/hyperlink" Target="http://www.dreamydesigning.com/?p=136&amp;utm_source=free-template&amp;utm_medium=link&amp;utm_campaign=product" TargetMode="External"/><Relationship Id="rId4" Type="http://schemas.openxmlformats.org/officeDocument/2006/relationships/image" Target="../media/image18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136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108&amp;utm_source=free-template&amp;utm_medium=link&amp;utm_campaign=product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dreamydesigning.com/?p=108&amp;utm_source=free-template&amp;utm_medium=link&amp;utm_campaign=product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108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dreamydesigning.com/?p=234&amp;utm_source=free-template&amp;utm_medium=link&amp;utm_campaign=product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dreamydesigning.com/?p=234&amp;utm_source=free-template&amp;utm_medium=link&amp;utm_campaign=product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dreamydesigning.com/?p=155&amp;utm_source=free-template&amp;utm_medium=link&amp;utm_campaign=product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www.dreamydesigning.com/?p=241&amp;utm_source=free-template&amp;utm_medium=link&amp;utm_campaign=product" TargetMode="External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93&amp;utm_source=free-template&amp;utm_medium=link&amp;utm_campaign=product" TargetMode="External"/><Relationship Id="rId2" Type="http://schemas.openxmlformats.org/officeDocument/2006/relationships/hyperlink" Target="http://www.dreamydesigning.com/?p=293&amp;utm_source=free-template&amp;utm_medium=link&amp;utm_campaign=product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reamydesigning.com/?p=293&amp;utm_source=free-template&amp;utm_medium=link&amp;utm_campaign=product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93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53&amp;utm_source=free-template&amp;utm_medium=link&amp;utm_campaign=product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dreamydesigning.com/?p=253&amp;utm_source=free-template&amp;utm_medium=link&amp;utm_campaign=product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53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29&amp;utm_source=free-template&amp;utm_medium=link&amp;utm_campaign=product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dreamydesigning.com/?p=229&amp;utm_source=free-template&amp;utm_medium=link&amp;utm_campaign=product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29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38&amp;utm_source=free-template&amp;utm_medium=link&amp;utm_campaign=product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dreamydesigning.com/?p=238&amp;utm_source=free-template&amp;utm_medium=link&amp;utm_campaign=product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38&amp;utm_source=free-template&amp;utm_medium=link&amp;utm_campaign=product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922320"/>
            <a:ext cx="5029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Free Stu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val 17"/>
          <p:cNvGrpSpPr/>
          <p:nvPr/>
        </p:nvGrpSpPr>
        <p:grpSpPr>
          <a:xfrm>
            <a:off x="950760" y="5297400"/>
            <a:ext cx="3992400" cy="523800"/>
            <a:chOff x="950760" y="5297400"/>
            <a:chExt cx="3992400" cy="523800"/>
          </a:xfrm>
        </p:grpSpPr>
        <p:pic>
          <p:nvPicPr>
            <p:cNvPr id="88" name="Oval 17" descr=""/>
            <p:cNvPicPr/>
            <p:nvPr/>
          </p:nvPicPr>
          <p:blipFill>
            <a:blip r:embed="rId1"/>
            <a:stretch/>
          </p:blipFill>
          <p:spPr>
            <a:xfrm>
              <a:off x="950760" y="5297400"/>
              <a:ext cx="39924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538280" y="5378400"/>
              <a:ext cx="2817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8"/>
          <p:cNvSpPr/>
          <p:nvPr/>
        </p:nvSpPr>
        <p:spPr>
          <a:xfrm>
            <a:off x="965160" y="1593720"/>
            <a:ext cx="3962520" cy="396576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28"/>
          <p:cNvSpPr/>
          <p:nvPr/>
        </p:nvSpPr>
        <p:spPr>
          <a:xfrm>
            <a:off x="1727280" y="1593720"/>
            <a:ext cx="3200400" cy="385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833" h="1004">
                <a:moveTo>
                  <a:pt x="516" y="664"/>
                </a:moveTo>
                <a:lnTo>
                  <a:pt x="518" y="664"/>
                </a:lnTo>
                <a:lnTo>
                  <a:pt x="518" y="666"/>
                </a:lnTo>
                <a:lnTo>
                  <a:pt x="516" y="666"/>
                </a:lnTo>
                <a:lnTo>
                  <a:pt x="516" y="664"/>
                </a:lnTo>
                <a:close/>
                <a:moveTo>
                  <a:pt x="424" y="664"/>
                </a:moveTo>
                <a:lnTo>
                  <a:pt x="433" y="666"/>
                </a:lnTo>
                <a:lnTo>
                  <a:pt x="431" y="669"/>
                </a:lnTo>
                <a:lnTo>
                  <a:pt x="420" y="675"/>
                </a:lnTo>
                <a:lnTo>
                  <a:pt x="417" y="673"/>
                </a:lnTo>
                <a:lnTo>
                  <a:pt x="417" y="666"/>
                </a:lnTo>
                <a:lnTo>
                  <a:pt x="424" y="664"/>
                </a:lnTo>
                <a:close/>
                <a:moveTo>
                  <a:pt x="512" y="649"/>
                </a:moveTo>
                <a:lnTo>
                  <a:pt x="519" y="649"/>
                </a:lnTo>
                <a:lnTo>
                  <a:pt x="523" y="651"/>
                </a:lnTo>
                <a:lnTo>
                  <a:pt x="521" y="653"/>
                </a:lnTo>
                <a:lnTo>
                  <a:pt x="519" y="657"/>
                </a:lnTo>
                <a:lnTo>
                  <a:pt x="518" y="658"/>
                </a:lnTo>
                <a:lnTo>
                  <a:pt x="518" y="660"/>
                </a:lnTo>
                <a:lnTo>
                  <a:pt x="514" y="660"/>
                </a:lnTo>
                <a:lnTo>
                  <a:pt x="510" y="658"/>
                </a:lnTo>
                <a:lnTo>
                  <a:pt x="508" y="655"/>
                </a:lnTo>
                <a:lnTo>
                  <a:pt x="508" y="651"/>
                </a:lnTo>
                <a:lnTo>
                  <a:pt x="512" y="649"/>
                </a:lnTo>
                <a:close/>
                <a:moveTo>
                  <a:pt x="459" y="647"/>
                </a:moveTo>
                <a:lnTo>
                  <a:pt x="479" y="649"/>
                </a:lnTo>
                <a:lnTo>
                  <a:pt x="497" y="649"/>
                </a:lnTo>
                <a:lnTo>
                  <a:pt x="497" y="653"/>
                </a:lnTo>
                <a:lnTo>
                  <a:pt x="499" y="655"/>
                </a:lnTo>
                <a:lnTo>
                  <a:pt x="499" y="658"/>
                </a:lnTo>
                <a:lnTo>
                  <a:pt x="486" y="662"/>
                </a:lnTo>
                <a:lnTo>
                  <a:pt x="472" y="664"/>
                </a:lnTo>
                <a:lnTo>
                  <a:pt x="459" y="660"/>
                </a:lnTo>
                <a:lnTo>
                  <a:pt x="457" y="658"/>
                </a:lnTo>
                <a:lnTo>
                  <a:pt x="455" y="655"/>
                </a:lnTo>
                <a:lnTo>
                  <a:pt x="455" y="653"/>
                </a:lnTo>
                <a:lnTo>
                  <a:pt x="459" y="649"/>
                </a:lnTo>
                <a:lnTo>
                  <a:pt x="459" y="647"/>
                </a:lnTo>
                <a:close/>
                <a:moveTo>
                  <a:pt x="387" y="631"/>
                </a:moveTo>
                <a:lnTo>
                  <a:pt x="402" y="636"/>
                </a:lnTo>
                <a:lnTo>
                  <a:pt x="418" y="638"/>
                </a:lnTo>
                <a:lnTo>
                  <a:pt x="437" y="638"/>
                </a:lnTo>
                <a:lnTo>
                  <a:pt x="440" y="642"/>
                </a:lnTo>
                <a:lnTo>
                  <a:pt x="448" y="646"/>
                </a:lnTo>
                <a:lnTo>
                  <a:pt x="444" y="647"/>
                </a:lnTo>
                <a:lnTo>
                  <a:pt x="442" y="651"/>
                </a:lnTo>
                <a:lnTo>
                  <a:pt x="439" y="655"/>
                </a:lnTo>
                <a:lnTo>
                  <a:pt x="435" y="653"/>
                </a:lnTo>
                <a:lnTo>
                  <a:pt x="433" y="653"/>
                </a:lnTo>
                <a:lnTo>
                  <a:pt x="429" y="655"/>
                </a:lnTo>
                <a:lnTo>
                  <a:pt x="428" y="657"/>
                </a:lnTo>
                <a:lnTo>
                  <a:pt x="424" y="657"/>
                </a:lnTo>
                <a:lnTo>
                  <a:pt x="420" y="655"/>
                </a:lnTo>
                <a:lnTo>
                  <a:pt x="415" y="653"/>
                </a:lnTo>
                <a:lnTo>
                  <a:pt x="409" y="649"/>
                </a:lnTo>
                <a:lnTo>
                  <a:pt x="387" y="642"/>
                </a:lnTo>
                <a:lnTo>
                  <a:pt x="371" y="638"/>
                </a:lnTo>
                <a:lnTo>
                  <a:pt x="371" y="636"/>
                </a:lnTo>
                <a:lnTo>
                  <a:pt x="372" y="633"/>
                </a:lnTo>
                <a:lnTo>
                  <a:pt x="387" y="631"/>
                </a:lnTo>
                <a:close/>
                <a:moveTo>
                  <a:pt x="409" y="456"/>
                </a:moveTo>
                <a:lnTo>
                  <a:pt x="409" y="460"/>
                </a:lnTo>
                <a:lnTo>
                  <a:pt x="407" y="460"/>
                </a:lnTo>
                <a:lnTo>
                  <a:pt x="405" y="458"/>
                </a:lnTo>
                <a:lnTo>
                  <a:pt x="402" y="458"/>
                </a:lnTo>
                <a:lnTo>
                  <a:pt x="402" y="463"/>
                </a:lnTo>
                <a:lnTo>
                  <a:pt x="404" y="465"/>
                </a:lnTo>
                <a:lnTo>
                  <a:pt x="407" y="465"/>
                </a:lnTo>
                <a:lnTo>
                  <a:pt x="411" y="463"/>
                </a:lnTo>
                <a:lnTo>
                  <a:pt x="413" y="463"/>
                </a:lnTo>
                <a:lnTo>
                  <a:pt x="413" y="456"/>
                </a:lnTo>
                <a:lnTo>
                  <a:pt x="409" y="456"/>
                </a:lnTo>
                <a:close/>
                <a:moveTo>
                  <a:pt x="347" y="445"/>
                </a:moveTo>
                <a:lnTo>
                  <a:pt x="345" y="449"/>
                </a:lnTo>
                <a:lnTo>
                  <a:pt x="341" y="452"/>
                </a:lnTo>
                <a:lnTo>
                  <a:pt x="339" y="456"/>
                </a:lnTo>
                <a:lnTo>
                  <a:pt x="336" y="460"/>
                </a:lnTo>
                <a:lnTo>
                  <a:pt x="332" y="467"/>
                </a:lnTo>
                <a:lnTo>
                  <a:pt x="330" y="469"/>
                </a:lnTo>
                <a:lnTo>
                  <a:pt x="328" y="473"/>
                </a:lnTo>
                <a:lnTo>
                  <a:pt x="328" y="482"/>
                </a:lnTo>
                <a:lnTo>
                  <a:pt x="332" y="484"/>
                </a:lnTo>
                <a:lnTo>
                  <a:pt x="334" y="485"/>
                </a:lnTo>
                <a:lnTo>
                  <a:pt x="339" y="485"/>
                </a:lnTo>
                <a:lnTo>
                  <a:pt x="339" y="482"/>
                </a:lnTo>
                <a:lnTo>
                  <a:pt x="341" y="480"/>
                </a:lnTo>
                <a:lnTo>
                  <a:pt x="345" y="473"/>
                </a:lnTo>
                <a:lnTo>
                  <a:pt x="349" y="467"/>
                </a:lnTo>
                <a:lnTo>
                  <a:pt x="352" y="445"/>
                </a:lnTo>
                <a:lnTo>
                  <a:pt x="347" y="445"/>
                </a:lnTo>
                <a:close/>
                <a:moveTo>
                  <a:pt x="363" y="436"/>
                </a:moveTo>
                <a:lnTo>
                  <a:pt x="358" y="441"/>
                </a:lnTo>
                <a:lnTo>
                  <a:pt x="365" y="445"/>
                </a:lnTo>
                <a:lnTo>
                  <a:pt x="369" y="449"/>
                </a:lnTo>
                <a:lnTo>
                  <a:pt x="371" y="454"/>
                </a:lnTo>
                <a:lnTo>
                  <a:pt x="371" y="458"/>
                </a:lnTo>
                <a:lnTo>
                  <a:pt x="374" y="460"/>
                </a:lnTo>
                <a:lnTo>
                  <a:pt x="380" y="460"/>
                </a:lnTo>
                <a:lnTo>
                  <a:pt x="385" y="458"/>
                </a:lnTo>
                <a:lnTo>
                  <a:pt x="385" y="451"/>
                </a:lnTo>
                <a:lnTo>
                  <a:pt x="380" y="445"/>
                </a:lnTo>
                <a:lnTo>
                  <a:pt x="376" y="443"/>
                </a:lnTo>
                <a:lnTo>
                  <a:pt x="371" y="439"/>
                </a:lnTo>
                <a:lnTo>
                  <a:pt x="367" y="438"/>
                </a:lnTo>
                <a:lnTo>
                  <a:pt x="365" y="436"/>
                </a:lnTo>
                <a:lnTo>
                  <a:pt x="363" y="436"/>
                </a:lnTo>
                <a:close/>
                <a:moveTo>
                  <a:pt x="339" y="421"/>
                </a:moveTo>
                <a:lnTo>
                  <a:pt x="330" y="423"/>
                </a:lnTo>
                <a:lnTo>
                  <a:pt x="323" y="428"/>
                </a:lnTo>
                <a:lnTo>
                  <a:pt x="314" y="432"/>
                </a:lnTo>
                <a:lnTo>
                  <a:pt x="314" y="434"/>
                </a:lnTo>
                <a:lnTo>
                  <a:pt x="316" y="436"/>
                </a:lnTo>
                <a:lnTo>
                  <a:pt x="317" y="436"/>
                </a:lnTo>
                <a:lnTo>
                  <a:pt x="317" y="438"/>
                </a:lnTo>
                <a:lnTo>
                  <a:pt x="330" y="438"/>
                </a:lnTo>
                <a:lnTo>
                  <a:pt x="343" y="436"/>
                </a:lnTo>
                <a:lnTo>
                  <a:pt x="356" y="436"/>
                </a:lnTo>
                <a:lnTo>
                  <a:pt x="356" y="432"/>
                </a:lnTo>
                <a:lnTo>
                  <a:pt x="354" y="428"/>
                </a:lnTo>
                <a:lnTo>
                  <a:pt x="352" y="427"/>
                </a:lnTo>
                <a:lnTo>
                  <a:pt x="350" y="423"/>
                </a:lnTo>
                <a:lnTo>
                  <a:pt x="339" y="421"/>
                </a:lnTo>
                <a:close/>
                <a:moveTo>
                  <a:pt x="86" y="324"/>
                </a:moveTo>
                <a:lnTo>
                  <a:pt x="90" y="324"/>
                </a:lnTo>
                <a:lnTo>
                  <a:pt x="90" y="327"/>
                </a:lnTo>
                <a:lnTo>
                  <a:pt x="93" y="327"/>
                </a:lnTo>
                <a:lnTo>
                  <a:pt x="90" y="331"/>
                </a:lnTo>
                <a:lnTo>
                  <a:pt x="90" y="335"/>
                </a:lnTo>
                <a:lnTo>
                  <a:pt x="86" y="338"/>
                </a:lnTo>
                <a:lnTo>
                  <a:pt x="84" y="338"/>
                </a:lnTo>
                <a:lnTo>
                  <a:pt x="84" y="333"/>
                </a:lnTo>
                <a:lnTo>
                  <a:pt x="86" y="331"/>
                </a:lnTo>
                <a:lnTo>
                  <a:pt x="86" y="324"/>
                </a:lnTo>
                <a:close/>
                <a:moveTo>
                  <a:pt x="760" y="246"/>
                </a:moveTo>
                <a:lnTo>
                  <a:pt x="767" y="257"/>
                </a:lnTo>
                <a:lnTo>
                  <a:pt x="795" y="313"/>
                </a:lnTo>
                <a:lnTo>
                  <a:pt x="797" y="322"/>
                </a:lnTo>
                <a:lnTo>
                  <a:pt x="800" y="329"/>
                </a:lnTo>
                <a:lnTo>
                  <a:pt x="802" y="338"/>
                </a:lnTo>
                <a:lnTo>
                  <a:pt x="808" y="349"/>
                </a:lnTo>
                <a:lnTo>
                  <a:pt x="811" y="360"/>
                </a:lnTo>
                <a:lnTo>
                  <a:pt x="815" y="370"/>
                </a:lnTo>
                <a:lnTo>
                  <a:pt x="819" y="384"/>
                </a:lnTo>
                <a:lnTo>
                  <a:pt x="821" y="394"/>
                </a:lnTo>
                <a:lnTo>
                  <a:pt x="821" y="401"/>
                </a:lnTo>
                <a:lnTo>
                  <a:pt x="822" y="410"/>
                </a:lnTo>
                <a:lnTo>
                  <a:pt x="826" y="443"/>
                </a:lnTo>
                <a:lnTo>
                  <a:pt x="830" y="478"/>
                </a:lnTo>
                <a:lnTo>
                  <a:pt x="833" y="511"/>
                </a:lnTo>
                <a:lnTo>
                  <a:pt x="832" y="528"/>
                </a:lnTo>
                <a:lnTo>
                  <a:pt x="826" y="543"/>
                </a:lnTo>
                <a:lnTo>
                  <a:pt x="822" y="559"/>
                </a:lnTo>
                <a:lnTo>
                  <a:pt x="819" y="555"/>
                </a:lnTo>
                <a:lnTo>
                  <a:pt x="815" y="555"/>
                </a:lnTo>
                <a:lnTo>
                  <a:pt x="815" y="550"/>
                </a:lnTo>
                <a:lnTo>
                  <a:pt x="811" y="543"/>
                </a:lnTo>
                <a:lnTo>
                  <a:pt x="809" y="541"/>
                </a:lnTo>
                <a:lnTo>
                  <a:pt x="802" y="541"/>
                </a:lnTo>
                <a:lnTo>
                  <a:pt x="802" y="535"/>
                </a:lnTo>
                <a:lnTo>
                  <a:pt x="797" y="519"/>
                </a:lnTo>
                <a:lnTo>
                  <a:pt x="797" y="502"/>
                </a:lnTo>
                <a:lnTo>
                  <a:pt x="793" y="485"/>
                </a:lnTo>
                <a:lnTo>
                  <a:pt x="787" y="469"/>
                </a:lnTo>
                <a:lnTo>
                  <a:pt x="784" y="452"/>
                </a:lnTo>
                <a:lnTo>
                  <a:pt x="782" y="438"/>
                </a:lnTo>
                <a:lnTo>
                  <a:pt x="782" y="414"/>
                </a:lnTo>
                <a:lnTo>
                  <a:pt x="784" y="405"/>
                </a:lnTo>
                <a:lnTo>
                  <a:pt x="784" y="395"/>
                </a:lnTo>
                <a:lnTo>
                  <a:pt x="780" y="377"/>
                </a:lnTo>
                <a:lnTo>
                  <a:pt x="771" y="360"/>
                </a:lnTo>
                <a:lnTo>
                  <a:pt x="769" y="340"/>
                </a:lnTo>
                <a:lnTo>
                  <a:pt x="764" y="322"/>
                </a:lnTo>
                <a:lnTo>
                  <a:pt x="764" y="320"/>
                </a:lnTo>
                <a:lnTo>
                  <a:pt x="765" y="318"/>
                </a:lnTo>
                <a:lnTo>
                  <a:pt x="767" y="318"/>
                </a:lnTo>
                <a:lnTo>
                  <a:pt x="769" y="316"/>
                </a:lnTo>
                <a:lnTo>
                  <a:pt x="758" y="256"/>
                </a:lnTo>
                <a:lnTo>
                  <a:pt x="764" y="261"/>
                </a:lnTo>
                <a:lnTo>
                  <a:pt x="765" y="265"/>
                </a:lnTo>
                <a:lnTo>
                  <a:pt x="769" y="268"/>
                </a:lnTo>
                <a:lnTo>
                  <a:pt x="765" y="257"/>
                </a:lnTo>
                <a:lnTo>
                  <a:pt x="760" y="246"/>
                </a:lnTo>
                <a:close/>
                <a:moveTo>
                  <a:pt x="742" y="232"/>
                </a:moveTo>
                <a:lnTo>
                  <a:pt x="745" y="235"/>
                </a:lnTo>
                <a:lnTo>
                  <a:pt x="747" y="239"/>
                </a:lnTo>
                <a:lnTo>
                  <a:pt x="747" y="241"/>
                </a:lnTo>
                <a:lnTo>
                  <a:pt x="749" y="243"/>
                </a:lnTo>
                <a:lnTo>
                  <a:pt x="747" y="243"/>
                </a:lnTo>
                <a:lnTo>
                  <a:pt x="743" y="239"/>
                </a:lnTo>
                <a:lnTo>
                  <a:pt x="743" y="235"/>
                </a:lnTo>
                <a:lnTo>
                  <a:pt x="742" y="232"/>
                </a:lnTo>
                <a:close/>
                <a:moveTo>
                  <a:pt x="316" y="221"/>
                </a:moveTo>
                <a:lnTo>
                  <a:pt x="317" y="221"/>
                </a:lnTo>
                <a:lnTo>
                  <a:pt x="317" y="224"/>
                </a:lnTo>
                <a:lnTo>
                  <a:pt x="319" y="226"/>
                </a:lnTo>
                <a:lnTo>
                  <a:pt x="317" y="230"/>
                </a:lnTo>
                <a:lnTo>
                  <a:pt x="314" y="232"/>
                </a:lnTo>
                <a:lnTo>
                  <a:pt x="312" y="235"/>
                </a:lnTo>
                <a:lnTo>
                  <a:pt x="308" y="237"/>
                </a:lnTo>
                <a:lnTo>
                  <a:pt x="306" y="233"/>
                </a:lnTo>
                <a:lnTo>
                  <a:pt x="304" y="232"/>
                </a:lnTo>
                <a:lnTo>
                  <a:pt x="304" y="226"/>
                </a:lnTo>
                <a:lnTo>
                  <a:pt x="306" y="224"/>
                </a:lnTo>
                <a:lnTo>
                  <a:pt x="310" y="222"/>
                </a:lnTo>
                <a:lnTo>
                  <a:pt x="312" y="222"/>
                </a:lnTo>
                <a:lnTo>
                  <a:pt x="316" y="221"/>
                </a:lnTo>
                <a:close/>
                <a:moveTo>
                  <a:pt x="290" y="219"/>
                </a:moveTo>
                <a:lnTo>
                  <a:pt x="292" y="219"/>
                </a:lnTo>
                <a:lnTo>
                  <a:pt x="293" y="221"/>
                </a:lnTo>
                <a:lnTo>
                  <a:pt x="297" y="222"/>
                </a:lnTo>
                <a:lnTo>
                  <a:pt x="299" y="222"/>
                </a:lnTo>
                <a:lnTo>
                  <a:pt x="299" y="226"/>
                </a:lnTo>
                <a:lnTo>
                  <a:pt x="301" y="228"/>
                </a:lnTo>
                <a:lnTo>
                  <a:pt x="301" y="232"/>
                </a:lnTo>
                <a:lnTo>
                  <a:pt x="303" y="233"/>
                </a:lnTo>
                <a:lnTo>
                  <a:pt x="303" y="235"/>
                </a:lnTo>
                <a:lnTo>
                  <a:pt x="301" y="237"/>
                </a:lnTo>
                <a:lnTo>
                  <a:pt x="301" y="241"/>
                </a:lnTo>
                <a:lnTo>
                  <a:pt x="293" y="241"/>
                </a:lnTo>
                <a:lnTo>
                  <a:pt x="286" y="239"/>
                </a:lnTo>
                <a:lnTo>
                  <a:pt x="281" y="237"/>
                </a:lnTo>
                <a:lnTo>
                  <a:pt x="277" y="233"/>
                </a:lnTo>
                <a:lnTo>
                  <a:pt x="284" y="222"/>
                </a:lnTo>
                <a:lnTo>
                  <a:pt x="290" y="219"/>
                </a:lnTo>
                <a:close/>
                <a:moveTo>
                  <a:pt x="661" y="213"/>
                </a:moveTo>
                <a:lnTo>
                  <a:pt x="668" y="215"/>
                </a:lnTo>
                <a:lnTo>
                  <a:pt x="674" y="219"/>
                </a:lnTo>
                <a:lnTo>
                  <a:pt x="679" y="224"/>
                </a:lnTo>
                <a:lnTo>
                  <a:pt x="683" y="232"/>
                </a:lnTo>
                <a:lnTo>
                  <a:pt x="685" y="239"/>
                </a:lnTo>
                <a:lnTo>
                  <a:pt x="677" y="235"/>
                </a:lnTo>
                <a:lnTo>
                  <a:pt x="674" y="232"/>
                </a:lnTo>
                <a:lnTo>
                  <a:pt x="672" y="228"/>
                </a:lnTo>
                <a:lnTo>
                  <a:pt x="666" y="221"/>
                </a:lnTo>
                <a:lnTo>
                  <a:pt x="661" y="215"/>
                </a:lnTo>
                <a:lnTo>
                  <a:pt x="661" y="213"/>
                </a:lnTo>
                <a:close/>
                <a:moveTo>
                  <a:pt x="290" y="202"/>
                </a:moveTo>
                <a:lnTo>
                  <a:pt x="293" y="204"/>
                </a:lnTo>
                <a:lnTo>
                  <a:pt x="299" y="206"/>
                </a:lnTo>
                <a:lnTo>
                  <a:pt x="301" y="208"/>
                </a:lnTo>
                <a:lnTo>
                  <a:pt x="301" y="210"/>
                </a:lnTo>
                <a:lnTo>
                  <a:pt x="297" y="213"/>
                </a:lnTo>
                <a:lnTo>
                  <a:pt x="297" y="215"/>
                </a:lnTo>
                <a:lnTo>
                  <a:pt x="286" y="210"/>
                </a:lnTo>
                <a:lnTo>
                  <a:pt x="282" y="210"/>
                </a:lnTo>
                <a:lnTo>
                  <a:pt x="282" y="208"/>
                </a:lnTo>
                <a:lnTo>
                  <a:pt x="286" y="206"/>
                </a:lnTo>
                <a:lnTo>
                  <a:pt x="290" y="202"/>
                </a:lnTo>
                <a:close/>
                <a:moveTo>
                  <a:pt x="33" y="199"/>
                </a:moveTo>
                <a:lnTo>
                  <a:pt x="33" y="200"/>
                </a:lnTo>
                <a:lnTo>
                  <a:pt x="29" y="204"/>
                </a:lnTo>
                <a:lnTo>
                  <a:pt x="29" y="202"/>
                </a:lnTo>
                <a:lnTo>
                  <a:pt x="33" y="199"/>
                </a:lnTo>
                <a:close/>
                <a:moveTo>
                  <a:pt x="238" y="197"/>
                </a:moveTo>
                <a:lnTo>
                  <a:pt x="246" y="197"/>
                </a:lnTo>
                <a:lnTo>
                  <a:pt x="249" y="199"/>
                </a:lnTo>
                <a:lnTo>
                  <a:pt x="251" y="199"/>
                </a:lnTo>
                <a:lnTo>
                  <a:pt x="259" y="202"/>
                </a:lnTo>
                <a:lnTo>
                  <a:pt x="262" y="199"/>
                </a:lnTo>
                <a:lnTo>
                  <a:pt x="266" y="199"/>
                </a:lnTo>
                <a:lnTo>
                  <a:pt x="270" y="200"/>
                </a:lnTo>
                <a:lnTo>
                  <a:pt x="270" y="213"/>
                </a:lnTo>
                <a:lnTo>
                  <a:pt x="257" y="213"/>
                </a:lnTo>
                <a:lnTo>
                  <a:pt x="246" y="208"/>
                </a:lnTo>
                <a:lnTo>
                  <a:pt x="242" y="208"/>
                </a:lnTo>
                <a:lnTo>
                  <a:pt x="238" y="204"/>
                </a:lnTo>
                <a:lnTo>
                  <a:pt x="237" y="200"/>
                </a:lnTo>
                <a:lnTo>
                  <a:pt x="238" y="197"/>
                </a:lnTo>
                <a:close/>
                <a:moveTo>
                  <a:pt x="725" y="195"/>
                </a:moveTo>
                <a:lnTo>
                  <a:pt x="727" y="197"/>
                </a:lnTo>
                <a:lnTo>
                  <a:pt x="729" y="200"/>
                </a:lnTo>
                <a:lnTo>
                  <a:pt x="725" y="195"/>
                </a:lnTo>
                <a:close/>
                <a:moveTo>
                  <a:pt x="723" y="193"/>
                </a:moveTo>
                <a:lnTo>
                  <a:pt x="725" y="195"/>
                </a:lnTo>
                <a:lnTo>
                  <a:pt x="723" y="195"/>
                </a:lnTo>
                <a:lnTo>
                  <a:pt x="723" y="193"/>
                </a:lnTo>
                <a:close/>
                <a:moveTo>
                  <a:pt x="721" y="191"/>
                </a:moveTo>
                <a:lnTo>
                  <a:pt x="723" y="193"/>
                </a:lnTo>
                <a:lnTo>
                  <a:pt x="721" y="191"/>
                </a:lnTo>
                <a:close/>
                <a:moveTo>
                  <a:pt x="237" y="186"/>
                </a:moveTo>
                <a:lnTo>
                  <a:pt x="242" y="186"/>
                </a:lnTo>
                <a:lnTo>
                  <a:pt x="244" y="187"/>
                </a:lnTo>
                <a:lnTo>
                  <a:pt x="246" y="191"/>
                </a:lnTo>
                <a:lnTo>
                  <a:pt x="242" y="193"/>
                </a:lnTo>
                <a:lnTo>
                  <a:pt x="237" y="193"/>
                </a:lnTo>
                <a:lnTo>
                  <a:pt x="233" y="195"/>
                </a:lnTo>
                <a:lnTo>
                  <a:pt x="229" y="195"/>
                </a:lnTo>
                <a:lnTo>
                  <a:pt x="226" y="197"/>
                </a:lnTo>
                <a:lnTo>
                  <a:pt x="224" y="197"/>
                </a:lnTo>
                <a:lnTo>
                  <a:pt x="224" y="195"/>
                </a:lnTo>
                <a:lnTo>
                  <a:pt x="222" y="195"/>
                </a:lnTo>
                <a:lnTo>
                  <a:pt x="222" y="191"/>
                </a:lnTo>
                <a:lnTo>
                  <a:pt x="226" y="189"/>
                </a:lnTo>
                <a:lnTo>
                  <a:pt x="229" y="189"/>
                </a:lnTo>
                <a:lnTo>
                  <a:pt x="237" y="186"/>
                </a:lnTo>
                <a:close/>
                <a:moveTo>
                  <a:pt x="642" y="184"/>
                </a:moveTo>
                <a:lnTo>
                  <a:pt x="657" y="189"/>
                </a:lnTo>
                <a:lnTo>
                  <a:pt x="672" y="197"/>
                </a:lnTo>
                <a:lnTo>
                  <a:pt x="677" y="197"/>
                </a:lnTo>
                <a:lnTo>
                  <a:pt x="681" y="199"/>
                </a:lnTo>
                <a:lnTo>
                  <a:pt x="686" y="200"/>
                </a:lnTo>
                <a:lnTo>
                  <a:pt x="694" y="215"/>
                </a:lnTo>
                <a:lnTo>
                  <a:pt x="696" y="232"/>
                </a:lnTo>
                <a:lnTo>
                  <a:pt x="694" y="233"/>
                </a:lnTo>
                <a:lnTo>
                  <a:pt x="677" y="213"/>
                </a:lnTo>
                <a:lnTo>
                  <a:pt x="657" y="197"/>
                </a:lnTo>
                <a:lnTo>
                  <a:pt x="653" y="199"/>
                </a:lnTo>
                <a:lnTo>
                  <a:pt x="652" y="200"/>
                </a:lnTo>
                <a:lnTo>
                  <a:pt x="641" y="186"/>
                </a:lnTo>
                <a:lnTo>
                  <a:pt x="642" y="184"/>
                </a:lnTo>
                <a:close/>
                <a:moveTo>
                  <a:pt x="290" y="184"/>
                </a:moveTo>
                <a:lnTo>
                  <a:pt x="295" y="189"/>
                </a:lnTo>
                <a:lnTo>
                  <a:pt x="297" y="189"/>
                </a:lnTo>
                <a:lnTo>
                  <a:pt x="297" y="193"/>
                </a:lnTo>
                <a:lnTo>
                  <a:pt x="295" y="195"/>
                </a:lnTo>
                <a:lnTo>
                  <a:pt x="288" y="195"/>
                </a:lnTo>
                <a:lnTo>
                  <a:pt x="286" y="193"/>
                </a:lnTo>
                <a:lnTo>
                  <a:pt x="286" y="186"/>
                </a:lnTo>
                <a:lnTo>
                  <a:pt x="290" y="184"/>
                </a:lnTo>
                <a:close/>
                <a:moveTo>
                  <a:pt x="591" y="180"/>
                </a:moveTo>
                <a:lnTo>
                  <a:pt x="595" y="187"/>
                </a:lnTo>
                <a:lnTo>
                  <a:pt x="596" y="195"/>
                </a:lnTo>
                <a:lnTo>
                  <a:pt x="600" y="200"/>
                </a:lnTo>
                <a:lnTo>
                  <a:pt x="596" y="204"/>
                </a:lnTo>
                <a:lnTo>
                  <a:pt x="593" y="206"/>
                </a:lnTo>
                <a:lnTo>
                  <a:pt x="584" y="206"/>
                </a:lnTo>
                <a:lnTo>
                  <a:pt x="576" y="202"/>
                </a:lnTo>
                <a:lnTo>
                  <a:pt x="578" y="193"/>
                </a:lnTo>
                <a:lnTo>
                  <a:pt x="580" y="186"/>
                </a:lnTo>
                <a:lnTo>
                  <a:pt x="591" y="180"/>
                </a:lnTo>
                <a:close/>
                <a:moveTo>
                  <a:pt x="88" y="162"/>
                </a:moveTo>
                <a:lnTo>
                  <a:pt x="104" y="162"/>
                </a:lnTo>
                <a:lnTo>
                  <a:pt x="119" y="165"/>
                </a:lnTo>
                <a:lnTo>
                  <a:pt x="119" y="171"/>
                </a:lnTo>
                <a:lnTo>
                  <a:pt x="121" y="175"/>
                </a:lnTo>
                <a:lnTo>
                  <a:pt x="123" y="176"/>
                </a:lnTo>
                <a:lnTo>
                  <a:pt x="121" y="182"/>
                </a:lnTo>
                <a:lnTo>
                  <a:pt x="119" y="186"/>
                </a:lnTo>
                <a:lnTo>
                  <a:pt x="125" y="191"/>
                </a:lnTo>
                <a:lnTo>
                  <a:pt x="136" y="197"/>
                </a:lnTo>
                <a:lnTo>
                  <a:pt x="139" y="200"/>
                </a:lnTo>
                <a:lnTo>
                  <a:pt x="143" y="208"/>
                </a:lnTo>
                <a:lnTo>
                  <a:pt x="145" y="213"/>
                </a:lnTo>
                <a:lnTo>
                  <a:pt x="150" y="215"/>
                </a:lnTo>
                <a:lnTo>
                  <a:pt x="154" y="219"/>
                </a:lnTo>
                <a:lnTo>
                  <a:pt x="158" y="221"/>
                </a:lnTo>
                <a:lnTo>
                  <a:pt x="167" y="221"/>
                </a:lnTo>
                <a:lnTo>
                  <a:pt x="174" y="224"/>
                </a:lnTo>
                <a:lnTo>
                  <a:pt x="180" y="224"/>
                </a:lnTo>
                <a:lnTo>
                  <a:pt x="183" y="222"/>
                </a:lnTo>
                <a:lnTo>
                  <a:pt x="183" y="228"/>
                </a:lnTo>
                <a:lnTo>
                  <a:pt x="187" y="228"/>
                </a:lnTo>
                <a:lnTo>
                  <a:pt x="196" y="235"/>
                </a:lnTo>
                <a:lnTo>
                  <a:pt x="209" y="239"/>
                </a:lnTo>
                <a:lnTo>
                  <a:pt x="220" y="245"/>
                </a:lnTo>
                <a:lnTo>
                  <a:pt x="222" y="241"/>
                </a:lnTo>
                <a:lnTo>
                  <a:pt x="222" y="235"/>
                </a:lnTo>
                <a:lnTo>
                  <a:pt x="220" y="230"/>
                </a:lnTo>
                <a:lnTo>
                  <a:pt x="220" y="226"/>
                </a:lnTo>
                <a:lnTo>
                  <a:pt x="222" y="222"/>
                </a:lnTo>
                <a:lnTo>
                  <a:pt x="226" y="219"/>
                </a:lnTo>
                <a:lnTo>
                  <a:pt x="226" y="215"/>
                </a:lnTo>
                <a:lnTo>
                  <a:pt x="222" y="217"/>
                </a:lnTo>
                <a:lnTo>
                  <a:pt x="220" y="219"/>
                </a:lnTo>
                <a:lnTo>
                  <a:pt x="218" y="222"/>
                </a:lnTo>
                <a:lnTo>
                  <a:pt x="216" y="224"/>
                </a:lnTo>
                <a:lnTo>
                  <a:pt x="213" y="222"/>
                </a:lnTo>
                <a:lnTo>
                  <a:pt x="196" y="222"/>
                </a:lnTo>
                <a:lnTo>
                  <a:pt x="194" y="221"/>
                </a:lnTo>
                <a:lnTo>
                  <a:pt x="211" y="199"/>
                </a:lnTo>
                <a:lnTo>
                  <a:pt x="215" y="200"/>
                </a:lnTo>
                <a:lnTo>
                  <a:pt x="216" y="204"/>
                </a:lnTo>
                <a:lnTo>
                  <a:pt x="220" y="206"/>
                </a:lnTo>
                <a:lnTo>
                  <a:pt x="227" y="206"/>
                </a:lnTo>
                <a:lnTo>
                  <a:pt x="233" y="208"/>
                </a:lnTo>
                <a:lnTo>
                  <a:pt x="233" y="210"/>
                </a:lnTo>
                <a:lnTo>
                  <a:pt x="231" y="213"/>
                </a:lnTo>
                <a:lnTo>
                  <a:pt x="238" y="221"/>
                </a:lnTo>
                <a:lnTo>
                  <a:pt x="244" y="222"/>
                </a:lnTo>
                <a:lnTo>
                  <a:pt x="251" y="222"/>
                </a:lnTo>
                <a:lnTo>
                  <a:pt x="255" y="221"/>
                </a:lnTo>
                <a:lnTo>
                  <a:pt x="260" y="221"/>
                </a:lnTo>
                <a:lnTo>
                  <a:pt x="262" y="224"/>
                </a:lnTo>
                <a:lnTo>
                  <a:pt x="266" y="226"/>
                </a:lnTo>
                <a:lnTo>
                  <a:pt x="268" y="228"/>
                </a:lnTo>
                <a:lnTo>
                  <a:pt x="268" y="233"/>
                </a:lnTo>
                <a:lnTo>
                  <a:pt x="270" y="237"/>
                </a:lnTo>
                <a:lnTo>
                  <a:pt x="270" y="243"/>
                </a:lnTo>
                <a:lnTo>
                  <a:pt x="271" y="245"/>
                </a:lnTo>
                <a:lnTo>
                  <a:pt x="273" y="248"/>
                </a:lnTo>
                <a:lnTo>
                  <a:pt x="273" y="250"/>
                </a:lnTo>
                <a:lnTo>
                  <a:pt x="275" y="252"/>
                </a:lnTo>
                <a:lnTo>
                  <a:pt x="277" y="252"/>
                </a:lnTo>
                <a:lnTo>
                  <a:pt x="270" y="257"/>
                </a:lnTo>
                <a:lnTo>
                  <a:pt x="260" y="259"/>
                </a:lnTo>
                <a:lnTo>
                  <a:pt x="249" y="259"/>
                </a:lnTo>
                <a:lnTo>
                  <a:pt x="240" y="257"/>
                </a:lnTo>
                <a:lnTo>
                  <a:pt x="240" y="259"/>
                </a:lnTo>
                <a:lnTo>
                  <a:pt x="246" y="265"/>
                </a:lnTo>
                <a:lnTo>
                  <a:pt x="257" y="261"/>
                </a:lnTo>
                <a:lnTo>
                  <a:pt x="270" y="263"/>
                </a:lnTo>
                <a:lnTo>
                  <a:pt x="281" y="265"/>
                </a:lnTo>
                <a:lnTo>
                  <a:pt x="290" y="256"/>
                </a:lnTo>
                <a:lnTo>
                  <a:pt x="293" y="254"/>
                </a:lnTo>
                <a:lnTo>
                  <a:pt x="299" y="254"/>
                </a:lnTo>
                <a:lnTo>
                  <a:pt x="303" y="261"/>
                </a:lnTo>
                <a:lnTo>
                  <a:pt x="303" y="265"/>
                </a:lnTo>
                <a:lnTo>
                  <a:pt x="301" y="268"/>
                </a:lnTo>
                <a:lnTo>
                  <a:pt x="303" y="268"/>
                </a:lnTo>
                <a:lnTo>
                  <a:pt x="304" y="267"/>
                </a:lnTo>
                <a:lnTo>
                  <a:pt x="308" y="267"/>
                </a:lnTo>
                <a:lnTo>
                  <a:pt x="308" y="257"/>
                </a:lnTo>
                <a:lnTo>
                  <a:pt x="306" y="256"/>
                </a:lnTo>
                <a:lnTo>
                  <a:pt x="304" y="252"/>
                </a:lnTo>
                <a:lnTo>
                  <a:pt x="304" y="243"/>
                </a:lnTo>
                <a:lnTo>
                  <a:pt x="306" y="239"/>
                </a:lnTo>
                <a:lnTo>
                  <a:pt x="310" y="245"/>
                </a:lnTo>
                <a:lnTo>
                  <a:pt x="316" y="250"/>
                </a:lnTo>
                <a:lnTo>
                  <a:pt x="319" y="256"/>
                </a:lnTo>
                <a:lnTo>
                  <a:pt x="325" y="261"/>
                </a:lnTo>
                <a:lnTo>
                  <a:pt x="330" y="261"/>
                </a:lnTo>
                <a:lnTo>
                  <a:pt x="334" y="265"/>
                </a:lnTo>
                <a:lnTo>
                  <a:pt x="338" y="267"/>
                </a:lnTo>
                <a:lnTo>
                  <a:pt x="349" y="256"/>
                </a:lnTo>
                <a:lnTo>
                  <a:pt x="343" y="256"/>
                </a:lnTo>
                <a:lnTo>
                  <a:pt x="338" y="254"/>
                </a:lnTo>
                <a:lnTo>
                  <a:pt x="334" y="254"/>
                </a:lnTo>
                <a:lnTo>
                  <a:pt x="328" y="252"/>
                </a:lnTo>
                <a:lnTo>
                  <a:pt x="325" y="245"/>
                </a:lnTo>
                <a:lnTo>
                  <a:pt x="327" y="239"/>
                </a:lnTo>
                <a:lnTo>
                  <a:pt x="327" y="233"/>
                </a:lnTo>
                <a:lnTo>
                  <a:pt x="328" y="228"/>
                </a:lnTo>
                <a:lnTo>
                  <a:pt x="330" y="224"/>
                </a:lnTo>
                <a:lnTo>
                  <a:pt x="339" y="224"/>
                </a:lnTo>
                <a:lnTo>
                  <a:pt x="343" y="228"/>
                </a:lnTo>
                <a:lnTo>
                  <a:pt x="345" y="232"/>
                </a:lnTo>
                <a:lnTo>
                  <a:pt x="350" y="221"/>
                </a:lnTo>
                <a:lnTo>
                  <a:pt x="358" y="222"/>
                </a:lnTo>
                <a:lnTo>
                  <a:pt x="371" y="222"/>
                </a:lnTo>
                <a:lnTo>
                  <a:pt x="382" y="226"/>
                </a:lnTo>
                <a:lnTo>
                  <a:pt x="385" y="230"/>
                </a:lnTo>
                <a:lnTo>
                  <a:pt x="387" y="233"/>
                </a:lnTo>
                <a:lnTo>
                  <a:pt x="394" y="241"/>
                </a:lnTo>
                <a:lnTo>
                  <a:pt x="400" y="241"/>
                </a:lnTo>
                <a:lnTo>
                  <a:pt x="400" y="239"/>
                </a:lnTo>
                <a:lnTo>
                  <a:pt x="407" y="241"/>
                </a:lnTo>
                <a:lnTo>
                  <a:pt x="415" y="245"/>
                </a:lnTo>
                <a:lnTo>
                  <a:pt x="420" y="250"/>
                </a:lnTo>
                <a:lnTo>
                  <a:pt x="426" y="254"/>
                </a:lnTo>
                <a:lnTo>
                  <a:pt x="431" y="254"/>
                </a:lnTo>
                <a:lnTo>
                  <a:pt x="437" y="256"/>
                </a:lnTo>
                <a:lnTo>
                  <a:pt x="442" y="259"/>
                </a:lnTo>
                <a:lnTo>
                  <a:pt x="448" y="261"/>
                </a:lnTo>
                <a:lnTo>
                  <a:pt x="448" y="272"/>
                </a:lnTo>
                <a:lnTo>
                  <a:pt x="439" y="272"/>
                </a:lnTo>
                <a:lnTo>
                  <a:pt x="433" y="270"/>
                </a:lnTo>
                <a:lnTo>
                  <a:pt x="428" y="270"/>
                </a:lnTo>
                <a:lnTo>
                  <a:pt x="429" y="274"/>
                </a:lnTo>
                <a:lnTo>
                  <a:pt x="433" y="278"/>
                </a:lnTo>
                <a:lnTo>
                  <a:pt x="444" y="283"/>
                </a:lnTo>
                <a:lnTo>
                  <a:pt x="444" y="287"/>
                </a:lnTo>
                <a:lnTo>
                  <a:pt x="440" y="294"/>
                </a:lnTo>
                <a:lnTo>
                  <a:pt x="439" y="296"/>
                </a:lnTo>
                <a:lnTo>
                  <a:pt x="439" y="300"/>
                </a:lnTo>
                <a:lnTo>
                  <a:pt x="433" y="302"/>
                </a:lnTo>
                <a:lnTo>
                  <a:pt x="429" y="305"/>
                </a:lnTo>
                <a:lnTo>
                  <a:pt x="413" y="298"/>
                </a:lnTo>
                <a:lnTo>
                  <a:pt x="398" y="289"/>
                </a:lnTo>
                <a:lnTo>
                  <a:pt x="393" y="290"/>
                </a:lnTo>
                <a:lnTo>
                  <a:pt x="385" y="290"/>
                </a:lnTo>
                <a:lnTo>
                  <a:pt x="380" y="292"/>
                </a:lnTo>
                <a:lnTo>
                  <a:pt x="380" y="290"/>
                </a:lnTo>
                <a:lnTo>
                  <a:pt x="382" y="289"/>
                </a:lnTo>
                <a:lnTo>
                  <a:pt x="382" y="285"/>
                </a:lnTo>
                <a:lnTo>
                  <a:pt x="389" y="281"/>
                </a:lnTo>
                <a:lnTo>
                  <a:pt x="396" y="279"/>
                </a:lnTo>
                <a:lnTo>
                  <a:pt x="398" y="270"/>
                </a:lnTo>
                <a:lnTo>
                  <a:pt x="400" y="263"/>
                </a:lnTo>
                <a:lnTo>
                  <a:pt x="389" y="257"/>
                </a:lnTo>
                <a:lnTo>
                  <a:pt x="376" y="256"/>
                </a:lnTo>
                <a:lnTo>
                  <a:pt x="365" y="250"/>
                </a:lnTo>
                <a:lnTo>
                  <a:pt x="361" y="254"/>
                </a:lnTo>
                <a:lnTo>
                  <a:pt x="361" y="257"/>
                </a:lnTo>
                <a:lnTo>
                  <a:pt x="360" y="257"/>
                </a:lnTo>
                <a:lnTo>
                  <a:pt x="361" y="261"/>
                </a:lnTo>
                <a:lnTo>
                  <a:pt x="361" y="268"/>
                </a:lnTo>
                <a:lnTo>
                  <a:pt x="358" y="272"/>
                </a:lnTo>
                <a:lnTo>
                  <a:pt x="343" y="279"/>
                </a:lnTo>
                <a:lnTo>
                  <a:pt x="349" y="285"/>
                </a:lnTo>
                <a:lnTo>
                  <a:pt x="354" y="289"/>
                </a:lnTo>
                <a:lnTo>
                  <a:pt x="360" y="290"/>
                </a:lnTo>
                <a:lnTo>
                  <a:pt x="367" y="294"/>
                </a:lnTo>
                <a:lnTo>
                  <a:pt x="367" y="300"/>
                </a:lnTo>
                <a:lnTo>
                  <a:pt x="361" y="300"/>
                </a:lnTo>
                <a:lnTo>
                  <a:pt x="358" y="298"/>
                </a:lnTo>
                <a:lnTo>
                  <a:pt x="356" y="296"/>
                </a:lnTo>
                <a:lnTo>
                  <a:pt x="352" y="300"/>
                </a:lnTo>
                <a:lnTo>
                  <a:pt x="350" y="303"/>
                </a:lnTo>
                <a:lnTo>
                  <a:pt x="347" y="305"/>
                </a:lnTo>
                <a:lnTo>
                  <a:pt x="343" y="303"/>
                </a:lnTo>
                <a:lnTo>
                  <a:pt x="339" y="300"/>
                </a:lnTo>
                <a:lnTo>
                  <a:pt x="339" y="289"/>
                </a:lnTo>
                <a:lnTo>
                  <a:pt x="336" y="290"/>
                </a:lnTo>
                <a:lnTo>
                  <a:pt x="332" y="294"/>
                </a:lnTo>
                <a:lnTo>
                  <a:pt x="328" y="296"/>
                </a:lnTo>
                <a:lnTo>
                  <a:pt x="325" y="300"/>
                </a:lnTo>
                <a:lnTo>
                  <a:pt x="319" y="300"/>
                </a:lnTo>
                <a:lnTo>
                  <a:pt x="303" y="322"/>
                </a:lnTo>
                <a:lnTo>
                  <a:pt x="301" y="331"/>
                </a:lnTo>
                <a:lnTo>
                  <a:pt x="301" y="336"/>
                </a:lnTo>
                <a:lnTo>
                  <a:pt x="304" y="340"/>
                </a:lnTo>
                <a:lnTo>
                  <a:pt x="306" y="344"/>
                </a:lnTo>
                <a:lnTo>
                  <a:pt x="310" y="349"/>
                </a:lnTo>
                <a:lnTo>
                  <a:pt x="321" y="353"/>
                </a:lnTo>
                <a:lnTo>
                  <a:pt x="336" y="353"/>
                </a:lnTo>
                <a:lnTo>
                  <a:pt x="341" y="357"/>
                </a:lnTo>
                <a:lnTo>
                  <a:pt x="358" y="362"/>
                </a:lnTo>
                <a:lnTo>
                  <a:pt x="365" y="366"/>
                </a:lnTo>
                <a:lnTo>
                  <a:pt x="372" y="368"/>
                </a:lnTo>
                <a:lnTo>
                  <a:pt x="372" y="375"/>
                </a:lnTo>
                <a:lnTo>
                  <a:pt x="374" y="382"/>
                </a:lnTo>
                <a:lnTo>
                  <a:pt x="376" y="388"/>
                </a:lnTo>
                <a:lnTo>
                  <a:pt x="383" y="395"/>
                </a:lnTo>
                <a:lnTo>
                  <a:pt x="387" y="394"/>
                </a:lnTo>
                <a:lnTo>
                  <a:pt x="389" y="390"/>
                </a:lnTo>
                <a:lnTo>
                  <a:pt x="389" y="386"/>
                </a:lnTo>
                <a:lnTo>
                  <a:pt x="387" y="382"/>
                </a:lnTo>
                <a:lnTo>
                  <a:pt x="387" y="379"/>
                </a:lnTo>
                <a:lnTo>
                  <a:pt x="385" y="375"/>
                </a:lnTo>
                <a:lnTo>
                  <a:pt x="385" y="368"/>
                </a:lnTo>
                <a:lnTo>
                  <a:pt x="387" y="364"/>
                </a:lnTo>
                <a:lnTo>
                  <a:pt x="391" y="362"/>
                </a:lnTo>
                <a:lnTo>
                  <a:pt x="393" y="359"/>
                </a:lnTo>
                <a:lnTo>
                  <a:pt x="396" y="357"/>
                </a:lnTo>
                <a:lnTo>
                  <a:pt x="398" y="353"/>
                </a:lnTo>
                <a:lnTo>
                  <a:pt x="391" y="346"/>
                </a:lnTo>
                <a:lnTo>
                  <a:pt x="387" y="335"/>
                </a:lnTo>
                <a:lnTo>
                  <a:pt x="385" y="320"/>
                </a:lnTo>
                <a:lnTo>
                  <a:pt x="385" y="305"/>
                </a:lnTo>
                <a:lnTo>
                  <a:pt x="394" y="302"/>
                </a:lnTo>
                <a:lnTo>
                  <a:pt x="407" y="302"/>
                </a:lnTo>
                <a:lnTo>
                  <a:pt x="418" y="303"/>
                </a:lnTo>
                <a:lnTo>
                  <a:pt x="424" y="309"/>
                </a:lnTo>
                <a:lnTo>
                  <a:pt x="431" y="320"/>
                </a:lnTo>
                <a:lnTo>
                  <a:pt x="435" y="327"/>
                </a:lnTo>
                <a:lnTo>
                  <a:pt x="439" y="329"/>
                </a:lnTo>
                <a:lnTo>
                  <a:pt x="448" y="329"/>
                </a:lnTo>
                <a:lnTo>
                  <a:pt x="451" y="325"/>
                </a:lnTo>
                <a:lnTo>
                  <a:pt x="453" y="322"/>
                </a:lnTo>
                <a:lnTo>
                  <a:pt x="455" y="320"/>
                </a:lnTo>
                <a:lnTo>
                  <a:pt x="457" y="316"/>
                </a:lnTo>
                <a:lnTo>
                  <a:pt x="464" y="320"/>
                </a:lnTo>
                <a:lnTo>
                  <a:pt x="468" y="327"/>
                </a:lnTo>
                <a:lnTo>
                  <a:pt x="486" y="336"/>
                </a:lnTo>
                <a:lnTo>
                  <a:pt x="503" y="342"/>
                </a:lnTo>
                <a:lnTo>
                  <a:pt x="518" y="351"/>
                </a:lnTo>
                <a:lnTo>
                  <a:pt x="529" y="373"/>
                </a:lnTo>
                <a:lnTo>
                  <a:pt x="532" y="379"/>
                </a:lnTo>
                <a:lnTo>
                  <a:pt x="540" y="379"/>
                </a:lnTo>
                <a:lnTo>
                  <a:pt x="540" y="381"/>
                </a:lnTo>
                <a:lnTo>
                  <a:pt x="534" y="384"/>
                </a:lnTo>
                <a:lnTo>
                  <a:pt x="527" y="386"/>
                </a:lnTo>
                <a:lnTo>
                  <a:pt x="516" y="394"/>
                </a:lnTo>
                <a:lnTo>
                  <a:pt x="516" y="382"/>
                </a:lnTo>
                <a:lnTo>
                  <a:pt x="518" y="377"/>
                </a:lnTo>
                <a:lnTo>
                  <a:pt x="518" y="371"/>
                </a:lnTo>
                <a:lnTo>
                  <a:pt x="514" y="371"/>
                </a:lnTo>
                <a:lnTo>
                  <a:pt x="512" y="375"/>
                </a:lnTo>
                <a:lnTo>
                  <a:pt x="510" y="381"/>
                </a:lnTo>
                <a:lnTo>
                  <a:pt x="501" y="386"/>
                </a:lnTo>
                <a:lnTo>
                  <a:pt x="488" y="388"/>
                </a:lnTo>
                <a:lnTo>
                  <a:pt x="477" y="390"/>
                </a:lnTo>
                <a:lnTo>
                  <a:pt x="468" y="397"/>
                </a:lnTo>
                <a:lnTo>
                  <a:pt x="470" y="399"/>
                </a:lnTo>
                <a:lnTo>
                  <a:pt x="473" y="401"/>
                </a:lnTo>
                <a:lnTo>
                  <a:pt x="484" y="401"/>
                </a:lnTo>
                <a:lnTo>
                  <a:pt x="484" y="405"/>
                </a:lnTo>
                <a:lnTo>
                  <a:pt x="486" y="406"/>
                </a:lnTo>
                <a:lnTo>
                  <a:pt x="486" y="408"/>
                </a:lnTo>
                <a:lnTo>
                  <a:pt x="483" y="408"/>
                </a:lnTo>
                <a:lnTo>
                  <a:pt x="479" y="410"/>
                </a:lnTo>
                <a:lnTo>
                  <a:pt x="477" y="412"/>
                </a:lnTo>
                <a:lnTo>
                  <a:pt x="473" y="412"/>
                </a:lnTo>
                <a:lnTo>
                  <a:pt x="468" y="451"/>
                </a:lnTo>
                <a:lnTo>
                  <a:pt x="464" y="452"/>
                </a:lnTo>
                <a:lnTo>
                  <a:pt x="462" y="456"/>
                </a:lnTo>
                <a:lnTo>
                  <a:pt x="459" y="460"/>
                </a:lnTo>
                <a:lnTo>
                  <a:pt x="457" y="463"/>
                </a:lnTo>
                <a:lnTo>
                  <a:pt x="459" y="465"/>
                </a:lnTo>
                <a:lnTo>
                  <a:pt x="461" y="469"/>
                </a:lnTo>
                <a:lnTo>
                  <a:pt x="453" y="474"/>
                </a:lnTo>
                <a:lnTo>
                  <a:pt x="435" y="482"/>
                </a:lnTo>
                <a:lnTo>
                  <a:pt x="433" y="489"/>
                </a:lnTo>
                <a:lnTo>
                  <a:pt x="433" y="502"/>
                </a:lnTo>
                <a:lnTo>
                  <a:pt x="431" y="508"/>
                </a:lnTo>
                <a:lnTo>
                  <a:pt x="429" y="515"/>
                </a:lnTo>
                <a:lnTo>
                  <a:pt x="418" y="537"/>
                </a:lnTo>
                <a:lnTo>
                  <a:pt x="411" y="544"/>
                </a:lnTo>
                <a:lnTo>
                  <a:pt x="405" y="548"/>
                </a:lnTo>
                <a:lnTo>
                  <a:pt x="400" y="550"/>
                </a:lnTo>
                <a:lnTo>
                  <a:pt x="394" y="554"/>
                </a:lnTo>
                <a:lnTo>
                  <a:pt x="391" y="557"/>
                </a:lnTo>
                <a:lnTo>
                  <a:pt x="387" y="563"/>
                </a:lnTo>
                <a:lnTo>
                  <a:pt x="387" y="568"/>
                </a:lnTo>
                <a:lnTo>
                  <a:pt x="389" y="572"/>
                </a:lnTo>
                <a:lnTo>
                  <a:pt x="389" y="576"/>
                </a:lnTo>
                <a:lnTo>
                  <a:pt x="396" y="587"/>
                </a:lnTo>
                <a:lnTo>
                  <a:pt x="396" y="598"/>
                </a:lnTo>
                <a:lnTo>
                  <a:pt x="394" y="601"/>
                </a:lnTo>
                <a:lnTo>
                  <a:pt x="393" y="607"/>
                </a:lnTo>
                <a:lnTo>
                  <a:pt x="391" y="607"/>
                </a:lnTo>
                <a:lnTo>
                  <a:pt x="385" y="612"/>
                </a:lnTo>
                <a:lnTo>
                  <a:pt x="382" y="612"/>
                </a:lnTo>
                <a:lnTo>
                  <a:pt x="378" y="601"/>
                </a:lnTo>
                <a:lnTo>
                  <a:pt x="371" y="590"/>
                </a:lnTo>
                <a:lnTo>
                  <a:pt x="369" y="585"/>
                </a:lnTo>
                <a:lnTo>
                  <a:pt x="365" y="577"/>
                </a:lnTo>
                <a:lnTo>
                  <a:pt x="361" y="576"/>
                </a:lnTo>
                <a:lnTo>
                  <a:pt x="341" y="576"/>
                </a:lnTo>
                <a:lnTo>
                  <a:pt x="327" y="579"/>
                </a:lnTo>
                <a:lnTo>
                  <a:pt x="323" y="579"/>
                </a:lnTo>
                <a:lnTo>
                  <a:pt x="321" y="583"/>
                </a:lnTo>
                <a:lnTo>
                  <a:pt x="319" y="585"/>
                </a:lnTo>
                <a:lnTo>
                  <a:pt x="317" y="585"/>
                </a:lnTo>
                <a:lnTo>
                  <a:pt x="314" y="587"/>
                </a:lnTo>
                <a:lnTo>
                  <a:pt x="304" y="587"/>
                </a:lnTo>
                <a:lnTo>
                  <a:pt x="295" y="585"/>
                </a:lnTo>
                <a:lnTo>
                  <a:pt x="286" y="581"/>
                </a:lnTo>
                <a:lnTo>
                  <a:pt x="275" y="581"/>
                </a:lnTo>
                <a:lnTo>
                  <a:pt x="271" y="583"/>
                </a:lnTo>
                <a:lnTo>
                  <a:pt x="262" y="592"/>
                </a:lnTo>
                <a:lnTo>
                  <a:pt x="262" y="609"/>
                </a:lnTo>
                <a:lnTo>
                  <a:pt x="259" y="625"/>
                </a:lnTo>
                <a:lnTo>
                  <a:pt x="257" y="629"/>
                </a:lnTo>
                <a:lnTo>
                  <a:pt x="257" y="633"/>
                </a:lnTo>
                <a:lnTo>
                  <a:pt x="255" y="636"/>
                </a:lnTo>
                <a:lnTo>
                  <a:pt x="262" y="647"/>
                </a:lnTo>
                <a:lnTo>
                  <a:pt x="262" y="662"/>
                </a:lnTo>
                <a:lnTo>
                  <a:pt x="279" y="666"/>
                </a:lnTo>
                <a:lnTo>
                  <a:pt x="293" y="666"/>
                </a:lnTo>
                <a:lnTo>
                  <a:pt x="299" y="664"/>
                </a:lnTo>
                <a:lnTo>
                  <a:pt x="303" y="662"/>
                </a:lnTo>
                <a:lnTo>
                  <a:pt x="308" y="658"/>
                </a:lnTo>
                <a:lnTo>
                  <a:pt x="312" y="655"/>
                </a:lnTo>
                <a:lnTo>
                  <a:pt x="328" y="649"/>
                </a:lnTo>
                <a:lnTo>
                  <a:pt x="334" y="649"/>
                </a:lnTo>
                <a:lnTo>
                  <a:pt x="345" y="653"/>
                </a:lnTo>
                <a:lnTo>
                  <a:pt x="339" y="666"/>
                </a:lnTo>
                <a:lnTo>
                  <a:pt x="334" y="677"/>
                </a:lnTo>
                <a:lnTo>
                  <a:pt x="330" y="690"/>
                </a:lnTo>
                <a:lnTo>
                  <a:pt x="350" y="692"/>
                </a:lnTo>
                <a:lnTo>
                  <a:pt x="372" y="693"/>
                </a:lnTo>
                <a:lnTo>
                  <a:pt x="378" y="706"/>
                </a:lnTo>
                <a:lnTo>
                  <a:pt x="378" y="721"/>
                </a:lnTo>
                <a:lnTo>
                  <a:pt x="376" y="734"/>
                </a:lnTo>
                <a:lnTo>
                  <a:pt x="387" y="738"/>
                </a:lnTo>
                <a:lnTo>
                  <a:pt x="391" y="739"/>
                </a:lnTo>
                <a:lnTo>
                  <a:pt x="396" y="741"/>
                </a:lnTo>
                <a:lnTo>
                  <a:pt x="404" y="741"/>
                </a:lnTo>
                <a:lnTo>
                  <a:pt x="411" y="738"/>
                </a:lnTo>
                <a:lnTo>
                  <a:pt x="417" y="738"/>
                </a:lnTo>
                <a:lnTo>
                  <a:pt x="422" y="739"/>
                </a:lnTo>
                <a:lnTo>
                  <a:pt x="433" y="739"/>
                </a:lnTo>
                <a:lnTo>
                  <a:pt x="444" y="726"/>
                </a:lnTo>
                <a:lnTo>
                  <a:pt x="477" y="708"/>
                </a:lnTo>
                <a:lnTo>
                  <a:pt x="477" y="717"/>
                </a:lnTo>
                <a:lnTo>
                  <a:pt x="492" y="712"/>
                </a:lnTo>
                <a:lnTo>
                  <a:pt x="538" y="712"/>
                </a:lnTo>
                <a:lnTo>
                  <a:pt x="543" y="710"/>
                </a:lnTo>
                <a:lnTo>
                  <a:pt x="547" y="708"/>
                </a:lnTo>
                <a:lnTo>
                  <a:pt x="565" y="714"/>
                </a:lnTo>
                <a:lnTo>
                  <a:pt x="580" y="723"/>
                </a:lnTo>
                <a:lnTo>
                  <a:pt x="589" y="723"/>
                </a:lnTo>
                <a:lnTo>
                  <a:pt x="591" y="725"/>
                </a:lnTo>
                <a:lnTo>
                  <a:pt x="591" y="730"/>
                </a:lnTo>
                <a:lnTo>
                  <a:pt x="596" y="730"/>
                </a:lnTo>
                <a:lnTo>
                  <a:pt x="602" y="728"/>
                </a:lnTo>
                <a:lnTo>
                  <a:pt x="607" y="725"/>
                </a:lnTo>
                <a:lnTo>
                  <a:pt x="613" y="723"/>
                </a:lnTo>
                <a:lnTo>
                  <a:pt x="619" y="723"/>
                </a:lnTo>
                <a:lnTo>
                  <a:pt x="628" y="725"/>
                </a:lnTo>
                <a:lnTo>
                  <a:pt x="635" y="732"/>
                </a:lnTo>
                <a:lnTo>
                  <a:pt x="639" y="741"/>
                </a:lnTo>
                <a:lnTo>
                  <a:pt x="639" y="752"/>
                </a:lnTo>
                <a:lnTo>
                  <a:pt x="655" y="749"/>
                </a:lnTo>
                <a:lnTo>
                  <a:pt x="674" y="747"/>
                </a:lnTo>
                <a:lnTo>
                  <a:pt x="677" y="747"/>
                </a:lnTo>
                <a:lnTo>
                  <a:pt x="677" y="749"/>
                </a:lnTo>
                <a:lnTo>
                  <a:pt x="679" y="749"/>
                </a:lnTo>
                <a:lnTo>
                  <a:pt x="683" y="747"/>
                </a:lnTo>
                <a:lnTo>
                  <a:pt x="694" y="739"/>
                </a:lnTo>
                <a:lnTo>
                  <a:pt x="699" y="738"/>
                </a:lnTo>
                <a:lnTo>
                  <a:pt x="707" y="738"/>
                </a:lnTo>
                <a:lnTo>
                  <a:pt x="712" y="739"/>
                </a:lnTo>
                <a:lnTo>
                  <a:pt x="718" y="739"/>
                </a:lnTo>
                <a:lnTo>
                  <a:pt x="721" y="741"/>
                </a:lnTo>
                <a:lnTo>
                  <a:pt x="727" y="741"/>
                </a:lnTo>
                <a:lnTo>
                  <a:pt x="727" y="745"/>
                </a:lnTo>
                <a:lnTo>
                  <a:pt x="729" y="745"/>
                </a:lnTo>
                <a:lnTo>
                  <a:pt x="721" y="761"/>
                </a:lnTo>
                <a:lnTo>
                  <a:pt x="699" y="787"/>
                </a:lnTo>
                <a:lnTo>
                  <a:pt x="690" y="802"/>
                </a:lnTo>
                <a:lnTo>
                  <a:pt x="679" y="831"/>
                </a:lnTo>
                <a:lnTo>
                  <a:pt x="661" y="853"/>
                </a:lnTo>
                <a:lnTo>
                  <a:pt x="613" y="890"/>
                </a:lnTo>
                <a:lnTo>
                  <a:pt x="609" y="894"/>
                </a:lnTo>
                <a:lnTo>
                  <a:pt x="606" y="896"/>
                </a:lnTo>
                <a:lnTo>
                  <a:pt x="602" y="901"/>
                </a:lnTo>
                <a:lnTo>
                  <a:pt x="600" y="907"/>
                </a:lnTo>
                <a:lnTo>
                  <a:pt x="587" y="920"/>
                </a:lnTo>
                <a:lnTo>
                  <a:pt x="569" y="931"/>
                </a:lnTo>
                <a:lnTo>
                  <a:pt x="552" y="942"/>
                </a:lnTo>
                <a:lnTo>
                  <a:pt x="545" y="945"/>
                </a:lnTo>
                <a:lnTo>
                  <a:pt x="538" y="947"/>
                </a:lnTo>
                <a:lnTo>
                  <a:pt x="527" y="958"/>
                </a:lnTo>
                <a:lnTo>
                  <a:pt x="519" y="962"/>
                </a:lnTo>
                <a:lnTo>
                  <a:pt x="510" y="966"/>
                </a:lnTo>
                <a:lnTo>
                  <a:pt x="503" y="967"/>
                </a:lnTo>
                <a:lnTo>
                  <a:pt x="494" y="969"/>
                </a:lnTo>
                <a:lnTo>
                  <a:pt x="461" y="986"/>
                </a:lnTo>
                <a:lnTo>
                  <a:pt x="424" y="999"/>
                </a:lnTo>
                <a:lnTo>
                  <a:pt x="424" y="1001"/>
                </a:lnTo>
                <a:lnTo>
                  <a:pt x="418" y="1001"/>
                </a:lnTo>
                <a:lnTo>
                  <a:pt x="407" y="1004"/>
                </a:lnTo>
                <a:lnTo>
                  <a:pt x="402" y="1004"/>
                </a:lnTo>
                <a:lnTo>
                  <a:pt x="396" y="1002"/>
                </a:lnTo>
                <a:lnTo>
                  <a:pt x="400" y="999"/>
                </a:lnTo>
                <a:lnTo>
                  <a:pt x="407" y="995"/>
                </a:lnTo>
                <a:lnTo>
                  <a:pt x="413" y="995"/>
                </a:lnTo>
                <a:lnTo>
                  <a:pt x="420" y="991"/>
                </a:lnTo>
                <a:lnTo>
                  <a:pt x="417" y="991"/>
                </a:lnTo>
                <a:lnTo>
                  <a:pt x="418" y="986"/>
                </a:lnTo>
                <a:lnTo>
                  <a:pt x="422" y="978"/>
                </a:lnTo>
                <a:lnTo>
                  <a:pt x="435" y="973"/>
                </a:lnTo>
                <a:lnTo>
                  <a:pt x="444" y="962"/>
                </a:lnTo>
                <a:lnTo>
                  <a:pt x="451" y="951"/>
                </a:lnTo>
                <a:lnTo>
                  <a:pt x="457" y="938"/>
                </a:lnTo>
                <a:lnTo>
                  <a:pt x="466" y="927"/>
                </a:lnTo>
                <a:lnTo>
                  <a:pt x="466" y="921"/>
                </a:lnTo>
                <a:lnTo>
                  <a:pt x="468" y="918"/>
                </a:lnTo>
                <a:lnTo>
                  <a:pt x="472" y="912"/>
                </a:lnTo>
                <a:lnTo>
                  <a:pt x="473" y="909"/>
                </a:lnTo>
                <a:lnTo>
                  <a:pt x="472" y="907"/>
                </a:lnTo>
                <a:lnTo>
                  <a:pt x="472" y="903"/>
                </a:lnTo>
                <a:lnTo>
                  <a:pt x="461" y="899"/>
                </a:lnTo>
                <a:lnTo>
                  <a:pt x="448" y="899"/>
                </a:lnTo>
                <a:lnTo>
                  <a:pt x="435" y="898"/>
                </a:lnTo>
                <a:lnTo>
                  <a:pt x="431" y="887"/>
                </a:lnTo>
                <a:lnTo>
                  <a:pt x="424" y="879"/>
                </a:lnTo>
                <a:lnTo>
                  <a:pt x="417" y="870"/>
                </a:lnTo>
                <a:lnTo>
                  <a:pt x="413" y="859"/>
                </a:lnTo>
                <a:lnTo>
                  <a:pt x="407" y="855"/>
                </a:lnTo>
                <a:lnTo>
                  <a:pt x="404" y="853"/>
                </a:lnTo>
                <a:lnTo>
                  <a:pt x="398" y="852"/>
                </a:lnTo>
                <a:lnTo>
                  <a:pt x="394" y="844"/>
                </a:lnTo>
                <a:lnTo>
                  <a:pt x="394" y="841"/>
                </a:lnTo>
                <a:lnTo>
                  <a:pt x="393" y="837"/>
                </a:lnTo>
                <a:lnTo>
                  <a:pt x="396" y="829"/>
                </a:lnTo>
                <a:lnTo>
                  <a:pt x="400" y="828"/>
                </a:lnTo>
                <a:lnTo>
                  <a:pt x="398" y="824"/>
                </a:lnTo>
                <a:lnTo>
                  <a:pt x="398" y="813"/>
                </a:lnTo>
                <a:lnTo>
                  <a:pt x="400" y="806"/>
                </a:lnTo>
                <a:lnTo>
                  <a:pt x="413" y="793"/>
                </a:lnTo>
                <a:lnTo>
                  <a:pt x="415" y="789"/>
                </a:lnTo>
                <a:lnTo>
                  <a:pt x="417" y="783"/>
                </a:lnTo>
                <a:lnTo>
                  <a:pt x="420" y="780"/>
                </a:lnTo>
                <a:lnTo>
                  <a:pt x="426" y="769"/>
                </a:lnTo>
                <a:lnTo>
                  <a:pt x="426" y="765"/>
                </a:lnTo>
                <a:lnTo>
                  <a:pt x="424" y="760"/>
                </a:lnTo>
                <a:lnTo>
                  <a:pt x="420" y="756"/>
                </a:lnTo>
                <a:lnTo>
                  <a:pt x="413" y="752"/>
                </a:lnTo>
                <a:lnTo>
                  <a:pt x="411" y="750"/>
                </a:lnTo>
                <a:lnTo>
                  <a:pt x="398" y="754"/>
                </a:lnTo>
                <a:lnTo>
                  <a:pt x="385" y="754"/>
                </a:lnTo>
                <a:lnTo>
                  <a:pt x="372" y="750"/>
                </a:lnTo>
                <a:lnTo>
                  <a:pt x="365" y="743"/>
                </a:lnTo>
                <a:lnTo>
                  <a:pt x="360" y="739"/>
                </a:lnTo>
                <a:lnTo>
                  <a:pt x="354" y="738"/>
                </a:lnTo>
                <a:lnTo>
                  <a:pt x="354" y="736"/>
                </a:lnTo>
                <a:lnTo>
                  <a:pt x="356" y="734"/>
                </a:lnTo>
                <a:lnTo>
                  <a:pt x="356" y="730"/>
                </a:lnTo>
                <a:lnTo>
                  <a:pt x="354" y="730"/>
                </a:lnTo>
                <a:lnTo>
                  <a:pt x="350" y="728"/>
                </a:lnTo>
                <a:lnTo>
                  <a:pt x="343" y="719"/>
                </a:lnTo>
                <a:lnTo>
                  <a:pt x="332" y="714"/>
                </a:lnTo>
                <a:lnTo>
                  <a:pt x="319" y="710"/>
                </a:lnTo>
                <a:lnTo>
                  <a:pt x="304" y="706"/>
                </a:lnTo>
                <a:lnTo>
                  <a:pt x="292" y="701"/>
                </a:lnTo>
                <a:lnTo>
                  <a:pt x="284" y="695"/>
                </a:lnTo>
                <a:lnTo>
                  <a:pt x="275" y="692"/>
                </a:lnTo>
                <a:lnTo>
                  <a:pt x="266" y="690"/>
                </a:lnTo>
                <a:lnTo>
                  <a:pt x="257" y="692"/>
                </a:lnTo>
                <a:lnTo>
                  <a:pt x="229" y="677"/>
                </a:lnTo>
                <a:lnTo>
                  <a:pt x="200" y="664"/>
                </a:lnTo>
                <a:lnTo>
                  <a:pt x="198" y="658"/>
                </a:lnTo>
                <a:lnTo>
                  <a:pt x="192" y="655"/>
                </a:lnTo>
                <a:lnTo>
                  <a:pt x="189" y="649"/>
                </a:lnTo>
                <a:lnTo>
                  <a:pt x="183" y="633"/>
                </a:lnTo>
                <a:lnTo>
                  <a:pt x="183" y="625"/>
                </a:lnTo>
                <a:lnTo>
                  <a:pt x="181" y="620"/>
                </a:lnTo>
                <a:lnTo>
                  <a:pt x="165" y="598"/>
                </a:lnTo>
                <a:lnTo>
                  <a:pt x="154" y="587"/>
                </a:lnTo>
                <a:lnTo>
                  <a:pt x="145" y="583"/>
                </a:lnTo>
                <a:lnTo>
                  <a:pt x="141" y="568"/>
                </a:lnTo>
                <a:lnTo>
                  <a:pt x="137" y="552"/>
                </a:lnTo>
                <a:lnTo>
                  <a:pt x="136" y="550"/>
                </a:lnTo>
                <a:lnTo>
                  <a:pt x="136" y="548"/>
                </a:lnTo>
                <a:lnTo>
                  <a:pt x="134" y="544"/>
                </a:lnTo>
                <a:lnTo>
                  <a:pt x="132" y="544"/>
                </a:lnTo>
                <a:lnTo>
                  <a:pt x="134" y="550"/>
                </a:lnTo>
                <a:lnTo>
                  <a:pt x="132" y="554"/>
                </a:lnTo>
                <a:lnTo>
                  <a:pt x="130" y="559"/>
                </a:lnTo>
                <a:lnTo>
                  <a:pt x="130" y="568"/>
                </a:lnTo>
                <a:lnTo>
                  <a:pt x="132" y="572"/>
                </a:lnTo>
                <a:lnTo>
                  <a:pt x="136" y="577"/>
                </a:lnTo>
                <a:lnTo>
                  <a:pt x="139" y="581"/>
                </a:lnTo>
                <a:lnTo>
                  <a:pt x="150" y="598"/>
                </a:lnTo>
                <a:lnTo>
                  <a:pt x="156" y="601"/>
                </a:lnTo>
                <a:lnTo>
                  <a:pt x="158" y="603"/>
                </a:lnTo>
                <a:lnTo>
                  <a:pt x="158" y="618"/>
                </a:lnTo>
                <a:lnTo>
                  <a:pt x="152" y="616"/>
                </a:lnTo>
                <a:lnTo>
                  <a:pt x="148" y="614"/>
                </a:lnTo>
                <a:lnTo>
                  <a:pt x="145" y="611"/>
                </a:lnTo>
                <a:lnTo>
                  <a:pt x="137" y="600"/>
                </a:lnTo>
                <a:lnTo>
                  <a:pt x="136" y="592"/>
                </a:lnTo>
                <a:lnTo>
                  <a:pt x="132" y="585"/>
                </a:lnTo>
                <a:lnTo>
                  <a:pt x="128" y="583"/>
                </a:lnTo>
                <a:lnTo>
                  <a:pt x="125" y="579"/>
                </a:lnTo>
                <a:lnTo>
                  <a:pt x="121" y="568"/>
                </a:lnTo>
                <a:lnTo>
                  <a:pt x="117" y="565"/>
                </a:lnTo>
                <a:lnTo>
                  <a:pt x="117" y="559"/>
                </a:lnTo>
                <a:lnTo>
                  <a:pt x="119" y="555"/>
                </a:lnTo>
                <a:lnTo>
                  <a:pt x="117" y="554"/>
                </a:lnTo>
                <a:lnTo>
                  <a:pt x="115" y="550"/>
                </a:lnTo>
                <a:lnTo>
                  <a:pt x="114" y="548"/>
                </a:lnTo>
                <a:lnTo>
                  <a:pt x="114" y="531"/>
                </a:lnTo>
                <a:lnTo>
                  <a:pt x="110" y="524"/>
                </a:lnTo>
                <a:lnTo>
                  <a:pt x="106" y="522"/>
                </a:lnTo>
                <a:lnTo>
                  <a:pt x="104" y="519"/>
                </a:lnTo>
                <a:lnTo>
                  <a:pt x="102" y="517"/>
                </a:lnTo>
                <a:lnTo>
                  <a:pt x="99" y="511"/>
                </a:lnTo>
                <a:lnTo>
                  <a:pt x="97" y="508"/>
                </a:lnTo>
                <a:lnTo>
                  <a:pt x="93" y="504"/>
                </a:lnTo>
                <a:lnTo>
                  <a:pt x="90" y="502"/>
                </a:lnTo>
                <a:lnTo>
                  <a:pt x="88" y="498"/>
                </a:lnTo>
                <a:lnTo>
                  <a:pt x="88" y="484"/>
                </a:lnTo>
                <a:lnTo>
                  <a:pt x="86" y="463"/>
                </a:lnTo>
                <a:lnTo>
                  <a:pt x="86" y="428"/>
                </a:lnTo>
                <a:lnTo>
                  <a:pt x="90" y="419"/>
                </a:lnTo>
                <a:lnTo>
                  <a:pt x="95" y="412"/>
                </a:lnTo>
                <a:lnTo>
                  <a:pt x="99" y="401"/>
                </a:lnTo>
                <a:lnTo>
                  <a:pt x="102" y="388"/>
                </a:lnTo>
                <a:lnTo>
                  <a:pt x="102" y="373"/>
                </a:lnTo>
                <a:lnTo>
                  <a:pt x="101" y="370"/>
                </a:lnTo>
                <a:lnTo>
                  <a:pt x="99" y="368"/>
                </a:lnTo>
                <a:lnTo>
                  <a:pt x="97" y="364"/>
                </a:lnTo>
                <a:lnTo>
                  <a:pt x="97" y="357"/>
                </a:lnTo>
                <a:lnTo>
                  <a:pt x="101" y="353"/>
                </a:lnTo>
                <a:lnTo>
                  <a:pt x="99" y="338"/>
                </a:lnTo>
                <a:lnTo>
                  <a:pt x="101" y="324"/>
                </a:lnTo>
                <a:lnTo>
                  <a:pt x="101" y="309"/>
                </a:lnTo>
                <a:lnTo>
                  <a:pt x="97" y="294"/>
                </a:lnTo>
                <a:lnTo>
                  <a:pt x="91" y="294"/>
                </a:lnTo>
                <a:lnTo>
                  <a:pt x="90" y="279"/>
                </a:lnTo>
                <a:lnTo>
                  <a:pt x="84" y="270"/>
                </a:lnTo>
                <a:lnTo>
                  <a:pt x="77" y="263"/>
                </a:lnTo>
                <a:lnTo>
                  <a:pt x="71" y="254"/>
                </a:lnTo>
                <a:lnTo>
                  <a:pt x="69" y="254"/>
                </a:lnTo>
                <a:lnTo>
                  <a:pt x="69" y="252"/>
                </a:lnTo>
                <a:lnTo>
                  <a:pt x="66" y="252"/>
                </a:lnTo>
                <a:lnTo>
                  <a:pt x="68" y="248"/>
                </a:lnTo>
                <a:lnTo>
                  <a:pt x="68" y="246"/>
                </a:lnTo>
                <a:lnTo>
                  <a:pt x="64" y="248"/>
                </a:lnTo>
                <a:lnTo>
                  <a:pt x="53" y="248"/>
                </a:lnTo>
                <a:lnTo>
                  <a:pt x="53" y="246"/>
                </a:lnTo>
                <a:lnTo>
                  <a:pt x="55" y="243"/>
                </a:lnTo>
                <a:lnTo>
                  <a:pt x="57" y="241"/>
                </a:lnTo>
                <a:lnTo>
                  <a:pt x="57" y="237"/>
                </a:lnTo>
                <a:lnTo>
                  <a:pt x="53" y="237"/>
                </a:lnTo>
                <a:lnTo>
                  <a:pt x="46" y="245"/>
                </a:lnTo>
                <a:lnTo>
                  <a:pt x="42" y="246"/>
                </a:lnTo>
                <a:lnTo>
                  <a:pt x="42" y="250"/>
                </a:lnTo>
                <a:lnTo>
                  <a:pt x="40" y="254"/>
                </a:lnTo>
                <a:lnTo>
                  <a:pt x="36" y="256"/>
                </a:lnTo>
                <a:lnTo>
                  <a:pt x="38" y="254"/>
                </a:lnTo>
                <a:lnTo>
                  <a:pt x="36" y="252"/>
                </a:lnTo>
                <a:lnTo>
                  <a:pt x="36" y="248"/>
                </a:lnTo>
                <a:lnTo>
                  <a:pt x="35" y="246"/>
                </a:lnTo>
                <a:lnTo>
                  <a:pt x="36" y="245"/>
                </a:lnTo>
                <a:lnTo>
                  <a:pt x="31" y="243"/>
                </a:lnTo>
                <a:lnTo>
                  <a:pt x="25" y="243"/>
                </a:lnTo>
                <a:lnTo>
                  <a:pt x="22" y="245"/>
                </a:lnTo>
                <a:lnTo>
                  <a:pt x="16" y="246"/>
                </a:lnTo>
                <a:lnTo>
                  <a:pt x="13" y="245"/>
                </a:lnTo>
                <a:lnTo>
                  <a:pt x="9" y="241"/>
                </a:lnTo>
                <a:lnTo>
                  <a:pt x="5" y="233"/>
                </a:lnTo>
                <a:lnTo>
                  <a:pt x="11" y="235"/>
                </a:lnTo>
                <a:lnTo>
                  <a:pt x="22" y="235"/>
                </a:lnTo>
                <a:lnTo>
                  <a:pt x="27" y="233"/>
                </a:lnTo>
                <a:lnTo>
                  <a:pt x="31" y="232"/>
                </a:lnTo>
                <a:lnTo>
                  <a:pt x="29" y="230"/>
                </a:lnTo>
                <a:lnTo>
                  <a:pt x="25" y="230"/>
                </a:lnTo>
                <a:lnTo>
                  <a:pt x="27" y="222"/>
                </a:lnTo>
                <a:lnTo>
                  <a:pt x="35" y="204"/>
                </a:lnTo>
                <a:lnTo>
                  <a:pt x="38" y="199"/>
                </a:lnTo>
                <a:lnTo>
                  <a:pt x="40" y="195"/>
                </a:lnTo>
                <a:lnTo>
                  <a:pt x="47" y="191"/>
                </a:lnTo>
                <a:lnTo>
                  <a:pt x="53" y="189"/>
                </a:lnTo>
                <a:lnTo>
                  <a:pt x="55" y="189"/>
                </a:lnTo>
                <a:lnTo>
                  <a:pt x="58" y="191"/>
                </a:lnTo>
                <a:lnTo>
                  <a:pt x="60" y="191"/>
                </a:lnTo>
                <a:lnTo>
                  <a:pt x="64" y="187"/>
                </a:lnTo>
                <a:lnTo>
                  <a:pt x="66" y="187"/>
                </a:lnTo>
                <a:lnTo>
                  <a:pt x="60" y="182"/>
                </a:lnTo>
                <a:lnTo>
                  <a:pt x="60" y="178"/>
                </a:lnTo>
                <a:lnTo>
                  <a:pt x="62" y="175"/>
                </a:lnTo>
                <a:lnTo>
                  <a:pt x="62" y="173"/>
                </a:lnTo>
                <a:lnTo>
                  <a:pt x="69" y="175"/>
                </a:lnTo>
                <a:lnTo>
                  <a:pt x="80" y="171"/>
                </a:lnTo>
                <a:lnTo>
                  <a:pt x="84" y="167"/>
                </a:lnTo>
                <a:lnTo>
                  <a:pt x="88" y="162"/>
                </a:lnTo>
                <a:close/>
                <a:moveTo>
                  <a:pt x="383" y="160"/>
                </a:moveTo>
                <a:lnTo>
                  <a:pt x="382" y="165"/>
                </a:lnTo>
                <a:lnTo>
                  <a:pt x="382" y="173"/>
                </a:lnTo>
                <a:lnTo>
                  <a:pt x="378" y="184"/>
                </a:lnTo>
                <a:lnTo>
                  <a:pt x="376" y="187"/>
                </a:lnTo>
                <a:lnTo>
                  <a:pt x="371" y="187"/>
                </a:lnTo>
                <a:lnTo>
                  <a:pt x="367" y="189"/>
                </a:lnTo>
                <a:lnTo>
                  <a:pt x="365" y="193"/>
                </a:lnTo>
                <a:lnTo>
                  <a:pt x="363" y="195"/>
                </a:lnTo>
                <a:lnTo>
                  <a:pt x="363" y="204"/>
                </a:lnTo>
                <a:lnTo>
                  <a:pt x="360" y="208"/>
                </a:lnTo>
                <a:lnTo>
                  <a:pt x="349" y="208"/>
                </a:lnTo>
                <a:lnTo>
                  <a:pt x="354" y="213"/>
                </a:lnTo>
                <a:lnTo>
                  <a:pt x="358" y="213"/>
                </a:lnTo>
                <a:lnTo>
                  <a:pt x="360" y="217"/>
                </a:lnTo>
                <a:lnTo>
                  <a:pt x="360" y="221"/>
                </a:lnTo>
                <a:lnTo>
                  <a:pt x="356" y="219"/>
                </a:lnTo>
                <a:lnTo>
                  <a:pt x="350" y="221"/>
                </a:lnTo>
                <a:lnTo>
                  <a:pt x="347" y="221"/>
                </a:lnTo>
                <a:lnTo>
                  <a:pt x="343" y="222"/>
                </a:lnTo>
                <a:lnTo>
                  <a:pt x="332" y="222"/>
                </a:lnTo>
                <a:lnTo>
                  <a:pt x="330" y="221"/>
                </a:lnTo>
                <a:lnTo>
                  <a:pt x="327" y="221"/>
                </a:lnTo>
                <a:lnTo>
                  <a:pt x="325" y="219"/>
                </a:lnTo>
                <a:lnTo>
                  <a:pt x="321" y="219"/>
                </a:lnTo>
                <a:lnTo>
                  <a:pt x="317" y="221"/>
                </a:lnTo>
                <a:lnTo>
                  <a:pt x="314" y="210"/>
                </a:lnTo>
                <a:lnTo>
                  <a:pt x="310" y="206"/>
                </a:lnTo>
                <a:lnTo>
                  <a:pt x="304" y="206"/>
                </a:lnTo>
                <a:lnTo>
                  <a:pt x="306" y="202"/>
                </a:lnTo>
                <a:lnTo>
                  <a:pt x="317" y="202"/>
                </a:lnTo>
                <a:lnTo>
                  <a:pt x="332" y="210"/>
                </a:lnTo>
                <a:lnTo>
                  <a:pt x="334" y="210"/>
                </a:lnTo>
                <a:lnTo>
                  <a:pt x="336" y="208"/>
                </a:lnTo>
                <a:lnTo>
                  <a:pt x="339" y="208"/>
                </a:lnTo>
                <a:lnTo>
                  <a:pt x="334" y="206"/>
                </a:lnTo>
                <a:lnTo>
                  <a:pt x="330" y="204"/>
                </a:lnTo>
                <a:lnTo>
                  <a:pt x="332" y="202"/>
                </a:lnTo>
                <a:lnTo>
                  <a:pt x="332" y="199"/>
                </a:lnTo>
                <a:lnTo>
                  <a:pt x="336" y="195"/>
                </a:lnTo>
                <a:lnTo>
                  <a:pt x="338" y="195"/>
                </a:lnTo>
                <a:lnTo>
                  <a:pt x="338" y="191"/>
                </a:lnTo>
                <a:lnTo>
                  <a:pt x="339" y="186"/>
                </a:lnTo>
                <a:lnTo>
                  <a:pt x="343" y="182"/>
                </a:lnTo>
                <a:lnTo>
                  <a:pt x="343" y="178"/>
                </a:lnTo>
                <a:lnTo>
                  <a:pt x="339" y="182"/>
                </a:lnTo>
                <a:lnTo>
                  <a:pt x="338" y="182"/>
                </a:lnTo>
                <a:lnTo>
                  <a:pt x="336" y="184"/>
                </a:lnTo>
                <a:lnTo>
                  <a:pt x="334" y="182"/>
                </a:lnTo>
                <a:lnTo>
                  <a:pt x="334" y="184"/>
                </a:lnTo>
                <a:lnTo>
                  <a:pt x="336" y="186"/>
                </a:lnTo>
                <a:lnTo>
                  <a:pt x="336" y="187"/>
                </a:lnTo>
                <a:lnTo>
                  <a:pt x="328" y="195"/>
                </a:lnTo>
                <a:lnTo>
                  <a:pt x="325" y="193"/>
                </a:lnTo>
                <a:lnTo>
                  <a:pt x="319" y="191"/>
                </a:lnTo>
                <a:lnTo>
                  <a:pt x="316" y="189"/>
                </a:lnTo>
                <a:lnTo>
                  <a:pt x="312" y="182"/>
                </a:lnTo>
                <a:lnTo>
                  <a:pt x="327" y="171"/>
                </a:lnTo>
                <a:lnTo>
                  <a:pt x="334" y="167"/>
                </a:lnTo>
                <a:lnTo>
                  <a:pt x="347" y="167"/>
                </a:lnTo>
                <a:lnTo>
                  <a:pt x="347" y="164"/>
                </a:lnTo>
                <a:lnTo>
                  <a:pt x="367" y="164"/>
                </a:lnTo>
                <a:lnTo>
                  <a:pt x="371" y="162"/>
                </a:lnTo>
                <a:lnTo>
                  <a:pt x="380" y="162"/>
                </a:lnTo>
                <a:lnTo>
                  <a:pt x="383" y="160"/>
                </a:lnTo>
                <a:close/>
                <a:moveTo>
                  <a:pt x="106" y="118"/>
                </a:moveTo>
                <a:lnTo>
                  <a:pt x="104" y="119"/>
                </a:lnTo>
                <a:lnTo>
                  <a:pt x="104" y="121"/>
                </a:lnTo>
                <a:lnTo>
                  <a:pt x="102" y="123"/>
                </a:lnTo>
                <a:lnTo>
                  <a:pt x="101" y="123"/>
                </a:lnTo>
                <a:lnTo>
                  <a:pt x="101" y="121"/>
                </a:lnTo>
                <a:lnTo>
                  <a:pt x="99" y="121"/>
                </a:lnTo>
                <a:lnTo>
                  <a:pt x="101" y="119"/>
                </a:lnTo>
                <a:lnTo>
                  <a:pt x="102" y="119"/>
                </a:lnTo>
                <a:lnTo>
                  <a:pt x="106" y="118"/>
                </a:lnTo>
                <a:close/>
                <a:moveTo>
                  <a:pt x="473" y="116"/>
                </a:moveTo>
                <a:lnTo>
                  <a:pt x="475" y="116"/>
                </a:lnTo>
                <a:lnTo>
                  <a:pt x="477" y="118"/>
                </a:lnTo>
                <a:lnTo>
                  <a:pt x="479" y="118"/>
                </a:lnTo>
                <a:lnTo>
                  <a:pt x="483" y="125"/>
                </a:lnTo>
                <a:lnTo>
                  <a:pt x="486" y="130"/>
                </a:lnTo>
                <a:lnTo>
                  <a:pt x="492" y="138"/>
                </a:lnTo>
                <a:lnTo>
                  <a:pt x="494" y="138"/>
                </a:lnTo>
                <a:lnTo>
                  <a:pt x="494" y="136"/>
                </a:lnTo>
                <a:lnTo>
                  <a:pt x="497" y="136"/>
                </a:lnTo>
                <a:lnTo>
                  <a:pt x="505" y="143"/>
                </a:lnTo>
                <a:lnTo>
                  <a:pt x="512" y="147"/>
                </a:lnTo>
                <a:lnTo>
                  <a:pt x="521" y="156"/>
                </a:lnTo>
                <a:lnTo>
                  <a:pt x="525" y="162"/>
                </a:lnTo>
                <a:lnTo>
                  <a:pt x="534" y="171"/>
                </a:lnTo>
                <a:lnTo>
                  <a:pt x="536" y="171"/>
                </a:lnTo>
                <a:lnTo>
                  <a:pt x="540" y="173"/>
                </a:lnTo>
                <a:lnTo>
                  <a:pt x="541" y="175"/>
                </a:lnTo>
                <a:lnTo>
                  <a:pt x="545" y="182"/>
                </a:lnTo>
                <a:lnTo>
                  <a:pt x="551" y="187"/>
                </a:lnTo>
                <a:lnTo>
                  <a:pt x="552" y="193"/>
                </a:lnTo>
                <a:lnTo>
                  <a:pt x="545" y="202"/>
                </a:lnTo>
                <a:lnTo>
                  <a:pt x="541" y="211"/>
                </a:lnTo>
                <a:lnTo>
                  <a:pt x="541" y="228"/>
                </a:lnTo>
                <a:lnTo>
                  <a:pt x="540" y="230"/>
                </a:lnTo>
                <a:lnTo>
                  <a:pt x="540" y="233"/>
                </a:lnTo>
                <a:lnTo>
                  <a:pt x="534" y="239"/>
                </a:lnTo>
                <a:lnTo>
                  <a:pt x="538" y="252"/>
                </a:lnTo>
                <a:lnTo>
                  <a:pt x="549" y="270"/>
                </a:lnTo>
                <a:lnTo>
                  <a:pt x="547" y="276"/>
                </a:lnTo>
                <a:lnTo>
                  <a:pt x="543" y="279"/>
                </a:lnTo>
                <a:lnTo>
                  <a:pt x="540" y="281"/>
                </a:lnTo>
                <a:lnTo>
                  <a:pt x="534" y="285"/>
                </a:lnTo>
                <a:lnTo>
                  <a:pt x="523" y="283"/>
                </a:lnTo>
                <a:lnTo>
                  <a:pt x="514" y="276"/>
                </a:lnTo>
                <a:lnTo>
                  <a:pt x="505" y="270"/>
                </a:lnTo>
                <a:lnTo>
                  <a:pt x="492" y="263"/>
                </a:lnTo>
                <a:lnTo>
                  <a:pt x="481" y="254"/>
                </a:lnTo>
                <a:lnTo>
                  <a:pt x="475" y="241"/>
                </a:lnTo>
                <a:lnTo>
                  <a:pt x="475" y="237"/>
                </a:lnTo>
                <a:lnTo>
                  <a:pt x="477" y="235"/>
                </a:lnTo>
                <a:lnTo>
                  <a:pt x="477" y="233"/>
                </a:lnTo>
                <a:lnTo>
                  <a:pt x="473" y="232"/>
                </a:lnTo>
                <a:lnTo>
                  <a:pt x="468" y="232"/>
                </a:lnTo>
                <a:lnTo>
                  <a:pt x="464" y="230"/>
                </a:lnTo>
                <a:lnTo>
                  <a:pt x="461" y="230"/>
                </a:lnTo>
                <a:lnTo>
                  <a:pt x="461" y="226"/>
                </a:lnTo>
                <a:lnTo>
                  <a:pt x="462" y="226"/>
                </a:lnTo>
                <a:lnTo>
                  <a:pt x="464" y="224"/>
                </a:lnTo>
                <a:lnTo>
                  <a:pt x="464" y="221"/>
                </a:lnTo>
                <a:lnTo>
                  <a:pt x="462" y="219"/>
                </a:lnTo>
                <a:lnTo>
                  <a:pt x="461" y="219"/>
                </a:lnTo>
                <a:lnTo>
                  <a:pt x="459" y="221"/>
                </a:lnTo>
                <a:lnTo>
                  <a:pt x="455" y="221"/>
                </a:lnTo>
                <a:lnTo>
                  <a:pt x="448" y="215"/>
                </a:lnTo>
                <a:lnTo>
                  <a:pt x="439" y="208"/>
                </a:lnTo>
                <a:lnTo>
                  <a:pt x="429" y="202"/>
                </a:lnTo>
                <a:lnTo>
                  <a:pt x="418" y="199"/>
                </a:lnTo>
                <a:lnTo>
                  <a:pt x="417" y="199"/>
                </a:lnTo>
                <a:lnTo>
                  <a:pt x="415" y="200"/>
                </a:lnTo>
                <a:lnTo>
                  <a:pt x="415" y="202"/>
                </a:lnTo>
                <a:lnTo>
                  <a:pt x="413" y="202"/>
                </a:lnTo>
                <a:lnTo>
                  <a:pt x="393" y="200"/>
                </a:lnTo>
                <a:lnTo>
                  <a:pt x="380" y="193"/>
                </a:lnTo>
                <a:lnTo>
                  <a:pt x="380" y="187"/>
                </a:lnTo>
                <a:lnTo>
                  <a:pt x="382" y="187"/>
                </a:lnTo>
                <a:lnTo>
                  <a:pt x="383" y="186"/>
                </a:lnTo>
                <a:lnTo>
                  <a:pt x="387" y="186"/>
                </a:lnTo>
                <a:lnTo>
                  <a:pt x="391" y="178"/>
                </a:lnTo>
                <a:lnTo>
                  <a:pt x="394" y="176"/>
                </a:lnTo>
                <a:lnTo>
                  <a:pt x="396" y="173"/>
                </a:lnTo>
                <a:lnTo>
                  <a:pt x="400" y="173"/>
                </a:lnTo>
                <a:lnTo>
                  <a:pt x="402" y="171"/>
                </a:lnTo>
                <a:lnTo>
                  <a:pt x="405" y="169"/>
                </a:lnTo>
                <a:lnTo>
                  <a:pt x="405" y="167"/>
                </a:lnTo>
                <a:lnTo>
                  <a:pt x="402" y="160"/>
                </a:lnTo>
                <a:lnTo>
                  <a:pt x="404" y="158"/>
                </a:lnTo>
                <a:lnTo>
                  <a:pt x="407" y="156"/>
                </a:lnTo>
                <a:lnTo>
                  <a:pt x="411" y="156"/>
                </a:lnTo>
                <a:lnTo>
                  <a:pt x="415" y="154"/>
                </a:lnTo>
                <a:lnTo>
                  <a:pt x="417" y="153"/>
                </a:lnTo>
                <a:lnTo>
                  <a:pt x="418" y="149"/>
                </a:lnTo>
                <a:lnTo>
                  <a:pt x="420" y="149"/>
                </a:lnTo>
                <a:lnTo>
                  <a:pt x="422" y="147"/>
                </a:lnTo>
                <a:lnTo>
                  <a:pt x="422" y="141"/>
                </a:lnTo>
                <a:lnTo>
                  <a:pt x="437" y="134"/>
                </a:lnTo>
                <a:lnTo>
                  <a:pt x="442" y="130"/>
                </a:lnTo>
                <a:lnTo>
                  <a:pt x="446" y="125"/>
                </a:lnTo>
                <a:lnTo>
                  <a:pt x="451" y="125"/>
                </a:lnTo>
                <a:lnTo>
                  <a:pt x="455" y="127"/>
                </a:lnTo>
                <a:lnTo>
                  <a:pt x="461" y="127"/>
                </a:lnTo>
                <a:lnTo>
                  <a:pt x="461" y="125"/>
                </a:lnTo>
                <a:lnTo>
                  <a:pt x="462" y="123"/>
                </a:lnTo>
                <a:lnTo>
                  <a:pt x="466" y="121"/>
                </a:lnTo>
                <a:lnTo>
                  <a:pt x="468" y="119"/>
                </a:lnTo>
                <a:lnTo>
                  <a:pt x="472" y="119"/>
                </a:lnTo>
                <a:lnTo>
                  <a:pt x="473" y="118"/>
                </a:lnTo>
                <a:lnTo>
                  <a:pt x="473" y="116"/>
                </a:lnTo>
                <a:close/>
                <a:moveTo>
                  <a:pt x="77" y="68"/>
                </a:moveTo>
                <a:lnTo>
                  <a:pt x="68" y="73"/>
                </a:lnTo>
                <a:lnTo>
                  <a:pt x="73" y="70"/>
                </a:lnTo>
                <a:lnTo>
                  <a:pt x="77" y="68"/>
                </a:lnTo>
                <a:close/>
                <a:moveTo>
                  <a:pt x="80" y="66"/>
                </a:moveTo>
                <a:lnTo>
                  <a:pt x="79" y="68"/>
                </a:lnTo>
                <a:lnTo>
                  <a:pt x="77" y="68"/>
                </a:lnTo>
                <a:lnTo>
                  <a:pt x="80" y="66"/>
                </a:lnTo>
                <a:close/>
                <a:moveTo>
                  <a:pt x="88" y="62"/>
                </a:moveTo>
                <a:lnTo>
                  <a:pt x="80" y="66"/>
                </a:lnTo>
                <a:lnTo>
                  <a:pt x="88" y="62"/>
                </a:lnTo>
                <a:close/>
                <a:moveTo>
                  <a:pt x="473" y="62"/>
                </a:moveTo>
                <a:lnTo>
                  <a:pt x="481" y="66"/>
                </a:lnTo>
                <a:lnTo>
                  <a:pt x="486" y="66"/>
                </a:lnTo>
                <a:lnTo>
                  <a:pt x="486" y="72"/>
                </a:lnTo>
                <a:lnTo>
                  <a:pt x="494" y="72"/>
                </a:lnTo>
                <a:lnTo>
                  <a:pt x="499" y="73"/>
                </a:lnTo>
                <a:lnTo>
                  <a:pt x="505" y="77"/>
                </a:lnTo>
                <a:lnTo>
                  <a:pt x="508" y="81"/>
                </a:lnTo>
                <a:lnTo>
                  <a:pt x="497" y="84"/>
                </a:lnTo>
                <a:lnTo>
                  <a:pt x="486" y="83"/>
                </a:lnTo>
                <a:lnTo>
                  <a:pt x="479" y="77"/>
                </a:lnTo>
                <a:lnTo>
                  <a:pt x="484" y="72"/>
                </a:lnTo>
                <a:lnTo>
                  <a:pt x="481" y="72"/>
                </a:lnTo>
                <a:lnTo>
                  <a:pt x="477" y="70"/>
                </a:lnTo>
                <a:lnTo>
                  <a:pt x="475" y="70"/>
                </a:lnTo>
                <a:lnTo>
                  <a:pt x="475" y="68"/>
                </a:lnTo>
                <a:lnTo>
                  <a:pt x="473" y="66"/>
                </a:lnTo>
                <a:lnTo>
                  <a:pt x="473" y="62"/>
                </a:lnTo>
                <a:close/>
                <a:moveTo>
                  <a:pt x="161" y="51"/>
                </a:moveTo>
                <a:lnTo>
                  <a:pt x="163" y="51"/>
                </a:lnTo>
                <a:lnTo>
                  <a:pt x="163" y="53"/>
                </a:lnTo>
                <a:lnTo>
                  <a:pt x="161" y="53"/>
                </a:lnTo>
                <a:lnTo>
                  <a:pt x="161" y="51"/>
                </a:lnTo>
                <a:close/>
                <a:moveTo>
                  <a:pt x="183" y="37"/>
                </a:moveTo>
                <a:lnTo>
                  <a:pt x="191" y="37"/>
                </a:lnTo>
                <a:lnTo>
                  <a:pt x="187" y="40"/>
                </a:lnTo>
                <a:lnTo>
                  <a:pt x="170" y="46"/>
                </a:lnTo>
                <a:lnTo>
                  <a:pt x="174" y="42"/>
                </a:lnTo>
                <a:lnTo>
                  <a:pt x="178" y="40"/>
                </a:lnTo>
                <a:lnTo>
                  <a:pt x="183" y="37"/>
                </a:lnTo>
                <a:close/>
                <a:moveTo>
                  <a:pt x="404" y="15"/>
                </a:moveTo>
                <a:lnTo>
                  <a:pt x="405" y="15"/>
                </a:lnTo>
                <a:lnTo>
                  <a:pt x="429" y="18"/>
                </a:lnTo>
                <a:lnTo>
                  <a:pt x="453" y="24"/>
                </a:lnTo>
                <a:lnTo>
                  <a:pt x="457" y="24"/>
                </a:lnTo>
                <a:lnTo>
                  <a:pt x="461" y="26"/>
                </a:lnTo>
                <a:lnTo>
                  <a:pt x="464" y="26"/>
                </a:lnTo>
                <a:lnTo>
                  <a:pt x="468" y="27"/>
                </a:lnTo>
                <a:lnTo>
                  <a:pt x="455" y="27"/>
                </a:lnTo>
                <a:lnTo>
                  <a:pt x="429" y="20"/>
                </a:lnTo>
                <a:lnTo>
                  <a:pt x="422" y="20"/>
                </a:lnTo>
                <a:lnTo>
                  <a:pt x="415" y="18"/>
                </a:lnTo>
                <a:lnTo>
                  <a:pt x="404" y="15"/>
                </a:lnTo>
                <a:close/>
                <a:moveTo>
                  <a:pt x="304" y="13"/>
                </a:moveTo>
                <a:lnTo>
                  <a:pt x="325" y="13"/>
                </a:lnTo>
                <a:lnTo>
                  <a:pt x="323" y="15"/>
                </a:lnTo>
                <a:lnTo>
                  <a:pt x="319" y="16"/>
                </a:lnTo>
                <a:lnTo>
                  <a:pt x="308" y="16"/>
                </a:lnTo>
                <a:lnTo>
                  <a:pt x="304" y="13"/>
                </a:lnTo>
                <a:close/>
                <a:moveTo>
                  <a:pt x="290" y="13"/>
                </a:moveTo>
                <a:lnTo>
                  <a:pt x="301" y="13"/>
                </a:lnTo>
                <a:lnTo>
                  <a:pt x="301" y="15"/>
                </a:lnTo>
                <a:lnTo>
                  <a:pt x="292" y="15"/>
                </a:lnTo>
                <a:lnTo>
                  <a:pt x="290" y="13"/>
                </a:lnTo>
                <a:close/>
                <a:moveTo>
                  <a:pt x="319" y="0"/>
                </a:moveTo>
                <a:lnTo>
                  <a:pt x="376" y="2"/>
                </a:lnTo>
                <a:lnTo>
                  <a:pt x="439" y="11"/>
                </a:lnTo>
                <a:lnTo>
                  <a:pt x="497" y="29"/>
                </a:lnTo>
                <a:lnTo>
                  <a:pt x="541" y="50"/>
                </a:lnTo>
                <a:lnTo>
                  <a:pt x="547" y="51"/>
                </a:lnTo>
                <a:lnTo>
                  <a:pt x="552" y="55"/>
                </a:lnTo>
                <a:lnTo>
                  <a:pt x="560" y="57"/>
                </a:lnTo>
                <a:lnTo>
                  <a:pt x="609" y="86"/>
                </a:lnTo>
                <a:lnTo>
                  <a:pt x="657" y="123"/>
                </a:lnTo>
                <a:lnTo>
                  <a:pt x="686" y="153"/>
                </a:lnTo>
                <a:lnTo>
                  <a:pt x="721" y="191"/>
                </a:lnTo>
                <a:lnTo>
                  <a:pt x="718" y="191"/>
                </a:lnTo>
                <a:lnTo>
                  <a:pt x="718" y="193"/>
                </a:lnTo>
                <a:lnTo>
                  <a:pt x="716" y="195"/>
                </a:lnTo>
                <a:lnTo>
                  <a:pt x="714" y="195"/>
                </a:lnTo>
                <a:lnTo>
                  <a:pt x="716" y="200"/>
                </a:lnTo>
                <a:lnTo>
                  <a:pt x="720" y="204"/>
                </a:lnTo>
                <a:lnTo>
                  <a:pt x="725" y="206"/>
                </a:lnTo>
                <a:lnTo>
                  <a:pt x="725" y="204"/>
                </a:lnTo>
                <a:lnTo>
                  <a:pt x="729" y="204"/>
                </a:lnTo>
                <a:lnTo>
                  <a:pt x="729" y="202"/>
                </a:lnTo>
                <a:lnTo>
                  <a:pt x="732" y="206"/>
                </a:lnTo>
                <a:lnTo>
                  <a:pt x="734" y="210"/>
                </a:lnTo>
                <a:lnTo>
                  <a:pt x="736" y="215"/>
                </a:lnTo>
                <a:lnTo>
                  <a:pt x="736" y="219"/>
                </a:lnTo>
                <a:lnTo>
                  <a:pt x="725" y="219"/>
                </a:lnTo>
                <a:lnTo>
                  <a:pt x="729" y="224"/>
                </a:lnTo>
                <a:lnTo>
                  <a:pt x="729" y="230"/>
                </a:lnTo>
                <a:lnTo>
                  <a:pt x="731" y="235"/>
                </a:lnTo>
                <a:lnTo>
                  <a:pt x="732" y="243"/>
                </a:lnTo>
                <a:lnTo>
                  <a:pt x="740" y="254"/>
                </a:lnTo>
                <a:lnTo>
                  <a:pt x="743" y="261"/>
                </a:lnTo>
                <a:lnTo>
                  <a:pt x="747" y="267"/>
                </a:lnTo>
                <a:lnTo>
                  <a:pt x="754" y="279"/>
                </a:lnTo>
                <a:lnTo>
                  <a:pt x="758" y="290"/>
                </a:lnTo>
                <a:lnTo>
                  <a:pt x="762" y="307"/>
                </a:lnTo>
                <a:lnTo>
                  <a:pt x="762" y="318"/>
                </a:lnTo>
                <a:lnTo>
                  <a:pt x="756" y="324"/>
                </a:lnTo>
                <a:lnTo>
                  <a:pt x="754" y="327"/>
                </a:lnTo>
                <a:lnTo>
                  <a:pt x="740" y="307"/>
                </a:lnTo>
                <a:lnTo>
                  <a:pt x="727" y="289"/>
                </a:lnTo>
                <a:lnTo>
                  <a:pt x="729" y="272"/>
                </a:lnTo>
                <a:lnTo>
                  <a:pt x="727" y="257"/>
                </a:lnTo>
                <a:lnTo>
                  <a:pt x="718" y="246"/>
                </a:lnTo>
                <a:lnTo>
                  <a:pt x="705" y="241"/>
                </a:lnTo>
                <a:lnTo>
                  <a:pt x="703" y="235"/>
                </a:lnTo>
                <a:lnTo>
                  <a:pt x="703" y="232"/>
                </a:lnTo>
                <a:lnTo>
                  <a:pt x="701" y="226"/>
                </a:lnTo>
                <a:lnTo>
                  <a:pt x="701" y="222"/>
                </a:lnTo>
                <a:lnTo>
                  <a:pt x="697" y="211"/>
                </a:lnTo>
                <a:lnTo>
                  <a:pt x="688" y="200"/>
                </a:lnTo>
                <a:lnTo>
                  <a:pt x="677" y="184"/>
                </a:lnTo>
                <a:lnTo>
                  <a:pt x="675" y="178"/>
                </a:lnTo>
                <a:lnTo>
                  <a:pt x="672" y="175"/>
                </a:lnTo>
                <a:lnTo>
                  <a:pt x="672" y="169"/>
                </a:lnTo>
                <a:lnTo>
                  <a:pt x="666" y="165"/>
                </a:lnTo>
                <a:lnTo>
                  <a:pt x="659" y="162"/>
                </a:lnTo>
                <a:lnTo>
                  <a:pt x="653" y="158"/>
                </a:lnTo>
                <a:lnTo>
                  <a:pt x="648" y="153"/>
                </a:lnTo>
                <a:lnTo>
                  <a:pt x="653" y="153"/>
                </a:lnTo>
                <a:lnTo>
                  <a:pt x="659" y="154"/>
                </a:lnTo>
                <a:lnTo>
                  <a:pt x="666" y="162"/>
                </a:lnTo>
                <a:lnTo>
                  <a:pt x="659" y="143"/>
                </a:lnTo>
                <a:lnTo>
                  <a:pt x="646" y="129"/>
                </a:lnTo>
                <a:lnTo>
                  <a:pt x="630" y="116"/>
                </a:lnTo>
                <a:lnTo>
                  <a:pt x="613" y="105"/>
                </a:lnTo>
                <a:lnTo>
                  <a:pt x="611" y="105"/>
                </a:lnTo>
                <a:lnTo>
                  <a:pt x="611" y="107"/>
                </a:lnTo>
                <a:lnTo>
                  <a:pt x="600" y="101"/>
                </a:lnTo>
                <a:lnTo>
                  <a:pt x="593" y="94"/>
                </a:lnTo>
                <a:lnTo>
                  <a:pt x="582" y="88"/>
                </a:lnTo>
                <a:lnTo>
                  <a:pt x="591" y="95"/>
                </a:lnTo>
                <a:lnTo>
                  <a:pt x="600" y="105"/>
                </a:lnTo>
                <a:lnTo>
                  <a:pt x="611" y="112"/>
                </a:lnTo>
                <a:lnTo>
                  <a:pt x="624" y="118"/>
                </a:lnTo>
                <a:lnTo>
                  <a:pt x="637" y="127"/>
                </a:lnTo>
                <a:lnTo>
                  <a:pt x="648" y="136"/>
                </a:lnTo>
                <a:lnTo>
                  <a:pt x="657" y="149"/>
                </a:lnTo>
                <a:lnTo>
                  <a:pt x="652" y="149"/>
                </a:lnTo>
                <a:lnTo>
                  <a:pt x="648" y="147"/>
                </a:lnTo>
                <a:lnTo>
                  <a:pt x="642" y="147"/>
                </a:lnTo>
                <a:lnTo>
                  <a:pt x="641" y="149"/>
                </a:lnTo>
                <a:lnTo>
                  <a:pt x="641" y="156"/>
                </a:lnTo>
                <a:lnTo>
                  <a:pt x="633" y="153"/>
                </a:lnTo>
                <a:lnTo>
                  <a:pt x="628" y="151"/>
                </a:lnTo>
                <a:lnTo>
                  <a:pt x="613" y="136"/>
                </a:lnTo>
                <a:lnTo>
                  <a:pt x="611" y="130"/>
                </a:lnTo>
                <a:lnTo>
                  <a:pt x="607" y="125"/>
                </a:lnTo>
                <a:lnTo>
                  <a:pt x="606" y="121"/>
                </a:lnTo>
                <a:lnTo>
                  <a:pt x="600" y="118"/>
                </a:lnTo>
                <a:lnTo>
                  <a:pt x="593" y="116"/>
                </a:lnTo>
                <a:lnTo>
                  <a:pt x="587" y="112"/>
                </a:lnTo>
                <a:lnTo>
                  <a:pt x="582" y="107"/>
                </a:lnTo>
                <a:lnTo>
                  <a:pt x="574" y="103"/>
                </a:lnTo>
                <a:lnTo>
                  <a:pt x="571" y="99"/>
                </a:lnTo>
                <a:lnTo>
                  <a:pt x="563" y="95"/>
                </a:lnTo>
                <a:lnTo>
                  <a:pt x="562" y="92"/>
                </a:lnTo>
                <a:lnTo>
                  <a:pt x="552" y="86"/>
                </a:lnTo>
                <a:lnTo>
                  <a:pt x="541" y="77"/>
                </a:lnTo>
                <a:lnTo>
                  <a:pt x="532" y="70"/>
                </a:lnTo>
                <a:lnTo>
                  <a:pt x="534" y="66"/>
                </a:lnTo>
                <a:lnTo>
                  <a:pt x="530" y="59"/>
                </a:lnTo>
                <a:lnTo>
                  <a:pt x="525" y="53"/>
                </a:lnTo>
                <a:lnTo>
                  <a:pt x="523" y="50"/>
                </a:lnTo>
                <a:lnTo>
                  <a:pt x="534" y="51"/>
                </a:lnTo>
                <a:lnTo>
                  <a:pt x="549" y="62"/>
                </a:lnTo>
                <a:lnTo>
                  <a:pt x="558" y="64"/>
                </a:lnTo>
                <a:lnTo>
                  <a:pt x="554" y="61"/>
                </a:lnTo>
                <a:lnTo>
                  <a:pt x="540" y="53"/>
                </a:lnTo>
                <a:lnTo>
                  <a:pt x="530" y="50"/>
                </a:lnTo>
                <a:lnTo>
                  <a:pt x="523" y="46"/>
                </a:lnTo>
                <a:lnTo>
                  <a:pt x="521" y="44"/>
                </a:lnTo>
                <a:lnTo>
                  <a:pt x="512" y="44"/>
                </a:lnTo>
                <a:lnTo>
                  <a:pt x="506" y="38"/>
                </a:lnTo>
                <a:lnTo>
                  <a:pt x="501" y="37"/>
                </a:lnTo>
                <a:lnTo>
                  <a:pt x="494" y="35"/>
                </a:lnTo>
                <a:lnTo>
                  <a:pt x="488" y="31"/>
                </a:lnTo>
                <a:lnTo>
                  <a:pt x="468" y="26"/>
                </a:lnTo>
                <a:lnTo>
                  <a:pt x="448" y="18"/>
                </a:lnTo>
                <a:lnTo>
                  <a:pt x="435" y="15"/>
                </a:lnTo>
                <a:lnTo>
                  <a:pt x="420" y="11"/>
                </a:lnTo>
                <a:lnTo>
                  <a:pt x="400" y="11"/>
                </a:lnTo>
                <a:lnTo>
                  <a:pt x="400" y="7"/>
                </a:lnTo>
                <a:lnTo>
                  <a:pt x="398" y="7"/>
                </a:lnTo>
                <a:lnTo>
                  <a:pt x="365" y="5"/>
                </a:lnTo>
                <a:lnTo>
                  <a:pt x="341" y="5"/>
                </a:lnTo>
                <a:lnTo>
                  <a:pt x="321" y="7"/>
                </a:lnTo>
                <a:lnTo>
                  <a:pt x="290" y="7"/>
                </a:lnTo>
                <a:lnTo>
                  <a:pt x="284" y="9"/>
                </a:lnTo>
                <a:lnTo>
                  <a:pt x="279" y="13"/>
                </a:lnTo>
                <a:lnTo>
                  <a:pt x="255" y="13"/>
                </a:lnTo>
                <a:lnTo>
                  <a:pt x="257" y="11"/>
                </a:lnTo>
                <a:lnTo>
                  <a:pt x="259" y="11"/>
                </a:lnTo>
                <a:lnTo>
                  <a:pt x="257" y="11"/>
                </a:lnTo>
                <a:lnTo>
                  <a:pt x="215" y="22"/>
                </a:lnTo>
                <a:lnTo>
                  <a:pt x="200" y="27"/>
                </a:lnTo>
                <a:lnTo>
                  <a:pt x="185" y="31"/>
                </a:lnTo>
                <a:lnTo>
                  <a:pt x="172" y="37"/>
                </a:lnTo>
                <a:lnTo>
                  <a:pt x="161" y="44"/>
                </a:lnTo>
                <a:lnTo>
                  <a:pt x="158" y="48"/>
                </a:lnTo>
                <a:lnTo>
                  <a:pt x="150" y="51"/>
                </a:lnTo>
                <a:lnTo>
                  <a:pt x="147" y="55"/>
                </a:lnTo>
                <a:lnTo>
                  <a:pt x="139" y="59"/>
                </a:lnTo>
                <a:lnTo>
                  <a:pt x="132" y="64"/>
                </a:lnTo>
                <a:lnTo>
                  <a:pt x="125" y="68"/>
                </a:lnTo>
                <a:lnTo>
                  <a:pt x="125" y="70"/>
                </a:lnTo>
                <a:lnTo>
                  <a:pt x="123" y="72"/>
                </a:lnTo>
                <a:lnTo>
                  <a:pt x="119" y="73"/>
                </a:lnTo>
                <a:lnTo>
                  <a:pt x="117" y="73"/>
                </a:lnTo>
                <a:lnTo>
                  <a:pt x="117" y="79"/>
                </a:lnTo>
                <a:lnTo>
                  <a:pt x="106" y="86"/>
                </a:lnTo>
                <a:lnTo>
                  <a:pt x="97" y="95"/>
                </a:lnTo>
                <a:lnTo>
                  <a:pt x="88" y="103"/>
                </a:lnTo>
                <a:lnTo>
                  <a:pt x="90" y="107"/>
                </a:lnTo>
                <a:lnTo>
                  <a:pt x="90" y="116"/>
                </a:lnTo>
                <a:lnTo>
                  <a:pt x="88" y="119"/>
                </a:lnTo>
                <a:lnTo>
                  <a:pt x="84" y="123"/>
                </a:lnTo>
                <a:lnTo>
                  <a:pt x="77" y="138"/>
                </a:lnTo>
                <a:lnTo>
                  <a:pt x="62" y="160"/>
                </a:lnTo>
                <a:lnTo>
                  <a:pt x="58" y="156"/>
                </a:lnTo>
                <a:lnTo>
                  <a:pt x="57" y="153"/>
                </a:lnTo>
                <a:lnTo>
                  <a:pt x="57" y="140"/>
                </a:lnTo>
                <a:lnTo>
                  <a:pt x="40" y="145"/>
                </a:lnTo>
                <a:lnTo>
                  <a:pt x="36" y="147"/>
                </a:lnTo>
                <a:lnTo>
                  <a:pt x="36" y="145"/>
                </a:lnTo>
                <a:lnTo>
                  <a:pt x="35" y="141"/>
                </a:lnTo>
                <a:lnTo>
                  <a:pt x="35" y="140"/>
                </a:lnTo>
                <a:lnTo>
                  <a:pt x="33" y="138"/>
                </a:lnTo>
                <a:lnTo>
                  <a:pt x="33" y="125"/>
                </a:lnTo>
                <a:lnTo>
                  <a:pt x="24" y="123"/>
                </a:lnTo>
                <a:lnTo>
                  <a:pt x="16" y="125"/>
                </a:lnTo>
                <a:lnTo>
                  <a:pt x="9" y="129"/>
                </a:lnTo>
                <a:lnTo>
                  <a:pt x="0" y="129"/>
                </a:lnTo>
                <a:lnTo>
                  <a:pt x="3" y="123"/>
                </a:lnTo>
                <a:lnTo>
                  <a:pt x="20" y="112"/>
                </a:lnTo>
                <a:lnTo>
                  <a:pt x="31" y="107"/>
                </a:lnTo>
                <a:lnTo>
                  <a:pt x="36" y="107"/>
                </a:lnTo>
                <a:lnTo>
                  <a:pt x="40" y="108"/>
                </a:lnTo>
                <a:lnTo>
                  <a:pt x="40" y="110"/>
                </a:lnTo>
                <a:lnTo>
                  <a:pt x="44" y="112"/>
                </a:lnTo>
                <a:lnTo>
                  <a:pt x="46" y="112"/>
                </a:lnTo>
                <a:lnTo>
                  <a:pt x="46" y="108"/>
                </a:lnTo>
                <a:lnTo>
                  <a:pt x="49" y="101"/>
                </a:lnTo>
                <a:lnTo>
                  <a:pt x="57" y="94"/>
                </a:lnTo>
                <a:lnTo>
                  <a:pt x="53" y="94"/>
                </a:lnTo>
                <a:lnTo>
                  <a:pt x="90" y="62"/>
                </a:lnTo>
                <a:lnTo>
                  <a:pt x="88" y="62"/>
                </a:lnTo>
                <a:lnTo>
                  <a:pt x="114" y="50"/>
                </a:lnTo>
                <a:lnTo>
                  <a:pt x="165" y="27"/>
                </a:lnTo>
                <a:lnTo>
                  <a:pt x="211" y="13"/>
                </a:lnTo>
                <a:lnTo>
                  <a:pt x="262" y="4"/>
                </a:lnTo>
                <a:lnTo>
                  <a:pt x="319" y="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7300"/>
              </a:gs>
            </a:gsLst>
            <a:lin ang="13500000"/>
          </a:gradFill>
          <a:ln w="0">
            <a:solidFill>
              <a:srgbClr val="d25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8"/>
          <p:cNvSpPr/>
          <p:nvPr/>
        </p:nvSpPr>
        <p:spPr>
          <a:xfrm>
            <a:off x="1228680" y="1776240"/>
            <a:ext cx="3454560" cy="2552760"/>
          </a:xfrm>
          <a:prstGeom prst="ellipse">
            <a:avLst/>
          </a:prstGeom>
          <a:gradFill rotWithShape="0">
            <a:gsLst>
              <a:gs pos="0">
                <a:srgbClr val="8eb4e3">
                  <a:alpha val="0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5600880" y="1622520"/>
            <a:ext cx="2133360" cy="396216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50000">
                <a:srgbClr val="ffc000"/>
              </a:gs>
              <a:gs pos="100000">
                <a:srgbClr val="ff9600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5829480" y="2430360"/>
            <a:ext cx="1676160" cy="30020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7137000" y="2095200"/>
            <a:ext cx="749880" cy="749880"/>
            <a:chOff x="7137000" y="2095200"/>
            <a:chExt cx="749880" cy="749880"/>
          </a:xfrm>
        </p:grpSpPr>
        <p:sp>
          <p:nvSpPr>
            <p:cNvPr id="96" name="4-Point Star 24"/>
            <p:cNvSpPr/>
            <p:nvPr/>
          </p:nvSpPr>
          <p:spPr>
            <a:xfrm>
              <a:off x="7238880" y="2205000"/>
              <a:ext cx="530280" cy="53028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7960 h 530280"/>
                <a:gd name="textAreaBottom" fmla="*/ 29232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4-Point Star 25"/>
            <p:cNvSpPr/>
            <p:nvPr/>
          </p:nvSpPr>
          <p:spPr>
            <a:xfrm rot="2640000">
              <a:off x="7246440" y="2204640"/>
              <a:ext cx="530280" cy="53028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7960 h 530280"/>
                <a:gd name="textAreaBottom" fmla="*/ 29232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25"/>
          <p:cNvSpPr/>
          <p:nvPr/>
        </p:nvSpPr>
        <p:spPr>
          <a:xfrm>
            <a:off x="5918400" y="18288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m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3"/>
          <p:cNvSpPr/>
          <p:nvPr/>
        </p:nvSpPr>
        <p:spPr>
          <a:xfrm>
            <a:off x="5791320" y="2616120"/>
            <a:ext cx="1720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2388240" y="2695680"/>
            <a:ext cx="750960" cy="750960"/>
            <a:chOff x="2388240" y="2695680"/>
            <a:chExt cx="750960" cy="750960"/>
          </a:xfrm>
        </p:grpSpPr>
        <p:sp>
          <p:nvSpPr>
            <p:cNvPr id="101" name="4-Point Star 29"/>
            <p:cNvSpPr/>
            <p:nvPr/>
          </p:nvSpPr>
          <p:spPr>
            <a:xfrm>
              <a:off x="249084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4-Point Star 30"/>
            <p:cNvSpPr/>
            <p:nvPr/>
          </p:nvSpPr>
          <p:spPr>
            <a:xfrm rot="2640000">
              <a:off x="249840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Explosion 2 31"/>
          <p:cNvSpPr/>
          <p:nvPr/>
        </p:nvSpPr>
        <p:spPr>
          <a:xfrm>
            <a:off x="-1141560" y="3429000"/>
            <a:ext cx="4799160" cy="4800600"/>
          </a:xfrm>
          <a:prstGeom prst="irregularSeal2">
            <a:avLst/>
          </a:prstGeom>
          <a:gradFill rotWithShape="0">
            <a:gsLst>
              <a:gs pos="0">
                <a:srgbClr val="92d050"/>
              </a:gs>
              <a:gs pos="100000">
                <a:srgbClr val="4f62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2"/>
          <p:cNvSpPr/>
          <p:nvPr/>
        </p:nvSpPr>
        <p:spPr>
          <a:xfrm rot="19358400">
            <a:off x="-774000" y="55695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eel Free to use this objects for your own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 rot="19405200">
            <a:off x="-277560" y="5060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ree Lice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024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超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in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0"/>
          <p:cNvSpPr/>
          <p:nvPr/>
        </p:nvSpPr>
        <p:spPr>
          <a:xfrm>
            <a:off x="1111320" y="725400"/>
            <a:ext cx="7762680" cy="5730840"/>
          </a:xfrm>
          <a:custGeom>
            <a:avLst/>
            <a:gdLst>
              <a:gd name="textAreaLeft" fmla="*/ 0 w 7762680"/>
              <a:gd name="textAreaRight" fmla="*/ 7763040 w 7762680"/>
              <a:gd name="textAreaTop" fmla="*/ 0 h 5730840"/>
              <a:gd name="textAreaBottom" fmla="*/ 5731200 h 5730840"/>
            </a:gdLst>
            <a:ahLst/>
            <a:rect l="textAreaLeft" t="textAreaTop" r="textAreaRight" b="textAreaBottom"/>
            <a:pathLst>
              <a:path w="5926" h="4375">
                <a:moveTo>
                  <a:pt x="3599" y="4194"/>
                </a:moveTo>
                <a:lnTo>
                  <a:pt x="3605" y="4194"/>
                </a:lnTo>
                <a:lnTo>
                  <a:pt x="3609" y="4196"/>
                </a:lnTo>
                <a:lnTo>
                  <a:pt x="3611" y="4200"/>
                </a:lnTo>
                <a:lnTo>
                  <a:pt x="3615" y="4202"/>
                </a:lnTo>
                <a:lnTo>
                  <a:pt x="3621" y="4208"/>
                </a:lnTo>
                <a:lnTo>
                  <a:pt x="3621" y="4218"/>
                </a:lnTo>
                <a:lnTo>
                  <a:pt x="3619" y="4224"/>
                </a:lnTo>
                <a:lnTo>
                  <a:pt x="3615" y="4228"/>
                </a:lnTo>
                <a:lnTo>
                  <a:pt x="3611" y="4234"/>
                </a:lnTo>
                <a:lnTo>
                  <a:pt x="3591" y="4265"/>
                </a:lnTo>
                <a:lnTo>
                  <a:pt x="3583" y="4289"/>
                </a:lnTo>
                <a:lnTo>
                  <a:pt x="3583" y="4300"/>
                </a:lnTo>
                <a:lnTo>
                  <a:pt x="3581" y="4308"/>
                </a:lnTo>
                <a:lnTo>
                  <a:pt x="3579" y="4318"/>
                </a:lnTo>
                <a:lnTo>
                  <a:pt x="3578" y="4326"/>
                </a:lnTo>
                <a:lnTo>
                  <a:pt x="3576" y="4332"/>
                </a:lnTo>
                <a:lnTo>
                  <a:pt x="3572" y="4340"/>
                </a:lnTo>
                <a:lnTo>
                  <a:pt x="3568" y="4342"/>
                </a:lnTo>
                <a:lnTo>
                  <a:pt x="3564" y="4342"/>
                </a:lnTo>
                <a:lnTo>
                  <a:pt x="3558" y="4344"/>
                </a:lnTo>
                <a:lnTo>
                  <a:pt x="3554" y="4344"/>
                </a:lnTo>
                <a:lnTo>
                  <a:pt x="3542" y="4347"/>
                </a:lnTo>
                <a:lnTo>
                  <a:pt x="3534" y="4349"/>
                </a:lnTo>
                <a:lnTo>
                  <a:pt x="3528" y="4351"/>
                </a:lnTo>
                <a:lnTo>
                  <a:pt x="3525" y="4355"/>
                </a:lnTo>
                <a:lnTo>
                  <a:pt x="3521" y="4357"/>
                </a:lnTo>
                <a:lnTo>
                  <a:pt x="3513" y="4359"/>
                </a:lnTo>
                <a:lnTo>
                  <a:pt x="3507" y="4359"/>
                </a:lnTo>
                <a:lnTo>
                  <a:pt x="3499" y="4361"/>
                </a:lnTo>
                <a:lnTo>
                  <a:pt x="3487" y="4365"/>
                </a:lnTo>
                <a:lnTo>
                  <a:pt x="3481" y="4369"/>
                </a:lnTo>
                <a:lnTo>
                  <a:pt x="3477" y="4371"/>
                </a:lnTo>
                <a:lnTo>
                  <a:pt x="3475" y="4373"/>
                </a:lnTo>
                <a:lnTo>
                  <a:pt x="3471" y="4375"/>
                </a:lnTo>
                <a:lnTo>
                  <a:pt x="3468" y="4375"/>
                </a:lnTo>
                <a:lnTo>
                  <a:pt x="3454" y="4371"/>
                </a:lnTo>
                <a:lnTo>
                  <a:pt x="3444" y="4365"/>
                </a:lnTo>
                <a:lnTo>
                  <a:pt x="3426" y="4353"/>
                </a:lnTo>
                <a:lnTo>
                  <a:pt x="3420" y="4351"/>
                </a:lnTo>
                <a:lnTo>
                  <a:pt x="3417" y="4347"/>
                </a:lnTo>
                <a:lnTo>
                  <a:pt x="3411" y="4344"/>
                </a:lnTo>
                <a:lnTo>
                  <a:pt x="3409" y="4340"/>
                </a:lnTo>
                <a:lnTo>
                  <a:pt x="3405" y="4334"/>
                </a:lnTo>
                <a:lnTo>
                  <a:pt x="3405" y="4296"/>
                </a:lnTo>
                <a:lnTo>
                  <a:pt x="3403" y="4292"/>
                </a:lnTo>
                <a:lnTo>
                  <a:pt x="3399" y="4289"/>
                </a:lnTo>
                <a:lnTo>
                  <a:pt x="3397" y="4285"/>
                </a:lnTo>
                <a:lnTo>
                  <a:pt x="3397" y="4275"/>
                </a:lnTo>
                <a:lnTo>
                  <a:pt x="3399" y="4271"/>
                </a:lnTo>
                <a:lnTo>
                  <a:pt x="3403" y="4267"/>
                </a:lnTo>
                <a:lnTo>
                  <a:pt x="3407" y="4265"/>
                </a:lnTo>
                <a:lnTo>
                  <a:pt x="3413" y="4261"/>
                </a:lnTo>
                <a:lnTo>
                  <a:pt x="3424" y="4255"/>
                </a:lnTo>
                <a:lnTo>
                  <a:pt x="3426" y="4251"/>
                </a:lnTo>
                <a:lnTo>
                  <a:pt x="3430" y="4249"/>
                </a:lnTo>
                <a:lnTo>
                  <a:pt x="3436" y="4243"/>
                </a:lnTo>
                <a:lnTo>
                  <a:pt x="3444" y="4232"/>
                </a:lnTo>
                <a:lnTo>
                  <a:pt x="3450" y="4228"/>
                </a:lnTo>
                <a:lnTo>
                  <a:pt x="3456" y="4226"/>
                </a:lnTo>
                <a:lnTo>
                  <a:pt x="3460" y="4222"/>
                </a:lnTo>
                <a:lnTo>
                  <a:pt x="3466" y="4220"/>
                </a:lnTo>
                <a:lnTo>
                  <a:pt x="3454" y="4208"/>
                </a:lnTo>
                <a:lnTo>
                  <a:pt x="3458" y="4206"/>
                </a:lnTo>
                <a:lnTo>
                  <a:pt x="3464" y="4206"/>
                </a:lnTo>
                <a:lnTo>
                  <a:pt x="3471" y="4210"/>
                </a:lnTo>
                <a:lnTo>
                  <a:pt x="3473" y="4212"/>
                </a:lnTo>
                <a:lnTo>
                  <a:pt x="3473" y="4214"/>
                </a:lnTo>
                <a:lnTo>
                  <a:pt x="3477" y="4214"/>
                </a:lnTo>
                <a:lnTo>
                  <a:pt x="3479" y="4212"/>
                </a:lnTo>
                <a:lnTo>
                  <a:pt x="3483" y="4212"/>
                </a:lnTo>
                <a:lnTo>
                  <a:pt x="3485" y="4210"/>
                </a:lnTo>
                <a:lnTo>
                  <a:pt x="3489" y="4210"/>
                </a:lnTo>
                <a:lnTo>
                  <a:pt x="3493" y="4206"/>
                </a:lnTo>
                <a:lnTo>
                  <a:pt x="3493" y="4204"/>
                </a:lnTo>
                <a:lnTo>
                  <a:pt x="3495" y="4202"/>
                </a:lnTo>
                <a:lnTo>
                  <a:pt x="3499" y="4200"/>
                </a:lnTo>
                <a:lnTo>
                  <a:pt x="3507" y="4200"/>
                </a:lnTo>
                <a:lnTo>
                  <a:pt x="3511" y="4202"/>
                </a:lnTo>
                <a:lnTo>
                  <a:pt x="3513" y="4204"/>
                </a:lnTo>
                <a:lnTo>
                  <a:pt x="3523" y="4204"/>
                </a:lnTo>
                <a:lnTo>
                  <a:pt x="3525" y="4202"/>
                </a:lnTo>
                <a:lnTo>
                  <a:pt x="3530" y="4202"/>
                </a:lnTo>
                <a:lnTo>
                  <a:pt x="3536" y="4196"/>
                </a:lnTo>
                <a:lnTo>
                  <a:pt x="3538" y="4196"/>
                </a:lnTo>
                <a:lnTo>
                  <a:pt x="3550" y="4198"/>
                </a:lnTo>
                <a:lnTo>
                  <a:pt x="3562" y="4204"/>
                </a:lnTo>
                <a:lnTo>
                  <a:pt x="3574" y="4206"/>
                </a:lnTo>
                <a:lnTo>
                  <a:pt x="3581" y="4206"/>
                </a:lnTo>
                <a:lnTo>
                  <a:pt x="3587" y="4204"/>
                </a:lnTo>
                <a:lnTo>
                  <a:pt x="3593" y="4200"/>
                </a:lnTo>
                <a:lnTo>
                  <a:pt x="3599" y="4194"/>
                </a:lnTo>
                <a:close/>
                <a:moveTo>
                  <a:pt x="4824" y="0"/>
                </a:moveTo>
                <a:lnTo>
                  <a:pt x="4832" y="4"/>
                </a:lnTo>
                <a:lnTo>
                  <a:pt x="4834" y="8"/>
                </a:lnTo>
                <a:lnTo>
                  <a:pt x="4838" y="10"/>
                </a:lnTo>
                <a:lnTo>
                  <a:pt x="4850" y="14"/>
                </a:lnTo>
                <a:lnTo>
                  <a:pt x="4854" y="16"/>
                </a:lnTo>
                <a:lnTo>
                  <a:pt x="4860" y="18"/>
                </a:lnTo>
                <a:lnTo>
                  <a:pt x="4872" y="28"/>
                </a:lnTo>
                <a:lnTo>
                  <a:pt x="4883" y="35"/>
                </a:lnTo>
                <a:lnTo>
                  <a:pt x="4899" y="41"/>
                </a:lnTo>
                <a:lnTo>
                  <a:pt x="4911" y="41"/>
                </a:lnTo>
                <a:lnTo>
                  <a:pt x="4919" y="43"/>
                </a:lnTo>
                <a:lnTo>
                  <a:pt x="4925" y="45"/>
                </a:lnTo>
                <a:lnTo>
                  <a:pt x="4936" y="53"/>
                </a:lnTo>
                <a:lnTo>
                  <a:pt x="4938" y="55"/>
                </a:lnTo>
                <a:lnTo>
                  <a:pt x="4940" y="59"/>
                </a:lnTo>
                <a:lnTo>
                  <a:pt x="4944" y="61"/>
                </a:lnTo>
                <a:lnTo>
                  <a:pt x="4956" y="69"/>
                </a:lnTo>
                <a:lnTo>
                  <a:pt x="4958" y="71"/>
                </a:lnTo>
                <a:lnTo>
                  <a:pt x="4962" y="73"/>
                </a:lnTo>
                <a:lnTo>
                  <a:pt x="4964" y="75"/>
                </a:lnTo>
                <a:lnTo>
                  <a:pt x="4972" y="75"/>
                </a:lnTo>
                <a:lnTo>
                  <a:pt x="4976" y="73"/>
                </a:lnTo>
                <a:lnTo>
                  <a:pt x="4978" y="69"/>
                </a:lnTo>
                <a:lnTo>
                  <a:pt x="4983" y="63"/>
                </a:lnTo>
                <a:lnTo>
                  <a:pt x="4987" y="61"/>
                </a:lnTo>
                <a:lnTo>
                  <a:pt x="4995" y="61"/>
                </a:lnTo>
                <a:lnTo>
                  <a:pt x="4999" y="63"/>
                </a:lnTo>
                <a:lnTo>
                  <a:pt x="5001" y="65"/>
                </a:lnTo>
                <a:lnTo>
                  <a:pt x="5005" y="67"/>
                </a:lnTo>
                <a:lnTo>
                  <a:pt x="5019" y="71"/>
                </a:lnTo>
                <a:lnTo>
                  <a:pt x="5031" y="77"/>
                </a:lnTo>
                <a:lnTo>
                  <a:pt x="5044" y="81"/>
                </a:lnTo>
                <a:lnTo>
                  <a:pt x="5046" y="82"/>
                </a:lnTo>
                <a:lnTo>
                  <a:pt x="5048" y="82"/>
                </a:lnTo>
                <a:lnTo>
                  <a:pt x="5052" y="86"/>
                </a:lnTo>
                <a:lnTo>
                  <a:pt x="5054" y="90"/>
                </a:lnTo>
                <a:lnTo>
                  <a:pt x="5054" y="106"/>
                </a:lnTo>
                <a:lnTo>
                  <a:pt x="5058" y="114"/>
                </a:lnTo>
                <a:lnTo>
                  <a:pt x="5062" y="116"/>
                </a:lnTo>
                <a:lnTo>
                  <a:pt x="5064" y="118"/>
                </a:lnTo>
                <a:lnTo>
                  <a:pt x="5068" y="120"/>
                </a:lnTo>
                <a:lnTo>
                  <a:pt x="5070" y="124"/>
                </a:lnTo>
                <a:lnTo>
                  <a:pt x="5070" y="126"/>
                </a:lnTo>
                <a:lnTo>
                  <a:pt x="5074" y="134"/>
                </a:lnTo>
                <a:lnTo>
                  <a:pt x="5078" y="134"/>
                </a:lnTo>
                <a:lnTo>
                  <a:pt x="5080" y="136"/>
                </a:lnTo>
                <a:lnTo>
                  <a:pt x="5082" y="136"/>
                </a:lnTo>
                <a:lnTo>
                  <a:pt x="5084" y="139"/>
                </a:lnTo>
                <a:lnTo>
                  <a:pt x="5084" y="143"/>
                </a:lnTo>
                <a:lnTo>
                  <a:pt x="5086" y="147"/>
                </a:lnTo>
                <a:lnTo>
                  <a:pt x="5086" y="151"/>
                </a:lnTo>
                <a:lnTo>
                  <a:pt x="5091" y="157"/>
                </a:lnTo>
                <a:lnTo>
                  <a:pt x="5095" y="159"/>
                </a:lnTo>
                <a:lnTo>
                  <a:pt x="5101" y="165"/>
                </a:lnTo>
                <a:lnTo>
                  <a:pt x="5105" y="171"/>
                </a:lnTo>
                <a:lnTo>
                  <a:pt x="5105" y="177"/>
                </a:lnTo>
                <a:lnTo>
                  <a:pt x="5107" y="185"/>
                </a:lnTo>
                <a:lnTo>
                  <a:pt x="5109" y="190"/>
                </a:lnTo>
                <a:lnTo>
                  <a:pt x="5113" y="194"/>
                </a:lnTo>
                <a:lnTo>
                  <a:pt x="5115" y="198"/>
                </a:lnTo>
                <a:lnTo>
                  <a:pt x="5115" y="210"/>
                </a:lnTo>
                <a:lnTo>
                  <a:pt x="5113" y="214"/>
                </a:lnTo>
                <a:lnTo>
                  <a:pt x="5113" y="222"/>
                </a:lnTo>
                <a:lnTo>
                  <a:pt x="5121" y="226"/>
                </a:lnTo>
                <a:lnTo>
                  <a:pt x="5123" y="226"/>
                </a:lnTo>
                <a:lnTo>
                  <a:pt x="5131" y="230"/>
                </a:lnTo>
                <a:lnTo>
                  <a:pt x="5131" y="238"/>
                </a:lnTo>
                <a:lnTo>
                  <a:pt x="5129" y="242"/>
                </a:lnTo>
                <a:lnTo>
                  <a:pt x="5125" y="245"/>
                </a:lnTo>
                <a:lnTo>
                  <a:pt x="5125" y="253"/>
                </a:lnTo>
                <a:lnTo>
                  <a:pt x="5129" y="255"/>
                </a:lnTo>
                <a:lnTo>
                  <a:pt x="5131" y="259"/>
                </a:lnTo>
                <a:lnTo>
                  <a:pt x="5133" y="261"/>
                </a:lnTo>
                <a:lnTo>
                  <a:pt x="5137" y="269"/>
                </a:lnTo>
                <a:lnTo>
                  <a:pt x="5139" y="277"/>
                </a:lnTo>
                <a:lnTo>
                  <a:pt x="5143" y="283"/>
                </a:lnTo>
                <a:lnTo>
                  <a:pt x="5145" y="289"/>
                </a:lnTo>
                <a:lnTo>
                  <a:pt x="5148" y="297"/>
                </a:lnTo>
                <a:lnTo>
                  <a:pt x="5150" y="302"/>
                </a:lnTo>
                <a:lnTo>
                  <a:pt x="5152" y="310"/>
                </a:lnTo>
                <a:lnTo>
                  <a:pt x="5152" y="328"/>
                </a:lnTo>
                <a:lnTo>
                  <a:pt x="5154" y="332"/>
                </a:lnTo>
                <a:lnTo>
                  <a:pt x="5170" y="348"/>
                </a:lnTo>
                <a:lnTo>
                  <a:pt x="5170" y="352"/>
                </a:lnTo>
                <a:lnTo>
                  <a:pt x="5166" y="355"/>
                </a:lnTo>
                <a:lnTo>
                  <a:pt x="5166" y="375"/>
                </a:lnTo>
                <a:lnTo>
                  <a:pt x="5168" y="381"/>
                </a:lnTo>
                <a:lnTo>
                  <a:pt x="5172" y="389"/>
                </a:lnTo>
                <a:lnTo>
                  <a:pt x="5174" y="397"/>
                </a:lnTo>
                <a:lnTo>
                  <a:pt x="5176" y="403"/>
                </a:lnTo>
                <a:lnTo>
                  <a:pt x="5178" y="410"/>
                </a:lnTo>
                <a:lnTo>
                  <a:pt x="5180" y="416"/>
                </a:lnTo>
                <a:lnTo>
                  <a:pt x="5182" y="420"/>
                </a:lnTo>
                <a:lnTo>
                  <a:pt x="5186" y="422"/>
                </a:lnTo>
                <a:lnTo>
                  <a:pt x="5188" y="426"/>
                </a:lnTo>
                <a:lnTo>
                  <a:pt x="5194" y="432"/>
                </a:lnTo>
                <a:lnTo>
                  <a:pt x="5198" y="438"/>
                </a:lnTo>
                <a:lnTo>
                  <a:pt x="5203" y="444"/>
                </a:lnTo>
                <a:lnTo>
                  <a:pt x="5207" y="452"/>
                </a:lnTo>
                <a:lnTo>
                  <a:pt x="5211" y="463"/>
                </a:lnTo>
                <a:lnTo>
                  <a:pt x="5213" y="477"/>
                </a:lnTo>
                <a:lnTo>
                  <a:pt x="5219" y="495"/>
                </a:lnTo>
                <a:lnTo>
                  <a:pt x="5223" y="499"/>
                </a:lnTo>
                <a:lnTo>
                  <a:pt x="5227" y="505"/>
                </a:lnTo>
                <a:lnTo>
                  <a:pt x="5229" y="509"/>
                </a:lnTo>
                <a:lnTo>
                  <a:pt x="5233" y="513"/>
                </a:lnTo>
                <a:lnTo>
                  <a:pt x="5235" y="516"/>
                </a:lnTo>
                <a:lnTo>
                  <a:pt x="5237" y="522"/>
                </a:lnTo>
                <a:lnTo>
                  <a:pt x="5237" y="524"/>
                </a:lnTo>
                <a:lnTo>
                  <a:pt x="5239" y="524"/>
                </a:lnTo>
                <a:lnTo>
                  <a:pt x="5239" y="526"/>
                </a:lnTo>
                <a:lnTo>
                  <a:pt x="5237" y="540"/>
                </a:lnTo>
                <a:lnTo>
                  <a:pt x="5231" y="550"/>
                </a:lnTo>
                <a:lnTo>
                  <a:pt x="5229" y="564"/>
                </a:lnTo>
                <a:lnTo>
                  <a:pt x="5229" y="573"/>
                </a:lnTo>
                <a:lnTo>
                  <a:pt x="5235" y="581"/>
                </a:lnTo>
                <a:lnTo>
                  <a:pt x="5239" y="587"/>
                </a:lnTo>
                <a:lnTo>
                  <a:pt x="5243" y="595"/>
                </a:lnTo>
                <a:lnTo>
                  <a:pt x="5249" y="603"/>
                </a:lnTo>
                <a:lnTo>
                  <a:pt x="5262" y="619"/>
                </a:lnTo>
                <a:lnTo>
                  <a:pt x="5282" y="628"/>
                </a:lnTo>
                <a:lnTo>
                  <a:pt x="5284" y="628"/>
                </a:lnTo>
                <a:lnTo>
                  <a:pt x="5286" y="630"/>
                </a:lnTo>
                <a:lnTo>
                  <a:pt x="5294" y="630"/>
                </a:lnTo>
                <a:lnTo>
                  <a:pt x="5298" y="628"/>
                </a:lnTo>
                <a:lnTo>
                  <a:pt x="5302" y="624"/>
                </a:lnTo>
                <a:lnTo>
                  <a:pt x="5309" y="621"/>
                </a:lnTo>
                <a:lnTo>
                  <a:pt x="5319" y="621"/>
                </a:lnTo>
                <a:lnTo>
                  <a:pt x="5331" y="626"/>
                </a:lnTo>
                <a:lnTo>
                  <a:pt x="5337" y="626"/>
                </a:lnTo>
                <a:lnTo>
                  <a:pt x="5339" y="628"/>
                </a:lnTo>
                <a:lnTo>
                  <a:pt x="5341" y="628"/>
                </a:lnTo>
                <a:lnTo>
                  <a:pt x="5345" y="632"/>
                </a:lnTo>
                <a:lnTo>
                  <a:pt x="5345" y="634"/>
                </a:lnTo>
                <a:lnTo>
                  <a:pt x="5347" y="636"/>
                </a:lnTo>
                <a:lnTo>
                  <a:pt x="5357" y="640"/>
                </a:lnTo>
                <a:lnTo>
                  <a:pt x="5364" y="646"/>
                </a:lnTo>
                <a:lnTo>
                  <a:pt x="5368" y="648"/>
                </a:lnTo>
                <a:lnTo>
                  <a:pt x="5372" y="652"/>
                </a:lnTo>
                <a:lnTo>
                  <a:pt x="5376" y="654"/>
                </a:lnTo>
                <a:lnTo>
                  <a:pt x="5386" y="654"/>
                </a:lnTo>
                <a:lnTo>
                  <a:pt x="5392" y="652"/>
                </a:lnTo>
                <a:lnTo>
                  <a:pt x="5396" y="648"/>
                </a:lnTo>
                <a:lnTo>
                  <a:pt x="5400" y="646"/>
                </a:lnTo>
                <a:lnTo>
                  <a:pt x="5410" y="646"/>
                </a:lnTo>
                <a:lnTo>
                  <a:pt x="5414" y="648"/>
                </a:lnTo>
                <a:lnTo>
                  <a:pt x="5415" y="648"/>
                </a:lnTo>
                <a:lnTo>
                  <a:pt x="5419" y="650"/>
                </a:lnTo>
                <a:lnTo>
                  <a:pt x="5437" y="662"/>
                </a:lnTo>
                <a:lnTo>
                  <a:pt x="5451" y="677"/>
                </a:lnTo>
                <a:lnTo>
                  <a:pt x="5463" y="697"/>
                </a:lnTo>
                <a:lnTo>
                  <a:pt x="5467" y="703"/>
                </a:lnTo>
                <a:lnTo>
                  <a:pt x="5482" y="719"/>
                </a:lnTo>
                <a:lnTo>
                  <a:pt x="5490" y="725"/>
                </a:lnTo>
                <a:lnTo>
                  <a:pt x="5496" y="727"/>
                </a:lnTo>
                <a:lnTo>
                  <a:pt x="5504" y="730"/>
                </a:lnTo>
                <a:lnTo>
                  <a:pt x="5523" y="730"/>
                </a:lnTo>
                <a:lnTo>
                  <a:pt x="5529" y="729"/>
                </a:lnTo>
                <a:lnTo>
                  <a:pt x="5533" y="730"/>
                </a:lnTo>
                <a:lnTo>
                  <a:pt x="5527" y="742"/>
                </a:lnTo>
                <a:lnTo>
                  <a:pt x="5527" y="756"/>
                </a:lnTo>
                <a:lnTo>
                  <a:pt x="5529" y="762"/>
                </a:lnTo>
                <a:lnTo>
                  <a:pt x="5533" y="768"/>
                </a:lnTo>
                <a:lnTo>
                  <a:pt x="5535" y="772"/>
                </a:lnTo>
                <a:lnTo>
                  <a:pt x="5539" y="774"/>
                </a:lnTo>
                <a:lnTo>
                  <a:pt x="5541" y="776"/>
                </a:lnTo>
                <a:lnTo>
                  <a:pt x="5543" y="780"/>
                </a:lnTo>
                <a:lnTo>
                  <a:pt x="5543" y="831"/>
                </a:lnTo>
                <a:lnTo>
                  <a:pt x="5545" y="844"/>
                </a:lnTo>
                <a:lnTo>
                  <a:pt x="5549" y="856"/>
                </a:lnTo>
                <a:lnTo>
                  <a:pt x="5559" y="866"/>
                </a:lnTo>
                <a:lnTo>
                  <a:pt x="5563" y="868"/>
                </a:lnTo>
                <a:lnTo>
                  <a:pt x="5567" y="872"/>
                </a:lnTo>
                <a:lnTo>
                  <a:pt x="5571" y="874"/>
                </a:lnTo>
                <a:lnTo>
                  <a:pt x="5573" y="880"/>
                </a:lnTo>
                <a:lnTo>
                  <a:pt x="5573" y="884"/>
                </a:lnTo>
                <a:lnTo>
                  <a:pt x="5575" y="886"/>
                </a:lnTo>
                <a:lnTo>
                  <a:pt x="5575" y="893"/>
                </a:lnTo>
                <a:lnTo>
                  <a:pt x="5577" y="895"/>
                </a:lnTo>
                <a:lnTo>
                  <a:pt x="5584" y="895"/>
                </a:lnTo>
                <a:lnTo>
                  <a:pt x="5588" y="891"/>
                </a:lnTo>
                <a:lnTo>
                  <a:pt x="5592" y="890"/>
                </a:lnTo>
                <a:lnTo>
                  <a:pt x="5620" y="890"/>
                </a:lnTo>
                <a:lnTo>
                  <a:pt x="5631" y="891"/>
                </a:lnTo>
                <a:lnTo>
                  <a:pt x="5643" y="897"/>
                </a:lnTo>
                <a:lnTo>
                  <a:pt x="5657" y="899"/>
                </a:lnTo>
                <a:lnTo>
                  <a:pt x="5665" y="899"/>
                </a:lnTo>
                <a:lnTo>
                  <a:pt x="5673" y="897"/>
                </a:lnTo>
                <a:lnTo>
                  <a:pt x="5679" y="897"/>
                </a:lnTo>
                <a:lnTo>
                  <a:pt x="5686" y="895"/>
                </a:lnTo>
                <a:lnTo>
                  <a:pt x="5690" y="893"/>
                </a:lnTo>
                <a:lnTo>
                  <a:pt x="5694" y="893"/>
                </a:lnTo>
                <a:lnTo>
                  <a:pt x="5696" y="891"/>
                </a:lnTo>
                <a:lnTo>
                  <a:pt x="5712" y="891"/>
                </a:lnTo>
                <a:lnTo>
                  <a:pt x="5716" y="888"/>
                </a:lnTo>
                <a:lnTo>
                  <a:pt x="5720" y="882"/>
                </a:lnTo>
                <a:lnTo>
                  <a:pt x="5722" y="874"/>
                </a:lnTo>
                <a:lnTo>
                  <a:pt x="5726" y="870"/>
                </a:lnTo>
                <a:lnTo>
                  <a:pt x="5728" y="866"/>
                </a:lnTo>
                <a:lnTo>
                  <a:pt x="5734" y="862"/>
                </a:lnTo>
                <a:lnTo>
                  <a:pt x="5749" y="858"/>
                </a:lnTo>
                <a:lnTo>
                  <a:pt x="5755" y="856"/>
                </a:lnTo>
                <a:lnTo>
                  <a:pt x="5771" y="848"/>
                </a:lnTo>
                <a:lnTo>
                  <a:pt x="5789" y="837"/>
                </a:lnTo>
                <a:lnTo>
                  <a:pt x="5800" y="831"/>
                </a:lnTo>
                <a:lnTo>
                  <a:pt x="5812" y="827"/>
                </a:lnTo>
                <a:lnTo>
                  <a:pt x="5824" y="821"/>
                </a:lnTo>
                <a:lnTo>
                  <a:pt x="5830" y="817"/>
                </a:lnTo>
                <a:lnTo>
                  <a:pt x="5834" y="813"/>
                </a:lnTo>
                <a:lnTo>
                  <a:pt x="5851" y="807"/>
                </a:lnTo>
                <a:lnTo>
                  <a:pt x="5855" y="807"/>
                </a:lnTo>
                <a:lnTo>
                  <a:pt x="5861" y="805"/>
                </a:lnTo>
                <a:lnTo>
                  <a:pt x="5869" y="803"/>
                </a:lnTo>
                <a:lnTo>
                  <a:pt x="5875" y="801"/>
                </a:lnTo>
                <a:lnTo>
                  <a:pt x="5912" y="801"/>
                </a:lnTo>
                <a:lnTo>
                  <a:pt x="5920" y="805"/>
                </a:lnTo>
                <a:lnTo>
                  <a:pt x="5926" y="811"/>
                </a:lnTo>
                <a:lnTo>
                  <a:pt x="5926" y="815"/>
                </a:lnTo>
                <a:lnTo>
                  <a:pt x="5924" y="817"/>
                </a:lnTo>
                <a:lnTo>
                  <a:pt x="5922" y="821"/>
                </a:lnTo>
                <a:lnTo>
                  <a:pt x="5920" y="823"/>
                </a:lnTo>
                <a:lnTo>
                  <a:pt x="5918" y="831"/>
                </a:lnTo>
                <a:lnTo>
                  <a:pt x="5916" y="837"/>
                </a:lnTo>
                <a:lnTo>
                  <a:pt x="5916" y="866"/>
                </a:lnTo>
                <a:lnTo>
                  <a:pt x="5918" y="874"/>
                </a:lnTo>
                <a:lnTo>
                  <a:pt x="5920" y="880"/>
                </a:lnTo>
                <a:lnTo>
                  <a:pt x="5924" y="884"/>
                </a:lnTo>
                <a:lnTo>
                  <a:pt x="5926" y="888"/>
                </a:lnTo>
                <a:lnTo>
                  <a:pt x="5926" y="893"/>
                </a:lnTo>
                <a:lnTo>
                  <a:pt x="5924" y="907"/>
                </a:lnTo>
                <a:lnTo>
                  <a:pt x="5920" y="917"/>
                </a:lnTo>
                <a:lnTo>
                  <a:pt x="5910" y="927"/>
                </a:lnTo>
                <a:lnTo>
                  <a:pt x="5893" y="933"/>
                </a:lnTo>
                <a:lnTo>
                  <a:pt x="5887" y="937"/>
                </a:lnTo>
                <a:lnTo>
                  <a:pt x="5883" y="939"/>
                </a:lnTo>
                <a:lnTo>
                  <a:pt x="5881" y="945"/>
                </a:lnTo>
                <a:lnTo>
                  <a:pt x="5879" y="956"/>
                </a:lnTo>
                <a:lnTo>
                  <a:pt x="5879" y="988"/>
                </a:lnTo>
                <a:lnTo>
                  <a:pt x="5875" y="992"/>
                </a:lnTo>
                <a:lnTo>
                  <a:pt x="5871" y="992"/>
                </a:lnTo>
                <a:lnTo>
                  <a:pt x="5869" y="994"/>
                </a:lnTo>
                <a:lnTo>
                  <a:pt x="5867" y="1001"/>
                </a:lnTo>
                <a:lnTo>
                  <a:pt x="5865" y="1011"/>
                </a:lnTo>
                <a:lnTo>
                  <a:pt x="5865" y="1041"/>
                </a:lnTo>
                <a:lnTo>
                  <a:pt x="5863" y="1045"/>
                </a:lnTo>
                <a:lnTo>
                  <a:pt x="5859" y="1047"/>
                </a:lnTo>
                <a:lnTo>
                  <a:pt x="5857" y="1051"/>
                </a:lnTo>
                <a:lnTo>
                  <a:pt x="5855" y="1056"/>
                </a:lnTo>
                <a:lnTo>
                  <a:pt x="5853" y="1060"/>
                </a:lnTo>
                <a:lnTo>
                  <a:pt x="5853" y="1066"/>
                </a:lnTo>
                <a:lnTo>
                  <a:pt x="5851" y="1072"/>
                </a:lnTo>
                <a:lnTo>
                  <a:pt x="5851" y="1094"/>
                </a:lnTo>
                <a:lnTo>
                  <a:pt x="5847" y="1102"/>
                </a:lnTo>
                <a:lnTo>
                  <a:pt x="5840" y="1113"/>
                </a:lnTo>
                <a:lnTo>
                  <a:pt x="5830" y="1123"/>
                </a:lnTo>
                <a:lnTo>
                  <a:pt x="5822" y="1135"/>
                </a:lnTo>
                <a:lnTo>
                  <a:pt x="5820" y="1143"/>
                </a:lnTo>
                <a:lnTo>
                  <a:pt x="5818" y="1149"/>
                </a:lnTo>
                <a:lnTo>
                  <a:pt x="5814" y="1157"/>
                </a:lnTo>
                <a:lnTo>
                  <a:pt x="5812" y="1164"/>
                </a:lnTo>
                <a:lnTo>
                  <a:pt x="5810" y="1170"/>
                </a:lnTo>
                <a:lnTo>
                  <a:pt x="5806" y="1178"/>
                </a:lnTo>
                <a:lnTo>
                  <a:pt x="5804" y="1184"/>
                </a:lnTo>
                <a:lnTo>
                  <a:pt x="5804" y="1188"/>
                </a:lnTo>
                <a:lnTo>
                  <a:pt x="5800" y="1200"/>
                </a:lnTo>
                <a:lnTo>
                  <a:pt x="5791" y="1210"/>
                </a:lnTo>
                <a:lnTo>
                  <a:pt x="5785" y="1214"/>
                </a:lnTo>
                <a:lnTo>
                  <a:pt x="5777" y="1217"/>
                </a:lnTo>
                <a:lnTo>
                  <a:pt x="5775" y="1219"/>
                </a:lnTo>
                <a:lnTo>
                  <a:pt x="5771" y="1227"/>
                </a:lnTo>
                <a:lnTo>
                  <a:pt x="5769" y="1233"/>
                </a:lnTo>
                <a:lnTo>
                  <a:pt x="5769" y="1237"/>
                </a:lnTo>
                <a:lnTo>
                  <a:pt x="5771" y="1241"/>
                </a:lnTo>
                <a:lnTo>
                  <a:pt x="5771" y="1247"/>
                </a:lnTo>
                <a:lnTo>
                  <a:pt x="5769" y="1251"/>
                </a:lnTo>
                <a:lnTo>
                  <a:pt x="5769" y="1259"/>
                </a:lnTo>
                <a:lnTo>
                  <a:pt x="5767" y="1263"/>
                </a:lnTo>
                <a:lnTo>
                  <a:pt x="5767" y="1265"/>
                </a:lnTo>
                <a:lnTo>
                  <a:pt x="5763" y="1269"/>
                </a:lnTo>
                <a:lnTo>
                  <a:pt x="5755" y="1272"/>
                </a:lnTo>
                <a:lnTo>
                  <a:pt x="5749" y="1272"/>
                </a:lnTo>
                <a:lnTo>
                  <a:pt x="5736" y="1270"/>
                </a:lnTo>
                <a:lnTo>
                  <a:pt x="5724" y="1269"/>
                </a:lnTo>
                <a:lnTo>
                  <a:pt x="5710" y="1263"/>
                </a:lnTo>
                <a:lnTo>
                  <a:pt x="5706" y="1261"/>
                </a:lnTo>
                <a:lnTo>
                  <a:pt x="5700" y="1261"/>
                </a:lnTo>
                <a:lnTo>
                  <a:pt x="5696" y="1259"/>
                </a:lnTo>
                <a:lnTo>
                  <a:pt x="5690" y="1255"/>
                </a:lnTo>
                <a:lnTo>
                  <a:pt x="5685" y="1253"/>
                </a:lnTo>
                <a:lnTo>
                  <a:pt x="5679" y="1249"/>
                </a:lnTo>
                <a:lnTo>
                  <a:pt x="5673" y="1247"/>
                </a:lnTo>
                <a:lnTo>
                  <a:pt x="5657" y="1241"/>
                </a:lnTo>
                <a:lnTo>
                  <a:pt x="5639" y="1237"/>
                </a:lnTo>
                <a:lnTo>
                  <a:pt x="5637" y="1253"/>
                </a:lnTo>
                <a:lnTo>
                  <a:pt x="5633" y="1269"/>
                </a:lnTo>
                <a:lnTo>
                  <a:pt x="5631" y="1274"/>
                </a:lnTo>
                <a:lnTo>
                  <a:pt x="5631" y="1280"/>
                </a:lnTo>
                <a:lnTo>
                  <a:pt x="5628" y="1284"/>
                </a:lnTo>
                <a:lnTo>
                  <a:pt x="5626" y="1288"/>
                </a:lnTo>
                <a:lnTo>
                  <a:pt x="5620" y="1290"/>
                </a:lnTo>
                <a:lnTo>
                  <a:pt x="5608" y="1290"/>
                </a:lnTo>
                <a:lnTo>
                  <a:pt x="5588" y="1294"/>
                </a:lnTo>
                <a:lnTo>
                  <a:pt x="5567" y="1298"/>
                </a:lnTo>
                <a:lnTo>
                  <a:pt x="5569" y="1304"/>
                </a:lnTo>
                <a:lnTo>
                  <a:pt x="5573" y="1312"/>
                </a:lnTo>
                <a:lnTo>
                  <a:pt x="5575" y="1318"/>
                </a:lnTo>
                <a:lnTo>
                  <a:pt x="5577" y="1325"/>
                </a:lnTo>
                <a:lnTo>
                  <a:pt x="5577" y="1331"/>
                </a:lnTo>
                <a:lnTo>
                  <a:pt x="5578" y="1337"/>
                </a:lnTo>
                <a:lnTo>
                  <a:pt x="5578" y="1343"/>
                </a:lnTo>
                <a:lnTo>
                  <a:pt x="5580" y="1349"/>
                </a:lnTo>
                <a:lnTo>
                  <a:pt x="5582" y="1357"/>
                </a:lnTo>
                <a:lnTo>
                  <a:pt x="5582" y="1363"/>
                </a:lnTo>
                <a:lnTo>
                  <a:pt x="5584" y="1369"/>
                </a:lnTo>
                <a:lnTo>
                  <a:pt x="5584" y="1375"/>
                </a:lnTo>
                <a:lnTo>
                  <a:pt x="5586" y="1380"/>
                </a:lnTo>
                <a:lnTo>
                  <a:pt x="5586" y="1388"/>
                </a:lnTo>
                <a:lnTo>
                  <a:pt x="5588" y="1392"/>
                </a:lnTo>
                <a:lnTo>
                  <a:pt x="5590" y="1410"/>
                </a:lnTo>
                <a:lnTo>
                  <a:pt x="5590" y="1426"/>
                </a:lnTo>
                <a:lnTo>
                  <a:pt x="5592" y="1443"/>
                </a:lnTo>
                <a:lnTo>
                  <a:pt x="5592" y="1449"/>
                </a:lnTo>
                <a:lnTo>
                  <a:pt x="5590" y="1455"/>
                </a:lnTo>
                <a:lnTo>
                  <a:pt x="5590" y="1463"/>
                </a:lnTo>
                <a:lnTo>
                  <a:pt x="5586" y="1475"/>
                </a:lnTo>
                <a:lnTo>
                  <a:pt x="5586" y="1526"/>
                </a:lnTo>
                <a:lnTo>
                  <a:pt x="5582" y="1539"/>
                </a:lnTo>
                <a:lnTo>
                  <a:pt x="5577" y="1551"/>
                </a:lnTo>
                <a:lnTo>
                  <a:pt x="5553" y="1567"/>
                </a:lnTo>
                <a:lnTo>
                  <a:pt x="5545" y="1571"/>
                </a:lnTo>
                <a:lnTo>
                  <a:pt x="5539" y="1575"/>
                </a:lnTo>
                <a:lnTo>
                  <a:pt x="5533" y="1577"/>
                </a:lnTo>
                <a:lnTo>
                  <a:pt x="5529" y="1577"/>
                </a:lnTo>
                <a:lnTo>
                  <a:pt x="5525" y="1579"/>
                </a:lnTo>
                <a:lnTo>
                  <a:pt x="5520" y="1585"/>
                </a:lnTo>
                <a:lnTo>
                  <a:pt x="5520" y="1610"/>
                </a:lnTo>
                <a:lnTo>
                  <a:pt x="5514" y="1608"/>
                </a:lnTo>
                <a:lnTo>
                  <a:pt x="5506" y="1600"/>
                </a:lnTo>
                <a:lnTo>
                  <a:pt x="5502" y="1594"/>
                </a:lnTo>
                <a:lnTo>
                  <a:pt x="5500" y="1589"/>
                </a:lnTo>
                <a:lnTo>
                  <a:pt x="5496" y="1583"/>
                </a:lnTo>
                <a:lnTo>
                  <a:pt x="5496" y="1581"/>
                </a:lnTo>
                <a:lnTo>
                  <a:pt x="5494" y="1577"/>
                </a:lnTo>
                <a:lnTo>
                  <a:pt x="5492" y="1575"/>
                </a:lnTo>
                <a:lnTo>
                  <a:pt x="5492" y="1553"/>
                </a:lnTo>
                <a:lnTo>
                  <a:pt x="5490" y="1551"/>
                </a:lnTo>
                <a:lnTo>
                  <a:pt x="5482" y="1551"/>
                </a:lnTo>
                <a:lnTo>
                  <a:pt x="5467" y="1559"/>
                </a:lnTo>
                <a:lnTo>
                  <a:pt x="5465" y="1559"/>
                </a:lnTo>
                <a:lnTo>
                  <a:pt x="5461" y="1561"/>
                </a:lnTo>
                <a:lnTo>
                  <a:pt x="5459" y="1561"/>
                </a:lnTo>
                <a:lnTo>
                  <a:pt x="5455" y="1563"/>
                </a:lnTo>
                <a:lnTo>
                  <a:pt x="5455" y="1565"/>
                </a:lnTo>
                <a:lnTo>
                  <a:pt x="5453" y="1567"/>
                </a:lnTo>
                <a:lnTo>
                  <a:pt x="5453" y="1569"/>
                </a:lnTo>
                <a:lnTo>
                  <a:pt x="5451" y="1575"/>
                </a:lnTo>
                <a:lnTo>
                  <a:pt x="5449" y="1579"/>
                </a:lnTo>
                <a:lnTo>
                  <a:pt x="5449" y="1591"/>
                </a:lnTo>
                <a:lnTo>
                  <a:pt x="5445" y="1622"/>
                </a:lnTo>
                <a:lnTo>
                  <a:pt x="5427" y="1622"/>
                </a:lnTo>
                <a:lnTo>
                  <a:pt x="5421" y="1624"/>
                </a:lnTo>
                <a:lnTo>
                  <a:pt x="5419" y="1628"/>
                </a:lnTo>
                <a:lnTo>
                  <a:pt x="5415" y="1632"/>
                </a:lnTo>
                <a:lnTo>
                  <a:pt x="5414" y="1636"/>
                </a:lnTo>
                <a:lnTo>
                  <a:pt x="5410" y="1642"/>
                </a:lnTo>
                <a:lnTo>
                  <a:pt x="5406" y="1646"/>
                </a:lnTo>
                <a:lnTo>
                  <a:pt x="5402" y="1647"/>
                </a:lnTo>
                <a:lnTo>
                  <a:pt x="5398" y="1651"/>
                </a:lnTo>
                <a:lnTo>
                  <a:pt x="5374" y="1667"/>
                </a:lnTo>
                <a:lnTo>
                  <a:pt x="5366" y="1669"/>
                </a:lnTo>
                <a:lnTo>
                  <a:pt x="5359" y="1677"/>
                </a:lnTo>
                <a:lnTo>
                  <a:pt x="5349" y="1681"/>
                </a:lnTo>
                <a:lnTo>
                  <a:pt x="5341" y="1683"/>
                </a:lnTo>
                <a:lnTo>
                  <a:pt x="5331" y="1683"/>
                </a:lnTo>
                <a:lnTo>
                  <a:pt x="5319" y="1681"/>
                </a:lnTo>
                <a:lnTo>
                  <a:pt x="5309" y="1677"/>
                </a:lnTo>
                <a:lnTo>
                  <a:pt x="5300" y="1671"/>
                </a:lnTo>
                <a:lnTo>
                  <a:pt x="5296" y="1669"/>
                </a:lnTo>
                <a:lnTo>
                  <a:pt x="5294" y="1669"/>
                </a:lnTo>
                <a:lnTo>
                  <a:pt x="5290" y="1667"/>
                </a:lnTo>
                <a:lnTo>
                  <a:pt x="5298" y="1683"/>
                </a:lnTo>
                <a:lnTo>
                  <a:pt x="5304" y="1700"/>
                </a:lnTo>
                <a:lnTo>
                  <a:pt x="5306" y="1708"/>
                </a:lnTo>
                <a:lnTo>
                  <a:pt x="5309" y="1716"/>
                </a:lnTo>
                <a:lnTo>
                  <a:pt x="5313" y="1722"/>
                </a:lnTo>
                <a:lnTo>
                  <a:pt x="5319" y="1726"/>
                </a:lnTo>
                <a:lnTo>
                  <a:pt x="5306" y="1736"/>
                </a:lnTo>
                <a:lnTo>
                  <a:pt x="5294" y="1740"/>
                </a:lnTo>
                <a:lnTo>
                  <a:pt x="5280" y="1744"/>
                </a:lnTo>
                <a:lnTo>
                  <a:pt x="5278" y="1746"/>
                </a:lnTo>
                <a:lnTo>
                  <a:pt x="5274" y="1746"/>
                </a:lnTo>
                <a:lnTo>
                  <a:pt x="5249" y="1750"/>
                </a:lnTo>
                <a:lnTo>
                  <a:pt x="5223" y="1752"/>
                </a:lnTo>
                <a:lnTo>
                  <a:pt x="5203" y="1750"/>
                </a:lnTo>
                <a:lnTo>
                  <a:pt x="5188" y="1740"/>
                </a:lnTo>
                <a:lnTo>
                  <a:pt x="5182" y="1734"/>
                </a:lnTo>
                <a:lnTo>
                  <a:pt x="5178" y="1728"/>
                </a:lnTo>
                <a:lnTo>
                  <a:pt x="5172" y="1722"/>
                </a:lnTo>
                <a:lnTo>
                  <a:pt x="5164" y="1718"/>
                </a:lnTo>
                <a:lnTo>
                  <a:pt x="5158" y="1712"/>
                </a:lnTo>
                <a:lnTo>
                  <a:pt x="5154" y="1712"/>
                </a:lnTo>
                <a:lnTo>
                  <a:pt x="5150" y="1716"/>
                </a:lnTo>
                <a:lnTo>
                  <a:pt x="5148" y="1720"/>
                </a:lnTo>
                <a:lnTo>
                  <a:pt x="5146" y="1722"/>
                </a:lnTo>
                <a:lnTo>
                  <a:pt x="5143" y="1730"/>
                </a:lnTo>
                <a:lnTo>
                  <a:pt x="5141" y="1736"/>
                </a:lnTo>
                <a:lnTo>
                  <a:pt x="5137" y="1744"/>
                </a:lnTo>
                <a:lnTo>
                  <a:pt x="5129" y="1757"/>
                </a:lnTo>
                <a:lnTo>
                  <a:pt x="5119" y="1767"/>
                </a:lnTo>
                <a:lnTo>
                  <a:pt x="5111" y="1781"/>
                </a:lnTo>
                <a:lnTo>
                  <a:pt x="5101" y="1797"/>
                </a:lnTo>
                <a:lnTo>
                  <a:pt x="5090" y="1810"/>
                </a:lnTo>
                <a:lnTo>
                  <a:pt x="5076" y="1822"/>
                </a:lnTo>
                <a:lnTo>
                  <a:pt x="5070" y="1826"/>
                </a:lnTo>
                <a:lnTo>
                  <a:pt x="5058" y="1830"/>
                </a:lnTo>
                <a:lnTo>
                  <a:pt x="5050" y="1830"/>
                </a:lnTo>
                <a:lnTo>
                  <a:pt x="5044" y="1832"/>
                </a:lnTo>
                <a:lnTo>
                  <a:pt x="5033" y="1844"/>
                </a:lnTo>
                <a:lnTo>
                  <a:pt x="4997" y="1867"/>
                </a:lnTo>
                <a:lnTo>
                  <a:pt x="4989" y="1877"/>
                </a:lnTo>
                <a:lnTo>
                  <a:pt x="4978" y="1885"/>
                </a:lnTo>
                <a:lnTo>
                  <a:pt x="4972" y="1891"/>
                </a:lnTo>
                <a:lnTo>
                  <a:pt x="4966" y="1895"/>
                </a:lnTo>
                <a:lnTo>
                  <a:pt x="4958" y="1901"/>
                </a:lnTo>
                <a:lnTo>
                  <a:pt x="4952" y="1905"/>
                </a:lnTo>
                <a:lnTo>
                  <a:pt x="4946" y="1907"/>
                </a:lnTo>
                <a:lnTo>
                  <a:pt x="4942" y="1911"/>
                </a:lnTo>
                <a:lnTo>
                  <a:pt x="4938" y="1913"/>
                </a:lnTo>
                <a:lnTo>
                  <a:pt x="4934" y="1918"/>
                </a:lnTo>
                <a:lnTo>
                  <a:pt x="4919" y="1950"/>
                </a:lnTo>
                <a:lnTo>
                  <a:pt x="4917" y="1950"/>
                </a:lnTo>
                <a:lnTo>
                  <a:pt x="4905" y="1952"/>
                </a:lnTo>
                <a:lnTo>
                  <a:pt x="4895" y="1956"/>
                </a:lnTo>
                <a:lnTo>
                  <a:pt x="4885" y="1958"/>
                </a:lnTo>
                <a:lnTo>
                  <a:pt x="4879" y="1958"/>
                </a:lnTo>
                <a:lnTo>
                  <a:pt x="4872" y="1954"/>
                </a:lnTo>
                <a:lnTo>
                  <a:pt x="4862" y="1954"/>
                </a:lnTo>
                <a:lnTo>
                  <a:pt x="4858" y="1958"/>
                </a:lnTo>
                <a:lnTo>
                  <a:pt x="4854" y="1960"/>
                </a:lnTo>
                <a:lnTo>
                  <a:pt x="4848" y="1962"/>
                </a:lnTo>
                <a:lnTo>
                  <a:pt x="4838" y="1966"/>
                </a:lnTo>
                <a:lnTo>
                  <a:pt x="4830" y="1968"/>
                </a:lnTo>
                <a:lnTo>
                  <a:pt x="4817" y="1968"/>
                </a:lnTo>
                <a:lnTo>
                  <a:pt x="4815" y="1966"/>
                </a:lnTo>
                <a:lnTo>
                  <a:pt x="4811" y="1966"/>
                </a:lnTo>
                <a:lnTo>
                  <a:pt x="4809" y="1964"/>
                </a:lnTo>
                <a:lnTo>
                  <a:pt x="4807" y="1971"/>
                </a:lnTo>
                <a:lnTo>
                  <a:pt x="4795" y="1983"/>
                </a:lnTo>
                <a:lnTo>
                  <a:pt x="4787" y="1987"/>
                </a:lnTo>
                <a:lnTo>
                  <a:pt x="4781" y="1989"/>
                </a:lnTo>
                <a:lnTo>
                  <a:pt x="4777" y="1989"/>
                </a:lnTo>
                <a:lnTo>
                  <a:pt x="4760" y="1995"/>
                </a:lnTo>
                <a:lnTo>
                  <a:pt x="4752" y="2003"/>
                </a:lnTo>
                <a:lnTo>
                  <a:pt x="4740" y="2007"/>
                </a:lnTo>
                <a:lnTo>
                  <a:pt x="4734" y="2007"/>
                </a:lnTo>
                <a:lnTo>
                  <a:pt x="4728" y="2009"/>
                </a:lnTo>
                <a:lnTo>
                  <a:pt x="4724" y="2009"/>
                </a:lnTo>
                <a:lnTo>
                  <a:pt x="4714" y="2019"/>
                </a:lnTo>
                <a:lnTo>
                  <a:pt x="4714" y="2021"/>
                </a:lnTo>
                <a:lnTo>
                  <a:pt x="4713" y="2024"/>
                </a:lnTo>
                <a:lnTo>
                  <a:pt x="4711" y="2026"/>
                </a:lnTo>
                <a:lnTo>
                  <a:pt x="4699" y="2044"/>
                </a:lnTo>
                <a:lnTo>
                  <a:pt x="4697" y="2048"/>
                </a:lnTo>
                <a:lnTo>
                  <a:pt x="4693" y="2052"/>
                </a:lnTo>
                <a:lnTo>
                  <a:pt x="4689" y="2052"/>
                </a:lnTo>
                <a:lnTo>
                  <a:pt x="4685" y="2054"/>
                </a:lnTo>
                <a:lnTo>
                  <a:pt x="4683" y="2054"/>
                </a:lnTo>
                <a:lnTo>
                  <a:pt x="4679" y="2056"/>
                </a:lnTo>
                <a:lnTo>
                  <a:pt x="4675" y="2056"/>
                </a:lnTo>
                <a:lnTo>
                  <a:pt x="4658" y="2060"/>
                </a:lnTo>
                <a:lnTo>
                  <a:pt x="4642" y="2070"/>
                </a:lnTo>
                <a:lnTo>
                  <a:pt x="4638" y="2074"/>
                </a:lnTo>
                <a:lnTo>
                  <a:pt x="4636" y="2078"/>
                </a:lnTo>
                <a:lnTo>
                  <a:pt x="4632" y="2079"/>
                </a:lnTo>
                <a:lnTo>
                  <a:pt x="4630" y="2083"/>
                </a:lnTo>
                <a:lnTo>
                  <a:pt x="4622" y="2083"/>
                </a:lnTo>
                <a:lnTo>
                  <a:pt x="4618" y="2081"/>
                </a:lnTo>
                <a:lnTo>
                  <a:pt x="4616" y="2079"/>
                </a:lnTo>
                <a:lnTo>
                  <a:pt x="4616" y="2074"/>
                </a:lnTo>
                <a:lnTo>
                  <a:pt x="4618" y="2072"/>
                </a:lnTo>
                <a:lnTo>
                  <a:pt x="4622" y="2070"/>
                </a:lnTo>
                <a:lnTo>
                  <a:pt x="4626" y="2070"/>
                </a:lnTo>
                <a:lnTo>
                  <a:pt x="4628" y="2068"/>
                </a:lnTo>
                <a:lnTo>
                  <a:pt x="4636" y="2064"/>
                </a:lnTo>
                <a:lnTo>
                  <a:pt x="4638" y="2062"/>
                </a:lnTo>
                <a:lnTo>
                  <a:pt x="4644" y="2058"/>
                </a:lnTo>
                <a:lnTo>
                  <a:pt x="4656" y="2054"/>
                </a:lnTo>
                <a:lnTo>
                  <a:pt x="4661" y="2050"/>
                </a:lnTo>
                <a:lnTo>
                  <a:pt x="4659" y="2046"/>
                </a:lnTo>
                <a:lnTo>
                  <a:pt x="4659" y="2042"/>
                </a:lnTo>
                <a:lnTo>
                  <a:pt x="4658" y="2040"/>
                </a:lnTo>
                <a:lnTo>
                  <a:pt x="4658" y="2036"/>
                </a:lnTo>
                <a:lnTo>
                  <a:pt x="4659" y="2030"/>
                </a:lnTo>
                <a:lnTo>
                  <a:pt x="4663" y="2023"/>
                </a:lnTo>
                <a:lnTo>
                  <a:pt x="4667" y="2017"/>
                </a:lnTo>
                <a:lnTo>
                  <a:pt x="4659" y="2015"/>
                </a:lnTo>
                <a:lnTo>
                  <a:pt x="4646" y="2015"/>
                </a:lnTo>
                <a:lnTo>
                  <a:pt x="4638" y="2013"/>
                </a:lnTo>
                <a:lnTo>
                  <a:pt x="4638" y="2011"/>
                </a:lnTo>
                <a:lnTo>
                  <a:pt x="4640" y="2007"/>
                </a:lnTo>
                <a:lnTo>
                  <a:pt x="4640" y="2005"/>
                </a:lnTo>
                <a:lnTo>
                  <a:pt x="4644" y="1997"/>
                </a:lnTo>
                <a:lnTo>
                  <a:pt x="4648" y="1993"/>
                </a:lnTo>
                <a:lnTo>
                  <a:pt x="4650" y="1989"/>
                </a:lnTo>
                <a:lnTo>
                  <a:pt x="4650" y="1983"/>
                </a:lnTo>
                <a:lnTo>
                  <a:pt x="4648" y="1979"/>
                </a:lnTo>
                <a:lnTo>
                  <a:pt x="4646" y="1977"/>
                </a:lnTo>
                <a:lnTo>
                  <a:pt x="4646" y="1971"/>
                </a:lnTo>
                <a:lnTo>
                  <a:pt x="4650" y="1970"/>
                </a:lnTo>
                <a:lnTo>
                  <a:pt x="4652" y="1970"/>
                </a:lnTo>
                <a:lnTo>
                  <a:pt x="4654" y="1968"/>
                </a:lnTo>
                <a:lnTo>
                  <a:pt x="4656" y="1968"/>
                </a:lnTo>
                <a:lnTo>
                  <a:pt x="4656" y="1966"/>
                </a:lnTo>
                <a:lnTo>
                  <a:pt x="4675" y="1946"/>
                </a:lnTo>
                <a:lnTo>
                  <a:pt x="4683" y="1934"/>
                </a:lnTo>
                <a:lnTo>
                  <a:pt x="4689" y="1928"/>
                </a:lnTo>
                <a:lnTo>
                  <a:pt x="4701" y="1909"/>
                </a:lnTo>
                <a:lnTo>
                  <a:pt x="4711" y="1891"/>
                </a:lnTo>
                <a:lnTo>
                  <a:pt x="4714" y="1883"/>
                </a:lnTo>
                <a:lnTo>
                  <a:pt x="4716" y="1881"/>
                </a:lnTo>
                <a:lnTo>
                  <a:pt x="4716" y="1863"/>
                </a:lnTo>
                <a:lnTo>
                  <a:pt x="4711" y="1858"/>
                </a:lnTo>
                <a:lnTo>
                  <a:pt x="4709" y="1858"/>
                </a:lnTo>
                <a:lnTo>
                  <a:pt x="4705" y="1854"/>
                </a:lnTo>
                <a:lnTo>
                  <a:pt x="4705" y="1852"/>
                </a:lnTo>
                <a:lnTo>
                  <a:pt x="4707" y="1848"/>
                </a:lnTo>
                <a:lnTo>
                  <a:pt x="4707" y="1846"/>
                </a:lnTo>
                <a:lnTo>
                  <a:pt x="4699" y="1842"/>
                </a:lnTo>
                <a:lnTo>
                  <a:pt x="4695" y="1842"/>
                </a:lnTo>
                <a:lnTo>
                  <a:pt x="4691" y="1840"/>
                </a:lnTo>
                <a:lnTo>
                  <a:pt x="4689" y="1838"/>
                </a:lnTo>
                <a:lnTo>
                  <a:pt x="4685" y="1836"/>
                </a:lnTo>
                <a:lnTo>
                  <a:pt x="4683" y="1834"/>
                </a:lnTo>
                <a:lnTo>
                  <a:pt x="4667" y="1834"/>
                </a:lnTo>
                <a:lnTo>
                  <a:pt x="4661" y="1832"/>
                </a:lnTo>
                <a:lnTo>
                  <a:pt x="4654" y="1830"/>
                </a:lnTo>
                <a:lnTo>
                  <a:pt x="4648" y="1828"/>
                </a:lnTo>
                <a:lnTo>
                  <a:pt x="4636" y="1820"/>
                </a:lnTo>
                <a:lnTo>
                  <a:pt x="4632" y="1818"/>
                </a:lnTo>
                <a:lnTo>
                  <a:pt x="4628" y="1814"/>
                </a:lnTo>
                <a:lnTo>
                  <a:pt x="4620" y="1810"/>
                </a:lnTo>
                <a:lnTo>
                  <a:pt x="4610" y="1810"/>
                </a:lnTo>
                <a:lnTo>
                  <a:pt x="4608" y="1814"/>
                </a:lnTo>
                <a:lnTo>
                  <a:pt x="4606" y="1816"/>
                </a:lnTo>
                <a:lnTo>
                  <a:pt x="4603" y="1824"/>
                </a:lnTo>
                <a:lnTo>
                  <a:pt x="4595" y="1836"/>
                </a:lnTo>
                <a:lnTo>
                  <a:pt x="4591" y="1840"/>
                </a:lnTo>
                <a:lnTo>
                  <a:pt x="4587" y="1846"/>
                </a:lnTo>
                <a:lnTo>
                  <a:pt x="4583" y="1854"/>
                </a:lnTo>
                <a:lnTo>
                  <a:pt x="4577" y="1863"/>
                </a:lnTo>
                <a:lnTo>
                  <a:pt x="4573" y="1865"/>
                </a:lnTo>
                <a:lnTo>
                  <a:pt x="4569" y="1869"/>
                </a:lnTo>
                <a:lnTo>
                  <a:pt x="4561" y="1873"/>
                </a:lnTo>
                <a:lnTo>
                  <a:pt x="4553" y="1881"/>
                </a:lnTo>
                <a:lnTo>
                  <a:pt x="4550" y="1891"/>
                </a:lnTo>
                <a:lnTo>
                  <a:pt x="4548" y="1903"/>
                </a:lnTo>
                <a:lnTo>
                  <a:pt x="4546" y="1913"/>
                </a:lnTo>
                <a:lnTo>
                  <a:pt x="4538" y="1916"/>
                </a:lnTo>
                <a:lnTo>
                  <a:pt x="4532" y="1918"/>
                </a:lnTo>
                <a:lnTo>
                  <a:pt x="4512" y="1924"/>
                </a:lnTo>
                <a:lnTo>
                  <a:pt x="4491" y="1930"/>
                </a:lnTo>
                <a:lnTo>
                  <a:pt x="4487" y="1932"/>
                </a:lnTo>
                <a:lnTo>
                  <a:pt x="4485" y="1934"/>
                </a:lnTo>
                <a:lnTo>
                  <a:pt x="4477" y="1938"/>
                </a:lnTo>
                <a:lnTo>
                  <a:pt x="4471" y="1942"/>
                </a:lnTo>
                <a:lnTo>
                  <a:pt x="4467" y="1946"/>
                </a:lnTo>
                <a:lnTo>
                  <a:pt x="4455" y="1954"/>
                </a:lnTo>
                <a:lnTo>
                  <a:pt x="4443" y="1960"/>
                </a:lnTo>
                <a:lnTo>
                  <a:pt x="4432" y="1973"/>
                </a:lnTo>
                <a:lnTo>
                  <a:pt x="4428" y="1993"/>
                </a:lnTo>
                <a:lnTo>
                  <a:pt x="4428" y="1995"/>
                </a:lnTo>
                <a:lnTo>
                  <a:pt x="4430" y="1997"/>
                </a:lnTo>
                <a:lnTo>
                  <a:pt x="4430" y="2007"/>
                </a:lnTo>
                <a:lnTo>
                  <a:pt x="4428" y="2011"/>
                </a:lnTo>
                <a:lnTo>
                  <a:pt x="4410" y="2028"/>
                </a:lnTo>
                <a:lnTo>
                  <a:pt x="4408" y="2032"/>
                </a:lnTo>
                <a:lnTo>
                  <a:pt x="4404" y="2034"/>
                </a:lnTo>
                <a:lnTo>
                  <a:pt x="4398" y="2036"/>
                </a:lnTo>
                <a:lnTo>
                  <a:pt x="4392" y="2034"/>
                </a:lnTo>
                <a:lnTo>
                  <a:pt x="4381" y="2034"/>
                </a:lnTo>
                <a:lnTo>
                  <a:pt x="4377" y="2036"/>
                </a:lnTo>
                <a:lnTo>
                  <a:pt x="4373" y="2040"/>
                </a:lnTo>
                <a:lnTo>
                  <a:pt x="4369" y="2042"/>
                </a:lnTo>
                <a:lnTo>
                  <a:pt x="4334" y="2058"/>
                </a:lnTo>
                <a:lnTo>
                  <a:pt x="4330" y="2050"/>
                </a:lnTo>
                <a:lnTo>
                  <a:pt x="4322" y="2038"/>
                </a:lnTo>
                <a:lnTo>
                  <a:pt x="4318" y="2034"/>
                </a:lnTo>
                <a:lnTo>
                  <a:pt x="4310" y="2030"/>
                </a:lnTo>
                <a:lnTo>
                  <a:pt x="4302" y="2042"/>
                </a:lnTo>
                <a:lnTo>
                  <a:pt x="4282" y="2058"/>
                </a:lnTo>
                <a:lnTo>
                  <a:pt x="4277" y="2070"/>
                </a:lnTo>
                <a:lnTo>
                  <a:pt x="4273" y="2083"/>
                </a:lnTo>
                <a:lnTo>
                  <a:pt x="4269" y="2095"/>
                </a:lnTo>
                <a:lnTo>
                  <a:pt x="4267" y="2109"/>
                </a:lnTo>
                <a:lnTo>
                  <a:pt x="4267" y="2115"/>
                </a:lnTo>
                <a:lnTo>
                  <a:pt x="4271" y="2119"/>
                </a:lnTo>
                <a:lnTo>
                  <a:pt x="4275" y="2127"/>
                </a:lnTo>
                <a:lnTo>
                  <a:pt x="4279" y="2132"/>
                </a:lnTo>
                <a:lnTo>
                  <a:pt x="4281" y="2138"/>
                </a:lnTo>
                <a:lnTo>
                  <a:pt x="4284" y="2142"/>
                </a:lnTo>
                <a:lnTo>
                  <a:pt x="4286" y="2148"/>
                </a:lnTo>
                <a:lnTo>
                  <a:pt x="4290" y="2154"/>
                </a:lnTo>
                <a:lnTo>
                  <a:pt x="4292" y="2158"/>
                </a:lnTo>
                <a:lnTo>
                  <a:pt x="4296" y="2162"/>
                </a:lnTo>
                <a:lnTo>
                  <a:pt x="4310" y="2168"/>
                </a:lnTo>
                <a:lnTo>
                  <a:pt x="4324" y="2170"/>
                </a:lnTo>
                <a:lnTo>
                  <a:pt x="4339" y="2172"/>
                </a:lnTo>
                <a:lnTo>
                  <a:pt x="4357" y="2174"/>
                </a:lnTo>
                <a:lnTo>
                  <a:pt x="4400" y="2174"/>
                </a:lnTo>
                <a:lnTo>
                  <a:pt x="4408" y="2182"/>
                </a:lnTo>
                <a:lnTo>
                  <a:pt x="4412" y="2184"/>
                </a:lnTo>
                <a:lnTo>
                  <a:pt x="4414" y="2187"/>
                </a:lnTo>
                <a:lnTo>
                  <a:pt x="4418" y="2189"/>
                </a:lnTo>
                <a:lnTo>
                  <a:pt x="4420" y="2193"/>
                </a:lnTo>
                <a:lnTo>
                  <a:pt x="4420" y="2201"/>
                </a:lnTo>
                <a:lnTo>
                  <a:pt x="4418" y="2205"/>
                </a:lnTo>
                <a:lnTo>
                  <a:pt x="4416" y="2205"/>
                </a:lnTo>
                <a:lnTo>
                  <a:pt x="4410" y="2211"/>
                </a:lnTo>
                <a:lnTo>
                  <a:pt x="4410" y="2215"/>
                </a:lnTo>
                <a:lnTo>
                  <a:pt x="4402" y="2223"/>
                </a:lnTo>
                <a:lnTo>
                  <a:pt x="4400" y="2229"/>
                </a:lnTo>
                <a:lnTo>
                  <a:pt x="4400" y="2235"/>
                </a:lnTo>
                <a:lnTo>
                  <a:pt x="4398" y="2246"/>
                </a:lnTo>
                <a:lnTo>
                  <a:pt x="4394" y="2256"/>
                </a:lnTo>
                <a:lnTo>
                  <a:pt x="4392" y="2266"/>
                </a:lnTo>
                <a:lnTo>
                  <a:pt x="4392" y="2270"/>
                </a:lnTo>
                <a:lnTo>
                  <a:pt x="4394" y="2274"/>
                </a:lnTo>
                <a:lnTo>
                  <a:pt x="4402" y="2278"/>
                </a:lnTo>
                <a:lnTo>
                  <a:pt x="4412" y="2282"/>
                </a:lnTo>
                <a:lnTo>
                  <a:pt x="4420" y="2286"/>
                </a:lnTo>
                <a:lnTo>
                  <a:pt x="4426" y="2290"/>
                </a:lnTo>
                <a:lnTo>
                  <a:pt x="4438" y="2294"/>
                </a:lnTo>
                <a:lnTo>
                  <a:pt x="4449" y="2294"/>
                </a:lnTo>
                <a:lnTo>
                  <a:pt x="4455" y="2292"/>
                </a:lnTo>
                <a:lnTo>
                  <a:pt x="4461" y="2292"/>
                </a:lnTo>
                <a:lnTo>
                  <a:pt x="4467" y="2290"/>
                </a:lnTo>
                <a:lnTo>
                  <a:pt x="4481" y="2288"/>
                </a:lnTo>
                <a:lnTo>
                  <a:pt x="4491" y="2284"/>
                </a:lnTo>
                <a:lnTo>
                  <a:pt x="4500" y="2274"/>
                </a:lnTo>
                <a:lnTo>
                  <a:pt x="4495" y="2270"/>
                </a:lnTo>
                <a:lnTo>
                  <a:pt x="4491" y="2264"/>
                </a:lnTo>
                <a:lnTo>
                  <a:pt x="4498" y="2260"/>
                </a:lnTo>
                <a:lnTo>
                  <a:pt x="4504" y="2260"/>
                </a:lnTo>
                <a:lnTo>
                  <a:pt x="4510" y="2258"/>
                </a:lnTo>
                <a:lnTo>
                  <a:pt x="4522" y="2250"/>
                </a:lnTo>
                <a:lnTo>
                  <a:pt x="4532" y="2240"/>
                </a:lnTo>
                <a:lnTo>
                  <a:pt x="4532" y="2239"/>
                </a:lnTo>
                <a:lnTo>
                  <a:pt x="4534" y="2239"/>
                </a:lnTo>
                <a:lnTo>
                  <a:pt x="4536" y="2237"/>
                </a:lnTo>
                <a:lnTo>
                  <a:pt x="4544" y="2231"/>
                </a:lnTo>
                <a:lnTo>
                  <a:pt x="4555" y="2219"/>
                </a:lnTo>
                <a:lnTo>
                  <a:pt x="4563" y="2215"/>
                </a:lnTo>
                <a:lnTo>
                  <a:pt x="4565" y="2211"/>
                </a:lnTo>
                <a:lnTo>
                  <a:pt x="4569" y="2211"/>
                </a:lnTo>
                <a:lnTo>
                  <a:pt x="4571" y="2209"/>
                </a:lnTo>
                <a:lnTo>
                  <a:pt x="4579" y="2209"/>
                </a:lnTo>
                <a:lnTo>
                  <a:pt x="4583" y="2211"/>
                </a:lnTo>
                <a:lnTo>
                  <a:pt x="4583" y="2217"/>
                </a:lnTo>
                <a:lnTo>
                  <a:pt x="4585" y="2219"/>
                </a:lnTo>
                <a:lnTo>
                  <a:pt x="4585" y="2223"/>
                </a:lnTo>
                <a:lnTo>
                  <a:pt x="4587" y="2227"/>
                </a:lnTo>
                <a:lnTo>
                  <a:pt x="4589" y="2229"/>
                </a:lnTo>
                <a:lnTo>
                  <a:pt x="4597" y="2233"/>
                </a:lnTo>
                <a:lnTo>
                  <a:pt x="4603" y="2237"/>
                </a:lnTo>
                <a:lnTo>
                  <a:pt x="4610" y="2244"/>
                </a:lnTo>
                <a:lnTo>
                  <a:pt x="4616" y="2248"/>
                </a:lnTo>
                <a:lnTo>
                  <a:pt x="4622" y="2250"/>
                </a:lnTo>
                <a:lnTo>
                  <a:pt x="4630" y="2250"/>
                </a:lnTo>
                <a:lnTo>
                  <a:pt x="4636" y="2252"/>
                </a:lnTo>
                <a:lnTo>
                  <a:pt x="4642" y="2252"/>
                </a:lnTo>
                <a:lnTo>
                  <a:pt x="4648" y="2254"/>
                </a:lnTo>
                <a:lnTo>
                  <a:pt x="4652" y="2256"/>
                </a:lnTo>
                <a:lnTo>
                  <a:pt x="4654" y="2258"/>
                </a:lnTo>
                <a:lnTo>
                  <a:pt x="4699" y="2258"/>
                </a:lnTo>
                <a:lnTo>
                  <a:pt x="4699" y="2252"/>
                </a:lnTo>
                <a:lnTo>
                  <a:pt x="4701" y="2248"/>
                </a:lnTo>
                <a:lnTo>
                  <a:pt x="4713" y="2256"/>
                </a:lnTo>
                <a:lnTo>
                  <a:pt x="4730" y="2262"/>
                </a:lnTo>
                <a:lnTo>
                  <a:pt x="4738" y="2266"/>
                </a:lnTo>
                <a:lnTo>
                  <a:pt x="4750" y="2270"/>
                </a:lnTo>
                <a:lnTo>
                  <a:pt x="4748" y="2276"/>
                </a:lnTo>
                <a:lnTo>
                  <a:pt x="4744" y="2284"/>
                </a:lnTo>
                <a:lnTo>
                  <a:pt x="4736" y="2295"/>
                </a:lnTo>
                <a:lnTo>
                  <a:pt x="4736" y="2299"/>
                </a:lnTo>
                <a:lnTo>
                  <a:pt x="4734" y="2299"/>
                </a:lnTo>
                <a:lnTo>
                  <a:pt x="4732" y="2301"/>
                </a:lnTo>
                <a:lnTo>
                  <a:pt x="4726" y="2301"/>
                </a:lnTo>
                <a:lnTo>
                  <a:pt x="4722" y="2303"/>
                </a:lnTo>
                <a:lnTo>
                  <a:pt x="4720" y="2305"/>
                </a:lnTo>
                <a:lnTo>
                  <a:pt x="4716" y="2305"/>
                </a:lnTo>
                <a:lnTo>
                  <a:pt x="4685" y="2309"/>
                </a:lnTo>
                <a:lnTo>
                  <a:pt x="4679" y="2311"/>
                </a:lnTo>
                <a:lnTo>
                  <a:pt x="4677" y="2315"/>
                </a:lnTo>
                <a:lnTo>
                  <a:pt x="4669" y="2323"/>
                </a:lnTo>
                <a:lnTo>
                  <a:pt x="4665" y="2325"/>
                </a:lnTo>
                <a:lnTo>
                  <a:pt x="4663" y="2329"/>
                </a:lnTo>
                <a:lnTo>
                  <a:pt x="4659" y="2331"/>
                </a:lnTo>
                <a:lnTo>
                  <a:pt x="4656" y="2331"/>
                </a:lnTo>
                <a:lnTo>
                  <a:pt x="4652" y="2333"/>
                </a:lnTo>
                <a:lnTo>
                  <a:pt x="4646" y="2333"/>
                </a:lnTo>
                <a:lnTo>
                  <a:pt x="4642" y="2335"/>
                </a:lnTo>
                <a:lnTo>
                  <a:pt x="4640" y="2335"/>
                </a:lnTo>
                <a:lnTo>
                  <a:pt x="4636" y="2339"/>
                </a:lnTo>
                <a:lnTo>
                  <a:pt x="4634" y="2339"/>
                </a:lnTo>
                <a:lnTo>
                  <a:pt x="4628" y="2341"/>
                </a:lnTo>
                <a:lnTo>
                  <a:pt x="4624" y="2343"/>
                </a:lnTo>
                <a:lnTo>
                  <a:pt x="4612" y="2347"/>
                </a:lnTo>
                <a:lnTo>
                  <a:pt x="4608" y="2348"/>
                </a:lnTo>
                <a:lnTo>
                  <a:pt x="4603" y="2350"/>
                </a:lnTo>
                <a:lnTo>
                  <a:pt x="4599" y="2352"/>
                </a:lnTo>
                <a:lnTo>
                  <a:pt x="4583" y="2352"/>
                </a:lnTo>
                <a:lnTo>
                  <a:pt x="4583" y="2354"/>
                </a:lnTo>
                <a:lnTo>
                  <a:pt x="4581" y="2356"/>
                </a:lnTo>
                <a:lnTo>
                  <a:pt x="4579" y="2356"/>
                </a:lnTo>
                <a:lnTo>
                  <a:pt x="4583" y="2360"/>
                </a:lnTo>
                <a:lnTo>
                  <a:pt x="4587" y="2362"/>
                </a:lnTo>
                <a:lnTo>
                  <a:pt x="4581" y="2368"/>
                </a:lnTo>
                <a:lnTo>
                  <a:pt x="4573" y="2372"/>
                </a:lnTo>
                <a:lnTo>
                  <a:pt x="4567" y="2378"/>
                </a:lnTo>
                <a:lnTo>
                  <a:pt x="4567" y="2384"/>
                </a:lnTo>
                <a:lnTo>
                  <a:pt x="4569" y="2386"/>
                </a:lnTo>
                <a:lnTo>
                  <a:pt x="4569" y="2396"/>
                </a:lnTo>
                <a:lnTo>
                  <a:pt x="4565" y="2402"/>
                </a:lnTo>
                <a:lnTo>
                  <a:pt x="4557" y="2409"/>
                </a:lnTo>
                <a:lnTo>
                  <a:pt x="4546" y="2413"/>
                </a:lnTo>
                <a:lnTo>
                  <a:pt x="4540" y="2417"/>
                </a:lnTo>
                <a:lnTo>
                  <a:pt x="4532" y="2419"/>
                </a:lnTo>
                <a:lnTo>
                  <a:pt x="4520" y="2427"/>
                </a:lnTo>
                <a:lnTo>
                  <a:pt x="4516" y="2433"/>
                </a:lnTo>
                <a:lnTo>
                  <a:pt x="4510" y="2441"/>
                </a:lnTo>
                <a:lnTo>
                  <a:pt x="4508" y="2445"/>
                </a:lnTo>
                <a:lnTo>
                  <a:pt x="4504" y="2447"/>
                </a:lnTo>
                <a:lnTo>
                  <a:pt x="4502" y="2449"/>
                </a:lnTo>
                <a:lnTo>
                  <a:pt x="4498" y="2451"/>
                </a:lnTo>
                <a:lnTo>
                  <a:pt x="4495" y="2456"/>
                </a:lnTo>
                <a:lnTo>
                  <a:pt x="4489" y="2462"/>
                </a:lnTo>
                <a:lnTo>
                  <a:pt x="4489" y="2466"/>
                </a:lnTo>
                <a:lnTo>
                  <a:pt x="4487" y="2468"/>
                </a:lnTo>
                <a:lnTo>
                  <a:pt x="4475" y="2472"/>
                </a:lnTo>
                <a:lnTo>
                  <a:pt x="4473" y="2472"/>
                </a:lnTo>
                <a:lnTo>
                  <a:pt x="4473" y="2474"/>
                </a:lnTo>
                <a:lnTo>
                  <a:pt x="4469" y="2474"/>
                </a:lnTo>
                <a:lnTo>
                  <a:pt x="4467" y="2476"/>
                </a:lnTo>
                <a:lnTo>
                  <a:pt x="4461" y="2476"/>
                </a:lnTo>
                <a:lnTo>
                  <a:pt x="4459" y="2478"/>
                </a:lnTo>
                <a:lnTo>
                  <a:pt x="4457" y="2482"/>
                </a:lnTo>
                <a:lnTo>
                  <a:pt x="4455" y="2484"/>
                </a:lnTo>
                <a:lnTo>
                  <a:pt x="4455" y="2488"/>
                </a:lnTo>
                <a:lnTo>
                  <a:pt x="4451" y="2496"/>
                </a:lnTo>
                <a:lnTo>
                  <a:pt x="4449" y="2498"/>
                </a:lnTo>
                <a:lnTo>
                  <a:pt x="4447" y="2502"/>
                </a:lnTo>
                <a:lnTo>
                  <a:pt x="4440" y="2513"/>
                </a:lnTo>
                <a:lnTo>
                  <a:pt x="4438" y="2519"/>
                </a:lnTo>
                <a:lnTo>
                  <a:pt x="4432" y="2525"/>
                </a:lnTo>
                <a:lnTo>
                  <a:pt x="4424" y="2537"/>
                </a:lnTo>
                <a:lnTo>
                  <a:pt x="4420" y="2549"/>
                </a:lnTo>
                <a:lnTo>
                  <a:pt x="4420" y="2555"/>
                </a:lnTo>
                <a:lnTo>
                  <a:pt x="4426" y="2566"/>
                </a:lnTo>
                <a:lnTo>
                  <a:pt x="4424" y="2576"/>
                </a:lnTo>
                <a:lnTo>
                  <a:pt x="4430" y="2578"/>
                </a:lnTo>
                <a:lnTo>
                  <a:pt x="4438" y="2578"/>
                </a:lnTo>
                <a:lnTo>
                  <a:pt x="4443" y="2580"/>
                </a:lnTo>
                <a:lnTo>
                  <a:pt x="4449" y="2580"/>
                </a:lnTo>
                <a:lnTo>
                  <a:pt x="4461" y="2584"/>
                </a:lnTo>
                <a:lnTo>
                  <a:pt x="4465" y="2586"/>
                </a:lnTo>
                <a:lnTo>
                  <a:pt x="4471" y="2590"/>
                </a:lnTo>
                <a:lnTo>
                  <a:pt x="4479" y="2594"/>
                </a:lnTo>
                <a:lnTo>
                  <a:pt x="4487" y="2596"/>
                </a:lnTo>
                <a:lnTo>
                  <a:pt x="4495" y="2600"/>
                </a:lnTo>
                <a:lnTo>
                  <a:pt x="4500" y="2606"/>
                </a:lnTo>
                <a:lnTo>
                  <a:pt x="4506" y="2614"/>
                </a:lnTo>
                <a:lnTo>
                  <a:pt x="4512" y="2625"/>
                </a:lnTo>
                <a:lnTo>
                  <a:pt x="4516" y="2629"/>
                </a:lnTo>
                <a:lnTo>
                  <a:pt x="4518" y="2633"/>
                </a:lnTo>
                <a:lnTo>
                  <a:pt x="4520" y="2639"/>
                </a:lnTo>
                <a:lnTo>
                  <a:pt x="4524" y="2647"/>
                </a:lnTo>
                <a:lnTo>
                  <a:pt x="4526" y="2655"/>
                </a:lnTo>
                <a:lnTo>
                  <a:pt x="4530" y="2663"/>
                </a:lnTo>
                <a:lnTo>
                  <a:pt x="4536" y="2671"/>
                </a:lnTo>
                <a:lnTo>
                  <a:pt x="4542" y="2676"/>
                </a:lnTo>
                <a:lnTo>
                  <a:pt x="4546" y="2684"/>
                </a:lnTo>
                <a:lnTo>
                  <a:pt x="4551" y="2702"/>
                </a:lnTo>
                <a:lnTo>
                  <a:pt x="4553" y="2718"/>
                </a:lnTo>
                <a:lnTo>
                  <a:pt x="4555" y="2735"/>
                </a:lnTo>
                <a:lnTo>
                  <a:pt x="4559" y="2741"/>
                </a:lnTo>
                <a:lnTo>
                  <a:pt x="4561" y="2745"/>
                </a:lnTo>
                <a:lnTo>
                  <a:pt x="4577" y="2792"/>
                </a:lnTo>
                <a:lnTo>
                  <a:pt x="4579" y="2802"/>
                </a:lnTo>
                <a:lnTo>
                  <a:pt x="4587" y="2812"/>
                </a:lnTo>
                <a:lnTo>
                  <a:pt x="4603" y="2824"/>
                </a:lnTo>
                <a:lnTo>
                  <a:pt x="4610" y="2832"/>
                </a:lnTo>
                <a:lnTo>
                  <a:pt x="4614" y="2837"/>
                </a:lnTo>
                <a:lnTo>
                  <a:pt x="4618" y="2845"/>
                </a:lnTo>
                <a:lnTo>
                  <a:pt x="4622" y="2847"/>
                </a:lnTo>
                <a:lnTo>
                  <a:pt x="4624" y="2851"/>
                </a:lnTo>
                <a:lnTo>
                  <a:pt x="4628" y="2853"/>
                </a:lnTo>
                <a:lnTo>
                  <a:pt x="4628" y="2859"/>
                </a:lnTo>
                <a:lnTo>
                  <a:pt x="4626" y="2863"/>
                </a:lnTo>
                <a:lnTo>
                  <a:pt x="4624" y="2865"/>
                </a:lnTo>
                <a:lnTo>
                  <a:pt x="4624" y="2869"/>
                </a:lnTo>
                <a:lnTo>
                  <a:pt x="4626" y="2869"/>
                </a:lnTo>
                <a:lnTo>
                  <a:pt x="4628" y="2871"/>
                </a:lnTo>
                <a:lnTo>
                  <a:pt x="4632" y="2873"/>
                </a:lnTo>
                <a:lnTo>
                  <a:pt x="4634" y="2875"/>
                </a:lnTo>
                <a:lnTo>
                  <a:pt x="4642" y="2879"/>
                </a:lnTo>
                <a:lnTo>
                  <a:pt x="4648" y="2883"/>
                </a:lnTo>
                <a:lnTo>
                  <a:pt x="4654" y="2885"/>
                </a:lnTo>
                <a:lnTo>
                  <a:pt x="4658" y="2890"/>
                </a:lnTo>
                <a:lnTo>
                  <a:pt x="4663" y="2898"/>
                </a:lnTo>
                <a:lnTo>
                  <a:pt x="4667" y="2906"/>
                </a:lnTo>
                <a:lnTo>
                  <a:pt x="4669" y="2912"/>
                </a:lnTo>
                <a:lnTo>
                  <a:pt x="4675" y="2920"/>
                </a:lnTo>
                <a:lnTo>
                  <a:pt x="4646" y="2916"/>
                </a:lnTo>
                <a:lnTo>
                  <a:pt x="4636" y="2916"/>
                </a:lnTo>
                <a:lnTo>
                  <a:pt x="4634" y="2920"/>
                </a:lnTo>
                <a:lnTo>
                  <a:pt x="4646" y="2928"/>
                </a:lnTo>
                <a:lnTo>
                  <a:pt x="4652" y="2930"/>
                </a:lnTo>
                <a:lnTo>
                  <a:pt x="4656" y="2934"/>
                </a:lnTo>
                <a:lnTo>
                  <a:pt x="4659" y="2940"/>
                </a:lnTo>
                <a:lnTo>
                  <a:pt x="4663" y="2947"/>
                </a:lnTo>
                <a:lnTo>
                  <a:pt x="4665" y="2949"/>
                </a:lnTo>
                <a:lnTo>
                  <a:pt x="4665" y="2951"/>
                </a:lnTo>
                <a:lnTo>
                  <a:pt x="4663" y="2951"/>
                </a:lnTo>
                <a:lnTo>
                  <a:pt x="4661" y="2949"/>
                </a:lnTo>
                <a:lnTo>
                  <a:pt x="4658" y="2947"/>
                </a:lnTo>
                <a:lnTo>
                  <a:pt x="4656" y="2943"/>
                </a:lnTo>
                <a:lnTo>
                  <a:pt x="4652" y="2941"/>
                </a:lnTo>
                <a:lnTo>
                  <a:pt x="4638" y="2928"/>
                </a:lnTo>
                <a:lnTo>
                  <a:pt x="4606" y="2916"/>
                </a:lnTo>
                <a:lnTo>
                  <a:pt x="4608" y="2930"/>
                </a:lnTo>
                <a:lnTo>
                  <a:pt x="4610" y="2940"/>
                </a:lnTo>
                <a:lnTo>
                  <a:pt x="4618" y="2949"/>
                </a:lnTo>
                <a:lnTo>
                  <a:pt x="4624" y="2953"/>
                </a:lnTo>
                <a:lnTo>
                  <a:pt x="4630" y="2959"/>
                </a:lnTo>
                <a:lnTo>
                  <a:pt x="4636" y="2963"/>
                </a:lnTo>
                <a:lnTo>
                  <a:pt x="4640" y="2965"/>
                </a:lnTo>
                <a:lnTo>
                  <a:pt x="4644" y="2965"/>
                </a:lnTo>
                <a:lnTo>
                  <a:pt x="4648" y="2967"/>
                </a:lnTo>
                <a:lnTo>
                  <a:pt x="4654" y="2969"/>
                </a:lnTo>
                <a:lnTo>
                  <a:pt x="4659" y="2973"/>
                </a:lnTo>
                <a:lnTo>
                  <a:pt x="4673" y="2987"/>
                </a:lnTo>
                <a:lnTo>
                  <a:pt x="4673" y="2989"/>
                </a:lnTo>
                <a:lnTo>
                  <a:pt x="4675" y="2991"/>
                </a:lnTo>
                <a:lnTo>
                  <a:pt x="4675" y="2995"/>
                </a:lnTo>
                <a:lnTo>
                  <a:pt x="4677" y="3000"/>
                </a:lnTo>
                <a:lnTo>
                  <a:pt x="4679" y="3004"/>
                </a:lnTo>
                <a:lnTo>
                  <a:pt x="4683" y="3006"/>
                </a:lnTo>
                <a:lnTo>
                  <a:pt x="4685" y="3010"/>
                </a:lnTo>
                <a:lnTo>
                  <a:pt x="4685" y="3018"/>
                </a:lnTo>
                <a:lnTo>
                  <a:pt x="4681" y="3018"/>
                </a:lnTo>
                <a:lnTo>
                  <a:pt x="4681" y="3020"/>
                </a:lnTo>
                <a:lnTo>
                  <a:pt x="4677" y="3024"/>
                </a:lnTo>
                <a:lnTo>
                  <a:pt x="4673" y="3026"/>
                </a:lnTo>
                <a:lnTo>
                  <a:pt x="4669" y="3026"/>
                </a:lnTo>
                <a:lnTo>
                  <a:pt x="4658" y="3030"/>
                </a:lnTo>
                <a:lnTo>
                  <a:pt x="4650" y="3034"/>
                </a:lnTo>
                <a:lnTo>
                  <a:pt x="4644" y="3036"/>
                </a:lnTo>
                <a:lnTo>
                  <a:pt x="4620" y="3042"/>
                </a:lnTo>
                <a:lnTo>
                  <a:pt x="4603" y="3057"/>
                </a:lnTo>
                <a:lnTo>
                  <a:pt x="4599" y="3065"/>
                </a:lnTo>
                <a:lnTo>
                  <a:pt x="4597" y="3067"/>
                </a:lnTo>
                <a:lnTo>
                  <a:pt x="4595" y="3071"/>
                </a:lnTo>
                <a:lnTo>
                  <a:pt x="4589" y="3077"/>
                </a:lnTo>
                <a:lnTo>
                  <a:pt x="4583" y="3077"/>
                </a:lnTo>
                <a:lnTo>
                  <a:pt x="4579" y="3079"/>
                </a:lnTo>
                <a:lnTo>
                  <a:pt x="4559" y="3079"/>
                </a:lnTo>
                <a:lnTo>
                  <a:pt x="4548" y="3083"/>
                </a:lnTo>
                <a:lnTo>
                  <a:pt x="4544" y="3085"/>
                </a:lnTo>
                <a:lnTo>
                  <a:pt x="4538" y="3087"/>
                </a:lnTo>
                <a:lnTo>
                  <a:pt x="4534" y="3089"/>
                </a:lnTo>
                <a:lnTo>
                  <a:pt x="4530" y="3089"/>
                </a:lnTo>
                <a:lnTo>
                  <a:pt x="4528" y="3091"/>
                </a:lnTo>
                <a:lnTo>
                  <a:pt x="4528" y="3095"/>
                </a:lnTo>
                <a:lnTo>
                  <a:pt x="4532" y="3097"/>
                </a:lnTo>
                <a:lnTo>
                  <a:pt x="4555" y="3097"/>
                </a:lnTo>
                <a:lnTo>
                  <a:pt x="4561" y="3103"/>
                </a:lnTo>
                <a:lnTo>
                  <a:pt x="4563" y="3106"/>
                </a:lnTo>
                <a:lnTo>
                  <a:pt x="4571" y="3110"/>
                </a:lnTo>
                <a:lnTo>
                  <a:pt x="4575" y="3110"/>
                </a:lnTo>
                <a:lnTo>
                  <a:pt x="4577" y="3108"/>
                </a:lnTo>
                <a:lnTo>
                  <a:pt x="4581" y="3106"/>
                </a:lnTo>
                <a:lnTo>
                  <a:pt x="4583" y="3104"/>
                </a:lnTo>
                <a:lnTo>
                  <a:pt x="4601" y="3099"/>
                </a:lnTo>
                <a:lnTo>
                  <a:pt x="4618" y="3097"/>
                </a:lnTo>
                <a:lnTo>
                  <a:pt x="4622" y="3097"/>
                </a:lnTo>
                <a:lnTo>
                  <a:pt x="4628" y="3103"/>
                </a:lnTo>
                <a:lnTo>
                  <a:pt x="4636" y="3106"/>
                </a:lnTo>
                <a:lnTo>
                  <a:pt x="4638" y="3106"/>
                </a:lnTo>
                <a:lnTo>
                  <a:pt x="4654" y="3114"/>
                </a:lnTo>
                <a:lnTo>
                  <a:pt x="4663" y="3124"/>
                </a:lnTo>
                <a:lnTo>
                  <a:pt x="4671" y="3130"/>
                </a:lnTo>
                <a:lnTo>
                  <a:pt x="4683" y="3142"/>
                </a:lnTo>
                <a:lnTo>
                  <a:pt x="4689" y="3146"/>
                </a:lnTo>
                <a:lnTo>
                  <a:pt x="4673" y="3154"/>
                </a:lnTo>
                <a:lnTo>
                  <a:pt x="4667" y="3159"/>
                </a:lnTo>
                <a:lnTo>
                  <a:pt x="4663" y="3165"/>
                </a:lnTo>
                <a:lnTo>
                  <a:pt x="4661" y="3169"/>
                </a:lnTo>
                <a:lnTo>
                  <a:pt x="4661" y="3171"/>
                </a:lnTo>
                <a:lnTo>
                  <a:pt x="4659" y="3175"/>
                </a:lnTo>
                <a:lnTo>
                  <a:pt x="4656" y="3179"/>
                </a:lnTo>
                <a:lnTo>
                  <a:pt x="4654" y="3179"/>
                </a:lnTo>
                <a:lnTo>
                  <a:pt x="4646" y="3187"/>
                </a:lnTo>
                <a:lnTo>
                  <a:pt x="4650" y="3189"/>
                </a:lnTo>
                <a:lnTo>
                  <a:pt x="4656" y="3185"/>
                </a:lnTo>
                <a:lnTo>
                  <a:pt x="4659" y="3183"/>
                </a:lnTo>
                <a:lnTo>
                  <a:pt x="4663" y="3179"/>
                </a:lnTo>
                <a:lnTo>
                  <a:pt x="4681" y="3173"/>
                </a:lnTo>
                <a:lnTo>
                  <a:pt x="4685" y="3173"/>
                </a:lnTo>
                <a:lnTo>
                  <a:pt x="4691" y="3171"/>
                </a:lnTo>
                <a:lnTo>
                  <a:pt x="4687" y="3177"/>
                </a:lnTo>
                <a:lnTo>
                  <a:pt x="4685" y="3185"/>
                </a:lnTo>
                <a:lnTo>
                  <a:pt x="4681" y="3197"/>
                </a:lnTo>
                <a:lnTo>
                  <a:pt x="4681" y="3199"/>
                </a:lnTo>
                <a:lnTo>
                  <a:pt x="4685" y="3203"/>
                </a:lnTo>
                <a:lnTo>
                  <a:pt x="4687" y="3207"/>
                </a:lnTo>
                <a:lnTo>
                  <a:pt x="4687" y="3218"/>
                </a:lnTo>
                <a:lnTo>
                  <a:pt x="4685" y="3220"/>
                </a:lnTo>
                <a:lnTo>
                  <a:pt x="4685" y="3222"/>
                </a:lnTo>
                <a:lnTo>
                  <a:pt x="4677" y="3218"/>
                </a:lnTo>
                <a:lnTo>
                  <a:pt x="4671" y="3214"/>
                </a:lnTo>
                <a:lnTo>
                  <a:pt x="4667" y="3211"/>
                </a:lnTo>
                <a:lnTo>
                  <a:pt x="4661" y="3207"/>
                </a:lnTo>
                <a:lnTo>
                  <a:pt x="4656" y="3205"/>
                </a:lnTo>
                <a:lnTo>
                  <a:pt x="4654" y="3212"/>
                </a:lnTo>
                <a:lnTo>
                  <a:pt x="4654" y="3236"/>
                </a:lnTo>
                <a:lnTo>
                  <a:pt x="4656" y="3236"/>
                </a:lnTo>
                <a:lnTo>
                  <a:pt x="4656" y="3238"/>
                </a:lnTo>
                <a:lnTo>
                  <a:pt x="4658" y="3242"/>
                </a:lnTo>
                <a:lnTo>
                  <a:pt x="4658" y="3250"/>
                </a:lnTo>
                <a:lnTo>
                  <a:pt x="4654" y="3258"/>
                </a:lnTo>
                <a:lnTo>
                  <a:pt x="4642" y="3262"/>
                </a:lnTo>
                <a:lnTo>
                  <a:pt x="4642" y="3267"/>
                </a:lnTo>
                <a:lnTo>
                  <a:pt x="4644" y="3271"/>
                </a:lnTo>
                <a:lnTo>
                  <a:pt x="4644" y="3277"/>
                </a:lnTo>
                <a:lnTo>
                  <a:pt x="4640" y="3295"/>
                </a:lnTo>
                <a:lnTo>
                  <a:pt x="4636" y="3309"/>
                </a:lnTo>
                <a:lnTo>
                  <a:pt x="4628" y="3322"/>
                </a:lnTo>
                <a:lnTo>
                  <a:pt x="4624" y="3326"/>
                </a:lnTo>
                <a:lnTo>
                  <a:pt x="4620" y="3328"/>
                </a:lnTo>
                <a:lnTo>
                  <a:pt x="4616" y="3328"/>
                </a:lnTo>
                <a:lnTo>
                  <a:pt x="4612" y="3330"/>
                </a:lnTo>
                <a:lnTo>
                  <a:pt x="4606" y="3334"/>
                </a:lnTo>
                <a:lnTo>
                  <a:pt x="4599" y="3336"/>
                </a:lnTo>
                <a:lnTo>
                  <a:pt x="4593" y="3338"/>
                </a:lnTo>
                <a:lnTo>
                  <a:pt x="4583" y="3348"/>
                </a:lnTo>
                <a:lnTo>
                  <a:pt x="4581" y="3356"/>
                </a:lnTo>
                <a:lnTo>
                  <a:pt x="4577" y="3362"/>
                </a:lnTo>
                <a:lnTo>
                  <a:pt x="4573" y="3370"/>
                </a:lnTo>
                <a:lnTo>
                  <a:pt x="4569" y="3372"/>
                </a:lnTo>
                <a:lnTo>
                  <a:pt x="4561" y="3372"/>
                </a:lnTo>
                <a:lnTo>
                  <a:pt x="4561" y="3389"/>
                </a:lnTo>
                <a:lnTo>
                  <a:pt x="4557" y="3393"/>
                </a:lnTo>
                <a:lnTo>
                  <a:pt x="4553" y="3395"/>
                </a:lnTo>
                <a:lnTo>
                  <a:pt x="4551" y="3397"/>
                </a:lnTo>
                <a:lnTo>
                  <a:pt x="4551" y="3401"/>
                </a:lnTo>
                <a:lnTo>
                  <a:pt x="4550" y="3403"/>
                </a:lnTo>
                <a:lnTo>
                  <a:pt x="4544" y="3421"/>
                </a:lnTo>
                <a:lnTo>
                  <a:pt x="4532" y="3436"/>
                </a:lnTo>
                <a:lnTo>
                  <a:pt x="4522" y="3427"/>
                </a:lnTo>
                <a:lnTo>
                  <a:pt x="4522" y="3430"/>
                </a:lnTo>
                <a:lnTo>
                  <a:pt x="4520" y="3432"/>
                </a:lnTo>
                <a:lnTo>
                  <a:pt x="4520" y="3444"/>
                </a:lnTo>
                <a:lnTo>
                  <a:pt x="4518" y="3448"/>
                </a:lnTo>
                <a:lnTo>
                  <a:pt x="4518" y="3454"/>
                </a:lnTo>
                <a:lnTo>
                  <a:pt x="4516" y="3456"/>
                </a:lnTo>
                <a:lnTo>
                  <a:pt x="4512" y="3456"/>
                </a:lnTo>
                <a:lnTo>
                  <a:pt x="4493" y="3476"/>
                </a:lnTo>
                <a:lnTo>
                  <a:pt x="4489" y="3483"/>
                </a:lnTo>
                <a:lnTo>
                  <a:pt x="4477" y="3476"/>
                </a:lnTo>
                <a:lnTo>
                  <a:pt x="4473" y="3470"/>
                </a:lnTo>
                <a:lnTo>
                  <a:pt x="4467" y="3464"/>
                </a:lnTo>
                <a:lnTo>
                  <a:pt x="4467" y="3470"/>
                </a:lnTo>
                <a:lnTo>
                  <a:pt x="4465" y="3476"/>
                </a:lnTo>
                <a:lnTo>
                  <a:pt x="4465" y="3480"/>
                </a:lnTo>
                <a:lnTo>
                  <a:pt x="4461" y="3491"/>
                </a:lnTo>
                <a:lnTo>
                  <a:pt x="4459" y="3495"/>
                </a:lnTo>
                <a:lnTo>
                  <a:pt x="4457" y="3497"/>
                </a:lnTo>
                <a:lnTo>
                  <a:pt x="4457" y="3507"/>
                </a:lnTo>
                <a:lnTo>
                  <a:pt x="4461" y="3515"/>
                </a:lnTo>
                <a:lnTo>
                  <a:pt x="4461" y="3548"/>
                </a:lnTo>
                <a:lnTo>
                  <a:pt x="4455" y="3554"/>
                </a:lnTo>
                <a:lnTo>
                  <a:pt x="4451" y="3556"/>
                </a:lnTo>
                <a:lnTo>
                  <a:pt x="4447" y="3560"/>
                </a:lnTo>
                <a:lnTo>
                  <a:pt x="4459" y="3570"/>
                </a:lnTo>
                <a:lnTo>
                  <a:pt x="4453" y="3589"/>
                </a:lnTo>
                <a:lnTo>
                  <a:pt x="4442" y="3609"/>
                </a:lnTo>
                <a:lnTo>
                  <a:pt x="4438" y="3613"/>
                </a:lnTo>
                <a:lnTo>
                  <a:pt x="4432" y="3615"/>
                </a:lnTo>
                <a:lnTo>
                  <a:pt x="4422" y="3625"/>
                </a:lnTo>
                <a:lnTo>
                  <a:pt x="4414" y="3637"/>
                </a:lnTo>
                <a:lnTo>
                  <a:pt x="4408" y="3644"/>
                </a:lnTo>
                <a:lnTo>
                  <a:pt x="4404" y="3648"/>
                </a:lnTo>
                <a:lnTo>
                  <a:pt x="4400" y="3654"/>
                </a:lnTo>
                <a:lnTo>
                  <a:pt x="4396" y="3658"/>
                </a:lnTo>
                <a:lnTo>
                  <a:pt x="4394" y="3662"/>
                </a:lnTo>
                <a:lnTo>
                  <a:pt x="4387" y="3670"/>
                </a:lnTo>
                <a:lnTo>
                  <a:pt x="4383" y="3672"/>
                </a:lnTo>
                <a:lnTo>
                  <a:pt x="4381" y="3676"/>
                </a:lnTo>
                <a:lnTo>
                  <a:pt x="4379" y="3682"/>
                </a:lnTo>
                <a:lnTo>
                  <a:pt x="4379" y="3694"/>
                </a:lnTo>
                <a:lnTo>
                  <a:pt x="4375" y="3705"/>
                </a:lnTo>
                <a:lnTo>
                  <a:pt x="4371" y="3709"/>
                </a:lnTo>
                <a:lnTo>
                  <a:pt x="4365" y="3713"/>
                </a:lnTo>
                <a:lnTo>
                  <a:pt x="4355" y="3713"/>
                </a:lnTo>
                <a:lnTo>
                  <a:pt x="4351" y="3711"/>
                </a:lnTo>
                <a:lnTo>
                  <a:pt x="4349" y="3709"/>
                </a:lnTo>
                <a:lnTo>
                  <a:pt x="4341" y="3709"/>
                </a:lnTo>
                <a:lnTo>
                  <a:pt x="4339" y="3713"/>
                </a:lnTo>
                <a:lnTo>
                  <a:pt x="4337" y="3715"/>
                </a:lnTo>
                <a:lnTo>
                  <a:pt x="4337" y="3717"/>
                </a:lnTo>
                <a:lnTo>
                  <a:pt x="4335" y="3721"/>
                </a:lnTo>
                <a:lnTo>
                  <a:pt x="4328" y="3721"/>
                </a:lnTo>
                <a:lnTo>
                  <a:pt x="4326" y="3719"/>
                </a:lnTo>
                <a:lnTo>
                  <a:pt x="4322" y="3717"/>
                </a:lnTo>
                <a:lnTo>
                  <a:pt x="4318" y="3717"/>
                </a:lnTo>
                <a:lnTo>
                  <a:pt x="4314" y="3721"/>
                </a:lnTo>
                <a:lnTo>
                  <a:pt x="4314" y="3725"/>
                </a:lnTo>
                <a:lnTo>
                  <a:pt x="4312" y="3727"/>
                </a:lnTo>
                <a:lnTo>
                  <a:pt x="4306" y="3745"/>
                </a:lnTo>
                <a:lnTo>
                  <a:pt x="4302" y="3749"/>
                </a:lnTo>
                <a:lnTo>
                  <a:pt x="4298" y="3754"/>
                </a:lnTo>
                <a:lnTo>
                  <a:pt x="4294" y="3758"/>
                </a:lnTo>
                <a:lnTo>
                  <a:pt x="4292" y="3762"/>
                </a:lnTo>
                <a:lnTo>
                  <a:pt x="4292" y="3766"/>
                </a:lnTo>
                <a:lnTo>
                  <a:pt x="4290" y="3768"/>
                </a:lnTo>
                <a:lnTo>
                  <a:pt x="4288" y="3772"/>
                </a:lnTo>
                <a:lnTo>
                  <a:pt x="4284" y="3772"/>
                </a:lnTo>
                <a:lnTo>
                  <a:pt x="4281" y="3770"/>
                </a:lnTo>
                <a:lnTo>
                  <a:pt x="4277" y="3770"/>
                </a:lnTo>
                <a:lnTo>
                  <a:pt x="4275" y="3774"/>
                </a:lnTo>
                <a:lnTo>
                  <a:pt x="4273" y="3776"/>
                </a:lnTo>
                <a:lnTo>
                  <a:pt x="4269" y="3778"/>
                </a:lnTo>
                <a:lnTo>
                  <a:pt x="4267" y="3782"/>
                </a:lnTo>
                <a:lnTo>
                  <a:pt x="4249" y="3782"/>
                </a:lnTo>
                <a:lnTo>
                  <a:pt x="4249" y="3786"/>
                </a:lnTo>
                <a:lnTo>
                  <a:pt x="4247" y="3788"/>
                </a:lnTo>
                <a:lnTo>
                  <a:pt x="4247" y="3792"/>
                </a:lnTo>
                <a:lnTo>
                  <a:pt x="4241" y="3798"/>
                </a:lnTo>
                <a:lnTo>
                  <a:pt x="4237" y="3798"/>
                </a:lnTo>
                <a:lnTo>
                  <a:pt x="4233" y="3800"/>
                </a:lnTo>
                <a:lnTo>
                  <a:pt x="4229" y="3800"/>
                </a:lnTo>
                <a:lnTo>
                  <a:pt x="4222" y="3804"/>
                </a:lnTo>
                <a:lnTo>
                  <a:pt x="4220" y="3807"/>
                </a:lnTo>
                <a:lnTo>
                  <a:pt x="4216" y="3811"/>
                </a:lnTo>
                <a:lnTo>
                  <a:pt x="4212" y="3813"/>
                </a:lnTo>
                <a:lnTo>
                  <a:pt x="4206" y="3817"/>
                </a:lnTo>
                <a:lnTo>
                  <a:pt x="4202" y="3819"/>
                </a:lnTo>
                <a:lnTo>
                  <a:pt x="4198" y="3823"/>
                </a:lnTo>
                <a:lnTo>
                  <a:pt x="4194" y="3829"/>
                </a:lnTo>
                <a:lnTo>
                  <a:pt x="4190" y="3825"/>
                </a:lnTo>
                <a:lnTo>
                  <a:pt x="4188" y="3819"/>
                </a:lnTo>
                <a:lnTo>
                  <a:pt x="4184" y="3815"/>
                </a:lnTo>
                <a:lnTo>
                  <a:pt x="4180" y="3809"/>
                </a:lnTo>
                <a:lnTo>
                  <a:pt x="4176" y="3809"/>
                </a:lnTo>
                <a:lnTo>
                  <a:pt x="4173" y="3813"/>
                </a:lnTo>
                <a:lnTo>
                  <a:pt x="4171" y="3817"/>
                </a:lnTo>
                <a:lnTo>
                  <a:pt x="4171" y="3825"/>
                </a:lnTo>
                <a:lnTo>
                  <a:pt x="4153" y="3825"/>
                </a:lnTo>
                <a:lnTo>
                  <a:pt x="4157" y="3837"/>
                </a:lnTo>
                <a:lnTo>
                  <a:pt x="4157" y="3841"/>
                </a:lnTo>
                <a:lnTo>
                  <a:pt x="4159" y="3847"/>
                </a:lnTo>
                <a:lnTo>
                  <a:pt x="4161" y="3857"/>
                </a:lnTo>
                <a:lnTo>
                  <a:pt x="4163" y="3864"/>
                </a:lnTo>
                <a:lnTo>
                  <a:pt x="4163" y="3872"/>
                </a:lnTo>
                <a:lnTo>
                  <a:pt x="4159" y="3880"/>
                </a:lnTo>
                <a:lnTo>
                  <a:pt x="4155" y="3882"/>
                </a:lnTo>
                <a:lnTo>
                  <a:pt x="4153" y="3884"/>
                </a:lnTo>
                <a:lnTo>
                  <a:pt x="4145" y="3888"/>
                </a:lnTo>
                <a:lnTo>
                  <a:pt x="4139" y="3892"/>
                </a:lnTo>
                <a:lnTo>
                  <a:pt x="4127" y="3896"/>
                </a:lnTo>
                <a:lnTo>
                  <a:pt x="4121" y="3896"/>
                </a:lnTo>
                <a:lnTo>
                  <a:pt x="4110" y="3900"/>
                </a:lnTo>
                <a:lnTo>
                  <a:pt x="4102" y="3904"/>
                </a:lnTo>
                <a:lnTo>
                  <a:pt x="4092" y="3904"/>
                </a:lnTo>
                <a:lnTo>
                  <a:pt x="4084" y="3900"/>
                </a:lnTo>
                <a:lnTo>
                  <a:pt x="4076" y="3892"/>
                </a:lnTo>
                <a:lnTo>
                  <a:pt x="4072" y="3898"/>
                </a:lnTo>
                <a:lnTo>
                  <a:pt x="4070" y="3902"/>
                </a:lnTo>
                <a:lnTo>
                  <a:pt x="4066" y="3906"/>
                </a:lnTo>
                <a:lnTo>
                  <a:pt x="4063" y="3912"/>
                </a:lnTo>
                <a:lnTo>
                  <a:pt x="4059" y="3913"/>
                </a:lnTo>
                <a:lnTo>
                  <a:pt x="4057" y="3915"/>
                </a:lnTo>
                <a:lnTo>
                  <a:pt x="4049" y="3915"/>
                </a:lnTo>
                <a:lnTo>
                  <a:pt x="4045" y="3912"/>
                </a:lnTo>
                <a:lnTo>
                  <a:pt x="4045" y="3908"/>
                </a:lnTo>
                <a:lnTo>
                  <a:pt x="4041" y="3900"/>
                </a:lnTo>
                <a:lnTo>
                  <a:pt x="4041" y="3894"/>
                </a:lnTo>
                <a:lnTo>
                  <a:pt x="4033" y="3896"/>
                </a:lnTo>
                <a:lnTo>
                  <a:pt x="4027" y="3900"/>
                </a:lnTo>
                <a:lnTo>
                  <a:pt x="4017" y="3910"/>
                </a:lnTo>
                <a:lnTo>
                  <a:pt x="4011" y="3913"/>
                </a:lnTo>
                <a:lnTo>
                  <a:pt x="4008" y="3915"/>
                </a:lnTo>
                <a:lnTo>
                  <a:pt x="4002" y="3921"/>
                </a:lnTo>
                <a:lnTo>
                  <a:pt x="3996" y="3921"/>
                </a:lnTo>
                <a:lnTo>
                  <a:pt x="3996" y="3919"/>
                </a:lnTo>
                <a:lnTo>
                  <a:pt x="3994" y="3919"/>
                </a:lnTo>
                <a:lnTo>
                  <a:pt x="3994" y="3904"/>
                </a:lnTo>
                <a:lnTo>
                  <a:pt x="3990" y="3904"/>
                </a:lnTo>
                <a:lnTo>
                  <a:pt x="3982" y="3908"/>
                </a:lnTo>
                <a:lnTo>
                  <a:pt x="3976" y="3910"/>
                </a:lnTo>
                <a:lnTo>
                  <a:pt x="3953" y="3925"/>
                </a:lnTo>
                <a:lnTo>
                  <a:pt x="3949" y="3927"/>
                </a:lnTo>
                <a:lnTo>
                  <a:pt x="3945" y="3931"/>
                </a:lnTo>
                <a:lnTo>
                  <a:pt x="3937" y="3935"/>
                </a:lnTo>
                <a:lnTo>
                  <a:pt x="3927" y="3935"/>
                </a:lnTo>
                <a:lnTo>
                  <a:pt x="3919" y="3931"/>
                </a:lnTo>
                <a:lnTo>
                  <a:pt x="3907" y="3927"/>
                </a:lnTo>
                <a:lnTo>
                  <a:pt x="3902" y="3923"/>
                </a:lnTo>
                <a:lnTo>
                  <a:pt x="3898" y="3919"/>
                </a:lnTo>
                <a:lnTo>
                  <a:pt x="3896" y="3913"/>
                </a:lnTo>
                <a:lnTo>
                  <a:pt x="3894" y="3910"/>
                </a:lnTo>
                <a:lnTo>
                  <a:pt x="3890" y="3898"/>
                </a:lnTo>
                <a:lnTo>
                  <a:pt x="3886" y="3892"/>
                </a:lnTo>
                <a:lnTo>
                  <a:pt x="3878" y="3884"/>
                </a:lnTo>
                <a:lnTo>
                  <a:pt x="3874" y="3878"/>
                </a:lnTo>
                <a:lnTo>
                  <a:pt x="3868" y="3882"/>
                </a:lnTo>
                <a:lnTo>
                  <a:pt x="3864" y="3890"/>
                </a:lnTo>
                <a:lnTo>
                  <a:pt x="3862" y="3896"/>
                </a:lnTo>
                <a:lnTo>
                  <a:pt x="3862" y="3915"/>
                </a:lnTo>
                <a:lnTo>
                  <a:pt x="3864" y="3921"/>
                </a:lnTo>
                <a:lnTo>
                  <a:pt x="3866" y="3925"/>
                </a:lnTo>
                <a:lnTo>
                  <a:pt x="3868" y="3927"/>
                </a:lnTo>
                <a:lnTo>
                  <a:pt x="3870" y="3931"/>
                </a:lnTo>
                <a:lnTo>
                  <a:pt x="3870" y="3935"/>
                </a:lnTo>
                <a:lnTo>
                  <a:pt x="3866" y="3961"/>
                </a:lnTo>
                <a:lnTo>
                  <a:pt x="3860" y="3961"/>
                </a:lnTo>
                <a:lnTo>
                  <a:pt x="3856" y="3959"/>
                </a:lnTo>
                <a:lnTo>
                  <a:pt x="3852" y="3955"/>
                </a:lnTo>
                <a:lnTo>
                  <a:pt x="3849" y="3943"/>
                </a:lnTo>
                <a:lnTo>
                  <a:pt x="3845" y="3935"/>
                </a:lnTo>
                <a:lnTo>
                  <a:pt x="3843" y="3929"/>
                </a:lnTo>
                <a:lnTo>
                  <a:pt x="3839" y="3923"/>
                </a:lnTo>
                <a:lnTo>
                  <a:pt x="3837" y="3921"/>
                </a:lnTo>
                <a:lnTo>
                  <a:pt x="3835" y="3921"/>
                </a:lnTo>
                <a:lnTo>
                  <a:pt x="3833" y="3923"/>
                </a:lnTo>
                <a:lnTo>
                  <a:pt x="3833" y="3927"/>
                </a:lnTo>
                <a:lnTo>
                  <a:pt x="3831" y="3933"/>
                </a:lnTo>
                <a:lnTo>
                  <a:pt x="3831" y="3970"/>
                </a:lnTo>
                <a:lnTo>
                  <a:pt x="3829" y="3974"/>
                </a:lnTo>
                <a:lnTo>
                  <a:pt x="3825" y="3968"/>
                </a:lnTo>
                <a:lnTo>
                  <a:pt x="3819" y="3963"/>
                </a:lnTo>
                <a:lnTo>
                  <a:pt x="3817" y="3966"/>
                </a:lnTo>
                <a:lnTo>
                  <a:pt x="3817" y="3972"/>
                </a:lnTo>
                <a:lnTo>
                  <a:pt x="3815" y="3980"/>
                </a:lnTo>
                <a:lnTo>
                  <a:pt x="3811" y="3984"/>
                </a:lnTo>
                <a:lnTo>
                  <a:pt x="3807" y="3984"/>
                </a:lnTo>
                <a:lnTo>
                  <a:pt x="3805" y="3986"/>
                </a:lnTo>
                <a:lnTo>
                  <a:pt x="3799" y="3990"/>
                </a:lnTo>
                <a:lnTo>
                  <a:pt x="3792" y="3998"/>
                </a:lnTo>
                <a:lnTo>
                  <a:pt x="3788" y="4004"/>
                </a:lnTo>
                <a:lnTo>
                  <a:pt x="3778" y="4014"/>
                </a:lnTo>
                <a:lnTo>
                  <a:pt x="3774" y="4014"/>
                </a:lnTo>
                <a:lnTo>
                  <a:pt x="3766" y="4010"/>
                </a:lnTo>
                <a:lnTo>
                  <a:pt x="3764" y="4006"/>
                </a:lnTo>
                <a:lnTo>
                  <a:pt x="3762" y="4004"/>
                </a:lnTo>
                <a:lnTo>
                  <a:pt x="3760" y="4000"/>
                </a:lnTo>
                <a:lnTo>
                  <a:pt x="3758" y="3998"/>
                </a:lnTo>
                <a:lnTo>
                  <a:pt x="3756" y="4000"/>
                </a:lnTo>
                <a:lnTo>
                  <a:pt x="3754" y="4004"/>
                </a:lnTo>
                <a:lnTo>
                  <a:pt x="3754" y="4008"/>
                </a:lnTo>
                <a:lnTo>
                  <a:pt x="3752" y="4012"/>
                </a:lnTo>
                <a:lnTo>
                  <a:pt x="3748" y="4016"/>
                </a:lnTo>
                <a:lnTo>
                  <a:pt x="3744" y="4016"/>
                </a:lnTo>
                <a:lnTo>
                  <a:pt x="3741" y="4018"/>
                </a:lnTo>
                <a:lnTo>
                  <a:pt x="3727" y="4018"/>
                </a:lnTo>
                <a:lnTo>
                  <a:pt x="3723" y="4020"/>
                </a:lnTo>
                <a:lnTo>
                  <a:pt x="3709" y="4020"/>
                </a:lnTo>
                <a:lnTo>
                  <a:pt x="3707" y="4018"/>
                </a:lnTo>
                <a:lnTo>
                  <a:pt x="3703" y="4016"/>
                </a:lnTo>
                <a:lnTo>
                  <a:pt x="3697" y="4014"/>
                </a:lnTo>
                <a:lnTo>
                  <a:pt x="3695" y="4020"/>
                </a:lnTo>
                <a:lnTo>
                  <a:pt x="3693" y="4023"/>
                </a:lnTo>
                <a:lnTo>
                  <a:pt x="3689" y="4029"/>
                </a:lnTo>
                <a:lnTo>
                  <a:pt x="3687" y="4033"/>
                </a:lnTo>
                <a:lnTo>
                  <a:pt x="3670" y="4039"/>
                </a:lnTo>
                <a:lnTo>
                  <a:pt x="3658" y="4039"/>
                </a:lnTo>
                <a:lnTo>
                  <a:pt x="3646" y="4041"/>
                </a:lnTo>
                <a:lnTo>
                  <a:pt x="3640" y="4041"/>
                </a:lnTo>
                <a:lnTo>
                  <a:pt x="3634" y="4043"/>
                </a:lnTo>
                <a:lnTo>
                  <a:pt x="3631" y="4045"/>
                </a:lnTo>
                <a:lnTo>
                  <a:pt x="3625" y="4047"/>
                </a:lnTo>
                <a:lnTo>
                  <a:pt x="3621" y="4047"/>
                </a:lnTo>
                <a:lnTo>
                  <a:pt x="3617" y="4049"/>
                </a:lnTo>
                <a:lnTo>
                  <a:pt x="3611" y="4049"/>
                </a:lnTo>
                <a:lnTo>
                  <a:pt x="3607" y="4051"/>
                </a:lnTo>
                <a:lnTo>
                  <a:pt x="3603" y="4055"/>
                </a:lnTo>
                <a:lnTo>
                  <a:pt x="3601" y="4059"/>
                </a:lnTo>
                <a:lnTo>
                  <a:pt x="3597" y="4063"/>
                </a:lnTo>
                <a:lnTo>
                  <a:pt x="3595" y="4067"/>
                </a:lnTo>
                <a:lnTo>
                  <a:pt x="3589" y="4065"/>
                </a:lnTo>
                <a:lnTo>
                  <a:pt x="3585" y="4063"/>
                </a:lnTo>
                <a:lnTo>
                  <a:pt x="3570" y="4047"/>
                </a:lnTo>
                <a:lnTo>
                  <a:pt x="3564" y="4047"/>
                </a:lnTo>
                <a:lnTo>
                  <a:pt x="3562" y="4049"/>
                </a:lnTo>
                <a:lnTo>
                  <a:pt x="3558" y="4057"/>
                </a:lnTo>
                <a:lnTo>
                  <a:pt x="3554" y="4069"/>
                </a:lnTo>
                <a:lnTo>
                  <a:pt x="3544" y="4088"/>
                </a:lnTo>
                <a:lnTo>
                  <a:pt x="3542" y="4090"/>
                </a:lnTo>
                <a:lnTo>
                  <a:pt x="3542" y="4098"/>
                </a:lnTo>
                <a:lnTo>
                  <a:pt x="3544" y="4102"/>
                </a:lnTo>
                <a:lnTo>
                  <a:pt x="3544" y="4104"/>
                </a:lnTo>
                <a:lnTo>
                  <a:pt x="3546" y="4108"/>
                </a:lnTo>
                <a:lnTo>
                  <a:pt x="3554" y="4108"/>
                </a:lnTo>
                <a:lnTo>
                  <a:pt x="3556" y="4106"/>
                </a:lnTo>
                <a:lnTo>
                  <a:pt x="3558" y="4106"/>
                </a:lnTo>
                <a:lnTo>
                  <a:pt x="3560" y="4110"/>
                </a:lnTo>
                <a:lnTo>
                  <a:pt x="3560" y="4118"/>
                </a:lnTo>
                <a:lnTo>
                  <a:pt x="3562" y="4124"/>
                </a:lnTo>
                <a:lnTo>
                  <a:pt x="3570" y="4135"/>
                </a:lnTo>
                <a:lnTo>
                  <a:pt x="3572" y="4137"/>
                </a:lnTo>
                <a:lnTo>
                  <a:pt x="3574" y="4137"/>
                </a:lnTo>
                <a:lnTo>
                  <a:pt x="3578" y="4139"/>
                </a:lnTo>
                <a:lnTo>
                  <a:pt x="3578" y="4147"/>
                </a:lnTo>
                <a:lnTo>
                  <a:pt x="3564" y="4161"/>
                </a:lnTo>
                <a:lnTo>
                  <a:pt x="3562" y="4165"/>
                </a:lnTo>
                <a:lnTo>
                  <a:pt x="3558" y="4167"/>
                </a:lnTo>
                <a:lnTo>
                  <a:pt x="3548" y="4167"/>
                </a:lnTo>
                <a:lnTo>
                  <a:pt x="3544" y="4165"/>
                </a:lnTo>
                <a:lnTo>
                  <a:pt x="3540" y="4157"/>
                </a:lnTo>
                <a:lnTo>
                  <a:pt x="3536" y="4155"/>
                </a:lnTo>
                <a:lnTo>
                  <a:pt x="3534" y="4151"/>
                </a:lnTo>
                <a:lnTo>
                  <a:pt x="3528" y="4147"/>
                </a:lnTo>
                <a:lnTo>
                  <a:pt x="3521" y="4139"/>
                </a:lnTo>
                <a:lnTo>
                  <a:pt x="3513" y="4128"/>
                </a:lnTo>
                <a:lnTo>
                  <a:pt x="3511" y="4122"/>
                </a:lnTo>
                <a:lnTo>
                  <a:pt x="3509" y="4114"/>
                </a:lnTo>
                <a:lnTo>
                  <a:pt x="3505" y="4102"/>
                </a:lnTo>
                <a:lnTo>
                  <a:pt x="3501" y="4096"/>
                </a:lnTo>
                <a:lnTo>
                  <a:pt x="3499" y="4090"/>
                </a:lnTo>
                <a:lnTo>
                  <a:pt x="3499" y="4084"/>
                </a:lnTo>
                <a:lnTo>
                  <a:pt x="3503" y="4071"/>
                </a:lnTo>
                <a:lnTo>
                  <a:pt x="3511" y="4057"/>
                </a:lnTo>
                <a:lnTo>
                  <a:pt x="3523" y="4047"/>
                </a:lnTo>
                <a:lnTo>
                  <a:pt x="3515" y="4037"/>
                </a:lnTo>
                <a:lnTo>
                  <a:pt x="3505" y="4031"/>
                </a:lnTo>
                <a:lnTo>
                  <a:pt x="3495" y="4023"/>
                </a:lnTo>
                <a:lnTo>
                  <a:pt x="3487" y="4014"/>
                </a:lnTo>
                <a:lnTo>
                  <a:pt x="3483" y="4014"/>
                </a:lnTo>
                <a:lnTo>
                  <a:pt x="3481" y="4021"/>
                </a:lnTo>
                <a:lnTo>
                  <a:pt x="3473" y="4033"/>
                </a:lnTo>
                <a:lnTo>
                  <a:pt x="3470" y="4041"/>
                </a:lnTo>
                <a:lnTo>
                  <a:pt x="3468" y="4043"/>
                </a:lnTo>
                <a:lnTo>
                  <a:pt x="3464" y="4045"/>
                </a:lnTo>
                <a:lnTo>
                  <a:pt x="3452" y="4043"/>
                </a:lnTo>
                <a:lnTo>
                  <a:pt x="3444" y="4037"/>
                </a:lnTo>
                <a:lnTo>
                  <a:pt x="3436" y="4027"/>
                </a:lnTo>
                <a:lnTo>
                  <a:pt x="3430" y="4018"/>
                </a:lnTo>
                <a:lnTo>
                  <a:pt x="3403" y="4018"/>
                </a:lnTo>
                <a:lnTo>
                  <a:pt x="3399" y="4014"/>
                </a:lnTo>
                <a:lnTo>
                  <a:pt x="3395" y="4012"/>
                </a:lnTo>
                <a:lnTo>
                  <a:pt x="3391" y="4006"/>
                </a:lnTo>
                <a:lnTo>
                  <a:pt x="3389" y="4002"/>
                </a:lnTo>
                <a:lnTo>
                  <a:pt x="3385" y="4006"/>
                </a:lnTo>
                <a:lnTo>
                  <a:pt x="3383" y="4010"/>
                </a:lnTo>
                <a:lnTo>
                  <a:pt x="3375" y="4018"/>
                </a:lnTo>
                <a:lnTo>
                  <a:pt x="3367" y="4023"/>
                </a:lnTo>
                <a:lnTo>
                  <a:pt x="3358" y="4029"/>
                </a:lnTo>
                <a:lnTo>
                  <a:pt x="3348" y="4033"/>
                </a:lnTo>
                <a:lnTo>
                  <a:pt x="3342" y="4035"/>
                </a:lnTo>
                <a:lnTo>
                  <a:pt x="3336" y="4035"/>
                </a:lnTo>
                <a:lnTo>
                  <a:pt x="3328" y="4031"/>
                </a:lnTo>
                <a:lnTo>
                  <a:pt x="3318" y="4025"/>
                </a:lnTo>
                <a:lnTo>
                  <a:pt x="3312" y="4023"/>
                </a:lnTo>
                <a:lnTo>
                  <a:pt x="3309" y="4020"/>
                </a:lnTo>
                <a:lnTo>
                  <a:pt x="3303" y="4018"/>
                </a:lnTo>
                <a:lnTo>
                  <a:pt x="3297" y="4018"/>
                </a:lnTo>
                <a:lnTo>
                  <a:pt x="3277" y="4027"/>
                </a:lnTo>
                <a:lnTo>
                  <a:pt x="3273" y="4027"/>
                </a:lnTo>
                <a:lnTo>
                  <a:pt x="3271" y="4025"/>
                </a:lnTo>
                <a:lnTo>
                  <a:pt x="3269" y="4021"/>
                </a:lnTo>
                <a:lnTo>
                  <a:pt x="3267" y="4020"/>
                </a:lnTo>
                <a:lnTo>
                  <a:pt x="3265" y="4016"/>
                </a:lnTo>
                <a:lnTo>
                  <a:pt x="3255" y="4006"/>
                </a:lnTo>
                <a:lnTo>
                  <a:pt x="3250" y="4002"/>
                </a:lnTo>
                <a:lnTo>
                  <a:pt x="3244" y="3996"/>
                </a:lnTo>
                <a:lnTo>
                  <a:pt x="3238" y="3992"/>
                </a:lnTo>
                <a:lnTo>
                  <a:pt x="3234" y="3990"/>
                </a:lnTo>
                <a:lnTo>
                  <a:pt x="3228" y="3988"/>
                </a:lnTo>
                <a:lnTo>
                  <a:pt x="3224" y="3986"/>
                </a:lnTo>
                <a:lnTo>
                  <a:pt x="3220" y="3980"/>
                </a:lnTo>
                <a:lnTo>
                  <a:pt x="3216" y="3972"/>
                </a:lnTo>
                <a:lnTo>
                  <a:pt x="3202" y="3959"/>
                </a:lnTo>
                <a:lnTo>
                  <a:pt x="3199" y="3957"/>
                </a:lnTo>
                <a:lnTo>
                  <a:pt x="3193" y="3951"/>
                </a:lnTo>
                <a:lnTo>
                  <a:pt x="3193" y="3943"/>
                </a:lnTo>
                <a:lnTo>
                  <a:pt x="3197" y="3941"/>
                </a:lnTo>
                <a:lnTo>
                  <a:pt x="3202" y="3935"/>
                </a:lnTo>
                <a:lnTo>
                  <a:pt x="3206" y="3933"/>
                </a:lnTo>
                <a:lnTo>
                  <a:pt x="3210" y="3925"/>
                </a:lnTo>
                <a:lnTo>
                  <a:pt x="3210" y="3921"/>
                </a:lnTo>
                <a:lnTo>
                  <a:pt x="3212" y="3915"/>
                </a:lnTo>
                <a:lnTo>
                  <a:pt x="3214" y="3913"/>
                </a:lnTo>
                <a:lnTo>
                  <a:pt x="3214" y="3912"/>
                </a:lnTo>
                <a:lnTo>
                  <a:pt x="3210" y="3904"/>
                </a:lnTo>
                <a:lnTo>
                  <a:pt x="3199" y="3900"/>
                </a:lnTo>
                <a:lnTo>
                  <a:pt x="3195" y="3898"/>
                </a:lnTo>
                <a:lnTo>
                  <a:pt x="3189" y="3898"/>
                </a:lnTo>
                <a:lnTo>
                  <a:pt x="3183" y="3896"/>
                </a:lnTo>
                <a:lnTo>
                  <a:pt x="3159" y="3892"/>
                </a:lnTo>
                <a:lnTo>
                  <a:pt x="3155" y="3890"/>
                </a:lnTo>
                <a:lnTo>
                  <a:pt x="3149" y="3888"/>
                </a:lnTo>
                <a:lnTo>
                  <a:pt x="3146" y="3886"/>
                </a:lnTo>
                <a:lnTo>
                  <a:pt x="3134" y="3884"/>
                </a:lnTo>
                <a:lnTo>
                  <a:pt x="3120" y="3884"/>
                </a:lnTo>
                <a:lnTo>
                  <a:pt x="3108" y="3880"/>
                </a:lnTo>
                <a:lnTo>
                  <a:pt x="3102" y="3876"/>
                </a:lnTo>
                <a:lnTo>
                  <a:pt x="3100" y="3872"/>
                </a:lnTo>
                <a:lnTo>
                  <a:pt x="3093" y="3864"/>
                </a:lnTo>
                <a:lnTo>
                  <a:pt x="3089" y="3859"/>
                </a:lnTo>
                <a:lnTo>
                  <a:pt x="3081" y="3851"/>
                </a:lnTo>
                <a:lnTo>
                  <a:pt x="3079" y="3847"/>
                </a:lnTo>
                <a:lnTo>
                  <a:pt x="3077" y="3845"/>
                </a:lnTo>
                <a:lnTo>
                  <a:pt x="3071" y="3845"/>
                </a:lnTo>
                <a:lnTo>
                  <a:pt x="3067" y="3847"/>
                </a:lnTo>
                <a:lnTo>
                  <a:pt x="3061" y="3853"/>
                </a:lnTo>
                <a:lnTo>
                  <a:pt x="3057" y="3855"/>
                </a:lnTo>
                <a:lnTo>
                  <a:pt x="3055" y="3857"/>
                </a:lnTo>
                <a:lnTo>
                  <a:pt x="3053" y="3857"/>
                </a:lnTo>
                <a:lnTo>
                  <a:pt x="3049" y="3859"/>
                </a:lnTo>
                <a:lnTo>
                  <a:pt x="3038" y="3866"/>
                </a:lnTo>
                <a:lnTo>
                  <a:pt x="3026" y="3884"/>
                </a:lnTo>
                <a:lnTo>
                  <a:pt x="3022" y="3886"/>
                </a:lnTo>
                <a:lnTo>
                  <a:pt x="3018" y="3890"/>
                </a:lnTo>
                <a:lnTo>
                  <a:pt x="3012" y="3892"/>
                </a:lnTo>
                <a:lnTo>
                  <a:pt x="3008" y="3896"/>
                </a:lnTo>
                <a:lnTo>
                  <a:pt x="3000" y="3900"/>
                </a:lnTo>
                <a:lnTo>
                  <a:pt x="2994" y="3904"/>
                </a:lnTo>
                <a:lnTo>
                  <a:pt x="2983" y="3910"/>
                </a:lnTo>
                <a:lnTo>
                  <a:pt x="2979" y="3910"/>
                </a:lnTo>
                <a:lnTo>
                  <a:pt x="2975" y="3908"/>
                </a:lnTo>
                <a:lnTo>
                  <a:pt x="2971" y="3908"/>
                </a:lnTo>
                <a:lnTo>
                  <a:pt x="2967" y="3906"/>
                </a:lnTo>
                <a:lnTo>
                  <a:pt x="2955" y="3908"/>
                </a:lnTo>
                <a:lnTo>
                  <a:pt x="2935" y="3915"/>
                </a:lnTo>
                <a:lnTo>
                  <a:pt x="2931" y="3919"/>
                </a:lnTo>
                <a:lnTo>
                  <a:pt x="2928" y="3921"/>
                </a:lnTo>
                <a:lnTo>
                  <a:pt x="2920" y="3921"/>
                </a:lnTo>
                <a:lnTo>
                  <a:pt x="2916" y="3917"/>
                </a:lnTo>
                <a:lnTo>
                  <a:pt x="2912" y="3915"/>
                </a:lnTo>
                <a:lnTo>
                  <a:pt x="2906" y="3913"/>
                </a:lnTo>
                <a:lnTo>
                  <a:pt x="2902" y="3910"/>
                </a:lnTo>
                <a:lnTo>
                  <a:pt x="2896" y="3910"/>
                </a:lnTo>
                <a:lnTo>
                  <a:pt x="2886" y="3912"/>
                </a:lnTo>
                <a:lnTo>
                  <a:pt x="2880" y="3919"/>
                </a:lnTo>
                <a:lnTo>
                  <a:pt x="2873" y="3929"/>
                </a:lnTo>
                <a:lnTo>
                  <a:pt x="2865" y="3937"/>
                </a:lnTo>
                <a:lnTo>
                  <a:pt x="2861" y="3939"/>
                </a:lnTo>
                <a:lnTo>
                  <a:pt x="2851" y="3939"/>
                </a:lnTo>
                <a:lnTo>
                  <a:pt x="2839" y="3931"/>
                </a:lnTo>
                <a:lnTo>
                  <a:pt x="2837" y="3929"/>
                </a:lnTo>
                <a:lnTo>
                  <a:pt x="2837" y="3927"/>
                </a:lnTo>
                <a:lnTo>
                  <a:pt x="2833" y="3923"/>
                </a:lnTo>
                <a:lnTo>
                  <a:pt x="2827" y="3919"/>
                </a:lnTo>
                <a:lnTo>
                  <a:pt x="2820" y="3917"/>
                </a:lnTo>
                <a:lnTo>
                  <a:pt x="2808" y="3913"/>
                </a:lnTo>
                <a:lnTo>
                  <a:pt x="2804" y="3910"/>
                </a:lnTo>
                <a:lnTo>
                  <a:pt x="2800" y="3910"/>
                </a:lnTo>
                <a:lnTo>
                  <a:pt x="2792" y="3913"/>
                </a:lnTo>
                <a:lnTo>
                  <a:pt x="2790" y="3917"/>
                </a:lnTo>
                <a:lnTo>
                  <a:pt x="2790" y="3923"/>
                </a:lnTo>
                <a:lnTo>
                  <a:pt x="2788" y="3927"/>
                </a:lnTo>
                <a:lnTo>
                  <a:pt x="2784" y="3931"/>
                </a:lnTo>
                <a:lnTo>
                  <a:pt x="2780" y="3937"/>
                </a:lnTo>
                <a:lnTo>
                  <a:pt x="2774" y="3941"/>
                </a:lnTo>
                <a:lnTo>
                  <a:pt x="2770" y="3945"/>
                </a:lnTo>
                <a:lnTo>
                  <a:pt x="2753" y="3945"/>
                </a:lnTo>
                <a:lnTo>
                  <a:pt x="2737" y="3943"/>
                </a:lnTo>
                <a:lnTo>
                  <a:pt x="2719" y="3943"/>
                </a:lnTo>
                <a:lnTo>
                  <a:pt x="2719" y="3951"/>
                </a:lnTo>
                <a:lnTo>
                  <a:pt x="2721" y="3957"/>
                </a:lnTo>
                <a:lnTo>
                  <a:pt x="2721" y="3970"/>
                </a:lnTo>
                <a:lnTo>
                  <a:pt x="2719" y="3978"/>
                </a:lnTo>
                <a:lnTo>
                  <a:pt x="2719" y="3998"/>
                </a:lnTo>
                <a:lnTo>
                  <a:pt x="2721" y="4002"/>
                </a:lnTo>
                <a:lnTo>
                  <a:pt x="2725" y="4006"/>
                </a:lnTo>
                <a:lnTo>
                  <a:pt x="2727" y="4010"/>
                </a:lnTo>
                <a:lnTo>
                  <a:pt x="2731" y="4012"/>
                </a:lnTo>
                <a:lnTo>
                  <a:pt x="2733" y="4014"/>
                </a:lnTo>
                <a:lnTo>
                  <a:pt x="2733" y="4023"/>
                </a:lnTo>
                <a:lnTo>
                  <a:pt x="2729" y="4027"/>
                </a:lnTo>
                <a:lnTo>
                  <a:pt x="2727" y="4031"/>
                </a:lnTo>
                <a:lnTo>
                  <a:pt x="2727" y="4037"/>
                </a:lnTo>
                <a:lnTo>
                  <a:pt x="2729" y="4051"/>
                </a:lnTo>
                <a:lnTo>
                  <a:pt x="2729" y="4063"/>
                </a:lnTo>
                <a:lnTo>
                  <a:pt x="2731" y="4076"/>
                </a:lnTo>
                <a:lnTo>
                  <a:pt x="2725" y="4076"/>
                </a:lnTo>
                <a:lnTo>
                  <a:pt x="2719" y="4074"/>
                </a:lnTo>
                <a:lnTo>
                  <a:pt x="2715" y="4073"/>
                </a:lnTo>
                <a:lnTo>
                  <a:pt x="2714" y="4069"/>
                </a:lnTo>
                <a:lnTo>
                  <a:pt x="2712" y="4067"/>
                </a:lnTo>
                <a:lnTo>
                  <a:pt x="2708" y="4065"/>
                </a:lnTo>
                <a:lnTo>
                  <a:pt x="2704" y="4065"/>
                </a:lnTo>
                <a:lnTo>
                  <a:pt x="2702" y="4067"/>
                </a:lnTo>
                <a:lnTo>
                  <a:pt x="2698" y="4069"/>
                </a:lnTo>
                <a:lnTo>
                  <a:pt x="2696" y="4071"/>
                </a:lnTo>
                <a:lnTo>
                  <a:pt x="2694" y="4074"/>
                </a:lnTo>
                <a:lnTo>
                  <a:pt x="2686" y="4063"/>
                </a:lnTo>
                <a:lnTo>
                  <a:pt x="2678" y="4047"/>
                </a:lnTo>
                <a:lnTo>
                  <a:pt x="2674" y="4037"/>
                </a:lnTo>
                <a:lnTo>
                  <a:pt x="2672" y="4033"/>
                </a:lnTo>
                <a:lnTo>
                  <a:pt x="2666" y="4027"/>
                </a:lnTo>
                <a:lnTo>
                  <a:pt x="2664" y="4021"/>
                </a:lnTo>
                <a:lnTo>
                  <a:pt x="2662" y="4020"/>
                </a:lnTo>
                <a:lnTo>
                  <a:pt x="2662" y="4018"/>
                </a:lnTo>
                <a:lnTo>
                  <a:pt x="2661" y="4016"/>
                </a:lnTo>
                <a:lnTo>
                  <a:pt x="2653" y="4016"/>
                </a:lnTo>
                <a:lnTo>
                  <a:pt x="2649" y="4020"/>
                </a:lnTo>
                <a:lnTo>
                  <a:pt x="2643" y="4021"/>
                </a:lnTo>
                <a:lnTo>
                  <a:pt x="2635" y="4029"/>
                </a:lnTo>
                <a:lnTo>
                  <a:pt x="2629" y="4033"/>
                </a:lnTo>
                <a:lnTo>
                  <a:pt x="2611" y="4041"/>
                </a:lnTo>
                <a:lnTo>
                  <a:pt x="2594" y="4043"/>
                </a:lnTo>
                <a:lnTo>
                  <a:pt x="2588" y="4043"/>
                </a:lnTo>
                <a:lnTo>
                  <a:pt x="2584" y="4041"/>
                </a:lnTo>
                <a:lnTo>
                  <a:pt x="2578" y="4041"/>
                </a:lnTo>
                <a:lnTo>
                  <a:pt x="2566" y="4035"/>
                </a:lnTo>
                <a:lnTo>
                  <a:pt x="2562" y="4031"/>
                </a:lnTo>
                <a:lnTo>
                  <a:pt x="2558" y="4025"/>
                </a:lnTo>
                <a:lnTo>
                  <a:pt x="2556" y="4021"/>
                </a:lnTo>
                <a:lnTo>
                  <a:pt x="2554" y="4016"/>
                </a:lnTo>
                <a:lnTo>
                  <a:pt x="2554" y="4012"/>
                </a:lnTo>
                <a:lnTo>
                  <a:pt x="2553" y="4010"/>
                </a:lnTo>
                <a:lnTo>
                  <a:pt x="2549" y="4002"/>
                </a:lnTo>
                <a:lnTo>
                  <a:pt x="2549" y="3990"/>
                </a:lnTo>
                <a:lnTo>
                  <a:pt x="2547" y="3986"/>
                </a:lnTo>
                <a:lnTo>
                  <a:pt x="2545" y="3984"/>
                </a:lnTo>
                <a:lnTo>
                  <a:pt x="2541" y="3984"/>
                </a:lnTo>
                <a:lnTo>
                  <a:pt x="2539" y="3982"/>
                </a:lnTo>
                <a:lnTo>
                  <a:pt x="2535" y="3980"/>
                </a:lnTo>
                <a:lnTo>
                  <a:pt x="2501" y="3980"/>
                </a:lnTo>
                <a:lnTo>
                  <a:pt x="2496" y="3978"/>
                </a:lnTo>
                <a:lnTo>
                  <a:pt x="2490" y="3972"/>
                </a:lnTo>
                <a:lnTo>
                  <a:pt x="2490" y="3968"/>
                </a:lnTo>
                <a:lnTo>
                  <a:pt x="2492" y="3957"/>
                </a:lnTo>
                <a:lnTo>
                  <a:pt x="2503" y="3937"/>
                </a:lnTo>
                <a:lnTo>
                  <a:pt x="2505" y="3925"/>
                </a:lnTo>
                <a:lnTo>
                  <a:pt x="2505" y="3921"/>
                </a:lnTo>
                <a:lnTo>
                  <a:pt x="2503" y="3919"/>
                </a:lnTo>
                <a:lnTo>
                  <a:pt x="2501" y="3915"/>
                </a:lnTo>
                <a:lnTo>
                  <a:pt x="2501" y="3904"/>
                </a:lnTo>
                <a:lnTo>
                  <a:pt x="2507" y="3898"/>
                </a:lnTo>
                <a:lnTo>
                  <a:pt x="2511" y="3896"/>
                </a:lnTo>
                <a:lnTo>
                  <a:pt x="2513" y="3894"/>
                </a:lnTo>
                <a:lnTo>
                  <a:pt x="2513" y="3886"/>
                </a:lnTo>
                <a:lnTo>
                  <a:pt x="2509" y="3882"/>
                </a:lnTo>
                <a:lnTo>
                  <a:pt x="2501" y="3878"/>
                </a:lnTo>
                <a:lnTo>
                  <a:pt x="2490" y="3874"/>
                </a:lnTo>
                <a:lnTo>
                  <a:pt x="2484" y="3874"/>
                </a:lnTo>
                <a:lnTo>
                  <a:pt x="2478" y="3872"/>
                </a:lnTo>
                <a:lnTo>
                  <a:pt x="2472" y="3866"/>
                </a:lnTo>
                <a:lnTo>
                  <a:pt x="2460" y="3860"/>
                </a:lnTo>
                <a:lnTo>
                  <a:pt x="2454" y="3857"/>
                </a:lnTo>
                <a:lnTo>
                  <a:pt x="2448" y="3841"/>
                </a:lnTo>
                <a:lnTo>
                  <a:pt x="2448" y="3813"/>
                </a:lnTo>
                <a:lnTo>
                  <a:pt x="2445" y="3802"/>
                </a:lnTo>
                <a:lnTo>
                  <a:pt x="2443" y="3798"/>
                </a:lnTo>
                <a:lnTo>
                  <a:pt x="2441" y="3796"/>
                </a:lnTo>
                <a:lnTo>
                  <a:pt x="2439" y="3792"/>
                </a:lnTo>
                <a:lnTo>
                  <a:pt x="2439" y="3782"/>
                </a:lnTo>
                <a:lnTo>
                  <a:pt x="2441" y="3780"/>
                </a:lnTo>
                <a:lnTo>
                  <a:pt x="2443" y="3776"/>
                </a:lnTo>
                <a:lnTo>
                  <a:pt x="2443" y="3768"/>
                </a:lnTo>
                <a:lnTo>
                  <a:pt x="2441" y="3768"/>
                </a:lnTo>
                <a:lnTo>
                  <a:pt x="2441" y="3766"/>
                </a:lnTo>
                <a:lnTo>
                  <a:pt x="2439" y="3766"/>
                </a:lnTo>
                <a:lnTo>
                  <a:pt x="2437" y="3764"/>
                </a:lnTo>
                <a:lnTo>
                  <a:pt x="2433" y="3764"/>
                </a:lnTo>
                <a:lnTo>
                  <a:pt x="2427" y="3766"/>
                </a:lnTo>
                <a:lnTo>
                  <a:pt x="2421" y="3766"/>
                </a:lnTo>
                <a:lnTo>
                  <a:pt x="2409" y="3764"/>
                </a:lnTo>
                <a:lnTo>
                  <a:pt x="2399" y="3764"/>
                </a:lnTo>
                <a:lnTo>
                  <a:pt x="2388" y="3762"/>
                </a:lnTo>
                <a:lnTo>
                  <a:pt x="2382" y="3762"/>
                </a:lnTo>
                <a:lnTo>
                  <a:pt x="2374" y="3764"/>
                </a:lnTo>
                <a:lnTo>
                  <a:pt x="2368" y="3768"/>
                </a:lnTo>
                <a:lnTo>
                  <a:pt x="2362" y="3770"/>
                </a:lnTo>
                <a:lnTo>
                  <a:pt x="2354" y="3774"/>
                </a:lnTo>
                <a:lnTo>
                  <a:pt x="2348" y="3778"/>
                </a:lnTo>
                <a:lnTo>
                  <a:pt x="2340" y="3786"/>
                </a:lnTo>
                <a:lnTo>
                  <a:pt x="2338" y="3790"/>
                </a:lnTo>
                <a:lnTo>
                  <a:pt x="2333" y="3792"/>
                </a:lnTo>
                <a:lnTo>
                  <a:pt x="2333" y="3760"/>
                </a:lnTo>
                <a:lnTo>
                  <a:pt x="2335" y="3754"/>
                </a:lnTo>
                <a:lnTo>
                  <a:pt x="2338" y="3747"/>
                </a:lnTo>
                <a:lnTo>
                  <a:pt x="2338" y="3737"/>
                </a:lnTo>
                <a:lnTo>
                  <a:pt x="2335" y="3729"/>
                </a:lnTo>
                <a:lnTo>
                  <a:pt x="2333" y="3727"/>
                </a:lnTo>
                <a:lnTo>
                  <a:pt x="2331" y="3723"/>
                </a:lnTo>
                <a:lnTo>
                  <a:pt x="2327" y="3721"/>
                </a:lnTo>
                <a:lnTo>
                  <a:pt x="2327" y="3717"/>
                </a:lnTo>
                <a:lnTo>
                  <a:pt x="2331" y="3701"/>
                </a:lnTo>
                <a:lnTo>
                  <a:pt x="2338" y="3686"/>
                </a:lnTo>
                <a:lnTo>
                  <a:pt x="2340" y="3680"/>
                </a:lnTo>
                <a:lnTo>
                  <a:pt x="2340" y="3674"/>
                </a:lnTo>
                <a:lnTo>
                  <a:pt x="2344" y="3662"/>
                </a:lnTo>
                <a:lnTo>
                  <a:pt x="2348" y="3656"/>
                </a:lnTo>
                <a:lnTo>
                  <a:pt x="2374" y="3631"/>
                </a:lnTo>
                <a:lnTo>
                  <a:pt x="2376" y="3631"/>
                </a:lnTo>
                <a:lnTo>
                  <a:pt x="2384" y="3619"/>
                </a:lnTo>
                <a:lnTo>
                  <a:pt x="2386" y="3615"/>
                </a:lnTo>
                <a:lnTo>
                  <a:pt x="2391" y="3611"/>
                </a:lnTo>
                <a:lnTo>
                  <a:pt x="2395" y="3611"/>
                </a:lnTo>
                <a:lnTo>
                  <a:pt x="2397" y="3609"/>
                </a:lnTo>
                <a:lnTo>
                  <a:pt x="2399" y="3609"/>
                </a:lnTo>
                <a:lnTo>
                  <a:pt x="2407" y="3601"/>
                </a:lnTo>
                <a:lnTo>
                  <a:pt x="2419" y="3566"/>
                </a:lnTo>
                <a:lnTo>
                  <a:pt x="2427" y="3531"/>
                </a:lnTo>
                <a:lnTo>
                  <a:pt x="2435" y="3515"/>
                </a:lnTo>
                <a:lnTo>
                  <a:pt x="2441" y="3497"/>
                </a:lnTo>
                <a:lnTo>
                  <a:pt x="2443" y="3480"/>
                </a:lnTo>
                <a:lnTo>
                  <a:pt x="2443" y="3460"/>
                </a:lnTo>
                <a:lnTo>
                  <a:pt x="2441" y="3454"/>
                </a:lnTo>
                <a:lnTo>
                  <a:pt x="2441" y="3452"/>
                </a:lnTo>
                <a:lnTo>
                  <a:pt x="2439" y="3450"/>
                </a:lnTo>
                <a:lnTo>
                  <a:pt x="2439" y="3405"/>
                </a:lnTo>
                <a:lnTo>
                  <a:pt x="2437" y="3403"/>
                </a:lnTo>
                <a:lnTo>
                  <a:pt x="2437" y="3401"/>
                </a:lnTo>
                <a:lnTo>
                  <a:pt x="2429" y="3389"/>
                </a:lnTo>
                <a:lnTo>
                  <a:pt x="2423" y="3387"/>
                </a:lnTo>
                <a:lnTo>
                  <a:pt x="2419" y="3385"/>
                </a:lnTo>
                <a:lnTo>
                  <a:pt x="2411" y="3385"/>
                </a:lnTo>
                <a:lnTo>
                  <a:pt x="2407" y="3387"/>
                </a:lnTo>
                <a:lnTo>
                  <a:pt x="2407" y="3391"/>
                </a:lnTo>
                <a:lnTo>
                  <a:pt x="2403" y="3393"/>
                </a:lnTo>
                <a:lnTo>
                  <a:pt x="2397" y="3393"/>
                </a:lnTo>
                <a:lnTo>
                  <a:pt x="2395" y="3391"/>
                </a:lnTo>
                <a:lnTo>
                  <a:pt x="2393" y="3373"/>
                </a:lnTo>
                <a:lnTo>
                  <a:pt x="2390" y="3358"/>
                </a:lnTo>
                <a:lnTo>
                  <a:pt x="2388" y="3354"/>
                </a:lnTo>
                <a:lnTo>
                  <a:pt x="2388" y="3352"/>
                </a:lnTo>
                <a:lnTo>
                  <a:pt x="2386" y="3348"/>
                </a:lnTo>
                <a:lnTo>
                  <a:pt x="2386" y="3322"/>
                </a:lnTo>
                <a:lnTo>
                  <a:pt x="2384" y="3319"/>
                </a:lnTo>
                <a:lnTo>
                  <a:pt x="2382" y="3317"/>
                </a:lnTo>
                <a:lnTo>
                  <a:pt x="2380" y="3313"/>
                </a:lnTo>
                <a:lnTo>
                  <a:pt x="2376" y="3311"/>
                </a:lnTo>
                <a:lnTo>
                  <a:pt x="2360" y="3299"/>
                </a:lnTo>
                <a:lnTo>
                  <a:pt x="2348" y="3295"/>
                </a:lnTo>
                <a:lnTo>
                  <a:pt x="2342" y="3295"/>
                </a:lnTo>
                <a:lnTo>
                  <a:pt x="2337" y="3293"/>
                </a:lnTo>
                <a:lnTo>
                  <a:pt x="2335" y="3291"/>
                </a:lnTo>
                <a:lnTo>
                  <a:pt x="2331" y="3289"/>
                </a:lnTo>
                <a:lnTo>
                  <a:pt x="2329" y="3287"/>
                </a:lnTo>
                <a:lnTo>
                  <a:pt x="2321" y="3287"/>
                </a:lnTo>
                <a:lnTo>
                  <a:pt x="2317" y="3289"/>
                </a:lnTo>
                <a:lnTo>
                  <a:pt x="2309" y="3305"/>
                </a:lnTo>
                <a:lnTo>
                  <a:pt x="2303" y="3320"/>
                </a:lnTo>
                <a:lnTo>
                  <a:pt x="2299" y="3336"/>
                </a:lnTo>
                <a:lnTo>
                  <a:pt x="2283" y="3330"/>
                </a:lnTo>
                <a:lnTo>
                  <a:pt x="2270" y="3322"/>
                </a:lnTo>
                <a:lnTo>
                  <a:pt x="2260" y="3309"/>
                </a:lnTo>
                <a:lnTo>
                  <a:pt x="2256" y="3301"/>
                </a:lnTo>
                <a:lnTo>
                  <a:pt x="2254" y="3299"/>
                </a:lnTo>
                <a:lnTo>
                  <a:pt x="2246" y="3299"/>
                </a:lnTo>
                <a:lnTo>
                  <a:pt x="2242" y="3301"/>
                </a:lnTo>
                <a:lnTo>
                  <a:pt x="2240" y="3305"/>
                </a:lnTo>
                <a:lnTo>
                  <a:pt x="2236" y="3307"/>
                </a:lnTo>
                <a:lnTo>
                  <a:pt x="2230" y="3311"/>
                </a:lnTo>
                <a:lnTo>
                  <a:pt x="2227" y="3317"/>
                </a:lnTo>
                <a:lnTo>
                  <a:pt x="2225" y="3320"/>
                </a:lnTo>
                <a:lnTo>
                  <a:pt x="2219" y="3324"/>
                </a:lnTo>
                <a:lnTo>
                  <a:pt x="2217" y="3326"/>
                </a:lnTo>
                <a:lnTo>
                  <a:pt x="2215" y="3330"/>
                </a:lnTo>
                <a:lnTo>
                  <a:pt x="2211" y="3332"/>
                </a:lnTo>
                <a:lnTo>
                  <a:pt x="2205" y="3332"/>
                </a:lnTo>
                <a:lnTo>
                  <a:pt x="2203" y="3330"/>
                </a:lnTo>
                <a:lnTo>
                  <a:pt x="2201" y="3326"/>
                </a:lnTo>
                <a:lnTo>
                  <a:pt x="2195" y="3320"/>
                </a:lnTo>
                <a:lnTo>
                  <a:pt x="2193" y="3317"/>
                </a:lnTo>
                <a:lnTo>
                  <a:pt x="2193" y="3311"/>
                </a:lnTo>
                <a:lnTo>
                  <a:pt x="2191" y="3307"/>
                </a:lnTo>
                <a:lnTo>
                  <a:pt x="2185" y="3301"/>
                </a:lnTo>
                <a:lnTo>
                  <a:pt x="2183" y="3301"/>
                </a:lnTo>
                <a:lnTo>
                  <a:pt x="2179" y="3303"/>
                </a:lnTo>
                <a:lnTo>
                  <a:pt x="2177" y="3307"/>
                </a:lnTo>
                <a:lnTo>
                  <a:pt x="2175" y="3309"/>
                </a:lnTo>
                <a:lnTo>
                  <a:pt x="2170" y="3313"/>
                </a:lnTo>
                <a:lnTo>
                  <a:pt x="2162" y="3319"/>
                </a:lnTo>
                <a:lnTo>
                  <a:pt x="2156" y="3322"/>
                </a:lnTo>
                <a:lnTo>
                  <a:pt x="2148" y="3326"/>
                </a:lnTo>
                <a:lnTo>
                  <a:pt x="2144" y="3326"/>
                </a:lnTo>
                <a:lnTo>
                  <a:pt x="2140" y="3328"/>
                </a:lnTo>
                <a:lnTo>
                  <a:pt x="2122" y="3328"/>
                </a:lnTo>
                <a:lnTo>
                  <a:pt x="2117" y="3334"/>
                </a:lnTo>
                <a:lnTo>
                  <a:pt x="2113" y="3342"/>
                </a:lnTo>
                <a:lnTo>
                  <a:pt x="2109" y="3344"/>
                </a:lnTo>
                <a:lnTo>
                  <a:pt x="2103" y="3348"/>
                </a:lnTo>
                <a:lnTo>
                  <a:pt x="2087" y="3348"/>
                </a:lnTo>
                <a:lnTo>
                  <a:pt x="2079" y="3350"/>
                </a:lnTo>
                <a:lnTo>
                  <a:pt x="2073" y="3354"/>
                </a:lnTo>
                <a:lnTo>
                  <a:pt x="2066" y="3360"/>
                </a:lnTo>
                <a:lnTo>
                  <a:pt x="2058" y="3368"/>
                </a:lnTo>
                <a:lnTo>
                  <a:pt x="2056" y="3372"/>
                </a:lnTo>
                <a:lnTo>
                  <a:pt x="2046" y="3381"/>
                </a:lnTo>
                <a:lnTo>
                  <a:pt x="2042" y="3387"/>
                </a:lnTo>
                <a:lnTo>
                  <a:pt x="2024" y="3399"/>
                </a:lnTo>
                <a:lnTo>
                  <a:pt x="2011" y="3407"/>
                </a:lnTo>
                <a:lnTo>
                  <a:pt x="1995" y="3407"/>
                </a:lnTo>
                <a:lnTo>
                  <a:pt x="1979" y="3411"/>
                </a:lnTo>
                <a:lnTo>
                  <a:pt x="1973" y="3415"/>
                </a:lnTo>
                <a:lnTo>
                  <a:pt x="1967" y="3417"/>
                </a:lnTo>
                <a:lnTo>
                  <a:pt x="1963" y="3421"/>
                </a:lnTo>
                <a:lnTo>
                  <a:pt x="1958" y="3425"/>
                </a:lnTo>
                <a:lnTo>
                  <a:pt x="1952" y="3430"/>
                </a:lnTo>
                <a:lnTo>
                  <a:pt x="1934" y="3442"/>
                </a:lnTo>
                <a:lnTo>
                  <a:pt x="1926" y="3446"/>
                </a:lnTo>
                <a:lnTo>
                  <a:pt x="1924" y="3446"/>
                </a:lnTo>
                <a:lnTo>
                  <a:pt x="1920" y="3448"/>
                </a:lnTo>
                <a:lnTo>
                  <a:pt x="1910" y="3452"/>
                </a:lnTo>
                <a:lnTo>
                  <a:pt x="1903" y="3456"/>
                </a:lnTo>
                <a:lnTo>
                  <a:pt x="1893" y="3458"/>
                </a:lnTo>
                <a:lnTo>
                  <a:pt x="1877" y="3462"/>
                </a:lnTo>
                <a:lnTo>
                  <a:pt x="1863" y="3468"/>
                </a:lnTo>
                <a:lnTo>
                  <a:pt x="1846" y="3470"/>
                </a:lnTo>
                <a:lnTo>
                  <a:pt x="1838" y="3470"/>
                </a:lnTo>
                <a:lnTo>
                  <a:pt x="1836" y="3468"/>
                </a:lnTo>
                <a:lnTo>
                  <a:pt x="1832" y="3468"/>
                </a:lnTo>
                <a:lnTo>
                  <a:pt x="1818" y="3466"/>
                </a:lnTo>
                <a:lnTo>
                  <a:pt x="1808" y="3464"/>
                </a:lnTo>
                <a:lnTo>
                  <a:pt x="1795" y="3462"/>
                </a:lnTo>
                <a:lnTo>
                  <a:pt x="1795" y="3425"/>
                </a:lnTo>
                <a:lnTo>
                  <a:pt x="1791" y="3413"/>
                </a:lnTo>
                <a:lnTo>
                  <a:pt x="1789" y="3405"/>
                </a:lnTo>
                <a:lnTo>
                  <a:pt x="1787" y="3399"/>
                </a:lnTo>
                <a:lnTo>
                  <a:pt x="1779" y="3397"/>
                </a:lnTo>
                <a:lnTo>
                  <a:pt x="1765" y="3397"/>
                </a:lnTo>
                <a:lnTo>
                  <a:pt x="1757" y="3395"/>
                </a:lnTo>
                <a:lnTo>
                  <a:pt x="1749" y="3395"/>
                </a:lnTo>
                <a:lnTo>
                  <a:pt x="1745" y="3393"/>
                </a:lnTo>
                <a:lnTo>
                  <a:pt x="1742" y="3389"/>
                </a:lnTo>
                <a:lnTo>
                  <a:pt x="1736" y="3377"/>
                </a:lnTo>
                <a:lnTo>
                  <a:pt x="1734" y="3360"/>
                </a:lnTo>
                <a:lnTo>
                  <a:pt x="1734" y="3344"/>
                </a:lnTo>
                <a:lnTo>
                  <a:pt x="1728" y="3342"/>
                </a:lnTo>
                <a:lnTo>
                  <a:pt x="1720" y="3342"/>
                </a:lnTo>
                <a:lnTo>
                  <a:pt x="1714" y="3340"/>
                </a:lnTo>
                <a:lnTo>
                  <a:pt x="1690" y="3338"/>
                </a:lnTo>
                <a:lnTo>
                  <a:pt x="1669" y="3336"/>
                </a:lnTo>
                <a:lnTo>
                  <a:pt x="1653" y="3332"/>
                </a:lnTo>
                <a:lnTo>
                  <a:pt x="1647" y="3330"/>
                </a:lnTo>
                <a:lnTo>
                  <a:pt x="1639" y="3328"/>
                </a:lnTo>
                <a:lnTo>
                  <a:pt x="1634" y="3326"/>
                </a:lnTo>
                <a:lnTo>
                  <a:pt x="1630" y="3324"/>
                </a:lnTo>
                <a:lnTo>
                  <a:pt x="1622" y="3317"/>
                </a:lnTo>
                <a:lnTo>
                  <a:pt x="1620" y="3313"/>
                </a:lnTo>
                <a:lnTo>
                  <a:pt x="1616" y="3311"/>
                </a:lnTo>
                <a:lnTo>
                  <a:pt x="1614" y="3307"/>
                </a:lnTo>
                <a:lnTo>
                  <a:pt x="1612" y="3305"/>
                </a:lnTo>
                <a:lnTo>
                  <a:pt x="1602" y="3305"/>
                </a:lnTo>
                <a:lnTo>
                  <a:pt x="1594" y="3309"/>
                </a:lnTo>
                <a:lnTo>
                  <a:pt x="1588" y="3311"/>
                </a:lnTo>
                <a:lnTo>
                  <a:pt x="1584" y="3313"/>
                </a:lnTo>
                <a:lnTo>
                  <a:pt x="1581" y="3313"/>
                </a:lnTo>
                <a:lnTo>
                  <a:pt x="1577" y="3315"/>
                </a:lnTo>
                <a:lnTo>
                  <a:pt x="1575" y="3319"/>
                </a:lnTo>
                <a:lnTo>
                  <a:pt x="1571" y="3320"/>
                </a:lnTo>
                <a:lnTo>
                  <a:pt x="1569" y="3322"/>
                </a:lnTo>
                <a:lnTo>
                  <a:pt x="1545" y="3330"/>
                </a:lnTo>
                <a:lnTo>
                  <a:pt x="1529" y="3346"/>
                </a:lnTo>
                <a:lnTo>
                  <a:pt x="1527" y="3350"/>
                </a:lnTo>
                <a:lnTo>
                  <a:pt x="1524" y="3362"/>
                </a:lnTo>
                <a:lnTo>
                  <a:pt x="1522" y="3366"/>
                </a:lnTo>
                <a:lnTo>
                  <a:pt x="1520" y="3372"/>
                </a:lnTo>
                <a:lnTo>
                  <a:pt x="1516" y="3377"/>
                </a:lnTo>
                <a:lnTo>
                  <a:pt x="1512" y="3381"/>
                </a:lnTo>
                <a:lnTo>
                  <a:pt x="1506" y="3385"/>
                </a:lnTo>
                <a:lnTo>
                  <a:pt x="1498" y="3397"/>
                </a:lnTo>
                <a:lnTo>
                  <a:pt x="1494" y="3405"/>
                </a:lnTo>
                <a:lnTo>
                  <a:pt x="1490" y="3411"/>
                </a:lnTo>
                <a:lnTo>
                  <a:pt x="1486" y="3421"/>
                </a:lnTo>
                <a:lnTo>
                  <a:pt x="1480" y="3438"/>
                </a:lnTo>
                <a:lnTo>
                  <a:pt x="1469" y="3419"/>
                </a:lnTo>
                <a:lnTo>
                  <a:pt x="1469" y="3417"/>
                </a:lnTo>
                <a:lnTo>
                  <a:pt x="1467" y="3415"/>
                </a:lnTo>
                <a:lnTo>
                  <a:pt x="1467" y="3411"/>
                </a:lnTo>
                <a:lnTo>
                  <a:pt x="1469" y="3401"/>
                </a:lnTo>
                <a:lnTo>
                  <a:pt x="1473" y="3393"/>
                </a:lnTo>
                <a:lnTo>
                  <a:pt x="1478" y="3385"/>
                </a:lnTo>
                <a:lnTo>
                  <a:pt x="1480" y="3375"/>
                </a:lnTo>
                <a:lnTo>
                  <a:pt x="1480" y="3370"/>
                </a:lnTo>
                <a:lnTo>
                  <a:pt x="1478" y="3364"/>
                </a:lnTo>
                <a:lnTo>
                  <a:pt x="1478" y="3362"/>
                </a:lnTo>
                <a:lnTo>
                  <a:pt x="1476" y="3362"/>
                </a:lnTo>
                <a:lnTo>
                  <a:pt x="1476" y="3356"/>
                </a:lnTo>
                <a:lnTo>
                  <a:pt x="1473" y="3352"/>
                </a:lnTo>
                <a:lnTo>
                  <a:pt x="1471" y="3346"/>
                </a:lnTo>
                <a:lnTo>
                  <a:pt x="1471" y="3340"/>
                </a:lnTo>
                <a:lnTo>
                  <a:pt x="1469" y="3338"/>
                </a:lnTo>
                <a:lnTo>
                  <a:pt x="1451" y="3338"/>
                </a:lnTo>
                <a:lnTo>
                  <a:pt x="1445" y="3340"/>
                </a:lnTo>
                <a:lnTo>
                  <a:pt x="1437" y="3344"/>
                </a:lnTo>
                <a:lnTo>
                  <a:pt x="1431" y="3348"/>
                </a:lnTo>
                <a:lnTo>
                  <a:pt x="1429" y="3350"/>
                </a:lnTo>
                <a:lnTo>
                  <a:pt x="1425" y="3352"/>
                </a:lnTo>
                <a:lnTo>
                  <a:pt x="1423" y="3354"/>
                </a:lnTo>
                <a:lnTo>
                  <a:pt x="1418" y="3354"/>
                </a:lnTo>
                <a:lnTo>
                  <a:pt x="1418" y="3356"/>
                </a:lnTo>
                <a:lnTo>
                  <a:pt x="1416" y="3356"/>
                </a:lnTo>
                <a:lnTo>
                  <a:pt x="1396" y="3358"/>
                </a:lnTo>
                <a:lnTo>
                  <a:pt x="1374" y="3362"/>
                </a:lnTo>
                <a:lnTo>
                  <a:pt x="1363" y="3366"/>
                </a:lnTo>
                <a:lnTo>
                  <a:pt x="1337" y="3366"/>
                </a:lnTo>
                <a:lnTo>
                  <a:pt x="1319" y="3364"/>
                </a:lnTo>
                <a:lnTo>
                  <a:pt x="1302" y="3358"/>
                </a:lnTo>
                <a:lnTo>
                  <a:pt x="1298" y="3356"/>
                </a:lnTo>
                <a:lnTo>
                  <a:pt x="1294" y="3356"/>
                </a:lnTo>
                <a:lnTo>
                  <a:pt x="1288" y="3354"/>
                </a:lnTo>
                <a:lnTo>
                  <a:pt x="1284" y="3352"/>
                </a:lnTo>
                <a:lnTo>
                  <a:pt x="1280" y="3352"/>
                </a:lnTo>
                <a:lnTo>
                  <a:pt x="1278" y="3350"/>
                </a:lnTo>
                <a:lnTo>
                  <a:pt x="1274" y="3350"/>
                </a:lnTo>
                <a:lnTo>
                  <a:pt x="1262" y="3348"/>
                </a:lnTo>
                <a:lnTo>
                  <a:pt x="1251" y="3348"/>
                </a:lnTo>
                <a:lnTo>
                  <a:pt x="1239" y="3346"/>
                </a:lnTo>
                <a:lnTo>
                  <a:pt x="1233" y="3344"/>
                </a:lnTo>
                <a:lnTo>
                  <a:pt x="1227" y="3344"/>
                </a:lnTo>
                <a:lnTo>
                  <a:pt x="1223" y="3342"/>
                </a:lnTo>
                <a:lnTo>
                  <a:pt x="1211" y="3338"/>
                </a:lnTo>
                <a:lnTo>
                  <a:pt x="1203" y="3330"/>
                </a:lnTo>
                <a:lnTo>
                  <a:pt x="1186" y="3324"/>
                </a:lnTo>
                <a:lnTo>
                  <a:pt x="1178" y="3324"/>
                </a:lnTo>
                <a:lnTo>
                  <a:pt x="1160" y="3319"/>
                </a:lnTo>
                <a:lnTo>
                  <a:pt x="1156" y="3315"/>
                </a:lnTo>
                <a:lnTo>
                  <a:pt x="1145" y="3311"/>
                </a:lnTo>
                <a:lnTo>
                  <a:pt x="1143" y="3309"/>
                </a:lnTo>
                <a:lnTo>
                  <a:pt x="1143" y="3307"/>
                </a:lnTo>
                <a:lnTo>
                  <a:pt x="1137" y="3307"/>
                </a:lnTo>
                <a:lnTo>
                  <a:pt x="1131" y="3313"/>
                </a:lnTo>
                <a:lnTo>
                  <a:pt x="1127" y="3313"/>
                </a:lnTo>
                <a:lnTo>
                  <a:pt x="1119" y="3309"/>
                </a:lnTo>
                <a:lnTo>
                  <a:pt x="1115" y="3301"/>
                </a:lnTo>
                <a:lnTo>
                  <a:pt x="1113" y="3295"/>
                </a:lnTo>
                <a:lnTo>
                  <a:pt x="1109" y="3287"/>
                </a:lnTo>
                <a:lnTo>
                  <a:pt x="1107" y="3285"/>
                </a:lnTo>
                <a:lnTo>
                  <a:pt x="1103" y="3285"/>
                </a:lnTo>
                <a:lnTo>
                  <a:pt x="1101" y="3283"/>
                </a:lnTo>
                <a:lnTo>
                  <a:pt x="1090" y="3279"/>
                </a:lnTo>
                <a:lnTo>
                  <a:pt x="1084" y="3275"/>
                </a:lnTo>
                <a:lnTo>
                  <a:pt x="1078" y="3273"/>
                </a:lnTo>
                <a:lnTo>
                  <a:pt x="1070" y="3269"/>
                </a:lnTo>
                <a:lnTo>
                  <a:pt x="1062" y="3267"/>
                </a:lnTo>
                <a:lnTo>
                  <a:pt x="1054" y="3262"/>
                </a:lnTo>
                <a:lnTo>
                  <a:pt x="1048" y="3256"/>
                </a:lnTo>
                <a:lnTo>
                  <a:pt x="1046" y="3252"/>
                </a:lnTo>
                <a:lnTo>
                  <a:pt x="1042" y="3250"/>
                </a:lnTo>
                <a:lnTo>
                  <a:pt x="1041" y="3246"/>
                </a:lnTo>
                <a:lnTo>
                  <a:pt x="1033" y="3238"/>
                </a:lnTo>
                <a:lnTo>
                  <a:pt x="1029" y="3236"/>
                </a:lnTo>
                <a:lnTo>
                  <a:pt x="1027" y="3232"/>
                </a:lnTo>
                <a:lnTo>
                  <a:pt x="1023" y="3228"/>
                </a:lnTo>
                <a:lnTo>
                  <a:pt x="1023" y="3201"/>
                </a:lnTo>
                <a:lnTo>
                  <a:pt x="1021" y="3197"/>
                </a:lnTo>
                <a:lnTo>
                  <a:pt x="1013" y="3197"/>
                </a:lnTo>
                <a:lnTo>
                  <a:pt x="1007" y="3199"/>
                </a:lnTo>
                <a:lnTo>
                  <a:pt x="1001" y="3203"/>
                </a:lnTo>
                <a:lnTo>
                  <a:pt x="995" y="3205"/>
                </a:lnTo>
                <a:lnTo>
                  <a:pt x="989" y="3209"/>
                </a:lnTo>
                <a:lnTo>
                  <a:pt x="982" y="3211"/>
                </a:lnTo>
                <a:lnTo>
                  <a:pt x="976" y="3214"/>
                </a:lnTo>
                <a:lnTo>
                  <a:pt x="970" y="3216"/>
                </a:lnTo>
                <a:lnTo>
                  <a:pt x="966" y="3220"/>
                </a:lnTo>
                <a:lnTo>
                  <a:pt x="958" y="3220"/>
                </a:lnTo>
                <a:lnTo>
                  <a:pt x="956" y="3216"/>
                </a:lnTo>
                <a:lnTo>
                  <a:pt x="954" y="3214"/>
                </a:lnTo>
                <a:lnTo>
                  <a:pt x="954" y="3209"/>
                </a:lnTo>
                <a:lnTo>
                  <a:pt x="952" y="3205"/>
                </a:lnTo>
                <a:lnTo>
                  <a:pt x="950" y="3199"/>
                </a:lnTo>
                <a:lnTo>
                  <a:pt x="946" y="3191"/>
                </a:lnTo>
                <a:lnTo>
                  <a:pt x="944" y="3189"/>
                </a:lnTo>
                <a:lnTo>
                  <a:pt x="940" y="3181"/>
                </a:lnTo>
                <a:lnTo>
                  <a:pt x="934" y="3175"/>
                </a:lnTo>
                <a:lnTo>
                  <a:pt x="929" y="3171"/>
                </a:lnTo>
                <a:lnTo>
                  <a:pt x="915" y="3163"/>
                </a:lnTo>
                <a:lnTo>
                  <a:pt x="895" y="3148"/>
                </a:lnTo>
                <a:lnTo>
                  <a:pt x="889" y="3144"/>
                </a:lnTo>
                <a:lnTo>
                  <a:pt x="883" y="3138"/>
                </a:lnTo>
                <a:lnTo>
                  <a:pt x="878" y="3134"/>
                </a:lnTo>
                <a:lnTo>
                  <a:pt x="872" y="3128"/>
                </a:lnTo>
                <a:lnTo>
                  <a:pt x="864" y="3124"/>
                </a:lnTo>
                <a:lnTo>
                  <a:pt x="858" y="3120"/>
                </a:lnTo>
                <a:lnTo>
                  <a:pt x="842" y="3104"/>
                </a:lnTo>
                <a:lnTo>
                  <a:pt x="838" y="3099"/>
                </a:lnTo>
                <a:lnTo>
                  <a:pt x="836" y="3095"/>
                </a:lnTo>
                <a:lnTo>
                  <a:pt x="836" y="3091"/>
                </a:lnTo>
                <a:lnTo>
                  <a:pt x="834" y="3087"/>
                </a:lnTo>
                <a:lnTo>
                  <a:pt x="830" y="3083"/>
                </a:lnTo>
                <a:lnTo>
                  <a:pt x="817" y="3077"/>
                </a:lnTo>
                <a:lnTo>
                  <a:pt x="799" y="3073"/>
                </a:lnTo>
                <a:lnTo>
                  <a:pt x="793" y="3071"/>
                </a:lnTo>
                <a:lnTo>
                  <a:pt x="789" y="3071"/>
                </a:lnTo>
                <a:lnTo>
                  <a:pt x="783" y="3069"/>
                </a:lnTo>
                <a:lnTo>
                  <a:pt x="777" y="3069"/>
                </a:lnTo>
                <a:lnTo>
                  <a:pt x="770" y="3073"/>
                </a:lnTo>
                <a:lnTo>
                  <a:pt x="768" y="3077"/>
                </a:lnTo>
                <a:lnTo>
                  <a:pt x="764" y="3083"/>
                </a:lnTo>
                <a:lnTo>
                  <a:pt x="762" y="3087"/>
                </a:lnTo>
                <a:lnTo>
                  <a:pt x="754" y="3099"/>
                </a:lnTo>
                <a:lnTo>
                  <a:pt x="752" y="3103"/>
                </a:lnTo>
                <a:lnTo>
                  <a:pt x="748" y="3108"/>
                </a:lnTo>
                <a:lnTo>
                  <a:pt x="746" y="3110"/>
                </a:lnTo>
                <a:lnTo>
                  <a:pt x="744" y="3114"/>
                </a:lnTo>
                <a:lnTo>
                  <a:pt x="742" y="3116"/>
                </a:lnTo>
                <a:lnTo>
                  <a:pt x="734" y="3116"/>
                </a:lnTo>
                <a:lnTo>
                  <a:pt x="730" y="3112"/>
                </a:lnTo>
                <a:lnTo>
                  <a:pt x="726" y="3110"/>
                </a:lnTo>
                <a:lnTo>
                  <a:pt x="724" y="3106"/>
                </a:lnTo>
                <a:lnTo>
                  <a:pt x="720" y="3104"/>
                </a:lnTo>
                <a:lnTo>
                  <a:pt x="717" y="3101"/>
                </a:lnTo>
                <a:lnTo>
                  <a:pt x="713" y="3099"/>
                </a:lnTo>
                <a:lnTo>
                  <a:pt x="709" y="3095"/>
                </a:lnTo>
                <a:lnTo>
                  <a:pt x="705" y="3093"/>
                </a:lnTo>
                <a:lnTo>
                  <a:pt x="697" y="3085"/>
                </a:lnTo>
                <a:lnTo>
                  <a:pt x="695" y="3081"/>
                </a:lnTo>
                <a:lnTo>
                  <a:pt x="689" y="3079"/>
                </a:lnTo>
                <a:lnTo>
                  <a:pt x="681" y="3075"/>
                </a:lnTo>
                <a:lnTo>
                  <a:pt x="673" y="3073"/>
                </a:lnTo>
                <a:lnTo>
                  <a:pt x="667" y="3071"/>
                </a:lnTo>
                <a:lnTo>
                  <a:pt x="660" y="3067"/>
                </a:lnTo>
                <a:lnTo>
                  <a:pt x="654" y="3063"/>
                </a:lnTo>
                <a:lnTo>
                  <a:pt x="648" y="3057"/>
                </a:lnTo>
                <a:lnTo>
                  <a:pt x="644" y="3051"/>
                </a:lnTo>
                <a:lnTo>
                  <a:pt x="640" y="3048"/>
                </a:lnTo>
                <a:lnTo>
                  <a:pt x="636" y="3046"/>
                </a:lnTo>
                <a:lnTo>
                  <a:pt x="632" y="3042"/>
                </a:lnTo>
                <a:lnTo>
                  <a:pt x="620" y="3034"/>
                </a:lnTo>
                <a:lnTo>
                  <a:pt x="614" y="3028"/>
                </a:lnTo>
                <a:lnTo>
                  <a:pt x="612" y="3024"/>
                </a:lnTo>
                <a:lnTo>
                  <a:pt x="609" y="3018"/>
                </a:lnTo>
                <a:lnTo>
                  <a:pt x="605" y="3016"/>
                </a:lnTo>
                <a:lnTo>
                  <a:pt x="601" y="3012"/>
                </a:lnTo>
                <a:lnTo>
                  <a:pt x="593" y="3012"/>
                </a:lnTo>
                <a:lnTo>
                  <a:pt x="589" y="3014"/>
                </a:lnTo>
                <a:lnTo>
                  <a:pt x="575" y="3014"/>
                </a:lnTo>
                <a:lnTo>
                  <a:pt x="567" y="3010"/>
                </a:lnTo>
                <a:lnTo>
                  <a:pt x="561" y="3004"/>
                </a:lnTo>
                <a:lnTo>
                  <a:pt x="557" y="2996"/>
                </a:lnTo>
                <a:lnTo>
                  <a:pt x="550" y="2993"/>
                </a:lnTo>
                <a:lnTo>
                  <a:pt x="546" y="2993"/>
                </a:lnTo>
                <a:lnTo>
                  <a:pt x="540" y="2991"/>
                </a:lnTo>
                <a:lnTo>
                  <a:pt x="526" y="2991"/>
                </a:lnTo>
                <a:lnTo>
                  <a:pt x="520" y="2989"/>
                </a:lnTo>
                <a:lnTo>
                  <a:pt x="516" y="2987"/>
                </a:lnTo>
                <a:lnTo>
                  <a:pt x="510" y="2983"/>
                </a:lnTo>
                <a:lnTo>
                  <a:pt x="510" y="2979"/>
                </a:lnTo>
                <a:lnTo>
                  <a:pt x="508" y="2979"/>
                </a:lnTo>
                <a:lnTo>
                  <a:pt x="506" y="2975"/>
                </a:lnTo>
                <a:lnTo>
                  <a:pt x="506" y="2971"/>
                </a:lnTo>
                <a:lnTo>
                  <a:pt x="504" y="2967"/>
                </a:lnTo>
                <a:lnTo>
                  <a:pt x="504" y="2940"/>
                </a:lnTo>
                <a:lnTo>
                  <a:pt x="501" y="2932"/>
                </a:lnTo>
                <a:lnTo>
                  <a:pt x="499" y="2926"/>
                </a:lnTo>
                <a:lnTo>
                  <a:pt x="499" y="2912"/>
                </a:lnTo>
                <a:lnTo>
                  <a:pt x="497" y="2900"/>
                </a:lnTo>
                <a:lnTo>
                  <a:pt x="495" y="2896"/>
                </a:lnTo>
                <a:lnTo>
                  <a:pt x="491" y="2894"/>
                </a:lnTo>
                <a:lnTo>
                  <a:pt x="489" y="2890"/>
                </a:lnTo>
                <a:lnTo>
                  <a:pt x="485" y="2888"/>
                </a:lnTo>
                <a:lnTo>
                  <a:pt x="481" y="2881"/>
                </a:lnTo>
                <a:lnTo>
                  <a:pt x="481" y="2873"/>
                </a:lnTo>
                <a:lnTo>
                  <a:pt x="475" y="2855"/>
                </a:lnTo>
                <a:lnTo>
                  <a:pt x="473" y="2851"/>
                </a:lnTo>
                <a:lnTo>
                  <a:pt x="469" y="2847"/>
                </a:lnTo>
                <a:lnTo>
                  <a:pt x="467" y="2843"/>
                </a:lnTo>
                <a:lnTo>
                  <a:pt x="467" y="2833"/>
                </a:lnTo>
                <a:lnTo>
                  <a:pt x="469" y="2832"/>
                </a:lnTo>
                <a:lnTo>
                  <a:pt x="473" y="2830"/>
                </a:lnTo>
                <a:lnTo>
                  <a:pt x="475" y="2828"/>
                </a:lnTo>
                <a:lnTo>
                  <a:pt x="479" y="2826"/>
                </a:lnTo>
                <a:lnTo>
                  <a:pt x="485" y="2826"/>
                </a:lnTo>
                <a:lnTo>
                  <a:pt x="489" y="2822"/>
                </a:lnTo>
                <a:lnTo>
                  <a:pt x="493" y="2820"/>
                </a:lnTo>
                <a:lnTo>
                  <a:pt x="495" y="2820"/>
                </a:lnTo>
                <a:lnTo>
                  <a:pt x="501" y="2822"/>
                </a:lnTo>
                <a:lnTo>
                  <a:pt x="504" y="2824"/>
                </a:lnTo>
                <a:lnTo>
                  <a:pt x="506" y="2828"/>
                </a:lnTo>
                <a:lnTo>
                  <a:pt x="510" y="2832"/>
                </a:lnTo>
                <a:lnTo>
                  <a:pt x="518" y="2843"/>
                </a:lnTo>
                <a:lnTo>
                  <a:pt x="522" y="2847"/>
                </a:lnTo>
                <a:lnTo>
                  <a:pt x="534" y="2851"/>
                </a:lnTo>
                <a:lnTo>
                  <a:pt x="542" y="2849"/>
                </a:lnTo>
                <a:lnTo>
                  <a:pt x="550" y="2845"/>
                </a:lnTo>
                <a:lnTo>
                  <a:pt x="554" y="2841"/>
                </a:lnTo>
                <a:lnTo>
                  <a:pt x="557" y="2833"/>
                </a:lnTo>
                <a:lnTo>
                  <a:pt x="559" y="2826"/>
                </a:lnTo>
                <a:lnTo>
                  <a:pt x="557" y="2808"/>
                </a:lnTo>
                <a:lnTo>
                  <a:pt x="550" y="2794"/>
                </a:lnTo>
                <a:lnTo>
                  <a:pt x="544" y="2779"/>
                </a:lnTo>
                <a:lnTo>
                  <a:pt x="532" y="2763"/>
                </a:lnTo>
                <a:lnTo>
                  <a:pt x="524" y="2745"/>
                </a:lnTo>
                <a:lnTo>
                  <a:pt x="518" y="2729"/>
                </a:lnTo>
                <a:lnTo>
                  <a:pt x="512" y="2716"/>
                </a:lnTo>
                <a:lnTo>
                  <a:pt x="506" y="2706"/>
                </a:lnTo>
                <a:lnTo>
                  <a:pt x="502" y="2692"/>
                </a:lnTo>
                <a:lnTo>
                  <a:pt x="502" y="2686"/>
                </a:lnTo>
                <a:lnTo>
                  <a:pt x="504" y="2682"/>
                </a:lnTo>
                <a:lnTo>
                  <a:pt x="506" y="2676"/>
                </a:lnTo>
                <a:lnTo>
                  <a:pt x="508" y="2672"/>
                </a:lnTo>
                <a:lnTo>
                  <a:pt x="514" y="2667"/>
                </a:lnTo>
                <a:lnTo>
                  <a:pt x="514" y="2663"/>
                </a:lnTo>
                <a:lnTo>
                  <a:pt x="510" y="2655"/>
                </a:lnTo>
                <a:lnTo>
                  <a:pt x="497" y="2641"/>
                </a:lnTo>
                <a:lnTo>
                  <a:pt x="485" y="2633"/>
                </a:lnTo>
                <a:lnTo>
                  <a:pt x="477" y="2627"/>
                </a:lnTo>
                <a:lnTo>
                  <a:pt x="473" y="2623"/>
                </a:lnTo>
                <a:lnTo>
                  <a:pt x="471" y="2619"/>
                </a:lnTo>
                <a:lnTo>
                  <a:pt x="467" y="2616"/>
                </a:lnTo>
                <a:lnTo>
                  <a:pt x="465" y="2610"/>
                </a:lnTo>
                <a:lnTo>
                  <a:pt x="461" y="2602"/>
                </a:lnTo>
                <a:lnTo>
                  <a:pt x="457" y="2596"/>
                </a:lnTo>
                <a:lnTo>
                  <a:pt x="449" y="2580"/>
                </a:lnTo>
                <a:lnTo>
                  <a:pt x="444" y="2564"/>
                </a:lnTo>
                <a:lnTo>
                  <a:pt x="438" y="2551"/>
                </a:lnTo>
                <a:lnTo>
                  <a:pt x="430" y="2537"/>
                </a:lnTo>
                <a:lnTo>
                  <a:pt x="420" y="2521"/>
                </a:lnTo>
                <a:lnTo>
                  <a:pt x="412" y="2508"/>
                </a:lnTo>
                <a:lnTo>
                  <a:pt x="408" y="2490"/>
                </a:lnTo>
                <a:lnTo>
                  <a:pt x="394" y="2488"/>
                </a:lnTo>
                <a:lnTo>
                  <a:pt x="383" y="2486"/>
                </a:lnTo>
                <a:lnTo>
                  <a:pt x="369" y="2484"/>
                </a:lnTo>
                <a:lnTo>
                  <a:pt x="363" y="2484"/>
                </a:lnTo>
                <a:lnTo>
                  <a:pt x="357" y="2482"/>
                </a:lnTo>
                <a:lnTo>
                  <a:pt x="345" y="2482"/>
                </a:lnTo>
                <a:lnTo>
                  <a:pt x="339" y="2480"/>
                </a:lnTo>
                <a:lnTo>
                  <a:pt x="332" y="2478"/>
                </a:lnTo>
                <a:lnTo>
                  <a:pt x="324" y="2474"/>
                </a:lnTo>
                <a:lnTo>
                  <a:pt x="318" y="2472"/>
                </a:lnTo>
                <a:lnTo>
                  <a:pt x="310" y="2468"/>
                </a:lnTo>
                <a:lnTo>
                  <a:pt x="304" y="2464"/>
                </a:lnTo>
                <a:lnTo>
                  <a:pt x="296" y="2453"/>
                </a:lnTo>
                <a:lnTo>
                  <a:pt x="290" y="2445"/>
                </a:lnTo>
                <a:lnTo>
                  <a:pt x="288" y="2443"/>
                </a:lnTo>
                <a:lnTo>
                  <a:pt x="288" y="2439"/>
                </a:lnTo>
                <a:lnTo>
                  <a:pt x="286" y="2437"/>
                </a:lnTo>
                <a:lnTo>
                  <a:pt x="279" y="2437"/>
                </a:lnTo>
                <a:lnTo>
                  <a:pt x="275" y="2439"/>
                </a:lnTo>
                <a:lnTo>
                  <a:pt x="271" y="2443"/>
                </a:lnTo>
                <a:lnTo>
                  <a:pt x="267" y="2445"/>
                </a:lnTo>
                <a:lnTo>
                  <a:pt x="261" y="2445"/>
                </a:lnTo>
                <a:lnTo>
                  <a:pt x="249" y="2441"/>
                </a:lnTo>
                <a:lnTo>
                  <a:pt x="245" y="2435"/>
                </a:lnTo>
                <a:lnTo>
                  <a:pt x="243" y="2429"/>
                </a:lnTo>
                <a:lnTo>
                  <a:pt x="243" y="2423"/>
                </a:lnTo>
                <a:lnTo>
                  <a:pt x="241" y="2419"/>
                </a:lnTo>
                <a:lnTo>
                  <a:pt x="239" y="2413"/>
                </a:lnTo>
                <a:lnTo>
                  <a:pt x="237" y="2409"/>
                </a:lnTo>
                <a:lnTo>
                  <a:pt x="233" y="2407"/>
                </a:lnTo>
                <a:lnTo>
                  <a:pt x="231" y="2403"/>
                </a:lnTo>
                <a:lnTo>
                  <a:pt x="231" y="2398"/>
                </a:lnTo>
                <a:lnTo>
                  <a:pt x="233" y="2394"/>
                </a:lnTo>
                <a:lnTo>
                  <a:pt x="237" y="2392"/>
                </a:lnTo>
                <a:lnTo>
                  <a:pt x="237" y="2380"/>
                </a:lnTo>
                <a:lnTo>
                  <a:pt x="233" y="2374"/>
                </a:lnTo>
                <a:lnTo>
                  <a:pt x="231" y="2368"/>
                </a:lnTo>
                <a:lnTo>
                  <a:pt x="226" y="2364"/>
                </a:lnTo>
                <a:lnTo>
                  <a:pt x="222" y="2358"/>
                </a:lnTo>
                <a:lnTo>
                  <a:pt x="216" y="2352"/>
                </a:lnTo>
                <a:lnTo>
                  <a:pt x="212" y="2347"/>
                </a:lnTo>
                <a:lnTo>
                  <a:pt x="208" y="2343"/>
                </a:lnTo>
                <a:lnTo>
                  <a:pt x="206" y="2339"/>
                </a:lnTo>
                <a:lnTo>
                  <a:pt x="202" y="2337"/>
                </a:lnTo>
                <a:lnTo>
                  <a:pt x="186" y="2337"/>
                </a:lnTo>
                <a:lnTo>
                  <a:pt x="182" y="2335"/>
                </a:lnTo>
                <a:lnTo>
                  <a:pt x="180" y="2331"/>
                </a:lnTo>
                <a:lnTo>
                  <a:pt x="180" y="2327"/>
                </a:lnTo>
                <a:lnTo>
                  <a:pt x="178" y="2321"/>
                </a:lnTo>
                <a:lnTo>
                  <a:pt x="163" y="2321"/>
                </a:lnTo>
                <a:lnTo>
                  <a:pt x="147" y="2319"/>
                </a:lnTo>
                <a:lnTo>
                  <a:pt x="141" y="2317"/>
                </a:lnTo>
                <a:lnTo>
                  <a:pt x="137" y="2315"/>
                </a:lnTo>
                <a:lnTo>
                  <a:pt x="131" y="2311"/>
                </a:lnTo>
                <a:lnTo>
                  <a:pt x="120" y="2307"/>
                </a:lnTo>
                <a:lnTo>
                  <a:pt x="123" y="2297"/>
                </a:lnTo>
                <a:lnTo>
                  <a:pt x="123" y="2276"/>
                </a:lnTo>
                <a:lnTo>
                  <a:pt x="127" y="2272"/>
                </a:lnTo>
                <a:lnTo>
                  <a:pt x="131" y="2266"/>
                </a:lnTo>
                <a:lnTo>
                  <a:pt x="139" y="2258"/>
                </a:lnTo>
                <a:lnTo>
                  <a:pt x="139" y="2250"/>
                </a:lnTo>
                <a:lnTo>
                  <a:pt x="137" y="2248"/>
                </a:lnTo>
                <a:lnTo>
                  <a:pt x="135" y="2244"/>
                </a:lnTo>
                <a:lnTo>
                  <a:pt x="133" y="2242"/>
                </a:lnTo>
                <a:lnTo>
                  <a:pt x="129" y="2237"/>
                </a:lnTo>
                <a:lnTo>
                  <a:pt x="127" y="2233"/>
                </a:lnTo>
                <a:lnTo>
                  <a:pt x="122" y="2227"/>
                </a:lnTo>
                <a:lnTo>
                  <a:pt x="120" y="2223"/>
                </a:lnTo>
                <a:lnTo>
                  <a:pt x="120" y="2217"/>
                </a:lnTo>
                <a:lnTo>
                  <a:pt x="123" y="2209"/>
                </a:lnTo>
                <a:lnTo>
                  <a:pt x="127" y="2205"/>
                </a:lnTo>
                <a:lnTo>
                  <a:pt x="129" y="2201"/>
                </a:lnTo>
                <a:lnTo>
                  <a:pt x="129" y="2191"/>
                </a:lnTo>
                <a:lnTo>
                  <a:pt x="125" y="2189"/>
                </a:lnTo>
                <a:lnTo>
                  <a:pt x="123" y="2186"/>
                </a:lnTo>
                <a:lnTo>
                  <a:pt x="120" y="2184"/>
                </a:lnTo>
                <a:lnTo>
                  <a:pt x="118" y="2182"/>
                </a:lnTo>
                <a:lnTo>
                  <a:pt x="116" y="2178"/>
                </a:lnTo>
                <a:lnTo>
                  <a:pt x="112" y="2166"/>
                </a:lnTo>
                <a:lnTo>
                  <a:pt x="106" y="2154"/>
                </a:lnTo>
                <a:lnTo>
                  <a:pt x="106" y="2146"/>
                </a:lnTo>
                <a:lnTo>
                  <a:pt x="110" y="2144"/>
                </a:lnTo>
                <a:lnTo>
                  <a:pt x="114" y="2140"/>
                </a:lnTo>
                <a:lnTo>
                  <a:pt x="118" y="2138"/>
                </a:lnTo>
                <a:lnTo>
                  <a:pt x="118" y="2129"/>
                </a:lnTo>
                <a:lnTo>
                  <a:pt x="114" y="2125"/>
                </a:lnTo>
                <a:lnTo>
                  <a:pt x="102" y="2119"/>
                </a:lnTo>
                <a:lnTo>
                  <a:pt x="96" y="2117"/>
                </a:lnTo>
                <a:lnTo>
                  <a:pt x="76" y="2105"/>
                </a:lnTo>
                <a:lnTo>
                  <a:pt x="65" y="2103"/>
                </a:lnTo>
                <a:lnTo>
                  <a:pt x="59" y="2105"/>
                </a:lnTo>
                <a:lnTo>
                  <a:pt x="55" y="2107"/>
                </a:lnTo>
                <a:lnTo>
                  <a:pt x="37" y="2113"/>
                </a:lnTo>
                <a:lnTo>
                  <a:pt x="21" y="2113"/>
                </a:lnTo>
                <a:lnTo>
                  <a:pt x="19" y="2101"/>
                </a:lnTo>
                <a:lnTo>
                  <a:pt x="12" y="2081"/>
                </a:lnTo>
                <a:lnTo>
                  <a:pt x="8" y="2074"/>
                </a:lnTo>
                <a:lnTo>
                  <a:pt x="8" y="2064"/>
                </a:lnTo>
                <a:lnTo>
                  <a:pt x="14" y="2052"/>
                </a:lnTo>
                <a:lnTo>
                  <a:pt x="14" y="2046"/>
                </a:lnTo>
                <a:lnTo>
                  <a:pt x="12" y="2042"/>
                </a:lnTo>
                <a:lnTo>
                  <a:pt x="8" y="2038"/>
                </a:lnTo>
                <a:lnTo>
                  <a:pt x="6" y="2032"/>
                </a:lnTo>
                <a:lnTo>
                  <a:pt x="2" y="2028"/>
                </a:lnTo>
                <a:lnTo>
                  <a:pt x="0" y="2023"/>
                </a:lnTo>
                <a:lnTo>
                  <a:pt x="0" y="2009"/>
                </a:lnTo>
                <a:lnTo>
                  <a:pt x="8" y="2005"/>
                </a:lnTo>
                <a:lnTo>
                  <a:pt x="15" y="2003"/>
                </a:lnTo>
                <a:lnTo>
                  <a:pt x="23" y="1997"/>
                </a:lnTo>
                <a:lnTo>
                  <a:pt x="31" y="1989"/>
                </a:lnTo>
                <a:lnTo>
                  <a:pt x="33" y="1985"/>
                </a:lnTo>
                <a:lnTo>
                  <a:pt x="35" y="1983"/>
                </a:lnTo>
                <a:lnTo>
                  <a:pt x="35" y="1979"/>
                </a:lnTo>
                <a:lnTo>
                  <a:pt x="33" y="1973"/>
                </a:lnTo>
                <a:lnTo>
                  <a:pt x="33" y="1962"/>
                </a:lnTo>
                <a:lnTo>
                  <a:pt x="35" y="1958"/>
                </a:lnTo>
                <a:lnTo>
                  <a:pt x="39" y="1954"/>
                </a:lnTo>
                <a:lnTo>
                  <a:pt x="43" y="1942"/>
                </a:lnTo>
                <a:lnTo>
                  <a:pt x="45" y="1938"/>
                </a:lnTo>
                <a:lnTo>
                  <a:pt x="47" y="1932"/>
                </a:lnTo>
                <a:lnTo>
                  <a:pt x="49" y="1928"/>
                </a:lnTo>
                <a:lnTo>
                  <a:pt x="53" y="1926"/>
                </a:lnTo>
                <a:lnTo>
                  <a:pt x="59" y="1924"/>
                </a:lnTo>
                <a:lnTo>
                  <a:pt x="67" y="1924"/>
                </a:lnTo>
                <a:lnTo>
                  <a:pt x="72" y="1922"/>
                </a:lnTo>
                <a:lnTo>
                  <a:pt x="80" y="1922"/>
                </a:lnTo>
                <a:lnTo>
                  <a:pt x="88" y="1918"/>
                </a:lnTo>
                <a:lnTo>
                  <a:pt x="92" y="1915"/>
                </a:lnTo>
                <a:lnTo>
                  <a:pt x="94" y="1911"/>
                </a:lnTo>
                <a:lnTo>
                  <a:pt x="96" y="1905"/>
                </a:lnTo>
                <a:lnTo>
                  <a:pt x="104" y="1897"/>
                </a:lnTo>
                <a:lnTo>
                  <a:pt x="110" y="1895"/>
                </a:lnTo>
                <a:lnTo>
                  <a:pt x="116" y="1891"/>
                </a:lnTo>
                <a:lnTo>
                  <a:pt x="127" y="1887"/>
                </a:lnTo>
                <a:lnTo>
                  <a:pt x="131" y="1883"/>
                </a:lnTo>
                <a:lnTo>
                  <a:pt x="137" y="1879"/>
                </a:lnTo>
                <a:lnTo>
                  <a:pt x="145" y="1877"/>
                </a:lnTo>
                <a:lnTo>
                  <a:pt x="151" y="1875"/>
                </a:lnTo>
                <a:lnTo>
                  <a:pt x="155" y="1871"/>
                </a:lnTo>
                <a:lnTo>
                  <a:pt x="161" y="1869"/>
                </a:lnTo>
                <a:lnTo>
                  <a:pt x="178" y="1862"/>
                </a:lnTo>
                <a:lnTo>
                  <a:pt x="194" y="1852"/>
                </a:lnTo>
                <a:lnTo>
                  <a:pt x="198" y="1863"/>
                </a:lnTo>
                <a:lnTo>
                  <a:pt x="202" y="1871"/>
                </a:lnTo>
                <a:lnTo>
                  <a:pt x="206" y="1877"/>
                </a:lnTo>
                <a:lnTo>
                  <a:pt x="218" y="1889"/>
                </a:lnTo>
                <a:lnTo>
                  <a:pt x="224" y="1891"/>
                </a:lnTo>
                <a:lnTo>
                  <a:pt x="230" y="1891"/>
                </a:lnTo>
                <a:lnTo>
                  <a:pt x="241" y="1889"/>
                </a:lnTo>
                <a:lnTo>
                  <a:pt x="251" y="1885"/>
                </a:lnTo>
                <a:lnTo>
                  <a:pt x="263" y="1881"/>
                </a:lnTo>
                <a:lnTo>
                  <a:pt x="269" y="1881"/>
                </a:lnTo>
                <a:lnTo>
                  <a:pt x="275" y="1879"/>
                </a:lnTo>
                <a:lnTo>
                  <a:pt x="279" y="1879"/>
                </a:lnTo>
                <a:lnTo>
                  <a:pt x="283" y="1877"/>
                </a:lnTo>
                <a:lnTo>
                  <a:pt x="286" y="1873"/>
                </a:lnTo>
                <a:lnTo>
                  <a:pt x="294" y="1856"/>
                </a:lnTo>
                <a:lnTo>
                  <a:pt x="304" y="1836"/>
                </a:lnTo>
                <a:lnTo>
                  <a:pt x="306" y="1830"/>
                </a:lnTo>
                <a:lnTo>
                  <a:pt x="306" y="1826"/>
                </a:lnTo>
                <a:lnTo>
                  <a:pt x="308" y="1822"/>
                </a:lnTo>
                <a:lnTo>
                  <a:pt x="316" y="1818"/>
                </a:lnTo>
                <a:lnTo>
                  <a:pt x="338" y="1818"/>
                </a:lnTo>
                <a:lnTo>
                  <a:pt x="343" y="1816"/>
                </a:lnTo>
                <a:lnTo>
                  <a:pt x="351" y="1816"/>
                </a:lnTo>
                <a:lnTo>
                  <a:pt x="357" y="1814"/>
                </a:lnTo>
                <a:lnTo>
                  <a:pt x="373" y="1810"/>
                </a:lnTo>
                <a:lnTo>
                  <a:pt x="385" y="1805"/>
                </a:lnTo>
                <a:lnTo>
                  <a:pt x="400" y="1801"/>
                </a:lnTo>
                <a:lnTo>
                  <a:pt x="412" y="1801"/>
                </a:lnTo>
                <a:lnTo>
                  <a:pt x="422" y="1799"/>
                </a:lnTo>
                <a:lnTo>
                  <a:pt x="432" y="1799"/>
                </a:lnTo>
                <a:lnTo>
                  <a:pt x="440" y="1795"/>
                </a:lnTo>
                <a:lnTo>
                  <a:pt x="444" y="1791"/>
                </a:lnTo>
                <a:lnTo>
                  <a:pt x="449" y="1787"/>
                </a:lnTo>
                <a:lnTo>
                  <a:pt x="455" y="1781"/>
                </a:lnTo>
                <a:lnTo>
                  <a:pt x="463" y="1775"/>
                </a:lnTo>
                <a:lnTo>
                  <a:pt x="475" y="1763"/>
                </a:lnTo>
                <a:lnTo>
                  <a:pt x="481" y="1759"/>
                </a:lnTo>
                <a:lnTo>
                  <a:pt x="489" y="1754"/>
                </a:lnTo>
                <a:lnTo>
                  <a:pt x="491" y="1752"/>
                </a:lnTo>
                <a:lnTo>
                  <a:pt x="493" y="1748"/>
                </a:lnTo>
                <a:lnTo>
                  <a:pt x="497" y="1744"/>
                </a:lnTo>
                <a:lnTo>
                  <a:pt x="508" y="1736"/>
                </a:lnTo>
                <a:lnTo>
                  <a:pt x="524" y="1726"/>
                </a:lnTo>
                <a:lnTo>
                  <a:pt x="542" y="1718"/>
                </a:lnTo>
                <a:lnTo>
                  <a:pt x="550" y="1714"/>
                </a:lnTo>
                <a:lnTo>
                  <a:pt x="555" y="1712"/>
                </a:lnTo>
                <a:lnTo>
                  <a:pt x="571" y="1708"/>
                </a:lnTo>
                <a:lnTo>
                  <a:pt x="577" y="1708"/>
                </a:lnTo>
                <a:lnTo>
                  <a:pt x="583" y="1702"/>
                </a:lnTo>
                <a:lnTo>
                  <a:pt x="585" y="1697"/>
                </a:lnTo>
                <a:lnTo>
                  <a:pt x="589" y="1693"/>
                </a:lnTo>
                <a:lnTo>
                  <a:pt x="591" y="1689"/>
                </a:lnTo>
                <a:lnTo>
                  <a:pt x="595" y="1685"/>
                </a:lnTo>
                <a:lnTo>
                  <a:pt x="601" y="1681"/>
                </a:lnTo>
                <a:lnTo>
                  <a:pt x="609" y="1679"/>
                </a:lnTo>
                <a:lnTo>
                  <a:pt x="614" y="1677"/>
                </a:lnTo>
                <a:lnTo>
                  <a:pt x="622" y="1675"/>
                </a:lnTo>
                <a:lnTo>
                  <a:pt x="626" y="1675"/>
                </a:lnTo>
                <a:lnTo>
                  <a:pt x="630" y="1673"/>
                </a:lnTo>
                <a:lnTo>
                  <a:pt x="634" y="1673"/>
                </a:lnTo>
                <a:lnTo>
                  <a:pt x="642" y="1669"/>
                </a:lnTo>
                <a:lnTo>
                  <a:pt x="642" y="1661"/>
                </a:lnTo>
                <a:lnTo>
                  <a:pt x="640" y="1657"/>
                </a:lnTo>
                <a:lnTo>
                  <a:pt x="640" y="1644"/>
                </a:lnTo>
                <a:lnTo>
                  <a:pt x="644" y="1644"/>
                </a:lnTo>
                <a:lnTo>
                  <a:pt x="644" y="1642"/>
                </a:lnTo>
                <a:lnTo>
                  <a:pt x="642" y="1638"/>
                </a:lnTo>
                <a:lnTo>
                  <a:pt x="642" y="1630"/>
                </a:lnTo>
                <a:lnTo>
                  <a:pt x="640" y="1624"/>
                </a:lnTo>
                <a:lnTo>
                  <a:pt x="640" y="1614"/>
                </a:lnTo>
                <a:lnTo>
                  <a:pt x="638" y="1606"/>
                </a:lnTo>
                <a:lnTo>
                  <a:pt x="634" y="1598"/>
                </a:lnTo>
                <a:lnTo>
                  <a:pt x="632" y="1593"/>
                </a:lnTo>
                <a:lnTo>
                  <a:pt x="632" y="1585"/>
                </a:lnTo>
                <a:lnTo>
                  <a:pt x="634" y="1581"/>
                </a:lnTo>
                <a:lnTo>
                  <a:pt x="636" y="1579"/>
                </a:lnTo>
                <a:lnTo>
                  <a:pt x="644" y="1575"/>
                </a:lnTo>
                <a:lnTo>
                  <a:pt x="650" y="1573"/>
                </a:lnTo>
                <a:lnTo>
                  <a:pt x="654" y="1571"/>
                </a:lnTo>
                <a:lnTo>
                  <a:pt x="658" y="1567"/>
                </a:lnTo>
                <a:lnTo>
                  <a:pt x="663" y="1565"/>
                </a:lnTo>
                <a:lnTo>
                  <a:pt x="665" y="1563"/>
                </a:lnTo>
                <a:lnTo>
                  <a:pt x="669" y="1561"/>
                </a:lnTo>
                <a:lnTo>
                  <a:pt x="671" y="1559"/>
                </a:lnTo>
                <a:lnTo>
                  <a:pt x="671" y="1555"/>
                </a:lnTo>
                <a:lnTo>
                  <a:pt x="669" y="1551"/>
                </a:lnTo>
                <a:lnTo>
                  <a:pt x="665" y="1547"/>
                </a:lnTo>
                <a:lnTo>
                  <a:pt x="665" y="1543"/>
                </a:lnTo>
                <a:lnTo>
                  <a:pt x="677" y="1538"/>
                </a:lnTo>
                <a:lnTo>
                  <a:pt x="681" y="1534"/>
                </a:lnTo>
                <a:lnTo>
                  <a:pt x="685" y="1532"/>
                </a:lnTo>
                <a:lnTo>
                  <a:pt x="695" y="1532"/>
                </a:lnTo>
                <a:lnTo>
                  <a:pt x="697" y="1530"/>
                </a:lnTo>
                <a:lnTo>
                  <a:pt x="701" y="1522"/>
                </a:lnTo>
                <a:lnTo>
                  <a:pt x="701" y="1518"/>
                </a:lnTo>
                <a:lnTo>
                  <a:pt x="695" y="1500"/>
                </a:lnTo>
                <a:lnTo>
                  <a:pt x="691" y="1494"/>
                </a:lnTo>
                <a:lnTo>
                  <a:pt x="689" y="1486"/>
                </a:lnTo>
                <a:lnTo>
                  <a:pt x="687" y="1481"/>
                </a:lnTo>
                <a:lnTo>
                  <a:pt x="683" y="1475"/>
                </a:lnTo>
                <a:lnTo>
                  <a:pt x="681" y="1467"/>
                </a:lnTo>
                <a:lnTo>
                  <a:pt x="681" y="1465"/>
                </a:lnTo>
                <a:lnTo>
                  <a:pt x="679" y="1463"/>
                </a:lnTo>
                <a:lnTo>
                  <a:pt x="679" y="1459"/>
                </a:lnTo>
                <a:lnTo>
                  <a:pt x="675" y="1451"/>
                </a:lnTo>
                <a:lnTo>
                  <a:pt x="673" y="1449"/>
                </a:lnTo>
                <a:lnTo>
                  <a:pt x="667" y="1437"/>
                </a:lnTo>
                <a:lnTo>
                  <a:pt x="667" y="1433"/>
                </a:lnTo>
                <a:lnTo>
                  <a:pt x="663" y="1422"/>
                </a:lnTo>
                <a:lnTo>
                  <a:pt x="662" y="1414"/>
                </a:lnTo>
                <a:lnTo>
                  <a:pt x="658" y="1402"/>
                </a:lnTo>
                <a:lnTo>
                  <a:pt x="654" y="1386"/>
                </a:lnTo>
                <a:lnTo>
                  <a:pt x="654" y="1353"/>
                </a:lnTo>
                <a:lnTo>
                  <a:pt x="656" y="1339"/>
                </a:lnTo>
                <a:lnTo>
                  <a:pt x="658" y="1323"/>
                </a:lnTo>
                <a:lnTo>
                  <a:pt x="660" y="1318"/>
                </a:lnTo>
                <a:lnTo>
                  <a:pt x="662" y="1314"/>
                </a:lnTo>
                <a:lnTo>
                  <a:pt x="662" y="1308"/>
                </a:lnTo>
                <a:lnTo>
                  <a:pt x="658" y="1300"/>
                </a:lnTo>
                <a:lnTo>
                  <a:pt x="654" y="1298"/>
                </a:lnTo>
                <a:lnTo>
                  <a:pt x="648" y="1296"/>
                </a:lnTo>
                <a:lnTo>
                  <a:pt x="620" y="1296"/>
                </a:lnTo>
                <a:lnTo>
                  <a:pt x="620" y="1292"/>
                </a:lnTo>
                <a:lnTo>
                  <a:pt x="622" y="1288"/>
                </a:lnTo>
                <a:lnTo>
                  <a:pt x="622" y="1284"/>
                </a:lnTo>
                <a:lnTo>
                  <a:pt x="624" y="1280"/>
                </a:lnTo>
                <a:lnTo>
                  <a:pt x="630" y="1276"/>
                </a:lnTo>
                <a:lnTo>
                  <a:pt x="642" y="1272"/>
                </a:lnTo>
                <a:lnTo>
                  <a:pt x="650" y="1270"/>
                </a:lnTo>
                <a:lnTo>
                  <a:pt x="656" y="1269"/>
                </a:lnTo>
                <a:lnTo>
                  <a:pt x="660" y="1265"/>
                </a:lnTo>
                <a:lnTo>
                  <a:pt x="671" y="1261"/>
                </a:lnTo>
                <a:lnTo>
                  <a:pt x="675" y="1259"/>
                </a:lnTo>
                <a:lnTo>
                  <a:pt x="679" y="1259"/>
                </a:lnTo>
                <a:lnTo>
                  <a:pt x="683" y="1257"/>
                </a:lnTo>
                <a:lnTo>
                  <a:pt x="687" y="1257"/>
                </a:lnTo>
                <a:lnTo>
                  <a:pt x="711" y="1253"/>
                </a:lnTo>
                <a:lnTo>
                  <a:pt x="732" y="1247"/>
                </a:lnTo>
                <a:lnTo>
                  <a:pt x="740" y="1243"/>
                </a:lnTo>
                <a:lnTo>
                  <a:pt x="746" y="1241"/>
                </a:lnTo>
                <a:lnTo>
                  <a:pt x="754" y="1237"/>
                </a:lnTo>
                <a:lnTo>
                  <a:pt x="762" y="1237"/>
                </a:lnTo>
                <a:lnTo>
                  <a:pt x="773" y="1231"/>
                </a:lnTo>
                <a:lnTo>
                  <a:pt x="783" y="1231"/>
                </a:lnTo>
                <a:lnTo>
                  <a:pt x="787" y="1233"/>
                </a:lnTo>
                <a:lnTo>
                  <a:pt x="795" y="1241"/>
                </a:lnTo>
                <a:lnTo>
                  <a:pt x="797" y="1245"/>
                </a:lnTo>
                <a:lnTo>
                  <a:pt x="805" y="1253"/>
                </a:lnTo>
                <a:lnTo>
                  <a:pt x="817" y="1253"/>
                </a:lnTo>
                <a:lnTo>
                  <a:pt x="836" y="1249"/>
                </a:lnTo>
                <a:lnTo>
                  <a:pt x="848" y="1247"/>
                </a:lnTo>
                <a:lnTo>
                  <a:pt x="850" y="1247"/>
                </a:lnTo>
                <a:lnTo>
                  <a:pt x="852" y="1249"/>
                </a:lnTo>
                <a:lnTo>
                  <a:pt x="852" y="1251"/>
                </a:lnTo>
                <a:lnTo>
                  <a:pt x="854" y="1253"/>
                </a:lnTo>
                <a:lnTo>
                  <a:pt x="860" y="1257"/>
                </a:lnTo>
                <a:lnTo>
                  <a:pt x="866" y="1263"/>
                </a:lnTo>
                <a:lnTo>
                  <a:pt x="870" y="1261"/>
                </a:lnTo>
                <a:lnTo>
                  <a:pt x="872" y="1257"/>
                </a:lnTo>
                <a:lnTo>
                  <a:pt x="872" y="1237"/>
                </a:lnTo>
                <a:lnTo>
                  <a:pt x="870" y="1231"/>
                </a:lnTo>
                <a:lnTo>
                  <a:pt x="868" y="1223"/>
                </a:lnTo>
                <a:lnTo>
                  <a:pt x="864" y="1217"/>
                </a:lnTo>
                <a:lnTo>
                  <a:pt x="860" y="1215"/>
                </a:lnTo>
                <a:lnTo>
                  <a:pt x="856" y="1212"/>
                </a:lnTo>
                <a:lnTo>
                  <a:pt x="850" y="1208"/>
                </a:lnTo>
                <a:lnTo>
                  <a:pt x="846" y="1206"/>
                </a:lnTo>
                <a:lnTo>
                  <a:pt x="840" y="1200"/>
                </a:lnTo>
                <a:lnTo>
                  <a:pt x="840" y="1192"/>
                </a:lnTo>
                <a:lnTo>
                  <a:pt x="844" y="1184"/>
                </a:lnTo>
                <a:lnTo>
                  <a:pt x="844" y="1180"/>
                </a:lnTo>
                <a:lnTo>
                  <a:pt x="864" y="1133"/>
                </a:lnTo>
                <a:lnTo>
                  <a:pt x="864" y="1125"/>
                </a:lnTo>
                <a:lnTo>
                  <a:pt x="866" y="1123"/>
                </a:lnTo>
                <a:lnTo>
                  <a:pt x="874" y="1107"/>
                </a:lnTo>
                <a:lnTo>
                  <a:pt x="879" y="1094"/>
                </a:lnTo>
                <a:lnTo>
                  <a:pt x="887" y="1080"/>
                </a:lnTo>
                <a:lnTo>
                  <a:pt x="889" y="1074"/>
                </a:lnTo>
                <a:lnTo>
                  <a:pt x="889" y="1068"/>
                </a:lnTo>
                <a:lnTo>
                  <a:pt x="899" y="1039"/>
                </a:lnTo>
                <a:lnTo>
                  <a:pt x="905" y="1019"/>
                </a:lnTo>
                <a:lnTo>
                  <a:pt x="909" y="1009"/>
                </a:lnTo>
                <a:lnTo>
                  <a:pt x="913" y="990"/>
                </a:lnTo>
                <a:lnTo>
                  <a:pt x="913" y="978"/>
                </a:lnTo>
                <a:lnTo>
                  <a:pt x="915" y="974"/>
                </a:lnTo>
                <a:lnTo>
                  <a:pt x="917" y="968"/>
                </a:lnTo>
                <a:lnTo>
                  <a:pt x="921" y="964"/>
                </a:lnTo>
                <a:lnTo>
                  <a:pt x="923" y="960"/>
                </a:lnTo>
                <a:lnTo>
                  <a:pt x="925" y="960"/>
                </a:lnTo>
                <a:lnTo>
                  <a:pt x="933" y="964"/>
                </a:lnTo>
                <a:lnTo>
                  <a:pt x="940" y="972"/>
                </a:lnTo>
                <a:lnTo>
                  <a:pt x="946" y="974"/>
                </a:lnTo>
                <a:lnTo>
                  <a:pt x="954" y="978"/>
                </a:lnTo>
                <a:lnTo>
                  <a:pt x="970" y="988"/>
                </a:lnTo>
                <a:lnTo>
                  <a:pt x="987" y="994"/>
                </a:lnTo>
                <a:lnTo>
                  <a:pt x="993" y="994"/>
                </a:lnTo>
                <a:lnTo>
                  <a:pt x="997" y="996"/>
                </a:lnTo>
                <a:lnTo>
                  <a:pt x="1066" y="996"/>
                </a:lnTo>
                <a:lnTo>
                  <a:pt x="1072" y="998"/>
                </a:lnTo>
                <a:lnTo>
                  <a:pt x="1076" y="998"/>
                </a:lnTo>
                <a:lnTo>
                  <a:pt x="1082" y="999"/>
                </a:lnTo>
                <a:lnTo>
                  <a:pt x="1086" y="1003"/>
                </a:lnTo>
                <a:lnTo>
                  <a:pt x="1082" y="1017"/>
                </a:lnTo>
                <a:lnTo>
                  <a:pt x="1084" y="1017"/>
                </a:lnTo>
                <a:lnTo>
                  <a:pt x="1084" y="1019"/>
                </a:lnTo>
                <a:lnTo>
                  <a:pt x="1086" y="1019"/>
                </a:lnTo>
                <a:lnTo>
                  <a:pt x="1090" y="1017"/>
                </a:lnTo>
                <a:lnTo>
                  <a:pt x="1092" y="1015"/>
                </a:lnTo>
                <a:lnTo>
                  <a:pt x="1095" y="1013"/>
                </a:lnTo>
                <a:lnTo>
                  <a:pt x="1099" y="1009"/>
                </a:lnTo>
                <a:lnTo>
                  <a:pt x="1105" y="1005"/>
                </a:lnTo>
                <a:lnTo>
                  <a:pt x="1109" y="1003"/>
                </a:lnTo>
                <a:lnTo>
                  <a:pt x="1115" y="999"/>
                </a:lnTo>
                <a:lnTo>
                  <a:pt x="1123" y="998"/>
                </a:lnTo>
                <a:lnTo>
                  <a:pt x="1133" y="996"/>
                </a:lnTo>
                <a:lnTo>
                  <a:pt x="1135" y="996"/>
                </a:lnTo>
                <a:lnTo>
                  <a:pt x="1139" y="998"/>
                </a:lnTo>
                <a:lnTo>
                  <a:pt x="1141" y="998"/>
                </a:lnTo>
                <a:lnTo>
                  <a:pt x="1147" y="996"/>
                </a:lnTo>
                <a:lnTo>
                  <a:pt x="1152" y="992"/>
                </a:lnTo>
                <a:lnTo>
                  <a:pt x="1156" y="988"/>
                </a:lnTo>
                <a:lnTo>
                  <a:pt x="1158" y="984"/>
                </a:lnTo>
                <a:lnTo>
                  <a:pt x="1162" y="978"/>
                </a:lnTo>
                <a:lnTo>
                  <a:pt x="1164" y="972"/>
                </a:lnTo>
                <a:lnTo>
                  <a:pt x="1166" y="968"/>
                </a:lnTo>
                <a:lnTo>
                  <a:pt x="1170" y="964"/>
                </a:lnTo>
                <a:lnTo>
                  <a:pt x="1172" y="960"/>
                </a:lnTo>
                <a:lnTo>
                  <a:pt x="1174" y="958"/>
                </a:lnTo>
                <a:lnTo>
                  <a:pt x="1174" y="956"/>
                </a:lnTo>
                <a:lnTo>
                  <a:pt x="1176" y="954"/>
                </a:lnTo>
                <a:lnTo>
                  <a:pt x="1176" y="950"/>
                </a:lnTo>
                <a:lnTo>
                  <a:pt x="1174" y="946"/>
                </a:lnTo>
                <a:lnTo>
                  <a:pt x="1172" y="945"/>
                </a:lnTo>
                <a:lnTo>
                  <a:pt x="1172" y="941"/>
                </a:lnTo>
                <a:lnTo>
                  <a:pt x="1168" y="925"/>
                </a:lnTo>
                <a:lnTo>
                  <a:pt x="1168" y="909"/>
                </a:lnTo>
                <a:lnTo>
                  <a:pt x="1166" y="888"/>
                </a:lnTo>
                <a:lnTo>
                  <a:pt x="1164" y="868"/>
                </a:lnTo>
                <a:lnTo>
                  <a:pt x="1164" y="846"/>
                </a:lnTo>
                <a:lnTo>
                  <a:pt x="1166" y="838"/>
                </a:lnTo>
                <a:lnTo>
                  <a:pt x="1166" y="833"/>
                </a:lnTo>
                <a:lnTo>
                  <a:pt x="1172" y="815"/>
                </a:lnTo>
                <a:lnTo>
                  <a:pt x="1176" y="811"/>
                </a:lnTo>
                <a:lnTo>
                  <a:pt x="1178" y="805"/>
                </a:lnTo>
                <a:lnTo>
                  <a:pt x="1182" y="799"/>
                </a:lnTo>
                <a:lnTo>
                  <a:pt x="1188" y="795"/>
                </a:lnTo>
                <a:lnTo>
                  <a:pt x="1200" y="791"/>
                </a:lnTo>
                <a:lnTo>
                  <a:pt x="1205" y="791"/>
                </a:lnTo>
                <a:lnTo>
                  <a:pt x="1211" y="793"/>
                </a:lnTo>
                <a:lnTo>
                  <a:pt x="1227" y="793"/>
                </a:lnTo>
                <a:lnTo>
                  <a:pt x="1229" y="791"/>
                </a:lnTo>
                <a:lnTo>
                  <a:pt x="1233" y="789"/>
                </a:lnTo>
                <a:lnTo>
                  <a:pt x="1237" y="789"/>
                </a:lnTo>
                <a:lnTo>
                  <a:pt x="1245" y="785"/>
                </a:lnTo>
                <a:lnTo>
                  <a:pt x="1251" y="780"/>
                </a:lnTo>
                <a:lnTo>
                  <a:pt x="1255" y="774"/>
                </a:lnTo>
                <a:lnTo>
                  <a:pt x="1266" y="758"/>
                </a:lnTo>
                <a:lnTo>
                  <a:pt x="1270" y="752"/>
                </a:lnTo>
                <a:lnTo>
                  <a:pt x="1274" y="744"/>
                </a:lnTo>
                <a:lnTo>
                  <a:pt x="1276" y="736"/>
                </a:lnTo>
                <a:lnTo>
                  <a:pt x="1276" y="717"/>
                </a:lnTo>
                <a:lnTo>
                  <a:pt x="1278" y="711"/>
                </a:lnTo>
                <a:lnTo>
                  <a:pt x="1280" y="707"/>
                </a:lnTo>
                <a:lnTo>
                  <a:pt x="1282" y="705"/>
                </a:lnTo>
                <a:lnTo>
                  <a:pt x="1286" y="703"/>
                </a:lnTo>
                <a:lnTo>
                  <a:pt x="1288" y="701"/>
                </a:lnTo>
                <a:lnTo>
                  <a:pt x="1292" y="699"/>
                </a:lnTo>
                <a:lnTo>
                  <a:pt x="1298" y="697"/>
                </a:lnTo>
                <a:lnTo>
                  <a:pt x="1302" y="695"/>
                </a:lnTo>
                <a:lnTo>
                  <a:pt x="1311" y="695"/>
                </a:lnTo>
                <a:lnTo>
                  <a:pt x="1313" y="697"/>
                </a:lnTo>
                <a:lnTo>
                  <a:pt x="1323" y="697"/>
                </a:lnTo>
                <a:lnTo>
                  <a:pt x="1331" y="693"/>
                </a:lnTo>
                <a:lnTo>
                  <a:pt x="1347" y="687"/>
                </a:lnTo>
                <a:lnTo>
                  <a:pt x="1365" y="683"/>
                </a:lnTo>
                <a:lnTo>
                  <a:pt x="1370" y="681"/>
                </a:lnTo>
                <a:lnTo>
                  <a:pt x="1382" y="681"/>
                </a:lnTo>
                <a:lnTo>
                  <a:pt x="1388" y="683"/>
                </a:lnTo>
                <a:lnTo>
                  <a:pt x="1394" y="683"/>
                </a:lnTo>
                <a:lnTo>
                  <a:pt x="1388" y="693"/>
                </a:lnTo>
                <a:lnTo>
                  <a:pt x="1382" y="711"/>
                </a:lnTo>
                <a:lnTo>
                  <a:pt x="1376" y="723"/>
                </a:lnTo>
                <a:lnTo>
                  <a:pt x="1376" y="730"/>
                </a:lnTo>
                <a:lnTo>
                  <a:pt x="1378" y="730"/>
                </a:lnTo>
                <a:lnTo>
                  <a:pt x="1380" y="732"/>
                </a:lnTo>
                <a:lnTo>
                  <a:pt x="1382" y="738"/>
                </a:lnTo>
                <a:lnTo>
                  <a:pt x="1386" y="742"/>
                </a:lnTo>
                <a:lnTo>
                  <a:pt x="1390" y="744"/>
                </a:lnTo>
                <a:lnTo>
                  <a:pt x="1392" y="744"/>
                </a:lnTo>
                <a:lnTo>
                  <a:pt x="1400" y="748"/>
                </a:lnTo>
                <a:lnTo>
                  <a:pt x="1400" y="768"/>
                </a:lnTo>
                <a:lnTo>
                  <a:pt x="1406" y="774"/>
                </a:lnTo>
                <a:lnTo>
                  <a:pt x="1412" y="776"/>
                </a:lnTo>
                <a:lnTo>
                  <a:pt x="1427" y="783"/>
                </a:lnTo>
                <a:lnTo>
                  <a:pt x="1439" y="791"/>
                </a:lnTo>
                <a:lnTo>
                  <a:pt x="1445" y="797"/>
                </a:lnTo>
                <a:lnTo>
                  <a:pt x="1449" y="803"/>
                </a:lnTo>
                <a:lnTo>
                  <a:pt x="1463" y="819"/>
                </a:lnTo>
                <a:lnTo>
                  <a:pt x="1476" y="831"/>
                </a:lnTo>
                <a:lnTo>
                  <a:pt x="1494" y="838"/>
                </a:lnTo>
                <a:lnTo>
                  <a:pt x="1502" y="840"/>
                </a:lnTo>
                <a:lnTo>
                  <a:pt x="1508" y="842"/>
                </a:lnTo>
                <a:lnTo>
                  <a:pt x="1516" y="844"/>
                </a:lnTo>
                <a:lnTo>
                  <a:pt x="1539" y="844"/>
                </a:lnTo>
                <a:lnTo>
                  <a:pt x="1543" y="846"/>
                </a:lnTo>
                <a:lnTo>
                  <a:pt x="1551" y="854"/>
                </a:lnTo>
                <a:lnTo>
                  <a:pt x="1557" y="866"/>
                </a:lnTo>
                <a:lnTo>
                  <a:pt x="1567" y="874"/>
                </a:lnTo>
                <a:lnTo>
                  <a:pt x="1577" y="880"/>
                </a:lnTo>
                <a:lnTo>
                  <a:pt x="1594" y="880"/>
                </a:lnTo>
                <a:lnTo>
                  <a:pt x="1596" y="878"/>
                </a:lnTo>
                <a:lnTo>
                  <a:pt x="1604" y="878"/>
                </a:lnTo>
                <a:lnTo>
                  <a:pt x="1608" y="882"/>
                </a:lnTo>
                <a:lnTo>
                  <a:pt x="1612" y="890"/>
                </a:lnTo>
                <a:lnTo>
                  <a:pt x="1616" y="901"/>
                </a:lnTo>
                <a:lnTo>
                  <a:pt x="1620" y="909"/>
                </a:lnTo>
                <a:lnTo>
                  <a:pt x="1622" y="915"/>
                </a:lnTo>
                <a:lnTo>
                  <a:pt x="1624" y="923"/>
                </a:lnTo>
                <a:lnTo>
                  <a:pt x="1626" y="929"/>
                </a:lnTo>
                <a:lnTo>
                  <a:pt x="1630" y="933"/>
                </a:lnTo>
                <a:lnTo>
                  <a:pt x="1632" y="937"/>
                </a:lnTo>
                <a:lnTo>
                  <a:pt x="1635" y="948"/>
                </a:lnTo>
                <a:lnTo>
                  <a:pt x="1639" y="954"/>
                </a:lnTo>
                <a:lnTo>
                  <a:pt x="1641" y="960"/>
                </a:lnTo>
                <a:lnTo>
                  <a:pt x="1657" y="976"/>
                </a:lnTo>
                <a:lnTo>
                  <a:pt x="1669" y="994"/>
                </a:lnTo>
                <a:lnTo>
                  <a:pt x="1671" y="999"/>
                </a:lnTo>
                <a:lnTo>
                  <a:pt x="1675" y="1005"/>
                </a:lnTo>
                <a:lnTo>
                  <a:pt x="1677" y="1011"/>
                </a:lnTo>
                <a:lnTo>
                  <a:pt x="1681" y="1019"/>
                </a:lnTo>
                <a:lnTo>
                  <a:pt x="1683" y="1025"/>
                </a:lnTo>
                <a:lnTo>
                  <a:pt x="1690" y="1037"/>
                </a:lnTo>
                <a:lnTo>
                  <a:pt x="1690" y="1047"/>
                </a:lnTo>
                <a:lnTo>
                  <a:pt x="1692" y="1053"/>
                </a:lnTo>
                <a:lnTo>
                  <a:pt x="1685" y="1086"/>
                </a:lnTo>
                <a:lnTo>
                  <a:pt x="1685" y="1098"/>
                </a:lnTo>
                <a:lnTo>
                  <a:pt x="1687" y="1104"/>
                </a:lnTo>
                <a:lnTo>
                  <a:pt x="1690" y="1107"/>
                </a:lnTo>
                <a:lnTo>
                  <a:pt x="1692" y="1111"/>
                </a:lnTo>
                <a:lnTo>
                  <a:pt x="1692" y="1117"/>
                </a:lnTo>
                <a:lnTo>
                  <a:pt x="1690" y="1131"/>
                </a:lnTo>
                <a:lnTo>
                  <a:pt x="1685" y="1141"/>
                </a:lnTo>
                <a:lnTo>
                  <a:pt x="1679" y="1153"/>
                </a:lnTo>
                <a:lnTo>
                  <a:pt x="1673" y="1162"/>
                </a:lnTo>
                <a:lnTo>
                  <a:pt x="1665" y="1182"/>
                </a:lnTo>
                <a:lnTo>
                  <a:pt x="1657" y="1190"/>
                </a:lnTo>
                <a:lnTo>
                  <a:pt x="1655" y="1194"/>
                </a:lnTo>
                <a:lnTo>
                  <a:pt x="1655" y="1206"/>
                </a:lnTo>
                <a:lnTo>
                  <a:pt x="1659" y="1217"/>
                </a:lnTo>
                <a:lnTo>
                  <a:pt x="1663" y="1223"/>
                </a:lnTo>
                <a:lnTo>
                  <a:pt x="1665" y="1227"/>
                </a:lnTo>
                <a:lnTo>
                  <a:pt x="1667" y="1229"/>
                </a:lnTo>
                <a:lnTo>
                  <a:pt x="1671" y="1231"/>
                </a:lnTo>
                <a:lnTo>
                  <a:pt x="1673" y="1235"/>
                </a:lnTo>
                <a:lnTo>
                  <a:pt x="1675" y="1241"/>
                </a:lnTo>
                <a:lnTo>
                  <a:pt x="1677" y="1245"/>
                </a:lnTo>
                <a:lnTo>
                  <a:pt x="1677" y="1251"/>
                </a:lnTo>
                <a:lnTo>
                  <a:pt x="1679" y="1255"/>
                </a:lnTo>
                <a:lnTo>
                  <a:pt x="1683" y="1259"/>
                </a:lnTo>
                <a:lnTo>
                  <a:pt x="1687" y="1261"/>
                </a:lnTo>
                <a:lnTo>
                  <a:pt x="1692" y="1261"/>
                </a:lnTo>
                <a:lnTo>
                  <a:pt x="1698" y="1263"/>
                </a:lnTo>
                <a:lnTo>
                  <a:pt x="1706" y="1265"/>
                </a:lnTo>
                <a:lnTo>
                  <a:pt x="1712" y="1267"/>
                </a:lnTo>
                <a:lnTo>
                  <a:pt x="1728" y="1269"/>
                </a:lnTo>
                <a:lnTo>
                  <a:pt x="1767" y="1269"/>
                </a:lnTo>
                <a:lnTo>
                  <a:pt x="1838" y="1280"/>
                </a:lnTo>
                <a:lnTo>
                  <a:pt x="1924" y="1280"/>
                </a:lnTo>
                <a:lnTo>
                  <a:pt x="1936" y="1284"/>
                </a:lnTo>
                <a:lnTo>
                  <a:pt x="1944" y="1288"/>
                </a:lnTo>
                <a:lnTo>
                  <a:pt x="1950" y="1290"/>
                </a:lnTo>
                <a:lnTo>
                  <a:pt x="1958" y="1294"/>
                </a:lnTo>
                <a:lnTo>
                  <a:pt x="1963" y="1298"/>
                </a:lnTo>
                <a:lnTo>
                  <a:pt x="1977" y="1308"/>
                </a:lnTo>
                <a:lnTo>
                  <a:pt x="1989" y="1318"/>
                </a:lnTo>
                <a:lnTo>
                  <a:pt x="2001" y="1329"/>
                </a:lnTo>
                <a:lnTo>
                  <a:pt x="2018" y="1343"/>
                </a:lnTo>
                <a:lnTo>
                  <a:pt x="2038" y="1359"/>
                </a:lnTo>
                <a:lnTo>
                  <a:pt x="2044" y="1363"/>
                </a:lnTo>
                <a:lnTo>
                  <a:pt x="2048" y="1367"/>
                </a:lnTo>
                <a:lnTo>
                  <a:pt x="2054" y="1369"/>
                </a:lnTo>
                <a:lnTo>
                  <a:pt x="2060" y="1373"/>
                </a:lnTo>
                <a:lnTo>
                  <a:pt x="2064" y="1377"/>
                </a:lnTo>
                <a:lnTo>
                  <a:pt x="2075" y="1382"/>
                </a:lnTo>
                <a:lnTo>
                  <a:pt x="2113" y="1382"/>
                </a:lnTo>
                <a:lnTo>
                  <a:pt x="2113" y="1390"/>
                </a:lnTo>
                <a:lnTo>
                  <a:pt x="2111" y="1394"/>
                </a:lnTo>
                <a:lnTo>
                  <a:pt x="2107" y="1396"/>
                </a:lnTo>
                <a:lnTo>
                  <a:pt x="2105" y="1400"/>
                </a:lnTo>
                <a:lnTo>
                  <a:pt x="2105" y="1406"/>
                </a:lnTo>
                <a:lnTo>
                  <a:pt x="2109" y="1408"/>
                </a:lnTo>
                <a:lnTo>
                  <a:pt x="2111" y="1412"/>
                </a:lnTo>
                <a:lnTo>
                  <a:pt x="2119" y="1416"/>
                </a:lnTo>
                <a:lnTo>
                  <a:pt x="2121" y="1418"/>
                </a:lnTo>
                <a:lnTo>
                  <a:pt x="2124" y="1420"/>
                </a:lnTo>
                <a:lnTo>
                  <a:pt x="2126" y="1424"/>
                </a:lnTo>
                <a:lnTo>
                  <a:pt x="2130" y="1430"/>
                </a:lnTo>
                <a:lnTo>
                  <a:pt x="2132" y="1435"/>
                </a:lnTo>
                <a:lnTo>
                  <a:pt x="2132" y="1441"/>
                </a:lnTo>
                <a:lnTo>
                  <a:pt x="2134" y="1449"/>
                </a:lnTo>
                <a:lnTo>
                  <a:pt x="2138" y="1463"/>
                </a:lnTo>
                <a:lnTo>
                  <a:pt x="2146" y="1475"/>
                </a:lnTo>
                <a:lnTo>
                  <a:pt x="2154" y="1485"/>
                </a:lnTo>
                <a:lnTo>
                  <a:pt x="2158" y="1498"/>
                </a:lnTo>
                <a:lnTo>
                  <a:pt x="2160" y="1506"/>
                </a:lnTo>
                <a:lnTo>
                  <a:pt x="2160" y="1512"/>
                </a:lnTo>
                <a:lnTo>
                  <a:pt x="2162" y="1520"/>
                </a:lnTo>
                <a:lnTo>
                  <a:pt x="2162" y="1524"/>
                </a:lnTo>
                <a:lnTo>
                  <a:pt x="2168" y="1530"/>
                </a:lnTo>
                <a:lnTo>
                  <a:pt x="2172" y="1532"/>
                </a:lnTo>
                <a:lnTo>
                  <a:pt x="2175" y="1536"/>
                </a:lnTo>
                <a:lnTo>
                  <a:pt x="2181" y="1539"/>
                </a:lnTo>
                <a:lnTo>
                  <a:pt x="2187" y="1545"/>
                </a:lnTo>
                <a:lnTo>
                  <a:pt x="2193" y="1553"/>
                </a:lnTo>
                <a:lnTo>
                  <a:pt x="2197" y="1559"/>
                </a:lnTo>
                <a:lnTo>
                  <a:pt x="2201" y="1567"/>
                </a:lnTo>
                <a:lnTo>
                  <a:pt x="2207" y="1575"/>
                </a:lnTo>
                <a:lnTo>
                  <a:pt x="2211" y="1579"/>
                </a:lnTo>
                <a:lnTo>
                  <a:pt x="2215" y="1581"/>
                </a:lnTo>
                <a:lnTo>
                  <a:pt x="2221" y="1583"/>
                </a:lnTo>
                <a:lnTo>
                  <a:pt x="2229" y="1583"/>
                </a:lnTo>
                <a:lnTo>
                  <a:pt x="2250" y="1581"/>
                </a:lnTo>
                <a:lnTo>
                  <a:pt x="2268" y="1579"/>
                </a:lnTo>
                <a:lnTo>
                  <a:pt x="2289" y="1577"/>
                </a:lnTo>
                <a:lnTo>
                  <a:pt x="2329" y="1579"/>
                </a:lnTo>
                <a:lnTo>
                  <a:pt x="2364" y="1583"/>
                </a:lnTo>
                <a:lnTo>
                  <a:pt x="2395" y="1589"/>
                </a:lnTo>
                <a:lnTo>
                  <a:pt x="2431" y="1594"/>
                </a:lnTo>
                <a:lnTo>
                  <a:pt x="2470" y="1600"/>
                </a:lnTo>
                <a:lnTo>
                  <a:pt x="2507" y="1598"/>
                </a:lnTo>
                <a:lnTo>
                  <a:pt x="2539" y="1596"/>
                </a:lnTo>
                <a:lnTo>
                  <a:pt x="2572" y="1594"/>
                </a:lnTo>
                <a:lnTo>
                  <a:pt x="2627" y="1594"/>
                </a:lnTo>
                <a:lnTo>
                  <a:pt x="2641" y="1596"/>
                </a:lnTo>
                <a:lnTo>
                  <a:pt x="2659" y="1600"/>
                </a:lnTo>
                <a:lnTo>
                  <a:pt x="2666" y="1602"/>
                </a:lnTo>
                <a:lnTo>
                  <a:pt x="2676" y="1604"/>
                </a:lnTo>
                <a:lnTo>
                  <a:pt x="2719" y="1616"/>
                </a:lnTo>
                <a:lnTo>
                  <a:pt x="2723" y="1616"/>
                </a:lnTo>
                <a:lnTo>
                  <a:pt x="2739" y="1624"/>
                </a:lnTo>
                <a:lnTo>
                  <a:pt x="2751" y="1634"/>
                </a:lnTo>
                <a:lnTo>
                  <a:pt x="2763" y="1647"/>
                </a:lnTo>
                <a:lnTo>
                  <a:pt x="2776" y="1657"/>
                </a:lnTo>
                <a:lnTo>
                  <a:pt x="2794" y="1663"/>
                </a:lnTo>
                <a:lnTo>
                  <a:pt x="2810" y="1665"/>
                </a:lnTo>
                <a:lnTo>
                  <a:pt x="2829" y="1669"/>
                </a:lnTo>
                <a:lnTo>
                  <a:pt x="2835" y="1671"/>
                </a:lnTo>
                <a:lnTo>
                  <a:pt x="2839" y="1671"/>
                </a:lnTo>
                <a:lnTo>
                  <a:pt x="2851" y="1675"/>
                </a:lnTo>
                <a:lnTo>
                  <a:pt x="2853" y="1677"/>
                </a:lnTo>
                <a:lnTo>
                  <a:pt x="2857" y="1679"/>
                </a:lnTo>
                <a:lnTo>
                  <a:pt x="2859" y="1681"/>
                </a:lnTo>
                <a:lnTo>
                  <a:pt x="2871" y="1687"/>
                </a:lnTo>
                <a:lnTo>
                  <a:pt x="2877" y="1689"/>
                </a:lnTo>
                <a:lnTo>
                  <a:pt x="2884" y="1693"/>
                </a:lnTo>
                <a:lnTo>
                  <a:pt x="2892" y="1695"/>
                </a:lnTo>
                <a:lnTo>
                  <a:pt x="2904" y="1700"/>
                </a:lnTo>
                <a:lnTo>
                  <a:pt x="2926" y="1706"/>
                </a:lnTo>
                <a:lnTo>
                  <a:pt x="2947" y="1708"/>
                </a:lnTo>
                <a:lnTo>
                  <a:pt x="2955" y="1708"/>
                </a:lnTo>
                <a:lnTo>
                  <a:pt x="2963" y="1706"/>
                </a:lnTo>
                <a:lnTo>
                  <a:pt x="2969" y="1702"/>
                </a:lnTo>
                <a:lnTo>
                  <a:pt x="2977" y="1700"/>
                </a:lnTo>
                <a:lnTo>
                  <a:pt x="2983" y="1699"/>
                </a:lnTo>
                <a:lnTo>
                  <a:pt x="2986" y="1699"/>
                </a:lnTo>
                <a:lnTo>
                  <a:pt x="2992" y="1697"/>
                </a:lnTo>
                <a:lnTo>
                  <a:pt x="2996" y="1695"/>
                </a:lnTo>
                <a:lnTo>
                  <a:pt x="3002" y="1693"/>
                </a:lnTo>
                <a:lnTo>
                  <a:pt x="3006" y="1691"/>
                </a:lnTo>
                <a:lnTo>
                  <a:pt x="3004" y="1695"/>
                </a:lnTo>
                <a:lnTo>
                  <a:pt x="3004" y="1699"/>
                </a:lnTo>
                <a:lnTo>
                  <a:pt x="3002" y="1702"/>
                </a:lnTo>
                <a:lnTo>
                  <a:pt x="3002" y="1716"/>
                </a:lnTo>
                <a:lnTo>
                  <a:pt x="3006" y="1724"/>
                </a:lnTo>
                <a:lnTo>
                  <a:pt x="3010" y="1726"/>
                </a:lnTo>
                <a:lnTo>
                  <a:pt x="3016" y="1728"/>
                </a:lnTo>
                <a:lnTo>
                  <a:pt x="3020" y="1726"/>
                </a:lnTo>
                <a:lnTo>
                  <a:pt x="3032" y="1726"/>
                </a:lnTo>
                <a:lnTo>
                  <a:pt x="3039" y="1730"/>
                </a:lnTo>
                <a:lnTo>
                  <a:pt x="3047" y="1730"/>
                </a:lnTo>
                <a:lnTo>
                  <a:pt x="3049" y="1728"/>
                </a:lnTo>
                <a:lnTo>
                  <a:pt x="3061" y="1724"/>
                </a:lnTo>
                <a:lnTo>
                  <a:pt x="3067" y="1720"/>
                </a:lnTo>
                <a:lnTo>
                  <a:pt x="3073" y="1714"/>
                </a:lnTo>
                <a:lnTo>
                  <a:pt x="3085" y="1706"/>
                </a:lnTo>
                <a:lnTo>
                  <a:pt x="3091" y="1700"/>
                </a:lnTo>
                <a:lnTo>
                  <a:pt x="3102" y="1693"/>
                </a:lnTo>
                <a:lnTo>
                  <a:pt x="3110" y="1689"/>
                </a:lnTo>
                <a:lnTo>
                  <a:pt x="3112" y="1687"/>
                </a:lnTo>
                <a:lnTo>
                  <a:pt x="3116" y="1685"/>
                </a:lnTo>
                <a:lnTo>
                  <a:pt x="3134" y="1677"/>
                </a:lnTo>
                <a:lnTo>
                  <a:pt x="3147" y="1671"/>
                </a:lnTo>
                <a:lnTo>
                  <a:pt x="3165" y="1665"/>
                </a:lnTo>
                <a:lnTo>
                  <a:pt x="3230" y="1642"/>
                </a:lnTo>
                <a:lnTo>
                  <a:pt x="3246" y="1636"/>
                </a:lnTo>
                <a:lnTo>
                  <a:pt x="3261" y="1632"/>
                </a:lnTo>
                <a:lnTo>
                  <a:pt x="3281" y="1620"/>
                </a:lnTo>
                <a:lnTo>
                  <a:pt x="3293" y="1618"/>
                </a:lnTo>
                <a:lnTo>
                  <a:pt x="3358" y="1618"/>
                </a:lnTo>
                <a:lnTo>
                  <a:pt x="3375" y="1616"/>
                </a:lnTo>
                <a:lnTo>
                  <a:pt x="3393" y="1616"/>
                </a:lnTo>
                <a:lnTo>
                  <a:pt x="3415" y="1618"/>
                </a:lnTo>
                <a:lnTo>
                  <a:pt x="3436" y="1618"/>
                </a:lnTo>
                <a:lnTo>
                  <a:pt x="3458" y="1620"/>
                </a:lnTo>
                <a:lnTo>
                  <a:pt x="3470" y="1620"/>
                </a:lnTo>
                <a:lnTo>
                  <a:pt x="3481" y="1616"/>
                </a:lnTo>
                <a:lnTo>
                  <a:pt x="3485" y="1616"/>
                </a:lnTo>
                <a:lnTo>
                  <a:pt x="3491" y="1614"/>
                </a:lnTo>
                <a:lnTo>
                  <a:pt x="3497" y="1610"/>
                </a:lnTo>
                <a:lnTo>
                  <a:pt x="3501" y="1608"/>
                </a:lnTo>
                <a:lnTo>
                  <a:pt x="3507" y="1604"/>
                </a:lnTo>
                <a:lnTo>
                  <a:pt x="3513" y="1602"/>
                </a:lnTo>
                <a:lnTo>
                  <a:pt x="3530" y="1600"/>
                </a:lnTo>
                <a:lnTo>
                  <a:pt x="3548" y="1596"/>
                </a:lnTo>
                <a:lnTo>
                  <a:pt x="3562" y="1585"/>
                </a:lnTo>
                <a:lnTo>
                  <a:pt x="3576" y="1569"/>
                </a:lnTo>
                <a:lnTo>
                  <a:pt x="3587" y="1555"/>
                </a:lnTo>
                <a:lnTo>
                  <a:pt x="3601" y="1539"/>
                </a:lnTo>
                <a:lnTo>
                  <a:pt x="3605" y="1534"/>
                </a:lnTo>
                <a:lnTo>
                  <a:pt x="3609" y="1530"/>
                </a:lnTo>
                <a:lnTo>
                  <a:pt x="3611" y="1526"/>
                </a:lnTo>
                <a:lnTo>
                  <a:pt x="3619" y="1518"/>
                </a:lnTo>
                <a:lnTo>
                  <a:pt x="3623" y="1516"/>
                </a:lnTo>
                <a:lnTo>
                  <a:pt x="3629" y="1510"/>
                </a:lnTo>
                <a:lnTo>
                  <a:pt x="3636" y="1504"/>
                </a:lnTo>
                <a:lnTo>
                  <a:pt x="3642" y="1500"/>
                </a:lnTo>
                <a:lnTo>
                  <a:pt x="3648" y="1494"/>
                </a:lnTo>
                <a:lnTo>
                  <a:pt x="3654" y="1492"/>
                </a:lnTo>
                <a:lnTo>
                  <a:pt x="3658" y="1488"/>
                </a:lnTo>
                <a:lnTo>
                  <a:pt x="3670" y="1485"/>
                </a:lnTo>
                <a:lnTo>
                  <a:pt x="3680" y="1485"/>
                </a:lnTo>
                <a:lnTo>
                  <a:pt x="3684" y="1483"/>
                </a:lnTo>
                <a:lnTo>
                  <a:pt x="3689" y="1481"/>
                </a:lnTo>
                <a:lnTo>
                  <a:pt x="3697" y="1477"/>
                </a:lnTo>
                <a:lnTo>
                  <a:pt x="3701" y="1473"/>
                </a:lnTo>
                <a:lnTo>
                  <a:pt x="3705" y="1467"/>
                </a:lnTo>
                <a:lnTo>
                  <a:pt x="3709" y="1459"/>
                </a:lnTo>
                <a:lnTo>
                  <a:pt x="3717" y="1447"/>
                </a:lnTo>
                <a:lnTo>
                  <a:pt x="3721" y="1443"/>
                </a:lnTo>
                <a:lnTo>
                  <a:pt x="3723" y="1437"/>
                </a:lnTo>
                <a:lnTo>
                  <a:pt x="3727" y="1431"/>
                </a:lnTo>
                <a:lnTo>
                  <a:pt x="3723" y="1430"/>
                </a:lnTo>
                <a:lnTo>
                  <a:pt x="3721" y="1428"/>
                </a:lnTo>
                <a:lnTo>
                  <a:pt x="3717" y="1426"/>
                </a:lnTo>
                <a:lnTo>
                  <a:pt x="3715" y="1424"/>
                </a:lnTo>
                <a:lnTo>
                  <a:pt x="3713" y="1420"/>
                </a:lnTo>
                <a:lnTo>
                  <a:pt x="3701" y="1408"/>
                </a:lnTo>
                <a:lnTo>
                  <a:pt x="3697" y="1406"/>
                </a:lnTo>
                <a:lnTo>
                  <a:pt x="3693" y="1402"/>
                </a:lnTo>
                <a:lnTo>
                  <a:pt x="3686" y="1392"/>
                </a:lnTo>
                <a:lnTo>
                  <a:pt x="3680" y="1382"/>
                </a:lnTo>
                <a:lnTo>
                  <a:pt x="3678" y="1380"/>
                </a:lnTo>
                <a:lnTo>
                  <a:pt x="3674" y="1378"/>
                </a:lnTo>
                <a:lnTo>
                  <a:pt x="3670" y="1375"/>
                </a:lnTo>
                <a:lnTo>
                  <a:pt x="3668" y="1371"/>
                </a:lnTo>
                <a:lnTo>
                  <a:pt x="3668" y="1367"/>
                </a:lnTo>
                <a:lnTo>
                  <a:pt x="3670" y="1353"/>
                </a:lnTo>
                <a:lnTo>
                  <a:pt x="3676" y="1341"/>
                </a:lnTo>
                <a:lnTo>
                  <a:pt x="3678" y="1327"/>
                </a:lnTo>
                <a:lnTo>
                  <a:pt x="3693" y="1296"/>
                </a:lnTo>
                <a:lnTo>
                  <a:pt x="3699" y="1288"/>
                </a:lnTo>
                <a:lnTo>
                  <a:pt x="3707" y="1282"/>
                </a:lnTo>
                <a:lnTo>
                  <a:pt x="3717" y="1272"/>
                </a:lnTo>
                <a:lnTo>
                  <a:pt x="3727" y="1267"/>
                </a:lnTo>
                <a:lnTo>
                  <a:pt x="3739" y="1265"/>
                </a:lnTo>
                <a:lnTo>
                  <a:pt x="3744" y="1265"/>
                </a:lnTo>
                <a:lnTo>
                  <a:pt x="3748" y="1267"/>
                </a:lnTo>
                <a:lnTo>
                  <a:pt x="3760" y="1270"/>
                </a:lnTo>
                <a:lnTo>
                  <a:pt x="3764" y="1270"/>
                </a:lnTo>
                <a:lnTo>
                  <a:pt x="3768" y="1272"/>
                </a:lnTo>
                <a:lnTo>
                  <a:pt x="3772" y="1276"/>
                </a:lnTo>
                <a:lnTo>
                  <a:pt x="3776" y="1278"/>
                </a:lnTo>
                <a:lnTo>
                  <a:pt x="3784" y="1286"/>
                </a:lnTo>
                <a:lnTo>
                  <a:pt x="3803" y="1300"/>
                </a:lnTo>
                <a:lnTo>
                  <a:pt x="3821" y="1310"/>
                </a:lnTo>
                <a:lnTo>
                  <a:pt x="3845" y="1314"/>
                </a:lnTo>
                <a:lnTo>
                  <a:pt x="3850" y="1314"/>
                </a:lnTo>
                <a:lnTo>
                  <a:pt x="3856" y="1312"/>
                </a:lnTo>
                <a:lnTo>
                  <a:pt x="3862" y="1312"/>
                </a:lnTo>
                <a:lnTo>
                  <a:pt x="3868" y="1310"/>
                </a:lnTo>
                <a:lnTo>
                  <a:pt x="3874" y="1310"/>
                </a:lnTo>
                <a:lnTo>
                  <a:pt x="3882" y="1308"/>
                </a:lnTo>
                <a:lnTo>
                  <a:pt x="3894" y="1304"/>
                </a:lnTo>
                <a:lnTo>
                  <a:pt x="3900" y="1300"/>
                </a:lnTo>
                <a:lnTo>
                  <a:pt x="3907" y="1296"/>
                </a:lnTo>
                <a:lnTo>
                  <a:pt x="3919" y="1288"/>
                </a:lnTo>
                <a:lnTo>
                  <a:pt x="3925" y="1286"/>
                </a:lnTo>
                <a:lnTo>
                  <a:pt x="3929" y="1282"/>
                </a:lnTo>
                <a:lnTo>
                  <a:pt x="3935" y="1280"/>
                </a:lnTo>
                <a:lnTo>
                  <a:pt x="3941" y="1276"/>
                </a:lnTo>
                <a:lnTo>
                  <a:pt x="3945" y="1270"/>
                </a:lnTo>
                <a:lnTo>
                  <a:pt x="3955" y="1261"/>
                </a:lnTo>
                <a:lnTo>
                  <a:pt x="3960" y="1249"/>
                </a:lnTo>
                <a:lnTo>
                  <a:pt x="3966" y="1239"/>
                </a:lnTo>
                <a:lnTo>
                  <a:pt x="3972" y="1227"/>
                </a:lnTo>
                <a:lnTo>
                  <a:pt x="3980" y="1217"/>
                </a:lnTo>
                <a:lnTo>
                  <a:pt x="3988" y="1212"/>
                </a:lnTo>
                <a:lnTo>
                  <a:pt x="4000" y="1210"/>
                </a:lnTo>
                <a:lnTo>
                  <a:pt x="4004" y="1210"/>
                </a:lnTo>
                <a:lnTo>
                  <a:pt x="4008" y="1214"/>
                </a:lnTo>
                <a:lnTo>
                  <a:pt x="4011" y="1215"/>
                </a:lnTo>
                <a:lnTo>
                  <a:pt x="4015" y="1219"/>
                </a:lnTo>
                <a:lnTo>
                  <a:pt x="4021" y="1223"/>
                </a:lnTo>
                <a:lnTo>
                  <a:pt x="4025" y="1227"/>
                </a:lnTo>
                <a:lnTo>
                  <a:pt x="4031" y="1229"/>
                </a:lnTo>
                <a:lnTo>
                  <a:pt x="4037" y="1229"/>
                </a:lnTo>
                <a:lnTo>
                  <a:pt x="4049" y="1227"/>
                </a:lnTo>
                <a:lnTo>
                  <a:pt x="4078" y="1215"/>
                </a:lnTo>
                <a:lnTo>
                  <a:pt x="4086" y="1214"/>
                </a:lnTo>
                <a:lnTo>
                  <a:pt x="4102" y="1198"/>
                </a:lnTo>
                <a:lnTo>
                  <a:pt x="4106" y="1190"/>
                </a:lnTo>
                <a:lnTo>
                  <a:pt x="4114" y="1186"/>
                </a:lnTo>
                <a:lnTo>
                  <a:pt x="4127" y="1186"/>
                </a:lnTo>
                <a:lnTo>
                  <a:pt x="4133" y="1184"/>
                </a:lnTo>
                <a:lnTo>
                  <a:pt x="4139" y="1180"/>
                </a:lnTo>
                <a:lnTo>
                  <a:pt x="4143" y="1178"/>
                </a:lnTo>
                <a:lnTo>
                  <a:pt x="4145" y="1176"/>
                </a:lnTo>
                <a:lnTo>
                  <a:pt x="4147" y="1172"/>
                </a:lnTo>
                <a:lnTo>
                  <a:pt x="4147" y="1164"/>
                </a:lnTo>
                <a:lnTo>
                  <a:pt x="4145" y="1157"/>
                </a:lnTo>
                <a:lnTo>
                  <a:pt x="4143" y="1151"/>
                </a:lnTo>
                <a:lnTo>
                  <a:pt x="4143" y="1143"/>
                </a:lnTo>
                <a:lnTo>
                  <a:pt x="4147" y="1131"/>
                </a:lnTo>
                <a:lnTo>
                  <a:pt x="4153" y="1119"/>
                </a:lnTo>
                <a:lnTo>
                  <a:pt x="4165" y="1111"/>
                </a:lnTo>
                <a:lnTo>
                  <a:pt x="4169" y="1109"/>
                </a:lnTo>
                <a:lnTo>
                  <a:pt x="4180" y="1098"/>
                </a:lnTo>
                <a:lnTo>
                  <a:pt x="4182" y="1094"/>
                </a:lnTo>
                <a:lnTo>
                  <a:pt x="4186" y="1092"/>
                </a:lnTo>
                <a:lnTo>
                  <a:pt x="4190" y="1088"/>
                </a:lnTo>
                <a:lnTo>
                  <a:pt x="4200" y="1088"/>
                </a:lnTo>
                <a:lnTo>
                  <a:pt x="4206" y="1090"/>
                </a:lnTo>
                <a:lnTo>
                  <a:pt x="4212" y="1094"/>
                </a:lnTo>
                <a:lnTo>
                  <a:pt x="4218" y="1096"/>
                </a:lnTo>
                <a:lnTo>
                  <a:pt x="4231" y="1096"/>
                </a:lnTo>
                <a:lnTo>
                  <a:pt x="4243" y="1088"/>
                </a:lnTo>
                <a:lnTo>
                  <a:pt x="4247" y="1082"/>
                </a:lnTo>
                <a:lnTo>
                  <a:pt x="4249" y="1076"/>
                </a:lnTo>
                <a:lnTo>
                  <a:pt x="4249" y="1072"/>
                </a:lnTo>
                <a:lnTo>
                  <a:pt x="4251" y="1070"/>
                </a:lnTo>
                <a:lnTo>
                  <a:pt x="4255" y="1062"/>
                </a:lnTo>
                <a:lnTo>
                  <a:pt x="4255" y="1058"/>
                </a:lnTo>
                <a:lnTo>
                  <a:pt x="4257" y="1056"/>
                </a:lnTo>
                <a:lnTo>
                  <a:pt x="4259" y="1053"/>
                </a:lnTo>
                <a:lnTo>
                  <a:pt x="4265" y="1053"/>
                </a:lnTo>
                <a:lnTo>
                  <a:pt x="4271" y="1058"/>
                </a:lnTo>
                <a:lnTo>
                  <a:pt x="4279" y="1062"/>
                </a:lnTo>
                <a:lnTo>
                  <a:pt x="4281" y="1064"/>
                </a:lnTo>
                <a:lnTo>
                  <a:pt x="4286" y="1064"/>
                </a:lnTo>
                <a:lnTo>
                  <a:pt x="4298" y="1060"/>
                </a:lnTo>
                <a:lnTo>
                  <a:pt x="4308" y="1053"/>
                </a:lnTo>
                <a:lnTo>
                  <a:pt x="4318" y="1043"/>
                </a:lnTo>
                <a:lnTo>
                  <a:pt x="4332" y="1037"/>
                </a:lnTo>
                <a:lnTo>
                  <a:pt x="4343" y="1033"/>
                </a:lnTo>
                <a:lnTo>
                  <a:pt x="4353" y="1029"/>
                </a:lnTo>
                <a:lnTo>
                  <a:pt x="4367" y="1027"/>
                </a:lnTo>
                <a:lnTo>
                  <a:pt x="4373" y="1027"/>
                </a:lnTo>
                <a:lnTo>
                  <a:pt x="4379" y="1029"/>
                </a:lnTo>
                <a:lnTo>
                  <a:pt x="4383" y="1031"/>
                </a:lnTo>
                <a:lnTo>
                  <a:pt x="4389" y="1033"/>
                </a:lnTo>
                <a:lnTo>
                  <a:pt x="4396" y="1035"/>
                </a:lnTo>
                <a:lnTo>
                  <a:pt x="4402" y="1035"/>
                </a:lnTo>
                <a:lnTo>
                  <a:pt x="4408" y="1037"/>
                </a:lnTo>
                <a:lnTo>
                  <a:pt x="4420" y="1045"/>
                </a:lnTo>
                <a:lnTo>
                  <a:pt x="4422" y="1049"/>
                </a:lnTo>
                <a:lnTo>
                  <a:pt x="4426" y="1053"/>
                </a:lnTo>
                <a:lnTo>
                  <a:pt x="4428" y="1056"/>
                </a:lnTo>
                <a:lnTo>
                  <a:pt x="4432" y="1062"/>
                </a:lnTo>
                <a:lnTo>
                  <a:pt x="4438" y="1066"/>
                </a:lnTo>
                <a:lnTo>
                  <a:pt x="4442" y="1070"/>
                </a:lnTo>
                <a:lnTo>
                  <a:pt x="4447" y="1072"/>
                </a:lnTo>
                <a:lnTo>
                  <a:pt x="4455" y="1072"/>
                </a:lnTo>
                <a:lnTo>
                  <a:pt x="4457" y="1070"/>
                </a:lnTo>
                <a:lnTo>
                  <a:pt x="4459" y="1066"/>
                </a:lnTo>
                <a:lnTo>
                  <a:pt x="4461" y="1064"/>
                </a:lnTo>
                <a:lnTo>
                  <a:pt x="4465" y="1056"/>
                </a:lnTo>
                <a:lnTo>
                  <a:pt x="4469" y="1051"/>
                </a:lnTo>
                <a:lnTo>
                  <a:pt x="4471" y="1045"/>
                </a:lnTo>
                <a:lnTo>
                  <a:pt x="4475" y="1039"/>
                </a:lnTo>
                <a:lnTo>
                  <a:pt x="4479" y="1027"/>
                </a:lnTo>
                <a:lnTo>
                  <a:pt x="4483" y="1009"/>
                </a:lnTo>
                <a:lnTo>
                  <a:pt x="4485" y="990"/>
                </a:lnTo>
                <a:lnTo>
                  <a:pt x="4485" y="984"/>
                </a:lnTo>
                <a:lnTo>
                  <a:pt x="4481" y="976"/>
                </a:lnTo>
                <a:lnTo>
                  <a:pt x="4481" y="974"/>
                </a:lnTo>
                <a:lnTo>
                  <a:pt x="4479" y="974"/>
                </a:lnTo>
                <a:lnTo>
                  <a:pt x="4473" y="968"/>
                </a:lnTo>
                <a:lnTo>
                  <a:pt x="4467" y="966"/>
                </a:lnTo>
                <a:lnTo>
                  <a:pt x="4461" y="962"/>
                </a:lnTo>
                <a:lnTo>
                  <a:pt x="4455" y="960"/>
                </a:lnTo>
                <a:lnTo>
                  <a:pt x="4440" y="948"/>
                </a:lnTo>
                <a:lnTo>
                  <a:pt x="4428" y="941"/>
                </a:lnTo>
                <a:lnTo>
                  <a:pt x="4424" y="937"/>
                </a:lnTo>
                <a:lnTo>
                  <a:pt x="4420" y="931"/>
                </a:lnTo>
                <a:lnTo>
                  <a:pt x="4418" y="929"/>
                </a:lnTo>
                <a:lnTo>
                  <a:pt x="4416" y="929"/>
                </a:lnTo>
                <a:lnTo>
                  <a:pt x="4416" y="927"/>
                </a:lnTo>
                <a:lnTo>
                  <a:pt x="4414" y="921"/>
                </a:lnTo>
                <a:lnTo>
                  <a:pt x="4412" y="913"/>
                </a:lnTo>
                <a:lnTo>
                  <a:pt x="4410" y="907"/>
                </a:lnTo>
                <a:lnTo>
                  <a:pt x="4406" y="901"/>
                </a:lnTo>
                <a:lnTo>
                  <a:pt x="4394" y="886"/>
                </a:lnTo>
                <a:lnTo>
                  <a:pt x="4379" y="878"/>
                </a:lnTo>
                <a:lnTo>
                  <a:pt x="4361" y="870"/>
                </a:lnTo>
                <a:lnTo>
                  <a:pt x="4349" y="866"/>
                </a:lnTo>
                <a:lnTo>
                  <a:pt x="4335" y="860"/>
                </a:lnTo>
                <a:lnTo>
                  <a:pt x="4324" y="856"/>
                </a:lnTo>
                <a:lnTo>
                  <a:pt x="4310" y="854"/>
                </a:lnTo>
                <a:lnTo>
                  <a:pt x="4292" y="858"/>
                </a:lnTo>
                <a:lnTo>
                  <a:pt x="4279" y="872"/>
                </a:lnTo>
                <a:lnTo>
                  <a:pt x="4275" y="878"/>
                </a:lnTo>
                <a:lnTo>
                  <a:pt x="4269" y="884"/>
                </a:lnTo>
                <a:lnTo>
                  <a:pt x="4267" y="888"/>
                </a:lnTo>
                <a:lnTo>
                  <a:pt x="4261" y="893"/>
                </a:lnTo>
                <a:lnTo>
                  <a:pt x="4259" y="897"/>
                </a:lnTo>
                <a:lnTo>
                  <a:pt x="4255" y="897"/>
                </a:lnTo>
                <a:lnTo>
                  <a:pt x="4253" y="895"/>
                </a:lnTo>
                <a:lnTo>
                  <a:pt x="4249" y="895"/>
                </a:lnTo>
                <a:lnTo>
                  <a:pt x="4243" y="893"/>
                </a:lnTo>
                <a:lnTo>
                  <a:pt x="4239" y="890"/>
                </a:lnTo>
                <a:lnTo>
                  <a:pt x="4233" y="886"/>
                </a:lnTo>
                <a:lnTo>
                  <a:pt x="4227" y="880"/>
                </a:lnTo>
                <a:lnTo>
                  <a:pt x="4222" y="876"/>
                </a:lnTo>
                <a:lnTo>
                  <a:pt x="4216" y="874"/>
                </a:lnTo>
                <a:lnTo>
                  <a:pt x="4204" y="874"/>
                </a:lnTo>
                <a:lnTo>
                  <a:pt x="4196" y="878"/>
                </a:lnTo>
                <a:lnTo>
                  <a:pt x="4190" y="878"/>
                </a:lnTo>
                <a:lnTo>
                  <a:pt x="4174" y="880"/>
                </a:lnTo>
                <a:lnTo>
                  <a:pt x="4159" y="884"/>
                </a:lnTo>
                <a:lnTo>
                  <a:pt x="4151" y="884"/>
                </a:lnTo>
                <a:lnTo>
                  <a:pt x="4145" y="886"/>
                </a:lnTo>
                <a:lnTo>
                  <a:pt x="4137" y="890"/>
                </a:lnTo>
                <a:lnTo>
                  <a:pt x="4129" y="897"/>
                </a:lnTo>
                <a:lnTo>
                  <a:pt x="4125" y="899"/>
                </a:lnTo>
                <a:lnTo>
                  <a:pt x="4114" y="899"/>
                </a:lnTo>
                <a:lnTo>
                  <a:pt x="4094" y="880"/>
                </a:lnTo>
                <a:lnTo>
                  <a:pt x="4090" y="878"/>
                </a:lnTo>
                <a:lnTo>
                  <a:pt x="4078" y="870"/>
                </a:lnTo>
                <a:lnTo>
                  <a:pt x="4074" y="866"/>
                </a:lnTo>
                <a:lnTo>
                  <a:pt x="4066" y="854"/>
                </a:lnTo>
                <a:lnTo>
                  <a:pt x="4066" y="838"/>
                </a:lnTo>
                <a:lnTo>
                  <a:pt x="4072" y="833"/>
                </a:lnTo>
                <a:lnTo>
                  <a:pt x="4076" y="831"/>
                </a:lnTo>
                <a:lnTo>
                  <a:pt x="4084" y="823"/>
                </a:lnTo>
                <a:lnTo>
                  <a:pt x="4088" y="817"/>
                </a:lnTo>
                <a:lnTo>
                  <a:pt x="4092" y="815"/>
                </a:lnTo>
                <a:lnTo>
                  <a:pt x="4094" y="811"/>
                </a:lnTo>
                <a:lnTo>
                  <a:pt x="4100" y="809"/>
                </a:lnTo>
                <a:lnTo>
                  <a:pt x="4104" y="807"/>
                </a:lnTo>
                <a:lnTo>
                  <a:pt x="4110" y="801"/>
                </a:lnTo>
                <a:lnTo>
                  <a:pt x="4110" y="795"/>
                </a:lnTo>
                <a:lnTo>
                  <a:pt x="4108" y="791"/>
                </a:lnTo>
                <a:lnTo>
                  <a:pt x="4106" y="789"/>
                </a:lnTo>
                <a:lnTo>
                  <a:pt x="4106" y="768"/>
                </a:lnTo>
                <a:lnTo>
                  <a:pt x="4149" y="638"/>
                </a:lnTo>
                <a:lnTo>
                  <a:pt x="4161" y="619"/>
                </a:lnTo>
                <a:lnTo>
                  <a:pt x="4173" y="601"/>
                </a:lnTo>
                <a:lnTo>
                  <a:pt x="4186" y="581"/>
                </a:lnTo>
                <a:lnTo>
                  <a:pt x="4292" y="630"/>
                </a:lnTo>
                <a:lnTo>
                  <a:pt x="4298" y="626"/>
                </a:lnTo>
                <a:lnTo>
                  <a:pt x="4306" y="622"/>
                </a:lnTo>
                <a:lnTo>
                  <a:pt x="4312" y="619"/>
                </a:lnTo>
                <a:lnTo>
                  <a:pt x="4320" y="611"/>
                </a:lnTo>
                <a:lnTo>
                  <a:pt x="4322" y="611"/>
                </a:lnTo>
                <a:lnTo>
                  <a:pt x="4347" y="585"/>
                </a:lnTo>
                <a:lnTo>
                  <a:pt x="4359" y="577"/>
                </a:lnTo>
                <a:lnTo>
                  <a:pt x="4367" y="573"/>
                </a:lnTo>
                <a:lnTo>
                  <a:pt x="4373" y="569"/>
                </a:lnTo>
                <a:lnTo>
                  <a:pt x="4379" y="567"/>
                </a:lnTo>
                <a:lnTo>
                  <a:pt x="4385" y="567"/>
                </a:lnTo>
                <a:lnTo>
                  <a:pt x="4392" y="566"/>
                </a:lnTo>
                <a:lnTo>
                  <a:pt x="4398" y="566"/>
                </a:lnTo>
                <a:lnTo>
                  <a:pt x="4404" y="564"/>
                </a:lnTo>
                <a:lnTo>
                  <a:pt x="4408" y="562"/>
                </a:lnTo>
                <a:lnTo>
                  <a:pt x="4412" y="562"/>
                </a:lnTo>
                <a:lnTo>
                  <a:pt x="4420" y="558"/>
                </a:lnTo>
                <a:lnTo>
                  <a:pt x="4426" y="554"/>
                </a:lnTo>
                <a:lnTo>
                  <a:pt x="4430" y="548"/>
                </a:lnTo>
                <a:lnTo>
                  <a:pt x="4432" y="542"/>
                </a:lnTo>
                <a:lnTo>
                  <a:pt x="4434" y="534"/>
                </a:lnTo>
                <a:lnTo>
                  <a:pt x="4440" y="522"/>
                </a:lnTo>
                <a:lnTo>
                  <a:pt x="4440" y="505"/>
                </a:lnTo>
                <a:lnTo>
                  <a:pt x="4422" y="505"/>
                </a:lnTo>
                <a:lnTo>
                  <a:pt x="4424" y="497"/>
                </a:lnTo>
                <a:lnTo>
                  <a:pt x="4426" y="491"/>
                </a:lnTo>
                <a:lnTo>
                  <a:pt x="4432" y="479"/>
                </a:lnTo>
                <a:lnTo>
                  <a:pt x="4434" y="473"/>
                </a:lnTo>
                <a:lnTo>
                  <a:pt x="4434" y="469"/>
                </a:lnTo>
                <a:lnTo>
                  <a:pt x="4436" y="465"/>
                </a:lnTo>
                <a:lnTo>
                  <a:pt x="4438" y="463"/>
                </a:lnTo>
                <a:lnTo>
                  <a:pt x="4440" y="463"/>
                </a:lnTo>
                <a:lnTo>
                  <a:pt x="4447" y="456"/>
                </a:lnTo>
                <a:lnTo>
                  <a:pt x="4451" y="444"/>
                </a:lnTo>
                <a:lnTo>
                  <a:pt x="4453" y="440"/>
                </a:lnTo>
                <a:lnTo>
                  <a:pt x="4455" y="434"/>
                </a:lnTo>
                <a:lnTo>
                  <a:pt x="4455" y="430"/>
                </a:lnTo>
                <a:lnTo>
                  <a:pt x="4457" y="424"/>
                </a:lnTo>
                <a:lnTo>
                  <a:pt x="4465" y="412"/>
                </a:lnTo>
                <a:lnTo>
                  <a:pt x="4473" y="405"/>
                </a:lnTo>
                <a:lnTo>
                  <a:pt x="4477" y="399"/>
                </a:lnTo>
                <a:lnTo>
                  <a:pt x="4481" y="383"/>
                </a:lnTo>
                <a:lnTo>
                  <a:pt x="4481" y="367"/>
                </a:lnTo>
                <a:lnTo>
                  <a:pt x="4485" y="348"/>
                </a:lnTo>
                <a:lnTo>
                  <a:pt x="4491" y="332"/>
                </a:lnTo>
                <a:lnTo>
                  <a:pt x="4502" y="316"/>
                </a:lnTo>
                <a:lnTo>
                  <a:pt x="4510" y="308"/>
                </a:lnTo>
                <a:lnTo>
                  <a:pt x="4514" y="306"/>
                </a:lnTo>
                <a:lnTo>
                  <a:pt x="4518" y="302"/>
                </a:lnTo>
                <a:lnTo>
                  <a:pt x="4522" y="297"/>
                </a:lnTo>
                <a:lnTo>
                  <a:pt x="4524" y="293"/>
                </a:lnTo>
                <a:lnTo>
                  <a:pt x="4530" y="291"/>
                </a:lnTo>
                <a:lnTo>
                  <a:pt x="4536" y="287"/>
                </a:lnTo>
                <a:lnTo>
                  <a:pt x="4540" y="283"/>
                </a:lnTo>
                <a:lnTo>
                  <a:pt x="4546" y="279"/>
                </a:lnTo>
                <a:lnTo>
                  <a:pt x="4550" y="279"/>
                </a:lnTo>
                <a:lnTo>
                  <a:pt x="4550" y="277"/>
                </a:lnTo>
                <a:lnTo>
                  <a:pt x="4553" y="271"/>
                </a:lnTo>
                <a:lnTo>
                  <a:pt x="4557" y="263"/>
                </a:lnTo>
                <a:lnTo>
                  <a:pt x="4569" y="251"/>
                </a:lnTo>
                <a:lnTo>
                  <a:pt x="4573" y="240"/>
                </a:lnTo>
                <a:lnTo>
                  <a:pt x="4573" y="228"/>
                </a:lnTo>
                <a:lnTo>
                  <a:pt x="4571" y="216"/>
                </a:lnTo>
                <a:lnTo>
                  <a:pt x="4555" y="196"/>
                </a:lnTo>
                <a:lnTo>
                  <a:pt x="4553" y="190"/>
                </a:lnTo>
                <a:lnTo>
                  <a:pt x="4553" y="183"/>
                </a:lnTo>
                <a:lnTo>
                  <a:pt x="4551" y="177"/>
                </a:lnTo>
                <a:lnTo>
                  <a:pt x="4551" y="173"/>
                </a:lnTo>
                <a:lnTo>
                  <a:pt x="4550" y="167"/>
                </a:lnTo>
                <a:lnTo>
                  <a:pt x="4548" y="163"/>
                </a:lnTo>
                <a:lnTo>
                  <a:pt x="4544" y="161"/>
                </a:lnTo>
                <a:lnTo>
                  <a:pt x="4510" y="161"/>
                </a:lnTo>
                <a:lnTo>
                  <a:pt x="4510" y="153"/>
                </a:lnTo>
                <a:lnTo>
                  <a:pt x="4508" y="145"/>
                </a:lnTo>
                <a:lnTo>
                  <a:pt x="4506" y="139"/>
                </a:lnTo>
                <a:lnTo>
                  <a:pt x="4506" y="132"/>
                </a:lnTo>
                <a:lnTo>
                  <a:pt x="4510" y="128"/>
                </a:lnTo>
                <a:lnTo>
                  <a:pt x="4512" y="128"/>
                </a:lnTo>
                <a:lnTo>
                  <a:pt x="4516" y="126"/>
                </a:lnTo>
                <a:lnTo>
                  <a:pt x="4524" y="118"/>
                </a:lnTo>
                <a:lnTo>
                  <a:pt x="4526" y="114"/>
                </a:lnTo>
                <a:lnTo>
                  <a:pt x="4530" y="108"/>
                </a:lnTo>
                <a:lnTo>
                  <a:pt x="4536" y="102"/>
                </a:lnTo>
                <a:lnTo>
                  <a:pt x="4544" y="90"/>
                </a:lnTo>
                <a:lnTo>
                  <a:pt x="4551" y="75"/>
                </a:lnTo>
                <a:lnTo>
                  <a:pt x="4557" y="67"/>
                </a:lnTo>
                <a:lnTo>
                  <a:pt x="4561" y="61"/>
                </a:lnTo>
                <a:lnTo>
                  <a:pt x="4567" y="53"/>
                </a:lnTo>
                <a:lnTo>
                  <a:pt x="4573" y="47"/>
                </a:lnTo>
                <a:lnTo>
                  <a:pt x="4577" y="41"/>
                </a:lnTo>
                <a:lnTo>
                  <a:pt x="4579" y="39"/>
                </a:lnTo>
                <a:lnTo>
                  <a:pt x="4581" y="35"/>
                </a:lnTo>
                <a:lnTo>
                  <a:pt x="4583" y="33"/>
                </a:lnTo>
                <a:lnTo>
                  <a:pt x="4587" y="33"/>
                </a:lnTo>
                <a:lnTo>
                  <a:pt x="4591" y="35"/>
                </a:lnTo>
                <a:lnTo>
                  <a:pt x="4595" y="39"/>
                </a:lnTo>
                <a:lnTo>
                  <a:pt x="4601" y="41"/>
                </a:lnTo>
                <a:lnTo>
                  <a:pt x="4608" y="43"/>
                </a:lnTo>
                <a:lnTo>
                  <a:pt x="4614" y="45"/>
                </a:lnTo>
                <a:lnTo>
                  <a:pt x="4622" y="45"/>
                </a:lnTo>
                <a:lnTo>
                  <a:pt x="4636" y="43"/>
                </a:lnTo>
                <a:lnTo>
                  <a:pt x="4650" y="39"/>
                </a:lnTo>
                <a:lnTo>
                  <a:pt x="4663" y="33"/>
                </a:lnTo>
                <a:lnTo>
                  <a:pt x="4673" y="29"/>
                </a:lnTo>
                <a:lnTo>
                  <a:pt x="4683" y="28"/>
                </a:lnTo>
                <a:lnTo>
                  <a:pt x="4689" y="26"/>
                </a:lnTo>
                <a:lnTo>
                  <a:pt x="4693" y="22"/>
                </a:lnTo>
                <a:lnTo>
                  <a:pt x="4705" y="18"/>
                </a:lnTo>
                <a:lnTo>
                  <a:pt x="4713" y="16"/>
                </a:lnTo>
                <a:lnTo>
                  <a:pt x="4718" y="14"/>
                </a:lnTo>
                <a:lnTo>
                  <a:pt x="4732" y="14"/>
                </a:lnTo>
                <a:lnTo>
                  <a:pt x="4744" y="18"/>
                </a:lnTo>
                <a:lnTo>
                  <a:pt x="4750" y="18"/>
                </a:lnTo>
                <a:lnTo>
                  <a:pt x="4824" y="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060560" y="560520"/>
            <a:ext cx="7791480" cy="5754600"/>
            <a:chOff x="1060560" y="560520"/>
            <a:chExt cx="7791480" cy="5754600"/>
          </a:xfrm>
        </p:grpSpPr>
        <p:pic>
          <p:nvPicPr>
            <p:cNvPr id="419" name="Freeform 10" descr=""/>
            <p:cNvPicPr/>
            <p:nvPr/>
          </p:nvPicPr>
          <p:blipFill>
            <a:blip r:embed="rId1"/>
            <a:stretch/>
          </p:blipFill>
          <p:spPr>
            <a:xfrm>
              <a:off x="1060560" y="560520"/>
              <a:ext cx="7791480" cy="57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6"/>
            <p:cNvSpPr/>
            <p:nvPr/>
          </p:nvSpPr>
          <p:spPr>
            <a:xfrm>
              <a:off x="1073160" y="574920"/>
              <a:ext cx="77644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7"/>
          <p:cNvGrpSpPr/>
          <p:nvPr/>
        </p:nvGrpSpPr>
        <p:grpSpPr>
          <a:xfrm>
            <a:off x="76320" y="4910040"/>
            <a:ext cx="3130560" cy="1719360"/>
            <a:chOff x="76320" y="4910040"/>
            <a:chExt cx="3130560" cy="1719360"/>
          </a:xfrm>
        </p:grpSpPr>
        <p:grpSp>
          <p:nvGrpSpPr>
            <p:cNvPr id="422" name="Group 8"/>
            <p:cNvGrpSpPr/>
            <p:nvPr/>
          </p:nvGrpSpPr>
          <p:grpSpPr>
            <a:xfrm>
              <a:off x="76320" y="4910040"/>
              <a:ext cx="3130560" cy="1667880"/>
              <a:chOff x="76320" y="4910040"/>
              <a:chExt cx="3130560" cy="1667880"/>
            </a:xfrm>
          </p:grpSpPr>
          <p:grpSp>
            <p:nvGrpSpPr>
              <p:cNvPr id="423" name="Group 9"/>
              <p:cNvGrpSpPr/>
              <p:nvPr/>
            </p:nvGrpSpPr>
            <p:grpSpPr>
              <a:xfrm>
                <a:off x="1400040" y="4910040"/>
                <a:ext cx="1806840" cy="1667880"/>
                <a:chOff x="1400040" y="4910040"/>
                <a:chExt cx="1806840" cy="1667880"/>
              </a:xfrm>
            </p:grpSpPr>
            <p:sp>
              <p:nvSpPr>
                <p:cNvPr id="424" name="Freeform 5"/>
                <p:cNvSpPr/>
                <p:nvPr/>
              </p:nvSpPr>
              <p:spPr>
                <a:xfrm flipH="1" rot="223200">
                  <a:off x="1451880" y="4927320"/>
                  <a:ext cx="594000" cy="1632960"/>
                </a:xfrm>
                <a:custGeom>
                  <a:avLst/>
                  <a:gdLst>
                    <a:gd name="textAreaLeft" fmla="*/ 360 w 594000"/>
                    <a:gd name="textAreaRight" fmla="*/ 594720 w 594000"/>
                    <a:gd name="textAreaTop" fmla="*/ 0 h 1632960"/>
                    <a:gd name="textAreaBottom" fmla="*/ 1633320 h 1632960"/>
                  </a:gdLst>
                  <a:ahLst/>
                  <a:rect l="textAreaLeft" t="textAreaTop" r="textAreaRight" b="textAreaBottom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Straight Connector 14"/>
                <p:cNvSpPr/>
                <p:nvPr/>
              </p:nvSpPr>
              <p:spPr>
                <a:xfrm>
                  <a:off x="1788120" y="560160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Straight Connector 15"/>
                <p:cNvSpPr/>
                <p:nvPr/>
              </p:nvSpPr>
              <p:spPr>
                <a:xfrm>
                  <a:off x="1913400" y="5257440"/>
                  <a:ext cx="31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Group 13"/>
                <p:cNvGrpSpPr/>
                <p:nvPr/>
              </p:nvGrpSpPr>
              <p:grpSpPr>
                <a:xfrm>
                  <a:off x="1666800" y="5107320"/>
                  <a:ext cx="1540080" cy="1231200"/>
                  <a:chOff x="1666800" y="5107320"/>
                  <a:chExt cx="1540080" cy="1231200"/>
                </a:xfrm>
              </p:grpSpPr>
              <p:pic>
                <p:nvPicPr>
                  <p:cNvPr id="428" name="Freeform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5107320"/>
                    <a:ext cx="1540080" cy="12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Text Box 15"/>
                  <p:cNvSpPr/>
                  <p:nvPr/>
                </p:nvSpPr>
                <p:spPr>
                  <a:xfrm>
                    <a:off x="1744200" y="5156280"/>
                    <a:ext cx="1387080" cy="107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Group 16"/>
              <p:cNvGrpSpPr/>
              <p:nvPr/>
            </p:nvGrpSpPr>
            <p:grpSpPr>
              <a:xfrm>
                <a:off x="76320" y="4910040"/>
                <a:ext cx="1806120" cy="1667880"/>
                <a:chOff x="76320" y="4910040"/>
                <a:chExt cx="1806120" cy="1667880"/>
              </a:xfrm>
            </p:grpSpPr>
            <p:sp>
              <p:nvSpPr>
                <p:cNvPr id="431" name="Freeform 5"/>
                <p:cNvSpPr/>
                <p:nvPr/>
              </p:nvSpPr>
              <p:spPr>
                <a:xfrm rot="21376800">
                  <a:off x="1235520" y="4927320"/>
                  <a:ext cx="594720" cy="1632960"/>
                </a:xfrm>
                <a:custGeom>
                  <a:avLst/>
                  <a:gdLst>
                    <a:gd name="textAreaLeft" fmla="*/ 0 w 594720"/>
                    <a:gd name="textAreaRight" fmla="*/ 595080 w 594720"/>
                    <a:gd name="textAreaTop" fmla="*/ 0 h 1632960"/>
                    <a:gd name="textAreaBottom" fmla="*/ 1633320 h 1632960"/>
                  </a:gdLst>
                  <a:ahLst/>
                  <a:rect l="textAreaLeft" t="textAreaTop" r="textAreaRight" b="textAreaBottom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Straight Connector 10"/>
                <p:cNvSpPr/>
                <p:nvPr/>
              </p:nvSpPr>
              <p:spPr>
                <a:xfrm flipH="1">
                  <a:off x="1460520" y="560160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Straight Connector 11"/>
                <p:cNvSpPr/>
                <p:nvPr/>
              </p:nvSpPr>
              <p:spPr>
                <a:xfrm flipH="1">
                  <a:off x="1337040" y="5257440"/>
                  <a:ext cx="31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Group 20"/>
                <p:cNvGrpSpPr/>
                <p:nvPr/>
              </p:nvGrpSpPr>
              <p:grpSpPr>
                <a:xfrm>
                  <a:off x="76320" y="5107320"/>
                  <a:ext cx="1536840" cy="1231200"/>
                  <a:chOff x="76320" y="5107320"/>
                  <a:chExt cx="1536840" cy="1231200"/>
                </a:xfrm>
              </p:grpSpPr>
              <p:pic>
                <p:nvPicPr>
                  <p:cNvPr id="435" name="Freeform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107320"/>
                    <a:ext cx="1536840" cy="12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" name="Text Box 22"/>
                  <p:cNvSpPr/>
                  <p:nvPr/>
                </p:nvSpPr>
                <p:spPr>
                  <a:xfrm>
                    <a:off x="149040" y="5156280"/>
                    <a:ext cx="1389600" cy="107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7" name="Group 23"/>
            <p:cNvGrpSpPr/>
            <p:nvPr/>
          </p:nvGrpSpPr>
          <p:grpSpPr>
            <a:xfrm>
              <a:off x="1200960" y="6502320"/>
              <a:ext cx="859320" cy="127080"/>
              <a:chOff x="1200960" y="6502320"/>
              <a:chExt cx="859320" cy="127080"/>
            </a:xfrm>
          </p:grpSpPr>
          <p:pic>
            <p:nvPicPr>
              <p:cNvPr id="438" name="Ellipse 87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0960" y="6502320"/>
                <a:ext cx="8593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25"/>
              <p:cNvSpPr/>
              <p:nvPr/>
            </p:nvSpPr>
            <p:spPr>
              <a:xfrm>
                <a:off x="1329840" y="6526080"/>
                <a:ext cx="59904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in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\\192.168.125.11\Non Voice Data\rinkesh\Rinkesh\Collection\07.09.2009\more collection\PPT\dd_china_map\china_Slid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9280" y="1481040"/>
            <a:ext cx="3670200" cy="5559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\\192.168.125.11\Non Voice Data\rinkesh\Rinkesh\Collection\07.09.2009\more collection\PPT\dd_china_map\china_Slide1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1440" y="1481040"/>
            <a:ext cx="3670560" cy="5559480"/>
          </a:xfrm>
          <a:prstGeom prst="rect">
            <a:avLst/>
          </a:prstGeom>
          <a:ln w="0">
            <a:noFill/>
          </a:ln>
        </p:spPr>
      </p:pic>
      <p:sp>
        <p:nvSpPr>
          <p:cNvPr id="443" name="Rounded Rectangle 19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20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own Arrow 22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ad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7"/>
          <p:cNvSpPr/>
          <p:nvPr/>
        </p:nvSpPr>
        <p:spPr>
          <a:xfrm>
            <a:off x="2735280" y="76320"/>
            <a:ext cx="3927600" cy="4879800"/>
          </a:xfrm>
          <a:custGeom>
            <a:avLst/>
            <a:gdLst>
              <a:gd name="textAreaLeft" fmla="*/ 0 w 3927600"/>
              <a:gd name="textAreaRight" fmla="*/ 3927960 w 3927600"/>
              <a:gd name="textAreaTop" fmla="*/ 0 h 4879800"/>
              <a:gd name="textAreaBottom" fmla="*/ 4880160 h 4879800"/>
            </a:gdLst>
            <a:ahLst/>
            <a:rect l="textAreaLeft" t="textAreaTop" r="textAreaRight" b="textAreaBottom"/>
            <a:pathLst>
              <a:path w="8057" h="10011">
                <a:moveTo>
                  <a:pt x="3247" y="3224"/>
                </a:moveTo>
                <a:lnTo>
                  <a:pt x="3233" y="3230"/>
                </a:lnTo>
                <a:lnTo>
                  <a:pt x="3219" y="3236"/>
                </a:lnTo>
                <a:lnTo>
                  <a:pt x="3207" y="3239"/>
                </a:lnTo>
                <a:lnTo>
                  <a:pt x="3193" y="3242"/>
                </a:lnTo>
                <a:lnTo>
                  <a:pt x="3168" y="3247"/>
                </a:lnTo>
                <a:lnTo>
                  <a:pt x="3138" y="3255"/>
                </a:lnTo>
                <a:lnTo>
                  <a:pt x="3131" y="3256"/>
                </a:lnTo>
                <a:lnTo>
                  <a:pt x="3123" y="3256"/>
                </a:lnTo>
                <a:lnTo>
                  <a:pt x="3116" y="3256"/>
                </a:lnTo>
                <a:lnTo>
                  <a:pt x="3110" y="3254"/>
                </a:lnTo>
                <a:lnTo>
                  <a:pt x="3103" y="3253"/>
                </a:lnTo>
                <a:lnTo>
                  <a:pt x="3096" y="3252"/>
                </a:lnTo>
                <a:lnTo>
                  <a:pt x="3088" y="3251"/>
                </a:lnTo>
                <a:lnTo>
                  <a:pt x="3080" y="3251"/>
                </a:lnTo>
                <a:lnTo>
                  <a:pt x="3069" y="3254"/>
                </a:lnTo>
                <a:lnTo>
                  <a:pt x="3058" y="3257"/>
                </a:lnTo>
                <a:lnTo>
                  <a:pt x="3048" y="3262"/>
                </a:lnTo>
                <a:lnTo>
                  <a:pt x="3040" y="3270"/>
                </a:lnTo>
                <a:lnTo>
                  <a:pt x="3032" y="3278"/>
                </a:lnTo>
                <a:lnTo>
                  <a:pt x="3027" y="3288"/>
                </a:lnTo>
                <a:lnTo>
                  <a:pt x="3025" y="3292"/>
                </a:lnTo>
                <a:lnTo>
                  <a:pt x="3024" y="3297"/>
                </a:lnTo>
                <a:lnTo>
                  <a:pt x="3023" y="3303"/>
                </a:lnTo>
                <a:lnTo>
                  <a:pt x="3023" y="3309"/>
                </a:lnTo>
                <a:lnTo>
                  <a:pt x="3023" y="3314"/>
                </a:lnTo>
                <a:lnTo>
                  <a:pt x="3024" y="3317"/>
                </a:lnTo>
                <a:lnTo>
                  <a:pt x="3026" y="3321"/>
                </a:lnTo>
                <a:lnTo>
                  <a:pt x="3028" y="3323"/>
                </a:lnTo>
                <a:lnTo>
                  <a:pt x="3035" y="3329"/>
                </a:lnTo>
                <a:lnTo>
                  <a:pt x="3042" y="3333"/>
                </a:lnTo>
                <a:lnTo>
                  <a:pt x="3050" y="3337"/>
                </a:lnTo>
                <a:lnTo>
                  <a:pt x="3059" y="3341"/>
                </a:lnTo>
                <a:lnTo>
                  <a:pt x="3067" y="3347"/>
                </a:lnTo>
                <a:lnTo>
                  <a:pt x="3074" y="3353"/>
                </a:lnTo>
                <a:lnTo>
                  <a:pt x="3081" y="3369"/>
                </a:lnTo>
                <a:lnTo>
                  <a:pt x="3091" y="3384"/>
                </a:lnTo>
                <a:lnTo>
                  <a:pt x="3073" y="3386"/>
                </a:lnTo>
                <a:lnTo>
                  <a:pt x="3057" y="3386"/>
                </a:lnTo>
                <a:lnTo>
                  <a:pt x="3041" y="3386"/>
                </a:lnTo>
                <a:lnTo>
                  <a:pt x="3023" y="3384"/>
                </a:lnTo>
                <a:lnTo>
                  <a:pt x="3023" y="3411"/>
                </a:lnTo>
                <a:lnTo>
                  <a:pt x="3024" y="3428"/>
                </a:lnTo>
                <a:lnTo>
                  <a:pt x="3026" y="3442"/>
                </a:lnTo>
                <a:lnTo>
                  <a:pt x="3029" y="3455"/>
                </a:lnTo>
                <a:lnTo>
                  <a:pt x="3032" y="3468"/>
                </a:lnTo>
                <a:lnTo>
                  <a:pt x="3037" y="3482"/>
                </a:lnTo>
                <a:lnTo>
                  <a:pt x="3040" y="3494"/>
                </a:lnTo>
                <a:lnTo>
                  <a:pt x="3042" y="3509"/>
                </a:lnTo>
                <a:lnTo>
                  <a:pt x="3043" y="3525"/>
                </a:lnTo>
                <a:lnTo>
                  <a:pt x="3043" y="3700"/>
                </a:lnTo>
                <a:lnTo>
                  <a:pt x="3043" y="3705"/>
                </a:lnTo>
                <a:lnTo>
                  <a:pt x="3044" y="3709"/>
                </a:lnTo>
                <a:lnTo>
                  <a:pt x="3045" y="3712"/>
                </a:lnTo>
                <a:lnTo>
                  <a:pt x="3047" y="3715"/>
                </a:lnTo>
                <a:lnTo>
                  <a:pt x="3053" y="3720"/>
                </a:lnTo>
                <a:lnTo>
                  <a:pt x="3058" y="3726"/>
                </a:lnTo>
                <a:lnTo>
                  <a:pt x="3072" y="3735"/>
                </a:lnTo>
                <a:lnTo>
                  <a:pt x="3084" y="3747"/>
                </a:lnTo>
                <a:lnTo>
                  <a:pt x="3087" y="3751"/>
                </a:lnTo>
                <a:lnTo>
                  <a:pt x="3089" y="3756"/>
                </a:lnTo>
                <a:lnTo>
                  <a:pt x="3092" y="3761"/>
                </a:lnTo>
                <a:lnTo>
                  <a:pt x="3094" y="3765"/>
                </a:lnTo>
                <a:lnTo>
                  <a:pt x="3096" y="3775"/>
                </a:lnTo>
                <a:lnTo>
                  <a:pt x="3096" y="3785"/>
                </a:lnTo>
                <a:lnTo>
                  <a:pt x="3095" y="3806"/>
                </a:lnTo>
                <a:lnTo>
                  <a:pt x="3094" y="3828"/>
                </a:lnTo>
                <a:lnTo>
                  <a:pt x="3095" y="3866"/>
                </a:lnTo>
                <a:lnTo>
                  <a:pt x="3097" y="3900"/>
                </a:lnTo>
                <a:lnTo>
                  <a:pt x="3099" y="3916"/>
                </a:lnTo>
                <a:lnTo>
                  <a:pt x="3103" y="3933"/>
                </a:lnTo>
                <a:lnTo>
                  <a:pt x="3107" y="3950"/>
                </a:lnTo>
                <a:lnTo>
                  <a:pt x="3115" y="3968"/>
                </a:lnTo>
                <a:lnTo>
                  <a:pt x="3142" y="3956"/>
                </a:lnTo>
                <a:lnTo>
                  <a:pt x="3170" y="3944"/>
                </a:lnTo>
                <a:lnTo>
                  <a:pt x="3182" y="3937"/>
                </a:lnTo>
                <a:lnTo>
                  <a:pt x="3195" y="3930"/>
                </a:lnTo>
                <a:lnTo>
                  <a:pt x="3207" y="3922"/>
                </a:lnTo>
                <a:lnTo>
                  <a:pt x="3217" y="3914"/>
                </a:lnTo>
                <a:lnTo>
                  <a:pt x="3228" y="3905"/>
                </a:lnTo>
                <a:lnTo>
                  <a:pt x="3236" y="3896"/>
                </a:lnTo>
                <a:lnTo>
                  <a:pt x="3245" y="3886"/>
                </a:lnTo>
                <a:lnTo>
                  <a:pt x="3251" y="3875"/>
                </a:lnTo>
                <a:lnTo>
                  <a:pt x="3256" y="3863"/>
                </a:lnTo>
                <a:lnTo>
                  <a:pt x="3261" y="3850"/>
                </a:lnTo>
                <a:lnTo>
                  <a:pt x="3263" y="3837"/>
                </a:lnTo>
                <a:lnTo>
                  <a:pt x="3264" y="3822"/>
                </a:lnTo>
                <a:lnTo>
                  <a:pt x="3263" y="3811"/>
                </a:lnTo>
                <a:lnTo>
                  <a:pt x="3262" y="3803"/>
                </a:lnTo>
                <a:lnTo>
                  <a:pt x="3258" y="3794"/>
                </a:lnTo>
                <a:lnTo>
                  <a:pt x="3255" y="3786"/>
                </a:lnTo>
                <a:lnTo>
                  <a:pt x="3245" y="3771"/>
                </a:lnTo>
                <a:lnTo>
                  <a:pt x="3234" y="3757"/>
                </a:lnTo>
                <a:lnTo>
                  <a:pt x="3223" y="3744"/>
                </a:lnTo>
                <a:lnTo>
                  <a:pt x="3211" y="3729"/>
                </a:lnTo>
                <a:lnTo>
                  <a:pt x="3207" y="3722"/>
                </a:lnTo>
                <a:lnTo>
                  <a:pt x="3202" y="3713"/>
                </a:lnTo>
                <a:lnTo>
                  <a:pt x="3198" y="3704"/>
                </a:lnTo>
                <a:lnTo>
                  <a:pt x="3196" y="3693"/>
                </a:lnTo>
                <a:lnTo>
                  <a:pt x="3219" y="3693"/>
                </a:lnTo>
                <a:lnTo>
                  <a:pt x="3239" y="3693"/>
                </a:lnTo>
                <a:lnTo>
                  <a:pt x="3261" y="3693"/>
                </a:lnTo>
                <a:lnTo>
                  <a:pt x="3284" y="3693"/>
                </a:lnTo>
                <a:lnTo>
                  <a:pt x="3303" y="3692"/>
                </a:lnTo>
                <a:lnTo>
                  <a:pt x="3321" y="3689"/>
                </a:lnTo>
                <a:lnTo>
                  <a:pt x="3329" y="3688"/>
                </a:lnTo>
                <a:lnTo>
                  <a:pt x="3338" y="3685"/>
                </a:lnTo>
                <a:lnTo>
                  <a:pt x="3346" y="3682"/>
                </a:lnTo>
                <a:lnTo>
                  <a:pt x="3353" y="3678"/>
                </a:lnTo>
                <a:lnTo>
                  <a:pt x="3361" y="3675"/>
                </a:lnTo>
                <a:lnTo>
                  <a:pt x="3368" y="3670"/>
                </a:lnTo>
                <a:lnTo>
                  <a:pt x="3376" y="3666"/>
                </a:lnTo>
                <a:lnTo>
                  <a:pt x="3382" y="3659"/>
                </a:lnTo>
                <a:lnTo>
                  <a:pt x="3388" y="3654"/>
                </a:lnTo>
                <a:lnTo>
                  <a:pt x="3395" y="3647"/>
                </a:lnTo>
                <a:lnTo>
                  <a:pt x="3401" y="3639"/>
                </a:lnTo>
                <a:lnTo>
                  <a:pt x="3406" y="3632"/>
                </a:lnTo>
                <a:lnTo>
                  <a:pt x="3415" y="3617"/>
                </a:lnTo>
                <a:lnTo>
                  <a:pt x="3421" y="3604"/>
                </a:lnTo>
                <a:lnTo>
                  <a:pt x="3426" y="3591"/>
                </a:lnTo>
                <a:lnTo>
                  <a:pt x="3432" y="3577"/>
                </a:lnTo>
                <a:lnTo>
                  <a:pt x="3439" y="3549"/>
                </a:lnTo>
                <a:lnTo>
                  <a:pt x="3451" y="3520"/>
                </a:lnTo>
                <a:lnTo>
                  <a:pt x="3462" y="3493"/>
                </a:lnTo>
                <a:lnTo>
                  <a:pt x="3473" y="3469"/>
                </a:lnTo>
                <a:lnTo>
                  <a:pt x="3477" y="3458"/>
                </a:lnTo>
                <a:lnTo>
                  <a:pt x="3480" y="3445"/>
                </a:lnTo>
                <a:lnTo>
                  <a:pt x="3482" y="3431"/>
                </a:lnTo>
                <a:lnTo>
                  <a:pt x="3483" y="3416"/>
                </a:lnTo>
                <a:lnTo>
                  <a:pt x="3483" y="3285"/>
                </a:lnTo>
                <a:lnTo>
                  <a:pt x="3482" y="3277"/>
                </a:lnTo>
                <a:lnTo>
                  <a:pt x="3479" y="3269"/>
                </a:lnTo>
                <a:lnTo>
                  <a:pt x="3476" y="3261"/>
                </a:lnTo>
                <a:lnTo>
                  <a:pt x="3471" y="3255"/>
                </a:lnTo>
                <a:lnTo>
                  <a:pt x="3464" y="3248"/>
                </a:lnTo>
                <a:lnTo>
                  <a:pt x="3457" y="3244"/>
                </a:lnTo>
                <a:lnTo>
                  <a:pt x="3450" y="3242"/>
                </a:lnTo>
                <a:lnTo>
                  <a:pt x="3440" y="3241"/>
                </a:lnTo>
                <a:lnTo>
                  <a:pt x="3433" y="3241"/>
                </a:lnTo>
                <a:lnTo>
                  <a:pt x="3425" y="3242"/>
                </a:lnTo>
                <a:lnTo>
                  <a:pt x="3419" y="3243"/>
                </a:lnTo>
                <a:lnTo>
                  <a:pt x="3412" y="3245"/>
                </a:lnTo>
                <a:lnTo>
                  <a:pt x="3400" y="3250"/>
                </a:lnTo>
                <a:lnTo>
                  <a:pt x="3388" y="3255"/>
                </a:lnTo>
                <a:lnTo>
                  <a:pt x="3376" y="3259"/>
                </a:lnTo>
                <a:lnTo>
                  <a:pt x="3364" y="3264"/>
                </a:lnTo>
                <a:lnTo>
                  <a:pt x="3357" y="3265"/>
                </a:lnTo>
                <a:lnTo>
                  <a:pt x="3350" y="3266"/>
                </a:lnTo>
                <a:lnTo>
                  <a:pt x="3343" y="3267"/>
                </a:lnTo>
                <a:lnTo>
                  <a:pt x="3336" y="3269"/>
                </a:lnTo>
                <a:lnTo>
                  <a:pt x="3327" y="3267"/>
                </a:lnTo>
                <a:lnTo>
                  <a:pt x="3321" y="3266"/>
                </a:lnTo>
                <a:lnTo>
                  <a:pt x="3313" y="3264"/>
                </a:lnTo>
                <a:lnTo>
                  <a:pt x="3307" y="3261"/>
                </a:lnTo>
                <a:lnTo>
                  <a:pt x="3295" y="3255"/>
                </a:lnTo>
                <a:lnTo>
                  <a:pt x="3284" y="3247"/>
                </a:lnTo>
                <a:lnTo>
                  <a:pt x="3273" y="3240"/>
                </a:lnTo>
                <a:lnTo>
                  <a:pt x="3262" y="3234"/>
                </a:lnTo>
                <a:lnTo>
                  <a:pt x="3255" y="3232"/>
                </a:lnTo>
                <a:lnTo>
                  <a:pt x="3248" y="3230"/>
                </a:lnTo>
                <a:lnTo>
                  <a:pt x="3240" y="3230"/>
                </a:lnTo>
                <a:lnTo>
                  <a:pt x="3233" y="3230"/>
                </a:lnTo>
                <a:lnTo>
                  <a:pt x="3247" y="3224"/>
                </a:lnTo>
                <a:close/>
                <a:moveTo>
                  <a:pt x="2330" y="5103"/>
                </a:moveTo>
                <a:lnTo>
                  <a:pt x="2330" y="5109"/>
                </a:lnTo>
                <a:lnTo>
                  <a:pt x="2333" y="5115"/>
                </a:lnTo>
                <a:lnTo>
                  <a:pt x="2338" y="5121"/>
                </a:lnTo>
                <a:lnTo>
                  <a:pt x="2343" y="5125"/>
                </a:lnTo>
                <a:lnTo>
                  <a:pt x="2349" y="5128"/>
                </a:lnTo>
                <a:lnTo>
                  <a:pt x="2356" y="5131"/>
                </a:lnTo>
                <a:lnTo>
                  <a:pt x="2363" y="5132"/>
                </a:lnTo>
                <a:lnTo>
                  <a:pt x="2370" y="5133"/>
                </a:lnTo>
                <a:lnTo>
                  <a:pt x="2377" y="5132"/>
                </a:lnTo>
                <a:lnTo>
                  <a:pt x="2383" y="5130"/>
                </a:lnTo>
                <a:lnTo>
                  <a:pt x="2389" y="5128"/>
                </a:lnTo>
                <a:lnTo>
                  <a:pt x="2395" y="5124"/>
                </a:lnTo>
                <a:lnTo>
                  <a:pt x="2399" y="5120"/>
                </a:lnTo>
                <a:lnTo>
                  <a:pt x="2402" y="5114"/>
                </a:lnTo>
                <a:lnTo>
                  <a:pt x="2404" y="5109"/>
                </a:lnTo>
                <a:lnTo>
                  <a:pt x="2404" y="5103"/>
                </a:lnTo>
                <a:lnTo>
                  <a:pt x="2403" y="5097"/>
                </a:lnTo>
                <a:lnTo>
                  <a:pt x="2401" y="5093"/>
                </a:lnTo>
                <a:lnTo>
                  <a:pt x="2398" y="5089"/>
                </a:lnTo>
                <a:lnTo>
                  <a:pt x="2393" y="5086"/>
                </a:lnTo>
                <a:lnTo>
                  <a:pt x="2387" y="5084"/>
                </a:lnTo>
                <a:lnTo>
                  <a:pt x="2381" y="5082"/>
                </a:lnTo>
                <a:lnTo>
                  <a:pt x="2374" y="5081"/>
                </a:lnTo>
                <a:lnTo>
                  <a:pt x="2367" y="5081"/>
                </a:lnTo>
                <a:lnTo>
                  <a:pt x="2360" y="5081"/>
                </a:lnTo>
                <a:lnTo>
                  <a:pt x="2353" y="5082"/>
                </a:lnTo>
                <a:lnTo>
                  <a:pt x="2347" y="5084"/>
                </a:lnTo>
                <a:lnTo>
                  <a:pt x="2342" y="5086"/>
                </a:lnTo>
                <a:lnTo>
                  <a:pt x="2337" y="5089"/>
                </a:lnTo>
                <a:lnTo>
                  <a:pt x="2333" y="5093"/>
                </a:lnTo>
                <a:lnTo>
                  <a:pt x="2330" y="5097"/>
                </a:lnTo>
                <a:lnTo>
                  <a:pt x="2330" y="5103"/>
                </a:lnTo>
                <a:close/>
                <a:moveTo>
                  <a:pt x="2019" y="5109"/>
                </a:moveTo>
                <a:lnTo>
                  <a:pt x="2009" y="5110"/>
                </a:lnTo>
                <a:lnTo>
                  <a:pt x="1999" y="5111"/>
                </a:lnTo>
                <a:lnTo>
                  <a:pt x="1989" y="5114"/>
                </a:lnTo>
                <a:lnTo>
                  <a:pt x="1981" y="5117"/>
                </a:lnTo>
                <a:lnTo>
                  <a:pt x="1973" y="5123"/>
                </a:lnTo>
                <a:lnTo>
                  <a:pt x="1968" y="5129"/>
                </a:lnTo>
                <a:lnTo>
                  <a:pt x="1966" y="5133"/>
                </a:lnTo>
                <a:lnTo>
                  <a:pt x="1964" y="5138"/>
                </a:lnTo>
                <a:lnTo>
                  <a:pt x="1963" y="5142"/>
                </a:lnTo>
                <a:lnTo>
                  <a:pt x="1963" y="5146"/>
                </a:lnTo>
                <a:lnTo>
                  <a:pt x="1964" y="5150"/>
                </a:lnTo>
                <a:lnTo>
                  <a:pt x="1966" y="5153"/>
                </a:lnTo>
                <a:lnTo>
                  <a:pt x="1969" y="5154"/>
                </a:lnTo>
                <a:lnTo>
                  <a:pt x="1972" y="5155"/>
                </a:lnTo>
                <a:lnTo>
                  <a:pt x="1982" y="5158"/>
                </a:lnTo>
                <a:lnTo>
                  <a:pt x="1990" y="5160"/>
                </a:lnTo>
                <a:lnTo>
                  <a:pt x="1999" y="5165"/>
                </a:lnTo>
                <a:lnTo>
                  <a:pt x="2007" y="5169"/>
                </a:lnTo>
                <a:lnTo>
                  <a:pt x="2011" y="5171"/>
                </a:lnTo>
                <a:lnTo>
                  <a:pt x="2016" y="5172"/>
                </a:lnTo>
                <a:lnTo>
                  <a:pt x="2020" y="5173"/>
                </a:lnTo>
                <a:lnTo>
                  <a:pt x="2025" y="5173"/>
                </a:lnTo>
                <a:lnTo>
                  <a:pt x="2039" y="5173"/>
                </a:lnTo>
                <a:lnTo>
                  <a:pt x="2051" y="5172"/>
                </a:lnTo>
                <a:lnTo>
                  <a:pt x="2064" y="5172"/>
                </a:lnTo>
                <a:lnTo>
                  <a:pt x="2078" y="5173"/>
                </a:lnTo>
                <a:lnTo>
                  <a:pt x="2080" y="5159"/>
                </a:lnTo>
                <a:lnTo>
                  <a:pt x="2082" y="5143"/>
                </a:lnTo>
                <a:lnTo>
                  <a:pt x="2081" y="5138"/>
                </a:lnTo>
                <a:lnTo>
                  <a:pt x="2080" y="5133"/>
                </a:lnTo>
                <a:lnTo>
                  <a:pt x="2078" y="5129"/>
                </a:lnTo>
                <a:lnTo>
                  <a:pt x="2076" y="5126"/>
                </a:lnTo>
                <a:lnTo>
                  <a:pt x="2073" y="5123"/>
                </a:lnTo>
                <a:lnTo>
                  <a:pt x="2069" y="5120"/>
                </a:lnTo>
                <a:lnTo>
                  <a:pt x="2065" y="5117"/>
                </a:lnTo>
                <a:lnTo>
                  <a:pt x="2061" y="5115"/>
                </a:lnTo>
                <a:lnTo>
                  <a:pt x="2051" y="5112"/>
                </a:lnTo>
                <a:lnTo>
                  <a:pt x="2041" y="5110"/>
                </a:lnTo>
                <a:lnTo>
                  <a:pt x="2029" y="5109"/>
                </a:lnTo>
                <a:lnTo>
                  <a:pt x="2019" y="5109"/>
                </a:lnTo>
                <a:close/>
                <a:moveTo>
                  <a:pt x="2554" y="4987"/>
                </a:moveTo>
                <a:lnTo>
                  <a:pt x="2540" y="4981"/>
                </a:lnTo>
                <a:lnTo>
                  <a:pt x="2527" y="4977"/>
                </a:lnTo>
                <a:lnTo>
                  <a:pt x="2513" y="4980"/>
                </a:lnTo>
                <a:lnTo>
                  <a:pt x="2513" y="5008"/>
                </a:lnTo>
                <a:lnTo>
                  <a:pt x="2512" y="5036"/>
                </a:lnTo>
                <a:lnTo>
                  <a:pt x="2512" y="5065"/>
                </a:lnTo>
                <a:lnTo>
                  <a:pt x="2513" y="5071"/>
                </a:lnTo>
                <a:lnTo>
                  <a:pt x="2514" y="5077"/>
                </a:lnTo>
                <a:lnTo>
                  <a:pt x="2516" y="5083"/>
                </a:lnTo>
                <a:lnTo>
                  <a:pt x="2518" y="5087"/>
                </a:lnTo>
                <a:lnTo>
                  <a:pt x="2521" y="5090"/>
                </a:lnTo>
                <a:lnTo>
                  <a:pt x="2526" y="5093"/>
                </a:lnTo>
                <a:lnTo>
                  <a:pt x="2531" y="5095"/>
                </a:lnTo>
                <a:lnTo>
                  <a:pt x="2537" y="5095"/>
                </a:lnTo>
                <a:lnTo>
                  <a:pt x="2547" y="5095"/>
                </a:lnTo>
                <a:lnTo>
                  <a:pt x="2555" y="5094"/>
                </a:lnTo>
                <a:lnTo>
                  <a:pt x="2565" y="5092"/>
                </a:lnTo>
                <a:lnTo>
                  <a:pt x="2574" y="5092"/>
                </a:lnTo>
                <a:lnTo>
                  <a:pt x="2574" y="5051"/>
                </a:lnTo>
                <a:lnTo>
                  <a:pt x="2554" y="4987"/>
                </a:lnTo>
                <a:close/>
                <a:moveTo>
                  <a:pt x="2850" y="4688"/>
                </a:moveTo>
                <a:lnTo>
                  <a:pt x="2833" y="4709"/>
                </a:lnTo>
                <a:lnTo>
                  <a:pt x="2819" y="4728"/>
                </a:lnTo>
                <a:lnTo>
                  <a:pt x="2814" y="4737"/>
                </a:lnTo>
                <a:lnTo>
                  <a:pt x="2809" y="4748"/>
                </a:lnTo>
                <a:lnTo>
                  <a:pt x="2806" y="4759"/>
                </a:lnTo>
                <a:lnTo>
                  <a:pt x="2805" y="4773"/>
                </a:lnTo>
                <a:lnTo>
                  <a:pt x="2805" y="4782"/>
                </a:lnTo>
                <a:lnTo>
                  <a:pt x="2808" y="4789"/>
                </a:lnTo>
                <a:lnTo>
                  <a:pt x="2810" y="4796"/>
                </a:lnTo>
                <a:lnTo>
                  <a:pt x="2813" y="4804"/>
                </a:lnTo>
                <a:lnTo>
                  <a:pt x="2819" y="4818"/>
                </a:lnTo>
                <a:lnTo>
                  <a:pt x="2825" y="4833"/>
                </a:lnTo>
                <a:lnTo>
                  <a:pt x="2817" y="4825"/>
                </a:lnTo>
                <a:lnTo>
                  <a:pt x="2809" y="4818"/>
                </a:lnTo>
                <a:lnTo>
                  <a:pt x="2799" y="4811"/>
                </a:lnTo>
                <a:lnTo>
                  <a:pt x="2789" y="4807"/>
                </a:lnTo>
                <a:lnTo>
                  <a:pt x="2786" y="4814"/>
                </a:lnTo>
                <a:lnTo>
                  <a:pt x="2785" y="4821"/>
                </a:lnTo>
                <a:lnTo>
                  <a:pt x="2785" y="4828"/>
                </a:lnTo>
                <a:lnTo>
                  <a:pt x="2786" y="4833"/>
                </a:lnTo>
                <a:lnTo>
                  <a:pt x="2789" y="4840"/>
                </a:lnTo>
                <a:lnTo>
                  <a:pt x="2790" y="4845"/>
                </a:lnTo>
                <a:lnTo>
                  <a:pt x="2792" y="4850"/>
                </a:lnTo>
                <a:lnTo>
                  <a:pt x="2794" y="4856"/>
                </a:lnTo>
                <a:lnTo>
                  <a:pt x="2795" y="4861"/>
                </a:lnTo>
                <a:lnTo>
                  <a:pt x="2795" y="4868"/>
                </a:lnTo>
                <a:lnTo>
                  <a:pt x="2795" y="4877"/>
                </a:lnTo>
                <a:lnTo>
                  <a:pt x="2793" y="4885"/>
                </a:lnTo>
                <a:lnTo>
                  <a:pt x="2791" y="4893"/>
                </a:lnTo>
                <a:lnTo>
                  <a:pt x="2786" y="4900"/>
                </a:lnTo>
                <a:lnTo>
                  <a:pt x="2782" y="4905"/>
                </a:lnTo>
                <a:lnTo>
                  <a:pt x="2777" y="4912"/>
                </a:lnTo>
                <a:lnTo>
                  <a:pt x="2772" y="4917"/>
                </a:lnTo>
                <a:lnTo>
                  <a:pt x="2765" y="4922"/>
                </a:lnTo>
                <a:lnTo>
                  <a:pt x="2736" y="4940"/>
                </a:lnTo>
                <a:lnTo>
                  <a:pt x="2703" y="4960"/>
                </a:lnTo>
                <a:lnTo>
                  <a:pt x="2692" y="4966"/>
                </a:lnTo>
                <a:lnTo>
                  <a:pt x="2683" y="4973"/>
                </a:lnTo>
                <a:lnTo>
                  <a:pt x="2679" y="4977"/>
                </a:lnTo>
                <a:lnTo>
                  <a:pt x="2676" y="4981"/>
                </a:lnTo>
                <a:lnTo>
                  <a:pt x="2673" y="4987"/>
                </a:lnTo>
                <a:lnTo>
                  <a:pt x="2672" y="4993"/>
                </a:lnTo>
                <a:lnTo>
                  <a:pt x="2673" y="5002"/>
                </a:lnTo>
                <a:lnTo>
                  <a:pt x="2674" y="5010"/>
                </a:lnTo>
                <a:lnTo>
                  <a:pt x="2676" y="5018"/>
                </a:lnTo>
                <a:lnTo>
                  <a:pt x="2677" y="5028"/>
                </a:lnTo>
                <a:lnTo>
                  <a:pt x="2689" y="5030"/>
                </a:lnTo>
                <a:lnTo>
                  <a:pt x="2703" y="5031"/>
                </a:lnTo>
                <a:lnTo>
                  <a:pt x="2714" y="5028"/>
                </a:lnTo>
                <a:lnTo>
                  <a:pt x="2724" y="5025"/>
                </a:lnTo>
                <a:lnTo>
                  <a:pt x="2727" y="5025"/>
                </a:lnTo>
                <a:lnTo>
                  <a:pt x="2729" y="5026"/>
                </a:lnTo>
                <a:lnTo>
                  <a:pt x="2731" y="5027"/>
                </a:lnTo>
                <a:lnTo>
                  <a:pt x="2734" y="5028"/>
                </a:lnTo>
                <a:lnTo>
                  <a:pt x="2737" y="5033"/>
                </a:lnTo>
                <a:lnTo>
                  <a:pt x="2739" y="5038"/>
                </a:lnTo>
                <a:lnTo>
                  <a:pt x="2741" y="5045"/>
                </a:lnTo>
                <a:lnTo>
                  <a:pt x="2744" y="5050"/>
                </a:lnTo>
                <a:lnTo>
                  <a:pt x="2746" y="5056"/>
                </a:lnTo>
                <a:lnTo>
                  <a:pt x="2750" y="5061"/>
                </a:lnTo>
                <a:lnTo>
                  <a:pt x="2755" y="5065"/>
                </a:lnTo>
                <a:lnTo>
                  <a:pt x="2759" y="5067"/>
                </a:lnTo>
                <a:lnTo>
                  <a:pt x="2762" y="5069"/>
                </a:lnTo>
                <a:lnTo>
                  <a:pt x="2766" y="5070"/>
                </a:lnTo>
                <a:lnTo>
                  <a:pt x="2776" y="5070"/>
                </a:lnTo>
                <a:lnTo>
                  <a:pt x="2784" y="5070"/>
                </a:lnTo>
                <a:lnTo>
                  <a:pt x="2794" y="5069"/>
                </a:lnTo>
                <a:lnTo>
                  <a:pt x="2803" y="5068"/>
                </a:lnTo>
                <a:lnTo>
                  <a:pt x="2809" y="5068"/>
                </a:lnTo>
                <a:lnTo>
                  <a:pt x="2813" y="5069"/>
                </a:lnTo>
                <a:lnTo>
                  <a:pt x="2818" y="5070"/>
                </a:lnTo>
                <a:lnTo>
                  <a:pt x="2822" y="5072"/>
                </a:lnTo>
                <a:lnTo>
                  <a:pt x="2861" y="5094"/>
                </a:lnTo>
                <a:lnTo>
                  <a:pt x="2895" y="5116"/>
                </a:lnTo>
                <a:lnTo>
                  <a:pt x="2904" y="5122"/>
                </a:lnTo>
                <a:lnTo>
                  <a:pt x="2912" y="5126"/>
                </a:lnTo>
                <a:lnTo>
                  <a:pt x="2921" y="5130"/>
                </a:lnTo>
                <a:lnTo>
                  <a:pt x="2930" y="5133"/>
                </a:lnTo>
                <a:lnTo>
                  <a:pt x="2940" y="5135"/>
                </a:lnTo>
                <a:lnTo>
                  <a:pt x="2950" y="5138"/>
                </a:lnTo>
                <a:lnTo>
                  <a:pt x="2961" y="5140"/>
                </a:lnTo>
                <a:lnTo>
                  <a:pt x="2972" y="5140"/>
                </a:lnTo>
                <a:lnTo>
                  <a:pt x="3043" y="5140"/>
                </a:lnTo>
                <a:lnTo>
                  <a:pt x="3050" y="5148"/>
                </a:lnTo>
                <a:lnTo>
                  <a:pt x="3057" y="5155"/>
                </a:lnTo>
                <a:lnTo>
                  <a:pt x="3062" y="5164"/>
                </a:lnTo>
                <a:lnTo>
                  <a:pt x="3067" y="5173"/>
                </a:lnTo>
                <a:lnTo>
                  <a:pt x="3074" y="5169"/>
                </a:lnTo>
                <a:lnTo>
                  <a:pt x="3079" y="5164"/>
                </a:lnTo>
                <a:lnTo>
                  <a:pt x="3084" y="5159"/>
                </a:lnTo>
                <a:lnTo>
                  <a:pt x="3088" y="5152"/>
                </a:lnTo>
                <a:lnTo>
                  <a:pt x="3095" y="5141"/>
                </a:lnTo>
                <a:lnTo>
                  <a:pt x="3100" y="5128"/>
                </a:lnTo>
                <a:lnTo>
                  <a:pt x="3104" y="5114"/>
                </a:lnTo>
                <a:lnTo>
                  <a:pt x="3108" y="5101"/>
                </a:lnTo>
                <a:lnTo>
                  <a:pt x="3114" y="5086"/>
                </a:lnTo>
                <a:lnTo>
                  <a:pt x="3121" y="5072"/>
                </a:lnTo>
                <a:lnTo>
                  <a:pt x="3132" y="5075"/>
                </a:lnTo>
                <a:lnTo>
                  <a:pt x="3140" y="5079"/>
                </a:lnTo>
                <a:lnTo>
                  <a:pt x="3149" y="5084"/>
                </a:lnTo>
                <a:lnTo>
                  <a:pt x="3158" y="5089"/>
                </a:lnTo>
                <a:lnTo>
                  <a:pt x="3182" y="5089"/>
                </a:lnTo>
                <a:lnTo>
                  <a:pt x="3182" y="5063"/>
                </a:lnTo>
                <a:lnTo>
                  <a:pt x="3181" y="5056"/>
                </a:lnTo>
                <a:lnTo>
                  <a:pt x="3180" y="5051"/>
                </a:lnTo>
                <a:lnTo>
                  <a:pt x="3177" y="5046"/>
                </a:lnTo>
                <a:lnTo>
                  <a:pt x="3174" y="5041"/>
                </a:lnTo>
                <a:lnTo>
                  <a:pt x="3164" y="5034"/>
                </a:lnTo>
                <a:lnTo>
                  <a:pt x="3154" y="5029"/>
                </a:lnTo>
                <a:lnTo>
                  <a:pt x="3142" y="5023"/>
                </a:lnTo>
                <a:lnTo>
                  <a:pt x="3131" y="5017"/>
                </a:lnTo>
                <a:lnTo>
                  <a:pt x="3124" y="5014"/>
                </a:lnTo>
                <a:lnTo>
                  <a:pt x="3120" y="5010"/>
                </a:lnTo>
                <a:lnTo>
                  <a:pt x="3115" y="5006"/>
                </a:lnTo>
                <a:lnTo>
                  <a:pt x="3111" y="5000"/>
                </a:lnTo>
                <a:lnTo>
                  <a:pt x="3106" y="4992"/>
                </a:lnTo>
                <a:lnTo>
                  <a:pt x="3102" y="4983"/>
                </a:lnTo>
                <a:lnTo>
                  <a:pt x="3099" y="4975"/>
                </a:lnTo>
                <a:lnTo>
                  <a:pt x="3097" y="4968"/>
                </a:lnTo>
                <a:lnTo>
                  <a:pt x="3092" y="4951"/>
                </a:lnTo>
                <a:lnTo>
                  <a:pt x="3084" y="4933"/>
                </a:lnTo>
                <a:lnTo>
                  <a:pt x="3078" y="4922"/>
                </a:lnTo>
                <a:lnTo>
                  <a:pt x="3070" y="4914"/>
                </a:lnTo>
                <a:lnTo>
                  <a:pt x="3063" y="4907"/>
                </a:lnTo>
                <a:lnTo>
                  <a:pt x="3055" y="4901"/>
                </a:lnTo>
                <a:lnTo>
                  <a:pt x="3046" y="4896"/>
                </a:lnTo>
                <a:lnTo>
                  <a:pt x="3037" y="4889"/>
                </a:lnTo>
                <a:lnTo>
                  <a:pt x="3028" y="4883"/>
                </a:lnTo>
                <a:lnTo>
                  <a:pt x="3019" y="4875"/>
                </a:lnTo>
                <a:lnTo>
                  <a:pt x="2997" y="4853"/>
                </a:lnTo>
                <a:lnTo>
                  <a:pt x="2976" y="4837"/>
                </a:lnTo>
                <a:lnTo>
                  <a:pt x="2954" y="4820"/>
                </a:lnTo>
                <a:lnTo>
                  <a:pt x="2931" y="4800"/>
                </a:lnTo>
                <a:lnTo>
                  <a:pt x="2927" y="4795"/>
                </a:lnTo>
                <a:lnTo>
                  <a:pt x="2923" y="4791"/>
                </a:lnTo>
                <a:lnTo>
                  <a:pt x="2919" y="4787"/>
                </a:lnTo>
                <a:lnTo>
                  <a:pt x="2916" y="4782"/>
                </a:lnTo>
                <a:lnTo>
                  <a:pt x="2912" y="4772"/>
                </a:lnTo>
                <a:lnTo>
                  <a:pt x="2908" y="4763"/>
                </a:lnTo>
                <a:lnTo>
                  <a:pt x="2905" y="4752"/>
                </a:lnTo>
                <a:lnTo>
                  <a:pt x="2900" y="4742"/>
                </a:lnTo>
                <a:lnTo>
                  <a:pt x="2894" y="4732"/>
                </a:lnTo>
                <a:lnTo>
                  <a:pt x="2887" y="4721"/>
                </a:lnTo>
                <a:lnTo>
                  <a:pt x="2877" y="4713"/>
                </a:lnTo>
                <a:lnTo>
                  <a:pt x="2868" y="4706"/>
                </a:lnTo>
                <a:lnTo>
                  <a:pt x="2858" y="4697"/>
                </a:lnTo>
                <a:lnTo>
                  <a:pt x="2850" y="4688"/>
                </a:lnTo>
                <a:close/>
                <a:moveTo>
                  <a:pt x="4283" y="5120"/>
                </a:moveTo>
                <a:lnTo>
                  <a:pt x="4272" y="5117"/>
                </a:lnTo>
                <a:lnTo>
                  <a:pt x="4263" y="5115"/>
                </a:lnTo>
                <a:lnTo>
                  <a:pt x="4257" y="5116"/>
                </a:lnTo>
                <a:lnTo>
                  <a:pt x="4253" y="5117"/>
                </a:lnTo>
                <a:lnTo>
                  <a:pt x="4250" y="5119"/>
                </a:lnTo>
                <a:lnTo>
                  <a:pt x="4246" y="5121"/>
                </a:lnTo>
                <a:lnTo>
                  <a:pt x="4239" y="5126"/>
                </a:lnTo>
                <a:lnTo>
                  <a:pt x="4234" y="5133"/>
                </a:lnTo>
                <a:lnTo>
                  <a:pt x="4230" y="5142"/>
                </a:lnTo>
                <a:lnTo>
                  <a:pt x="4228" y="5151"/>
                </a:lnTo>
                <a:lnTo>
                  <a:pt x="4226" y="5161"/>
                </a:lnTo>
                <a:lnTo>
                  <a:pt x="4225" y="5170"/>
                </a:lnTo>
                <a:lnTo>
                  <a:pt x="4226" y="5177"/>
                </a:lnTo>
                <a:lnTo>
                  <a:pt x="4228" y="5182"/>
                </a:lnTo>
                <a:lnTo>
                  <a:pt x="4231" y="5186"/>
                </a:lnTo>
                <a:lnTo>
                  <a:pt x="4234" y="5191"/>
                </a:lnTo>
                <a:lnTo>
                  <a:pt x="4237" y="5196"/>
                </a:lnTo>
                <a:lnTo>
                  <a:pt x="4241" y="5200"/>
                </a:lnTo>
                <a:lnTo>
                  <a:pt x="4244" y="5205"/>
                </a:lnTo>
                <a:lnTo>
                  <a:pt x="4246" y="5211"/>
                </a:lnTo>
                <a:lnTo>
                  <a:pt x="4250" y="5238"/>
                </a:lnTo>
                <a:lnTo>
                  <a:pt x="4254" y="5263"/>
                </a:lnTo>
                <a:lnTo>
                  <a:pt x="4256" y="5274"/>
                </a:lnTo>
                <a:lnTo>
                  <a:pt x="4261" y="5285"/>
                </a:lnTo>
                <a:lnTo>
                  <a:pt x="4264" y="5291"/>
                </a:lnTo>
                <a:lnTo>
                  <a:pt x="4267" y="5296"/>
                </a:lnTo>
                <a:lnTo>
                  <a:pt x="4271" y="5301"/>
                </a:lnTo>
                <a:lnTo>
                  <a:pt x="4276" y="5306"/>
                </a:lnTo>
                <a:lnTo>
                  <a:pt x="4287" y="5295"/>
                </a:lnTo>
                <a:lnTo>
                  <a:pt x="4294" y="5283"/>
                </a:lnTo>
                <a:lnTo>
                  <a:pt x="4302" y="5271"/>
                </a:lnTo>
                <a:lnTo>
                  <a:pt x="4306" y="5258"/>
                </a:lnTo>
                <a:lnTo>
                  <a:pt x="4309" y="5245"/>
                </a:lnTo>
                <a:lnTo>
                  <a:pt x="4312" y="5232"/>
                </a:lnTo>
                <a:lnTo>
                  <a:pt x="4313" y="5217"/>
                </a:lnTo>
                <a:lnTo>
                  <a:pt x="4313" y="5201"/>
                </a:lnTo>
                <a:lnTo>
                  <a:pt x="4312" y="5190"/>
                </a:lnTo>
                <a:lnTo>
                  <a:pt x="4310" y="5180"/>
                </a:lnTo>
                <a:lnTo>
                  <a:pt x="4307" y="5169"/>
                </a:lnTo>
                <a:lnTo>
                  <a:pt x="4303" y="5159"/>
                </a:lnTo>
                <a:lnTo>
                  <a:pt x="4293" y="5138"/>
                </a:lnTo>
                <a:lnTo>
                  <a:pt x="4283" y="5120"/>
                </a:lnTo>
                <a:close/>
                <a:moveTo>
                  <a:pt x="2038" y="3376"/>
                </a:moveTo>
                <a:lnTo>
                  <a:pt x="2027" y="3375"/>
                </a:lnTo>
                <a:lnTo>
                  <a:pt x="2018" y="3373"/>
                </a:lnTo>
                <a:lnTo>
                  <a:pt x="2008" y="3371"/>
                </a:lnTo>
                <a:lnTo>
                  <a:pt x="1997" y="3370"/>
                </a:lnTo>
                <a:lnTo>
                  <a:pt x="1989" y="3371"/>
                </a:lnTo>
                <a:lnTo>
                  <a:pt x="1982" y="3372"/>
                </a:lnTo>
                <a:lnTo>
                  <a:pt x="1975" y="3375"/>
                </a:lnTo>
                <a:lnTo>
                  <a:pt x="1969" y="3378"/>
                </a:lnTo>
                <a:lnTo>
                  <a:pt x="1964" y="3383"/>
                </a:lnTo>
                <a:lnTo>
                  <a:pt x="1960" y="3388"/>
                </a:lnTo>
                <a:lnTo>
                  <a:pt x="1955" y="3393"/>
                </a:lnTo>
                <a:lnTo>
                  <a:pt x="1951" y="3399"/>
                </a:lnTo>
                <a:lnTo>
                  <a:pt x="1935" y="3427"/>
                </a:lnTo>
                <a:lnTo>
                  <a:pt x="1918" y="3454"/>
                </a:lnTo>
                <a:lnTo>
                  <a:pt x="1930" y="3458"/>
                </a:lnTo>
                <a:lnTo>
                  <a:pt x="1939" y="3461"/>
                </a:lnTo>
                <a:lnTo>
                  <a:pt x="1949" y="3465"/>
                </a:lnTo>
                <a:lnTo>
                  <a:pt x="1957" y="3469"/>
                </a:lnTo>
                <a:lnTo>
                  <a:pt x="1965" y="3475"/>
                </a:lnTo>
                <a:lnTo>
                  <a:pt x="1972" y="3482"/>
                </a:lnTo>
                <a:lnTo>
                  <a:pt x="1979" y="3488"/>
                </a:lnTo>
                <a:lnTo>
                  <a:pt x="1984" y="3496"/>
                </a:lnTo>
                <a:lnTo>
                  <a:pt x="2007" y="3529"/>
                </a:lnTo>
                <a:lnTo>
                  <a:pt x="2030" y="3567"/>
                </a:lnTo>
                <a:lnTo>
                  <a:pt x="2047" y="3587"/>
                </a:lnTo>
                <a:lnTo>
                  <a:pt x="2063" y="3606"/>
                </a:lnTo>
                <a:lnTo>
                  <a:pt x="2070" y="3615"/>
                </a:lnTo>
                <a:lnTo>
                  <a:pt x="2077" y="3625"/>
                </a:lnTo>
                <a:lnTo>
                  <a:pt x="2083" y="3636"/>
                </a:lnTo>
                <a:lnTo>
                  <a:pt x="2088" y="3649"/>
                </a:lnTo>
                <a:lnTo>
                  <a:pt x="2098" y="3644"/>
                </a:lnTo>
                <a:lnTo>
                  <a:pt x="2107" y="3639"/>
                </a:lnTo>
                <a:lnTo>
                  <a:pt x="2115" y="3633"/>
                </a:lnTo>
                <a:lnTo>
                  <a:pt x="2122" y="3626"/>
                </a:lnTo>
                <a:lnTo>
                  <a:pt x="2129" y="3620"/>
                </a:lnTo>
                <a:lnTo>
                  <a:pt x="2134" y="3613"/>
                </a:lnTo>
                <a:lnTo>
                  <a:pt x="2139" y="3604"/>
                </a:lnTo>
                <a:lnTo>
                  <a:pt x="2143" y="3596"/>
                </a:lnTo>
                <a:lnTo>
                  <a:pt x="2146" y="3586"/>
                </a:lnTo>
                <a:lnTo>
                  <a:pt x="2150" y="3578"/>
                </a:lnTo>
                <a:lnTo>
                  <a:pt x="2152" y="3567"/>
                </a:lnTo>
                <a:lnTo>
                  <a:pt x="2154" y="3558"/>
                </a:lnTo>
                <a:lnTo>
                  <a:pt x="2156" y="3537"/>
                </a:lnTo>
                <a:lnTo>
                  <a:pt x="2156" y="3516"/>
                </a:lnTo>
                <a:lnTo>
                  <a:pt x="2156" y="3449"/>
                </a:lnTo>
                <a:lnTo>
                  <a:pt x="2156" y="3441"/>
                </a:lnTo>
                <a:lnTo>
                  <a:pt x="2154" y="3433"/>
                </a:lnTo>
                <a:lnTo>
                  <a:pt x="2152" y="3427"/>
                </a:lnTo>
                <a:lnTo>
                  <a:pt x="2149" y="3421"/>
                </a:lnTo>
                <a:lnTo>
                  <a:pt x="2141" y="3408"/>
                </a:lnTo>
                <a:lnTo>
                  <a:pt x="2133" y="3394"/>
                </a:lnTo>
                <a:lnTo>
                  <a:pt x="2126" y="3380"/>
                </a:lnTo>
                <a:lnTo>
                  <a:pt x="2118" y="3369"/>
                </a:lnTo>
                <a:lnTo>
                  <a:pt x="2114" y="3364"/>
                </a:lnTo>
                <a:lnTo>
                  <a:pt x="2108" y="3359"/>
                </a:lnTo>
                <a:lnTo>
                  <a:pt x="2102" y="3357"/>
                </a:lnTo>
                <a:lnTo>
                  <a:pt x="2096" y="3356"/>
                </a:lnTo>
                <a:lnTo>
                  <a:pt x="2087" y="3357"/>
                </a:lnTo>
                <a:lnTo>
                  <a:pt x="2080" y="3359"/>
                </a:lnTo>
                <a:lnTo>
                  <a:pt x="2073" y="3362"/>
                </a:lnTo>
                <a:lnTo>
                  <a:pt x="2066" y="3367"/>
                </a:lnTo>
                <a:lnTo>
                  <a:pt x="2060" y="3370"/>
                </a:lnTo>
                <a:lnTo>
                  <a:pt x="2054" y="3373"/>
                </a:lnTo>
                <a:lnTo>
                  <a:pt x="2046" y="3376"/>
                </a:lnTo>
                <a:lnTo>
                  <a:pt x="2038" y="3376"/>
                </a:lnTo>
                <a:close/>
                <a:moveTo>
                  <a:pt x="2822" y="3342"/>
                </a:moveTo>
                <a:lnTo>
                  <a:pt x="2802" y="3354"/>
                </a:lnTo>
                <a:lnTo>
                  <a:pt x="2784" y="3365"/>
                </a:lnTo>
                <a:lnTo>
                  <a:pt x="2766" y="3374"/>
                </a:lnTo>
                <a:lnTo>
                  <a:pt x="2749" y="3383"/>
                </a:lnTo>
                <a:lnTo>
                  <a:pt x="2731" y="3389"/>
                </a:lnTo>
                <a:lnTo>
                  <a:pt x="2712" y="3393"/>
                </a:lnTo>
                <a:lnTo>
                  <a:pt x="2691" y="3396"/>
                </a:lnTo>
                <a:lnTo>
                  <a:pt x="2669" y="3397"/>
                </a:lnTo>
                <a:lnTo>
                  <a:pt x="2664" y="3396"/>
                </a:lnTo>
                <a:lnTo>
                  <a:pt x="2660" y="3394"/>
                </a:lnTo>
                <a:lnTo>
                  <a:pt x="2657" y="3391"/>
                </a:lnTo>
                <a:lnTo>
                  <a:pt x="2653" y="3387"/>
                </a:lnTo>
                <a:lnTo>
                  <a:pt x="2649" y="3377"/>
                </a:lnTo>
                <a:lnTo>
                  <a:pt x="2646" y="3367"/>
                </a:lnTo>
                <a:lnTo>
                  <a:pt x="2633" y="3369"/>
                </a:lnTo>
                <a:lnTo>
                  <a:pt x="2622" y="3373"/>
                </a:lnTo>
                <a:lnTo>
                  <a:pt x="2611" y="3375"/>
                </a:lnTo>
                <a:lnTo>
                  <a:pt x="2598" y="3376"/>
                </a:lnTo>
                <a:lnTo>
                  <a:pt x="2591" y="3376"/>
                </a:lnTo>
                <a:lnTo>
                  <a:pt x="2586" y="3373"/>
                </a:lnTo>
                <a:lnTo>
                  <a:pt x="2580" y="3369"/>
                </a:lnTo>
                <a:lnTo>
                  <a:pt x="2576" y="3365"/>
                </a:lnTo>
                <a:lnTo>
                  <a:pt x="2571" y="3360"/>
                </a:lnTo>
                <a:lnTo>
                  <a:pt x="2567" y="3356"/>
                </a:lnTo>
                <a:lnTo>
                  <a:pt x="2560" y="3354"/>
                </a:lnTo>
                <a:lnTo>
                  <a:pt x="2554" y="3353"/>
                </a:lnTo>
                <a:lnTo>
                  <a:pt x="2548" y="3353"/>
                </a:lnTo>
                <a:lnTo>
                  <a:pt x="2541" y="3355"/>
                </a:lnTo>
                <a:lnTo>
                  <a:pt x="2536" y="3357"/>
                </a:lnTo>
                <a:lnTo>
                  <a:pt x="2532" y="3359"/>
                </a:lnTo>
                <a:lnTo>
                  <a:pt x="2528" y="3364"/>
                </a:lnTo>
                <a:lnTo>
                  <a:pt x="2523" y="3368"/>
                </a:lnTo>
                <a:lnTo>
                  <a:pt x="2520" y="3372"/>
                </a:lnTo>
                <a:lnTo>
                  <a:pt x="2517" y="3377"/>
                </a:lnTo>
                <a:lnTo>
                  <a:pt x="2512" y="3389"/>
                </a:lnTo>
                <a:lnTo>
                  <a:pt x="2509" y="3402"/>
                </a:lnTo>
                <a:lnTo>
                  <a:pt x="2507" y="3414"/>
                </a:lnTo>
                <a:lnTo>
                  <a:pt x="2507" y="3428"/>
                </a:lnTo>
                <a:lnTo>
                  <a:pt x="2508" y="3431"/>
                </a:lnTo>
                <a:lnTo>
                  <a:pt x="2510" y="3434"/>
                </a:lnTo>
                <a:lnTo>
                  <a:pt x="2513" y="3436"/>
                </a:lnTo>
                <a:lnTo>
                  <a:pt x="2516" y="3439"/>
                </a:lnTo>
                <a:lnTo>
                  <a:pt x="2526" y="3441"/>
                </a:lnTo>
                <a:lnTo>
                  <a:pt x="2534" y="3445"/>
                </a:lnTo>
                <a:lnTo>
                  <a:pt x="2540" y="3450"/>
                </a:lnTo>
                <a:lnTo>
                  <a:pt x="2547" y="3456"/>
                </a:lnTo>
                <a:lnTo>
                  <a:pt x="2552" y="3463"/>
                </a:lnTo>
                <a:lnTo>
                  <a:pt x="2556" y="3469"/>
                </a:lnTo>
                <a:lnTo>
                  <a:pt x="2559" y="3477"/>
                </a:lnTo>
                <a:lnTo>
                  <a:pt x="2563" y="3485"/>
                </a:lnTo>
                <a:lnTo>
                  <a:pt x="2566" y="3493"/>
                </a:lnTo>
                <a:lnTo>
                  <a:pt x="2568" y="3503"/>
                </a:lnTo>
                <a:lnTo>
                  <a:pt x="2559" y="3499"/>
                </a:lnTo>
                <a:lnTo>
                  <a:pt x="2552" y="3494"/>
                </a:lnTo>
                <a:lnTo>
                  <a:pt x="2545" y="3489"/>
                </a:lnTo>
                <a:lnTo>
                  <a:pt x="2538" y="3485"/>
                </a:lnTo>
                <a:lnTo>
                  <a:pt x="2526" y="3474"/>
                </a:lnTo>
                <a:lnTo>
                  <a:pt x="2510" y="3465"/>
                </a:lnTo>
                <a:lnTo>
                  <a:pt x="2506" y="3470"/>
                </a:lnTo>
                <a:lnTo>
                  <a:pt x="2500" y="3475"/>
                </a:lnTo>
                <a:lnTo>
                  <a:pt x="2499" y="3479"/>
                </a:lnTo>
                <a:lnTo>
                  <a:pt x="2497" y="3482"/>
                </a:lnTo>
                <a:lnTo>
                  <a:pt x="2496" y="3485"/>
                </a:lnTo>
                <a:lnTo>
                  <a:pt x="2496" y="3489"/>
                </a:lnTo>
                <a:lnTo>
                  <a:pt x="2497" y="3497"/>
                </a:lnTo>
                <a:lnTo>
                  <a:pt x="2499" y="3504"/>
                </a:lnTo>
                <a:lnTo>
                  <a:pt x="2501" y="3510"/>
                </a:lnTo>
                <a:lnTo>
                  <a:pt x="2504" y="3517"/>
                </a:lnTo>
                <a:lnTo>
                  <a:pt x="2508" y="3523"/>
                </a:lnTo>
                <a:lnTo>
                  <a:pt x="2510" y="3529"/>
                </a:lnTo>
                <a:lnTo>
                  <a:pt x="2512" y="3537"/>
                </a:lnTo>
                <a:lnTo>
                  <a:pt x="2513" y="3545"/>
                </a:lnTo>
                <a:lnTo>
                  <a:pt x="2529" y="3545"/>
                </a:lnTo>
                <a:lnTo>
                  <a:pt x="2542" y="3546"/>
                </a:lnTo>
                <a:lnTo>
                  <a:pt x="2555" y="3546"/>
                </a:lnTo>
                <a:lnTo>
                  <a:pt x="2571" y="3546"/>
                </a:lnTo>
                <a:lnTo>
                  <a:pt x="2572" y="3557"/>
                </a:lnTo>
                <a:lnTo>
                  <a:pt x="2574" y="3567"/>
                </a:lnTo>
                <a:lnTo>
                  <a:pt x="2547" y="3594"/>
                </a:lnTo>
                <a:lnTo>
                  <a:pt x="2565" y="3606"/>
                </a:lnTo>
                <a:lnTo>
                  <a:pt x="2579" y="3618"/>
                </a:lnTo>
                <a:lnTo>
                  <a:pt x="2586" y="3625"/>
                </a:lnTo>
                <a:lnTo>
                  <a:pt x="2590" y="3633"/>
                </a:lnTo>
                <a:lnTo>
                  <a:pt x="2592" y="3637"/>
                </a:lnTo>
                <a:lnTo>
                  <a:pt x="2593" y="3642"/>
                </a:lnTo>
                <a:lnTo>
                  <a:pt x="2594" y="3647"/>
                </a:lnTo>
                <a:lnTo>
                  <a:pt x="2594" y="3652"/>
                </a:lnTo>
                <a:lnTo>
                  <a:pt x="2594" y="3660"/>
                </a:lnTo>
                <a:lnTo>
                  <a:pt x="2593" y="3668"/>
                </a:lnTo>
                <a:lnTo>
                  <a:pt x="2591" y="3675"/>
                </a:lnTo>
                <a:lnTo>
                  <a:pt x="2589" y="3682"/>
                </a:lnTo>
                <a:lnTo>
                  <a:pt x="2583" y="3695"/>
                </a:lnTo>
                <a:lnTo>
                  <a:pt x="2574" y="3710"/>
                </a:lnTo>
                <a:lnTo>
                  <a:pt x="2567" y="3725"/>
                </a:lnTo>
                <a:lnTo>
                  <a:pt x="2558" y="3739"/>
                </a:lnTo>
                <a:lnTo>
                  <a:pt x="2554" y="3745"/>
                </a:lnTo>
                <a:lnTo>
                  <a:pt x="2548" y="3750"/>
                </a:lnTo>
                <a:lnTo>
                  <a:pt x="2545" y="3751"/>
                </a:lnTo>
                <a:lnTo>
                  <a:pt x="2541" y="3753"/>
                </a:lnTo>
                <a:lnTo>
                  <a:pt x="2537" y="3753"/>
                </a:lnTo>
                <a:lnTo>
                  <a:pt x="2534" y="3754"/>
                </a:lnTo>
                <a:lnTo>
                  <a:pt x="2529" y="3753"/>
                </a:lnTo>
                <a:lnTo>
                  <a:pt x="2525" y="3752"/>
                </a:lnTo>
                <a:lnTo>
                  <a:pt x="2521" y="3751"/>
                </a:lnTo>
                <a:lnTo>
                  <a:pt x="2518" y="3749"/>
                </a:lnTo>
                <a:lnTo>
                  <a:pt x="2513" y="3744"/>
                </a:lnTo>
                <a:lnTo>
                  <a:pt x="2508" y="3736"/>
                </a:lnTo>
                <a:lnTo>
                  <a:pt x="2503" y="3730"/>
                </a:lnTo>
                <a:lnTo>
                  <a:pt x="2499" y="3723"/>
                </a:lnTo>
                <a:lnTo>
                  <a:pt x="2493" y="3715"/>
                </a:lnTo>
                <a:lnTo>
                  <a:pt x="2485" y="3710"/>
                </a:lnTo>
                <a:lnTo>
                  <a:pt x="2476" y="3703"/>
                </a:lnTo>
                <a:lnTo>
                  <a:pt x="2467" y="3695"/>
                </a:lnTo>
                <a:lnTo>
                  <a:pt x="2460" y="3688"/>
                </a:lnTo>
                <a:lnTo>
                  <a:pt x="2453" y="3680"/>
                </a:lnTo>
                <a:lnTo>
                  <a:pt x="2446" y="3672"/>
                </a:lnTo>
                <a:lnTo>
                  <a:pt x="2439" y="3664"/>
                </a:lnTo>
                <a:lnTo>
                  <a:pt x="2431" y="3656"/>
                </a:lnTo>
                <a:lnTo>
                  <a:pt x="2421" y="3649"/>
                </a:lnTo>
                <a:lnTo>
                  <a:pt x="2406" y="3666"/>
                </a:lnTo>
                <a:lnTo>
                  <a:pt x="2394" y="3681"/>
                </a:lnTo>
                <a:lnTo>
                  <a:pt x="2383" y="3697"/>
                </a:lnTo>
                <a:lnTo>
                  <a:pt x="2370" y="3716"/>
                </a:lnTo>
                <a:lnTo>
                  <a:pt x="2364" y="3725"/>
                </a:lnTo>
                <a:lnTo>
                  <a:pt x="2357" y="3732"/>
                </a:lnTo>
                <a:lnTo>
                  <a:pt x="2354" y="3736"/>
                </a:lnTo>
                <a:lnTo>
                  <a:pt x="2352" y="3741"/>
                </a:lnTo>
                <a:lnTo>
                  <a:pt x="2350" y="3745"/>
                </a:lnTo>
                <a:lnTo>
                  <a:pt x="2350" y="3750"/>
                </a:lnTo>
                <a:lnTo>
                  <a:pt x="2350" y="3757"/>
                </a:lnTo>
                <a:lnTo>
                  <a:pt x="2351" y="3765"/>
                </a:lnTo>
                <a:lnTo>
                  <a:pt x="2353" y="3771"/>
                </a:lnTo>
                <a:lnTo>
                  <a:pt x="2357" y="3776"/>
                </a:lnTo>
                <a:lnTo>
                  <a:pt x="2363" y="3787"/>
                </a:lnTo>
                <a:lnTo>
                  <a:pt x="2372" y="3796"/>
                </a:lnTo>
                <a:lnTo>
                  <a:pt x="2394" y="3814"/>
                </a:lnTo>
                <a:lnTo>
                  <a:pt x="2415" y="3836"/>
                </a:lnTo>
                <a:lnTo>
                  <a:pt x="2432" y="3855"/>
                </a:lnTo>
                <a:lnTo>
                  <a:pt x="2448" y="3871"/>
                </a:lnTo>
                <a:lnTo>
                  <a:pt x="2464" y="3886"/>
                </a:lnTo>
                <a:lnTo>
                  <a:pt x="2480" y="3901"/>
                </a:lnTo>
                <a:lnTo>
                  <a:pt x="2496" y="3914"/>
                </a:lnTo>
                <a:lnTo>
                  <a:pt x="2514" y="3927"/>
                </a:lnTo>
                <a:lnTo>
                  <a:pt x="2533" y="3940"/>
                </a:lnTo>
                <a:lnTo>
                  <a:pt x="2554" y="3954"/>
                </a:lnTo>
                <a:lnTo>
                  <a:pt x="2563" y="3958"/>
                </a:lnTo>
                <a:lnTo>
                  <a:pt x="2571" y="3960"/>
                </a:lnTo>
                <a:lnTo>
                  <a:pt x="2580" y="3961"/>
                </a:lnTo>
                <a:lnTo>
                  <a:pt x="2589" y="3961"/>
                </a:lnTo>
                <a:lnTo>
                  <a:pt x="2597" y="3962"/>
                </a:lnTo>
                <a:lnTo>
                  <a:pt x="2605" y="3964"/>
                </a:lnTo>
                <a:lnTo>
                  <a:pt x="2609" y="3965"/>
                </a:lnTo>
                <a:lnTo>
                  <a:pt x="2612" y="3969"/>
                </a:lnTo>
                <a:lnTo>
                  <a:pt x="2615" y="3971"/>
                </a:lnTo>
                <a:lnTo>
                  <a:pt x="2618" y="3975"/>
                </a:lnTo>
                <a:lnTo>
                  <a:pt x="2642" y="4003"/>
                </a:lnTo>
                <a:lnTo>
                  <a:pt x="2664" y="4030"/>
                </a:lnTo>
                <a:lnTo>
                  <a:pt x="2674" y="4043"/>
                </a:lnTo>
                <a:lnTo>
                  <a:pt x="2684" y="4056"/>
                </a:lnTo>
                <a:lnTo>
                  <a:pt x="2692" y="4072"/>
                </a:lnTo>
                <a:lnTo>
                  <a:pt x="2700" y="4090"/>
                </a:lnTo>
                <a:lnTo>
                  <a:pt x="2704" y="4104"/>
                </a:lnTo>
                <a:lnTo>
                  <a:pt x="2706" y="4116"/>
                </a:lnTo>
                <a:lnTo>
                  <a:pt x="2707" y="4128"/>
                </a:lnTo>
                <a:lnTo>
                  <a:pt x="2708" y="4141"/>
                </a:lnTo>
                <a:lnTo>
                  <a:pt x="2709" y="4152"/>
                </a:lnTo>
                <a:lnTo>
                  <a:pt x="2711" y="4164"/>
                </a:lnTo>
                <a:lnTo>
                  <a:pt x="2715" y="4176"/>
                </a:lnTo>
                <a:lnTo>
                  <a:pt x="2720" y="4188"/>
                </a:lnTo>
                <a:lnTo>
                  <a:pt x="2726" y="4197"/>
                </a:lnTo>
                <a:lnTo>
                  <a:pt x="2733" y="4203"/>
                </a:lnTo>
                <a:lnTo>
                  <a:pt x="2739" y="4209"/>
                </a:lnTo>
                <a:lnTo>
                  <a:pt x="2746" y="4214"/>
                </a:lnTo>
                <a:lnTo>
                  <a:pt x="2763" y="4221"/>
                </a:lnTo>
                <a:lnTo>
                  <a:pt x="2781" y="4229"/>
                </a:lnTo>
                <a:lnTo>
                  <a:pt x="2785" y="4208"/>
                </a:lnTo>
                <a:lnTo>
                  <a:pt x="2791" y="4190"/>
                </a:lnTo>
                <a:lnTo>
                  <a:pt x="2796" y="4172"/>
                </a:lnTo>
                <a:lnTo>
                  <a:pt x="2802" y="4157"/>
                </a:lnTo>
                <a:lnTo>
                  <a:pt x="2808" y="4140"/>
                </a:lnTo>
                <a:lnTo>
                  <a:pt x="2812" y="4123"/>
                </a:lnTo>
                <a:lnTo>
                  <a:pt x="2814" y="4104"/>
                </a:lnTo>
                <a:lnTo>
                  <a:pt x="2815" y="4084"/>
                </a:lnTo>
                <a:lnTo>
                  <a:pt x="2825" y="4087"/>
                </a:lnTo>
                <a:lnTo>
                  <a:pt x="2835" y="4090"/>
                </a:lnTo>
                <a:lnTo>
                  <a:pt x="2844" y="4095"/>
                </a:lnTo>
                <a:lnTo>
                  <a:pt x="2853" y="4100"/>
                </a:lnTo>
                <a:lnTo>
                  <a:pt x="2861" y="4104"/>
                </a:lnTo>
                <a:lnTo>
                  <a:pt x="2870" y="4107"/>
                </a:lnTo>
                <a:lnTo>
                  <a:pt x="2879" y="4109"/>
                </a:lnTo>
                <a:lnTo>
                  <a:pt x="2890" y="4110"/>
                </a:lnTo>
                <a:lnTo>
                  <a:pt x="2895" y="4110"/>
                </a:lnTo>
                <a:lnTo>
                  <a:pt x="2900" y="4109"/>
                </a:lnTo>
                <a:lnTo>
                  <a:pt x="2905" y="4108"/>
                </a:lnTo>
                <a:lnTo>
                  <a:pt x="2909" y="4106"/>
                </a:lnTo>
                <a:lnTo>
                  <a:pt x="2916" y="4101"/>
                </a:lnTo>
                <a:lnTo>
                  <a:pt x="2923" y="4094"/>
                </a:lnTo>
                <a:lnTo>
                  <a:pt x="2934" y="4077"/>
                </a:lnTo>
                <a:lnTo>
                  <a:pt x="2945" y="4059"/>
                </a:lnTo>
                <a:lnTo>
                  <a:pt x="2959" y="4040"/>
                </a:lnTo>
                <a:lnTo>
                  <a:pt x="2971" y="4024"/>
                </a:lnTo>
                <a:lnTo>
                  <a:pt x="2976" y="4015"/>
                </a:lnTo>
                <a:lnTo>
                  <a:pt x="2982" y="4007"/>
                </a:lnTo>
                <a:lnTo>
                  <a:pt x="2984" y="3996"/>
                </a:lnTo>
                <a:lnTo>
                  <a:pt x="2985" y="3984"/>
                </a:lnTo>
                <a:lnTo>
                  <a:pt x="2985" y="3977"/>
                </a:lnTo>
                <a:lnTo>
                  <a:pt x="2983" y="3971"/>
                </a:lnTo>
                <a:lnTo>
                  <a:pt x="2981" y="3964"/>
                </a:lnTo>
                <a:lnTo>
                  <a:pt x="2978" y="3959"/>
                </a:lnTo>
                <a:lnTo>
                  <a:pt x="2970" y="3949"/>
                </a:lnTo>
                <a:lnTo>
                  <a:pt x="2962" y="3939"/>
                </a:lnTo>
                <a:lnTo>
                  <a:pt x="2953" y="3930"/>
                </a:lnTo>
                <a:lnTo>
                  <a:pt x="2945" y="3919"/>
                </a:lnTo>
                <a:lnTo>
                  <a:pt x="2942" y="3913"/>
                </a:lnTo>
                <a:lnTo>
                  <a:pt x="2940" y="3906"/>
                </a:lnTo>
                <a:lnTo>
                  <a:pt x="2938" y="3900"/>
                </a:lnTo>
                <a:lnTo>
                  <a:pt x="2937" y="3893"/>
                </a:lnTo>
                <a:lnTo>
                  <a:pt x="2938" y="3881"/>
                </a:lnTo>
                <a:lnTo>
                  <a:pt x="2942" y="3869"/>
                </a:lnTo>
                <a:lnTo>
                  <a:pt x="2946" y="3859"/>
                </a:lnTo>
                <a:lnTo>
                  <a:pt x="2951" y="3849"/>
                </a:lnTo>
                <a:lnTo>
                  <a:pt x="2956" y="3839"/>
                </a:lnTo>
                <a:lnTo>
                  <a:pt x="2961" y="3828"/>
                </a:lnTo>
                <a:lnTo>
                  <a:pt x="2964" y="3818"/>
                </a:lnTo>
                <a:lnTo>
                  <a:pt x="2965" y="3805"/>
                </a:lnTo>
                <a:lnTo>
                  <a:pt x="2965" y="3794"/>
                </a:lnTo>
                <a:lnTo>
                  <a:pt x="2964" y="3785"/>
                </a:lnTo>
                <a:lnTo>
                  <a:pt x="2963" y="3775"/>
                </a:lnTo>
                <a:lnTo>
                  <a:pt x="2960" y="3766"/>
                </a:lnTo>
                <a:lnTo>
                  <a:pt x="2956" y="3757"/>
                </a:lnTo>
                <a:lnTo>
                  <a:pt x="2952" y="3749"/>
                </a:lnTo>
                <a:lnTo>
                  <a:pt x="2948" y="3742"/>
                </a:lnTo>
                <a:lnTo>
                  <a:pt x="2942" y="3733"/>
                </a:lnTo>
                <a:lnTo>
                  <a:pt x="2933" y="3742"/>
                </a:lnTo>
                <a:lnTo>
                  <a:pt x="2928" y="3749"/>
                </a:lnTo>
                <a:lnTo>
                  <a:pt x="2923" y="3757"/>
                </a:lnTo>
                <a:lnTo>
                  <a:pt x="2917" y="3767"/>
                </a:lnTo>
                <a:lnTo>
                  <a:pt x="2897" y="3767"/>
                </a:lnTo>
                <a:lnTo>
                  <a:pt x="2896" y="3750"/>
                </a:lnTo>
                <a:lnTo>
                  <a:pt x="2894" y="3733"/>
                </a:lnTo>
                <a:lnTo>
                  <a:pt x="2891" y="3718"/>
                </a:lnTo>
                <a:lnTo>
                  <a:pt x="2888" y="3704"/>
                </a:lnTo>
                <a:lnTo>
                  <a:pt x="2877" y="3674"/>
                </a:lnTo>
                <a:lnTo>
                  <a:pt x="2867" y="3641"/>
                </a:lnTo>
                <a:lnTo>
                  <a:pt x="2873" y="3638"/>
                </a:lnTo>
                <a:lnTo>
                  <a:pt x="2880" y="3635"/>
                </a:lnTo>
                <a:lnTo>
                  <a:pt x="2886" y="3636"/>
                </a:lnTo>
                <a:lnTo>
                  <a:pt x="2891" y="3638"/>
                </a:lnTo>
                <a:lnTo>
                  <a:pt x="2896" y="3641"/>
                </a:lnTo>
                <a:lnTo>
                  <a:pt x="2900" y="3645"/>
                </a:lnTo>
                <a:lnTo>
                  <a:pt x="2905" y="3649"/>
                </a:lnTo>
                <a:lnTo>
                  <a:pt x="2909" y="3652"/>
                </a:lnTo>
                <a:lnTo>
                  <a:pt x="2914" y="3654"/>
                </a:lnTo>
                <a:lnTo>
                  <a:pt x="2921" y="3655"/>
                </a:lnTo>
                <a:lnTo>
                  <a:pt x="2926" y="3655"/>
                </a:lnTo>
                <a:lnTo>
                  <a:pt x="2930" y="3652"/>
                </a:lnTo>
                <a:lnTo>
                  <a:pt x="2933" y="3649"/>
                </a:lnTo>
                <a:lnTo>
                  <a:pt x="2936" y="3644"/>
                </a:lnTo>
                <a:lnTo>
                  <a:pt x="2938" y="3639"/>
                </a:lnTo>
                <a:lnTo>
                  <a:pt x="2940" y="3634"/>
                </a:lnTo>
                <a:lnTo>
                  <a:pt x="2941" y="3629"/>
                </a:lnTo>
                <a:lnTo>
                  <a:pt x="2942" y="3623"/>
                </a:lnTo>
                <a:lnTo>
                  <a:pt x="2942" y="3613"/>
                </a:lnTo>
                <a:lnTo>
                  <a:pt x="2943" y="3602"/>
                </a:lnTo>
                <a:lnTo>
                  <a:pt x="2942" y="3598"/>
                </a:lnTo>
                <a:lnTo>
                  <a:pt x="2941" y="3594"/>
                </a:lnTo>
                <a:lnTo>
                  <a:pt x="2938" y="3591"/>
                </a:lnTo>
                <a:lnTo>
                  <a:pt x="2934" y="3587"/>
                </a:lnTo>
                <a:lnTo>
                  <a:pt x="2927" y="3584"/>
                </a:lnTo>
                <a:lnTo>
                  <a:pt x="2919" y="3582"/>
                </a:lnTo>
                <a:lnTo>
                  <a:pt x="2911" y="3580"/>
                </a:lnTo>
                <a:lnTo>
                  <a:pt x="2904" y="3579"/>
                </a:lnTo>
                <a:lnTo>
                  <a:pt x="2897" y="3577"/>
                </a:lnTo>
                <a:lnTo>
                  <a:pt x="2890" y="3574"/>
                </a:lnTo>
                <a:lnTo>
                  <a:pt x="2885" y="3569"/>
                </a:lnTo>
                <a:lnTo>
                  <a:pt x="2880" y="3563"/>
                </a:lnTo>
                <a:lnTo>
                  <a:pt x="2876" y="3556"/>
                </a:lnTo>
                <a:lnTo>
                  <a:pt x="2875" y="3548"/>
                </a:lnTo>
                <a:lnTo>
                  <a:pt x="2874" y="3541"/>
                </a:lnTo>
                <a:lnTo>
                  <a:pt x="2875" y="3532"/>
                </a:lnTo>
                <a:lnTo>
                  <a:pt x="2876" y="3525"/>
                </a:lnTo>
                <a:lnTo>
                  <a:pt x="2877" y="3517"/>
                </a:lnTo>
                <a:lnTo>
                  <a:pt x="2877" y="3508"/>
                </a:lnTo>
                <a:lnTo>
                  <a:pt x="2876" y="3499"/>
                </a:lnTo>
                <a:lnTo>
                  <a:pt x="2836" y="3499"/>
                </a:lnTo>
                <a:lnTo>
                  <a:pt x="2833" y="3488"/>
                </a:lnTo>
                <a:lnTo>
                  <a:pt x="2829" y="3479"/>
                </a:lnTo>
                <a:lnTo>
                  <a:pt x="2835" y="3475"/>
                </a:lnTo>
                <a:lnTo>
                  <a:pt x="2841" y="3471"/>
                </a:lnTo>
                <a:lnTo>
                  <a:pt x="2846" y="3467"/>
                </a:lnTo>
                <a:lnTo>
                  <a:pt x="2851" y="3463"/>
                </a:lnTo>
                <a:lnTo>
                  <a:pt x="2855" y="3458"/>
                </a:lnTo>
                <a:lnTo>
                  <a:pt x="2858" y="3452"/>
                </a:lnTo>
                <a:lnTo>
                  <a:pt x="2861" y="3447"/>
                </a:lnTo>
                <a:lnTo>
                  <a:pt x="2865" y="3441"/>
                </a:lnTo>
                <a:lnTo>
                  <a:pt x="2869" y="3429"/>
                </a:lnTo>
                <a:lnTo>
                  <a:pt x="2871" y="3415"/>
                </a:lnTo>
                <a:lnTo>
                  <a:pt x="2873" y="3402"/>
                </a:lnTo>
                <a:lnTo>
                  <a:pt x="2873" y="3387"/>
                </a:lnTo>
                <a:lnTo>
                  <a:pt x="2873" y="3383"/>
                </a:lnTo>
                <a:lnTo>
                  <a:pt x="2872" y="3378"/>
                </a:lnTo>
                <a:lnTo>
                  <a:pt x="2870" y="3375"/>
                </a:lnTo>
                <a:lnTo>
                  <a:pt x="2868" y="3372"/>
                </a:lnTo>
                <a:lnTo>
                  <a:pt x="2861" y="3367"/>
                </a:lnTo>
                <a:lnTo>
                  <a:pt x="2854" y="3361"/>
                </a:lnTo>
                <a:lnTo>
                  <a:pt x="2837" y="3353"/>
                </a:lnTo>
                <a:lnTo>
                  <a:pt x="2822" y="3342"/>
                </a:lnTo>
                <a:close/>
                <a:moveTo>
                  <a:pt x="2663" y="3336"/>
                </a:moveTo>
                <a:lnTo>
                  <a:pt x="2672" y="3346"/>
                </a:lnTo>
                <a:lnTo>
                  <a:pt x="2681" y="3355"/>
                </a:lnTo>
                <a:lnTo>
                  <a:pt x="2686" y="3358"/>
                </a:lnTo>
                <a:lnTo>
                  <a:pt x="2691" y="3360"/>
                </a:lnTo>
                <a:lnTo>
                  <a:pt x="2697" y="3362"/>
                </a:lnTo>
                <a:lnTo>
                  <a:pt x="2703" y="3364"/>
                </a:lnTo>
                <a:lnTo>
                  <a:pt x="2714" y="3362"/>
                </a:lnTo>
                <a:lnTo>
                  <a:pt x="2723" y="3361"/>
                </a:lnTo>
                <a:lnTo>
                  <a:pt x="2733" y="3359"/>
                </a:lnTo>
                <a:lnTo>
                  <a:pt x="2741" y="3356"/>
                </a:lnTo>
                <a:lnTo>
                  <a:pt x="2748" y="3352"/>
                </a:lnTo>
                <a:lnTo>
                  <a:pt x="2756" y="3348"/>
                </a:lnTo>
                <a:lnTo>
                  <a:pt x="2763" y="3342"/>
                </a:lnTo>
                <a:lnTo>
                  <a:pt x="2770" y="3337"/>
                </a:lnTo>
                <a:lnTo>
                  <a:pt x="2782" y="3324"/>
                </a:lnTo>
                <a:lnTo>
                  <a:pt x="2794" y="3309"/>
                </a:lnTo>
                <a:lnTo>
                  <a:pt x="2804" y="3293"/>
                </a:lnTo>
                <a:lnTo>
                  <a:pt x="2815" y="3275"/>
                </a:lnTo>
                <a:lnTo>
                  <a:pt x="2804" y="3271"/>
                </a:lnTo>
                <a:lnTo>
                  <a:pt x="2794" y="3267"/>
                </a:lnTo>
                <a:lnTo>
                  <a:pt x="2783" y="3265"/>
                </a:lnTo>
                <a:lnTo>
                  <a:pt x="2773" y="3265"/>
                </a:lnTo>
                <a:lnTo>
                  <a:pt x="2762" y="3266"/>
                </a:lnTo>
                <a:lnTo>
                  <a:pt x="2752" y="3267"/>
                </a:lnTo>
                <a:lnTo>
                  <a:pt x="2741" y="3271"/>
                </a:lnTo>
                <a:lnTo>
                  <a:pt x="2730" y="3275"/>
                </a:lnTo>
                <a:lnTo>
                  <a:pt x="2721" y="3280"/>
                </a:lnTo>
                <a:lnTo>
                  <a:pt x="2711" y="3286"/>
                </a:lnTo>
                <a:lnTo>
                  <a:pt x="2702" y="3293"/>
                </a:lnTo>
                <a:lnTo>
                  <a:pt x="2693" y="3300"/>
                </a:lnTo>
                <a:lnTo>
                  <a:pt x="2685" y="3309"/>
                </a:lnTo>
                <a:lnTo>
                  <a:pt x="2677" y="3317"/>
                </a:lnTo>
                <a:lnTo>
                  <a:pt x="2669" y="3327"/>
                </a:lnTo>
                <a:lnTo>
                  <a:pt x="2663" y="3336"/>
                </a:lnTo>
                <a:close/>
                <a:moveTo>
                  <a:pt x="2856" y="2742"/>
                </a:moveTo>
                <a:lnTo>
                  <a:pt x="2850" y="2755"/>
                </a:lnTo>
                <a:lnTo>
                  <a:pt x="2850" y="2795"/>
                </a:lnTo>
                <a:lnTo>
                  <a:pt x="2863" y="2806"/>
                </a:lnTo>
                <a:lnTo>
                  <a:pt x="2868" y="2800"/>
                </a:lnTo>
                <a:lnTo>
                  <a:pt x="2873" y="2794"/>
                </a:lnTo>
                <a:lnTo>
                  <a:pt x="2879" y="2789"/>
                </a:lnTo>
                <a:lnTo>
                  <a:pt x="2886" y="2785"/>
                </a:lnTo>
                <a:lnTo>
                  <a:pt x="2898" y="2776"/>
                </a:lnTo>
                <a:lnTo>
                  <a:pt x="2911" y="2768"/>
                </a:lnTo>
                <a:lnTo>
                  <a:pt x="2917" y="2765"/>
                </a:lnTo>
                <a:lnTo>
                  <a:pt x="2923" y="2761"/>
                </a:lnTo>
                <a:lnTo>
                  <a:pt x="2928" y="2755"/>
                </a:lnTo>
                <a:lnTo>
                  <a:pt x="2932" y="2751"/>
                </a:lnTo>
                <a:lnTo>
                  <a:pt x="2936" y="2745"/>
                </a:lnTo>
                <a:lnTo>
                  <a:pt x="2938" y="2739"/>
                </a:lnTo>
                <a:lnTo>
                  <a:pt x="2941" y="2732"/>
                </a:lnTo>
                <a:lnTo>
                  <a:pt x="2942" y="2725"/>
                </a:lnTo>
                <a:lnTo>
                  <a:pt x="2941" y="2722"/>
                </a:lnTo>
                <a:lnTo>
                  <a:pt x="2940" y="2719"/>
                </a:lnTo>
                <a:lnTo>
                  <a:pt x="2938" y="2717"/>
                </a:lnTo>
                <a:lnTo>
                  <a:pt x="2936" y="2715"/>
                </a:lnTo>
                <a:lnTo>
                  <a:pt x="2932" y="2713"/>
                </a:lnTo>
                <a:lnTo>
                  <a:pt x="2926" y="2712"/>
                </a:lnTo>
                <a:lnTo>
                  <a:pt x="2919" y="2712"/>
                </a:lnTo>
                <a:lnTo>
                  <a:pt x="2912" y="2713"/>
                </a:lnTo>
                <a:lnTo>
                  <a:pt x="2906" y="2715"/>
                </a:lnTo>
                <a:lnTo>
                  <a:pt x="2900" y="2717"/>
                </a:lnTo>
                <a:lnTo>
                  <a:pt x="2890" y="2726"/>
                </a:lnTo>
                <a:lnTo>
                  <a:pt x="2879" y="2733"/>
                </a:lnTo>
                <a:lnTo>
                  <a:pt x="2874" y="2737"/>
                </a:lnTo>
                <a:lnTo>
                  <a:pt x="2869" y="2739"/>
                </a:lnTo>
                <a:lnTo>
                  <a:pt x="2863" y="2742"/>
                </a:lnTo>
                <a:lnTo>
                  <a:pt x="2856" y="2742"/>
                </a:lnTo>
                <a:close/>
                <a:moveTo>
                  <a:pt x="6331" y="9878"/>
                </a:moveTo>
                <a:lnTo>
                  <a:pt x="6321" y="9873"/>
                </a:lnTo>
                <a:lnTo>
                  <a:pt x="6310" y="9871"/>
                </a:lnTo>
                <a:lnTo>
                  <a:pt x="6303" y="9872"/>
                </a:lnTo>
                <a:lnTo>
                  <a:pt x="6297" y="9874"/>
                </a:lnTo>
                <a:lnTo>
                  <a:pt x="6290" y="9878"/>
                </a:lnTo>
                <a:lnTo>
                  <a:pt x="6285" y="9882"/>
                </a:lnTo>
                <a:lnTo>
                  <a:pt x="6275" y="9892"/>
                </a:lnTo>
                <a:lnTo>
                  <a:pt x="6263" y="9902"/>
                </a:lnTo>
                <a:lnTo>
                  <a:pt x="6249" y="9911"/>
                </a:lnTo>
                <a:lnTo>
                  <a:pt x="6236" y="9923"/>
                </a:lnTo>
                <a:lnTo>
                  <a:pt x="6226" y="9934"/>
                </a:lnTo>
                <a:lnTo>
                  <a:pt x="6216" y="9946"/>
                </a:lnTo>
                <a:lnTo>
                  <a:pt x="6209" y="9960"/>
                </a:lnTo>
                <a:lnTo>
                  <a:pt x="6203" y="9974"/>
                </a:lnTo>
                <a:lnTo>
                  <a:pt x="6198" y="9990"/>
                </a:lnTo>
                <a:lnTo>
                  <a:pt x="6195" y="10008"/>
                </a:lnTo>
                <a:lnTo>
                  <a:pt x="6208" y="10010"/>
                </a:lnTo>
                <a:lnTo>
                  <a:pt x="6219" y="10011"/>
                </a:lnTo>
                <a:lnTo>
                  <a:pt x="6230" y="10010"/>
                </a:lnTo>
                <a:lnTo>
                  <a:pt x="6240" y="10009"/>
                </a:lnTo>
                <a:lnTo>
                  <a:pt x="6261" y="10004"/>
                </a:lnTo>
                <a:lnTo>
                  <a:pt x="6284" y="10000"/>
                </a:lnTo>
                <a:lnTo>
                  <a:pt x="6307" y="9997"/>
                </a:lnTo>
                <a:lnTo>
                  <a:pt x="6329" y="9997"/>
                </a:lnTo>
                <a:lnTo>
                  <a:pt x="6350" y="9997"/>
                </a:lnTo>
                <a:lnTo>
                  <a:pt x="6369" y="9999"/>
                </a:lnTo>
                <a:lnTo>
                  <a:pt x="6389" y="10001"/>
                </a:lnTo>
                <a:lnTo>
                  <a:pt x="6411" y="10004"/>
                </a:lnTo>
                <a:lnTo>
                  <a:pt x="6433" y="10005"/>
                </a:lnTo>
                <a:lnTo>
                  <a:pt x="6457" y="10008"/>
                </a:lnTo>
                <a:lnTo>
                  <a:pt x="6457" y="9960"/>
                </a:lnTo>
                <a:lnTo>
                  <a:pt x="6456" y="9950"/>
                </a:lnTo>
                <a:lnTo>
                  <a:pt x="6453" y="9943"/>
                </a:lnTo>
                <a:lnTo>
                  <a:pt x="6449" y="9936"/>
                </a:lnTo>
                <a:lnTo>
                  <a:pt x="6443" y="9929"/>
                </a:lnTo>
                <a:lnTo>
                  <a:pt x="6436" y="9924"/>
                </a:lnTo>
                <a:lnTo>
                  <a:pt x="6429" y="9919"/>
                </a:lnTo>
                <a:lnTo>
                  <a:pt x="6420" y="9915"/>
                </a:lnTo>
                <a:lnTo>
                  <a:pt x="6411" y="9911"/>
                </a:lnTo>
                <a:lnTo>
                  <a:pt x="6389" y="9904"/>
                </a:lnTo>
                <a:lnTo>
                  <a:pt x="6369" y="9897"/>
                </a:lnTo>
                <a:lnTo>
                  <a:pt x="6359" y="9893"/>
                </a:lnTo>
                <a:lnTo>
                  <a:pt x="6349" y="9888"/>
                </a:lnTo>
                <a:lnTo>
                  <a:pt x="6340" y="9884"/>
                </a:lnTo>
                <a:lnTo>
                  <a:pt x="6331" y="9878"/>
                </a:lnTo>
                <a:close/>
                <a:moveTo>
                  <a:pt x="6423" y="8699"/>
                </a:moveTo>
                <a:lnTo>
                  <a:pt x="6416" y="8696"/>
                </a:lnTo>
                <a:lnTo>
                  <a:pt x="6410" y="8693"/>
                </a:lnTo>
                <a:lnTo>
                  <a:pt x="6402" y="8690"/>
                </a:lnTo>
                <a:lnTo>
                  <a:pt x="6395" y="8690"/>
                </a:lnTo>
                <a:lnTo>
                  <a:pt x="6368" y="8690"/>
                </a:lnTo>
                <a:lnTo>
                  <a:pt x="6367" y="8712"/>
                </a:lnTo>
                <a:lnTo>
                  <a:pt x="6365" y="8732"/>
                </a:lnTo>
                <a:lnTo>
                  <a:pt x="6361" y="8751"/>
                </a:lnTo>
                <a:lnTo>
                  <a:pt x="6356" y="8769"/>
                </a:lnTo>
                <a:lnTo>
                  <a:pt x="6342" y="8805"/>
                </a:lnTo>
                <a:lnTo>
                  <a:pt x="6328" y="8846"/>
                </a:lnTo>
                <a:lnTo>
                  <a:pt x="6323" y="8857"/>
                </a:lnTo>
                <a:lnTo>
                  <a:pt x="6318" y="8865"/>
                </a:lnTo>
                <a:lnTo>
                  <a:pt x="6314" y="8869"/>
                </a:lnTo>
                <a:lnTo>
                  <a:pt x="6312" y="8874"/>
                </a:lnTo>
                <a:lnTo>
                  <a:pt x="6311" y="8880"/>
                </a:lnTo>
                <a:lnTo>
                  <a:pt x="6310" y="8885"/>
                </a:lnTo>
                <a:lnTo>
                  <a:pt x="6310" y="8914"/>
                </a:lnTo>
                <a:lnTo>
                  <a:pt x="6321" y="8916"/>
                </a:lnTo>
                <a:lnTo>
                  <a:pt x="6329" y="8919"/>
                </a:lnTo>
                <a:lnTo>
                  <a:pt x="6337" y="8923"/>
                </a:lnTo>
                <a:lnTo>
                  <a:pt x="6345" y="8927"/>
                </a:lnTo>
                <a:lnTo>
                  <a:pt x="6353" y="8930"/>
                </a:lnTo>
                <a:lnTo>
                  <a:pt x="6360" y="8934"/>
                </a:lnTo>
                <a:lnTo>
                  <a:pt x="6368" y="8937"/>
                </a:lnTo>
                <a:lnTo>
                  <a:pt x="6379" y="8937"/>
                </a:lnTo>
                <a:lnTo>
                  <a:pt x="6384" y="8937"/>
                </a:lnTo>
                <a:lnTo>
                  <a:pt x="6388" y="8936"/>
                </a:lnTo>
                <a:lnTo>
                  <a:pt x="6393" y="8934"/>
                </a:lnTo>
                <a:lnTo>
                  <a:pt x="6396" y="8930"/>
                </a:lnTo>
                <a:lnTo>
                  <a:pt x="6399" y="8926"/>
                </a:lnTo>
                <a:lnTo>
                  <a:pt x="6401" y="8922"/>
                </a:lnTo>
                <a:lnTo>
                  <a:pt x="6403" y="8918"/>
                </a:lnTo>
                <a:lnTo>
                  <a:pt x="6405" y="8913"/>
                </a:lnTo>
                <a:lnTo>
                  <a:pt x="6410" y="8889"/>
                </a:lnTo>
                <a:lnTo>
                  <a:pt x="6413" y="8866"/>
                </a:lnTo>
                <a:lnTo>
                  <a:pt x="6417" y="8850"/>
                </a:lnTo>
                <a:lnTo>
                  <a:pt x="6421" y="8836"/>
                </a:lnTo>
                <a:lnTo>
                  <a:pt x="6426" y="8823"/>
                </a:lnTo>
                <a:lnTo>
                  <a:pt x="6431" y="8810"/>
                </a:lnTo>
                <a:lnTo>
                  <a:pt x="6436" y="8797"/>
                </a:lnTo>
                <a:lnTo>
                  <a:pt x="6440" y="8784"/>
                </a:lnTo>
                <a:lnTo>
                  <a:pt x="6442" y="8770"/>
                </a:lnTo>
                <a:lnTo>
                  <a:pt x="6443" y="8754"/>
                </a:lnTo>
                <a:lnTo>
                  <a:pt x="6442" y="8746"/>
                </a:lnTo>
                <a:lnTo>
                  <a:pt x="6441" y="8739"/>
                </a:lnTo>
                <a:lnTo>
                  <a:pt x="6438" y="8733"/>
                </a:lnTo>
                <a:lnTo>
                  <a:pt x="6435" y="8727"/>
                </a:lnTo>
                <a:lnTo>
                  <a:pt x="6429" y="8714"/>
                </a:lnTo>
                <a:lnTo>
                  <a:pt x="6423" y="8699"/>
                </a:lnTo>
                <a:close/>
                <a:moveTo>
                  <a:pt x="5326" y="6706"/>
                </a:moveTo>
                <a:lnTo>
                  <a:pt x="5319" y="6707"/>
                </a:lnTo>
                <a:lnTo>
                  <a:pt x="5313" y="6709"/>
                </a:lnTo>
                <a:lnTo>
                  <a:pt x="5307" y="6711"/>
                </a:lnTo>
                <a:lnTo>
                  <a:pt x="5302" y="6714"/>
                </a:lnTo>
                <a:lnTo>
                  <a:pt x="5292" y="6720"/>
                </a:lnTo>
                <a:lnTo>
                  <a:pt x="5283" y="6727"/>
                </a:lnTo>
                <a:lnTo>
                  <a:pt x="5274" y="6733"/>
                </a:lnTo>
                <a:lnTo>
                  <a:pt x="5264" y="6738"/>
                </a:lnTo>
                <a:lnTo>
                  <a:pt x="5258" y="6740"/>
                </a:lnTo>
                <a:lnTo>
                  <a:pt x="5253" y="6741"/>
                </a:lnTo>
                <a:lnTo>
                  <a:pt x="5247" y="6743"/>
                </a:lnTo>
                <a:lnTo>
                  <a:pt x="5241" y="6743"/>
                </a:lnTo>
                <a:lnTo>
                  <a:pt x="5231" y="6739"/>
                </a:lnTo>
                <a:lnTo>
                  <a:pt x="5220" y="6736"/>
                </a:lnTo>
                <a:lnTo>
                  <a:pt x="5215" y="6736"/>
                </a:lnTo>
                <a:lnTo>
                  <a:pt x="5211" y="6738"/>
                </a:lnTo>
                <a:lnTo>
                  <a:pt x="5207" y="6740"/>
                </a:lnTo>
                <a:lnTo>
                  <a:pt x="5203" y="6743"/>
                </a:lnTo>
                <a:lnTo>
                  <a:pt x="5197" y="6750"/>
                </a:lnTo>
                <a:lnTo>
                  <a:pt x="5192" y="6758"/>
                </a:lnTo>
                <a:lnTo>
                  <a:pt x="5187" y="6767"/>
                </a:lnTo>
                <a:lnTo>
                  <a:pt x="5181" y="6776"/>
                </a:lnTo>
                <a:lnTo>
                  <a:pt x="5178" y="6781"/>
                </a:lnTo>
                <a:lnTo>
                  <a:pt x="5174" y="6784"/>
                </a:lnTo>
                <a:lnTo>
                  <a:pt x="5171" y="6788"/>
                </a:lnTo>
                <a:lnTo>
                  <a:pt x="5166" y="6790"/>
                </a:lnTo>
                <a:lnTo>
                  <a:pt x="5139" y="6784"/>
                </a:lnTo>
                <a:lnTo>
                  <a:pt x="5131" y="6788"/>
                </a:lnTo>
                <a:lnTo>
                  <a:pt x="5123" y="6793"/>
                </a:lnTo>
                <a:lnTo>
                  <a:pt x="5118" y="6801"/>
                </a:lnTo>
                <a:lnTo>
                  <a:pt x="5114" y="6808"/>
                </a:lnTo>
                <a:lnTo>
                  <a:pt x="5111" y="6816"/>
                </a:lnTo>
                <a:lnTo>
                  <a:pt x="5107" y="6825"/>
                </a:lnTo>
                <a:lnTo>
                  <a:pt x="5106" y="6834"/>
                </a:lnTo>
                <a:lnTo>
                  <a:pt x="5105" y="6845"/>
                </a:lnTo>
                <a:lnTo>
                  <a:pt x="5103" y="6854"/>
                </a:lnTo>
                <a:lnTo>
                  <a:pt x="5101" y="6864"/>
                </a:lnTo>
                <a:lnTo>
                  <a:pt x="5097" y="6872"/>
                </a:lnTo>
                <a:lnTo>
                  <a:pt x="5094" y="6881"/>
                </a:lnTo>
                <a:lnTo>
                  <a:pt x="5091" y="6888"/>
                </a:lnTo>
                <a:lnTo>
                  <a:pt x="5087" y="6897"/>
                </a:lnTo>
                <a:lnTo>
                  <a:pt x="5085" y="6906"/>
                </a:lnTo>
                <a:lnTo>
                  <a:pt x="5084" y="6916"/>
                </a:lnTo>
                <a:lnTo>
                  <a:pt x="5085" y="6925"/>
                </a:lnTo>
                <a:lnTo>
                  <a:pt x="5087" y="6934"/>
                </a:lnTo>
                <a:lnTo>
                  <a:pt x="5092" y="6941"/>
                </a:lnTo>
                <a:lnTo>
                  <a:pt x="5097" y="6947"/>
                </a:lnTo>
                <a:lnTo>
                  <a:pt x="5109" y="6960"/>
                </a:lnTo>
                <a:lnTo>
                  <a:pt x="5122" y="6974"/>
                </a:lnTo>
                <a:lnTo>
                  <a:pt x="5132" y="6990"/>
                </a:lnTo>
                <a:lnTo>
                  <a:pt x="5140" y="7004"/>
                </a:lnTo>
                <a:lnTo>
                  <a:pt x="5146" y="7012"/>
                </a:lnTo>
                <a:lnTo>
                  <a:pt x="5151" y="7017"/>
                </a:lnTo>
                <a:lnTo>
                  <a:pt x="5154" y="7018"/>
                </a:lnTo>
                <a:lnTo>
                  <a:pt x="5157" y="7020"/>
                </a:lnTo>
                <a:lnTo>
                  <a:pt x="5161" y="7021"/>
                </a:lnTo>
                <a:lnTo>
                  <a:pt x="5166" y="7021"/>
                </a:lnTo>
                <a:lnTo>
                  <a:pt x="5172" y="7021"/>
                </a:lnTo>
                <a:lnTo>
                  <a:pt x="5178" y="7020"/>
                </a:lnTo>
                <a:lnTo>
                  <a:pt x="5184" y="7018"/>
                </a:lnTo>
                <a:lnTo>
                  <a:pt x="5189" y="7016"/>
                </a:lnTo>
                <a:lnTo>
                  <a:pt x="5198" y="7011"/>
                </a:lnTo>
                <a:lnTo>
                  <a:pt x="5207" y="7004"/>
                </a:lnTo>
                <a:lnTo>
                  <a:pt x="5215" y="6998"/>
                </a:lnTo>
                <a:lnTo>
                  <a:pt x="5225" y="6993"/>
                </a:lnTo>
                <a:lnTo>
                  <a:pt x="5230" y="6991"/>
                </a:lnTo>
                <a:lnTo>
                  <a:pt x="5235" y="6989"/>
                </a:lnTo>
                <a:lnTo>
                  <a:pt x="5242" y="6988"/>
                </a:lnTo>
                <a:lnTo>
                  <a:pt x="5248" y="6988"/>
                </a:lnTo>
                <a:lnTo>
                  <a:pt x="5251" y="6967"/>
                </a:lnTo>
                <a:lnTo>
                  <a:pt x="5255" y="6948"/>
                </a:lnTo>
                <a:lnTo>
                  <a:pt x="5261" y="6931"/>
                </a:lnTo>
                <a:lnTo>
                  <a:pt x="5266" y="6913"/>
                </a:lnTo>
                <a:lnTo>
                  <a:pt x="5279" y="6879"/>
                </a:lnTo>
                <a:lnTo>
                  <a:pt x="5292" y="6846"/>
                </a:lnTo>
                <a:lnTo>
                  <a:pt x="5299" y="6830"/>
                </a:lnTo>
                <a:lnTo>
                  <a:pt x="5305" y="6814"/>
                </a:lnTo>
                <a:lnTo>
                  <a:pt x="5310" y="6797"/>
                </a:lnTo>
                <a:lnTo>
                  <a:pt x="5316" y="6781"/>
                </a:lnTo>
                <a:lnTo>
                  <a:pt x="5320" y="6763"/>
                </a:lnTo>
                <a:lnTo>
                  <a:pt x="5323" y="6745"/>
                </a:lnTo>
                <a:lnTo>
                  <a:pt x="5325" y="6726"/>
                </a:lnTo>
                <a:lnTo>
                  <a:pt x="5326" y="6706"/>
                </a:lnTo>
                <a:close/>
                <a:moveTo>
                  <a:pt x="4624" y="5922"/>
                </a:moveTo>
                <a:lnTo>
                  <a:pt x="4608" y="5907"/>
                </a:lnTo>
                <a:lnTo>
                  <a:pt x="4593" y="5893"/>
                </a:lnTo>
                <a:lnTo>
                  <a:pt x="4586" y="5886"/>
                </a:lnTo>
                <a:lnTo>
                  <a:pt x="4578" y="5881"/>
                </a:lnTo>
                <a:lnTo>
                  <a:pt x="4573" y="5880"/>
                </a:lnTo>
                <a:lnTo>
                  <a:pt x="4569" y="5878"/>
                </a:lnTo>
                <a:lnTo>
                  <a:pt x="4564" y="5877"/>
                </a:lnTo>
                <a:lnTo>
                  <a:pt x="4558" y="5877"/>
                </a:lnTo>
                <a:lnTo>
                  <a:pt x="4555" y="5877"/>
                </a:lnTo>
                <a:lnTo>
                  <a:pt x="4552" y="5878"/>
                </a:lnTo>
                <a:lnTo>
                  <a:pt x="4550" y="5879"/>
                </a:lnTo>
                <a:lnTo>
                  <a:pt x="4548" y="5881"/>
                </a:lnTo>
                <a:lnTo>
                  <a:pt x="4544" y="5885"/>
                </a:lnTo>
                <a:lnTo>
                  <a:pt x="4541" y="5890"/>
                </a:lnTo>
                <a:lnTo>
                  <a:pt x="4539" y="5897"/>
                </a:lnTo>
                <a:lnTo>
                  <a:pt x="4538" y="5903"/>
                </a:lnTo>
                <a:lnTo>
                  <a:pt x="4537" y="5910"/>
                </a:lnTo>
                <a:lnTo>
                  <a:pt x="4537" y="5918"/>
                </a:lnTo>
                <a:lnTo>
                  <a:pt x="4538" y="5941"/>
                </a:lnTo>
                <a:lnTo>
                  <a:pt x="4539" y="5963"/>
                </a:lnTo>
                <a:lnTo>
                  <a:pt x="4540" y="5983"/>
                </a:lnTo>
                <a:lnTo>
                  <a:pt x="4543" y="6003"/>
                </a:lnTo>
                <a:lnTo>
                  <a:pt x="4545" y="6023"/>
                </a:lnTo>
                <a:lnTo>
                  <a:pt x="4546" y="6044"/>
                </a:lnTo>
                <a:lnTo>
                  <a:pt x="4548" y="6065"/>
                </a:lnTo>
                <a:lnTo>
                  <a:pt x="4548" y="6089"/>
                </a:lnTo>
                <a:lnTo>
                  <a:pt x="4548" y="6116"/>
                </a:lnTo>
                <a:lnTo>
                  <a:pt x="4546" y="6141"/>
                </a:lnTo>
                <a:lnTo>
                  <a:pt x="4545" y="6164"/>
                </a:lnTo>
                <a:lnTo>
                  <a:pt x="4543" y="6187"/>
                </a:lnTo>
                <a:lnTo>
                  <a:pt x="4540" y="6209"/>
                </a:lnTo>
                <a:lnTo>
                  <a:pt x="4539" y="6233"/>
                </a:lnTo>
                <a:lnTo>
                  <a:pt x="4538" y="6257"/>
                </a:lnTo>
                <a:lnTo>
                  <a:pt x="4537" y="6284"/>
                </a:lnTo>
                <a:lnTo>
                  <a:pt x="4537" y="6303"/>
                </a:lnTo>
                <a:lnTo>
                  <a:pt x="4538" y="6320"/>
                </a:lnTo>
                <a:lnTo>
                  <a:pt x="4539" y="6336"/>
                </a:lnTo>
                <a:lnTo>
                  <a:pt x="4540" y="6352"/>
                </a:lnTo>
                <a:lnTo>
                  <a:pt x="4543" y="6368"/>
                </a:lnTo>
                <a:lnTo>
                  <a:pt x="4547" y="6384"/>
                </a:lnTo>
                <a:lnTo>
                  <a:pt x="4552" y="6399"/>
                </a:lnTo>
                <a:lnTo>
                  <a:pt x="4558" y="6417"/>
                </a:lnTo>
                <a:lnTo>
                  <a:pt x="4567" y="6434"/>
                </a:lnTo>
                <a:lnTo>
                  <a:pt x="4577" y="6448"/>
                </a:lnTo>
                <a:lnTo>
                  <a:pt x="4582" y="6455"/>
                </a:lnTo>
                <a:lnTo>
                  <a:pt x="4585" y="6463"/>
                </a:lnTo>
                <a:lnTo>
                  <a:pt x="4588" y="6471"/>
                </a:lnTo>
                <a:lnTo>
                  <a:pt x="4589" y="6482"/>
                </a:lnTo>
                <a:lnTo>
                  <a:pt x="4588" y="6489"/>
                </a:lnTo>
                <a:lnTo>
                  <a:pt x="4585" y="6497"/>
                </a:lnTo>
                <a:lnTo>
                  <a:pt x="4582" y="6502"/>
                </a:lnTo>
                <a:lnTo>
                  <a:pt x="4577" y="6507"/>
                </a:lnTo>
                <a:lnTo>
                  <a:pt x="4566" y="6518"/>
                </a:lnTo>
                <a:lnTo>
                  <a:pt x="4554" y="6529"/>
                </a:lnTo>
                <a:lnTo>
                  <a:pt x="4548" y="6538"/>
                </a:lnTo>
                <a:lnTo>
                  <a:pt x="4541" y="6546"/>
                </a:lnTo>
                <a:lnTo>
                  <a:pt x="4537" y="6555"/>
                </a:lnTo>
                <a:lnTo>
                  <a:pt x="4532" y="6563"/>
                </a:lnTo>
                <a:lnTo>
                  <a:pt x="4524" y="6581"/>
                </a:lnTo>
                <a:lnTo>
                  <a:pt x="4514" y="6600"/>
                </a:lnTo>
                <a:lnTo>
                  <a:pt x="4507" y="6611"/>
                </a:lnTo>
                <a:lnTo>
                  <a:pt x="4500" y="6620"/>
                </a:lnTo>
                <a:lnTo>
                  <a:pt x="4498" y="6624"/>
                </a:lnTo>
                <a:lnTo>
                  <a:pt x="4495" y="6630"/>
                </a:lnTo>
                <a:lnTo>
                  <a:pt x="4494" y="6635"/>
                </a:lnTo>
                <a:lnTo>
                  <a:pt x="4494" y="6641"/>
                </a:lnTo>
                <a:lnTo>
                  <a:pt x="4494" y="6644"/>
                </a:lnTo>
                <a:lnTo>
                  <a:pt x="4495" y="6648"/>
                </a:lnTo>
                <a:lnTo>
                  <a:pt x="4496" y="6650"/>
                </a:lnTo>
                <a:lnTo>
                  <a:pt x="4498" y="6652"/>
                </a:lnTo>
                <a:lnTo>
                  <a:pt x="4502" y="6656"/>
                </a:lnTo>
                <a:lnTo>
                  <a:pt x="4509" y="6658"/>
                </a:lnTo>
                <a:lnTo>
                  <a:pt x="4522" y="6661"/>
                </a:lnTo>
                <a:lnTo>
                  <a:pt x="4537" y="6661"/>
                </a:lnTo>
                <a:lnTo>
                  <a:pt x="4549" y="6661"/>
                </a:lnTo>
                <a:lnTo>
                  <a:pt x="4560" y="6659"/>
                </a:lnTo>
                <a:lnTo>
                  <a:pt x="4570" y="6656"/>
                </a:lnTo>
                <a:lnTo>
                  <a:pt x="4581" y="6653"/>
                </a:lnTo>
                <a:lnTo>
                  <a:pt x="4598" y="6643"/>
                </a:lnTo>
                <a:lnTo>
                  <a:pt x="4615" y="6633"/>
                </a:lnTo>
                <a:lnTo>
                  <a:pt x="4633" y="6622"/>
                </a:lnTo>
                <a:lnTo>
                  <a:pt x="4651" y="6613"/>
                </a:lnTo>
                <a:lnTo>
                  <a:pt x="4661" y="6608"/>
                </a:lnTo>
                <a:lnTo>
                  <a:pt x="4671" y="6606"/>
                </a:lnTo>
                <a:lnTo>
                  <a:pt x="4682" y="6604"/>
                </a:lnTo>
                <a:lnTo>
                  <a:pt x="4694" y="6603"/>
                </a:lnTo>
                <a:lnTo>
                  <a:pt x="4700" y="6604"/>
                </a:lnTo>
                <a:lnTo>
                  <a:pt x="4706" y="6605"/>
                </a:lnTo>
                <a:lnTo>
                  <a:pt x="4711" y="6607"/>
                </a:lnTo>
                <a:lnTo>
                  <a:pt x="4716" y="6610"/>
                </a:lnTo>
                <a:lnTo>
                  <a:pt x="4720" y="6614"/>
                </a:lnTo>
                <a:lnTo>
                  <a:pt x="4724" y="6617"/>
                </a:lnTo>
                <a:lnTo>
                  <a:pt x="4727" y="6621"/>
                </a:lnTo>
                <a:lnTo>
                  <a:pt x="4730" y="6626"/>
                </a:lnTo>
                <a:lnTo>
                  <a:pt x="4736" y="6638"/>
                </a:lnTo>
                <a:lnTo>
                  <a:pt x="4740" y="6650"/>
                </a:lnTo>
                <a:lnTo>
                  <a:pt x="4743" y="6663"/>
                </a:lnTo>
                <a:lnTo>
                  <a:pt x="4747" y="6677"/>
                </a:lnTo>
                <a:lnTo>
                  <a:pt x="4751" y="6690"/>
                </a:lnTo>
                <a:lnTo>
                  <a:pt x="4754" y="6703"/>
                </a:lnTo>
                <a:lnTo>
                  <a:pt x="4758" y="6716"/>
                </a:lnTo>
                <a:lnTo>
                  <a:pt x="4763" y="6727"/>
                </a:lnTo>
                <a:lnTo>
                  <a:pt x="4766" y="6732"/>
                </a:lnTo>
                <a:lnTo>
                  <a:pt x="4770" y="6736"/>
                </a:lnTo>
                <a:lnTo>
                  <a:pt x="4774" y="6740"/>
                </a:lnTo>
                <a:lnTo>
                  <a:pt x="4778" y="6744"/>
                </a:lnTo>
                <a:lnTo>
                  <a:pt x="4783" y="6746"/>
                </a:lnTo>
                <a:lnTo>
                  <a:pt x="4788" y="6748"/>
                </a:lnTo>
                <a:lnTo>
                  <a:pt x="4794" y="6749"/>
                </a:lnTo>
                <a:lnTo>
                  <a:pt x="4800" y="6750"/>
                </a:lnTo>
                <a:lnTo>
                  <a:pt x="4853" y="6750"/>
                </a:lnTo>
                <a:lnTo>
                  <a:pt x="4858" y="6735"/>
                </a:lnTo>
                <a:lnTo>
                  <a:pt x="4864" y="6721"/>
                </a:lnTo>
                <a:lnTo>
                  <a:pt x="4869" y="6709"/>
                </a:lnTo>
                <a:lnTo>
                  <a:pt x="4875" y="6697"/>
                </a:lnTo>
                <a:lnTo>
                  <a:pt x="4882" y="6686"/>
                </a:lnTo>
                <a:lnTo>
                  <a:pt x="4888" y="6673"/>
                </a:lnTo>
                <a:lnTo>
                  <a:pt x="4893" y="6659"/>
                </a:lnTo>
                <a:lnTo>
                  <a:pt x="4897" y="6644"/>
                </a:lnTo>
                <a:lnTo>
                  <a:pt x="4899" y="6632"/>
                </a:lnTo>
                <a:lnTo>
                  <a:pt x="4902" y="6620"/>
                </a:lnTo>
                <a:lnTo>
                  <a:pt x="4903" y="6615"/>
                </a:lnTo>
                <a:lnTo>
                  <a:pt x="4905" y="6610"/>
                </a:lnTo>
                <a:lnTo>
                  <a:pt x="4908" y="6605"/>
                </a:lnTo>
                <a:lnTo>
                  <a:pt x="4911" y="6600"/>
                </a:lnTo>
                <a:lnTo>
                  <a:pt x="4920" y="6594"/>
                </a:lnTo>
                <a:lnTo>
                  <a:pt x="4927" y="6587"/>
                </a:lnTo>
                <a:lnTo>
                  <a:pt x="4935" y="6583"/>
                </a:lnTo>
                <a:lnTo>
                  <a:pt x="4943" y="6578"/>
                </a:lnTo>
                <a:lnTo>
                  <a:pt x="4950" y="6574"/>
                </a:lnTo>
                <a:lnTo>
                  <a:pt x="4958" y="6567"/>
                </a:lnTo>
                <a:lnTo>
                  <a:pt x="4964" y="6561"/>
                </a:lnTo>
                <a:lnTo>
                  <a:pt x="4969" y="6552"/>
                </a:lnTo>
                <a:lnTo>
                  <a:pt x="4973" y="6544"/>
                </a:lnTo>
                <a:lnTo>
                  <a:pt x="4975" y="6535"/>
                </a:lnTo>
                <a:lnTo>
                  <a:pt x="4977" y="6526"/>
                </a:lnTo>
                <a:lnTo>
                  <a:pt x="4977" y="6517"/>
                </a:lnTo>
                <a:lnTo>
                  <a:pt x="4977" y="6498"/>
                </a:lnTo>
                <a:lnTo>
                  <a:pt x="4980" y="6478"/>
                </a:lnTo>
                <a:lnTo>
                  <a:pt x="4982" y="6469"/>
                </a:lnTo>
                <a:lnTo>
                  <a:pt x="4987" y="6461"/>
                </a:lnTo>
                <a:lnTo>
                  <a:pt x="4992" y="6454"/>
                </a:lnTo>
                <a:lnTo>
                  <a:pt x="4999" y="6448"/>
                </a:lnTo>
                <a:lnTo>
                  <a:pt x="5006" y="6442"/>
                </a:lnTo>
                <a:lnTo>
                  <a:pt x="5012" y="6435"/>
                </a:lnTo>
                <a:lnTo>
                  <a:pt x="5019" y="6429"/>
                </a:lnTo>
                <a:lnTo>
                  <a:pt x="5023" y="6420"/>
                </a:lnTo>
                <a:lnTo>
                  <a:pt x="5028" y="6411"/>
                </a:lnTo>
                <a:lnTo>
                  <a:pt x="5034" y="6403"/>
                </a:lnTo>
                <a:lnTo>
                  <a:pt x="5039" y="6395"/>
                </a:lnTo>
                <a:lnTo>
                  <a:pt x="5044" y="6388"/>
                </a:lnTo>
                <a:lnTo>
                  <a:pt x="5050" y="6381"/>
                </a:lnTo>
                <a:lnTo>
                  <a:pt x="5058" y="6376"/>
                </a:lnTo>
                <a:lnTo>
                  <a:pt x="5065" y="6371"/>
                </a:lnTo>
                <a:lnTo>
                  <a:pt x="5075" y="6366"/>
                </a:lnTo>
                <a:lnTo>
                  <a:pt x="5078" y="6378"/>
                </a:lnTo>
                <a:lnTo>
                  <a:pt x="5082" y="6391"/>
                </a:lnTo>
                <a:lnTo>
                  <a:pt x="5085" y="6396"/>
                </a:lnTo>
                <a:lnTo>
                  <a:pt x="5090" y="6400"/>
                </a:lnTo>
                <a:lnTo>
                  <a:pt x="5094" y="6406"/>
                </a:lnTo>
                <a:lnTo>
                  <a:pt x="5098" y="6410"/>
                </a:lnTo>
                <a:lnTo>
                  <a:pt x="5102" y="6414"/>
                </a:lnTo>
                <a:lnTo>
                  <a:pt x="5107" y="6417"/>
                </a:lnTo>
                <a:lnTo>
                  <a:pt x="5113" y="6420"/>
                </a:lnTo>
                <a:lnTo>
                  <a:pt x="5118" y="6423"/>
                </a:lnTo>
                <a:lnTo>
                  <a:pt x="5124" y="6425"/>
                </a:lnTo>
                <a:lnTo>
                  <a:pt x="5130" y="6426"/>
                </a:lnTo>
                <a:lnTo>
                  <a:pt x="5136" y="6427"/>
                </a:lnTo>
                <a:lnTo>
                  <a:pt x="5143" y="6427"/>
                </a:lnTo>
                <a:lnTo>
                  <a:pt x="5156" y="6428"/>
                </a:lnTo>
                <a:lnTo>
                  <a:pt x="5170" y="6430"/>
                </a:lnTo>
                <a:lnTo>
                  <a:pt x="5170" y="6482"/>
                </a:lnTo>
                <a:lnTo>
                  <a:pt x="5182" y="6484"/>
                </a:lnTo>
                <a:lnTo>
                  <a:pt x="5196" y="6485"/>
                </a:lnTo>
                <a:lnTo>
                  <a:pt x="5207" y="6484"/>
                </a:lnTo>
                <a:lnTo>
                  <a:pt x="5216" y="6482"/>
                </a:lnTo>
                <a:lnTo>
                  <a:pt x="5227" y="6479"/>
                </a:lnTo>
                <a:lnTo>
                  <a:pt x="5237" y="6478"/>
                </a:lnTo>
                <a:lnTo>
                  <a:pt x="5247" y="6479"/>
                </a:lnTo>
                <a:lnTo>
                  <a:pt x="5256" y="6481"/>
                </a:lnTo>
                <a:lnTo>
                  <a:pt x="5264" y="6485"/>
                </a:lnTo>
                <a:lnTo>
                  <a:pt x="5272" y="6488"/>
                </a:lnTo>
                <a:lnTo>
                  <a:pt x="5280" y="6492"/>
                </a:lnTo>
                <a:lnTo>
                  <a:pt x="5287" y="6495"/>
                </a:lnTo>
                <a:lnTo>
                  <a:pt x="5297" y="6498"/>
                </a:lnTo>
                <a:lnTo>
                  <a:pt x="5306" y="6499"/>
                </a:lnTo>
                <a:lnTo>
                  <a:pt x="5389" y="6499"/>
                </a:lnTo>
                <a:lnTo>
                  <a:pt x="5404" y="6499"/>
                </a:lnTo>
                <a:lnTo>
                  <a:pt x="5418" y="6500"/>
                </a:lnTo>
                <a:lnTo>
                  <a:pt x="5424" y="6499"/>
                </a:lnTo>
                <a:lnTo>
                  <a:pt x="5431" y="6499"/>
                </a:lnTo>
                <a:lnTo>
                  <a:pt x="5437" y="6497"/>
                </a:lnTo>
                <a:lnTo>
                  <a:pt x="5444" y="6494"/>
                </a:lnTo>
                <a:lnTo>
                  <a:pt x="5451" y="6492"/>
                </a:lnTo>
                <a:lnTo>
                  <a:pt x="5456" y="6489"/>
                </a:lnTo>
                <a:lnTo>
                  <a:pt x="5459" y="6485"/>
                </a:lnTo>
                <a:lnTo>
                  <a:pt x="5462" y="6480"/>
                </a:lnTo>
                <a:lnTo>
                  <a:pt x="5464" y="6474"/>
                </a:lnTo>
                <a:lnTo>
                  <a:pt x="5465" y="6468"/>
                </a:lnTo>
                <a:lnTo>
                  <a:pt x="5467" y="6462"/>
                </a:lnTo>
                <a:lnTo>
                  <a:pt x="5467" y="6455"/>
                </a:lnTo>
                <a:lnTo>
                  <a:pt x="5467" y="6441"/>
                </a:lnTo>
                <a:lnTo>
                  <a:pt x="5465" y="6426"/>
                </a:lnTo>
                <a:lnTo>
                  <a:pt x="5467" y="6411"/>
                </a:lnTo>
                <a:lnTo>
                  <a:pt x="5469" y="6396"/>
                </a:lnTo>
                <a:lnTo>
                  <a:pt x="5465" y="6382"/>
                </a:lnTo>
                <a:lnTo>
                  <a:pt x="5458" y="6380"/>
                </a:lnTo>
                <a:lnTo>
                  <a:pt x="5452" y="6377"/>
                </a:lnTo>
                <a:lnTo>
                  <a:pt x="5445" y="6373"/>
                </a:lnTo>
                <a:lnTo>
                  <a:pt x="5441" y="6368"/>
                </a:lnTo>
                <a:lnTo>
                  <a:pt x="5434" y="6355"/>
                </a:lnTo>
                <a:lnTo>
                  <a:pt x="5427" y="6341"/>
                </a:lnTo>
                <a:lnTo>
                  <a:pt x="5421" y="6328"/>
                </a:lnTo>
                <a:lnTo>
                  <a:pt x="5414" y="6316"/>
                </a:lnTo>
                <a:lnTo>
                  <a:pt x="5410" y="6312"/>
                </a:lnTo>
                <a:lnTo>
                  <a:pt x="5404" y="6308"/>
                </a:lnTo>
                <a:lnTo>
                  <a:pt x="5398" y="6305"/>
                </a:lnTo>
                <a:lnTo>
                  <a:pt x="5390" y="6304"/>
                </a:lnTo>
                <a:lnTo>
                  <a:pt x="5384" y="6305"/>
                </a:lnTo>
                <a:lnTo>
                  <a:pt x="5379" y="6309"/>
                </a:lnTo>
                <a:lnTo>
                  <a:pt x="5376" y="6312"/>
                </a:lnTo>
                <a:lnTo>
                  <a:pt x="5371" y="6316"/>
                </a:lnTo>
                <a:lnTo>
                  <a:pt x="5365" y="6327"/>
                </a:lnTo>
                <a:lnTo>
                  <a:pt x="5357" y="6335"/>
                </a:lnTo>
                <a:lnTo>
                  <a:pt x="5350" y="6339"/>
                </a:lnTo>
                <a:lnTo>
                  <a:pt x="5343" y="6341"/>
                </a:lnTo>
                <a:lnTo>
                  <a:pt x="5337" y="6342"/>
                </a:lnTo>
                <a:lnTo>
                  <a:pt x="5330" y="6343"/>
                </a:lnTo>
                <a:lnTo>
                  <a:pt x="5317" y="6343"/>
                </a:lnTo>
                <a:lnTo>
                  <a:pt x="5302" y="6346"/>
                </a:lnTo>
                <a:lnTo>
                  <a:pt x="5298" y="6347"/>
                </a:lnTo>
                <a:lnTo>
                  <a:pt x="5293" y="6349"/>
                </a:lnTo>
                <a:lnTo>
                  <a:pt x="5290" y="6352"/>
                </a:lnTo>
                <a:lnTo>
                  <a:pt x="5287" y="6355"/>
                </a:lnTo>
                <a:lnTo>
                  <a:pt x="5282" y="6362"/>
                </a:lnTo>
                <a:lnTo>
                  <a:pt x="5276" y="6370"/>
                </a:lnTo>
                <a:lnTo>
                  <a:pt x="5272" y="6377"/>
                </a:lnTo>
                <a:lnTo>
                  <a:pt x="5267" y="6384"/>
                </a:lnTo>
                <a:lnTo>
                  <a:pt x="5263" y="6386"/>
                </a:lnTo>
                <a:lnTo>
                  <a:pt x="5260" y="6388"/>
                </a:lnTo>
                <a:lnTo>
                  <a:pt x="5255" y="6389"/>
                </a:lnTo>
                <a:lnTo>
                  <a:pt x="5251" y="6390"/>
                </a:lnTo>
                <a:lnTo>
                  <a:pt x="5245" y="6389"/>
                </a:lnTo>
                <a:lnTo>
                  <a:pt x="5239" y="6387"/>
                </a:lnTo>
                <a:lnTo>
                  <a:pt x="5235" y="6384"/>
                </a:lnTo>
                <a:lnTo>
                  <a:pt x="5231" y="6379"/>
                </a:lnTo>
                <a:lnTo>
                  <a:pt x="5228" y="6374"/>
                </a:lnTo>
                <a:lnTo>
                  <a:pt x="5226" y="6368"/>
                </a:lnTo>
                <a:lnTo>
                  <a:pt x="5225" y="6362"/>
                </a:lnTo>
                <a:lnTo>
                  <a:pt x="5224" y="6356"/>
                </a:lnTo>
                <a:lnTo>
                  <a:pt x="5225" y="6346"/>
                </a:lnTo>
                <a:lnTo>
                  <a:pt x="5227" y="6337"/>
                </a:lnTo>
                <a:lnTo>
                  <a:pt x="5230" y="6329"/>
                </a:lnTo>
                <a:lnTo>
                  <a:pt x="5231" y="6318"/>
                </a:lnTo>
                <a:lnTo>
                  <a:pt x="5230" y="6311"/>
                </a:lnTo>
                <a:lnTo>
                  <a:pt x="5228" y="6304"/>
                </a:lnTo>
                <a:lnTo>
                  <a:pt x="5225" y="6299"/>
                </a:lnTo>
                <a:lnTo>
                  <a:pt x="5222" y="6294"/>
                </a:lnTo>
                <a:lnTo>
                  <a:pt x="5214" y="6283"/>
                </a:lnTo>
                <a:lnTo>
                  <a:pt x="5207" y="6271"/>
                </a:lnTo>
                <a:lnTo>
                  <a:pt x="5198" y="6255"/>
                </a:lnTo>
                <a:lnTo>
                  <a:pt x="5190" y="6239"/>
                </a:lnTo>
                <a:lnTo>
                  <a:pt x="5180" y="6225"/>
                </a:lnTo>
                <a:lnTo>
                  <a:pt x="5170" y="6212"/>
                </a:lnTo>
                <a:lnTo>
                  <a:pt x="5159" y="6201"/>
                </a:lnTo>
                <a:lnTo>
                  <a:pt x="5148" y="6189"/>
                </a:lnTo>
                <a:lnTo>
                  <a:pt x="5136" y="6180"/>
                </a:lnTo>
                <a:lnTo>
                  <a:pt x="5123" y="6171"/>
                </a:lnTo>
                <a:lnTo>
                  <a:pt x="5110" y="6163"/>
                </a:lnTo>
                <a:lnTo>
                  <a:pt x="5096" y="6155"/>
                </a:lnTo>
                <a:lnTo>
                  <a:pt x="5081" y="6148"/>
                </a:lnTo>
                <a:lnTo>
                  <a:pt x="5065" y="6142"/>
                </a:lnTo>
                <a:lnTo>
                  <a:pt x="5049" y="6136"/>
                </a:lnTo>
                <a:lnTo>
                  <a:pt x="5033" y="6131"/>
                </a:lnTo>
                <a:lnTo>
                  <a:pt x="5015" y="6126"/>
                </a:lnTo>
                <a:lnTo>
                  <a:pt x="4997" y="6122"/>
                </a:lnTo>
                <a:lnTo>
                  <a:pt x="4971" y="6115"/>
                </a:lnTo>
                <a:lnTo>
                  <a:pt x="4947" y="6111"/>
                </a:lnTo>
                <a:lnTo>
                  <a:pt x="4925" y="6108"/>
                </a:lnTo>
                <a:lnTo>
                  <a:pt x="4904" y="6104"/>
                </a:lnTo>
                <a:lnTo>
                  <a:pt x="4883" y="6098"/>
                </a:lnTo>
                <a:lnTo>
                  <a:pt x="4862" y="6091"/>
                </a:lnTo>
                <a:lnTo>
                  <a:pt x="4852" y="6086"/>
                </a:lnTo>
                <a:lnTo>
                  <a:pt x="4841" y="6080"/>
                </a:lnTo>
                <a:lnTo>
                  <a:pt x="4831" y="6074"/>
                </a:lnTo>
                <a:lnTo>
                  <a:pt x="4819" y="6067"/>
                </a:lnTo>
                <a:lnTo>
                  <a:pt x="4813" y="6061"/>
                </a:lnTo>
                <a:lnTo>
                  <a:pt x="4807" y="6056"/>
                </a:lnTo>
                <a:lnTo>
                  <a:pt x="4801" y="6050"/>
                </a:lnTo>
                <a:lnTo>
                  <a:pt x="4796" y="6044"/>
                </a:lnTo>
                <a:lnTo>
                  <a:pt x="4786" y="6031"/>
                </a:lnTo>
                <a:lnTo>
                  <a:pt x="4777" y="6019"/>
                </a:lnTo>
                <a:lnTo>
                  <a:pt x="4772" y="6013"/>
                </a:lnTo>
                <a:lnTo>
                  <a:pt x="4767" y="6008"/>
                </a:lnTo>
                <a:lnTo>
                  <a:pt x="4762" y="6003"/>
                </a:lnTo>
                <a:lnTo>
                  <a:pt x="4757" y="5998"/>
                </a:lnTo>
                <a:lnTo>
                  <a:pt x="4751" y="5995"/>
                </a:lnTo>
                <a:lnTo>
                  <a:pt x="4743" y="5992"/>
                </a:lnTo>
                <a:lnTo>
                  <a:pt x="4736" y="5990"/>
                </a:lnTo>
                <a:lnTo>
                  <a:pt x="4727" y="5989"/>
                </a:lnTo>
                <a:lnTo>
                  <a:pt x="4724" y="6001"/>
                </a:lnTo>
                <a:lnTo>
                  <a:pt x="4720" y="6014"/>
                </a:lnTo>
                <a:lnTo>
                  <a:pt x="4715" y="6025"/>
                </a:lnTo>
                <a:lnTo>
                  <a:pt x="4707" y="6035"/>
                </a:lnTo>
                <a:lnTo>
                  <a:pt x="4704" y="6039"/>
                </a:lnTo>
                <a:lnTo>
                  <a:pt x="4700" y="6044"/>
                </a:lnTo>
                <a:lnTo>
                  <a:pt x="4695" y="6047"/>
                </a:lnTo>
                <a:lnTo>
                  <a:pt x="4690" y="6050"/>
                </a:lnTo>
                <a:lnTo>
                  <a:pt x="4685" y="6053"/>
                </a:lnTo>
                <a:lnTo>
                  <a:pt x="4679" y="6054"/>
                </a:lnTo>
                <a:lnTo>
                  <a:pt x="4673" y="6056"/>
                </a:lnTo>
                <a:lnTo>
                  <a:pt x="4667" y="6057"/>
                </a:lnTo>
                <a:lnTo>
                  <a:pt x="4665" y="6047"/>
                </a:lnTo>
                <a:lnTo>
                  <a:pt x="4662" y="6038"/>
                </a:lnTo>
                <a:lnTo>
                  <a:pt x="4658" y="6031"/>
                </a:lnTo>
                <a:lnTo>
                  <a:pt x="4652" y="6025"/>
                </a:lnTo>
                <a:lnTo>
                  <a:pt x="4640" y="6012"/>
                </a:lnTo>
                <a:lnTo>
                  <a:pt x="4624" y="5999"/>
                </a:lnTo>
                <a:lnTo>
                  <a:pt x="4624" y="5922"/>
                </a:lnTo>
                <a:close/>
                <a:moveTo>
                  <a:pt x="4653" y="5826"/>
                </a:moveTo>
                <a:lnTo>
                  <a:pt x="4648" y="5821"/>
                </a:lnTo>
                <a:lnTo>
                  <a:pt x="4643" y="5816"/>
                </a:lnTo>
                <a:lnTo>
                  <a:pt x="4638" y="5813"/>
                </a:lnTo>
                <a:lnTo>
                  <a:pt x="4632" y="5810"/>
                </a:lnTo>
                <a:lnTo>
                  <a:pt x="4626" y="5808"/>
                </a:lnTo>
                <a:lnTo>
                  <a:pt x="4620" y="5807"/>
                </a:lnTo>
                <a:lnTo>
                  <a:pt x="4612" y="5806"/>
                </a:lnTo>
                <a:lnTo>
                  <a:pt x="4606" y="5805"/>
                </a:lnTo>
                <a:lnTo>
                  <a:pt x="4604" y="5812"/>
                </a:lnTo>
                <a:lnTo>
                  <a:pt x="4602" y="5820"/>
                </a:lnTo>
                <a:lnTo>
                  <a:pt x="4603" y="5829"/>
                </a:lnTo>
                <a:lnTo>
                  <a:pt x="4605" y="5839"/>
                </a:lnTo>
                <a:lnTo>
                  <a:pt x="4607" y="5846"/>
                </a:lnTo>
                <a:lnTo>
                  <a:pt x="4610" y="5853"/>
                </a:lnTo>
                <a:lnTo>
                  <a:pt x="4614" y="5861"/>
                </a:lnTo>
                <a:lnTo>
                  <a:pt x="4620" y="5867"/>
                </a:lnTo>
                <a:lnTo>
                  <a:pt x="4625" y="5874"/>
                </a:lnTo>
                <a:lnTo>
                  <a:pt x="4630" y="5880"/>
                </a:lnTo>
                <a:lnTo>
                  <a:pt x="4643" y="5891"/>
                </a:lnTo>
                <a:lnTo>
                  <a:pt x="4657" y="5904"/>
                </a:lnTo>
                <a:lnTo>
                  <a:pt x="4670" y="5917"/>
                </a:lnTo>
                <a:lnTo>
                  <a:pt x="4684" y="5932"/>
                </a:lnTo>
                <a:lnTo>
                  <a:pt x="4710" y="5932"/>
                </a:lnTo>
                <a:lnTo>
                  <a:pt x="4710" y="5905"/>
                </a:lnTo>
                <a:lnTo>
                  <a:pt x="4710" y="5899"/>
                </a:lnTo>
                <a:lnTo>
                  <a:pt x="4709" y="5893"/>
                </a:lnTo>
                <a:lnTo>
                  <a:pt x="4708" y="5886"/>
                </a:lnTo>
                <a:lnTo>
                  <a:pt x="4705" y="5881"/>
                </a:lnTo>
                <a:lnTo>
                  <a:pt x="4700" y="5870"/>
                </a:lnTo>
                <a:lnTo>
                  <a:pt x="4692" y="5860"/>
                </a:lnTo>
                <a:lnTo>
                  <a:pt x="4683" y="5850"/>
                </a:lnTo>
                <a:lnTo>
                  <a:pt x="4673" y="5842"/>
                </a:lnTo>
                <a:lnTo>
                  <a:pt x="4663" y="5833"/>
                </a:lnTo>
                <a:lnTo>
                  <a:pt x="4653" y="5826"/>
                </a:lnTo>
                <a:close/>
                <a:moveTo>
                  <a:pt x="4721" y="5768"/>
                </a:moveTo>
                <a:lnTo>
                  <a:pt x="4717" y="5777"/>
                </a:lnTo>
                <a:lnTo>
                  <a:pt x="4715" y="5788"/>
                </a:lnTo>
                <a:lnTo>
                  <a:pt x="4715" y="5793"/>
                </a:lnTo>
                <a:lnTo>
                  <a:pt x="4717" y="5797"/>
                </a:lnTo>
                <a:lnTo>
                  <a:pt x="4719" y="5801"/>
                </a:lnTo>
                <a:lnTo>
                  <a:pt x="4722" y="5803"/>
                </a:lnTo>
                <a:lnTo>
                  <a:pt x="4729" y="5807"/>
                </a:lnTo>
                <a:lnTo>
                  <a:pt x="4739" y="5811"/>
                </a:lnTo>
                <a:lnTo>
                  <a:pt x="4748" y="5814"/>
                </a:lnTo>
                <a:lnTo>
                  <a:pt x="4758" y="5819"/>
                </a:lnTo>
                <a:lnTo>
                  <a:pt x="4761" y="5821"/>
                </a:lnTo>
                <a:lnTo>
                  <a:pt x="4764" y="5824"/>
                </a:lnTo>
                <a:lnTo>
                  <a:pt x="4767" y="5828"/>
                </a:lnTo>
                <a:lnTo>
                  <a:pt x="4769" y="5832"/>
                </a:lnTo>
                <a:lnTo>
                  <a:pt x="4770" y="5844"/>
                </a:lnTo>
                <a:lnTo>
                  <a:pt x="4770" y="5855"/>
                </a:lnTo>
                <a:lnTo>
                  <a:pt x="4770" y="5859"/>
                </a:lnTo>
                <a:lnTo>
                  <a:pt x="4771" y="5864"/>
                </a:lnTo>
                <a:lnTo>
                  <a:pt x="4773" y="5869"/>
                </a:lnTo>
                <a:lnTo>
                  <a:pt x="4776" y="5874"/>
                </a:lnTo>
                <a:lnTo>
                  <a:pt x="4780" y="5878"/>
                </a:lnTo>
                <a:lnTo>
                  <a:pt x="4784" y="5882"/>
                </a:lnTo>
                <a:lnTo>
                  <a:pt x="4789" y="5885"/>
                </a:lnTo>
                <a:lnTo>
                  <a:pt x="4794" y="5888"/>
                </a:lnTo>
                <a:lnTo>
                  <a:pt x="4803" y="5893"/>
                </a:lnTo>
                <a:lnTo>
                  <a:pt x="4815" y="5896"/>
                </a:lnTo>
                <a:lnTo>
                  <a:pt x="4838" y="5897"/>
                </a:lnTo>
                <a:lnTo>
                  <a:pt x="4864" y="5897"/>
                </a:lnTo>
                <a:lnTo>
                  <a:pt x="4870" y="5897"/>
                </a:lnTo>
                <a:lnTo>
                  <a:pt x="4875" y="5895"/>
                </a:lnTo>
                <a:lnTo>
                  <a:pt x="4879" y="5891"/>
                </a:lnTo>
                <a:lnTo>
                  <a:pt x="4884" y="5888"/>
                </a:lnTo>
                <a:lnTo>
                  <a:pt x="4887" y="5883"/>
                </a:lnTo>
                <a:lnTo>
                  <a:pt x="4889" y="5878"/>
                </a:lnTo>
                <a:lnTo>
                  <a:pt x="4890" y="5872"/>
                </a:lnTo>
                <a:lnTo>
                  <a:pt x="4891" y="5866"/>
                </a:lnTo>
                <a:lnTo>
                  <a:pt x="4890" y="5862"/>
                </a:lnTo>
                <a:lnTo>
                  <a:pt x="4889" y="5858"/>
                </a:lnTo>
                <a:lnTo>
                  <a:pt x="4887" y="5853"/>
                </a:lnTo>
                <a:lnTo>
                  <a:pt x="4884" y="5851"/>
                </a:lnTo>
                <a:lnTo>
                  <a:pt x="4875" y="5847"/>
                </a:lnTo>
                <a:lnTo>
                  <a:pt x="4866" y="5844"/>
                </a:lnTo>
                <a:lnTo>
                  <a:pt x="4854" y="5842"/>
                </a:lnTo>
                <a:lnTo>
                  <a:pt x="4842" y="5839"/>
                </a:lnTo>
                <a:lnTo>
                  <a:pt x="4837" y="5838"/>
                </a:lnTo>
                <a:lnTo>
                  <a:pt x="4832" y="5835"/>
                </a:lnTo>
                <a:lnTo>
                  <a:pt x="4828" y="5832"/>
                </a:lnTo>
                <a:lnTo>
                  <a:pt x="4823" y="5829"/>
                </a:lnTo>
                <a:lnTo>
                  <a:pt x="4799" y="5808"/>
                </a:lnTo>
                <a:lnTo>
                  <a:pt x="4777" y="5790"/>
                </a:lnTo>
                <a:lnTo>
                  <a:pt x="4764" y="5783"/>
                </a:lnTo>
                <a:lnTo>
                  <a:pt x="4752" y="5776"/>
                </a:lnTo>
                <a:lnTo>
                  <a:pt x="4737" y="5771"/>
                </a:lnTo>
                <a:lnTo>
                  <a:pt x="4721" y="5768"/>
                </a:lnTo>
                <a:close/>
                <a:moveTo>
                  <a:pt x="5751" y="6801"/>
                </a:moveTo>
                <a:lnTo>
                  <a:pt x="5742" y="6797"/>
                </a:lnTo>
                <a:lnTo>
                  <a:pt x="5734" y="6794"/>
                </a:lnTo>
                <a:lnTo>
                  <a:pt x="5725" y="6791"/>
                </a:lnTo>
                <a:lnTo>
                  <a:pt x="5717" y="6790"/>
                </a:lnTo>
                <a:lnTo>
                  <a:pt x="5707" y="6791"/>
                </a:lnTo>
                <a:lnTo>
                  <a:pt x="5699" y="6793"/>
                </a:lnTo>
                <a:lnTo>
                  <a:pt x="5690" y="6796"/>
                </a:lnTo>
                <a:lnTo>
                  <a:pt x="5684" y="6802"/>
                </a:lnTo>
                <a:lnTo>
                  <a:pt x="5678" y="6807"/>
                </a:lnTo>
                <a:lnTo>
                  <a:pt x="5672" y="6813"/>
                </a:lnTo>
                <a:lnTo>
                  <a:pt x="5667" y="6821"/>
                </a:lnTo>
                <a:lnTo>
                  <a:pt x="5663" y="6829"/>
                </a:lnTo>
                <a:lnTo>
                  <a:pt x="5660" y="6838"/>
                </a:lnTo>
                <a:lnTo>
                  <a:pt x="5657" y="6847"/>
                </a:lnTo>
                <a:lnTo>
                  <a:pt x="5653" y="6857"/>
                </a:lnTo>
                <a:lnTo>
                  <a:pt x="5651" y="6866"/>
                </a:lnTo>
                <a:lnTo>
                  <a:pt x="5649" y="6886"/>
                </a:lnTo>
                <a:lnTo>
                  <a:pt x="5648" y="6906"/>
                </a:lnTo>
                <a:lnTo>
                  <a:pt x="5649" y="6918"/>
                </a:lnTo>
                <a:lnTo>
                  <a:pt x="5652" y="6927"/>
                </a:lnTo>
                <a:lnTo>
                  <a:pt x="5656" y="6937"/>
                </a:lnTo>
                <a:lnTo>
                  <a:pt x="5662" y="6945"/>
                </a:lnTo>
                <a:lnTo>
                  <a:pt x="5676" y="6961"/>
                </a:lnTo>
                <a:lnTo>
                  <a:pt x="5693" y="6977"/>
                </a:lnTo>
                <a:lnTo>
                  <a:pt x="5712" y="6998"/>
                </a:lnTo>
                <a:lnTo>
                  <a:pt x="5729" y="7017"/>
                </a:lnTo>
                <a:lnTo>
                  <a:pt x="5738" y="7024"/>
                </a:lnTo>
                <a:lnTo>
                  <a:pt x="5748" y="7032"/>
                </a:lnTo>
                <a:lnTo>
                  <a:pt x="5754" y="7034"/>
                </a:lnTo>
                <a:lnTo>
                  <a:pt x="5760" y="7036"/>
                </a:lnTo>
                <a:lnTo>
                  <a:pt x="5766" y="7037"/>
                </a:lnTo>
                <a:lnTo>
                  <a:pt x="5774" y="7038"/>
                </a:lnTo>
                <a:lnTo>
                  <a:pt x="5782" y="7024"/>
                </a:lnTo>
                <a:lnTo>
                  <a:pt x="5782" y="6846"/>
                </a:lnTo>
                <a:lnTo>
                  <a:pt x="5781" y="6840"/>
                </a:lnTo>
                <a:lnTo>
                  <a:pt x="5779" y="6833"/>
                </a:lnTo>
                <a:lnTo>
                  <a:pt x="5776" y="6827"/>
                </a:lnTo>
                <a:lnTo>
                  <a:pt x="5771" y="6822"/>
                </a:lnTo>
                <a:lnTo>
                  <a:pt x="5760" y="6810"/>
                </a:lnTo>
                <a:lnTo>
                  <a:pt x="5751" y="6801"/>
                </a:lnTo>
                <a:close/>
                <a:moveTo>
                  <a:pt x="5791" y="6430"/>
                </a:moveTo>
                <a:lnTo>
                  <a:pt x="5792" y="6435"/>
                </a:lnTo>
                <a:lnTo>
                  <a:pt x="5793" y="6439"/>
                </a:lnTo>
                <a:lnTo>
                  <a:pt x="5795" y="6443"/>
                </a:lnTo>
                <a:lnTo>
                  <a:pt x="5798" y="6446"/>
                </a:lnTo>
                <a:lnTo>
                  <a:pt x="5806" y="6450"/>
                </a:lnTo>
                <a:lnTo>
                  <a:pt x="5815" y="6452"/>
                </a:lnTo>
                <a:lnTo>
                  <a:pt x="5827" y="6453"/>
                </a:lnTo>
                <a:lnTo>
                  <a:pt x="5837" y="6455"/>
                </a:lnTo>
                <a:lnTo>
                  <a:pt x="5849" y="6457"/>
                </a:lnTo>
                <a:lnTo>
                  <a:pt x="5859" y="6461"/>
                </a:lnTo>
                <a:lnTo>
                  <a:pt x="5864" y="6464"/>
                </a:lnTo>
                <a:lnTo>
                  <a:pt x="5867" y="6467"/>
                </a:lnTo>
                <a:lnTo>
                  <a:pt x="5870" y="6471"/>
                </a:lnTo>
                <a:lnTo>
                  <a:pt x="5873" y="6475"/>
                </a:lnTo>
                <a:lnTo>
                  <a:pt x="5876" y="6479"/>
                </a:lnTo>
                <a:lnTo>
                  <a:pt x="5879" y="6482"/>
                </a:lnTo>
                <a:lnTo>
                  <a:pt x="5883" y="6484"/>
                </a:lnTo>
                <a:lnTo>
                  <a:pt x="5888" y="6485"/>
                </a:lnTo>
                <a:lnTo>
                  <a:pt x="5893" y="6485"/>
                </a:lnTo>
                <a:lnTo>
                  <a:pt x="5898" y="6484"/>
                </a:lnTo>
                <a:lnTo>
                  <a:pt x="5904" y="6483"/>
                </a:lnTo>
                <a:lnTo>
                  <a:pt x="5909" y="6481"/>
                </a:lnTo>
                <a:lnTo>
                  <a:pt x="5917" y="6475"/>
                </a:lnTo>
                <a:lnTo>
                  <a:pt x="5925" y="6469"/>
                </a:lnTo>
                <a:lnTo>
                  <a:pt x="5931" y="6461"/>
                </a:lnTo>
                <a:lnTo>
                  <a:pt x="5936" y="6451"/>
                </a:lnTo>
                <a:lnTo>
                  <a:pt x="5940" y="6442"/>
                </a:lnTo>
                <a:lnTo>
                  <a:pt x="5941" y="6430"/>
                </a:lnTo>
                <a:lnTo>
                  <a:pt x="5941" y="6425"/>
                </a:lnTo>
                <a:lnTo>
                  <a:pt x="5940" y="6418"/>
                </a:lnTo>
                <a:lnTo>
                  <a:pt x="5938" y="6412"/>
                </a:lnTo>
                <a:lnTo>
                  <a:pt x="5935" y="6407"/>
                </a:lnTo>
                <a:lnTo>
                  <a:pt x="5933" y="6400"/>
                </a:lnTo>
                <a:lnTo>
                  <a:pt x="5930" y="6395"/>
                </a:lnTo>
                <a:lnTo>
                  <a:pt x="5926" y="6390"/>
                </a:lnTo>
                <a:lnTo>
                  <a:pt x="5923" y="6386"/>
                </a:lnTo>
                <a:lnTo>
                  <a:pt x="5918" y="6381"/>
                </a:lnTo>
                <a:lnTo>
                  <a:pt x="5913" y="6378"/>
                </a:lnTo>
                <a:lnTo>
                  <a:pt x="5909" y="6375"/>
                </a:lnTo>
                <a:lnTo>
                  <a:pt x="5904" y="6373"/>
                </a:lnTo>
                <a:lnTo>
                  <a:pt x="5898" y="6371"/>
                </a:lnTo>
                <a:lnTo>
                  <a:pt x="5893" y="6371"/>
                </a:lnTo>
                <a:lnTo>
                  <a:pt x="5888" y="6371"/>
                </a:lnTo>
                <a:lnTo>
                  <a:pt x="5883" y="6373"/>
                </a:lnTo>
                <a:lnTo>
                  <a:pt x="5852" y="6382"/>
                </a:lnTo>
                <a:lnTo>
                  <a:pt x="5822" y="6391"/>
                </a:lnTo>
                <a:lnTo>
                  <a:pt x="5816" y="6394"/>
                </a:lnTo>
                <a:lnTo>
                  <a:pt x="5810" y="6397"/>
                </a:lnTo>
                <a:lnTo>
                  <a:pt x="5804" y="6401"/>
                </a:lnTo>
                <a:lnTo>
                  <a:pt x="5800" y="6406"/>
                </a:lnTo>
                <a:lnTo>
                  <a:pt x="5796" y="6411"/>
                </a:lnTo>
                <a:lnTo>
                  <a:pt x="5794" y="6416"/>
                </a:lnTo>
                <a:lnTo>
                  <a:pt x="5792" y="6423"/>
                </a:lnTo>
                <a:lnTo>
                  <a:pt x="5791" y="6430"/>
                </a:lnTo>
                <a:close/>
                <a:moveTo>
                  <a:pt x="5995" y="6281"/>
                </a:moveTo>
                <a:lnTo>
                  <a:pt x="5989" y="6280"/>
                </a:lnTo>
                <a:lnTo>
                  <a:pt x="5984" y="6279"/>
                </a:lnTo>
                <a:lnTo>
                  <a:pt x="5979" y="6277"/>
                </a:lnTo>
                <a:lnTo>
                  <a:pt x="5974" y="6275"/>
                </a:lnTo>
                <a:lnTo>
                  <a:pt x="5966" y="6268"/>
                </a:lnTo>
                <a:lnTo>
                  <a:pt x="5958" y="6261"/>
                </a:lnTo>
                <a:lnTo>
                  <a:pt x="5921" y="6261"/>
                </a:lnTo>
                <a:lnTo>
                  <a:pt x="5921" y="6296"/>
                </a:lnTo>
                <a:lnTo>
                  <a:pt x="5921" y="6303"/>
                </a:lnTo>
                <a:lnTo>
                  <a:pt x="5922" y="6311"/>
                </a:lnTo>
                <a:lnTo>
                  <a:pt x="5925" y="6318"/>
                </a:lnTo>
                <a:lnTo>
                  <a:pt x="5928" y="6324"/>
                </a:lnTo>
                <a:lnTo>
                  <a:pt x="5932" y="6330"/>
                </a:lnTo>
                <a:lnTo>
                  <a:pt x="5936" y="6336"/>
                </a:lnTo>
                <a:lnTo>
                  <a:pt x="5942" y="6340"/>
                </a:lnTo>
                <a:lnTo>
                  <a:pt x="5948" y="6346"/>
                </a:lnTo>
                <a:lnTo>
                  <a:pt x="5954" y="6349"/>
                </a:lnTo>
                <a:lnTo>
                  <a:pt x="5962" y="6353"/>
                </a:lnTo>
                <a:lnTo>
                  <a:pt x="5969" y="6356"/>
                </a:lnTo>
                <a:lnTo>
                  <a:pt x="5977" y="6358"/>
                </a:lnTo>
                <a:lnTo>
                  <a:pt x="5984" y="6360"/>
                </a:lnTo>
                <a:lnTo>
                  <a:pt x="5992" y="6361"/>
                </a:lnTo>
                <a:lnTo>
                  <a:pt x="6000" y="6362"/>
                </a:lnTo>
                <a:lnTo>
                  <a:pt x="6008" y="6362"/>
                </a:lnTo>
                <a:lnTo>
                  <a:pt x="6015" y="6362"/>
                </a:lnTo>
                <a:lnTo>
                  <a:pt x="6020" y="6360"/>
                </a:lnTo>
                <a:lnTo>
                  <a:pt x="6025" y="6358"/>
                </a:lnTo>
                <a:lnTo>
                  <a:pt x="6029" y="6355"/>
                </a:lnTo>
                <a:lnTo>
                  <a:pt x="6033" y="6351"/>
                </a:lnTo>
                <a:lnTo>
                  <a:pt x="6036" y="6347"/>
                </a:lnTo>
                <a:lnTo>
                  <a:pt x="6038" y="6341"/>
                </a:lnTo>
                <a:lnTo>
                  <a:pt x="6040" y="6335"/>
                </a:lnTo>
                <a:lnTo>
                  <a:pt x="6043" y="6322"/>
                </a:lnTo>
                <a:lnTo>
                  <a:pt x="6046" y="6309"/>
                </a:lnTo>
                <a:lnTo>
                  <a:pt x="6047" y="6295"/>
                </a:lnTo>
                <a:lnTo>
                  <a:pt x="6049" y="6282"/>
                </a:lnTo>
                <a:lnTo>
                  <a:pt x="6042" y="6283"/>
                </a:lnTo>
                <a:lnTo>
                  <a:pt x="6035" y="6284"/>
                </a:lnTo>
                <a:lnTo>
                  <a:pt x="6028" y="6284"/>
                </a:lnTo>
                <a:lnTo>
                  <a:pt x="6022" y="6283"/>
                </a:lnTo>
                <a:lnTo>
                  <a:pt x="6009" y="6282"/>
                </a:lnTo>
                <a:lnTo>
                  <a:pt x="5995" y="6281"/>
                </a:lnTo>
                <a:close/>
                <a:moveTo>
                  <a:pt x="8040" y="6176"/>
                </a:moveTo>
                <a:lnTo>
                  <a:pt x="8037" y="6168"/>
                </a:lnTo>
                <a:lnTo>
                  <a:pt x="8033" y="6161"/>
                </a:lnTo>
                <a:lnTo>
                  <a:pt x="8028" y="6153"/>
                </a:lnTo>
                <a:lnTo>
                  <a:pt x="8024" y="6148"/>
                </a:lnTo>
                <a:lnTo>
                  <a:pt x="8019" y="6143"/>
                </a:lnTo>
                <a:lnTo>
                  <a:pt x="8014" y="6139"/>
                </a:lnTo>
                <a:lnTo>
                  <a:pt x="8006" y="6135"/>
                </a:lnTo>
                <a:lnTo>
                  <a:pt x="7998" y="6135"/>
                </a:lnTo>
                <a:lnTo>
                  <a:pt x="7945" y="6135"/>
                </a:lnTo>
                <a:lnTo>
                  <a:pt x="7943" y="6147"/>
                </a:lnTo>
                <a:lnTo>
                  <a:pt x="7941" y="6159"/>
                </a:lnTo>
                <a:lnTo>
                  <a:pt x="7942" y="6164"/>
                </a:lnTo>
                <a:lnTo>
                  <a:pt x="7943" y="6168"/>
                </a:lnTo>
                <a:lnTo>
                  <a:pt x="7945" y="6171"/>
                </a:lnTo>
                <a:lnTo>
                  <a:pt x="7947" y="6174"/>
                </a:lnTo>
                <a:lnTo>
                  <a:pt x="7950" y="6178"/>
                </a:lnTo>
                <a:lnTo>
                  <a:pt x="7954" y="6180"/>
                </a:lnTo>
                <a:lnTo>
                  <a:pt x="7959" y="6182"/>
                </a:lnTo>
                <a:lnTo>
                  <a:pt x="7963" y="6183"/>
                </a:lnTo>
                <a:lnTo>
                  <a:pt x="7984" y="6186"/>
                </a:lnTo>
                <a:lnTo>
                  <a:pt x="8006" y="6189"/>
                </a:lnTo>
                <a:lnTo>
                  <a:pt x="8013" y="6190"/>
                </a:lnTo>
                <a:lnTo>
                  <a:pt x="8018" y="6192"/>
                </a:lnTo>
                <a:lnTo>
                  <a:pt x="8023" y="6196"/>
                </a:lnTo>
                <a:lnTo>
                  <a:pt x="8027" y="6199"/>
                </a:lnTo>
                <a:lnTo>
                  <a:pt x="8033" y="6202"/>
                </a:lnTo>
                <a:lnTo>
                  <a:pt x="8038" y="6205"/>
                </a:lnTo>
                <a:lnTo>
                  <a:pt x="8043" y="6207"/>
                </a:lnTo>
                <a:lnTo>
                  <a:pt x="8050" y="6209"/>
                </a:lnTo>
                <a:lnTo>
                  <a:pt x="8054" y="6203"/>
                </a:lnTo>
                <a:lnTo>
                  <a:pt x="8057" y="6196"/>
                </a:lnTo>
                <a:lnTo>
                  <a:pt x="8048" y="6186"/>
                </a:lnTo>
                <a:lnTo>
                  <a:pt x="8040" y="6176"/>
                </a:lnTo>
                <a:close/>
                <a:moveTo>
                  <a:pt x="7726" y="6686"/>
                </a:moveTo>
                <a:lnTo>
                  <a:pt x="7700" y="6686"/>
                </a:lnTo>
                <a:lnTo>
                  <a:pt x="7699" y="6696"/>
                </a:lnTo>
                <a:lnTo>
                  <a:pt x="7697" y="6707"/>
                </a:lnTo>
                <a:lnTo>
                  <a:pt x="7694" y="6715"/>
                </a:lnTo>
                <a:lnTo>
                  <a:pt x="7690" y="6725"/>
                </a:lnTo>
                <a:lnTo>
                  <a:pt x="7687" y="6733"/>
                </a:lnTo>
                <a:lnTo>
                  <a:pt x="7685" y="6743"/>
                </a:lnTo>
                <a:lnTo>
                  <a:pt x="7684" y="6752"/>
                </a:lnTo>
                <a:lnTo>
                  <a:pt x="7683" y="6764"/>
                </a:lnTo>
                <a:lnTo>
                  <a:pt x="7683" y="6767"/>
                </a:lnTo>
                <a:lnTo>
                  <a:pt x="7684" y="6771"/>
                </a:lnTo>
                <a:lnTo>
                  <a:pt x="7686" y="6773"/>
                </a:lnTo>
                <a:lnTo>
                  <a:pt x="7688" y="6776"/>
                </a:lnTo>
                <a:lnTo>
                  <a:pt x="7694" y="6781"/>
                </a:lnTo>
                <a:lnTo>
                  <a:pt x="7700" y="6784"/>
                </a:lnTo>
                <a:lnTo>
                  <a:pt x="7708" y="6786"/>
                </a:lnTo>
                <a:lnTo>
                  <a:pt x="7717" y="6787"/>
                </a:lnTo>
                <a:lnTo>
                  <a:pt x="7725" y="6787"/>
                </a:lnTo>
                <a:lnTo>
                  <a:pt x="7734" y="6787"/>
                </a:lnTo>
                <a:lnTo>
                  <a:pt x="7741" y="6787"/>
                </a:lnTo>
                <a:lnTo>
                  <a:pt x="7747" y="6785"/>
                </a:lnTo>
                <a:lnTo>
                  <a:pt x="7753" y="6783"/>
                </a:lnTo>
                <a:lnTo>
                  <a:pt x="7758" y="6778"/>
                </a:lnTo>
                <a:lnTo>
                  <a:pt x="7762" y="6774"/>
                </a:lnTo>
                <a:lnTo>
                  <a:pt x="7766" y="6769"/>
                </a:lnTo>
                <a:lnTo>
                  <a:pt x="7770" y="6764"/>
                </a:lnTo>
                <a:lnTo>
                  <a:pt x="7773" y="6757"/>
                </a:lnTo>
                <a:lnTo>
                  <a:pt x="7777" y="6744"/>
                </a:lnTo>
                <a:lnTo>
                  <a:pt x="7779" y="6729"/>
                </a:lnTo>
                <a:lnTo>
                  <a:pt x="7781" y="6714"/>
                </a:lnTo>
                <a:lnTo>
                  <a:pt x="7781" y="6699"/>
                </a:lnTo>
                <a:lnTo>
                  <a:pt x="7781" y="6695"/>
                </a:lnTo>
                <a:lnTo>
                  <a:pt x="7780" y="6692"/>
                </a:lnTo>
                <a:lnTo>
                  <a:pt x="7778" y="6690"/>
                </a:lnTo>
                <a:lnTo>
                  <a:pt x="7776" y="6688"/>
                </a:lnTo>
                <a:lnTo>
                  <a:pt x="7770" y="6684"/>
                </a:lnTo>
                <a:lnTo>
                  <a:pt x="7762" y="6683"/>
                </a:lnTo>
                <a:lnTo>
                  <a:pt x="7744" y="6684"/>
                </a:lnTo>
                <a:lnTo>
                  <a:pt x="7726" y="6686"/>
                </a:lnTo>
                <a:close/>
                <a:moveTo>
                  <a:pt x="7058" y="6203"/>
                </a:moveTo>
                <a:lnTo>
                  <a:pt x="6932" y="6203"/>
                </a:lnTo>
                <a:lnTo>
                  <a:pt x="6934" y="6208"/>
                </a:lnTo>
                <a:lnTo>
                  <a:pt x="6938" y="6212"/>
                </a:lnTo>
                <a:lnTo>
                  <a:pt x="6941" y="6217"/>
                </a:lnTo>
                <a:lnTo>
                  <a:pt x="6944" y="6220"/>
                </a:lnTo>
                <a:lnTo>
                  <a:pt x="6951" y="6226"/>
                </a:lnTo>
                <a:lnTo>
                  <a:pt x="6960" y="6231"/>
                </a:lnTo>
                <a:lnTo>
                  <a:pt x="6979" y="6239"/>
                </a:lnTo>
                <a:lnTo>
                  <a:pt x="7000" y="6247"/>
                </a:lnTo>
                <a:lnTo>
                  <a:pt x="7013" y="6254"/>
                </a:lnTo>
                <a:lnTo>
                  <a:pt x="7023" y="6262"/>
                </a:lnTo>
                <a:lnTo>
                  <a:pt x="7028" y="6265"/>
                </a:lnTo>
                <a:lnTo>
                  <a:pt x="7035" y="6268"/>
                </a:lnTo>
                <a:lnTo>
                  <a:pt x="7041" y="6271"/>
                </a:lnTo>
                <a:lnTo>
                  <a:pt x="7047" y="6271"/>
                </a:lnTo>
                <a:lnTo>
                  <a:pt x="7053" y="6271"/>
                </a:lnTo>
                <a:lnTo>
                  <a:pt x="7057" y="6269"/>
                </a:lnTo>
                <a:lnTo>
                  <a:pt x="7060" y="6267"/>
                </a:lnTo>
                <a:lnTo>
                  <a:pt x="7063" y="6265"/>
                </a:lnTo>
                <a:lnTo>
                  <a:pt x="7070" y="6260"/>
                </a:lnTo>
                <a:lnTo>
                  <a:pt x="7074" y="6253"/>
                </a:lnTo>
                <a:lnTo>
                  <a:pt x="7078" y="6244"/>
                </a:lnTo>
                <a:lnTo>
                  <a:pt x="7080" y="6236"/>
                </a:lnTo>
                <a:lnTo>
                  <a:pt x="7083" y="6226"/>
                </a:lnTo>
                <a:lnTo>
                  <a:pt x="7085" y="6217"/>
                </a:lnTo>
                <a:lnTo>
                  <a:pt x="7058" y="6203"/>
                </a:lnTo>
                <a:close/>
                <a:moveTo>
                  <a:pt x="5156" y="4875"/>
                </a:moveTo>
                <a:lnTo>
                  <a:pt x="5161" y="4881"/>
                </a:lnTo>
                <a:lnTo>
                  <a:pt x="5165" y="4887"/>
                </a:lnTo>
                <a:lnTo>
                  <a:pt x="5167" y="4895"/>
                </a:lnTo>
                <a:lnTo>
                  <a:pt x="5170" y="4902"/>
                </a:lnTo>
                <a:lnTo>
                  <a:pt x="5178" y="4900"/>
                </a:lnTo>
                <a:lnTo>
                  <a:pt x="5188" y="4897"/>
                </a:lnTo>
                <a:lnTo>
                  <a:pt x="5195" y="4894"/>
                </a:lnTo>
                <a:lnTo>
                  <a:pt x="5203" y="4888"/>
                </a:lnTo>
                <a:lnTo>
                  <a:pt x="5209" y="4883"/>
                </a:lnTo>
                <a:lnTo>
                  <a:pt x="5213" y="4876"/>
                </a:lnTo>
                <a:lnTo>
                  <a:pt x="5216" y="4868"/>
                </a:lnTo>
                <a:lnTo>
                  <a:pt x="5217" y="4860"/>
                </a:lnTo>
                <a:lnTo>
                  <a:pt x="5216" y="4856"/>
                </a:lnTo>
                <a:lnTo>
                  <a:pt x="5215" y="4852"/>
                </a:lnTo>
                <a:lnTo>
                  <a:pt x="5212" y="4850"/>
                </a:lnTo>
                <a:lnTo>
                  <a:pt x="5209" y="4848"/>
                </a:lnTo>
                <a:lnTo>
                  <a:pt x="5206" y="4848"/>
                </a:lnTo>
                <a:lnTo>
                  <a:pt x="5201" y="4848"/>
                </a:lnTo>
                <a:lnTo>
                  <a:pt x="5196" y="4848"/>
                </a:lnTo>
                <a:lnTo>
                  <a:pt x="5191" y="4850"/>
                </a:lnTo>
                <a:lnTo>
                  <a:pt x="5180" y="4855"/>
                </a:lnTo>
                <a:lnTo>
                  <a:pt x="5171" y="4860"/>
                </a:lnTo>
                <a:lnTo>
                  <a:pt x="5167" y="4863"/>
                </a:lnTo>
                <a:lnTo>
                  <a:pt x="5162" y="4867"/>
                </a:lnTo>
                <a:lnTo>
                  <a:pt x="5158" y="4870"/>
                </a:lnTo>
                <a:lnTo>
                  <a:pt x="5156" y="4875"/>
                </a:lnTo>
                <a:close/>
                <a:moveTo>
                  <a:pt x="4945" y="4406"/>
                </a:moveTo>
                <a:lnTo>
                  <a:pt x="4936" y="4406"/>
                </a:lnTo>
                <a:lnTo>
                  <a:pt x="4928" y="4407"/>
                </a:lnTo>
                <a:lnTo>
                  <a:pt x="4920" y="4409"/>
                </a:lnTo>
                <a:lnTo>
                  <a:pt x="4912" y="4411"/>
                </a:lnTo>
                <a:lnTo>
                  <a:pt x="4905" y="4413"/>
                </a:lnTo>
                <a:lnTo>
                  <a:pt x="4898" y="4416"/>
                </a:lnTo>
                <a:lnTo>
                  <a:pt x="4891" y="4419"/>
                </a:lnTo>
                <a:lnTo>
                  <a:pt x="4885" y="4424"/>
                </a:lnTo>
                <a:lnTo>
                  <a:pt x="4873" y="4433"/>
                </a:lnTo>
                <a:lnTo>
                  <a:pt x="4861" y="4444"/>
                </a:lnTo>
                <a:lnTo>
                  <a:pt x="4851" y="4456"/>
                </a:lnTo>
                <a:lnTo>
                  <a:pt x="4840" y="4470"/>
                </a:lnTo>
                <a:lnTo>
                  <a:pt x="4843" y="4498"/>
                </a:lnTo>
                <a:lnTo>
                  <a:pt x="4853" y="4499"/>
                </a:lnTo>
                <a:lnTo>
                  <a:pt x="4862" y="4500"/>
                </a:lnTo>
                <a:lnTo>
                  <a:pt x="4871" y="4501"/>
                </a:lnTo>
                <a:lnTo>
                  <a:pt x="4880" y="4501"/>
                </a:lnTo>
                <a:lnTo>
                  <a:pt x="4885" y="4501"/>
                </a:lnTo>
                <a:lnTo>
                  <a:pt x="4888" y="4500"/>
                </a:lnTo>
                <a:lnTo>
                  <a:pt x="4890" y="4499"/>
                </a:lnTo>
                <a:lnTo>
                  <a:pt x="4893" y="4498"/>
                </a:lnTo>
                <a:lnTo>
                  <a:pt x="4897" y="4492"/>
                </a:lnTo>
                <a:lnTo>
                  <a:pt x="4902" y="4487"/>
                </a:lnTo>
                <a:lnTo>
                  <a:pt x="4909" y="4475"/>
                </a:lnTo>
                <a:lnTo>
                  <a:pt x="4918" y="4464"/>
                </a:lnTo>
                <a:lnTo>
                  <a:pt x="4933" y="4451"/>
                </a:lnTo>
                <a:lnTo>
                  <a:pt x="4947" y="4440"/>
                </a:lnTo>
                <a:lnTo>
                  <a:pt x="4953" y="4433"/>
                </a:lnTo>
                <a:lnTo>
                  <a:pt x="4959" y="4426"/>
                </a:lnTo>
                <a:lnTo>
                  <a:pt x="4964" y="4418"/>
                </a:lnTo>
                <a:lnTo>
                  <a:pt x="4969" y="4409"/>
                </a:lnTo>
                <a:lnTo>
                  <a:pt x="4945" y="4406"/>
                </a:lnTo>
                <a:close/>
                <a:moveTo>
                  <a:pt x="5118" y="4504"/>
                </a:moveTo>
                <a:lnTo>
                  <a:pt x="5075" y="4506"/>
                </a:lnTo>
                <a:lnTo>
                  <a:pt x="5075" y="4574"/>
                </a:lnTo>
                <a:lnTo>
                  <a:pt x="5073" y="4584"/>
                </a:lnTo>
                <a:lnTo>
                  <a:pt x="5071" y="4594"/>
                </a:lnTo>
                <a:lnTo>
                  <a:pt x="5065" y="4603"/>
                </a:lnTo>
                <a:lnTo>
                  <a:pt x="5061" y="4612"/>
                </a:lnTo>
                <a:lnTo>
                  <a:pt x="5056" y="4620"/>
                </a:lnTo>
                <a:lnTo>
                  <a:pt x="5052" y="4630"/>
                </a:lnTo>
                <a:lnTo>
                  <a:pt x="5048" y="4639"/>
                </a:lnTo>
                <a:lnTo>
                  <a:pt x="5047" y="4651"/>
                </a:lnTo>
                <a:lnTo>
                  <a:pt x="5047" y="4656"/>
                </a:lnTo>
                <a:lnTo>
                  <a:pt x="5049" y="4661"/>
                </a:lnTo>
                <a:lnTo>
                  <a:pt x="5052" y="4666"/>
                </a:lnTo>
                <a:lnTo>
                  <a:pt x="5055" y="4670"/>
                </a:lnTo>
                <a:lnTo>
                  <a:pt x="5059" y="4673"/>
                </a:lnTo>
                <a:lnTo>
                  <a:pt x="5063" y="4676"/>
                </a:lnTo>
                <a:lnTo>
                  <a:pt x="5068" y="4677"/>
                </a:lnTo>
                <a:lnTo>
                  <a:pt x="5075" y="4678"/>
                </a:lnTo>
                <a:lnTo>
                  <a:pt x="5079" y="4677"/>
                </a:lnTo>
                <a:lnTo>
                  <a:pt x="5084" y="4676"/>
                </a:lnTo>
                <a:lnTo>
                  <a:pt x="5087" y="4674"/>
                </a:lnTo>
                <a:lnTo>
                  <a:pt x="5091" y="4671"/>
                </a:lnTo>
                <a:lnTo>
                  <a:pt x="5094" y="4668"/>
                </a:lnTo>
                <a:lnTo>
                  <a:pt x="5096" y="4663"/>
                </a:lnTo>
                <a:lnTo>
                  <a:pt x="5097" y="4659"/>
                </a:lnTo>
                <a:lnTo>
                  <a:pt x="5099" y="4654"/>
                </a:lnTo>
                <a:lnTo>
                  <a:pt x="5103" y="4632"/>
                </a:lnTo>
                <a:lnTo>
                  <a:pt x="5109" y="4610"/>
                </a:lnTo>
                <a:lnTo>
                  <a:pt x="5112" y="4601"/>
                </a:lnTo>
                <a:lnTo>
                  <a:pt x="5117" y="4595"/>
                </a:lnTo>
                <a:lnTo>
                  <a:pt x="5122" y="4587"/>
                </a:lnTo>
                <a:lnTo>
                  <a:pt x="5129" y="4581"/>
                </a:lnTo>
                <a:lnTo>
                  <a:pt x="5134" y="4575"/>
                </a:lnTo>
                <a:lnTo>
                  <a:pt x="5138" y="4568"/>
                </a:lnTo>
                <a:lnTo>
                  <a:pt x="5140" y="4565"/>
                </a:lnTo>
                <a:lnTo>
                  <a:pt x="5141" y="4561"/>
                </a:lnTo>
                <a:lnTo>
                  <a:pt x="5142" y="4557"/>
                </a:lnTo>
                <a:lnTo>
                  <a:pt x="5142" y="4551"/>
                </a:lnTo>
                <a:lnTo>
                  <a:pt x="5141" y="4546"/>
                </a:lnTo>
                <a:lnTo>
                  <a:pt x="5140" y="4539"/>
                </a:lnTo>
                <a:lnTo>
                  <a:pt x="5138" y="4532"/>
                </a:lnTo>
                <a:lnTo>
                  <a:pt x="5135" y="4526"/>
                </a:lnTo>
                <a:lnTo>
                  <a:pt x="5132" y="4520"/>
                </a:lnTo>
                <a:lnTo>
                  <a:pt x="5128" y="4513"/>
                </a:lnTo>
                <a:lnTo>
                  <a:pt x="5123" y="4508"/>
                </a:lnTo>
                <a:lnTo>
                  <a:pt x="5118" y="4504"/>
                </a:lnTo>
                <a:close/>
                <a:moveTo>
                  <a:pt x="5291" y="4426"/>
                </a:moveTo>
                <a:lnTo>
                  <a:pt x="5274" y="4434"/>
                </a:lnTo>
                <a:lnTo>
                  <a:pt x="5260" y="4443"/>
                </a:lnTo>
                <a:lnTo>
                  <a:pt x="5253" y="4448"/>
                </a:lnTo>
                <a:lnTo>
                  <a:pt x="5248" y="4454"/>
                </a:lnTo>
                <a:lnTo>
                  <a:pt x="5247" y="4457"/>
                </a:lnTo>
                <a:lnTo>
                  <a:pt x="5245" y="4462"/>
                </a:lnTo>
                <a:lnTo>
                  <a:pt x="5245" y="4466"/>
                </a:lnTo>
                <a:lnTo>
                  <a:pt x="5244" y="4470"/>
                </a:lnTo>
                <a:lnTo>
                  <a:pt x="5245" y="4481"/>
                </a:lnTo>
                <a:lnTo>
                  <a:pt x="5246" y="4491"/>
                </a:lnTo>
                <a:lnTo>
                  <a:pt x="5248" y="4502"/>
                </a:lnTo>
                <a:lnTo>
                  <a:pt x="5252" y="4511"/>
                </a:lnTo>
                <a:lnTo>
                  <a:pt x="5254" y="4516"/>
                </a:lnTo>
                <a:lnTo>
                  <a:pt x="5256" y="4520"/>
                </a:lnTo>
                <a:lnTo>
                  <a:pt x="5260" y="4523"/>
                </a:lnTo>
                <a:lnTo>
                  <a:pt x="5263" y="4526"/>
                </a:lnTo>
                <a:lnTo>
                  <a:pt x="5267" y="4528"/>
                </a:lnTo>
                <a:lnTo>
                  <a:pt x="5270" y="4530"/>
                </a:lnTo>
                <a:lnTo>
                  <a:pt x="5275" y="4531"/>
                </a:lnTo>
                <a:lnTo>
                  <a:pt x="5280" y="4531"/>
                </a:lnTo>
                <a:lnTo>
                  <a:pt x="5285" y="4531"/>
                </a:lnTo>
                <a:lnTo>
                  <a:pt x="5289" y="4530"/>
                </a:lnTo>
                <a:lnTo>
                  <a:pt x="5293" y="4528"/>
                </a:lnTo>
                <a:lnTo>
                  <a:pt x="5297" y="4526"/>
                </a:lnTo>
                <a:lnTo>
                  <a:pt x="5300" y="4523"/>
                </a:lnTo>
                <a:lnTo>
                  <a:pt x="5303" y="4520"/>
                </a:lnTo>
                <a:lnTo>
                  <a:pt x="5306" y="4516"/>
                </a:lnTo>
                <a:lnTo>
                  <a:pt x="5308" y="4511"/>
                </a:lnTo>
                <a:lnTo>
                  <a:pt x="5311" y="4502"/>
                </a:lnTo>
                <a:lnTo>
                  <a:pt x="5313" y="4491"/>
                </a:lnTo>
                <a:lnTo>
                  <a:pt x="5316" y="4481"/>
                </a:lnTo>
                <a:lnTo>
                  <a:pt x="5316" y="4470"/>
                </a:lnTo>
                <a:lnTo>
                  <a:pt x="5314" y="4465"/>
                </a:lnTo>
                <a:lnTo>
                  <a:pt x="5313" y="4459"/>
                </a:lnTo>
                <a:lnTo>
                  <a:pt x="5310" y="4452"/>
                </a:lnTo>
                <a:lnTo>
                  <a:pt x="5307" y="4446"/>
                </a:lnTo>
                <a:lnTo>
                  <a:pt x="5300" y="4434"/>
                </a:lnTo>
                <a:lnTo>
                  <a:pt x="5291" y="4426"/>
                </a:lnTo>
                <a:close/>
                <a:moveTo>
                  <a:pt x="5757" y="4726"/>
                </a:moveTo>
                <a:lnTo>
                  <a:pt x="5748" y="4739"/>
                </a:lnTo>
                <a:lnTo>
                  <a:pt x="5740" y="4751"/>
                </a:lnTo>
                <a:lnTo>
                  <a:pt x="5736" y="4757"/>
                </a:lnTo>
                <a:lnTo>
                  <a:pt x="5733" y="4764"/>
                </a:lnTo>
                <a:lnTo>
                  <a:pt x="5731" y="4771"/>
                </a:lnTo>
                <a:lnTo>
                  <a:pt x="5729" y="4780"/>
                </a:lnTo>
                <a:lnTo>
                  <a:pt x="5731" y="4786"/>
                </a:lnTo>
                <a:lnTo>
                  <a:pt x="5734" y="4792"/>
                </a:lnTo>
                <a:lnTo>
                  <a:pt x="5737" y="4796"/>
                </a:lnTo>
                <a:lnTo>
                  <a:pt x="5741" y="4801"/>
                </a:lnTo>
                <a:lnTo>
                  <a:pt x="5753" y="4809"/>
                </a:lnTo>
                <a:lnTo>
                  <a:pt x="5764" y="4817"/>
                </a:lnTo>
                <a:lnTo>
                  <a:pt x="5770" y="4823"/>
                </a:lnTo>
                <a:lnTo>
                  <a:pt x="5775" y="4830"/>
                </a:lnTo>
                <a:lnTo>
                  <a:pt x="5778" y="4833"/>
                </a:lnTo>
                <a:lnTo>
                  <a:pt x="5781" y="4836"/>
                </a:lnTo>
                <a:lnTo>
                  <a:pt x="5785" y="4837"/>
                </a:lnTo>
                <a:lnTo>
                  <a:pt x="5790" y="4838"/>
                </a:lnTo>
                <a:lnTo>
                  <a:pt x="5800" y="4837"/>
                </a:lnTo>
                <a:lnTo>
                  <a:pt x="5810" y="4833"/>
                </a:lnTo>
                <a:lnTo>
                  <a:pt x="5819" y="4829"/>
                </a:lnTo>
                <a:lnTo>
                  <a:pt x="5828" y="4825"/>
                </a:lnTo>
                <a:lnTo>
                  <a:pt x="5836" y="4821"/>
                </a:lnTo>
                <a:lnTo>
                  <a:pt x="5846" y="4818"/>
                </a:lnTo>
                <a:lnTo>
                  <a:pt x="5850" y="4817"/>
                </a:lnTo>
                <a:lnTo>
                  <a:pt x="5855" y="4817"/>
                </a:lnTo>
                <a:lnTo>
                  <a:pt x="5860" y="4817"/>
                </a:lnTo>
                <a:lnTo>
                  <a:pt x="5866" y="4817"/>
                </a:lnTo>
                <a:lnTo>
                  <a:pt x="5886" y="4776"/>
                </a:lnTo>
                <a:lnTo>
                  <a:pt x="5869" y="4767"/>
                </a:lnTo>
                <a:lnTo>
                  <a:pt x="5853" y="4761"/>
                </a:lnTo>
                <a:lnTo>
                  <a:pt x="5837" y="4756"/>
                </a:lnTo>
                <a:lnTo>
                  <a:pt x="5821" y="4752"/>
                </a:lnTo>
                <a:lnTo>
                  <a:pt x="5806" y="4747"/>
                </a:lnTo>
                <a:lnTo>
                  <a:pt x="5790" y="4742"/>
                </a:lnTo>
                <a:lnTo>
                  <a:pt x="5774" y="4735"/>
                </a:lnTo>
                <a:lnTo>
                  <a:pt x="5757" y="4726"/>
                </a:lnTo>
                <a:close/>
                <a:moveTo>
                  <a:pt x="5556" y="4593"/>
                </a:moveTo>
                <a:lnTo>
                  <a:pt x="5557" y="4602"/>
                </a:lnTo>
                <a:lnTo>
                  <a:pt x="5559" y="4612"/>
                </a:lnTo>
                <a:lnTo>
                  <a:pt x="5562" y="4620"/>
                </a:lnTo>
                <a:lnTo>
                  <a:pt x="5565" y="4630"/>
                </a:lnTo>
                <a:lnTo>
                  <a:pt x="5569" y="4637"/>
                </a:lnTo>
                <a:lnTo>
                  <a:pt x="5573" y="4644"/>
                </a:lnTo>
                <a:lnTo>
                  <a:pt x="5577" y="4652"/>
                </a:lnTo>
                <a:lnTo>
                  <a:pt x="5584" y="4659"/>
                </a:lnTo>
                <a:lnTo>
                  <a:pt x="5589" y="4664"/>
                </a:lnTo>
                <a:lnTo>
                  <a:pt x="5595" y="4671"/>
                </a:lnTo>
                <a:lnTo>
                  <a:pt x="5603" y="4676"/>
                </a:lnTo>
                <a:lnTo>
                  <a:pt x="5610" y="4680"/>
                </a:lnTo>
                <a:lnTo>
                  <a:pt x="5619" y="4685"/>
                </a:lnTo>
                <a:lnTo>
                  <a:pt x="5627" y="4689"/>
                </a:lnTo>
                <a:lnTo>
                  <a:pt x="5635" y="4692"/>
                </a:lnTo>
                <a:lnTo>
                  <a:pt x="5645" y="4695"/>
                </a:lnTo>
                <a:lnTo>
                  <a:pt x="5659" y="4691"/>
                </a:lnTo>
                <a:lnTo>
                  <a:pt x="5658" y="4681"/>
                </a:lnTo>
                <a:lnTo>
                  <a:pt x="5656" y="4671"/>
                </a:lnTo>
                <a:lnTo>
                  <a:pt x="5652" y="4661"/>
                </a:lnTo>
                <a:lnTo>
                  <a:pt x="5648" y="4653"/>
                </a:lnTo>
                <a:lnTo>
                  <a:pt x="5644" y="4644"/>
                </a:lnTo>
                <a:lnTo>
                  <a:pt x="5639" y="4636"/>
                </a:lnTo>
                <a:lnTo>
                  <a:pt x="5633" y="4629"/>
                </a:lnTo>
                <a:lnTo>
                  <a:pt x="5627" y="4621"/>
                </a:lnTo>
                <a:lnTo>
                  <a:pt x="5620" y="4615"/>
                </a:lnTo>
                <a:lnTo>
                  <a:pt x="5612" y="4610"/>
                </a:lnTo>
                <a:lnTo>
                  <a:pt x="5604" y="4604"/>
                </a:lnTo>
                <a:lnTo>
                  <a:pt x="5595" y="4600"/>
                </a:lnTo>
                <a:lnTo>
                  <a:pt x="5586" y="4597"/>
                </a:lnTo>
                <a:lnTo>
                  <a:pt x="5576" y="4595"/>
                </a:lnTo>
                <a:lnTo>
                  <a:pt x="5567" y="4594"/>
                </a:lnTo>
                <a:lnTo>
                  <a:pt x="5556" y="4593"/>
                </a:lnTo>
                <a:close/>
                <a:moveTo>
                  <a:pt x="7775" y="5745"/>
                </a:moveTo>
                <a:lnTo>
                  <a:pt x="7774" y="5736"/>
                </a:lnTo>
                <a:lnTo>
                  <a:pt x="7773" y="5728"/>
                </a:lnTo>
                <a:lnTo>
                  <a:pt x="7770" y="5721"/>
                </a:lnTo>
                <a:lnTo>
                  <a:pt x="7766" y="5715"/>
                </a:lnTo>
                <a:lnTo>
                  <a:pt x="7762" y="5709"/>
                </a:lnTo>
                <a:lnTo>
                  <a:pt x="7758" y="5704"/>
                </a:lnTo>
                <a:lnTo>
                  <a:pt x="7752" y="5698"/>
                </a:lnTo>
                <a:lnTo>
                  <a:pt x="7745" y="5694"/>
                </a:lnTo>
                <a:lnTo>
                  <a:pt x="7732" y="5686"/>
                </a:lnTo>
                <a:lnTo>
                  <a:pt x="7717" y="5679"/>
                </a:lnTo>
                <a:lnTo>
                  <a:pt x="7700" y="5674"/>
                </a:lnTo>
                <a:lnTo>
                  <a:pt x="7683" y="5670"/>
                </a:lnTo>
                <a:lnTo>
                  <a:pt x="7679" y="5668"/>
                </a:lnTo>
                <a:lnTo>
                  <a:pt x="7675" y="5665"/>
                </a:lnTo>
                <a:lnTo>
                  <a:pt x="7671" y="5663"/>
                </a:lnTo>
                <a:lnTo>
                  <a:pt x="7669" y="5660"/>
                </a:lnTo>
                <a:lnTo>
                  <a:pt x="7666" y="5652"/>
                </a:lnTo>
                <a:lnTo>
                  <a:pt x="7665" y="5643"/>
                </a:lnTo>
                <a:lnTo>
                  <a:pt x="7664" y="5633"/>
                </a:lnTo>
                <a:lnTo>
                  <a:pt x="7664" y="5622"/>
                </a:lnTo>
                <a:lnTo>
                  <a:pt x="7662" y="5612"/>
                </a:lnTo>
                <a:lnTo>
                  <a:pt x="7659" y="5601"/>
                </a:lnTo>
                <a:lnTo>
                  <a:pt x="7655" y="5594"/>
                </a:lnTo>
                <a:lnTo>
                  <a:pt x="7650" y="5586"/>
                </a:lnTo>
                <a:lnTo>
                  <a:pt x="7644" y="5581"/>
                </a:lnTo>
                <a:lnTo>
                  <a:pt x="7638" y="5577"/>
                </a:lnTo>
                <a:lnTo>
                  <a:pt x="7624" y="5567"/>
                </a:lnTo>
                <a:lnTo>
                  <a:pt x="7608" y="5558"/>
                </a:lnTo>
                <a:lnTo>
                  <a:pt x="7619" y="5544"/>
                </a:lnTo>
                <a:lnTo>
                  <a:pt x="7659" y="5544"/>
                </a:lnTo>
                <a:lnTo>
                  <a:pt x="7663" y="5545"/>
                </a:lnTo>
                <a:lnTo>
                  <a:pt x="7667" y="5547"/>
                </a:lnTo>
                <a:lnTo>
                  <a:pt x="7670" y="5549"/>
                </a:lnTo>
                <a:lnTo>
                  <a:pt x="7674" y="5554"/>
                </a:lnTo>
                <a:lnTo>
                  <a:pt x="7676" y="5558"/>
                </a:lnTo>
                <a:lnTo>
                  <a:pt x="7679" y="5561"/>
                </a:lnTo>
                <a:lnTo>
                  <a:pt x="7682" y="5565"/>
                </a:lnTo>
                <a:lnTo>
                  <a:pt x="7686" y="5567"/>
                </a:lnTo>
                <a:lnTo>
                  <a:pt x="7705" y="5578"/>
                </a:lnTo>
                <a:lnTo>
                  <a:pt x="7722" y="5588"/>
                </a:lnTo>
                <a:lnTo>
                  <a:pt x="7739" y="5598"/>
                </a:lnTo>
                <a:lnTo>
                  <a:pt x="7758" y="5608"/>
                </a:lnTo>
                <a:lnTo>
                  <a:pt x="7747" y="5585"/>
                </a:lnTo>
                <a:lnTo>
                  <a:pt x="7740" y="5563"/>
                </a:lnTo>
                <a:lnTo>
                  <a:pt x="7736" y="5554"/>
                </a:lnTo>
                <a:lnTo>
                  <a:pt x="7731" y="5544"/>
                </a:lnTo>
                <a:lnTo>
                  <a:pt x="7727" y="5539"/>
                </a:lnTo>
                <a:lnTo>
                  <a:pt x="7723" y="5535"/>
                </a:lnTo>
                <a:lnTo>
                  <a:pt x="7719" y="5530"/>
                </a:lnTo>
                <a:lnTo>
                  <a:pt x="7714" y="5527"/>
                </a:lnTo>
                <a:lnTo>
                  <a:pt x="7706" y="5522"/>
                </a:lnTo>
                <a:lnTo>
                  <a:pt x="7700" y="5519"/>
                </a:lnTo>
                <a:lnTo>
                  <a:pt x="7693" y="5516"/>
                </a:lnTo>
                <a:lnTo>
                  <a:pt x="7686" y="5513"/>
                </a:lnTo>
                <a:lnTo>
                  <a:pt x="7680" y="5510"/>
                </a:lnTo>
                <a:lnTo>
                  <a:pt x="7673" y="5508"/>
                </a:lnTo>
                <a:lnTo>
                  <a:pt x="7666" y="5504"/>
                </a:lnTo>
                <a:lnTo>
                  <a:pt x="7659" y="5500"/>
                </a:lnTo>
                <a:lnTo>
                  <a:pt x="7651" y="5492"/>
                </a:lnTo>
                <a:lnTo>
                  <a:pt x="7644" y="5485"/>
                </a:lnTo>
                <a:lnTo>
                  <a:pt x="7638" y="5476"/>
                </a:lnTo>
                <a:lnTo>
                  <a:pt x="7632" y="5469"/>
                </a:lnTo>
                <a:lnTo>
                  <a:pt x="7626" y="5462"/>
                </a:lnTo>
                <a:lnTo>
                  <a:pt x="7619" y="5455"/>
                </a:lnTo>
                <a:lnTo>
                  <a:pt x="7611" y="5450"/>
                </a:lnTo>
                <a:lnTo>
                  <a:pt x="7602" y="5446"/>
                </a:lnTo>
                <a:lnTo>
                  <a:pt x="7588" y="5442"/>
                </a:lnTo>
                <a:lnTo>
                  <a:pt x="7576" y="5438"/>
                </a:lnTo>
                <a:lnTo>
                  <a:pt x="7565" y="5437"/>
                </a:lnTo>
                <a:lnTo>
                  <a:pt x="7553" y="5437"/>
                </a:lnTo>
                <a:lnTo>
                  <a:pt x="7542" y="5436"/>
                </a:lnTo>
                <a:lnTo>
                  <a:pt x="7529" y="5436"/>
                </a:lnTo>
                <a:lnTo>
                  <a:pt x="7516" y="5434"/>
                </a:lnTo>
                <a:lnTo>
                  <a:pt x="7504" y="5432"/>
                </a:lnTo>
                <a:lnTo>
                  <a:pt x="7485" y="5426"/>
                </a:lnTo>
                <a:lnTo>
                  <a:pt x="7468" y="5419"/>
                </a:lnTo>
                <a:lnTo>
                  <a:pt x="7459" y="5416"/>
                </a:lnTo>
                <a:lnTo>
                  <a:pt x="7451" y="5413"/>
                </a:lnTo>
                <a:lnTo>
                  <a:pt x="7442" y="5412"/>
                </a:lnTo>
                <a:lnTo>
                  <a:pt x="7432" y="5411"/>
                </a:lnTo>
                <a:lnTo>
                  <a:pt x="7435" y="5397"/>
                </a:lnTo>
                <a:lnTo>
                  <a:pt x="7445" y="5394"/>
                </a:lnTo>
                <a:lnTo>
                  <a:pt x="7455" y="5390"/>
                </a:lnTo>
                <a:lnTo>
                  <a:pt x="7463" y="5385"/>
                </a:lnTo>
                <a:lnTo>
                  <a:pt x="7473" y="5377"/>
                </a:lnTo>
                <a:lnTo>
                  <a:pt x="7467" y="5367"/>
                </a:lnTo>
                <a:lnTo>
                  <a:pt x="7461" y="5356"/>
                </a:lnTo>
                <a:lnTo>
                  <a:pt x="7456" y="5346"/>
                </a:lnTo>
                <a:lnTo>
                  <a:pt x="7452" y="5333"/>
                </a:lnTo>
                <a:lnTo>
                  <a:pt x="7442" y="5335"/>
                </a:lnTo>
                <a:lnTo>
                  <a:pt x="7433" y="5339"/>
                </a:lnTo>
                <a:lnTo>
                  <a:pt x="7424" y="5342"/>
                </a:lnTo>
                <a:lnTo>
                  <a:pt x="7416" y="5347"/>
                </a:lnTo>
                <a:lnTo>
                  <a:pt x="7409" y="5351"/>
                </a:lnTo>
                <a:lnTo>
                  <a:pt x="7400" y="5354"/>
                </a:lnTo>
                <a:lnTo>
                  <a:pt x="7391" y="5356"/>
                </a:lnTo>
                <a:lnTo>
                  <a:pt x="7381" y="5357"/>
                </a:lnTo>
                <a:lnTo>
                  <a:pt x="7375" y="5356"/>
                </a:lnTo>
                <a:lnTo>
                  <a:pt x="7369" y="5355"/>
                </a:lnTo>
                <a:lnTo>
                  <a:pt x="7364" y="5352"/>
                </a:lnTo>
                <a:lnTo>
                  <a:pt x="7360" y="5348"/>
                </a:lnTo>
                <a:lnTo>
                  <a:pt x="7354" y="5339"/>
                </a:lnTo>
                <a:lnTo>
                  <a:pt x="7347" y="5329"/>
                </a:lnTo>
                <a:lnTo>
                  <a:pt x="7341" y="5317"/>
                </a:lnTo>
                <a:lnTo>
                  <a:pt x="7334" y="5309"/>
                </a:lnTo>
                <a:lnTo>
                  <a:pt x="7329" y="5304"/>
                </a:lnTo>
                <a:lnTo>
                  <a:pt x="7324" y="5302"/>
                </a:lnTo>
                <a:lnTo>
                  <a:pt x="7319" y="5300"/>
                </a:lnTo>
                <a:lnTo>
                  <a:pt x="7312" y="5299"/>
                </a:lnTo>
                <a:lnTo>
                  <a:pt x="7309" y="5300"/>
                </a:lnTo>
                <a:lnTo>
                  <a:pt x="7306" y="5300"/>
                </a:lnTo>
                <a:lnTo>
                  <a:pt x="7304" y="5302"/>
                </a:lnTo>
                <a:lnTo>
                  <a:pt x="7301" y="5304"/>
                </a:lnTo>
                <a:lnTo>
                  <a:pt x="7297" y="5309"/>
                </a:lnTo>
                <a:lnTo>
                  <a:pt x="7292" y="5315"/>
                </a:lnTo>
                <a:lnTo>
                  <a:pt x="7288" y="5320"/>
                </a:lnTo>
                <a:lnTo>
                  <a:pt x="7284" y="5325"/>
                </a:lnTo>
                <a:lnTo>
                  <a:pt x="7282" y="5327"/>
                </a:lnTo>
                <a:lnTo>
                  <a:pt x="7279" y="5329"/>
                </a:lnTo>
                <a:lnTo>
                  <a:pt x="7275" y="5330"/>
                </a:lnTo>
                <a:lnTo>
                  <a:pt x="7272" y="5330"/>
                </a:lnTo>
                <a:lnTo>
                  <a:pt x="7266" y="5330"/>
                </a:lnTo>
                <a:lnTo>
                  <a:pt x="7261" y="5329"/>
                </a:lnTo>
                <a:lnTo>
                  <a:pt x="7256" y="5328"/>
                </a:lnTo>
                <a:lnTo>
                  <a:pt x="7251" y="5325"/>
                </a:lnTo>
                <a:lnTo>
                  <a:pt x="7243" y="5321"/>
                </a:lnTo>
                <a:lnTo>
                  <a:pt x="7234" y="5315"/>
                </a:lnTo>
                <a:lnTo>
                  <a:pt x="7218" y="5302"/>
                </a:lnTo>
                <a:lnTo>
                  <a:pt x="7200" y="5290"/>
                </a:lnTo>
                <a:lnTo>
                  <a:pt x="7190" y="5284"/>
                </a:lnTo>
                <a:lnTo>
                  <a:pt x="7180" y="5281"/>
                </a:lnTo>
                <a:lnTo>
                  <a:pt x="7170" y="5279"/>
                </a:lnTo>
                <a:lnTo>
                  <a:pt x="7160" y="5278"/>
                </a:lnTo>
                <a:lnTo>
                  <a:pt x="7139" y="5278"/>
                </a:lnTo>
                <a:lnTo>
                  <a:pt x="7116" y="5276"/>
                </a:lnTo>
                <a:lnTo>
                  <a:pt x="7109" y="5274"/>
                </a:lnTo>
                <a:lnTo>
                  <a:pt x="7102" y="5272"/>
                </a:lnTo>
                <a:lnTo>
                  <a:pt x="7096" y="5270"/>
                </a:lnTo>
                <a:lnTo>
                  <a:pt x="7090" y="5266"/>
                </a:lnTo>
                <a:lnTo>
                  <a:pt x="7079" y="5260"/>
                </a:lnTo>
                <a:lnTo>
                  <a:pt x="7068" y="5253"/>
                </a:lnTo>
                <a:lnTo>
                  <a:pt x="7058" y="5246"/>
                </a:lnTo>
                <a:lnTo>
                  <a:pt x="7046" y="5240"/>
                </a:lnTo>
                <a:lnTo>
                  <a:pt x="7041" y="5238"/>
                </a:lnTo>
                <a:lnTo>
                  <a:pt x="7035" y="5236"/>
                </a:lnTo>
                <a:lnTo>
                  <a:pt x="7028" y="5235"/>
                </a:lnTo>
                <a:lnTo>
                  <a:pt x="7021" y="5235"/>
                </a:lnTo>
                <a:lnTo>
                  <a:pt x="7020" y="5227"/>
                </a:lnTo>
                <a:lnTo>
                  <a:pt x="7020" y="5220"/>
                </a:lnTo>
                <a:lnTo>
                  <a:pt x="7018" y="5214"/>
                </a:lnTo>
                <a:lnTo>
                  <a:pt x="7016" y="5206"/>
                </a:lnTo>
                <a:lnTo>
                  <a:pt x="7014" y="5200"/>
                </a:lnTo>
                <a:lnTo>
                  <a:pt x="7010" y="5192"/>
                </a:lnTo>
                <a:lnTo>
                  <a:pt x="7007" y="5187"/>
                </a:lnTo>
                <a:lnTo>
                  <a:pt x="7003" y="5181"/>
                </a:lnTo>
                <a:lnTo>
                  <a:pt x="6999" y="5176"/>
                </a:lnTo>
                <a:lnTo>
                  <a:pt x="6994" y="5171"/>
                </a:lnTo>
                <a:lnTo>
                  <a:pt x="6988" y="5167"/>
                </a:lnTo>
                <a:lnTo>
                  <a:pt x="6983" y="5163"/>
                </a:lnTo>
                <a:lnTo>
                  <a:pt x="6977" y="5161"/>
                </a:lnTo>
                <a:lnTo>
                  <a:pt x="6970" y="5159"/>
                </a:lnTo>
                <a:lnTo>
                  <a:pt x="6963" y="5158"/>
                </a:lnTo>
                <a:lnTo>
                  <a:pt x="6957" y="5157"/>
                </a:lnTo>
                <a:lnTo>
                  <a:pt x="6950" y="5157"/>
                </a:lnTo>
                <a:lnTo>
                  <a:pt x="6945" y="5159"/>
                </a:lnTo>
                <a:lnTo>
                  <a:pt x="6941" y="5160"/>
                </a:lnTo>
                <a:lnTo>
                  <a:pt x="6935" y="5162"/>
                </a:lnTo>
                <a:lnTo>
                  <a:pt x="6931" y="5164"/>
                </a:lnTo>
                <a:lnTo>
                  <a:pt x="6926" y="5165"/>
                </a:lnTo>
                <a:lnTo>
                  <a:pt x="6921" y="5166"/>
                </a:lnTo>
                <a:lnTo>
                  <a:pt x="6915" y="5167"/>
                </a:lnTo>
                <a:lnTo>
                  <a:pt x="6911" y="5166"/>
                </a:lnTo>
                <a:lnTo>
                  <a:pt x="6908" y="5164"/>
                </a:lnTo>
                <a:lnTo>
                  <a:pt x="6906" y="5161"/>
                </a:lnTo>
                <a:lnTo>
                  <a:pt x="6904" y="5158"/>
                </a:lnTo>
                <a:lnTo>
                  <a:pt x="6901" y="5148"/>
                </a:lnTo>
                <a:lnTo>
                  <a:pt x="6898" y="5140"/>
                </a:lnTo>
                <a:lnTo>
                  <a:pt x="6887" y="5143"/>
                </a:lnTo>
                <a:lnTo>
                  <a:pt x="6877" y="5146"/>
                </a:lnTo>
                <a:lnTo>
                  <a:pt x="6868" y="5149"/>
                </a:lnTo>
                <a:lnTo>
                  <a:pt x="6857" y="5153"/>
                </a:lnTo>
                <a:lnTo>
                  <a:pt x="6848" y="5133"/>
                </a:lnTo>
                <a:lnTo>
                  <a:pt x="6840" y="5113"/>
                </a:lnTo>
                <a:lnTo>
                  <a:pt x="6836" y="5105"/>
                </a:lnTo>
                <a:lnTo>
                  <a:pt x="6830" y="5096"/>
                </a:lnTo>
                <a:lnTo>
                  <a:pt x="6827" y="5093"/>
                </a:lnTo>
                <a:lnTo>
                  <a:pt x="6823" y="5090"/>
                </a:lnTo>
                <a:lnTo>
                  <a:pt x="6818" y="5088"/>
                </a:lnTo>
                <a:lnTo>
                  <a:pt x="6814" y="5086"/>
                </a:lnTo>
                <a:lnTo>
                  <a:pt x="6801" y="5082"/>
                </a:lnTo>
                <a:lnTo>
                  <a:pt x="6789" y="5078"/>
                </a:lnTo>
                <a:lnTo>
                  <a:pt x="6777" y="5077"/>
                </a:lnTo>
                <a:lnTo>
                  <a:pt x="6765" y="5075"/>
                </a:lnTo>
                <a:lnTo>
                  <a:pt x="6755" y="5074"/>
                </a:lnTo>
                <a:lnTo>
                  <a:pt x="6743" y="5072"/>
                </a:lnTo>
                <a:lnTo>
                  <a:pt x="6731" y="5069"/>
                </a:lnTo>
                <a:lnTo>
                  <a:pt x="6718" y="5065"/>
                </a:lnTo>
                <a:lnTo>
                  <a:pt x="6721" y="5056"/>
                </a:lnTo>
                <a:lnTo>
                  <a:pt x="6724" y="5049"/>
                </a:lnTo>
                <a:lnTo>
                  <a:pt x="6728" y="5042"/>
                </a:lnTo>
                <a:lnTo>
                  <a:pt x="6734" y="5037"/>
                </a:lnTo>
                <a:lnTo>
                  <a:pt x="6739" y="5032"/>
                </a:lnTo>
                <a:lnTo>
                  <a:pt x="6745" y="5028"/>
                </a:lnTo>
                <a:lnTo>
                  <a:pt x="6753" y="5023"/>
                </a:lnTo>
                <a:lnTo>
                  <a:pt x="6760" y="5020"/>
                </a:lnTo>
                <a:lnTo>
                  <a:pt x="6776" y="5015"/>
                </a:lnTo>
                <a:lnTo>
                  <a:pt x="6794" y="5013"/>
                </a:lnTo>
                <a:lnTo>
                  <a:pt x="6812" y="5011"/>
                </a:lnTo>
                <a:lnTo>
                  <a:pt x="6831" y="5011"/>
                </a:lnTo>
                <a:lnTo>
                  <a:pt x="6835" y="5011"/>
                </a:lnTo>
                <a:lnTo>
                  <a:pt x="6840" y="5012"/>
                </a:lnTo>
                <a:lnTo>
                  <a:pt x="6845" y="5014"/>
                </a:lnTo>
                <a:lnTo>
                  <a:pt x="6848" y="5016"/>
                </a:lnTo>
                <a:lnTo>
                  <a:pt x="6855" y="5022"/>
                </a:lnTo>
                <a:lnTo>
                  <a:pt x="6862" y="5029"/>
                </a:lnTo>
                <a:lnTo>
                  <a:pt x="6868" y="5036"/>
                </a:lnTo>
                <a:lnTo>
                  <a:pt x="6874" y="5042"/>
                </a:lnTo>
                <a:lnTo>
                  <a:pt x="6878" y="5045"/>
                </a:lnTo>
                <a:lnTo>
                  <a:pt x="6882" y="5047"/>
                </a:lnTo>
                <a:lnTo>
                  <a:pt x="6887" y="5048"/>
                </a:lnTo>
                <a:lnTo>
                  <a:pt x="6892" y="5048"/>
                </a:lnTo>
                <a:lnTo>
                  <a:pt x="6903" y="5047"/>
                </a:lnTo>
                <a:lnTo>
                  <a:pt x="6912" y="5045"/>
                </a:lnTo>
                <a:lnTo>
                  <a:pt x="6921" y="5040"/>
                </a:lnTo>
                <a:lnTo>
                  <a:pt x="6929" y="5035"/>
                </a:lnTo>
                <a:lnTo>
                  <a:pt x="6936" y="5028"/>
                </a:lnTo>
                <a:lnTo>
                  <a:pt x="6943" y="5020"/>
                </a:lnTo>
                <a:lnTo>
                  <a:pt x="6949" y="5013"/>
                </a:lnTo>
                <a:lnTo>
                  <a:pt x="6957" y="5003"/>
                </a:lnTo>
                <a:lnTo>
                  <a:pt x="6947" y="4993"/>
                </a:lnTo>
                <a:lnTo>
                  <a:pt x="6938" y="4984"/>
                </a:lnTo>
                <a:lnTo>
                  <a:pt x="6928" y="4978"/>
                </a:lnTo>
                <a:lnTo>
                  <a:pt x="6917" y="4972"/>
                </a:lnTo>
                <a:lnTo>
                  <a:pt x="6894" y="4962"/>
                </a:lnTo>
                <a:lnTo>
                  <a:pt x="6868" y="4953"/>
                </a:lnTo>
                <a:lnTo>
                  <a:pt x="6846" y="4946"/>
                </a:lnTo>
                <a:lnTo>
                  <a:pt x="6823" y="4941"/>
                </a:lnTo>
                <a:lnTo>
                  <a:pt x="6819" y="4940"/>
                </a:lnTo>
                <a:lnTo>
                  <a:pt x="6814" y="4938"/>
                </a:lnTo>
                <a:lnTo>
                  <a:pt x="6810" y="4935"/>
                </a:lnTo>
                <a:lnTo>
                  <a:pt x="6807" y="4933"/>
                </a:lnTo>
                <a:lnTo>
                  <a:pt x="6803" y="4930"/>
                </a:lnTo>
                <a:lnTo>
                  <a:pt x="6801" y="4925"/>
                </a:lnTo>
                <a:lnTo>
                  <a:pt x="6800" y="4921"/>
                </a:lnTo>
                <a:lnTo>
                  <a:pt x="6800" y="4916"/>
                </a:lnTo>
                <a:lnTo>
                  <a:pt x="6803" y="4908"/>
                </a:lnTo>
                <a:lnTo>
                  <a:pt x="6807" y="4902"/>
                </a:lnTo>
                <a:lnTo>
                  <a:pt x="6857" y="4912"/>
                </a:lnTo>
                <a:lnTo>
                  <a:pt x="6870" y="4910"/>
                </a:lnTo>
                <a:lnTo>
                  <a:pt x="6882" y="4908"/>
                </a:lnTo>
                <a:lnTo>
                  <a:pt x="6874" y="4899"/>
                </a:lnTo>
                <a:lnTo>
                  <a:pt x="6867" y="4889"/>
                </a:lnTo>
                <a:lnTo>
                  <a:pt x="6859" y="4881"/>
                </a:lnTo>
                <a:lnTo>
                  <a:pt x="6851" y="4871"/>
                </a:lnTo>
                <a:lnTo>
                  <a:pt x="6851" y="4830"/>
                </a:lnTo>
                <a:lnTo>
                  <a:pt x="6874" y="4830"/>
                </a:lnTo>
                <a:lnTo>
                  <a:pt x="6886" y="4831"/>
                </a:lnTo>
                <a:lnTo>
                  <a:pt x="6896" y="4834"/>
                </a:lnTo>
                <a:lnTo>
                  <a:pt x="6906" y="4838"/>
                </a:lnTo>
                <a:lnTo>
                  <a:pt x="6915" y="4843"/>
                </a:lnTo>
                <a:lnTo>
                  <a:pt x="6924" y="4849"/>
                </a:lnTo>
                <a:lnTo>
                  <a:pt x="6932" y="4857"/>
                </a:lnTo>
                <a:lnTo>
                  <a:pt x="6940" y="4864"/>
                </a:lnTo>
                <a:lnTo>
                  <a:pt x="6948" y="4871"/>
                </a:lnTo>
                <a:lnTo>
                  <a:pt x="6955" y="4879"/>
                </a:lnTo>
                <a:lnTo>
                  <a:pt x="6963" y="4886"/>
                </a:lnTo>
                <a:lnTo>
                  <a:pt x="6971" y="4894"/>
                </a:lnTo>
                <a:lnTo>
                  <a:pt x="6980" y="4899"/>
                </a:lnTo>
                <a:lnTo>
                  <a:pt x="6989" y="4904"/>
                </a:lnTo>
                <a:lnTo>
                  <a:pt x="6999" y="4908"/>
                </a:lnTo>
                <a:lnTo>
                  <a:pt x="7009" y="4912"/>
                </a:lnTo>
                <a:lnTo>
                  <a:pt x="7022" y="4912"/>
                </a:lnTo>
                <a:lnTo>
                  <a:pt x="7047" y="4912"/>
                </a:lnTo>
                <a:lnTo>
                  <a:pt x="7047" y="4888"/>
                </a:lnTo>
                <a:lnTo>
                  <a:pt x="7051" y="4875"/>
                </a:lnTo>
                <a:lnTo>
                  <a:pt x="7054" y="4863"/>
                </a:lnTo>
                <a:lnTo>
                  <a:pt x="7056" y="4850"/>
                </a:lnTo>
                <a:lnTo>
                  <a:pt x="7057" y="4838"/>
                </a:lnTo>
                <a:lnTo>
                  <a:pt x="7064" y="4840"/>
                </a:lnTo>
                <a:lnTo>
                  <a:pt x="7071" y="4843"/>
                </a:lnTo>
                <a:lnTo>
                  <a:pt x="7076" y="4847"/>
                </a:lnTo>
                <a:lnTo>
                  <a:pt x="7080" y="4853"/>
                </a:lnTo>
                <a:lnTo>
                  <a:pt x="7083" y="4860"/>
                </a:lnTo>
                <a:lnTo>
                  <a:pt x="7085" y="4867"/>
                </a:lnTo>
                <a:lnTo>
                  <a:pt x="7089" y="4875"/>
                </a:lnTo>
                <a:lnTo>
                  <a:pt x="7091" y="4882"/>
                </a:lnTo>
                <a:lnTo>
                  <a:pt x="7095" y="4898"/>
                </a:lnTo>
                <a:lnTo>
                  <a:pt x="7100" y="4913"/>
                </a:lnTo>
                <a:lnTo>
                  <a:pt x="7104" y="4919"/>
                </a:lnTo>
                <a:lnTo>
                  <a:pt x="7110" y="4924"/>
                </a:lnTo>
                <a:lnTo>
                  <a:pt x="7115" y="4928"/>
                </a:lnTo>
                <a:lnTo>
                  <a:pt x="7122" y="4933"/>
                </a:lnTo>
                <a:lnTo>
                  <a:pt x="7123" y="4924"/>
                </a:lnTo>
                <a:lnTo>
                  <a:pt x="7126" y="4918"/>
                </a:lnTo>
                <a:lnTo>
                  <a:pt x="7128" y="4910"/>
                </a:lnTo>
                <a:lnTo>
                  <a:pt x="7130" y="4904"/>
                </a:lnTo>
                <a:lnTo>
                  <a:pt x="7136" y="4893"/>
                </a:lnTo>
                <a:lnTo>
                  <a:pt x="7145" y="4882"/>
                </a:lnTo>
                <a:lnTo>
                  <a:pt x="7153" y="4870"/>
                </a:lnTo>
                <a:lnTo>
                  <a:pt x="7161" y="4860"/>
                </a:lnTo>
                <a:lnTo>
                  <a:pt x="7170" y="4847"/>
                </a:lnTo>
                <a:lnTo>
                  <a:pt x="7177" y="4833"/>
                </a:lnTo>
                <a:lnTo>
                  <a:pt x="7183" y="4819"/>
                </a:lnTo>
                <a:lnTo>
                  <a:pt x="7186" y="4804"/>
                </a:lnTo>
                <a:lnTo>
                  <a:pt x="7188" y="4789"/>
                </a:lnTo>
                <a:lnTo>
                  <a:pt x="7189" y="4775"/>
                </a:lnTo>
                <a:lnTo>
                  <a:pt x="7190" y="4761"/>
                </a:lnTo>
                <a:lnTo>
                  <a:pt x="7191" y="4746"/>
                </a:lnTo>
                <a:lnTo>
                  <a:pt x="7193" y="4731"/>
                </a:lnTo>
                <a:lnTo>
                  <a:pt x="7197" y="4715"/>
                </a:lnTo>
                <a:lnTo>
                  <a:pt x="7204" y="4723"/>
                </a:lnTo>
                <a:lnTo>
                  <a:pt x="7210" y="4731"/>
                </a:lnTo>
                <a:lnTo>
                  <a:pt x="7214" y="4738"/>
                </a:lnTo>
                <a:lnTo>
                  <a:pt x="7218" y="4747"/>
                </a:lnTo>
                <a:lnTo>
                  <a:pt x="7223" y="4754"/>
                </a:lnTo>
                <a:lnTo>
                  <a:pt x="7226" y="4763"/>
                </a:lnTo>
                <a:lnTo>
                  <a:pt x="7228" y="4770"/>
                </a:lnTo>
                <a:lnTo>
                  <a:pt x="7230" y="4779"/>
                </a:lnTo>
                <a:lnTo>
                  <a:pt x="7233" y="4795"/>
                </a:lnTo>
                <a:lnTo>
                  <a:pt x="7234" y="4813"/>
                </a:lnTo>
                <a:lnTo>
                  <a:pt x="7234" y="4832"/>
                </a:lnTo>
                <a:lnTo>
                  <a:pt x="7234" y="4852"/>
                </a:lnTo>
                <a:lnTo>
                  <a:pt x="7235" y="4863"/>
                </a:lnTo>
                <a:lnTo>
                  <a:pt x="7234" y="4872"/>
                </a:lnTo>
                <a:lnTo>
                  <a:pt x="7234" y="4877"/>
                </a:lnTo>
                <a:lnTo>
                  <a:pt x="7232" y="4881"/>
                </a:lnTo>
                <a:lnTo>
                  <a:pt x="7231" y="4884"/>
                </a:lnTo>
                <a:lnTo>
                  <a:pt x="7228" y="4888"/>
                </a:lnTo>
                <a:lnTo>
                  <a:pt x="7225" y="4891"/>
                </a:lnTo>
                <a:lnTo>
                  <a:pt x="7222" y="4894"/>
                </a:lnTo>
                <a:lnTo>
                  <a:pt x="7217" y="4895"/>
                </a:lnTo>
                <a:lnTo>
                  <a:pt x="7214" y="4897"/>
                </a:lnTo>
                <a:lnTo>
                  <a:pt x="7206" y="4899"/>
                </a:lnTo>
                <a:lnTo>
                  <a:pt x="7197" y="4901"/>
                </a:lnTo>
                <a:lnTo>
                  <a:pt x="7189" y="4903"/>
                </a:lnTo>
                <a:lnTo>
                  <a:pt x="7183" y="4906"/>
                </a:lnTo>
                <a:lnTo>
                  <a:pt x="7180" y="4908"/>
                </a:lnTo>
                <a:lnTo>
                  <a:pt x="7178" y="4912"/>
                </a:lnTo>
                <a:lnTo>
                  <a:pt x="7177" y="4915"/>
                </a:lnTo>
                <a:lnTo>
                  <a:pt x="7177" y="4919"/>
                </a:lnTo>
                <a:lnTo>
                  <a:pt x="7177" y="4928"/>
                </a:lnTo>
                <a:lnTo>
                  <a:pt x="7179" y="4936"/>
                </a:lnTo>
                <a:lnTo>
                  <a:pt x="7181" y="4944"/>
                </a:lnTo>
                <a:lnTo>
                  <a:pt x="7185" y="4952"/>
                </a:lnTo>
                <a:lnTo>
                  <a:pt x="7189" y="4958"/>
                </a:lnTo>
                <a:lnTo>
                  <a:pt x="7194" y="4964"/>
                </a:lnTo>
                <a:lnTo>
                  <a:pt x="7200" y="4971"/>
                </a:lnTo>
                <a:lnTo>
                  <a:pt x="7208" y="4977"/>
                </a:lnTo>
                <a:lnTo>
                  <a:pt x="7248" y="4956"/>
                </a:lnTo>
                <a:lnTo>
                  <a:pt x="7265" y="4963"/>
                </a:lnTo>
                <a:lnTo>
                  <a:pt x="7264" y="4982"/>
                </a:lnTo>
                <a:lnTo>
                  <a:pt x="7264" y="4998"/>
                </a:lnTo>
                <a:lnTo>
                  <a:pt x="7265" y="5015"/>
                </a:lnTo>
                <a:lnTo>
                  <a:pt x="7265" y="5034"/>
                </a:lnTo>
                <a:lnTo>
                  <a:pt x="7282" y="5037"/>
                </a:lnTo>
                <a:lnTo>
                  <a:pt x="7293" y="5033"/>
                </a:lnTo>
                <a:lnTo>
                  <a:pt x="7304" y="5027"/>
                </a:lnTo>
                <a:lnTo>
                  <a:pt x="7313" y="5019"/>
                </a:lnTo>
                <a:lnTo>
                  <a:pt x="7323" y="5011"/>
                </a:lnTo>
                <a:lnTo>
                  <a:pt x="7340" y="5028"/>
                </a:lnTo>
                <a:lnTo>
                  <a:pt x="7353" y="5044"/>
                </a:lnTo>
                <a:lnTo>
                  <a:pt x="7360" y="5051"/>
                </a:lnTo>
                <a:lnTo>
                  <a:pt x="7366" y="5059"/>
                </a:lnTo>
                <a:lnTo>
                  <a:pt x="7375" y="5067"/>
                </a:lnTo>
                <a:lnTo>
                  <a:pt x="7384" y="5075"/>
                </a:lnTo>
                <a:lnTo>
                  <a:pt x="7393" y="5061"/>
                </a:lnTo>
                <a:lnTo>
                  <a:pt x="7401" y="5048"/>
                </a:lnTo>
                <a:lnTo>
                  <a:pt x="7412" y="5063"/>
                </a:lnTo>
                <a:lnTo>
                  <a:pt x="7421" y="5077"/>
                </a:lnTo>
                <a:lnTo>
                  <a:pt x="7426" y="5083"/>
                </a:lnTo>
                <a:lnTo>
                  <a:pt x="7433" y="5088"/>
                </a:lnTo>
                <a:lnTo>
                  <a:pt x="7436" y="5090"/>
                </a:lnTo>
                <a:lnTo>
                  <a:pt x="7440" y="5091"/>
                </a:lnTo>
                <a:lnTo>
                  <a:pt x="7444" y="5092"/>
                </a:lnTo>
                <a:lnTo>
                  <a:pt x="7449" y="5092"/>
                </a:lnTo>
                <a:lnTo>
                  <a:pt x="7453" y="5092"/>
                </a:lnTo>
                <a:lnTo>
                  <a:pt x="7457" y="5090"/>
                </a:lnTo>
                <a:lnTo>
                  <a:pt x="7461" y="5088"/>
                </a:lnTo>
                <a:lnTo>
                  <a:pt x="7464" y="5086"/>
                </a:lnTo>
                <a:lnTo>
                  <a:pt x="7471" y="5079"/>
                </a:lnTo>
                <a:lnTo>
                  <a:pt x="7476" y="5072"/>
                </a:lnTo>
                <a:lnTo>
                  <a:pt x="7481" y="5065"/>
                </a:lnTo>
                <a:lnTo>
                  <a:pt x="7487" y="5057"/>
                </a:lnTo>
                <a:lnTo>
                  <a:pt x="7491" y="5055"/>
                </a:lnTo>
                <a:lnTo>
                  <a:pt x="7494" y="5053"/>
                </a:lnTo>
                <a:lnTo>
                  <a:pt x="7498" y="5052"/>
                </a:lnTo>
                <a:lnTo>
                  <a:pt x="7504" y="5051"/>
                </a:lnTo>
                <a:lnTo>
                  <a:pt x="7511" y="5052"/>
                </a:lnTo>
                <a:lnTo>
                  <a:pt x="7519" y="5054"/>
                </a:lnTo>
                <a:lnTo>
                  <a:pt x="7526" y="5057"/>
                </a:lnTo>
                <a:lnTo>
                  <a:pt x="7532" y="5061"/>
                </a:lnTo>
                <a:lnTo>
                  <a:pt x="7545" y="5071"/>
                </a:lnTo>
                <a:lnTo>
                  <a:pt x="7557" y="5082"/>
                </a:lnTo>
                <a:lnTo>
                  <a:pt x="7557" y="5027"/>
                </a:lnTo>
                <a:lnTo>
                  <a:pt x="7557" y="5017"/>
                </a:lnTo>
                <a:lnTo>
                  <a:pt x="7556" y="5009"/>
                </a:lnTo>
                <a:lnTo>
                  <a:pt x="7554" y="5000"/>
                </a:lnTo>
                <a:lnTo>
                  <a:pt x="7551" y="4992"/>
                </a:lnTo>
                <a:lnTo>
                  <a:pt x="7548" y="4984"/>
                </a:lnTo>
                <a:lnTo>
                  <a:pt x="7545" y="4977"/>
                </a:lnTo>
                <a:lnTo>
                  <a:pt x="7541" y="4971"/>
                </a:lnTo>
                <a:lnTo>
                  <a:pt x="7535" y="4963"/>
                </a:lnTo>
                <a:lnTo>
                  <a:pt x="7525" y="4951"/>
                </a:lnTo>
                <a:lnTo>
                  <a:pt x="7513" y="4938"/>
                </a:lnTo>
                <a:lnTo>
                  <a:pt x="7499" y="4925"/>
                </a:lnTo>
                <a:lnTo>
                  <a:pt x="7486" y="4912"/>
                </a:lnTo>
                <a:lnTo>
                  <a:pt x="7477" y="4901"/>
                </a:lnTo>
                <a:lnTo>
                  <a:pt x="7470" y="4890"/>
                </a:lnTo>
                <a:lnTo>
                  <a:pt x="7464" y="4879"/>
                </a:lnTo>
                <a:lnTo>
                  <a:pt x="7459" y="4868"/>
                </a:lnTo>
                <a:lnTo>
                  <a:pt x="7453" y="4857"/>
                </a:lnTo>
                <a:lnTo>
                  <a:pt x="7447" y="4847"/>
                </a:lnTo>
                <a:lnTo>
                  <a:pt x="7442" y="4843"/>
                </a:lnTo>
                <a:lnTo>
                  <a:pt x="7437" y="4839"/>
                </a:lnTo>
                <a:lnTo>
                  <a:pt x="7432" y="4834"/>
                </a:lnTo>
                <a:lnTo>
                  <a:pt x="7425" y="4830"/>
                </a:lnTo>
                <a:lnTo>
                  <a:pt x="7429" y="4817"/>
                </a:lnTo>
                <a:lnTo>
                  <a:pt x="7448" y="4824"/>
                </a:lnTo>
                <a:lnTo>
                  <a:pt x="7466" y="4829"/>
                </a:lnTo>
                <a:lnTo>
                  <a:pt x="7474" y="4831"/>
                </a:lnTo>
                <a:lnTo>
                  <a:pt x="7482" y="4832"/>
                </a:lnTo>
                <a:lnTo>
                  <a:pt x="7492" y="4833"/>
                </a:lnTo>
                <a:lnTo>
                  <a:pt x="7504" y="4833"/>
                </a:lnTo>
                <a:lnTo>
                  <a:pt x="7510" y="4833"/>
                </a:lnTo>
                <a:lnTo>
                  <a:pt x="7517" y="4832"/>
                </a:lnTo>
                <a:lnTo>
                  <a:pt x="7524" y="4830"/>
                </a:lnTo>
                <a:lnTo>
                  <a:pt x="7529" y="4827"/>
                </a:lnTo>
                <a:lnTo>
                  <a:pt x="7534" y="4823"/>
                </a:lnTo>
                <a:lnTo>
                  <a:pt x="7539" y="4819"/>
                </a:lnTo>
                <a:lnTo>
                  <a:pt x="7544" y="4813"/>
                </a:lnTo>
                <a:lnTo>
                  <a:pt x="7548" y="4808"/>
                </a:lnTo>
                <a:lnTo>
                  <a:pt x="7552" y="4803"/>
                </a:lnTo>
                <a:lnTo>
                  <a:pt x="7555" y="4796"/>
                </a:lnTo>
                <a:lnTo>
                  <a:pt x="7557" y="4789"/>
                </a:lnTo>
                <a:lnTo>
                  <a:pt x="7561" y="4783"/>
                </a:lnTo>
                <a:lnTo>
                  <a:pt x="7563" y="4768"/>
                </a:lnTo>
                <a:lnTo>
                  <a:pt x="7564" y="4753"/>
                </a:lnTo>
                <a:lnTo>
                  <a:pt x="7564" y="4726"/>
                </a:lnTo>
                <a:lnTo>
                  <a:pt x="7554" y="4725"/>
                </a:lnTo>
                <a:lnTo>
                  <a:pt x="7545" y="4724"/>
                </a:lnTo>
                <a:lnTo>
                  <a:pt x="7535" y="4723"/>
                </a:lnTo>
                <a:lnTo>
                  <a:pt x="7527" y="4720"/>
                </a:lnTo>
                <a:lnTo>
                  <a:pt x="7518" y="4717"/>
                </a:lnTo>
                <a:lnTo>
                  <a:pt x="7510" y="4714"/>
                </a:lnTo>
                <a:lnTo>
                  <a:pt x="7501" y="4710"/>
                </a:lnTo>
                <a:lnTo>
                  <a:pt x="7493" y="4705"/>
                </a:lnTo>
                <a:lnTo>
                  <a:pt x="7499" y="4700"/>
                </a:lnTo>
                <a:lnTo>
                  <a:pt x="7506" y="4697"/>
                </a:lnTo>
                <a:lnTo>
                  <a:pt x="7513" y="4695"/>
                </a:lnTo>
                <a:lnTo>
                  <a:pt x="7520" y="4693"/>
                </a:lnTo>
                <a:lnTo>
                  <a:pt x="7536" y="4689"/>
                </a:lnTo>
                <a:lnTo>
                  <a:pt x="7551" y="4686"/>
                </a:lnTo>
                <a:lnTo>
                  <a:pt x="7557" y="4683"/>
                </a:lnTo>
                <a:lnTo>
                  <a:pt x="7564" y="4681"/>
                </a:lnTo>
                <a:lnTo>
                  <a:pt x="7570" y="4679"/>
                </a:lnTo>
                <a:lnTo>
                  <a:pt x="7574" y="4676"/>
                </a:lnTo>
                <a:lnTo>
                  <a:pt x="7579" y="4672"/>
                </a:lnTo>
                <a:lnTo>
                  <a:pt x="7582" y="4667"/>
                </a:lnTo>
                <a:lnTo>
                  <a:pt x="7584" y="4661"/>
                </a:lnTo>
                <a:lnTo>
                  <a:pt x="7585" y="4654"/>
                </a:lnTo>
                <a:lnTo>
                  <a:pt x="7584" y="4651"/>
                </a:lnTo>
                <a:lnTo>
                  <a:pt x="7584" y="4648"/>
                </a:lnTo>
                <a:lnTo>
                  <a:pt x="7582" y="4645"/>
                </a:lnTo>
                <a:lnTo>
                  <a:pt x="7580" y="4643"/>
                </a:lnTo>
                <a:lnTo>
                  <a:pt x="7574" y="4640"/>
                </a:lnTo>
                <a:lnTo>
                  <a:pt x="7568" y="4638"/>
                </a:lnTo>
                <a:lnTo>
                  <a:pt x="7553" y="4637"/>
                </a:lnTo>
                <a:lnTo>
                  <a:pt x="7537" y="4637"/>
                </a:lnTo>
                <a:lnTo>
                  <a:pt x="7520" y="4635"/>
                </a:lnTo>
                <a:lnTo>
                  <a:pt x="7506" y="4632"/>
                </a:lnTo>
                <a:lnTo>
                  <a:pt x="7492" y="4626"/>
                </a:lnTo>
                <a:lnTo>
                  <a:pt x="7479" y="4620"/>
                </a:lnTo>
                <a:lnTo>
                  <a:pt x="7467" y="4613"/>
                </a:lnTo>
                <a:lnTo>
                  <a:pt x="7456" y="4603"/>
                </a:lnTo>
                <a:lnTo>
                  <a:pt x="7445" y="4592"/>
                </a:lnTo>
                <a:lnTo>
                  <a:pt x="7435" y="4579"/>
                </a:lnTo>
                <a:lnTo>
                  <a:pt x="7450" y="4574"/>
                </a:lnTo>
                <a:lnTo>
                  <a:pt x="7463" y="4569"/>
                </a:lnTo>
                <a:lnTo>
                  <a:pt x="7477" y="4565"/>
                </a:lnTo>
                <a:lnTo>
                  <a:pt x="7493" y="4562"/>
                </a:lnTo>
                <a:lnTo>
                  <a:pt x="7509" y="4560"/>
                </a:lnTo>
                <a:lnTo>
                  <a:pt x="7525" y="4556"/>
                </a:lnTo>
                <a:lnTo>
                  <a:pt x="7531" y="4553"/>
                </a:lnTo>
                <a:lnTo>
                  <a:pt x="7536" y="4547"/>
                </a:lnTo>
                <a:lnTo>
                  <a:pt x="7537" y="4545"/>
                </a:lnTo>
                <a:lnTo>
                  <a:pt x="7539" y="4542"/>
                </a:lnTo>
                <a:lnTo>
                  <a:pt x="7541" y="4539"/>
                </a:lnTo>
                <a:lnTo>
                  <a:pt x="7541" y="4535"/>
                </a:lnTo>
                <a:lnTo>
                  <a:pt x="7539" y="4526"/>
                </a:lnTo>
                <a:lnTo>
                  <a:pt x="7538" y="4519"/>
                </a:lnTo>
                <a:lnTo>
                  <a:pt x="7535" y="4511"/>
                </a:lnTo>
                <a:lnTo>
                  <a:pt x="7531" y="4505"/>
                </a:lnTo>
                <a:lnTo>
                  <a:pt x="7526" y="4499"/>
                </a:lnTo>
                <a:lnTo>
                  <a:pt x="7520" y="4493"/>
                </a:lnTo>
                <a:lnTo>
                  <a:pt x="7514" y="4489"/>
                </a:lnTo>
                <a:lnTo>
                  <a:pt x="7507" y="4484"/>
                </a:lnTo>
                <a:lnTo>
                  <a:pt x="7510" y="4470"/>
                </a:lnTo>
                <a:lnTo>
                  <a:pt x="7520" y="4465"/>
                </a:lnTo>
                <a:lnTo>
                  <a:pt x="7531" y="4459"/>
                </a:lnTo>
                <a:lnTo>
                  <a:pt x="7534" y="4455"/>
                </a:lnTo>
                <a:lnTo>
                  <a:pt x="7537" y="4451"/>
                </a:lnTo>
                <a:lnTo>
                  <a:pt x="7539" y="4446"/>
                </a:lnTo>
                <a:lnTo>
                  <a:pt x="7541" y="4440"/>
                </a:lnTo>
                <a:lnTo>
                  <a:pt x="7539" y="4434"/>
                </a:lnTo>
                <a:lnTo>
                  <a:pt x="7538" y="4430"/>
                </a:lnTo>
                <a:lnTo>
                  <a:pt x="7536" y="4426"/>
                </a:lnTo>
                <a:lnTo>
                  <a:pt x="7533" y="4423"/>
                </a:lnTo>
                <a:lnTo>
                  <a:pt x="7529" y="4419"/>
                </a:lnTo>
                <a:lnTo>
                  <a:pt x="7525" y="4418"/>
                </a:lnTo>
                <a:lnTo>
                  <a:pt x="7519" y="4416"/>
                </a:lnTo>
                <a:lnTo>
                  <a:pt x="7513" y="4415"/>
                </a:lnTo>
                <a:lnTo>
                  <a:pt x="7488" y="4414"/>
                </a:lnTo>
                <a:lnTo>
                  <a:pt x="7462" y="4413"/>
                </a:lnTo>
                <a:lnTo>
                  <a:pt x="7455" y="4411"/>
                </a:lnTo>
                <a:lnTo>
                  <a:pt x="7450" y="4409"/>
                </a:lnTo>
                <a:lnTo>
                  <a:pt x="7443" y="4407"/>
                </a:lnTo>
                <a:lnTo>
                  <a:pt x="7438" y="4404"/>
                </a:lnTo>
                <a:lnTo>
                  <a:pt x="7433" y="4400"/>
                </a:lnTo>
                <a:lnTo>
                  <a:pt x="7426" y="4398"/>
                </a:lnTo>
                <a:lnTo>
                  <a:pt x="7421" y="4396"/>
                </a:lnTo>
                <a:lnTo>
                  <a:pt x="7414" y="4396"/>
                </a:lnTo>
                <a:lnTo>
                  <a:pt x="7370" y="4396"/>
                </a:lnTo>
                <a:lnTo>
                  <a:pt x="7369" y="4421"/>
                </a:lnTo>
                <a:lnTo>
                  <a:pt x="7367" y="4442"/>
                </a:lnTo>
                <a:lnTo>
                  <a:pt x="7364" y="4463"/>
                </a:lnTo>
                <a:lnTo>
                  <a:pt x="7360" y="4487"/>
                </a:lnTo>
                <a:lnTo>
                  <a:pt x="7321" y="4487"/>
                </a:lnTo>
                <a:lnTo>
                  <a:pt x="7305" y="4481"/>
                </a:lnTo>
                <a:lnTo>
                  <a:pt x="7289" y="4474"/>
                </a:lnTo>
                <a:lnTo>
                  <a:pt x="7282" y="4474"/>
                </a:lnTo>
                <a:lnTo>
                  <a:pt x="7274" y="4475"/>
                </a:lnTo>
                <a:lnTo>
                  <a:pt x="7269" y="4478"/>
                </a:lnTo>
                <a:lnTo>
                  <a:pt x="7263" y="4480"/>
                </a:lnTo>
                <a:lnTo>
                  <a:pt x="7258" y="4484"/>
                </a:lnTo>
                <a:lnTo>
                  <a:pt x="7252" y="4487"/>
                </a:lnTo>
                <a:lnTo>
                  <a:pt x="7248" y="4492"/>
                </a:lnTo>
                <a:lnTo>
                  <a:pt x="7244" y="4497"/>
                </a:lnTo>
                <a:lnTo>
                  <a:pt x="7235" y="4508"/>
                </a:lnTo>
                <a:lnTo>
                  <a:pt x="7228" y="4521"/>
                </a:lnTo>
                <a:lnTo>
                  <a:pt x="7222" y="4535"/>
                </a:lnTo>
                <a:lnTo>
                  <a:pt x="7214" y="4548"/>
                </a:lnTo>
                <a:lnTo>
                  <a:pt x="7200" y="4542"/>
                </a:lnTo>
                <a:lnTo>
                  <a:pt x="7203" y="4532"/>
                </a:lnTo>
                <a:lnTo>
                  <a:pt x="7205" y="4524"/>
                </a:lnTo>
                <a:lnTo>
                  <a:pt x="7208" y="4516"/>
                </a:lnTo>
                <a:lnTo>
                  <a:pt x="7211" y="4508"/>
                </a:lnTo>
                <a:lnTo>
                  <a:pt x="7215" y="4500"/>
                </a:lnTo>
                <a:lnTo>
                  <a:pt x="7218" y="4492"/>
                </a:lnTo>
                <a:lnTo>
                  <a:pt x="7221" y="4484"/>
                </a:lnTo>
                <a:lnTo>
                  <a:pt x="7222" y="4474"/>
                </a:lnTo>
                <a:lnTo>
                  <a:pt x="7221" y="4457"/>
                </a:lnTo>
                <a:lnTo>
                  <a:pt x="7218" y="4442"/>
                </a:lnTo>
                <a:lnTo>
                  <a:pt x="7215" y="4428"/>
                </a:lnTo>
                <a:lnTo>
                  <a:pt x="7210" y="4414"/>
                </a:lnTo>
                <a:lnTo>
                  <a:pt x="7199" y="4388"/>
                </a:lnTo>
                <a:lnTo>
                  <a:pt x="7187" y="4358"/>
                </a:lnTo>
                <a:lnTo>
                  <a:pt x="7168" y="4369"/>
                </a:lnTo>
                <a:lnTo>
                  <a:pt x="7151" y="4380"/>
                </a:lnTo>
                <a:lnTo>
                  <a:pt x="7136" y="4391"/>
                </a:lnTo>
                <a:lnTo>
                  <a:pt x="7122" y="4404"/>
                </a:lnTo>
                <a:lnTo>
                  <a:pt x="7109" y="4415"/>
                </a:lnTo>
                <a:lnTo>
                  <a:pt x="7095" y="4428"/>
                </a:lnTo>
                <a:lnTo>
                  <a:pt x="7079" y="4441"/>
                </a:lnTo>
                <a:lnTo>
                  <a:pt x="7061" y="4453"/>
                </a:lnTo>
                <a:lnTo>
                  <a:pt x="7059" y="4450"/>
                </a:lnTo>
                <a:lnTo>
                  <a:pt x="7056" y="4446"/>
                </a:lnTo>
                <a:lnTo>
                  <a:pt x="7053" y="4444"/>
                </a:lnTo>
                <a:lnTo>
                  <a:pt x="7048" y="4441"/>
                </a:lnTo>
                <a:lnTo>
                  <a:pt x="7044" y="4438"/>
                </a:lnTo>
                <a:lnTo>
                  <a:pt x="7039" y="4437"/>
                </a:lnTo>
                <a:lnTo>
                  <a:pt x="7035" y="4436"/>
                </a:lnTo>
                <a:lnTo>
                  <a:pt x="7029" y="4436"/>
                </a:lnTo>
                <a:lnTo>
                  <a:pt x="7009" y="4437"/>
                </a:lnTo>
                <a:lnTo>
                  <a:pt x="6992" y="4440"/>
                </a:lnTo>
                <a:lnTo>
                  <a:pt x="6984" y="4441"/>
                </a:lnTo>
                <a:lnTo>
                  <a:pt x="6976" y="4441"/>
                </a:lnTo>
                <a:lnTo>
                  <a:pt x="6966" y="4440"/>
                </a:lnTo>
                <a:lnTo>
                  <a:pt x="6957" y="4438"/>
                </a:lnTo>
                <a:lnTo>
                  <a:pt x="6964" y="4427"/>
                </a:lnTo>
                <a:lnTo>
                  <a:pt x="6972" y="4418"/>
                </a:lnTo>
                <a:lnTo>
                  <a:pt x="6982" y="4411"/>
                </a:lnTo>
                <a:lnTo>
                  <a:pt x="6992" y="4406"/>
                </a:lnTo>
                <a:lnTo>
                  <a:pt x="7014" y="4394"/>
                </a:lnTo>
                <a:lnTo>
                  <a:pt x="7038" y="4383"/>
                </a:lnTo>
                <a:lnTo>
                  <a:pt x="7032" y="4372"/>
                </a:lnTo>
                <a:lnTo>
                  <a:pt x="7025" y="4362"/>
                </a:lnTo>
                <a:lnTo>
                  <a:pt x="7018" y="4354"/>
                </a:lnTo>
                <a:lnTo>
                  <a:pt x="7010" y="4348"/>
                </a:lnTo>
                <a:lnTo>
                  <a:pt x="7001" y="4342"/>
                </a:lnTo>
                <a:lnTo>
                  <a:pt x="6991" y="4338"/>
                </a:lnTo>
                <a:lnTo>
                  <a:pt x="6981" y="4335"/>
                </a:lnTo>
                <a:lnTo>
                  <a:pt x="6969" y="4335"/>
                </a:lnTo>
                <a:lnTo>
                  <a:pt x="6889" y="4335"/>
                </a:lnTo>
                <a:lnTo>
                  <a:pt x="6884" y="4334"/>
                </a:lnTo>
                <a:lnTo>
                  <a:pt x="6878" y="4333"/>
                </a:lnTo>
                <a:lnTo>
                  <a:pt x="6874" y="4331"/>
                </a:lnTo>
                <a:lnTo>
                  <a:pt x="6870" y="4328"/>
                </a:lnTo>
                <a:lnTo>
                  <a:pt x="6867" y="4323"/>
                </a:lnTo>
                <a:lnTo>
                  <a:pt x="6865" y="4319"/>
                </a:lnTo>
                <a:lnTo>
                  <a:pt x="6863" y="4314"/>
                </a:lnTo>
                <a:lnTo>
                  <a:pt x="6860" y="4309"/>
                </a:lnTo>
                <a:lnTo>
                  <a:pt x="6854" y="4284"/>
                </a:lnTo>
                <a:lnTo>
                  <a:pt x="6848" y="4260"/>
                </a:lnTo>
                <a:lnTo>
                  <a:pt x="6844" y="4264"/>
                </a:lnTo>
                <a:lnTo>
                  <a:pt x="6839" y="4268"/>
                </a:lnTo>
                <a:lnTo>
                  <a:pt x="6837" y="4273"/>
                </a:lnTo>
                <a:lnTo>
                  <a:pt x="6836" y="4278"/>
                </a:lnTo>
                <a:lnTo>
                  <a:pt x="6834" y="4289"/>
                </a:lnTo>
                <a:lnTo>
                  <a:pt x="6834" y="4299"/>
                </a:lnTo>
                <a:lnTo>
                  <a:pt x="6834" y="4310"/>
                </a:lnTo>
                <a:lnTo>
                  <a:pt x="6833" y="4321"/>
                </a:lnTo>
                <a:lnTo>
                  <a:pt x="6832" y="4327"/>
                </a:lnTo>
                <a:lnTo>
                  <a:pt x="6830" y="4332"/>
                </a:lnTo>
                <a:lnTo>
                  <a:pt x="6828" y="4337"/>
                </a:lnTo>
                <a:lnTo>
                  <a:pt x="6823" y="4341"/>
                </a:lnTo>
                <a:lnTo>
                  <a:pt x="6819" y="4347"/>
                </a:lnTo>
                <a:lnTo>
                  <a:pt x="6814" y="4350"/>
                </a:lnTo>
                <a:lnTo>
                  <a:pt x="6809" y="4352"/>
                </a:lnTo>
                <a:lnTo>
                  <a:pt x="6802" y="4354"/>
                </a:lnTo>
                <a:lnTo>
                  <a:pt x="6791" y="4354"/>
                </a:lnTo>
                <a:lnTo>
                  <a:pt x="6778" y="4353"/>
                </a:lnTo>
                <a:lnTo>
                  <a:pt x="6765" y="4352"/>
                </a:lnTo>
                <a:lnTo>
                  <a:pt x="6752" y="4351"/>
                </a:lnTo>
                <a:lnTo>
                  <a:pt x="6745" y="4351"/>
                </a:lnTo>
                <a:lnTo>
                  <a:pt x="6739" y="4351"/>
                </a:lnTo>
                <a:lnTo>
                  <a:pt x="6732" y="4353"/>
                </a:lnTo>
                <a:lnTo>
                  <a:pt x="6725" y="4355"/>
                </a:lnTo>
                <a:lnTo>
                  <a:pt x="6721" y="4357"/>
                </a:lnTo>
                <a:lnTo>
                  <a:pt x="6718" y="4359"/>
                </a:lnTo>
                <a:lnTo>
                  <a:pt x="6715" y="4361"/>
                </a:lnTo>
                <a:lnTo>
                  <a:pt x="6713" y="4365"/>
                </a:lnTo>
                <a:lnTo>
                  <a:pt x="6708" y="4372"/>
                </a:lnTo>
                <a:lnTo>
                  <a:pt x="6704" y="4378"/>
                </a:lnTo>
                <a:lnTo>
                  <a:pt x="6700" y="4385"/>
                </a:lnTo>
                <a:lnTo>
                  <a:pt x="6695" y="4391"/>
                </a:lnTo>
                <a:lnTo>
                  <a:pt x="6691" y="4393"/>
                </a:lnTo>
                <a:lnTo>
                  <a:pt x="6688" y="4394"/>
                </a:lnTo>
                <a:lnTo>
                  <a:pt x="6685" y="4395"/>
                </a:lnTo>
                <a:lnTo>
                  <a:pt x="6681" y="4396"/>
                </a:lnTo>
                <a:lnTo>
                  <a:pt x="6677" y="4395"/>
                </a:lnTo>
                <a:lnTo>
                  <a:pt x="6672" y="4394"/>
                </a:lnTo>
                <a:lnTo>
                  <a:pt x="6668" y="4393"/>
                </a:lnTo>
                <a:lnTo>
                  <a:pt x="6665" y="4391"/>
                </a:lnTo>
                <a:lnTo>
                  <a:pt x="6659" y="4386"/>
                </a:lnTo>
                <a:lnTo>
                  <a:pt x="6653" y="4379"/>
                </a:lnTo>
                <a:lnTo>
                  <a:pt x="6644" y="4364"/>
                </a:lnTo>
                <a:lnTo>
                  <a:pt x="6633" y="4348"/>
                </a:lnTo>
                <a:lnTo>
                  <a:pt x="6629" y="4345"/>
                </a:lnTo>
                <a:lnTo>
                  <a:pt x="6625" y="4340"/>
                </a:lnTo>
                <a:lnTo>
                  <a:pt x="6621" y="4338"/>
                </a:lnTo>
                <a:lnTo>
                  <a:pt x="6617" y="4336"/>
                </a:lnTo>
                <a:lnTo>
                  <a:pt x="6607" y="4333"/>
                </a:lnTo>
                <a:lnTo>
                  <a:pt x="6598" y="4332"/>
                </a:lnTo>
                <a:lnTo>
                  <a:pt x="6575" y="4332"/>
                </a:lnTo>
                <a:lnTo>
                  <a:pt x="6552" y="4331"/>
                </a:lnTo>
                <a:lnTo>
                  <a:pt x="6552" y="4308"/>
                </a:lnTo>
                <a:lnTo>
                  <a:pt x="6555" y="4300"/>
                </a:lnTo>
                <a:lnTo>
                  <a:pt x="6558" y="4294"/>
                </a:lnTo>
                <a:lnTo>
                  <a:pt x="6555" y="4287"/>
                </a:lnTo>
                <a:lnTo>
                  <a:pt x="6552" y="4280"/>
                </a:lnTo>
                <a:lnTo>
                  <a:pt x="6537" y="4284"/>
                </a:lnTo>
                <a:lnTo>
                  <a:pt x="6525" y="4287"/>
                </a:lnTo>
                <a:lnTo>
                  <a:pt x="6512" y="4290"/>
                </a:lnTo>
                <a:lnTo>
                  <a:pt x="6500" y="4291"/>
                </a:lnTo>
                <a:lnTo>
                  <a:pt x="6475" y="4293"/>
                </a:lnTo>
                <a:lnTo>
                  <a:pt x="6446" y="4297"/>
                </a:lnTo>
                <a:lnTo>
                  <a:pt x="6439" y="4299"/>
                </a:lnTo>
                <a:lnTo>
                  <a:pt x="6434" y="4302"/>
                </a:lnTo>
                <a:lnTo>
                  <a:pt x="6427" y="4305"/>
                </a:lnTo>
                <a:lnTo>
                  <a:pt x="6422" y="4309"/>
                </a:lnTo>
                <a:lnTo>
                  <a:pt x="6417" y="4312"/>
                </a:lnTo>
                <a:lnTo>
                  <a:pt x="6412" y="4315"/>
                </a:lnTo>
                <a:lnTo>
                  <a:pt x="6405" y="4317"/>
                </a:lnTo>
                <a:lnTo>
                  <a:pt x="6398" y="4318"/>
                </a:lnTo>
                <a:lnTo>
                  <a:pt x="6368" y="4318"/>
                </a:lnTo>
                <a:lnTo>
                  <a:pt x="6368" y="4283"/>
                </a:lnTo>
                <a:lnTo>
                  <a:pt x="6369" y="4276"/>
                </a:lnTo>
                <a:lnTo>
                  <a:pt x="6373" y="4270"/>
                </a:lnTo>
                <a:lnTo>
                  <a:pt x="6376" y="4263"/>
                </a:lnTo>
                <a:lnTo>
                  <a:pt x="6379" y="4257"/>
                </a:lnTo>
                <a:lnTo>
                  <a:pt x="6369" y="4259"/>
                </a:lnTo>
                <a:lnTo>
                  <a:pt x="6361" y="4261"/>
                </a:lnTo>
                <a:lnTo>
                  <a:pt x="6353" y="4263"/>
                </a:lnTo>
                <a:lnTo>
                  <a:pt x="6343" y="4263"/>
                </a:lnTo>
                <a:lnTo>
                  <a:pt x="6337" y="4262"/>
                </a:lnTo>
                <a:lnTo>
                  <a:pt x="6331" y="4260"/>
                </a:lnTo>
                <a:lnTo>
                  <a:pt x="6326" y="4257"/>
                </a:lnTo>
                <a:lnTo>
                  <a:pt x="6321" y="4253"/>
                </a:lnTo>
                <a:lnTo>
                  <a:pt x="6328" y="4240"/>
                </a:lnTo>
                <a:lnTo>
                  <a:pt x="6334" y="4226"/>
                </a:lnTo>
                <a:lnTo>
                  <a:pt x="6339" y="4214"/>
                </a:lnTo>
                <a:lnTo>
                  <a:pt x="6345" y="4199"/>
                </a:lnTo>
                <a:lnTo>
                  <a:pt x="6347" y="4195"/>
                </a:lnTo>
                <a:lnTo>
                  <a:pt x="6351" y="4192"/>
                </a:lnTo>
                <a:lnTo>
                  <a:pt x="6356" y="4190"/>
                </a:lnTo>
                <a:lnTo>
                  <a:pt x="6360" y="4189"/>
                </a:lnTo>
                <a:lnTo>
                  <a:pt x="6364" y="4187"/>
                </a:lnTo>
                <a:lnTo>
                  <a:pt x="6368" y="4186"/>
                </a:lnTo>
                <a:lnTo>
                  <a:pt x="6370" y="4183"/>
                </a:lnTo>
                <a:lnTo>
                  <a:pt x="6372" y="4179"/>
                </a:lnTo>
                <a:lnTo>
                  <a:pt x="6372" y="4172"/>
                </a:lnTo>
                <a:lnTo>
                  <a:pt x="6370" y="4167"/>
                </a:lnTo>
                <a:lnTo>
                  <a:pt x="6368" y="4162"/>
                </a:lnTo>
                <a:lnTo>
                  <a:pt x="6366" y="4158"/>
                </a:lnTo>
                <a:lnTo>
                  <a:pt x="6363" y="4153"/>
                </a:lnTo>
                <a:lnTo>
                  <a:pt x="6360" y="4149"/>
                </a:lnTo>
                <a:lnTo>
                  <a:pt x="6356" y="4145"/>
                </a:lnTo>
                <a:lnTo>
                  <a:pt x="6351" y="4142"/>
                </a:lnTo>
                <a:lnTo>
                  <a:pt x="6342" y="4136"/>
                </a:lnTo>
                <a:lnTo>
                  <a:pt x="6330" y="4132"/>
                </a:lnTo>
                <a:lnTo>
                  <a:pt x="6319" y="4129"/>
                </a:lnTo>
                <a:lnTo>
                  <a:pt x="6307" y="4127"/>
                </a:lnTo>
                <a:lnTo>
                  <a:pt x="6304" y="4142"/>
                </a:lnTo>
                <a:lnTo>
                  <a:pt x="6301" y="4157"/>
                </a:lnTo>
                <a:lnTo>
                  <a:pt x="6298" y="4169"/>
                </a:lnTo>
                <a:lnTo>
                  <a:pt x="6292" y="4182"/>
                </a:lnTo>
                <a:lnTo>
                  <a:pt x="6290" y="4187"/>
                </a:lnTo>
                <a:lnTo>
                  <a:pt x="6287" y="4194"/>
                </a:lnTo>
                <a:lnTo>
                  <a:pt x="6283" y="4199"/>
                </a:lnTo>
                <a:lnTo>
                  <a:pt x="6279" y="4203"/>
                </a:lnTo>
                <a:lnTo>
                  <a:pt x="6274" y="4207"/>
                </a:lnTo>
                <a:lnTo>
                  <a:pt x="6269" y="4211"/>
                </a:lnTo>
                <a:lnTo>
                  <a:pt x="6263" y="4216"/>
                </a:lnTo>
                <a:lnTo>
                  <a:pt x="6256" y="4219"/>
                </a:lnTo>
                <a:lnTo>
                  <a:pt x="6253" y="4200"/>
                </a:lnTo>
                <a:lnTo>
                  <a:pt x="6250" y="4182"/>
                </a:lnTo>
                <a:lnTo>
                  <a:pt x="6248" y="4164"/>
                </a:lnTo>
                <a:lnTo>
                  <a:pt x="6246" y="4144"/>
                </a:lnTo>
                <a:lnTo>
                  <a:pt x="6238" y="4148"/>
                </a:lnTo>
                <a:lnTo>
                  <a:pt x="6231" y="4151"/>
                </a:lnTo>
                <a:lnTo>
                  <a:pt x="6224" y="4153"/>
                </a:lnTo>
                <a:lnTo>
                  <a:pt x="6215" y="4154"/>
                </a:lnTo>
                <a:lnTo>
                  <a:pt x="6189" y="4148"/>
                </a:lnTo>
                <a:lnTo>
                  <a:pt x="6196" y="4136"/>
                </a:lnTo>
                <a:lnTo>
                  <a:pt x="6206" y="4126"/>
                </a:lnTo>
                <a:lnTo>
                  <a:pt x="6215" y="4116"/>
                </a:lnTo>
                <a:lnTo>
                  <a:pt x="6225" y="4109"/>
                </a:lnTo>
                <a:lnTo>
                  <a:pt x="6235" y="4103"/>
                </a:lnTo>
                <a:lnTo>
                  <a:pt x="6246" y="4096"/>
                </a:lnTo>
                <a:lnTo>
                  <a:pt x="6256" y="4092"/>
                </a:lnTo>
                <a:lnTo>
                  <a:pt x="6268" y="4088"/>
                </a:lnTo>
                <a:lnTo>
                  <a:pt x="6293" y="4082"/>
                </a:lnTo>
                <a:lnTo>
                  <a:pt x="6319" y="4076"/>
                </a:lnTo>
                <a:lnTo>
                  <a:pt x="6346" y="4072"/>
                </a:lnTo>
                <a:lnTo>
                  <a:pt x="6376" y="4066"/>
                </a:lnTo>
                <a:lnTo>
                  <a:pt x="6386" y="4064"/>
                </a:lnTo>
                <a:lnTo>
                  <a:pt x="6398" y="4062"/>
                </a:lnTo>
                <a:lnTo>
                  <a:pt x="6410" y="4058"/>
                </a:lnTo>
                <a:lnTo>
                  <a:pt x="6420" y="4055"/>
                </a:lnTo>
                <a:lnTo>
                  <a:pt x="6425" y="4053"/>
                </a:lnTo>
                <a:lnTo>
                  <a:pt x="6430" y="4050"/>
                </a:lnTo>
                <a:lnTo>
                  <a:pt x="6434" y="4048"/>
                </a:lnTo>
                <a:lnTo>
                  <a:pt x="6437" y="4044"/>
                </a:lnTo>
                <a:lnTo>
                  <a:pt x="6439" y="4040"/>
                </a:lnTo>
                <a:lnTo>
                  <a:pt x="6441" y="4036"/>
                </a:lnTo>
                <a:lnTo>
                  <a:pt x="6442" y="4031"/>
                </a:lnTo>
                <a:lnTo>
                  <a:pt x="6443" y="4026"/>
                </a:lnTo>
                <a:lnTo>
                  <a:pt x="6442" y="4016"/>
                </a:lnTo>
                <a:lnTo>
                  <a:pt x="6441" y="4009"/>
                </a:lnTo>
                <a:lnTo>
                  <a:pt x="6438" y="4000"/>
                </a:lnTo>
                <a:lnTo>
                  <a:pt x="6436" y="3992"/>
                </a:lnTo>
                <a:lnTo>
                  <a:pt x="6411" y="3993"/>
                </a:lnTo>
                <a:lnTo>
                  <a:pt x="6387" y="3993"/>
                </a:lnTo>
                <a:lnTo>
                  <a:pt x="6364" y="3994"/>
                </a:lnTo>
                <a:lnTo>
                  <a:pt x="6343" y="3994"/>
                </a:lnTo>
                <a:lnTo>
                  <a:pt x="6322" y="3996"/>
                </a:lnTo>
                <a:lnTo>
                  <a:pt x="6301" y="4001"/>
                </a:lnTo>
                <a:lnTo>
                  <a:pt x="6290" y="4005"/>
                </a:lnTo>
                <a:lnTo>
                  <a:pt x="6279" y="4008"/>
                </a:lnTo>
                <a:lnTo>
                  <a:pt x="6268" y="4013"/>
                </a:lnTo>
                <a:lnTo>
                  <a:pt x="6256" y="4018"/>
                </a:lnTo>
                <a:lnTo>
                  <a:pt x="6236" y="4029"/>
                </a:lnTo>
                <a:lnTo>
                  <a:pt x="6218" y="4036"/>
                </a:lnTo>
                <a:lnTo>
                  <a:pt x="6199" y="4044"/>
                </a:lnTo>
                <a:lnTo>
                  <a:pt x="6178" y="4053"/>
                </a:lnTo>
                <a:lnTo>
                  <a:pt x="6174" y="4055"/>
                </a:lnTo>
                <a:lnTo>
                  <a:pt x="6171" y="4058"/>
                </a:lnTo>
                <a:lnTo>
                  <a:pt x="6168" y="4062"/>
                </a:lnTo>
                <a:lnTo>
                  <a:pt x="6166" y="4065"/>
                </a:lnTo>
                <a:lnTo>
                  <a:pt x="6162" y="4068"/>
                </a:lnTo>
                <a:lnTo>
                  <a:pt x="6159" y="4071"/>
                </a:lnTo>
                <a:lnTo>
                  <a:pt x="6156" y="4072"/>
                </a:lnTo>
                <a:lnTo>
                  <a:pt x="6151" y="4073"/>
                </a:lnTo>
                <a:lnTo>
                  <a:pt x="6144" y="4070"/>
                </a:lnTo>
                <a:lnTo>
                  <a:pt x="6137" y="4066"/>
                </a:lnTo>
                <a:lnTo>
                  <a:pt x="6144" y="4052"/>
                </a:lnTo>
                <a:lnTo>
                  <a:pt x="6152" y="4039"/>
                </a:lnTo>
                <a:lnTo>
                  <a:pt x="6161" y="4028"/>
                </a:lnTo>
                <a:lnTo>
                  <a:pt x="6170" y="4018"/>
                </a:lnTo>
                <a:lnTo>
                  <a:pt x="6180" y="4008"/>
                </a:lnTo>
                <a:lnTo>
                  <a:pt x="6190" y="3997"/>
                </a:lnTo>
                <a:lnTo>
                  <a:pt x="6199" y="3984"/>
                </a:lnTo>
                <a:lnTo>
                  <a:pt x="6209" y="3971"/>
                </a:lnTo>
                <a:lnTo>
                  <a:pt x="6225" y="3943"/>
                </a:lnTo>
                <a:lnTo>
                  <a:pt x="6240" y="3919"/>
                </a:lnTo>
                <a:lnTo>
                  <a:pt x="6244" y="3913"/>
                </a:lnTo>
                <a:lnTo>
                  <a:pt x="6249" y="3907"/>
                </a:lnTo>
                <a:lnTo>
                  <a:pt x="6253" y="3903"/>
                </a:lnTo>
                <a:lnTo>
                  <a:pt x="6260" y="3899"/>
                </a:lnTo>
                <a:lnTo>
                  <a:pt x="6265" y="3895"/>
                </a:lnTo>
                <a:lnTo>
                  <a:pt x="6271" y="3892"/>
                </a:lnTo>
                <a:lnTo>
                  <a:pt x="6279" y="3888"/>
                </a:lnTo>
                <a:lnTo>
                  <a:pt x="6287" y="3886"/>
                </a:lnTo>
                <a:lnTo>
                  <a:pt x="6286" y="3880"/>
                </a:lnTo>
                <a:lnTo>
                  <a:pt x="6284" y="3874"/>
                </a:lnTo>
                <a:lnTo>
                  <a:pt x="6281" y="3868"/>
                </a:lnTo>
                <a:lnTo>
                  <a:pt x="6278" y="3863"/>
                </a:lnTo>
                <a:lnTo>
                  <a:pt x="6273" y="3859"/>
                </a:lnTo>
                <a:lnTo>
                  <a:pt x="6269" y="3855"/>
                </a:lnTo>
                <a:lnTo>
                  <a:pt x="6265" y="3851"/>
                </a:lnTo>
                <a:lnTo>
                  <a:pt x="6260" y="3848"/>
                </a:lnTo>
                <a:lnTo>
                  <a:pt x="6237" y="3837"/>
                </a:lnTo>
                <a:lnTo>
                  <a:pt x="6212" y="3825"/>
                </a:lnTo>
                <a:lnTo>
                  <a:pt x="6205" y="3820"/>
                </a:lnTo>
                <a:lnTo>
                  <a:pt x="6197" y="3814"/>
                </a:lnTo>
                <a:lnTo>
                  <a:pt x="6192" y="3807"/>
                </a:lnTo>
                <a:lnTo>
                  <a:pt x="6187" y="3801"/>
                </a:lnTo>
                <a:lnTo>
                  <a:pt x="6180" y="3794"/>
                </a:lnTo>
                <a:lnTo>
                  <a:pt x="6174" y="3789"/>
                </a:lnTo>
                <a:lnTo>
                  <a:pt x="6171" y="3787"/>
                </a:lnTo>
                <a:lnTo>
                  <a:pt x="6167" y="3786"/>
                </a:lnTo>
                <a:lnTo>
                  <a:pt x="6162" y="3785"/>
                </a:lnTo>
                <a:lnTo>
                  <a:pt x="6158" y="3785"/>
                </a:lnTo>
                <a:lnTo>
                  <a:pt x="6154" y="3785"/>
                </a:lnTo>
                <a:lnTo>
                  <a:pt x="6150" y="3786"/>
                </a:lnTo>
                <a:lnTo>
                  <a:pt x="6147" y="3787"/>
                </a:lnTo>
                <a:lnTo>
                  <a:pt x="6143" y="3789"/>
                </a:lnTo>
                <a:lnTo>
                  <a:pt x="6137" y="3793"/>
                </a:lnTo>
                <a:lnTo>
                  <a:pt x="6131" y="3798"/>
                </a:lnTo>
                <a:lnTo>
                  <a:pt x="6130" y="3825"/>
                </a:lnTo>
                <a:lnTo>
                  <a:pt x="6128" y="3850"/>
                </a:lnTo>
                <a:lnTo>
                  <a:pt x="6123" y="3874"/>
                </a:lnTo>
                <a:lnTo>
                  <a:pt x="6118" y="3897"/>
                </a:lnTo>
                <a:lnTo>
                  <a:pt x="6113" y="3919"/>
                </a:lnTo>
                <a:lnTo>
                  <a:pt x="6108" y="3942"/>
                </a:lnTo>
                <a:lnTo>
                  <a:pt x="6102" y="3968"/>
                </a:lnTo>
                <a:lnTo>
                  <a:pt x="6097" y="3995"/>
                </a:lnTo>
                <a:lnTo>
                  <a:pt x="6083" y="3992"/>
                </a:lnTo>
                <a:lnTo>
                  <a:pt x="6076" y="3974"/>
                </a:lnTo>
                <a:lnTo>
                  <a:pt x="6070" y="3958"/>
                </a:lnTo>
                <a:lnTo>
                  <a:pt x="6066" y="3951"/>
                </a:lnTo>
                <a:lnTo>
                  <a:pt x="6064" y="3942"/>
                </a:lnTo>
                <a:lnTo>
                  <a:pt x="6063" y="3934"/>
                </a:lnTo>
                <a:lnTo>
                  <a:pt x="6063" y="3923"/>
                </a:lnTo>
                <a:lnTo>
                  <a:pt x="6063" y="3902"/>
                </a:lnTo>
                <a:lnTo>
                  <a:pt x="6061" y="3881"/>
                </a:lnTo>
                <a:lnTo>
                  <a:pt x="6060" y="3877"/>
                </a:lnTo>
                <a:lnTo>
                  <a:pt x="6058" y="3873"/>
                </a:lnTo>
                <a:lnTo>
                  <a:pt x="6056" y="3868"/>
                </a:lnTo>
                <a:lnTo>
                  <a:pt x="6054" y="3865"/>
                </a:lnTo>
                <a:lnTo>
                  <a:pt x="6050" y="3863"/>
                </a:lnTo>
                <a:lnTo>
                  <a:pt x="6047" y="3861"/>
                </a:lnTo>
                <a:lnTo>
                  <a:pt x="6043" y="3860"/>
                </a:lnTo>
                <a:lnTo>
                  <a:pt x="6039" y="3859"/>
                </a:lnTo>
                <a:lnTo>
                  <a:pt x="6033" y="3860"/>
                </a:lnTo>
                <a:lnTo>
                  <a:pt x="6028" y="3861"/>
                </a:lnTo>
                <a:lnTo>
                  <a:pt x="6024" y="3864"/>
                </a:lnTo>
                <a:lnTo>
                  <a:pt x="6021" y="3868"/>
                </a:lnTo>
                <a:lnTo>
                  <a:pt x="6018" y="3873"/>
                </a:lnTo>
                <a:lnTo>
                  <a:pt x="6017" y="3878"/>
                </a:lnTo>
                <a:lnTo>
                  <a:pt x="6015" y="3883"/>
                </a:lnTo>
                <a:lnTo>
                  <a:pt x="6015" y="3889"/>
                </a:lnTo>
                <a:lnTo>
                  <a:pt x="6014" y="3919"/>
                </a:lnTo>
                <a:lnTo>
                  <a:pt x="6011" y="3947"/>
                </a:lnTo>
                <a:lnTo>
                  <a:pt x="6003" y="3945"/>
                </a:lnTo>
                <a:lnTo>
                  <a:pt x="5995" y="3942"/>
                </a:lnTo>
                <a:lnTo>
                  <a:pt x="5987" y="3937"/>
                </a:lnTo>
                <a:lnTo>
                  <a:pt x="5980" y="3932"/>
                </a:lnTo>
                <a:lnTo>
                  <a:pt x="5974" y="3925"/>
                </a:lnTo>
                <a:lnTo>
                  <a:pt x="5971" y="3918"/>
                </a:lnTo>
                <a:lnTo>
                  <a:pt x="5968" y="3909"/>
                </a:lnTo>
                <a:lnTo>
                  <a:pt x="5968" y="3900"/>
                </a:lnTo>
                <a:lnTo>
                  <a:pt x="5968" y="3890"/>
                </a:lnTo>
                <a:lnTo>
                  <a:pt x="5970" y="3882"/>
                </a:lnTo>
                <a:lnTo>
                  <a:pt x="5973" y="3875"/>
                </a:lnTo>
                <a:lnTo>
                  <a:pt x="5978" y="3867"/>
                </a:lnTo>
                <a:lnTo>
                  <a:pt x="5987" y="3855"/>
                </a:lnTo>
                <a:lnTo>
                  <a:pt x="5999" y="3842"/>
                </a:lnTo>
                <a:lnTo>
                  <a:pt x="6009" y="3830"/>
                </a:lnTo>
                <a:lnTo>
                  <a:pt x="6019" y="3817"/>
                </a:lnTo>
                <a:lnTo>
                  <a:pt x="6023" y="3809"/>
                </a:lnTo>
                <a:lnTo>
                  <a:pt x="6026" y="3802"/>
                </a:lnTo>
                <a:lnTo>
                  <a:pt x="6028" y="3793"/>
                </a:lnTo>
                <a:lnTo>
                  <a:pt x="6028" y="3785"/>
                </a:lnTo>
                <a:lnTo>
                  <a:pt x="6029" y="3767"/>
                </a:lnTo>
                <a:lnTo>
                  <a:pt x="6028" y="3751"/>
                </a:lnTo>
                <a:lnTo>
                  <a:pt x="6027" y="3743"/>
                </a:lnTo>
                <a:lnTo>
                  <a:pt x="6025" y="3736"/>
                </a:lnTo>
                <a:lnTo>
                  <a:pt x="6021" y="3729"/>
                </a:lnTo>
                <a:lnTo>
                  <a:pt x="6016" y="3724"/>
                </a:lnTo>
                <a:lnTo>
                  <a:pt x="6010" y="3719"/>
                </a:lnTo>
                <a:lnTo>
                  <a:pt x="6004" y="3715"/>
                </a:lnTo>
                <a:lnTo>
                  <a:pt x="5999" y="3713"/>
                </a:lnTo>
                <a:lnTo>
                  <a:pt x="5993" y="3711"/>
                </a:lnTo>
                <a:lnTo>
                  <a:pt x="5982" y="3709"/>
                </a:lnTo>
                <a:lnTo>
                  <a:pt x="5970" y="3709"/>
                </a:lnTo>
                <a:lnTo>
                  <a:pt x="5944" y="3711"/>
                </a:lnTo>
                <a:lnTo>
                  <a:pt x="5916" y="3713"/>
                </a:lnTo>
                <a:lnTo>
                  <a:pt x="5906" y="3714"/>
                </a:lnTo>
                <a:lnTo>
                  <a:pt x="5896" y="3716"/>
                </a:lnTo>
                <a:lnTo>
                  <a:pt x="5887" y="3719"/>
                </a:lnTo>
                <a:lnTo>
                  <a:pt x="5879" y="3725"/>
                </a:lnTo>
                <a:lnTo>
                  <a:pt x="5872" y="3730"/>
                </a:lnTo>
                <a:lnTo>
                  <a:pt x="5866" y="3737"/>
                </a:lnTo>
                <a:lnTo>
                  <a:pt x="5860" y="3745"/>
                </a:lnTo>
                <a:lnTo>
                  <a:pt x="5855" y="3753"/>
                </a:lnTo>
                <a:lnTo>
                  <a:pt x="5845" y="3771"/>
                </a:lnTo>
                <a:lnTo>
                  <a:pt x="5834" y="3791"/>
                </a:lnTo>
                <a:lnTo>
                  <a:pt x="5828" y="3801"/>
                </a:lnTo>
                <a:lnTo>
                  <a:pt x="5822" y="3810"/>
                </a:lnTo>
                <a:lnTo>
                  <a:pt x="5815" y="3820"/>
                </a:lnTo>
                <a:lnTo>
                  <a:pt x="5808" y="3828"/>
                </a:lnTo>
                <a:lnTo>
                  <a:pt x="5808" y="3771"/>
                </a:lnTo>
                <a:lnTo>
                  <a:pt x="5818" y="3710"/>
                </a:lnTo>
                <a:lnTo>
                  <a:pt x="5815" y="3707"/>
                </a:lnTo>
                <a:lnTo>
                  <a:pt x="5814" y="3701"/>
                </a:lnTo>
                <a:lnTo>
                  <a:pt x="5813" y="3699"/>
                </a:lnTo>
                <a:lnTo>
                  <a:pt x="5812" y="3698"/>
                </a:lnTo>
                <a:lnTo>
                  <a:pt x="5810" y="3696"/>
                </a:lnTo>
                <a:lnTo>
                  <a:pt x="5808" y="3696"/>
                </a:lnTo>
                <a:lnTo>
                  <a:pt x="5794" y="3698"/>
                </a:lnTo>
                <a:lnTo>
                  <a:pt x="5779" y="3703"/>
                </a:lnTo>
                <a:lnTo>
                  <a:pt x="5779" y="3828"/>
                </a:lnTo>
                <a:lnTo>
                  <a:pt x="5781" y="3836"/>
                </a:lnTo>
                <a:lnTo>
                  <a:pt x="5784" y="3842"/>
                </a:lnTo>
                <a:lnTo>
                  <a:pt x="5781" y="3851"/>
                </a:lnTo>
                <a:lnTo>
                  <a:pt x="5777" y="3859"/>
                </a:lnTo>
                <a:lnTo>
                  <a:pt x="5758" y="3860"/>
                </a:lnTo>
                <a:lnTo>
                  <a:pt x="5742" y="3861"/>
                </a:lnTo>
                <a:lnTo>
                  <a:pt x="5734" y="3861"/>
                </a:lnTo>
                <a:lnTo>
                  <a:pt x="5725" y="3861"/>
                </a:lnTo>
                <a:lnTo>
                  <a:pt x="5716" y="3861"/>
                </a:lnTo>
                <a:lnTo>
                  <a:pt x="5706" y="3859"/>
                </a:lnTo>
                <a:lnTo>
                  <a:pt x="5706" y="3831"/>
                </a:lnTo>
                <a:lnTo>
                  <a:pt x="5707" y="3821"/>
                </a:lnTo>
                <a:lnTo>
                  <a:pt x="5709" y="3811"/>
                </a:lnTo>
                <a:lnTo>
                  <a:pt x="5714" y="3803"/>
                </a:lnTo>
                <a:lnTo>
                  <a:pt x="5717" y="3794"/>
                </a:lnTo>
                <a:lnTo>
                  <a:pt x="5721" y="3786"/>
                </a:lnTo>
                <a:lnTo>
                  <a:pt x="5725" y="3777"/>
                </a:lnTo>
                <a:lnTo>
                  <a:pt x="5727" y="3768"/>
                </a:lnTo>
                <a:lnTo>
                  <a:pt x="5728" y="3758"/>
                </a:lnTo>
                <a:lnTo>
                  <a:pt x="5728" y="3652"/>
                </a:lnTo>
                <a:lnTo>
                  <a:pt x="5697" y="3652"/>
                </a:lnTo>
                <a:lnTo>
                  <a:pt x="5697" y="3756"/>
                </a:lnTo>
                <a:lnTo>
                  <a:pt x="5697" y="3762"/>
                </a:lnTo>
                <a:lnTo>
                  <a:pt x="5696" y="3766"/>
                </a:lnTo>
                <a:lnTo>
                  <a:pt x="5694" y="3769"/>
                </a:lnTo>
                <a:lnTo>
                  <a:pt x="5693" y="3773"/>
                </a:lnTo>
                <a:lnTo>
                  <a:pt x="5687" y="3780"/>
                </a:lnTo>
                <a:lnTo>
                  <a:pt x="5681" y="3785"/>
                </a:lnTo>
                <a:lnTo>
                  <a:pt x="5674" y="3791"/>
                </a:lnTo>
                <a:lnTo>
                  <a:pt x="5667" y="3796"/>
                </a:lnTo>
                <a:lnTo>
                  <a:pt x="5661" y="3804"/>
                </a:lnTo>
                <a:lnTo>
                  <a:pt x="5656" y="3811"/>
                </a:lnTo>
                <a:lnTo>
                  <a:pt x="5652" y="3820"/>
                </a:lnTo>
                <a:lnTo>
                  <a:pt x="5649" y="3829"/>
                </a:lnTo>
                <a:lnTo>
                  <a:pt x="5647" y="3832"/>
                </a:lnTo>
                <a:lnTo>
                  <a:pt x="5645" y="3836"/>
                </a:lnTo>
                <a:lnTo>
                  <a:pt x="5642" y="3838"/>
                </a:lnTo>
                <a:lnTo>
                  <a:pt x="5639" y="3839"/>
                </a:lnTo>
                <a:lnTo>
                  <a:pt x="5629" y="3838"/>
                </a:lnTo>
                <a:lnTo>
                  <a:pt x="5621" y="3837"/>
                </a:lnTo>
                <a:lnTo>
                  <a:pt x="5613" y="3833"/>
                </a:lnTo>
                <a:lnTo>
                  <a:pt x="5606" y="3829"/>
                </a:lnTo>
                <a:lnTo>
                  <a:pt x="5600" y="3824"/>
                </a:lnTo>
                <a:lnTo>
                  <a:pt x="5594" y="3819"/>
                </a:lnTo>
                <a:lnTo>
                  <a:pt x="5589" y="3811"/>
                </a:lnTo>
                <a:lnTo>
                  <a:pt x="5584" y="3805"/>
                </a:lnTo>
                <a:lnTo>
                  <a:pt x="5580" y="3796"/>
                </a:lnTo>
                <a:lnTo>
                  <a:pt x="5576" y="3788"/>
                </a:lnTo>
                <a:lnTo>
                  <a:pt x="5573" y="3780"/>
                </a:lnTo>
                <a:lnTo>
                  <a:pt x="5571" y="3771"/>
                </a:lnTo>
                <a:lnTo>
                  <a:pt x="5569" y="3762"/>
                </a:lnTo>
                <a:lnTo>
                  <a:pt x="5568" y="3752"/>
                </a:lnTo>
                <a:lnTo>
                  <a:pt x="5567" y="3743"/>
                </a:lnTo>
                <a:lnTo>
                  <a:pt x="5567" y="3733"/>
                </a:lnTo>
                <a:lnTo>
                  <a:pt x="5567" y="3724"/>
                </a:lnTo>
                <a:lnTo>
                  <a:pt x="5569" y="3714"/>
                </a:lnTo>
                <a:lnTo>
                  <a:pt x="5571" y="3706"/>
                </a:lnTo>
                <a:lnTo>
                  <a:pt x="5574" y="3698"/>
                </a:lnTo>
                <a:lnTo>
                  <a:pt x="5578" y="3691"/>
                </a:lnTo>
                <a:lnTo>
                  <a:pt x="5584" y="3683"/>
                </a:lnTo>
                <a:lnTo>
                  <a:pt x="5590" y="3678"/>
                </a:lnTo>
                <a:lnTo>
                  <a:pt x="5597" y="3672"/>
                </a:lnTo>
                <a:lnTo>
                  <a:pt x="5611" y="3666"/>
                </a:lnTo>
                <a:lnTo>
                  <a:pt x="5626" y="3659"/>
                </a:lnTo>
                <a:lnTo>
                  <a:pt x="5632" y="3655"/>
                </a:lnTo>
                <a:lnTo>
                  <a:pt x="5637" y="3651"/>
                </a:lnTo>
                <a:lnTo>
                  <a:pt x="5639" y="3649"/>
                </a:lnTo>
                <a:lnTo>
                  <a:pt x="5641" y="3645"/>
                </a:lnTo>
                <a:lnTo>
                  <a:pt x="5641" y="3642"/>
                </a:lnTo>
                <a:lnTo>
                  <a:pt x="5642" y="3638"/>
                </a:lnTo>
                <a:lnTo>
                  <a:pt x="5641" y="3624"/>
                </a:lnTo>
                <a:lnTo>
                  <a:pt x="5641" y="3612"/>
                </a:lnTo>
                <a:lnTo>
                  <a:pt x="5641" y="3600"/>
                </a:lnTo>
                <a:lnTo>
                  <a:pt x="5642" y="3585"/>
                </a:lnTo>
                <a:lnTo>
                  <a:pt x="5513" y="3585"/>
                </a:lnTo>
                <a:lnTo>
                  <a:pt x="5509" y="3585"/>
                </a:lnTo>
                <a:lnTo>
                  <a:pt x="5505" y="3583"/>
                </a:lnTo>
                <a:lnTo>
                  <a:pt x="5501" y="3581"/>
                </a:lnTo>
                <a:lnTo>
                  <a:pt x="5498" y="3578"/>
                </a:lnTo>
                <a:lnTo>
                  <a:pt x="5492" y="3571"/>
                </a:lnTo>
                <a:lnTo>
                  <a:pt x="5486" y="3563"/>
                </a:lnTo>
                <a:lnTo>
                  <a:pt x="5441" y="3563"/>
                </a:lnTo>
                <a:lnTo>
                  <a:pt x="5438" y="3577"/>
                </a:lnTo>
                <a:lnTo>
                  <a:pt x="5451" y="3610"/>
                </a:lnTo>
                <a:lnTo>
                  <a:pt x="5460" y="3639"/>
                </a:lnTo>
                <a:lnTo>
                  <a:pt x="5463" y="3655"/>
                </a:lnTo>
                <a:lnTo>
                  <a:pt x="5467" y="3671"/>
                </a:lnTo>
                <a:lnTo>
                  <a:pt x="5468" y="3687"/>
                </a:lnTo>
                <a:lnTo>
                  <a:pt x="5469" y="3706"/>
                </a:lnTo>
                <a:lnTo>
                  <a:pt x="5467" y="3716"/>
                </a:lnTo>
                <a:lnTo>
                  <a:pt x="5465" y="3727"/>
                </a:lnTo>
                <a:lnTo>
                  <a:pt x="5439" y="3727"/>
                </a:lnTo>
                <a:lnTo>
                  <a:pt x="5431" y="3726"/>
                </a:lnTo>
                <a:lnTo>
                  <a:pt x="5423" y="3724"/>
                </a:lnTo>
                <a:lnTo>
                  <a:pt x="5417" y="3719"/>
                </a:lnTo>
                <a:lnTo>
                  <a:pt x="5411" y="3714"/>
                </a:lnTo>
                <a:lnTo>
                  <a:pt x="5401" y="3701"/>
                </a:lnTo>
                <a:lnTo>
                  <a:pt x="5393" y="3688"/>
                </a:lnTo>
                <a:lnTo>
                  <a:pt x="5383" y="3673"/>
                </a:lnTo>
                <a:lnTo>
                  <a:pt x="5374" y="3660"/>
                </a:lnTo>
                <a:lnTo>
                  <a:pt x="5368" y="3656"/>
                </a:lnTo>
                <a:lnTo>
                  <a:pt x="5362" y="3652"/>
                </a:lnTo>
                <a:lnTo>
                  <a:pt x="5355" y="3650"/>
                </a:lnTo>
                <a:lnTo>
                  <a:pt x="5346" y="3649"/>
                </a:lnTo>
                <a:lnTo>
                  <a:pt x="5339" y="3652"/>
                </a:lnTo>
                <a:lnTo>
                  <a:pt x="5332" y="3655"/>
                </a:lnTo>
                <a:lnTo>
                  <a:pt x="5332" y="3713"/>
                </a:lnTo>
                <a:lnTo>
                  <a:pt x="5305" y="3713"/>
                </a:lnTo>
                <a:lnTo>
                  <a:pt x="5305" y="3672"/>
                </a:lnTo>
                <a:lnTo>
                  <a:pt x="5306" y="3661"/>
                </a:lnTo>
                <a:lnTo>
                  <a:pt x="5308" y="3653"/>
                </a:lnTo>
                <a:lnTo>
                  <a:pt x="5310" y="3644"/>
                </a:lnTo>
                <a:lnTo>
                  <a:pt x="5313" y="3637"/>
                </a:lnTo>
                <a:lnTo>
                  <a:pt x="5317" y="3630"/>
                </a:lnTo>
                <a:lnTo>
                  <a:pt x="5320" y="3621"/>
                </a:lnTo>
                <a:lnTo>
                  <a:pt x="5322" y="3613"/>
                </a:lnTo>
                <a:lnTo>
                  <a:pt x="5322" y="3602"/>
                </a:lnTo>
                <a:lnTo>
                  <a:pt x="5322" y="3594"/>
                </a:lnTo>
                <a:lnTo>
                  <a:pt x="5320" y="3586"/>
                </a:lnTo>
                <a:lnTo>
                  <a:pt x="5317" y="3578"/>
                </a:lnTo>
                <a:lnTo>
                  <a:pt x="5312" y="3571"/>
                </a:lnTo>
                <a:lnTo>
                  <a:pt x="5309" y="3577"/>
                </a:lnTo>
                <a:lnTo>
                  <a:pt x="5305" y="3582"/>
                </a:lnTo>
                <a:lnTo>
                  <a:pt x="5301" y="3587"/>
                </a:lnTo>
                <a:lnTo>
                  <a:pt x="5297" y="3593"/>
                </a:lnTo>
                <a:lnTo>
                  <a:pt x="5286" y="3601"/>
                </a:lnTo>
                <a:lnTo>
                  <a:pt x="5276" y="3609"/>
                </a:lnTo>
                <a:lnTo>
                  <a:pt x="5267" y="3617"/>
                </a:lnTo>
                <a:lnTo>
                  <a:pt x="5258" y="3626"/>
                </a:lnTo>
                <a:lnTo>
                  <a:pt x="5255" y="3632"/>
                </a:lnTo>
                <a:lnTo>
                  <a:pt x="5253" y="3637"/>
                </a:lnTo>
                <a:lnTo>
                  <a:pt x="5251" y="3643"/>
                </a:lnTo>
                <a:lnTo>
                  <a:pt x="5251" y="3650"/>
                </a:lnTo>
                <a:lnTo>
                  <a:pt x="5251" y="3658"/>
                </a:lnTo>
                <a:lnTo>
                  <a:pt x="5253" y="3667"/>
                </a:lnTo>
                <a:lnTo>
                  <a:pt x="5255" y="3674"/>
                </a:lnTo>
                <a:lnTo>
                  <a:pt x="5257" y="3680"/>
                </a:lnTo>
                <a:lnTo>
                  <a:pt x="5261" y="3688"/>
                </a:lnTo>
                <a:lnTo>
                  <a:pt x="5263" y="3695"/>
                </a:lnTo>
                <a:lnTo>
                  <a:pt x="5264" y="3703"/>
                </a:lnTo>
                <a:lnTo>
                  <a:pt x="5265" y="3711"/>
                </a:lnTo>
                <a:lnTo>
                  <a:pt x="5262" y="3723"/>
                </a:lnTo>
                <a:lnTo>
                  <a:pt x="5257" y="3733"/>
                </a:lnTo>
                <a:lnTo>
                  <a:pt x="5248" y="3722"/>
                </a:lnTo>
                <a:lnTo>
                  <a:pt x="5237" y="3712"/>
                </a:lnTo>
                <a:lnTo>
                  <a:pt x="5227" y="3703"/>
                </a:lnTo>
                <a:lnTo>
                  <a:pt x="5216" y="3694"/>
                </a:lnTo>
                <a:lnTo>
                  <a:pt x="5208" y="3685"/>
                </a:lnTo>
                <a:lnTo>
                  <a:pt x="5200" y="3675"/>
                </a:lnTo>
                <a:lnTo>
                  <a:pt x="5197" y="3669"/>
                </a:lnTo>
                <a:lnTo>
                  <a:pt x="5195" y="3662"/>
                </a:lnTo>
                <a:lnTo>
                  <a:pt x="5194" y="3656"/>
                </a:lnTo>
                <a:lnTo>
                  <a:pt x="5193" y="3649"/>
                </a:lnTo>
                <a:lnTo>
                  <a:pt x="5194" y="3639"/>
                </a:lnTo>
                <a:lnTo>
                  <a:pt x="5196" y="3631"/>
                </a:lnTo>
                <a:lnTo>
                  <a:pt x="5199" y="3623"/>
                </a:lnTo>
                <a:lnTo>
                  <a:pt x="5203" y="3616"/>
                </a:lnTo>
                <a:lnTo>
                  <a:pt x="5206" y="3609"/>
                </a:lnTo>
                <a:lnTo>
                  <a:pt x="5209" y="3601"/>
                </a:lnTo>
                <a:lnTo>
                  <a:pt x="5211" y="3593"/>
                </a:lnTo>
                <a:lnTo>
                  <a:pt x="5212" y="3583"/>
                </a:lnTo>
                <a:lnTo>
                  <a:pt x="5212" y="3509"/>
                </a:lnTo>
                <a:lnTo>
                  <a:pt x="5160" y="3509"/>
                </a:lnTo>
                <a:lnTo>
                  <a:pt x="5156" y="3509"/>
                </a:lnTo>
                <a:lnTo>
                  <a:pt x="5152" y="3510"/>
                </a:lnTo>
                <a:lnTo>
                  <a:pt x="5149" y="3512"/>
                </a:lnTo>
                <a:lnTo>
                  <a:pt x="5146" y="3513"/>
                </a:lnTo>
                <a:lnTo>
                  <a:pt x="5139" y="3519"/>
                </a:lnTo>
                <a:lnTo>
                  <a:pt x="5134" y="3524"/>
                </a:lnTo>
                <a:lnTo>
                  <a:pt x="5129" y="3530"/>
                </a:lnTo>
                <a:lnTo>
                  <a:pt x="5122" y="3535"/>
                </a:lnTo>
                <a:lnTo>
                  <a:pt x="5119" y="3537"/>
                </a:lnTo>
                <a:lnTo>
                  <a:pt x="5116" y="3539"/>
                </a:lnTo>
                <a:lnTo>
                  <a:pt x="5112" y="3540"/>
                </a:lnTo>
                <a:lnTo>
                  <a:pt x="5107" y="3540"/>
                </a:lnTo>
                <a:lnTo>
                  <a:pt x="5101" y="3538"/>
                </a:lnTo>
                <a:lnTo>
                  <a:pt x="5095" y="3537"/>
                </a:lnTo>
                <a:lnTo>
                  <a:pt x="5097" y="3525"/>
                </a:lnTo>
                <a:lnTo>
                  <a:pt x="5099" y="3516"/>
                </a:lnTo>
                <a:lnTo>
                  <a:pt x="5101" y="3506"/>
                </a:lnTo>
                <a:lnTo>
                  <a:pt x="5105" y="3496"/>
                </a:lnTo>
                <a:lnTo>
                  <a:pt x="5107" y="3491"/>
                </a:lnTo>
                <a:lnTo>
                  <a:pt x="5111" y="3488"/>
                </a:lnTo>
                <a:lnTo>
                  <a:pt x="5114" y="3485"/>
                </a:lnTo>
                <a:lnTo>
                  <a:pt x="5118" y="3483"/>
                </a:lnTo>
                <a:lnTo>
                  <a:pt x="5122" y="3480"/>
                </a:lnTo>
                <a:lnTo>
                  <a:pt x="5125" y="3477"/>
                </a:lnTo>
                <a:lnTo>
                  <a:pt x="5128" y="3473"/>
                </a:lnTo>
                <a:lnTo>
                  <a:pt x="5129" y="3468"/>
                </a:lnTo>
                <a:lnTo>
                  <a:pt x="5129" y="3461"/>
                </a:lnTo>
                <a:lnTo>
                  <a:pt x="5126" y="3452"/>
                </a:lnTo>
                <a:lnTo>
                  <a:pt x="5124" y="3445"/>
                </a:lnTo>
                <a:lnTo>
                  <a:pt x="5121" y="3439"/>
                </a:lnTo>
                <a:lnTo>
                  <a:pt x="5118" y="3431"/>
                </a:lnTo>
                <a:lnTo>
                  <a:pt x="5114" y="3426"/>
                </a:lnTo>
                <a:lnTo>
                  <a:pt x="5109" y="3420"/>
                </a:lnTo>
                <a:lnTo>
                  <a:pt x="5103" y="3414"/>
                </a:lnTo>
                <a:lnTo>
                  <a:pt x="5097" y="3410"/>
                </a:lnTo>
                <a:lnTo>
                  <a:pt x="5090" y="3406"/>
                </a:lnTo>
                <a:lnTo>
                  <a:pt x="5083" y="3403"/>
                </a:lnTo>
                <a:lnTo>
                  <a:pt x="5076" y="3399"/>
                </a:lnTo>
                <a:lnTo>
                  <a:pt x="5068" y="3397"/>
                </a:lnTo>
                <a:lnTo>
                  <a:pt x="5060" y="3395"/>
                </a:lnTo>
                <a:lnTo>
                  <a:pt x="5052" y="3394"/>
                </a:lnTo>
                <a:lnTo>
                  <a:pt x="5044" y="3394"/>
                </a:lnTo>
                <a:lnTo>
                  <a:pt x="5038" y="3394"/>
                </a:lnTo>
                <a:lnTo>
                  <a:pt x="5031" y="3395"/>
                </a:lnTo>
                <a:lnTo>
                  <a:pt x="5026" y="3397"/>
                </a:lnTo>
                <a:lnTo>
                  <a:pt x="5021" y="3399"/>
                </a:lnTo>
                <a:lnTo>
                  <a:pt x="5010" y="3405"/>
                </a:lnTo>
                <a:lnTo>
                  <a:pt x="5001" y="3411"/>
                </a:lnTo>
                <a:lnTo>
                  <a:pt x="4992" y="3417"/>
                </a:lnTo>
                <a:lnTo>
                  <a:pt x="4982" y="3423"/>
                </a:lnTo>
                <a:lnTo>
                  <a:pt x="4977" y="3425"/>
                </a:lnTo>
                <a:lnTo>
                  <a:pt x="4971" y="3426"/>
                </a:lnTo>
                <a:lnTo>
                  <a:pt x="4965" y="3427"/>
                </a:lnTo>
                <a:lnTo>
                  <a:pt x="4959" y="3428"/>
                </a:lnTo>
                <a:lnTo>
                  <a:pt x="4955" y="3427"/>
                </a:lnTo>
                <a:lnTo>
                  <a:pt x="4953" y="3427"/>
                </a:lnTo>
                <a:lnTo>
                  <a:pt x="4950" y="3426"/>
                </a:lnTo>
                <a:lnTo>
                  <a:pt x="4948" y="3424"/>
                </a:lnTo>
                <a:lnTo>
                  <a:pt x="4945" y="3420"/>
                </a:lnTo>
                <a:lnTo>
                  <a:pt x="4943" y="3414"/>
                </a:lnTo>
                <a:lnTo>
                  <a:pt x="4940" y="3409"/>
                </a:lnTo>
                <a:lnTo>
                  <a:pt x="4936" y="3403"/>
                </a:lnTo>
                <a:lnTo>
                  <a:pt x="4933" y="3397"/>
                </a:lnTo>
                <a:lnTo>
                  <a:pt x="4928" y="3394"/>
                </a:lnTo>
                <a:lnTo>
                  <a:pt x="4922" y="3390"/>
                </a:lnTo>
                <a:lnTo>
                  <a:pt x="4915" y="3387"/>
                </a:lnTo>
                <a:lnTo>
                  <a:pt x="4909" y="3386"/>
                </a:lnTo>
                <a:lnTo>
                  <a:pt x="4903" y="3385"/>
                </a:lnTo>
                <a:lnTo>
                  <a:pt x="4889" y="3384"/>
                </a:lnTo>
                <a:lnTo>
                  <a:pt x="4874" y="3384"/>
                </a:lnTo>
                <a:lnTo>
                  <a:pt x="4867" y="3384"/>
                </a:lnTo>
                <a:lnTo>
                  <a:pt x="4860" y="3385"/>
                </a:lnTo>
                <a:lnTo>
                  <a:pt x="4854" y="3386"/>
                </a:lnTo>
                <a:lnTo>
                  <a:pt x="4849" y="3388"/>
                </a:lnTo>
                <a:lnTo>
                  <a:pt x="4837" y="3393"/>
                </a:lnTo>
                <a:lnTo>
                  <a:pt x="4828" y="3399"/>
                </a:lnTo>
                <a:lnTo>
                  <a:pt x="4818" y="3408"/>
                </a:lnTo>
                <a:lnTo>
                  <a:pt x="4810" y="3417"/>
                </a:lnTo>
                <a:lnTo>
                  <a:pt x="4801" y="3427"/>
                </a:lnTo>
                <a:lnTo>
                  <a:pt x="4793" y="3437"/>
                </a:lnTo>
                <a:lnTo>
                  <a:pt x="4783" y="3448"/>
                </a:lnTo>
                <a:lnTo>
                  <a:pt x="4773" y="3456"/>
                </a:lnTo>
                <a:lnTo>
                  <a:pt x="4762" y="3464"/>
                </a:lnTo>
                <a:lnTo>
                  <a:pt x="4753" y="3471"/>
                </a:lnTo>
                <a:lnTo>
                  <a:pt x="4744" y="3480"/>
                </a:lnTo>
                <a:lnTo>
                  <a:pt x="4738" y="3489"/>
                </a:lnTo>
                <a:lnTo>
                  <a:pt x="4735" y="3494"/>
                </a:lnTo>
                <a:lnTo>
                  <a:pt x="4733" y="3500"/>
                </a:lnTo>
                <a:lnTo>
                  <a:pt x="4732" y="3506"/>
                </a:lnTo>
                <a:lnTo>
                  <a:pt x="4732" y="3512"/>
                </a:lnTo>
                <a:lnTo>
                  <a:pt x="4732" y="3520"/>
                </a:lnTo>
                <a:lnTo>
                  <a:pt x="4734" y="3525"/>
                </a:lnTo>
                <a:lnTo>
                  <a:pt x="4737" y="3530"/>
                </a:lnTo>
                <a:lnTo>
                  <a:pt x="4741" y="3535"/>
                </a:lnTo>
                <a:lnTo>
                  <a:pt x="4745" y="3538"/>
                </a:lnTo>
                <a:lnTo>
                  <a:pt x="4752" y="3541"/>
                </a:lnTo>
                <a:lnTo>
                  <a:pt x="4758" y="3543"/>
                </a:lnTo>
                <a:lnTo>
                  <a:pt x="4764" y="3544"/>
                </a:lnTo>
                <a:lnTo>
                  <a:pt x="4779" y="3547"/>
                </a:lnTo>
                <a:lnTo>
                  <a:pt x="4795" y="3549"/>
                </a:lnTo>
                <a:lnTo>
                  <a:pt x="4812" y="3553"/>
                </a:lnTo>
                <a:lnTo>
                  <a:pt x="4827" y="3557"/>
                </a:lnTo>
                <a:lnTo>
                  <a:pt x="4817" y="3563"/>
                </a:lnTo>
                <a:lnTo>
                  <a:pt x="4809" y="3569"/>
                </a:lnTo>
                <a:lnTo>
                  <a:pt x="4799" y="3574"/>
                </a:lnTo>
                <a:lnTo>
                  <a:pt x="4790" y="3578"/>
                </a:lnTo>
                <a:lnTo>
                  <a:pt x="4771" y="3583"/>
                </a:lnTo>
                <a:lnTo>
                  <a:pt x="4748" y="3587"/>
                </a:lnTo>
                <a:lnTo>
                  <a:pt x="4762" y="3591"/>
                </a:lnTo>
                <a:lnTo>
                  <a:pt x="4771" y="3597"/>
                </a:lnTo>
                <a:lnTo>
                  <a:pt x="4778" y="3602"/>
                </a:lnTo>
                <a:lnTo>
                  <a:pt x="4781" y="3605"/>
                </a:lnTo>
                <a:lnTo>
                  <a:pt x="4783" y="3610"/>
                </a:lnTo>
                <a:lnTo>
                  <a:pt x="4785" y="3614"/>
                </a:lnTo>
                <a:lnTo>
                  <a:pt x="4785" y="3619"/>
                </a:lnTo>
                <a:lnTo>
                  <a:pt x="4785" y="3649"/>
                </a:lnTo>
                <a:lnTo>
                  <a:pt x="4756" y="3649"/>
                </a:lnTo>
                <a:lnTo>
                  <a:pt x="4750" y="3648"/>
                </a:lnTo>
                <a:lnTo>
                  <a:pt x="4744" y="3645"/>
                </a:lnTo>
                <a:lnTo>
                  <a:pt x="4740" y="3643"/>
                </a:lnTo>
                <a:lnTo>
                  <a:pt x="4736" y="3639"/>
                </a:lnTo>
                <a:lnTo>
                  <a:pt x="4729" y="3631"/>
                </a:lnTo>
                <a:lnTo>
                  <a:pt x="4723" y="3619"/>
                </a:lnTo>
                <a:lnTo>
                  <a:pt x="4717" y="3609"/>
                </a:lnTo>
                <a:lnTo>
                  <a:pt x="4709" y="3600"/>
                </a:lnTo>
                <a:lnTo>
                  <a:pt x="4705" y="3596"/>
                </a:lnTo>
                <a:lnTo>
                  <a:pt x="4701" y="3593"/>
                </a:lnTo>
                <a:lnTo>
                  <a:pt x="4696" y="3592"/>
                </a:lnTo>
                <a:lnTo>
                  <a:pt x="4689" y="3591"/>
                </a:lnTo>
                <a:lnTo>
                  <a:pt x="4683" y="3593"/>
                </a:lnTo>
                <a:lnTo>
                  <a:pt x="4677" y="3594"/>
                </a:lnTo>
                <a:lnTo>
                  <a:pt x="4676" y="3605"/>
                </a:lnTo>
                <a:lnTo>
                  <a:pt x="4673" y="3615"/>
                </a:lnTo>
                <a:lnTo>
                  <a:pt x="4670" y="3624"/>
                </a:lnTo>
                <a:lnTo>
                  <a:pt x="4667" y="3635"/>
                </a:lnTo>
                <a:lnTo>
                  <a:pt x="4653" y="3632"/>
                </a:lnTo>
                <a:lnTo>
                  <a:pt x="4647" y="3606"/>
                </a:lnTo>
                <a:lnTo>
                  <a:pt x="4644" y="3582"/>
                </a:lnTo>
                <a:lnTo>
                  <a:pt x="4641" y="3572"/>
                </a:lnTo>
                <a:lnTo>
                  <a:pt x="4638" y="3561"/>
                </a:lnTo>
                <a:lnTo>
                  <a:pt x="4634" y="3556"/>
                </a:lnTo>
                <a:lnTo>
                  <a:pt x="4631" y="3550"/>
                </a:lnTo>
                <a:lnTo>
                  <a:pt x="4627" y="3545"/>
                </a:lnTo>
                <a:lnTo>
                  <a:pt x="4623" y="3540"/>
                </a:lnTo>
                <a:lnTo>
                  <a:pt x="4624" y="3576"/>
                </a:lnTo>
                <a:lnTo>
                  <a:pt x="4624" y="3610"/>
                </a:lnTo>
                <a:lnTo>
                  <a:pt x="4623" y="3617"/>
                </a:lnTo>
                <a:lnTo>
                  <a:pt x="4622" y="3625"/>
                </a:lnTo>
                <a:lnTo>
                  <a:pt x="4620" y="3633"/>
                </a:lnTo>
                <a:lnTo>
                  <a:pt x="4616" y="3640"/>
                </a:lnTo>
                <a:lnTo>
                  <a:pt x="4613" y="3648"/>
                </a:lnTo>
                <a:lnTo>
                  <a:pt x="4609" y="3655"/>
                </a:lnTo>
                <a:lnTo>
                  <a:pt x="4605" y="3661"/>
                </a:lnTo>
                <a:lnTo>
                  <a:pt x="4598" y="3669"/>
                </a:lnTo>
                <a:lnTo>
                  <a:pt x="4598" y="3744"/>
                </a:lnTo>
                <a:lnTo>
                  <a:pt x="4589" y="3757"/>
                </a:lnTo>
                <a:lnTo>
                  <a:pt x="4577" y="3730"/>
                </a:lnTo>
                <a:lnTo>
                  <a:pt x="4568" y="3707"/>
                </a:lnTo>
                <a:lnTo>
                  <a:pt x="4563" y="3695"/>
                </a:lnTo>
                <a:lnTo>
                  <a:pt x="4558" y="3683"/>
                </a:lnTo>
                <a:lnTo>
                  <a:pt x="4555" y="3670"/>
                </a:lnTo>
                <a:lnTo>
                  <a:pt x="4551" y="3655"/>
                </a:lnTo>
                <a:lnTo>
                  <a:pt x="4548" y="3637"/>
                </a:lnTo>
                <a:lnTo>
                  <a:pt x="4544" y="3620"/>
                </a:lnTo>
                <a:lnTo>
                  <a:pt x="4541" y="3613"/>
                </a:lnTo>
                <a:lnTo>
                  <a:pt x="4537" y="3606"/>
                </a:lnTo>
                <a:lnTo>
                  <a:pt x="4534" y="3604"/>
                </a:lnTo>
                <a:lnTo>
                  <a:pt x="4531" y="3601"/>
                </a:lnTo>
                <a:lnTo>
                  <a:pt x="4528" y="3599"/>
                </a:lnTo>
                <a:lnTo>
                  <a:pt x="4524" y="3598"/>
                </a:lnTo>
                <a:lnTo>
                  <a:pt x="4524" y="3485"/>
                </a:lnTo>
                <a:lnTo>
                  <a:pt x="4524" y="3478"/>
                </a:lnTo>
                <a:lnTo>
                  <a:pt x="4522" y="3471"/>
                </a:lnTo>
                <a:lnTo>
                  <a:pt x="4520" y="3465"/>
                </a:lnTo>
                <a:lnTo>
                  <a:pt x="4518" y="3460"/>
                </a:lnTo>
                <a:lnTo>
                  <a:pt x="4511" y="3450"/>
                </a:lnTo>
                <a:lnTo>
                  <a:pt x="4502" y="3442"/>
                </a:lnTo>
                <a:lnTo>
                  <a:pt x="4481" y="3426"/>
                </a:lnTo>
                <a:lnTo>
                  <a:pt x="4459" y="3407"/>
                </a:lnTo>
                <a:lnTo>
                  <a:pt x="4440" y="3387"/>
                </a:lnTo>
                <a:lnTo>
                  <a:pt x="4425" y="3368"/>
                </a:lnTo>
                <a:lnTo>
                  <a:pt x="4411" y="3349"/>
                </a:lnTo>
                <a:lnTo>
                  <a:pt x="4395" y="3326"/>
                </a:lnTo>
                <a:lnTo>
                  <a:pt x="4388" y="3316"/>
                </a:lnTo>
                <a:lnTo>
                  <a:pt x="4383" y="3305"/>
                </a:lnTo>
                <a:lnTo>
                  <a:pt x="4379" y="3295"/>
                </a:lnTo>
                <a:lnTo>
                  <a:pt x="4375" y="3283"/>
                </a:lnTo>
                <a:lnTo>
                  <a:pt x="4367" y="3261"/>
                </a:lnTo>
                <a:lnTo>
                  <a:pt x="4359" y="3240"/>
                </a:lnTo>
                <a:lnTo>
                  <a:pt x="4356" y="3230"/>
                </a:lnTo>
                <a:lnTo>
                  <a:pt x="4350" y="3222"/>
                </a:lnTo>
                <a:lnTo>
                  <a:pt x="4345" y="3214"/>
                </a:lnTo>
                <a:lnTo>
                  <a:pt x="4339" y="3207"/>
                </a:lnTo>
                <a:lnTo>
                  <a:pt x="4332" y="3201"/>
                </a:lnTo>
                <a:lnTo>
                  <a:pt x="4324" y="3197"/>
                </a:lnTo>
                <a:lnTo>
                  <a:pt x="4314" y="3195"/>
                </a:lnTo>
                <a:lnTo>
                  <a:pt x="4303" y="3194"/>
                </a:lnTo>
                <a:lnTo>
                  <a:pt x="4298" y="3198"/>
                </a:lnTo>
                <a:lnTo>
                  <a:pt x="4291" y="3201"/>
                </a:lnTo>
                <a:lnTo>
                  <a:pt x="4286" y="3203"/>
                </a:lnTo>
                <a:lnTo>
                  <a:pt x="4280" y="3205"/>
                </a:lnTo>
                <a:lnTo>
                  <a:pt x="4267" y="3207"/>
                </a:lnTo>
                <a:lnTo>
                  <a:pt x="4252" y="3210"/>
                </a:lnTo>
                <a:lnTo>
                  <a:pt x="4242" y="3214"/>
                </a:lnTo>
                <a:lnTo>
                  <a:pt x="4233" y="3218"/>
                </a:lnTo>
                <a:lnTo>
                  <a:pt x="4226" y="3223"/>
                </a:lnTo>
                <a:lnTo>
                  <a:pt x="4218" y="3229"/>
                </a:lnTo>
                <a:lnTo>
                  <a:pt x="4212" y="3236"/>
                </a:lnTo>
                <a:lnTo>
                  <a:pt x="4205" y="3243"/>
                </a:lnTo>
                <a:lnTo>
                  <a:pt x="4197" y="3248"/>
                </a:lnTo>
                <a:lnTo>
                  <a:pt x="4188" y="3255"/>
                </a:lnTo>
                <a:lnTo>
                  <a:pt x="4164" y="3264"/>
                </a:lnTo>
                <a:lnTo>
                  <a:pt x="4143" y="3273"/>
                </a:lnTo>
                <a:lnTo>
                  <a:pt x="4138" y="3276"/>
                </a:lnTo>
                <a:lnTo>
                  <a:pt x="4134" y="3279"/>
                </a:lnTo>
                <a:lnTo>
                  <a:pt x="4130" y="3282"/>
                </a:lnTo>
                <a:lnTo>
                  <a:pt x="4126" y="3285"/>
                </a:lnTo>
                <a:lnTo>
                  <a:pt x="4123" y="3290"/>
                </a:lnTo>
                <a:lnTo>
                  <a:pt x="4121" y="3294"/>
                </a:lnTo>
                <a:lnTo>
                  <a:pt x="4120" y="3299"/>
                </a:lnTo>
                <a:lnTo>
                  <a:pt x="4120" y="3305"/>
                </a:lnTo>
                <a:lnTo>
                  <a:pt x="4120" y="3313"/>
                </a:lnTo>
                <a:lnTo>
                  <a:pt x="4121" y="3320"/>
                </a:lnTo>
                <a:lnTo>
                  <a:pt x="4124" y="3327"/>
                </a:lnTo>
                <a:lnTo>
                  <a:pt x="4128" y="3333"/>
                </a:lnTo>
                <a:lnTo>
                  <a:pt x="4131" y="3338"/>
                </a:lnTo>
                <a:lnTo>
                  <a:pt x="4136" y="3343"/>
                </a:lnTo>
                <a:lnTo>
                  <a:pt x="4141" y="3349"/>
                </a:lnTo>
                <a:lnTo>
                  <a:pt x="4147" y="3353"/>
                </a:lnTo>
                <a:lnTo>
                  <a:pt x="4093" y="3353"/>
                </a:lnTo>
                <a:lnTo>
                  <a:pt x="4093" y="3394"/>
                </a:lnTo>
                <a:lnTo>
                  <a:pt x="4084" y="3395"/>
                </a:lnTo>
                <a:lnTo>
                  <a:pt x="4076" y="3397"/>
                </a:lnTo>
                <a:lnTo>
                  <a:pt x="4062" y="3390"/>
                </a:lnTo>
                <a:lnTo>
                  <a:pt x="4048" y="3384"/>
                </a:lnTo>
                <a:lnTo>
                  <a:pt x="4041" y="3387"/>
                </a:lnTo>
                <a:lnTo>
                  <a:pt x="4035" y="3390"/>
                </a:lnTo>
                <a:lnTo>
                  <a:pt x="4035" y="3431"/>
                </a:lnTo>
                <a:lnTo>
                  <a:pt x="4048" y="3431"/>
                </a:lnTo>
                <a:lnTo>
                  <a:pt x="4060" y="3432"/>
                </a:lnTo>
                <a:lnTo>
                  <a:pt x="4072" y="3434"/>
                </a:lnTo>
                <a:lnTo>
                  <a:pt x="4082" y="3436"/>
                </a:lnTo>
                <a:lnTo>
                  <a:pt x="4094" y="3439"/>
                </a:lnTo>
                <a:lnTo>
                  <a:pt x="4104" y="3440"/>
                </a:lnTo>
                <a:lnTo>
                  <a:pt x="4117" y="3441"/>
                </a:lnTo>
                <a:lnTo>
                  <a:pt x="4130" y="3442"/>
                </a:lnTo>
                <a:lnTo>
                  <a:pt x="4143" y="3448"/>
                </a:lnTo>
                <a:lnTo>
                  <a:pt x="4130" y="3454"/>
                </a:lnTo>
                <a:lnTo>
                  <a:pt x="4116" y="3460"/>
                </a:lnTo>
                <a:lnTo>
                  <a:pt x="4103" y="3463"/>
                </a:lnTo>
                <a:lnTo>
                  <a:pt x="4090" y="3466"/>
                </a:lnTo>
                <a:lnTo>
                  <a:pt x="4063" y="3471"/>
                </a:lnTo>
                <a:lnTo>
                  <a:pt x="4035" y="3479"/>
                </a:lnTo>
                <a:lnTo>
                  <a:pt x="4031" y="3492"/>
                </a:lnTo>
                <a:lnTo>
                  <a:pt x="4059" y="3500"/>
                </a:lnTo>
                <a:lnTo>
                  <a:pt x="4084" y="3506"/>
                </a:lnTo>
                <a:lnTo>
                  <a:pt x="4096" y="3510"/>
                </a:lnTo>
                <a:lnTo>
                  <a:pt x="4109" y="3515"/>
                </a:lnTo>
                <a:lnTo>
                  <a:pt x="4120" y="3520"/>
                </a:lnTo>
                <a:lnTo>
                  <a:pt x="4134" y="3526"/>
                </a:lnTo>
                <a:lnTo>
                  <a:pt x="4147" y="3537"/>
                </a:lnTo>
                <a:lnTo>
                  <a:pt x="4133" y="3535"/>
                </a:lnTo>
                <a:lnTo>
                  <a:pt x="4119" y="3531"/>
                </a:lnTo>
                <a:lnTo>
                  <a:pt x="4107" y="3528"/>
                </a:lnTo>
                <a:lnTo>
                  <a:pt x="4096" y="3525"/>
                </a:lnTo>
                <a:lnTo>
                  <a:pt x="4084" y="3522"/>
                </a:lnTo>
                <a:lnTo>
                  <a:pt x="4073" y="3519"/>
                </a:lnTo>
                <a:lnTo>
                  <a:pt x="4060" y="3517"/>
                </a:lnTo>
                <a:lnTo>
                  <a:pt x="4045" y="3516"/>
                </a:lnTo>
                <a:lnTo>
                  <a:pt x="4040" y="3517"/>
                </a:lnTo>
                <a:lnTo>
                  <a:pt x="4035" y="3518"/>
                </a:lnTo>
                <a:lnTo>
                  <a:pt x="4030" y="3519"/>
                </a:lnTo>
                <a:lnTo>
                  <a:pt x="4026" y="3521"/>
                </a:lnTo>
                <a:lnTo>
                  <a:pt x="4023" y="3524"/>
                </a:lnTo>
                <a:lnTo>
                  <a:pt x="4020" y="3527"/>
                </a:lnTo>
                <a:lnTo>
                  <a:pt x="4019" y="3531"/>
                </a:lnTo>
                <a:lnTo>
                  <a:pt x="4018" y="3537"/>
                </a:lnTo>
                <a:lnTo>
                  <a:pt x="4019" y="3542"/>
                </a:lnTo>
                <a:lnTo>
                  <a:pt x="4022" y="3546"/>
                </a:lnTo>
                <a:lnTo>
                  <a:pt x="4025" y="3549"/>
                </a:lnTo>
                <a:lnTo>
                  <a:pt x="4030" y="3552"/>
                </a:lnTo>
                <a:lnTo>
                  <a:pt x="4035" y="3555"/>
                </a:lnTo>
                <a:lnTo>
                  <a:pt x="4039" y="3558"/>
                </a:lnTo>
                <a:lnTo>
                  <a:pt x="4043" y="3562"/>
                </a:lnTo>
                <a:lnTo>
                  <a:pt x="4045" y="3567"/>
                </a:lnTo>
                <a:lnTo>
                  <a:pt x="4054" y="3601"/>
                </a:lnTo>
                <a:lnTo>
                  <a:pt x="4059" y="3632"/>
                </a:lnTo>
                <a:lnTo>
                  <a:pt x="4065" y="3662"/>
                </a:lnTo>
                <a:lnTo>
                  <a:pt x="4073" y="3696"/>
                </a:lnTo>
                <a:lnTo>
                  <a:pt x="4079" y="3699"/>
                </a:lnTo>
                <a:lnTo>
                  <a:pt x="4086" y="3703"/>
                </a:lnTo>
                <a:lnTo>
                  <a:pt x="4092" y="3703"/>
                </a:lnTo>
                <a:lnTo>
                  <a:pt x="4097" y="3701"/>
                </a:lnTo>
                <a:lnTo>
                  <a:pt x="4102" y="3699"/>
                </a:lnTo>
                <a:lnTo>
                  <a:pt x="4106" y="3697"/>
                </a:lnTo>
                <a:lnTo>
                  <a:pt x="4115" y="3691"/>
                </a:lnTo>
                <a:lnTo>
                  <a:pt x="4122" y="3682"/>
                </a:lnTo>
                <a:lnTo>
                  <a:pt x="4130" y="3675"/>
                </a:lnTo>
                <a:lnTo>
                  <a:pt x="4137" y="3667"/>
                </a:lnTo>
                <a:lnTo>
                  <a:pt x="4141" y="3663"/>
                </a:lnTo>
                <a:lnTo>
                  <a:pt x="4147" y="3660"/>
                </a:lnTo>
                <a:lnTo>
                  <a:pt x="4152" y="3657"/>
                </a:lnTo>
                <a:lnTo>
                  <a:pt x="4157" y="3655"/>
                </a:lnTo>
                <a:lnTo>
                  <a:pt x="4153" y="3669"/>
                </a:lnTo>
                <a:lnTo>
                  <a:pt x="4149" y="3680"/>
                </a:lnTo>
                <a:lnTo>
                  <a:pt x="4147" y="3687"/>
                </a:lnTo>
                <a:lnTo>
                  <a:pt x="4145" y="3692"/>
                </a:lnTo>
                <a:lnTo>
                  <a:pt x="4144" y="3699"/>
                </a:lnTo>
                <a:lnTo>
                  <a:pt x="4143" y="3707"/>
                </a:lnTo>
                <a:lnTo>
                  <a:pt x="4144" y="3713"/>
                </a:lnTo>
                <a:lnTo>
                  <a:pt x="4145" y="3720"/>
                </a:lnTo>
                <a:lnTo>
                  <a:pt x="4148" y="3727"/>
                </a:lnTo>
                <a:lnTo>
                  <a:pt x="4151" y="3732"/>
                </a:lnTo>
                <a:lnTo>
                  <a:pt x="4159" y="3743"/>
                </a:lnTo>
                <a:lnTo>
                  <a:pt x="4168" y="3752"/>
                </a:lnTo>
                <a:lnTo>
                  <a:pt x="4177" y="3762"/>
                </a:lnTo>
                <a:lnTo>
                  <a:pt x="4186" y="3772"/>
                </a:lnTo>
                <a:lnTo>
                  <a:pt x="4189" y="3777"/>
                </a:lnTo>
                <a:lnTo>
                  <a:pt x="4191" y="3784"/>
                </a:lnTo>
                <a:lnTo>
                  <a:pt x="4193" y="3790"/>
                </a:lnTo>
                <a:lnTo>
                  <a:pt x="4194" y="3798"/>
                </a:lnTo>
                <a:lnTo>
                  <a:pt x="4181" y="3788"/>
                </a:lnTo>
                <a:lnTo>
                  <a:pt x="4170" y="3781"/>
                </a:lnTo>
                <a:lnTo>
                  <a:pt x="4158" y="3771"/>
                </a:lnTo>
                <a:lnTo>
                  <a:pt x="4147" y="3761"/>
                </a:lnTo>
                <a:lnTo>
                  <a:pt x="4141" y="3753"/>
                </a:lnTo>
                <a:lnTo>
                  <a:pt x="4137" y="3745"/>
                </a:lnTo>
                <a:lnTo>
                  <a:pt x="4134" y="3742"/>
                </a:lnTo>
                <a:lnTo>
                  <a:pt x="4131" y="3739"/>
                </a:lnTo>
                <a:lnTo>
                  <a:pt x="4126" y="3737"/>
                </a:lnTo>
                <a:lnTo>
                  <a:pt x="4122" y="3736"/>
                </a:lnTo>
                <a:lnTo>
                  <a:pt x="4073" y="3736"/>
                </a:lnTo>
                <a:lnTo>
                  <a:pt x="4073" y="3765"/>
                </a:lnTo>
                <a:lnTo>
                  <a:pt x="4073" y="3770"/>
                </a:lnTo>
                <a:lnTo>
                  <a:pt x="4075" y="3774"/>
                </a:lnTo>
                <a:lnTo>
                  <a:pt x="4077" y="3777"/>
                </a:lnTo>
                <a:lnTo>
                  <a:pt x="4079" y="3782"/>
                </a:lnTo>
                <a:lnTo>
                  <a:pt x="4081" y="3785"/>
                </a:lnTo>
                <a:lnTo>
                  <a:pt x="4084" y="3789"/>
                </a:lnTo>
                <a:lnTo>
                  <a:pt x="4085" y="3793"/>
                </a:lnTo>
                <a:lnTo>
                  <a:pt x="4086" y="3798"/>
                </a:lnTo>
                <a:lnTo>
                  <a:pt x="4085" y="3803"/>
                </a:lnTo>
                <a:lnTo>
                  <a:pt x="4084" y="3808"/>
                </a:lnTo>
                <a:lnTo>
                  <a:pt x="4083" y="3812"/>
                </a:lnTo>
                <a:lnTo>
                  <a:pt x="4081" y="3817"/>
                </a:lnTo>
                <a:lnTo>
                  <a:pt x="4076" y="3824"/>
                </a:lnTo>
                <a:lnTo>
                  <a:pt x="4069" y="3830"/>
                </a:lnTo>
                <a:lnTo>
                  <a:pt x="4062" y="3837"/>
                </a:lnTo>
                <a:lnTo>
                  <a:pt x="4057" y="3844"/>
                </a:lnTo>
                <a:lnTo>
                  <a:pt x="4054" y="3848"/>
                </a:lnTo>
                <a:lnTo>
                  <a:pt x="4051" y="3852"/>
                </a:lnTo>
                <a:lnTo>
                  <a:pt x="4049" y="3858"/>
                </a:lnTo>
                <a:lnTo>
                  <a:pt x="4048" y="3862"/>
                </a:lnTo>
                <a:lnTo>
                  <a:pt x="4067" y="3868"/>
                </a:lnTo>
                <a:lnTo>
                  <a:pt x="4085" y="3875"/>
                </a:lnTo>
                <a:lnTo>
                  <a:pt x="4101" y="3882"/>
                </a:lnTo>
                <a:lnTo>
                  <a:pt x="4117" y="3889"/>
                </a:lnTo>
                <a:lnTo>
                  <a:pt x="4148" y="3906"/>
                </a:lnTo>
                <a:lnTo>
                  <a:pt x="4181" y="3927"/>
                </a:lnTo>
                <a:lnTo>
                  <a:pt x="4199" y="3937"/>
                </a:lnTo>
                <a:lnTo>
                  <a:pt x="4215" y="3947"/>
                </a:lnTo>
                <a:lnTo>
                  <a:pt x="4223" y="3953"/>
                </a:lnTo>
                <a:lnTo>
                  <a:pt x="4228" y="3960"/>
                </a:lnTo>
                <a:lnTo>
                  <a:pt x="4231" y="3963"/>
                </a:lnTo>
                <a:lnTo>
                  <a:pt x="4232" y="3969"/>
                </a:lnTo>
                <a:lnTo>
                  <a:pt x="4234" y="3973"/>
                </a:lnTo>
                <a:lnTo>
                  <a:pt x="4235" y="3978"/>
                </a:lnTo>
                <a:lnTo>
                  <a:pt x="4229" y="4006"/>
                </a:lnTo>
                <a:lnTo>
                  <a:pt x="4229" y="4101"/>
                </a:lnTo>
                <a:lnTo>
                  <a:pt x="4201" y="4093"/>
                </a:lnTo>
                <a:lnTo>
                  <a:pt x="4193" y="4097"/>
                </a:lnTo>
                <a:lnTo>
                  <a:pt x="4186" y="4102"/>
                </a:lnTo>
                <a:lnTo>
                  <a:pt x="4179" y="4106"/>
                </a:lnTo>
                <a:lnTo>
                  <a:pt x="4173" y="4112"/>
                </a:lnTo>
                <a:lnTo>
                  <a:pt x="4162" y="4124"/>
                </a:lnTo>
                <a:lnTo>
                  <a:pt x="4151" y="4138"/>
                </a:lnTo>
                <a:lnTo>
                  <a:pt x="4137" y="4141"/>
                </a:lnTo>
                <a:lnTo>
                  <a:pt x="4143" y="4133"/>
                </a:lnTo>
                <a:lnTo>
                  <a:pt x="4149" y="4126"/>
                </a:lnTo>
                <a:lnTo>
                  <a:pt x="4154" y="4119"/>
                </a:lnTo>
                <a:lnTo>
                  <a:pt x="4157" y="4111"/>
                </a:lnTo>
                <a:lnTo>
                  <a:pt x="4163" y="4094"/>
                </a:lnTo>
                <a:lnTo>
                  <a:pt x="4171" y="4076"/>
                </a:lnTo>
                <a:lnTo>
                  <a:pt x="4176" y="4068"/>
                </a:lnTo>
                <a:lnTo>
                  <a:pt x="4182" y="4062"/>
                </a:lnTo>
                <a:lnTo>
                  <a:pt x="4186" y="4058"/>
                </a:lnTo>
                <a:lnTo>
                  <a:pt x="4189" y="4054"/>
                </a:lnTo>
                <a:lnTo>
                  <a:pt x="4191" y="4050"/>
                </a:lnTo>
                <a:lnTo>
                  <a:pt x="4191" y="4045"/>
                </a:lnTo>
                <a:lnTo>
                  <a:pt x="4191" y="4001"/>
                </a:lnTo>
                <a:lnTo>
                  <a:pt x="4167" y="3995"/>
                </a:lnTo>
                <a:lnTo>
                  <a:pt x="4143" y="3989"/>
                </a:lnTo>
                <a:lnTo>
                  <a:pt x="4122" y="3981"/>
                </a:lnTo>
                <a:lnTo>
                  <a:pt x="4103" y="3973"/>
                </a:lnTo>
                <a:lnTo>
                  <a:pt x="4094" y="3968"/>
                </a:lnTo>
                <a:lnTo>
                  <a:pt x="4085" y="3962"/>
                </a:lnTo>
                <a:lnTo>
                  <a:pt x="4077" y="3956"/>
                </a:lnTo>
                <a:lnTo>
                  <a:pt x="4068" y="3949"/>
                </a:lnTo>
                <a:lnTo>
                  <a:pt x="4060" y="3941"/>
                </a:lnTo>
                <a:lnTo>
                  <a:pt x="4053" y="3933"/>
                </a:lnTo>
                <a:lnTo>
                  <a:pt x="4045" y="3923"/>
                </a:lnTo>
                <a:lnTo>
                  <a:pt x="4038" y="3914"/>
                </a:lnTo>
                <a:lnTo>
                  <a:pt x="4030" y="3901"/>
                </a:lnTo>
                <a:lnTo>
                  <a:pt x="4025" y="3888"/>
                </a:lnTo>
                <a:lnTo>
                  <a:pt x="4020" y="3877"/>
                </a:lnTo>
                <a:lnTo>
                  <a:pt x="4017" y="3865"/>
                </a:lnTo>
                <a:lnTo>
                  <a:pt x="4012" y="3854"/>
                </a:lnTo>
                <a:lnTo>
                  <a:pt x="4008" y="3841"/>
                </a:lnTo>
                <a:lnTo>
                  <a:pt x="4004" y="3828"/>
                </a:lnTo>
                <a:lnTo>
                  <a:pt x="3998" y="3814"/>
                </a:lnTo>
                <a:lnTo>
                  <a:pt x="3983" y="3783"/>
                </a:lnTo>
                <a:lnTo>
                  <a:pt x="3971" y="3753"/>
                </a:lnTo>
                <a:lnTo>
                  <a:pt x="3962" y="3724"/>
                </a:lnTo>
                <a:lnTo>
                  <a:pt x="3953" y="3689"/>
                </a:lnTo>
                <a:lnTo>
                  <a:pt x="3950" y="3677"/>
                </a:lnTo>
                <a:lnTo>
                  <a:pt x="3945" y="3667"/>
                </a:lnTo>
                <a:lnTo>
                  <a:pt x="3940" y="3656"/>
                </a:lnTo>
                <a:lnTo>
                  <a:pt x="3933" y="3648"/>
                </a:lnTo>
                <a:lnTo>
                  <a:pt x="3928" y="3638"/>
                </a:lnTo>
                <a:lnTo>
                  <a:pt x="3924" y="3628"/>
                </a:lnTo>
                <a:lnTo>
                  <a:pt x="3922" y="3622"/>
                </a:lnTo>
                <a:lnTo>
                  <a:pt x="3921" y="3617"/>
                </a:lnTo>
                <a:lnTo>
                  <a:pt x="3919" y="3611"/>
                </a:lnTo>
                <a:lnTo>
                  <a:pt x="3919" y="3604"/>
                </a:lnTo>
                <a:lnTo>
                  <a:pt x="3919" y="3597"/>
                </a:lnTo>
                <a:lnTo>
                  <a:pt x="3921" y="3591"/>
                </a:lnTo>
                <a:lnTo>
                  <a:pt x="3923" y="3584"/>
                </a:lnTo>
                <a:lnTo>
                  <a:pt x="3924" y="3578"/>
                </a:lnTo>
                <a:lnTo>
                  <a:pt x="3929" y="3566"/>
                </a:lnTo>
                <a:lnTo>
                  <a:pt x="3934" y="3555"/>
                </a:lnTo>
                <a:lnTo>
                  <a:pt x="3941" y="3544"/>
                </a:lnTo>
                <a:lnTo>
                  <a:pt x="3945" y="3532"/>
                </a:lnTo>
                <a:lnTo>
                  <a:pt x="3947" y="3526"/>
                </a:lnTo>
                <a:lnTo>
                  <a:pt x="3949" y="3520"/>
                </a:lnTo>
                <a:lnTo>
                  <a:pt x="3950" y="3513"/>
                </a:lnTo>
                <a:lnTo>
                  <a:pt x="3950" y="3506"/>
                </a:lnTo>
                <a:lnTo>
                  <a:pt x="3949" y="3497"/>
                </a:lnTo>
                <a:lnTo>
                  <a:pt x="3948" y="3487"/>
                </a:lnTo>
                <a:lnTo>
                  <a:pt x="3947" y="3479"/>
                </a:lnTo>
                <a:lnTo>
                  <a:pt x="3945" y="3471"/>
                </a:lnTo>
                <a:lnTo>
                  <a:pt x="3943" y="3463"/>
                </a:lnTo>
                <a:lnTo>
                  <a:pt x="3942" y="3454"/>
                </a:lnTo>
                <a:lnTo>
                  <a:pt x="3941" y="3446"/>
                </a:lnTo>
                <a:lnTo>
                  <a:pt x="3940" y="3436"/>
                </a:lnTo>
                <a:lnTo>
                  <a:pt x="3941" y="3424"/>
                </a:lnTo>
                <a:lnTo>
                  <a:pt x="3943" y="3412"/>
                </a:lnTo>
                <a:lnTo>
                  <a:pt x="3946" y="3401"/>
                </a:lnTo>
                <a:lnTo>
                  <a:pt x="3949" y="3390"/>
                </a:lnTo>
                <a:lnTo>
                  <a:pt x="3960" y="3371"/>
                </a:lnTo>
                <a:lnTo>
                  <a:pt x="3970" y="3352"/>
                </a:lnTo>
                <a:lnTo>
                  <a:pt x="3982" y="3334"/>
                </a:lnTo>
                <a:lnTo>
                  <a:pt x="3991" y="3314"/>
                </a:lnTo>
                <a:lnTo>
                  <a:pt x="3996" y="3303"/>
                </a:lnTo>
                <a:lnTo>
                  <a:pt x="3999" y="3293"/>
                </a:lnTo>
                <a:lnTo>
                  <a:pt x="4000" y="3280"/>
                </a:lnTo>
                <a:lnTo>
                  <a:pt x="4001" y="3269"/>
                </a:lnTo>
                <a:lnTo>
                  <a:pt x="4001" y="3261"/>
                </a:lnTo>
                <a:lnTo>
                  <a:pt x="3999" y="3255"/>
                </a:lnTo>
                <a:lnTo>
                  <a:pt x="3996" y="3250"/>
                </a:lnTo>
                <a:lnTo>
                  <a:pt x="3992" y="3244"/>
                </a:lnTo>
                <a:lnTo>
                  <a:pt x="3988" y="3240"/>
                </a:lnTo>
                <a:lnTo>
                  <a:pt x="3983" y="3237"/>
                </a:lnTo>
                <a:lnTo>
                  <a:pt x="3977" y="3235"/>
                </a:lnTo>
                <a:lnTo>
                  <a:pt x="3970" y="3234"/>
                </a:lnTo>
                <a:lnTo>
                  <a:pt x="3965" y="3235"/>
                </a:lnTo>
                <a:lnTo>
                  <a:pt x="3960" y="3236"/>
                </a:lnTo>
                <a:lnTo>
                  <a:pt x="3954" y="3238"/>
                </a:lnTo>
                <a:lnTo>
                  <a:pt x="3950" y="3240"/>
                </a:lnTo>
                <a:lnTo>
                  <a:pt x="3941" y="3244"/>
                </a:lnTo>
                <a:lnTo>
                  <a:pt x="3930" y="3247"/>
                </a:lnTo>
                <a:lnTo>
                  <a:pt x="3894" y="3257"/>
                </a:lnTo>
                <a:lnTo>
                  <a:pt x="3861" y="3269"/>
                </a:lnTo>
                <a:lnTo>
                  <a:pt x="3846" y="3274"/>
                </a:lnTo>
                <a:lnTo>
                  <a:pt x="3831" y="3280"/>
                </a:lnTo>
                <a:lnTo>
                  <a:pt x="3817" y="3288"/>
                </a:lnTo>
                <a:lnTo>
                  <a:pt x="3803" y="3295"/>
                </a:lnTo>
                <a:lnTo>
                  <a:pt x="3790" y="3304"/>
                </a:lnTo>
                <a:lnTo>
                  <a:pt x="3778" y="3313"/>
                </a:lnTo>
                <a:lnTo>
                  <a:pt x="3765" y="3323"/>
                </a:lnTo>
                <a:lnTo>
                  <a:pt x="3754" y="3335"/>
                </a:lnTo>
                <a:lnTo>
                  <a:pt x="3743" y="3347"/>
                </a:lnTo>
                <a:lnTo>
                  <a:pt x="3733" y="3360"/>
                </a:lnTo>
                <a:lnTo>
                  <a:pt x="3722" y="3374"/>
                </a:lnTo>
                <a:lnTo>
                  <a:pt x="3713" y="3390"/>
                </a:lnTo>
                <a:lnTo>
                  <a:pt x="3702" y="3409"/>
                </a:lnTo>
                <a:lnTo>
                  <a:pt x="3695" y="3427"/>
                </a:lnTo>
                <a:lnTo>
                  <a:pt x="3689" y="3444"/>
                </a:lnTo>
                <a:lnTo>
                  <a:pt x="3685" y="3461"/>
                </a:lnTo>
                <a:lnTo>
                  <a:pt x="3679" y="3497"/>
                </a:lnTo>
                <a:lnTo>
                  <a:pt x="3671" y="3537"/>
                </a:lnTo>
                <a:lnTo>
                  <a:pt x="3665" y="3563"/>
                </a:lnTo>
                <a:lnTo>
                  <a:pt x="3658" y="3588"/>
                </a:lnTo>
                <a:lnTo>
                  <a:pt x="3651" y="3612"/>
                </a:lnTo>
                <a:lnTo>
                  <a:pt x="3646" y="3634"/>
                </a:lnTo>
                <a:lnTo>
                  <a:pt x="3641" y="3656"/>
                </a:lnTo>
                <a:lnTo>
                  <a:pt x="3638" y="3679"/>
                </a:lnTo>
                <a:lnTo>
                  <a:pt x="3635" y="3705"/>
                </a:lnTo>
                <a:lnTo>
                  <a:pt x="3634" y="3732"/>
                </a:lnTo>
                <a:lnTo>
                  <a:pt x="3634" y="3832"/>
                </a:lnTo>
                <a:lnTo>
                  <a:pt x="3665" y="3832"/>
                </a:lnTo>
                <a:lnTo>
                  <a:pt x="3668" y="3839"/>
                </a:lnTo>
                <a:lnTo>
                  <a:pt x="3671" y="3845"/>
                </a:lnTo>
                <a:lnTo>
                  <a:pt x="3670" y="3850"/>
                </a:lnTo>
                <a:lnTo>
                  <a:pt x="3668" y="3855"/>
                </a:lnTo>
                <a:lnTo>
                  <a:pt x="3664" y="3857"/>
                </a:lnTo>
                <a:lnTo>
                  <a:pt x="3660" y="3859"/>
                </a:lnTo>
                <a:lnTo>
                  <a:pt x="3655" y="3861"/>
                </a:lnTo>
                <a:lnTo>
                  <a:pt x="3650" y="3863"/>
                </a:lnTo>
                <a:lnTo>
                  <a:pt x="3645" y="3866"/>
                </a:lnTo>
                <a:lnTo>
                  <a:pt x="3641" y="3869"/>
                </a:lnTo>
                <a:lnTo>
                  <a:pt x="3636" y="3875"/>
                </a:lnTo>
                <a:lnTo>
                  <a:pt x="3633" y="3880"/>
                </a:lnTo>
                <a:lnTo>
                  <a:pt x="3631" y="3885"/>
                </a:lnTo>
                <a:lnTo>
                  <a:pt x="3629" y="3890"/>
                </a:lnTo>
                <a:lnTo>
                  <a:pt x="3628" y="3903"/>
                </a:lnTo>
                <a:lnTo>
                  <a:pt x="3627" y="3917"/>
                </a:lnTo>
                <a:lnTo>
                  <a:pt x="3628" y="3924"/>
                </a:lnTo>
                <a:lnTo>
                  <a:pt x="3629" y="3931"/>
                </a:lnTo>
                <a:lnTo>
                  <a:pt x="3632" y="3936"/>
                </a:lnTo>
                <a:lnTo>
                  <a:pt x="3635" y="3941"/>
                </a:lnTo>
                <a:lnTo>
                  <a:pt x="3645" y="3951"/>
                </a:lnTo>
                <a:lnTo>
                  <a:pt x="3654" y="3959"/>
                </a:lnTo>
                <a:lnTo>
                  <a:pt x="3664" y="3968"/>
                </a:lnTo>
                <a:lnTo>
                  <a:pt x="3673" y="3977"/>
                </a:lnTo>
                <a:lnTo>
                  <a:pt x="3677" y="3982"/>
                </a:lnTo>
                <a:lnTo>
                  <a:pt x="3680" y="3989"/>
                </a:lnTo>
                <a:lnTo>
                  <a:pt x="3681" y="3995"/>
                </a:lnTo>
                <a:lnTo>
                  <a:pt x="3682" y="4001"/>
                </a:lnTo>
                <a:lnTo>
                  <a:pt x="3681" y="4010"/>
                </a:lnTo>
                <a:lnTo>
                  <a:pt x="3680" y="4018"/>
                </a:lnTo>
                <a:lnTo>
                  <a:pt x="3679" y="4025"/>
                </a:lnTo>
                <a:lnTo>
                  <a:pt x="3677" y="4032"/>
                </a:lnTo>
                <a:lnTo>
                  <a:pt x="3674" y="4038"/>
                </a:lnTo>
                <a:lnTo>
                  <a:pt x="3673" y="4046"/>
                </a:lnTo>
                <a:lnTo>
                  <a:pt x="3672" y="4053"/>
                </a:lnTo>
                <a:lnTo>
                  <a:pt x="3671" y="4062"/>
                </a:lnTo>
                <a:lnTo>
                  <a:pt x="3671" y="4077"/>
                </a:lnTo>
                <a:lnTo>
                  <a:pt x="3672" y="4092"/>
                </a:lnTo>
                <a:lnTo>
                  <a:pt x="3674" y="4098"/>
                </a:lnTo>
                <a:lnTo>
                  <a:pt x="3677" y="4105"/>
                </a:lnTo>
                <a:lnTo>
                  <a:pt x="3680" y="4111"/>
                </a:lnTo>
                <a:lnTo>
                  <a:pt x="3685" y="4117"/>
                </a:lnTo>
                <a:lnTo>
                  <a:pt x="3691" y="4123"/>
                </a:lnTo>
                <a:lnTo>
                  <a:pt x="3699" y="4128"/>
                </a:lnTo>
                <a:lnTo>
                  <a:pt x="3705" y="4132"/>
                </a:lnTo>
                <a:lnTo>
                  <a:pt x="3713" y="4134"/>
                </a:lnTo>
                <a:lnTo>
                  <a:pt x="3720" y="4136"/>
                </a:lnTo>
                <a:lnTo>
                  <a:pt x="3727" y="4139"/>
                </a:lnTo>
                <a:lnTo>
                  <a:pt x="3735" y="4140"/>
                </a:lnTo>
                <a:lnTo>
                  <a:pt x="3742" y="4140"/>
                </a:lnTo>
                <a:lnTo>
                  <a:pt x="3775" y="4140"/>
                </a:lnTo>
                <a:lnTo>
                  <a:pt x="3811" y="4141"/>
                </a:lnTo>
                <a:lnTo>
                  <a:pt x="3839" y="4144"/>
                </a:lnTo>
                <a:lnTo>
                  <a:pt x="3866" y="4148"/>
                </a:lnTo>
                <a:lnTo>
                  <a:pt x="3891" y="4152"/>
                </a:lnTo>
                <a:lnTo>
                  <a:pt x="3914" y="4158"/>
                </a:lnTo>
                <a:lnTo>
                  <a:pt x="3926" y="4162"/>
                </a:lnTo>
                <a:lnTo>
                  <a:pt x="3937" y="4166"/>
                </a:lnTo>
                <a:lnTo>
                  <a:pt x="3948" y="4170"/>
                </a:lnTo>
                <a:lnTo>
                  <a:pt x="3959" y="4177"/>
                </a:lnTo>
                <a:lnTo>
                  <a:pt x="3969" y="4183"/>
                </a:lnTo>
                <a:lnTo>
                  <a:pt x="3980" y="4190"/>
                </a:lnTo>
                <a:lnTo>
                  <a:pt x="3990" y="4199"/>
                </a:lnTo>
                <a:lnTo>
                  <a:pt x="4001" y="4209"/>
                </a:lnTo>
                <a:lnTo>
                  <a:pt x="3988" y="4218"/>
                </a:lnTo>
                <a:lnTo>
                  <a:pt x="3975" y="4225"/>
                </a:lnTo>
                <a:lnTo>
                  <a:pt x="3963" y="4233"/>
                </a:lnTo>
                <a:lnTo>
                  <a:pt x="3950" y="4238"/>
                </a:lnTo>
                <a:lnTo>
                  <a:pt x="3937" y="4243"/>
                </a:lnTo>
                <a:lnTo>
                  <a:pt x="3924" y="4246"/>
                </a:lnTo>
                <a:lnTo>
                  <a:pt x="3910" y="4248"/>
                </a:lnTo>
                <a:lnTo>
                  <a:pt x="3894" y="4249"/>
                </a:lnTo>
                <a:lnTo>
                  <a:pt x="3890" y="4249"/>
                </a:lnTo>
                <a:lnTo>
                  <a:pt x="3887" y="4248"/>
                </a:lnTo>
                <a:lnTo>
                  <a:pt x="3883" y="4247"/>
                </a:lnTo>
                <a:lnTo>
                  <a:pt x="3879" y="4245"/>
                </a:lnTo>
                <a:lnTo>
                  <a:pt x="3874" y="4241"/>
                </a:lnTo>
                <a:lnTo>
                  <a:pt x="3869" y="4236"/>
                </a:lnTo>
                <a:lnTo>
                  <a:pt x="3864" y="4232"/>
                </a:lnTo>
                <a:lnTo>
                  <a:pt x="3858" y="4226"/>
                </a:lnTo>
                <a:lnTo>
                  <a:pt x="3855" y="4225"/>
                </a:lnTo>
                <a:lnTo>
                  <a:pt x="3852" y="4224"/>
                </a:lnTo>
                <a:lnTo>
                  <a:pt x="3848" y="4223"/>
                </a:lnTo>
                <a:lnTo>
                  <a:pt x="3843" y="4222"/>
                </a:lnTo>
                <a:lnTo>
                  <a:pt x="3770" y="4222"/>
                </a:lnTo>
                <a:lnTo>
                  <a:pt x="3770" y="4264"/>
                </a:lnTo>
                <a:lnTo>
                  <a:pt x="3771" y="4272"/>
                </a:lnTo>
                <a:lnTo>
                  <a:pt x="3773" y="4277"/>
                </a:lnTo>
                <a:lnTo>
                  <a:pt x="3777" y="4282"/>
                </a:lnTo>
                <a:lnTo>
                  <a:pt x="3781" y="4287"/>
                </a:lnTo>
                <a:lnTo>
                  <a:pt x="3791" y="4297"/>
                </a:lnTo>
                <a:lnTo>
                  <a:pt x="3800" y="4308"/>
                </a:lnTo>
                <a:lnTo>
                  <a:pt x="3817" y="4328"/>
                </a:lnTo>
                <a:lnTo>
                  <a:pt x="3832" y="4346"/>
                </a:lnTo>
                <a:lnTo>
                  <a:pt x="3848" y="4362"/>
                </a:lnTo>
                <a:lnTo>
                  <a:pt x="3865" y="4383"/>
                </a:lnTo>
                <a:lnTo>
                  <a:pt x="3873" y="4390"/>
                </a:lnTo>
                <a:lnTo>
                  <a:pt x="3881" y="4395"/>
                </a:lnTo>
                <a:lnTo>
                  <a:pt x="3890" y="4399"/>
                </a:lnTo>
                <a:lnTo>
                  <a:pt x="3898" y="4404"/>
                </a:lnTo>
                <a:lnTo>
                  <a:pt x="3907" y="4407"/>
                </a:lnTo>
                <a:lnTo>
                  <a:pt x="3916" y="4411"/>
                </a:lnTo>
                <a:lnTo>
                  <a:pt x="3925" y="4416"/>
                </a:lnTo>
                <a:lnTo>
                  <a:pt x="3933" y="4423"/>
                </a:lnTo>
                <a:lnTo>
                  <a:pt x="3938" y="4429"/>
                </a:lnTo>
                <a:lnTo>
                  <a:pt x="3943" y="4435"/>
                </a:lnTo>
                <a:lnTo>
                  <a:pt x="3947" y="4442"/>
                </a:lnTo>
                <a:lnTo>
                  <a:pt x="3951" y="4449"/>
                </a:lnTo>
                <a:lnTo>
                  <a:pt x="3955" y="4454"/>
                </a:lnTo>
                <a:lnTo>
                  <a:pt x="3961" y="4460"/>
                </a:lnTo>
                <a:lnTo>
                  <a:pt x="3963" y="4461"/>
                </a:lnTo>
                <a:lnTo>
                  <a:pt x="3966" y="4463"/>
                </a:lnTo>
                <a:lnTo>
                  <a:pt x="3970" y="4464"/>
                </a:lnTo>
                <a:lnTo>
                  <a:pt x="3973" y="4464"/>
                </a:lnTo>
                <a:lnTo>
                  <a:pt x="3977" y="4464"/>
                </a:lnTo>
                <a:lnTo>
                  <a:pt x="3979" y="4463"/>
                </a:lnTo>
                <a:lnTo>
                  <a:pt x="3981" y="4461"/>
                </a:lnTo>
                <a:lnTo>
                  <a:pt x="3982" y="4460"/>
                </a:lnTo>
                <a:lnTo>
                  <a:pt x="3985" y="4455"/>
                </a:lnTo>
                <a:lnTo>
                  <a:pt x="3987" y="4450"/>
                </a:lnTo>
                <a:lnTo>
                  <a:pt x="3989" y="4445"/>
                </a:lnTo>
                <a:lnTo>
                  <a:pt x="3992" y="4441"/>
                </a:lnTo>
                <a:lnTo>
                  <a:pt x="3994" y="4438"/>
                </a:lnTo>
                <a:lnTo>
                  <a:pt x="3996" y="4437"/>
                </a:lnTo>
                <a:lnTo>
                  <a:pt x="3999" y="4436"/>
                </a:lnTo>
                <a:lnTo>
                  <a:pt x="4001" y="4436"/>
                </a:lnTo>
                <a:lnTo>
                  <a:pt x="4008" y="4441"/>
                </a:lnTo>
                <a:lnTo>
                  <a:pt x="4015" y="4447"/>
                </a:lnTo>
                <a:lnTo>
                  <a:pt x="4043" y="4447"/>
                </a:lnTo>
                <a:lnTo>
                  <a:pt x="4044" y="4434"/>
                </a:lnTo>
                <a:lnTo>
                  <a:pt x="4044" y="4423"/>
                </a:lnTo>
                <a:lnTo>
                  <a:pt x="4044" y="4412"/>
                </a:lnTo>
                <a:lnTo>
                  <a:pt x="4043" y="4399"/>
                </a:lnTo>
                <a:lnTo>
                  <a:pt x="4056" y="4386"/>
                </a:lnTo>
                <a:lnTo>
                  <a:pt x="4061" y="4396"/>
                </a:lnTo>
                <a:lnTo>
                  <a:pt x="4067" y="4406"/>
                </a:lnTo>
                <a:lnTo>
                  <a:pt x="4074" y="4414"/>
                </a:lnTo>
                <a:lnTo>
                  <a:pt x="4082" y="4423"/>
                </a:lnTo>
                <a:lnTo>
                  <a:pt x="4094" y="4404"/>
                </a:lnTo>
                <a:lnTo>
                  <a:pt x="4105" y="4387"/>
                </a:lnTo>
                <a:lnTo>
                  <a:pt x="4112" y="4379"/>
                </a:lnTo>
                <a:lnTo>
                  <a:pt x="4119" y="4374"/>
                </a:lnTo>
                <a:lnTo>
                  <a:pt x="4123" y="4372"/>
                </a:lnTo>
                <a:lnTo>
                  <a:pt x="4128" y="4370"/>
                </a:lnTo>
                <a:lnTo>
                  <a:pt x="4133" y="4369"/>
                </a:lnTo>
                <a:lnTo>
                  <a:pt x="4138" y="4369"/>
                </a:lnTo>
                <a:lnTo>
                  <a:pt x="4148" y="4369"/>
                </a:lnTo>
                <a:lnTo>
                  <a:pt x="4156" y="4370"/>
                </a:lnTo>
                <a:lnTo>
                  <a:pt x="4164" y="4371"/>
                </a:lnTo>
                <a:lnTo>
                  <a:pt x="4174" y="4372"/>
                </a:lnTo>
                <a:lnTo>
                  <a:pt x="4174" y="4404"/>
                </a:lnTo>
                <a:lnTo>
                  <a:pt x="4175" y="4432"/>
                </a:lnTo>
                <a:lnTo>
                  <a:pt x="4177" y="4446"/>
                </a:lnTo>
                <a:lnTo>
                  <a:pt x="4181" y="4460"/>
                </a:lnTo>
                <a:lnTo>
                  <a:pt x="4185" y="4466"/>
                </a:lnTo>
                <a:lnTo>
                  <a:pt x="4189" y="4472"/>
                </a:lnTo>
                <a:lnTo>
                  <a:pt x="4193" y="4478"/>
                </a:lnTo>
                <a:lnTo>
                  <a:pt x="4198" y="4484"/>
                </a:lnTo>
                <a:lnTo>
                  <a:pt x="4205" y="4490"/>
                </a:lnTo>
                <a:lnTo>
                  <a:pt x="4211" y="4494"/>
                </a:lnTo>
                <a:lnTo>
                  <a:pt x="4218" y="4498"/>
                </a:lnTo>
                <a:lnTo>
                  <a:pt x="4227" y="4500"/>
                </a:lnTo>
                <a:lnTo>
                  <a:pt x="4244" y="4501"/>
                </a:lnTo>
                <a:lnTo>
                  <a:pt x="4263" y="4501"/>
                </a:lnTo>
                <a:lnTo>
                  <a:pt x="4268" y="4501"/>
                </a:lnTo>
                <a:lnTo>
                  <a:pt x="4272" y="4499"/>
                </a:lnTo>
                <a:lnTo>
                  <a:pt x="4276" y="4497"/>
                </a:lnTo>
                <a:lnTo>
                  <a:pt x="4281" y="4494"/>
                </a:lnTo>
                <a:lnTo>
                  <a:pt x="4288" y="4487"/>
                </a:lnTo>
                <a:lnTo>
                  <a:pt x="4294" y="4479"/>
                </a:lnTo>
                <a:lnTo>
                  <a:pt x="4301" y="4471"/>
                </a:lnTo>
                <a:lnTo>
                  <a:pt x="4307" y="4464"/>
                </a:lnTo>
                <a:lnTo>
                  <a:pt x="4311" y="4461"/>
                </a:lnTo>
                <a:lnTo>
                  <a:pt x="4315" y="4459"/>
                </a:lnTo>
                <a:lnTo>
                  <a:pt x="4320" y="4457"/>
                </a:lnTo>
                <a:lnTo>
                  <a:pt x="4325" y="4456"/>
                </a:lnTo>
                <a:lnTo>
                  <a:pt x="4341" y="4457"/>
                </a:lnTo>
                <a:lnTo>
                  <a:pt x="4355" y="4459"/>
                </a:lnTo>
                <a:lnTo>
                  <a:pt x="4367" y="4460"/>
                </a:lnTo>
                <a:lnTo>
                  <a:pt x="4380" y="4462"/>
                </a:lnTo>
                <a:lnTo>
                  <a:pt x="4393" y="4464"/>
                </a:lnTo>
                <a:lnTo>
                  <a:pt x="4405" y="4466"/>
                </a:lnTo>
                <a:lnTo>
                  <a:pt x="4419" y="4467"/>
                </a:lnTo>
                <a:lnTo>
                  <a:pt x="4434" y="4467"/>
                </a:lnTo>
                <a:lnTo>
                  <a:pt x="4445" y="4466"/>
                </a:lnTo>
                <a:lnTo>
                  <a:pt x="4456" y="4464"/>
                </a:lnTo>
                <a:lnTo>
                  <a:pt x="4466" y="4461"/>
                </a:lnTo>
                <a:lnTo>
                  <a:pt x="4476" y="4456"/>
                </a:lnTo>
                <a:lnTo>
                  <a:pt x="4486" y="4453"/>
                </a:lnTo>
                <a:lnTo>
                  <a:pt x="4495" y="4450"/>
                </a:lnTo>
                <a:lnTo>
                  <a:pt x="4506" y="4448"/>
                </a:lnTo>
                <a:lnTo>
                  <a:pt x="4517" y="4447"/>
                </a:lnTo>
                <a:lnTo>
                  <a:pt x="4522" y="4453"/>
                </a:lnTo>
                <a:lnTo>
                  <a:pt x="4528" y="4461"/>
                </a:lnTo>
                <a:lnTo>
                  <a:pt x="4541" y="4465"/>
                </a:lnTo>
                <a:lnTo>
                  <a:pt x="4555" y="4468"/>
                </a:lnTo>
                <a:lnTo>
                  <a:pt x="4569" y="4471"/>
                </a:lnTo>
                <a:lnTo>
                  <a:pt x="4582" y="4472"/>
                </a:lnTo>
                <a:lnTo>
                  <a:pt x="4608" y="4473"/>
                </a:lnTo>
                <a:lnTo>
                  <a:pt x="4637" y="4474"/>
                </a:lnTo>
                <a:lnTo>
                  <a:pt x="4652" y="4472"/>
                </a:lnTo>
                <a:lnTo>
                  <a:pt x="4667" y="4470"/>
                </a:lnTo>
                <a:lnTo>
                  <a:pt x="4670" y="4456"/>
                </a:lnTo>
                <a:lnTo>
                  <a:pt x="4673" y="4444"/>
                </a:lnTo>
                <a:lnTo>
                  <a:pt x="4673" y="4440"/>
                </a:lnTo>
                <a:lnTo>
                  <a:pt x="4672" y="4436"/>
                </a:lnTo>
                <a:lnTo>
                  <a:pt x="4671" y="4433"/>
                </a:lnTo>
                <a:lnTo>
                  <a:pt x="4669" y="4431"/>
                </a:lnTo>
                <a:lnTo>
                  <a:pt x="4665" y="4427"/>
                </a:lnTo>
                <a:lnTo>
                  <a:pt x="4659" y="4423"/>
                </a:lnTo>
                <a:lnTo>
                  <a:pt x="4646" y="4416"/>
                </a:lnTo>
                <a:lnTo>
                  <a:pt x="4632" y="4409"/>
                </a:lnTo>
                <a:lnTo>
                  <a:pt x="4611" y="4394"/>
                </a:lnTo>
                <a:lnTo>
                  <a:pt x="4593" y="4380"/>
                </a:lnTo>
                <a:lnTo>
                  <a:pt x="4584" y="4373"/>
                </a:lnTo>
                <a:lnTo>
                  <a:pt x="4575" y="4365"/>
                </a:lnTo>
                <a:lnTo>
                  <a:pt x="4567" y="4355"/>
                </a:lnTo>
                <a:lnTo>
                  <a:pt x="4558" y="4345"/>
                </a:lnTo>
                <a:lnTo>
                  <a:pt x="4551" y="4331"/>
                </a:lnTo>
                <a:lnTo>
                  <a:pt x="4562" y="4334"/>
                </a:lnTo>
                <a:lnTo>
                  <a:pt x="4571" y="4337"/>
                </a:lnTo>
                <a:lnTo>
                  <a:pt x="4579" y="4341"/>
                </a:lnTo>
                <a:lnTo>
                  <a:pt x="4588" y="4346"/>
                </a:lnTo>
                <a:lnTo>
                  <a:pt x="4603" y="4355"/>
                </a:lnTo>
                <a:lnTo>
                  <a:pt x="4618" y="4366"/>
                </a:lnTo>
                <a:lnTo>
                  <a:pt x="4632" y="4374"/>
                </a:lnTo>
                <a:lnTo>
                  <a:pt x="4647" y="4381"/>
                </a:lnTo>
                <a:lnTo>
                  <a:pt x="4656" y="4385"/>
                </a:lnTo>
                <a:lnTo>
                  <a:pt x="4664" y="4387"/>
                </a:lnTo>
                <a:lnTo>
                  <a:pt x="4673" y="4389"/>
                </a:lnTo>
                <a:lnTo>
                  <a:pt x="4684" y="4389"/>
                </a:lnTo>
                <a:lnTo>
                  <a:pt x="4687" y="4389"/>
                </a:lnTo>
                <a:lnTo>
                  <a:pt x="4690" y="4388"/>
                </a:lnTo>
                <a:lnTo>
                  <a:pt x="4694" y="4387"/>
                </a:lnTo>
                <a:lnTo>
                  <a:pt x="4697" y="4385"/>
                </a:lnTo>
                <a:lnTo>
                  <a:pt x="4701" y="4380"/>
                </a:lnTo>
                <a:lnTo>
                  <a:pt x="4705" y="4374"/>
                </a:lnTo>
                <a:lnTo>
                  <a:pt x="4707" y="4368"/>
                </a:lnTo>
                <a:lnTo>
                  <a:pt x="4709" y="4360"/>
                </a:lnTo>
                <a:lnTo>
                  <a:pt x="4710" y="4353"/>
                </a:lnTo>
                <a:lnTo>
                  <a:pt x="4710" y="4345"/>
                </a:lnTo>
                <a:lnTo>
                  <a:pt x="4810" y="4345"/>
                </a:lnTo>
                <a:lnTo>
                  <a:pt x="4880" y="4358"/>
                </a:lnTo>
                <a:lnTo>
                  <a:pt x="4954" y="4358"/>
                </a:lnTo>
                <a:lnTo>
                  <a:pt x="4965" y="4357"/>
                </a:lnTo>
                <a:lnTo>
                  <a:pt x="4973" y="4355"/>
                </a:lnTo>
                <a:lnTo>
                  <a:pt x="4981" y="4351"/>
                </a:lnTo>
                <a:lnTo>
                  <a:pt x="4987" y="4346"/>
                </a:lnTo>
                <a:lnTo>
                  <a:pt x="4992" y="4339"/>
                </a:lnTo>
                <a:lnTo>
                  <a:pt x="4997" y="4331"/>
                </a:lnTo>
                <a:lnTo>
                  <a:pt x="5001" y="4322"/>
                </a:lnTo>
                <a:lnTo>
                  <a:pt x="5004" y="4313"/>
                </a:lnTo>
                <a:lnTo>
                  <a:pt x="5008" y="4292"/>
                </a:lnTo>
                <a:lnTo>
                  <a:pt x="5010" y="4270"/>
                </a:lnTo>
                <a:lnTo>
                  <a:pt x="5011" y="4246"/>
                </a:lnTo>
                <a:lnTo>
                  <a:pt x="5014" y="4224"/>
                </a:lnTo>
                <a:lnTo>
                  <a:pt x="5000" y="4224"/>
                </a:lnTo>
                <a:lnTo>
                  <a:pt x="4988" y="4223"/>
                </a:lnTo>
                <a:lnTo>
                  <a:pt x="4978" y="4223"/>
                </a:lnTo>
                <a:lnTo>
                  <a:pt x="4964" y="4222"/>
                </a:lnTo>
                <a:lnTo>
                  <a:pt x="4953" y="4223"/>
                </a:lnTo>
                <a:lnTo>
                  <a:pt x="4943" y="4224"/>
                </a:lnTo>
                <a:lnTo>
                  <a:pt x="4933" y="4225"/>
                </a:lnTo>
                <a:lnTo>
                  <a:pt x="4923" y="4226"/>
                </a:lnTo>
                <a:lnTo>
                  <a:pt x="4913" y="4225"/>
                </a:lnTo>
                <a:lnTo>
                  <a:pt x="4905" y="4222"/>
                </a:lnTo>
                <a:lnTo>
                  <a:pt x="4898" y="4218"/>
                </a:lnTo>
                <a:lnTo>
                  <a:pt x="4892" y="4213"/>
                </a:lnTo>
                <a:lnTo>
                  <a:pt x="4882" y="4198"/>
                </a:lnTo>
                <a:lnTo>
                  <a:pt x="4871" y="4182"/>
                </a:lnTo>
                <a:lnTo>
                  <a:pt x="4879" y="4177"/>
                </a:lnTo>
                <a:lnTo>
                  <a:pt x="4886" y="4171"/>
                </a:lnTo>
                <a:lnTo>
                  <a:pt x="4892" y="4166"/>
                </a:lnTo>
                <a:lnTo>
                  <a:pt x="4897" y="4159"/>
                </a:lnTo>
                <a:lnTo>
                  <a:pt x="4902" y="4152"/>
                </a:lnTo>
                <a:lnTo>
                  <a:pt x="4905" y="4145"/>
                </a:lnTo>
                <a:lnTo>
                  <a:pt x="4908" y="4138"/>
                </a:lnTo>
                <a:lnTo>
                  <a:pt x="4911" y="4129"/>
                </a:lnTo>
                <a:lnTo>
                  <a:pt x="4916" y="4113"/>
                </a:lnTo>
                <a:lnTo>
                  <a:pt x="4922" y="4096"/>
                </a:lnTo>
                <a:lnTo>
                  <a:pt x="4925" y="4088"/>
                </a:lnTo>
                <a:lnTo>
                  <a:pt x="4928" y="4079"/>
                </a:lnTo>
                <a:lnTo>
                  <a:pt x="4933" y="4071"/>
                </a:lnTo>
                <a:lnTo>
                  <a:pt x="4939" y="4063"/>
                </a:lnTo>
                <a:lnTo>
                  <a:pt x="4941" y="4072"/>
                </a:lnTo>
                <a:lnTo>
                  <a:pt x="4943" y="4081"/>
                </a:lnTo>
                <a:lnTo>
                  <a:pt x="4943" y="4089"/>
                </a:lnTo>
                <a:lnTo>
                  <a:pt x="4943" y="4096"/>
                </a:lnTo>
                <a:lnTo>
                  <a:pt x="4943" y="4105"/>
                </a:lnTo>
                <a:lnTo>
                  <a:pt x="4943" y="4113"/>
                </a:lnTo>
                <a:lnTo>
                  <a:pt x="4944" y="4122"/>
                </a:lnTo>
                <a:lnTo>
                  <a:pt x="4945" y="4131"/>
                </a:lnTo>
                <a:lnTo>
                  <a:pt x="4947" y="4135"/>
                </a:lnTo>
                <a:lnTo>
                  <a:pt x="4949" y="4139"/>
                </a:lnTo>
                <a:lnTo>
                  <a:pt x="4952" y="4142"/>
                </a:lnTo>
                <a:lnTo>
                  <a:pt x="4956" y="4144"/>
                </a:lnTo>
                <a:lnTo>
                  <a:pt x="4965" y="4149"/>
                </a:lnTo>
                <a:lnTo>
                  <a:pt x="4972" y="4154"/>
                </a:lnTo>
                <a:lnTo>
                  <a:pt x="4981" y="4165"/>
                </a:lnTo>
                <a:lnTo>
                  <a:pt x="4988" y="4175"/>
                </a:lnTo>
                <a:lnTo>
                  <a:pt x="4992" y="4179"/>
                </a:lnTo>
                <a:lnTo>
                  <a:pt x="4997" y="4184"/>
                </a:lnTo>
                <a:lnTo>
                  <a:pt x="5001" y="4188"/>
                </a:lnTo>
                <a:lnTo>
                  <a:pt x="5006" y="4192"/>
                </a:lnTo>
                <a:lnTo>
                  <a:pt x="5014" y="4197"/>
                </a:lnTo>
                <a:lnTo>
                  <a:pt x="5021" y="4200"/>
                </a:lnTo>
                <a:lnTo>
                  <a:pt x="5028" y="4202"/>
                </a:lnTo>
                <a:lnTo>
                  <a:pt x="5036" y="4204"/>
                </a:lnTo>
                <a:lnTo>
                  <a:pt x="5050" y="4205"/>
                </a:lnTo>
                <a:lnTo>
                  <a:pt x="5065" y="4205"/>
                </a:lnTo>
                <a:lnTo>
                  <a:pt x="5080" y="4203"/>
                </a:lnTo>
                <a:lnTo>
                  <a:pt x="5096" y="4202"/>
                </a:lnTo>
                <a:lnTo>
                  <a:pt x="5113" y="4201"/>
                </a:lnTo>
                <a:lnTo>
                  <a:pt x="5131" y="4202"/>
                </a:lnTo>
                <a:lnTo>
                  <a:pt x="5131" y="4267"/>
                </a:lnTo>
                <a:lnTo>
                  <a:pt x="5131" y="4278"/>
                </a:lnTo>
                <a:lnTo>
                  <a:pt x="5133" y="4287"/>
                </a:lnTo>
                <a:lnTo>
                  <a:pt x="5135" y="4297"/>
                </a:lnTo>
                <a:lnTo>
                  <a:pt x="5138" y="4305"/>
                </a:lnTo>
                <a:lnTo>
                  <a:pt x="5148" y="4321"/>
                </a:lnTo>
                <a:lnTo>
                  <a:pt x="5159" y="4338"/>
                </a:lnTo>
                <a:lnTo>
                  <a:pt x="5172" y="4313"/>
                </a:lnTo>
                <a:lnTo>
                  <a:pt x="5184" y="4292"/>
                </a:lnTo>
                <a:lnTo>
                  <a:pt x="5190" y="4282"/>
                </a:lnTo>
                <a:lnTo>
                  <a:pt x="5198" y="4273"/>
                </a:lnTo>
                <a:lnTo>
                  <a:pt x="5207" y="4263"/>
                </a:lnTo>
                <a:lnTo>
                  <a:pt x="5217" y="4253"/>
                </a:lnTo>
                <a:lnTo>
                  <a:pt x="5222" y="4266"/>
                </a:lnTo>
                <a:lnTo>
                  <a:pt x="5224" y="4280"/>
                </a:lnTo>
                <a:lnTo>
                  <a:pt x="5237" y="4277"/>
                </a:lnTo>
                <a:lnTo>
                  <a:pt x="5248" y="4285"/>
                </a:lnTo>
                <a:lnTo>
                  <a:pt x="5256" y="4295"/>
                </a:lnTo>
                <a:lnTo>
                  <a:pt x="5260" y="4299"/>
                </a:lnTo>
                <a:lnTo>
                  <a:pt x="5263" y="4305"/>
                </a:lnTo>
                <a:lnTo>
                  <a:pt x="5264" y="4311"/>
                </a:lnTo>
                <a:lnTo>
                  <a:pt x="5265" y="4318"/>
                </a:lnTo>
                <a:lnTo>
                  <a:pt x="5256" y="4331"/>
                </a:lnTo>
                <a:lnTo>
                  <a:pt x="5248" y="4343"/>
                </a:lnTo>
                <a:lnTo>
                  <a:pt x="5248" y="4375"/>
                </a:lnTo>
                <a:lnTo>
                  <a:pt x="5262" y="4386"/>
                </a:lnTo>
                <a:lnTo>
                  <a:pt x="5271" y="4369"/>
                </a:lnTo>
                <a:lnTo>
                  <a:pt x="5279" y="4362"/>
                </a:lnTo>
                <a:lnTo>
                  <a:pt x="5283" y="4356"/>
                </a:lnTo>
                <a:lnTo>
                  <a:pt x="5287" y="4349"/>
                </a:lnTo>
                <a:lnTo>
                  <a:pt x="5289" y="4341"/>
                </a:lnTo>
                <a:lnTo>
                  <a:pt x="5292" y="4333"/>
                </a:lnTo>
                <a:lnTo>
                  <a:pt x="5295" y="4326"/>
                </a:lnTo>
                <a:lnTo>
                  <a:pt x="5300" y="4318"/>
                </a:lnTo>
                <a:lnTo>
                  <a:pt x="5305" y="4311"/>
                </a:lnTo>
                <a:lnTo>
                  <a:pt x="5309" y="4318"/>
                </a:lnTo>
                <a:lnTo>
                  <a:pt x="5312" y="4326"/>
                </a:lnTo>
                <a:lnTo>
                  <a:pt x="5314" y="4333"/>
                </a:lnTo>
                <a:lnTo>
                  <a:pt x="5317" y="4340"/>
                </a:lnTo>
                <a:lnTo>
                  <a:pt x="5319" y="4355"/>
                </a:lnTo>
                <a:lnTo>
                  <a:pt x="5319" y="4372"/>
                </a:lnTo>
                <a:lnTo>
                  <a:pt x="5319" y="4380"/>
                </a:lnTo>
                <a:lnTo>
                  <a:pt x="5320" y="4389"/>
                </a:lnTo>
                <a:lnTo>
                  <a:pt x="5320" y="4396"/>
                </a:lnTo>
                <a:lnTo>
                  <a:pt x="5322" y="4404"/>
                </a:lnTo>
                <a:lnTo>
                  <a:pt x="5324" y="4410"/>
                </a:lnTo>
                <a:lnTo>
                  <a:pt x="5328" y="4416"/>
                </a:lnTo>
                <a:lnTo>
                  <a:pt x="5332" y="4422"/>
                </a:lnTo>
                <a:lnTo>
                  <a:pt x="5339" y="4426"/>
                </a:lnTo>
                <a:lnTo>
                  <a:pt x="5348" y="4431"/>
                </a:lnTo>
                <a:lnTo>
                  <a:pt x="5359" y="4435"/>
                </a:lnTo>
                <a:lnTo>
                  <a:pt x="5369" y="4437"/>
                </a:lnTo>
                <a:lnTo>
                  <a:pt x="5381" y="4440"/>
                </a:lnTo>
                <a:lnTo>
                  <a:pt x="5403" y="4442"/>
                </a:lnTo>
                <a:lnTo>
                  <a:pt x="5425" y="4444"/>
                </a:lnTo>
                <a:lnTo>
                  <a:pt x="5436" y="4445"/>
                </a:lnTo>
                <a:lnTo>
                  <a:pt x="5445" y="4446"/>
                </a:lnTo>
                <a:lnTo>
                  <a:pt x="5454" y="4449"/>
                </a:lnTo>
                <a:lnTo>
                  <a:pt x="5460" y="4452"/>
                </a:lnTo>
                <a:lnTo>
                  <a:pt x="5467" y="4457"/>
                </a:lnTo>
                <a:lnTo>
                  <a:pt x="5472" y="4463"/>
                </a:lnTo>
                <a:lnTo>
                  <a:pt x="5473" y="4467"/>
                </a:lnTo>
                <a:lnTo>
                  <a:pt x="5474" y="4471"/>
                </a:lnTo>
                <a:lnTo>
                  <a:pt x="5475" y="4475"/>
                </a:lnTo>
                <a:lnTo>
                  <a:pt x="5475" y="4481"/>
                </a:lnTo>
                <a:lnTo>
                  <a:pt x="5475" y="4486"/>
                </a:lnTo>
                <a:lnTo>
                  <a:pt x="5474" y="4490"/>
                </a:lnTo>
                <a:lnTo>
                  <a:pt x="5473" y="4494"/>
                </a:lnTo>
                <a:lnTo>
                  <a:pt x="5471" y="4499"/>
                </a:lnTo>
                <a:lnTo>
                  <a:pt x="5465" y="4505"/>
                </a:lnTo>
                <a:lnTo>
                  <a:pt x="5459" y="4511"/>
                </a:lnTo>
                <a:lnTo>
                  <a:pt x="5452" y="4517"/>
                </a:lnTo>
                <a:lnTo>
                  <a:pt x="5443" y="4522"/>
                </a:lnTo>
                <a:lnTo>
                  <a:pt x="5434" y="4526"/>
                </a:lnTo>
                <a:lnTo>
                  <a:pt x="5424" y="4530"/>
                </a:lnTo>
                <a:lnTo>
                  <a:pt x="5415" y="4534"/>
                </a:lnTo>
                <a:lnTo>
                  <a:pt x="5405" y="4539"/>
                </a:lnTo>
                <a:lnTo>
                  <a:pt x="5397" y="4543"/>
                </a:lnTo>
                <a:lnTo>
                  <a:pt x="5389" y="4548"/>
                </a:lnTo>
                <a:lnTo>
                  <a:pt x="5383" y="4555"/>
                </a:lnTo>
                <a:lnTo>
                  <a:pt x="5378" y="4561"/>
                </a:lnTo>
                <a:lnTo>
                  <a:pt x="5376" y="4565"/>
                </a:lnTo>
                <a:lnTo>
                  <a:pt x="5375" y="4569"/>
                </a:lnTo>
                <a:lnTo>
                  <a:pt x="5374" y="4575"/>
                </a:lnTo>
                <a:lnTo>
                  <a:pt x="5374" y="4579"/>
                </a:lnTo>
                <a:lnTo>
                  <a:pt x="5374" y="4584"/>
                </a:lnTo>
                <a:lnTo>
                  <a:pt x="5377" y="4588"/>
                </a:lnTo>
                <a:lnTo>
                  <a:pt x="5380" y="4591"/>
                </a:lnTo>
                <a:lnTo>
                  <a:pt x="5384" y="4594"/>
                </a:lnTo>
                <a:lnTo>
                  <a:pt x="5388" y="4596"/>
                </a:lnTo>
                <a:lnTo>
                  <a:pt x="5394" y="4599"/>
                </a:lnTo>
                <a:lnTo>
                  <a:pt x="5397" y="4602"/>
                </a:lnTo>
                <a:lnTo>
                  <a:pt x="5400" y="4606"/>
                </a:lnTo>
                <a:lnTo>
                  <a:pt x="5407" y="4620"/>
                </a:lnTo>
                <a:lnTo>
                  <a:pt x="5413" y="4634"/>
                </a:lnTo>
                <a:lnTo>
                  <a:pt x="5418" y="4647"/>
                </a:lnTo>
                <a:lnTo>
                  <a:pt x="5424" y="4660"/>
                </a:lnTo>
                <a:lnTo>
                  <a:pt x="5434" y="4656"/>
                </a:lnTo>
                <a:lnTo>
                  <a:pt x="5442" y="4650"/>
                </a:lnTo>
                <a:lnTo>
                  <a:pt x="5450" y="4644"/>
                </a:lnTo>
                <a:lnTo>
                  <a:pt x="5456" y="4638"/>
                </a:lnTo>
                <a:lnTo>
                  <a:pt x="5461" y="4631"/>
                </a:lnTo>
                <a:lnTo>
                  <a:pt x="5467" y="4623"/>
                </a:lnTo>
                <a:lnTo>
                  <a:pt x="5472" y="4616"/>
                </a:lnTo>
                <a:lnTo>
                  <a:pt x="5476" y="4607"/>
                </a:lnTo>
                <a:lnTo>
                  <a:pt x="5483" y="4591"/>
                </a:lnTo>
                <a:lnTo>
                  <a:pt x="5489" y="4572"/>
                </a:lnTo>
                <a:lnTo>
                  <a:pt x="5494" y="4553"/>
                </a:lnTo>
                <a:lnTo>
                  <a:pt x="5499" y="4531"/>
                </a:lnTo>
                <a:lnTo>
                  <a:pt x="5511" y="4535"/>
                </a:lnTo>
                <a:lnTo>
                  <a:pt x="5521" y="4539"/>
                </a:lnTo>
                <a:lnTo>
                  <a:pt x="5532" y="4543"/>
                </a:lnTo>
                <a:lnTo>
                  <a:pt x="5543" y="4548"/>
                </a:lnTo>
                <a:lnTo>
                  <a:pt x="5550" y="4531"/>
                </a:lnTo>
                <a:lnTo>
                  <a:pt x="5556" y="4515"/>
                </a:lnTo>
                <a:lnTo>
                  <a:pt x="5561" y="4508"/>
                </a:lnTo>
                <a:lnTo>
                  <a:pt x="5566" y="4503"/>
                </a:lnTo>
                <a:lnTo>
                  <a:pt x="5569" y="4501"/>
                </a:lnTo>
                <a:lnTo>
                  <a:pt x="5572" y="4499"/>
                </a:lnTo>
                <a:lnTo>
                  <a:pt x="5576" y="4498"/>
                </a:lnTo>
                <a:lnTo>
                  <a:pt x="5581" y="4498"/>
                </a:lnTo>
                <a:lnTo>
                  <a:pt x="5585" y="4499"/>
                </a:lnTo>
                <a:lnTo>
                  <a:pt x="5588" y="4500"/>
                </a:lnTo>
                <a:lnTo>
                  <a:pt x="5591" y="4502"/>
                </a:lnTo>
                <a:lnTo>
                  <a:pt x="5593" y="4505"/>
                </a:lnTo>
                <a:lnTo>
                  <a:pt x="5599" y="4512"/>
                </a:lnTo>
                <a:lnTo>
                  <a:pt x="5604" y="4518"/>
                </a:lnTo>
                <a:lnTo>
                  <a:pt x="5609" y="4521"/>
                </a:lnTo>
                <a:lnTo>
                  <a:pt x="5614" y="4524"/>
                </a:lnTo>
                <a:lnTo>
                  <a:pt x="5620" y="4525"/>
                </a:lnTo>
                <a:lnTo>
                  <a:pt x="5625" y="4526"/>
                </a:lnTo>
                <a:lnTo>
                  <a:pt x="5630" y="4528"/>
                </a:lnTo>
                <a:lnTo>
                  <a:pt x="5635" y="4529"/>
                </a:lnTo>
                <a:lnTo>
                  <a:pt x="5640" y="4531"/>
                </a:lnTo>
                <a:lnTo>
                  <a:pt x="5645" y="4535"/>
                </a:lnTo>
                <a:lnTo>
                  <a:pt x="5652" y="4542"/>
                </a:lnTo>
                <a:lnTo>
                  <a:pt x="5658" y="4549"/>
                </a:lnTo>
                <a:lnTo>
                  <a:pt x="5661" y="4558"/>
                </a:lnTo>
                <a:lnTo>
                  <a:pt x="5663" y="4566"/>
                </a:lnTo>
                <a:lnTo>
                  <a:pt x="5666" y="4576"/>
                </a:lnTo>
                <a:lnTo>
                  <a:pt x="5668" y="4584"/>
                </a:lnTo>
                <a:lnTo>
                  <a:pt x="5671" y="4594"/>
                </a:lnTo>
                <a:lnTo>
                  <a:pt x="5676" y="4603"/>
                </a:lnTo>
                <a:lnTo>
                  <a:pt x="5723" y="4603"/>
                </a:lnTo>
                <a:lnTo>
                  <a:pt x="5723" y="4562"/>
                </a:lnTo>
                <a:lnTo>
                  <a:pt x="5718" y="4556"/>
                </a:lnTo>
                <a:lnTo>
                  <a:pt x="5713" y="4548"/>
                </a:lnTo>
                <a:lnTo>
                  <a:pt x="5717" y="4542"/>
                </a:lnTo>
                <a:lnTo>
                  <a:pt x="5720" y="4535"/>
                </a:lnTo>
                <a:lnTo>
                  <a:pt x="5728" y="4536"/>
                </a:lnTo>
                <a:lnTo>
                  <a:pt x="5737" y="4538"/>
                </a:lnTo>
                <a:lnTo>
                  <a:pt x="5744" y="4541"/>
                </a:lnTo>
                <a:lnTo>
                  <a:pt x="5751" y="4545"/>
                </a:lnTo>
                <a:lnTo>
                  <a:pt x="5757" y="4549"/>
                </a:lnTo>
                <a:lnTo>
                  <a:pt x="5763" y="4555"/>
                </a:lnTo>
                <a:lnTo>
                  <a:pt x="5769" y="4561"/>
                </a:lnTo>
                <a:lnTo>
                  <a:pt x="5773" y="4567"/>
                </a:lnTo>
                <a:lnTo>
                  <a:pt x="5777" y="4575"/>
                </a:lnTo>
                <a:lnTo>
                  <a:pt x="5781" y="4582"/>
                </a:lnTo>
                <a:lnTo>
                  <a:pt x="5784" y="4591"/>
                </a:lnTo>
                <a:lnTo>
                  <a:pt x="5786" y="4599"/>
                </a:lnTo>
                <a:lnTo>
                  <a:pt x="5789" y="4607"/>
                </a:lnTo>
                <a:lnTo>
                  <a:pt x="5790" y="4616"/>
                </a:lnTo>
                <a:lnTo>
                  <a:pt x="5791" y="4624"/>
                </a:lnTo>
                <a:lnTo>
                  <a:pt x="5791" y="4634"/>
                </a:lnTo>
                <a:lnTo>
                  <a:pt x="5811" y="4633"/>
                </a:lnTo>
                <a:lnTo>
                  <a:pt x="5829" y="4632"/>
                </a:lnTo>
                <a:lnTo>
                  <a:pt x="5837" y="4633"/>
                </a:lnTo>
                <a:lnTo>
                  <a:pt x="5846" y="4634"/>
                </a:lnTo>
                <a:lnTo>
                  <a:pt x="5854" y="4636"/>
                </a:lnTo>
                <a:lnTo>
                  <a:pt x="5863" y="4640"/>
                </a:lnTo>
                <a:lnTo>
                  <a:pt x="5869" y="4644"/>
                </a:lnTo>
                <a:lnTo>
                  <a:pt x="5873" y="4650"/>
                </a:lnTo>
                <a:lnTo>
                  <a:pt x="5877" y="4656"/>
                </a:lnTo>
                <a:lnTo>
                  <a:pt x="5882" y="4662"/>
                </a:lnTo>
                <a:lnTo>
                  <a:pt x="5886" y="4669"/>
                </a:lnTo>
                <a:lnTo>
                  <a:pt x="5890" y="4673"/>
                </a:lnTo>
                <a:lnTo>
                  <a:pt x="5893" y="4675"/>
                </a:lnTo>
                <a:lnTo>
                  <a:pt x="5896" y="4676"/>
                </a:lnTo>
                <a:lnTo>
                  <a:pt x="5899" y="4677"/>
                </a:lnTo>
                <a:lnTo>
                  <a:pt x="5903" y="4678"/>
                </a:lnTo>
                <a:lnTo>
                  <a:pt x="5911" y="4677"/>
                </a:lnTo>
                <a:lnTo>
                  <a:pt x="5918" y="4676"/>
                </a:lnTo>
                <a:lnTo>
                  <a:pt x="5925" y="4674"/>
                </a:lnTo>
                <a:lnTo>
                  <a:pt x="5931" y="4671"/>
                </a:lnTo>
                <a:lnTo>
                  <a:pt x="5944" y="4664"/>
                </a:lnTo>
                <a:lnTo>
                  <a:pt x="5958" y="4657"/>
                </a:lnTo>
                <a:lnTo>
                  <a:pt x="5960" y="4668"/>
                </a:lnTo>
                <a:lnTo>
                  <a:pt x="5961" y="4678"/>
                </a:lnTo>
                <a:lnTo>
                  <a:pt x="5961" y="4685"/>
                </a:lnTo>
                <a:lnTo>
                  <a:pt x="5959" y="4690"/>
                </a:lnTo>
                <a:lnTo>
                  <a:pt x="5957" y="4695"/>
                </a:lnTo>
                <a:lnTo>
                  <a:pt x="5954" y="4699"/>
                </a:lnTo>
                <a:lnTo>
                  <a:pt x="5951" y="4704"/>
                </a:lnTo>
                <a:lnTo>
                  <a:pt x="5949" y="4709"/>
                </a:lnTo>
                <a:lnTo>
                  <a:pt x="5948" y="4714"/>
                </a:lnTo>
                <a:lnTo>
                  <a:pt x="5947" y="4720"/>
                </a:lnTo>
                <a:lnTo>
                  <a:pt x="5948" y="4726"/>
                </a:lnTo>
                <a:lnTo>
                  <a:pt x="5949" y="4731"/>
                </a:lnTo>
                <a:lnTo>
                  <a:pt x="5951" y="4735"/>
                </a:lnTo>
                <a:lnTo>
                  <a:pt x="5954" y="4739"/>
                </a:lnTo>
                <a:lnTo>
                  <a:pt x="5961" y="4747"/>
                </a:lnTo>
                <a:lnTo>
                  <a:pt x="5968" y="4756"/>
                </a:lnTo>
                <a:lnTo>
                  <a:pt x="5986" y="4785"/>
                </a:lnTo>
                <a:lnTo>
                  <a:pt x="6003" y="4810"/>
                </a:lnTo>
                <a:lnTo>
                  <a:pt x="6012" y="4822"/>
                </a:lnTo>
                <a:lnTo>
                  <a:pt x="6022" y="4833"/>
                </a:lnTo>
                <a:lnTo>
                  <a:pt x="6033" y="4845"/>
                </a:lnTo>
                <a:lnTo>
                  <a:pt x="6046" y="4858"/>
                </a:lnTo>
                <a:lnTo>
                  <a:pt x="6073" y="4880"/>
                </a:lnTo>
                <a:lnTo>
                  <a:pt x="6098" y="4901"/>
                </a:lnTo>
                <a:lnTo>
                  <a:pt x="6103" y="4906"/>
                </a:lnTo>
                <a:lnTo>
                  <a:pt x="6109" y="4913"/>
                </a:lnTo>
                <a:lnTo>
                  <a:pt x="6113" y="4918"/>
                </a:lnTo>
                <a:lnTo>
                  <a:pt x="6117" y="4924"/>
                </a:lnTo>
                <a:lnTo>
                  <a:pt x="6120" y="4932"/>
                </a:lnTo>
                <a:lnTo>
                  <a:pt x="6122" y="4939"/>
                </a:lnTo>
                <a:lnTo>
                  <a:pt x="6123" y="4947"/>
                </a:lnTo>
                <a:lnTo>
                  <a:pt x="6124" y="4956"/>
                </a:lnTo>
                <a:lnTo>
                  <a:pt x="6124" y="4975"/>
                </a:lnTo>
                <a:lnTo>
                  <a:pt x="6123" y="4992"/>
                </a:lnTo>
                <a:lnTo>
                  <a:pt x="6122" y="4999"/>
                </a:lnTo>
                <a:lnTo>
                  <a:pt x="6120" y="5008"/>
                </a:lnTo>
                <a:lnTo>
                  <a:pt x="6117" y="5016"/>
                </a:lnTo>
                <a:lnTo>
                  <a:pt x="6114" y="5025"/>
                </a:lnTo>
                <a:lnTo>
                  <a:pt x="6111" y="5030"/>
                </a:lnTo>
                <a:lnTo>
                  <a:pt x="6105" y="5034"/>
                </a:lnTo>
                <a:lnTo>
                  <a:pt x="6101" y="5038"/>
                </a:lnTo>
                <a:lnTo>
                  <a:pt x="6096" y="5041"/>
                </a:lnTo>
                <a:lnTo>
                  <a:pt x="6091" y="5046"/>
                </a:lnTo>
                <a:lnTo>
                  <a:pt x="6086" y="5050"/>
                </a:lnTo>
                <a:lnTo>
                  <a:pt x="6084" y="5055"/>
                </a:lnTo>
                <a:lnTo>
                  <a:pt x="6083" y="5061"/>
                </a:lnTo>
                <a:lnTo>
                  <a:pt x="6083" y="5066"/>
                </a:lnTo>
                <a:lnTo>
                  <a:pt x="6084" y="5070"/>
                </a:lnTo>
                <a:lnTo>
                  <a:pt x="6085" y="5074"/>
                </a:lnTo>
                <a:lnTo>
                  <a:pt x="6087" y="5077"/>
                </a:lnTo>
                <a:lnTo>
                  <a:pt x="6093" y="5084"/>
                </a:lnTo>
                <a:lnTo>
                  <a:pt x="6098" y="5089"/>
                </a:lnTo>
                <a:lnTo>
                  <a:pt x="6113" y="5098"/>
                </a:lnTo>
                <a:lnTo>
                  <a:pt x="6128" y="5109"/>
                </a:lnTo>
                <a:lnTo>
                  <a:pt x="6117" y="5122"/>
                </a:lnTo>
                <a:lnTo>
                  <a:pt x="6109" y="5133"/>
                </a:lnTo>
                <a:lnTo>
                  <a:pt x="6101" y="5146"/>
                </a:lnTo>
                <a:lnTo>
                  <a:pt x="6095" y="5159"/>
                </a:lnTo>
                <a:lnTo>
                  <a:pt x="6084" y="5184"/>
                </a:lnTo>
                <a:lnTo>
                  <a:pt x="6075" y="5209"/>
                </a:lnTo>
                <a:lnTo>
                  <a:pt x="6071" y="5222"/>
                </a:lnTo>
                <a:lnTo>
                  <a:pt x="6065" y="5235"/>
                </a:lnTo>
                <a:lnTo>
                  <a:pt x="6060" y="5246"/>
                </a:lnTo>
                <a:lnTo>
                  <a:pt x="6054" y="5259"/>
                </a:lnTo>
                <a:lnTo>
                  <a:pt x="6046" y="5271"/>
                </a:lnTo>
                <a:lnTo>
                  <a:pt x="6037" y="5281"/>
                </a:lnTo>
                <a:lnTo>
                  <a:pt x="6027" y="5293"/>
                </a:lnTo>
                <a:lnTo>
                  <a:pt x="6016" y="5302"/>
                </a:lnTo>
                <a:lnTo>
                  <a:pt x="6002" y="5299"/>
                </a:lnTo>
                <a:lnTo>
                  <a:pt x="6002" y="5354"/>
                </a:lnTo>
                <a:lnTo>
                  <a:pt x="6002" y="5358"/>
                </a:lnTo>
                <a:lnTo>
                  <a:pt x="6003" y="5362"/>
                </a:lnTo>
                <a:lnTo>
                  <a:pt x="6004" y="5366"/>
                </a:lnTo>
                <a:lnTo>
                  <a:pt x="6006" y="5369"/>
                </a:lnTo>
                <a:lnTo>
                  <a:pt x="6011" y="5374"/>
                </a:lnTo>
                <a:lnTo>
                  <a:pt x="6019" y="5378"/>
                </a:lnTo>
                <a:lnTo>
                  <a:pt x="6036" y="5385"/>
                </a:lnTo>
                <a:lnTo>
                  <a:pt x="6053" y="5391"/>
                </a:lnTo>
                <a:lnTo>
                  <a:pt x="6061" y="5395"/>
                </a:lnTo>
                <a:lnTo>
                  <a:pt x="6067" y="5400"/>
                </a:lnTo>
                <a:lnTo>
                  <a:pt x="6073" y="5407"/>
                </a:lnTo>
                <a:lnTo>
                  <a:pt x="6078" y="5414"/>
                </a:lnTo>
                <a:lnTo>
                  <a:pt x="6086" y="5430"/>
                </a:lnTo>
                <a:lnTo>
                  <a:pt x="6097" y="5446"/>
                </a:lnTo>
                <a:lnTo>
                  <a:pt x="6110" y="5459"/>
                </a:lnTo>
                <a:lnTo>
                  <a:pt x="6123" y="5470"/>
                </a:lnTo>
                <a:lnTo>
                  <a:pt x="6136" y="5480"/>
                </a:lnTo>
                <a:lnTo>
                  <a:pt x="6150" y="5489"/>
                </a:lnTo>
                <a:lnTo>
                  <a:pt x="6162" y="5498"/>
                </a:lnTo>
                <a:lnTo>
                  <a:pt x="6175" y="5508"/>
                </a:lnTo>
                <a:lnTo>
                  <a:pt x="6187" y="5520"/>
                </a:lnTo>
                <a:lnTo>
                  <a:pt x="6198" y="5534"/>
                </a:lnTo>
                <a:lnTo>
                  <a:pt x="6195" y="5547"/>
                </a:lnTo>
                <a:lnTo>
                  <a:pt x="6179" y="5547"/>
                </a:lnTo>
                <a:lnTo>
                  <a:pt x="6166" y="5547"/>
                </a:lnTo>
                <a:lnTo>
                  <a:pt x="6158" y="5547"/>
                </a:lnTo>
                <a:lnTo>
                  <a:pt x="6152" y="5548"/>
                </a:lnTo>
                <a:lnTo>
                  <a:pt x="6144" y="5550"/>
                </a:lnTo>
                <a:lnTo>
                  <a:pt x="6137" y="5554"/>
                </a:lnTo>
                <a:lnTo>
                  <a:pt x="6134" y="5557"/>
                </a:lnTo>
                <a:lnTo>
                  <a:pt x="6131" y="5559"/>
                </a:lnTo>
                <a:lnTo>
                  <a:pt x="6128" y="5562"/>
                </a:lnTo>
                <a:lnTo>
                  <a:pt x="6125" y="5566"/>
                </a:lnTo>
                <a:lnTo>
                  <a:pt x="6122" y="5574"/>
                </a:lnTo>
                <a:lnTo>
                  <a:pt x="6120" y="5582"/>
                </a:lnTo>
                <a:lnTo>
                  <a:pt x="6117" y="5591"/>
                </a:lnTo>
                <a:lnTo>
                  <a:pt x="6114" y="5599"/>
                </a:lnTo>
                <a:lnTo>
                  <a:pt x="6113" y="5602"/>
                </a:lnTo>
                <a:lnTo>
                  <a:pt x="6110" y="5606"/>
                </a:lnTo>
                <a:lnTo>
                  <a:pt x="6108" y="5610"/>
                </a:lnTo>
                <a:lnTo>
                  <a:pt x="6103" y="5612"/>
                </a:lnTo>
                <a:lnTo>
                  <a:pt x="6097" y="5615"/>
                </a:lnTo>
                <a:lnTo>
                  <a:pt x="6091" y="5617"/>
                </a:lnTo>
                <a:lnTo>
                  <a:pt x="6083" y="5617"/>
                </a:lnTo>
                <a:lnTo>
                  <a:pt x="6077" y="5617"/>
                </a:lnTo>
                <a:lnTo>
                  <a:pt x="6070" y="5617"/>
                </a:lnTo>
                <a:lnTo>
                  <a:pt x="6063" y="5617"/>
                </a:lnTo>
                <a:lnTo>
                  <a:pt x="6056" y="5619"/>
                </a:lnTo>
                <a:lnTo>
                  <a:pt x="6049" y="5622"/>
                </a:lnTo>
                <a:lnTo>
                  <a:pt x="6044" y="5626"/>
                </a:lnTo>
                <a:lnTo>
                  <a:pt x="6039" y="5631"/>
                </a:lnTo>
                <a:lnTo>
                  <a:pt x="6035" y="5636"/>
                </a:lnTo>
                <a:lnTo>
                  <a:pt x="6031" y="5642"/>
                </a:lnTo>
                <a:lnTo>
                  <a:pt x="6026" y="5654"/>
                </a:lnTo>
                <a:lnTo>
                  <a:pt x="6021" y="5667"/>
                </a:lnTo>
                <a:lnTo>
                  <a:pt x="6016" y="5678"/>
                </a:lnTo>
                <a:lnTo>
                  <a:pt x="6009" y="5688"/>
                </a:lnTo>
                <a:lnTo>
                  <a:pt x="6005" y="5692"/>
                </a:lnTo>
                <a:lnTo>
                  <a:pt x="6000" y="5694"/>
                </a:lnTo>
                <a:lnTo>
                  <a:pt x="5995" y="5696"/>
                </a:lnTo>
                <a:lnTo>
                  <a:pt x="5988" y="5697"/>
                </a:lnTo>
                <a:lnTo>
                  <a:pt x="5983" y="5696"/>
                </a:lnTo>
                <a:lnTo>
                  <a:pt x="5979" y="5695"/>
                </a:lnTo>
                <a:lnTo>
                  <a:pt x="5974" y="5693"/>
                </a:lnTo>
                <a:lnTo>
                  <a:pt x="5971" y="5692"/>
                </a:lnTo>
                <a:lnTo>
                  <a:pt x="5967" y="5690"/>
                </a:lnTo>
                <a:lnTo>
                  <a:pt x="5963" y="5688"/>
                </a:lnTo>
                <a:lnTo>
                  <a:pt x="5959" y="5687"/>
                </a:lnTo>
                <a:lnTo>
                  <a:pt x="5954" y="5687"/>
                </a:lnTo>
                <a:lnTo>
                  <a:pt x="5945" y="5688"/>
                </a:lnTo>
                <a:lnTo>
                  <a:pt x="5938" y="5690"/>
                </a:lnTo>
                <a:lnTo>
                  <a:pt x="5930" y="5693"/>
                </a:lnTo>
                <a:lnTo>
                  <a:pt x="5923" y="5697"/>
                </a:lnTo>
                <a:lnTo>
                  <a:pt x="5916" y="5700"/>
                </a:lnTo>
                <a:lnTo>
                  <a:pt x="5909" y="5704"/>
                </a:lnTo>
                <a:lnTo>
                  <a:pt x="5901" y="5706"/>
                </a:lnTo>
                <a:lnTo>
                  <a:pt x="5892" y="5707"/>
                </a:lnTo>
                <a:lnTo>
                  <a:pt x="5812" y="5707"/>
                </a:lnTo>
                <a:lnTo>
                  <a:pt x="5794" y="5708"/>
                </a:lnTo>
                <a:lnTo>
                  <a:pt x="5775" y="5709"/>
                </a:lnTo>
                <a:lnTo>
                  <a:pt x="5757" y="5712"/>
                </a:lnTo>
                <a:lnTo>
                  <a:pt x="5740" y="5716"/>
                </a:lnTo>
                <a:lnTo>
                  <a:pt x="5732" y="5719"/>
                </a:lnTo>
                <a:lnTo>
                  <a:pt x="5725" y="5724"/>
                </a:lnTo>
                <a:lnTo>
                  <a:pt x="5719" y="5728"/>
                </a:lnTo>
                <a:lnTo>
                  <a:pt x="5714" y="5733"/>
                </a:lnTo>
                <a:lnTo>
                  <a:pt x="5708" y="5738"/>
                </a:lnTo>
                <a:lnTo>
                  <a:pt x="5705" y="5746"/>
                </a:lnTo>
                <a:lnTo>
                  <a:pt x="5703" y="5753"/>
                </a:lnTo>
                <a:lnTo>
                  <a:pt x="5703" y="5762"/>
                </a:lnTo>
                <a:lnTo>
                  <a:pt x="5704" y="5771"/>
                </a:lnTo>
                <a:lnTo>
                  <a:pt x="5706" y="5780"/>
                </a:lnTo>
                <a:lnTo>
                  <a:pt x="5708" y="5788"/>
                </a:lnTo>
                <a:lnTo>
                  <a:pt x="5709" y="5796"/>
                </a:lnTo>
                <a:lnTo>
                  <a:pt x="5709" y="5806"/>
                </a:lnTo>
                <a:lnTo>
                  <a:pt x="5707" y="5813"/>
                </a:lnTo>
                <a:lnTo>
                  <a:pt x="5705" y="5822"/>
                </a:lnTo>
                <a:lnTo>
                  <a:pt x="5703" y="5829"/>
                </a:lnTo>
                <a:lnTo>
                  <a:pt x="5696" y="5843"/>
                </a:lnTo>
                <a:lnTo>
                  <a:pt x="5687" y="5856"/>
                </a:lnTo>
                <a:lnTo>
                  <a:pt x="5680" y="5868"/>
                </a:lnTo>
                <a:lnTo>
                  <a:pt x="5672" y="5882"/>
                </a:lnTo>
                <a:lnTo>
                  <a:pt x="5669" y="5889"/>
                </a:lnTo>
                <a:lnTo>
                  <a:pt x="5667" y="5897"/>
                </a:lnTo>
                <a:lnTo>
                  <a:pt x="5666" y="5905"/>
                </a:lnTo>
                <a:lnTo>
                  <a:pt x="5665" y="5914"/>
                </a:lnTo>
                <a:lnTo>
                  <a:pt x="5666" y="5922"/>
                </a:lnTo>
                <a:lnTo>
                  <a:pt x="5668" y="5929"/>
                </a:lnTo>
                <a:lnTo>
                  <a:pt x="5672" y="5936"/>
                </a:lnTo>
                <a:lnTo>
                  <a:pt x="5677" y="5942"/>
                </a:lnTo>
                <a:lnTo>
                  <a:pt x="5681" y="5947"/>
                </a:lnTo>
                <a:lnTo>
                  <a:pt x="5685" y="5954"/>
                </a:lnTo>
                <a:lnTo>
                  <a:pt x="5689" y="5961"/>
                </a:lnTo>
                <a:lnTo>
                  <a:pt x="5693" y="5969"/>
                </a:lnTo>
                <a:lnTo>
                  <a:pt x="5695" y="5977"/>
                </a:lnTo>
                <a:lnTo>
                  <a:pt x="5697" y="5985"/>
                </a:lnTo>
                <a:lnTo>
                  <a:pt x="5697" y="5994"/>
                </a:lnTo>
                <a:lnTo>
                  <a:pt x="5697" y="6001"/>
                </a:lnTo>
                <a:lnTo>
                  <a:pt x="5697" y="6018"/>
                </a:lnTo>
                <a:lnTo>
                  <a:pt x="5696" y="6036"/>
                </a:lnTo>
                <a:lnTo>
                  <a:pt x="5697" y="6045"/>
                </a:lnTo>
                <a:lnTo>
                  <a:pt x="5699" y="6053"/>
                </a:lnTo>
                <a:lnTo>
                  <a:pt x="5703" y="6058"/>
                </a:lnTo>
                <a:lnTo>
                  <a:pt x="5708" y="6064"/>
                </a:lnTo>
                <a:lnTo>
                  <a:pt x="5715" y="6068"/>
                </a:lnTo>
                <a:lnTo>
                  <a:pt x="5721" y="6071"/>
                </a:lnTo>
                <a:lnTo>
                  <a:pt x="5729" y="6074"/>
                </a:lnTo>
                <a:lnTo>
                  <a:pt x="5738" y="6075"/>
                </a:lnTo>
                <a:lnTo>
                  <a:pt x="5758" y="6077"/>
                </a:lnTo>
                <a:lnTo>
                  <a:pt x="5778" y="6077"/>
                </a:lnTo>
                <a:lnTo>
                  <a:pt x="5798" y="6077"/>
                </a:lnTo>
                <a:lnTo>
                  <a:pt x="5818" y="6077"/>
                </a:lnTo>
                <a:lnTo>
                  <a:pt x="5845" y="6077"/>
                </a:lnTo>
                <a:lnTo>
                  <a:pt x="5869" y="6075"/>
                </a:lnTo>
                <a:lnTo>
                  <a:pt x="5892" y="6073"/>
                </a:lnTo>
                <a:lnTo>
                  <a:pt x="5913" y="6069"/>
                </a:lnTo>
                <a:lnTo>
                  <a:pt x="5935" y="6064"/>
                </a:lnTo>
                <a:lnTo>
                  <a:pt x="5957" y="6056"/>
                </a:lnTo>
                <a:lnTo>
                  <a:pt x="5979" y="6046"/>
                </a:lnTo>
                <a:lnTo>
                  <a:pt x="6002" y="6033"/>
                </a:lnTo>
                <a:lnTo>
                  <a:pt x="6008" y="6030"/>
                </a:lnTo>
                <a:lnTo>
                  <a:pt x="6016" y="6029"/>
                </a:lnTo>
                <a:lnTo>
                  <a:pt x="6019" y="6028"/>
                </a:lnTo>
                <a:lnTo>
                  <a:pt x="6023" y="6027"/>
                </a:lnTo>
                <a:lnTo>
                  <a:pt x="6026" y="6026"/>
                </a:lnTo>
                <a:lnTo>
                  <a:pt x="6028" y="6022"/>
                </a:lnTo>
                <a:lnTo>
                  <a:pt x="6034" y="6017"/>
                </a:lnTo>
                <a:lnTo>
                  <a:pt x="6038" y="6012"/>
                </a:lnTo>
                <a:lnTo>
                  <a:pt x="6041" y="6006"/>
                </a:lnTo>
                <a:lnTo>
                  <a:pt x="6043" y="5999"/>
                </a:lnTo>
                <a:lnTo>
                  <a:pt x="6044" y="5986"/>
                </a:lnTo>
                <a:lnTo>
                  <a:pt x="6044" y="5973"/>
                </a:lnTo>
                <a:lnTo>
                  <a:pt x="6043" y="5959"/>
                </a:lnTo>
                <a:lnTo>
                  <a:pt x="6042" y="5945"/>
                </a:lnTo>
                <a:lnTo>
                  <a:pt x="6041" y="5929"/>
                </a:lnTo>
                <a:lnTo>
                  <a:pt x="6042" y="5914"/>
                </a:lnTo>
                <a:lnTo>
                  <a:pt x="6056" y="5910"/>
                </a:lnTo>
                <a:lnTo>
                  <a:pt x="6070" y="5907"/>
                </a:lnTo>
                <a:lnTo>
                  <a:pt x="6075" y="5907"/>
                </a:lnTo>
                <a:lnTo>
                  <a:pt x="6080" y="5909"/>
                </a:lnTo>
                <a:lnTo>
                  <a:pt x="6085" y="5910"/>
                </a:lnTo>
                <a:lnTo>
                  <a:pt x="6090" y="5914"/>
                </a:lnTo>
                <a:lnTo>
                  <a:pt x="6098" y="5919"/>
                </a:lnTo>
                <a:lnTo>
                  <a:pt x="6105" y="5926"/>
                </a:lnTo>
                <a:lnTo>
                  <a:pt x="6113" y="5933"/>
                </a:lnTo>
                <a:lnTo>
                  <a:pt x="6121" y="5939"/>
                </a:lnTo>
                <a:lnTo>
                  <a:pt x="6125" y="5941"/>
                </a:lnTo>
                <a:lnTo>
                  <a:pt x="6130" y="5943"/>
                </a:lnTo>
                <a:lnTo>
                  <a:pt x="6135" y="5944"/>
                </a:lnTo>
                <a:lnTo>
                  <a:pt x="6141" y="5944"/>
                </a:lnTo>
                <a:lnTo>
                  <a:pt x="6153" y="5944"/>
                </a:lnTo>
                <a:lnTo>
                  <a:pt x="6166" y="5943"/>
                </a:lnTo>
                <a:lnTo>
                  <a:pt x="6177" y="5940"/>
                </a:lnTo>
                <a:lnTo>
                  <a:pt x="6189" y="5936"/>
                </a:lnTo>
                <a:lnTo>
                  <a:pt x="6193" y="5934"/>
                </a:lnTo>
                <a:lnTo>
                  <a:pt x="6198" y="5931"/>
                </a:lnTo>
                <a:lnTo>
                  <a:pt x="6202" y="5927"/>
                </a:lnTo>
                <a:lnTo>
                  <a:pt x="6206" y="5923"/>
                </a:lnTo>
                <a:lnTo>
                  <a:pt x="6208" y="5919"/>
                </a:lnTo>
                <a:lnTo>
                  <a:pt x="6210" y="5915"/>
                </a:lnTo>
                <a:lnTo>
                  <a:pt x="6212" y="5909"/>
                </a:lnTo>
                <a:lnTo>
                  <a:pt x="6212" y="5904"/>
                </a:lnTo>
                <a:lnTo>
                  <a:pt x="6212" y="5899"/>
                </a:lnTo>
                <a:lnTo>
                  <a:pt x="6211" y="5894"/>
                </a:lnTo>
                <a:lnTo>
                  <a:pt x="6210" y="5889"/>
                </a:lnTo>
                <a:lnTo>
                  <a:pt x="6208" y="5885"/>
                </a:lnTo>
                <a:lnTo>
                  <a:pt x="6203" y="5878"/>
                </a:lnTo>
                <a:lnTo>
                  <a:pt x="6195" y="5871"/>
                </a:lnTo>
                <a:lnTo>
                  <a:pt x="6188" y="5866"/>
                </a:lnTo>
                <a:lnTo>
                  <a:pt x="6178" y="5861"/>
                </a:lnTo>
                <a:lnTo>
                  <a:pt x="6169" y="5857"/>
                </a:lnTo>
                <a:lnTo>
                  <a:pt x="6158" y="5853"/>
                </a:lnTo>
                <a:lnTo>
                  <a:pt x="6148" y="5849"/>
                </a:lnTo>
                <a:lnTo>
                  <a:pt x="6137" y="5845"/>
                </a:lnTo>
                <a:lnTo>
                  <a:pt x="6128" y="5840"/>
                </a:lnTo>
                <a:lnTo>
                  <a:pt x="6119" y="5834"/>
                </a:lnTo>
                <a:lnTo>
                  <a:pt x="6111" y="5828"/>
                </a:lnTo>
                <a:lnTo>
                  <a:pt x="6104" y="5821"/>
                </a:lnTo>
                <a:lnTo>
                  <a:pt x="6102" y="5816"/>
                </a:lnTo>
                <a:lnTo>
                  <a:pt x="6099" y="5812"/>
                </a:lnTo>
                <a:lnTo>
                  <a:pt x="6098" y="5807"/>
                </a:lnTo>
                <a:lnTo>
                  <a:pt x="6097" y="5802"/>
                </a:lnTo>
                <a:lnTo>
                  <a:pt x="6106" y="5797"/>
                </a:lnTo>
                <a:lnTo>
                  <a:pt x="6117" y="5795"/>
                </a:lnTo>
                <a:lnTo>
                  <a:pt x="6130" y="5795"/>
                </a:lnTo>
                <a:lnTo>
                  <a:pt x="6142" y="5796"/>
                </a:lnTo>
                <a:lnTo>
                  <a:pt x="6154" y="5797"/>
                </a:lnTo>
                <a:lnTo>
                  <a:pt x="6166" y="5800"/>
                </a:lnTo>
                <a:lnTo>
                  <a:pt x="6176" y="5803"/>
                </a:lnTo>
                <a:lnTo>
                  <a:pt x="6187" y="5806"/>
                </a:lnTo>
                <a:lnTo>
                  <a:pt x="6197" y="5810"/>
                </a:lnTo>
                <a:lnTo>
                  <a:pt x="6207" y="5815"/>
                </a:lnTo>
                <a:lnTo>
                  <a:pt x="6216" y="5821"/>
                </a:lnTo>
                <a:lnTo>
                  <a:pt x="6226" y="5827"/>
                </a:lnTo>
                <a:lnTo>
                  <a:pt x="6234" y="5834"/>
                </a:lnTo>
                <a:lnTo>
                  <a:pt x="6243" y="5843"/>
                </a:lnTo>
                <a:lnTo>
                  <a:pt x="6250" y="5851"/>
                </a:lnTo>
                <a:lnTo>
                  <a:pt x="6257" y="5861"/>
                </a:lnTo>
                <a:lnTo>
                  <a:pt x="6264" y="5871"/>
                </a:lnTo>
                <a:lnTo>
                  <a:pt x="6270" y="5883"/>
                </a:lnTo>
                <a:lnTo>
                  <a:pt x="6274" y="5881"/>
                </a:lnTo>
                <a:lnTo>
                  <a:pt x="6279" y="5879"/>
                </a:lnTo>
                <a:lnTo>
                  <a:pt x="6282" y="5876"/>
                </a:lnTo>
                <a:lnTo>
                  <a:pt x="6285" y="5872"/>
                </a:lnTo>
                <a:lnTo>
                  <a:pt x="6289" y="5865"/>
                </a:lnTo>
                <a:lnTo>
                  <a:pt x="6293" y="5858"/>
                </a:lnTo>
                <a:lnTo>
                  <a:pt x="6297" y="5849"/>
                </a:lnTo>
                <a:lnTo>
                  <a:pt x="6301" y="5842"/>
                </a:lnTo>
                <a:lnTo>
                  <a:pt x="6304" y="5839"/>
                </a:lnTo>
                <a:lnTo>
                  <a:pt x="6307" y="5835"/>
                </a:lnTo>
                <a:lnTo>
                  <a:pt x="6310" y="5832"/>
                </a:lnTo>
                <a:lnTo>
                  <a:pt x="6314" y="5829"/>
                </a:lnTo>
                <a:lnTo>
                  <a:pt x="6325" y="5843"/>
                </a:lnTo>
                <a:lnTo>
                  <a:pt x="6335" y="5856"/>
                </a:lnTo>
                <a:lnTo>
                  <a:pt x="6339" y="5862"/>
                </a:lnTo>
                <a:lnTo>
                  <a:pt x="6344" y="5867"/>
                </a:lnTo>
                <a:lnTo>
                  <a:pt x="6350" y="5872"/>
                </a:lnTo>
                <a:lnTo>
                  <a:pt x="6358" y="5877"/>
                </a:lnTo>
                <a:lnTo>
                  <a:pt x="6366" y="5880"/>
                </a:lnTo>
                <a:lnTo>
                  <a:pt x="6373" y="5882"/>
                </a:lnTo>
                <a:lnTo>
                  <a:pt x="6380" y="5883"/>
                </a:lnTo>
                <a:lnTo>
                  <a:pt x="6387" y="5885"/>
                </a:lnTo>
                <a:lnTo>
                  <a:pt x="6401" y="5886"/>
                </a:lnTo>
                <a:lnTo>
                  <a:pt x="6415" y="5886"/>
                </a:lnTo>
                <a:lnTo>
                  <a:pt x="6429" y="5887"/>
                </a:lnTo>
                <a:lnTo>
                  <a:pt x="6442" y="5889"/>
                </a:lnTo>
                <a:lnTo>
                  <a:pt x="6450" y="5891"/>
                </a:lnTo>
                <a:lnTo>
                  <a:pt x="6456" y="5894"/>
                </a:lnTo>
                <a:lnTo>
                  <a:pt x="6463" y="5897"/>
                </a:lnTo>
                <a:lnTo>
                  <a:pt x="6471" y="5901"/>
                </a:lnTo>
                <a:lnTo>
                  <a:pt x="6473" y="5902"/>
                </a:lnTo>
                <a:lnTo>
                  <a:pt x="6475" y="5904"/>
                </a:lnTo>
                <a:lnTo>
                  <a:pt x="6476" y="5906"/>
                </a:lnTo>
                <a:lnTo>
                  <a:pt x="6477" y="5909"/>
                </a:lnTo>
                <a:lnTo>
                  <a:pt x="6478" y="5915"/>
                </a:lnTo>
                <a:lnTo>
                  <a:pt x="6478" y="5921"/>
                </a:lnTo>
                <a:lnTo>
                  <a:pt x="6478" y="5927"/>
                </a:lnTo>
                <a:lnTo>
                  <a:pt x="6479" y="5934"/>
                </a:lnTo>
                <a:lnTo>
                  <a:pt x="6480" y="5939"/>
                </a:lnTo>
                <a:lnTo>
                  <a:pt x="6485" y="5944"/>
                </a:lnTo>
                <a:lnTo>
                  <a:pt x="6487" y="5947"/>
                </a:lnTo>
                <a:lnTo>
                  <a:pt x="6490" y="5950"/>
                </a:lnTo>
                <a:lnTo>
                  <a:pt x="6492" y="5951"/>
                </a:lnTo>
                <a:lnTo>
                  <a:pt x="6495" y="5952"/>
                </a:lnTo>
                <a:lnTo>
                  <a:pt x="6501" y="5952"/>
                </a:lnTo>
                <a:lnTo>
                  <a:pt x="6509" y="5952"/>
                </a:lnTo>
                <a:lnTo>
                  <a:pt x="6516" y="5951"/>
                </a:lnTo>
                <a:lnTo>
                  <a:pt x="6524" y="5950"/>
                </a:lnTo>
                <a:lnTo>
                  <a:pt x="6531" y="5951"/>
                </a:lnTo>
                <a:lnTo>
                  <a:pt x="6538" y="5952"/>
                </a:lnTo>
                <a:lnTo>
                  <a:pt x="6546" y="5954"/>
                </a:lnTo>
                <a:lnTo>
                  <a:pt x="6552" y="5957"/>
                </a:lnTo>
                <a:lnTo>
                  <a:pt x="6558" y="5961"/>
                </a:lnTo>
                <a:lnTo>
                  <a:pt x="6564" y="5964"/>
                </a:lnTo>
                <a:lnTo>
                  <a:pt x="6573" y="5974"/>
                </a:lnTo>
                <a:lnTo>
                  <a:pt x="6583" y="5983"/>
                </a:lnTo>
                <a:lnTo>
                  <a:pt x="6592" y="5994"/>
                </a:lnTo>
                <a:lnTo>
                  <a:pt x="6602" y="6003"/>
                </a:lnTo>
                <a:lnTo>
                  <a:pt x="6607" y="6008"/>
                </a:lnTo>
                <a:lnTo>
                  <a:pt x="6613" y="6012"/>
                </a:lnTo>
                <a:lnTo>
                  <a:pt x="6620" y="6016"/>
                </a:lnTo>
                <a:lnTo>
                  <a:pt x="6627" y="6019"/>
                </a:lnTo>
                <a:lnTo>
                  <a:pt x="6630" y="6013"/>
                </a:lnTo>
                <a:lnTo>
                  <a:pt x="6633" y="6006"/>
                </a:lnTo>
                <a:lnTo>
                  <a:pt x="6628" y="5991"/>
                </a:lnTo>
                <a:lnTo>
                  <a:pt x="6620" y="5975"/>
                </a:lnTo>
                <a:lnTo>
                  <a:pt x="6633" y="5972"/>
                </a:lnTo>
                <a:lnTo>
                  <a:pt x="6642" y="5988"/>
                </a:lnTo>
                <a:lnTo>
                  <a:pt x="6648" y="6002"/>
                </a:lnTo>
                <a:lnTo>
                  <a:pt x="6652" y="6009"/>
                </a:lnTo>
                <a:lnTo>
                  <a:pt x="6657" y="6015"/>
                </a:lnTo>
                <a:lnTo>
                  <a:pt x="6662" y="6020"/>
                </a:lnTo>
                <a:lnTo>
                  <a:pt x="6669" y="6027"/>
                </a:lnTo>
                <a:lnTo>
                  <a:pt x="6670" y="6015"/>
                </a:lnTo>
                <a:lnTo>
                  <a:pt x="6670" y="6004"/>
                </a:lnTo>
                <a:lnTo>
                  <a:pt x="6669" y="5994"/>
                </a:lnTo>
                <a:lnTo>
                  <a:pt x="6669" y="5982"/>
                </a:lnTo>
                <a:lnTo>
                  <a:pt x="6687" y="5982"/>
                </a:lnTo>
                <a:lnTo>
                  <a:pt x="6703" y="5984"/>
                </a:lnTo>
                <a:lnTo>
                  <a:pt x="6718" y="5986"/>
                </a:lnTo>
                <a:lnTo>
                  <a:pt x="6733" y="5989"/>
                </a:lnTo>
                <a:lnTo>
                  <a:pt x="6747" y="5991"/>
                </a:lnTo>
                <a:lnTo>
                  <a:pt x="6762" y="5992"/>
                </a:lnTo>
                <a:lnTo>
                  <a:pt x="6779" y="5993"/>
                </a:lnTo>
                <a:lnTo>
                  <a:pt x="6796" y="5992"/>
                </a:lnTo>
                <a:lnTo>
                  <a:pt x="6807" y="6006"/>
                </a:lnTo>
                <a:lnTo>
                  <a:pt x="6800" y="6011"/>
                </a:lnTo>
                <a:lnTo>
                  <a:pt x="6795" y="6015"/>
                </a:lnTo>
                <a:lnTo>
                  <a:pt x="6790" y="6020"/>
                </a:lnTo>
                <a:lnTo>
                  <a:pt x="6785" y="6026"/>
                </a:lnTo>
                <a:lnTo>
                  <a:pt x="6781" y="6032"/>
                </a:lnTo>
                <a:lnTo>
                  <a:pt x="6778" y="6038"/>
                </a:lnTo>
                <a:lnTo>
                  <a:pt x="6777" y="6046"/>
                </a:lnTo>
                <a:lnTo>
                  <a:pt x="6776" y="6053"/>
                </a:lnTo>
                <a:lnTo>
                  <a:pt x="6776" y="6057"/>
                </a:lnTo>
                <a:lnTo>
                  <a:pt x="6777" y="6061"/>
                </a:lnTo>
                <a:lnTo>
                  <a:pt x="6778" y="6065"/>
                </a:lnTo>
                <a:lnTo>
                  <a:pt x="6780" y="6068"/>
                </a:lnTo>
                <a:lnTo>
                  <a:pt x="6784" y="6073"/>
                </a:lnTo>
                <a:lnTo>
                  <a:pt x="6790" y="6077"/>
                </a:lnTo>
                <a:lnTo>
                  <a:pt x="6802" y="6087"/>
                </a:lnTo>
                <a:lnTo>
                  <a:pt x="6814" y="6097"/>
                </a:lnTo>
                <a:lnTo>
                  <a:pt x="6818" y="6108"/>
                </a:lnTo>
                <a:lnTo>
                  <a:pt x="6821" y="6118"/>
                </a:lnTo>
                <a:lnTo>
                  <a:pt x="6823" y="6124"/>
                </a:lnTo>
                <a:lnTo>
                  <a:pt x="6826" y="6128"/>
                </a:lnTo>
                <a:lnTo>
                  <a:pt x="6829" y="6132"/>
                </a:lnTo>
                <a:lnTo>
                  <a:pt x="6834" y="6135"/>
                </a:lnTo>
                <a:lnTo>
                  <a:pt x="6841" y="6137"/>
                </a:lnTo>
                <a:lnTo>
                  <a:pt x="6848" y="6139"/>
                </a:lnTo>
                <a:lnTo>
                  <a:pt x="6855" y="6139"/>
                </a:lnTo>
                <a:lnTo>
                  <a:pt x="6862" y="6137"/>
                </a:lnTo>
                <a:lnTo>
                  <a:pt x="6876" y="6135"/>
                </a:lnTo>
                <a:lnTo>
                  <a:pt x="6892" y="6135"/>
                </a:lnTo>
                <a:lnTo>
                  <a:pt x="6920" y="6136"/>
                </a:lnTo>
                <a:lnTo>
                  <a:pt x="6944" y="6137"/>
                </a:lnTo>
                <a:lnTo>
                  <a:pt x="6967" y="6139"/>
                </a:lnTo>
                <a:lnTo>
                  <a:pt x="6996" y="6139"/>
                </a:lnTo>
                <a:lnTo>
                  <a:pt x="7023" y="6140"/>
                </a:lnTo>
                <a:lnTo>
                  <a:pt x="7048" y="6141"/>
                </a:lnTo>
                <a:lnTo>
                  <a:pt x="7061" y="6140"/>
                </a:lnTo>
                <a:lnTo>
                  <a:pt x="7073" y="6136"/>
                </a:lnTo>
                <a:lnTo>
                  <a:pt x="7078" y="6134"/>
                </a:lnTo>
                <a:lnTo>
                  <a:pt x="7084" y="6132"/>
                </a:lnTo>
                <a:lnTo>
                  <a:pt x="7090" y="6129"/>
                </a:lnTo>
                <a:lnTo>
                  <a:pt x="7096" y="6125"/>
                </a:lnTo>
                <a:lnTo>
                  <a:pt x="7100" y="6129"/>
                </a:lnTo>
                <a:lnTo>
                  <a:pt x="7105" y="6133"/>
                </a:lnTo>
                <a:lnTo>
                  <a:pt x="7108" y="6135"/>
                </a:lnTo>
                <a:lnTo>
                  <a:pt x="7111" y="6137"/>
                </a:lnTo>
                <a:lnTo>
                  <a:pt x="7114" y="6137"/>
                </a:lnTo>
                <a:lnTo>
                  <a:pt x="7117" y="6139"/>
                </a:lnTo>
                <a:lnTo>
                  <a:pt x="7130" y="6137"/>
                </a:lnTo>
                <a:lnTo>
                  <a:pt x="7140" y="6136"/>
                </a:lnTo>
                <a:lnTo>
                  <a:pt x="7150" y="6135"/>
                </a:lnTo>
                <a:lnTo>
                  <a:pt x="7160" y="6133"/>
                </a:lnTo>
                <a:lnTo>
                  <a:pt x="7170" y="6131"/>
                </a:lnTo>
                <a:lnTo>
                  <a:pt x="7179" y="6130"/>
                </a:lnTo>
                <a:lnTo>
                  <a:pt x="7191" y="6128"/>
                </a:lnTo>
                <a:lnTo>
                  <a:pt x="7203" y="6128"/>
                </a:lnTo>
                <a:lnTo>
                  <a:pt x="7206" y="6128"/>
                </a:lnTo>
                <a:lnTo>
                  <a:pt x="7208" y="6129"/>
                </a:lnTo>
                <a:lnTo>
                  <a:pt x="7210" y="6131"/>
                </a:lnTo>
                <a:lnTo>
                  <a:pt x="7211" y="6132"/>
                </a:lnTo>
                <a:lnTo>
                  <a:pt x="7213" y="6137"/>
                </a:lnTo>
                <a:lnTo>
                  <a:pt x="7217" y="6142"/>
                </a:lnTo>
                <a:lnTo>
                  <a:pt x="7217" y="6176"/>
                </a:lnTo>
                <a:lnTo>
                  <a:pt x="7231" y="6176"/>
                </a:lnTo>
                <a:lnTo>
                  <a:pt x="7244" y="6177"/>
                </a:lnTo>
                <a:lnTo>
                  <a:pt x="7255" y="6179"/>
                </a:lnTo>
                <a:lnTo>
                  <a:pt x="7266" y="6181"/>
                </a:lnTo>
                <a:lnTo>
                  <a:pt x="7288" y="6185"/>
                </a:lnTo>
                <a:lnTo>
                  <a:pt x="7308" y="6191"/>
                </a:lnTo>
                <a:lnTo>
                  <a:pt x="7329" y="6197"/>
                </a:lnTo>
                <a:lnTo>
                  <a:pt x="7350" y="6202"/>
                </a:lnTo>
                <a:lnTo>
                  <a:pt x="7362" y="6203"/>
                </a:lnTo>
                <a:lnTo>
                  <a:pt x="7374" y="6205"/>
                </a:lnTo>
                <a:lnTo>
                  <a:pt x="7386" y="6206"/>
                </a:lnTo>
                <a:lnTo>
                  <a:pt x="7399" y="6206"/>
                </a:lnTo>
                <a:lnTo>
                  <a:pt x="7417" y="6206"/>
                </a:lnTo>
                <a:lnTo>
                  <a:pt x="7433" y="6205"/>
                </a:lnTo>
                <a:lnTo>
                  <a:pt x="7448" y="6203"/>
                </a:lnTo>
                <a:lnTo>
                  <a:pt x="7462" y="6201"/>
                </a:lnTo>
                <a:lnTo>
                  <a:pt x="7491" y="6197"/>
                </a:lnTo>
                <a:lnTo>
                  <a:pt x="7518" y="6190"/>
                </a:lnTo>
                <a:lnTo>
                  <a:pt x="7545" y="6185"/>
                </a:lnTo>
                <a:lnTo>
                  <a:pt x="7573" y="6180"/>
                </a:lnTo>
                <a:lnTo>
                  <a:pt x="7588" y="6178"/>
                </a:lnTo>
                <a:lnTo>
                  <a:pt x="7603" y="6177"/>
                </a:lnTo>
                <a:lnTo>
                  <a:pt x="7620" y="6176"/>
                </a:lnTo>
                <a:lnTo>
                  <a:pt x="7637" y="6174"/>
                </a:lnTo>
                <a:lnTo>
                  <a:pt x="7784" y="6174"/>
                </a:lnTo>
                <a:lnTo>
                  <a:pt x="7784" y="6146"/>
                </a:lnTo>
                <a:lnTo>
                  <a:pt x="7784" y="6139"/>
                </a:lnTo>
                <a:lnTo>
                  <a:pt x="7781" y="6132"/>
                </a:lnTo>
                <a:lnTo>
                  <a:pt x="7777" y="6127"/>
                </a:lnTo>
                <a:lnTo>
                  <a:pt x="7773" y="6122"/>
                </a:lnTo>
                <a:lnTo>
                  <a:pt x="7769" y="6116"/>
                </a:lnTo>
                <a:lnTo>
                  <a:pt x="7765" y="6111"/>
                </a:lnTo>
                <a:lnTo>
                  <a:pt x="7762" y="6105"/>
                </a:lnTo>
                <a:lnTo>
                  <a:pt x="7761" y="6097"/>
                </a:lnTo>
                <a:lnTo>
                  <a:pt x="7762" y="6088"/>
                </a:lnTo>
                <a:lnTo>
                  <a:pt x="7764" y="6080"/>
                </a:lnTo>
                <a:lnTo>
                  <a:pt x="7766" y="6072"/>
                </a:lnTo>
                <a:lnTo>
                  <a:pt x="7768" y="6063"/>
                </a:lnTo>
                <a:lnTo>
                  <a:pt x="7768" y="6027"/>
                </a:lnTo>
                <a:lnTo>
                  <a:pt x="7758" y="6025"/>
                </a:lnTo>
                <a:lnTo>
                  <a:pt x="7750" y="6025"/>
                </a:lnTo>
                <a:lnTo>
                  <a:pt x="7741" y="6023"/>
                </a:lnTo>
                <a:lnTo>
                  <a:pt x="7733" y="6025"/>
                </a:lnTo>
                <a:lnTo>
                  <a:pt x="7716" y="6026"/>
                </a:lnTo>
                <a:lnTo>
                  <a:pt x="7698" y="6027"/>
                </a:lnTo>
                <a:lnTo>
                  <a:pt x="7690" y="6026"/>
                </a:lnTo>
                <a:lnTo>
                  <a:pt x="7684" y="6025"/>
                </a:lnTo>
                <a:lnTo>
                  <a:pt x="7679" y="6023"/>
                </a:lnTo>
                <a:lnTo>
                  <a:pt x="7674" y="6021"/>
                </a:lnTo>
                <a:lnTo>
                  <a:pt x="7663" y="6016"/>
                </a:lnTo>
                <a:lnTo>
                  <a:pt x="7654" y="6009"/>
                </a:lnTo>
                <a:lnTo>
                  <a:pt x="7644" y="6001"/>
                </a:lnTo>
                <a:lnTo>
                  <a:pt x="7634" y="5994"/>
                </a:lnTo>
                <a:lnTo>
                  <a:pt x="7624" y="5988"/>
                </a:lnTo>
                <a:lnTo>
                  <a:pt x="7611" y="5982"/>
                </a:lnTo>
                <a:lnTo>
                  <a:pt x="7581" y="5972"/>
                </a:lnTo>
                <a:lnTo>
                  <a:pt x="7552" y="5963"/>
                </a:lnTo>
                <a:lnTo>
                  <a:pt x="7525" y="5957"/>
                </a:lnTo>
                <a:lnTo>
                  <a:pt x="7498" y="5952"/>
                </a:lnTo>
                <a:lnTo>
                  <a:pt x="7471" y="5947"/>
                </a:lnTo>
                <a:lnTo>
                  <a:pt x="7442" y="5943"/>
                </a:lnTo>
                <a:lnTo>
                  <a:pt x="7413" y="5938"/>
                </a:lnTo>
                <a:lnTo>
                  <a:pt x="7381" y="5932"/>
                </a:lnTo>
                <a:lnTo>
                  <a:pt x="7364" y="5926"/>
                </a:lnTo>
                <a:lnTo>
                  <a:pt x="7350" y="5922"/>
                </a:lnTo>
                <a:lnTo>
                  <a:pt x="7337" y="5916"/>
                </a:lnTo>
                <a:lnTo>
                  <a:pt x="7323" y="5910"/>
                </a:lnTo>
                <a:lnTo>
                  <a:pt x="7310" y="5904"/>
                </a:lnTo>
                <a:lnTo>
                  <a:pt x="7297" y="5899"/>
                </a:lnTo>
                <a:lnTo>
                  <a:pt x="7282" y="5894"/>
                </a:lnTo>
                <a:lnTo>
                  <a:pt x="7265" y="5890"/>
                </a:lnTo>
                <a:lnTo>
                  <a:pt x="7246" y="5886"/>
                </a:lnTo>
                <a:lnTo>
                  <a:pt x="7228" y="5882"/>
                </a:lnTo>
                <a:lnTo>
                  <a:pt x="7211" y="5877"/>
                </a:lnTo>
                <a:lnTo>
                  <a:pt x="7194" y="5871"/>
                </a:lnTo>
                <a:lnTo>
                  <a:pt x="7179" y="5864"/>
                </a:lnTo>
                <a:lnTo>
                  <a:pt x="7164" y="5856"/>
                </a:lnTo>
                <a:lnTo>
                  <a:pt x="7149" y="5845"/>
                </a:lnTo>
                <a:lnTo>
                  <a:pt x="7133" y="5832"/>
                </a:lnTo>
                <a:lnTo>
                  <a:pt x="7123" y="5826"/>
                </a:lnTo>
                <a:lnTo>
                  <a:pt x="7114" y="5821"/>
                </a:lnTo>
                <a:lnTo>
                  <a:pt x="7110" y="5818"/>
                </a:lnTo>
                <a:lnTo>
                  <a:pt x="7105" y="5814"/>
                </a:lnTo>
                <a:lnTo>
                  <a:pt x="7102" y="5810"/>
                </a:lnTo>
                <a:lnTo>
                  <a:pt x="7099" y="5805"/>
                </a:lnTo>
                <a:lnTo>
                  <a:pt x="7109" y="5801"/>
                </a:lnTo>
                <a:lnTo>
                  <a:pt x="7118" y="5796"/>
                </a:lnTo>
                <a:lnTo>
                  <a:pt x="7128" y="5793"/>
                </a:lnTo>
                <a:lnTo>
                  <a:pt x="7137" y="5791"/>
                </a:lnTo>
                <a:lnTo>
                  <a:pt x="7157" y="5789"/>
                </a:lnTo>
                <a:lnTo>
                  <a:pt x="7178" y="5788"/>
                </a:lnTo>
                <a:lnTo>
                  <a:pt x="7208" y="5789"/>
                </a:lnTo>
                <a:lnTo>
                  <a:pt x="7233" y="5790"/>
                </a:lnTo>
                <a:lnTo>
                  <a:pt x="7245" y="5792"/>
                </a:lnTo>
                <a:lnTo>
                  <a:pt x="7258" y="5794"/>
                </a:lnTo>
                <a:lnTo>
                  <a:pt x="7271" y="5797"/>
                </a:lnTo>
                <a:lnTo>
                  <a:pt x="7286" y="5802"/>
                </a:lnTo>
                <a:lnTo>
                  <a:pt x="7285" y="5791"/>
                </a:lnTo>
                <a:lnTo>
                  <a:pt x="7284" y="5781"/>
                </a:lnTo>
                <a:lnTo>
                  <a:pt x="7281" y="5771"/>
                </a:lnTo>
                <a:lnTo>
                  <a:pt x="7275" y="5762"/>
                </a:lnTo>
                <a:lnTo>
                  <a:pt x="7289" y="5757"/>
                </a:lnTo>
                <a:lnTo>
                  <a:pt x="7299" y="5767"/>
                </a:lnTo>
                <a:lnTo>
                  <a:pt x="7309" y="5775"/>
                </a:lnTo>
                <a:lnTo>
                  <a:pt x="7320" y="5782"/>
                </a:lnTo>
                <a:lnTo>
                  <a:pt x="7329" y="5787"/>
                </a:lnTo>
                <a:lnTo>
                  <a:pt x="7341" y="5791"/>
                </a:lnTo>
                <a:lnTo>
                  <a:pt x="7351" y="5794"/>
                </a:lnTo>
                <a:lnTo>
                  <a:pt x="7364" y="5796"/>
                </a:lnTo>
                <a:lnTo>
                  <a:pt x="7377" y="5799"/>
                </a:lnTo>
                <a:lnTo>
                  <a:pt x="7388" y="5797"/>
                </a:lnTo>
                <a:lnTo>
                  <a:pt x="7399" y="5795"/>
                </a:lnTo>
                <a:lnTo>
                  <a:pt x="7404" y="5794"/>
                </a:lnTo>
                <a:lnTo>
                  <a:pt x="7409" y="5794"/>
                </a:lnTo>
                <a:lnTo>
                  <a:pt x="7414" y="5795"/>
                </a:lnTo>
                <a:lnTo>
                  <a:pt x="7418" y="5799"/>
                </a:lnTo>
                <a:lnTo>
                  <a:pt x="7420" y="5811"/>
                </a:lnTo>
                <a:lnTo>
                  <a:pt x="7421" y="5826"/>
                </a:lnTo>
                <a:lnTo>
                  <a:pt x="7426" y="5831"/>
                </a:lnTo>
                <a:lnTo>
                  <a:pt x="7432" y="5835"/>
                </a:lnTo>
                <a:lnTo>
                  <a:pt x="7438" y="5840"/>
                </a:lnTo>
                <a:lnTo>
                  <a:pt x="7443" y="5842"/>
                </a:lnTo>
                <a:lnTo>
                  <a:pt x="7450" y="5844"/>
                </a:lnTo>
                <a:lnTo>
                  <a:pt x="7456" y="5845"/>
                </a:lnTo>
                <a:lnTo>
                  <a:pt x="7463" y="5845"/>
                </a:lnTo>
                <a:lnTo>
                  <a:pt x="7470" y="5845"/>
                </a:lnTo>
                <a:lnTo>
                  <a:pt x="7499" y="5842"/>
                </a:lnTo>
                <a:lnTo>
                  <a:pt x="7530" y="5840"/>
                </a:lnTo>
                <a:lnTo>
                  <a:pt x="7545" y="5841"/>
                </a:lnTo>
                <a:lnTo>
                  <a:pt x="7558" y="5843"/>
                </a:lnTo>
                <a:lnTo>
                  <a:pt x="7565" y="5844"/>
                </a:lnTo>
                <a:lnTo>
                  <a:pt x="7571" y="5844"/>
                </a:lnTo>
                <a:lnTo>
                  <a:pt x="7577" y="5842"/>
                </a:lnTo>
                <a:lnTo>
                  <a:pt x="7585" y="5840"/>
                </a:lnTo>
                <a:lnTo>
                  <a:pt x="7588" y="5837"/>
                </a:lnTo>
                <a:lnTo>
                  <a:pt x="7591" y="5833"/>
                </a:lnTo>
                <a:lnTo>
                  <a:pt x="7593" y="5829"/>
                </a:lnTo>
                <a:lnTo>
                  <a:pt x="7595" y="5825"/>
                </a:lnTo>
                <a:lnTo>
                  <a:pt x="7598" y="5822"/>
                </a:lnTo>
                <a:lnTo>
                  <a:pt x="7601" y="5819"/>
                </a:lnTo>
                <a:lnTo>
                  <a:pt x="7604" y="5816"/>
                </a:lnTo>
                <a:lnTo>
                  <a:pt x="7608" y="5815"/>
                </a:lnTo>
                <a:lnTo>
                  <a:pt x="7614" y="5816"/>
                </a:lnTo>
                <a:lnTo>
                  <a:pt x="7621" y="5818"/>
                </a:lnTo>
                <a:lnTo>
                  <a:pt x="7625" y="5820"/>
                </a:lnTo>
                <a:lnTo>
                  <a:pt x="7630" y="5823"/>
                </a:lnTo>
                <a:lnTo>
                  <a:pt x="7639" y="5829"/>
                </a:lnTo>
                <a:lnTo>
                  <a:pt x="7647" y="5838"/>
                </a:lnTo>
                <a:lnTo>
                  <a:pt x="7656" y="5846"/>
                </a:lnTo>
                <a:lnTo>
                  <a:pt x="7664" y="5852"/>
                </a:lnTo>
                <a:lnTo>
                  <a:pt x="7669" y="5856"/>
                </a:lnTo>
                <a:lnTo>
                  <a:pt x="7675" y="5858"/>
                </a:lnTo>
                <a:lnTo>
                  <a:pt x="7680" y="5859"/>
                </a:lnTo>
                <a:lnTo>
                  <a:pt x="7686" y="5860"/>
                </a:lnTo>
                <a:lnTo>
                  <a:pt x="7689" y="5860"/>
                </a:lnTo>
                <a:lnTo>
                  <a:pt x="7692" y="5859"/>
                </a:lnTo>
                <a:lnTo>
                  <a:pt x="7693" y="5857"/>
                </a:lnTo>
                <a:lnTo>
                  <a:pt x="7695" y="5855"/>
                </a:lnTo>
                <a:lnTo>
                  <a:pt x="7697" y="5850"/>
                </a:lnTo>
                <a:lnTo>
                  <a:pt x="7700" y="5846"/>
                </a:lnTo>
                <a:lnTo>
                  <a:pt x="7761" y="5877"/>
                </a:lnTo>
                <a:lnTo>
                  <a:pt x="7789" y="5877"/>
                </a:lnTo>
                <a:lnTo>
                  <a:pt x="7789" y="5847"/>
                </a:lnTo>
                <a:lnTo>
                  <a:pt x="7788" y="5842"/>
                </a:lnTo>
                <a:lnTo>
                  <a:pt x="7787" y="5837"/>
                </a:lnTo>
                <a:lnTo>
                  <a:pt x="7783" y="5832"/>
                </a:lnTo>
                <a:lnTo>
                  <a:pt x="7780" y="5828"/>
                </a:lnTo>
                <a:lnTo>
                  <a:pt x="7772" y="5822"/>
                </a:lnTo>
                <a:lnTo>
                  <a:pt x="7763" y="5815"/>
                </a:lnTo>
                <a:lnTo>
                  <a:pt x="7754" y="5809"/>
                </a:lnTo>
                <a:lnTo>
                  <a:pt x="7745" y="5803"/>
                </a:lnTo>
                <a:lnTo>
                  <a:pt x="7742" y="5799"/>
                </a:lnTo>
                <a:lnTo>
                  <a:pt x="7740" y="5794"/>
                </a:lnTo>
                <a:lnTo>
                  <a:pt x="7738" y="5790"/>
                </a:lnTo>
                <a:lnTo>
                  <a:pt x="7737" y="5784"/>
                </a:lnTo>
                <a:lnTo>
                  <a:pt x="7737" y="5751"/>
                </a:lnTo>
                <a:lnTo>
                  <a:pt x="7775" y="5745"/>
                </a:lnTo>
                <a:close/>
                <a:moveTo>
                  <a:pt x="5561" y="4766"/>
                </a:moveTo>
                <a:lnTo>
                  <a:pt x="5547" y="4767"/>
                </a:lnTo>
                <a:lnTo>
                  <a:pt x="5534" y="4769"/>
                </a:lnTo>
                <a:lnTo>
                  <a:pt x="5521" y="4772"/>
                </a:lnTo>
                <a:lnTo>
                  <a:pt x="5510" y="4776"/>
                </a:lnTo>
                <a:lnTo>
                  <a:pt x="5505" y="4780"/>
                </a:lnTo>
                <a:lnTo>
                  <a:pt x="5500" y="4783"/>
                </a:lnTo>
                <a:lnTo>
                  <a:pt x="5495" y="4787"/>
                </a:lnTo>
                <a:lnTo>
                  <a:pt x="5492" y="4791"/>
                </a:lnTo>
                <a:lnTo>
                  <a:pt x="5489" y="4796"/>
                </a:lnTo>
                <a:lnTo>
                  <a:pt x="5486" y="4802"/>
                </a:lnTo>
                <a:lnTo>
                  <a:pt x="5483" y="4807"/>
                </a:lnTo>
                <a:lnTo>
                  <a:pt x="5482" y="4813"/>
                </a:lnTo>
                <a:lnTo>
                  <a:pt x="5479" y="4836"/>
                </a:lnTo>
                <a:lnTo>
                  <a:pt x="5478" y="4856"/>
                </a:lnTo>
                <a:lnTo>
                  <a:pt x="5477" y="4876"/>
                </a:lnTo>
                <a:lnTo>
                  <a:pt x="5475" y="4899"/>
                </a:lnTo>
                <a:lnTo>
                  <a:pt x="5473" y="4909"/>
                </a:lnTo>
                <a:lnTo>
                  <a:pt x="5471" y="4920"/>
                </a:lnTo>
                <a:lnTo>
                  <a:pt x="5468" y="4930"/>
                </a:lnTo>
                <a:lnTo>
                  <a:pt x="5463" y="4939"/>
                </a:lnTo>
                <a:lnTo>
                  <a:pt x="5460" y="4949"/>
                </a:lnTo>
                <a:lnTo>
                  <a:pt x="5457" y="4958"/>
                </a:lnTo>
                <a:lnTo>
                  <a:pt x="5456" y="4969"/>
                </a:lnTo>
                <a:lnTo>
                  <a:pt x="5455" y="4980"/>
                </a:lnTo>
                <a:lnTo>
                  <a:pt x="5456" y="4994"/>
                </a:lnTo>
                <a:lnTo>
                  <a:pt x="5459" y="5007"/>
                </a:lnTo>
                <a:lnTo>
                  <a:pt x="5463" y="5018"/>
                </a:lnTo>
                <a:lnTo>
                  <a:pt x="5470" y="5030"/>
                </a:lnTo>
                <a:lnTo>
                  <a:pt x="5484" y="5050"/>
                </a:lnTo>
                <a:lnTo>
                  <a:pt x="5502" y="5072"/>
                </a:lnTo>
                <a:lnTo>
                  <a:pt x="5509" y="5079"/>
                </a:lnTo>
                <a:lnTo>
                  <a:pt x="5514" y="5086"/>
                </a:lnTo>
                <a:lnTo>
                  <a:pt x="5520" y="5092"/>
                </a:lnTo>
                <a:lnTo>
                  <a:pt x="5528" y="5098"/>
                </a:lnTo>
                <a:lnTo>
                  <a:pt x="5534" y="5103"/>
                </a:lnTo>
                <a:lnTo>
                  <a:pt x="5543" y="5106"/>
                </a:lnTo>
                <a:lnTo>
                  <a:pt x="5551" y="5108"/>
                </a:lnTo>
                <a:lnTo>
                  <a:pt x="5561" y="5109"/>
                </a:lnTo>
                <a:lnTo>
                  <a:pt x="5572" y="5108"/>
                </a:lnTo>
                <a:lnTo>
                  <a:pt x="5583" y="5106"/>
                </a:lnTo>
                <a:lnTo>
                  <a:pt x="5592" y="5103"/>
                </a:lnTo>
                <a:lnTo>
                  <a:pt x="5602" y="5097"/>
                </a:lnTo>
                <a:lnTo>
                  <a:pt x="5621" y="5088"/>
                </a:lnTo>
                <a:lnTo>
                  <a:pt x="5642" y="5078"/>
                </a:lnTo>
                <a:lnTo>
                  <a:pt x="5649" y="5076"/>
                </a:lnTo>
                <a:lnTo>
                  <a:pt x="5656" y="5076"/>
                </a:lnTo>
                <a:lnTo>
                  <a:pt x="5663" y="5076"/>
                </a:lnTo>
                <a:lnTo>
                  <a:pt x="5670" y="5076"/>
                </a:lnTo>
                <a:lnTo>
                  <a:pt x="5677" y="5075"/>
                </a:lnTo>
                <a:lnTo>
                  <a:pt x="5683" y="5074"/>
                </a:lnTo>
                <a:lnTo>
                  <a:pt x="5689" y="5072"/>
                </a:lnTo>
                <a:lnTo>
                  <a:pt x="5696" y="5068"/>
                </a:lnTo>
                <a:lnTo>
                  <a:pt x="5702" y="5063"/>
                </a:lnTo>
                <a:lnTo>
                  <a:pt x="5707" y="5056"/>
                </a:lnTo>
                <a:lnTo>
                  <a:pt x="5710" y="5049"/>
                </a:lnTo>
                <a:lnTo>
                  <a:pt x="5714" y="5041"/>
                </a:lnTo>
                <a:lnTo>
                  <a:pt x="5715" y="5033"/>
                </a:lnTo>
                <a:lnTo>
                  <a:pt x="5716" y="5025"/>
                </a:lnTo>
                <a:lnTo>
                  <a:pt x="5716" y="5016"/>
                </a:lnTo>
                <a:lnTo>
                  <a:pt x="5717" y="5008"/>
                </a:lnTo>
                <a:lnTo>
                  <a:pt x="5716" y="4988"/>
                </a:lnTo>
                <a:lnTo>
                  <a:pt x="5714" y="4969"/>
                </a:lnTo>
                <a:lnTo>
                  <a:pt x="5712" y="4952"/>
                </a:lnTo>
                <a:lnTo>
                  <a:pt x="5708" y="4935"/>
                </a:lnTo>
                <a:lnTo>
                  <a:pt x="5701" y="4902"/>
                </a:lnTo>
                <a:lnTo>
                  <a:pt x="5693" y="4864"/>
                </a:lnTo>
                <a:lnTo>
                  <a:pt x="5688" y="4839"/>
                </a:lnTo>
                <a:lnTo>
                  <a:pt x="5684" y="4814"/>
                </a:lnTo>
                <a:lnTo>
                  <a:pt x="5680" y="4804"/>
                </a:lnTo>
                <a:lnTo>
                  <a:pt x="5676" y="4794"/>
                </a:lnTo>
                <a:lnTo>
                  <a:pt x="5671" y="4789"/>
                </a:lnTo>
                <a:lnTo>
                  <a:pt x="5668" y="4785"/>
                </a:lnTo>
                <a:lnTo>
                  <a:pt x="5664" y="4781"/>
                </a:lnTo>
                <a:lnTo>
                  <a:pt x="5659" y="4776"/>
                </a:lnTo>
                <a:lnTo>
                  <a:pt x="5653" y="4773"/>
                </a:lnTo>
                <a:lnTo>
                  <a:pt x="5649" y="4772"/>
                </a:lnTo>
                <a:lnTo>
                  <a:pt x="5644" y="4772"/>
                </a:lnTo>
                <a:lnTo>
                  <a:pt x="5640" y="4772"/>
                </a:lnTo>
                <a:lnTo>
                  <a:pt x="5629" y="4774"/>
                </a:lnTo>
                <a:lnTo>
                  <a:pt x="5618" y="4776"/>
                </a:lnTo>
                <a:lnTo>
                  <a:pt x="5610" y="4776"/>
                </a:lnTo>
                <a:lnTo>
                  <a:pt x="5603" y="4775"/>
                </a:lnTo>
                <a:lnTo>
                  <a:pt x="5595" y="4773"/>
                </a:lnTo>
                <a:lnTo>
                  <a:pt x="5589" y="4771"/>
                </a:lnTo>
                <a:lnTo>
                  <a:pt x="5583" y="4769"/>
                </a:lnTo>
                <a:lnTo>
                  <a:pt x="5575" y="4768"/>
                </a:lnTo>
                <a:lnTo>
                  <a:pt x="5568" y="4767"/>
                </a:lnTo>
                <a:lnTo>
                  <a:pt x="5561" y="4766"/>
                </a:lnTo>
                <a:close/>
                <a:moveTo>
                  <a:pt x="4623" y="3132"/>
                </a:moveTo>
                <a:lnTo>
                  <a:pt x="4598" y="3150"/>
                </a:lnTo>
                <a:lnTo>
                  <a:pt x="4577" y="3166"/>
                </a:lnTo>
                <a:lnTo>
                  <a:pt x="4567" y="3173"/>
                </a:lnTo>
                <a:lnTo>
                  <a:pt x="4555" y="3179"/>
                </a:lnTo>
                <a:lnTo>
                  <a:pt x="4549" y="3181"/>
                </a:lnTo>
                <a:lnTo>
                  <a:pt x="4543" y="3182"/>
                </a:lnTo>
                <a:lnTo>
                  <a:pt x="4535" y="3183"/>
                </a:lnTo>
                <a:lnTo>
                  <a:pt x="4528" y="3183"/>
                </a:lnTo>
                <a:lnTo>
                  <a:pt x="4512" y="3183"/>
                </a:lnTo>
                <a:lnTo>
                  <a:pt x="4497" y="3181"/>
                </a:lnTo>
                <a:lnTo>
                  <a:pt x="4484" y="3179"/>
                </a:lnTo>
                <a:lnTo>
                  <a:pt x="4472" y="3176"/>
                </a:lnTo>
                <a:lnTo>
                  <a:pt x="4445" y="3168"/>
                </a:lnTo>
                <a:lnTo>
                  <a:pt x="4416" y="3163"/>
                </a:lnTo>
                <a:lnTo>
                  <a:pt x="4411" y="3177"/>
                </a:lnTo>
                <a:lnTo>
                  <a:pt x="4408" y="3191"/>
                </a:lnTo>
                <a:lnTo>
                  <a:pt x="4409" y="3207"/>
                </a:lnTo>
                <a:lnTo>
                  <a:pt x="4412" y="3222"/>
                </a:lnTo>
                <a:lnTo>
                  <a:pt x="4415" y="3236"/>
                </a:lnTo>
                <a:lnTo>
                  <a:pt x="4419" y="3248"/>
                </a:lnTo>
                <a:lnTo>
                  <a:pt x="4422" y="3261"/>
                </a:lnTo>
                <a:lnTo>
                  <a:pt x="4425" y="3274"/>
                </a:lnTo>
                <a:lnTo>
                  <a:pt x="4428" y="3289"/>
                </a:lnTo>
                <a:lnTo>
                  <a:pt x="4428" y="3304"/>
                </a:lnTo>
                <a:lnTo>
                  <a:pt x="4453" y="3303"/>
                </a:lnTo>
                <a:lnTo>
                  <a:pt x="4473" y="3303"/>
                </a:lnTo>
                <a:lnTo>
                  <a:pt x="4494" y="3304"/>
                </a:lnTo>
                <a:lnTo>
                  <a:pt x="4517" y="3305"/>
                </a:lnTo>
                <a:lnTo>
                  <a:pt x="4520" y="3323"/>
                </a:lnTo>
                <a:lnTo>
                  <a:pt x="4524" y="3339"/>
                </a:lnTo>
                <a:lnTo>
                  <a:pt x="4529" y="3354"/>
                </a:lnTo>
                <a:lnTo>
                  <a:pt x="4534" y="3368"/>
                </a:lnTo>
                <a:lnTo>
                  <a:pt x="4548" y="3394"/>
                </a:lnTo>
                <a:lnTo>
                  <a:pt x="4565" y="3425"/>
                </a:lnTo>
                <a:lnTo>
                  <a:pt x="4568" y="3431"/>
                </a:lnTo>
                <a:lnTo>
                  <a:pt x="4572" y="3437"/>
                </a:lnTo>
                <a:lnTo>
                  <a:pt x="4576" y="3443"/>
                </a:lnTo>
                <a:lnTo>
                  <a:pt x="4581" y="3448"/>
                </a:lnTo>
                <a:lnTo>
                  <a:pt x="4586" y="3452"/>
                </a:lnTo>
                <a:lnTo>
                  <a:pt x="4592" y="3455"/>
                </a:lnTo>
                <a:lnTo>
                  <a:pt x="4598" y="3458"/>
                </a:lnTo>
                <a:lnTo>
                  <a:pt x="4606" y="3459"/>
                </a:lnTo>
                <a:lnTo>
                  <a:pt x="4614" y="3458"/>
                </a:lnTo>
                <a:lnTo>
                  <a:pt x="4622" y="3455"/>
                </a:lnTo>
                <a:lnTo>
                  <a:pt x="4628" y="3452"/>
                </a:lnTo>
                <a:lnTo>
                  <a:pt x="4633" y="3448"/>
                </a:lnTo>
                <a:lnTo>
                  <a:pt x="4639" y="3443"/>
                </a:lnTo>
                <a:lnTo>
                  <a:pt x="4643" y="3436"/>
                </a:lnTo>
                <a:lnTo>
                  <a:pt x="4647" y="3430"/>
                </a:lnTo>
                <a:lnTo>
                  <a:pt x="4651" y="3423"/>
                </a:lnTo>
                <a:lnTo>
                  <a:pt x="4659" y="3408"/>
                </a:lnTo>
                <a:lnTo>
                  <a:pt x="4667" y="3394"/>
                </a:lnTo>
                <a:lnTo>
                  <a:pt x="4672" y="3387"/>
                </a:lnTo>
                <a:lnTo>
                  <a:pt x="4678" y="3380"/>
                </a:lnTo>
                <a:lnTo>
                  <a:pt x="4683" y="3375"/>
                </a:lnTo>
                <a:lnTo>
                  <a:pt x="4690" y="3370"/>
                </a:lnTo>
                <a:lnTo>
                  <a:pt x="4699" y="3366"/>
                </a:lnTo>
                <a:lnTo>
                  <a:pt x="4706" y="3362"/>
                </a:lnTo>
                <a:lnTo>
                  <a:pt x="4715" y="3361"/>
                </a:lnTo>
                <a:lnTo>
                  <a:pt x="4723" y="3360"/>
                </a:lnTo>
                <a:lnTo>
                  <a:pt x="4740" y="3360"/>
                </a:lnTo>
                <a:lnTo>
                  <a:pt x="4758" y="3359"/>
                </a:lnTo>
                <a:lnTo>
                  <a:pt x="4789" y="3357"/>
                </a:lnTo>
                <a:lnTo>
                  <a:pt x="4815" y="3354"/>
                </a:lnTo>
                <a:lnTo>
                  <a:pt x="4841" y="3351"/>
                </a:lnTo>
                <a:lnTo>
                  <a:pt x="4871" y="3347"/>
                </a:lnTo>
                <a:lnTo>
                  <a:pt x="4879" y="3345"/>
                </a:lnTo>
                <a:lnTo>
                  <a:pt x="4888" y="3343"/>
                </a:lnTo>
                <a:lnTo>
                  <a:pt x="4896" y="3341"/>
                </a:lnTo>
                <a:lnTo>
                  <a:pt x="4905" y="3338"/>
                </a:lnTo>
                <a:lnTo>
                  <a:pt x="4911" y="3334"/>
                </a:lnTo>
                <a:lnTo>
                  <a:pt x="4916" y="3330"/>
                </a:lnTo>
                <a:lnTo>
                  <a:pt x="4918" y="3327"/>
                </a:lnTo>
                <a:lnTo>
                  <a:pt x="4921" y="3323"/>
                </a:lnTo>
                <a:lnTo>
                  <a:pt x="4922" y="3319"/>
                </a:lnTo>
                <a:lnTo>
                  <a:pt x="4922" y="3316"/>
                </a:lnTo>
                <a:lnTo>
                  <a:pt x="4921" y="3311"/>
                </a:lnTo>
                <a:lnTo>
                  <a:pt x="4920" y="3305"/>
                </a:lnTo>
                <a:lnTo>
                  <a:pt x="4917" y="3302"/>
                </a:lnTo>
                <a:lnTo>
                  <a:pt x="4915" y="3298"/>
                </a:lnTo>
                <a:lnTo>
                  <a:pt x="4908" y="3293"/>
                </a:lnTo>
                <a:lnTo>
                  <a:pt x="4899" y="3288"/>
                </a:lnTo>
                <a:lnTo>
                  <a:pt x="4889" y="3284"/>
                </a:lnTo>
                <a:lnTo>
                  <a:pt x="4879" y="3279"/>
                </a:lnTo>
                <a:lnTo>
                  <a:pt x="4869" y="3275"/>
                </a:lnTo>
                <a:lnTo>
                  <a:pt x="4860" y="3269"/>
                </a:lnTo>
                <a:lnTo>
                  <a:pt x="4856" y="3263"/>
                </a:lnTo>
                <a:lnTo>
                  <a:pt x="4852" y="3258"/>
                </a:lnTo>
                <a:lnTo>
                  <a:pt x="4849" y="3254"/>
                </a:lnTo>
                <a:lnTo>
                  <a:pt x="4847" y="3248"/>
                </a:lnTo>
                <a:lnTo>
                  <a:pt x="4841" y="3237"/>
                </a:lnTo>
                <a:lnTo>
                  <a:pt x="4833" y="3227"/>
                </a:lnTo>
                <a:lnTo>
                  <a:pt x="4828" y="3222"/>
                </a:lnTo>
                <a:lnTo>
                  <a:pt x="4822" y="3218"/>
                </a:lnTo>
                <a:lnTo>
                  <a:pt x="4817" y="3215"/>
                </a:lnTo>
                <a:lnTo>
                  <a:pt x="4812" y="3213"/>
                </a:lnTo>
                <a:lnTo>
                  <a:pt x="4800" y="3208"/>
                </a:lnTo>
                <a:lnTo>
                  <a:pt x="4789" y="3205"/>
                </a:lnTo>
                <a:lnTo>
                  <a:pt x="4777" y="3203"/>
                </a:lnTo>
                <a:lnTo>
                  <a:pt x="4764" y="3200"/>
                </a:lnTo>
                <a:lnTo>
                  <a:pt x="4752" y="3198"/>
                </a:lnTo>
                <a:lnTo>
                  <a:pt x="4738" y="3194"/>
                </a:lnTo>
                <a:lnTo>
                  <a:pt x="4722" y="3187"/>
                </a:lnTo>
                <a:lnTo>
                  <a:pt x="4707" y="3180"/>
                </a:lnTo>
                <a:lnTo>
                  <a:pt x="4694" y="3171"/>
                </a:lnTo>
                <a:lnTo>
                  <a:pt x="4680" y="3163"/>
                </a:lnTo>
                <a:lnTo>
                  <a:pt x="4666" y="3156"/>
                </a:lnTo>
                <a:lnTo>
                  <a:pt x="4652" y="3147"/>
                </a:lnTo>
                <a:lnTo>
                  <a:pt x="4639" y="3140"/>
                </a:lnTo>
                <a:lnTo>
                  <a:pt x="4623" y="3132"/>
                </a:lnTo>
                <a:close/>
                <a:moveTo>
                  <a:pt x="2248" y="2800"/>
                </a:moveTo>
                <a:lnTo>
                  <a:pt x="2235" y="2812"/>
                </a:lnTo>
                <a:lnTo>
                  <a:pt x="2225" y="2824"/>
                </a:lnTo>
                <a:lnTo>
                  <a:pt x="2215" y="2837"/>
                </a:lnTo>
                <a:lnTo>
                  <a:pt x="2207" y="2850"/>
                </a:lnTo>
                <a:lnTo>
                  <a:pt x="2193" y="2878"/>
                </a:lnTo>
                <a:lnTo>
                  <a:pt x="2177" y="2912"/>
                </a:lnTo>
                <a:lnTo>
                  <a:pt x="2198" y="2918"/>
                </a:lnTo>
                <a:lnTo>
                  <a:pt x="2217" y="2924"/>
                </a:lnTo>
                <a:lnTo>
                  <a:pt x="2236" y="2930"/>
                </a:lnTo>
                <a:lnTo>
                  <a:pt x="2258" y="2935"/>
                </a:lnTo>
                <a:lnTo>
                  <a:pt x="2272" y="2932"/>
                </a:lnTo>
                <a:lnTo>
                  <a:pt x="2276" y="2914"/>
                </a:lnTo>
                <a:lnTo>
                  <a:pt x="2281" y="2898"/>
                </a:lnTo>
                <a:lnTo>
                  <a:pt x="2283" y="2890"/>
                </a:lnTo>
                <a:lnTo>
                  <a:pt x="2284" y="2882"/>
                </a:lnTo>
                <a:lnTo>
                  <a:pt x="2285" y="2874"/>
                </a:lnTo>
                <a:lnTo>
                  <a:pt x="2286" y="2864"/>
                </a:lnTo>
                <a:lnTo>
                  <a:pt x="2285" y="2855"/>
                </a:lnTo>
                <a:lnTo>
                  <a:pt x="2283" y="2845"/>
                </a:lnTo>
                <a:lnTo>
                  <a:pt x="2280" y="2836"/>
                </a:lnTo>
                <a:lnTo>
                  <a:pt x="2274" y="2827"/>
                </a:lnTo>
                <a:lnTo>
                  <a:pt x="2269" y="2819"/>
                </a:lnTo>
                <a:lnTo>
                  <a:pt x="2263" y="2810"/>
                </a:lnTo>
                <a:lnTo>
                  <a:pt x="2255" y="2804"/>
                </a:lnTo>
                <a:lnTo>
                  <a:pt x="2248" y="2800"/>
                </a:lnTo>
                <a:close/>
                <a:moveTo>
                  <a:pt x="1756" y="2700"/>
                </a:moveTo>
                <a:lnTo>
                  <a:pt x="1771" y="2703"/>
                </a:lnTo>
                <a:lnTo>
                  <a:pt x="1783" y="2707"/>
                </a:lnTo>
                <a:lnTo>
                  <a:pt x="1795" y="2710"/>
                </a:lnTo>
                <a:lnTo>
                  <a:pt x="1806" y="2714"/>
                </a:lnTo>
                <a:lnTo>
                  <a:pt x="1818" y="2718"/>
                </a:lnTo>
                <a:lnTo>
                  <a:pt x="1830" y="2722"/>
                </a:lnTo>
                <a:lnTo>
                  <a:pt x="1843" y="2724"/>
                </a:lnTo>
                <a:lnTo>
                  <a:pt x="1857" y="2725"/>
                </a:lnTo>
                <a:lnTo>
                  <a:pt x="1862" y="2725"/>
                </a:lnTo>
                <a:lnTo>
                  <a:pt x="1866" y="2724"/>
                </a:lnTo>
                <a:lnTo>
                  <a:pt x="1870" y="2722"/>
                </a:lnTo>
                <a:lnTo>
                  <a:pt x="1873" y="2719"/>
                </a:lnTo>
                <a:lnTo>
                  <a:pt x="1878" y="2713"/>
                </a:lnTo>
                <a:lnTo>
                  <a:pt x="1882" y="2706"/>
                </a:lnTo>
                <a:lnTo>
                  <a:pt x="1885" y="2697"/>
                </a:lnTo>
                <a:lnTo>
                  <a:pt x="1887" y="2688"/>
                </a:lnTo>
                <a:lnTo>
                  <a:pt x="1888" y="2678"/>
                </a:lnTo>
                <a:lnTo>
                  <a:pt x="1888" y="2669"/>
                </a:lnTo>
                <a:lnTo>
                  <a:pt x="1888" y="2665"/>
                </a:lnTo>
                <a:lnTo>
                  <a:pt x="1887" y="2661"/>
                </a:lnTo>
                <a:lnTo>
                  <a:pt x="1886" y="2658"/>
                </a:lnTo>
                <a:lnTo>
                  <a:pt x="1885" y="2655"/>
                </a:lnTo>
                <a:lnTo>
                  <a:pt x="1879" y="2651"/>
                </a:lnTo>
                <a:lnTo>
                  <a:pt x="1874" y="2647"/>
                </a:lnTo>
                <a:lnTo>
                  <a:pt x="1867" y="2643"/>
                </a:lnTo>
                <a:lnTo>
                  <a:pt x="1859" y="2641"/>
                </a:lnTo>
                <a:lnTo>
                  <a:pt x="1851" y="2639"/>
                </a:lnTo>
                <a:lnTo>
                  <a:pt x="1842" y="2637"/>
                </a:lnTo>
                <a:lnTo>
                  <a:pt x="1834" y="2635"/>
                </a:lnTo>
                <a:lnTo>
                  <a:pt x="1825" y="2633"/>
                </a:lnTo>
                <a:lnTo>
                  <a:pt x="1818" y="2631"/>
                </a:lnTo>
                <a:lnTo>
                  <a:pt x="1811" y="2628"/>
                </a:lnTo>
                <a:lnTo>
                  <a:pt x="1805" y="2623"/>
                </a:lnTo>
                <a:lnTo>
                  <a:pt x="1800" y="2619"/>
                </a:lnTo>
                <a:lnTo>
                  <a:pt x="1799" y="2616"/>
                </a:lnTo>
                <a:lnTo>
                  <a:pt x="1797" y="2613"/>
                </a:lnTo>
                <a:lnTo>
                  <a:pt x="1797" y="2610"/>
                </a:lnTo>
                <a:lnTo>
                  <a:pt x="1796" y="2605"/>
                </a:lnTo>
                <a:lnTo>
                  <a:pt x="1797" y="2599"/>
                </a:lnTo>
                <a:lnTo>
                  <a:pt x="1799" y="2593"/>
                </a:lnTo>
                <a:lnTo>
                  <a:pt x="1802" y="2586"/>
                </a:lnTo>
                <a:lnTo>
                  <a:pt x="1806" y="2582"/>
                </a:lnTo>
                <a:lnTo>
                  <a:pt x="1816" y="2573"/>
                </a:lnTo>
                <a:lnTo>
                  <a:pt x="1826" y="2565"/>
                </a:lnTo>
                <a:lnTo>
                  <a:pt x="1838" y="2557"/>
                </a:lnTo>
                <a:lnTo>
                  <a:pt x="1848" y="2548"/>
                </a:lnTo>
                <a:lnTo>
                  <a:pt x="1852" y="2543"/>
                </a:lnTo>
                <a:lnTo>
                  <a:pt x="1855" y="2538"/>
                </a:lnTo>
                <a:lnTo>
                  <a:pt x="1857" y="2531"/>
                </a:lnTo>
                <a:lnTo>
                  <a:pt x="1857" y="2524"/>
                </a:lnTo>
                <a:lnTo>
                  <a:pt x="1857" y="2515"/>
                </a:lnTo>
                <a:lnTo>
                  <a:pt x="1855" y="2505"/>
                </a:lnTo>
                <a:lnTo>
                  <a:pt x="1852" y="2497"/>
                </a:lnTo>
                <a:lnTo>
                  <a:pt x="1848" y="2489"/>
                </a:lnTo>
                <a:lnTo>
                  <a:pt x="1836" y="2474"/>
                </a:lnTo>
                <a:lnTo>
                  <a:pt x="1823" y="2460"/>
                </a:lnTo>
                <a:lnTo>
                  <a:pt x="1816" y="2453"/>
                </a:lnTo>
                <a:lnTo>
                  <a:pt x="1806" y="2449"/>
                </a:lnTo>
                <a:lnTo>
                  <a:pt x="1803" y="2447"/>
                </a:lnTo>
                <a:lnTo>
                  <a:pt x="1799" y="2444"/>
                </a:lnTo>
                <a:lnTo>
                  <a:pt x="1797" y="2441"/>
                </a:lnTo>
                <a:lnTo>
                  <a:pt x="1796" y="2435"/>
                </a:lnTo>
                <a:lnTo>
                  <a:pt x="1797" y="2431"/>
                </a:lnTo>
                <a:lnTo>
                  <a:pt x="1798" y="2426"/>
                </a:lnTo>
                <a:lnTo>
                  <a:pt x="1799" y="2422"/>
                </a:lnTo>
                <a:lnTo>
                  <a:pt x="1801" y="2417"/>
                </a:lnTo>
                <a:lnTo>
                  <a:pt x="1805" y="2410"/>
                </a:lnTo>
                <a:lnTo>
                  <a:pt x="1812" y="2403"/>
                </a:lnTo>
                <a:lnTo>
                  <a:pt x="1828" y="2391"/>
                </a:lnTo>
                <a:lnTo>
                  <a:pt x="1844" y="2378"/>
                </a:lnTo>
                <a:lnTo>
                  <a:pt x="1853" y="2369"/>
                </a:lnTo>
                <a:lnTo>
                  <a:pt x="1859" y="2360"/>
                </a:lnTo>
                <a:lnTo>
                  <a:pt x="1863" y="2351"/>
                </a:lnTo>
                <a:lnTo>
                  <a:pt x="1868" y="2341"/>
                </a:lnTo>
                <a:lnTo>
                  <a:pt x="1872" y="2332"/>
                </a:lnTo>
                <a:lnTo>
                  <a:pt x="1877" y="2322"/>
                </a:lnTo>
                <a:lnTo>
                  <a:pt x="1884" y="2313"/>
                </a:lnTo>
                <a:lnTo>
                  <a:pt x="1892" y="2303"/>
                </a:lnTo>
                <a:lnTo>
                  <a:pt x="1901" y="2301"/>
                </a:lnTo>
                <a:lnTo>
                  <a:pt x="1912" y="2300"/>
                </a:lnTo>
                <a:lnTo>
                  <a:pt x="1923" y="2301"/>
                </a:lnTo>
                <a:lnTo>
                  <a:pt x="1931" y="2303"/>
                </a:lnTo>
                <a:lnTo>
                  <a:pt x="1938" y="2308"/>
                </a:lnTo>
                <a:lnTo>
                  <a:pt x="1946" y="2313"/>
                </a:lnTo>
                <a:lnTo>
                  <a:pt x="1952" y="2320"/>
                </a:lnTo>
                <a:lnTo>
                  <a:pt x="1956" y="2328"/>
                </a:lnTo>
                <a:lnTo>
                  <a:pt x="1961" y="2336"/>
                </a:lnTo>
                <a:lnTo>
                  <a:pt x="1964" y="2347"/>
                </a:lnTo>
                <a:lnTo>
                  <a:pt x="1967" y="2356"/>
                </a:lnTo>
                <a:lnTo>
                  <a:pt x="1969" y="2368"/>
                </a:lnTo>
                <a:lnTo>
                  <a:pt x="1970" y="2378"/>
                </a:lnTo>
                <a:lnTo>
                  <a:pt x="1971" y="2390"/>
                </a:lnTo>
                <a:lnTo>
                  <a:pt x="1973" y="2413"/>
                </a:lnTo>
                <a:lnTo>
                  <a:pt x="1973" y="2435"/>
                </a:lnTo>
                <a:lnTo>
                  <a:pt x="1972" y="2445"/>
                </a:lnTo>
                <a:lnTo>
                  <a:pt x="1972" y="2452"/>
                </a:lnTo>
                <a:lnTo>
                  <a:pt x="1970" y="2460"/>
                </a:lnTo>
                <a:lnTo>
                  <a:pt x="1968" y="2467"/>
                </a:lnTo>
                <a:lnTo>
                  <a:pt x="1963" y="2481"/>
                </a:lnTo>
                <a:lnTo>
                  <a:pt x="1956" y="2492"/>
                </a:lnTo>
                <a:lnTo>
                  <a:pt x="1948" y="2505"/>
                </a:lnTo>
                <a:lnTo>
                  <a:pt x="1941" y="2518"/>
                </a:lnTo>
                <a:lnTo>
                  <a:pt x="1933" y="2533"/>
                </a:lnTo>
                <a:lnTo>
                  <a:pt x="1926" y="2548"/>
                </a:lnTo>
                <a:lnTo>
                  <a:pt x="1938" y="2553"/>
                </a:lnTo>
                <a:lnTo>
                  <a:pt x="1950" y="2556"/>
                </a:lnTo>
                <a:lnTo>
                  <a:pt x="1963" y="2558"/>
                </a:lnTo>
                <a:lnTo>
                  <a:pt x="1976" y="2558"/>
                </a:lnTo>
                <a:lnTo>
                  <a:pt x="1976" y="2585"/>
                </a:lnTo>
                <a:lnTo>
                  <a:pt x="1978" y="2612"/>
                </a:lnTo>
                <a:lnTo>
                  <a:pt x="1979" y="2617"/>
                </a:lnTo>
                <a:lnTo>
                  <a:pt x="1981" y="2622"/>
                </a:lnTo>
                <a:lnTo>
                  <a:pt x="1983" y="2628"/>
                </a:lnTo>
                <a:lnTo>
                  <a:pt x="1985" y="2632"/>
                </a:lnTo>
                <a:lnTo>
                  <a:pt x="1989" y="2635"/>
                </a:lnTo>
                <a:lnTo>
                  <a:pt x="1993" y="2637"/>
                </a:lnTo>
                <a:lnTo>
                  <a:pt x="1998" y="2639"/>
                </a:lnTo>
                <a:lnTo>
                  <a:pt x="2004" y="2639"/>
                </a:lnTo>
                <a:lnTo>
                  <a:pt x="2010" y="2635"/>
                </a:lnTo>
                <a:lnTo>
                  <a:pt x="2018" y="2630"/>
                </a:lnTo>
                <a:lnTo>
                  <a:pt x="2022" y="2630"/>
                </a:lnTo>
                <a:lnTo>
                  <a:pt x="2025" y="2631"/>
                </a:lnTo>
                <a:lnTo>
                  <a:pt x="2029" y="2632"/>
                </a:lnTo>
                <a:lnTo>
                  <a:pt x="2031" y="2634"/>
                </a:lnTo>
                <a:lnTo>
                  <a:pt x="2037" y="2639"/>
                </a:lnTo>
                <a:lnTo>
                  <a:pt x="2041" y="2647"/>
                </a:lnTo>
                <a:lnTo>
                  <a:pt x="2047" y="2662"/>
                </a:lnTo>
                <a:lnTo>
                  <a:pt x="2055" y="2680"/>
                </a:lnTo>
                <a:lnTo>
                  <a:pt x="2065" y="2667"/>
                </a:lnTo>
                <a:lnTo>
                  <a:pt x="2065" y="2592"/>
                </a:lnTo>
                <a:lnTo>
                  <a:pt x="2071" y="2588"/>
                </a:lnTo>
                <a:lnTo>
                  <a:pt x="2078" y="2585"/>
                </a:lnTo>
                <a:lnTo>
                  <a:pt x="2086" y="2585"/>
                </a:lnTo>
                <a:lnTo>
                  <a:pt x="2094" y="2586"/>
                </a:lnTo>
                <a:lnTo>
                  <a:pt x="2101" y="2588"/>
                </a:lnTo>
                <a:lnTo>
                  <a:pt x="2108" y="2591"/>
                </a:lnTo>
                <a:lnTo>
                  <a:pt x="2115" y="2593"/>
                </a:lnTo>
                <a:lnTo>
                  <a:pt x="2122" y="2596"/>
                </a:lnTo>
                <a:lnTo>
                  <a:pt x="2129" y="2600"/>
                </a:lnTo>
                <a:lnTo>
                  <a:pt x="2135" y="2604"/>
                </a:lnTo>
                <a:lnTo>
                  <a:pt x="2140" y="2609"/>
                </a:lnTo>
                <a:lnTo>
                  <a:pt x="2144" y="2614"/>
                </a:lnTo>
                <a:lnTo>
                  <a:pt x="2150" y="2619"/>
                </a:lnTo>
                <a:lnTo>
                  <a:pt x="2153" y="2625"/>
                </a:lnTo>
                <a:lnTo>
                  <a:pt x="2156" y="2632"/>
                </a:lnTo>
                <a:lnTo>
                  <a:pt x="2158" y="2638"/>
                </a:lnTo>
                <a:lnTo>
                  <a:pt x="2159" y="2646"/>
                </a:lnTo>
                <a:lnTo>
                  <a:pt x="2160" y="2653"/>
                </a:lnTo>
                <a:lnTo>
                  <a:pt x="2159" y="2660"/>
                </a:lnTo>
                <a:lnTo>
                  <a:pt x="2159" y="2668"/>
                </a:lnTo>
                <a:lnTo>
                  <a:pt x="2157" y="2674"/>
                </a:lnTo>
                <a:lnTo>
                  <a:pt x="2156" y="2680"/>
                </a:lnTo>
                <a:lnTo>
                  <a:pt x="2151" y="2692"/>
                </a:lnTo>
                <a:lnTo>
                  <a:pt x="2145" y="2704"/>
                </a:lnTo>
                <a:lnTo>
                  <a:pt x="2139" y="2714"/>
                </a:lnTo>
                <a:lnTo>
                  <a:pt x="2133" y="2726"/>
                </a:lnTo>
                <a:lnTo>
                  <a:pt x="2127" y="2738"/>
                </a:lnTo>
                <a:lnTo>
                  <a:pt x="2122" y="2752"/>
                </a:lnTo>
                <a:lnTo>
                  <a:pt x="2118" y="2773"/>
                </a:lnTo>
                <a:lnTo>
                  <a:pt x="2115" y="2793"/>
                </a:lnTo>
                <a:lnTo>
                  <a:pt x="2113" y="2813"/>
                </a:lnTo>
                <a:lnTo>
                  <a:pt x="2112" y="2832"/>
                </a:lnTo>
                <a:lnTo>
                  <a:pt x="2111" y="2850"/>
                </a:lnTo>
                <a:lnTo>
                  <a:pt x="2106" y="2869"/>
                </a:lnTo>
                <a:lnTo>
                  <a:pt x="2104" y="2879"/>
                </a:lnTo>
                <a:lnTo>
                  <a:pt x="2101" y="2888"/>
                </a:lnTo>
                <a:lnTo>
                  <a:pt x="2097" y="2898"/>
                </a:lnTo>
                <a:lnTo>
                  <a:pt x="2092" y="2908"/>
                </a:lnTo>
                <a:lnTo>
                  <a:pt x="2086" y="2916"/>
                </a:lnTo>
                <a:lnTo>
                  <a:pt x="2080" y="2921"/>
                </a:lnTo>
                <a:lnTo>
                  <a:pt x="2073" y="2925"/>
                </a:lnTo>
                <a:lnTo>
                  <a:pt x="2065" y="2927"/>
                </a:lnTo>
                <a:lnTo>
                  <a:pt x="2047" y="2931"/>
                </a:lnTo>
                <a:lnTo>
                  <a:pt x="2027" y="2932"/>
                </a:lnTo>
                <a:lnTo>
                  <a:pt x="2018" y="2934"/>
                </a:lnTo>
                <a:lnTo>
                  <a:pt x="2008" y="2937"/>
                </a:lnTo>
                <a:lnTo>
                  <a:pt x="2001" y="2941"/>
                </a:lnTo>
                <a:lnTo>
                  <a:pt x="1992" y="2945"/>
                </a:lnTo>
                <a:lnTo>
                  <a:pt x="1985" y="2949"/>
                </a:lnTo>
                <a:lnTo>
                  <a:pt x="1976" y="2953"/>
                </a:lnTo>
                <a:lnTo>
                  <a:pt x="1968" y="2955"/>
                </a:lnTo>
                <a:lnTo>
                  <a:pt x="1957" y="2956"/>
                </a:lnTo>
                <a:lnTo>
                  <a:pt x="1952" y="2955"/>
                </a:lnTo>
                <a:lnTo>
                  <a:pt x="1947" y="2954"/>
                </a:lnTo>
                <a:lnTo>
                  <a:pt x="1942" y="2952"/>
                </a:lnTo>
                <a:lnTo>
                  <a:pt x="1938" y="2949"/>
                </a:lnTo>
                <a:lnTo>
                  <a:pt x="1931" y="2941"/>
                </a:lnTo>
                <a:lnTo>
                  <a:pt x="1925" y="2933"/>
                </a:lnTo>
                <a:lnTo>
                  <a:pt x="1918" y="2923"/>
                </a:lnTo>
                <a:lnTo>
                  <a:pt x="1912" y="2914"/>
                </a:lnTo>
                <a:lnTo>
                  <a:pt x="1909" y="2908"/>
                </a:lnTo>
                <a:lnTo>
                  <a:pt x="1905" y="2904"/>
                </a:lnTo>
                <a:lnTo>
                  <a:pt x="1900" y="2901"/>
                </a:lnTo>
                <a:lnTo>
                  <a:pt x="1895" y="2898"/>
                </a:lnTo>
                <a:lnTo>
                  <a:pt x="1892" y="2906"/>
                </a:lnTo>
                <a:lnTo>
                  <a:pt x="1889" y="2914"/>
                </a:lnTo>
                <a:lnTo>
                  <a:pt x="1885" y="2921"/>
                </a:lnTo>
                <a:lnTo>
                  <a:pt x="1880" y="2927"/>
                </a:lnTo>
                <a:lnTo>
                  <a:pt x="1875" y="2933"/>
                </a:lnTo>
                <a:lnTo>
                  <a:pt x="1869" y="2938"/>
                </a:lnTo>
                <a:lnTo>
                  <a:pt x="1862" y="2942"/>
                </a:lnTo>
                <a:lnTo>
                  <a:pt x="1854" y="2945"/>
                </a:lnTo>
                <a:lnTo>
                  <a:pt x="1856" y="2931"/>
                </a:lnTo>
                <a:lnTo>
                  <a:pt x="1857" y="2918"/>
                </a:lnTo>
                <a:lnTo>
                  <a:pt x="1856" y="2905"/>
                </a:lnTo>
                <a:lnTo>
                  <a:pt x="1854" y="2890"/>
                </a:lnTo>
                <a:lnTo>
                  <a:pt x="1842" y="2894"/>
                </a:lnTo>
                <a:lnTo>
                  <a:pt x="1832" y="2896"/>
                </a:lnTo>
                <a:lnTo>
                  <a:pt x="1822" y="2899"/>
                </a:lnTo>
                <a:lnTo>
                  <a:pt x="1813" y="2903"/>
                </a:lnTo>
                <a:lnTo>
                  <a:pt x="1796" y="2911"/>
                </a:lnTo>
                <a:lnTo>
                  <a:pt x="1780" y="2921"/>
                </a:lnTo>
                <a:lnTo>
                  <a:pt x="1748" y="2942"/>
                </a:lnTo>
                <a:lnTo>
                  <a:pt x="1711" y="2965"/>
                </a:lnTo>
                <a:lnTo>
                  <a:pt x="1756" y="2700"/>
                </a:lnTo>
                <a:close/>
                <a:moveTo>
                  <a:pt x="2655" y="2382"/>
                </a:moveTo>
                <a:lnTo>
                  <a:pt x="2644" y="2383"/>
                </a:lnTo>
                <a:lnTo>
                  <a:pt x="2633" y="2385"/>
                </a:lnTo>
                <a:lnTo>
                  <a:pt x="2624" y="2390"/>
                </a:lnTo>
                <a:lnTo>
                  <a:pt x="2614" y="2395"/>
                </a:lnTo>
                <a:lnTo>
                  <a:pt x="2607" y="2403"/>
                </a:lnTo>
                <a:lnTo>
                  <a:pt x="2601" y="2411"/>
                </a:lnTo>
                <a:lnTo>
                  <a:pt x="2595" y="2422"/>
                </a:lnTo>
                <a:lnTo>
                  <a:pt x="2591" y="2432"/>
                </a:lnTo>
                <a:lnTo>
                  <a:pt x="2544" y="2432"/>
                </a:lnTo>
                <a:lnTo>
                  <a:pt x="2544" y="2467"/>
                </a:lnTo>
                <a:lnTo>
                  <a:pt x="2545" y="2479"/>
                </a:lnTo>
                <a:lnTo>
                  <a:pt x="2546" y="2488"/>
                </a:lnTo>
                <a:lnTo>
                  <a:pt x="2549" y="2499"/>
                </a:lnTo>
                <a:lnTo>
                  <a:pt x="2552" y="2507"/>
                </a:lnTo>
                <a:lnTo>
                  <a:pt x="2559" y="2525"/>
                </a:lnTo>
                <a:lnTo>
                  <a:pt x="2569" y="2542"/>
                </a:lnTo>
                <a:lnTo>
                  <a:pt x="2578" y="2558"/>
                </a:lnTo>
                <a:lnTo>
                  <a:pt x="2587" y="2576"/>
                </a:lnTo>
                <a:lnTo>
                  <a:pt x="2590" y="2584"/>
                </a:lnTo>
                <a:lnTo>
                  <a:pt x="2592" y="2595"/>
                </a:lnTo>
                <a:lnTo>
                  <a:pt x="2594" y="2604"/>
                </a:lnTo>
                <a:lnTo>
                  <a:pt x="2594" y="2616"/>
                </a:lnTo>
                <a:lnTo>
                  <a:pt x="2592" y="2627"/>
                </a:lnTo>
                <a:lnTo>
                  <a:pt x="2588" y="2636"/>
                </a:lnTo>
                <a:lnTo>
                  <a:pt x="2582" y="2634"/>
                </a:lnTo>
                <a:lnTo>
                  <a:pt x="2576" y="2631"/>
                </a:lnTo>
                <a:lnTo>
                  <a:pt x="2571" y="2627"/>
                </a:lnTo>
                <a:lnTo>
                  <a:pt x="2567" y="2622"/>
                </a:lnTo>
                <a:lnTo>
                  <a:pt x="2559" y="2613"/>
                </a:lnTo>
                <a:lnTo>
                  <a:pt x="2554" y="2603"/>
                </a:lnTo>
                <a:lnTo>
                  <a:pt x="2545" y="2580"/>
                </a:lnTo>
                <a:lnTo>
                  <a:pt x="2534" y="2555"/>
                </a:lnTo>
                <a:lnTo>
                  <a:pt x="2522" y="2544"/>
                </a:lnTo>
                <a:lnTo>
                  <a:pt x="2510" y="2535"/>
                </a:lnTo>
                <a:lnTo>
                  <a:pt x="2502" y="2523"/>
                </a:lnTo>
                <a:lnTo>
                  <a:pt x="2496" y="2511"/>
                </a:lnTo>
                <a:lnTo>
                  <a:pt x="2491" y="2501"/>
                </a:lnTo>
                <a:lnTo>
                  <a:pt x="2486" y="2489"/>
                </a:lnTo>
                <a:lnTo>
                  <a:pt x="2482" y="2479"/>
                </a:lnTo>
                <a:lnTo>
                  <a:pt x="2476" y="2468"/>
                </a:lnTo>
                <a:lnTo>
                  <a:pt x="2473" y="2463"/>
                </a:lnTo>
                <a:lnTo>
                  <a:pt x="2469" y="2459"/>
                </a:lnTo>
                <a:lnTo>
                  <a:pt x="2464" y="2453"/>
                </a:lnTo>
                <a:lnTo>
                  <a:pt x="2459" y="2449"/>
                </a:lnTo>
                <a:lnTo>
                  <a:pt x="2455" y="2453"/>
                </a:lnTo>
                <a:lnTo>
                  <a:pt x="2451" y="2458"/>
                </a:lnTo>
                <a:lnTo>
                  <a:pt x="2447" y="2463"/>
                </a:lnTo>
                <a:lnTo>
                  <a:pt x="2445" y="2467"/>
                </a:lnTo>
                <a:lnTo>
                  <a:pt x="2441" y="2477"/>
                </a:lnTo>
                <a:lnTo>
                  <a:pt x="2439" y="2487"/>
                </a:lnTo>
                <a:lnTo>
                  <a:pt x="2438" y="2510"/>
                </a:lnTo>
                <a:lnTo>
                  <a:pt x="2438" y="2535"/>
                </a:lnTo>
                <a:lnTo>
                  <a:pt x="2439" y="2541"/>
                </a:lnTo>
                <a:lnTo>
                  <a:pt x="2440" y="2546"/>
                </a:lnTo>
                <a:lnTo>
                  <a:pt x="2442" y="2552"/>
                </a:lnTo>
                <a:lnTo>
                  <a:pt x="2444" y="2557"/>
                </a:lnTo>
                <a:lnTo>
                  <a:pt x="2452" y="2566"/>
                </a:lnTo>
                <a:lnTo>
                  <a:pt x="2459" y="2575"/>
                </a:lnTo>
                <a:lnTo>
                  <a:pt x="2466" y="2584"/>
                </a:lnTo>
                <a:lnTo>
                  <a:pt x="2473" y="2593"/>
                </a:lnTo>
                <a:lnTo>
                  <a:pt x="2475" y="2598"/>
                </a:lnTo>
                <a:lnTo>
                  <a:pt x="2477" y="2603"/>
                </a:lnTo>
                <a:lnTo>
                  <a:pt x="2479" y="2610"/>
                </a:lnTo>
                <a:lnTo>
                  <a:pt x="2479" y="2616"/>
                </a:lnTo>
                <a:lnTo>
                  <a:pt x="2478" y="2624"/>
                </a:lnTo>
                <a:lnTo>
                  <a:pt x="2477" y="2633"/>
                </a:lnTo>
                <a:lnTo>
                  <a:pt x="2474" y="2640"/>
                </a:lnTo>
                <a:lnTo>
                  <a:pt x="2470" y="2648"/>
                </a:lnTo>
                <a:lnTo>
                  <a:pt x="2464" y="2654"/>
                </a:lnTo>
                <a:lnTo>
                  <a:pt x="2459" y="2659"/>
                </a:lnTo>
                <a:lnTo>
                  <a:pt x="2453" y="2665"/>
                </a:lnTo>
                <a:lnTo>
                  <a:pt x="2445" y="2670"/>
                </a:lnTo>
                <a:lnTo>
                  <a:pt x="2435" y="2652"/>
                </a:lnTo>
                <a:lnTo>
                  <a:pt x="2426" y="2635"/>
                </a:lnTo>
                <a:lnTo>
                  <a:pt x="2420" y="2618"/>
                </a:lnTo>
                <a:lnTo>
                  <a:pt x="2415" y="2602"/>
                </a:lnTo>
                <a:lnTo>
                  <a:pt x="2406" y="2567"/>
                </a:lnTo>
                <a:lnTo>
                  <a:pt x="2398" y="2527"/>
                </a:lnTo>
                <a:lnTo>
                  <a:pt x="2396" y="2520"/>
                </a:lnTo>
                <a:lnTo>
                  <a:pt x="2393" y="2512"/>
                </a:lnTo>
                <a:lnTo>
                  <a:pt x="2388" y="2506"/>
                </a:lnTo>
                <a:lnTo>
                  <a:pt x="2384" y="2500"/>
                </a:lnTo>
                <a:lnTo>
                  <a:pt x="2379" y="2495"/>
                </a:lnTo>
                <a:lnTo>
                  <a:pt x="2372" y="2490"/>
                </a:lnTo>
                <a:lnTo>
                  <a:pt x="2367" y="2486"/>
                </a:lnTo>
                <a:lnTo>
                  <a:pt x="2360" y="2482"/>
                </a:lnTo>
                <a:lnTo>
                  <a:pt x="2353" y="2479"/>
                </a:lnTo>
                <a:lnTo>
                  <a:pt x="2346" y="2477"/>
                </a:lnTo>
                <a:lnTo>
                  <a:pt x="2339" y="2474"/>
                </a:lnTo>
                <a:lnTo>
                  <a:pt x="2330" y="2472"/>
                </a:lnTo>
                <a:lnTo>
                  <a:pt x="2314" y="2470"/>
                </a:lnTo>
                <a:lnTo>
                  <a:pt x="2297" y="2470"/>
                </a:lnTo>
                <a:lnTo>
                  <a:pt x="2289" y="2470"/>
                </a:lnTo>
                <a:lnTo>
                  <a:pt x="2282" y="2472"/>
                </a:lnTo>
                <a:lnTo>
                  <a:pt x="2274" y="2477"/>
                </a:lnTo>
                <a:lnTo>
                  <a:pt x="2268" y="2481"/>
                </a:lnTo>
                <a:lnTo>
                  <a:pt x="2263" y="2487"/>
                </a:lnTo>
                <a:lnTo>
                  <a:pt x="2258" y="2493"/>
                </a:lnTo>
                <a:lnTo>
                  <a:pt x="2256" y="2501"/>
                </a:lnTo>
                <a:lnTo>
                  <a:pt x="2255" y="2509"/>
                </a:lnTo>
                <a:lnTo>
                  <a:pt x="2256" y="2519"/>
                </a:lnTo>
                <a:lnTo>
                  <a:pt x="2258" y="2527"/>
                </a:lnTo>
                <a:lnTo>
                  <a:pt x="2262" y="2535"/>
                </a:lnTo>
                <a:lnTo>
                  <a:pt x="2267" y="2541"/>
                </a:lnTo>
                <a:lnTo>
                  <a:pt x="2273" y="2547"/>
                </a:lnTo>
                <a:lnTo>
                  <a:pt x="2280" y="2552"/>
                </a:lnTo>
                <a:lnTo>
                  <a:pt x="2288" y="2557"/>
                </a:lnTo>
                <a:lnTo>
                  <a:pt x="2296" y="2560"/>
                </a:lnTo>
                <a:lnTo>
                  <a:pt x="2314" y="2568"/>
                </a:lnTo>
                <a:lnTo>
                  <a:pt x="2333" y="2576"/>
                </a:lnTo>
                <a:lnTo>
                  <a:pt x="2343" y="2580"/>
                </a:lnTo>
                <a:lnTo>
                  <a:pt x="2352" y="2584"/>
                </a:lnTo>
                <a:lnTo>
                  <a:pt x="2362" y="2590"/>
                </a:lnTo>
                <a:lnTo>
                  <a:pt x="2370" y="2596"/>
                </a:lnTo>
                <a:lnTo>
                  <a:pt x="2377" y="2601"/>
                </a:lnTo>
                <a:lnTo>
                  <a:pt x="2382" y="2606"/>
                </a:lnTo>
                <a:lnTo>
                  <a:pt x="2386" y="2613"/>
                </a:lnTo>
                <a:lnTo>
                  <a:pt x="2390" y="2619"/>
                </a:lnTo>
                <a:lnTo>
                  <a:pt x="2393" y="2625"/>
                </a:lnTo>
                <a:lnTo>
                  <a:pt x="2395" y="2632"/>
                </a:lnTo>
                <a:lnTo>
                  <a:pt x="2397" y="2639"/>
                </a:lnTo>
                <a:lnTo>
                  <a:pt x="2398" y="2647"/>
                </a:lnTo>
                <a:lnTo>
                  <a:pt x="2399" y="2677"/>
                </a:lnTo>
                <a:lnTo>
                  <a:pt x="2398" y="2710"/>
                </a:lnTo>
                <a:lnTo>
                  <a:pt x="2398" y="2786"/>
                </a:lnTo>
                <a:lnTo>
                  <a:pt x="2417" y="2786"/>
                </a:lnTo>
                <a:lnTo>
                  <a:pt x="2423" y="2785"/>
                </a:lnTo>
                <a:lnTo>
                  <a:pt x="2429" y="2784"/>
                </a:lnTo>
                <a:lnTo>
                  <a:pt x="2435" y="2781"/>
                </a:lnTo>
                <a:lnTo>
                  <a:pt x="2439" y="2778"/>
                </a:lnTo>
                <a:lnTo>
                  <a:pt x="2447" y="2769"/>
                </a:lnTo>
                <a:lnTo>
                  <a:pt x="2455" y="2761"/>
                </a:lnTo>
                <a:lnTo>
                  <a:pt x="2462" y="2751"/>
                </a:lnTo>
                <a:lnTo>
                  <a:pt x="2471" y="2743"/>
                </a:lnTo>
                <a:lnTo>
                  <a:pt x="2476" y="2739"/>
                </a:lnTo>
                <a:lnTo>
                  <a:pt x="2481" y="2737"/>
                </a:lnTo>
                <a:lnTo>
                  <a:pt x="2486" y="2735"/>
                </a:lnTo>
                <a:lnTo>
                  <a:pt x="2493" y="2735"/>
                </a:lnTo>
                <a:lnTo>
                  <a:pt x="2498" y="2735"/>
                </a:lnTo>
                <a:lnTo>
                  <a:pt x="2503" y="2736"/>
                </a:lnTo>
                <a:lnTo>
                  <a:pt x="2508" y="2738"/>
                </a:lnTo>
                <a:lnTo>
                  <a:pt x="2512" y="2739"/>
                </a:lnTo>
                <a:lnTo>
                  <a:pt x="2516" y="2742"/>
                </a:lnTo>
                <a:lnTo>
                  <a:pt x="2520" y="2744"/>
                </a:lnTo>
                <a:lnTo>
                  <a:pt x="2525" y="2745"/>
                </a:lnTo>
                <a:lnTo>
                  <a:pt x="2530" y="2745"/>
                </a:lnTo>
                <a:lnTo>
                  <a:pt x="2541" y="2744"/>
                </a:lnTo>
                <a:lnTo>
                  <a:pt x="2551" y="2742"/>
                </a:lnTo>
                <a:lnTo>
                  <a:pt x="2559" y="2737"/>
                </a:lnTo>
                <a:lnTo>
                  <a:pt x="2568" y="2732"/>
                </a:lnTo>
                <a:lnTo>
                  <a:pt x="2576" y="2728"/>
                </a:lnTo>
                <a:lnTo>
                  <a:pt x="2585" y="2723"/>
                </a:lnTo>
                <a:lnTo>
                  <a:pt x="2594" y="2718"/>
                </a:lnTo>
                <a:lnTo>
                  <a:pt x="2605" y="2714"/>
                </a:lnTo>
                <a:lnTo>
                  <a:pt x="2609" y="2725"/>
                </a:lnTo>
                <a:lnTo>
                  <a:pt x="2611" y="2736"/>
                </a:lnTo>
                <a:lnTo>
                  <a:pt x="2611" y="2742"/>
                </a:lnTo>
                <a:lnTo>
                  <a:pt x="2610" y="2747"/>
                </a:lnTo>
                <a:lnTo>
                  <a:pt x="2608" y="2750"/>
                </a:lnTo>
                <a:lnTo>
                  <a:pt x="2605" y="2754"/>
                </a:lnTo>
                <a:lnTo>
                  <a:pt x="2597" y="2760"/>
                </a:lnTo>
                <a:lnTo>
                  <a:pt x="2588" y="2764"/>
                </a:lnTo>
                <a:lnTo>
                  <a:pt x="2578" y="2768"/>
                </a:lnTo>
                <a:lnTo>
                  <a:pt x="2568" y="2773"/>
                </a:lnTo>
                <a:lnTo>
                  <a:pt x="2564" y="2775"/>
                </a:lnTo>
                <a:lnTo>
                  <a:pt x="2558" y="2779"/>
                </a:lnTo>
                <a:lnTo>
                  <a:pt x="2554" y="2782"/>
                </a:lnTo>
                <a:lnTo>
                  <a:pt x="2551" y="2786"/>
                </a:lnTo>
                <a:lnTo>
                  <a:pt x="2544" y="2795"/>
                </a:lnTo>
                <a:lnTo>
                  <a:pt x="2538" y="2805"/>
                </a:lnTo>
                <a:lnTo>
                  <a:pt x="2533" y="2816"/>
                </a:lnTo>
                <a:lnTo>
                  <a:pt x="2527" y="2826"/>
                </a:lnTo>
                <a:lnTo>
                  <a:pt x="2539" y="2831"/>
                </a:lnTo>
                <a:lnTo>
                  <a:pt x="2551" y="2837"/>
                </a:lnTo>
                <a:lnTo>
                  <a:pt x="2556" y="2840"/>
                </a:lnTo>
                <a:lnTo>
                  <a:pt x="2560" y="2843"/>
                </a:lnTo>
                <a:lnTo>
                  <a:pt x="2564" y="2847"/>
                </a:lnTo>
                <a:lnTo>
                  <a:pt x="2564" y="2854"/>
                </a:lnTo>
                <a:lnTo>
                  <a:pt x="2560" y="2867"/>
                </a:lnTo>
                <a:lnTo>
                  <a:pt x="2557" y="2881"/>
                </a:lnTo>
                <a:lnTo>
                  <a:pt x="2557" y="2886"/>
                </a:lnTo>
                <a:lnTo>
                  <a:pt x="2558" y="2892"/>
                </a:lnTo>
                <a:lnTo>
                  <a:pt x="2560" y="2897"/>
                </a:lnTo>
                <a:lnTo>
                  <a:pt x="2563" y="2901"/>
                </a:lnTo>
                <a:lnTo>
                  <a:pt x="2566" y="2904"/>
                </a:lnTo>
                <a:lnTo>
                  <a:pt x="2570" y="2908"/>
                </a:lnTo>
                <a:lnTo>
                  <a:pt x="2574" y="2912"/>
                </a:lnTo>
                <a:lnTo>
                  <a:pt x="2578" y="2914"/>
                </a:lnTo>
                <a:lnTo>
                  <a:pt x="2588" y="2919"/>
                </a:lnTo>
                <a:lnTo>
                  <a:pt x="2598" y="2923"/>
                </a:lnTo>
                <a:lnTo>
                  <a:pt x="2610" y="2926"/>
                </a:lnTo>
                <a:lnTo>
                  <a:pt x="2622" y="2929"/>
                </a:lnTo>
                <a:lnTo>
                  <a:pt x="2630" y="2931"/>
                </a:lnTo>
                <a:lnTo>
                  <a:pt x="2639" y="2935"/>
                </a:lnTo>
                <a:lnTo>
                  <a:pt x="2645" y="2939"/>
                </a:lnTo>
                <a:lnTo>
                  <a:pt x="2652" y="2944"/>
                </a:lnTo>
                <a:lnTo>
                  <a:pt x="2659" y="2949"/>
                </a:lnTo>
                <a:lnTo>
                  <a:pt x="2666" y="2952"/>
                </a:lnTo>
                <a:lnTo>
                  <a:pt x="2674" y="2955"/>
                </a:lnTo>
                <a:lnTo>
                  <a:pt x="2683" y="2956"/>
                </a:lnTo>
                <a:lnTo>
                  <a:pt x="2692" y="2955"/>
                </a:lnTo>
                <a:lnTo>
                  <a:pt x="2702" y="2954"/>
                </a:lnTo>
                <a:lnTo>
                  <a:pt x="2711" y="2952"/>
                </a:lnTo>
                <a:lnTo>
                  <a:pt x="2720" y="2949"/>
                </a:lnTo>
                <a:lnTo>
                  <a:pt x="2728" y="2944"/>
                </a:lnTo>
                <a:lnTo>
                  <a:pt x="2736" y="2939"/>
                </a:lnTo>
                <a:lnTo>
                  <a:pt x="2743" y="2934"/>
                </a:lnTo>
                <a:lnTo>
                  <a:pt x="2750" y="2927"/>
                </a:lnTo>
                <a:lnTo>
                  <a:pt x="2757" y="2921"/>
                </a:lnTo>
                <a:lnTo>
                  <a:pt x="2762" y="2914"/>
                </a:lnTo>
                <a:lnTo>
                  <a:pt x="2766" y="2906"/>
                </a:lnTo>
                <a:lnTo>
                  <a:pt x="2771" y="2898"/>
                </a:lnTo>
                <a:lnTo>
                  <a:pt x="2774" y="2888"/>
                </a:lnTo>
                <a:lnTo>
                  <a:pt x="2776" y="2880"/>
                </a:lnTo>
                <a:lnTo>
                  <a:pt x="2778" y="2870"/>
                </a:lnTo>
                <a:lnTo>
                  <a:pt x="2778" y="2861"/>
                </a:lnTo>
                <a:lnTo>
                  <a:pt x="2778" y="2850"/>
                </a:lnTo>
                <a:lnTo>
                  <a:pt x="2777" y="2842"/>
                </a:lnTo>
                <a:lnTo>
                  <a:pt x="2776" y="2833"/>
                </a:lnTo>
                <a:lnTo>
                  <a:pt x="2774" y="2826"/>
                </a:lnTo>
                <a:lnTo>
                  <a:pt x="2768" y="2810"/>
                </a:lnTo>
                <a:lnTo>
                  <a:pt x="2761" y="2792"/>
                </a:lnTo>
                <a:lnTo>
                  <a:pt x="2771" y="2791"/>
                </a:lnTo>
                <a:lnTo>
                  <a:pt x="2780" y="2788"/>
                </a:lnTo>
                <a:lnTo>
                  <a:pt x="2789" y="2785"/>
                </a:lnTo>
                <a:lnTo>
                  <a:pt x="2796" y="2781"/>
                </a:lnTo>
                <a:lnTo>
                  <a:pt x="2802" y="2775"/>
                </a:lnTo>
                <a:lnTo>
                  <a:pt x="2808" y="2768"/>
                </a:lnTo>
                <a:lnTo>
                  <a:pt x="2810" y="2765"/>
                </a:lnTo>
                <a:lnTo>
                  <a:pt x="2811" y="2761"/>
                </a:lnTo>
                <a:lnTo>
                  <a:pt x="2812" y="2756"/>
                </a:lnTo>
                <a:lnTo>
                  <a:pt x="2812" y="2752"/>
                </a:lnTo>
                <a:lnTo>
                  <a:pt x="2812" y="2744"/>
                </a:lnTo>
                <a:lnTo>
                  <a:pt x="2811" y="2736"/>
                </a:lnTo>
                <a:lnTo>
                  <a:pt x="2809" y="2730"/>
                </a:lnTo>
                <a:lnTo>
                  <a:pt x="2806" y="2723"/>
                </a:lnTo>
                <a:lnTo>
                  <a:pt x="2801" y="2711"/>
                </a:lnTo>
                <a:lnTo>
                  <a:pt x="2795" y="2698"/>
                </a:lnTo>
                <a:lnTo>
                  <a:pt x="2789" y="2687"/>
                </a:lnTo>
                <a:lnTo>
                  <a:pt x="2783" y="2674"/>
                </a:lnTo>
                <a:lnTo>
                  <a:pt x="2781" y="2668"/>
                </a:lnTo>
                <a:lnTo>
                  <a:pt x="2779" y="2660"/>
                </a:lnTo>
                <a:lnTo>
                  <a:pt x="2778" y="2654"/>
                </a:lnTo>
                <a:lnTo>
                  <a:pt x="2778" y="2646"/>
                </a:lnTo>
                <a:lnTo>
                  <a:pt x="2778" y="2576"/>
                </a:lnTo>
                <a:lnTo>
                  <a:pt x="2778" y="2568"/>
                </a:lnTo>
                <a:lnTo>
                  <a:pt x="2777" y="2561"/>
                </a:lnTo>
                <a:lnTo>
                  <a:pt x="2776" y="2554"/>
                </a:lnTo>
                <a:lnTo>
                  <a:pt x="2774" y="2547"/>
                </a:lnTo>
                <a:lnTo>
                  <a:pt x="2768" y="2535"/>
                </a:lnTo>
                <a:lnTo>
                  <a:pt x="2762" y="2524"/>
                </a:lnTo>
                <a:lnTo>
                  <a:pt x="2756" y="2512"/>
                </a:lnTo>
                <a:lnTo>
                  <a:pt x="2749" y="2501"/>
                </a:lnTo>
                <a:lnTo>
                  <a:pt x="2743" y="2487"/>
                </a:lnTo>
                <a:lnTo>
                  <a:pt x="2738" y="2473"/>
                </a:lnTo>
                <a:lnTo>
                  <a:pt x="2731" y="2456"/>
                </a:lnTo>
                <a:lnTo>
                  <a:pt x="2725" y="2440"/>
                </a:lnTo>
                <a:lnTo>
                  <a:pt x="2718" y="2425"/>
                </a:lnTo>
                <a:lnTo>
                  <a:pt x="2709" y="2410"/>
                </a:lnTo>
                <a:lnTo>
                  <a:pt x="2704" y="2405"/>
                </a:lnTo>
                <a:lnTo>
                  <a:pt x="2699" y="2398"/>
                </a:lnTo>
                <a:lnTo>
                  <a:pt x="2693" y="2394"/>
                </a:lnTo>
                <a:lnTo>
                  <a:pt x="2687" y="2390"/>
                </a:lnTo>
                <a:lnTo>
                  <a:pt x="2680" y="2386"/>
                </a:lnTo>
                <a:lnTo>
                  <a:pt x="2672" y="2384"/>
                </a:lnTo>
                <a:lnTo>
                  <a:pt x="2664" y="2382"/>
                </a:lnTo>
                <a:lnTo>
                  <a:pt x="2655" y="2382"/>
                </a:lnTo>
                <a:close/>
                <a:moveTo>
                  <a:pt x="3043" y="2731"/>
                </a:moveTo>
                <a:lnTo>
                  <a:pt x="3034" y="2735"/>
                </a:lnTo>
                <a:lnTo>
                  <a:pt x="3026" y="2739"/>
                </a:lnTo>
                <a:lnTo>
                  <a:pt x="3018" y="2745"/>
                </a:lnTo>
                <a:lnTo>
                  <a:pt x="3011" y="2749"/>
                </a:lnTo>
                <a:lnTo>
                  <a:pt x="2999" y="2761"/>
                </a:lnTo>
                <a:lnTo>
                  <a:pt x="2987" y="2772"/>
                </a:lnTo>
                <a:lnTo>
                  <a:pt x="2978" y="2786"/>
                </a:lnTo>
                <a:lnTo>
                  <a:pt x="2968" y="2801"/>
                </a:lnTo>
                <a:lnTo>
                  <a:pt x="2957" y="2817"/>
                </a:lnTo>
                <a:lnTo>
                  <a:pt x="2948" y="2833"/>
                </a:lnTo>
                <a:lnTo>
                  <a:pt x="2933" y="2852"/>
                </a:lnTo>
                <a:lnTo>
                  <a:pt x="2917" y="2870"/>
                </a:lnTo>
                <a:lnTo>
                  <a:pt x="2911" y="2879"/>
                </a:lnTo>
                <a:lnTo>
                  <a:pt x="2906" y="2888"/>
                </a:lnTo>
                <a:lnTo>
                  <a:pt x="2904" y="2894"/>
                </a:lnTo>
                <a:lnTo>
                  <a:pt x="2902" y="2899"/>
                </a:lnTo>
                <a:lnTo>
                  <a:pt x="2900" y="2905"/>
                </a:lnTo>
                <a:lnTo>
                  <a:pt x="2900" y="2912"/>
                </a:lnTo>
                <a:lnTo>
                  <a:pt x="2902" y="2923"/>
                </a:lnTo>
                <a:lnTo>
                  <a:pt x="2904" y="2934"/>
                </a:lnTo>
                <a:lnTo>
                  <a:pt x="2908" y="2943"/>
                </a:lnTo>
                <a:lnTo>
                  <a:pt x="2913" y="2952"/>
                </a:lnTo>
                <a:lnTo>
                  <a:pt x="2921" y="2959"/>
                </a:lnTo>
                <a:lnTo>
                  <a:pt x="2928" y="2967"/>
                </a:lnTo>
                <a:lnTo>
                  <a:pt x="2936" y="2973"/>
                </a:lnTo>
                <a:lnTo>
                  <a:pt x="2946" y="2978"/>
                </a:lnTo>
                <a:lnTo>
                  <a:pt x="2966" y="2990"/>
                </a:lnTo>
                <a:lnTo>
                  <a:pt x="2988" y="3000"/>
                </a:lnTo>
                <a:lnTo>
                  <a:pt x="2999" y="3007"/>
                </a:lnTo>
                <a:lnTo>
                  <a:pt x="3009" y="3013"/>
                </a:lnTo>
                <a:lnTo>
                  <a:pt x="3020" y="3019"/>
                </a:lnTo>
                <a:lnTo>
                  <a:pt x="3029" y="3027"/>
                </a:lnTo>
                <a:lnTo>
                  <a:pt x="3048" y="3044"/>
                </a:lnTo>
                <a:lnTo>
                  <a:pt x="3066" y="3057"/>
                </a:lnTo>
                <a:lnTo>
                  <a:pt x="3077" y="3063"/>
                </a:lnTo>
                <a:lnTo>
                  <a:pt x="3086" y="3067"/>
                </a:lnTo>
                <a:lnTo>
                  <a:pt x="3098" y="3070"/>
                </a:lnTo>
                <a:lnTo>
                  <a:pt x="3111" y="3071"/>
                </a:lnTo>
                <a:lnTo>
                  <a:pt x="3124" y="3071"/>
                </a:lnTo>
                <a:lnTo>
                  <a:pt x="3137" y="3070"/>
                </a:lnTo>
                <a:lnTo>
                  <a:pt x="3151" y="3069"/>
                </a:lnTo>
                <a:lnTo>
                  <a:pt x="3162" y="3066"/>
                </a:lnTo>
                <a:lnTo>
                  <a:pt x="3168" y="3064"/>
                </a:lnTo>
                <a:lnTo>
                  <a:pt x="3173" y="3062"/>
                </a:lnTo>
                <a:lnTo>
                  <a:pt x="3177" y="3059"/>
                </a:lnTo>
                <a:lnTo>
                  <a:pt x="3181" y="3055"/>
                </a:lnTo>
                <a:lnTo>
                  <a:pt x="3185" y="3052"/>
                </a:lnTo>
                <a:lnTo>
                  <a:pt x="3187" y="3047"/>
                </a:lnTo>
                <a:lnTo>
                  <a:pt x="3189" y="3043"/>
                </a:lnTo>
                <a:lnTo>
                  <a:pt x="3189" y="3036"/>
                </a:lnTo>
                <a:lnTo>
                  <a:pt x="3189" y="2956"/>
                </a:lnTo>
                <a:lnTo>
                  <a:pt x="3188" y="2938"/>
                </a:lnTo>
                <a:lnTo>
                  <a:pt x="3186" y="2921"/>
                </a:lnTo>
                <a:lnTo>
                  <a:pt x="3181" y="2906"/>
                </a:lnTo>
                <a:lnTo>
                  <a:pt x="3176" y="2892"/>
                </a:lnTo>
                <a:lnTo>
                  <a:pt x="3163" y="2862"/>
                </a:lnTo>
                <a:lnTo>
                  <a:pt x="3149" y="2830"/>
                </a:lnTo>
                <a:lnTo>
                  <a:pt x="3140" y="2812"/>
                </a:lnTo>
                <a:lnTo>
                  <a:pt x="3131" y="2797"/>
                </a:lnTo>
                <a:lnTo>
                  <a:pt x="3120" y="2782"/>
                </a:lnTo>
                <a:lnTo>
                  <a:pt x="3107" y="2768"/>
                </a:lnTo>
                <a:lnTo>
                  <a:pt x="3094" y="2756"/>
                </a:lnTo>
                <a:lnTo>
                  <a:pt x="3078" y="2747"/>
                </a:lnTo>
                <a:lnTo>
                  <a:pt x="3061" y="2738"/>
                </a:lnTo>
                <a:lnTo>
                  <a:pt x="3043" y="2731"/>
                </a:lnTo>
                <a:close/>
                <a:moveTo>
                  <a:pt x="3250" y="2351"/>
                </a:moveTo>
                <a:lnTo>
                  <a:pt x="3232" y="2355"/>
                </a:lnTo>
                <a:lnTo>
                  <a:pt x="3214" y="2360"/>
                </a:lnTo>
                <a:lnTo>
                  <a:pt x="3206" y="2364"/>
                </a:lnTo>
                <a:lnTo>
                  <a:pt x="3197" y="2368"/>
                </a:lnTo>
                <a:lnTo>
                  <a:pt x="3190" y="2372"/>
                </a:lnTo>
                <a:lnTo>
                  <a:pt x="3182" y="2376"/>
                </a:lnTo>
                <a:lnTo>
                  <a:pt x="3176" y="2382"/>
                </a:lnTo>
                <a:lnTo>
                  <a:pt x="3170" y="2387"/>
                </a:lnTo>
                <a:lnTo>
                  <a:pt x="3164" y="2393"/>
                </a:lnTo>
                <a:lnTo>
                  <a:pt x="3160" y="2399"/>
                </a:lnTo>
                <a:lnTo>
                  <a:pt x="3156" y="2407"/>
                </a:lnTo>
                <a:lnTo>
                  <a:pt x="3154" y="2415"/>
                </a:lnTo>
                <a:lnTo>
                  <a:pt x="3152" y="2424"/>
                </a:lnTo>
                <a:lnTo>
                  <a:pt x="3152" y="2432"/>
                </a:lnTo>
                <a:lnTo>
                  <a:pt x="3153" y="2442"/>
                </a:lnTo>
                <a:lnTo>
                  <a:pt x="3155" y="2449"/>
                </a:lnTo>
                <a:lnTo>
                  <a:pt x="3159" y="2455"/>
                </a:lnTo>
                <a:lnTo>
                  <a:pt x="3163" y="2462"/>
                </a:lnTo>
                <a:lnTo>
                  <a:pt x="3169" y="2468"/>
                </a:lnTo>
                <a:lnTo>
                  <a:pt x="3174" y="2476"/>
                </a:lnTo>
                <a:lnTo>
                  <a:pt x="3178" y="2482"/>
                </a:lnTo>
                <a:lnTo>
                  <a:pt x="3182" y="2490"/>
                </a:lnTo>
                <a:lnTo>
                  <a:pt x="3189" y="2508"/>
                </a:lnTo>
                <a:lnTo>
                  <a:pt x="3194" y="2524"/>
                </a:lnTo>
                <a:lnTo>
                  <a:pt x="3199" y="2540"/>
                </a:lnTo>
                <a:lnTo>
                  <a:pt x="3206" y="2558"/>
                </a:lnTo>
                <a:lnTo>
                  <a:pt x="3216" y="2586"/>
                </a:lnTo>
                <a:lnTo>
                  <a:pt x="3225" y="2612"/>
                </a:lnTo>
                <a:lnTo>
                  <a:pt x="3232" y="2637"/>
                </a:lnTo>
                <a:lnTo>
                  <a:pt x="3237" y="2661"/>
                </a:lnTo>
                <a:lnTo>
                  <a:pt x="3242" y="2686"/>
                </a:lnTo>
                <a:lnTo>
                  <a:pt x="3246" y="2712"/>
                </a:lnTo>
                <a:lnTo>
                  <a:pt x="3249" y="2738"/>
                </a:lnTo>
                <a:lnTo>
                  <a:pt x="3253" y="2769"/>
                </a:lnTo>
                <a:lnTo>
                  <a:pt x="3257" y="2791"/>
                </a:lnTo>
                <a:lnTo>
                  <a:pt x="3261" y="2811"/>
                </a:lnTo>
                <a:lnTo>
                  <a:pt x="3265" y="2831"/>
                </a:lnTo>
                <a:lnTo>
                  <a:pt x="3271" y="2854"/>
                </a:lnTo>
                <a:lnTo>
                  <a:pt x="3273" y="2860"/>
                </a:lnTo>
                <a:lnTo>
                  <a:pt x="3276" y="2864"/>
                </a:lnTo>
                <a:lnTo>
                  <a:pt x="3280" y="2869"/>
                </a:lnTo>
                <a:lnTo>
                  <a:pt x="3284" y="2874"/>
                </a:lnTo>
                <a:lnTo>
                  <a:pt x="3288" y="2878"/>
                </a:lnTo>
                <a:lnTo>
                  <a:pt x="3291" y="2882"/>
                </a:lnTo>
                <a:lnTo>
                  <a:pt x="3293" y="2887"/>
                </a:lnTo>
                <a:lnTo>
                  <a:pt x="3294" y="2894"/>
                </a:lnTo>
                <a:lnTo>
                  <a:pt x="3294" y="3003"/>
                </a:lnTo>
                <a:lnTo>
                  <a:pt x="3294" y="3008"/>
                </a:lnTo>
                <a:lnTo>
                  <a:pt x="3295" y="3011"/>
                </a:lnTo>
                <a:lnTo>
                  <a:pt x="3298" y="3014"/>
                </a:lnTo>
                <a:lnTo>
                  <a:pt x="3299" y="3016"/>
                </a:lnTo>
                <a:lnTo>
                  <a:pt x="3304" y="3020"/>
                </a:lnTo>
                <a:lnTo>
                  <a:pt x="3310" y="3024"/>
                </a:lnTo>
                <a:lnTo>
                  <a:pt x="3318" y="3025"/>
                </a:lnTo>
                <a:lnTo>
                  <a:pt x="3326" y="3026"/>
                </a:lnTo>
                <a:lnTo>
                  <a:pt x="3334" y="3027"/>
                </a:lnTo>
                <a:lnTo>
                  <a:pt x="3342" y="3027"/>
                </a:lnTo>
                <a:lnTo>
                  <a:pt x="3348" y="3026"/>
                </a:lnTo>
                <a:lnTo>
                  <a:pt x="3355" y="3025"/>
                </a:lnTo>
                <a:lnTo>
                  <a:pt x="3360" y="3021"/>
                </a:lnTo>
                <a:lnTo>
                  <a:pt x="3365" y="3018"/>
                </a:lnTo>
                <a:lnTo>
                  <a:pt x="3370" y="3015"/>
                </a:lnTo>
                <a:lnTo>
                  <a:pt x="3376" y="3013"/>
                </a:lnTo>
                <a:lnTo>
                  <a:pt x="3381" y="3011"/>
                </a:lnTo>
                <a:lnTo>
                  <a:pt x="3388" y="3010"/>
                </a:lnTo>
                <a:lnTo>
                  <a:pt x="3396" y="3011"/>
                </a:lnTo>
                <a:lnTo>
                  <a:pt x="3402" y="3012"/>
                </a:lnTo>
                <a:lnTo>
                  <a:pt x="3409" y="3014"/>
                </a:lnTo>
                <a:lnTo>
                  <a:pt x="3415" y="3017"/>
                </a:lnTo>
                <a:lnTo>
                  <a:pt x="3426" y="3024"/>
                </a:lnTo>
                <a:lnTo>
                  <a:pt x="3437" y="3032"/>
                </a:lnTo>
                <a:lnTo>
                  <a:pt x="3447" y="3040"/>
                </a:lnTo>
                <a:lnTo>
                  <a:pt x="3459" y="3047"/>
                </a:lnTo>
                <a:lnTo>
                  <a:pt x="3465" y="3050"/>
                </a:lnTo>
                <a:lnTo>
                  <a:pt x="3472" y="3052"/>
                </a:lnTo>
                <a:lnTo>
                  <a:pt x="3479" y="3053"/>
                </a:lnTo>
                <a:lnTo>
                  <a:pt x="3487" y="3054"/>
                </a:lnTo>
                <a:lnTo>
                  <a:pt x="3501" y="3055"/>
                </a:lnTo>
                <a:lnTo>
                  <a:pt x="3515" y="3055"/>
                </a:lnTo>
                <a:lnTo>
                  <a:pt x="3521" y="3055"/>
                </a:lnTo>
                <a:lnTo>
                  <a:pt x="3529" y="3055"/>
                </a:lnTo>
                <a:lnTo>
                  <a:pt x="3535" y="3053"/>
                </a:lnTo>
                <a:lnTo>
                  <a:pt x="3542" y="3051"/>
                </a:lnTo>
                <a:lnTo>
                  <a:pt x="3544" y="3049"/>
                </a:lnTo>
                <a:lnTo>
                  <a:pt x="3545" y="3048"/>
                </a:lnTo>
                <a:lnTo>
                  <a:pt x="3546" y="3046"/>
                </a:lnTo>
                <a:lnTo>
                  <a:pt x="3545" y="3044"/>
                </a:lnTo>
                <a:lnTo>
                  <a:pt x="3545" y="3038"/>
                </a:lnTo>
                <a:lnTo>
                  <a:pt x="3546" y="3034"/>
                </a:lnTo>
                <a:lnTo>
                  <a:pt x="3554" y="3022"/>
                </a:lnTo>
                <a:lnTo>
                  <a:pt x="3562" y="3012"/>
                </a:lnTo>
                <a:lnTo>
                  <a:pt x="3566" y="3006"/>
                </a:lnTo>
                <a:lnTo>
                  <a:pt x="3569" y="3000"/>
                </a:lnTo>
                <a:lnTo>
                  <a:pt x="3571" y="2994"/>
                </a:lnTo>
                <a:lnTo>
                  <a:pt x="3573" y="2987"/>
                </a:lnTo>
                <a:lnTo>
                  <a:pt x="3587" y="2982"/>
                </a:lnTo>
                <a:lnTo>
                  <a:pt x="3587" y="2998"/>
                </a:lnTo>
                <a:lnTo>
                  <a:pt x="3587" y="3012"/>
                </a:lnTo>
                <a:lnTo>
                  <a:pt x="3587" y="3025"/>
                </a:lnTo>
                <a:lnTo>
                  <a:pt x="3587" y="3040"/>
                </a:lnTo>
                <a:lnTo>
                  <a:pt x="3782" y="3040"/>
                </a:lnTo>
                <a:lnTo>
                  <a:pt x="3787" y="3040"/>
                </a:lnTo>
                <a:lnTo>
                  <a:pt x="3792" y="3039"/>
                </a:lnTo>
                <a:lnTo>
                  <a:pt x="3796" y="3038"/>
                </a:lnTo>
                <a:lnTo>
                  <a:pt x="3800" y="3036"/>
                </a:lnTo>
                <a:lnTo>
                  <a:pt x="3808" y="3032"/>
                </a:lnTo>
                <a:lnTo>
                  <a:pt x="3814" y="3027"/>
                </a:lnTo>
                <a:lnTo>
                  <a:pt x="3821" y="3021"/>
                </a:lnTo>
                <a:lnTo>
                  <a:pt x="3829" y="3017"/>
                </a:lnTo>
                <a:lnTo>
                  <a:pt x="3832" y="3016"/>
                </a:lnTo>
                <a:lnTo>
                  <a:pt x="3836" y="3014"/>
                </a:lnTo>
                <a:lnTo>
                  <a:pt x="3840" y="3014"/>
                </a:lnTo>
                <a:lnTo>
                  <a:pt x="3846" y="3013"/>
                </a:lnTo>
                <a:lnTo>
                  <a:pt x="3963" y="3013"/>
                </a:lnTo>
                <a:lnTo>
                  <a:pt x="3971" y="3013"/>
                </a:lnTo>
                <a:lnTo>
                  <a:pt x="3979" y="3010"/>
                </a:lnTo>
                <a:lnTo>
                  <a:pt x="3985" y="3007"/>
                </a:lnTo>
                <a:lnTo>
                  <a:pt x="3991" y="3002"/>
                </a:lnTo>
                <a:lnTo>
                  <a:pt x="4004" y="2993"/>
                </a:lnTo>
                <a:lnTo>
                  <a:pt x="4018" y="2982"/>
                </a:lnTo>
                <a:lnTo>
                  <a:pt x="4027" y="2977"/>
                </a:lnTo>
                <a:lnTo>
                  <a:pt x="4036" y="2971"/>
                </a:lnTo>
                <a:lnTo>
                  <a:pt x="4043" y="2963"/>
                </a:lnTo>
                <a:lnTo>
                  <a:pt x="4049" y="2956"/>
                </a:lnTo>
                <a:lnTo>
                  <a:pt x="4055" y="2948"/>
                </a:lnTo>
                <a:lnTo>
                  <a:pt x="4059" y="2939"/>
                </a:lnTo>
                <a:lnTo>
                  <a:pt x="4061" y="2930"/>
                </a:lnTo>
                <a:lnTo>
                  <a:pt x="4062" y="2918"/>
                </a:lnTo>
                <a:lnTo>
                  <a:pt x="4061" y="2907"/>
                </a:lnTo>
                <a:lnTo>
                  <a:pt x="4060" y="2897"/>
                </a:lnTo>
                <a:lnTo>
                  <a:pt x="4057" y="2887"/>
                </a:lnTo>
                <a:lnTo>
                  <a:pt x="4051" y="2878"/>
                </a:lnTo>
                <a:lnTo>
                  <a:pt x="4083" y="2903"/>
                </a:lnTo>
                <a:lnTo>
                  <a:pt x="4111" y="2926"/>
                </a:lnTo>
                <a:lnTo>
                  <a:pt x="4118" y="2932"/>
                </a:lnTo>
                <a:lnTo>
                  <a:pt x="4125" y="2936"/>
                </a:lnTo>
                <a:lnTo>
                  <a:pt x="4134" y="2939"/>
                </a:lnTo>
                <a:lnTo>
                  <a:pt x="4141" y="2942"/>
                </a:lnTo>
                <a:lnTo>
                  <a:pt x="4151" y="2945"/>
                </a:lnTo>
                <a:lnTo>
                  <a:pt x="4159" y="2948"/>
                </a:lnTo>
                <a:lnTo>
                  <a:pt x="4169" y="2949"/>
                </a:lnTo>
                <a:lnTo>
                  <a:pt x="4179" y="2949"/>
                </a:lnTo>
                <a:lnTo>
                  <a:pt x="4188" y="2949"/>
                </a:lnTo>
                <a:lnTo>
                  <a:pt x="4195" y="2948"/>
                </a:lnTo>
                <a:lnTo>
                  <a:pt x="4202" y="2946"/>
                </a:lnTo>
                <a:lnTo>
                  <a:pt x="4210" y="2944"/>
                </a:lnTo>
                <a:lnTo>
                  <a:pt x="4223" y="2940"/>
                </a:lnTo>
                <a:lnTo>
                  <a:pt x="4235" y="2935"/>
                </a:lnTo>
                <a:lnTo>
                  <a:pt x="4248" y="2929"/>
                </a:lnTo>
                <a:lnTo>
                  <a:pt x="4261" y="2922"/>
                </a:lnTo>
                <a:lnTo>
                  <a:pt x="4274" y="2917"/>
                </a:lnTo>
                <a:lnTo>
                  <a:pt x="4290" y="2912"/>
                </a:lnTo>
                <a:lnTo>
                  <a:pt x="4307" y="2908"/>
                </a:lnTo>
                <a:lnTo>
                  <a:pt x="4325" y="2907"/>
                </a:lnTo>
                <a:lnTo>
                  <a:pt x="4332" y="2906"/>
                </a:lnTo>
                <a:lnTo>
                  <a:pt x="4339" y="2903"/>
                </a:lnTo>
                <a:lnTo>
                  <a:pt x="4341" y="2901"/>
                </a:lnTo>
                <a:lnTo>
                  <a:pt x="4343" y="2898"/>
                </a:lnTo>
                <a:lnTo>
                  <a:pt x="4344" y="2895"/>
                </a:lnTo>
                <a:lnTo>
                  <a:pt x="4344" y="2890"/>
                </a:lnTo>
                <a:lnTo>
                  <a:pt x="4344" y="2884"/>
                </a:lnTo>
                <a:lnTo>
                  <a:pt x="4343" y="2878"/>
                </a:lnTo>
                <a:lnTo>
                  <a:pt x="4341" y="2873"/>
                </a:lnTo>
                <a:lnTo>
                  <a:pt x="4339" y="2866"/>
                </a:lnTo>
                <a:lnTo>
                  <a:pt x="4333" y="2857"/>
                </a:lnTo>
                <a:lnTo>
                  <a:pt x="4327" y="2846"/>
                </a:lnTo>
                <a:lnTo>
                  <a:pt x="4319" y="2838"/>
                </a:lnTo>
                <a:lnTo>
                  <a:pt x="4311" y="2828"/>
                </a:lnTo>
                <a:lnTo>
                  <a:pt x="4304" y="2818"/>
                </a:lnTo>
                <a:lnTo>
                  <a:pt x="4296" y="2806"/>
                </a:lnTo>
                <a:lnTo>
                  <a:pt x="4312" y="2797"/>
                </a:lnTo>
                <a:lnTo>
                  <a:pt x="4326" y="2788"/>
                </a:lnTo>
                <a:lnTo>
                  <a:pt x="4340" y="2779"/>
                </a:lnTo>
                <a:lnTo>
                  <a:pt x="4351" y="2768"/>
                </a:lnTo>
                <a:lnTo>
                  <a:pt x="4362" y="2757"/>
                </a:lnTo>
                <a:lnTo>
                  <a:pt x="4371" y="2745"/>
                </a:lnTo>
                <a:lnTo>
                  <a:pt x="4376" y="2738"/>
                </a:lnTo>
                <a:lnTo>
                  <a:pt x="4379" y="2731"/>
                </a:lnTo>
                <a:lnTo>
                  <a:pt x="4382" y="2723"/>
                </a:lnTo>
                <a:lnTo>
                  <a:pt x="4385" y="2714"/>
                </a:lnTo>
                <a:lnTo>
                  <a:pt x="4378" y="2711"/>
                </a:lnTo>
                <a:lnTo>
                  <a:pt x="4371" y="2708"/>
                </a:lnTo>
                <a:lnTo>
                  <a:pt x="4363" y="2708"/>
                </a:lnTo>
                <a:lnTo>
                  <a:pt x="4357" y="2709"/>
                </a:lnTo>
                <a:lnTo>
                  <a:pt x="4349" y="2711"/>
                </a:lnTo>
                <a:lnTo>
                  <a:pt x="4343" y="2713"/>
                </a:lnTo>
                <a:lnTo>
                  <a:pt x="4331" y="2718"/>
                </a:lnTo>
                <a:lnTo>
                  <a:pt x="4320" y="2725"/>
                </a:lnTo>
                <a:lnTo>
                  <a:pt x="4309" y="2732"/>
                </a:lnTo>
                <a:lnTo>
                  <a:pt x="4298" y="2737"/>
                </a:lnTo>
                <a:lnTo>
                  <a:pt x="4291" y="2741"/>
                </a:lnTo>
                <a:lnTo>
                  <a:pt x="4284" y="2743"/>
                </a:lnTo>
                <a:lnTo>
                  <a:pt x="4277" y="2744"/>
                </a:lnTo>
                <a:lnTo>
                  <a:pt x="4269" y="2745"/>
                </a:lnTo>
                <a:lnTo>
                  <a:pt x="4267" y="2731"/>
                </a:lnTo>
                <a:lnTo>
                  <a:pt x="4266" y="2717"/>
                </a:lnTo>
                <a:lnTo>
                  <a:pt x="4267" y="2709"/>
                </a:lnTo>
                <a:lnTo>
                  <a:pt x="4268" y="2701"/>
                </a:lnTo>
                <a:lnTo>
                  <a:pt x="4270" y="2695"/>
                </a:lnTo>
                <a:lnTo>
                  <a:pt x="4274" y="2689"/>
                </a:lnTo>
                <a:lnTo>
                  <a:pt x="4282" y="2677"/>
                </a:lnTo>
                <a:lnTo>
                  <a:pt x="4291" y="2666"/>
                </a:lnTo>
                <a:lnTo>
                  <a:pt x="4301" y="2655"/>
                </a:lnTo>
                <a:lnTo>
                  <a:pt x="4309" y="2643"/>
                </a:lnTo>
                <a:lnTo>
                  <a:pt x="4312" y="2637"/>
                </a:lnTo>
                <a:lnTo>
                  <a:pt x="4314" y="2631"/>
                </a:lnTo>
                <a:lnTo>
                  <a:pt x="4317" y="2623"/>
                </a:lnTo>
                <a:lnTo>
                  <a:pt x="4317" y="2615"/>
                </a:lnTo>
                <a:lnTo>
                  <a:pt x="4317" y="2582"/>
                </a:lnTo>
                <a:lnTo>
                  <a:pt x="4299" y="2581"/>
                </a:lnTo>
                <a:lnTo>
                  <a:pt x="4282" y="2581"/>
                </a:lnTo>
                <a:lnTo>
                  <a:pt x="4274" y="2581"/>
                </a:lnTo>
                <a:lnTo>
                  <a:pt x="4266" y="2580"/>
                </a:lnTo>
                <a:lnTo>
                  <a:pt x="4257" y="2578"/>
                </a:lnTo>
                <a:lnTo>
                  <a:pt x="4249" y="2575"/>
                </a:lnTo>
                <a:lnTo>
                  <a:pt x="4237" y="2569"/>
                </a:lnTo>
                <a:lnTo>
                  <a:pt x="4228" y="2562"/>
                </a:lnTo>
                <a:lnTo>
                  <a:pt x="4219" y="2555"/>
                </a:lnTo>
                <a:lnTo>
                  <a:pt x="4211" y="2546"/>
                </a:lnTo>
                <a:lnTo>
                  <a:pt x="4202" y="2539"/>
                </a:lnTo>
                <a:lnTo>
                  <a:pt x="4193" y="2534"/>
                </a:lnTo>
                <a:lnTo>
                  <a:pt x="4188" y="2530"/>
                </a:lnTo>
                <a:lnTo>
                  <a:pt x="4182" y="2529"/>
                </a:lnTo>
                <a:lnTo>
                  <a:pt x="4176" y="2528"/>
                </a:lnTo>
                <a:lnTo>
                  <a:pt x="4170" y="2527"/>
                </a:lnTo>
                <a:lnTo>
                  <a:pt x="4083" y="2527"/>
                </a:lnTo>
                <a:lnTo>
                  <a:pt x="4075" y="2527"/>
                </a:lnTo>
                <a:lnTo>
                  <a:pt x="4067" y="2525"/>
                </a:lnTo>
                <a:lnTo>
                  <a:pt x="4060" y="2523"/>
                </a:lnTo>
                <a:lnTo>
                  <a:pt x="4054" y="2521"/>
                </a:lnTo>
                <a:lnTo>
                  <a:pt x="4046" y="2518"/>
                </a:lnTo>
                <a:lnTo>
                  <a:pt x="4039" y="2516"/>
                </a:lnTo>
                <a:lnTo>
                  <a:pt x="4031" y="2515"/>
                </a:lnTo>
                <a:lnTo>
                  <a:pt x="4023" y="2514"/>
                </a:lnTo>
                <a:lnTo>
                  <a:pt x="4006" y="2515"/>
                </a:lnTo>
                <a:lnTo>
                  <a:pt x="3990" y="2516"/>
                </a:lnTo>
                <a:lnTo>
                  <a:pt x="3975" y="2519"/>
                </a:lnTo>
                <a:lnTo>
                  <a:pt x="3961" y="2522"/>
                </a:lnTo>
                <a:lnTo>
                  <a:pt x="3947" y="2526"/>
                </a:lnTo>
                <a:lnTo>
                  <a:pt x="3934" y="2531"/>
                </a:lnTo>
                <a:lnTo>
                  <a:pt x="3921" y="2537"/>
                </a:lnTo>
                <a:lnTo>
                  <a:pt x="3909" y="2544"/>
                </a:lnTo>
                <a:lnTo>
                  <a:pt x="3896" y="2552"/>
                </a:lnTo>
                <a:lnTo>
                  <a:pt x="3885" y="2560"/>
                </a:lnTo>
                <a:lnTo>
                  <a:pt x="3873" y="2568"/>
                </a:lnTo>
                <a:lnTo>
                  <a:pt x="3861" y="2578"/>
                </a:lnTo>
                <a:lnTo>
                  <a:pt x="3838" y="2599"/>
                </a:lnTo>
                <a:lnTo>
                  <a:pt x="3814" y="2622"/>
                </a:lnTo>
                <a:lnTo>
                  <a:pt x="3803" y="2635"/>
                </a:lnTo>
                <a:lnTo>
                  <a:pt x="3793" y="2649"/>
                </a:lnTo>
                <a:lnTo>
                  <a:pt x="3784" y="2661"/>
                </a:lnTo>
                <a:lnTo>
                  <a:pt x="3776" y="2674"/>
                </a:lnTo>
                <a:lnTo>
                  <a:pt x="3771" y="2679"/>
                </a:lnTo>
                <a:lnTo>
                  <a:pt x="3766" y="2685"/>
                </a:lnTo>
                <a:lnTo>
                  <a:pt x="3761" y="2689"/>
                </a:lnTo>
                <a:lnTo>
                  <a:pt x="3756" y="2693"/>
                </a:lnTo>
                <a:lnTo>
                  <a:pt x="3749" y="2696"/>
                </a:lnTo>
                <a:lnTo>
                  <a:pt x="3743" y="2698"/>
                </a:lnTo>
                <a:lnTo>
                  <a:pt x="3736" y="2700"/>
                </a:lnTo>
                <a:lnTo>
                  <a:pt x="3727" y="2700"/>
                </a:lnTo>
                <a:lnTo>
                  <a:pt x="3719" y="2700"/>
                </a:lnTo>
                <a:lnTo>
                  <a:pt x="3713" y="2698"/>
                </a:lnTo>
                <a:lnTo>
                  <a:pt x="3705" y="2695"/>
                </a:lnTo>
                <a:lnTo>
                  <a:pt x="3699" y="2692"/>
                </a:lnTo>
                <a:lnTo>
                  <a:pt x="3692" y="2689"/>
                </a:lnTo>
                <a:lnTo>
                  <a:pt x="3685" y="2687"/>
                </a:lnTo>
                <a:lnTo>
                  <a:pt x="3678" y="2685"/>
                </a:lnTo>
                <a:lnTo>
                  <a:pt x="3669" y="2684"/>
                </a:lnTo>
                <a:lnTo>
                  <a:pt x="3661" y="2685"/>
                </a:lnTo>
                <a:lnTo>
                  <a:pt x="3652" y="2686"/>
                </a:lnTo>
                <a:lnTo>
                  <a:pt x="3644" y="2688"/>
                </a:lnTo>
                <a:lnTo>
                  <a:pt x="3636" y="2691"/>
                </a:lnTo>
                <a:lnTo>
                  <a:pt x="3629" y="2693"/>
                </a:lnTo>
                <a:lnTo>
                  <a:pt x="3622" y="2695"/>
                </a:lnTo>
                <a:lnTo>
                  <a:pt x="3613" y="2697"/>
                </a:lnTo>
                <a:lnTo>
                  <a:pt x="3604" y="2697"/>
                </a:lnTo>
                <a:lnTo>
                  <a:pt x="3594" y="2697"/>
                </a:lnTo>
                <a:lnTo>
                  <a:pt x="3587" y="2695"/>
                </a:lnTo>
                <a:lnTo>
                  <a:pt x="3579" y="2693"/>
                </a:lnTo>
                <a:lnTo>
                  <a:pt x="3572" y="2690"/>
                </a:lnTo>
                <a:lnTo>
                  <a:pt x="3566" y="2686"/>
                </a:lnTo>
                <a:lnTo>
                  <a:pt x="3559" y="2681"/>
                </a:lnTo>
                <a:lnTo>
                  <a:pt x="3554" y="2676"/>
                </a:lnTo>
                <a:lnTo>
                  <a:pt x="3548" y="2671"/>
                </a:lnTo>
                <a:lnTo>
                  <a:pt x="3537" y="2660"/>
                </a:lnTo>
                <a:lnTo>
                  <a:pt x="3526" y="2648"/>
                </a:lnTo>
                <a:lnTo>
                  <a:pt x="3513" y="2636"/>
                </a:lnTo>
                <a:lnTo>
                  <a:pt x="3498" y="2627"/>
                </a:lnTo>
                <a:lnTo>
                  <a:pt x="3474" y="2613"/>
                </a:lnTo>
                <a:lnTo>
                  <a:pt x="3451" y="2601"/>
                </a:lnTo>
                <a:lnTo>
                  <a:pt x="3430" y="2592"/>
                </a:lnTo>
                <a:lnTo>
                  <a:pt x="3408" y="2581"/>
                </a:lnTo>
                <a:lnTo>
                  <a:pt x="3388" y="2569"/>
                </a:lnTo>
                <a:lnTo>
                  <a:pt x="3369" y="2557"/>
                </a:lnTo>
                <a:lnTo>
                  <a:pt x="3360" y="2549"/>
                </a:lnTo>
                <a:lnTo>
                  <a:pt x="3350" y="2541"/>
                </a:lnTo>
                <a:lnTo>
                  <a:pt x="3341" y="2531"/>
                </a:lnTo>
                <a:lnTo>
                  <a:pt x="3331" y="2521"/>
                </a:lnTo>
                <a:lnTo>
                  <a:pt x="3339" y="2507"/>
                </a:lnTo>
                <a:lnTo>
                  <a:pt x="3405" y="2507"/>
                </a:lnTo>
                <a:lnTo>
                  <a:pt x="3416" y="2506"/>
                </a:lnTo>
                <a:lnTo>
                  <a:pt x="3425" y="2504"/>
                </a:lnTo>
                <a:lnTo>
                  <a:pt x="3435" y="2501"/>
                </a:lnTo>
                <a:lnTo>
                  <a:pt x="3443" y="2496"/>
                </a:lnTo>
                <a:lnTo>
                  <a:pt x="3451" y="2489"/>
                </a:lnTo>
                <a:lnTo>
                  <a:pt x="3456" y="2482"/>
                </a:lnTo>
                <a:lnTo>
                  <a:pt x="3458" y="2478"/>
                </a:lnTo>
                <a:lnTo>
                  <a:pt x="3459" y="2472"/>
                </a:lnTo>
                <a:lnTo>
                  <a:pt x="3460" y="2468"/>
                </a:lnTo>
                <a:lnTo>
                  <a:pt x="3461" y="2463"/>
                </a:lnTo>
                <a:lnTo>
                  <a:pt x="3460" y="2459"/>
                </a:lnTo>
                <a:lnTo>
                  <a:pt x="3458" y="2454"/>
                </a:lnTo>
                <a:lnTo>
                  <a:pt x="3456" y="2451"/>
                </a:lnTo>
                <a:lnTo>
                  <a:pt x="3452" y="2449"/>
                </a:lnTo>
                <a:lnTo>
                  <a:pt x="3443" y="2446"/>
                </a:lnTo>
                <a:lnTo>
                  <a:pt x="3434" y="2443"/>
                </a:lnTo>
                <a:lnTo>
                  <a:pt x="3412" y="2435"/>
                </a:lnTo>
                <a:lnTo>
                  <a:pt x="3393" y="2429"/>
                </a:lnTo>
                <a:lnTo>
                  <a:pt x="3383" y="2426"/>
                </a:lnTo>
                <a:lnTo>
                  <a:pt x="3374" y="2422"/>
                </a:lnTo>
                <a:lnTo>
                  <a:pt x="3365" y="2415"/>
                </a:lnTo>
                <a:lnTo>
                  <a:pt x="3356" y="2409"/>
                </a:lnTo>
                <a:lnTo>
                  <a:pt x="3338" y="2390"/>
                </a:lnTo>
                <a:lnTo>
                  <a:pt x="3322" y="2372"/>
                </a:lnTo>
                <a:lnTo>
                  <a:pt x="3313" y="2365"/>
                </a:lnTo>
                <a:lnTo>
                  <a:pt x="3304" y="2358"/>
                </a:lnTo>
                <a:lnTo>
                  <a:pt x="3299" y="2356"/>
                </a:lnTo>
                <a:lnTo>
                  <a:pt x="3293" y="2355"/>
                </a:lnTo>
                <a:lnTo>
                  <a:pt x="3287" y="2354"/>
                </a:lnTo>
                <a:lnTo>
                  <a:pt x="3281" y="2354"/>
                </a:lnTo>
                <a:lnTo>
                  <a:pt x="3250" y="2351"/>
                </a:lnTo>
                <a:close/>
                <a:moveTo>
                  <a:pt x="2965" y="2256"/>
                </a:moveTo>
                <a:lnTo>
                  <a:pt x="2954" y="2252"/>
                </a:lnTo>
                <a:lnTo>
                  <a:pt x="2945" y="2248"/>
                </a:lnTo>
                <a:lnTo>
                  <a:pt x="2935" y="2246"/>
                </a:lnTo>
                <a:lnTo>
                  <a:pt x="2924" y="2245"/>
                </a:lnTo>
                <a:lnTo>
                  <a:pt x="2916" y="2246"/>
                </a:lnTo>
                <a:lnTo>
                  <a:pt x="2908" y="2247"/>
                </a:lnTo>
                <a:lnTo>
                  <a:pt x="2900" y="2250"/>
                </a:lnTo>
                <a:lnTo>
                  <a:pt x="2894" y="2252"/>
                </a:lnTo>
                <a:lnTo>
                  <a:pt x="2887" y="2255"/>
                </a:lnTo>
                <a:lnTo>
                  <a:pt x="2880" y="2259"/>
                </a:lnTo>
                <a:lnTo>
                  <a:pt x="2874" y="2263"/>
                </a:lnTo>
                <a:lnTo>
                  <a:pt x="2869" y="2269"/>
                </a:lnTo>
                <a:lnTo>
                  <a:pt x="2863" y="2274"/>
                </a:lnTo>
                <a:lnTo>
                  <a:pt x="2859" y="2280"/>
                </a:lnTo>
                <a:lnTo>
                  <a:pt x="2855" y="2286"/>
                </a:lnTo>
                <a:lnTo>
                  <a:pt x="2852" y="2293"/>
                </a:lnTo>
                <a:lnTo>
                  <a:pt x="2850" y="2300"/>
                </a:lnTo>
                <a:lnTo>
                  <a:pt x="2848" y="2308"/>
                </a:lnTo>
                <a:lnTo>
                  <a:pt x="2847" y="2316"/>
                </a:lnTo>
                <a:lnTo>
                  <a:pt x="2846" y="2323"/>
                </a:lnTo>
                <a:lnTo>
                  <a:pt x="2847" y="2333"/>
                </a:lnTo>
                <a:lnTo>
                  <a:pt x="2850" y="2341"/>
                </a:lnTo>
                <a:lnTo>
                  <a:pt x="2854" y="2349"/>
                </a:lnTo>
                <a:lnTo>
                  <a:pt x="2859" y="2356"/>
                </a:lnTo>
                <a:lnTo>
                  <a:pt x="2872" y="2369"/>
                </a:lnTo>
                <a:lnTo>
                  <a:pt x="2884" y="2385"/>
                </a:lnTo>
                <a:lnTo>
                  <a:pt x="2887" y="2392"/>
                </a:lnTo>
                <a:lnTo>
                  <a:pt x="2890" y="2399"/>
                </a:lnTo>
                <a:lnTo>
                  <a:pt x="2891" y="2406"/>
                </a:lnTo>
                <a:lnTo>
                  <a:pt x="2892" y="2413"/>
                </a:lnTo>
                <a:lnTo>
                  <a:pt x="2894" y="2420"/>
                </a:lnTo>
                <a:lnTo>
                  <a:pt x="2896" y="2426"/>
                </a:lnTo>
                <a:lnTo>
                  <a:pt x="2899" y="2433"/>
                </a:lnTo>
                <a:lnTo>
                  <a:pt x="2904" y="2440"/>
                </a:lnTo>
                <a:lnTo>
                  <a:pt x="2908" y="2444"/>
                </a:lnTo>
                <a:lnTo>
                  <a:pt x="2913" y="2446"/>
                </a:lnTo>
                <a:lnTo>
                  <a:pt x="2918" y="2448"/>
                </a:lnTo>
                <a:lnTo>
                  <a:pt x="2924" y="2450"/>
                </a:lnTo>
                <a:lnTo>
                  <a:pt x="2929" y="2451"/>
                </a:lnTo>
                <a:lnTo>
                  <a:pt x="2934" y="2453"/>
                </a:lnTo>
                <a:lnTo>
                  <a:pt x="2940" y="2456"/>
                </a:lnTo>
                <a:lnTo>
                  <a:pt x="2945" y="2460"/>
                </a:lnTo>
                <a:lnTo>
                  <a:pt x="2947" y="2463"/>
                </a:lnTo>
                <a:lnTo>
                  <a:pt x="2949" y="2465"/>
                </a:lnTo>
                <a:lnTo>
                  <a:pt x="2950" y="2468"/>
                </a:lnTo>
                <a:lnTo>
                  <a:pt x="2951" y="2472"/>
                </a:lnTo>
                <a:lnTo>
                  <a:pt x="2952" y="2479"/>
                </a:lnTo>
                <a:lnTo>
                  <a:pt x="2954" y="2487"/>
                </a:lnTo>
                <a:lnTo>
                  <a:pt x="2959" y="2493"/>
                </a:lnTo>
                <a:lnTo>
                  <a:pt x="2964" y="2500"/>
                </a:lnTo>
                <a:lnTo>
                  <a:pt x="2969" y="2504"/>
                </a:lnTo>
                <a:lnTo>
                  <a:pt x="2976" y="2507"/>
                </a:lnTo>
                <a:lnTo>
                  <a:pt x="2992" y="2511"/>
                </a:lnTo>
                <a:lnTo>
                  <a:pt x="3009" y="2514"/>
                </a:lnTo>
                <a:lnTo>
                  <a:pt x="3017" y="2516"/>
                </a:lnTo>
                <a:lnTo>
                  <a:pt x="3023" y="2518"/>
                </a:lnTo>
                <a:lnTo>
                  <a:pt x="3029" y="2521"/>
                </a:lnTo>
                <a:lnTo>
                  <a:pt x="3036" y="2524"/>
                </a:lnTo>
                <a:lnTo>
                  <a:pt x="3042" y="2526"/>
                </a:lnTo>
                <a:lnTo>
                  <a:pt x="3048" y="2528"/>
                </a:lnTo>
                <a:lnTo>
                  <a:pt x="3056" y="2530"/>
                </a:lnTo>
                <a:lnTo>
                  <a:pt x="3063" y="2531"/>
                </a:lnTo>
                <a:lnTo>
                  <a:pt x="3069" y="2530"/>
                </a:lnTo>
                <a:lnTo>
                  <a:pt x="3076" y="2529"/>
                </a:lnTo>
                <a:lnTo>
                  <a:pt x="3080" y="2526"/>
                </a:lnTo>
                <a:lnTo>
                  <a:pt x="3085" y="2523"/>
                </a:lnTo>
                <a:lnTo>
                  <a:pt x="3088" y="2519"/>
                </a:lnTo>
                <a:lnTo>
                  <a:pt x="3092" y="2515"/>
                </a:lnTo>
                <a:lnTo>
                  <a:pt x="3095" y="2509"/>
                </a:lnTo>
                <a:lnTo>
                  <a:pt x="3097" y="2503"/>
                </a:lnTo>
                <a:lnTo>
                  <a:pt x="3101" y="2490"/>
                </a:lnTo>
                <a:lnTo>
                  <a:pt x="3103" y="2477"/>
                </a:lnTo>
                <a:lnTo>
                  <a:pt x="3104" y="2463"/>
                </a:lnTo>
                <a:lnTo>
                  <a:pt x="3104" y="2449"/>
                </a:lnTo>
                <a:lnTo>
                  <a:pt x="3104" y="2417"/>
                </a:lnTo>
                <a:lnTo>
                  <a:pt x="3104" y="2390"/>
                </a:lnTo>
                <a:lnTo>
                  <a:pt x="3103" y="2363"/>
                </a:lnTo>
                <a:lnTo>
                  <a:pt x="3103" y="2332"/>
                </a:lnTo>
                <a:lnTo>
                  <a:pt x="3103" y="2326"/>
                </a:lnTo>
                <a:lnTo>
                  <a:pt x="3101" y="2320"/>
                </a:lnTo>
                <a:lnTo>
                  <a:pt x="3099" y="2316"/>
                </a:lnTo>
                <a:lnTo>
                  <a:pt x="3096" y="2312"/>
                </a:lnTo>
                <a:lnTo>
                  <a:pt x="3092" y="2309"/>
                </a:lnTo>
                <a:lnTo>
                  <a:pt x="3087" y="2307"/>
                </a:lnTo>
                <a:lnTo>
                  <a:pt x="3082" y="2304"/>
                </a:lnTo>
                <a:lnTo>
                  <a:pt x="3077" y="2302"/>
                </a:lnTo>
                <a:lnTo>
                  <a:pt x="3051" y="2296"/>
                </a:lnTo>
                <a:lnTo>
                  <a:pt x="3026" y="2290"/>
                </a:lnTo>
                <a:lnTo>
                  <a:pt x="3010" y="2282"/>
                </a:lnTo>
                <a:lnTo>
                  <a:pt x="2995" y="2273"/>
                </a:lnTo>
                <a:lnTo>
                  <a:pt x="2980" y="2263"/>
                </a:lnTo>
                <a:lnTo>
                  <a:pt x="2965" y="2256"/>
                </a:lnTo>
                <a:close/>
                <a:moveTo>
                  <a:pt x="3288" y="2035"/>
                </a:moveTo>
                <a:lnTo>
                  <a:pt x="3284" y="2035"/>
                </a:lnTo>
                <a:lnTo>
                  <a:pt x="3280" y="2036"/>
                </a:lnTo>
                <a:lnTo>
                  <a:pt x="3276" y="2037"/>
                </a:lnTo>
                <a:lnTo>
                  <a:pt x="3273" y="2039"/>
                </a:lnTo>
                <a:lnTo>
                  <a:pt x="3268" y="2045"/>
                </a:lnTo>
                <a:lnTo>
                  <a:pt x="3264" y="2052"/>
                </a:lnTo>
                <a:lnTo>
                  <a:pt x="3261" y="2059"/>
                </a:lnTo>
                <a:lnTo>
                  <a:pt x="3258" y="2068"/>
                </a:lnTo>
                <a:lnTo>
                  <a:pt x="3257" y="2077"/>
                </a:lnTo>
                <a:lnTo>
                  <a:pt x="3257" y="2086"/>
                </a:lnTo>
                <a:lnTo>
                  <a:pt x="3257" y="2091"/>
                </a:lnTo>
                <a:lnTo>
                  <a:pt x="3259" y="2096"/>
                </a:lnTo>
                <a:lnTo>
                  <a:pt x="3262" y="2100"/>
                </a:lnTo>
                <a:lnTo>
                  <a:pt x="3265" y="2104"/>
                </a:lnTo>
                <a:lnTo>
                  <a:pt x="3271" y="2111"/>
                </a:lnTo>
                <a:lnTo>
                  <a:pt x="3277" y="2120"/>
                </a:lnTo>
                <a:lnTo>
                  <a:pt x="3284" y="2132"/>
                </a:lnTo>
                <a:lnTo>
                  <a:pt x="3290" y="2143"/>
                </a:lnTo>
                <a:lnTo>
                  <a:pt x="3294" y="2147"/>
                </a:lnTo>
                <a:lnTo>
                  <a:pt x="3300" y="2151"/>
                </a:lnTo>
                <a:lnTo>
                  <a:pt x="3305" y="2153"/>
                </a:lnTo>
                <a:lnTo>
                  <a:pt x="3311" y="2153"/>
                </a:lnTo>
                <a:lnTo>
                  <a:pt x="3315" y="2153"/>
                </a:lnTo>
                <a:lnTo>
                  <a:pt x="3321" y="2152"/>
                </a:lnTo>
                <a:lnTo>
                  <a:pt x="3324" y="2151"/>
                </a:lnTo>
                <a:lnTo>
                  <a:pt x="3328" y="2149"/>
                </a:lnTo>
                <a:lnTo>
                  <a:pt x="3334" y="2144"/>
                </a:lnTo>
                <a:lnTo>
                  <a:pt x="3340" y="2137"/>
                </a:lnTo>
                <a:lnTo>
                  <a:pt x="3344" y="2128"/>
                </a:lnTo>
                <a:lnTo>
                  <a:pt x="3346" y="2119"/>
                </a:lnTo>
                <a:lnTo>
                  <a:pt x="3348" y="2109"/>
                </a:lnTo>
                <a:lnTo>
                  <a:pt x="3349" y="2100"/>
                </a:lnTo>
                <a:lnTo>
                  <a:pt x="3348" y="2093"/>
                </a:lnTo>
                <a:lnTo>
                  <a:pt x="3347" y="2087"/>
                </a:lnTo>
                <a:lnTo>
                  <a:pt x="3346" y="2081"/>
                </a:lnTo>
                <a:lnTo>
                  <a:pt x="3344" y="2075"/>
                </a:lnTo>
                <a:lnTo>
                  <a:pt x="3342" y="2069"/>
                </a:lnTo>
                <a:lnTo>
                  <a:pt x="3339" y="2064"/>
                </a:lnTo>
                <a:lnTo>
                  <a:pt x="3336" y="2058"/>
                </a:lnTo>
                <a:lnTo>
                  <a:pt x="3331" y="2054"/>
                </a:lnTo>
                <a:lnTo>
                  <a:pt x="3327" y="2050"/>
                </a:lnTo>
                <a:lnTo>
                  <a:pt x="3322" y="2046"/>
                </a:lnTo>
                <a:lnTo>
                  <a:pt x="3318" y="2043"/>
                </a:lnTo>
                <a:lnTo>
                  <a:pt x="3312" y="2040"/>
                </a:lnTo>
                <a:lnTo>
                  <a:pt x="3306" y="2038"/>
                </a:lnTo>
                <a:lnTo>
                  <a:pt x="3301" y="2036"/>
                </a:lnTo>
                <a:lnTo>
                  <a:pt x="3294" y="2035"/>
                </a:lnTo>
                <a:lnTo>
                  <a:pt x="3288" y="2035"/>
                </a:lnTo>
                <a:close/>
                <a:moveTo>
                  <a:pt x="2968" y="2018"/>
                </a:moveTo>
                <a:lnTo>
                  <a:pt x="2954" y="2015"/>
                </a:lnTo>
                <a:lnTo>
                  <a:pt x="2942" y="2011"/>
                </a:lnTo>
                <a:lnTo>
                  <a:pt x="2931" y="2012"/>
                </a:lnTo>
                <a:lnTo>
                  <a:pt x="2922" y="2013"/>
                </a:lnTo>
                <a:lnTo>
                  <a:pt x="2912" y="2015"/>
                </a:lnTo>
                <a:lnTo>
                  <a:pt x="2903" y="2018"/>
                </a:lnTo>
                <a:lnTo>
                  <a:pt x="2895" y="2024"/>
                </a:lnTo>
                <a:lnTo>
                  <a:pt x="2889" y="2029"/>
                </a:lnTo>
                <a:lnTo>
                  <a:pt x="2887" y="2033"/>
                </a:lnTo>
                <a:lnTo>
                  <a:pt x="2885" y="2036"/>
                </a:lnTo>
                <a:lnTo>
                  <a:pt x="2884" y="2040"/>
                </a:lnTo>
                <a:lnTo>
                  <a:pt x="2884" y="2046"/>
                </a:lnTo>
                <a:lnTo>
                  <a:pt x="2884" y="2051"/>
                </a:lnTo>
                <a:lnTo>
                  <a:pt x="2885" y="2055"/>
                </a:lnTo>
                <a:lnTo>
                  <a:pt x="2886" y="2061"/>
                </a:lnTo>
                <a:lnTo>
                  <a:pt x="2888" y="2065"/>
                </a:lnTo>
                <a:lnTo>
                  <a:pt x="2893" y="2073"/>
                </a:lnTo>
                <a:lnTo>
                  <a:pt x="2900" y="2080"/>
                </a:lnTo>
                <a:lnTo>
                  <a:pt x="2909" y="2086"/>
                </a:lnTo>
                <a:lnTo>
                  <a:pt x="2917" y="2091"/>
                </a:lnTo>
                <a:lnTo>
                  <a:pt x="2928" y="2095"/>
                </a:lnTo>
                <a:lnTo>
                  <a:pt x="2937" y="2100"/>
                </a:lnTo>
                <a:lnTo>
                  <a:pt x="2961" y="2109"/>
                </a:lnTo>
                <a:lnTo>
                  <a:pt x="2982" y="2118"/>
                </a:lnTo>
                <a:lnTo>
                  <a:pt x="2992" y="2122"/>
                </a:lnTo>
                <a:lnTo>
                  <a:pt x="3004" y="2124"/>
                </a:lnTo>
                <a:lnTo>
                  <a:pt x="3016" y="2126"/>
                </a:lnTo>
                <a:lnTo>
                  <a:pt x="3028" y="2127"/>
                </a:lnTo>
                <a:lnTo>
                  <a:pt x="3041" y="2126"/>
                </a:lnTo>
                <a:lnTo>
                  <a:pt x="3053" y="2126"/>
                </a:lnTo>
                <a:lnTo>
                  <a:pt x="3064" y="2126"/>
                </a:lnTo>
                <a:lnTo>
                  <a:pt x="3077" y="2127"/>
                </a:lnTo>
                <a:lnTo>
                  <a:pt x="3079" y="2111"/>
                </a:lnTo>
                <a:lnTo>
                  <a:pt x="3080" y="2095"/>
                </a:lnTo>
                <a:lnTo>
                  <a:pt x="3080" y="2087"/>
                </a:lnTo>
                <a:lnTo>
                  <a:pt x="3078" y="2081"/>
                </a:lnTo>
                <a:lnTo>
                  <a:pt x="3076" y="2073"/>
                </a:lnTo>
                <a:lnTo>
                  <a:pt x="3074" y="2066"/>
                </a:lnTo>
                <a:lnTo>
                  <a:pt x="3087" y="2038"/>
                </a:lnTo>
                <a:lnTo>
                  <a:pt x="3083" y="2032"/>
                </a:lnTo>
                <a:lnTo>
                  <a:pt x="3078" y="2026"/>
                </a:lnTo>
                <a:lnTo>
                  <a:pt x="3073" y="2020"/>
                </a:lnTo>
                <a:lnTo>
                  <a:pt x="3066" y="2016"/>
                </a:lnTo>
                <a:lnTo>
                  <a:pt x="3060" y="2012"/>
                </a:lnTo>
                <a:lnTo>
                  <a:pt x="3053" y="2010"/>
                </a:lnTo>
                <a:lnTo>
                  <a:pt x="3044" y="2009"/>
                </a:lnTo>
                <a:lnTo>
                  <a:pt x="3037" y="2008"/>
                </a:lnTo>
                <a:lnTo>
                  <a:pt x="3031" y="2009"/>
                </a:lnTo>
                <a:lnTo>
                  <a:pt x="3027" y="2010"/>
                </a:lnTo>
                <a:lnTo>
                  <a:pt x="3023" y="2011"/>
                </a:lnTo>
                <a:lnTo>
                  <a:pt x="3019" y="2013"/>
                </a:lnTo>
                <a:lnTo>
                  <a:pt x="3016" y="2015"/>
                </a:lnTo>
                <a:lnTo>
                  <a:pt x="3011" y="2016"/>
                </a:lnTo>
                <a:lnTo>
                  <a:pt x="3007" y="2017"/>
                </a:lnTo>
                <a:lnTo>
                  <a:pt x="3002" y="2018"/>
                </a:lnTo>
                <a:lnTo>
                  <a:pt x="2968" y="2018"/>
                </a:lnTo>
                <a:close/>
                <a:moveTo>
                  <a:pt x="2781" y="1641"/>
                </a:moveTo>
                <a:lnTo>
                  <a:pt x="2734" y="1641"/>
                </a:lnTo>
                <a:lnTo>
                  <a:pt x="2734" y="1716"/>
                </a:lnTo>
                <a:lnTo>
                  <a:pt x="2733" y="1724"/>
                </a:lnTo>
                <a:lnTo>
                  <a:pt x="2730" y="1729"/>
                </a:lnTo>
                <a:lnTo>
                  <a:pt x="2726" y="1734"/>
                </a:lnTo>
                <a:lnTo>
                  <a:pt x="2722" y="1738"/>
                </a:lnTo>
                <a:lnTo>
                  <a:pt x="2718" y="1743"/>
                </a:lnTo>
                <a:lnTo>
                  <a:pt x="2714" y="1748"/>
                </a:lnTo>
                <a:lnTo>
                  <a:pt x="2711" y="1753"/>
                </a:lnTo>
                <a:lnTo>
                  <a:pt x="2710" y="1760"/>
                </a:lnTo>
                <a:lnTo>
                  <a:pt x="2711" y="1765"/>
                </a:lnTo>
                <a:lnTo>
                  <a:pt x="2712" y="1768"/>
                </a:lnTo>
                <a:lnTo>
                  <a:pt x="2716" y="1771"/>
                </a:lnTo>
                <a:lnTo>
                  <a:pt x="2720" y="1774"/>
                </a:lnTo>
                <a:lnTo>
                  <a:pt x="2724" y="1776"/>
                </a:lnTo>
                <a:lnTo>
                  <a:pt x="2727" y="1780"/>
                </a:lnTo>
                <a:lnTo>
                  <a:pt x="2731" y="1783"/>
                </a:lnTo>
                <a:lnTo>
                  <a:pt x="2734" y="1787"/>
                </a:lnTo>
                <a:lnTo>
                  <a:pt x="2738" y="1798"/>
                </a:lnTo>
                <a:lnTo>
                  <a:pt x="2741" y="1808"/>
                </a:lnTo>
                <a:lnTo>
                  <a:pt x="2743" y="1813"/>
                </a:lnTo>
                <a:lnTo>
                  <a:pt x="2744" y="1819"/>
                </a:lnTo>
                <a:lnTo>
                  <a:pt x="2747" y="1823"/>
                </a:lnTo>
                <a:lnTo>
                  <a:pt x="2750" y="1828"/>
                </a:lnTo>
                <a:lnTo>
                  <a:pt x="2756" y="1831"/>
                </a:lnTo>
                <a:lnTo>
                  <a:pt x="2760" y="1833"/>
                </a:lnTo>
                <a:lnTo>
                  <a:pt x="2765" y="1835"/>
                </a:lnTo>
                <a:lnTo>
                  <a:pt x="2771" y="1836"/>
                </a:lnTo>
                <a:lnTo>
                  <a:pt x="2776" y="1837"/>
                </a:lnTo>
                <a:lnTo>
                  <a:pt x="2781" y="1837"/>
                </a:lnTo>
                <a:lnTo>
                  <a:pt x="2786" y="1839"/>
                </a:lnTo>
                <a:lnTo>
                  <a:pt x="2792" y="1841"/>
                </a:lnTo>
                <a:lnTo>
                  <a:pt x="2796" y="1845"/>
                </a:lnTo>
                <a:lnTo>
                  <a:pt x="2799" y="1849"/>
                </a:lnTo>
                <a:lnTo>
                  <a:pt x="2801" y="1854"/>
                </a:lnTo>
                <a:lnTo>
                  <a:pt x="2803" y="1859"/>
                </a:lnTo>
                <a:lnTo>
                  <a:pt x="2804" y="1870"/>
                </a:lnTo>
                <a:lnTo>
                  <a:pt x="2805" y="1882"/>
                </a:lnTo>
                <a:lnTo>
                  <a:pt x="2792" y="1886"/>
                </a:lnTo>
                <a:lnTo>
                  <a:pt x="2778" y="1889"/>
                </a:lnTo>
                <a:lnTo>
                  <a:pt x="2776" y="1896"/>
                </a:lnTo>
                <a:lnTo>
                  <a:pt x="2775" y="1903"/>
                </a:lnTo>
                <a:lnTo>
                  <a:pt x="2775" y="1912"/>
                </a:lnTo>
                <a:lnTo>
                  <a:pt x="2777" y="1919"/>
                </a:lnTo>
                <a:lnTo>
                  <a:pt x="2779" y="1926"/>
                </a:lnTo>
                <a:lnTo>
                  <a:pt x="2782" y="1933"/>
                </a:lnTo>
                <a:lnTo>
                  <a:pt x="2790" y="1945"/>
                </a:lnTo>
                <a:lnTo>
                  <a:pt x="2798" y="1957"/>
                </a:lnTo>
                <a:lnTo>
                  <a:pt x="2808" y="1969"/>
                </a:lnTo>
                <a:lnTo>
                  <a:pt x="2815" y="1981"/>
                </a:lnTo>
                <a:lnTo>
                  <a:pt x="2818" y="1989"/>
                </a:lnTo>
                <a:lnTo>
                  <a:pt x="2820" y="1995"/>
                </a:lnTo>
                <a:lnTo>
                  <a:pt x="2821" y="2003"/>
                </a:lnTo>
                <a:lnTo>
                  <a:pt x="2822" y="2011"/>
                </a:lnTo>
                <a:lnTo>
                  <a:pt x="2831" y="2002"/>
                </a:lnTo>
                <a:lnTo>
                  <a:pt x="2838" y="1993"/>
                </a:lnTo>
                <a:lnTo>
                  <a:pt x="2841" y="1988"/>
                </a:lnTo>
                <a:lnTo>
                  <a:pt x="2846" y="1983"/>
                </a:lnTo>
                <a:lnTo>
                  <a:pt x="2851" y="1980"/>
                </a:lnTo>
                <a:lnTo>
                  <a:pt x="2856" y="1977"/>
                </a:lnTo>
                <a:lnTo>
                  <a:pt x="2862" y="1975"/>
                </a:lnTo>
                <a:lnTo>
                  <a:pt x="2868" y="1974"/>
                </a:lnTo>
                <a:lnTo>
                  <a:pt x="2874" y="1974"/>
                </a:lnTo>
                <a:lnTo>
                  <a:pt x="2879" y="1974"/>
                </a:lnTo>
                <a:lnTo>
                  <a:pt x="2892" y="1975"/>
                </a:lnTo>
                <a:lnTo>
                  <a:pt x="2904" y="1976"/>
                </a:lnTo>
                <a:lnTo>
                  <a:pt x="2914" y="1977"/>
                </a:lnTo>
                <a:lnTo>
                  <a:pt x="2925" y="1975"/>
                </a:lnTo>
                <a:lnTo>
                  <a:pt x="2929" y="1974"/>
                </a:lnTo>
                <a:lnTo>
                  <a:pt x="2933" y="1972"/>
                </a:lnTo>
                <a:lnTo>
                  <a:pt x="2937" y="1969"/>
                </a:lnTo>
                <a:lnTo>
                  <a:pt x="2942" y="1963"/>
                </a:lnTo>
                <a:lnTo>
                  <a:pt x="2945" y="1958"/>
                </a:lnTo>
                <a:lnTo>
                  <a:pt x="2948" y="1952"/>
                </a:lnTo>
                <a:lnTo>
                  <a:pt x="2950" y="1945"/>
                </a:lnTo>
                <a:lnTo>
                  <a:pt x="2952" y="1940"/>
                </a:lnTo>
                <a:lnTo>
                  <a:pt x="2954" y="1927"/>
                </a:lnTo>
                <a:lnTo>
                  <a:pt x="2954" y="1913"/>
                </a:lnTo>
                <a:lnTo>
                  <a:pt x="2954" y="1905"/>
                </a:lnTo>
                <a:lnTo>
                  <a:pt x="2952" y="1898"/>
                </a:lnTo>
                <a:lnTo>
                  <a:pt x="2950" y="1892"/>
                </a:lnTo>
                <a:lnTo>
                  <a:pt x="2947" y="1885"/>
                </a:lnTo>
                <a:lnTo>
                  <a:pt x="2943" y="1880"/>
                </a:lnTo>
                <a:lnTo>
                  <a:pt x="2937" y="1876"/>
                </a:lnTo>
                <a:lnTo>
                  <a:pt x="2931" y="1872"/>
                </a:lnTo>
                <a:lnTo>
                  <a:pt x="2924" y="1868"/>
                </a:lnTo>
                <a:lnTo>
                  <a:pt x="2933" y="1849"/>
                </a:lnTo>
                <a:lnTo>
                  <a:pt x="2942" y="1833"/>
                </a:lnTo>
                <a:lnTo>
                  <a:pt x="2946" y="1825"/>
                </a:lnTo>
                <a:lnTo>
                  <a:pt x="2948" y="1817"/>
                </a:lnTo>
                <a:lnTo>
                  <a:pt x="2950" y="1808"/>
                </a:lnTo>
                <a:lnTo>
                  <a:pt x="2951" y="1798"/>
                </a:lnTo>
                <a:lnTo>
                  <a:pt x="2951" y="1791"/>
                </a:lnTo>
                <a:lnTo>
                  <a:pt x="2950" y="1786"/>
                </a:lnTo>
                <a:lnTo>
                  <a:pt x="2948" y="1782"/>
                </a:lnTo>
                <a:lnTo>
                  <a:pt x="2946" y="1778"/>
                </a:lnTo>
                <a:lnTo>
                  <a:pt x="2943" y="1773"/>
                </a:lnTo>
                <a:lnTo>
                  <a:pt x="2940" y="1769"/>
                </a:lnTo>
                <a:lnTo>
                  <a:pt x="2936" y="1766"/>
                </a:lnTo>
                <a:lnTo>
                  <a:pt x="2932" y="1763"/>
                </a:lnTo>
                <a:lnTo>
                  <a:pt x="2923" y="1756"/>
                </a:lnTo>
                <a:lnTo>
                  <a:pt x="2912" y="1752"/>
                </a:lnTo>
                <a:lnTo>
                  <a:pt x="2902" y="1749"/>
                </a:lnTo>
                <a:lnTo>
                  <a:pt x="2890" y="1746"/>
                </a:lnTo>
                <a:lnTo>
                  <a:pt x="2884" y="1745"/>
                </a:lnTo>
                <a:lnTo>
                  <a:pt x="2878" y="1743"/>
                </a:lnTo>
                <a:lnTo>
                  <a:pt x="2874" y="1740"/>
                </a:lnTo>
                <a:lnTo>
                  <a:pt x="2869" y="1736"/>
                </a:lnTo>
                <a:lnTo>
                  <a:pt x="2862" y="1728"/>
                </a:lnTo>
                <a:lnTo>
                  <a:pt x="2856" y="1717"/>
                </a:lnTo>
                <a:lnTo>
                  <a:pt x="2851" y="1707"/>
                </a:lnTo>
                <a:lnTo>
                  <a:pt x="2844" y="1695"/>
                </a:lnTo>
                <a:lnTo>
                  <a:pt x="2838" y="1685"/>
                </a:lnTo>
                <a:lnTo>
                  <a:pt x="2829" y="1675"/>
                </a:lnTo>
                <a:lnTo>
                  <a:pt x="2818" y="1667"/>
                </a:lnTo>
                <a:lnTo>
                  <a:pt x="2805" y="1658"/>
                </a:lnTo>
                <a:lnTo>
                  <a:pt x="2793" y="1650"/>
                </a:lnTo>
                <a:lnTo>
                  <a:pt x="2781" y="1641"/>
                </a:lnTo>
                <a:close/>
                <a:moveTo>
                  <a:pt x="2482" y="1957"/>
                </a:moveTo>
                <a:lnTo>
                  <a:pt x="2473" y="1953"/>
                </a:lnTo>
                <a:lnTo>
                  <a:pt x="2462" y="1950"/>
                </a:lnTo>
                <a:lnTo>
                  <a:pt x="2455" y="1951"/>
                </a:lnTo>
                <a:lnTo>
                  <a:pt x="2447" y="1952"/>
                </a:lnTo>
                <a:lnTo>
                  <a:pt x="2441" y="1955"/>
                </a:lnTo>
                <a:lnTo>
                  <a:pt x="2435" y="1958"/>
                </a:lnTo>
                <a:lnTo>
                  <a:pt x="2429" y="1962"/>
                </a:lnTo>
                <a:lnTo>
                  <a:pt x="2425" y="1968"/>
                </a:lnTo>
                <a:lnTo>
                  <a:pt x="2422" y="1974"/>
                </a:lnTo>
                <a:lnTo>
                  <a:pt x="2421" y="1980"/>
                </a:lnTo>
                <a:lnTo>
                  <a:pt x="2422" y="1984"/>
                </a:lnTo>
                <a:lnTo>
                  <a:pt x="2423" y="1989"/>
                </a:lnTo>
                <a:lnTo>
                  <a:pt x="2424" y="1992"/>
                </a:lnTo>
                <a:lnTo>
                  <a:pt x="2426" y="1995"/>
                </a:lnTo>
                <a:lnTo>
                  <a:pt x="2432" y="2001"/>
                </a:lnTo>
                <a:lnTo>
                  <a:pt x="2438" y="2006"/>
                </a:lnTo>
                <a:lnTo>
                  <a:pt x="2446" y="2009"/>
                </a:lnTo>
                <a:lnTo>
                  <a:pt x="2455" y="2011"/>
                </a:lnTo>
                <a:lnTo>
                  <a:pt x="2463" y="2013"/>
                </a:lnTo>
                <a:lnTo>
                  <a:pt x="2473" y="2015"/>
                </a:lnTo>
                <a:lnTo>
                  <a:pt x="2480" y="2016"/>
                </a:lnTo>
                <a:lnTo>
                  <a:pt x="2486" y="2018"/>
                </a:lnTo>
                <a:lnTo>
                  <a:pt x="2493" y="2021"/>
                </a:lnTo>
                <a:lnTo>
                  <a:pt x="2499" y="2025"/>
                </a:lnTo>
                <a:lnTo>
                  <a:pt x="2506" y="2027"/>
                </a:lnTo>
                <a:lnTo>
                  <a:pt x="2512" y="2030"/>
                </a:lnTo>
                <a:lnTo>
                  <a:pt x="2519" y="2031"/>
                </a:lnTo>
                <a:lnTo>
                  <a:pt x="2527" y="2032"/>
                </a:lnTo>
                <a:lnTo>
                  <a:pt x="2532" y="2031"/>
                </a:lnTo>
                <a:lnTo>
                  <a:pt x="2536" y="2028"/>
                </a:lnTo>
                <a:lnTo>
                  <a:pt x="2539" y="2024"/>
                </a:lnTo>
                <a:lnTo>
                  <a:pt x="2541" y="2019"/>
                </a:lnTo>
                <a:lnTo>
                  <a:pt x="2542" y="2007"/>
                </a:lnTo>
                <a:lnTo>
                  <a:pt x="2544" y="1994"/>
                </a:lnTo>
                <a:lnTo>
                  <a:pt x="2526" y="1988"/>
                </a:lnTo>
                <a:lnTo>
                  <a:pt x="2510" y="1980"/>
                </a:lnTo>
                <a:lnTo>
                  <a:pt x="2502" y="1976"/>
                </a:lnTo>
                <a:lnTo>
                  <a:pt x="2496" y="1971"/>
                </a:lnTo>
                <a:lnTo>
                  <a:pt x="2490" y="1964"/>
                </a:lnTo>
                <a:lnTo>
                  <a:pt x="2482" y="1957"/>
                </a:lnTo>
                <a:close/>
                <a:moveTo>
                  <a:pt x="2214" y="2015"/>
                </a:moveTo>
                <a:lnTo>
                  <a:pt x="2208" y="2001"/>
                </a:lnTo>
                <a:lnTo>
                  <a:pt x="2200" y="1988"/>
                </a:lnTo>
                <a:lnTo>
                  <a:pt x="2180" y="1988"/>
                </a:lnTo>
                <a:lnTo>
                  <a:pt x="2180" y="2019"/>
                </a:lnTo>
                <a:lnTo>
                  <a:pt x="2180" y="2051"/>
                </a:lnTo>
                <a:lnTo>
                  <a:pt x="2182" y="2082"/>
                </a:lnTo>
                <a:lnTo>
                  <a:pt x="2184" y="2096"/>
                </a:lnTo>
                <a:lnTo>
                  <a:pt x="2187" y="2110"/>
                </a:lnTo>
                <a:lnTo>
                  <a:pt x="2190" y="2124"/>
                </a:lnTo>
                <a:lnTo>
                  <a:pt x="2193" y="2138"/>
                </a:lnTo>
                <a:lnTo>
                  <a:pt x="2197" y="2150"/>
                </a:lnTo>
                <a:lnTo>
                  <a:pt x="2202" y="2163"/>
                </a:lnTo>
                <a:lnTo>
                  <a:pt x="2208" y="2176"/>
                </a:lnTo>
                <a:lnTo>
                  <a:pt x="2215" y="2188"/>
                </a:lnTo>
                <a:lnTo>
                  <a:pt x="2222" y="2201"/>
                </a:lnTo>
                <a:lnTo>
                  <a:pt x="2231" y="2214"/>
                </a:lnTo>
                <a:lnTo>
                  <a:pt x="2240" y="2226"/>
                </a:lnTo>
                <a:lnTo>
                  <a:pt x="2252" y="2239"/>
                </a:lnTo>
                <a:lnTo>
                  <a:pt x="2300" y="2239"/>
                </a:lnTo>
                <a:lnTo>
                  <a:pt x="2300" y="2213"/>
                </a:lnTo>
                <a:lnTo>
                  <a:pt x="2299" y="2206"/>
                </a:lnTo>
                <a:lnTo>
                  <a:pt x="2297" y="2200"/>
                </a:lnTo>
                <a:lnTo>
                  <a:pt x="2296" y="2194"/>
                </a:lnTo>
                <a:lnTo>
                  <a:pt x="2294" y="2188"/>
                </a:lnTo>
                <a:lnTo>
                  <a:pt x="2290" y="2178"/>
                </a:lnTo>
                <a:lnTo>
                  <a:pt x="2284" y="2168"/>
                </a:lnTo>
                <a:lnTo>
                  <a:pt x="2277" y="2159"/>
                </a:lnTo>
                <a:lnTo>
                  <a:pt x="2271" y="2149"/>
                </a:lnTo>
                <a:lnTo>
                  <a:pt x="2265" y="2139"/>
                </a:lnTo>
                <a:lnTo>
                  <a:pt x="2258" y="2127"/>
                </a:lnTo>
                <a:lnTo>
                  <a:pt x="2255" y="2118"/>
                </a:lnTo>
                <a:lnTo>
                  <a:pt x="2254" y="2109"/>
                </a:lnTo>
                <a:lnTo>
                  <a:pt x="2254" y="2101"/>
                </a:lnTo>
                <a:lnTo>
                  <a:pt x="2255" y="2092"/>
                </a:lnTo>
                <a:lnTo>
                  <a:pt x="2256" y="2084"/>
                </a:lnTo>
                <a:lnTo>
                  <a:pt x="2256" y="2075"/>
                </a:lnTo>
                <a:lnTo>
                  <a:pt x="2254" y="2067"/>
                </a:lnTo>
                <a:lnTo>
                  <a:pt x="2252" y="2058"/>
                </a:lnTo>
                <a:lnTo>
                  <a:pt x="2248" y="2053"/>
                </a:lnTo>
                <a:lnTo>
                  <a:pt x="2244" y="2048"/>
                </a:lnTo>
                <a:lnTo>
                  <a:pt x="2238" y="2042"/>
                </a:lnTo>
                <a:lnTo>
                  <a:pt x="2233" y="2036"/>
                </a:lnTo>
                <a:lnTo>
                  <a:pt x="2222" y="2026"/>
                </a:lnTo>
                <a:lnTo>
                  <a:pt x="2214" y="2015"/>
                </a:lnTo>
                <a:close/>
                <a:moveTo>
                  <a:pt x="2238" y="1521"/>
                </a:moveTo>
                <a:lnTo>
                  <a:pt x="2238" y="1534"/>
                </a:lnTo>
                <a:lnTo>
                  <a:pt x="2239" y="1545"/>
                </a:lnTo>
                <a:lnTo>
                  <a:pt x="2243" y="1558"/>
                </a:lnTo>
                <a:lnTo>
                  <a:pt x="2246" y="1568"/>
                </a:lnTo>
                <a:lnTo>
                  <a:pt x="2249" y="1574"/>
                </a:lnTo>
                <a:lnTo>
                  <a:pt x="2251" y="1578"/>
                </a:lnTo>
                <a:lnTo>
                  <a:pt x="2254" y="1582"/>
                </a:lnTo>
                <a:lnTo>
                  <a:pt x="2258" y="1586"/>
                </a:lnTo>
                <a:lnTo>
                  <a:pt x="2263" y="1590"/>
                </a:lnTo>
                <a:lnTo>
                  <a:pt x="2268" y="1593"/>
                </a:lnTo>
                <a:lnTo>
                  <a:pt x="2273" y="1595"/>
                </a:lnTo>
                <a:lnTo>
                  <a:pt x="2278" y="1597"/>
                </a:lnTo>
                <a:lnTo>
                  <a:pt x="2278" y="1641"/>
                </a:lnTo>
                <a:lnTo>
                  <a:pt x="2295" y="1644"/>
                </a:lnTo>
                <a:lnTo>
                  <a:pt x="2302" y="1639"/>
                </a:lnTo>
                <a:lnTo>
                  <a:pt x="2309" y="1635"/>
                </a:lnTo>
                <a:lnTo>
                  <a:pt x="2315" y="1631"/>
                </a:lnTo>
                <a:lnTo>
                  <a:pt x="2323" y="1628"/>
                </a:lnTo>
                <a:lnTo>
                  <a:pt x="2328" y="1644"/>
                </a:lnTo>
                <a:lnTo>
                  <a:pt x="2333" y="1659"/>
                </a:lnTo>
                <a:lnTo>
                  <a:pt x="2340" y="1673"/>
                </a:lnTo>
                <a:lnTo>
                  <a:pt x="2345" y="1687"/>
                </a:lnTo>
                <a:lnTo>
                  <a:pt x="2351" y="1700"/>
                </a:lnTo>
                <a:lnTo>
                  <a:pt x="2357" y="1715"/>
                </a:lnTo>
                <a:lnTo>
                  <a:pt x="2361" y="1731"/>
                </a:lnTo>
                <a:lnTo>
                  <a:pt x="2364" y="1748"/>
                </a:lnTo>
                <a:lnTo>
                  <a:pt x="2262" y="1748"/>
                </a:lnTo>
                <a:lnTo>
                  <a:pt x="2262" y="1778"/>
                </a:lnTo>
                <a:lnTo>
                  <a:pt x="2263" y="1784"/>
                </a:lnTo>
                <a:lnTo>
                  <a:pt x="2264" y="1790"/>
                </a:lnTo>
                <a:lnTo>
                  <a:pt x="2266" y="1795"/>
                </a:lnTo>
                <a:lnTo>
                  <a:pt x="2268" y="1801"/>
                </a:lnTo>
                <a:lnTo>
                  <a:pt x="2275" y="1809"/>
                </a:lnTo>
                <a:lnTo>
                  <a:pt x="2285" y="1817"/>
                </a:lnTo>
                <a:lnTo>
                  <a:pt x="2295" y="1823"/>
                </a:lnTo>
                <a:lnTo>
                  <a:pt x="2306" y="1830"/>
                </a:lnTo>
                <a:lnTo>
                  <a:pt x="2316" y="1839"/>
                </a:lnTo>
                <a:lnTo>
                  <a:pt x="2326" y="1848"/>
                </a:lnTo>
                <a:lnTo>
                  <a:pt x="2340" y="1837"/>
                </a:lnTo>
                <a:lnTo>
                  <a:pt x="2351" y="1826"/>
                </a:lnTo>
                <a:lnTo>
                  <a:pt x="2358" y="1821"/>
                </a:lnTo>
                <a:lnTo>
                  <a:pt x="2364" y="1818"/>
                </a:lnTo>
                <a:lnTo>
                  <a:pt x="2372" y="1816"/>
                </a:lnTo>
                <a:lnTo>
                  <a:pt x="2381" y="1814"/>
                </a:lnTo>
                <a:lnTo>
                  <a:pt x="2388" y="1816"/>
                </a:lnTo>
                <a:lnTo>
                  <a:pt x="2395" y="1818"/>
                </a:lnTo>
                <a:lnTo>
                  <a:pt x="2400" y="1822"/>
                </a:lnTo>
                <a:lnTo>
                  <a:pt x="2405" y="1827"/>
                </a:lnTo>
                <a:lnTo>
                  <a:pt x="2410" y="1831"/>
                </a:lnTo>
                <a:lnTo>
                  <a:pt x="2416" y="1837"/>
                </a:lnTo>
                <a:lnTo>
                  <a:pt x="2421" y="1841"/>
                </a:lnTo>
                <a:lnTo>
                  <a:pt x="2428" y="1845"/>
                </a:lnTo>
                <a:lnTo>
                  <a:pt x="2441" y="1848"/>
                </a:lnTo>
                <a:lnTo>
                  <a:pt x="2454" y="1850"/>
                </a:lnTo>
                <a:lnTo>
                  <a:pt x="2465" y="1850"/>
                </a:lnTo>
                <a:lnTo>
                  <a:pt x="2477" y="1850"/>
                </a:lnTo>
                <a:lnTo>
                  <a:pt x="2489" y="1851"/>
                </a:lnTo>
                <a:lnTo>
                  <a:pt x="2500" y="1852"/>
                </a:lnTo>
                <a:lnTo>
                  <a:pt x="2506" y="1854"/>
                </a:lnTo>
                <a:lnTo>
                  <a:pt x="2512" y="1856"/>
                </a:lnTo>
                <a:lnTo>
                  <a:pt x="2517" y="1859"/>
                </a:lnTo>
                <a:lnTo>
                  <a:pt x="2523" y="1862"/>
                </a:lnTo>
                <a:lnTo>
                  <a:pt x="2530" y="1866"/>
                </a:lnTo>
                <a:lnTo>
                  <a:pt x="2535" y="1872"/>
                </a:lnTo>
                <a:lnTo>
                  <a:pt x="2539" y="1877"/>
                </a:lnTo>
                <a:lnTo>
                  <a:pt x="2544" y="1882"/>
                </a:lnTo>
                <a:lnTo>
                  <a:pt x="2550" y="1894"/>
                </a:lnTo>
                <a:lnTo>
                  <a:pt x="2555" y="1906"/>
                </a:lnTo>
                <a:lnTo>
                  <a:pt x="2559" y="1919"/>
                </a:lnTo>
                <a:lnTo>
                  <a:pt x="2565" y="1932"/>
                </a:lnTo>
                <a:lnTo>
                  <a:pt x="2568" y="1938"/>
                </a:lnTo>
                <a:lnTo>
                  <a:pt x="2572" y="1944"/>
                </a:lnTo>
                <a:lnTo>
                  <a:pt x="2576" y="1951"/>
                </a:lnTo>
                <a:lnTo>
                  <a:pt x="2582" y="1957"/>
                </a:lnTo>
                <a:lnTo>
                  <a:pt x="2587" y="1967"/>
                </a:lnTo>
                <a:lnTo>
                  <a:pt x="2591" y="1976"/>
                </a:lnTo>
                <a:lnTo>
                  <a:pt x="2593" y="1980"/>
                </a:lnTo>
                <a:lnTo>
                  <a:pt x="2596" y="1984"/>
                </a:lnTo>
                <a:lnTo>
                  <a:pt x="2599" y="1987"/>
                </a:lnTo>
                <a:lnTo>
                  <a:pt x="2605" y="1988"/>
                </a:lnTo>
                <a:lnTo>
                  <a:pt x="2610" y="1987"/>
                </a:lnTo>
                <a:lnTo>
                  <a:pt x="2615" y="1987"/>
                </a:lnTo>
                <a:lnTo>
                  <a:pt x="2621" y="1984"/>
                </a:lnTo>
                <a:lnTo>
                  <a:pt x="2626" y="1982"/>
                </a:lnTo>
                <a:lnTo>
                  <a:pt x="2630" y="1979"/>
                </a:lnTo>
                <a:lnTo>
                  <a:pt x="2634" y="1976"/>
                </a:lnTo>
                <a:lnTo>
                  <a:pt x="2639" y="1973"/>
                </a:lnTo>
                <a:lnTo>
                  <a:pt x="2642" y="1969"/>
                </a:lnTo>
                <a:lnTo>
                  <a:pt x="2648" y="1959"/>
                </a:lnTo>
                <a:lnTo>
                  <a:pt x="2652" y="1949"/>
                </a:lnTo>
                <a:lnTo>
                  <a:pt x="2654" y="1938"/>
                </a:lnTo>
                <a:lnTo>
                  <a:pt x="2655" y="1926"/>
                </a:lnTo>
                <a:lnTo>
                  <a:pt x="2654" y="1915"/>
                </a:lnTo>
                <a:lnTo>
                  <a:pt x="2652" y="1905"/>
                </a:lnTo>
                <a:lnTo>
                  <a:pt x="2647" y="1897"/>
                </a:lnTo>
                <a:lnTo>
                  <a:pt x="2642" y="1888"/>
                </a:lnTo>
                <a:lnTo>
                  <a:pt x="2629" y="1873"/>
                </a:lnTo>
                <a:lnTo>
                  <a:pt x="2615" y="1855"/>
                </a:lnTo>
                <a:lnTo>
                  <a:pt x="2610" y="1846"/>
                </a:lnTo>
                <a:lnTo>
                  <a:pt x="2606" y="1837"/>
                </a:lnTo>
                <a:lnTo>
                  <a:pt x="2604" y="1828"/>
                </a:lnTo>
                <a:lnTo>
                  <a:pt x="2603" y="1820"/>
                </a:lnTo>
                <a:lnTo>
                  <a:pt x="2602" y="1801"/>
                </a:lnTo>
                <a:lnTo>
                  <a:pt x="2602" y="1781"/>
                </a:lnTo>
                <a:lnTo>
                  <a:pt x="2599" y="1761"/>
                </a:lnTo>
                <a:lnTo>
                  <a:pt x="2596" y="1742"/>
                </a:lnTo>
                <a:lnTo>
                  <a:pt x="2594" y="1732"/>
                </a:lnTo>
                <a:lnTo>
                  <a:pt x="2591" y="1724"/>
                </a:lnTo>
                <a:lnTo>
                  <a:pt x="2588" y="1715"/>
                </a:lnTo>
                <a:lnTo>
                  <a:pt x="2584" y="1707"/>
                </a:lnTo>
                <a:lnTo>
                  <a:pt x="2579" y="1699"/>
                </a:lnTo>
                <a:lnTo>
                  <a:pt x="2574" y="1693"/>
                </a:lnTo>
                <a:lnTo>
                  <a:pt x="2569" y="1687"/>
                </a:lnTo>
                <a:lnTo>
                  <a:pt x="2563" y="1681"/>
                </a:lnTo>
                <a:lnTo>
                  <a:pt x="2555" y="1677"/>
                </a:lnTo>
                <a:lnTo>
                  <a:pt x="2548" y="1674"/>
                </a:lnTo>
                <a:lnTo>
                  <a:pt x="2539" y="1672"/>
                </a:lnTo>
                <a:lnTo>
                  <a:pt x="2530" y="1672"/>
                </a:lnTo>
                <a:lnTo>
                  <a:pt x="2523" y="1674"/>
                </a:lnTo>
                <a:lnTo>
                  <a:pt x="2516" y="1678"/>
                </a:lnTo>
                <a:lnTo>
                  <a:pt x="2516" y="1660"/>
                </a:lnTo>
                <a:lnTo>
                  <a:pt x="2515" y="1642"/>
                </a:lnTo>
                <a:lnTo>
                  <a:pt x="2514" y="1623"/>
                </a:lnTo>
                <a:lnTo>
                  <a:pt x="2510" y="1606"/>
                </a:lnTo>
                <a:lnTo>
                  <a:pt x="2508" y="1599"/>
                </a:lnTo>
                <a:lnTo>
                  <a:pt x="2504" y="1592"/>
                </a:lnTo>
                <a:lnTo>
                  <a:pt x="2500" y="1585"/>
                </a:lnTo>
                <a:lnTo>
                  <a:pt x="2496" y="1580"/>
                </a:lnTo>
                <a:lnTo>
                  <a:pt x="2491" y="1576"/>
                </a:lnTo>
                <a:lnTo>
                  <a:pt x="2484" y="1573"/>
                </a:lnTo>
                <a:lnTo>
                  <a:pt x="2477" y="1571"/>
                </a:lnTo>
                <a:lnTo>
                  <a:pt x="2469" y="1570"/>
                </a:lnTo>
                <a:lnTo>
                  <a:pt x="2465" y="1570"/>
                </a:lnTo>
                <a:lnTo>
                  <a:pt x="2462" y="1571"/>
                </a:lnTo>
                <a:lnTo>
                  <a:pt x="2459" y="1572"/>
                </a:lnTo>
                <a:lnTo>
                  <a:pt x="2456" y="1574"/>
                </a:lnTo>
                <a:lnTo>
                  <a:pt x="2452" y="1578"/>
                </a:lnTo>
                <a:lnTo>
                  <a:pt x="2447" y="1583"/>
                </a:lnTo>
                <a:lnTo>
                  <a:pt x="2441" y="1597"/>
                </a:lnTo>
                <a:lnTo>
                  <a:pt x="2435" y="1611"/>
                </a:lnTo>
                <a:lnTo>
                  <a:pt x="2427" y="1603"/>
                </a:lnTo>
                <a:lnTo>
                  <a:pt x="2421" y="1596"/>
                </a:lnTo>
                <a:lnTo>
                  <a:pt x="2417" y="1587"/>
                </a:lnTo>
                <a:lnTo>
                  <a:pt x="2414" y="1578"/>
                </a:lnTo>
                <a:lnTo>
                  <a:pt x="2410" y="1559"/>
                </a:lnTo>
                <a:lnTo>
                  <a:pt x="2409" y="1539"/>
                </a:lnTo>
                <a:lnTo>
                  <a:pt x="2408" y="1529"/>
                </a:lnTo>
                <a:lnTo>
                  <a:pt x="2407" y="1519"/>
                </a:lnTo>
                <a:lnTo>
                  <a:pt x="2406" y="1509"/>
                </a:lnTo>
                <a:lnTo>
                  <a:pt x="2404" y="1501"/>
                </a:lnTo>
                <a:lnTo>
                  <a:pt x="2400" y="1492"/>
                </a:lnTo>
                <a:lnTo>
                  <a:pt x="2396" y="1484"/>
                </a:lnTo>
                <a:lnTo>
                  <a:pt x="2389" y="1478"/>
                </a:lnTo>
                <a:lnTo>
                  <a:pt x="2381" y="1471"/>
                </a:lnTo>
                <a:lnTo>
                  <a:pt x="2377" y="1469"/>
                </a:lnTo>
                <a:lnTo>
                  <a:pt x="2372" y="1468"/>
                </a:lnTo>
                <a:lnTo>
                  <a:pt x="2368" y="1467"/>
                </a:lnTo>
                <a:lnTo>
                  <a:pt x="2364" y="1467"/>
                </a:lnTo>
                <a:lnTo>
                  <a:pt x="2357" y="1468"/>
                </a:lnTo>
                <a:lnTo>
                  <a:pt x="2348" y="1470"/>
                </a:lnTo>
                <a:lnTo>
                  <a:pt x="2331" y="1477"/>
                </a:lnTo>
                <a:lnTo>
                  <a:pt x="2312" y="1482"/>
                </a:lnTo>
                <a:lnTo>
                  <a:pt x="2287" y="1485"/>
                </a:lnTo>
                <a:lnTo>
                  <a:pt x="2264" y="1490"/>
                </a:lnTo>
                <a:lnTo>
                  <a:pt x="2258" y="1492"/>
                </a:lnTo>
                <a:lnTo>
                  <a:pt x="2253" y="1495"/>
                </a:lnTo>
                <a:lnTo>
                  <a:pt x="2249" y="1498"/>
                </a:lnTo>
                <a:lnTo>
                  <a:pt x="2245" y="1501"/>
                </a:lnTo>
                <a:lnTo>
                  <a:pt x="2243" y="1505"/>
                </a:lnTo>
                <a:lnTo>
                  <a:pt x="2239" y="1509"/>
                </a:lnTo>
                <a:lnTo>
                  <a:pt x="2238" y="1515"/>
                </a:lnTo>
                <a:lnTo>
                  <a:pt x="2238" y="1521"/>
                </a:lnTo>
                <a:close/>
                <a:moveTo>
                  <a:pt x="2635" y="1229"/>
                </a:moveTo>
                <a:lnTo>
                  <a:pt x="2636" y="1245"/>
                </a:lnTo>
                <a:lnTo>
                  <a:pt x="2636" y="1260"/>
                </a:lnTo>
                <a:lnTo>
                  <a:pt x="2635" y="1274"/>
                </a:lnTo>
                <a:lnTo>
                  <a:pt x="2635" y="1290"/>
                </a:lnTo>
                <a:lnTo>
                  <a:pt x="2646" y="1291"/>
                </a:lnTo>
                <a:lnTo>
                  <a:pt x="2655" y="1291"/>
                </a:lnTo>
                <a:lnTo>
                  <a:pt x="2665" y="1290"/>
                </a:lnTo>
                <a:lnTo>
                  <a:pt x="2677" y="1290"/>
                </a:lnTo>
                <a:lnTo>
                  <a:pt x="2678" y="1310"/>
                </a:lnTo>
                <a:lnTo>
                  <a:pt x="2679" y="1328"/>
                </a:lnTo>
                <a:lnTo>
                  <a:pt x="2681" y="1336"/>
                </a:lnTo>
                <a:lnTo>
                  <a:pt x="2683" y="1345"/>
                </a:lnTo>
                <a:lnTo>
                  <a:pt x="2686" y="1353"/>
                </a:lnTo>
                <a:lnTo>
                  <a:pt x="2689" y="1363"/>
                </a:lnTo>
                <a:lnTo>
                  <a:pt x="2703" y="1366"/>
                </a:lnTo>
                <a:lnTo>
                  <a:pt x="2710" y="1353"/>
                </a:lnTo>
                <a:lnTo>
                  <a:pt x="2715" y="1341"/>
                </a:lnTo>
                <a:lnTo>
                  <a:pt x="2718" y="1329"/>
                </a:lnTo>
                <a:lnTo>
                  <a:pt x="2720" y="1317"/>
                </a:lnTo>
                <a:lnTo>
                  <a:pt x="2721" y="1292"/>
                </a:lnTo>
                <a:lnTo>
                  <a:pt x="2720" y="1264"/>
                </a:lnTo>
                <a:lnTo>
                  <a:pt x="2720" y="1258"/>
                </a:lnTo>
                <a:lnTo>
                  <a:pt x="2718" y="1253"/>
                </a:lnTo>
                <a:lnTo>
                  <a:pt x="2716" y="1247"/>
                </a:lnTo>
                <a:lnTo>
                  <a:pt x="2712" y="1243"/>
                </a:lnTo>
                <a:lnTo>
                  <a:pt x="2708" y="1240"/>
                </a:lnTo>
                <a:lnTo>
                  <a:pt x="2703" y="1238"/>
                </a:lnTo>
                <a:lnTo>
                  <a:pt x="2698" y="1236"/>
                </a:lnTo>
                <a:lnTo>
                  <a:pt x="2691" y="1234"/>
                </a:lnTo>
                <a:lnTo>
                  <a:pt x="2678" y="1232"/>
                </a:lnTo>
                <a:lnTo>
                  <a:pt x="2664" y="1231"/>
                </a:lnTo>
                <a:lnTo>
                  <a:pt x="2649" y="1229"/>
                </a:lnTo>
                <a:lnTo>
                  <a:pt x="2635" y="1229"/>
                </a:lnTo>
                <a:close/>
                <a:moveTo>
                  <a:pt x="3240" y="1084"/>
                </a:moveTo>
                <a:lnTo>
                  <a:pt x="3248" y="1098"/>
                </a:lnTo>
                <a:lnTo>
                  <a:pt x="3255" y="1109"/>
                </a:lnTo>
                <a:lnTo>
                  <a:pt x="3264" y="1119"/>
                </a:lnTo>
                <a:lnTo>
                  <a:pt x="3272" y="1128"/>
                </a:lnTo>
                <a:lnTo>
                  <a:pt x="3281" y="1138"/>
                </a:lnTo>
                <a:lnTo>
                  <a:pt x="3288" y="1148"/>
                </a:lnTo>
                <a:lnTo>
                  <a:pt x="3295" y="1159"/>
                </a:lnTo>
                <a:lnTo>
                  <a:pt x="3301" y="1172"/>
                </a:lnTo>
                <a:lnTo>
                  <a:pt x="3309" y="1168"/>
                </a:lnTo>
                <a:lnTo>
                  <a:pt x="3314" y="1163"/>
                </a:lnTo>
                <a:lnTo>
                  <a:pt x="3320" y="1157"/>
                </a:lnTo>
                <a:lnTo>
                  <a:pt x="3323" y="1149"/>
                </a:lnTo>
                <a:lnTo>
                  <a:pt x="3326" y="1142"/>
                </a:lnTo>
                <a:lnTo>
                  <a:pt x="3327" y="1132"/>
                </a:lnTo>
                <a:lnTo>
                  <a:pt x="3328" y="1124"/>
                </a:lnTo>
                <a:lnTo>
                  <a:pt x="3328" y="1114"/>
                </a:lnTo>
                <a:lnTo>
                  <a:pt x="3328" y="1108"/>
                </a:lnTo>
                <a:lnTo>
                  <a:pt x="3326" y="1102"/>
                </a:lnTo>
                <a:lnTo>
                  <a:pt x="3323" y="1096"/>
                </a:lnTo>
                <a:lnTo>
                  <a:pt x="3319" y="1091"/>
                </a:lnTo>
                <a:lnTo>
                  <a:pt x="3313" y="1087"/>
                </a:lnTo>
                <a:lnTo>
                  <a:pt x="3308" y="1083"/>
                </a:lnTo>
                <a:lnTo>
                  <a:pt x="3302" y="1080"/>
                </a:lnTo>
                <a:lnTo>
                  <a:pt x="3294" y="1077"/>
                </a:lnTo>
                <a:lnTo>
                  <a:pt x="3288" y="1075"/>
                </a:lnTo>
                <a:lnTo>
                  <a:pt x="3281" y="1074"/>
                </a:lnTo>
                <a:lnTo>
                  <a:pt x="3273" y="1074"/>
                </a:lnTo>
                <a:lnTo>
                  <a:pt x="3266" y="1074"/>
                </a:lnTo>
                <a:lnTo>
                  <a:pt x="3258" y="1075"/>
                </a:lnTo>
                <a:lnTo>
                  <a:pt x="3252" y="1077"/>
                </a:lnTo>
                <a:lnTo>
                  <a:pt x="3246" y="1081"/>
                </a:lnTo>
                <a:lnTo>
                  <a:pt x="3240" y="1084"/>
                </a:lnTo>
                <a:close/>
                <a:moveTo>
                  <a:pt x="2979" y="792"/>
                </a:moveTo>
                <a:lnTo>
                  <a:pt x="2970" y="787"/>
                </a:lnTo>
                <a:lnTo>
                  <a:pt x="2963" y="783"/>
                </a:lnTo>
                <a:lnTo>
                  <a:pt x="2959" y="781"/>
                </a:lnTo>
                <a:lnTo>
                  <a:pt x="2954" y="780"/>
                </a:lnTo>
                <a:lnTo>
                  <a:pt x="2950" y="779"/>
                </a:lnTo>
                <a:lnTo>
                  <a:pt x="2945" y="779"/>
                </a:lnTo>
                <a:lnTo>
                  <a:pt x="2935" y="780"/>
                </a:lnTo>
                <a:lnTo>
                  <a:pt x="2927" y="782"/>
                </a:lnTo>
                <a:lnTo>
                  <a:pt x="2919" y="786"/>
                </a:lnTo>
                <a:lnTo>
                  <a:pt x="2913" y="791"/>
                </a:lnTo>
                <a:lnTo>
                  <a:pt x="2902" y="804"/>
                </a:lnTo>
                <a:lnTo>
                  <a:pt x="2890" y="819"/>
                </a:lnTo>
                <a:lnTo>
                  <a:pt x="2893" y="835"/>
                </a:lnTo>
                <a:lnTo>
                  <a:pt x="2905" y="837"/>
                </a:lnTo>
                <a:lnTo>
                  <a:pt x="2914" y="837"/>
                </a:lnTo>
                <a:lnTo>
                  <a:pt x="2924" y="838"/>
                </a:lnTo>
                <a:lnTo>
                  <a:pt x="2932" y="837"/>
                </a:lnTo>
                <a:lnTo>
                  <a:pt x="2951" y="836"/>
                </a:lnTo>
                <a:lnTo>
                  <a:pt x="2971" y="835"/>
                </a:lnTo>
                <a:lnTo>
                  <a:pt x="2982" y="838"/>
                </a:lnTo>
                <a:lnTo>
                  <a:pt x="2992" y="843"/>
                </a:lnTo>
                <a:lnTo>
                  <a:pt x="2987" y="848"/>
                </a:lnTo>
                <a:lnTo>
                  <a:pt x="2981" y="854"/>
                </a:lnTo>
                <a:lnTo>
                  <a:pt x="2975" y="857"/>
                </a:lnTo>
                <a:lnTo>
                  <a:pt x="2968" y="860"/>
                </a:lnTo>
                <a:lnTo>
                  <a:pt x="2954" y="864"/>
                </a:lnTo>
                <a:lnTo>
                  <a:pt x="2937" y="866"/>
                </a:lnTo>
                <a:lnTo>
                  <a:pt x="2937" y="907"/>
                </a:lnTo>
                <a:lnTo>
                  <a:pt x="2924" y="911"/>
                </a:lnTo>
                <a:lnTo>
                  <a:pt x="2913" y="901"/>
                </a:lnTo>
                <a:lnTo>
                  <a:pt x="2900" y="894"/>
                </a:lnTo>
                <a:lnTo>
                  <a:pt x="2896" y="902"/>
                </a:lnTo>
                <a:lnTo>
                  <a:pt x="2893" y="910"/>
                </a:lnTo>
                <a:lnTo>
                  <a:pt x="2891" y="918"/>
                </a:lnTo>
                <a:lnTo>
                  <a:pt x="2890" y="927"/>
                </a:lnTo>
                <a:lnTo>
                  <a:pt x="2891" y="934"/>
                </a:lnTo>
                <a:lnTo>
                  <a:pt x="2893" y="939"/>
                </a:lnTo>
                <a:lnTo>
                  <a:pt x="2896" y="944"/>
                </a:lnTo>
                <a:lnTo>
                  <a:pt x="2899" y="949"/>
                </a:lnTo>
                <a:lnTo>
                  <a:pt x="2909" y="956"/>
                </a:lnTo>
                <a:lnTo>
                  <a:pt x="2917" y="966"/>
                </a:lnTo>
                <a:lnTo>
                  <a:pt x="2926" y="975"/>
                </a:lnTo>
                <a:lnTo>
                  <a:pt x="2932" y="985"/>
                </a:lnTo>
                <a:lnTo>
                  <a:pt x="2938" y="994"/>
                </a:lnTo>
                <a:lnTo>
                  <a:pt x="2944" y="1004"/>
                </a:lnTo>
                <a:lnTo>
                  <a:pt x="2954" y="1024"/>
                </a:lnTo>
                <a:lnTo>
                  <a:pt x="2965" y="1047"/>
                </a:lnTo>
                <a:lnTo>
                  <a:pt x="2959" y="1050"/>
                </a:lnTo>
                <a:lnTo>
                  <a:pt x="2951" y="1053"/>
                </a:lnTo>
                <a:lnTo>
                  <a:pt x="2935" y="1047"/>
                </a:lnTo>
                <a:lnTo>
                  <a:pt x="2919" y="1039"/>
                </a:lnTo>
                <a:lnTo>
                  <a:pt x="2880" y="1039"/>
                </a:lnTo>
                <a:lnTo>
                  <a:pt x="2877" y="1059"/>
                </a:lnTo>
                <a:lnTo>
                  <a:pt x="2875" y="1076"/>
                </a:lnTo>
                <a:lnTo>
                  <a:pt x="2875" y="1085"/>
                </a:lnTo>
                <a:lnTo>
                  <a:pt x="2875" y="1093"/>
                </a:lnTo>
                <a:lnTo>
                  <a:pt x="2877" y="1102"/>
                </a:lnTo>
                <a:lnTo>
                  <a:pt x="2880" y="1111"/>
                </a:lnTo>
                <a:lnTo>
                  <a:pt x="2865" y="1111"/>
                </a:lnTo>
                <a:lnTo>
                  <a:pt x="2851" y="1113"/>
                </a:lnTo>
                <a:lnTo>
                  <a:pt x="2844" y="1114"/>
                </a:lnTo>
                <a:lnTo>
                  <a:pt x="2838" y="1118"/>
                </a:lnTo>
                <a:lnTo>
                  <a:pt x="2832" y="1121"/>
                </a:lnTo>
                <a:lnTo>
                  <a:pt x="2825" y="1125"/>
                </a:lnTo>
                <a:lnTo>
                  <a:pt x="2829" y="1130"/>
                </a:lnTo>
                <a:lnTo>
                  <a:pt x="2832" y="1134"/>
                </a:lnTo>
                <a:lnTo>
                  <a:pt x="2836" y="1139"/>
                </a:lnTo>
                <a:lnTo>
                  <a:pt x="2839" y="1143"/>
                </a:lnTo>
                <a:lnTo>
                  <a:pt x="2848" y="1148"/>
                </a:lnTo>
                <a:lnTo>
                  <a:pt x="2856" y="1153"/>
                </a:lnTo>
                <a:lnTo>
                  <a:pt x="2866" y="1159"/>
                </a:lnTo>
                <a:lnTo>
                  <a:pt x="2874" y="1164"/>
                </a:lnTo>
                <a:lnTo>
                  <a:pt x="2882" y="1170"/>
                </a:lnTo>
                <a:lnTo>
                  <a:pt x="2890" y="1179"/>
                </a:lnTo>
                <a:lnTo>
                  <a:pt x="2893" y="1194"/>
                </a:lnTo>
                <a:lnTo>
                  <a:pt x="2897" y="1206"/>
                </a:lnTo>
                <a:lnTo>
                  <a:pt x="2902" y="1208"/>
                </a:lnTo>
                <a:lnTo>
                  <a:pt x="2907" y="1210"/>
                </a:lnTo>
                <a:lnTo>
                  <a:pt x="2911" y="1209"/>
                </a:lnTo>
                <a:lnTo>
                  <a:pt x="2916" y="1209"/>
                </a:lnTo>
                <a:lnTo>
                  <a:pt x="2927" y="1206"/>
                </a:lnTo>
                <a:lnTo>
                  <a:pt x="2937" y="1203"/>
                </a:lnTo>
                <a:lnTo>
                  <a:pt x="2945" y="1217"/>
                </a:lnTo>
                <a:lnTo>
                  <a:pt x="2934" y="1220"/>
                </a:lnTo>
                <a:lnTo>
                  <a:pt x="2925" y="1223"/>
                </a:lnTo>
                <a:lnTo>
                  <a:pt x="2915" y="1225"/>
                </a:lnTo>
                <a:lnTo>
                  <a:pt x="2904" y="1226"/>
                </a:lnTo>
                <a:lnTo>
                  <a:pt x="2898" y="1226"/>
                </a:lnTo>
                <a:lnTo>
                  <a:pt x="2893" y="1225"/>
                </a:lnTo>
                <a:lnTo>
                  <a:pt x="2889" y="1223"/>
                </a:lnTo>
                <a:lnTo>
                  <a:pt x="2885" y="1221"/>
                </a:lnTo>
                <a:lnTo>
                  <a:pt x="2877" y="1215"/>
                </a:lnTo>
                <a:lnTo>
                  <a:pt x="2870" y="1208"/>
                </a:lnTo>
                <a:lnTo>
                  <a:pt x="2862" y="1201"/>
                </a:lnTo>
                <a:lnTo>
                  <a:pt x="2855" y="1195"/>
                </a:lnTo>
                <a:lnTo>
                  <a:pt x="2851" y="1191"/>
                </a:lnTo>
                <a:lnTo>
                  <a:pt x="2847" y="1189"/>
                </a:lnTo>
                <a:lnTo>
                  <a:pt x="2841" y="1187"/>
                </a:lnTo>
                <a:lnTo>
                  <a:pt x="2836" y="1186"/>
                </a:lnTo>
                <a:lnTo>
                  <a:pt x="2834" y="1197"/>
                </a:lnTo>
                <a:lnTo>
                  <a:pt x="2833" y="1207"/>
                </a:lnTo>
                <a:lnTo>
                  <a:pt x="2833" y="1213"/>
                </a:lnTo>
                <a:lnTo>
                  <a:pt x="2834" y="1218"/>
                </a:lnTo>
                <a:lnTo>
                  <a:pt x="2835" y="1223"/>
                </a:lnTo>
                <a:lnTo>
                  <a:pt x="2837" y="1228"/>
                </a:lnTo>
                <a:lnTo>
                  <a:pt x="2841" y="1237"/>
                </a:lnTo>
                <a:lnTo>
                  <a:pt x="2848" y="1244"/>
                </a:lnTo>
                <a:lnTo>
                  <a:pt x="2854" y="1253"/>
                </a:lnTo>
                <a:lnTo>
                  <a:pt x="2859" y="1261"/>
                </a:lnTo>
                <a:lnTo>
                  <a:pt x="2866" y="1271"/>
                </a:lnTo>
                <a:lnTo>
                  <a:pt x="2870" y="1281"/>
                </a:lnTo>
                <a:lnTo>
                  <a:pt x="2875" y="1308"/>
                </a:lnTo>
                <a:lnTo>
                  <a:pt x="2878" y="1333"/>
                </a:lnTo>
                <a:lnTo>
                  <a:pt x="2879" y="1339"/>
                </a:lnTo>
                <a:lnTo>
                  <a:pt x="2881" y="1345"/>
                </a:lnTo>
                <a:lnTo>
                  <a:pt x="2884" y="1350"/>
                </a:lnTo>
                <a:lnTo>
                  <a:pt x="2886" y="1355"/>
                </a:lnTo>
                <a:lnTo>
                  <a:pt x="2889" y="1359"/>
                </a:lnTo>
                <a:lnTo>
                  <a:pt x="2893" y="1364"/>
                </a:lnTo>
                <a:lnTo>
                  <a:pt x="2898" y="1367"/>
                </a:lnTo>
                <a:lnTo>
                  <a:pt x="2904" y="1369"/>
                </a:lnTo>
                <a:lnTo>
                  <a:pt x="2937" y="1352"/>
                </a:lnTo>
                <a:lnTo>
                  <a:pt x="2937" y="1356"/>
                </a:lnTo>
                <a:lnTo>
                  <a:pt x="2936" y="1360"/>
                </a:lnTo>
                <a:lnTo>
                  <a:pt x="2934" y="1365"/>
                </a:lnTo>
                <a:lnTo>
                  <a:pt x="2932" y="1368"/>
                </a:lnTo>
                <a:lnTo>
                  <a:pt x="2927" y="1374"/>
                </a:lnTo>
                <a:lnTo>
                  <a:pt x="2922" y="1380"/>
                </a:lnTo>
                <a:lnTo>
                  <a:pt x="2916" y="1386"/>
                </a:lnTo>
                <a:lnTo>
                  <a:pt x="2912" y="1393"/>
                </a:lnTo>
                <a:lnTo>
                  <a:pt x="2910" y="1396"/>
                </a:lnTo>
                <a:lnTo>
                  <a:pt x="2909" y="1400"/>
                </a:lnTo>
                <a:lnTo>
                  <a:pt x="2908" y="1404"/>
                </a:lnTo>
                <a:lnTo>
                  <a:pt x="2907" y="1408"/>
                </a:lnTo>
                <a:lnTo>
                  <a:pt x="2908" y="1417"/>
                </a:lnTo>
                <a:lnTo>
                  <a:pt x="2911" y="1425"/>
                </a:lnTo>
                <a:lnTo>
                  <a:pt x="2915" y="1432"/>
                </a:lnTo>
                <a:lnTo>
                  <a:pt x="2922" y="1439"/>
                </a:lnTo>
                <a:lnTo>
                  <a:pt x="2929" y="1444"/>
                </a:lnTo>
                <a:lnTo>
                  <a:pt x="2936" y="1448"/>
                </a:lnTo>
                <a:lnTo>
                  <a:pt x="2946" y="1450"/>
                </a:lnTo>
                <a:lnTo>
                  <a:pt x="2954" y="1451"/>
                </a:lnTo>
                <a:lnTo>
                  <a:pt x="2966" y="1450"/>
                </a:lnTo>
                <a:lnTo>
                  <a:pt x="2975" y="1447"/>
                </a:lnTo>
                <a:lnTo>
                  <a:pt x="2985" y="1443"/>
                </a:lnTo>
                <a:lnTo>
                  <a:pt x="2993" y="1439"/>
                </a:lnTo>
                <a:lnTo>
                  <a:pt x="3003" y="1434"/>
                </a:lnTo>
                <a:lnTo>
                  <a:pt x="3011" y="1431"/>
                </a:lnTo>
                <a:lnTo>
                  <a:pt x="3022" y="1428"/>
                </a:lnTo>
                <a:lnTo>
                  <a:pt x="3032" y="1427"/>
                </a:lnTo>
                <a:lnTo>
                  <a:pt x="3039" y="1427"/>
                </a:lnTo>
                <a:lnTo>
                  <a:pt x="3045" y="1429"/>
                </a:lnTo>
                <a:lnTo>
                  <a:pt x="3049" y="1430"/>
                </a:lnTo>
                <a:lnTo>
                  <a:pt x="3055" y="1433"/>
                </a:lnTo>
                <a:lnTo>
                  <a:pt x="3063" y="1440"/>
                </a:lnTo>
                <a:lnTo>
                  <a:pt x="3070" y="1448"/>
                </a:lnTo>
                <a:lnTo>
                  <a:pt x="3078" y="1457"/>
                </a:lnTo>
                <a:lnTo>
                  <a:pt x="3085" y="1466"/>
                </a:lnTo>
                <a:lnTo>
                  <a:pt x="3094" y="1474"/>
                </a:lnTo>
                <a:lnTo>
                  <a:pt x="3104" y="1482"/>
                </a:lnTo>
                <a:lnTo>
                  <a:pt x="3094" y="1484"/>
                </a:lnTo>
                <a:lnTo>
                  <a:pt x="3083" y="1487"/>
                </a:lnTo>
                <a:lnTo>
                  <a:pt x="3074" y="1490"/>
                </a:lnTo>
                <a:lnTo>
                  <a:pt x="3064" y="1496"/>
                </a:lnTo>
                <a:lnTo>
                  <a:pt x="3055" y="1500"/>
                </a:lnTo>
                <a:lnTo>
                  <a:pt x="3046" y="1505"/>
                </a:lnTo>
                <a:lnTo>
                  <a:pt x="3038" y="1511"/>
                </a:lnTo>
                <a:lnTo>
                  <a:pt x="3030" y="1518"/>
                </a:lnTo>
                <a:lnTo>
                  <a:pt x="3023" y="1525"/>
                </a:lnTo>
                <a:lnTo>
                  <a:pt x="3018" y="1533"/>
                </a:lnTo>
                <a:lnTo>
                  <a:pt x="3011" y="1541"/>
                </a:lnTo>
                <a:lnTo>
                  <a:pt x="3007" y="1551"/>
                </a:lnTo>
                <a:lnTo>
                  <a:pt x="3004" y="1559"/>
                </a:lnTo>
                <a:lnTo>
                  <a:pt x="3001" y="1570"/>
                </a:lnTo>
                <a:lnTo>
                  <a:pt x="3000" y="1579"/>
                </a:lnTo>
                <a:lnTo>
                  <a:pt x="2999" y="1590"/>
                </a:lnTo>
                <a:lnTo>
                  <a:pt x="3000" y="1593"/>
                </a:lnTo>
                <a:lnTo>
                  <a:pt x="3000" y="1596"/>
                </a:lnTo>
                <a:lnTo>
                  <a:pt x="3002" y="1598"/>
                </a:lnTo>
                <a:lnTo>
                  <a:pt x="3004" y="1600"/>
                </a:lnTo>
                <a:lnTo>
                  <a:pt x="3008" y="1604"/>
                </a:lnTo>
                <a:lnTo>
                  <a:pt x="3014" y="1608"/>
                </a:lnTo>
                <a:lnTo>
                  <a:pt x="3020" y="1610"/>
                </a:lnTo>
                <a:lnTo>
                  <a:pt x="3025" y="1614"/>
                </a:lnTo>
                <a:lnTo>
                  <a:pt x="3026" y="1616"/>
                </a:lnTo>
                <a:lnTo>
                  <a:pt x="3028" y="1618"/>
                </a:lnTo>
                <a:lnTo>
                  <a:pt x="3029" y="1621"/>
                </a:lnTo>
                <a:lnTo>
                  <a:pt x="3029" y="1624"/>
                </a:lnTo>
                <a:lnTo>
                  <a:pt x="3027" y="1633"/>
                </a:lnTo>
                <a:lnTo>
                  <a:pt x="3023" y="1641"/>
                </a:lnTo>
                <a:lnTo>
                  <a:pt x="3023" y="1681"/>
                </a:lnTo>
                <a:lnTo>
                  <a:pt x="3034" y="1682"/>
                </a:lnTo>
                <a:lnTo>
                  <a:pt x="3044" y="1684"/>
                </a:lnTo>
                <a:lnTo>
                  <a:pt x="3054" y="1685"/>
                </a:lnTo>
                <a:lnTo>
                  <a:pt x="3062" y="1687"/>
                </a:lnTo>
                <a:lnTo>
                  <a:pt x="3080" y="1692"/>
                </a:lnTo>
                <a:lnTo>
                  <a:pt x="3101" y="1698"/>
                </a:lnTo>
                <a:lnTo>
                  <a:pt x="3085" y="1713"/>
                </a:lnTo>
                <a:lnTo>
                  <a:pt x="3072" y="1726"/>
                </a:lnTo>
                <a:lnTo>
                  <a:pt x="3065" y="1733"/>
                </a:lnTo>
                <a:lnTo>
                  <a:pt x="3061" y="1741"/>
                </a:lnTo>
                <a:lnTo>
                  <a:pt x="3059" y="1745"/>
                </a:lnTo>
                <a:lnTo>
                  <a:pt x="3058" y="1750"/>
                </a:lnTo>
                <a:lnTo>
                  <a:pt x="3057" y="1754"/>
                </a:lnTo>
                <a:lnTo>
                  <a:pt x="3057" y="1760"/>
                </a:lnTo>
                <a:lnTo>
                  <a:pt x="3057" y="1764"/>
                </a:lnTo>
                <a:lnTo>
                  <a:pt x="3058" y="1767"/>
                </a:lnTo>
                <a:lnTo>
                  <a:pt x="3060" y="1770"/>
                </a:lnTo>
                <a:lnTo>
                  <a:pt x="3062" y="1773"/>
                </a:lnTo>
                <a:lnTo>
                  <a:pt x="3067" y="1776"/>
                </a:lnTo>
                <a:lnTo>
                  <a:pt x="3075" y="1780"/>
                </a:lnTo>
                <a:lnTo>
                  <a:pt x="3092" y="1784"/>
                </a:lnTo>
                <a:lnTo>
                  <a:pt x="3107" y="1790"/>
                </a:lnTo>
                <a:lnTo>
                  <a:pt x="3123" y="1801"/>
                </a:lnTo>
                <a:lnTo>
                  <a:pt x="3138" y="1811"/>
                </a:lnTo>
                <a:lnTo>
                  <a:pt x="3151" y="1822"/>
                </a:lnTo>
                <a:lnTo>
                  <a:pt x="3163" y="1832"/>
                </a:lnTo>
                <a:lnTo>
                  <a:pt x="3176" y="1843"/>
                </a:lnTo>
                <a:lnTo>
                  <a:pt x="3190" y="1851"/>
                </a:lnTo>
                <a:lnTo>
                  <a:pt x="3197" y="1856"/>
                </a:lnTo>
                <a:lnTo>
                  <a:pt x="3205" y="1860"/>
                </a:lnTo>
                <a:lnTo>
                  <a:pt x="3214" y="1863"/>
                </a:lnTo>
                <a:lnTo>
                  <a:pt x="3223" y="1865"/>
                </a:lnTo>
                <a:lnTo>
                  <a:pt x="3224" y="1856"/>
                </a:lnTo>
                <a:lnTo>
                  <a:pt x="3224" y="1848"/>
                </a:lnTo>
                <a:lnTo>
                  <a:pt x="3224" y="1840"/>
                </a:lnTo>
                <a:lnTo>
                  <a:pt x="3223" y="1831"/>
                </a:lnTo>
                <a:lnTo>
                  <a:pt x="3223" y="1790"/>
                </a:lnTo>
                <a:lnTo>
                  <a:pt x="3227" y="1784"/>
                </a:lnTo>
                <a:lnTo>
                  <a:pt x="3233" y="1776"/>
                </a:lnTo>
                <a:lnTo>
                  <a:pt x="3246" y="1787"/>
                </a:lnTo>
                <a:lnTo>
                  <a:pt x="3255" y="1797"/>
                </a:lnTo>
                <a:lnTo>
                  <a:pt x="3265" y="1806"/>
                </a:lnTo>
                <a:lnTo>
                  <a:pt x="3277" y="1814"/>
                </a:lnTo>
                <a:lnTo>
                  <a:pt x="3282" y="1804"/>
                </a:lnTo>
                <a:lnTo>
                  <a:pt x="3284" y="1793"/>
                </a:lnTo>
                <a:lnTo>
                  <a:pt x="3283" y="1787"/>
                </a:lnTo>
                <a:lnTo>
                  <a:pt x="3281" y="1781"/>
                </a:lnTo>
                <a:lnTo>
                  <a:pt x="3276" y="1774"/>
                </a:lnTo>
                <a:lnTo>
                  <a:pt x="3272" y="1770"/>
                </a:lnTo>
                <a:lnTo>
                  <a:pt x="3268" y="1765"/>
                </a:lnTo>
                <a:lnTo>
                  <a:pt x="3264" y="1759"/>
                </a:lnTo>
                <a:lnTo>
                  <a:pt x="3262" y="1753"/>
                </a:lnTo>
                <a:lnTo>
                  <a:pt x="3261" y="1746"/>
                </a:lnTo>
                <a:lnTo>
                  <a:pt x="3261" y="1712"/>
                </a:lnTo>
                <a:lnTo>
                  <a:pt x="3274" y="1706"/>
                </a:lnTo>
                <a:lnTo>
                  <a:pt x="3280" y="1721"/>
                </a:lnTo>
                <a:lnTo>
                  <a:pt x="3283" y="1735"/>
                </a:lnTo>
                <a:lnTo>
                  <a:pt x="3284" y="1743"/>
                </a:lnTo>
                <a:lnTo>
                  <a:pt x="3287" y="1749"/>
                </a:lnTo>
                <a:lnTo>
                  <a:pt x="3290" y="1756"/>
                </a:lnTo>
                <a:lnTo>
                  <a:pt x="3294" y="1764"/>
                </a:lnTo>
                <a:lnTo>
                  <a:pt x="3307" y="1776"/>
                </a:lnTo>
                <a:lnTo>
                  <a:pt x="3321" y="1788"/>
                </a:lnTo>
                <a:lnTo>
                  <a:pt x="3326" y="1794"/>
                </a:lnTo>
                <a:lnTo>
                  <a:pt x="3331" y="1801"/>
                </a:lnTo>
                <a:lnTo>
                  <a:pt x="3332" y="1805"/>
                </a:lnTo>
                <a:lnTo>
                  <a:pt x="3334" y="1808"/>
                </a:lnTo>
                <a:lnTo>
                  <a:pt x="3334" y="1813"/>
                </a:lnTo>
                <a:lnTo>
                  <a:pt x="3336" y="1818"/>
                </a:lnTo>
                <a:lnTo>
                  <a:pt x="3349" y="1821"/>
                </a:lnTo>
                <a:lnTo>
                  <a:pt x="3348" y="1802"/>
                </a:lnTo>
                <a:lnTo>
                  <a:pt x="3348" y="1784"/>
                </a:lnTo>
                <a:lnTo>
                  <a:pt x="3348" y="1775"/>
                </a:lnTo>
                <a:lnTo>
                  <a:pt x="3349" y="1767"/>
                </a:lnTo>
                <a:lnTo>
                  <a:pt x="3351" y="1759"/>
                </a:lnTo>
                <a:lnTo>
                  <a:pt x="3356" y="1750"/>
                </a:lnTo>
                <a:lnTo>
                  <a:pt x="3361" y="1741"/>
                </a:lnTo>
                <a:lnTo>
                  <a:pt x="3368" y="1733"/>
                </a:lnTo>
                <a:lnTo>
                  <a:pt x="3375" y="1726"/>
                </a:lnTo>
                <a:lnTo>
                  <a:pt x="3382" y="1719"/>
                </a:lnTo>
                <a:lnTo>
                  <a:pt x="3389" y="1713"/>
                </a:lnTo>
                <a:lnTo>
                  <a:pt x="3395" y="1706"/>
                </a:lnTo>
                <a:lnTo>
                  <a:pt x="3397" y="1702"/>
                </a:lnTo>
                <a:lnTo>
                  <a:pt x="3398" y="1697"/>
                </a:lnTo>
                <a:lnTo>
                  <a:pt x="3399" y="1692"/>
                </a:lnTo>
                <a:lnTo>
                  <a:pt x="3400" y="1687"/>
                </a:lnTo>
                <a:lnTo>
                  <a:pt x="3399" y="1667"/>
                </a:lnTo>
                <a:lnTo>
                  <a:pt x="3396" y="1649"/>
                </a:lnTo>
                <a:lnTo>
                  <a:pt x="3391" y="1632"/>
                </a:lnTo>
                <a:lnTo>
                  <a:pt x="3385" y="1615"/>
                </a:lnTo>
                <a:lnTo>
                  <a:pt x="3371" y="1582"/>
                </a:lnTo>
                <a:lnTo>
                  <a:pt x="3356" y="1546"/>
                </a:lnTo>
                <a:lnTo>
                  <a:pt x="3360" y="1560"/>
                </a:lnTo>
                <a:lnTo>
                  <a:pt x="3364" y="1575"/>
                </a:lnTo>
                <a:lnTo>
                  <a:pt x="3368" y="1589"/>
                </a:lnTo>
                <a:lnTo>
                  <a:pt x="3375" y="1601"/>
                </a:lnTo>
                <a:lnTo>
                  <a:pt x="3378" y="1606"/>
                </a:lnTo>
                <a:lnTo>
                  <a:pt x="3381" y="1612"/>
                </a:lnTo>
                <a:lnTo>
                  <a:pt x="3385" y="1616"/>
                </a:lnTo>
                <a:lnTo>
                  <a:pt x="3389" y="1620"/>
                </a:lnTo>
                <a:lnTo>
                  <a:pt x="3395" y="1623"/>
                </a:lnTo>
                <a:lnTo>
                  <a:pt x="3400" y="1625"/>
                </a:lnTo>
                <a:lnTo>
                  <a:pt x="3406" y="1627"/>
                </a:lnTo>
                <a:lnTo>
                  <a:pt x="3414" y="1628"/>
                </a:lnTo>
                <a:lnTo>
                  <a:pt x="3417" y="1628"/>
                </a:lnTo>
                <a:lnTo>
                  <a:pt x="3420" y="1627"/>
                </a:lnTo>
                <a:lnTo>
                  <a:pt x="3422" y="1624"/>
                </a:lnTo>
                <a:lnTo>
                  <a:pt x="3424" y="1622"/>
                </a:lnTo>
                <a:lnTo>
                  <a:pt x="3428" y="1617"/>
                </a:lnTo>
                <a:lnTo>
                  <a:pt x="3431" y="1611"/>
                </a:lnTo>
                <a:lnTo>
                  <a:pt x="3434" y="1596"/>
                </a:lnTo>
                <a:lnTo>
                  <a:pt x="3434" y="1580"/>
                </a:lnTo>
                <a:lnTo>
                  <a:pt x="3435" y="1559"/>
                </a:lnTo>
                <a:lnTo>
                  <a:pt x="3437" y="1540"/>
                </a:lnTo>
                <a:lnTo>
                  <a:pt x="3440" y="1531"/>
                </a:lnTo>
                <a:lnTo>
                  <a:pt x="3444" y="1524"/>
                </a:lnTo>
                <a:lnTo>
                  <a:pt x="3446" y="1521"/>
                </a:lnTo>
                <a:lnTo>
                  <a:pt x="3450" y="1518"/>
                </a:lnTo>
                <a:lnTo>
                  <a:pt x="3453" y="1515"/>
                </a:lnTo>
                <a:lnTo>
                  <a:pt x="3457" y="1511"/>
                </a:lnTo>
                <a:lnTo>
                  <a:pt x="3471" y="1504"/>
                </a:lnTo>
                <a:lnTo>
                  <a:pt x="3483" y="1496"/>
                </a:lnTo>
                <a:lnTo>
                  <a:pt x="3494" y="1486"/>
                </a:lnTo>
                <a:lnTo>
                  <a:pt x="3503" y="1477"/>
                </a:lnTo>
                <a:lnTo>
                  <a:pt x="3508" y="1471"/>
                </a:lnTo>
                <a:lnTo>
                  <a:pt x="3511" y="1465"/>
                </a:lnTo>
                <a:lnTo>
                  <a:pt x="3514" y="1459"/>
                </a:lnTo>
                <a:lnTo>
                  <a:pt x="3517" y="1452"/>
                </a:lnTo>
                <a:lnTo>
                  <a:pt x="3519" y="1446"/>
                </a:lnTo>
                <a:lnTo>
                  <a:pt x="3520" y="1439"/>
                </a:lnTo>
                <a:lnTo>
                  <a:pt x="3521" y="1431"/>
                </a:lnTo>
                <a:lnTo>
                  <a:pt x="3522" y="1424"/>
                </a:lnTo>
                <a:lnTo>
                  <a:pt x="3521" y="1414"/>
                </a:lnTo>
                <a:lnTo>
                  <a:pt x="3520" y="1405"/>
                </a:lnTo>
                <a:lnTo>
                  <a:pt x="3519" y="1395"/>
                </a:lnTo>
                <a:lnTo>
                  <a:pt x="3517" y="1387"/>
                </a:lnTo>
                <a:lnTo>
                  <a:pt x="3514" y="1377"/>
                </a:lnTo>
                <a:lnTo>
                  <a:pt x="3511" y="1369"/>
                </a:lnTo>
                <a:lnTo>
                  <a:pt x="3507" y="1361"/>
                </a:lnTo>
                <a:lnTo>
                  <a:pt x="3502" y="1354"/>
                </a:lnTo>
                <a:lnTo>
                  <a:pt x="3497" y="1347"/>
                </a:lnTo>
                <a:lnTo>
                  <a:pt x="3492" y="1340"/>
                </a:lnTo>
                <a:lnTo>
                  <a:pt x="3485" y="1335"/>
                </a:lnTo>
                <a:lnTo>
                  <a:pt x="3479" y="1331"/>
                </a:lnTo>
                <a:lnTo>
                  <a:pt x="3471" y="1327"/>
                </a:lnTo>
                <a:lnTo>
                  <a:pt x="3463" y="1325"/>
                </a:lnTo>
                <a:lnTo>
                  <a:pt x="3455" y="1322"/>
                </a:lnTo>
                <a:lnTo>
                  <a:pt x="3445" y="1321"/>
                </a:lnTo>
                <a:lnTo>
                  <a:pt x="3431" y="1326"/>
                </a:lnTo>
                <a:lnTo>
                  <a:pt x="3416" y="1329"/>
                </a:lnTo>
                <a:lnTo>
                  <a:pt x="3403" y="1328"/>
                </a:lnTo>
                <a:lnTo>
                  <a:pt x="3393" y="1327"/>
                </a:lnTo>
                <a:lnTo>
                  <a:pt x="3381" y="1325"/>
                </a:lnTo>
                <a:lnTo>
                  <a:pt x="3369" y="1326"/>
                </a:lnTo>
                <a:lnTo>
                  <a:pt x="3369" y="1314"/>
                </a:lnTo>
                <a:lnTo>
                  <a:pt x="3368" y="1302"/>
                </a:lnTo>
                <a:lnTo>
                  <a:pt x="3366" y="1291"/>
                </a:lnTo>
                <a:lnTo>
                  <a:pt x="3364" y="1280"/>
                </a:lnTo>
                <a:lnTo>
                  <a:pt x="3362" y="1270"/>
                </a:lnTo>
                <a:lnTo>
                  <a:pt x="3359" y="1260"/>
                </a:lnTo>
                <a:lnTo>
                  <a:pt x="3355" y="1251"/>
                </a:lnTo>
                <a:lnTo>
                  <a:pt x="3349" y="1241"/>
                </a:lnTo>
                <a:lnTo>
                  <a:pt x="3344" y="1233"/>
                </a:lnTo>
                <a:lnTo>
                  <a:pt x="3339" y="1224"/>
                </a:lnTo>
                <a:lnTo>
                  <a:pt x="3331" y="1217"/>
                </a:lnTo>
                <a:lnTo>
                  <a:pt x="3324" y="1209"/>
                </a:lnTo>
                <a:lnTo>
                  <a:pt x="3317" y="1202"/>
                </a:lnTo>
                <a:lnTo>
                  <a:pt x="3307" y="1197"/>
                </a:lnTo>
                <a:lnTo>
                  <a:pt x="3298" y="1190"/>
                </a:lnTo>
                <a:lnTo>
                  <a:pt x="3288" y="1186"/>
                </a:lnTo>
                <a:lnTo>
                  <a:pt x="3277" y="1181"/>
                </a:lnTo>
                <a:lnTo>
                  <a:pt x="3269" y="1175"/>
                </a:lnTo>
                <a:lnTo>
                  <a:pt x="3263" y="1167"/>
                </a:lnTo>
                <a:lnTo>
                  <a:pt x="3256" y="1159"/>
                </a:lnTo>
                <a:lnTo>
                  <a:pt x="3247" y="1141"/>
                </a:lnTo>
                <a:lnTo>
                  <a:pt x="3238" y="1121"/>
                </a:lnTo>
                <a:lnTo>
                  <a:pt x="3235" y="1111"/>
                </a:lnTo>
                <a:lnTo>
                  <a:pt x="3231" y="1102"/>
                </a:lnTo>
                <a:lnTo>
                  <a:pt x="3226" y="1092"/>
                </a:lnTo>
                <a:lnTo>
                  <a:pt x="3220" y="1084"/>
                </a:lnTo>
                <a:lnTo>
                  <a:pt x="3215" y="1075"/>
                </a:lnTo>
                <a:lnTo>
                  <a:pt x="3208" y="1068"/>
                </a:lnTo>
                <a:lnTo>
                  <a:pt x="3199" y="1062"/>
                </a:lnTo>
                <a:lnTo>
                  <a:pt x="3189" y="1056"/>
                </a:lnTo>
                <a:lnTo>
                  <a:pt x="3171" y="1050"/>
                </a:lnTo>
                <a:lnTo>
                  <a:pt x="3154" y="1044"/>
                </a:lnTo>
                <a:lnTo>
                  <a:pt x="3145" y="1040"/>
                </a:lnTo>
                <a:lnTo>
                  <a:pt x="3137" y="1036"/>
                </a:lnTo>
                <a:lnTo>
                  <a:pt x="3130" y="1032"/>
                </a:lnTo>
                <a:lnTo>
                  <a:pt x="3121" y="1026"/>
                </a:lnTo>
                <a:lnTo>
                  <a:pt x="3117" y="1023"/>
                </a:lnTo>
                <a:lnTo>
                  <a:pt x="3113" y="1018"/>
                </a:lnTo>
                <a:lnTo>
                  <a:pt x="3108" y="1013"/>
                </a:lnTo>
                <a:lnTo>
                  <a:pt x="3106" y="1009"/>
                </a:lnTo>
                <a:lnTo>
                  <a:pt x="3101" y="999"/>
                </a:lnTo>
                <a:lnTo>
                  <a:pt x="3098" y="989"/>
                </a:lnTo>
                <a:lnTo>
                  <a:pt x="3092" y="968"/>
                </a:lnTo>
                <a:lnTo>
                  <a:pt x="3084" y="944"/>
                </a:lnTo>
                <a:lnTo>
                  <a:pt x="3074" y="922"/>
                </a:lnTo>
                <a:lnTo>
                  <a:pt x="3063" y="901"/>
                </a:lnTo>
                <a:lnTo>
                  <a:pt x="3053" y="880"/>
                </a:lnTo>
                <a:lnTo>
                  <a:pt x="3041" y="861"/>
                </a:lnTo>
                <a:lnTo>
                  <a:pt x="3028" y="842"/>
                </a:lnTo>
                <a:lnTo>
                  <a:pt x="3013" y="824"/>
                </a:lnTo>
                <a:lnTo>
                  <a:pt x="3006" y="816"/>
                </a:lnTo>
                <a:lnTo>
                  <a:pt x="2998" y="807"/>
                </a:lnTo>
                <a:lnTo>
                  <a:pt x="2988" y="800"/>
                </a:lnTo>
                <a:lnTo>
                  <a:pt x="2979" y="792"/>
                </a:lnTo>
                <a:close/>
                <a:moveTo>
                  <a:pt x="4099" y="0"/>
                </a:moveTo>
                <a:lnTo>
                  <a:pt x="4091" y="12"/>
                </a:lnTo>
                <a:lnTo>
                  <a:pt x="4082" y="24"/>
                </a:lnTo>
                <a:lnTo>
                  <a:pt x="4077" y="28"/>
                </a:lnTo>
                <a:lnTo>
                  <a:pt x="4072" y="31"/>
                </a:lnTo>
                <a:lnTo>
                  <a:pt x="4065" y="33"/>
                </a:lnTo>
                <a:lnTo>
                  <a:pt x="4059" y="34"/>
                </a:lnTo>
                <a:lnTo>
                  <a:pt x="4053" y="34"/>
                </a:lnTo>
                <a:lnTo>
                  <a:pt x="4047" y="32"/>
                </a:lnTo>
                <a:lnTo>
                  <a:pt x="4043" y="30"/>
                </a:lnTo>
                <a:lnTo>
                  <a:pt x="4039" y="27"/>
                </a:lnTo>
                <a:lnTo>
                  <a:pt x="4030" y="18"/>
                </a:lnTo>
                <a:lnTo>
                  <a:pt x="4021" y="11"/>
                </a:lnTo>
                <a:lnTo>
                  <a:pt x="4011" y="32"/>
                </a:lnTo>
                <a:lnTo>
                  <a:pt x="4001" y="51"/>
                </a:lnTo>
                <a:lnTo>
                  <a:pt x="3990" y="68"/>
                </a:lnTo>
                <a:lnTo>
                  <a:pt x="3978" y="85"/>
                </a:lnTo>
                <a:lnTo>
                  <a:pt x="3951" y="115"/>
                </a:lnTo>
                <a:lnTo>
                  <a:pt x="3919" y="150"/>
                </a:lnTo>
                <a:lnTo>
                  <a:pt x="3906" y="157"/>
                </a:lnTo>
                <a:lnTo>
                  <a:pt x="3909" y="142"/>
                </a:lnTo>
                <a:lnTo>
                  <a:pt x="3913" y="128"/>
                </a:lnTo>
                <a:lnTo>
                  <a:pt x="3918" y="115"/>
                </a:lnTo>
                <a:lnTo>
                  <a:pt x="3924" y="104"/>
                </a:lnTo>
                <a:lnTo>
                  <a:pt x="3928" y="91"/>
                </a:lnTo>
                <a:lnTo>
                  <a:pt x="3932" y="80"/>
                </a:lnTo>
                <a:lnTo>
                  <a:pt x="3935" y="66"/>
                </a:lnTo>
                <a:lnTo>
                  <a:pt x="3936" y="50"/>
                </a:lnTo>
                <a:lnTo>
                  <a:pt x="3936" y="20"/>
                </a:lnTo>
                <a:lnTo>
                  <a:pt x="3929" y="30"/>
                </a:lnTo>
                <a:lnTo>
                  <a:pt x="3921" y="37"/>
                </a:lnTo>
                <a:lnTo>
                  <a:pt x="3915" y="41"/>
                </a:lnTo>
                <a:lnTo>
                  <a:pt x="3911" y="43"/>
                </a:lnTo>
                <a:lnTo>
                  <a:pt x="3905" y="44"/>
                </a:lnTo>
                <a:lnTo>
                  <a:pt x="3899" y="45"/>
                </a:lnTo>
                <a:lnTo>
                  <a:pt x="3881" y="44"/>
                </a:lnTo>
                <a:lnTo>
                  <a:pt x="3867" y="42"/>
                </a:lnTo>
                <a:lnTo>
                  <a:pt x="3852" y="38"/>
                </a:lnTo>
                <a:lnTo>
                  <a:pt x="3834" y="37"/>
                </a:lnTo>
                <a:lnTo>
                  <a:pt x="3806" y="39"/>
                </a:lnTo>
                <a:lnTo>
                  <a:pt x="3782" y="42"/>
                </a:lnTo>
                <a:lnTo>
                  <a:pt x="3770" y="42"/>
                </a:lnTo>
                <a:lnTo>
                  <a:pt x="3757" y="42"/>
                </a:lnTo>
                <a:lnTo>
                  <a:pt x="3744" y="41"/>
                </a:lnTo>
                <a:lnTo>
                  <a:pt x="3729" y="38"/>
                </a:lnTo>
                <a:lnTo>
                  <a:pt x="3729" y="65"/>
                </a:lnTo>
                <a:lnTo>
                  <a:pt x="3743" y="79"/>
                </a:lnTo>
                <a:lnTo>
                  <a:pt x="3746" y="92"/>
                </a:lnTo>
                <a:lnTo>
                  <a:pt x="3730" y="86"/>
                </a:lnTo>
                <a:lnTo>
                  <a:pt x="3716" y="80"/>
                </a:lnTo>
                <a:lnTo>
                  <a:pt x="3709" y="76"/>
                </a:lnTo>
                <a:lnTo>
                  <a:pt x="3702" y="74"/>
                </a:lnTo>
                <a:lnTo>
                  <a:pt x="3694" y="72"/>
                </a:lnTo>
                <a:lnTo>
                  <a:pt x="3685" y="72"/>
                </a:lnTo>
                <a:lnTo>
                  <a:pt x="3678" y="72"/>
                </a:lnTo>
                <a:lnTo>
                  <a:pt x="3671" y="74"/>
                </a:lnTo>
                <a:lnTo>
                  <a:pt x="3666" y="79"/>
                </a:lnTo>
                <a:lnTo>
                  <a:pt x="3661" y="83"/>
                </a:lnTo>
                <a:lnTo>
                  <a:pt x="3657" y="89"/>
                </a:lnTo>
                <a:lnTo>
                  <a:pt x="3653" y="95"/>
                </a:lnTo>
                <a:lnTo>
                  <a:pt x="3651" y="102"/>
                </a:lnTo>
                <a:lnTo>
                  <a:pt x="3651" y="109"/>
                </a:lnTo>
                <a:lnTo>
                  <a:pt x="3651" y="113"/>
                </a:lnTo>
                <a:lnTo>
                  <a:pt x="3652" y="117"/>
                </a:lnTo>
                <a:lnTo>
                  <a:pt x="3654" y="120"/>
                </a:lnTo>
                <a:lnTo>
                  <a:pt x="3657" y="122"/>
                </a:lnTo>
                <a:lnTo>
                  <a:pt x="3663" y="127"/>
                </a:lnTo>
                <a:lnTo>
                  <a:pt x="3668" y="132"/>
                </a:lnTo>
                <a:lnTo>
                  <a:pt x="3644" y="127"/>
                </a:lnTo>
                <a:lnTo>
                  <a:pt x="3623" y="123"/>
                </a:lnTo>
                <a:lnTo>
                  <a:pt x="3601" y="120"/>
                </a:lnTo>
                <a:lnTo>
                  <a:pt x="3576" y="120"/>
                </a:lnTo>
                <a:lnTo>
                  <a:pt x="3564" y="120"/>
                </a:lnTo>
                <a:lnTo>
                  <a:pt x="3551" y="122"/>
                </a:lnTo>
                <a:lnTo>
                  <a:pt x="3540" y="125"/>
                </a:lnTo>
                <a:lnTo>
                  <a:pt x="3530" y="130"/>
                </a:lnTo>
                <a:lnTo>
                  <a:pt x="3520" y="137"/>
                </a:lnTo>
                <a:lnTo>
                  <a:pt x="3512" y="144"/>
                </a:lnTo>
                <a:lnTo>
                  <a:pt x="3502" y="153"/>
                </a:lnTo>
                <a:lnTo>
                  <a:pt x="3495" y="163"/>
                </a:lnTo>
                <a:lnTo>
                  <a:pt x="3504" y="170"/>
                </a:lnTo>
                <a:lnTo>
                  <a:pt x="3514" y="176"/>
                </a:lnTo>
                <a:lnTo>
                  <a:pt x="3525" y="180"/>
                </a:lnTo>
                <a:lnTo>
                  <a:pt x="3535" y="184"/>
                </a:lnTo>
                <a:lnTo>
                  <a:pt x="3545" y="188"/>
                </a:lnTo>
                <a:lnTo>
                  <a:pt x="3553" y="194"/>
                </a:lnTo>
                <a:lnTo>
                  <a:pt x="3557" y="197"/>
                </a:lnTo>
                <a:lnTo>
                  <a:pt x="3560" y="201"/>
                </a:lnTo>
                <a:lnTo>
                  <a:pt x="3564" y="205"/>
                </a:lnTo>
                <a:lnTo>
                  <a:pt x="3566" y="211"/>
                </a:lnTo>
                <a:lnTo>
                  <a:pt x="3559" y="213"/>
                </a:lnTo>
                <a:lnTo>
                  <a:pt x="3553" y="215"/>
                </a:lnTo>
                <a:lnTo>
                  <a:pt x="3548" y="214"/>
                </a:lnTo>
                <a:lnTo>
                  <a:pt x="3542" y="213"/>
                </a:lnTo>
                <a:lnTo>
                  <a:pt x="3538" y="211"/>
                </a:lnTo>
                <a:lnTo>
                  <a:pt x="3534" y="208"/>
                </a:lnTo>
                <a:lnTo>
                  <a:pt x="3527" y="202"/>
                </a:lnTo>
                <a:lnTo>
                  <a:pt x="3519" y="196"/>
                </a:lnTo>
                <a:lnTo>
                  <a:pt x="3512" y="188"/>
                </a:lnTo>
                <a:lnTo>
                  <a:pt x="3503" y="183"/>
                </a:lnTo>
                <a:lnTo>
                  <a:pt x="3499" y="181"/>
                </a:lnTo>
                <a:lnTo>
                  <a:pt x="3495" y="179"/>
                </a:lnTo>
                <a:lnTo>
                  <a:pt x="3490" y="178"/>
                </a:lnTo>
                <a:lnTo>
                  <a:pt x="3484" y="177"/>
                </a:lnTo>
                <a:lnTo>
                  <a:pt x="3479" y="178"/>
                </a:lnTo>
                <a:lnTo>
                  <a:pt x="3475" y="180"/>
                </a:lnTo>
                <a:lnTo>
                  <a:pt x="3471" y="183"/>
                </a:lnTo>
                <a:lnTo>
                  <a:pt x="3468" y="187"/>
                </a:lnTo>
                <a:lnTo>
                  <a:pt x="3462" y="196"/>
                </a:lnTo>
                <a:lnTo>
                  <a:pt x="3454" y="204"/>
                </a:lnTo>
                <a:lnTo>
                  <a:pt x="3438" y="189"/>
                </a:lnTo>
                <a:lnTo>
                  <a:pt x="3423" y="174"/>
                </a:lnTo>
                <a:lnTo>
                  <a:pt x="3412" y="185"/>
                </a:lnTo>
                <a:lnTo>
                  <a:pt x="3401" y="195"/>
                </a:lnTo>
                <a:lnTo>
                  <a:pt x="3396" y="201"/>
                </a:lnTo>
                <a:lnTo>
                  <a:pt x="3393" y="206"/>
                </a:lnTo>
                <a:lnTo>
                  <a:pt x="3390" y="214"/>
                </a:lnTo>
                <a:lnTo>
                  <a:pt x="3389" y="221"/>
                </a:lnTo>
                <a:lnTo>
                  <a:pt x="3389" y="224"/>
                </a:lnTo>
                <a:lnTo>
                  <a:pt x="3390" y="227"/>
                </a:lnTo>
                <a:lnTo>
                  <a:pt x="3391" y="230"/>
                </a:lnTo>
                <a:lnTo>
                  <a:pt x="3394" y="233"/>
                </a:lnTo>
                <a:lnTo>
                  <a:pt x="3398" y="236"/>
                </a:lnTo>
                <a:lnTo>
                  <a:pt x="3404" y="239"/>
                </a:lnTo>
                <a:lnTo>
                  <a:pt x="3417" y="243"/>
                </a:lnTo>
                <a:lnTo>
                  <a:pt x="3431" y="249"/>
                </a:lnTo>
                <a:lnTo>
                  <a:pt x="3424" y="252"/>
                </a:lnTo>
                <a:lnTo>
                  <a:pt x="3417" y="255"/>
                </a:lnTo>
                <a:lnTo>
                  <a:pt x="3412" y="255"/>
                </a:lnTo>
                <a:lnTo>
                  <a:pt x="3407" y="254"/>
                </a:lnTo>
                <a:lnTo>
                  <a:pt x="3403" y="253"/>
                </a:lnTo>
                <a:lnTo>
                  <a:pt x="3400" y="251"/>
                </a:lnTo>
                <a:lnTo>
                  <a:pt x="3393" y="246"/>
                </a:lnTo>
                <a:lnTo>
                  <a:pt x="3386" y="241"/>
                </a:lnTo>
                <a:lnTo>
                  <a:pt x="3380" y="235"/>
                </a:lnTo>
                <a:lnTo>
                  <a:pt x="3374" y="228"/>
                </a:lnTo>
                <a:lnTo>
                  <a:pt x="3367" y="223"/>
                </a:lnTo>
                <a:lnTo>
                  <a:pt x="3359" y="218"/>
                </a:lnTo>
                <a:lnTo>
                  <a:pt x="3357" y="230"/>
                </a:lnTo>
                <a:lnTo>
                  <a:pt x="3356" y="241"/>
                </a:lnTo>
                <a:lnTo>
                  <a:pt x="3356" y="249"/>
                </a:lnTo>
                <a:lnTo>
                  <a:pt x="3358" y="254"/>
                </a:lnTo>
                <a:lnTo>
                  <a:pt x="3360" y="259"/>
                </a:lnTo>
                <a:lnTo>
                  <a:pt x="3363" y="264"/>
                </a:lnTo>
                <a:lnTo>
                  <a:pt x="3370" y="273"/>
                </a:lnTo>
                <a:lnTo>
                  <a:pt x="3380" y="281"/>
                </a:lnTo>
                <a:lnTo>
                  <a:pt x="3389" y="289"/>
                </a:lnTo>
                <a:lnTo>
                  <a:pt x="3398" y="297"/>
                </a:lnTo>
                <a:lnTo>
                  <a:pt x="3402" y="302"/>
                </a:lnTo>
                <a:lnTo>
                  <a:pt x="3405" y="308"/>
                </a:lnTo>
                <a:lnTo>
                  <a:pt x="3408" y="313"/>
                </a:lnTo>
                <a:lnTo>
                  <a:pt x="3409" y="319"/>
                </a:lnTo>
                <a:lnTo>
                  <a:pt x="3402" y="321"/>
                </a:lnTo>
                <a:lnTo>
                  <a:pt x="3394" y="324"/>
                </a:lnTo>
                <a:lnTo>
                  <a:pt x="3390" y="322"/>
                </a:lnTo>
                <a:lnTo>
                  <a:pt x="3387" y="321"/>
                </a:lnTo>
                <a:lnTo>
                  <a:pt x="3384" y="320"/>
                </a:lnTo>
                <a:lnTo>
                  <a:pt x="3382" y="319"/>
                </a:lnTo>
                <a:lnTo>
                  <a:pt x="3377" y="314"/>
                </a:lnTo>
                <a:lnTo>
                  <a:pt x="3372" y="310"/>
                </a:lnTo>
                <a:lnTo>
                  <a:pt x="3368" y="304"/>
                </a:lnTo>
                <a:lnTo>
                  <a:pt x="3364" y="300"/>
                </a:lnTo>
                <a:lnTo>
                  <a:pt x="3362" y="298"/>
                </a:lnTo>
                <a:lnTo>
                  <a:pt x="3359" y="297"/>
                </a:lnTo>
                <a:lnTo>
                  <a:pt x="3356" y="296"/>
                </a:lnTo>
                <a:lnTo>
                  <a:pt x="3352" y="296"/>
                </a:lnTo>
                <a:lnTo>
                  <a:pt x="3342" y="298"/>
                </a:lnTo>
                <a:lnTo>
                  <a:pt x="3331" y="302"/>
                </a:lnTo>
                <a:lnTo>
                  <a:pt x="3331" y="331"/>
                </a:lnTo>
                <a:lnTo>
                  <a:pt x="3336" y="341"/>
                </a:lnTo>
                <a:lnTo>
                  <a:pt x="3339" y="352"/>
                </a:lnTo>
                <a:lnTo>
                  <a:pt x="3336" y="363"/>
                </a:lnTo>
                <a:lnTo>
                  <a:pt x="3331" y="374"/>
                </a:lnTo>
                <a:lnTo>
                  <a:pt x="3332" y="379"/>
                </a:lnTo>
                <a:lnTo>
                  <a:pt x="3336" y="385"/>
                </a:lnTo>
                <a:lnTo>
                  <a:pt x="3340" y="388"/>
                </a:lnTo>
                <a:lnTo>
                  <a:pt x="3344" y="391"/>
                </a:lnTo>
                <a:lnTo>
                  <a:pt x="3349" y="393"/>
                </a:lnTo>
                <a:lnTo>
                  <a:pt x="3356" y="396"/>
                </a:lnTo>
                <a:lnTo>
                  <a:pt x="3361" y="401"/>
                </a:lnTo>
                <a:lnTo>
                  <a:pt x="3366" y="405"/>
                </a:lnTo>
                <a:lnTo>
                  <a:pt x="3374" y="415"/>
                </a:lnTo>
                <a:lnTo>
                  <a:pt x="3381" y="426"/>
                </a:lnTo>
                <a:lnTo>
                  <a:pt x="3386" y="436"/>
                </a:lnTo>
                <a:lnTo>
                  <a:pt x="3393" y="449"/>
                </a:lnTo>
                <a:lnTo>
                  <a:pt x="3370" y="448"/>
                </a:lnTo>
                <a:lnTo>
                  <a:pt x="3349" y="448"/>
                </a:lnTo>
                <a:lnTo>
                  <a:pt x="3340" y="447"/>
                </a:lnTo>
                <a:lnTo>
                  <a:pt x="3330" y="445"/>
                </a:lnTo>
                <a:lnTo>
                  <a:pt x="3321" y="442"/>
                </a:lnTo>
                <a:lnTo>
                  <a:pt x="3311" y="435"/>
                </a:lnTo>
                <a:lnTo>
                  <a:pt x="3303" y="427"/>
                </a:lnTo>
                <a:lnTo>
                  <a:pt x="3295" y="417"/>
                </a:lnTo>
                <a:lnTo>
                  <a:pt x="3288" y="408"/>
                </a:lnTo>
                <a:lnTo>
                  <a:pt x="3282" y="398"/>
                </a:lnTo>
                <a:lnTo>
                  <a:pt x="3275" y="390"/>
                </a:lnTo>
                <a:lnTo>
                  <a:pt x="3267" y="384"/>
                </a:lnTo>
                <a:lnTo>
                  <a:pt x="3263" y="381"/>
                </a:lnTo>
                <a:lnTo>
                  <a:pt x="3258" y="379"/>
                </a:lnTo>
                <a:lnTo>
                  <a:pt x="3253" y="377"/>
                </a:lnTo>
                <a:lnTo>
                  <a:pt x="3247" y="377"/>
                </a:lnTo>
                <a:lnTo>
                  <a:pt x="3239" y="378"/>
                </a:lnTo>
                <a:lnTo>
                  <a:pt x="3232" y="379"/>
                </a:lnTo>
                <a:lnTo>
                  <a:pt x="3226" y="382"/>
                </a:lnTo>
                <a:lnTo>
                  <a:pt x="3219" y="386"/>
                </a:lnTo>
                <a:lnTo>
                  <a:pt x="3214" y="390"/>
                </a:lnTo>
                <a:lnTo>
                  <a:pt x="3210" y="395"/>
                </a:lnTo>
                <a:lnTo>
                  <a:pt x="3207" y="401"/>
                </a:lnTo>
                <a:lnTo>
                  <a:pt x="3206" y="408"/>
                </a:lnTo>
                <a:lnTo>
                  <a:pt x="3207" y="414"/>
                </a:lnTo>
                <a:lnTo>
                  <a:pt x="3209" y="420"/>
                </a:lnTo>
                <a:lnTo>
                  <a:pt x="3211" y="424"/>
                </a:lnTo>
                <a:lnTo>
                  <a:pt x="3215" y="429"/>
                </a:lnTo>
                <a:lnTo>
                  <a:pt x="3224" y="436"/>
                </a:lnTo>
                <a:lnTo>
                  <a:pt x="3233" y="445"/>
                </a:lnTo>
                <a:lnTo>
                  <a:pt x="3223" y="457"/>
                </a:lnTo>
                <a:lnTo>
                  <a:pt x="3213" y="467"/>
                </a:lnTo>
                <a:lnTo>
                  <a:pt x="3210" y="472"/>
                </a:lnTo>
                <a:lnTo>
                  <a:pt x="3207" y="479"/>
                </a:lnTo>
                <a:lnTo>
                  <a:pt x="3205" y="485"/>
                </a:lnTo>
                <a:lnTo>
                  <a:pt x="3202" y="492"/>
                </a:lnTo>
                <a:lnTo>
                  <a:pt x="3213" y="496"/>
                </a:lnTo>
                <a:lnTo>
                  <a:pt x="3223" y="500"/>
                </a:lnTo>
                <a:lnTo>
                  <a:pt x="3231" y="506"/>
                </a:lnTo>
                <a:lnTo>
                  <a:pt x="3240" y="514"/>
                </a:lnTo>
                <a:lnTo>
                  <a:pt x="3233" y="519"/>
                </a:lnTo>
                <a:lnTo>
                  <a:pt x="3227" y="524"/>
                </a:lnTo>
                <a:lnTo>
                  <a:pt x="3219" y="527"/>
                </a:lnTo>
                <a:lnTo>
                  <a:pt x="3212" y="530"/>
                </a:lnTo>
                <a:lnTo>
                  <a:pt x="3205" y="532"/>
                </a:lnTo>
                <a:lnTo>
                  <a:pt x="3196" y="533"/>
                </a:lnTo>
                <a:lnTo>
                  <a:pt x="3188" y="534"/>
                </a:lnTo>
                <a:lnTo>
                  <a:pt x="3179" y="534"/>
                </a:lnTo>
                <a:lnTo>
                  <a:pt x="3172" y="534"/>
                </a:lnTo>
                <a:lnTo>
                  <a:pt x="3167" y="533"/>
                </a:lnTo>
                <a:lnTo>
                  <a:pt x="3160" y="530"/>
                </a:lnTo>
                <a:lnTo>
                  <a:pt x="3155" y="528"/>
                </a:lnTo>
                <a:lnTo>
                  <a:pt x="3150" y="526"/>
                </a:lnTo>
                <a:lnTo>
                  <a:pt x="3144" y="525"/>
                </a:lnTo>
                <a:lnTo>
                  <a:pt x="3138" y="524"/>
                </a:lnTo>
                <a:lnTo>
                  <a:pt x="3132" y="523"/>
                </a:lnTo>
                <a:lnTo>
                  <a:pt x="3127" y="524"/>
                </a:lnTo>
                <a:lnTo>
                  <a:pt x="3124" y="525"/>
                </a:lnTo>
                <a:lnTo>
                  <a:pt x="3121" y="526"/>
                </a:lnTo>
                <a:lnTo>
                  <a:pt x="3119" y="528"/>
                </a:lnTo>
                <a:lnTo>
                  <a:pt x="3116" y="535"/>
                </a:lnTo>
                <a:lnTo>
                  <a:pt x="3113" y="541"/>
                </a:lnTo>
                <a:lnTo>
                  <a:pt x="3111" y="548"/>
                </a:lnTo>
                <a:lnTo>
                  <a:pt x="3108" y="557"/>
                </a:lnTo>
                <a:lnTo>
                  <a:pt x="3105" y="564"/>
                </a:lnTo>
                <a:lnTo>
                  <a:pt x="3101" y="571"/>
                </a:lnTo>
                <a:lnTo>
                  <a:pt x="3097" y="575"/>
                </a:lnTo>
                <a:lnTo>
                  <a:pt x="3092" y="579"/>
                </a:lnTo>
                <a:lnTo>
                  <a:pt x="3087" y="581"/>
                </a:lnTo>
                <a:lnTo>
                  <a:pt x="3082" y="583"/>
                </a:lnTo>
                <a:lnTo>
                  <a:pt x="3072" y="587"/>
                </a:lnTo>
                <a:lnTo>
                  <a:pt x="3060" y="592"/>
                </a:lnTo>
                <a:lnTo>
                  <a:pt x="3054" y="595"/>
                </a:lnTo>
                <a:lnTo>
                  <a:pt x="3048" y="598"/>
                </a:lnTo>
                <a:lnTo>
                  <a:pt x="3044" y="602"/>
                </a:lnTo>
                <a:lnTo>
                  <a:pt x="3040" y="606"/>
                </a:lnTo>
                <a:lnTo>
                  <a:pt x="3032" y="616"/>
                </a:lnTo>
                <a:lnTo>
                  <a:pt x="3023" y="625"/>
                </a:lnTo>
                <a:lnTo>
                  <a:pt x="3012" y="633"/>
                </a:lnTo>
                <a:lnTo>
                  <a:pt x="3002" y="639"/>
                </a:lnTo>
                <a:lnTo>
                  <a:pt x="2999" y="643"/>
                </a:lnTo>
                <a:lnTo>
                  <a:pt x="2994" y="648"/>
                </a:lnTo>
                <a:lnTo>
                  <a:pt x="2992" y="653"/>
                </a:lnTo>
                <a:lnTo>
                  <a:pt x="2992" y="659"/>
                </a:lnTo>
                <a:lnTo>
                  <a:pt x="2993" y="670"/>
                </a:lnTo>
                <a:lnTo>
                  <a:pt x="2995" y="679"/>
                </a:lnTo>
                <a:lnTo>
                  <a:pt x="3000" y="689"/>
                </a:lnTo>
                <a:lnTo>
                  <a:pt x="3005" y="697"/>
                </a:lnTo>
                <a:lnTo>
                  <a:pt x="3012" y="704"/>
                </a:lnTo>
                <a:lnTo>
                  <a:pt x="3021" y="709"/>
                </a:lnTo>
                <a:lnTo>
                  <a:pt x="3025" y="711"/>
                </a:lnTo>
                <a:lnTo>
                  <a:pt x="3029" y="712"/>
                </a:lnTo>
                <a:lnTo>
                  <a:pt x="3035" y="713"/>
                </a:lnTo>
                <a:lnTo>
                  <a:pt x="3040" y="714"/>
                </a:lnTo>
                <a:lnTo>
                  <a:pt x="3048" y="713"/>
                </a:lnTo>
                <a:lnTo>
                  <a:pt x="3056" y="711"/>
                </a:lnTo>
                <a:lnTo>
                  <a:pt x="3062" y="707"/>
                </a:lnTo>
                <a:lnTo>
                  <a:pt x="3068" y="703"/>
                </a:lnTo>
                <a:lnTo>
                  <a:pt x="3080" y="693"/>
                </a:lnTo>
                <a:lnTo>
                  <a:pt x="3094" y="684"/>
                </a:lnTo>
                <a:lnTo>
                  <a:pt x="3093" y="703"/>
                </a:lnTo>
                <a:lnTo>
                  <a:pt x="3089" y="718"/>
                </a:lnTo>
                <a:lnTo>
                  <a:pt x="3087" y="735"/>
                </a:lnTo>
                <a:lnTo>
                  <a:pt x="3084" y="754"/>
                </a:lnTo>
                <a:lnTo>
                  <a:pt x="3093" y="750"/>
                </a:lnTo>
                <a:lnTo>
                  <a:pt x="3101" y="746"/>
                </a:lnTo>
                <a:lnTo>
                  <a:pt x="3107" y="740"/>
                </a:lnTo>
                <a:lnTo>
                  <a:pt x="3114" y="733"/>
                </a:lnTo>
                <a:lnTo>
                  <a:pt x="3119" y="726"/>
                </a:lnTo>
                <a:lnTo>
                  <a:pt x="3123" y="718"/>
                </a:lnTo>
                <a:lnTo>
                  <a:pt x="3127" y="709"/>
                </a:lnTo>
                <a:lnTo>
                  <a:pt x="3132" y="700"/>
                </a:lnTo>
                <a:lnTo>
                  <a:pt x="3146" y="696"/>
                </a:lnTo>
                <a:lnTo>
                  <a:pt x="3146" y="803"/>
                </a:lnTo>
                <a:lnTo>
                  <a:pt x="3145" y="820"/>
                </a:lnTo>
                <a:lnTo>
                  <a:pt x="3143" y="835"/>
                </a:lnTo>
                <a:lnTo>
                  <a:pt x="3140" y="849"/>
                </a:lnTo>
                <a:lnTo>
                  <a:pt x="3138" y="866"/>
                </a:lnTo>
                <a:lnTo>
                  <a:pt x="3215" y="866"/>
                </a:lnTo>
                <a:lnTo>
                  <a:pt x="3229" y="865"/>
                </a:lnTo>
                <a:lnTo>
                  <a:pt x="3240" y="863"/>
                </a:lnTo>
                <a:lnTo>
                  <a:pt x="3251" y="859"/>
                </a:lnTo>
                <a:lnTo>
                  <a:pt x="3262" y="854"/>
                </a:lnTo>
                <a:lnTo>
                  <a:pt x="3281" y="839"/>
                </a:lnTo>
                <a:lnTo>
                  <a:pt x="3301" y="822"/>
                </a:lnTo>
                <a:lnTo>
                  <a:pt x="3298" y="832"/>
                </a:lnTo>
                <a:lnTo>
                  <a:pt x="3293" y="841"/>
                </a:lnTo>
                <a:lnTo>
                  <a:pt x="3287" y="849"/>
                </a:lnTo>
                <a:lnTo>
                  <a:pt x="3281" y="856"/>
                </a:lnTo>
                <a:lnTo>
                  <a:pt x="3273" y="861"/>
                </a:lnTo>
                <a:lnTo>
                  <a:pt x="3265" y="866"/>
                </a:lnTo>
                <a:lnTo>
                  <a:pt x="3256" y="872"/>
                </a:lnTo>
                <a:lnTo>
                  <a:pt x="3248" y="876"/>
                </a:lnTo>
                <a:lnTo>
                  <a:pt x="3230" y="885"/>
                </a:lnTo>
                <a:lnTo>
                  <a:pt x="3214" y="896"/>
                </a:lnTo>
                <a:lnTo>
                  <a:pt x="3207" y="902"/>
                </a:lnTo>
                <a:lnTo>
                  <a:pt x="3199" y="910"/>
                </a:lnTo>
                <a:lnTo>
                  <a:pt x="3194" y="918"/>
                </a:lnTo>
                <a:lnTo>
                  <a:pt x="3189" y="927"/>
                </a:lnTo>
                <a:lnTo>
                  <a:pt x="3196" y="932"/>
                </a:lnTo>
                <a:lnTo>
                  <a:pt x="3204" y="934"/>
                </a:lnTo>
                <a:lnTo>
                  <a:pt x="3211" y="937"/>
                </a:lnTo>
                <a:lnTo>
                  <a:pt x="3217" y="938"/>
                </a:lnTo>
                <a:lnTo>
                  <a:pt x="3232" y="940"/>
                </a:lnTo>
                <a:lnTo>
                  <a:pt x="3246" y="942"/>
                </a:lnTo>
                <a:lnTo>
                  <a:pt x="3258" y="944"/>
                </a:lnTo>
                <a:lnTo>
                  <a:pt x="3272" y="948"/>
                </a:lnTo>
                <a:lnTo>
                  <a:pt x="3278" y="950"/>
                </a:lnTo>
                <a:lnTo>
                  <a:pt x="3285" y="953"/>
                </a:lnTo>
                <a:lnTo>
                  <a:pt x="3291" y="957"/>
                </a:lnTo>
                <a:lnTo>
                  <a:pt x="3298" y="961"/>
                </a:lnTo>
                <a:lnTo>
                  <a:pt x="3306" y="970"/>
                </a:lnTo>
                <a:lnTo>
                  <a:pt x="3312" y="978"/>
                </a:lnTo>
                <a:lnTo>
                  <a:pt x="3315" y="982"/>
                </a:lnTo>
                <a:lnTo>
                  <a:pt x="3319" y="986"/>
                </a:lnTo>
                <a:lnTo>
                  <a:pt x="3323" y="989"/>
                </a:lnTo>
                <a:lnTo>
                  <a:pt x="3328" y="992"/>
                </a:lnTo>
                <a:lnTo>
                  <a:pt x="3338" y="973"/>
                </a:lnTo>
                <a:lnTo>
                  <a:pt x="3344" y="955"/>
                </a:lnTo>
                <a:lnTo>
                  <a:pt x="3348" y="938"/>
                </a:lnTo>
                <a:lnTo>
                  <a:pt x="3352" y="921"/>
                </a:lnTo>
                <a:lnTo>
                  <a:pt x="3356" y="904"/>
                </a:lnTo>
                <a:lnTo>
                  <a:pt x="3359" y="887"/>
                </a:lnTo>
                <a:lnTo>
                  <a:pt x="3363" y="869"/>
                </a:lnTo>
                <a:lnTo>
                  <a:pt x="3369" y="849"/>
                </a:lnTo>
                <a:lnTo>
                  <a:pt x="3372" y="853"/>
                </a:lnTo>
                <a:lnTo>
                  <a:pt x="3376" y="856"/>
                </a:lnTo>
                <a:lnTo>
                  <a:pt x="3378" y="859"/>
                </a:lnTo>
                <a:lnTo>
                  <a:pt x="3379" y="863"/>
                </a:lnTo>
                <a:lnTo>
                  <a:pt x="3379" y="873"/>
                </a:lnTo>
                <a:lnTo>
                  <a:pt x="3378" y="882"/>
                </a:lnTo>
                <a:lnTo>
                  <a:pt x="3376" y="891"/>
                </a:lnTo>
                <a:lnTo>
                  <a:pt x="3375" y="899"/>
                </a:lnTo>
                <a:lnTo>
                  <a:pt x="3372" y="907"/>
                </a:lnTo>
                <a:lnTo>
                  <a:pt x="3370" y="916"/>
                </a:lnTo>
                <a:lnTo>
                  <a:pt x="3369" y="924"/>
                </a:lnTo>
                <a:lnTo>
                  <a:pt x="3369" y="935"/>
                </a:lnTo>
                <a:lnTo>
                  <a:pt x="3368" y="954"/>
                </a:lnTo>
                <a:lnTo>
                  <a:pt x="3367" y="974"/>
                </a:lnTo>
                <a:lnTo>
                  <a:pt x="3368" y="982"/>
                </a:lnTo>
                <a:lnTo>
                  <a:pt x="3370" y="990"/>
                </a:lnTo>
                <a:lnTo>
                  <a:pt x="3372" y="992"/>
                </a:lnTo>
                <a:lnTo>
                  <a:pt x="3376" y="995"/>
                </a:lnTo>
                <a:lnTo>
                  <a:pt x="3379" y="997"/>
                </a:lnTo>
                <a:lnTo>
                  <a:pt x="3383" y="999"/>
                </a:lnTo>
                <a:lnTo>
                  <a:pt x="3390" y="1000"/>
                </a:lnTo>
                <a:lnTo>
                  <a:pt x="3398" y="1001"/>
                </a:lnTo>
                <a:lnTo>
                  <a:pt x="3404" y="1001"/>
                </a:lnTo>
                <a:lnTo>
                  <a:pt x="3410" y="1000"/>
                </a:lnTo>
                <a:lnTo>
                  <a:pt x="3424" y="997"/>
                </a:lnTo>
                <a:lnTo>
                  <a:pt x="3440" y="996"/>
                </a:lnTo>
                <a:lnTo>
                  <a:pt x="3454" y="1000"/>
                </a:lnTo>
                <a:lnTo>
                  <a:pt x="3468" y="1006"/>
                </a:lnTo>
                <a:lnTo>
                  <a:pt x="3472" y="1005"/>
                </a:lnTo>
                <a:lnTo>
                  <a:pt x="3476" y="1002"/>
                </a:lnTo>
                <a:lnTo>
                  <a:pt x="3478" y="998"/>
                </a:lnTo>
                <a:lnTo>
                  <a:pt x="3479" y="994"/>
                </a:lnTo>
                <a:lnTo>
                  <a:pt x="3480" y="982"/>
                </a:lnTo>
                <a:lnTo>
                  <a:pt x="3481" y="972"/>
                </a:lnTo>
                <a:lnTo>
                  <a:pt x="3485" y="956"/>
                </a:lnTo>
                <a:lnTo>
                  <a:pt x="3491" y="942"/>
                </a:lnTo>
                <a:lnTo>
                  <a:pt x="3497" y="930"/>
                </a:lnTo>
                <a:lnTo>
                  <a:pt x="3504" y="914"/>
                </a:lnTo>
                <a:lnTo>
                  <a:pt x="3518" y="904"/>
                </a:lnTo>
                <a:lnTo>
                  <a:pt x="3518" y="992"/>
                </a:lnTo>
                <a:lnTo>
                  <a:pt x="3535" y="988"/>
                </a:lnTo>
                <a:lnTo>
                  <a:pt x="3550" y="982"/>
                </a:lnTo>
                <a:lnTo>
                  <a:pt x="3565" y="975"/>
                </a:lnTo>
                <a:lnTo>
                  <a:pt x="3578" y="968"/>
                </a:lnTo>
                <a:lnTo>
                  <a:pt x="3591" y="959"/>
                </a:lnTo>
                <a:lnTo>
                  <a:pt x="3604" y="950"/>
                </a:lnTo>
                <a:lnTo>
                  <a:pt x="3614" y="939"/>
                </a:lnTo>
                <a:lnTo>
                  <a:pt x="3625" y="927"/>
                </a:lnTo>
                <a:lnTo>
                  <a:pt x="3633" y="916"/>
                </a:lnTo>
                <a:lnTo>
                  <a:pt x="3642" y="902"/>
                </a:lnTo>
                <a:lnTo>
                  <a:pt x="3648" y="888"/>
                </a:lnTo>
                <a:lnTo>
                  <a:pt x="3654" y="875"/>
                </a:lnTo>
                <a:lnTo>
                  <a:pt x="3659" y="860"/>
                </a:lnTo>
                <a:lnTo>
                  <a:pt x="3662" y="844"/>
                </a:lnTo>
                <a:lnTo>
                  <a:pt x="3664" y="828"/>
                </a:lnTo>
                <a:lnTo>
                  <a:pt x="3665" y="811"/>
                </a:lnTo>
                <a:lnTo>
                  <a:pt x="3665" y="745"/>
                </a:lnTo>
                <a:lnTo>
                  <a:pt x="3665" y="725"/>
                </a:lnTo>
                <a:lnTo>
                  <a:pt x="3665" y="711"/>
                </a:lnTo>
                <a:lnTo>
                  <a:pt x="3666" y="704"/>
                </a:lnTo>
                <a:lnTo>
                  <a:pt x="3667" y="702"/>
                </a:lnTo>
                <a:lnTo>
                  <a:pt x="3669" y="704"/>
                </a:lnTo>
                <a:lnTo>
                  <a:pt x="3670" y="710"/>
                </a:lnTo>
                <a:lnTo>
                  <a:pt x="3672" y="719"/>
                </a:lnTo>
                <a:lnTo>
                  <a:pt x="3674" y="731"/>
                </a:lnTo>
                <a:lnTo>
                  <a:pt x="3678" y="760"/>
                </a:lnTo>
                <a:lnTo>
                  <a:pt x="3681" y="790"/>
                </a:lnTo>
                <a:lnTo>
                  <a:pt x="3683" y="818"/>
                </a:lnTo>
                <a:lnTo>
                  <a:pt x="3683" y="836"/>
                </a:lnTo>
                <a:lnTo>
                  <a:pt x="3702" y="827"/>
                </a:lnTo>
                <a:lnTo>
                  <a:pt x="3719" y="821"/>
                </a:lnTo>
                <a:lnTo>
                  <a:pt x="3737" y="815"/>
                </a:lnTo>
                <a:lnTo>
                  <a:pt x="3753" y="808"/>
                </a:lnTo>
                <a:lnTo>
                  <a:pt x="3768" y="802"/>
                </a:lnTo>
                <a:lnTo>
                  <a:pt x="3783" y="793"/>
                </a:lnTo>
                <a:lnTo>
                  <a:pt x="3791" y="788"/>
                </a:lnTo>
                <a:lnTo>
                  <a:pt x="3798" y="783"/>
                </a:lnTo>
                <a:lnTo>
                  <a:pt x="3804" y="775"/>
                </a:lnTo>
                <a:lnTo>
                  <a:pt x="3811" y="768"/>
                </a:lnTo>
                <a:lnTo>
                  <a:pt x="3824" y="765"/>
                </a:lnTo>
                <a:lnTo>
                  <a:pt x="3817" y="779"/>
                </a:lnTo>
                <a:lnTo>
                  <a:pt x="3808" y="791"/>
                </a:lnTo>
                <a:lnTo>
                  <a:pt x="3799" y="802"/>
                </a:lnTo>
                <a:lnTo>
                  <a:pt x="3790" y="812"/>
                </a:lnTo>
                <a:lnTo>
                  <a:pt x="3770" y="830"/>
                </a:lnTo>
                <a:lnTo>
                  <a:pt x="3749" y="846"/>
                </a:lnTo>
                <a:lnTo>
                  <a:pt x="3740" y="855"/>
                </a:lnTo>
                <a:lnTo>
                  <a:pt x="3730" y="863"/>
                </a:lnTo>
                <a:lnTo>
                  <a:pt x="3722" y="873"/>
                </a:lnTo>
                <a:lnTo>
                  <a:pt x="3715" y="882"/>
                </a:lnTo>
                <a:lnTo>
                  <a:pt x="3707" y="893"/>
                </a:lnTo>
                <a:lnTo>
                  <a:pt x="3701" y="903"/>
                </a:lnTo>
                <a:lnTo>
                  <a:pt x="3696" y="917"/>
                </a:lnTo>
                <a:lnTo>
                  <a:pt x="3691" y="931"/>
                </a:lnTo>
                <a:lnTo>
                  <a:pt x="3688" y="947"/>
                </a:lnTo>
                <a:lnTo>
                  <a:pt x="3684" y="960"/>
                </a:lnTo>
                <a:lnTo>
                  <a:pt x="3679" y="974"/>
                </a:lnTo>
                <a:lnTo>
                  <a:pt x="3672" y="988"/>
                </a:lnTo>
                <a:lnTo>
                  <a:pt x="3665" y="999"/>
                </a:lnTo>
                <a:lnTo>
                  <a:pt x="3657" y="1011"/>
                </a:lnTo>
                <a:lnTo>
                  <a:pt x="3648" y="1023"/>
                </a:lnTo>
                <a:lnTo>
                  <a:pt x="3639" y="1032"/>
                </a:lnTo>
                <a:lnTo>
                  <a:pt x="3628" y="1042"/>
                </a:lnTo>
                <a:lnTo>
                  <a:pt x="3617" y="1049"/>
                </a:lnTo>
                <a:lnTo>
                  <a:pt x="3605" y="1056"/>
                </a:lnTo>
                <a:lnTo>
                  <a:pt x="3593" y="1063"/>
                </a:lnTo>
                <a:lnTo>
                  <a:pt x="3579" y="1068"/>
                </a:lnTo>
                <a:lnTo>
                  <a:pt x="3566" y="1072"/>
                </a:lnTo>
                <a:lnTo>
                  <a:pt x="3551" y="1075"/>
                </a:lnTo>
                <a:lnTo>
                  <a:pt x="3535" y="1077"/>
                </a:lnTo>
                <a:lnTo>
                  <a:pt x="3522" y="1084"/>
                </a:lnTo>
                <a:lnTo>
                  <a:pt x="3531" y="1085"/>
                </a:lnTo>
                <a:lnTo>
                  <a:pt x="3539" y="1086"/>
                </a:lnTo>
                <a:lnTo>
                  <a:pt x="3547" y="1088"/>
                </a:lnTo>
                <a:lnTo>
                  <a:pt x="3554" y="1091"/>
                </a:lnTo>
                <a:lnTo>
                  <a:pt x="3562" y="1093"/>
                </a:lnTo>
                <a:lnTo>
                  <a:pt x="3568" y="1098"/>
                </a:lnTo>
                <a:lnTo>
                  <a:pt x="3574" y="1101"/>
                </a:lnTo>
                <a:lnTo>
                  <a:pt x="3581" y="1106"/>
                </a:lnTo>
                <a:lnTo>
                  <a:pt x="3591" y="1115"/>
                </a:lnTo>
                <a:lnTo>
                  <a:pt x="3602" y="1127"/>
                </a:lnTo>
                <a:lnTo>
                  <a:pt x="3611" y="1141"/>
                </a:lnTo>
                <a:lnTo>
                  <a:pt x="3621" y="1156"/>
                </a:lnTo>
                <a:lnTo>
                  <a:pt x="3610" y="1158"/>
                </a:lnTo>
                <a:lnTo>
                  <a:pt x="3601" y="1159"/>
                </a:lnTo>
                <a:lnTo>
                  <a:pt x="3589" y="1158"/>
                </a:lnTo>
                <a:lnTo>
                  <a:pt x="3579" y="1156"/>
                </a:lnTo>
                <a:lnTo>
                  <a:pt x="3571" y="1151"/>
                </a:lnTo>
                <a:lnTo>
                  <a:pt x="3563" y="1147"/>
                </a:lnTo>
                <a:lnTo>
                  <a:pt x="3548" y="1136"/>
                </a:lnTo>
                <a:lnTo>
                  <a:pt x="3534" y="1122"/>
                </a:lnTo>
                <a:lnTo>
                  <a:pt x="3520" y="1108"/>
                </a:lnTo>
                <a:lnTo>
                  <a:pt x="3506" y="1095"/>
                </a:lnTo>
                <a:lnTo>
                  <a:pt x="3497" y="1091"/>
                </a:lnTo>
                <a:lnTo>
                  <a:pt x="3488" y="1087"/>
                </a:lnTo>
                <a:lnTo>
                  <a:pt x="3478" y="1085"/>
                </a:lnTo>
                <a:lnTo>
                  <a:pt x="3468" y="1084"/>
                </a:lnTo>
                <a:lnTo>
                  <a:pt x="3462" y="1085"/>
                </a:lnTo>
                <a:lnTo>
                  <a:pt x="3458" y="1086"/>
                </a:lnTo>
                <a:lnTo>
                  <a:pt x="3454" y="1088"/>
                </a:lnTo>
                <a:lnTo>
                  <a:pt x="3451" y="1091"/>
                </a:lnTo>
                <a:lnTo>
                  <a:pt x="3446" y="1093"/>
                </a:lnTo>
                <a:lnTo>
                  <a:pt x="3442" y="1095"/>
                </a:lnTo>
                <a:lnTo>
                  <a:pt x="3438" y="1096"/>
                </a:lnTo>
                <a:lnTo>
                  <a:pt x="3433" y="1098"/>
                </a:lnTo>
                <a:lnTo>
                  <a:pt x="3362" y="1098"/>
                </a:lnTo>
                <a:lnTo>
                  <a:pt x="3359" y="1111"/>
                </a:lnTo>
                <a:lnTo>
                  <a:pt x="3367" y="1125"/>
                </a:lnTo>
                <a:lnTo>
                  <a:pt x="3374" y="1139"/>
                </a:lnTo>
                <a:lnTo>
                  <a:pt x="3381" y="1151"/>
                </a:lnTo>
                <a:lnTo>
                  <a:pt x="3389" y="1165"/>
                </a:lnTo>
                <a:lnTo>
                  <a:pt x="3395" y="1171"/>
                </a:lnTo>
                <a:lnTo>
                  <a:pt x="3400" y="1176"/>
                </a:lnTo>
                <a:lnTo>
                  <a:pt x="3406" y="1180"/>
                </a:lnTo>
                <a:lnTo>
                  <a:pt x="3413" y="1184"/>
                </a:lnTo>
                <a:lnTo>
                  <a:pt x="3418" y="1188"/>
                </a:lnTo>
                <a:lnTo>
                  <a:pt x="3423" y="1194"/>
                </a:lnTo>
                <a:lnTo>
                  <a:pt x="3424" y="1196"/>
                </a:lnTo>
                <a:lnTo>
                  <a:pt x="3425" y="1199"/>
                </a:lnTo>
                <a:lnTo>
                  <a:pt x="3426" y="1202"/>
                </a:lnTo>
                <a:lnTo>
                  <a:pt x="3426" y="1206"/>
                </a:lnTo>
                <a:lnTo>
                  <a:pt x="3425" y="1212"/>
                </a:lnTo>
                <a:lnTo>
                  <a:pt x="3423" y="1216"/>
                </a:lnTo>
                <a:lnTo>
                  <a:pt x="3420" y="1219"/>
                </a:lnTo>
                <a:lnTo>
                  <a:pt x="3417" y="1223"/>
                </a:lnTo>
                <a:lnTo>
                  <a:pt x="3417" y="1264"/>
                </a:lnTo>
                <a:lnTo>
                  <a:pt x="3428" y="1264"/>
                </a:lnTo>
                <a:lnTo>
                  <a:pt x="3438" y="1264"/>
                </a:lnTo>
                <a:lnTo>
                  <a:pt x="3449" y="1264"/>
                </a:lnTo>
                <a:lnTo>
                  <a:pt x="3460" y="1264"/>
                </a:lnTo>
                <a:lnTo>
                  <a:pt x="3468" y="1264"/>
                </a:lnTo>
                <a:lnTo>
                  <a:pt x="3474" y="1265"/>
                </a:lnTo>
                <a:lnTo>
                  <a:pt x="3481" y="1268"/>
                </a:lnTo>
                <a:lnTo>
                  <a:pt x="3487" y="1270"/>
                </a:lnTo>
                <a:lnTo>
                  <a:pt x="3493" y="1273"/>
                </a:lnTo>
                <a:lnTo>
                  <a:pt x="3498" y="1276"/>
                </a:lnTo>
                <a:lnTo>
                  <a:pt x="3502" y="1280"/>
                </a:lnTo>
                <a:lnTo>
                  <a:pt x="3508" y="1284"/>
                </a:lnTo>
                <a:lnTo>
                  <a:pt x="3516" y="1295"/>
                </a:lnTo>
                <a:lnTo>
                  <a:pt x="3525" y="1307"/>
                </a:lnTo>
                <a:lnTo>
                  <a:pt x="3532" y="1319"/>
                </a:lnTo>
                <a:lnTo>
                  <a:pt x="3539" y="1332"/>
                </a:lnTo>
                <a:lnTo>
                  <a:pt x="3552" y="1356"/>
                </a:lnTo>
                <a:lnTo>
                  <a:pt x="3564" y="1378"/>
                </a:lnTo>
                <a:lnTo>
                  <a:pt x="3574" y="1401"/>
                </a:lnTo>
                <a:lnTo>
                  <a:pt x="3583" y="1427"/>
                </a:lnTo>
                <a:lnTo>
                  <a:pt x="3585" y="1431"/>
                </a:lnTo>
                <a:lnTo>
                  <a:pt x="3587" y="1435"/>
                </a:lnTo>
                <a:lnTo>
                  <a:pt x="3590" y="1439"/>
                </a:lnTo>
                <a:lnTo>
                  <a:pt x="3592" y="1442"/>
                </a:lnTo>
                <a:lnTo>
                  <a:pt x="3600" y="1447"/>
                </a:lnTo>
                <a:lnTo>
                  <a:pt x="3607" y="1451"/>
                </a:lnTo>
                <a:lnTo>
                  <a:pt x="3614" y="1455"/>
                </a:lnTo>
                <a:lnTo>
                  <a:pt x="3623" y="1460"/>
                </a:lnTo>
                <a:lnTo>
                  <a:pt x="3630" y="1465"/>
                </a:lnTo>
                <a:lnTo>
                  <a:pt x="3638" y="1471"/>
                </a:lnTo>
                <a:lnTo>
                  <a:pt x="3648" y="1483"/>
                </a:lnTo>
                <a:lnTo>
                  <a:pt x="3659" y="1492"/>
                </a:lnTo>
                <a:lnTo>
                  <a:pt x="3669" y="1500"/>
                </a:lnTo>
                <a:lnTo>
                  <a:pt x="3681" y="1506"/>
                </a:lnTo>
                <a:lnTo>
                  <a:pt x="3694" y="1511"/>
                </a:lnTo>
                <a:lnTo>
                  <a:pt x="3706" y="1516"/>
                </a:lnTo>
                <a:lnTo>
                  <a:pt x="3721" y="1519"/>
                </a:lnTo>
                <a:lnTo>
                  <a:pt x="3736" y="1522"/>
                </a:lnTo>
                <a:lnTo>
                  <a:pt x="3732" y="1531"/>
                </a:lnTo>
                <a:lnTo>
                  <a:pt x="3726" y="1541"/>
                </a:lnTo>
                <a:lnTo>
                  <a:pt x="3720" y="1548"/>
                </a:lnTo>
                <a:lnTo>
                  <a:pt x="3713" y="1555"/>
                </a:lnTo>
                <a:lnTo>
                  <a:pt x="3704" y="1559"/>
                </a:lnTo>
                <a:lnTo>
                  <a:pt x="3696" y="1563"/>
                </a:lnTo>
                <a:lnTo>
                  <a:pt x="3685" y="1565"/>
                </a:lnTo>
                <a:lnTo>
                  <a:pt x="3674" y="1566"/>
                </a:lnTo>
                <a:lnTo>
                  <a:pt x="3663" y="1565"/>
                </a:lnTo>
                <a:lnTo>
                  <a:pt x="3653" y="1564"/>
                </a:lnTo>
                <a:lnTo>
                  <a:pt x="3644" y="1562"/>
                </a:lnTo>
                <a:lnTo>
                  <a:pt x="3634" y="1560"/>
                </a:lnTo>
                <a:lnTo>
                  <a:pt x="3625" y="1557"/>
                </a:lnTo>
                <a:lnTo>
                  <a:pt x="3615" y="1555"/>
                </a:lnTo>
                <a:lnTo>
                  <a:pt x="3605" y="1554"/>
                </a:lnTo>
                <a:lnTo>
                  <a:pt x="3593" y="1553"/>
                </a:lnTo>
                <a:lnTo>
                  <a:pt x="3585" y="1553"/>
                </a:lnTo>
                <a:lnTo>
                  <a:pt x="3575" y="1554"/>
                </a:lnTo>
                <a:lnTo>
                  <a:pt x="3567" y="1556"/>
                </a:lnTo>
                <a:lnTo>
                  <a:pt x="3559" y="1558"/>
                </a:lnTo>
                <a:lnTo>
                  <a:pt x="3551" y="1560"/>
                </a:lnTo>
                <a:lnTo>
                  <a:pt x="3544" y="1563"/>
                </a:lnTo>
                <a:lnTo>
                  <a:pt x="3536" y="1567"/>
                </a:lnTo>
                <a:lnTo>
                  <a:pt x="3530" y="1572"/>
                </a:lnTo>
                <a:lnTo>
                  <a:pt x="3517" y="1581"/>
                </a:lnTo>
                <a:lnTo>
                  <a:pt x="3506" y="1593"/>
                </a:lnTo>
                <a:lnTo>
                  <a:pt x="3495" y="1605"/>
                </a:lnTo>
                <a:lnTo>
                  <a:pt x="3485" y="1620"/>
                </a:lnTo>
                <a:lnTo>
                  <a:pt x="3477" y="1635"/>
                </a:lnTo>
                <a:lnTo>
                  <a:pt x="3470" y="1652"/>
                </a:lnTo>
                <a:lnTo>
                  <a:pt x="3464" y="1669"/>
                </a:lnTo>
                <a:lnTo>
                  <a:pt x="3459" y="1687"/>
                </a:lnTo>
                <a:lnTo>
                  <a:pt x="3456" y="1705"/>
                </a:lnTo>
                <a:lnTo>
                  <a:pt x="3453" y="1723"/>
                </a:lnTo>
                <a:lnTo>
                  <a:pt x="3452" y="1742"/>
                </a:lnTo>
                <a:lnTo>
                  <a:pt x="3451" y="1760"/>
                </a:lnTo>
                <a:lnTo>
                  <a:pt x="3452" y="1771"/>
                </a:lnTo>
                <a:lnTo>
                  <a:pt x="3454" y="1782"/>
                </a:lnTo>
                <a:lnTo>
                  <a:pt x="3457" y="1792"/>
                </a:lnTo>
                <a:lnTo>
                  <a:pt x="3462" y="1801"/>
                </a:lnTo>
                <a:lnTo>
                  <a:pt x="3464" y="1805"/>
                </a:lnTo>
                <a:lnTo>
                  <a:pt x="3469" y="1809"/>
                </a:lnTo>
                <a:lnTo>
                  <a:pt x="3472" y="1812"/>
                </a:lnTo>
                <a:lnTo>
                  <a:pt x="3476" y="1816"/>
                </a:lnTo>
                <a:lnTo>
                  <a:pt x="3480" y="1818"/>
                </a:lnTo>
                <a:lnTo>
                  <a:pt x="3484" y="1820"/>
                </a:lnTo>
                <a:lnTo>
                  <a:pt x="3490" y="1821"/>
                </a:lnTo>
                <a:lnTo>
                  <a:pt x="3495" y="1821"/>
                </a:lnTo>
                <a:lnTo>
                  <a:pt x="3498" y="1821"/>
                </a:lnTo>
                <a:lnTo>
                  <a:pt x="3501" y="1820"/>
                </a:lnTo>
                <a:lnTo>
                  <a:pt x="3504" y="1818"/>
                </a:lnTo>
                <a:lnTo>
                  <a:pt x="3507" y="1817"/>
                </a:lnTo>
                <a:lnTo>
                  <a:pt x="3510" y="1810"/>
                </a:lnTo>
                <a:lnTo>
                  <a:pt x="3512" y="1804"/>
                </a:lnTo>
                <a:lnTo>
                  <a:pt x="3514" y="1797"/>
                </a:lnTo>
                <a:lnTo>
                  <a:pt x="3516" y="1788"/>
                </a:lnTo>
                <a:lnTo>
                  <a:pt x="3518" y="1781"/>
                </a:lnTo>
                <a:lnTo>
                  <a:pt x="3522" y="1773"/>
                </a:lnTo>
                <a:lnTo>
                  <a:pt x="3529" y="1764"/>
                </a:lnTo>
                <a:lnTo>
                  <a:pt x="3536" y="1756"/>
                </a:lnTo>
                <a:lnTo>
                  <a:pt x="3542" y="1749"/>
                </a:lnTo>
                <a:lnTo>
                  <a:pt x="3549" y="1740"/>
                </a:lnTo>
                <a:lnTo>
                  <a:pt x="3555" y="1763"/>
                </a:lnTo>
                <a:lnTo>
                  <a:pt x="3560" y="1785"/>
                </a:lnTo>
                <a:lnTo>
                  <a:pt x="3563" y="1795"/>
                </a:lnTo>
                <a:lnTo>
                  <a:pt x="3567" y="1805"/>
                </a:lnTo>
                <a:lnTo>
                  <a:pt x="3572" y="1814"/>
                </a:lnTo>
                <a:lnTo>
                  <a:pt x="3579" y="1824"/>
                </a:lnTo>
                <a:lnTo>
                  <a:pt x="3585" y="1820"/>
                </a:lnTo>
                <a:lnTo>
                  <a:pt x="3589" y="1816"/>
                </a:lnTo>
                <a:lnTo>
                  <a:pt x="3593" y="1811"/>
                </a:lnTo>
                <a:lnTo>
                  <a:pt x="3596" y="1806"/>
                </a:lnTo>
                <a:lnTo>
                  <a:pt x="3602" y="1795"/>
                </a:lnTo>
                <a:lnTo>
                  <a:pt x="3607" y="1785"/>
                </a:lnTo>
                <a:lnTo>
                  <a:pt x="3612" y="1774"/>
                </a:lnTo>
                <a:lnTo>
                  <a:pt x="3617" y="1764"/>
                </a:lnTo>
                <a:lnTo>
                  <a:pt x="3621" y="1759"/>
                </a:lnTo>
                <a:lnTo>
                  <a:pt x="3625" y="1754"/>
                </a:lnTo>
                <a:lnTo>
                  <a:pt x="3630" y="1750"/>
                </a:lnTo>
                <a:lnTo>
                  <a:pt x="3635" y="1746"/>
                </a:lnTo>
                <a:lnTo>
                  <a:pt x="3635" y="1903"/>
                </a:lnTo>
                <a:lnTo>
                  <a:pt x="3636" y="1914"/>
                </a:lnTo>
                <a:lnTo>
                  <a:pt x="3639" y="1923"/>
                </a:lnTo>
                <a:lnTo>
                  <a:pt x="3642" y="1933"/>
                </a:lnTo>
                <a:lnTo>
                  <a:pt x="3645" y="1941"/>
                </a:lnTo>
                <a:lnTo>
                  <a:pt x="3650" y="1950"/>
                </a:lnTo>
                <a:lnTo>
                  <a:pt x="3657" y="1957"/>
                </a:lnTo>
                <a:lnTo>
                  <a:pt x="3663" y="1963"/>
                </a:lnTo>
                <a:lnTo>
                  <a:pt x="3670" y="1970"/>
                </a:lnTo>
                <a:lnTo>
                  <a:pt x="3679" y="1975"/>
                </a:lnTo>
                <a:lnTo>
                  <a:pt x="3688" y="1980"/>
                </a:lnTo>
                <a:lnTo>
                  <a:pt x="3697" y="1984"/>
                </a:lnTo>
                <a:lnTo>
                  <a:pt x="3706" y="1988"/>
                </a:lnTo>
                <a:lnTo>
                  <a:pt x="3717" y="1991"/>
                </a:lnTo>
                <a:lnTo>
                  <a:pt x="3727" y="1993"/>
                </a:lnTo>
                <a:lnTo>
                  <a:pt x="3738" y="1994"/>
                </a:lnTo>
                <a:lnTo>
                  <a:pt x="3747" y="1994"/>
                </a:lnTo>
                <a:lnTo>
                  <a:pt x="3757" y="1994"/>
                </a:lnTo>
                <a:lnTo>
                  <a:pt x="3766" y="1993"/>
                </a:lnTo>
                <a:lnTo>
                  <a:pt x="3775" y="1991"/>
                </a:lnTo>
                <a:lnTo>
                  <a:pt x="3782" y="1988"/>
                </a:lnTo>
                <a:lnTo>
                  <a:pt x="3790" y="1983"/>
                </a:lnTo>
                <a:lnTo>
                  <a:pt x="3796" y="1978"/>
                </a:lnTo>
                <a:lnTo>
                  <a:pt x="3802" y="1972"/>
                </a:lnTo>
                <a:lnTo>
                  <a:pt x="3808" y="1963"/>
                </a:lnTo>
                <a:lnTo>
                  <a:pt x="3811" y="1950"/>
                </a:lnTo>
                <a:lnTo>
                  <a:pt x="3815" y="1958"/>
                </a:lnTo>
                <a:lnTo>
                  <a:pt x="3817" y="1968"/>
                </a:lnTo>
                <a:lnTo>
                  <a:pt x="3817" y="1977"/>
                </a:lnTo>
                <a:lnTo>
                  <a:pt x="3815" y="1988"/>
                </a:lnTo>
                <a:lnTo>
                  <a:pt x="3812" y="1997"/>
                </a:lnTo>
                <a:lnTo>
                  <a:pt x="3809" y="2006"/>
                </a:lnTo>
                <a:lnTo>
                  <a:pt x="3803" y="2014"/>
                </a:lnTo>
                <a:lnTo>
                  <a:pt x="3798" y="2021"/>
                </a:lnTo>
                <a:lnTo>
                  <a:pt x="3792" y="2029"/>
                </a:lnTo>
                <a:lnTo>
                  <a:pt x="3784" y="2035"/>
                </a:lnTo>
                <a:lnTo>
                  <a:pt x="3776" y="2042"/>
                </a:lnTo>
                <a:lnTo>
                  <a:pt x="3767" y="2047"/>
                </a:lnTo>
                <a:lnTo>
                  <a:pt x="3759" y="2051"/>
                </a:lnTo>
                <a:lnTo>
                  <a:pt x="3749" y="2055"/>
                </a:lnTo>
                <a:lnTo>
                  <a:pt x="3740" y="2058"/>
                </a:lnTo>
                <a:lnTo>
                  <a:pt x="3729" y="2061"/>
                </a:lnTo>
                <a:lnTo>
                  <a:pt x="3719" y="2062"/>
                </a:lnTo>
                <a:lnTo>
                  <a:pt x="3708" y="2063"/>
                </a:lnTo>
                <a:lnTo>
                  <a:pt x="3699" y="2062"/>
                </a:lnTo>
                <a:lnTo>
                  <a:pt x="3689" y="2061"/>
                </a:lnTo>
                <a:lnTo>
                  <a:pt x="3681" y="2057"/>
                </a:lnTo>
                <a:lnTo>
                  <a:pt x="3673" y="2054"/>
                </a:lnTo>
                <a:lnTo>
                  <a:pt x="3666" y="2051"/>
                </a:lnTo>
                <a:lnTo>
                  <a:pt x="3659" y="2046"/>
                </a:lnTo>
                <a:lnTo>
                  <a:pt x="3651" y="2040"/>
                </a:lnTo>
                <a:lnTo>
                  <a:pt x="3645" y="2035"/>
                </a:lnTo>
                <a:lnTo>
                  <a:pt x="3621" y="2009"/>
                </a:lnTo>
                <a:lnTo>
                  <a:pt x="3593" y="1980"/>
                </a:lnTo>
                <a:lnTo>
                  <a:pt x="3585" y="1972"/>
                </a:lnTo>
                <a:lnTo>
                  <a:pt x="3577" y="1961"/>
                </a:lnTo>
                <a:lnTo>
                  <a:pt x="3570" y="1952"/>
                </a:lnTo>
                <a:lnTo>
                  <a:pt x="3564" y="1941"/>
                </a:lnTo>
                <a:lnTo>
                  <a:pt x="3556" y="1933"/>
                </a:lnTo>
                <a:lnTo>
                  <a:pt x="3548" y="1925"/>
                </a:lnTo>
                <a:lnTo>
                  <a:pt x="3542" y="1923"/>
                </a:lnTo>
                <a:lnTo>
                  <a:pt x="3537" y="1921"/>
                </a:lnTo>
                <a:lnTo>
                  <a:pt x="3532" y="1920"/>
                </a:lnTo>
                <a:lnTo>
                  <a:pt x="3526" y="1919"/>
                </a:lnTo>
                <a:lnTo>
                  <a:pt x="3513" y="1920"/>
                </a:lnTo>
                <a:lnTo>
                  <a:pt x="3500" y="1923"/>
                </a:lnTo>
                <a:lnTo>
                  <a:pt x="3490" y="1926"/>
                </a:lnTo>
                <a:lnTo>
                  <a:pt x="3479" y="1933"/>
                </a:lnTo>
                <a:lnTo>
                  <a:pt x="3474" y="1936"/>
                </a:lnTo>
                <a:lnTo>
                  <a:pt x="3471" y="1940"/>
                </a:lnTo>
                <a:lnTo>
                  <a:pt x="3466" y="1944"/>
                </a:lnTo>
                <a:lnTo>
                  <a:pt x="3463" y="1949"/>
                </a:lnTo>
                <a:lnTo>
                  <a:pt x="3461" y="1954"/>
                </a:lnTo>
                <a:lnTo>
                  <a:pt x="3459" y="1959"/>
                </a:lnTo>
                <a:lnTo>
                  <a:pt x="3458" y="1964"/>
                </a:lnTo>
                <a:lnTo>
                  <a:pt x="3457" y="1971"/>
                </a:lnTo>
                <a:lnTo>
                  <a:pt x="3458" y="1979"/>
                </a:lnTo>
                <a:lnTo>
                  <a:pt x="3459" y="1989"/>
                </a:lnTo>
                <a:lnTo>
                  <a:pt x="3462" y="1996"/>
                </a:lnTo>
                <a:lnTo>
                  <a:pt x="3464" y="2003"/>
                </a:lnTo>
                <a:lnTo>
                  <a:pt x="3473" y="2018"/>
                </a:lnTo>
                <a:lnTo>
                  <a:pt x="3481" y="2032"/>
                </a:lnTo>
                <a:lnTo>
                  <a:pt x="3490" y="2045"/>
                </a:lnTo>
                <a:lnTo>
                  <a:pt x="3497" y="2059"/>
                </a:lnTo>
                <a:lnTo>
                  <a:pt x="3500" y="2067"/>
                </a:lnTo>
                <a:lnTo>
                  <a:pt x="3503" y="2075"/>
                </a:lnTo>
                <a:lnTo>
                  <a:pt x="3504" y="2084"/>
                </a:lnTo>
                <a:lnTo>
                  <a:pt x="3504" y="2093"/>
                </a:lnTo>
                <a:lnTo>
                  <a:pt x="3523" y="2093"/>
                </a:lnTo>
                <a:lnTo>
                  <a:pt x="3540" y="2095"/>
                </a:lnTo>
                <a:lnTo>
                  <a:pt x="3549" y="2099"/>
                </a:lnTo>
                <a:lnTo>
                  <a:pt x="3557" y="2101"/>
                </a:lnTo>
                <a:lnTo>
                  <a:pt x="3565" y="2105"/>
                </a:lnTo>
                <a:lnTo>
                  <a:pt x="3573" y="2110"/>
                </a:lnTo>
                <a:lnTo>
                  <a:pt x="3573" y="2150"/>
                </a:lnTo>
                <a:lnTo>
                  <a:pt x="3555" y="2150"/>
                </a:lnTo>
                <a:lnTo>
                  <a:pt x="3538" y="2149"/>
                </a:lnTo>
                <a:lnTo>
                  <a:pt x="3531" y="2149"/>
                </a:lnTo>
                <a:lnTo>
                  <a:pt x="3522" y="2150"/>
                </a:lnTo>
                <a:lnTo>
                  <a:pt x="3514" y="2151"/>
                </a:lnTo>
                <a:lnTo>
                  <a:pt x="3504" y="2153"/>
                </a:lnTo>
                <a:lnTo>
                  <a:pt x="3498" y="2157"/>
                </a:lnTo>
                <a:lnTo>
                  <a:pt x="3492" y="2161"/>
                </a:lnTo>
                <a:lnTo>
                  <a:pt x="3487" y="2164"/>
                </a:lnTo>
                <a:lnTo>
                  <a:pt x="3481" y="2168"/>
                </a:lnTo>
                <a:lnTo>
                  <a:pt x="3474" y="2179"/>
                </a:lnTo>
                <a:lnTo>
                  <a:pt x="3466" y="2189"/>
                </a:lnTo>
                <a:lnTo>
                  <a:pt x="3456" y="2215"/>
                </a:lnTo>
                <a:lnTo>
                  <a:pt x="3444" y="2242"/>
                </a:lnTo>
                <a:lnTo>
                  <a:pt x="3440" y="2248"/>
                </a:lnTo>
                <a:lnTo>
                  <a:pt x="3436" y="2254"/>
                </a:lnTo>
                <a:lnTo>
                  <a:pt x="3432" y="2259"/>
                </a:lnTo>
                <a:lnTo>
                  <a:pt x="3426" y="2263"/>
                </a:lnTo>
                <a:lnTo>
                  <a:pt x="3416" y="2271"/>
                </a:lnTo>
                <a:lnTo>
                  <a:pt x="3404" y="2278"/>
                </a:lnTo>
                <a:lnTo>
                  <a:pt x="3393" y="2284"/>
                </a:lnTo>
                <a:lnTo>
                  <a:pt x="3382" y="2292"/>
                </a:lnTo>
                <a:lnTo>
                  <a:pt x="3377" y="2296"/>
                </a:lnTo>
                <a:lnTo>
                  <a:pt x="3372" y="2301"/>
                </a:lnTo>
                <a:lnTo>
                  <a:pt x="3369" y="2307"/>
                </a:lnTo>
                <a:lnTo>
                  <a:pt x="3366" y="2314"/>
                </a:lnTo>
                <a:lnTo>
                  <a:pt x="3371" y="2316"/>
                </a:lnTo>
                <a:lnTo>
                  <a:pt x="3376" y="2319"/>
                </a:lnTo>
                <a:lnTo>
                  <a:pt x="3380" y="2322"/>
                </a:lnTo>
                <a:lnTo>
                  <a:pt x="3383" y="2327"/>
                </a:lnTo>
                <a:lnTo>
                  <a:pt x="3388" y="2335"/>
                </a:lnTo>
                <a:lnTo>
                  <a:pt x="3394" y="2345"/>
                </a:lnTo>
                <a:lnTo>
                  <a:pt x="3398" y="2354"/>
                </a:lnTo>
                <a:lnTo>
                  <a:pt x="3403" y="2364"/>
                </a:lnTo>
                <a:lnTo>
                  <a:pt x="3408" y="2373"/>
                </a:lnTo>
                <a:lnTo>
                  <a:pt x="3417" y="2382"/>
                </a:lnTo>
                <a:lnTo>
                  <a:pt x="3424" y="2388"/>
                </a:lnTo>
                <a:lnTo>
                  <a:pt x="3433" y="2393"/>
                </a:lnTo>
                <a:lnTo>
                  <a:pt x="3440" y="2397"/>
                </a:lnTo>
                <a:lnTo>
                  <a:pt x="3449" y="2401"/>
                </a:lnTo>
                <a:lnTo>
                  <a:pt x="3456" y="2403"/>
                </a:lnTo>
                <a:lnTo>
                  <a:pt x="3465" y="2404"/>
                </a:lnTo>
                <a:lnTo>
                  <a:pt x="3475" y="2405"/>
                </a:lnTo>
                <a:lnTo>
                  <a:pt x="3484" y="2405"/>
                </a:lnTo>
                <a:lnTo>
                  <a:pt x="3492" y="2405"/>
                </a:lnTo>
                <a:lnTo>
                  <a:pt x="3497" y="2404"/>
                </a:lnTo>
                <a:lnTo>
                  <a:pt x="3503" y="2402"/>
                </a:lnTo>
                <a:lnTo>
                  <a:pt x="3509" y="2399"/>
                </a:lnTo>
                <a:lnTo>
                  <a:pt x="3519" y="2393"/>
                </a:lnTo>
                <a:lnTo>
                  <a:pt x="3529" y="2387"/>
                </a:lnTo>
                <a:lnTo>
                  <a:pt x="3538" y="2379"/>
                </a:lnTo>
                <a:lnTo>
                  <a:pt x="3549" y="2374"/>
                </a:lnTo>
                <a:lnTo>
                  <a:pt x="3554" y="2371"/>
                </a:lnTo>
                <a:lnTo>
                  <a:pt x="3560" y="2370"/>
                </a:lnTo>
                <a:lnTo>
                  <a:pt x="3566" y="2368"/>
                </a:lnTo>
                <a:lnTo>
                  <a:pt x="3573" y="2368"/>
                </a:lnTo>
                <a:lnTo>
                  <a:pt x="3577" y="2368"/>
                </a:lnTo>
                <a:lnTo>
                  <a:pt x="3582" y="2369"/>
                </a:lnTo>
                <a:lnTo>
                  <a:pt x="3585" y="2370"/>
                </a:lnTo>
                <a:lnTo>
                  <a:pt x="3588" y="2372"/>
                </a:lnTo>
                <a:lnTo>
                  <a:pt x="3594" y="2376"/>
                </a:lnTo>
                <a:lnTo>
                  <a:pt x="3600" y="2383"/>
                </a:lnTo>
                <a:lnTo>
                  <a:pt x="3605" y="2388"/>
                </a:lnTo>
                <a:lnTo>
                  <a:pt x="3610" y="2394"/>
                </a:lnTo>
                <a:lnTo>
                  <a:pt x="3616" y="2401"/>
                </a:lnTo>
                <a:lnTo>
                  <a:pt x="3624" y="2405"/>
                </a:lnTo>
                <a:lnTo>
                  <a:pt x="3638" y="2402"/>
                </a:lnTo>
                <a:lnTo>
                  <a:pt x="3638" y="2357"/>
                </a:lnTo>
                <a:lnTo>
                  <a:pt x="3670" y="2385"/>
                </a:lnTo>
                <a:lnTo>
                  <a:pt x="3701" y="2410"/>
                </a:lnTo>
                <a:lnTo>
                  <a:pt x="3708" y="2415"/>
                </a:lnTo>
                <a:lnTo>
                  <a:pt x="3717" y="2421"/>
                </a:lnTo>
                <a:lnTo>
                  <a:pt x="3724" y="2425"/>
                </a:lnTo>
                <a:lnTo>
                  <a:pt x="3734" y="2429"/>
                </a:lnTo>
                <a:lnTo>
                  <a:pt x="3742" y="2432"/>
                </a:lnTo>
                <a:lnTo>
                  <a:pt x="3752" y="2434"/>
                </a:lnTo>
                <a:lnTo>
                  <a:pt x="3762" y="2435"/>
                </a:lnTo>
                <a:lnTo>
                  <a:pt x="3774" y="2435"/>
                </a:lnTo>
                <a:lnTo>
                  <a:pt x="3782" y="2435"/>
                </a:lnTo>
                <a:lnTo>
                  <a:pt x="3791" y="2434"/>
                </a:lnTo>
                <a:lnTo>
                  <a:pt x="3798" y="2432"/>
                </a:lnTo>
                <a:lnTo>
                  <a:pt x="3808" y="2429"/>
                </a:lnTo>
                <a:lnTo>
                  <a:pt x="3808" y="2412"/>
                </a:lnTo>
                <a:lnTo>
                  <a:pt x="3797" y="2407"/>
                </a:lnTo>
                <a:lnTo>
                  <a:pt x="3789" y="2402"/>
                </a:lnTo>
                <a:lnTo>
                  <a:pt x="3780" y="2395"/>
                </a:lnTo>
                <a:lnTo>
                  <a:pt x="3774" y="2389"/>
                </a:lnTo>
                <a:lnTo>
                  <a:pt x="3766" y="2382"/>
                </a:lnTo>
                <a:lnTo>
                  <a:pt x="3761" y="2374"/>
                </a:lnTo>
                <a:lnTo>
                  <a:pt x="3755" y="2365"/>
                </a:lnTo>
                <a:lnTo>
                  <a:pt x="3749" y="2354"/>
                </a:lnTo>
                <a:lnTo>
                  <a:pt x="3754" y="2351"/>
                </a:lnTo>
                <a:lnTo>
                  <a:pt x="3758" y="2348"/>
                </a:lnTo>
                <a:lnTo>
                  <a:pt x="3761" y="2346"/>
                </a:lnTo>
                <a:lnTo>
                  <a:pt x="3766" y="2345"/>
                </a:lnTo>
                <a:lnTo>
                  <a:pt x="3771" y="2345"/>
                </a:lnTo>
                <a:lnTo>
                  <a:pt x="3775" y="2346"/>
                </a:lnTo>
                <a:lnTo>
                  <a:pt x="3778" y="2348"/>
                </a:lnTo>
                <a:lnTo>
                  <a:pt x="3781" y="2350"/>
                </a:lnTo>
                <a:lnTo>
                  <a:pt x="3786" y="2354"/>
                </a:lnTo>
                <a:lnTo>
                  <a:pt x="3794" y="2357"/>
                </a:lnTo>
                <a:lnTo>
                  <a:pt x="3817" y="2357"/>
                </a:lnTo>
                <a:lnTo>
                  <a:pt x="3817" y="2297"/>
                </a:lnTo>
                <a:lnTo>
                  <a:pt x="3831" y="2293"/>
                </a:lnTo>
                <a:lnTo>
                  <a:pt x="3833" y="2300"/>
                </a:lnTo>
                <a:lnTo>
                  <a:pt x="3835" y="2307"/>
                </a:lnTo>
                <a:lnTo>
                  <a:pt x="3838" y="2313"/>
                </a:lnTo>
                <a:lnTo>
                  <a:pt x="3841" y="2318"/>
                </a:lnTo>
                <a:lnTo>
                  <a:pt x="3849" y="2329"/>
                </a:lnTo>
                <a:lnTo>
                  <a:pt x="3857" y="2337"/>
                </a:lnTo>
                <a:lnTo>
                  <a:pt x="3868" y="2345"/>
                </a:lnTo>
                <a:lnTo>
                  <a:pt x="3879" y="2351"/>
                </a:lnTo>
                <a:lnTo>
                  <a:pt x="3892" y="2356"/>
                </a:lnTo>
                <a:lnTo>
                  <a:pt x="3906" y="2361"/>
                </a:lnTo>
                <a:lnTo>
                  <a:pt x="3905" y="2349"/>
                </a:lnTo>
                <a:lnTo>
                  <a:pt x="3903" y="2338"/>
                </a:lnTo>
                <a:lnTo>
                  <a:pt x="3898" y="2329"/>
                </a:lnTo>
                <a:lnTo>
                  <a:pt x="3894" y="2319"/>
                </a:lnTo>
                <a:lnTo>
                  <a:pt x="3889" y="2311"/>
                </a:lnTo>
                <a:lnTo>
                  <a:pt x="3885" y="2301"/>
                </a:lnTo>
                <a:lnTo>
                  <a:pt x="3879" y="2291"/>
                </a:lnTo>
                <a:lnTo>
                  <a:pt x="3875" y="2279"/>
                </a:lnTo>
                <a:lnTo>
                  <a:pt x="3879" y="2281"/>
                </a:lnTo>
                <a:lnTo>
                  <a:pt x="3884" y="2284"/>
                </a:lnTo>
                <a:lnTo>
                  <a:pt x="3887" y="2286"/>
                </a:lnTo>
                <a:lnTo>
                  <a:pt x="3890" y="2290"/>
                </a:lnTo>
                <a:lnTo>
                  <a:pt x="3895" y="2297"/>
                </a:lnTo>
                <a:lnTo>
                  <a:pt x="3899" y="2305"/>
                </a:lnTo>
                <a:lnTo>
                  <a:pt x="3903" y="2314"/>
                </a:lnTo>
                <a:lnTo>
                  <a:pt x="3907" y="2322"/>
                </a:lnTo>
                <a:lnTo>
                  <a:pt x="3912" y="2330"/>
                </a:lnTo>
                <a:lnTo>
                  <a:pt x="3919" y="2337"/>
                </a:lnTo>
                <a:lnTo>
                  <a:pt x="3927" y="2342"/>
                </a:lnTo>
                <a:lnTo>
                  <a:pt x="3933" y="2347"/>
                </a:lnTo>
                <a:lnTo>
                  <a:pt x="3941" y="2350"/>
                </a:lnTo>
                <a:lnTo>
                  <a:pt x="3948" y="2352"/>
                </a:lnTo>
                <a:lnTo>
                  <a:pt x="3963" y="2356"/>
                </a:lnTo>
                <a:lnTo>
                  <a:pt x="3979" y="2361"/>
                </a:lnTo>
                <a:lnTo>
                  <a:pt x="3980" y="2350"/>
                </a:lnTo>
                <a:lnTo>
                  <a:pt x="3980" y="2340"/>
                </a:lnTo>
                <a:lnTo>
                  <a:pt x="3979" y="2331"/>
                </a:lnTo>
                <a:lnTo>
                  <a:pt x="3979" y="2319"/>
                </a:lnTo>
                <a:lnTo>
                  <a:pt x="3979" y="2309"/>
                </a:lnTo>
                <a:lnTo>
                  <a:pt x="3977" y="2299"/>
                </a:lnTo>
                <a:lnTo>
                  <a:pt x="3974" y="2290"/>
                </a:lnTo>
                <a:lnTo>
                  <a:pt x="3972" y="2281"/>
                </a:lnTo>
                <a:lnTo>
                  <a:pt x="3964" y="2264"/>
                </a:lnTo>
                <a:lnTo>
                  <a:pt x="3953" y="2245"/>
                </a:lnTo>
                <a:lnTo>
                  <a:pt x="3960" y="2252"/>
                </a:lnTo>
                <a:lnTo>
                  <a:pt x="3966" y="2256"/>
                </a:lnTo>
                <a:lnTo>
                  <a:pt x="3972" y="2261"/>
                </a:lnTo>
                <a:lnTo>
                  <a:pt x="3979" y="2264"/>
                </a:lnTo>
                <a:lnTo>
                  <a:pt x="3991" y="2271"/>
                </a:lnTo>
                <a:lnTo>
                  <a:pt x="4005" y="2275"/>
                </a:lnTo>
                <a:lnTo>
                  <a:pt x="4019" y="2277"/>
                </a:lnTo>
                <a:lnTo>
                  <a:pt x="4034" y="2279"/>
                </a:lnTo>
                <a:lnTo>
                  <a:pt x="4049" y="2279"/>
                </a:lnTo>
                <a:lnTo>
                  <a:pt x="4065" y="2279"/>
                </a:lnTo>
                <a:lnTo>
                  <a:pt x="4067" y="2296"/>
                </a:lnTo>
                <a:lnTo>
                  <a:pt x="4070" y="2312"/>
                </a:lnTo>
                <a:lnTo>
                  <a:pt x="4074" y="2329"/>
                </a:lnTo>
                <a:lnTo>
                  <a:pt x="4079" y="2344"/>
                </a:lnTo>
                <a:lnTo>
                  <a:pt x="4082" y="2350"/>
                </a:lnTo>
                <a:lnTo>
                  <a:pt x="4085" y="2356"/>
                </a:lnTo>
                <a:lnTo>
                  <a:pt x="4090" y="2361"/>
                </a:lnTo>
                <a:lnTo>
                  <a:pt x="4094" y="2366"/>
                </a:lnTo>
                <a:lnTo>
                  <a:pt x="4099" y="2370"/>
                </a:lnTo>
                <a:lnTo>
                  <a:pt x="4105" y="2372"/>
                </a:lnTo>
                <a:lnTo>
                  <a:pt x="4113" y="2374"/>
                </a:lnTo>
                <a:lnTo>
                  <a:pt x="4120" y="2375"/>
                </a:lnTo>
                <a:lnTo>
                  <a:pt x="4124" y="2374"/>
                </a:lnTo>
                <a:lnTo>
                  <a:pt x="4130" y="2373"/>
                </a:lnTo>
                <a:lnTo>
                  <a:pt x="4134" y="2372"/>
                </a:lnTo>
                <a:lnTo>
                  <a:pt x="4138" y="2370"/>
                </a:lnTo>
                <a:lnTo>
                  <a:pt x="4144" y="2365"/>
                </a:lnTo>
                <a:lnTo>
                  <a:pt x="4151" y="2358"/>
                </a:lnTo>
                <a:lnTo>
                  <a:pt x="4161" y="2341"/>
                </a:lnTo>
                <a:lnTo>
                  <a:pt x="4171" y="2323"/>
                </a:lnTo>
                <a:lnTo>
                  <a:pt x="4175" y="2317"/>
                </a:lnTo>
                <a:lnTo>
                  <a:pt x="4179" y="2312"/>
                </a:lnTo>
                <a:lnTo>
                  <a:pt x="4185" y="2307"/>
                </a:lnTo>
                <a:lnTo>
                  <a:pt x="4190" y="2302"/>
                </a:lnTo>
                <a:lnTo>
                  <a:pt x="4200" y="2294"/>
                </a:lnTo>
                <a:lnTo>
                  <a:pt x="4212" y="2283"/>
                </a:lnTo>
                <a:lnTo>
                  <a:pt x="4214" y="2279"/>
                </a:lnTo>
                <a:lnTo>
                  <a:pt x="4217" y="2275"/>
                </a:lnTo>
                <a:lnTo>
                  <a:pt x="4219" y="2270"/>
                </a:lnTo>
                <a:lnTo>
                  <a:pt x="4220" y="2265"/>
                </a:lnTo>
                <a:lnTo>
                  <a:pt x="4223" y="2255"/>
                </a:lnTo>
                <a:lnTo>
                  <a:pt x="4225" y="2245"/>
                </a:lnTo>
                <a:lnTo>
                  <a:pt x="4228" y="2236"/>
                </a:lnTo>
                <a:lnTo>
                  <a:pt x="4231" y="2228"/>
                </a:lnTo>
                <a:lnTo>
                  <a:pt x="4234" y="2226"/>
                </a:lnTo>
                <a:lnTo>
                  <a:pt x="4237" y="2224"/>
                </a:lnTo>
                <a:lnTo>
                  <a:pt x="4241" y="2222"/>
                </a:lnTo>
                <a:lnTo>
                  <a:pt x="4246" y="2222"/>
                </a:lnTo>
                <a:lnTo>
                  <a:pt x="4252" y="2225"/>
                </a:lnTo>
                <a:lnTo>
                  <a:pt x="4260" y="2228"/>
                </a:lnTo>
                <a:lnTo>
                  <a:pt x="4268" y="2226"/>
                </a:lnTo>
                <a:lnTo>
                  <a:pt x="4276" y="2222"/>
                </a:lnTo>
                <a:lnTo>
                  <a:pt x="4276" y="2128"/>
                </a:lnTo>
                <a:lnTo>
                  <a:pt x="4275" y="2118"/>
                </a:lnTo>
                <a:lnTo>
                  <a:pt x="4272" y="2109"/>
                </a:lnTo>
                <a:lnTo>
                  <a:pt x="4268" y="2101"/>
                </a:lnTo>
                <a:lnTo>
                  <a:pt x="4262" y="2093"/>
                </a:lnTo>
                <a:lnTo>
                  <a:pt x="4254" y="2087"/>
                </a:lnTo>
                <a:lnTo>
                  <a:pt x="4247" y="2082"/>
                </a:lnTo>
                <a:lnTo>
                  <a:pt x="4237" y="2076"/>
                </a:lnTo>
                <a:lnTo>
                  <a:pt x="4229" y="2072"/>
                </a:lnTo>
                <a:lnTo>
                  <a:pt x="4222" y="2087"/>
                </a:lnTo>
                <a:lnTo>
                  <a:pt x="4214" y="2101"/>
                </a:lnTo>
                <a:lnTo>
                  <a:pt x="4207" y="2113"/>
                </a:lnTo>
                <a:lnTo>
                  <a:pt x="4198" y="2127"/>
                </a:lnTo>
                <a:lnTo>
                  <a:pt x="4191" y="2123"/>
                </a:lnTo>
                <a:lnTo>
                  <a:pt x="4186" y="2119"/>
                </a:lnTo>
                <a:lnTo>
                  <a:pt x="4180" y="2113"/>
                </a:lnTo>
                <a:lnTo>
                  <a:pt x="4176" y="2108"/>
                </a:lnTo>
                <a:lnTo>
                  <a:pt x="4172" y="2102"/>
                </a:lnTo>
                <a:lnTo>
                  <a:pt x="4169" y="2095"/>
                </a:lnTo>
                <a:lnTo>
                  <a:pt x="4166" y="2089"/>
                </a:lnTo>
                <a:lnTo>
                  <a:pt x="4163" y="2083"/>
                </a:lnTo>
                <a:lnTo>
                  <a:pt x="4160" y="2068"/>
                </a:lnTo>
                <a:lnTo>
                  <a:pt x="4158" y="2053"/>
                </a:lnTo>
                <a:lnTo>
                  <a:pt x="4157" y="2037"/>
                </a:lnTo>
                <a:lnTo>
                  <a:pt x="4157" y="2021"/>
                </a:lnTo>
                <a:lnTo>
                  <a:pt x="4151" y="2017"/>
                </a:lnTo>
                <a:lnTo>
                  <a:pt x="4143" y="2015"/>
                </a:lnTo>
                <a:lnTo>
                  <a:pt x="4136" y="2015"/>
                </a:lnTo>
                <a:lnTo>
                  <a:pt x="4130" y="2016"/>
                </a:lnTo>
                <a:lnTo>
                  <a:pt x="4123" y="2019"/>
                </a:lnTo>
                <a:lnTo>
                  <a:pt x="4118" y="2023"/>
                </a:lnTo>
                <a:lnTo>
                  <a:pt x="4107" y="2030"/>
                </a:lnTo>
                <a:lnTo>
                  <a:pt x="4098" y="2038"/>
                </a:lnTo>
                <a:lnTo>
                  <a:pt x="4087" y="2047"/>
                </a:lnTo>
                <a:lnTo>
                  <a:pt x="4078" y="2055"/>
                </a:lnTo>
                <a:lnTo>
                  <a:pt x="4072" y="2057"/>
                </a:lnTo>
                <a:lnTo>
                  <a:pt x="4065" y="2061"/>
                </a:lnTo>
                <a:lnTo>
                  <a:pt x="4059" y="2062"/>
                </a:lnTo>
                <a:lnTo>
                  <a:pt x="4051" y="2063"/>
                </a:lnTo>
                <a:lnTo>
                  <a:pt x="4042" y="2062"/>
                </a:lnTo>
                <a:lnTo>
                  <a:pt x="4032" y="2059"/>
                </a:lnTo>
                <a:lnTo>
                  <a:pt x="4024" y="2057"/>
                </a:lnTo>
                <a:lnTo>
                  <a:pt x="4017" y="2054"/>
                </a:lnTo>
                <a:lnTo>
                  <a:pt x="4008" y="2051"/>
                </a:lnTo>
                <a:lnTo>
                  <a:pt x="4000" y="2048"/>
                </a:lnTo>
                <a:lnTo>
                  <a:pt x="3990" y="2046"/>
                </a:lnTo>
                <a:lnTo>
                  <a:pt x="3981" y="2046"/>
                </a:lnTo>
                <a:lnTo>
                  <a:pt x="3966" y="2046"/>
                </a:lnTo>
                <a:lnTo>
                  <a:pt x="3953" y="2049"/>
                </a:lnTo>
                <a:lnTo>
                  <a:pt x="3941" y="2052"/>
                </a:lnTo>
                <a:lnTo>
                  <a:pt x="3926" y="2055"/>
                </a:lnTo>
                <a:lnTo>
                  <a:pt x="3932" y="2050"/>
                </a:lnTo>
                <a:lnTo>
                  <a:pt x="3937" y="2044"/>
                </a:lnTo>
                <a:lnTo>
                  <a:pt x="3943" y="2037"/>
                </a:lnTo>
                <a:lnTo>
                  <a:pt x="3947" y="2030"/>
                </a:lnTo>
                <a:lnTo>
                  <a:pt x="3949" y="2023"/>
                </a:lnTo>
                <a:lnTo>
                  <a:pt x="3951" y="2015"/>
                </a:lnTo>
                <a:lnTo>
                  <a:pt x="3953" y="2007"/>
                </a:lnTo>
                <a:lnTo>
                  <a:pt x="3953" y="1997"/>
                </a:lnTo>
                <a:lnTo>
                  <a:pt x="3952" y="1986"/>
                </a:lnTo>
                <a:lnTo>
                  <a:pt x="3950" y="1976"/>
                </a:lnTo>
                <a:lnTo>
                  <a:pt x="3946" y="1967"/>
                </a:lnTo>
                <a:lnTo>
                  <a:pt x="3942" y="1958"/>
                </a:lnTo>
                <a:lnTo>
                  <a:pt x="3930" y="1940"/>
                </a:lnTo>
                <a:lnTo>
                  <a:pt x="3919" y="1919"/>
                </a:lnTo>
                <a:lnTo>
                  <a:pt x="3929" y="1938"/>
                </a:lnTo>
                <a:lnTo>
                  <a:pt x="3941" y="1955"/>
                </a:lnTo>
                <a:lnTo>
                  <a:pt x="3946" y="1962"/>
                </a:lnTo>
                <a:lnTo>
                  <a:pt x="3952" y="1969"/>
                </a:lnTo>
                <a:lnTo>
                  <a:pt x="3959" y="1976"/>
                </a:lnTo>
                <a:lnTo>
                  <a:pt x="3965" y="1981"/>
                </a:lnTo>
                <a:lnTo>
                  <a:pt x="3972" y="1987"/>
                </a:lnTo>
                <a:lnTo>
                  <a:pt x="3980" y="1991"/>
                </a:lnTo>
                <a:lnTo>
                  <a:pt x="3987" y="1995"/>
                </a:lnTo>
                <a:lnTo>
                  <a:pt x="3996" y="1998"/>
                </a:lnTo>
                <a:lnTo>
                  <a:pt x="4004" y="2001"/>
                </a:lnTo>
                <a:lnTo>
                  <a:pt x="4013" y="2002"/>
                </a:lnTo>
                <a:lnTo>
                  <a:pt x="4023" y="2005"/>
                </a:lnTo>
                <a:lnTo>
                  <a:pt x="4034" y="2005"/>
                </a:lnTo>
                <a:lnTo>
                  <a:pt x="4044" y="2003"/>
                </a:lnTo>
                <a:lnTo>
                  <a:pt x="4055" y="2002"/>
                </a:lnTo>
                <a:lnTo>
                  <a:pt x="4064" y="2000"/>
                </a:lnTo>
                <a:lnTo>
                  <a:pt x="4073" y="1998"/>
                </a:lnTo>
                <a:lnTo>
                  <a:pt x="4091" y="1992"/>
                </a:lnTo>
                <a:lnTo>
                  <a:pt x="4107" y="1984"/>
                </a:lnTo>
                <a:lnTo>
                  <a:pt x="4123" y="1977"/>
                </a:lnTo>
                <a:lnTo>
                  <a:pt x="4141" y="1970"/>
                </a:lnTo>
                <a:lnTo>
                  <a:pt x="4151" y="1968"/>
                </a:lnTo>
                <a:lnTo>
                  <a:pt x="4160" y="1965"/>
                </a:lnTo>
                <a:lnTo>
                  <a:pt x="4170" y="1964"/>
                </a:lnTo>
                <a:lnTo>
                  <a:pt x="4181" y="1963"/>
                </a:lnTo>
                <a:lnTo>
                  <a:pt x="4181" y="1911"/>
                </a:lnTo>
                <a:lnTo>
                  <a:pt x="4180" y="1897"/>
                </a:lnTo>
                <a:lnTo>
                  <a:pt x="4178" y="1884"/>
                </a:lnTo>
                <a:lnTo>
                  <a:pt x="4175" y="1873"/>
                </a:lnTo>
                <a:lnTo>
                  <a:pt x="4171" y="1862"/>
                </a:lnTo>
                <a:lnTo>
                  <a:pt x="4166" y="1851"/>
                </a:lnTo>
                <a:lnTo>
                  <a:pt x="4159" y="1842"/>
                </a:lnTo>
                <a:lnTo>
                  <a:pt x="4152" y="1831"/>
                </a:lnTo>
                <a:lnTo>
                  <a:pt x="4143" y="1821"/>
                </a:lnTo>
                <a:lnTo>
                  <a:pt x="4131" y="1808"/>
                </a:lnTo>
                <a:lnTo>
                  <a:pt x="4117" y="1797"/>
                </a:lnTo>
                <a:lnTo>
                  <a:pt x="4112" y="1790"/>
                </a:lnTo>
                <a:lnTo>
                  <a:pt x="4106" y="1784"/>
                </a:lnTo>
                <a:lnTo>
                  <a:pt x="4105" y="1780"/>
                </a:lnTo>
                <a:lnTo>
                  <a:pt x="4104" y="1775"/>
                </a:lnTo>
                <a:lnTo>
                  <a:pt x="4103" y="1771"/>
                </a:lnTo>
                <a:lnTo>
                  <a:pt x="4103" y="1767"/>
                </a:lnTo>
                <a:lnTo>
                  <a:pt x="4103" y="1764"/>
                </a:lnTo>
                <a:lnTo>
                  <a:pt x="4104" y="1760"/>
                </a:lnTo>
                <a:lnTo>
                  <a:pt x="4105" y="1757"/>
                </a:lnTo>
                <a:lnTo>
                  <a:pt x="4107" y="1754"/>
                </a:lnTo>
                <a:lnTo>
                  <a:pt x="4111" y="1752"/>
                </a:lnTo>
                <a:lnTo>
                  <a:pt x="4113" y="1751"/>
                </a:lnTo>
                <a:lnTo>
                  <a:pt x="4116" y="1750"/>
                </a:lnTo>
                <a:lnTo>
                  <a:pt x="4120" y="1750"/>
                </a:lnTo>
                <a:lnTo>
                  <a:pt x="4126" y="1750"/>
                </a:lnTo>
                <a:lnTo>
                  <a:pt x="4132" y="1752"/>
                </a:lnTo>
                <a:lnTo>
                  <a:pt x="4138" y="1755"/>
                </a:lnTo>
                <a:lnTo>
                  <a:pt x="4142" y="1759"/>
                </a:lnTo>
                <a:lnTo>
                  <a:pt x="4148" y="1762"/>
                </a:lnTo>
                <a:lnTo>
                  <a:pt x="4153" y="1764"/>
                </a:lnTo>
                <a:lnTo>
                  <a:pt x="4159" y="1766"/>
                </a:lnTo>
                <a:lnTo>
                  <a:pt x="4166" y="1767"/>
                </a:lnTo>
                <a:lnTo>
                  <a:pt x="4177" y="1766"/>
                </a:lnTo>
                <a:lnTo>
                  <a:pt x="4189" y="1764"/>
                </a:lnTo>
                <a:lnTo>
                  <a:pt x="4200" y="1762"/>
                </a:lnTo>
                <a:lnTo>
                  <a:pt x="4211" y="1757"/>
                </a:lnTo>
                <a:lnTo>
                  <a:pt x="4220" y="1752"/>
                </a:lnTo>
                <a:lnTo>
                  <a:pt x="4230" y="1747"/>
                </a:lnTo>
                <a:lnTo>
                  <a:pt x="4238" y="1740"/>
                </a:lnTo>
                <a:lnTo>
                  <a:pt x="4247" y="1732"/>
                </a:lnTo>
                <a:lnTo>
                  <a:pt x="4254" y="1724"/>
                </a:lnTo>
                <a:lnTo>
                  <a:pt x="4261" y="1715"/>
                </a:lnTo>
                <a:lnTo>
                  <a:pt x="4267" y="1706"/>
                </a:lnTo>
                <a:lnTo>
                  <a:pt x="4272" y="1695"/>
                </a:lnTo>
                <a:lnTo>
                  <a:pt x="4276" y="1685"/>
                </a:lnTo>
                <a:lnTo>
                  <a:pt x="4280" y="1673"/>
                </a:lnTo>
                <a:lnTo>
                  <a:pt x="4282" y="1661"/>
                </a:lnTo>
                <a:lnTo>
                  <a:pt x="4283" y="1650"/>
                </a:lnTo>
                <a:lnTo>
                  <a:pt x="4269" y="1649"/>
                </a:lnTo>
                <a:lnTo>
                  <a:pt x="4257" y="1649"/>
                </a:lnTo>
                <a:lnTo>
                  <a:pt x="4246" y="1649"/>
                </a:lnTo>
                <a:lnTo>
                  <a:pt x="4233" y="1650"/>
                </a:lnTo>
                <a:lnTo>
                  <a:pt x="4226" y="1649"/>
                </a:lnTo>
                <a:lnTo>
                  <a:pt x="4218" y="1648"/>
                </a:lnTo>
                <a:lnTo>
                  <a:pt x="4212" y="1644"/>
                </a:lnTo>
                <a:lnTo>
                  <a:pt x="4207" y="1640"/>
                </a:lnTo>
                <a:lnTo>
                  <a:pt x="4201" y="1636"/>
                </a:lnTo>
                <a:lnTo>
                  <a:pt x="4197" y="1631"/>
                </a:lnTo>
                <a:lnTo>
                  <a:pt x="4194" y="1624"/>
                </a:lnTo>
                <a:lnTo>
                  <a:pt x="4191" y="1617"/>
                </a:lnTo>
                <a:lnTo>
                  <a:pt x="4202" y="1617"/>
                </a:lnTo>
                <a:lnTo>
                  <a:pt x="4213" y="1617"/>
                </a:lnTo>
                <a:lnTo>
                  <a:pt x="4224" y="1617"/>
                </a:lnTo>
                <a:lnTo>
                  <a:pt x="4235" y="1617"/>
                </a:lnTo>
                <a:lnTo>
                  <a:pt x="4242" y="1616"/>
                </a:lnTo>
                <a:lnTo>
                  <a:pt x="4247" y="1614"/>
                </a:lnTo>
                <a:lnTo>
                  <a:pt x="4251" y="1611"/>
                </a:lnTo>
                <a:lnTo>
                  <a:pt x="4255" y="1606"/>
                </a:lnTo>
                <a:lnTo>
                  <a:pt x="4258" y="1601"/>
                </a:lnTo>
                <a:lnTo>
                  <a:pt x="4261" y="1595"/>
                </a:lnTo>
                <a:lnTo>
                  <a:pt x="4262" y="1589"/>
                </a:lnTo>
                <a:lnTo>
                  <a:pt x="4263" y="1582"/>
                </a:lnTo>
                <a:lnTo>
                  <a:pt x="4263" y="1529"/>
                </a:lnTo>
                <a:lnTo>
                  <a:pt x="4255" y="1525"/>
                </a:lnTo>
                <a:lnTo>
                  <a:pt x="4249" y="1522"/>
                </a:lnTo>
                <a:lnTo>
                  <a:pt x="4235" y="1530"/>
                </a:lnTo>
                <a:lnTo>
                  <a:pt x="4220" y="1539"/>
                </a:lnTo>
                <a:lnTo>
                  <a:pt x="4194" y="1539"/>
                </a:lnTo>
                <a:lnTo>
                  <a:pt x="4199" y="1529"/>
                </a:lnTo>
                <a:lnTo>
                  <a:pt x="4206" y="1520"/>
                </a:lnTo>
                <a:lnTo>
                  <a:pt x="4213" y="1512"/>
                </a:lnTo>
                <a:lnTo>
                  <a:pt x="4219" y="1505"/>
                </a:lnTo>
                <a:lnTo>
                  <a:pt x="4226" y="1498"/>
                </a:lnTo>
                <a:lnTo>
                  <a:pt x="4231" y="1489"/>
                </a:lnTo>
                <a:lnTo>
                  <a:pt x="4232" y="1485"/>
                </a:lnTo>
                <a:lnTo>
                  <a:pt x="4234" y="1480"/>
                </a:lnTo>
                <a:lnTo>
                  <a:pt x="4235" y="1476"/>
                </a:lnTo>
                <a:lnTo>
                  <a:pt x="4235" y="1469"/>
                </a:lnTo>
                <a:lnTo>
                  <a:pt x="4235" y="1458"/>
                </a:lnTo>
                <a:lnTo>
                  <a:pt x="4234" y="1446"/>
                </a:lnTo>
                <a:lnTo>
                  <a:pt x="4232" y="1434"/>
                </a:lnTo>
                <a:lnTo>
                  <a:pt x="4230" y="1424"/>
                </a:lnTo>
                <a:lnTo>
                  <a:pt x="4228" y="1419"/>
                </a:lnTo>
                <a:lnTo>
                  <a:pt x="4225" y="1414"/>
                </a:lnTo>
                <a:lnTo>
                  <a:pt x="4223" y="1410"/>
                </a:lnTo>
                <a:lnTo>
                  <a:pt x="4219" y="1407"/>
                </a:lnTo>
                <a:lnTo>
                  <a:pt x="4215" y="1404"/>
                </a:lnTo>
                <a:lnTo>
                  <a:pt x="4211" y="1402"/>
                </a:lnTo>
                <a:lnTo>
                  <a:pt x="4207" y="1401"/>
                </a:lnTo>
                <a:lnTo>
                  <a:pt x="4201" y="1400"/>
                </a:lnTo>
                <a:lnTo>
                  <a:pt x="4192" y="1401"/>
                </a:lnTo>
                <a:lnTo>
                  <a:pt x="4183" y="1403"/>
                </a:lnTo>
                <a:lnTo>
                  <a:pt x="4176" y="1406"/>
                </a:lnTo>
                <a:lnTo>
                  <a:pt x="4169" y="1409"/>
                </a:lnTo>
                <a:lnTo>
                  <a:pt x="4162" y="1413"/>
                </a:lnTo>
                <a:lnTo>
                  <a:pt x="4154" y="1416"/>
                </a:lnTo>
                <a:lnTo>
                  <a:pt x="4147" y="1419"/>
                </a:lnTo>
                <a:lnTo>
                  <a:pt x="4137" y="1421"/>
                </a:lnTo>
                <a:lnTo>
                  <a:pt x="4134" y="1405"/>
                </a:lnTo>
                <a:lnTo>
                  <a:pt x="4131" y="1389"/>
                </a:lnTo>
                <a:lnTo>
                  <a:pt x="4129" y="1383"/>
                </a:lnTo>
                <a:lnTo>
                  <a:pt x="4124" y="1377"/>
                </a:lnTo>
                <a:lnTo>
                  <a:pt x="4122" y="1375"/>
                </a:lnTo>
                <a:lnTo>
                  <a:pt x="4120" y="1374"/>
                </a:lnTo>
                <a:lnTo>
                  <a:pt x="4117" y="1373"/>
                </a:lnTo>
                <a:lnTo>
                  <a:pt x="4113" y="1373"/>
                </a:lnTo>
                <a:lnTo>
                  <a:pt x="4106" y="1373"/>
                </a:lnTo>
                <a:lnTo>
                  <a:pt x="4100" y="1374"/>
                </a:lnTo>
                <a:lnTo>
                  <a:pt x="4095" y="1375"/>
                </a:lnTo>
                <a:lnTo>
                  <a:pt x="4090" y="1377"/>
                </a:lnTo>
                <a:lnTo>
                  <a:pt x="4080" y="1382"/>
                </a:lnTo>
                <a:lnTo>
                  <a:pt x="4070" y="1388"/>
                </a:lnTo>
                <a:lnTo>
                  <a:pt x="4061" y="1393"/>
                </a:lnTo>
                <a:lnTo>
                  <a:pt x="4051" y="1400"/>
                </a:lnTo>
                <a:lnTo>
                  <a:pt x="4041" y="1404"/>
                </a:lnTo>
                <a:lnTo>
                  <a:pt x="4028" y="1407"/>
                </a:lnTo>
                <a:lnTo>
                  <a:pt x="4024" y="1401"/>
                </a:lnTo>
                <a:lnTo>
                  <a:pt x="4021" y="1393"/>
                </a:lnTo>
                <a:lnTo>
                  <a:pt x="4022" y="1387"/>
                </a:lnTo>
                <a:lnTo>
                  <a:pt x="4023" y="1382"/>
                </a:lnTo>
                <a:lnTo>
                  <a:pt x="4025" y="1377"/>
                </a:lnTo>
                <a:lnTo>
                  <a:pt x="4028" y="1372"/>
                </a:lnTo>
                <a:lnTo>
                  <a:pt x="4034" y="1363"/>
                </a:lnTo>
                <a:lnTo>
                  <a:pt x="4038" y="1352"/>
                </a:lnTo>
                <a:lnTo>
                  <a:pt x="4042" y="1337"/>
                </a:lnTo>
                <a:lnTo>
                  <a:pt x="4045" y="1323"/>
                </a:lnTo>
                <a:lnTo>
                  <a:pt x="4046" y="1310"/>
                </a:lnTo>
                <a:lnTo>
                  <a:pt x="4048" y="1296"/>
                </a:lnTo>
                <a:lnTo>
                  <a:pt x="4048" y="1269"/>
                </a:lnTo>
                <a:lnTo>
                  <a:pt x="4048" y="1239"/>
                </a:lnTo>
                <a:lnTo>
                  <a:pt x="4059" y="1238"/>
                </a:lnTo>
                <a:lnTo>
                  <a:pt x="4068" y="1238"/>
                </a:lnTo>
                <a:lnTo>
                  <a:pt x="4078" y="1238"/>
                </a:lnTo>
                <a:lnTo>
                  <a:pt x="4090" y="1239"/>
                </a:lnTo>
                <a:lnTo>
                  <a:pt x="4097" y="1238"/>
                </a:lnTo>
                <a:lnTo>
                  <a:pt x="4103" y="1237"/>
                </a:lnTo>
                <a:lnTo>
                  <a:pt x="4110" y="1236"/>
                </a:lnTo>
                <a:lnTo>
                  <a:pt x="4116" y="1233"/>
                </a:lnTo>
                <a:lnTo>
                  <a:pt x="4121" y="1231"/>
                </a:lnTo>
                <a:lnTo>
                  <a:pt x="4126" y="1227"/>
                </a:lnTo>
                <a:lnTo>
                  <a:pt x="4132" y="1223"/>
                </a:lnTo>
                <a:lnTo>
                  <a:pt x="4136" y="1219"/>
                </a:lnTo>
                <a:lnTo>
                  <a:pt x="4145" y="1209"/>
                </a:lnTo>
                <a:lnTo>
                  <a:pt x="4154" y="1199"/>
                </a:lnTo>
                <a:lnTo>
                  <a:pt x="4162" y="1187"/>
                </a:lnTo>
                <a:lnTo>
                  <a:pt x="4171" y="1176"/>
                </a:lnTo>
                <a:lnTo>
                  <a:pt x="4178" y="1167"/>
                </a:lnTo>
                <a:lnTo>
                  <a:pt x="4187" y="1160"/>
                </a:lnTo>
                <a:lnTo>
                  <a:pt x="4190" y="1157"/>
                </a:lnTo>
                <a:lnTo>
                  <a:pt x="4192" y="1152"/>
                </a:lnTo>
                <a:lnTo>
                  <a:pt x="4194" y="1147"/>
                </a:lnTo>
                <a:lnTo>
                  <a:pt x="4194" y="1142"/>
                </a:lnTo>
                <a:lnTo>
                  <a:pt x="4194" y="1137"/>
                </a:lnTo>
                <a:lnTo>
                  <a:pt x="4192" y="1131"/>
                </a:lnTo>
                <a:lnTo>
                  <a:pt x="4190" y="1128"/>
                </a:lnTo>
                <a:lnTo>
                  <a:pt x="4186" y="1125"/>
                </a:lnTo>
                <a:lnTo>
                  <a:pt x="4177" y="1121"/>
                </a:lnTo>
                <a:lnTo>
                  <a:pt x="4166" y="1118"/>
                </a:lnTo>
                <a:lnTo>
                  <a:pt x="4154" y="1115"/>
                </a:lnTo>
                <a:lnTo>
                  <a:pt x="4142" y="1111"/>
                </a:lnTo>
                <a:lnTo>
                  <a:pt x="4136" y="1109"/>
                </a:lnTo>
                <a:lnTo>
                  <a:pt x="4132" y="1106"/>
                </a:lnTo>
                <a:lnTo>
                  <a:pt x="4126" y="1102"/>
                </a:lnTo>
                <a:lnTo>
                  <a:pt x="4123" y="1098"/>
                </a:lnTo>
                <a:lnTo>
                  <a:pt x="4120" y="1084"/>
                </a:lnTo>
                <a:lnTo>
                  <a:pt x="4132" y="1088"/>
                </a:lnTo>
                <a:lnTo>
                  <a:pt x="4142" y="1092"/>
                </a:lnTo>
                <a:lnTo>
                  <a:pt x="4153" y="1096"/>
                </a:lnTo>
                <a:lnTo>
                  <a:pt x="4162" y="1101"/>
                </a:lnTo>
                <a:lnTo>
                  <a:pt x="4172" y="1105"/>
                </a:lnTo>
                <a:lnTo>
                  <a:pt x="4181" y="1108"/>
                </a:lnTo>
                <a:lnTo>
                  <a:pt x="4193" y="1110"/>
                </a:lnTo>
                <a:lnTo>
                  <a:pt x="4205" y="1111"/>
                </a:lnTo>
                <a:lnTo>
                  <a:pt x="4213" y="1111"/>
                </a:lnTo>
                <a:lnTo>
                  <a:pt x="4222" y="1110"/>
                </a:lnTo>
                <a:lnTo>
                  <a:pt x="4229" y="1108"/>
                </a:lnTo>
                <a:lnTo>
                  <a:pt x="4236" y="1105"/>
                </a:lnTo>
                <a:lnTo>
                  <a:pt x="4243" y="1102"/>
                </a:lnTo>
                <a:lnTo>
                  <a:pt x="4248" y="1096"/>
                </a:lnTo>
                <a:lnTo>
                  <a:pt x="4250" y="1093"/>
                </a:lnTo>
                <a:lnTo>
                  <a:pt x="4251" y="1090"/>
                </a:lnTo>
                <a:lnTo>
                  <a:pt x="4252" y="1087"/>
                </a:lnTo>
                <a:lnTo>
                  <a:pt x="4252" y="1083"/>
                </a:lnTo>
                <a:lnTo>
                  <a:pt x="4252" y="1017"/>
                </a:lnTo>
                <a:lnTo>
                  <a:pt x="4253" y="1002"/>
                </a:lnTo>
                <a:lnTo>
                  <a:pt x="4255" y="991"/>
                </a:lnTo>
                <a:lnTo>
                  <a:pt x="4258" y="978"/>
                </a:lnTo>
                <a:lnTo>
                  <a:pt x="4263" y="968"/>
                </a:lnTo>
                <a:lnTo>
                  <a:pt x="4266" y="956"/>
                </a:lnTo>
                <a:lnTo>
                  <a:pt x="4269" y="944"/>
                </a:lnTo>
                <a:lnTo>
                  <a:pt x="4272" y="932"/>
                </a:lnTo>
                <a:lnTo>
                  <a:pt x="4272" y="918"/>
                </a:lnTo>
                <a:lnTo>
                  <a:pt x="4272" y="908"/>
                </a:lnTo>
                <a:lnTo>
                  <a:pt x="4270" y="900"/>
                </a:lnTo>
                <a:lnTo>
                  <a:pt x="4267" y="893"/>
                </a:lnTo>
                <a:lnTo>
                  <a:pt x="4264" y="885"/>
                </a:lnTo>
                <a:lnTo>
                  <a:pt x="4260" y="879"/>
                </a:lnTo>
                <a:lnTo>
                  <a:pt x="4257" y="870"/>
                </a:lnTo>
                <a:lnTo>
                  <a:pt x="4255" y="863"/>
                </a:lnTo>
                <a:lnTo>
                  <a:pt x="4254" y="854"/>
                </a:lnTo>
                <a:lnTo>
                  <a:pt x="4254" y="742"/>
                </a:lnTo>
                <a:lnTo>
                  <a:pt x="4254" y="728"/>
                </a:lnTo>
                <a:lnTo>
                  <a:pt x="4256" y="715"/>
                </a:lnTo>
                <a:lnTo>
                  <a:pt x="4260" y="704"/>
                </a:lnTo>
                <a:lnTo>
                  <a:pt x="4264" y="693"/>
                </a:lnTo>
                <a:lnTo>
                  <a:pt x="4272" y="671"/>
                </a:lnTo>
                <a:lnTo>
                  <a:pt x="4283" y="646"/>
                </a:lnTo>
                <a:lnTo>
                  <a:pt x="4292" y="619"/>
                </a:lnTo>
                <a:lnTo>
                  <a:pt x="4301" y="594"/>
                </a:lnTo>
                <a:lnTo>
                  <a:pt x="4308" y="571"/>
                </a:lnTo>
                <a:lnTo>
                  <a:pt x="4313" y="547"/>
                </a:lnTo>
                <a:lnTo>
                  <a:pt x="4318" y="523"/>
                </a:lnTo>
                <a:lnTo>
                  <a:pt x="4321" y="499"/>
                </a:lnTo>
                <a:lnTo>
                  <a:pt x="4323" y="473"/>
                </a:lnTo>
                <a:lnTo>
                  <a:pt x="4324" y="445"/>
                </a:lnTo>
                <a:lnTo>
                  <a:pt x="4324" y="405"/>
                </a:lnTo>
                <a:lnTo>
                  <a:pt x="4310" y="402"/>
                </a:lnTo>
                <a:lnTo>
                  <a:pt x="4305" y="405"/>
                </a:lnTo>
                <a:lnTo>
                  <a:pt x="4301" y="408"/>
                </a:lnTo>
                <a:lnTo>
                  <a:pt x="4296" y="412"/>
                </a:lnTo>
                <a:lnTo>
                  <a:pt x="4293" y="416"/>
                </a:lnTo>
                <a:lnTo>
                  <a:pt x="4289" y="426"/>
                </a:lnTo>
                <a:lnTo>
                  <a:pt x="4285" y="435"/>
                </a:lnTo>
                <a:lnTo>
                  <a:pt x="4282" y="446"/>
                </a:lnTo>
                <a:lnTo>
                  <a:pt x="4279" y="457"/>
                </a:lnTo>
                <a:lnTo>
                  <a:pt x="4274" y="468"/>
                </a:lnTo>
                <a:lnTo>
                  <a:pt x="4269" y="480"/>
                </a:lnTo>
                <a:lnTo>
                  <a:pt x="4266" y="485"/>
                </a:lnTo>
                <a:lnTo>
                  <a:pt x="4262" y="491"/>
                </a:lnTo>
                <a:lnTo>
                  <a:pt x="4257" y="496"/>
                </a:lnTo>
                <a:lnTo>
                  <a:pt x="4252" y="501"/>
                </a:lnTo>
                <a:lnTo>
                  <a:pt x="4243" y="508"/>
                </a:lnTo>
                <a:lnTo>
                  <a:pt x="4233" y="516"/>
                </a:lnTo>
                <a:lnTo>
                  <a:pt x="4224" y="523"/>
                </a:lnTo>
                <a:lnTo>
                  <a:pt x="4214" y="532"/>
                </a:lnTo>
                <a:lnTo>
                  <a:pt x="4210" y="536"/>
                </a:lnTo>
                <a:lnTo>
                  <a:pt x="4206" y="541"/>
                </a:lnTo>
                <a:lnTo>
                  <a:pt x="4201" y="547"/>
                </a:lnTo>
                <a:lnTo>
                  <a:pt x="4198" y="554"/>
                </a:lnTo>
                <a:lnTo>
                  <a:pt x="4185" y="564"/>
                </a:lnTo>
                <a:lnTo>
                  <a:pt x="4189" y="533"/>
                </a:lnTo>
                <a:lnTo>
                  <a:pt x="4192" y="506"/>
                </a:lnTo>
                <a:lnTo>
                  <a:pt x="4194" y="492"/>
                </a:lnTo>
                <a:lnTo>
                  <a:pt x="4197" y="479"/>
                </a:lnTo>
                <a:lnTo>
                  <a:pt x="4200" y="465"/>
                </a:lnTo>
                <a:lnTo>
                  <a:pt x="4205" y="449"/>
                </a:lnTo>
                <a:lnTo>
                  <a:pt x="4188" y="461"/>
                </a:lnTo>
                <a:lnTo>
                  <a:pt x="4172" y="472"/>
                </a:lnTo>
                <a:lnTo>
                  <a:pt x="4164" y="478"/>
                </a:lnTo>
                <a:lnTo>
                  <a:pt x="4156" y="482"/>
                </a:lnTo>
                <a:lnTo>
                  <a:pt x="4148" y="485"/>
                </a:lnTo>
                <a:lnTo>
                  <a:pt x="4137" y="486"/>
                </a:lnTo>
                <a:lnTo>
                  <a:pt x="4144" y="472"/>
                </a:lnTo>
                <a:lnTo>
                  <a:pt x="4153" y="461"/>
                </a:lnTo>
                <a:lnTo>
                  <a:pt x="4162" y="450"/>
                </a:lnTo>
                <a:lnTo>
                  <a:pt x="4172" y="441"/>
                </a:lnTo>
                <a:lnTo>
                  <a:pt x="4182" y="432"/>
                </a:lnTo>
                <a:lnTo>
                  <a:pt x="4193" y="423"/>
                </a:lnTo>
                <a:lnTo>
                  <a:pt x="4204" y="413"/>
                </a:lnTo>
                <a:lnTo>
                  <a:pt x="4215" y="402"/>
                </a:lnTo>
                <a:lnTo>
                  <a:pt x="4235" y="376"/>
                </a:lnTo>
                <a:lnTo>
                  <a:pt x="4254" y="353"/>
                </a:lnTo>
                <a:lnTo>
                  <a:pt x="4263" y="341"/>
                </a:lnTo>
                <a:lnTo>
                  <a:pt x="4271" y="330"/>
                </a:lnTo>
                <a:lnTo>
                  <a:pt x="4279" y="318"/>
                </a:lnTo>
                <a:lnTo>
                  <a:pt x="4286" y="307"/>
                </a:lnTo>
                <a:lnTo>
                  <a:pt x="4292" y="295"/>
                </a:lnTo>
                <a:lnTo>
                  <a:pt x="4298" y="282"/>
                </a:lnTo>
                <a:lnTo>
                  <a:pt x="4302" y="270"/>
                </a:lnTo>
                <a:lnTo>
                  <a:pt x="4306" y="256"/>
                </a:lnTo>
                <a:lnTo>
                  <a:pt x="4309" y="242"/>
                </a:lnTo>
                <a:lnTo>
                  <a:pt x="4311" y="228"/>
                </a:lnTo>
                <a:lnTo>
                  <a:pt x="4313" y="213"/>
                </a:lnTo>
                <a:lnTo>
                  <a:pt x="4313" y="197"/>
                </a:lnTo>
                <a:lnTo>
                  <a:pt x="4313" y="92"/>
                </a:lnTo>
                <a:lnTo>
                  <a:pt x="4301" y="90"/>
                </a:lnTo>
                <a:lnTo>
                  <a:pt x="4287" y="89"/>
                </a:lnTo>
                <a:lnTo>
                  <a:pt x="4275" y="89"/>
                </a:lnTo>
                <a:lnTo>
                  <a:pt x="4264" y="91"/>
                </a:lnTo>
                <a:lnTo>
                  <a:pt x="4253" y="93"/>
                </a:lnTo>
                <a:lnTo>
                  <a:pt x="4243" y="95"/>
                </a:lnTo>
                <a:lnTo>
                  <a:pt x="4232" y="98"/>
                </a:lnTo>
                <a:lnTo>
                  <a:pt x="4222" y="100"/>
                </a:lnTo>
                <a:lnTo>
                  <a:pt x="4210" y="102"/>
                </a:lnTo>
                <a:lnTo>
                  <a:pt x="4198" y="103"/>
                </a:lnTo>
                <a:lnTo>
                  <a:pt x="4172" y="75"/>
                </a:lnTo>
                <a:lnTo>
                  <a:pt x="4150" y="50"/>
                </a:lnTo>
                <a:lnTo>
                  <a:pt x="4138" y="37"/>
                </a:lnTo>
                <a:lnTo>
                  <a:pt x="4126" y="26"/>
                </a:lnTo>
                <a:lnTo>
                  <a:pt x="4114" y="13"/>
                </a:lnTo>
                <a:lnTo>
                  <a:pt x="4099" y="0"/>
                </a:lnTo>
                <a:close/>
                <a:moveTo>
                  <a:pt x="1573" y="3746"/>
                </a:moveTo>
                <a:lnTo>
                  <a:pt x="1435" y="4586"/>
                </a:lnTo>
                <a:lnTo>
                  <a:pt x="1194" y="4548"/>
                </a:lnTo>
                <a:lnTo>
                  <a:pt x="1191" y="4557"/>
                </a:lnTo>
                <a:lnTo>
                  <a:pt x="1189" y="4564"/>
                </a:lnTo>
                <a:lnTo>
                  <a:pt x="1184" y="4570"/>
                </a:lnTo>
                <a:lnTo>
                  <a:pt x="1181" y="4577"/>
                </a:lnTo>
                <a:lnTo>
                  <a:pt x="1177" y="4583"/>
                </a:lnTo>
                <a:lnTo>
                  <a:pt x="1172" y="4588"/>
                </a:lnTo>
                <a:lnTo>
                  <a:pt x="1166" y="4593"/>
                </a:lnTo>
                <a:lnTo>
                  <a:pt x="1160" y="4598"/>
                </a:lnTo>
                <a:lnTo>
                  <a:pt x="1155" y="4601"/>
                </a:lnTo>
                <a:lnTo>
                  <a:pt x="1149" y="4605"/>
                </a:lnTo>
                <a:lnTo>
                  <a:pt x="1141" y="4608"/>
                </a:lnTo>
                <a:lnTo>
                  <a:pt x="1134" y="4611"/>
                </a:lnTo>
                <a:lnTo>
                  <a:pt x="1126" y="4613"/>
                </a:lnTo>
                <a:lnTo>
                  <a:pt x="1119" y="4614"/>
                </a:lnTo>
                <a:lnTo>
                  <a:pt x="1112" y="4615"/>
                </a:lnTo>
                <a:lnTo>
                  <a:pt x="1103" y="4615"/>
                </a:lnTo>
                <a:lnTo>
                  <a:pt x="1095" y="4615"/>
                </a:lnTo>
                <a:lnTo>
                  <a:pt x="1087" y="4615"/>
                </a:lnTo>
                <a:lnTo>
                  <a:pt x="1080" y="4615"/>
                </a:lnTo>
                <a:lnTo>
                  <a:pt x="1071" y="4615"/>
                </a:lnTo>
                <a:lnTo>
                  <a:pt x="1069" y="4607"/>
                </a:lnTo>
                <a:lnTo>
                  <a:pt x="1068" y="4600"/>
                </a:lnTo>
                <a:lnTo>
                  <a:pt x="1070" y="4596"/>
                </a:lnTo>
                <a:lnTo>
                  <a:pt x="1075" y="4593"/>
                </a:lnTo>
                <a:lnTo>
                  <a:pt x="1078" y="4583"/>
                </a:lnTo>
                <a:lnTo>
                  <a:pt x="1080" y="4575"/>
                </a:lnTo>
                <a:lnTo>
                  <a:pt x="1082" y="4566"/>
                </a:lnTo>
                <a:lnTo>
                  <a:pt x="1083" y="4559"/>
                </a:lnTo>
                <a:lnTo>
                  <a:pt x="1084" y="4542"/>
                </a:lnTo>
                <a:lnTo>
                  <a:pt x="1083" y="4523"/>
                </a:lnTo>
                <a:lnTo>
                  <a:pt x="745" y="4461"/>
                </a:lnTo>
                <a:lnTo>
                  <a:pt x="739" y="4460"/>
                </a:lnTo>
                <a:lnTo>
                  <a:pt x="731" y="4459"/>
                </a:lnTo>
                <a:lnTo>
                  <a:pt x="722" y="4460"/>
                </a:lnTo>
                <a:lnTo>
                  <a:pt x="712" y="4462"/>
                </a:lnTo>
                <a:lnTo>
                  <a:pt x="708" y="4464"/>
                </a:lnTo>
                <a:lnTo>
                  <a:pt x="705" y="4466"/>
                </a:lnTo>
                <a:lnTo>
                  <a:pt x="703" y="4469"/>
                </a:lnTo>
                <a:lnTo>
                  <a:pt x="703" y="4473"/>
                </a:lnTo>
                <a:lnTo>
                  <a:pt x="703" y="4480"/>
                </a:lnTo>
                <a:lnTo>
                  <a:pt x="705" y="4485"/>
                </a:lnTo>
                <a:lnTo>
                  <a:pt x="708" y="4489"/>
                </a:lnTo>
                <a:lnTo>
                  <a:pt x="711" y="4493"/>
                </a:lnTo>
                <a:lnTo>
                  <a:pt x="719" y="4501"/>
                </a:lnTo>
                <a:lnTo>
                  <a:pt x="726" y="4511"/>
                </a:lnTo>
                <a:lnTo>
                  <a:pt x="732" y="4519"/>
                </a:lnTo>
                <a:lnTo>
                  <a:pt x="738" y="4527"/>
                </a:lnTo>
                <a:lnTo>
                  <a:pt x="742" y="4535"/>
                </a:lnTo>
                <a:lnTo>
                  <a:pt x="747" y="4543"/>
                </a:lnTo>
                <a:lnTo>
                  <a:pt x="759" y="4560"/>
                </a:lnTo>
                <a:lnTo>
                  <a:pt x="768" y="4575"/>
                </a:lnTo>
                <a:lnTo>
                  <a:pt x="772" y="4582"/>
                </a:lnTo>
                <a:lnTo>
                  <a:pt x="775" y="4591"/>
                </a:lnTo>
                <a:lnTo>
                  <a:pt x="777" y="4600"/>
                </a:lnTo>
                <a:lnTo>
                  <a:pt x="777" y="4610"/>
                </a:lnTo>
                <a:lnTo>
                  <a:pt x="777" y="4616"/>
                </a:lnTo>
                <a:lnTo>
                  <a:pt x="776" y="4621"/>
                </a:lnTo>
                <a:lnTo>
                  <a:pt x="774" y="4626"/>
                </a:lnTo>
                <a:lnTo>
                  <a:pt x="772" y="4631"/>
                </a:lnTo>
                <a:lnTo>
                  <a:pt x="769" y="4636"/>
                </a:lnTo>
                <a:lnTo>
                  <a:pt x="767" y="4641"/>
                </a:lnTo>
                <a:lnTo>
                  <a:pt x="766" y="4647"/>
                </a:lnTo>
                <a:lnTo>
                  <a:pt x="765" y="4652"/>
                </a:lnTo>
                <a:lnTo>
                  <a:pt x="758" y="4653"/>
                </a:lnTo>
                <a:lnTo>
                  <a:pt x="749" y="4654"/>
                </a:lnTo>
                <a:lnTo>
                  <a:pt x="742" y="4653"/>
                </a:lnTo>
                <a:lnTo>
                  <a:pt x="736" y="4651"/>
                </a:lnTo>
                <a:lnTo>
                  <a:pt x="730" y="4647"/>
                </a:lnTo>
                <a:lnTo>
                  <a:pt x="725" y="4641"/>
                </a:lnTo>
                <a:lnTo>
                  <a:pt x="673" y="4641"/>
                </a:lnTo>
                <a:lnTo>
                  <a:pt x="667" y="4639"/>
                </a:lnTo>
                <a:lnTo>
                  <a:pt x="672" y="4650"/>
                </a:lnTo>
                <a:lnTo>
                  <a:pt x="678" y="4660"/>
                </a:lnTo>
                <a:lnTo>
                  <a:pt x="685" y="4670"/>
                </a:lnTo>
                <a:lnTo>
                  <a:pt x="692" y="4678"/>
                </a:lnTo>
                <a:lnTo>
                  <a:pt x="701" y="4687"/>
                </a:lnTo>
                <a:lnTo>
                  <a:pt x="711" y="4694"/>
                </a:lnTo>
                <a:lnTo>
                  <a:pt x="723" y="4699"/>
                </a:lnTo>
                <a:lnTo>
                  <a:pt x="737" y="4705"/>
                </a:lnTo>
                <a:lnTo>
                  <a:pt x="754" y="4709"/>
                </a:lnTo>
                <a:lnTo>
                  <a:pt x="770" y="4712"/>
                </a:lnTo>
                <a:lnTo>
                  <a:pt x="785" y="4713"/>
                </a:lnTo>
                <a:lnTo>
                  <a:pt x="801" y="4713"/>
                </a:lnTo>
                <a:lnTo>
                  <a:pt x="816" y="4713"/>
                </a:lnTo>
                <a:lnTo>
                  <a:pt x="832" y="4714"/>
                </a:lnTo>
                <a:lnTo>
                  <a:pt x="849" y="4715"/>
                </a:lnTo>
                <a:lnTo>
                  <a:pt x="866" y="4718"/>
                </a:lnTo>
                <a:lnTo>
                  <a:pt x="886" y="4724"/>
                </a:lnTo>
                <a:lnTo>
                  <a:pt x="906" y="4729"/>
                </a:lnTo>
                <a:lnTo>
                  <a:pt x="915" y="4732"/>
                </a:lnTo>
                <a:lnTo>
                  <a:pt x="925" y="4736"/>
                </a:lnTo>
                <a:lnTo>
                  <a:pt x="933" y="4740"/>
                </a:lnTo>
                <a:lnTo>
                  <a:pt x="942" y="4745"/>
                </a:lnTo>
                <a:lnTo>
                  <a:pt x="949" y="4750"/>
                </a:lnTo>
                <a:lnTo>
                  <a:pt x="956" y="4755"/>
                </a:lnTo>
                <a:lnTo>
                  <a:pt x="963" y="4762"/>
                </a:lnTo>
                <a:lnTo>
                  <a:pt x="968" y="4769"/>
                </a:lnTo>
                <a:lnTo>
                  <a:pt x="972" y="4776"/>
                </a:lnTo>
                <a:lnTo>
                  <a:pt x="975" y="4785"/>
                </a:lnTo>
                <a:lnTo>
                  <a:pt x="977" y="4793"/>
                </a:lnTo>
                <a:lnTo>
                  <a:pt x="977" y="4804"/>
                </a:lnTo>
                <a:lnTo>
                  <a:pt x="976" y="4815"/>
                </a:lnTo>
                <a:lnTo>
                  <a:pt x="974" y="4827"/>
                </a:lnTo>
                <a:lnTo>
                  <a:pt x="970" y="4839"/>
                </a:lnTo>
                <a:lnTo>
                  <a:pt x="965" y="4849"/>
                </a:lnTo>
                <a:lnTo>
                  <a:pt x="961" y="4860"/>
                </a:lnTo>
                <a:lnTo>
                  <a:pt x="956" y="4871"/>
                </a:lnTo>
                <a:lnTo>
                  <a:pt x="952" y="4883"/>
                </a:lnTo>
                <a:lnTo>
                  <a:pt x="951" y="4895"/>
                </a:lnTo>
                <a:lnTo>
                  <a:pt x="947" y="4908"/>
                </a:lnTo>
                <a:lnTo>
                  <a:pt x="944" y="4895"/>
                </a:lnTo>
                <a:lnTo>
                  <a:pt x="944" y="4906"/>
                </a:lnTo>
                <a:lnTo>
                  <a:pt x="945" y="4916"/>
                </a:lnTo>
                <a:lnTo>
                  <a:pt x="946" y="4925"/>
                </a:lnTo>
                <a:lnTo>
                  <a:pt x="948" y="4935"/>
                </a:lnTo>
                <a:lnTo>
                  <a:pt x="953" y="4953"/>
                </a:lnTo>
                <a:lnTo>
                  <a:pt x="960" y="4969"/>
                </a:lnTo>
                <a:lnTo>
                  <a:pt x="975" y="5001"/>
                </a:lnTo>
                <a:lnTo>
                  <a:pt x="994" y="5037"/>
                </a:lnTo>
                <a:lnTo>
                  <a:pt x="1036" y="5048"/>
                </a:lnTo>
                <a:lnTo>
                  <a:pt x="1106" y="5048"/>
                </a:lnTo>
                <a:lnTo>
                  <a:pt x="1127" y="5048"/>
                </a:lnTo>
                <a:lnTo>
                  <a:pt x="1147" y="5046"/>
                </a:lnTo>
                <a:lnTo>
                  <a:pt x="1166" y="5044"/>
                </a:lnTo>
                <a:lnTo>
                  <a:pt x="1184" y="5041"/>
                </a:lnTo>
                <a:lnTo>
                  <a:pt x="1202" y="5038"/>
                </a:lnTo>
                <a:lnTo>
                  <a:pt x="1221" y="5036"/>
                </a:lnTo>
                <a:lnTo>
                  <a:pt x="1241" y="5035"/>
                </a:lnTo>
                <a:lnTo>
                  <a:pt x="1263" y="5034"/>
                </a:lnTo>
                <a:lnTo>
                  <a:pt x="1301" y="5035"/>
                </a:lnTo>
                <a:lnTo>
                  <a:pt x="1332" y="5037"/>
                </a:lnTo>
                <a:lnTo>
                  <a:pt x="1365" y="5040"/>
                </a:lnTo>
                <a:lnTo>
                  <a:pt x="1402" y="5041"/>
                </a:lnTo>
                <a:lnTo>
                  <a:pt x="1420" y="5040"/>
                </a:lnTo>
                <a:lnTo>
                  <a:pt x="1437" y="5038"/>
                </a:lnTo>
                <a:lnTo>
                  <a:pt x="1453" y="5034"/>
                </a:lnTo>
                <a:lnTo>
                  <a:pt x="1469" y="5030"/>
                </a:lnTo>
                <a:lnTo>
                  <a:pt x="1497" y="5019"/>
                </a:lnTo>
                <a:lnTo>
                  <a:pt x="1524" y="5006"/>
                </a:lnTo>
                <a:lnTo>
                  <a:pt x="1538" y="4999"/>
                </a:lnTo>
                <a:lnTo>
                  <a:pt x="1552" y="4993"/>
                </a:lnTo>
                <a:lnTo>
                  <a:pt x="1567" y="4988"/>
                </a:lnTo>
                <a:lnTo>
                  <a:pt x="1582" y="4982"/>
                </a:lnTo>
                <a:lnTo>
                  <a:pt x="1596" y="4978"/>
                </a:lnTo>
                <a:lnTo>
                  <a:pt x="1612" y="4975"/>
                </a:lnTo>
                <a:lnTo>
                  <a:pt x="1629" y="4974"/>
                </a:lnTo>
                <a:lnTo>
                  <a:pt x="1647" y="4973"/>
                </a:lnTo>
                <a:lnTo>
                  <a:pt x="1653" y="4973"/>
                </a:lnTo>
                <a:lnTo>
                  <a:pt x="1660" y="4972"/>
                </a:lnTo>
                <a:lnTo>
                  <a:pt x="1665" y="4970"/>
                </a:lnTo>
                <a:lnTo>
                  <a:pt x="1671" y="4966"/>
                </a:lnTo>
                <a:lnTo>
                  <a:pt x="1675" y="4963"/>
                </a:lnTo>
                <a:lnTo>
                  <a:pt x="1681" y="4959"/>
                </a:lnTo>
                <a:lnTo>
                  <a:pt x="1684" y="4955"/>
                </a:lnTo>
                <a:lnTo>
                  <a:pt x="1688" y="4950"/>
                </a:lnTo>
                <a:lnTo>
                  <a:pt x="1698" y="4935"/>
                </a:lnTo>
                <a:lnTo>
                  <a:pt x="1708" y="4921"/>
                </a:lnTo>
                <a:lnTo>
                  <a:pt x="1719" y="4908"/>
                </a:lnTo>
                <a:lnTo>
                  <a:pt x="1729" y="4898"/>
                </a:lnTo>
                <a:lnTo>
                  <a:pt x="1750" y="4875"/>
                </a:lnTo>
                <a:lnTo>
                  <a:pt x="1773" y="4847"/>
                </a:lnTo>
                <a:lnTo>
                  <a:pt x="1783" y="4832"/>
                </a:lnTo>
                <a:lnTo>
                  <a:pt x="1793" y="4818"/>
                </a:lnTo>
                <a:lnTo>
                  <a:pt x="1799" y="4812"/>
                </a:lnTo>
                <a:lnTo>
                  <a:pt x="1805" y="4807"/>
                </a:lnTo>
                <a:lnTo>
                  <a:pt x="1809" y="4806"/>
                </a:lnTo>
                <a:lnTo>
                  <a:pt x="1812" y="4805"/>
                </a:lnTo>
                <a:lnTo>
                  <a:pt x="1816" y="4804"/>
                </a:lnTo>
                <a:lnTo>
                  <a:pt x="1821" y="4804"/>
                </a:lnTo>
                <a:lnTo>
                  <a:pt x="1878" y="4804"/>
                </a:lnTo>
                <a:lnTo>
                  <a:pt x="1880" y="4815"/>
                </a:lnTo>
                <a:lnTo>
                  <a:pt x="1881" y="4828"/>
                </a:lnTo>
                <a:lnTo>
                  <a:pt x="1880" y="4834"/>
                </a:lnTo>
                <a:lnTo>
                  <a:pt x="1879" y="4842"/>
                </a:lnTo>
                <a:lnTo>
                  <a:pt x="1877" y="4847"/>
                </a:lnTo>
                <a:lnTo>
                  <a:pt x="1875" y="4852"/>
                </a:lnTo>
                <a:lnTo>
                  <a:pt x="1869" y="4863"/>
                </a:lnTo>
                <a:lnTo>
                  <a:pt x="1860" y="4872"/>
                </a:lnTo>
                <a:lnTo>
                  <a:pt x="1852" y="4882"/>
                </a:lnTo>
                <a:lnTo>
                  <a:pt x="1843" y="4891"/>
                </a:lnTo>
                <a:lnTo>
                  <a:pt x="1839" y="4897"/>
                </a:lnTo>
                <a:lnTo>
                  <a:pt x="1836" y="4902"/>
                </a:lnTo>
                <a:lnTo>
                  <a:pt x="1833" y="4908"/>
                </a:lnTo>
                <a:lnTo>
                  <a:pt x="1831" y="4916"/>
                </a:lnTo>
                <a:lnTo>
                  <a:pt x="1831" y="4936"/>
                </a:lnTo>
                <a:lnTo>
                  <a:pt x="1841" y="4937"/>
                </a:lnTo>
                <a:lnTo>
                  <a:pt x="1850" y="4938"/>
                </a:lnTo>
                <a:lnTo>
                  <a:pt x="1859" y="4938"/>
                </a:lnTo>
                <a:lnTo>
                  <a:pt x="1870" y="4939"/>
                </a:lnTo>
                <a:lnTo>
                  <a:pt x="1909" y="4930"/>
                </a:lnTo>
                <a:lnTo>
                  <a:pt x="1946" y="4930"/>
                </a:lnTo>
                <a:lnTo>
                  <a:pt x="1948" y="4949"/>
                </a:lnTo>
                <a:lnTo>
                  <a:pt x="1951" y="4968"/>
                </a:lnTo>
                <a:lnTo>
                  <a:pt x="1953" y="4976"/>
                </a:lnTo>
                <a:lnTo>
                  <a:pt x="1955" y="4985"/>
                </a:lnTo>
                <a:lnTo>
                  <a:pt x="1958" y="4994"/>
                </a:lnTo>
                <a:lnTo>
                  <a:pt x="1963" y="5002"/>
                </a:lnTo>
                <a:lnTo>
                  <a:pt x="1967" y="5010"/>
                </a:lnTo>
                <a:lnTo>
                  <a:pt x="1971" y="5016"/>
                </a:lnTo>
                <a:lnTo>
                  <a:pt x="1976" y="5022"/>
                </a:lnTo>
                <a:lnTo>
                  <a:pt x="1983" y="5028"/>
                </a:lnTo>
                <a:lnTo>
                  <a:pt x="1989" y="5032"/>
                </a:lnTo>
                <a:lnTo>
                  <a:pt x="1997" y="5035"/>
                </a:lnTo>
                <a:lnTo>
                  <a:pt x="2005" y="5037"/>
                </a:lnTo>
                <a:lnTo>
                  <a:pt x="2013" y="5037"/>
                </a:lnTo>
                <a:lnTo>
                  <a:pt x="2020" y="5037"/>
                </a:lnTo>
                <a:lnTo>
                  <a:pt x="2025" y="5036"/>
                </a:lnTo>
                <a:lnTo>
                  <a:pt x="2030" y="5035"/>
                </a:lnTo>
                <a:lnTo>
                  <a:pt x="2035" y="5034"/>
                </a:lnTo>
                <a:lnTo>
                  <a:pt x="2043" y="5029"/>
                </a:lnTo>
                <a:lnTo>
                  <a:pt x="2051" y="5022"/>
                </a:lnTo>
                <a:lnTo>
                  <a:pt x="2066" y="5008"/>
                </a:lnTo>
                <a:lnTo>
                  <a:pt x="2082" y="4990"/>
                </a:lnTo>
                <a:lnTo>
                  <a:pt x="2102" y="5004"/>
                </a:lnTo>
                <a:lnTo>
                  <a:pt x="2121" y="5017"/>
                </a:lnTo>
                <a:lnTo>
                  <a:pt x="2131" y="5023"/>
                </a:lnTo>
                <a:lnTo>
                  <a:pt x="2140" y="5029"/>
                </a:lnTo>
                <a:lnTo>
                  <a:pt x="2152" y="5033"/>
                </a:lnTo>
                <a:lnTo>
                  <a:pt x="2163" y="5037"/>
                </a:lnTo>
                <a:lnTo>
                  <a:pt x="2171" y="5041"/>
                </a:lnTo>
                <a:lnTo>
                  <a:pt x="2178" y="5046"/>
                </a:lnTo>
                <a:lnTo>
                  <a:pt x="2183" y="5051"/>
                </a:lnTo>
                <a:lnTo>
                  <a:pt x="2190" y="5056"/>
                </a:lnTo>
                <a:lnTo>
                  <a:pt x="2196" y="5060"/>
                </a:lnTo>
                <a:lnTo>
                  <a:pt x="2202" y="5065"/>
                </a:lnTo>
                <a:lnTo>
                  <a:pt x="2210" y="5067"/>
                </a:lnTo>
                <a:lnTo>
                  <a:pt x="2217" y="5068"/>
                </a:lnTo>
                <a:lnTo>
                  <a:pt x="2229" y="5068"/>
                </a:lnTo>
                <a:lnTo>
                  <a:pt x="2238" y="5065"/>
                </a:lnTo>
                <a:lnTo>
                  <a:pt x="2247" y="5061"/>
                </a:lnTo>
                <a:lnTo>
                  <a:pt x="2254" y="5056"/>
                </a:lnTo>
                <a:lnTo>
                  <a:pt x="2271" y="5046"/>
                </a:lnTo>
                <a:lnTo>
                  <a:pt x="2289" y="5034"/>
                </a:lnTo>
                <a:lnTo>
                  <a:pt x="2303" y="5028"/>
                </a:lnTo>
                <a:lnTo>
                  <a:pt x="2315" y="5020"/>
                </a:lnTo>
                <a:lnTo>
                  <a:pt x="2328" y="5013"/>
                </a:lnTo>
                <a:lnTo>
                  <a:pt x="2339" y="5006"/>
                </a:lnTo>
                <a:lnTo>
                  <a:pt x="2344" y="5000"/>
                </a:lnTo>
                <a:lnTo>
                  <a:pt x="2348" y="4996"/>
                </a:lnTo>
                <a:lnTo>
                  <a:pt x="2352" y="4991"/>
                </a:lnTo>
                <a:lnTo>
                  <a:pt x="2356" y="4985"/>
                </a:lnTo>
                <a:lnTo>
                  <a:pt x="2359" y="4979"/>
                </a:lnTo>
                <a:lnTo>
                  <a:pt x="2361" y="4973"/>
                </a:lnTo>
                <a:lnTo>
                  <a:pt x="2362" y="4966"/>
                </a:lnTo>
                <a:lnTo>
                  <a:pt x="2362" y="4959"/>
                </a:lnTo>
                <a:lnTo>
                  <a:pt x="2362" y="4861"/>
                </a:lnTo>
                <a:lnTo>
                  <a:pt x="2357" y="4833"/>
                </a:lnTo>
                <a:lnTo>
                  <a:pt x="2347" y="4832"/>
                </a:lnTo>
                <a:lnTo>
                  <a:pt x="2337" y="4830"/>
                </a:lnTo>
                <a:lnTo>
                  <a:pt x="2332" y="4831"/>
                </a:lnTo>
                <a:lnTo>
                  <a:pt x="2328" y="4833"/>
                </a:lnTo>
                <a:lnTo>
                  <a:pt x="2325" y="4837"/>
                </a:lnTo>
                <a:lnTo>
                  <a:pt x="2323" y="4841"/>
                </a:lnTo>
                <a:lnTo>
                  <a:pt x="2319" y="4849"/>
                </a:lnTo>
                <a:lnTo>
                  <a:pt x="2312" y="4858"/>
                </a:lnTo>
                <a:lnTo>
                  <a:pt x="2297" y="4874"/>
                </a:lnTo>
                <a:lnTo>
                  <a:pt x="2284" y="4886"/>
                </a:lnTo>
                <a:lnTo>
                  <a:pt x="2276" y="4891"/>
                </a:lnTo>
                <a:lnTo>
                  <a:pt x="2268" y="4895"/>
                </a:lnTo>
                <a:lnTo>
                  <a:pt x="2258" y="4898"/>
                </a:lnTo>
                <a:lnTo>
                  <a:pt x="2248" y="4899"/>
                </a:lnTo>
                <a:lnTo>
                  <a:pt x="2245" y="4898"/>
                </a:lnTo>
                <a:lnTo>
                  <a:pt x="2243" y="4898"/>
                </a:lnTo>
                <a:lnTo>
                  <a:pt x="2240" y="4896"/>
                </a:lnTo>
                <a:lnTo>
                  <a:pt x="2238" y="4894"/>
                </a:lnTo>
                <a:lnTo>
                  <a:pt x="2235" y="4889"/>
                </a:lnTo>
                <a:lnTo>
                  <a:pt x="2233" y="4883"/>
                </a:lnTo>
                <a:lnTo>
                  <a:pt x="2232" y="4868"/>
                </a:lnTo>
                <a:lnTo>
                  <a:pt x="2231" y="4855"/>
                </a:lnTo>
                <a:lnTo>
                  <a:pt x="2230" y="4843"/>
                </a:lnTo>
                <a:lnTo>
                  <a:pt x="2228" y="4833"/>
                </a:lnTo>
                <a:lnTo>
                  <a:pt x="2224" y="4825"/>
                </a:lnTo>
                <a:lnTo>
                  <a:pt x="2219" y="4817"/>
                </a:lnTo>
                <a:lnTo>
                  <a:pt x="2210" y="4799"/>
                </a:lnTo>
                <a:lnTo>
                  <a:pt x="2200" y="4780"/>
                </a:lnTo>
                <a:lnTo>
                  <a:pt x="2214" y="4776"/>
                </a:lnTo>
                <a:lnTo>
                  <a:pt x="2228" y="4785"/>
                </a:lnTo>
                <a:lnTo>
                  <a:pt x="2240" y="4794"/>
                </a:lnTo>
                <a:lnTo>
                  <a:pt x="2247" y="4798"/>
                </a:lnTo>
                <a:lnTo>
                  <a:pt x="2253" y="4801"/>
                </a:lnTo>
                <a:lnTo>
                  <a:pt x="2261" y="4803"/>
                </a:lnTo>
                <a:lnTo>
                  <a:pt x="2269" y="4804"/>
                </a:lnTo>
                <a:lnTo>
                  <a:pt x="2276" y="4803"/>
                </a:lnTo>
                <a:lnTo>
                  <a:pt x="2284" y="4801"/>
                </a:lnTo>
                <a:lnTo>
                  <a:pt x="2289" y="4799"/>
                </a:lnTo>
                <a:lnTo>
                  <a:pt x="2295" y="4794"/>
                </a:lnTo>
                <a:lnTo>
                  <a:pt x="2300" y="4790"/>
                </a:lnTo>
                <a:lnTo>
                  <a:pt x="2304" y="4785"/>
                </a:lnTo>
                <a:lnTo>
                  <a:pt x="2308" y="4780"/>
                </a:lnTo>
                <a:lnTo>
                  <a:pt x="2312" y="4773"/>
                </a:lnTo>
                <a:lnTo>
                  <a:pt x="2325" y="4745"/>
                </a:lnTo>
                <a:lnTo>
                  <a:pt x="2340" y="4715"/>
                </a:lnTo>
                <a:lnTo>
                  <a:pt x="2367" y="4715"/>
                </a:lnTo>
                <a:lnTo>
                  <a:pt x="2370" y="4726"/>
                </a:lnTo>
                <a:lnTo>
                  <a:pt x="2376" y="4736"/>
                </a:lnTo>
                <a:lnTo>
                  <a:pt x="2382" y="4745"/>
                </a:lnTo>
                <a:lnTo>
                  <a:pt x="2389" y="4752"/>
                </a:lnTo>
                <a:lnTo>
                  <a:pt x="2398" y="4758"/>
                </a:lnTo>
                <a:lnTo>
                  <a:pt x="2408" y="4763"/>
                </a:lnTo>
                <a:lnTo>
                  <a:pt x="2419" y="4765"/>
                </a:lnTo>
                <a:lnTo>
                  <a:pt x="2429" y="4766"/>
                </a:lnTo>
                <a:lnTo>
                  <a:pt x="2437" y="4766"/>
                </a:lnTo>
                <a:lnTo>
                  <a:pt x="2443" y="4765"/>
                </a:lnTo>
                <a:lnTo>
                  <a:pt x="2450" y="4764"/>
                </a:lnTo>
                <a:lnTo>
                  <a:pt x="2456" y="4762"/>
                </a:lnTo>
                <a:lnTo>
                  <a:pt x="2462" y="4759"/>
                </a:lnTo>
                <a:lnTo>
                  <a:pt x="2467" y="4756"/>
                </a:lnTo>
                <a:lnTo>
                  <a:pt x="2474" y="4753"/>
                </a:lnTo>
                <a:lnTo>
                  <a:pt x="2478" y="4749"/>
                </a:lnTo>
                <a:lnTo>
                  <a:pt x="2483" y="4745"/>
                </a:lnTo>
                <a:lnTo>
                  <a:pt x="2488" y="4740"/>
                </a:lnTo>
                <a:lnTo>
                  <a:pt x="2491" y="4735"/>
                </a:lnTo>
                <a:lnTo>
                  <a:pt x="2494" y="4730"/>
                </a:lnTo>
                <a:lnTo>
                  <a:pt x="2496" y="4724"/>
                </a:lnTo>
                <a:lnTo>
                  <a:pt x="2498" y="4718"/>
                </a:lnTo>
                <a:lnTo>
                  <a:pt x="2499" y="4712"/>
                </a:lnTo>
                <a:lnTo>
                  <a:pt x="2499" y="4705"/>
                </a:lnTo>
                <a:lnTo>
                  <a:pt x="2499" y="4693"/>
                </a:lnTo>
                <a:lnTo>
                  <a:pt x="2497" y="4682"/>
                </a:lnTo>
                <a:lnTo>
                  <a:pt x="2495" y="4672"/>
                </a:lnTo>
                <a:lnTo>
                  <a:pt x="2491" y="4662"/>
                </a:lnTo>
                <a:lnTo>
                  <a:pt x="2486" y="4654"/>
                </a:lnTo>
                <a:lnTo>
                  <a:pt x="2481" y="4645"/>
                </a:lnTo>
                <a:lnTo>
                  <a:pt x="2475" y="4637"/>
                </a:lnTo>
                <a:lnTo>
                  <a:pt x="2469" y="4630"/>
                </a:lnTo>
                <a:lnTo>
                  <a:pt x="2453" y="4616"/>
                </a:lnTo>
                <a:lnTo>
                  <a:pt x="2436" y="4602"/>
                </a:lnTo>
                <a:lnTo>
                  <a:pt x="2417" y="4588"/>
                </a:lnTo>
                <a:lnTo>
                  <a:pt x="2398" y="4576"/>
                </a:lnTo>
                <a:lnTo>
                  <a:pt x="2386" y="4567"/>
                </a:lnTo>
                <a:lnTo>
                  <a:pt x="2376" y="4559"/>
                </a:lnTo>
                <a:lnTo>
                  <a:pt x="2366" y="4549"/>
                </a:lnTo>
                <a:lnTo>
                  <a:pt x="2357" y="4540"/>
                </a:lnTo>
                <a:lnTo>
                  <a:pt x="2341" y="4521"/>
                </a:lnTo>
                <a:lnTo>
                  <a:pt x="2327" y="4502"/>
                </a:lnTo>
                <a:lnTo>
                  <a:pt x="2313" y="4482"/>
                </a:lnTo>
                <a:lnTo>
                  <a:pt x="2297" y="4462"/>
                </a:lnTo>
                <a:lnTo>
                  <a:pt x="2289" y="4452"/>
                </a:lnTo>
                <a:lnTo>
                  <a:pt x="2280" y="4443"/>
                </a:lnTo>
                <a:lnTo>
                  <a:pt x="2270" y="4432"/>
                </a:lnTo>
                <a:lnTo>
                  <a:pt x="2258" y="4423"/>
                </a:lnTo>
                <a:lnTo>
                  <a:pt x="2231" y="4404"/>
                </a:lnTo>
                <a:lnTo>
                  <a:pt x="2206" y="4388"/>
                </a:lnTo>
                <a:lnTo>
                  <a:pt x="2194" y="4379"/>
                </a:lnTo>
                <a:lnTo>
                  <a:pt x="2183" y="4370"/>
                </a:lnTo>
                <a:lnTo>
                  <a:pt x="2173" y="4358"/>
                </a:lnTo>
                <a:lnTo>
                  <a:pt x="2163" y="4345"/>
                </a:lnTo>
                <a:lnTo>
                  <a:pt x="2150" y="4327"/>
                </a:lnTo>
                <a:lnTo>
                  <a:pt x="2135" y="4311"/>
                </a:lnTo>
                <a:lnTo>
                  <a:pt x="2129" y="4303"/>
                </a:lnTo>
                <a:lnTo>
                  <a:pt x="2123" y="4295"/>
                </a:lnTo>
                <a:lnTo>
                  <a:pt x="2122" y="4290"/>
                </a:lnTo>
                <a:lnTo>
                  <a:pt x="2120" y="4284"/>
                </a:lnTo>
                <a:lnTo>
                  <a:pt x="2119" y="4279"/>
                </a:lnTo>
                <a:lnTo>
                  <a:pt x="2119" y="4274"/>
                </a:lnTo>
                <a:lnTo>
                  <a:pt x="2120" y="4253"/>
                </a:lnTo>
                <a:lnTo>
                  <a:pt x="2123" y="4235"/>
                </a:lnTo>
                <a:lnTo>
                  <a:pt x="2126" y="4217"/>
                </a:lnTo>
                <a:lnTo>
                  <a:pt x="2131" y="4201"/>
                </a:lnTo>
                <a:lnTo>
                  <a:pt x="2135" y="4184"/>
                </a:lnTo>
                <a:lnTo>
                  <a:pt x="2139" y="4166"/>
                </a:lnTo>
                <a:lnTo>
                  <a:pt x="2142" y="4148"/>
                </a:lnTo>
                <a:lnTo>
                  <a:pt x="2143" y="4127"/>
                </a:lnTo>
                <a:lnTo>
                  <a:pt x="2142" y="4114"/>
                </a:lnTo>
                <a:lnTo>
                  <a:pt x="2140" y="4104"/>
                </a:lnTo>
                <a:lnTo>
                  <a:pt x="2138" y="4093"/>
                </a:lnTo>
                <a:lnTo>
                  <a:pt x="2134" y="4083"/>
                </a:lnTo>
                <a:lnTo>
                  <a:pt x="2126" y="4063"/>
                </a:lnTo>
                <a:lnTo>
                  <a:pt x="2119" y="4039"/>
                </a:lnTo>
                <a:lnTo>
                  <a:pt x="2111" y="4005"/>
                </a:lnTo>
                <a:lnTo>
                  <a:pt x="2102" y="3974"/>
                </a:lnTo>
                <a:lnTo>
                  <a:pt x="2095" y="3944"/>
                </a:lnTo>
                <a:lnTo>
                  <a:pt x="2087" y="3916"/>
                </a:lnTo>
                <a:lnTo>
                  <a:pt x="2081" y="3887"/>
                </a:lnTo>
                <a:lnTo>
                  <a:pt x="2075" y="3858"/>
                </a:lnTo>
                <a:lnTo>
                  <a:pt x="2069" y="3826"/>
                </a:lnTo>
                <a:lnTo>
                  <a:pt x="2065" y="3791"/>
                </a:lnTo>
                <a:lnTo>
                  <a:pt x="2063" y="3762"/>
                </a:lnTo>
                <a:lnTo>
                  <a:pt x="2063" y="3736"/>
                </a:lnTo>
                <a:lnTo>
                  <a:pt x="2063" y="3724"/>
                </a:lnTo>
                <a:lnTo>
                  <a:pt x="2063" y="3711"/>
                </a:lnTo>
                <a:lnTo>
                  <a:pt x="2061" y="3697"/>
                </a:lnTo>
                <a:lnTo>
                  <a:pt x="2058" y="3682"/>
                </a:lnTo>
                <a:lnTo>
                  <a:pt x="2054" y="3667"/>
                </a:lnTo>
                <a:lnTo>
                  <a:pt x="2049" y="3653"/>
                </a:lnTo>
                <a:lnTo>
                  <a:pt x="2043" y="3639"/>
                </a:lnTo>
                <a:lnTo>
                  <a:pt x="2038" y="3626"/>
                </a:lnTo>
                <a:lnTo>
                  <a:pt x="2030" y="3614"/>
                </a:lnTo>
                <a:lnTo>
                  <a:pt x="2024" y="3602"/>
                </a:lnTo>
                <a:lnTo>
                  <a:pt x="2016" y="3592"/>
                </a:lnTo>
                <a:lnTo>
                  <a:pt x="2007" y="3581"/>
                </a:lnTo>
                <a:lnTo>
                  <a:pt x="1989" y="3561"/>
                </a:lnTo>
                <a:lnTo>
                  <a:pt x="1969" y="3542"/>
                </a:lnTo>
                <a:lnTo>
                  <a:pt x="1947" y="3522"/>
                </a:lnTo>
                <a:lnTo>
                  <a:pt x="1923" y="3503"/>
                </a:lnTo>
                <a:lnTo>
                  <a:pt x="1926" y="3509"/>
                </a:lnTo>
                <a:lnTo>
                  <a:pt x="1917" y="3521"/>
                </a:lnTo>
                <a:lnTo>
                  <a:pt x="1909" y="3531"/>
                </a:lnTo>
                <a:lnTo>
                  <a:pt x="1899" y="3541"/>
                </a:lnTo>
                <a:lnTo>
                  <a:pt x="1888" y="3550"/>
                </a:lnTo>
                <a:lnTo>
                  <a:pt x="1878" y="3537"/>
                </a:lnTo>
                <a:lnTo>
                  <a:pt x="1870" y="3524"/>
                </a:lnTo>
                <a:lnTo>
                  <a:pt x="1866" y="3518"/>
                </a:lnTo>
                <a:lnTo>
                  <a:pt x="1860" y="3513"/>
                </a:lnTo>
                <a:lnTo>
                  <a:pt x="1857" y="3511"/>
                </a:lnTo>
                <a:lnTo>
                  <a:pt x="1854" y="3510"/>
                </a:lnTo>
                <a:lnTo>
                  <a:pt x="1851" y="3509"/>
                </a:lnTo>
                <a:lnTo>
                  <a:pt x="1847" y="3509"/>
                </a:lnTo>
                <a:lnTo>
                  <a:pt x="1812" y="3509"/>
                </a:lnTo>
                <a:lnTo>
                  <a:pt x="1812" y="3625"/>
                </a:lnTo>
                <a:lnTo>
                  <a:pt x="1811" y="3635"/>
                </a:lnTo>
                <a:lnTo>
                  <a:pt x="1810" y="3644"/>
                </a:lnTo>
                <a:lnTo>
                  <a:pt x="1807" y="3653"/>
                </a:lnTo>
                <a:lnTo>
                  <a:pt x="1805" y="3660"/>
                </a:lnTo>
                <a:lnTo>
                  <a:pt x="1803" y="3669"/>
                </a:lnTo>
                <a:lnTo>
                  <a:pt x="1801" y="3677"/>
                </a:lnTo>
                <a:lnTo>
                  <a:pt x="1800" y="3686"/>
                </a:lnTo>
                <a:lnTo>
                  <a:pt x="1800" y="3695"/>
                </a:lnTo>
                <a:lnTo>
                  <a:pt x="1800" y="3785"/>
                </a:lnTo>
                <a:lnTo>
                  <a:pt x="1831" y="3981"/>
                </a:lnTo>
                <a:lnTo>
                  <a:pt x="1819" y="3994"/>
                </a:lnTo>
                <a:lnTo>
                  <a:pt x="1809" y="4005"/>
                </a:lnTo>
                <a:lnTo>
                  <a:pt x="1798" y="4013"/>
                </a:lnTo>
                <a:lnTo>
                  <a:pt x="1787" y="4021"/>
                </a:lnTo>
                <a:lnTo>
                  <a:pt x="1777" y="4030"/>
                </a:lnTo>
                <a:lnTo>
                  <a:pt x="1765" y="4038"/>
                </a:lnTo>
                <a:lnTo>
                  <a:pt x="1754" y="4048"/>
                </a:lnTo>
                <a:lnTo>
                  <a:pt x="1742" y="4059"/>
                </a:lnTo>
                <a:lnTo>
                  <a:pt x="1730" y="4039"/>
                </a:lnTo>
                <a:lnTo>
                  <a:pt x="1722" y="4020"/>
                </a:lnTo>
                <a:lnTo>
                  <a:pt x="1718" y="4011"/>
                </a:lnTo>
                <a:lnTo>
                  <a:pt x="1716" y="4000"/>
                </a:lnTo>
                <a:lnTo>
                  <a:pt x="1714" y="3990"/>
                </a:lnTo>
                <a:lnTo>
                  <a:pt x="1714" y="3977"/>
                </a:lnTo>
                <a:lnTo>
                  <a:pt x="1714" y="3870"/>
                </a:lnTo>
                <a:lnTo>
                  <a:pt x="1714" y="3854"/>
                </a:lnTo>
                <a:lnTo>
                  <a:pt x="1716" y="3839"/>
                </a:lnTo>
                <a:lnTo>
                  <a:pt x="1719" y="3824"/>
                </a:lnTo>
                <a:lnTo>
                  <a:pt x="1723" y="3810"/>
                </a:lnTo>
                <a:lnTo>
                  <a:pt x="1726" y="3796"/>
                </a:lnTo>
                <a:lnTo>
                  <a:pt x="1729" y="3782"/>
                </a:lnTo>
                <a:lnTo>
                  <a:pt x="1731" y="3767"/>
                </a:lnTo>
                <a:lnTo>
                  <a:pt x="1731" y="3750"/>
                </a:lnTo>
                <a:lnTo>
                  <a:pt x="1731" y="3742"/>
                </a:lnTo>
                <a:lnTo>
                  <a:pt x="1730" y="3732"/>
                </a:lnTo>
                <a:lnTo>
                  <a:pt x="1728" y="3724"/>
                </a:lnTo>
                <a:lnTo>
                  <a:pt x="1726" y="3716"/>
                </a:lnTo>
                <a:lnTo>
                  <a:pt x="1724" y="3709"/>
                </a:lnTo>
                <a:lnTo>
                  <a:pt x="1720" y="3701"/>
                </a:lnTo>
                <a:lnTo>
                  <a:pt x="1717" y="3695"/>
                </a:lnTo>
                <a:lnTo>
                  <a:pt x="1712" y="3688"/>
                </a:lnTo>
                <a:lnTo>
                  <a:pt x="1691" y="3662"/>
                </a:lnTo>
                <a:lnTo>
                  <a:pt x="1667" y="3635"/>
                </a:lnTo>
                <a:lnTo>
                  <a:pt x="1652" y="3618"/>
                </a:lnTo>
                <a:lnTo>
                  <a:pt x="1637" y="3604"/>
                </a:lnTo>
                <a:lnTo>
                  <a:pt x="1622" y="3593"/>
                </a:lnTo>
                <a:lnTo>
                  <a:pt x="1603" y="3580"/>
                </a:lnTo>
                <a:lnTo>
                  <a:pt x="1595" y="3575"/>
                </a:lnTo>
                <a:lnTo>
                  <a:pt x="1589" y="3568"/>
                </a:lnTo>
                <a:lnTo>
                  <a:pt x="1587" y="3565"/>
                </a:lnTo>
                <a:lnTo>
                  <a:pt x="1584" y="3562"/>
                </a:lnTo>
                <a:lnTo>
                  <a:pt x="1579" y="3561"/>
                </a:lnTo>
                <a:lnTo>
                  <a:pt x="1575" y="3560"/>
                </a:lnTo>
                <a:lnTo>
                  <a:pt x="1535" y="3560"/>
                </a:lnTo>
                <a:lnTo>
                  <a:pt x="1533" y="3574"/>
                </a:lnTo>
                <a:lnTo>
                  <a:pt x="1532" y="3588"/>
                </a:lnTo>
                <a:lnTo>
                  <a:pt x="1532" y="3595"/>
                </a:lnTo>
                <a:lnTo>
                  <a:pt x="1535" y="3601"/>
                </a:lnTo>
                <a:lnTo>
                  <a:pt x="1538" y="3606"/>
                </a:lnTo>
                <a:lnTo>
                  <a:pt x="1543" y="3611"/>
                </a:lnTo>
                <a:lnTo>
                  <a:pt x="1548" y="3615"/>
                </a:lnTo>
                <a:lnTo>
                  <a:pt x="1553" y="3620"/>
                </a:lnTo>
                <a:lnTo>
                  <a:pt x="1558" y="3625"/>
                </a:lnTo>
                <a:lnTo>
                  <a:pt x="1562" y="3632"/>
                </a:lnTo>
                <a:lnTo>
                  <a:pt x="1576" y="3655"/>
                </a:lnTo>
                <a:lnTo>
                  <a:pt x="1588" y="3677"/>
                </a:lnTo>
                <a:lnTo>
                  <a:pt x="1593" y="3688"/>
                </a:lnTo>
                <a:lnTo>
                  <a:pt x="1596" y="3699"/>
                </a:lnTo>
                <a:lnTo>
                  <a:pt x="1598" y="3712"/>
                </a:lnTo>
                <a:lnTo>
                  <a:pt x="1599" y="3727"/>
                </a:lnTo>
                <a:lnTo>
                  <a:pt x="1598" y="3731"/>
                </a:lnTo>
                <a:lnTo>
                  <a:pt x="1597" y="3734"/>
                </a:lnTo>
                <a:lnTo>
                  <a:pt x="1594" y="3737"/>
                </a:lnTo>
                <a:lnTo>
                  <a:pt x="1591" y="3739"/>
                </a:lnTo>
                <a:lnTo>
                  <a:pt x="1583" y="3743"/>
                </a:lnTo>
                <a:lnTo>
                  <a:pt x="1573" y="3746"/>
                </a:lnTo>
                <a:close/>
                <a:moveTo>
                  <a:pt x="364" y="4600"/>
                </a:moveTo>
                <a:lnTo>
                  <a:pt x="128" y="4584"/>
                </a:lnTo>
                <a:lnTo>
                  <a:pt x="0" y="4972"/>
                </a:lnTo>
                <a:lnTo>
                  <a:pt x="854" y="6044"/>
                </a:lnTo>
                <a:lnTo>
                  <a:pt x="864" y="6044"/>
                </a:lnTo>
                <a:lnTo>
                  <a:pt x="875" y="6045"/>
                </a:lnTo>
                <a:lnTo>
                  <a:pt x="883" y="6046"/>
                </a:lnTo>
                <a:lnTo>
                  <a:pt x="893" y="6048"/>
                </a:lnTo>
                <a:lnTo>
                  <a:pt x="911" y="6054"/>
                </a:lnTo>
                <a:lnTo>
                  <a:pt x="930" y="6061"/>
                </a:lnTo>
                <a:lnTo>
                  <a:pt x="936" y="6065"/>
                </a:lnTo>
                <a:lnTo>
                  <a:pt x="942" y="6069"/>
                </a:lnTo>
                <a:lnTo>
                  <a:pt x="944" y="6071"/>
                </a:lnTo>
                <a:lnTo>
                  <a:pt x="946" y="6072"/>
                </a:lnTo>
                <a:lnTo>
                  <a:pt x="949" y="6073"/>
                </a:lnTo>
                <a:lnTo>
                  <a:pt x="953" y="6074"/>
                </a:lnTo>
                <a:lnTo>
                  <a:pt x="1116" y="6074"/>
                </a:lnTo>
                <a:lnTo>
                  <a:pt x="1116" y="6115"/>
                </a:lnTo>
                <a:lnTo>
                  <a:pt x="1116" y="6121"/>
                </a:lnTo>
                <a:lnTo>
                  <a:pt x="1118" y="6125"/>
                </a:lnTo>
                <a:lnTo>
                  <a:pt x="1120" y="6129"/>
                </a:lnTo>
                <a:lnTo>
                  <a:pt x="1123" y="6133"/>
                </a:lnTo>
                <a:lnTo>
                  <a:pt x="1130" y="6140"/>
                </a:lnTo>
                <a:lnTo>
                  <a:pt x="1137" y="6148"/>
                </a:lnTo>
                <a:lnTo>
                  <a:pt x="1156" y="6171"/>
                </a:lnTo>
                <a:lnTo>
                  <a:pt x="1173" y="6191"/>
                </a:lnTo>
                <a:lnTo>
                  <a:pt x="1181" y="6201"/>
                </a:lnTo>
                <a:lnTo>
                  <a:pt x="1188" y="6212"/>
                </a:lnTo>
                <a:lnTo>
                  <a:pt x="1195" y="6224"/>
                </a:lnTo>
                <a:lnTo>
                  <a:pt x="1200" y="6239"/>
                </a:lnTo>
                <a:lnTo>
                  <a:pt x="1206" y="6258"/>
                </a:lnTo>
                <a:lnTo>
                  <a:pt x="1211" y="6275"/>
                </a:lnTo>
                <a:lnTo>
                  <a:pt x="1213" y="6282"/>
                </a:lnTo>
                <a:lnTo>
                  <a:pt x="1216" y="6291"/>
                </a:lnTo>
                <a:lnTo>
                  <a:pt x="1220" y="6299"/>
                </a:lnTo>
                <a:lnTo>
                  <a:pt x="1226" y="6309"/>
                </a:lnTo>
                <a:lnTo>
                  <a:pt x="1231" y="6315"/>
                </a:lnTo>
                <a:lnTo>
                  <a:pt x="1236" y="6320"/>
                </a:lnTo>
                <a:lnTo>
                  <a:pt x="1241" y="6324"/>
                </a:lnTo>
                <a:lnTo>
                  <a:pt x="1248" y="6328"/>
                </a:lnTo>
                <a:lnTo>
                  <a:pt x="1262" y="6335"/>
                </a:lnTo>
                <a:lnTo>
                  <a:pt x="1275" y="6343"/>
                </a:lnTo>
                <a:lnTo>
                  <a:pt x="2117" y="6569"/>
                </a:lnTo>
                <a:lnTo>
                  <a:pt x="2129" y="6570"/>
                </a:lnTo>
                <a:lnTo>
                  <a:pt x="2138" y="6570"/>
                </a:lnTo>
                <a:lnTo>
                  <a:pt x="2148" y="6570"/>
                </a:lnTo>
                <a:lnTo>
                  <a:pt x="2158" y="6573"/>
                </a:lnTo>
                <a:lnTo>
                  <a:pt x="2162" y="6576"/>
                </a:lnTo>
                <a:lnTo>
                  <a:pt x="2165" y="6579"/>
                </a:lnTo>
                <a:lnTo>
                  <a:pt x="2169" y="6583"/>
                </a:lnTo>
                <a:lnTo>
                  <a:pt x="2170" y="6587"/>
                </a:lnTo>
                <a:lnTo>
                  <a:pt x="2172" y="6592"/>
                </a:lnTo>
                <a:lnTo>
                  <a:pt x="2174" y="6596"/>
                </a:lnTo>
                <a:lnTo>
                  <a:pt x="2177" y="6600"/>
                </a:lnTo>
                <a:lnTo>
                  <a:pt x="2180" y="6603"/>
                </a:lnTo>
                <a:lnTo>
                  <a:pt x="2192" y="6606"/>
                </a:lnTo>
                <a:lnTo>
                  <a:pt x="2203" y="6607"/>
                </a:lnTo>
                <a:lnTo>
                  <a:pt x="2215" y="6611"/>
                </a:lnTo>
                <a:lnTo>
                  <a:pt x="2224" y="6615"/>
                </a:lnTo>
                <a:lnTo>
                  <a:pt x="2234" y="6618"/>
                </a:lnTo>
                <a:lnTo>
                  <a:pt x="2245" y="6619"/>
                </a:lnTo>
                <a:lnTo>
                  <a:pt x="2257" y="6617"/>
                </a:lnTo>
                <a:lnTo>
                  <a:pt x="2269" y="6616"/>
                </a:lnTo>
                <a:lnTo>
                  <a:pt x="2275" y="6616"/>
                </a:lnTo>
                <a:lnTo>
                  <a:pt x="2280" y="6619"/>
                </a:lnTo>
                <a:lnTo>
                  <a:pt x="2283" y="6622"/>
                </a:lnTo>
                <a:lnTo>
                  <a:pt x="2286" y="6626"/>
                </a:lnTo>
                <a:lnTo>
                  <a:pt x="2289" y="6637"/>
                </a:lnTo>
                <a:lnTo>
                  <a:pt x="2292" y="6650"/>
                </a:lnTo>
                <a:lnTo>
                  <a:pt x="2286" y="6979"/>
                </a:lnTo>
                <a:lnTo>
                  <a:pt x="2285" y="7103"/>
                </a:lnTo>
                <a:lnTo>
                  <a:pt x="2245" y="8066"/>
                </a:lnTo>
                <a:lnTo>
                  <a:pt x="2292" y="8067"/>
                </a:lnTo>
                <a:lnTo>
                  <a:pt x="2339" y="8067"/>
                </a:lnTo>
                <a:lnTo>
                  <a:pt x="2385" y="8068"/>
                </a:lnTo>
                <a:lnTo>
                  <a:pt x="2433" y="8068"/>
                </a:lnTo>
                <a:lnTo>
                  <a:pt x="2479" y="8068"/>
                </a:lnTo>
                <a:lnTo>
                  <a:pt x="2527" y="8068"/>
                </a:lnTo>
                <a:lnTo>
                  <a:pt x="2573" y="8068"/>
                </a:lnTo>
                <a:lnTo>
                  <a:pt x="2620" y="8068"/>
                </a:lnTo>
                <a:lnTo>
                  <a:pt x="2674" y="8067"/>
                </a:lnTo>
                <a:lnTo>
                  <a:pt x="2724" y="8066"/>
                </a:lnTo>
                <a:lnTo>
                  <a:pt x="2773" y="8065"/>
                </a:lnTo>
                <a:lnTo>
                  <a:pt x="2822" y="8064"/>
                </a:lnTo>
                <a:lnTo>
                  <a:pt x="2872" y="8061"/>
                </a:lnTo>
                <a:lnTo>
                  <a:pt x="2921" y="8059"/>
                </a:lnTo>
                <a:lnTo>
                  <a:pt x="2970" y="8057"/>
                </a:lnTo>
                <a:lnTo>
                  <a:pt x="3020" y="8055"/>
                </a:lnTo>
                <a:lnTo>
                  <a:pt x="3068" y="8053"/>
                </a:lnTo>
                <a:lnTo>
                  <a:pt x="3118" y="8050"/>
                </a:lnTo>
                <a:lnTo>
                  <a:pt x="3168" y="8047"/>
                </a:lnTo>
                <a:lnTo>
                  <a:pt x="3217" y="8043"/>
                </a:lnTo>
                <a:lnTo>
                  <a:pt x="3266" y="8040"/>
                </a:lnTo>
                <a:lnTo>
                  <a:pt x="3315" y="8036"/>
                </a:lnTo>
                <a:lnTo>
                  <a:pt x="3365" y="8032"/>
                </a:lnTo>
                <a:lnTo>
                  <a:pt x="3414" y="8028"/>
                </a:lnTo>
                <a:lnTo>
                  <a:pt x="3463" y="8023"/>
                </a:lnTo>
                <a:lnTo>
                  <a:pt x="3464" y="8009"/>
                </a:lnTo>
                <a:lnTo>
                  <a:pt x="3464" y="7992"/>
                </a:lnTo>
                <a:lnTo>
                  <a:pt x="3464" y="7974"/>
                </a:lnTo>
                <a:lnTo>
                  <a:pt x="3464" y="7957"/>
                </a:lnTo>
                <a:lnTo>
                  <a:pt x="3463" y="7949"/>
                </a:lnTo>
                <a:lnTo>
                  <a:pt x="3461" y="7941"/>
                </a:lnTo>
                <a:lnTo>
                  <a:pt x="3458" y="7934"/>
                </a:lnTo>
                <a:lnTo>
                  <a:pt x="3454" y="7925"/>
                </a:lnTo>
                <a:lnTo>
                  <a:pt x="3452" y="7921"/>
                </a:lnTo>
                <a:lnTo>
                  <a:pt x="3447" y="7918"/>
                </a:lnTo>
                <a:lnTo>
                  <a:pt x="3444" y="7915"/>
                </a:lnTo>
                <a:lnTo>
                  <a:pt x="3440" y="7911"/>
                </a:lnTo>
                <a:lnTo>
                  <a:pt x="3436" y="7909"/>
                </a:lnTo>
                <a:lnTo>
                  <a:pt x="3433" y="7906"/>
                </a:lnTo>
                <a:lnTo>
                  <a:pt x="3431" y="7902"/>
                </a:lnTo>
                <a:lnTo>
                  <a:pt x="3431" y="7898"/>
                </a:lnTo>
                <a:lnTo>
                  <a:pt x="3431" y="7895"/>
                </a:lnTo>
                <a:lnTo>
                  <a:pt x="3432" y="7892"/>
                </a:lnTo>
                <a:lnTo>
                  <a:pt x="3433" y="7890"/>
                </a:lnTo>
                <a:lnTo>
                  <a:pt x="3434" y="7888"/>
                </a:lnTo>
                <a:lnTo>
                  <a:pt x="3439" y="7886"/>
                </a:lnTo>
                <a:lnTo>
                  <a:pt x="3444" y="7885"/>
                </a:lnTo>
                <a:lnTo>
                  <a:pt x="3450" y="7883"/>
                </a:lnTo>
                <a:lnTo>
                  <a:pt x="3456" y="7882"/>
                </a:lnTo>
                <a:lnTo>
                  <a:pt x="3462" y="7880"/>
                </a:lnTo>
                <a:lnTo>
                  <a:pt x="3468" y="7878"/>
                </a:lnTo>
                <a:lnTo>
                  <a:pt x="3471" y="7875"/>
                </a:lnTo>
                <a:lnTo>
                  <a:pt x="3473" y="7872"/>
                </a:lnTo>
                <a:lnTo>
                  <a:pt x="3475" y="7869"/>
                </a:lnTo>
                <a:lnTo>
                  <a:pt x="3476" y="7865"/>
                </a:lnTo>
                <a:lnTo>
                  <a:pt x="3478" y="7858"/>
                </a:lnTo>
                <a:lnTo>
                  <a:pt x="3481" y="7850"/>
                </a:lnTo>
                <a:lnTo>
                  <a:pt x="3493" y="7827"/>
                </a:lnTo>
                <a:lnTo>
                  <a:pt x="3501" y="7806"/>
                </a:lnTo>
                <a:lnTo>
                  <a:pt x="3510" y="7786"/>
                </a:lnTo>
                <a:lnTo>
                  <a:pt x="3517" y="7766"/>
                </a:lnTo>
                <a:lnTo>
                  <a:pt x="3523" y="7746"/>
                </a:lnTo>
                <a:lnTo>
                  <a:pt x="3531" y="7726"/>
                </a:lnTo>
                <a:lnTo>
                  <a:pt x="3539" y="7703"/>
                </a:lnTo>
                <a:lnTo>
                  <a:pt x="3549" y="7680"/>
                </a:lnTo>
                <a:lnTo>
                  <a:pt x="3554" y="7670"/>
                </a:lnTo>
                <a:lnTo>
                  <a:pt x="3557" y="7658"/>
                </a:lnTo>
                <a:lnTo>
                  <a:pt x="3560" y="7647"/>
                </a:lnTo>
                <a:lnTo>
                  <a:pt x="3564" y="7638"/>
                </a:lnTo>
                <a:lnTo>
                  <a:pt x="3567" y="7618"/>
                </a:lnTo>
                <a:lnTo>
                  <a:pt x="3569" y="7598"/>
                </a:lnTo>
                <a:lnTo>
                  <a:pt x="3572" y="7578"/>
                </a:lnTo>
                <a:lnTo>
                  <a:pt x="3575" y="7558"/>
                </a:lnTo>
                <a:lnTo>
                  <a:pt x="3579" y="7537"/>
                </a:lnTo>
                <a:lnTo>
                  <a:pt x="3587" y="7514"/>
                </a:lnTo>
                <a:lnTo>
                  <a:pt x="3593" y="7500"/>
                </a:lnTo>
                <a:lnTo>
                  <a:pt x="3601" y="7487"/>
                </a:lnTo>
                <a:lnTo>
                  <a:pt x="3609" y="7476"/>
                </a:lnTo>
                <a:lnTo>
                  <a:pt x="3617" y="7466"/>
                </a:lnTo>
                <a:lnTo>
                  <a:pt x="3625" y="7455"/>
                </a:lnTo>
                <a:lnTo>
                  <a:pt x="3631" y="7444"/>
                </a:lnTo>
                <a:lnTo>
                  <a:pt x="3634" y="7437"/>
                </a:lnTo>
                <a:lnTo>
                  <a:pt x="3635" y="7430"/>
                </a:lnTo>
                <a:lnTo>
                  <a:pt x="3638" y="7424"/>
                </a:lnTo>
                <a:lnTo>
                  <a:pt x="3638" y="7415"/>
                </a:lnTo>
                <a:lnTo>
                  <a:pt x="3636" y="7410"/>
                </a:lnTo>
                <a:lnTo>
                  <a:pt x="3635" y="7405"/>
                </a:lnTo>
                <a:lnTo>
                  <a:pt x="3633" y="7399"/>
                </a:lnTo>
                <a:lnTo>
                  <a:pt x="3630" y="7395"/>
                </a:lnTo>
                <a:lnTo>
                  <a:pt x="3628" y="7391"/>
                </a:lnTo>
                <a:lnTo>
                  <a:pt x="3626" y="7386"/>
                </a:lnTo>
                <a:lnTo>
                  <a:pt x="3625" y="7380"/>
                </a:lnTo>
                <a:lnTo>
                  <a:pt x="3624" y="7375"/>
                </a:lnTo>
                <a:lnTo>
                  <a:pt x="3624" y="7369"/>
                </a:lnTo>
                <a:lnTo>
                  <a:pt x="3626" y="7364"/>
                </a:lnTo>
                <a:lnTo>
                  <a:pt x="3627" y="7360"/>
                </a:lnTo>
                <a:lnTo>
                  <a:pt x="3630" y="7356"/>
                </a:lnTo>
                <a:lnTo>
                  <a:pt x="3636" y="7349"/>
                </a:lnTo>
                <a:lnTo>
                  <a:pt x="3644" y="7342"/>
                </a:lnTo>
                <a:lnTo>
                  <a:pt x="3652" y="7336"/>
                </a:lnTo>
                <a:lnTo>
                  <a:pt x="3661" y="7330"/>
                </a:lnTo>
                <a:lnTo>
                  <a:pt x="3668" y="7322"/>
                </a:lnTo>
                <a:lnTo>
                  <a:pt x="3674" y="7314"/>
                </a:lnTo>
                <a:lnTo>
                  <a:pt x="3678" y="7306"/>
                </a:lnTo>
                <a:lnTo>
                  <a:pt x="3680" y="7299"/>
                </a:lnTo>
                <a:lnTo>
                  <a:pt x="3681" y="7292"/>
                </a:lnTo>
                <a:lnTo>
                  <a:pt x="3682" y="7283"/>
                </a:lnTo>
                <a:lnTo>
                  <a:pt x="3683" y="7277"/>
                </a:lnTo>
                <a:lnTo>
                  <a:pt x="3684" y="7269"/>
                </a:lnTo>
                <a:lnTo>
                  <a:pt x="3687" y="7262"/>
                </a:lnTo>
                <a:lnTo>
                  <a:pt x="3691" y="7256"/>
                </a:lnTo>
                <a:lnTo>
                  <a:pt x="3696" y="7252"/>
                </a:lnTo>
                <a:lnTo>
                  <a:pt x="3701" y="7248"/>
                </a:lnTo>
                <a:lnTo>
                  <a:pt x="3705" y="7247"/>
                </a:lnTo>
                <a:lnTo>
                  <a:pt x="3710" y="7245"/>
                </a:lnTo>
                <a:lnTo>
                  <a:pt x="3721" y="7243"/>
                </a:lnTo>
                <a:lnTo>
                  <a:pt x="3733" y="7239"/>
                </a:lnTo>
                <a:lnTo>
                  <a:pt x="3733" y="7227"/>
                </a:lnTo>
                <a:lnTo>
                  <a:pt x="3732" y="7217"/>
                </a:lnTo>
                <a:lnTo>
                  <a:pt x="3730" y="7206"/>
                </a:lnTo>
                <a:lnTo>
                  <a:pt x="3730" y="7194"/>
                </a:lnTo>
                <a:lnTo>
                  <a:pt x="3774" y="7194"/>
                </a:lnTo>
                <a:lnTo>
                  <a:pt x="3786" y="7188"/>
                </a:lnTo>
                <a:lnTo>
                  <a:pt x="3781" y="7182"/>
                </a:lnTo>
                <a:lnTo>
                  <a:pt x="3776" y="7175"/>
                </a:lnTo>
                <a:lnTo>
                  <a:pt x="3773" y="7169"/>
                </a:lnTo>
                <a:lnTo>
                  <a:pt x="3770" y="7161"/>
                </a:lnTo>
                <a:lnTo>
                  <a:pt x="3778" y="7154"/>
                </a:lnTo>
                <a:lnTo>
                  <a:pt x="3786" y="7149"/>
                </a:lnTo>
                <a:lnTo>
                  <a:pt x="3795" y="7145"/>
                </a:lnTo>
                <a:lnTo>
                  <a:pt x="3803" y="7142"/>
                </a:lnTo>
                <a:lnTo>
                  <a:pt x="3822" y="7136"/>
                </a:lnTo>
                <a:lnTo>
                  <a:pt x="3841" y="7130"/>
                </a:lnTo>
                <a:lnTo>
                  <a:pt x="3835" y="7121"/>
                </a:lnTo>
                <a:lnTo>
                  <a:pt x="3829" y="7112"/>
                </a:lnTo>
                <a:lnTo>
                  <a:pt x="3821" y="7106"/>
                </a:lnTo>
                <a:lnTo>
                  <a:pt x="3814" y="7099"/>
                </a:lnTo>
                <a:lnTo>
                  <a:pt x="3805" y="7093"/>
                </a:lnTo>
                <a:lnTo>
                  <a:pt x="3797" y="7088"/>
                </a:lnTo>
                <a:lnTo>
                  <a:pt x="3789" y="7080"/>
                </a:lnTo>
                <a:lnTo>
                  <a:pt x="3780" y="7072"/>
                </a:lnTo>
                <a:lnTo>
                  <a:pt x="3780" y="7046"/>
                </a:lnTo>
                <a:lnTo>
                  <a:pt x="3823" y="7046"/>
                </a:lnTo>
                <a:lnTo>
                  <a:pt x="3831" y="7046"/>
                </a:lnTo>
                <a:lnTo>
                  <a:pt x="3838" y="7047"/>
                </a:lnTo>
                <a:lnTo>
                  <a:pt x="3845" y="7049"/>
                </a:lnTo>
                <a:lnTo>
                  <a:pt x="3851" y="7050"/>
                </a:lnTo>
                <a:lnTo>
                  <a:pt x="3857" y="7052"/>
                </a:lnTo>
                <a:lnTo>
                  <a:pt x="3864" y="7054"/>
                </a:lnTo>
                <a:lnTo>
                  <a:pt x="3871" y="7055"/>
                </a:lnTo>
                <a:lnTo>
                  <a:pt x="3878" y="7055"/>
                </a:lnTo>
                <a:lnTo>
                  <a:pt x="3887" y="7054"/>
                </a:lnTo>
                <a:lnTo>
                  <a:pt x="3893" y="7052"/>
                </a:lnTo>
                <a:lnTo>
                  <a:pt x="3899" y="7048"/>
                </a:lnTo>
                <a:lnTo>
                  <a:pt x="3905" y="7043"/>
                </a:lnTo>
                <a:lnTo>
                  <a:pt x="3914" y="7033"/>
                </a:lnTo>
                <a:lnTo>
                  <a:pt x="3926" y="7021"/>
                </a:lnTo>
                <a:lnTo>
                  <a:pt x="3944" y="7008"/>
                </a:lnTo>
                <a:lnTo>
                  <a:pt x="3960" y="6993"/>
                </a:lnTo>
                <a:lnTo>
                  <a:pt x="3974" y="6978"/>
                </a:lnTo>
                <a:lnTo>
                  <a:pt x="3987" y="6962"/>
                </a:lnTo>
                <a:lnTo>
                  <a:pt x="3992" y="6954"/>
                </a:lnTo>
                <a:lnTo>
                  <a:pt x="3997" y="6945"/>
                </a:lnTo>
                <a:lnTo>
                  <a:pt x="4001" y="6937"/>
                </a:lnTo>
                <a:lnTo>
                  <a:pt x="4005" y="6927"/>
                </a:lnTo>
                <a:lnTo>
                  <a:pt x="4007" y="6918"/>
                </a:lnTo>
                <a:lnTo>
                  <a:pt x="4009" y="6907"/>
                </a:lnTo>
                <a:lnTo>
                  <a:pt x="4010" y="6897"/>
                </a:lnTo>
                <a:lnTo>
                  <a:pt x="4011" y="6885"/>
                </a:lnTo>
                <a:lnTo>
                  <a:pt x="4010" y="6879"/>
                </a:lnTo>
                <a:lnTo>
                  <a:pt x="4009" y="6871"/>
                </a:lnTo>
                <a:lnTo>
                  <a:pt x="4008" y="6866"/>
                </a:lnTo>
                <a:lnTo>
                  <a:pt x="4005" y="6860"/>
                </a:lnTo>
                <a:lnTo>
                  <a:pt x="4002" y="6854"/>
                </a:lnTo>
                <a:lnTo>
                  <a:pt x="3999" y="6849"/>
                </a:lnTo>
                <a:lnTo>
                  <a:pt x="3994" y="6845"/>
                </a:lnTo>
                <a:lnTo>
                  <a:pt x="3990" y="6841"/>
                </a:lnTo>
                <a:lnTo>
                  <a:pt x="3980" y="6832"/>
                </a:lnTo>
                <a:lnTo>
                  <a:pt x="3968" y="6825"/>
                </a:lnTo>
                <a:lnTo>
                  <a:pt x="3955" y="6818"/>
                </a:lnTo>
                <a:lnTo>
                  <a:pt x="3943" y="6811"/>
                </a:lnTo>
                <a:lnTo>
                  <a:pt x="3919" y="6796"/>
                </a:lnTo>
                <a:lnTo>
                  <a:pt x="3897" y="6783"/>
                </a:lnTo>
                <a:lnTo>
                  <a:pt x="3887" y="6776"/>
                </a:lnTo>
                <a:lnTo>
                  <a:pt x="3875" y="6772"/>
                </a:lnTo>
                <a:lnTo>
                  <a:pt x="3862" y="6769"/>
                </a:lnTo>
                <a:lnTo>
                  <a:pt x="3848" y="6767"/>
                </a:lnTo>
                <a:lnTo>
                  <a:pt x="3829" y="6767"/>
                </a:lnTo>
                <a:lnTo>
                  <a:pt x="3812" y="6768"/>
                </a:lnTo>
                <a:lnTo>
                  <a:pt x="3803" y="6768"/>
                </a:lnTo>
                <a:lnTo>
                  <a:pt x="3795" y="6768"/>
                </a:lnTo>
                <a:lnTo>
                  <a:pt x="3786" y="6766"/>
                </a:lnTo>
                <a:lnTo>
                  <a:pt x="3777" y="6764"/>
                </a:lnTo>
                <a:lnTo>
                  <a:pt x="3758" y="6755"/>
                </a:lnTo>
                <a:lnTo>
                  <a:pt x="3741" y="6747"/>
                </a:lnTo>
                <a:lnTo>
                  <a:pt x="3725" y="6738"/>
                </a:lnTo>
                <a:lnTo>
                  <a:pt x="3709" y="6731"/>
                </a:lnTo>
                <a:lnTo>
                  <a:pt x="3695" y="6724"/>
                </a:lnTo>
                <a:lnTo>
                  <a:pt x="3678" y="6717"/>
                </a:lnTo>
                <a:lnTo>
                  <a:pt x="3669" y="6715"/>
                </a:lnTo>
                <a:lnTo>
                  <a:pt x="3660" y="6714"/>
                </a:lnTo>
                <a:lnTo>
                  <a:pt x="3650" y="6713"/>
                </a:lnTo>
                <a:lnTo>
                  <a:pt x="3640" y="6712"/>
                </a:lnTo>
                <a:lnTo>
                  <a:pt x="3530" y="6712"/>
                </a:lnTo>
                <a:lnTo>
                  <a:pt x="3518" y="6712"/>
                </a:lnTo>
                <a:lnTo>
                  <a:pt x="3507" y="6711"/>
                </a:lnTo>
                <a:lnTo>
                  <a:pt x="3496" y="6710"/>
                </a:lnTo>
                <a:lnTo>
                  <a:pt x="3485" y="6708"/>
                </a:lnTo>
                <a:lnTo>
                  <a:pt x="3466" y="6703"/>
                </a:lnTo>
                <a:lnTo>
                  <a:pt x="3447" y="6697"/>
                </a:lnTo>
                <a:lnTo>
                  <a:pt x="3428" y="6691"/>
                </a:lnTo>
                <a:lnTo>
                  <a:pt x="3409" y="6686"/>
                </a:lnTo>
                <a:lnTo>
                  <a:pt x="3388" y="6679"/>
                </a:lnTo>
                <a:lnTo>
                  <a:pt x="3366" y="6675"/>
                </a:lnTo>
                <a:lnTo>
                  <a:pt x="3333" y="6670"/>
                </a:lnTo>
                <a:lnTo>
                  <a:pt x="3304" y="6664"/>
                </a:lnTo>
                <a:lnTo>
                  <a:pt x="3290" y="6660"/>
                </a:lnTo>
                <a:lnTo>
                  <a:pt x="3276" y="6655"/>
                </a:lnTo>
                <a:lnTo>
                  <a:pt x="3263" y="6649"/>
                </a:lnTo>
                <a:lnTo>
                  <a:pt x="3247" y="6641"/>
                </a:lnTo>
                <a:lnTo>
                  <a:pt x="3235" y="6636"/>
                </a:lnTo>
                <a:lnTo>
                  <a:pt x="3225" y="6633"/>
                </a:lnTo>
                <a:lnTo>
                  <a:pt x="3214" y="6631"/>
                </a:lnTo>
                <a:lnTo>
                  <a:pt x="3204" y="6630"/>
                </a:lnTo>
                <a:lnTo>
                  <a:pt x="3193" y="6627"/>
                </a:lnTo>
                <a:lnTo>
                  <a:pt x="3183" y="6625"/>
                </a:lnTo>
                <a:lnTo>
                  <a:pt x="3173" y="6621"/>
                </a:lnTo>
                <a:lnTo>
                  <a:pt x="3162" y="6616"/>
                </a:lnTo>
                <a:lnTo>
                  <a:pt x="3270" y="6616"/>
                </a:lnTo>
                <a:lnTo>
                  <a:pt x="3278" y="6615"/>
                </a:lnTo>
                <a:lnTo>
                  <a:pt x="3286" y="6613"/>
                </a:lnTo>
                <a:lnTo>
                  <a:pt x="3292" y="6611"/>
                </a:lnTo>
                <a:lnTo>
                  <a:pt x="3299" y="6607"/>
                </a:lnTo>
                <a:lnTo>
                  <a:pt x="3306" y="6605"/>
                </a:lnTo>
                <a:lnTo>
                  <a:pt x="3312" y="6602"/>
                </a:lnTo>
                <a:lnTo>
                  <a:pt x="3320" y="6601"/>
                </a:lnTo>
                <a:lnTo>
                  <a:pt x="3328" y="6600"/>
                </a:lnTo>
                <a:lnTo>
                  <a:pt x="3342" y="6601"/>
                </a:lnTo>
                <a:lnTo>
                  <a:pt x="3356" y="6604"/>
                </a:lnTo>
                <a:lnTo>
                  <a:pt x="3367" y="6608"/>
                </a:lnTo>
                <a:lnTo>
                  <a:pt x="3378" y="6614"/>
                </a:lnTo>
                <a:lnTo>
                  <a:pt x="3388" y="6620"/>
                </a:lnTo>
                <a:lnTo>
                  <a:pt x="3399" y="6627"/>
                </a:lnTo>
                <a:lnTo>
                  <a:pt x="3408" y="6635"/>
                </a:lnTo>
                <a:lnTo>
                  <a:pt x="3418" y="6642"/>
                </a:lnTo>
                <a:lnTo>
                  <a:pt x="3427" y="6651"/>
                </a:lnTo>
                <a:lnTo>
                  <a:pt x="3437" y="6658"/>
                </a:lnTo>
                <a:lnTo>
                  <a:pt x="3447" y="6665"/>
                </a:lnTo>
                <a:lnTo>
                  <a:pt x="3458" y="6672"/>
                </a:lnTo>
                <a:lnTo>
                  <a:pt x="3469" y="6677"/>
                </a:lnTo>
                <a:lnTo>
                  <a:pt x="3481" y="6681"/>
                </a:lnTo>
                <a:lnTo>
                  <a:pt x="3494" y="6684"/>
                </a:lnTo>
                <a:lnTo>
                  <a:pt x="3508" y="6686"/>
                </a:lnTo>
                <a:lnTo>
                  <a:pt x="3532" y="6684"/>
                </a:lnTo>
                <a:lnTo>
                  <a:pt x="3554" y="6683"/>
                </a:lnTo>
                <a:lnTo>
                  <a:pt x="3576" y="6682"/>
                </a:lnTo>
                <a:lnTo>
                  <a:pt x="3601" y="6681"/>
                </a:lnTo>
                <a:lnTo>
                  <a:pt x="3622" y="6682"/>
                </a:lnTo>
                <a:lnTo>
                  <a:pt x="3641" y="6684"/>
                </a:lnTo>
                <a:lnTo>
                  <a:pt x="3660" y="6689"/>
                </a:lnTo>
                <a:lnTo>
                  <a:pt x="3677" y="6693"/>
                </a:lnTo>
                <a:lnTo>
                  <a:pt x="3710" y="6705"/>
                </a:lnTo>
                <a:lnTo>
                  <a:pt x="3742" y="6717"/>
                </a:lnTo>
                <a:lnTo>
                  <a:pt x="3774" y="6731"/>
                </a:lnTo>
                <a:lnTo>
                  <a:pt x="3808" y="6741"/>
                </a:lnTo>
                <a:lnTo>
                  <a:pt x="3824" y="6747"/>
                </a:lnTo>
                <a:lnTo>
                  <a:pt x="3843" y="6750"/>
                </a:lnTo>
                <a:lnTo>
                  <a:pt x="3862" y="6752"/>
                </a:lnTo>
                <a:lnTo>
                  <a:pt x="3883" y="6753"/>
                </a:lnTo>
                <a:lnTo>
                  <a:pt x="3949" y="6753"/>
                </a:lnTo>
                <a:lnTo>
                  <a:pt x="3960" y="6752"/>
                </a:lnTo>
                <a:lnTo>
                  <a:pt x="3970" y="6751"/>
                </a:lnTo>
                <a:lnTo>
                  <a:pt x="3979" y="6749"/>
                </a:lnTo>
                <a:lnTo>
                  <a:pt x="3987" y="6746"/>
                </a:lnTo>
                <a:lnTo>
                  <a:pt x="4005" y="6739"/>
                </a:lnTo>
                <a:lnTo>
                  <a:pt x="4025" y="6733"/>
                </a:lnTo>
                <a:lnTo>
                  <a:pt x="4041" y="6728"/>
                </a:lnTo>
                <a:lnTo>
                  <a:pt x="4056" y="6722"/>
                </a:lnTo>
                <a:lnTo>
                  <a:pt x="4062" y="6719"/>
                </a:lnTo>
                <a:lnTo>
                  <a:pt x="4067" y="6715"/>
                </a:lnTo>
                <a:lnTo>
                  <a:pt x="4072" y="6709"/>
                </a:lnTo>
                <a:lnTo>
                  <a:pt x="4076" y="6702"/>
                </a:lnTo>
                <a:lnTo>
                  <a:pt x="4082" y="6686"/>
                </a:lnTo>
                <a:lnTo>
                  <a:pt x="4085" y="6671"/>
                </a:lnTo>
                <a:lnTo>
                  <a:pt x="4087" y="6656"/>
                </a:lnTo>
                <a:lnTo>
                  <a:pt x="4090" y="6641"/>
                </a:lnTo>
                <a:lnTo>
                  <a:pt x="4092" y="6626"/>
                </a:lnTo>
                <a:lnTo>
                  <a:pt x="4096" y="6613"/>
                </a:lnTo>
                <a:lnTo>
                  <a:pt x="4098" y="6605"/>
                </a:lnTo>
                <a:lnTo>
                  <a:pt x="4101" y="6598"/>
                </a:lnTo>
                <a:lnTo>
                  <a:pt x="4105" y="6590"/>
                </a:lnTo>
                <a:lnTo>
                  <a:pt x="4110" y="6583"/>
                </a:lnTo>
                <a:lnTo>
                  <a:pt x="4204" y="6583"/>
                </a:lnTo>
                <a:lnTo>
                  <a:pt x="4218" y="6582"/>
                </a:lnTo>
                <a:lnTo>
                  <a:pt x="4232" y="6581"/>
                </a:lnTo>
                <a:lnTo>
                  <a:pt x="4245" y="6577"/>
                </a:lnTo>
                <a:lnTo>
                  <a:pt x="4257" y="6573"/>
                </a:lnTo>
                <a:lnTo>
                  <a:pt x="4270" y="6567"/>
                </a:lnTo>
                <a:lnTo>
                  <a:pt x="4282" y="6560"/>
                </a:lnTo>
                <a:lnTo>
                  <a:pt x="4292" y="6552"/>
                </a:lnTo>
                <a:lnTo>
                  <a:pt x="4302" y="6544"/>
                </a:lnTo>
                <a:lnTo>
                  <a:pt x="4311" y="6535"/>
                </a:lnTo>
                <a:lnTo>
                  <a:pt x="4320" y="6524"/>
                </a:lnTo>
                <a:lnTo>
                  <a:pt x="4327" y="6512"/>
                </a:lnTo>
                <a:lnTo>
                  <a:pt x="4332" y="6501"/>
                </a:lnTo>
                <a:lnTo>
                  <a:pt x="4338" y="6488"/>
                </a:lnTo>
                <a:lnTo>
                  <a:pt x="4341" y="6475"/>
                </a:lnTo>
                <a:lnTo>
                  <a:pt x="4343" y="6462"/>
                </a:lnTo>
                <a:lnTo>
                  <a:pt x="4344" y="6447"/>
                </a:lnTo>
                <a:lnTo>
                  <a:pt x="4345" y="6432"/>
                </a:lnTo>
                <a:lnTo>
                  <a:pt x="4346" y="6418"/>
                </a:lnTo>
                <a:lnTo>
                  <a:pt x="4349" y="6405"/>
                </a:lnTo>
                <a:lnTo>
                  <a:pt x="4354" y="6392"/>
                </a:lnTo>
                <a:lnTo>
                  <a:pt x="4364" y="6369"/>
                </a:lnTo>
                <a:lnTo>
                  <a:pt x="4376" y="6346"/>
                </a:lnTo>
                <a:lnTo>
                  <a:pt x="4387" y="6322"/>
                </a:lnTo>
                <a:lnTo>
                  <a:pt x="4399" y="6299"/>
                </a:lnTo>
                <a:lnTo>
                  <a:pt x="4403" y="6286"/>
                </a:lnTo>
                <a:lnTo>
                  <a:pt x="4407" y="6273"/>
                </a:lnTo>
                <a:lnTo>
                  <a:pt x="4411" y="6259"/>
                </a:lnTo>
                <a:lnTo>
                  <a:pt x="4412" y="6243"/>
                </a:lnTo>
                <a:lnTo>
                  <a:pt x="4421" y="6229"/>
                </a:lnTo>
                <a:lnTo>
                  <a:pt x="4430" y="6217"/>
                </a:lnTo>
                <a:lnTo>
                  <a:pt x="4434" y="6209"/>
                </a:lnTo>
                <a:lnTo>
                  <a:pt x="4437" y="6202"/>
                </a:lnTo>
                <a:lnTo>
                  <a:pt x="4438" y="6195"/>
                </a:lnTo>
                <a:lnTo>
                  <a:pt x="4439" y="6186"/>
                </a:lnTo>
                <a:lnTo>
                  <a:pt x="4438" y="6177"/>
                </a:lnTo>
                <a:lnTo>
                  <a:pt x="4436" y="6169"/>
                </a:lnTo>
                <a:lnTo>
                  <a:pt x="4433" y="6162"/>
                </a:lnTo>
                <a:lnTo>
                  <a:pt x="4427" y="6157"/>
                </a:lnTo>
                <a:lnTo>
                  <a:pt x="4422" y="6151"/>
                </a:lnTo>
                <a:lnTo>
                  <a:pt x="4415" y="6147"/>
                </a:lnTo>
                <a:lnTo>
                  <a:pt x="4407" y="6144"/>
                </a:lnTo>
                <a:lnTo>
                  <a:pt x="4399" y="6141"/>
                </a:lnTo>
                <a:lnTo>
                  <a:pt x="4380" y="6137"/>
                </a:lnTo>
                <a:lnTo>
                  <a:pt x="4360" y="6134"/>
                </a:lnTo>
                <a:lnTo>
                  <a:pt x="4340" y="6133"/>
                </a:lnTo>
                <a:lnTo>
                  <a:pt x="4320" y="6131"/>
                </a:lnTo>
                <a:lnTo>
                  <a:pt x="4280" y="6128"/>
                </a:lnTo>
                <a:lnTo>
                  <a:pt x="4244" y="6124"/>
                </a:lnTo>
                <a:lnTo>
                  <a:pt x="4208" y="6118"/>
                </a:lnTo>
                <a:lnTo>
                  <a:pt x="4168" y="6111"/>
                </a:lnTo>
                <a:lnTo>
                  <a:pt x="4145" y="6106"/>
                </a:lnTo>
                <a:lnTo>
                  <a:pt x="4125" y="6099"/>
                </a:lnTo>
                <a:lnTo>
                  <a:pt x="4106" y="6093"/>
                </a:lnTo>
                <a:lnTo>
                  <a:pt x="4090" y="6085"/>
                </a:lnTo>
                <a:lnTo>
                  <a:pt x="4055" y="6068"/>
                </a:lnTo>
                <a:lnTo>
                  <a:pt x="4015" y="6050"/>
                </a:lnTo>
                <a:lnTo>
                  <a:pt x="3990" y="6039"/>
                </a:lnTo>
                <a:lnTo>
                  <a:pt x="3969" y="6030"/>
                </a:lnTo>
                <a:lnTo>
                  <a:pt x="3947" y="6020"/>
                </a:lnTo>
                <a:lnTo>
                  <a:pt x="3923" y="6009"/>
                </a:lnTo>
                <a:lnTo>
                  <a:pt x="3906" y="6003"/>
                </a:lnTo>
                <a:lnTo>
                  <a:pt x="3890" y="5998"/>
                </a:lnTo>
                <a:lnTo>
                  <a:pt x="3883" y="5995"/>
                </a:lnTo>
                <a:lnTo>
                  <a:pt x="3876" y="5992"/>
                </a:lnTo>
                <a:lnTo>
                  <a:pt x="3870" y="5985"/>
                </a:lnTo>
                <a:lnTo>
                  <a:pt x="3865" y="5979"/>
                </a:lnTo>
                <a:lnTo>
                  <a:pt x="3875" y="5974"/>
                </a:lnTo>
                <a:lnTo>
                  <a:pt x="3886" y="5972"/>
                </a:lnTo>
                <a:lnTo>
                  <a:pt x="3895" y="5973"/>
                </a:lnTo>
                <a:lnTo>
                  <a:pt x="3904" y="5974"/>
                </a:lnTo>
                <a:lnTo>
                  <a:pt x="3912" y="5976"/>
                </a:lnTo>
                <a:lnTo>
                  <a:pt x="3919" y="5979"/>
                </a:lnTo>
                <a:lnTo>
                  <a:pt x="3927" y="5981"/>
                </a:lnTo>
                <a:lnTo>
                  <a:pt x="3935" y="5983"/>
                </a:lnTo>
                <a:lnTo>
                  <a:pt x="3944" y="5984"/>
                </a:lnTo>
                <a:lnTo>
                  <a:pt x="3953" y="5985"/>
                </a:lnTo>
                <a:lnTo>
                  <a:pt x="3966" y="5984"/>
                </a:lnTo>
                <a:lnTo>
                  <a:pt x="3978" y="5982"/>
                </a:lnTo>
                <a:lnTo>
                  <a:pt x="3989" y="5980"/>
                </a:lnTo>
                <a:lnTo>
                  <a:pt x="4002" y="5979"/>
                </a:lnTo>
                <a:lnTo>
                  <a:pt x="4068" y="5979"/>
                </a:lnTo>
                <a:lnTo>
                  <a:pt x="4080" y="5979"/>
                </a:lnTo>
                <a:lnTo>
                  <a:pt x="4092" y="5982"/>
                </a:lnTo>
                <a:lnTo>
                  <a:pt x="4101" y="5986"/>
                </a:lnTo>
                <a:lnTo>
                  <a:pt x="4110" y="5992"/>
                </a:lnTo>
                <a:lnTo>
                  <a:pt x="4128" y="6004"/>
                </a:lnTo>
                <a:lnTo>
                  <a:pt x="4147" y="6019"/>
                </a:lnTo>
                <a:lnTo>
                  <a:pt x="4168" y="6033"/>
                </a:lnTo>
                <a:lnTo>
                  <a:pt x="4188" y="6044"/>
                </a:lnTo>
                <a:lnTo>
                  <a:pt x="4208" y="6054"/>
                </a:lnTo>
                <a:lnTo>
                  <a:pt x="4229" y="6067"/>
                </a:lnTo>
                <a:lnTo>
                  <a:pt x="4241" y="6076"/>
                </a:lnTo>
                <a:lnTo>
                  <a:pt x="4251" y="6087"/>
                </a:lnTo>
                <a:lnTo>
                  <a:pt x="4256" y="6091"/>
                </a:lnTo>
                <a:lnTo>
                  <a:pt x="4262" y="6094"/>
                </a:lnTo>
                <a:lnTo>
                  <a:pt x="4268" y="6096"/>
                </a:lnTo>
                <a:lnTo>
                  <a:pt x="4276" y="6097"/>
                </a:lnTo>
                <a:lnTo>
                  <a:pt x="4286" y="6097"/>
                </a:lnTo>
                <a:lnTo>
                  <a:pt x="4295" y="6096"/>
                </a:lnTo>
                <a:lnTo>
                  <a:pt x="4305" y="6095"/>
                </a:lnTo>
                <a:lnTo>
                  <a:pt x="4313" y="6093"/>
                </a:lnTo>
                <a:lnTo>
                  <a:pt x="4322" y="6090"/>
                </a:lnTo>
                <a:lnTo>
                  <a:pt x="4329" y="6087"/>
                </a:lnTo>
                <a:lnTo>
                  <a:pt x="4337" y="6084"/>
                </a:lnTo>
                <a:lnTo>
                  <a:pt x="4344" y="6079"/>
                </a:lnTo>
                <a:lnTo>
                  <a:pt x="4359" y="6070"/>
                </a:lnTo>
                <a:lnTo>
                  <a:pt x="4373" y="6058"/>
                </a:lnTo>
                <a:lnTo>
                  <a:pt x="4387" y="6047"/>
                </a:lnTo>
                <a:lnTo>
                  <a:pt x="4402" y="6033"/>
                </a:lnTo>
                <a:lnTo>
                  <a:pt x="4418" y="6019"/>
                </a:lnTo>
                <a:lnTo>
                  <a:pt x="4433" y="6006"/>
                </a:lnTo>
                <a:lnTo>
                  <a:pt x="4439" y="5998"/>
                </a:lnTo>
                <a:lnTo>
                  <a:pt x="4444" y="5991"/>
                </a:lnTo>
                <a:lnTo>
                  <a:pt x="4449" y="5982"/>
                </a:lnTo>
                <a:lnTo>
                  <a:pt x="4453" y="5972"/>
                </a:lnTo>
                <a:lnTo>
                  <a:pt x="4457" y="5953"/>
                </a:lnTo>
                <a:lnTo>
                  <a:pt x="4461" y="5935"/>
                </a:lnTo>
                <a:lnTo>
                  <a:pt x="4463" y="5917"/>
                </a:lnTo>
                <a:lnTo>
                  <a:pt x="4466" y="5898"/>
                </a:lnTo>
                <a:lnTo>
                  <a:pt x="4470" y="5881"/>
                </a:lnTo>
                <a:lnTo>
                  <a:pt x="4474" y="5863"/>
                </a:lnTo>
                <a:lnTo>
                  <a:pt x="4477" y="5855"/>
                </a:lnTo>
                <a:lnTo>
                  <a:pt x="4481" y="5846"/>
                </a:lnTo>
                <a:lnTo>
                  <a:pt x="4486" y="5838"/>
                </a:lnTo>
                <a:lnTo>
                  <a:pt x="4490" y="5829"/>
                </a:lnTo>
                <a:lnTo>
                  <a:pt x="4493" y="5824"/>
                </a:lnTo>
                <a:lnTo>
                  <a:pt x="4496" y="5820"/>
                </a:lnTo>
                <a:lnTo>
                  <a:pt x="4499" y="5814"/>
                </a:lnTo>
                <a:lnTo>
                  <a:pt x="4500" y="5809"/>
                </a:lnTo>
                <a:lnTo>
                  <a:pt x="4500" y="5804"/>
                </a:lnTo>
                <a:lnTo>
                  <a:pt x="4498" y="5800"/>
                </a:lnTo>
                <a:lnTo>
                  <a:pt x="4497" y="5795"/>
                </a:lnTo>
                <a:lnTo>
                  <a:pt x="4494" y="5792"/>
                </a:lnTo>
                <a:lnTo>
                  <a:pt x="4491" y="5789"/>
                </a:lnTo>
                <a:lnTo>
                  <a:pt x="4487" y="5787"/>
                </a:lnTo>
                <a:lnTo>
                  <a:pt x="4482" y="5785"/>
                </a:lnTo>
                <a:lnTo>
                  <a:pt x="4478" y="5783"/>
                </a:lnTo>
                <a:lnTo>
                  <a:pt x="4457" y="5776"/>
                </a:lnTo>
                <a:lnTo>
                  <a:pt x="4436" y="5771"/>
                </a:lnTo>
                <a:lnTo>
                  <a:pt x="4423" y="5767"/>
                </a:lnTo>
                <a:lnTo>
                  <a:pt x="4413" y="5761"/>
                </a:lnTo>
                <a:lnTo>
                  <a:pt x="4402" y="5754"/>
                </a:lnTo>
                <a:lnTo>
                  <a:pt x="4394" y="5747"/>
                </a:lnTo>
                <a:lnTo>
                  <a:pt x="4377" y="5730"/>
                </a:lnTo>
                <a:lnTo>
                  <a:pt x="4358" y="5710"/>
                </a:lnTo>
                <a:lnTo>
                  <a:pt x="4361" y="5697"/>
                </a:lnTo>
                <a:lnTo>
                  <a:pt x="4393" y="5693"/>
                </a:lnTo>
                <a:lnTo>
                  <a:pt x="4420" y="5690"/>
                </a:lnTo>
                <a:lnTo>
                  <a:pt x="4433" y="5688"/>
                </a:lnTo>
                <a:lnTo>
                  <a:pt x="4446" y="5685"/>
                </a:lnTo>
                <a:lnTo>
                  <a:pt x="4461" y="5681"/>
                </a:lnTo>
                <a:lnTo>
                  <a:pt x="4476" y="5676"/>
                </a:lnTo>
                <a:lnTo>
                  <a:pt x="4483" y="5673"/>
                </a:lnTo>
                <a:lnTo>
                  <a:pt x="4490" y="5669"/>
                </a:lnTo>
                <a:lnTo>
                  <a:pt x="4493" y="5667"/>
                </a:lnTo>
                <a:lnTo>
                  <a:pt x="4496" y="5664"/>
                </a:lnTo>
                <a:lnTo>
                  <a:pt x="4499" y="5663"/>
                </a:lnTo>
                <a:lnTo>
                  <a:pt x="4503" y="5662"/>
                </a:lnTo>
                <a:lnTo>
                  <a:pt x="4508" y="5663"/>
                </a:lnTo>
                <a:lnTo>
                  <a:pt x="4512" y="5664"/>
                </a:lnTo>
                <a:lnTo>
                  <a:pt x="4515" y="5667"/>
                </a:lnTo>
                <a:lnTo>
                  <a:pt x="4518" y="5669"/>
                </a:lnTo>
                <a:lnTo>
                  <a:pt x="4524" y="5675"/>
                </a:lnTo>
                <a:lnTo>
                  <a:pt x="4527" y="5682"/>
                </a:lnTo>
                <a:lnTo>
                  <a:pt x="4531" y="5690"/>
                </a:lnTo>
                <a:lnTo>
                  <a:pt x="4535" y="5698"/>
                </a:lnTo>
                <a:lnTo>
                  <a:pt x="4537" y="5701"/>
                </a:lnTo>
                <a:lnTo>
                  <a:pt x="4540" y="5705"/>
                </a:lnTo>
                <a:lnTo>
                  <a:pt x="4544" y="5708"/>
                </a:lnTo>
                <a:lnTo>
                  <a:pt x="4548" y="5710"/>
                </a:lnTo>
                <a:lnTo>
                  <a:pt x="4570" y="5723"/>
                </a:lnTo>
                <a:lnTo>
                  <a:pt x="4590" y="5732"/>
                </a:lnTo>
                <a:lnTo>
                  <a:pt x="4601" y="5735"/>
                </a:lnTo>
                <a:lnTo>
                  <a:pt x="4611" y="5738"/>
                </a:lnTo>
                <a:lnTo>
                  <a:pt x="4623" y="5740"/>
                </a:lnTo>
                <a:lnTo>
                  <a:pt x="4637" y="5740"/>
                </a:lnTo>
                <a:lnTo>
                  <a:pt x="4646" y="5740"/>
                </a:lnTo>
                <a:lnTo>
                  <a:pt x="4653" y="5739"/>
                </a:lnTo>
                <a:lnTo>
                  <a:pt x="4662" y="5737"/>
                </a:lnTo>
                <a:lnTo>
                  <a:pt x="4670" y="5734"/>
                </a:lnTo>
                <a:lnTo>
                  <a:pt x="4672" y="5732"/>
                </a:lnTo>
                <a:lnTo>
                  <a:pt x="4676" y="5731"/>
                </a:lnTo>
                <a:lnTo>
                  <a:pt x="4677" y="5728"/>
                </a:lnTo>
                <a:lnTo>
                  <a:pt x="4679" y="5726"/>
                </a:lnTo>
                <a:lnTo>
                  <a:pt x="4681" y="5719"/>
                </a:lnTo>
                <a:lnTo>
                  <a:pt x="4683" y="5713"/>
                </a:lnTo>
                <a:lnTo>
                  <a:pt x="4685" y="5707"/>
                </a:lnTo>
                <a:lnTo>
                  <a:pt x="4688" y="5701"/>
                </a:lnTo>
                <a:lnTo>
                  <a:pt x="4689" y="5699"/>
                </a:lnTo>
                <a:lnTo>
                  <a:pt x="4691" y="5698"/>
                </a:lnTo>
                <a:lnTo>
                  <a:pt x="4695" y="5697"/>
                </a:lnTo>
                <a:lnTo>
                  <a:pt x="4698" y="5697"/>
                </a:lnTo>
                <a:lnTo>
                  <a:pt x="4703" y="5697"/>
                </a:lnTo>
                <a:lnTo>
                  <a:pt x="4707" y="5698"/>
                </a:lnTo>
                <a:lnTo>
                  <a:pt x="4713" y="5700"/>
                </a:lnTo>
                <a:lnTo>
                  <a:pt x="4717" y="5701"/>
                </a:lnTo>
                <a:lnTo>
                  <a:pt x="4721" y="5704"/>
                </a:lnTo>
                <a:lnTo>
                  <a:pt x="4725" y="5706"/>
                </a:lnTo>
                <a:lnTo>
                  <a:pt x="4730" y="5707"/>
                </a:lnTo>
                <a:lnTo>
                  <a:pt x="4736" y="5707"/>
                </a:lnTo>
                <a:lnTo>
                  <a:pt x="4745" y="5706"/>
                </a:lnTo>
                <a:lnTo>
                  <a:pt x="4755" y="5704"/>
                </a:lnTo>
                <a:lnTo>
                  <a:pt x="4748" y="5680"/>
                </a:lnTo>
                <a:lnTo>
                  <a:pt x="4743" y="5659"/>
                </a:lnTo>
                <a:lnTo>
                  <a:pt x="4740" y="5649"/>
                </a:lnTo>
                <a:lnTo>
                  <a:pt x="4736" y="5639"/>
                </a:lnTo>
                <a:lnTo>
                  <a:pt x="4730" y="5629"/>
                </a:lnTo>
                <a:lnTo>
                  <a:pt x="4724" y="5619"/>
                </a:lnTo>
                <a:lnTo>
                  <a:pt x="4718" y="5611"/>
                </a:lnTo>
                <a:lnTo>
                  <a:pt x="4710" y="5604"/>
                </a:lnTo>
                <a:lnTo>
                  <a:pt x="4703" y="5600"/>
                </a:lnTo>
                <a:lnTo>
                  <a:pt x="4695" y="5597"/>
                </a:lnTo>
                <a:lnTo>
                  <a:pt x="4677" y="5591"/>
                </a:lnTo>
                <a:lnTo>
                  <a:pt x="4657" y="5584"/>
                </a:lnTo>
                <a:lnTo>
                  <a:pt x="4652" y="5582"/>
                </a:lnTo>
                <a:lnTo>
                  <a:pt x="4649" y="5580"/>
                </a:lnTo>
                <a:lnTo>
                  <a:pt x="4647" y="5576"/>
                </a:lnTo>
                <a:lnTo>
                  <a:pt x="4646" y="5572"/>
                </a:lnTo>
                <a:lnTo>
                  <a:pt x="4644" y="5568"/>
                </a:lnTo>
                <a:lnTo>
                  <a:pt x="4642" y="5564"/>
                </a:lnTo>
                <a:lnTo>
                  <a:pt x="4640" y="5560"/>
                </a:lnTo>
                <a:lnTo>
                  <a:pt x="4637" y="5558"/>
                </a:lnTo>
                <a:lnTo>
                  <a:pt x="4622" y="5550"/>
                </a:lnTo>
                <a:lnTo>
                  <a:pt x="4608" y="5546"/>
                </a:lnTo>
                <a:lnTo>
                  <a:pt x="4602" y="5543"/>
                </a:lnTo>
                <a:lnTo>
                  <a:pt x="4594" y="5540"/>
                </a:lnTo>
                <a:lnTo>
                  <a:pt x="4588" y="5536"/>
                </a:lnTo>
                <a:lnTo>
                  <a:pt x="4582" y="5530"/>
                </a:lnTo>
                <a:lnTo>
                  <a:pt x="4592" y="5517"/>
                </a:lnTo>
                <a:lnTo>
                  <a:pt x="4610" y="5529"/>
                </a:lnTo>
                <a:lnTo>
                  <a:pt x="4626" y="5543"/>
                </a:lnTo>
                <a:lnTo>
                  <a:pt x="4634" y="5548"/>
                </a:lnTo>
                <a:lnTo>
                  <a:pt x="4643" y="5554"/>
                </a:lnTo>
                <a:lnTo>
                  <a:pt x="4647" y="5555"/>
                </a:lnTo>
                <a:lnTo>
                  <a:pt x="4652" y="5557"/>
                </a:lnTo>
                <a:lnTo>
                  <a:pt x="4658" y="5557"/>
                </a:lnTo>
                <a:lnTo>
                  <a:pt x="4663" y="5558"/>
                </a:lnTo>
                <a:lnTo>
                  <a:pt x="4668" y="5557"/>
                </a:lnTo>
                <a:lnTo>
                  <a:pt x="4672" y="5556"/>
                </a:lnTo>
                <a:lnTo>
                  <a:pt x="4677" y="5555"/>
                </a:lnTo>
                <a:lnTo>
                  <a:pt x="4680" y="5553"/>
                </a:lnTo>
                <a:lnTo>
                  <a:pt x="4684" y="5550"/>
                </a:lnTo>
                <a:lnTo>
                  <a:pt x="4688" y="5549"/>
                </a:lnTo>
                <a:lnTo>
                  <a:pt x="4692" y="5547"/>
                </a:lnTo>
                <a:lnTo>
                  <a:pt x="4698" y="5547"/>
                </a:lnTo>
                <a:lnTo>
                  <a:pt x="4707" y="5548"/>
                </a:lnTo>
                <a:lnTo>
                  <a:pt x="4716" y="5550"/>
                </a:lnTo>
                <a:lnTo>
                  <a:pt x="4724" y="5554"/>
                </a:lnTo>
                <a:lnTo>
                  <a:pt x="4730" y="5558"/>
                </a:lnTo>
                <a:lnTo>
                  <a:pt x="4737" y="5563"/>
                </a:lnTo>
                <a:lnTo>
                  <a:pt x="4743" y="5569"/>
                </a:lnTo>
                <a:lnTo>
                  <a:pt x="4748" y="5577"/>
                </a:lnTo>
                <a:lnTo>
                  <a:pt x="4753" y="5585"/>
                </a:lnTo>
                <a:lnTo>
                  <a:pt x="4769" y="5621"/>
                </a:lnTo>
                <a:lnTo>
                  <a:pt x="4785" y="5659"/>
                </a:lnTo>
                <a:lnTo>
                  <a:pt x="4797" y="5655"/>
                </a:lnTo>
                <a:lnTo>
                  <a:pt x="4809" y="5652"/>
                </a:lnTo>
                <a:lnTo>
                  <a:pt x="4814" y="5651"/>
                </a:lnTo>
                <a:lnTo>
                  <a:pt x="4820" y="5649"/>
                </a:lnTo>
                <a:lnTo>
                  <a:pt x="4824" y="5645"/>
                </a:lnTo>
                <a:lnTo>
                  <a:pt x="4830" y="5642"/>
                </a:lnTo>
                <a:lnTo>
                  <a:pt x="4837" y="5635"/>
                </a:lnTo>
                <a:lnTo>
                  <a:pt x="4842" y="5625"/>
                </a:lnTo>
                <a:lnTo>
                  <a:pt x="4848" y="5617"/>
                </a:lnTo>
                <a:lnTo>
                  <a:pt x="4851" y="5608"/>
                </a:lnTo>
                <a:lnTo>
                  <a:pt x="4855" y="5599"/>
                </a:lnTo>
                <a:lnTo>
                  <a:pt x="4859" y="5591"/>
                </a:lnTo>
                <a:lnTo>
                  <a:pt x="4866" y="5582"/>
                </a:lnTo>
                <a:lnTo>
                  <a:pt x="4874" y="5575"/>
                </a:lnTo>
                <a:lnTo>
                  <a:pt x="4892" y="5562"/>
                </a:lnTo>
                <a:lnTo>
                  <a:pt x="4909" y="5550"/>
                </a:lnTo>
                <a:lnTo>
                  <a:pt x="4917" y="5545"/>
                </a:lnTo>
                <a:lnTo>
                  <a:pt x="4924" y="5538"/>
                </a:lnTo>
                <a:lnTo>
                  <a:pt x="4930" y="5530"/>
                </a:lnTo>
                <a:lnTo>
                  <a:pt x="4935" y="5520"/>
                </a:lnTo>
                <a:lnTo>
                  <a:pt x="4940" y="5509"/>
                </a:lnTo>
                <a:lnTo>
                  <a:pt x="4943" y="5500"/>
                </a:lnTo>
                <a:lnTo>
                  <a:pt x="4945" y="5489"/>
                </a:lnTo>
                <a:lnTo>
                  <a:pt x="4946" y="5480"/>
                </a:lnTo>
                <a:lnTo>
                  <a:pt x="4949" y="5461"/>
                </a:lnTo>
                <a:lnTo>
                  <a:pt x="4952" y="5438"/>
                </a:lnTo>
                <a:lnTo>
                  <a:pt x="4953" y="5428"/>
                </a:lnTo>
                <a:lnTo>
                  <a:pt x="4953" y="5417"/>
                </a:lnTo>
                <a:lnTo>
                  <a:pt x="4954" y="5413"/>
                </a:lnTo>
                <a:lnTo>
                  <a:pt x="4954" y="5408"/>
                </a:lnTo>
                <a:lnTo>
                  <a:pt x="4956" y="5403"/>
                </a:lnTo>
                <a:lnTo>
                  <a:pt x="4959" y="5397"/>
                </a:lnTo>
                <a:lnTo>
                  <a:pt x="4962" y="5394"/>
                </a:lnTo>
                <a:lnTo>
                  <a:pt x="4965" y="5392"/>
                </a:lnTo>
                <a:lnTo>
                  <a:pt x="4968" y="5390"/>
                </a:lnTo>
                <a:lnTo>
                  <a:pt x="4972" y="5388"/>
                </a:lnTo>
                <a:lnTo>
                  <a:pt x="4980" y="5386"/>
                </a:lnTo>
                <a:lnTo>
                  <a:pt x="4989" y="5384"/>
                </a:lnTo>
                <a:lnTo>
                  <a:pt x="4997" y="5381"/>
                </a:lnTo>
                <a:lnTo>
                  <a:pt x="5004" y="5379"/>
                </a:lnTo>
                <a:lnTo>
                  <a:pt x="5006" y="5377"/>
                </a:lnTo>
                <a:lnTo>
                  <a:pt x="5008" y="5374"/>
                </a:lnTo>
                <a:lnTo>
                  <a:pt x="5009" y="5371"/>
                </a:lnTo>
                <a:lnTo>
                  <a:pt x="5009" y="5368"/>
                </a:lnTo>
                <a:lnTo>
                  <a:pt x="5009" y="5357"/>
                </a:lnTo>
                <a:lnTo>
                  <a:pt x="5008" y="5348"/>
                </a:lnTo>
                <a:lnTo>
                  <a:pt x="5006" y="5339"/>
                </a:lnTo>
                <a:lnTo>
                  <a:pt x="5003" y="5331"/>
                </a:lnTo>
                <a:lnTo>
                  <a:pt x="4998" y="5315"/>
                </a:lnTo>
                <a:lnTo>
                  <a:pt x="4992" y="5296"/>
                </a:lnTo>
                <a:lnTo>
                  <a:pt x="4991" y="5282"/>
                </a:lnTo>
                <a:lnTo>
                  <a:pt x="4990" y="5270"/>
                </a:lnTo>
                <a:lnTo>
                  <a:pt x="4991" y="5258"/>
                </a:lnTo>
                <a:lnTo>
                  <a:pt x="4991" y="5246"/>
                </a:lnTo>
                <a:lnTo>
                  <a:pt x="4990" y="5235"/>
                </a:lnTo>
                <a:lnTo>
                  <a:pt x="4989" y="5223"/>
                </a:lnTo>
                <a:lnTo>
                  <a:pt x="4987" y="5218"/>
                </a:lnTo>
                <a:lnTo>
                  <a:pt x="4985" y="5212"/>
                </a:lnTo>
                <a:lnTo>
                  <a:pt x="4983" y="5206"/>
                </a:lnTo>
                <a:lnTo>
                  <a:pt x="4980" y="5201"/>
                </a:lnTo>
                <a:lnTo>
                  <a:pt x="4972" y="5192"/>
                </a:lnTo>
                <a:lnTo>
                  <a:pt x="4966" y="5185"/>
                </a:lnTo>
                <a:lnTo>
                  <a:pt x="4959" y="5179"/>
                </a:lnTo>
                <a:lnTo>
                  <a:pt x="4950" y="5172"/>
                </a:lnTo>
                <a:lnTo>
                  <a:pt x="4934" y="5164"/>
                </a:lnTo>
                <a:lnTo>
                  <a:pt x="4917" y="5157"/>
                </a:lnTo>
                <a:lnTo>
                  <a:pt x="4899" y="5149"/>
                </a:lnTo>
                <a:lnTo>
                  <a:pt x="4883" y="5141"/>
                </a:lnTo>
                <a:lnTo>
                  <a:pt x="4874" y="5136"/>
                </a:lnTo>
                <a:lnTo>
                  <a:pt x="4866" y="5130"/>
                </a:lnTo>
                <a:lnTo>
                  <a:pt x="4858" y="5124"/>
                </a:lnTo>
                <a:lnTo>
                  <a:pt x="4850" y="5115"/>
                </a:lnTo>
                <a:lnTo>
                  <a:pt x="4832" y="5094"/>
                </a:lnTo>
                <a:lnTo>
                  <a:pt x="4816" y="5073"/>
                </a:lnTo>
                <a:lnTo>
                  <a:pt x="4802" y="5052"/>
                </a:lnTo>
                <a:lnTo>
                  <a:pt x="4790" y="5032"/>
                </a:lnTo>
                <a:lnTo>
                  <a:pt x="4777" y="5012"/>
                </a:lnTo>
                <a:lnTo>
                  <a:pt x="4763" y="4991"/>
                </a:lnTo>
                <a:lnTo>
                  <a:pt x="4748" y="4969"/>
                </a:lnTo>
                <a:lnTo>
                  <a:pt x="4732" y="4946"/>
                </a:lnTo>
                <a:lnTo>
                  <a:pt x="4735" y="4933"/>
                </a:lnTo>
                <a:lnTo>
                  <a:pt x="4756" y="4931"/>
                </a:lnTo>
                <a:lnTo>
                  <a:pt x="4777" y="4927"/>
                </a:lnTo>
                <a:lnTo>
                  <a:pt x="4788" y="4924"/>
                </a:lnTo>
                <a:lnTo>
                  <a:pt x="4798" y="4922"/>
                </a:lnTo>
                <a:lnTo>
                  <a:pt x="4808" y="4919"/>
                </a:lnTo>
                <a:lnTo>
                  <a:pt x="4817" y="4915"/>
                </a:lnTo>
                <a:lnTo>
                  <a:pt x="4826" y="4910"/>
                </a:lnTo>
                <a:lnTo>
                  <a:pt x="4833" y="4905"/>
                </a:lnTo>
                <a:lnTo>
                  <a:pt x="4840" y="4900"/>
                </a:lnTo>
                <a:lnTo>
                  <a:pt x="4846" y="4894"/>
                </a:lnTo>
                <a:lnTo>
                  <a:pt x="4851" y="4886"/>
                </a:lnTo>
                <a:lnTo>
                  <a:pt x="4854" y="4878"/>
                </a:lnTo>
                <a:lnTo>
                  <a:pt x="4856" y="4868"/>
                </a:lnTo>
                <a:lnTo>
                  <a:pt x="4857" y="4859"/>
                </a:lnTo>
                <a:lnTo>
                  <a:pt x="4857" y="4790"/>
                </a:lnTo>
                <a:lnTo>
                  <a:pt x="4820" y="4790"/>
                </a:lnTo>
                <a:lnTo>
                  <a:pt x="4814" y="4790"/>
                </a:lnTo>
                <a:lnTo>
                  <a:pt x="4809" y="4792"/>
                </a:lnTo>
                <a:lnTo>
                  <a:pt x="4803" y="4794"/>
                </a:lnTo>
                <a:lnTo>
                  <a:pt x="4798" y="4796"/>
                </a:lnTo>
                <a:lnTo>
                  <a:pt x="4793" y="4799"/>
                </a:lnTo>
                <a:lnTo>
                  <a:pt x="4788" y="4802"/>
                </a:lnTo>
                <a:lnTo>
                  <a:pt x="4782" y="4803"/>
                </a:lnTo>
                <a:lnTo>
                  <a:pt x="4776" y="4804"/>
                </a:lnTo>
                <a:lnTo>
                  <a:pt x="4772" y="4803"/>
                </a:lnTo>
                <a:lnTo>
                  <a:pt x="4769" y="4801"/>
                </a:lnTo>
                <a:lnTo>
                  <a:pt x="4766" y="4799"/>
                </a:lnTo>
                <a:lnTo>
                  <a:pt x="4764" y="4795"/>
                </a:lnTo>
                <a:lnTo>
                  <a:pt x="4762" y="4788"/>
                </a:lnTo>
                <a:lnTo>
                  <a:pt x="4762" y="4780"/>
                </a:lnTo>
                <a:lnTo>
                  <a:pt x="4762" y="4772"/>
                </a:lnTo>
                <a:lnTo>
                  <a:pt x="4764" y="4765"/>
                </a:lnTo>
                <a:lnTo>
                  <a:pt x="4766" y="4758"/>
                </a:lnTo>
                <a:lnTo>
                  <a:pt x="4771" y="4752"/>
                </a:lnTo>
                <a:lnTo>
                  <a:pt x="4779" y="4742"/>
                </a:lnTo>
                <a:lnTo>
                  <a:pt x="4789" y="4731"/>
                </a:lnTo>
                <a:lnTo>
                  <a:pt x="4799" y="4721"/>
                </a:lnTo>
                <a:lnTo>
                  <a:pt x="4808" y="4710"/>
                </a:lnTo>
                <a:lnTo>
                  <a:pt x="4811" y="4705"/>
                </a:lnTo>
                <a:lnTo>
                  <a:pt x="4814" y="4697"/>
                </a:lnTo>
                <a:lnTo>
                  <a:pt x="4816" y="4691"/>
                </a:lnTo>
                <a:lnTo>
                  <a:pt x="4816" y="4682"/>
                </a:lnTo>
                <a:lnTo>
                  <a:pt x="4815" y="4678"/>
                </a:lnTo>
                <a:lnTo>
                  <a:pt x="4814" y="4675"/>
                </a:lnTo>
                <a:lnTo>
                  <a:pt x="4811" y="4672"/>
                </a:lnTo>
                <a:lnTo>
                  <a:pt x="4807" y="4669"/>
                </a:lnTo>
                <a:lnTo>
                  <a:pt x="4798" y="4666"/>
                </a:lnTo>
                <a:lnTo>
                  <a:pt x="4789" y="4660"/>
                </a:lnTo>
                <a:lnTo>
                  <a:pt x="4778" y="4655"/>
                </a:lnTo>
                <a:lnTo>
                  <a:pt x="4766" y="4650"/>
                </a:lnTo>
                <a:lnTo>
                  <a:pt x="4756" y="4647"/>
                </a:lnTo>
                <a:lnTo>
                  <a:pt x="4745" y="4643"/>
                </a:lnTo>
                <a:lnTo>
                  <a:pt x="4723" y="4639"/>
                </a:lnTo>
                <a:lnTo>
                  <a:pt x="4698" y="4637"/>
                </a:lnTo>
                <a:lnTo>
                  <a:pt x="4673" y="4635"/>
                </a:lnTo>
                <a:lnTo>
                  <a:pt x="4650" y="4632"/>
                </a:lnTo>
                <a:lnTo>
                  <a:pt x="4641" y="4628"/>
                </a:lnTo>
                <a:lnTo>
                  <a:pt x="4632" y="4623"/>
                </a:lnTo>
                <a:lnTo>
                  <a:pt x="4628" y="4620"/>
                </a:lnTo>
                <a:lnTo>
                  <a:pt x="4625" y="4616"/>
                </a:lnTo>
                <a:lnTo>
                  <a:pt x="4622" y="4612"/>
                </a:lnTo>
                <a:lnTo>
                  <a:pt x="4620" y="4606"/>
                </a:lnTo>
                <a:lnTo>
                  <a:pt x="4614" y="4588"/>
                </a:lnTo>
                <a:lnTo>
                  <a:pt x="4610" y="4572"/>
                </a:lnTo>
                <a:lnTo>
                  <a:pt x="4608" y="4564"/>
                </a:lnTo>
                <a:lnTo>
                  <a:pt x="4604" y="4557"/>
                </a:lnTo>
                <a:lnTo>
                  <a:pt x="4600" y="4550"/>
                </a:lnTo>
                <a:lnTo>
                  <a:pt x="4592" y="4545"/>
                </a:lnTo>
                <a:lnTo>
                  <a:pt x="4531" y="4576"/>
                </a:lnTo>
                <a:lnTo>
                  <a:pt x="4501" y="4563"/>
                </a:lnTo>
                <a:lnTo>
                  <a:pt x="4474" y="4551"/>
                </a:lnTo>
                <a:lnTo>
                  <a:pt x="4461" y="4546"/>
                </a:lnTo>
                <a:lnTo>
                  <a:pt x="4447" y="4542"/>
                </a:lnTo>
                <a:lnTo>
                  <a:pt x="4432" y="4540"/>
                </a:lnTo>
                <a:lnTo>
                  <a:pt x="4416" y="4539"/>
                </a:lnTo>
                <a:lnTo>
                  <a:pt x="4404" y="4539"/>
                </a:lnTo>
                <a:lnTo>
                  <a:pt x="4394" y="4541"/>
                </a:lnTo>
                <a:lnTo>
                  <a:pt x="4384" y="4543"/>
                </a:lnTo>
                <a:lnTo>
                  <a:pt x="4375" y="4545"/>
                </a:lnTo>
                <a:lnTo>
                  <a:pt x="4366" y="4547"/>
                </a:lnTo>
                <a:lnTo>
                  <a:pt x="4356" y="4549"/>
                </a:lnTo>
                <a:lnTo>
                  <a:pt x="4346" y="4551"/>
                </a:lnTo>
                <a:lnTo>
                  <a:pt x="4334" y="4551"/>
                </a:lnTo>
                <a:lnTo>
                  <a:pt x="4323" y="4551"/>
                </a:lnTo>
                <a:lnTo>
                  <a:pt x="4312" y="4551"/>
                </a:lnTo>
                <a:lnTo>
                  <a:pt x="4302" y="4551"/>
                </a:lnTo>
                <a:lnTo>
                  <a:pt x="4290" y="4551"/>
                </a:lnTo>
                <a:lnTo>
                  <a:pt x="4289" y="4577"/>
                </a:lnTo>
                <a:lnTo>
                  <a:pt x="4289" y="4599"/>
                </a:lnTo>
                <a:lnTo>
                  <a:pt x="4289" y="4621"/>
                </a:lnTo>
                <a:lnTo>
                  <a:pt x="4289" y="4647"/>
                </a:lnTo>
                <a:lnTo>
                  <a:pt x="4289" y="4666"/>
                </a:lnTo>
                <a:lnTo>
                  <a:pt x="4291" y="4683"/>
                </a:lnTo>
                <a:lnTo>
                  <a:pt x="4292" y="4692"/>
                </a:lnTo>
                <a:lnTo>
                  <a:pt x="4296" y="4700"/>
                </a:lnTo>
                <a:lnTo>
                  <a:pt x="4301" y="4708"/>
                </a:lnTo>
                <a:lnTo>
                  <a:pt x="4307" y="4715"/>
                </a:lnTo>
                <a:lnTo>
                  <a:pt x="4311" y="4718"/>
                </a:lnTo>
                <a:lnTo>
                  <a:pt x="4317" y="4721"/>
                </a:lnTo>
                <a:lnTo>
                  <a:pt x="4322" y="4724"/>
                </a:lnTo>
                <a:lnTo>
                  <a:pt x="4327" y="4726"/>
                </a:lnTo>
                <a:lnTo>
                  <a:pt x="4332" y="4727"/>
                </a:lnTo>
                <a:lnTo>
                  <a:pt x="4338" y="4729"/>
                </a:lnTo>
                <a:lnTo>
                  <a:pt x="4343" y="4732"/>
                </a:lnTo>
                <a:lnTo>
                  <a:pt x="4347" y="4735"/>
                </a:lnTo>
                <a:lnTo>
                  <a:pt x="4362" y="4750"/>
                </a:lnTo>
                <a:lnTo>
                  <a:pt x="4375" y="4764"/>
                </a:lnTo>
                <a:lnTo>
                  <a:pt x="4382" y="4770"/>
                </a:lnTo>
                <a:lnTo>
                  <a:pt x="4388" y="4777"/>
                </a:lnTo>
                <a:lnTo>
                  <a:pt x="4396" y="4784"/>
                </a:lnTo>
                <a:lnTo>
                  <a:pt x="4405" y="4790"/>
                </a:lnTo>
                <a:lnTo>
                  <a:pt x="4388" y="4824"/>
                </a:lnTo>
                <a:lnTo>
                  <a:pt x="4389" y="4831"/>
                </a:lnTo>
                <a:lnTo>
                  <a:pt x="4392" y="4838"/>
                </a:lnTo>
                <a:lnTo>
                  <a:pt x="4394" y="4844"/>
                </a:lnTo>
                <a:lnTo>
                  <a:pt x="4397" y="4849"/>
                </a:lnTo>
                <a:lnTo>
                  <a:pt x="4405" y="4861"/>
                </a:lnTo>
                <a:lnTo>
                  <a:pt x="4416" y="4871"/>
                </a:lnTo>
                <a:lnTo>
                  <a:pt x="4405" y="4870"/>
                </a:lnTo>
                <a:lnTo>
                  <a:pt x="4396" y="4869"/>
                </a:lnTo>
                <a:lnTo>
                  <a:pt x="4386" y="4868"/>
                </a:lnTo>
                <a:lnTo>
                  <a:pt x="4376" y="4868"/>
                </a:lnTo>
                <a:lnTo>
                  <a:pt x="4370" y="4868"/>
                </a:lnTo>
                <a:lnTo>
                  <a:pt x="4365" y="4869"/>
                </a:lnTo>
                <a:lnTo>
                  <a:pt x="4362" y="4871"/>
                </a:lnTo>
                <a:lnTo>
                  <a:pt x="4358" y="4874"/>
                </a:lnTo>
                <a:lnTo>
                  <a:pt x="4355" y="4877"/>
                </a:lnTo>
                <a:lnTo>
                  <a:pt x="4351" y="4881"/>
                </a:lnTo>
                <a:lnTo>
                  <a:pt x="4349" y="4885"/>
                </a:lnTo>
                <a:lnTo>
                  <a:pt x="4347" y="4889"/>
                </a:lnTo>
                <a:lnTo>
                  <a:pt x="4344" y="4899"/>
                </a:lnTo>
                <a:lnTo>
                  <a:pt x="4342" y="4910"/>
                </a:lnTo>
                <a:lnTo>
                  <a:pt x="4341" y="4921"/>
                </a:lnTo>
                <a:lnTo>
                  <a:pt x="4341" y="4933"/>
                </a:lnTo>
                <a:lnTo>
                  <a:pt x="4342" y="4949"/>
                </a:lnTo>
                <a:lnTo>
                  <a:pt x="4345" y="4962"/>
                </a:lnTo>
                <a:lnTo>
                  <a:pt x="4348" y="4975"/>
                </a:lnTo>
                <a:lnTo>
                  <a:pt x="4349" y="4991"/>
                </a:lnTo>
                <a:lnTo>
                  <a:pt x="4349" y="5193"/>
                </a:lnTo>
                <a:lnTo>
                  <a:pt x="4348" y="5210"/>
                </a:lnTo>
                <a:lnTo>
                  <a:pt x="4346" y="5226"/>
                </a:lnTo>
                <a:lnTo>
                  <a:pt x="4342" y="5241"/>
                </a:lnTo>
                <a:lnTo>
                  <a:pt x="4338" y="5255"/>
                </a:lnTo>
                <a:lnTo>
                  <a:pt x="4334" y="5268"/>
                </a:lnTo>
                <a:lnTo>
                  <a:pt x="4330" y="5283"/>
                </a:lnTo>
                <a:lnTo>
                  <a:pt x="4328" y="5299"/>
                </a:lnTo>
                <a:lnTo>
                  <a:pt x="4327" y="5316"/>
                </a:lnTo>
                <a:lnTo>
                  <a:pt x="4327" y="5324"/>
                </a:lnTo>
                <a:lnTo>
                  <a:pt x="4328" y="5331"/>
                </a:lnTo>
                <a:lnTo>
                  <a:pt x="4329" y="5338"/>
                </a:lnTo>
                <a:lnTo>
                  <a:pt x="4330" y="5344"/>
                </a:lnTo>
                <a:lnTo>
                  <a:pt x="4332" y="5350"/>
                </a:lnTo>
                <a:lnTo>
                  <a:pt x="4336" y="5356"/>
                </a:lnTo>
                <a:lnTo>
                  <a:pt x="4340" y="5361"/>
                </a:lnTo>
                <a:lnTo>
                  <a:pt x="4344" y="5368"/>
                </a:lnTo>
                <a:lnTo>
                  <a:pt x="4344" y="5394"/>
                </a:lnTo>
                <a:lnTo>
                  <a:pt x="4338" y="5398"/>
                </a:lnTo>
                <a:lnTo>
                  <a:pt x="4330" y="5402"/>
                </a:lnTo>
                <a:lnTo>
                  <a:pt x="4324" y="5398"/>
                </a:lnTo>
                <a:lnTo>
                  <a:pt x="4317" y="5394"/>
                </a:lnTo>
                <a:lnTo>
                  <a:pt x="4286" y="5394"/>
                </a:lnTo>
                <a:lnTo>
                  <a:pt x="4286" y="5412"/>
                </a:lnTo>
                <a:lnTo>
                  <a:pt x="4284" y="5428"/>
                </a:lnTo>
                <a:lnTo>
                  <a:pt x="4282" y="5443"/>
                </a:lnTo>
                <a:lnTo>
                  <a:pt x="4279" y="5456"/>
                </a:lnTo>
                <a:lnTo>
                  <a:pt x="4273" y="5470"/>
                </a:lnTo>
                <a:lnTo>
                  <a:pt x="4268" y="5484"/>
                </a:lnTo>
                <a:lnTo>
                  <a:pt x="4261" y="5499"/>
                </a:lnTo>
                <a:lnTo>
                  <a:pt x="4252" y="5513"/>
                </a:lnTo>
                <a:lnTo>
                  <a:pt x="4243" y="5503"/>
                </a:lnTo>
                <a:lnTo>
                  <a:pt x="4234" y="5492"/>
                </a:lnTo>
                <a:lnTo>
                  <a:pt x="4228" y="5482"/>
                </a:lnTo>
                <a:lnTo>
                  <a:pt x="4223" y="5471"/>
                </a:lnTo>
                <a:lnTo>
                  <a:pt x="4216" y="5461"/>
                </a:lnTo>
                <a:lnTo>
                  <a:pt x="4210" y="5450"/>
                </a:lnTo>
                <a:lnTo>
                  <a:pt x="4204" y="5440"/>
                </a:lnTo>
                <a:lnTo>
                  <a:pt x="4194" y="5428"/>
                </a:lnTo>
                <a:lnTo>
                  <a:pt x="4163" y="5396"/>
                </a:lnTo>
                <a:lnTo>
                  <a:pt x="4134" y="5369"/>
                </a:lnTo>
                <a:lnTo>
                  <a:pt x="4121" y="5354"/>
                </a:lnTo>
                <a:lnTo>
                  <a:pt x="4109" y="5338"/>
                </a:lnTo>
                <a:lnTo>
                  <a:pt x="4103" y="5330"/>
                </a:lnTo>
                <a:lnTo>
                  <a:pt x="4098" y="5320"/>
                </a:lnTo>
                <a:lnTo>
                  <a:pt x="4094" y="5310"/>
                </a:lnTo>
                <a:lnTo>
                  <a:pt x="4090" y="5299"/>
                </a:lnTo>
                <a:lnTo>
                  <a:pt x="4086" y="5287"/>
                </a:lnTo>
                <a:lnTo>
                  <a:pt x="4084" y="5277"/>
                </a:lnTo>
                <a:lnTo>
                  <a:pt x="4084" y="5266"/>
                </a:lnTo>
                <a:lnTo>
                  <a:pt x="4084" y="5256"/>
                </a:lnTo>
                <a:lnTo>
                  <a:pt x="4084" y="5245"/>
                </a:lnTo>
                <a:lnTo>
                  <a:pt x="4085" y="5235"/>
                </a:lnTo>
                <a:lnTo>
                  <a:pt x="4084" y="5223"/>
                </a:lnTo>
                <a:lnTo>
                  <a:pt x="4082" y="5211"/>
                </a:lnTo>
                <a:lnTo>
                  <a:pt x="4079" y="5199"/>
                </a:lnTo>
                <a:lnTo>
                  <a:pt x="4075" y="5187"/>
                </a:lnTo>
                <a:lnTo>
                  <a:pt x="4069" y="5177"/>
                </a:lnTo>
                <a:lnTo>
                  <a:pt x="4064" y="5167"/>
                </a:lnTo>
                <a:lnTo>
                  <a:pt x="4060" y="5158"/>
                </a:lnTo>
                <a:lnTo>
                  <a:pt x="4056" y="5147"/>
                </a:lnTo>
                <a:lnTo>
                  <a:pt x="4053" y="5135"/>
                </a:lnTo>
                <a:lnTo>
                  <a:pt x="4051" y="5123"/>
                </a:lnTo>
                <a:lnTo>
                  <a:pt x="4053" y="5116"/>
                </a:lnTo>
                <a:lnTo>
                  <a:pt x="4056" y="5112"/>
                </a:lnTo>
                <a:lnTo>
                  <a:pt x="4059" y="5107"/>
                </a:lnTo>
                <a:lnTo>
                  <a:pt x="4062" y="5103"/>
                </a:lnTo>
                <a:lnTo>
                  <a:pt x="4076" y="5109"/>
                </a:lnTo>
                <a:lnTo>
                  <a:pt x="4103" y="5109"/>
                </a:lnTo>
                <a:lnTo>
                  <a:pt x="4103" y="5074"/>
                </a:lnTo>
                <a:lnTo>
                  <a:pt x="4102" y="5068"/>
                </a:lnTo>
                <a:lnTo>
                  <a:pt x="4099" y="5063"/>
                </a:lnTo>
                <a:lnTo>
                  <a:pt x="4095" y="5057"/>
                </a:lnTo>
                <a:lnTo>
                  <a:pt x="4091" y="5054"/>
                </a:lnTo>
                <a:lnTo>
                  <a:pt x="4085" y="5050"/>
                </a:lnTo>
                <a:lnTo>
                  <a:pt x="4080" y="5046"/>
                </a:lnTo>
                <a:lnTo>
                  <a:pt x="4076" y="5040"/>
                </a:lnTo>
                <a:lnTo>
                  <a:pt x="4073" y="5034"/>
                </a:lnTo>
                <a:lnTo>
                  <a:pt x="4069" y="5025"/>
                </a:lnTo>
                <a:lnTo>
                  <a:pt x="4068" y="5015"/>
                </a:lnTo>
                <a:lnTo>
                  <a:pt x="4068" y="5006"/>
                </a:lnTo>
                <a:lnTo>
                  <a:pt x="4068" y="4997"/>
                </a:lnTo>
                <a:lnTo>
                  <a:pt x="4068" y="4988"/>
                </a:lnTo>
                <a:lnTo>
                  <a:pt x="4067" y="4978"/>
                </a:lnTo>
                <a:lnTo>
                  <a:pt x="4065" y="4969"/>
                </a:lnTo>
                <a:lnTo>
                  <a:pt x="4062" y="4960"/>
                </a:lnTo>
                <a:lnTo>
                  <a:pt x="4058" y="4953"/>
                </a:lnTo>
                <a:lnTo>
                  <a:pt x="4054" y="4947"/>
                </a:lnTo>
                <a:lnTo>
                  <a:pt x="4049" y="4942"/>
                </a:lnTo>
                <a:lnTo>
                  <a:pt x="4044" y="4938"/>
                </a:lnTo>
                <a:lnTo>
                  <a:pt x="4034" y="4931"/>
                </a:lnTo>
                <a:lnTo>
                  <a:pt x="4022" y="4924"/>
                </a:lnTo>
                <a:lnTo>
                  <a:pt x="4009" y="4919"/>
                </a:lnTo>
                <a:lnTo>
                  <a:pt x="3997" y="4914"/>
                </a:lnTo>
                <a:lnTo>
                  <a:pt x="3983" y="4907"/>
                </a:lnTo>
                <a:lnTo>
                  <a:pt x="3970" y="4899"/>
                </a:lnTo>
                <a:lnTo>
                  <a:pt x="3963" y="4893"/>
                </a:lnTo>
                <a:lnTo>
                  <a:pt x="3956" y="4886"/>
                </a:lnTo>
                <a:lnTo>
                  <a:pt x="3950" y="4880"/>
                </a:lnTo>
                <a:lnTo>
                  <a:pt x="3945" y="4874"/>
                </a:lnTo>
                <a:lnTo>
                  <a:pt x="3935" y="4860"/>
                </a:lnTo>
                <a:lnTo>
                  <a:pt x="3926" y="4847"/>
                </a:lnTo>
                <a:lnTo>
                  <a:pt x="3917" y="4832"/>
                </a:lnTo>
                <a:lnTo>
                  <a:pt x="3909" y="4819"/>
                </a:lnTo>
                <a:lnTo>
                  <a:pt x="3898" y="4804"/>
                </a:lnTo>
                <a:lnTo>
                  <a:pt x="3886" y="4790"/>
                </a:lnTo>
                <a:lnTo>
                  <a:pt x="3876" y="4802"/>
                </a:lnTo>
                <a:lnTo>
                  <a:pt x="3869" y="4813"/>
                </a:lnTo>
                <a:lnTo>
                  <a:pt x="3862" y="4825"/>
                </a:lnTo>
                <a:lnTo>
                  <a:pt x="3858" y="4838"/>
                </a:lnTo>
                <a:lnTo>
                  <a:pt x="3855" y="4850"/>
                </a:lnTo>
                <a:lnTo>
                  <a:pt x="3853" y="4864"/>
                </a:lnTo>
                <a:lnTo>
                  <a:pt x="3852" y="4878"/>
                </a:lnTo>
                <a:lnTo>
                  <a:pt x="3852" y="4894"/>
                </a:lnTo>
                <a:lnTo>
                  <a:pt x="3854" y="4905"/>
                </a:lnTo>
                <a:lnTo>
                  <a:pt x="3856" y="4916"/>
                </a:lnTo>
                <a:lnTo>
                  <a:pt x="3856" y="5059"/>
                </a:lnTo>
                <a:lnTo>
                  <a:pt x="3856" y="5076"/>
                </a:lnTo>
                <a:lnTo>
                  <a:pt x="3855" y="5091"/>
                </a:lnTo>
                <a:lnTo>
                  <a:pt x="3854" y="5106"/>
                </a:lnTo>
                <a:lnTo>
                  <a:pt x="3852" y="5123"/>
                </a:lnTo>
                <a:lnTo>
                  <a:pt x="3850" y="5132"/>
                </a:lnTo>
                <a:lnTo>
                  <a:pt x="3848" y="5141"/>
                </a:lnTo>
                <a:lnTo>
                  <a:pt x="3846" y="5150"/>
                </a:lnTo>
                <a:lnTo>
                  <a:pt x="3842" y="5159"/>
                </a:lnTo>
                <a:lnTo>
                  <a:pt x="3838" y="5166"/>
                </a:lnTo>
                <a:lnTo>
                  <a:pt x="3833" y="5171"/>
                </a:lnTo>
                <a:lnTo>
                  <a:pt x="3830" y="5174"/>
                </a:lnTo>
                <a:lnTo>
                  <a:pt x="3826" y="5176"/>
                </a:lnTo>
                <a:lnTo>
                  <a:pt x="3822" y="5177"/>
                </a:lnTo>
                <a:lnTo>
                  <a:pt x="3817" y="5177"/>
                </a:lnTo>
                <a:lnTo>
                  <a:pt x="3805" y="5174"/>
                </a:lnTo>
                <a:lnTo>
                  <a:pt x="3794" y="5170"/>
                </a:lnTo>
                <a:lnTo>
                  <a:pt x="3794" y="5159"/>
                </a:lnTo>
                <a:lnTo>
                  <a:pt x="3793" y="5147"/>
                </a:lnTo>
                <a:lnTo>
                  <a:pt x="3792" y="5135"/>
                </a:lnTo>
                <a:lnTo>
                  <a:pt x="3790" y="5125"/>
                </a:lnTo>
                <a:lnTo>
                  <a:pt x="3784" y="5106"/>
                </a:lnTo>
                <a:lnTo>
                  <a:pt x="3779" y="5087"/>
                </a:lnTo>
                <a:lnTo>
                  <a:pt x="3773" y="5068"/>
                </a:lnTo>
                <a:lnTo>
                  <a:pt x="3765" y="5048"/>
                </a:lnTo>
                <a:lnTo>
                  <a:pt x="3759" y="5027"/>
                </a:lnTo>
                <a:lnTo>
                  <a:pt x="3753" y="5003"/>
                </a:lnTo>
                <a:lnTo>
                  <a:pt x="3747" y="4973"/>
                </a:lnTo>
                <a:lnTo>
                  <a:pt x="3744" y="4944"/>
                </a:lnTo>
                <a:lnTo>
                  <a:pt x="3741" y="4932"/>
                </a:lnTo>
                <a:lnTo>
                  <a:pt x="3737" y="4918"/>
                </a:lnTo>
                <a:lnTo>
                  <a:pt x="3730" y="4905"/>
                </a:lnTo>
                <a:lnTo>
                  <a:pt x="3722" y="4891"/>
                </a:lnTo>
                <a:lnTo>
                  <a:pt x="3716" y="4884"/>
                </a:lnTo>
                <a:lnTo>
                  <a:pt x="3707" y="4878"/>
                </a:lnTo>
                <a:lnTo>
                  <a:pt x="3699" y="4872"/>
                </a:lnTo>
                <a:lnTo>
                  <a:pt x="3690" y="4867"/>
                </a:lnTo>
                <a:lnTo>
                  <a:pt x="3683" y="4861"/>
                </a:lnTo>
                <a:lnTo>
                  <a:pt x="3677" y="4855"/>
                </a:lnTo>
                <a:lnTo>
                  <a:pt x="3674" y="4851"/>
                </a:lnTo>
                <a:lnTo>
                  <a:pt x="3673" y="4847"/>
                </a:lnTo>
                <a:lnTo>
                  <a:pt x="3671" y="4843"/>
                </a:lnTo>
                <a:lnTo>
                  <a:pt x="3671" y="4838"/>
                </a:lnTo>
                <a:lnTo>
                  <a:pt x="3672" y="4833"/>
                </a:lnTo>
                <a:lnTo>
                  <a:pt x="3673" y="4830"/>
                </a:lnTo>
                <a:lnTo>
                  <a:pt x="3676" y="4828"/>
                </a:lnTo>
                <a:lnTo>
                  <a:pt x="3679" y="4825"/>
                </a:lnTo>
                <a:lnTo>
                  <a:pt x="3684" y="4820"/>
                </a:lnTo>
                <a:lnTo>
                  <a:pt x="3688" y="4813"/>
                </a:lnTo>
                <a:lnTo>
                  <a:pt x="3691" y="4805"/>
                </a:lnTo>
                <a:lnTo>
                  <a:pt x="3692" y="4796"/>
                </a:lnTo>
                <a:lnTo>
                  <a:pt x="3694" y="4788"/>
                </a:lnTo>
                <a:lnTo>
                  <a:pt x="3695" y="4780"/>
                </a:lnTo>
                <a:lnTo>
                  <a:pt x="3695" y="4772"/>
                </a:lnTo>
                <a:lnTo>
                  <a:pt x="3696" y="4764"/>
                </a:lnTo>
                <a:lnTo>
                  <a:pt x="3697" y="4754"/>
                </a:lnTo>
                <a:lnTo>
                  <a:pt x="3699" y="4746"/>
                </a:lnTo>
                <a:lnTo>
                  <a:pt x="3688" y="4750"/>
                </a:lnTo>
                <a:lnTo>
                  <a:pt x="3678" y="4753"/>
                </a:lnTo>
                <a:lnTo>
                  <a:pt x="3668" y="4755"/>
                </a:lnTo>
                <a:lnTo>
                  <a:pt x="3657" y="4755"/>
                </a:lnTo>
                <a:lnTo>
                  <a:pt x="3645" y="4755"/>
                </a:lnTo>
                <a:lnTo>
                  <a:pt x="3635" y="4752"/>
                </a:lnTo>
                <a:lnTo>
                  <a:pt x="3626" y="4748"/>
                </a:lnTo>
                <a:lnTo>
                  <a:pt x="3617" y="4743"/>
                </a:lnTo>
                <a:lnTo>
                  <a:pt x="3609" y="4751"/>
                </a:lnTo>
                <a:lnTo>
                  <a:pt x="3602" y="4759"/>
                </a:lnTo>
                <a:lnTo>
                  <a:pt x="3598" y="4764"/>
                </a:lnTo>
                <a:lnTo>
                  <a:pt x="3594" y="4767"/>
                </a:lnTo>
                <a:lnTo>
                  <a:pt x="3589" y="4769"/>
                </a:lnTo>
                <a:lnTo>
                  <a:pt x="3583" y="4769"/>
                </a:lnTo>
                <a:lnTo>
                  <a:pt x="3577" y="4769"/>
                </a:lnTo>
                <a:lnTo>
                  <a:pt x="3571" y="4767"/>
                </a:lnTo>
                <a:lnTo>
                  <a:pt x="3567" y="4764"/>
                </a:lnTo>
                <a:lnTo>
                  <a:pt x="3562" y="4761"/>
                </a:lnTo>
                <a:lnTo>
                  <a:pt x="3553" y="4752"/>
                </a:lnTo>
                <a:lnTo>
                  <a:pt x="3542" y="4746"/>
                </a:lnTo>
                <a:lnTo>
                  <a:pt x="3536" y="4743"/>
                </a:lnTo>
                <a:lnTo>
                  <a:pt x="3529" y="4742"/>
                </a:lnTo>
                <a:lnTo>
                  <a:pt x="3522" y="4740"/>
                </a:lnTo>
                <a:lnTo>
                  <a:pt x="3516" y="4740"/>
                </a:lnTo>
                <a:lnTo>
                  <a:pt x="3510" y="4738"/>
                </a:lnTo>
                <a:lnTo>
                  <a:pt x="3503" y="4737"/>
                </a:lnTo>
                <a:lnTo>
                  <a:pt x="3499" y="4734"/>
                </a:lnTo>
                <a:lnTo>
                  <a:pt x="3495" y="4729"/>
                </a:lnTo>
                <a:lnTo>
                  <a:pt x="3491" y="4720"/>
                </a:lnTo>
                <a:lnTo>
                  <a:pt x="3487" y="4713"/>
                </a:lnTo>
                <a:lnTo>
                  <a:pt x="3483" y="4706"/>
                </a:lnTo>
                <a:lnTo>
                  <a:pt x="3481" y="4698"/>
                </a:lnTo>
                <a:lnTo>
                  <a:pt x="3480" y="4690"/>
                </a:lnTo>
                <a:lnTo>
                  <a:pt x="3479" y="4682"/>
                </a:lnTo>
                <a:lnTo>
                  <a:pt x="3478" y="4673"/>
                </a:lnTo>
                <a:lnTo>
                  <a:pt x="3478" y="4664"/>
                </a:lnTo>
                <a:lnTo>
                  <a:pt x="3479" y="4659"/>
                </a:lnTo>
                <a:lnTo>
                  <a:pt x="3481" y="4655"/>
                </a:lnTo>
                <a:lnTo>
                  <a:pt x="3484" y="4651"/>
                </a:lnTo>
                <a:lnTo>
                  <a:pt x="3488" y="4648"/>
                </a:lnTo>
                <a:lnTo>
                  <a:pt x="3492" y="4643"/>
                </a:lnTo>
                <a:lnTo>
                  <a:pt x="3495" y="4640"/>
                </a:lnTo>
                <a:lnTo>
                  <a:pt x="3497" y="4635"/>
                </a:lnTo>
                <a:lnTo>
                  <a:pt x="3498" y="4630"/>
                </a:lnTo>
                <a:lnTo>
                  <a:pt x="3498" y="4626"/>
                </a:lnTo>
                <a:lnTo>
                  <a:pt x="3496" y="4623"/>
                </a:lnTo>
                <a:lnTo>
                  <a:pt x="3494" y="4620"/>
                </a:lnTo>
                <a:lnTo>
                  <a:pt x="3492" y="4618"/>
                </a:lnTo>
                <a:lnTo>
                  <a:pt x="3485" y="4614"/>
                </a:lnTo>
                <a:lnTo>
                  <a:pt x="3478" y="4610"/>
                </a:lnTo>
                <a:lnTo>
                  <a:pt x="3471" y="4606"/>
                </a:lnTo>
                <a:lnTo>
                  <a:pt x="3463" y="4602"/>
                </a:lnTo>
                <a:lnTo>
                  <a:pt x="3461" y="4599"/>
                </a:lnTo>
                <a:lnTo>
                  <a:pt x="3459" y="4597"/>
                </a:lnTo>
                <a:lnTo>
                  <a:pt x="3458" y="4594"/>
                </a:lnTo>
                <a:lnTo>
                  <a:pt x="3457" y="4589"/>
                </a:lnTo>
                <a:lnTo>
                  <a:pt x="3458" y="4584"/>
                </a:lnTo>
                <a:lnTo>
                  <a:pt x="3459" y="4581"/>
                </a:lnTo>
                <a:lnTo>
                  <a:pt x="3461" y="4577"/>
                </a:lnTo>
                <a:lnTo>
                  <a:pt x="3463" y="4574"/>
                </a:lnTo>
                <a:lnTo>
                  <a:pt x="3470" y="4568"/>
                </a:lnTo>
                <a:lnTo>
                  <a:pt x="3477" y="4564"/>
                </a:lnTo>
                <a:lnTo>
                  <a:pt x="3496" y="4558"/>
                </a:lnTo>
                <a:lnTo>
                  <a:pt x="3515" y="4551"/>
                </a:lnTo>
                <a:lnTo>
                  <a:pt x="3528" y="4546"/>
                </a:lnTo>
                <a:lnTo>
                  <a:pt x="3538" y="4541"/>
                </a:lnTo>
                <a:lnTo>
                  <a:pt x="3550" y="4536"/>
                </a:lnTo>
                <a:lnTo>
                  <a:pt x="3563" y="4531"/>
                </a:lnTo>
                <a:lnTo>
                  <a:pt x="3560" y="4523"/>
                </a:lnTo>
                <a:lnTo>
                  <a:pt x="3558" y="4517"/>
                </a:lnTo>
                <a:lnTo>
                  <a:pt x="3554" y="4510"/>
                </a:lnTo>
                <a:lnTo>
                  <a:pt x="3549" y="4505"/>
                </a:lnTo>
                <a:lnTo>
                  <a:pt x="3544" y="4501"/>
                </a:lnTo>
                <a:lnTo>
                  <a:pt x="3537" y="4497"/>
                </a:lnTo>
                <a:lnTo>
                  <a:pt x="3531" y="4493"/>
                </a:lnTo>
                <a:lnTo>
                  <a:pt x="3523" y="4490"/>
                </a:lnTo>
                <a:lnTo>
                  <a:pt x="3509" y="4484"/>
                </a:lnTo>
                <a:lnTo>
                  <a:pt x="3494" y="4478"/>
                </a:lnTo>
                <a:lnTo>
                  <a:pt x="3487" y="4473"/>
                </a:lnTo>
                <a:lnTo>
                  <a:pt x="3480" y="4468"/>
                </a:lnTo>
                <a:lnTo>
                  <a:pt x="3474" y="4463"/>
                </a:lnTo>
                <a:lnTo>
                  <a:pt x="3468" y="4456"/>
                </a:lnTo>
                <a:lnTo>
                  <a:pt x="3462" y="4449"/>
                </a:lnTo>
                <a:lnTo>
                  <a:pt x="3459" y="4441"/>
                </a:lnTo>
                <a:lnTo>
                  <a:pt x="3457" y="4431"/>
                </a:lnTo>
                <a:lnTo>
                  <a:pt x="3457" y="4423"/>
                </a:lnTo>
                <a:lnTo>
                  <a:pt x="3456" y="4414"/>
                </a:lnTo>
                <a:lnTo>
                  <a:pt x="3456" y="4405"/>
                </a:lnTo>
                <a:lnTo>
                  <a:pt x="3454" y="4395"/>
                </a:lnTo>
                <a:lnTo>
                  <a:pt x="3451" y="4386"/>
                </a:lnTo>
                <a:lnTo>
                  <a:pt x="3447" y="4380"/>
                </a:lnTo>
                <a:lnTo>
                  <a:pt x="3444" y="4375"/>
                </a:lnTo>
                <a:lnTo>
                  <a:pt x="3441" y="4371"/>
                </a:lnTo>
                <a:lnTo>
                  <a:pt x="3436" y="4368"/>
                </a:lnTo>
                <a:lnTo>
                  <a:pt x="3427" y="4360"/>
                </a:lnTo>
                <a:lnTo>
                  <a:pt x="3417" y="4354"/>
                </a:lnTo>
                <a:lnTo>
                  <a:pt x="3408" y="4348"/>
                </a:lnTo>
                <a:lnTo>
                  <a:pt x="3401" y="4340"/>
                </a:lnTo>
                <a:lnTo>
                  <a:pt x="3398" y="4337"/>
                </a:lnTo>
                <a:lnTo>
                  <a:pt x="3395" y="4332"/>
                </a:lnTo>
                <a:lnTo>
                  <a:pt x="3394" y="4327"/>
                </a:lnTo>
                <a:lnTo>
                  <a:pt x="3393" y="4321"/>
                </a:lnTo>
                <a:lnTo>
                  <a:pt x="3393" y="4302"/>
                </a:lnTo>
                <a:lnTo>
                  <a:pt x="3390" y="4282"/>
                </a:lnTo>
                <a:lnTo>
                  <a:pt x="3389" y="4263"/>
                </a:lnTo>
                <a:lnTo>
                  <a:pt x="3386" y="4244"/>
                </a:lnTo>
                <a:lnTo>
                  <a:pt x="3383" y="4225"/>
                </a:lnTo>
                <a:lnTo>
                  <a:pt x="3380" y="4206"/>
                </a:lnTo>
                <a:lnTo>
                  <a:pt x="3375" y="4189"/>
                </a:lnTo>
                <a:lnTo>
                  <a:pt x="3368" y="4172"/>
                </a:lnTo>
                <a:lnTo>
                  <a:pt x="3361" y="4157"/>
                </a:lnTo>
                <a:lnTo>
                  <a:pt x="3352" y="4142"/>
                </a:lnTo>
                <a:lnTo>
                  <a:pt x="3348" y="4135"/>
                </a:lnTo>
                <a:lnTo>
                  <a:pt x="3343" y="4129"/>
                </a:lnTo>
                <a:lnTo>
                  <a:pt x="3338" y="4124"/>
                </a:lnTo>
                <a:lnTo>
                  <a:pt x="3332" y="4117"/>
                </a:lnTo>
                <a:lnTo>
                  <a:pt x="3326" y="4113"/>
                </a:lnTo>
                <a:lnTo>
                  <a:pt x="3319" y="4109"/>
                </a:lnTo>
                <a:lnTo>
                  <a:pt x="3312" y="4105"/>
                </a:lnTo>
                <a:lnTo>
                  <a:pt x="3305" y="4102"/>
                </a:lnTo>
                <a:lnTo>
                  <a:pt x="3296" y="4098"/>
                </a:lnTo>
                <a:lnTo>
                  <a:pt x="3289" y="4096"/>
                </a:lnTo>
                <a:lnTo>
                  <a:pt x="3280" y="4094"/>
                </a:lnTo>
                <a:lnTo>
                  <a:pt x="3271" y="4093"/>
                </a:lnTo>
                <a:lnTo>
                  <a:pt x="3268" y="4083"/>
                </a:lnTo>
                <a:lnTo>
                  <a:pt x="3265" y="4073"/>
                </a:lnTo>
                <a:lnTo>
                  <a:pt x="3261" y="4064"/>
                </a:lnTo>
                <a:lnTo>
                  <a:pt x="3254" y="4055"/>
                </a:lnTo>
                <a:lnTo>
                  <a:pt x="3248" y="4049"/>
                </a:lnTo>
                <a:lnTo>
                  <a:pt x="3239" y="4044"/>
                </a:lnTo>
                <a:lnTo>
                  <a:pt x="3235" y="4041"/>
                </a:lnTo>
                <a:lnTo>
                  <a:pt x="3230" y="4040"/>
                </a:lnTo>
                <a:lnTo>
                  <a:pt x="3225" y="4039"/>
                </a:lnTo>
                <a:lnTo>
                  <a:pt x="3219" y="4039"/>
                </a:lnTo>
                <a:lnTo>
                  <a:pt x="3210" y="4040"/>
                </a:lnTo>
                <a:lnTo>
                  <a:pt x="3200" y="4043"/>
                </a:lnTo>
                <a:lnTo>
                  <a:pt x="3192" y="4045"/>
                </a:lnTo>
                <a:lnTo>
                  <a:pt x="3181" y="4046"/>
                </a:lnTo>
                <a:lnTo>
                  <a:pt x="3173" y="4045"/>
                </a:lnTo>
                <a:lnTo>
                  <a:pt x="3166" y="4043"/>
                </a:lnTo>
                <a:lnTo>
                  <a:pt x="3170" y="4031"/>
                </a:lnTo>
                <a:lnTo>
                  <a:pt x="3174" y="4020"/>
                </a:lnTo>
                <a:lnTo>
                  <a:pt x="3176" y="4016"/>
                </a:lnTo>
                <a:lnTo>
                  <a:pt x="3177" y="4011"/>
                </a:lnTo>
                <a:lnTo>
                  <a:pt x="3178" y="4005"/>
                </a:lnTo>
                <a:lnTo>
                  <a:pt x="3179" y="3998"/>
                </a:lnTo>
                <a:lnTo>
                  <a:pt x="3176" y="3991"/>
                </a:lnTo>
                <a:lnTo>
                  <a:pt x="3172" y="3984"/>
                </a:lnTo>
                <a:lnTo>
                  <a:pt x="3157" y="3990"/>
                </a:lnTo>
                <a:lnTo>
                  <a:pt x="3142" y="3993"/>
                </a:lnTo>
                <a:lnTo>
                  <a:pt x="3127" y="3994"/>
                </a:lnTo>
                <a:lnTo>
                  <a:pt x="3111" y="3995"/>
                </a:lnTo>
                <a:lnTo>
                  <a:pt x="3111" y="4021"/>
                </a:lnTo>
                <a:lnTo>
                  <a:pt x="3111" y="4030"/>
                </a:lnTo>
                <a:lnTo>
                  <a:pt x="3108" y="4036"/>
                </a:lnTo>
                <a:lnTo>
                  <a:pt x="3104" y="4044"/>
                </a:lnTo>
                <a:lnTo>
                  <a:pt x="3100" y="4049"/>
                </a:lnTo>
                <a:lnTo>
                  <a:pt x="3089" y="4059"/>
                </a:lnTo>
                <a:lnTo>
                  <a:pt x="3077" y="4069"/>
                </a:lnTo>
                <a:lnTo>
                  <a:pt x="3064" y="4078"/>
                </a:lnTo>
                <a:lnTo>
                  <a:pt x="3054" y="4089"/>
                </a:lnTo>
                <a:lnTo>
                  <a:pt x="3049" y="4095"/>
                </a:lnTo>
                <a:lnTo>
                  <a:pt x="3046" y="4102"/>
                </a:lnTo>
                <a:lnTo>
                  <a:pt x="3044" y="4109"/>
                </a:lnTo>
                <a:lnTo>
                  <a:pt x="3043" y="4117"/>
                </a:lnTo>
                <a:lnTo>
                  <a:pt x="3044" y="4123"/>
                </a:lnTo>
                <a:lnTo>
                  <a:pt x="3045" y="4127"/>
                </a:lnTo>
                <a:lnTo>
                  <a:pt x="3047" y="4131"/>
                </a:lnTo>
                <a:lnTo>
                  <a:pt x="3051" y="4135"/>
                </a:lnTo>
                <a:lnTo>
                  <a:pt x="3059" y="4142"/>
                </a:lnTo>
                <a:lnTo>
                  <a:pt x="3068" y="4148"/>
                </a:lnTo>
                <a:lnTo>
                  <a:pt x="3078" y="4153"/>
                </a:lnTo>
                <a:lnTo>
                  <a:pt x="3086" y="4160"/>
                </a:lnTo>
                <a:lnTo>
                  <a:pt x="3089" y="4164"/>
                </a:lnTo>
                <a:lnTo>
                  <a:pt x="3092" y="4168"/>
                </a:lnTo>
                <a:lnTo>
                  <a:pt x="3094" y="4173"/>
                </a:lnTo>
                <a:lnTo>
                  <a:pt x="3094" y="4179"/>
                </a:lnTo>
                <a:lnTo>
                  <a:pt x="3092" y="4189"/>
                </a:lnTo>
                <a:lnTo>
                  <a:pt x="3087" y="4199"/>
                </a:lnTo>
                <a:lnTo>
                  <a:pt x="3077" y="4192"/>
                </a:lnTo>
                <a:lnTo>
                  <a:pt x="3067" y="4185"/>
                </a:lnTo>
                <a:lnTo>
                  <a:pt x="3063" y="4183"/>
                </a:lnTo>
                <a:lnTo>
                  <a:pt x="3058" y="4181"/>
                </a:lnTo>
                <a:lnTo>
                  <a:pt x="3053" y="4179"/>
                </a:lnTo>
                <a:lnTo>
                  <a:pt x="3046" y="4179"/>
                </a:lnTo>
                <a:lnTo>
                  <a:pt x="3042" y="4179"/>
                </a:lnTo>
                <a:lnTo>
                  <a:pt x="3038" y="4180"/>
                </a:lnTo>
                <a:lnTo>
                  <a:pt x="3035" y="4181"/>
                </a:lnTo>
                <a:lnTo>
                  <a:pt x="3030" y="4183"/>
                </a:lnTo>
                <a:lnTo>
                  <a:pt x="3024" y="4187"/>
                </a:lnTo>
                <a:lnTo>
                  <a:pt x="3019" y="4194"/>
                </a:lnTo>
                <a:lnTo>
                  <a:pt x="3014" y="4201"/>
                </a:lnTo>
                <a:lnTo>
                  <a:pt x="3011" y="4209"/>
                </a:lnTo>
                <a:lnTo>
                  <a:pt x="3009" y="4218"/>
                </a:lnTo>
                <a:lnTo>
                  <a:pt x="3009" y="4226"/>
                </a:lnTo>
                <a:lnTo>
                  <a:pt x="3009" y="4296"/>
                </a:lnTo>
                <a:lnTo>
                  <a:pt x="3009" y="4310"/>
                </a:lnTo>
                <a:lnTo>
                  <a:pt x="3010" y="4322"/>
                </a:lnTo>
                <a:lnTo>
                  <a:pt x="3011" y="4335"/>
                </a:lnTo>
                <a:lnTo>
                  <a:pt x="3012" y="4346"/>
                </a:lnTo>
                <a:lnTo>
                  <a:pt x="3016" y="4357"/>
                </a:lnTo>
                <a:lnTo>
                  <a:pt x="3019" y="4369"/>
                </a:lnTo>
                <a:lnTo>
                  <a:pt x="3024" y="4380"/>
                </a:lnTo>
                <a:lnTo>
                  <a:pt x="3029" y="4392"/>
                </a:lnTo>
                <a:lnTo>
                  <a:pt x="3032" y="4397"/>
                </a:lnTo>
                <a:lnTo>
                  <a:pt x="3036" y="4402"/>
                </a:lnTo>
                <a:lnTo>
                  <a:pt x="3040" y="4405"/>
                </a:lnTo>
                <a:lnTo>
                  <a:pt x="3044" y="4409"/>
                </a:lnTo>
                <a:lnTo>
                  <a:pt x="3047" y="4412"/>
                </a:lnTo>
                <a:lnTo>
                  <a:pt x="3050" y="4416"/>
                </a:lnTo>
                <a:lnTo>
                  <a:pt x="3053" y="4421"/>
                </a:lnTo>
                <a:lnTo>
                  <a:pt x="3054" y="4426"/>
                </a:lnTo>
                <a:lnTo>
                  <a:pt x="3053" y="4435"/>
                </a:lnTo>
                <a:lnTo>
                  <a:pt x="3050" y="4444"/>
                </a:lnTo>
                <a:lnTo>
                  <a:pt x="3048" y="4451"/>
                </a:lnTo>
                <a:lnTo>
                  <a:pt x="3044" y="4459"/>
                </a:lnTo>
                <a:lnTo>
                  <a:pt x="3035" y="4471"/>
                </a:lnTo>
                <a:lnTo>
                  <a:pt x="3024" y="4483"/>
                </a:lnTo>
                <a:lnTo>
                  <a:pt x="3013" y="4496"/>
                </a:lnTo>
                <a:lnTo>
                  <a:pt x="3005" y="4508"/>
                </a:lnTo>
                <a:lnTo>
                  <a:pt x="3001" y="4516"/>
                </a:lnTo>
                <a:lnTo>
                  <a:pt x="2998" y="4523"/>
                </a:lnTo>
                <a:lnTo>
                  <a:pt x="2997" y="4531"/>
                </a:lnTo>
                <a:lnTo>
                  <a:pt x="2995" y="4540"/>
                </a:lnTo>
                <a:lnTo>
                  <a:pt x="2997" y="4563"/>
                </a:lnTo>
                <a:lnTo>
                  <a:pt x="3000" y="4585"/>
                </a:lnTo>
                <a:lnTo>
                  <a:pt x="3004" y="4607"/>
                </a:lnTo>
                <a:lnTo>
                  <a:pt x="3010" y="4630"/>
                </a:lnTo>
                <a:lnTo>
                  <a:pt x="3019" y="4650"/>
                </a:lnTo>
                <a:lnTo>
                  <a:pt x="3028" y="4670"/>
                </a:lnTo>
                <a:lnTo>
                  <a:pt x="3040" y="4689"/>
                </a:lnTo>
                <a:lnTo>
                  <a:pt x="3053" y="4706"/>
                </a:lnTo>
                <a:lnTo>
                  <a:pt x="3067" y="4721"/>
                </a:lnTo>
                <a:lnTo>
                  <a:pt x="3083" y="4736"/>
                </a:lnTo>
                <a:lnTo>
                  <a:pt x="3092" y="4743"/>
                </a:lnTo>
                <a:lnTo>
                  <a:pt x="3100" y="4749"/>
                </a:lnTo>
                <a:lnTo>
                  <a:pt x="3110" y="4754"/>
                </a:lnTo>
                <a:lnTo>
                  <a:pt x="3118" y="4759"/>
                </a:lnTo>
                <a:lnTo>
                  <a:pt x="3127" y="4764"/>
                </a:lnTo>
                <a:lnTo>
                  <a:pt x="3138" y="4768"/>
                </a:lnTo>
                <a:lnTo>
                  <a:pt x="3148" y="4771"/>
                </a:lnTo>
                <a:lnTo>
                  <a:pt x="3158" y="4774"/>
                </a:lnTo>
                <a:lnTo>
                  <a:pt x="3169" y="4776"/>
                </a:lnTo>
                <a:lnTo>
                  <a:pt x="3180" y="4779"/>
                </a:lnTo>
                <a:lnTo>
                  <a:pt x="3191" y="4780"/>
                </a:lnTo>
                <a:lnTo>
                  <a:pt x="3202" y="4780"/>
                </a:lnTo>
                <a:lnTo>
                  <a:pt x="3210" y="4779"/>
                </a:lnTo>
                <a:lnTo>
                  <a:pt x="3216" y="4775"/>
                </a:lnTo>
                <a:lnTo>
                  <a:pt x="3223" y="4772"/>
                </a:lnTo>
                <a:lnTo>
                  <a:pt x="3230" y="4769"/>
                </a:lnTo>
                <a:lnTo>
                  <a:pt x="3237" y="4782"/>
                </a:lnTo>
                <a:lnTo>
                  <a:pt x="3246" y="4794"/>
                </a:lnTo>
                <a:lnTo>
                  <a:pt x="3254" y="4805"/>
                </a:lnTo>
                <a:lnTo>
                  <a:pt x="3263" y="4814"/>
                </a:lnTo>
                <a:lnTo>
                  <a:pt x="3268" y="4819"/>
                </a:lnTo>
                <a:lnTo>
                  <a:pt x="3273" y="4823"/>
                </a:lnTo>
                <a:lnTo>
                  <a:pt x="3278" y="4826"/>
                </a:lnTo>
                <a:lnTo>
                  <a:pt x="3284" y="4829"/>
                </a:lnTo>
                <a:lnTo>
                  <a:pt x="3290" y="4831"/>
                </a:lnTo>
                <a:lnTo>
                  <a:pt x="3298" y="4832"/>
                </a:lnTo>
                <a:lnTo>
                  <a:pt x="3304" y="4833"/>
                </a:lnTo>
                <a:lnTo>
                  <a:pt x="3311" y="4833"/>
                </a:lnTo>
                <a:lnTo>
                  <a:pt x="3323" y="4833"/>
                </a:lnTo>
                <a:lnTo>
                  <a:pt x="3333" y="4831"/>
                </a:lnTo>
                <a:lnTo>
                  <a:pt x="3343" y="4827"/>
                </a:lnTo>
                <a:lnTo>
                  <a:pt x="3352" y="4822"/>
                </a:lnTo>
                <a:lnTo>
                  <a:pt x="3361" y="4815"/>
                </a:lnTo>
                <a:lnTo>
                  <a:pt x="3368" y="4808"/>
                </a:lnTo>
                <a:lnTo>
                  <a:pt x="3376" y="4800"/>
                </a:lnTo>
                <a:lnTo>
                  <a:pt x="3383" y="4790"/>
                </a:lnTo>
                <a:lnTo>
                  <a:pt x="3391" y="4793"/>
                </a:lnTo>
                <a:lnTo>
                  <a:pt x="3400" y="4796"/>
                </a:lnTo>
                <a:lnTo>
                  <a:pt x="3400" y="4843"/>
                </a:lnTo>
                <a:lnTo>
                  <a:pt x="3399" y="4853"/>
                </a:lnTo>
                <a:lnTo>
                  <a:pt x="3398" y="4862"/>
                </a:lnTo>
                <a:lnTo>
                  <a:pt x="3396" y="4870"/>
                </a:lnTo>
                <a:lnTo>
                  <a:pt x="3393" y="4879"/>
                </a:lnTo>
                <a:lnTo>
                  <a:pt x="3385" y="4895"/>
                </a:lnTo>
                <a:lnTo>
                  <a:pt x="3376" y="4912"/>
                </a:lnTo>
                <a:lnTo>
                  <a:pt x="3371" y="4905"/>
                </a:lnTo>
                <a:lnTo>
                  <a:pt x="3365" y="4899"/>
                </a:lnTo>
                <a:lnTo>
                  <a:pt x="3365" y="4841"/>
                </a:lnTo>
                <a:lnTo>
                  <a:pt x="3356" y="4844"/>
                </a:lnTo>
                <a:lnTo>
                  <a:pt x="3348" y="4848"/>
                </a:lnTo>
                <a:lnTo>
                  <a:pt x="3341" y="4852"/>
                </a:lnTo>
                <a:lnTo>
                  <a:pt x="3334" y="4858"/>
                </a:lnTo>
                <a:lnTo>
                  <a:pt x="3329" y="4864"/>
                </a:lnTo>
                <a:lnTo>
                  <a:pt x="3324" y="4870"/>
                </a:lnTo>
                <a:lnTo>
                  <a:pt x="3320" y="4877"/>
                </a:lnTo>
                <a:lnTo>
                  <a:pt x="3315" y="4885"/>
                </a:lnTo>
                <a:lnTo>
                  <a:pt x="3309" y="4901"/>
                </a:lnTo>
                <a:lnTo>
                  <a:pt x="3304" y="4919"/>
                </a:lnTo>
                <a:lnTo>
                  <a:pt x="3299" y="4937"/>
                </a:lnTo>
                <a:lnTo>
                  <a:pt x="3294" y="4956"/>
                </a:lnTo>
                <a:lnTo>
                  <a:pt x="3290" y="4970"/>
                </a:lnTo>
                <a:lnTo>
                  <a:pt x="3284" y="4981"/>
                </a:lnTo>
                <a:lnTo>
                  <a:pt x="3282" y="4988"/>
                </a:lnTo>
                <a:lnTo>
                  <a:pt x="3280" y="4993"/>
                </a:lnTo>
                <a:lnTo>
                  <a:pt x="3277" y="4999"/>
                </a:lnTo>
                <a:lnTo>
                  <a:pt x="3277" y="5008"/>
                </a:lnTo>
                <a:lnTo>
                  <a:pt x="3278" y="5021"/>
                </a:lnTo>
                <a:lnTo>
                  <a:pt x="3282" y="5034"/>
                </a:lnTo>
                <a:lnTo>
                  <a:pt x="3285" y="5047"/>
                </a:lnTo>
                <a:lnTo>
                  <a:pt x="3288" y="5061"/>
                </a:lnTo>
                <a:lnTo>
                  <a:pt x="3298" y="5060"/>
                </a:lnTo>
                <a:lnTo>
                  <a:pt x="3307" y="5058"/>
                </a:lnTo>
                <a:lnTo>
                  <a:pt x="3317" y="5055"/>
                </a:lnTo>
                <a:lnTo>
                  <a:pt x="3324" y="5051"/>
                </a:lnTo>
                <a:lnTo>
                  <a:pt x="3331" y="5047"/>
                </a:lnTo>
                <a:lnTo>
                  <a:pt x="3338" y="5040"/>
                </a:lnTo>
                <a:lnTo>
                  <a:pt x="3344" y="5033"/>
                </a:lnTo>
                <a:lnTo>
                  <a:pt x="3349" y="5025"/>
                </a:lnTo>
                <a:lnTo>
                  <a:pt x="3353" y="5011"/>
                </a:lnTo>
                <a:lnTo>
                  <a:pt x="3356" y="4998"/>
                </a:lnTo>
                <a:lnTo>
                  <a:pt x="3358" y="4992"/>
                </a:lnTo>
                <a:lnTo>
                  <a:pt x="3360" y="4985"/>
                </a:lnTo>
                <a:lnTo>
                  <a:pt x="3364" y="4981"/>
                </a:lnTo>
                <a:lnTo>
                  <a:pt x="3369" y="4977"/>
                </a:lnTo>
                <a:lnTo>
                  <a:pt x="3376" y="4983"/>
                </a:lnTo>
                <a:lnTo>
                  <a:pt x="3381" y="4990"/>
                </a:lnTo>
                <a:lnTo>
                  <a:pt x="3386" y="4997"/>
                </a:lnTo>
                <a:lnTo>
                  <a:pt x="3390" y="5003"/>
                </a:lnTo>
                <a:lnTo>
                  <a:pt x="3397" y="5018"/>
                </a:lnTo>
                <a:lnTo>
                  <a:pt x="3401" y="5032"/>
                </a:lnTo>
                <a:lnTo>
                  <a:pt x="3404" y="5048"/>
                </a:lnTo>
                <a:lnTo>
                  <a:pt x="3405" y="5064"/>
                </a:lnTo>
                <a:lnTo>
                  <a:pt x="3406" y="5081"/>
                </a:lnTo>
                <a:lnTo>
                  <a:pt x="3406" y="5098"/>
                </a:lnTo>
                <a:lnTo>
                  <a:pt x="3406" y="5107"/>
                </a:lnTo>
                <a:lnTo>
                  <a:pt x="3404" y="5113"/>
                </a:lnTo>
                <a:lnTo>
                  <a:pt x="3401" y="5120"/>
                </a:lnTo>
                <a:lnTo>
                  <a:pt x="3397" y="5125"/>
                </a:lnTo>
                <a:lnTo>
                  <a:pt x="3391" y="5130"/>
                </a:lnTo>
                <a:lnTo>
                  <a:pt x="3386" y="5134"/>
                </a:lnTo>
                <a:lnTo>
                  <a:pt x="3380" y="5139"/>
                </a:lnTo>
                <a:lnTo>
                  <a:pt x="3374" y="5142"/>
                </a:lnTo>
                <a:lnTo>
                  <a:pt x="3360" y="5149"/>
                </a:lnTo>
                <a:lnTo>
                  <a:pt x="3347" y="5158"/>
                </a:lnTo>
                <a:lnTo>
                  <a:pt x="3341" y="5162"/>
                </a:lnTo>
                <a:lnTo>
                  <a:pt x="3334" y="5167"/>
                </a:lnTo>
                <a:lnTo>
                  <a:pt x="3329" y="5173"/>
                </a:lnTo>
                <a:lnTo>
                  <a:pt x="3325" y="5181"/>
                </a:lnTo>
                <a:lnTo>
                  <a:pt x="3321" y="5190"/>
                </a:lnTo>
                <a:lnTo>
                  <a:pt x="3317" y="5200"/>
                </a:lnTo>
                <a:lnTo>
                  <a:pt x="3310" y="5207"/>
                </a:lnTo>
                <a:lnTo>
                  <a:pt x="3305" y="5215"/>
                </a:lnTo>
                <a:lnTo>
                  <a:pt x="3300" y="5222"/>
                </a:lnTo>
                <a:lnTo>
                  <a:pt x="3293" y="5229"/>
                </a:lnTo>
                <a:lnTo>
                  <a:pt x="3288" y="5238"/>
                </a:lnTo>
                <a:lnTo>
                  <a:pt x="3284" y="5248"/>
                </a:lnTo>
                <a:lnTo>
                  <a:pt x="3283" y="5255"/>
                </a:lnTo>
                <a:lnTo>
                  <a:pt x="3283" y="5261"/>
                </a:lnTo>
                <a:lnTo>
                  <a:pt x="3283" y="5268"/>
                </a:lnTo>
                <a:lnTo>
                  <a:pt x="3283" y="5275"/>
                </a:lnTo>
                <a:lnTo>
                  <a:pt x="3283" y="5281"/>
                </a:lnTo>
                <a:lnTo>
                  <a:pt x="3282" y="5286"/>
                </a:lnTo>
                <a:lnTo>
                  <a:pt x="3278" y="5292"/>
                </a:lnTo>
                <a:lnTo>
                  <a:pt x="3274" y="5296"/>
                </a:lnTo>
                <a:lnTo>
                  <a:pt x="3269" y="5299"/>
                </a:lnTo>
                <a:lnTo>
                  <a:pt x="3264" y="5301"/>
                </a:lnTo>
                <a:lnTo>
                  <a:pt x="3258" y="5302"/>
                </a:lnTo>
                <a:lnTo>
                  <a:pt x="3253" y="5303"/>
                </a:lnTo>
                <a:lnTo>
                  <a:pt x="3243" y="5304"/>
                </a:lnTo>
                <a:lnTo>
                  <a:pt x="3232" y="5303"/>
                </a:lnTo>
                <a:lnTo>
                  <a:pt x="3221" y="5303"/>
                </a:lnTo>
                <a:lnTo>
                  <a:pt x="3211" y="5303"/>
                </a:lnTo>
                <a:lnTo>
                  <a:pt x="3206" y="5303"/>
                </a:lnTo>
                <a:lnTo>
                  <a:pt x="3200" y="5305"/>
                </a:lnTo>
                <a:lnTo>
                  <a:pt x="3194" y="5306"/>
                </a:lnTo>
                <a:lnTo>
                  <a:pt x="3189" y="5310"/>
                </a:lnTo>
                <a:lnTo>
                  <a:pt x="3185" y="5313"/>
                </a:lnTo>
                <a:lnTo>
                  <a:pt x="3181" y="5316"/>
                </a:lnTo>
                <a:lnTo>
                  <a:pt x="3179" y="5320"/>
                </a:lnTo>
                <a:lnTo>
                  <a:pt x="3177" y="5325"/>
                </a:lnTo>
                <a:lnTo>
                  <a:pt x="3175" y="5336"/>
                </a:lnTo>
                <a:lnTo>
                  <a:pt x="3172" y="5347"/>
                </a:lnTo>
                <a:lnTo>
                  <a:pt x="3167" y="5363"/>
                </a:lnTo>
                <a:lnTo>
                  <a:pt x="3161" y="5378"/>
                </a:lnTo>
                <a:lnTo>
                  <a:pt x="3159" y="5386"/>
                </a:lnTo>
                <a:lnTo>
                  <a:pt x="3157" y="5394"/>
                </a:lnTo>
                <a:lnTo>
                  <a:pt x="3156" y="5403"/>
                </a:lnTo>
                <a:lnTo>
                  <a:pt x="3155" y="5411"/>
                </a:lnTo>
                <a:lnTo>
                  <a:pt x="3156" y="5422"/>
                </a:lnTo>
                <a:lnTo>
                  <a:pt x="3158" y="5430"/>
                </a:lnTo>
                <a:lnTo>
                  <a:pt x="3161" y="5438"/>
                </a:lnTo>
                <a:lnTo>
                  <a:pt x="3166" y="5447"/>
                </a:lnTo>
                <a:lnTo>
                  <a:pt x="3176" y="5461"/>
                </a:lnTo>
                <a:lnTo>
                  <a:pt x="3188" y="5474"/>
                </a:lnTo>
                <a:lnTo>
                  <a:pt x="3199" y="5488"/>
                </a:lnTo>
                <a:lnTo>
                  <a:pt x="3210" y="5502"/>
                </a:lnTo>
                <a:lnTo>
                  <a:pt x="3214" y="5509"/>
                </a:lnTo>
                <a:lnTo>
                  <a:pt x="3217" y="5518"/>
                </a:lnTo>
                <a:lnTo>
                  <a:pt x="3219" y="5527"/>
                </a:lnTo>
                <a:lnTo>
                  <a:pt x="3219" y="5537"/>
                </a:lnTo>
                <a:lnTo>
                  <a:pt x="3219" y="5551"/>
                </a:lnTo>
                <a:lnTo>
                  <a:pt x="3219" y="5564"/>
                </a:lnTo>
                <a:lnTo>
                  <a:pt x="3217" y="5576"/>
                </a:lnTo>
                <a:lnTo>
                  <a:pt x="3216" y="5588"/>
                </a:lnTo>
                <a:lnTo>
                  <a:pt x="3213" y="5599"/>
                </a:lnTo>
                <a:lnTo>
                  <a:pt x="3210" y="5611"/>
                </a:lnTo>
                <a:lnTo>
                  <a:pt x="3205" y="5623"/>
                </a:lnTo>
                <a:lnTo>
                  <a:pt x="3199" y="5636"/>
                </a:lnTo>
                <a:lnTo>
                  <a:pt x="3190" y="5614"/>
                </a:lnTo>
                <a:lnTo>
                  <a:pt x="3180" y="5595"/>
                </a:lnTo>
                <a:lnTo>
                  <a:pt x="3175" y="5586"/>
                </a:lnTo>
                <a:lnTo>
                  <a:pt x="3168" y="5578"/>
                </a:lnTo>
                <a:lnTo>
                  <a:pt x="3160" y="5569"/>
                </a:lnTo>
                <a:lnTo>
                  <a:pt x="3152" y="5561"/>
                </a:lnTo>
                <a:lnTo>
                  <a:pt x="3130" y="5543"/>
                </a:lnTo>
                <a:lnTo>
                  <a:pt x="3108" y="5527"/>
                </a:lnTo>
                <a:lnTo>
                  <a:pt x="3100" y="5518"/>
                </a:lnTo>
                <a:lnTo>
                  <a:pt x="3094" y="5508"/>
                </a:lnTo>
                <a:lnTo>
                  <a:pt x="3091" y="5502"/>
                </a:lnTo>
                <a:lnTo>
                  <a:pt x="3088" y="5497"/>
                </a:lnTo>
                <a:lnTo>
                  <a:pt x="3087" y="5490"/>
                </a:lnTo>
                <a:lnTo>
                  <a:pt x="3087" y="5483"/>
                </a:lnTo>
                <a:lnTo>
                  <a:pt x="3093" y="5468"/>
                </a:lnTo>
                <a:lnTo>
                  <a:pt x="3097" y="5454"/>
                </a:lnTo>
                <a:lnTo>
                  <a:pt x="3097" y="5442"/>
                </a:lnTo>
                <a:lnTo>
                  <a:pt x="3094" y="5431"/>
                </a:lnTo>
                <a:lnTo>
                  <a:pt x="3091" y="5422"/>
                </a:lnTo>
                <a:lnTo>
                  <a:pt x="3087" y="5412"/>
                </a:lnTo>
                <a:lnTo>
                  <a:pt x="3083" y="5403"/>
                </a:lnTo>
                <a:lnTo>
                  <a:pt x="3080" y="5393"/>
                </a:lnTo>
                <a:lnTo>
                  <a:pt x="3078" y="5383"/>
                </a:lnTo>
                <a:lnTo>
                  <a:pt x="3077" y="5371"/>
                </a:lnTo>
                <a:lnTo>
                  <a:pt x="3078" y="5353"/>
                </a:lnTo>
                <a:lnTo>
                  <a:pt x="3081" y="5336"/>
                </a:lnTo>
                <a:lnTo>
                  <a:pt x="3085" y="5321"/>
                </a:lnTo>
                <a:lnTo>
                  <a:pt x="3092" y="5306"/>
                </a:lnTo>
                <a:lnTo>
                  <a:pt x="3106" y="5279"/>
                </a:lnTo>
                <a:lnTo>
                  <a:pt x="3124" y="5248"/>
                </a:lnTo>
                <a:lnTo>
                  <a:pt x="3121" y="5232"/>
                </a:lnTo>
                <a:lnTo>
                  <a:pt x="3103" y="5238"/>
                </a:lnTo>
                <a:lnTo>
                  <a:pt x="3087" y="5244"/>
                </a:lnTo>
                <a:lnTo>
                  <a:pt x="3070" y="5251"/>
                </a:lnTo>
                <a:lnTo>
                  <a:pt x="3054" y="5259"/>
                </a:lnTo>
                <a:lnTo>
                  <a:pt x="3048" y="5262"/>
                </a:lnTo>
                <a:lnTo>
                  <a:pt x="3044" y="5267"/>
                </a:lnTo>
                <a:lnTo>
                  <a:pt x="3041" y="5274"/>
                </a:lnTo>
                <a:lnTo>
                  <a:pt x="3039" y="5280"/>
                </a:lnTo>
                <a:lnTo>
                  <a:pt x="3036" y="5286"/>
                </a:lnTo>
                <a:lnTo>
                  <a:pt x="3032" y="5291"/>
                </a:lnTo>
                <a:lnTo>
                  <a:pt x="3031" y="5293"/>
                </a:lnTo>
                <a:lnTo>
                  <a:pt x="3028" y="5295"/>
                </a:lnTo>
                <a:lnTo>
                  <a:pt x="3026" y="5296"/>
                </a:lnTo>
                <a:lnTo>
                  <a:pt x="3023" y="5296"/>
                </a:lnTo>
                <a:lnTo>
                  <a:pt x="3012" y="5295"/>
                </a:lnTo>
                <a:lnTo>
                  <a:pt x="3002" y="5293"/>
                </a:lnTo>
                <a:lnTo>
                  <a:pt x="3003" y="5276"/>
                </a:lnTo>
                <a:lnTo>
                  <a:pt x="3003" y="5261"/>
                </a:lnTo>
                <a:lnTo>
                  <a:pt x="3003" y="5254"/>
                </a:lnTo>
                <a:lnTo>
                  <a:pt x="3001" y="5247"/>
                </a:lnTo>
                <a:lnTo>
                  <a:pt x="2998" y="5241"/>
                </a:lnTo>
                <a:lnTo>
                  <a:pt x="2992" y="5235"/>
                </a:lnTo>
                <a:lnTo>
                  <a:pt x="2986" y="5229"/>
                </a:lnTo>
                <a:lnTo>
                  <a:pt x="2980" y="5226"/>
                </a:lnTo>
                <a:lnTo>
                  <a:pt x="2973" y="5224"/>
                </a:lnTo>
                <a:lnTo>
                  <a:pt x="2967" y="5222"/>
                </a:lnTo>
                <a:lnTo>
                  <a:pt x="2960" y="5221"/>
                </a:lnTo>
                <a:lnTo>
                  <a:pt x="2952" y="5220"/>
                </a:lnTo>
                <a:lnTo>
                  <a:pt x="2945" y="5218"/>
                </a:lnTo>
                <a:lnTo>
                  <a:pt x="2937" y="5215"/>
                </a:lnTo>
                <a:lnTo>
                  <a:pt x="2927" y="5208"/>
                </a:lnTo>
                <a:lnTo>
                  <a:pt x="2918" y="5201"/>
                </a:lnTo>
                <a:lnTo>
                  <a:pt x="2910" y="5193"/>
                </a:lnTo>
                <a:lnTo>
                  <a:pt x="2902" y="5186"/>
                </a:lnTo>
                <a:lnTo>
                  <a:pt x="2893" y="5180"/>
                </a:lnTo>
                <a:lnTo>
                  <a:pt x="2885" y="5174"/>
                </a:lnTo>
                <a:lnTo>
                  <a:pt x="2880" y="5173"/>
                </a:lnTo>
                <a:lnTo>
                  <a:pt x="2875" y="5171"/>
                </a:lnTo>
                <a:lnTo>
                  <a:pt x="2869" y="5170"/>
                </a:lnTo>
                <a:lnTo>
                  <a:pt x="2863" y="5170"/>
                </a:lnTo>
                <a:lnTo>
                  <a:pt x="2858" y="5170"/>
                </a:lnTo>
                <a:lnTo>
                  <a:pt x="2855" y="5171"/>
                </a:lnTo>
                <a:lnTo>
                  <a:pt x="2851" y="5173"/>
                </a:lnTo>
                <a:lnTo>
                  <a:pt x="2849" y="5176"/>
                </a:lnTo>
                <a:lnTo>
                  <a:pt x="2843" y="5181"/>
                </a:lnTo>
                <a:lnTo>
                  <a:pt x="2839" y="5187"/>
                </a:lnTo>
                <a:lnTo>
                  <a:pt x="2833" y="5204"/>
                </a:lnTo>
                <a:lnTo>
                  <a:pt x="2825" y="5221"/>
                </a:lnTo>
                <a:lnTo>
                  <a:pt x="2819" y="5218"/>
                </a:lnTo>
                <a:lnTo>
                  <a:pt x="2813" y="5214"/>
                </a:lnTo>
                <a:lnTo>
                  <a:pt x="2809" y="5208"/>
                </a:lnTo>
                <a:lnTo>
                  <a:pt x="2804" y="5203"/>
                </a:lnTo>
                <a:lnTo>
                  <a:pt x="2799" y="5199"/>
                </a:lnTo>
                <a:lnTo>
                  <a:pt x="2795" y="5195"/>
                </a:lnTo>
                <a:lnTo>
                  <a:pt x="2789" y="5191"/>
                </a:lnTo>
                <a:lnTo>
                  <a:pt x="2781" y="5190"/>
                </a:lnTo>
                <a:lnTo>
                  <a:pt x="2775" y="5191"/>
                </a:lnTo>
                <a:lnTo>
                  <a:pt x="2770" y="5195"/>
                </a:lnTo>
                <a:lnTo>
                  <a:pt x="2767" y="5197"/>
                </a:lnTo>
                <a:lnTo>
                  <a:pt x="2766" y="5199"/>
                </a:lnTo>
                <a:lnTo>
                  <a:pt x="2765" y="5201"/>
                </a:lnTo>
                <a:lnTo>
                  <a:pt x="2764" y="5204"/>
                </a:lnTo>
                <a:lnTo>
                  <a:pt x="2765" y="5217"/>
                </a:lnTo>
                <a:lnTo>
                  <a:pt x="2767" y="5228"/>
                </a:lnTo>
                <a:lnTo>
                  <a:pt x="2771" y="5239"/>
                </a:lnTo>
                <a:lnTo>
                  <a:pt x="2775" y="5249"/>
                </a:lnTo>
                <a:lnTo>
                  <a:pt x="2783" y="5270"/>
                </a:lnTo>
                <a:lnTo>
                  <a:pt x="2792" y="5293"/>
                </a:lnTo>
                <a:lnTo>
                  <a:pt x="2796" y="5306"/>
                </a:lnTo>
                <a:lnTo>
                  <a:pt x="2800" y="5320"/>
                </a:lnTo>
                <a:lnTo>
                  <a:pt x="2805" y="5333"/>
                </a:lnTo>
                <a:lnTo>
                  <a:pt x="2812" y="5346"/>
                </a:lnTo>
                <a:lnTo>
                  <a:pt x="2815" y="5351"/>
                </a:lnTo>
                <a:lnTo>
                  <a:pt x="2819" y="5355"/>
                </a:lnTo>
                <a:lnTo>
                  <a:pt x="2823" y="5360"/>
                </a:lnTo>
                <a:lnTo>
                  <a:pt x="2829" y="5363"/>
                </a:lnTo>
                <a:lnTo>
                  <a:pt x="2834" y="5367"/>
                </a:lnTo>
                <a:lnTo>
                  <a:pt x="2839" y="5369"/>
                </a:lnTo>
                <a:lnTo>
                  <a:pt x="2846" y="5370"/>
                </a:lnTo>
                <a:lnTo>
                  <a:pt x="2853" y="5371"/>
                </a:lnTo>
                <a:lnTo>
                  <a:pt x="2869" y="5370"/>
                </a:lnTo>
                <a:lnTo>
                  <a:pt x="2881" y="5368"/>
                </a:lnTo>
                <a:lnTo>
                  <a:pt x="2895" y="5365"/>
                </a:lnTo>
                <a:lnTo>
                  <a:pt x="2911" y="5363"/>
                </a:lnTo>
                <a:lnTo>
                  <a:pt x="2916" y="5365"/>
                </a:lnTo>
                <a:lnTo>
                  <a:pt x="2921" y="5367"/>
                </a:lnTo>
                <a:lnTo>
                  <a:pt x="2924" y="5369"/>
                </a:lnTo>
                <a:lnTo>
                  <a:pt x="2927" y="5373"/>
                </a:lnTo>
                <a:lnTo>
                  <a:pt x="2932" y="5381"/>
                </a:lnTo>
                <a:lnTo>
                  <a:pt x="2937" y="5391"/>
                </a:lnTo>
                <a:lnTo>
                  <a:pt x="2947" y="5404"/>
                </a:lnTo>
                <a:lnTo>
                  <a:pt x="2955" y="5415"/>
                </a:lnTo>
                <a:lnTo>
                  <a:pt x="2960" y="5422"/>
                </a:lnTo>
                <a:lnTo>
                  <a:pt x="2963" y="5428"/>
                </a:lnTo>
                <a:lnTo>
                  <a:pt x="2964" y="5435"/>
                </a:lnTo>
                <a:lnTo>
                  <a:pt x="2965" y="5443"/>
                </a:lnTo>
                <a:lnTo>
                  <a:pt x="2964" y="5456"/>
                </a:lnTo>
                <a:lnTo>
                  <a:pt x="2962" y="5469"/>
                </a:lnTo>
                <a:lnTo>
                  <a:pt x="2927" y="5457"/>
                </a:lnTo>
                <a:lnTo>
                  <a:pt x="2895" y="5450"/>
                </a:lnTo>
                <a:lnTo>
                  <a:pt x="2879" y="5445"/>
                </a:lnTo>
                <a:lnTo>
                  <a:pt x="2865" y="5438"/>
                </a:lnTo>
                <a:lnTo>
                  <a:pt x="2857" y="5434"/>
                </a:lnTo>
                <a:lnTo>
                  <a:pt x="2850" y="5430"/>
                </a:lnTo>
                <a:lnTo>
                  <a:pt x="2843" y="5425"/>
                </a:lnTo>
                <a:lnTo>
                  <a:pt x="2836" y="5418"/>
                </a:lnTo>
                <a:lnTo>
                  <a:pt x="2825" y="5407"/>
                </a:lnTo>
                <a:lnTo>
                  <a:pt x="2816" y="5396"/>
                </a:lnTo>
                <a:lnTo>
                  <a:pt x="2809" y="5385"/>
                </a:lnTo>
                <a:lnTo>
                  <a:pt x="2800" y="5374"/>
                </a:lnTo>
                <a:lnTo>
                  <a:pt x="2793" y="5363"/>
                </a:lnTo>
                <a:lnTo>
                  <a:pt x="2783" y="5355"/>
                </a:lnTo>
                <a:lnTo>
                  <a:pt x="2777" y="5352"/>
                </a:lnTo>
                <a:lnTo>
                  <a:pt x="2772" y="5349"/>
                </a:lnTo>
                <a:lnTo>
                  <a:pt x="2765" y="5346"/>
                </a:lnTo>
                <a:lnTo>
                  <a:pt x="2758" y="5343"/>
                </a:lnTo>
                <a:lnTo>
                  <a:pt x="2757" y="5360"/>
                </a:lnTo>
                <a:lnTo>
                  <a:pt x="2756" y="5377"/>
                </a:lnTo>
                <a:lnTo>
                  <a:pt x="2752" y="5394"/>
                </a:lnTo>
                <a:lnTo>
                  <a:pt x="2746" y="5409"/>
                </a:lnTo>
                <a:lnTo>
                  <a:pt x="2743" y="5416"/>
                </a:lnTo>
                <a:lnTo>
                  <a:pt x="2740" y="5423"/>
                </a:lnTo>
                <a:lnTo>
                  <a:pt x="2735" y="5428"/>
                </a:lnTo>
                <a:lnTo>
                  <a:pt x="2730" y="5432"/>
                </a:lnTo>
                <a:lnTo>
                  <a:pt x="2724" y="5436"/>
                </a:lnTo>
                <a:lnTo>
                  <a:pt x="2718" y="5440"/>
                </a:lnTo>
                <a:lnTo>
                  <a:pt x="2711" y="5442"/>
                </a:lnTo>
                <a:lnTo>
                  <a:pt x="2703" y="5442"/>
                </a:lnTo>
                <a:lnTo>
                  <a:pt x="2688" y="5442"/>
                </a:lnTo>
                <a:lnTo>
                  <a:pt x="2674" y="5438"/>
                </a:lnTo>
                <a:lnTo>
                  <a:pt x="2668" y="5436"/>
                </a:lnTo>
                <a:lnTo>
                  <a:pt x="2662" y="5433"/>
                </a:lnTo>
                <a:lnTo>
                  <a:pt x="2655" y="5430"/>
                </a:lnTo>
                <a:lnTo>
                  <a:pt x="2649" y="5425"/>
                </a:lnTo>
                <a:lnTo>
                  <a:pt x="2643" y="5419"/>
                </a:lnTo>
                <a:lnTo>
                  <a:pt x="2639" y="5412"/>
                </a:lnTo>
                <a:lnTo>
                  <a:pt x="2635" y="5405"/>
                </a:lnTo>
                <a:lnTo>
                  <a:pt x="2632" y="5397"/>
                </a:lnTo>
                <a:lnTo>
                  <a:pt x="2629" y="5391"/>
                </a:lnTo>
                <a:lnTo>
                  <a:pt x="2625" y="5386"/>
                </a:lnTo>
                <a:lnTo>
                  <a:pt x="2622" y="5384"/>
                </a:lnTo>
                <a:lnTo>
                  <a:pt x="2620" y="5383"/>
                </a:lnTo>
                <a:lnTo>
                  <a:pt x="2615" y="5381"/>
                </a:lnTo>
                <a:lnTo>
                  <a:pt x="2611" y="5380"/>
                </a:lnTo>
                <a:lnTo>
                  <a:pt x="2594" y="5381"/>
                </a:lnTo>
                <a:lnTo>
                  <a:pt x="2578" y="5384"/>
                </a:lnTo>
                <a:lnTo>
                  <a:pt x="2564" y="5387"/>
                </a:lnTo>
                <a:lnTo>
                  <a:pt x="2549" y="5390"/>
                </a:lnTo>
                <a:lnTo>
                  <a:pt x="2522" y="5400"/>
                </a:lnTo>
                <a:lnTo>
                  <a:pt x="2496" y="5411"/>
                </a:lnTo>
                <a:lnTo>
                  <a:pt x="2471" y="5423"/>
                </a:lnTo>
                <a:lnTo>
                  <a:pt x="2443" y="5432"/>
                </a:lnTo>
                <a:lnTo>
                  <a:pt x="2428" y="5436"/>
                </a:lnTo>
                <a:lnTo>
                  <a:pt x="2414" y="5440"/>
                </a:lnTo>
                <a:lnTo>
                  <a:pt x="2398" y="5442"/>
                </a:lnTo>
                <a:lnTo>
                  <a:pt x="2381" y="5442"/>
                </a:lnTo>
                <a:lnTo>
                  <a:pt x="2365" y="5442"/>
                </a:lnTo>
                <a:lnTo>
                  <a:pt x="2351" y="5441"/>
                </a:lnTo>
                <a:lnTo>
                  <a:pt x="2337" y="5438"/>
                </a:lnTo>
                <a:lnTo>
                  <a:pt x="2324" y="5435"/>
                </a:lnTo>
                <a:lnTo>
                  <a:pt x="2311" y="5431"/>
                </a:lnTo>
                <a:lnTo>
                  <a:pt x="2299" y="5427"/>
                </a:lnTo>
                <a:lnTo>
                  <a:pt x="2287" y="5422"/>
                </a:lnTo>
                <a:lnTo>
                  <a:pt x="2275" y="5415"/>
                </a:lnTo>
                <a:lnTo>
                  <a:pt x="2265" y="5408"/>
                </a:lnTo>
                <a:lnTo>
                  <a:pt x="2254" y="5400"/>
                </a:lnTo>
                <a:lnTo>
                  <a:pt x="2244" y="5392"/>
                </a:lnTo>
                <a:lnTo>
                  <a:pt x="2233" y="5384"/>
                </a:lnTo>
                <a:lnTo>
                  <a:pt x="2213" y="5362"/>
                </a:lnTo>
                <a:lnTo>
                  <a:pt x="2194" y="5340"/>
                </a:lnTo>
                <a:lnTo>
                  <a:pt x="2188" y="5332"/>
                </a:lnTo>
                <a:lnTo>
                  <a:pt x="2183" y="5323"/>
                </a:lnTo>
                <a:lnTo>
                  <a:pt x="2179" y="5315"/>
                </a:lnTo>
                <a:lnTo>
                  <a:pt x="2175" y="5306"/>
                </a:lnTo>
                <a:lnTo>
                  <a:pt x="2171" y="5298"/>
                </a:lnTo>
                <a:lnTo>
                  <a:pt x="2167" y="5291"/>
                </a:lnTo>
                <a:lnTo>
                  <a:pt x="2160" y="5283"/>
                </a:lnTo>
                <a:lnTo>
                  <a:pt x="2153" y="5276"/>
                </a:lnTo>
                <a:lnTo>
                  <a:pt x="2140" y="5287"/>
                </a:lnTo>
                <a:lnTo>
                  <a:pt x="2130" y="5299"/>
                </a:lnTo>
                <a:lnTo>
                  <a:pt x="2124" y="5304"/>
                </a:lnTo>
                <a:lnTo>
                  <a:pt x="2118" y="5309"/>
                </a:lnTo>
                <a:lnTo>
                  <a:pt x="2111" y="5312"/>
                </a:lnTo>
                <a:lnTo>
                  <a:pt x="2102" y="5313"/>
                </a:lnTo>
                <a:lnTo>
                  <a:pt x="2094" y="5313"/>
                </a:lnTo>
                <a:lnTo>
                  <a:pt x="2085" y="5311"/>
                </a:lnTo>
                <a:lnTo>
                  <a:pt x="2078" y="5309"/>
                </a:lnTo>
                <a:lnTo>
                  <a:pt x="2070" y="5305"/>
                </a:lnTo>
                <a:lnTo>
                  <a:pt x="2064" y="5302"/>
                </a:lnTo>
                <a:lnTo>
                  <a:pt x="2058" y="5298"/>
                </a:lnTo>
                <a:lnTo>
                  <a:pt x="2052" y="5293"/>
                </a:lnTo>
                <a:lnTo>
                  <a:pt x="2047" y="5287"/>
                </a:lnTo>
                <a:lnTo>
                  <a:pt x="2026" y="5262"/>
                </a:lnTo>
                <a:lnTo>
                  <a:pt x="2004" y="5235"/>
                </a:lnTo>
                <a:lnTo>
                  <a:pt x="1991" y="5224"/>
                </a:lnTo>
                <a:lnTo>
                  <a:pt x="1980" y="5216"/>
                </a:lnTo>
                <a:lnTo>
                  <a:pt x="1974" y="5211"/>
                </a:lnTo>
                <a:lnTo>
                  <a:pt x="1968" y="5206"/>
                </a:lnTo>
                <a:lnTo>
                  <a:pt x="1964" y="5201"/>
                </a:lnTo>
                <a:lnTo>
                  <a:pt x="1960" y="5193"/>
                </a:lnTo>
                <a:lnTo>
                  <a:pt x="1942" y="5159"/>
                </a:lnTo>
                <a:lnTo>
                  <a:pt x="1927" y="5127"/>
                </a:lnTo>
                <a:lnTo>
                  <a:pt x="1913" y="5094"/>
                </a:lnTo>
                <a:lnTo>
                  <a:pt x="1898" y="5058"/>
                </a:lnTo>
                <a:lnTo>
                  <a:pt x="1894" y="5040"/>
                </a:lnTo>
                <a:lnTo>
                  <a:pt x="1891" y="5022"/>
                </a:lnTo>
                <a:lnTo>
                  <a:pt x="1888" y="5015"/>
                </a:lnTo>
                <a:lnTo>
                  <a:pt x="1885" y="5009"/>
                </a:lnTo>
                <a:lnTo>
                  <a:pt x="1881" y="5007"/>
                </a:lnTo>
                <a:lnTo>
                  <a:pt x="1878" y="5006"/>
                </a:lnTo>
                <a:lnTo>
                  <a:pt x="1875" y="5004"/>
                </a:lnTo>
                <a:lnTo>
                  <a:pt x="1871" y="5003"/>
                </a:lnTo>
                <a:lnTo>
                  <a:pt x="1863" y="5004"/>
                </a:lnTo>
                <a:lnTo>
                  <a:pt x="1856" y="5006"/>
                </a:lnTo>
                <a:lnTo>
                  <a:pt x="1850" y="5007"/>
                </a:lnTo>
                <a:lnTo>
                  <a:pt x="1843" y="5009"/>
                </a:lnTo>
                <a:lnTo>
                  <a:pt x="1832" y="5014"/>
                </a:lnTo>
                <a:lnTo>
                  <a:pt x="1821" y="5021"/>
                </a:lnTo>
                <a:lnTo>
                  <a:pt x="1810" y="5029"/>
                </a:lnTo>
                <a:lnTo>
                  <a:pt x="1799" y="5036"/>
                </a:lnTo>
                <a:lnTo>
                  <a:pt x="1786" y="5042"/>
                </a:lnTo>
                <a:lnTo>
                  <a:pt x="1773" y="5048"/>
                </a:lnTo>
                <a:lnTo>
                  <a:pt x="1755" y="5053"/>
                </a:lnTo>
                <a:lnTo>
                  <a:pt x="1739" y="5058"/>
                </a:lnTo>
                <a:lnTo>
                  <a:pt x="1723" y="5063"/>
                </a:lnTo>
                <a:lnTo>
                  <a:pt x="1707" y="5066"/>
                </a:lnTo>
                <a:lnTo>
                  <a:pt x="1692" y="5069"/>
                </a:lnTo>
                <a:lnTo>
                  <a:pt x="1677" y="5070"/>
                </a:lnTo>
                <a:lnTo>
                  <a:pt x="1659" y="5071"/>
                </a:lnTo>
                <a:lnTo>
                  <a:pt x="1641" y="5072"/>
                </a:lnTo>
                <a:lnTo>
                  <a:pt x="1626" y="5068"/>
                </a:lnTo>
                <a:lnTo>
                  <a:pt x="1611" y="5065"/>
                </a:lnTo>
                <a:lnTo>
                  <a:pt x="1604" y="5065"/>
                </a:lnTo>
                <a:lnTo>
                  <a:pt x="1596" y="5066"/>
                </a:lnTo>
                <a:lnTo>
                  <a:pt x="1589" y="5068"/>
                </a:lnTo>
                <a:lnTo>
                  <a:pt x="1583" y="5070"/>
                </a:lnTo>
                <a:lnTo>
                  <a:pt x="1576" y="5072"/>
                </a:lnTo>
                <a:lnTo>
                  <a:pt x="1570" y="5075"/>
                </a:lnTo>
                <a:lnTo>
                  <a:pt x="1564" y="5078"/>
                </a:lnTo>
                <a:lnTo>
                  <a:pt x="1558" y="5083"/>
                </a:lnTo>
                <a:lnTo>
                  <a:pt x="1548" y="5091"/>
                </a:lnTo>
                <a:lnTo>
                  <a:pt x="1538" y="5102"/>
                </a:lnTo>
                <a:lnTo>
                  <a:pt x="1530" y="5113"/>
                </a:lnTo>
                <a:lnTo>
                  <a:pt x="1521" y="5126"/>
                </a:lnTo>
                <a:lnTo>
                  <a:pt x="1516" y="5132"/>
                </a:lnTo>
                <a:lnTo>
                  <a:pt x="1509" y="5138"/>
                </a:lnTo>
                <a:lnTo>
                  <a:pt x="1505" y="5140"/>
                </a:lnTo>
                <a:lnTo>
                  <a:pt x="1503" y="5143"/>
                </a:lnTo>
                <a:lnTo>
                  <a:pt x="1501" y="5146"/>
                </a:lnTo>
                <a:lnTo>
                  <a:pt x="1501" y="5150"/>
                </a:lnTo>
                <a:lnTo>
                  <a:pt x="1501" y="5160"/>
                </a:lnTo>
                <a:lnTo>
                  <a:pt x="1503" y="5169"/>
                </a:lnTo>
                <a:lnTo>
                  <a:pt x="1505" y="5178"/>
                </a:lnTo>
                <a:lnTo>
                  <a:pt x="1509" y="5187"/>
                </a:lnTo>
                <a:lnTo>
                  <a:pt x="1513" y="5196"/>
                </a:lnTo>
                <a:lnTo>
                  <a:pt x="1517" y="5203"/>
                </a:lnTo>
                <a:lnTo>
                  <a:pt x="1523" y="5210"/>
                </a:lnTo>
                <a:lnTo>
                  <a:pt x="1530" y="5217"/>
                </a:lnTo>
                <a:lnTo>
                  <a:pt x="1536" y="5223"/>
                </a:lnTo>
                <a:lnTo>
                  <a:pt x="1543" y="5228"/>
                </a:lnTo>
                <a:lnTo>
                  <a:pt x="1552" y="5234"/>
                </a:lnTo>
                <a:lnTo>
                  <a:pt x="1560" y="5238"/>
                </a:lnTo>
                <a:lnTo>
                  <a:pt x="1569" y="5241"/>
                </a:lnTo>
                <a:lnTo>
                  <a:pt x="1578" y="5243"/>
                </a:lnTo>
                <a:lnTo>
                  <a:pt x="1588" y="5244"/>
                </a:lnTo>
                <a:lnTo>
                  <a:pt x="1597" y="5245"/>
                </a:lnTo>
                <a:lnTo>
                  <a:pt x="1612" y="5244"/>
                </a:lnTo>
                <a:lnTo>
                  <a:pt x="1626" y="5243"/>
                </a:lnTo>
                <a:lnTo>
                  <a:pt x="1632" y="5241"/>
                </a:lnTo>
                <a:lnTo>
                  <a:pt x="1637" y="5238"/>
                </a:lnTo>
                <a:lnTo>
                  <a:pt x="1643" y="5234"/>
                </a:lnTo>
                <a:lnTo>
                  <a:pt x="1647" y="5228"/>
                </a:lnTo>
                <a:lnTo>
                  <a:pt x="1650" y="5219"/>
                </a:lnTo>
                <a:lnTo>
                  <a:pt x="1652" y="5209"/>
                </a:lnTo>
                <a:lnTo>
                  <a:pt x="1652" y="5204"/>
                </a:lnTo>
                <a:lnTo>
                  <a:pt x="1654" y="5201"/>
                </a:lnTo>
                <a:lnTo>
                  <a:pt x="1656" y="5197"/>
                </a:lnTo>
                <a:lnTo>
                  <a:pt x="1661" y="5193"/>
                </a:lnTo>
                <a:lnTo>
                  <a:pt x="1669" y="5189"/>
                </a:lnTo>
                <a:lnTo>
                  <a:pt x="1678" y="5185"/>
                </a:lnTo>
                <a:lnTo>
                  <a:pt x="1686" y="5182"/>
                </a:lnTo>
                <a:lnTo>
                  <a:pt x="1694" y="5180"/>
                </a:lnTo>
                <a:lnTo>
                  <a:pt x="1712" y="5178"/>
                </a:lnTo>
                <a:lnTo>
                  <a:pt x="1731" y="5177"/>
                </a:lnTo>
                <a:lnTo>
                  <a:pt x="1745" y="5178"/>
                </a:lnTo>
                <a:lnTo>
                  <a:pt x="1758" y="5181"/>
                </a:lnTo>
                <a:lnTo>
                  <a:pt x="1769" y="5184"/>
                </a:lnTo>
                <a:lnTo>
                  <a:pt x="1783" y="5187"/>
                </a:lnTo>
                <a:lnTo>
                  <a:pt x="1785" y="5180"/>
                </a:lnTo>
                <a:lnTo>
                  <a:pt x="1787" y="5172"/>
                </a:lnTo>
                <a:lnTo>
                  <a:pt x="1792" y="5165"/>
                </a:lnTo>
                <a:lnTo>
                  <a:pt x="1795" y="5160"/>
                </a:lnTo>
                <a:lnTo>
                  <a:pt x="1800" y="5153"/>
                </a:lnTo>
                <a:lnTo>
                  <a:pt x="1805" y="5148"/>
                </a:lnTo>
                <a:lnTo>
                  <a:pt x="1811" y="5144"/>
                </a:lnTo>
                <a:lnTo>
                  <a:pt x="1816" y="5139"/>
                </a:lnTo>
                <a:lnTo>
                  <a:pt x="1830" y="5131"/>
                </a:lnTo>
                <a:lnTo>
                  <a:pt x="1843" y="5125"/>
                </a:lnTo>
                <a:lnTo>
                  <a:pt x="1858" y="5120"/>
                </a:lnTo>
                <a:lnTo>
                  <a:pt x="1874" y="5115"/>
                </a:lnTo>
                <a:lnTo>
                  <a:pt x="1874" y="5142"/>
                </a:lnTo>
                <a:lnTo>
                  <a:pt x="1874" y="5150"/>
                </a:lnTo>
                <a:lnTo>
                  <a:pt x="1873" y="5158"/>
                </a:lnTo>
                <a:lnTo>
                  <a:pt x="1870" y="5164"/>
                </a:lnTo>
                <a:lnTo>
                  <a:pt x="1867" y="5170"/>
                </a:lnTo>
                <a:lnTo>
                  <a:pt x="1862" y="5176"/>
                </a:lnTo>
                <a:lnTo>
                  <a:pt x="1858" y="5181"/>
                </a:lnTo>
                <a:lnTo>
                  <a:pt x="1853" y="5185"/>
                </a:lnTo>
                <a:lnTo>
                  <a:pt x="1847" y="5189"/>
                </a:lnTo>
                <a:lnTo>
                  <a:pt x="1819" y="5204"/>
                </a:lnTo>
                <a:lnTo>
                  <a:pt x="1790" y="5218"/>
                </a:lnTo>
                <a:lnTo>
                  <a:pt x="1774" y="5226"/>
                </a:lnTo>
                <a:lnTo>
                  <a:pt x="1760" y="5237"/>
                </a:lnTo>
                <a:lnTo>
                  <a:pt x="1746" y="5246"/>
                </a:lnTo>
                <a:lnTo>
                  <a:pt x="1734" y="5257"/>
                </a:lnTo>
                <a:lnTo>
                  <a:pt x="1721" y="5265"/>
                </a:lnTo>
                <a:lnTo>
                  <a:pt x="1706" y="5273"/>
                </a:lnTo>
                <a:lnTo>
                  <a:pt x="1699" y="5275"/>
                </a:lnTo>
                <a:lnTo>
                  <a:pt x="1691" y="5277"/>
                </a:lnTo>
                <a:lnTo>
                  <a:pt x="1683" y="5278"/>
                </a:lnTo>
                <a:lnTo>
                  <a:pt x="1673" y="5279"/>
                </a:lnTo>
                <a:lnTo>
                  <a:pt x="1660" y="5279"/>
                </a:lnTo>
                <a:lnTo>
                  <a:pt x="1648" y="5278"/>
                </a:lnTo>
                <a:lnTo>
                  <a:pt x="1636" y="5278"/>
                </a:lnTo>
                <a:lnTo>
                  <a:pt x="1623" y="5278"/>
                </a:lnTo>
                <a:lnTo>
                  <a:pt x="1622" y="5285"/>
                </a:lnTo>
                <a:lnTo>
                  <a:pt x="1620" y="5292"/>
                </a:lnTo>
                <a:lnTo>
                  <a:pt x="1616" y="5298"/>
                </a:lnTo>
                <a:lnTo>
                  <a:pt x="1613" y="5304"/>
                </a:lnTo>
                <a:lnTo>
                  <a:pt x="1606" y="5315"/>
                </a:lnTo>
                <a:lnTo>
                  <a:pt x="1597" y="5325"/>
                </a:lnTo>
                <a:lnTo>
                  <a:pt x="1589" y="5335"/>
                </a:lnTo>
                <a:lnTo>
                  <a:pt x="1583" y="5347"/>
                </a:lnTo>
                <a:lnTo>
                  <a:pt x="1579" y="5352"/>
                </a:lnTo>
                <a:lnTo>
                  <a:pt x="1577" y="5358"/>
                </a:lnTo>
                <a:lnTo>
                  <a:pt x="1576" y="5365"/>
                </a:lnTo>
                <a:lnTo>
                  <a:pt x="1575" y="5372"/>
                </a:lnTo>
                <a:lnTo>
                  <a:pt x="1576" y="5377"/>
                </a:lnTo>
                <a:lnTo>
                  <a:pt x="1577" y="5383"/>
                </a:lnTo>
                <a:lnTo>
                  <a:pt x="1578" y="5387"/>
                </a:lnTo>
                <a:lnTo>
                  <a:pt x="1580" y="5391"/>
                </a:lnTo>
                <a:lnTo>
                  <a:pt x="1586" y="5398"/>
                </a:lnTo>
                <a:lnTo>
                  <a:pt x="1592" y="5405"/>
                </a:lnTo>
                <a:lnTo>
                  <a:pt x="1608" y="5417"/>
                </a:lnTo>
                <a:lnTo>
                  <a:pt x="1623" y="5432"/>
                </a:lnTo>
                <a:lnTo>
                  <a:pt x="1628" y="5438"/>
                </a:lnTo>
                <a:lnTo>
                  <a:pt x="1631" y="5446"/>
                </a:lnTo>
                <a:lnTo>
                  <a:pt x="1633" y="5452"/>
                </a:lnTo>
                <a:lnTo>
                  <a:pt x="1633" y="5460"/>
                </a:lnTo>
                <a:lnTo>
                  <a:pt x="1634" y="5475"/>
                </a:lnTo>
                <a:lnTo>
                  <a:pt x="1633" y="5493"/>
                </a:lnTo>
                <a:lnTo>
                  <a:pt x="1632" y="5503"/>
                </a:lnTo>
                <a:lnTo>
                  <a:pt x="1631" y="5511"/>
                </a:lnTo>
                <a:lnTo>
                  <a:pt x="1628" y="5519"/>
                </a:lnTo>
                <a:lnTo>
                  <a:pt x="1625" y="5527"/>
                </a:lnTo>
                <a:lnTo>
                  <a:pt x="1622" y="5535"/>
                </a:lnTo>
                <a:lnTo>
                  <a:pt x="1620" y="5543"/>
                </a:lnTo>
                <a:lnTo>
                  <a:pt x="1617" y="5551"/>
                </a:lnTo>
                <a:lnTo>
                  <a:pt x="1616" y="5561"/>
                </a:lnTo>
                <a:lnTo>
                  <a:pt x="1616" y="5566"/>
                </a:lnTo>
                <a:lnTo>
                  <a:pt x="1617" y="5570"/>
                </a:lnTo>
                <a:lnTo>
                  <a:pt x="1620" y="5576"/>
                </a:lnTo>
                <a:lnTo>
                  <a:pt x="1622" y="5580"/>
                </a:lnTo>
                <a:lnTo>
                  <a:pt x="1626" y="5587"/>
                </a:lnTo>
                <a:lnTo>
                  <a:pt x="1631" y="5595"/>
                </a:lnTo>
                <a:lnTo>
                  <a:pt x="1637" y="5602"/>
                </a:lnTo>
                <a:lnTo>
                  <a:pt x="1642" y="5610"/>
                </a:lnTo>
                <a:lnTo>
                  <a:pt x="1644" y="5614"/>
                </a:lnTo>
                <a:lnTo>
                  <a:pt x="1646" y="5619"/>
                </a:lnTo>
                <a:lnTo>
                  <a:pt x="1647" y="5623"/>
                </a:lnTo>
                <a:lnTo>
                  <a:pt x="1647" y="5629"/>
                </a:lnTo>
                <a:lnTo>
                  <a:pt x="1646" y="5639"/>
                </a:lnTo>
                <a:lnTo>
                  <a:pt x="1645" y="5648"/>
                </a:lnTo>
                <a:lnTo>
                  <a:pt x="1643" y="5657"/>
                </a:lnTo>
                <a:lnTo>
                  <a:pt x="1641" y="5667"/>
                </a:lnTo>
                <a:lnTo>
                  <a:pt x="1635" y="5664"/>
                </a:lnTo>
                <a:lnTo>
                  <a:pt x="1630" y="5663"/>
                </a:lnTo>
                <a:lnTo>
                  <a:pt x="1626" y="5661"/>
                </a:lnTo>
                <a:lnTo>
                  <a:pt x="1622" y="5658"/>
                </a:lnTo>
                <a:lnTo>
                  <a:pt x="1614" y="5652"/>
                </a:lnTo>
                <a:lnTo>
                  <a:pt x="1608" y="5644"/>
                </a:lnTo>
                <a:lnTo>
                  <a:pt x="1602" y="5637"/>
                </a:lnTo>
                <a:lnTo>
                  <a:pt x="1594" y="5631"/>
                </a:lnTo>
                <a:lnTo>
                  <a:pt x="1590" y="5629"/>
                </a:lnTo>
                <a:lnTo>
                  <a:pt x="1586" y="5626"/>
                </a:lnTo>
                <a:lnTo>
                  <a:pt x="1580" y="5625"/>
                </a:lnTo>
                <a:lnTo>
                  <a:pt x="1575" y="5625"/>
                </a:lnTo>
                <a:lnTo>
                  <a:pt x="1569" y="5629"/>
                </a:lnTo>
                <a:lnTo>
                  <a:pt x="1562" y="5632"/>
                </a:lnTo>
                <a:lnTo>
                  <a:pt x="1574" y="5664"/>
                </a:lnTo>
                <a:lnTo>
                  <a:pt x="1585" y="5695"/>
                </a:lnTo>
                <a:lnTo>
                  <a:pt x="1593" y="5723"/>
                </a:lnTo>
                <a:lnTo>
                  <a:pt x="1602" y="5750"/>
                </a:lnTo>
                <a:lnTo>
                  <a:pt x="1610" y="5778"/>
                </a:lnTo>
                <a:lnTo>
                  <a:pt x="1618" y="5807"/>
                </a:lnTo>
                <a:lnTo>
                  <a:pt x="1627" y="5837"/>
                </a:lnTo>
                <a:lnTo>
                  <a:pt x="1636" y="5870"/>
                </a:lnTo>
                <a:lnTo>
                  <a:pt x="1626" y="5851"/>
                </a:lnTo>
                <a:lnTo>
                  <a:pt x="1615" y="5835"/>
                </a:lnTo>
                <a:lnTo>
                  <a:pt x="1604" y="5822"/>
                </a:lnTo>
                <a:lnTo>
                  <a:pt x="1592" y="5809"/>
                </a:lnTo>
                <a:lnTo>
                  <a:pt x="1580" y="5797"/>
                </a:lnTo>
                <a:lnTo>
                  <a:pt x="1569" y="5784"/>
                </a:lnTo>
                <a:lnTo>
                  <a:pt x="1558" y="5769"/>
                </a:lnTo>
                <a:lnTo>
                  <a:pt x="1549" y="5751"/>
                </a:lnTo>
                <a:lnTo>
                  <a:pt x="1538" y="5728"/>
                </a:lnTo>
                <a:lnTo>
                  <a:pt x="1531" y="5707"/>
                </a:lnTo>
                <a:lnTo>
                  <a:pt x="1524" y="5686"/>
                </a:lnTo>
                <a:lnTo>
                  <a:pt x="1517" y="5664"/>
                </a:lnTo>
                <a:lnTo>
                  <a:pt x="1514" y="5655"/>
                </a:lnTo>
                <a:lnTo>
                  <a:pt x="1510" y="5645"/>
                </a:lnTo>
                <a:lnTo>
                  <a:pt x="1504" y="5637"/>
                </a:lnTo>
                <a:lnTo>
                  <a:pt x="1499" y="5627"/>
                </a:lnTo>
                <a:lnTo>
                  <a:pt x="1493" y="5619"/>
                </a:lnTo>
                <a:lnTo>
                  <a:pt x="1485" y="5611"/>
                </a:lnTo>
                <a:lnTo>
                  <a:pt x="1477" y="5602"/>
                </a:lnTo>
                <a:lnTo>
                  <a:pt x="1466" y="5595"/>
                </a:lnTo>
                <a:lnTo>
                  <a:pt x="1466" y="5578"/>
                </a:lnTo>
                <a:lnTo>
                  <a:pt x="1480" y="5577"/>
                </a:lnTo>
                <a:lnTo>
                  <a:pt x="1492" y="5576"/>
                </a:lnTo>
                <a:lnTo>
                  <a:pt x="1502" y="5575"/>
                </a:lnTo>
                <a:lnTo>
                  <a:pt x="1513" y="5572"/>
                </a:lnTo>
                <a:lnTo>
                  <a:pt x="1523" y="5569"/>
                </a:lnTo>
                <a:lnTo>
                  <a:pt x="1534" y="5565"/>
                </a:lnTo>
                <a:lnTo>
                  <a:pt x="1545" y="5560"/>
                </a:lnTo>
                <a:lnTo>
                  <a:pt x="1555" y="5554"/>
                </a:lnTo>
                <a:lnTo>
                  <a:pt x="1552" y="5544"/>
                </a:lnTo>
                <a:lnTo>
                  <a:pt x="1548" y="5535"/>
                </a:lnTo>
                <a:lnTo>
                  <a:pt x="1543" y="5526"/>
                </a:lnTo>
                <a:lnTo>
                  <a:pt x="1538" y="5518"/>
                </a:lnTo>
                <a:lnTo>
                  <a:pt x="1529" y="5502"/>
                </a:lnTo>
                <a:lnTo>
                  <a:pt x="1519" y="5487"/>
                </a:lnTo>
                <a:lnTo>
                  <a:pt x="1511" y="5472"/>
                </a:lnTo>
                <a:lnTo>
                  <a:pt x="1503" y="5456"/>
                </a:lnTo>
                <a:lnTo>
                  <a:pt x="1500" y="5447"/>
                </a:lnTo>
                <a:lnTo>
                  <a:pt x="1497" y="5438"/>
                </a:lnTo>
                <a:lnTo>
                  <a:pt x="1495" y="5429"/>
                </a:lnTo>
                <a:lnTo>
                  <a:pt x="1494" y="5418"/>
                </a:lnTo>
                <a:lnTo>
                  <a:pt x="1480" y="5422"/>
                </a:lnTo>
                <a:lnTo>
                  <a:pt x="1473" y="5434"/>
                </a:lnTo>
                <a:lnTo>
                  <a:pt x="1467" y="5446"/>
                </a:lnTo>
                <a:lnTo>
                  <a:pt x="1463" y="5459"/>
                </a:lnTo>
                <a:lnTo>
                  <a:pt x="1457" y="5472"/>
                </a:lnTo>
                <a:lnTo>
                  <a:pt x="1453" y="5443"/>
                </a:lnTo>
                <a:lnTo>
                  <a:pt x="1448" y="5416"/>
                </a:lnTo>
                <a:lnTo>
                  <a:pt x="1446" y="5390"/>
                </a:lnTo>
                <a:lnTo>
                  <a:pt x="1443" y="5360"/>
                </a:lnTo>
                <a:lnTo>
                  <a:pt x="1423" y="5359"/>
                </a:lnTo>
                <a:lnTo>
                  <a:pt x="1405" y="5356"/>
                </a:lnTo>
                <a:lnTo>
                  <a:pt x="1398" y="5354"/>
                </a:lnTo>
                <a:lnTo>
                  <a:pt x="1390" y="5350"/>
                </a:lnTo>
                <a:lnTo>
                  <a:pt x="1387" y="5347"/>
                </a:lnTo>
                <a:lnTo>
                  <a:pt x="1384" y="5344"/>
                </a:lnTo>
                <a:lnTo>
                  <a:pt x="1381" y="5340"/>
                </a:lnTo>
                <a:lnTo>
                  <a:pt x="1379" y="5337"/>
                </a:lnTo>
                <a:lnTo>
                  <a:pt x="1368" y="5311"/>
                </a:lnTo>
                <a:lnTo>
                  <a:pt x="1361" y="5284"/>
                </a:lnTo>
                <a:lnTo>
                  <a:pt x="1359" y="5278"/>
                </a:lnTo>
                <a:lnTo>
                  <a:pt x="1356" y="5273"/>
                </a:lnTo>
                <a:lnTo>
                  <a:pt x="1352" y="5267"/>
                </a:lnTo>
                <a:lnTo>
                  <a:pt x="1349" y="5263"/>
                </a:lnTo>
                <a:lnTo>
                  <a:pt x="1345" y="5260"/>
                </a:lnTo>
                <a:lnTo>
                  <a:pt x="1340" y="5257"/>
                </a:lnTo>
                <a:lnTo>
                  <a:pt x="1334" y="5256"/>
                </a:lnTo>
                <a:lnTo>
                  <a:pt x="1328" y="5255"/>
                </a:lnTo>
                <a:lnTo>
                  <a:pt x="1319" y="5256"/>
                </a:lnTo>
                <a:lnTo>
                  <a:pt x="1311" y="5258"/>
                </a:lnTo>
                <a:lnTo>
                  <a:pt x="1303" y="5260"/>
                </a:lnTo>
                <a:lnTo>
                  <a:pt x="1293" y="5262"/>
                </a:lnTo>
                <a:lnTo>
                  <a:pt x="1272" y="5277"/>
                </a:lnTo>
                <a:lnTo>
                  <a:pt x="1253" y="5291"/>
                </a:lnTo>
                <a:lnTo>
                  <a:pt x="1243" y="5297"/>
                </a:lnTo>
                <a:lnTo>
                  <a:pt x="1233" y="5302"/>
                </a:lnTo>
                <a:lnTo>
                  <a:pt x="1227" y="5303"/>
                </a:lnTo>
                <a:lnTo>
                  <a:pt x="1221" y="5305"/>
                </a:lnTo>
                <a:lnTo>
                  <a:pt x="1215" y="5305"/>
                </a:lnTo>
                <a:lnTo>
                  <a:pt x="1208" y="5306"/>
                </a:lnTo>
                <a:lnTo>
                  <a:pt x="1113" y="5306"/>
                </a:lnTo>
                <a:lnTo>
                  <a:pt x="1094" y="5305"/>
                </a:lnTo>
                <a:lnTo>
                  <a:pt x="1076" y="5305"/>
                </a:lnTo>
                <a:lnTo>
                  <a:pt x="1059" y="5304"/>
                </a:lnTo>
                <a:lnTo>
                  <a:pt x="1043" y="5302"/>
                </a:lnTo>
                <a:lnTo>
                  <a:pt x="1028" y="5299"/>
                </a:lnTo>
                <a:lnTo>
                  <a:pt x="1011" y="5295"/>
                </a:lnTo>
                <a:lnTo>
                  <a:pt x="995" y="5290"/>
                </a:lnTo>
                <a:lnTo>
                  <a:pt x="977" y="5282"/>
                </a:lnTo>
                <a:lnTo>
                  <a:pt x="969" y="5279"/>
                </a:lnTo>
                <a:lnTo>
                  <a:pt x="961" y="5279"/>
                </a:lnTo>
                <a:lnTo>
                  <a:pt x="952" y="5279"/>
                </a:lnTo>
                <a:lnTo>
                  <a:pt x="944" y="5280"/>
                </a:lnTo>
                <a:lnTo>
                  <a:pt x="936" y="5281"/>
                </a:lnTo>
                <a:lnTo>
                  <a:pt x="928" y="5281"/>
                </a:lnTo>
                <a:lnTo>
                  <a:pt x="918" y="5281"/>
                </a:lnTo>
                <a:lnTo>
                  <a:pt x="910" y="5279"/>
                </a:lnTo>
                <a:lnTo>
                  <a:pt x="904" y="5276"/>
                </a:lnTo>
                <a:lnTo>
                  <a:pt x="899" y="5273"/>
                </a:lnTo>
                <a:lnTo>
                  <a:pt x="894" y="5268"/>
                </a:lnTo>
                <a:lnTo>
                  <a:pt x="890" y="5263"/>
                </a:lnTo>
                <a:lnTo>
                  <a:pt x="886" y="5259"/>
                </a:lnTo>
                <a:lnTo>
                  <a:pt x="881" y="5255"/>
                </a:lnTo>
                <a:lnTo>
                  <a:pt x="875" y="5253"/>
                </a:lnTo>
                <a:lnTo>
                  <a:pt x="869" y="5252"/>
                </a:lnTo>
                <a:lnTo>
                  <a:pt x="862" y="5253"/>
                </a:lnTo>
                <a:lnTo>
                  <a:pt x="856" y="5255"/>
                </a:lnTo>
                <a:lnTo>
                  <a:pt x="851" y="5257"/>
                </a:lnTo>
                <a:lnTo>
                  <a:pt x="845" y="5260"/>
                </a:lnTo>
                <a:lnTo>
                  <a:pt x="840" y="5263"/>
                </a:lnTo>
                <a:lnTo>
                  <a:pt x="835" y="5266"/>
                </a:lnTo>
                <a:lnTo>
                  <a:pt x="829" y="5268"/>
                </a:lnTo>
                <a:lnTo>
                  <a:pt x="821" y="5268"/>
                </a:lnTo>
                <a:lnTo>
                  <a:pt x="816" y="5268"/>
                </a:lnTo>
                <a:lnTo>
                  <a:pt x="811" y="5267"/>
                </a:lnTo>
                <a:lnTo>
                  <a:pt x="806" y="5265"/>
                </a:lnTo>
                <a:lnTo>
                  <a:pt x="802" y="5264"/>
                </a:lnTo>
                <a:lnTo>
                  <a:pt x="794" y="5259"/>
                </a:lnTo>
                <a:lnTo>
                  <a:pt x="786" y="5253"/>
                </a:lnTo>
                <a:lnTo>
                  <a:pt x="779" y="5245"/>
                </a:lnTo>
                <a:lnTo>
                  <a:pt x="772" y="5239"/>
                </a:lnTo>
                <a:lnTo>
                  <a:pt x="763" y="5233"/>
                </a:lnTo>
                <a:lnTo>
                  <a:pt x="754" y="5228"/>
                </a:lnTo>
                <a:lnTo>
                  <a:pt x="728" y="5217"/>
                </a:lnTo>
                <a:lnTo>
                  <a:pt x="707" y="5206"/>
                </a:lnTo>
                <a:lnTo>
                  <a:pt x="696" y="5201"/>
                </a:lnTo>
                <a:lnTo>
                  <a:pt x="685" y="5196"/>
                </a:lnTo>
                <a:lnTo>
                  <a:pt x="672" y="5191"/>
                </a:lnTo>
                <a:lnTo>
                  <a:pt x="659" y="5187"/>
                </a:lnTo>
                <a:lnTo>
                  <a:pt x="662" y="5179"/>
                </a:lnTo>
                <a:lnTo>
                  <a:pt x="666" y="5170"/>
                </a:lnTo>
                <a:lnTo>
                  <a:pt x="671" y="5164"/>
                </a:lnTo>
                <a:lnTo>
                  <a:pt x="677" y="5157"/>
                </a:lnTo>
                <a:lnTo>
                  <a:pt x="687" y="5144"/>
                </a:lnTo>
                <a:lnTo>
                  <a:pt x="700" y="5129"/>
                </a:lnTo>
                <a:lnTo>
                  <a:pt x="708" y="5114"/>
                </a:lnTo>
                <a:lnTo>
                  <a:pt x="715" y="5101"/>
                </a:lnTo>
                <a:lnTo>
                  <a:pt x="719" y="5094"/>
                </a:lnTo>
                <a:lnTo>
                  <a:pt x="724" y="5090"/>
                </a:lnTo>
                <a:lnTo>
                  <a:pt x="726" y="5088"/>
                </a:lnTo>
                <a:lnTo>
                  <a:pt x="729" y="5087"/>
                </a:lnTo>
                <a:lnTo>
                  <a:pt x="734" y="5086"/>
                </a:lnTo>
                <a:lnTo>
                  <a:pt x="738" y="5086"/>
                </a:lnTo>
                <a:lnTo>
                  <a:pt x="834" y="5086"/>
                </a:lnTo>
                <a:lnTo>
                  <a:pt x="842" y="5085"/>
                </a:lnTo>
                <a:lnTo>
                  <a:pt x="850" y="5083"/>
                </a:lnTo>
                <a:lnTo>
                  <a:pt x="856" y="5081"/>
                </a:lnTo>
                <a:lnTo>
                  <a:pt x="862" y="5076"/>
                </a:lnTo>
                <a:lnTo>
                  <a:pt x="868" y="5072"/>
                </a:lnTo>
                <a:lnTo>
                  <a:pt x="872" y="5066"/>
                </a:lnTo>
                <a:lnTo>
                  <a:pt x="875" y="5059"/>
                </a:lnTo>
                <a:lnTo>
                  <a:pt x="876" y="5052"/>
                </a:lnTo>
                <a:lnTo>
                  <a:pt x="876" y="4969"/>
                </a:lnTo>
                <a:lnTo>
                  <a:pt x="875" y="4962"/>
                </a:lnTo>
                <a:lnTo>
                  <a:pt x="874" y="4956"/>
                </a:lnTo>
                <a:lnTo>
                  <a:pt x="871" y="4950"/>
                </a:lnTo>
                <a:lnTo>
                  <a:pt x="868" y="4945"/>
                </a:lnTo>
                <a:lnTo>
                  <a:pt x="864" y="4940"/>
                </a:lnTo>
                <a:lnTo>
                  <a:pt x="859" y="4937"/>
                </a:lnTo>
                <a:lnTo>
                  <a:pt x="854" y="4933"/>
                </a:lnTo>
                <a:lnTo>
                  <a:pt x="849" y="4930"/>
                </a:lnTo>
                <a:lnTo>
                  <a:pt x="823" y="4917"/>
                </a:lnTo>
                <a:lnTo>
                  <a:pt x="798" y="4902"/>
                </a:lnTo>
                <a:lnTo>
                  <a:pt x="793" y="4898"/>
                </a:lnTo>
                <a:lnTo>
                  <a:pt x="788" y="4893"/>
                </a:lnTo>
                <a:lnTo>
                  <a:pt x="785" y="4888"/>
                </a:lnTo>
                <a:lnTo>
                  <a:pt x="783" y="4883"/>
                </a:lnTo>
                <a:lnTo>
                  <a:pt x="778" y="4872"/>
                </a:lnTo>
                <a:lnTo>
                  <a:pt x="770" y="4861"/>
                </a:lnTo>
                <a:lnTo>
                  <a:pt x="764" y="4853"/>
                </a:lnTo>
                <a:lnTo>
                  <a:pt x="758" y="4846"/>
                </a:lnTo>
                <a:lnTo>
                  <a:pt x="750" y="4840"/>
                </a:lnTo>
                <a:lnTo>
                  <a:pt x="744" y="4834"/>
                </a:lnTo>
                <a:lnTo>
                  <a:pt x="729" y="4825"/>
                </a:lnTo>
                <a:lnTo>
                  <a:pt x="713" y="4818"/>
                </a:lnTo>
                <a:lnTo>
                  <a:pt x="698" y="4811"/>
                </a:lnTo>
                <a:lnTo>
                  <a:pt x="681" y="4806"/>
                </a:lnTo>
                <a:lnTo>
                  <a:pt x="662" y="4802"/>
                </a:lnTo>
                <a:lnTo>
                  <a:pt x="642" y="4796"/>
                </a:lnTo>
                <a:lnTo>
                  <a:pt x="642" y="4807"/>
                </a:lnTo>
                <a:lnTo>
                  <a:pt x="642" y="4817"/>
                </a:lnTo>
                <a:lnTo>
                  <a:pt x="642" y="4826"/>
                </a:lnTo>
                <a:lnTo>
                  <a:pt x="642" y="4838"/>
                </a:lnTo>
                <a:lnTo>
                  <a:pt x="635" y="4831"/>
                </a:lnTo>
                <a:lnTo>
                  <a:pt x="629" y="4826"/>
                </a:lnTo>
                <a:lnTo>
                  <a:pt x="624" y="4822"/>
                </a:lnTo>
                <a:lnTo>
                  <a:pt x="617" y="4818"/>
                </a:lnTo>
                <a:lnTo>
                  <a:pt x="605" y="4811"/>
                </a:lnTo>
                <a:lnTo>
                  <a:pt x="591" y="4806"/>
                </a:lnTo>
                <a:lnTo>
                  <a:pt x="577" y="4801"/>
                </a:lnTo>
                <a:lnTo>
                  <a:pt x="564" y="4795"/>
                </a:lnTo>
                <a:lnTo>
                  <a:pt x="550" y="4788"/>
                </a:lnTo>
                <a:lnTo>
                  <a:pt x="536" y="4780"/>
                </a:lnTo>
                <a:lnTo>
                  <a:pt x="516" y="4764"/>
                </a:lnTo>
                <a:lnTo>
                  <a:pt x="500" y="4748"/>
                </a:lnTo>
                <a:lnTo>
                  <a:pt x="492" y="4740"/>
                </a:lnTo>
                <a:lnTo>
                  <a:pt x="482" y="4733"/>
                </a:lnTo>
                <a:lnTo>
                  <a:pt x="473" y="4726"/>
                </a:lnTo>
                <a:lnTo>
                  <a:pt x="461" y="4718"/>
                </a:lnTo>
                <a:lnTo>
                  <a:pt x="451" y="4711"/>
                </a:lnTo>
                <a:lnTo>
                  <a:pt x="441" y="4704"/>
                </a:lnTo>
                <a:lnTo>
                  <a:pt x="433" y="4695"/>
                </a:lnTo>
                <a:lnTo>
                  <a:pt x="425" y="4687"/>
                </a:lnTo>
                <a:lnTo>
                  <a:pt x="413" y="4667"/>
                </a:lnTo>
                <a:lnTo>
                  <a:pt x="400" y="4643"/>
                </a:lnTo>
                <a:lnTo>
                  <a:pt x="392" y="4631"/>
                </a:lnTo>
                <a:lnTo>
                  <a:pt x="384" y="4619"/>
                </a:lnTo>
                <a:lnTo>
                  <a:pt x="374" y="4608"/>
                </a:lnTo>
                <a:lnTo>
                  <a:pt x="364" y="4600"/>
                </a:lnTo>
                <a:close/>
                <a:moveTo>
                  <a:pt x="1929" y="1680"/>
                </a:moveTo>
                <a:lnTo>
                  <a:pt x="1913" y="1803"/>
                </a:lnTo>
                <a:lnTo>
                  <a:pt x="1917" y="1804"/>
                </a:lnTo>
                <a:lnTo>
                  <a:pt x="1923" y="1804"/>
                </a:lnTo>
                <a:lnTo>
                  <a:pt x="1933" y="1803"/>
                </a:lnTo>
                <a:lnTo>
                  <a:pt x="1944" y="1801"/>
                </a:lnTo>
                <a:lnTo>
                  <a:pt x="1953" y="1795"/>
                </a:lnTo>
                <a:lnTo>
                  <a:pt x="1962" y="1790"/>
                </a:lnTo>
                <a:lnTo>
                  <a:pt x="1969" y="1782"/>
                </a:lnTo>
                <a:lnTo>
                  <a:pt x="1975" y="1773"/>
                </a:lnTo>
                <a:lnTo>
                  <a:pt x="1978" y="1769"/>
                </a:lnTo>
                <a:lnTo>
                  <a:pt x="1979" y="1764"/>
                </a:lnTo>
                <a:lnTo>
                  <a:pt x="1980" y="1759"/>
                </a:lnTo>
                <a:lnTo>
                  <a:pt x="1980" y="1753"/>
                </a:lnTo>
                <a:lnTo>
                  <a:pt x="1980" y="1747"/>
                </a:lnTo>
                <a:lnTo>
                  <a:pt x="1979" y="1742"/>
                </a:lnTo>
                <a:lnTo>
                  <a:pt x="1978" y="1737"/>
                </a:lnTo>
                <a:lnTo>
                  <a:pt x="1975" y="1732"/>
                </a:lnTo>
                <a:lnTo>
                  <a:pt x="1970" y="1725"/>
                </a:lnTo>
                <a:lnTo>
                  <a:pt x="1963" y="1717"/>
                </a:lnTo>
                <a:lnTo>
                  <a:pt x="1948" y="1703"/>
                </a:lnTo>
                <a:lnTo>
                  <a:pt x="1932" y="1686"/>
                </a:lnTo>
                <a:lnTo>
                  <a:pt x="1931" y="1682"/>
                </a:lnTo>
                <a:lnTo>
                  <a:pt x="1929" y="1680"/>
                </a:lnTo>
                <a:close/>
                <a:moveTo>
                  <a:pt x="1899" y="1893"/>
                </a:moveTo>
                <a:lnTo>
                  <a:pt x="1893" y="1944"/>
                </a:lnTo>
                <a:lnTo>
                  <a:pt x="1897" y="1941"/>
                </a:lnTo>
                <a:lnTo>
                  <a:pt x="1900" y="1938"/>
                </a:lnTo>
                <a:lnTo>
                  <a:pt x="1904" y="1935"/>
                </a:lnTo>
                <a:lnTo>
                  <a:pt x="1907" y="1931"/>
                </a:lnTo>
                <a:lnTo>
                  <a:pt x="1909" y="1926"/>
                </a:lnTo>
                <a:lnTo>
                  <a:pt x="1911" y="1922"/>
                </a:lnTo>
                <a:lnTo>
                  <a:pt x="1912" y="1918"/>
                </a:lnTo>
                <a:lnTo>
                  <a:pt x="1912" y="1913"/>
                </a:lnTo>
                <a:lnTo>
                  <a:pt x="1911" y="1905"/>
                </a:lnTo>
                <a:lnTo>
                  <a:pt x="1908" y="1900"/>
                </a:lnTo>
                <a:lnTo>
                  <a:pt x="1905" y="1896"/>
                </a:lnTo>
                <a:lnTo>
                  <a:pt x="1899" y="1893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59"/>
          <p:cNvSpPr/>
          <p:nvPr/>
        </p:nvSpPr>
        <p:spPr>
          <a:xfrm>
            <a:off x="1774800" y="879480"/>
            <a:ext cx="2076480" cy="31305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3130560"/>
              <a:gd name="textAreaBottom" fmla="*/ 3130920 h 3130560"/>
            </a:gdLst>
            <a:ahLst/>
            <a:rect l="textAreaLeft" t="textAreaTop" r="textAreaRight" b="textAreaBottom"/>
            <a:pathLst>
              <a:path w="4262" h="6415">
                <a:moveTo>
                  <a:pt x="3899" y="29"/>
                </a:moveTo>
                <a:lnTo>
                  <a:pt x="3883" y="152"/>
                </a:lnTo>
                <a:lnTo>
                  <a:pt x="3875" y="148"/>
                </a:lnTo>
                <a:lnTo>
                  <a:pt x="3867" y="142"/>
                </a:lnTo>
                <a:lnTo>
                  <a:pt x="3861" y="136"/>
                </a:lnTo>
                <a:lnTo>
                  <a:pt x="3855" y="130"/>
                </a:lnTo>
                <a:lnTo>
                  <a:pt x="3848" y="123"/>
                </a:lnTo>
                <a:lnTo>
                  <a:pt x="3842" y="117"/>
                </a:lnTo>
                <a:lnTo>
                  <a:pt x="3838" y="115"/>
                </a:lnTo>
                <a:lnTo>
                  <a:pt x="3833" y="114"/>
                </a:lnTo>
                <a:lnTo>
                  <a:pt x="3829" y="113"/>
                </a:lnTo>
                <a:lnTo>
                  <a:pt x="3824" y="113"/>
                </a:lnTo>
                <a:lnTo>
                  <a:pt x="3818" y="113"/>
                </a:lnTo>
                <a:lnTo>
                  <a:pt x="3812" y="116"/>
                </a:lnTo>
                <a:lnTo>
                  <a:pt x="3807" y="119"/>
                </a:lnTo>
                <a:lnTo>
                  <a:pt x="3803" y="123"/>
                </a:lnTo>
                <a:lnTo>
                  <a:pt x="3799" y="129"/>
                </a:lnTo>
                <a:lnTo>
                  <a:pt x="3794" y="134"/>
                </a:lnTo>
                <a:lnTo>
                  <a:pt x="3789" y="138"/>
                </a:lnTo>
                <a:lnTo>
                  <a:pt x="3784" y="142"/>
                </a:lnTo>
                <a:lnTo>
                  <a:pt x="3777" y="137"/>
                </a:lnTo>
                <a:lnTo>
                  <a:pt x="3770" y="133"/>
                </a:lnTo>
                <a:lnTo>
                  <a:pt x="3764" y="130"/>
                </a:lnTo>
                <a:lnTo>
                  <a:pt x="3756" y="128"/>
                </a:lnTo>
                <a:lnTo>
                  <a:pt x="3741" y="125"/>
                </a:lnTo>
                <a:lnTo>
                  <a:pt x="3726" y="124"/>
                </a:lnTo>
                <a:lnTo>
                  <a:pt x="3710" y="123"/>
                </a:lnTo>
                <a:lnTo>
                  <a:pt x="3695" y="120"/>
                </a:lnTo>
                <a:lnTo>
                  <a:pt x="3688" y="118"/>
                </a:lnTo>
                <a:lnTo>
                  <a:pt x="3681" y="115"/>
                </a:lnTo>
                <a:lnTo>
                  <a:pt x="3674" y="111"/>
                </a:lnTo>
                <a:lnTo>
                  <a:pt x="3668" y="105"/>
                </a:lnTo>
                <a:lnTo>
                  <a:pt x="3677" y="101"/>
                </a:lnTo>
                <a:lnTo>
                  <a:pt x="3685" y="96"/>
                </a:lnTo>
                <a:lnTo>
                  <a:pt x="3692" y="90"/>
                </a:lnTo>
                <a:lnTo>
                  <a:pt x="3697" y="83"/>
                </a:lnTo>
                <a:lnTo>
                  <a:pt x="3704" y="76"/>
                </a:lnTo>
                <a:lnTo>
                  <a:pt x="3710" y="70"/>
                </a:lnTo>
                <a:lnTo>
                  <a:pt x="3717" y="63"/>
                </a:lnTo>
                <a:lnTo>
                  <a:pt x="3726" y="58"/>
                </a:lnTo>
                <a:lnTo>
                  <a:pt x="3734" y="55"/>
                </a:lnTo>
                <a:lnTo>
                  <a:pt x="3743" y="53"/>
                </a:lnTo>
                <a:lnTo>
                  <a:pt x="3750" y="53"/>
                </a:lnTo>
                <a:lnTo>
                  <a:pt x="3758" y="54"/>
                </a:lnTo>
                <a:lnTo>
                  <a:pt x="3775" y="57"/>
                </a:lnTo>
                <a:lnTo>
                  <a:pt x="3793" y="58"/>
                </a:lnTo>
                <a:lnTo>
                  <a:pt x="3800" y="57"/>
                </a:lnTo>
                <a:lnTo>
                  <a:pt x="3806" y="55"/>
                </a:lnTo>
                <a:lnTo>
                  <a:pt x="3811" y="52"/>
                </a:lnTo>
                <a:lnTo>
                  <a:pt x="3817" y="48"/>
                </a:lnTo>
                <a:lnTo>
                  <a:pt x="3825" y="39"/>
                </a:lnTo>
                <a:lnTo>
                  <a:pt x="3832" y="28"/>
                </a:lnTo>
                <a:lnTo>
                  <a:pt x="3841" y="18"/>
                </a:lnTo>
                <a:lnTo>
                  <a:pt x="3849" y="9"/>
                </a:lnTo>
                <a:lnTo>
                  <a:pt x="3854" y="5"/>
                </a:lnTo>
                <a:lnTo>
                  <a:pt x="3859" y="3"/>
                </a:lnTo>
                <a:lnTo>
                  <a:pt x="3865" y="1"/>
                </a:lnTo>
                <a:lnTo>
                  <a:pt x="3871" y="0"/>
                </a:lnTo>
                <a:lnTo>
                  <a:pt x="3877" y="1"/>
                </a:lnTo>
                <a:lnTo>
                  <a:pt x="3882" y="3"/>
                </a:lnTo>
                <a:lnTo>
                  <a:pt x="3885" y="6"/>
                </a:lnTo>
                <a:lnTo>
                  <a:pt x="3888" y="9"/>
                </a:lnTo>
                <a:lnTo>
                  <a:pt x="3894" y="19"/>
                </a:lnTo>
                <a:lnTo>
                  <a:pt x="3899" y="29"/>
                </a:lnTo>
                <a:close/>
                <a:moveTo>
                  <a:pt x="3505" y="228"/>
                </a:moveTo>
                <a:lnTo>
                  <a:pt x="3523" y="249"/>
                </a:lnTo>
                <a:lnTo>
                  <a:pt x="3538" y="270"/>
                </a:lnTo>
                <a:lnTo>
                  <a:pt x="3546" y="280"/>
                </a:lnTo>
                <a:lnTo>
                  <a:pt x="3556" y="288"/>
                </a:lnTo>
                <a:lnTo>
                  <a:pt x="3561" y="291"/>
                </a:lnTo>
                <a:lnTo>
                  <a:pt x="3566" y="294"/>
                </a:lnTo>
                <a:lnTo>
                  <a:pt x="3573" y="298"/>
                </a:lnTo>
                <a:lnTo>
                  <a:pt x="3580" y="299"/>
                </a:lnTo>
                <a:lnTo>
                  <a:pt x="3586" y="287"/>
                </a:lnTo>
                <a:lnTo>
                  <a:pt x="3594" y="276"/>
                </a:lnTo>
                <a:lnTo>
                  <a:pt x="3598" y="270"/>
                </a:lnTo>
                <a:lnTo>
                  <a:pt x="3600" y="265"/>
                </a:lnTo>
                <a:lnTo>
                  <a:pt x="3602" y="259"/>
                </a:lnTo>
                <a:lnTo>
                  <a:pt x="3603" y="251"/>
                </a:lnTo>
                <a:lnTo>
                  <a:pt x="3603" y="243"/>
                </a:lnTo>
                <a:lnTo>
                  <a:pt x="3601" y="234"/>
                </a:lnTo>
                <a:lnTo>
                  <a:pt x="3598" y="227"/>
                </a:lnTo>
                <a:lnTo>
                  <a:pt x="3595" y="219"/>
                </a:lnTo>
                <a:lnTo>
                  <a:pt x="3585" y="207"/>
                </a:lnTo>
                <a:lnTo>
                  <a:pt x="3573" y="194"/>
                </a:lnTo>
                <a:lnTo>
                  <a:pt x="3569" y="189"/>
                </a:lnTo>
                <a:lnTo>
                  <a:pt x="3566" y="184"/>
                </a:lnTo>
                <a:lnTo>
                  <a:pt x="3565" y="181"/>
                </a:lnTo>
                <a:lnTo>
                  <a:pt x="3563" y="180"/>
                </a:lnTo>
                <a:lnTo>
                  <a:pt x="3561" y="179"/>
                </a:lnTo>
                <a:lnTo>
                  <a:pt x="3559" y="180"/>
                </a:lnTo>
                <a:lnTo>
                  <a:pt x="3550" y="185"/>
                </a:lnTo>
                <a:lnTo>
                  <a:pt x="3542" y="190"/>
                </a:lnTo>
                <a:lnTo>
                  <a:pt x="3536" y="195"/>
                </a:lnTo>
                <a:lnTo>
                  <a:pt x="3528" y="200"/>
                </a:lnTo>
                <a:lnTo>
                  <a:pt x="3522" y="206"/>
                </a:lnTo>
                <a:lnTo>
                  <a:pt x="3517" y="213"/>
                </a:lnTo>
                <a:lnTo>
                  <a:pt x="3510" y="219"/>
                </a:lnTo>
                <a:lnTo>
                  <a:pt x="3505" y="228"/>
                </a:lnTo>
                <a:close/>
                <a:moveTo>
                  <a:pt x="3869" y="242"/>
                </a:moveTo>
                <a:lnTo>
                  <a:pt x="3858" y="237"/>
                </a:lnTo>
                <a:lnTo>
                  <a:pt x="3845" y="235"/>
                </a:lnTo>
                <a:lnTo>
                  <a:pt x="3830" y="233"/>
                </a:lnTo>
                <a:lnTo>
                  <a:pt x="3818" y="231"/>
                </a:lnTo>
                <a:lnTo>
                  <a:pt x="3807" y="228"/>
                </a:lnTo>
                <a:lnTo>
                  <a:pt x="3798" y="224"/>
                </a:lnTo>
                <a:lnTo>
                  <a:pt x="3788" y="219"/>
                </a:lnTo>
                <a:lnTo>
                  <a:pt x="3780" y="214"/>
                </a:lnTo>
                <a:lnTo>
                  <a:pt x="3771" y="210"/>
                </a:lnTo>
                <a:lnTo>
                  <a:pt x="3763" y="208"/>
                </a:lnTo>
                <a:lnTo>
                  <a:pt x="3758" y="207"/>
                </a:lnTo>
                <a:lnTo>
                  <a:pt x="3753" y="206"/>
                </a:lnTo>
                <a:lnTo>
                  <a:pt x="3748" y="207"/>
                </a:lnTo>
                <a:lnTo>
                  <a:pt x="3743" y="208"/>
                </a:lnTo>
                <a:lnTo>
                  <a:pt x="3736" y="209"/>
                </a:lnTo>
                <a:lnTo>
                  <a:pt x="3731" y="212"/>
                </a:lnTo>
                <a:lnTo>
                  <a:pt x="3727" y="216"/>
                </a:lnTo>
                <a:lnTo>
                  <a:pt x="3723" y="221"/>
                </a:lnTo>
                <a:lnTo>
                  <a:pt x="3715" y="230"/>
                </a:lnTo>
                <a:lnTo>
                  <a:pt x="3706" y="238"/>
                </a:lnTo>
                <a:lnTo>
                  <a:pt x="3698" y="242"/>
                </a:lnTo>
                <a:lnTo>
                  <a:pt x="3691" y="244"/>
                </a:lnTo>
                <a:lnTo>
                  <a:pt x="3684" y="244"/>
                </a:lnTo>
                <a:lnTo>
                  <a:pt x="3676" y="245"/>
                </a:lnTo>
                <a:lnTo>
                  <a:pt x="3669" y="245"/>
                </a:lnTo>
                <a:lnTo>
                  <a:pt x="3662" y="247"/>
                </a:lnTo>
                <a:lnTo>
                  <a:pt x="3659" y="248"/>
                </a:lnTo>
                <a:lnTo>
                  <a:pt x="3656" y="250"/>
                </a:lnTo>
                <a:lnTo>
                  <a:pt x="3653" y="252"/>
                </a:lnTo>
                <a:lnTo>
                  <a:pt x="3651" y="255"/>
                </a:lnTo>
                <a:lnTo>
                  <a:pt x="3650" y="257"/>
                </a:lnTo>
                <a:lnTo>
                  <a:pt x="3649" y="261"/>
                </a:lnTo>
                <a:lnTo>
                  <a:pt x="3649" y="265"/>
                </a:lnTo>
                <a:lnTo>
                  <a:pt x="3650" y="268"/>
                </a:lnTo>
                <a:lnTo>
                  <a:pt x="3651" y="275"/>
                </a:lnTo>
                <a:lnTo>
                  <a:pt x="3651" y="282"/>
                </a:lnTo>
                <a:lnTo>
                  <a:pt x="3648" y="293"/>
                </a:lnTo>
                <a:lnTo>
                  <a:pt x="3644" y="304"/>
                </a:lnTo>
                <a:lnTo>
                  <a:pt x="3640" y="313"/>
                </a:lnTo>
                <a:lnTo>
                  <a:pt x="3635" y="323"/>
                </a:lnTo>
                <a:lnTo>
                  <a:pt x="3631" y="331"/>
                </a:lnTo>
                <a:lnTo>
                  <a:pt x="3628" y="342"/>
                </a:lnTo>
                <a:lnTo>
                  <a:pt x="3624" y="351"/>
                </a:lnTo>
                <a:lnTo>
                  <a:pt x="3623" y="364"/>
                </a:lnTo>
                <a:lnTo>
                  <a:pt x="3624" y="370"/>
                </a:lnTo>
                <a:lnTo>
                  <a:pt x="3628" y="376"/>
                </a:lnTo>
                <a:lnTo>
                  <a:pt x="3632" y="381"/>
                </a:lnTo>
                <a:lnTo>
                  <a:pt x="3637" y="385"/>
                </a:lnTo>
                <a:lnTo>
                  <a:pt x="3642" y="389"/>
                </a:lnTo>
                <a:lnTo>
                  <a:pt x="3648" y="394"/>
                </a:lnTo>
                <a:lnTo>
                  <a:pt x="3653" y="399"/>
                </a:lnTo>
                <a:lnTo>
                  <a:pt x="3658" y="404"/>
                </a:lnTo>
                <a:lnTo>
                  <a:pt x="3664" y="418"/>
                </a:lnTo>
                <a:lnTo>
                  <a:pt x="3671" y="431"/>
                </a:lnTo>
                <a:lnTo>
                  <a:pt x="3675" y="437"/>
                </a:lnTo>
                <a:lnTo>
                  <a:pt x="3679" y="441"/>
                </a:lnTo>
                <a:lnTo>
                  <a:pt x="3681" y="443"/>
                </a:lnTo>
                <a:lnTo>
                  <a:pt x="3685" y="444"/>
                </a:lnTo>
                <a:lnTo>
                  <a:pt x="3688" y="444"/>
                </a:lnTo>
                <a:lnTo>
                  <a:pt x="3692" y="445"/>
                </a:lnTo>
                <a:lnTo>
                  <a:pt x="3703" y="444"/>
                </a:lnTo>
                <a:lnTo>
                  <a:pt x="3714" y="444"/>
                </a:lnTo>
                <a:lnTo>
                  <a:pt x="3724" y="442"/>
                </a:lnTo>
                <a:lnTo>
                  <a:pt x="3733" y="441"/>
                </a:lnTo>
                <a:lnTo>
                  <a:pt x="3752" y="436"/>
                </a:lnTo>
                <a:lnTo>
                  <a:pt x="3770" y="430"/>
                </a:lnTo>
                <a:lnTo>
                  <a:pt x="3787" y="421"/>
                </a:lnTo>
                <a:lnTo>
                  <a:pt x="3804" y="413"/>
                </a:lnTo>
                <a:lnTo>
                  <a:pt x="3822" y="402"/>
                </a:lnTo>
                <a:lnTo>
                  <a:pt x="3841" y="391"/>
                </a:lnTo>
                <a:lnTo>
                  <a:pt x="3841" y="346"/>
                </a:lnTo>
                <a:lnTo>
                  <a:pt x="3827" y="345"/>
                </a:lnTo>
                <a:lnTo>
                  <a:pt x="3814" y="345"/>
                </a:lnTo>
                <a:lnTo>
                  <a:pt x="3801" y="345"/>
                </a:lnTo>
                <a:lnTo>
                  <a:pt x="3787" y="346"/>
                </a:lnTo>
                <a:lnTo>
                  <a:pt x="3787" y="303"/>
                </a:lnTo>
                <a:lnTo>
                  <a:pt x="3798" y="303"/>
                </a:lnTo>
                <a:lnTo>
                  <a:pt x="3807" y="302"/>
                </a:lnTo>
                <a:lnTo>
                  <a:pt x="3817" y="303"/>
                </a:lnTo>
                <a:lnTo>
                  <a:pt x="3827" y="303"/>
                </a:lnTo>
                <a:lnTo>
                  <a:pt x="3837" y="302"/>
                </a:lnTo>
                <a:lnTo>
                  <a:pt x="3846" y="300"/>
                </a:lnTo>
                <a:lnTo>
                  <a:pt x="3855" y="298"/>
                </a:lnTo>
                <a:lnTo>
                  <a:pt x="3863" y="293"/>
                </a:lnTo>
                <a:lnTo>
                  <a:pt x="3869" y="242"/>
                </a:lnTo>
                <a:close/>
                <a:moveTo>
                  <a:pt x="3318" y="360"/>
                </a:moveTo>
                <a:lnTo>
                  <a:pt x="3318" y="366"/>
                </a:lnTo>
                <a:lnTo>
                  <a:pt x="3320" y="373"/>
                </a:lnTo>
                <a:lnTo>
                  <a:pt x="3321" y="378"/>
                </a:lnTo>
                <a:lnTo>
                  <a:pt x="3324" y="383"/>
                </a:lnTo>
                <a:lnTo>
                  <a:pt x="3330" y="393"/>
                </a:lnTo>
                <a:lnTo>
                  <a:pt x="3335" y="404"/>
                </a:lnTo>
                <a:lnTo>
                  <a:pt x="3326" y="408"/>
                </a:lnTo>
                <a:lnTo>
                  <a:pt x="3315" y="412"/>
                </a:lnTo>
                <a:lnTo>
                  <a:pt x="3307" y="411"/>
                </a:lnTo>
                <a:lnTo>
                  <a:pt x="3300" y="410"/>
                </a:lnTo>
                <a:lnTo>
                  <a:pt x="3293" y="407"/>
                </a:lnTo>
                <a:lnTo>
                  <a:pt x="3286" y="404"/>
                </a:lnTo>
                <a:lnTo>
                  <a:pt x="3281" y="400"/>
                </a:lnTo>
                <a:lnTo>
                  <a:pt x="3276" y="396"/>
                </a:lnTo>
                <a:lnTo>
                  <a:pt x="3272" y="391"/>
                </a:lnTo>
                <a:lnTo>
                  <a:pt x="3267" y="384"/>
                </a:lnTo>
                <a:lnTo>
                  <a:pt x="3264" y="376"/>
                </a:lnTo>
                <a:lnTo>
                  <a:pt x="3261" y="366"/>
                </a:lnTo>
                <a:lnTo>
                  <a:pt x="3259" y="363"/>
                </a:lnTo>
                <a:lnTo>
                  <a:pt x="3257" y="360"/>
                </a:lnTo>
                <a:lnTo>
                  <a:pt x="3254" y="358"/>
                </a:lnTo>
                <a:lnTo>
                  <a:pt x="3251" y="357"/>
                </a:lnTo>
                <a:lnTo>
                  <a:pt x="3243" y="358"/>
                </a:lnTo>
                <a:lnTo>
                  <a:pt x="3237" y="359"/>
                </a:lnTo>
                <a:lnTo>
                  <a:pt x="3232" y="360"/>
                </a:lnTo>
                <a:lnTo>
                  <a:pt x="3226" y="362"/>
                </a:lnTo>
                <a:lnTo>
                  <a:pt x="3215" y="367"/>
                </a:lnTo>
                <a:lnTo>
                  <a:pt x="3203" y="370"/>
                </a:lnTo>
                <a:lnTo>
                  <a:pt x="3187" y="373"/>
                </a:lnTo>
                <a:lnTo>
                  <a:pt x="3173" y="373"/>
                </a:lnTo>
                <a:lnTo>
                  <a:pt x="3167" y="374"/>
                </a:lnTo>
                <a:lnTo>
                  <a:pt x="3161" y="375"/>
                </a:lnTo>
                <a:lnTo>
                  <a:pt x="3154" y="377"/>
                </a:lnTo>
                <a:lnTo>
                  <a:pt x="3148" y="381"/>
                </a:lnTo>
                <a:lnTo>
                  <a:pt x="3143" y="385"/>
                </a:lnTo>
                <a:lnTo>
                  <a:pt x="3139" y="391"/>
                </a:lnTo>
                <a:lnTo>
                  <a:pt x="3134" y="396"/>
                </a:lnTo>
                <a:lnTo>
                  <a:pt x="3131" y="401"/>
                </a:lnTo>
                <a:lnTo>
                  <a:pt x="3124" y="412"/>
                </a:lnTo>
                <a:lnTo>
                  <a:pt x="3114" y="421"/>
                </a:lnTo>
                <a:lnTo>
                  <a:pt x="3103" y="431"/>
                </a:lnTo>
                <a:lnTo>
                  <a:pt x="3090" y="438"/>
                </a:lnTo>
                <a:lnTo>
                  <a:pt x="3078" y="443"/>
                </a:lnTo>
                <a:lnTo>
                  <a:pt x="3067" y="450"/>
                </a:lnTo>
                <a:lnTo>
                  <a:pt x="3055" y="455"/>
                </a:lnTo>
                <a:lnTo>
                  <a:pt x="3044" y="460"/>
                </a:lnTo>
                <a:lnTo>
                  <a:pt x="3031" y="468"/>
                </a:lnTo>
                <a:lnTo>
                  <a:pt x="3019" y="476"/>
                </a:lnTo>
                <a:lnTo>
                  <a:pt x="2987" y="500"/>
                </a:lnTo>
                <a:lnTo>
                  <a:pt x="2956" y="521"/>
                </a:lnTo>
                <a:lnTo>
                  <a:pt x="2941" y="531"/>
                </a:lnTo>
                <a:lnTo>
                  <a:pt x="2924" y="540"/>
                </a:lnTo>
                <a:lnTo>
                  <a:pt x="2906" y="549"/>
                </a:lnTo>
                <a:lnTo>
                  <a:pt x="2886" y="557"/>
                </a:lnTo>
                <a:lnTo>
                  <a:pt x="2882" y="559"/>
                </a:lnTo>
                <a:lnTo>
                  <a:pt x="2879" y="562"/>
                </a:lnTo>
                <a:lnTo>
                  <a:pt x="2876" y="565"/>
                </a:lnTo>
                <a:lnTo>
                  <a:pt x="2872" y="569"/>
                </a:lnTo>
                <a:lnTo>
                  <a:pt x="2867" y="576"/>
                </a:lnTo>
                <a:lnTo>
                  <a:pt x="2863" y="585"/>
                </a:lnTo>
                <a:lnTo>
                  <a:pt x="2859" y="592"/>
                </a:lnTo>
                <a:lnTo>
                  <a:pt x="2855" y="599"/>
                </a:lnTo>
                <a:lnTo>
                  <a:pt x="2851" y="602"/>
                </a:lnTo>
                <a:lnTo>
                  <a:pt x="2847" y="603"/>
                </a:lnTo>
                <a:lnTo>
                  <a:pt x="2844" y="605"/>
                </a:lnTo>
                <a:lnTo>
                  <a:pt x="2839" y="605"/>
                </a:lnTo>
                <a:lnTo>
                  <a:pt x="2825" y="600"/>
                </a:lnTo>
                <a:lnTo>
                  <a:pt x="2812" y="594"/>
                </a:lnTo>
                <a:lnTo>
                  <a:pt x="2806" y="595"/>
                </a:lnTo>
                <a:lnTo>
                  <a:pt x="2801" y="595"/>
                </a:lnTo>
                <a:lnTo>
                  <a:pt x="2796" y="597"/>
                </a:lnTo>
                <a:lnTo>
                  <a:pt x="2791" y="599"/>
                </a:lnTo>
                <a:lnTo>
                  <a:pt x="2783" y="604"/>
                </a:lnTo>
                <a:lnTo>
                  <a:pt x="2775" y="610"/>
                </a:lnTo>
                <a:lnTo>
                  <a:pt x="2768" y="618"/>
                </a:lnTo>
                <a:lnTo>
                  <a:pt x="2762" y="626"/>
                </a:lnTo>
                <a:lnTo>
                  <a:pt x="2756" y="635"/>
                </a:lnTo>
                <a:lnTo>
                  <a:pt x="2751" y="646"/>
                </a:lnTo>
                <a:lnTo>
                  <a:pt x="2760" y="653"/>
                </a:lnTo>
                <a:lnTo>
                  <a:pt x="2766" y="662"/>
                </a:lnTo>
                <a:lnTo>
                  <a:pt x="2771" y="671"/>
                </a:lnTo>
                <a:lnTo>
                  <a:pt x="2774" y="683"/>
                </a:lnTo>
                <a:lnTo>
                  <a:pt x="2761" y="684"/>
                </a:lnTo>
                <a:lnTo>
                  <a:pt x="2749" y="685"/>
                </a:lnTo>
                <a:lnTo>
                  <a:pt x="2737" y="684"/>
                </a:lnTo>
                <a:lnTo>
                  <a:pt x="2724" y="683"/>
                </a:lnTo>
                <a:lnTo>
                  <a:pt x="2721" y="699"/>
                </a:lnTo>
                <a:lnTo>
                  <a:pt x="2720" y="715"/>
                </a:lnTo>
                <a:lnTo>
                  <a:pt x="2721" y="723"/>
                </a:lnTo>
                <a:lnTo>
                  <a:pt x="2724" y="731"/>
                </a:lnTo>
                <a:lnTo>
                  <a:pt x="2728" y="737"/>
                </a:lnTo>
                <a:lnTo>
                  <a:pt x="2734" y="743"/>
                </a:lnTo>
                <a:lnTo>
                  <a:pt x="2740" y="747"/>
                </a:lnTo>
                <a:lnTo>
                  <a:pt x="2748" y="752"/>
                </a:lnTo>
                <a:lnTo>
                  <a:pt x="2756" y="754"/>
                </a:lnTo>
                <a:lnTo>
                  <a:pt x="2765" y="754"/>
                </a:lnTo>
                <a:lnTo>
                  <a:pt x="2768" y="754"/>
                </a:lnTo>
                <a:lnTo>
                  <a:pt x="2771" y="753"/>
                </a:lnTo>
                <a:lnTo>
                  <a:pt x="2773" y="752"/>
                </a:lnTo>
                <a:lnTo>
                  <a:pt x="2776" y="750"/>
                </a:lnTo>
                <a:lnTo>
                  <a:pt x="2781" y="744"/>
                </a:lnTo>
                <a:lnTo>
                  <a:pt x="2785" y="739"/>
                </a:lnTo>
                <a:lnTo>
                  <a:pt x="2789" y="734"/>
                </a:lnTo>
                <a:lnTo>
                  <a:pt x="2793" y="728"/>
                </a:lnTo>
                <a:lnTo>
                  <a:pt x="2795" y="726"/>
                </a:lnTo>
                <a:lnTo>
                  <a:pt x="2799" y="725"/>
                </a:lnTo>
                <a:lnTo>
                  <a:pt x="2802" y="724"/>
                </a:lnTo>
                <a:lnTo>
                  <a:pt x="2805" y="724"/>
                </a:lnTo>
                <a:lnTo>
                  <a:pt x="2808" y="724"/>
                </a:lnTo>
                <a:lnTo>
                  <a:pt x="2811" y="725"/>
                </a:lnTo>
                <a:lnTo>
                  <a:pt x="2814" y="726"/>
                </a:lnTo>
                <a:lnTo>
                  <a:pt x="2817" y="728"/>
                </a:lnTo>
                <a:lnTo>
                  <a:pt x="2820" y="734"/>
                </a:lnTo>
                <a:lnTo>
                  <a:pt x="2823" y="740"/>
                </a:lnTo>
                <a:lnTo>
                  <a:pt x="2825" y="756"/>
                </a:lnTo>
                <a:lnTo>
                  <a:pt x="2825" y="772"/>
                </a:lnTo>
                <a:lnTo>
                  <a:pt x="2832" y="771"/>
                </a:lnTo>
                <a:lnTo>
                  <a:pt x="2838" y="770"/>
                </a:lnTo>
                <a:lnTo>
                  <a:pt x="2843" y="767"/>
                </a:lnTo>
                <a:lnTo>
                  <a:pt x="2848" y="764"/>
                </a:lnTo>
                <a:lnTo>
                  <a:pt x="2857" y="757"/>
                </a:lnTo>
                <a:lnTo>
                  <a:pt x="2865" y="748"/>
                </a:lnTo>
                <a:lnTo>
                  <a:pt x="2872" y="740"/>
                </a:lnTo>
                <a:lnTo>
                  <a:pt x="2881" y="732"/>
                </a:lnTo>
                <a:lnTo>
                  <a:pt x="2886" y="728"/>
                </a:lnTo>
                <a:lnTo>
                  <a:pt x="2892" y="725"/>
                </a:lnTo>
                <a:lnTo>
                  <a:pt x="2897" y="722"/>
                </a:lnTo>
                <a:lnTo>
                  <a:pt x="2903" y="720"/>
                </a:lnTo>
                <a:lnTo>
                  <a:pt x="2907" y="737"/>
                </a:lnTo>
                <a:lnTo>
                  <a:pt x="2913" y="753"/>
                </a:lnTo>
                <a:lnTo>
                  <a:pt x="2919" y="769"/>
                </a:lnTo>
                <a:lnTo>
                  <a:pt x="2926" y="782"/>
                </a:lnTo>
                <a:lnTo>
                  <a:pt x="2931" y="789"/>
                </a:lnTo>
                <a:lnTo>
                  <a:pt x="2936" y="795"/>
                </a:lnTo>
                <a:lnTo>
                  <a:pt x="2941" y="799"/>
                </a:lnTo>
                <a:lnTo>
                  <a:pt x="2946" y="803"/>
                </a:lnTo>
                <a:lnTo>
                  <a:pt x="2953" y="808"/>
                </a:lnTo>
                <a:lnTo>
                  <a:pt x="2960" y="810"/>
                </a:lnTo>
                <a:lnTo>
                  <a:pt x="2968" y="812"/>
                </a:lnTo>
                <a:lnTo>
                  <a:pt x="2976" y="812"/>
                </a:lnTo>
                <a:lnTo>
                  <a:pt x="3002" y="812"/>
                </a:lnTo>
                <a:lnTo>
                  <a:pt x="3002" y="758"/>
                </a:lnTo>
                <a:lnTo>
                  <a:pt x="2996" y="753"/>
                </a:lnTo>
                <a:lnTo>
                  <a:pt x="2991" y="746"/>
                </a:lnTo>
                <a:lnTo>
                  <a:pt x="2989" y="742"/>
                </a:lnTo>
                <a:lnTo>
                  <a:pt x="2987" y="739"/>
                </a:lnTo>
                <a:lnTo>
                  <a:pt x="2985" y="735"/>
                </a:lnTo>
                <a:lnTo>
                  <a:pt x="2985" y="731"/>
                </a:lnTo>
                <a:lnTo>
                  <a:pt x="2985" y="723"/>
                </a:lnTo>
                <a:lnTo>
                  <a:pt x="2988" y="717"/>
                </a:lnTo>
                <a:lnTo>
                  <a:pt x="2991" y="710"/>
                </a:lnTo>
                <a:lnTo>
                  <a:pt x="2994" y="705"/>
                </a:lnTo>
                <a:lnTo>
                  <a:pt x="3002" y="695"/>
                </a:lnTo>
                <a:lnTo>
                  <a:pt x="3012" y="683"/>
                </a:lnTo>
                <a:lnTo>
                  <a:pt x="3024" y="696"/>
                </a:lnTo>
                <a:lnTo>
                  <a:pt x="3031" y="707"/>
                </a:lnTo>
                <a:lnTo>
                  <a:pt x="3038" y="720"/>
                </a:lnTo>
                <a:lnTo>
                  <a:pt x="3047" y="734"/>
                </a:lnTo>
                <a:lnTo>
                  <a:pt x="3068" y="712"/>
                </a:lnTo>
                <a:lnTo>
                  <a:pt x="3087" y="690"/>
                </a:lnTo>
                <a:lnTo>
                  <a:pt x="3105" y="670"/>
                </a:lnTo>
                <a:lnTo>
                  <a:pt x="3121" y="650"/>
                </a:lnTo>
                <a:lnTo>
                  <a:pt x="3135" y="629"/>
                </a:lnTo>
                <a:lnTo>
                  <a:pt x="3149" y="608"/>
                </a:lnTo>
                <a:lnTo>
                  <a:pt x="3164" y="584"/>
                </a:lnTo>
                <a:lnTo>
                  <a:pt x="3179" y="557"/>
                </a:lnTo>
                <a:lnTo>
                  <a:pt x="3186" y="568"/>
                </a:lnTo>
                <a:lnTo>
                  <a:pt x="3192" y="578"/>
                </a:lnTo>
                <a:lnTo>
                  <a:pt x="3196" y="584"/>
                </a:lnTo>
                <a:lnTo>
                  <a:pt x="3198" y="589"/>
                </a:lnTo>
                <a:lnTo>
                  <a:pt x="3199" y="594"/>
                </a:lnTo>
                <a:lnTo>
                  <a:pt x="3199" y="602"/>
                </a:lnTo>
                <a:lnTo>
                  <a:pt x="3198" y="609"/>
                </a:lnTo>
                <a:lnTo>
                  <a:pt x="3196" y="616"/>
                </a:lnTo>
                <a:lnTo>
                  <a:pt x="3191" y="623"/>
                </a:lnTo>
                <a:lnTo>
                  <a:pt x="3187" y="628"/>
                </a:lnTo>
                <a:lnTo>
                  <a:pt x="3183" y="634"/>
                </a:lnTo>
                <a:lnTo>
                  <a:pt x="3179" y="641"/>
                </a:lnTo>
                <a:lnTo>
                  <a:pt x="3177" y="648"/>
                </a:lnTo>
                <a:lnTo>
                  <a:pt x="3176" y="656"/>
                </a:lnTo>
                <a:lnTo>
                  <a:pt x="3176" y="665"/>
                </a:lnTo>
                <a:lnTo>
                  <a:pt x="3177" y="675"/>
                </a:lnTo>
                <a:lnTo>
                  <a:pt x="3179" y="683"/>
                </a:lnTo>
                <a:lnTo>
                  <a:pt x="3181" y="691"/>
                </a:lnTo>
                <a:lnTo>
                  <a:pt x="3187" y="707"/>
                </a:lnTo>
                <a:lnTo>
                  <a:pt x="3196" y="724"/>
                </a:lnTo>
                <a:lnTo>
                  <a:pt x="3209" y="727"/>
                </a:lnTo>
                <a:lnTo>
                  <a:pt x="3215" y="717"/>
                </a:lnTo>
                <a:lnTo>
                  <a:pt x="3220" y="707"/>
                </a:lnTo>
                <a:lnTo>
                  <a:pt x="3224" y="698"/>
                </a:lnTo>
                <a:lnTo>
                  <a:pt x="3227" y="688"/>
                </a:lnTo>
                <a:lnTo>
                  <a:pt x="3229" y="679"/>
                </a:lnTo>
                <a:lnTo>
                  <a:pt x="3232" y="668"/>
                </a:lnTo>
                <a:lnTo>
                  <a:pt x="3233" y="658"/>
                </a:lnTo>
                <a:lnTo>
                  <a:pt x="3233" y="646"/>
                </a:lnTo>
                <a:lnTo>
                  <a:pt x="3252" y="644"/>
                </a:lnTo>
                <a:lnTo>
                  <a:pt x="3271" y="642"/>
                </a:lnTo>
                <a:lnTo>
                  <a:pt x="3290" y="640"/>
                </a:lnTo>
                <a:lnTo>
                  <a:pt x="3307" y="637"/>
                </a:lnTo>
                <a:lnTo>
                  <a:pt x="3314" y="633"/>
                </a:lnTo>
                <a:lnTo>
                  <a:pt x="3321" y="631"/>
                </a:lnTo>
                <a:lnTo>
                  <a:pt x="3329" y="627"/>
                </a:lnTo>
                <a:lnTo>
                  <a:pt x="3334" y="623"/>
                </a:lnTo>
                <a:lnTo>
                  <a:pt x="3339" y="618"/>
                </a:lnTo>
                <a:lnTo>
                  <a:pt x="3343" y="611"/>
                </a:lnTo>
                <a:lnTo>
                  <a:pt x="3347" y="603"/>
                </a:lnTo>
                <a:lnTo>
                  <a:pt x="3349" y="594"/>
                </a:lnTo>
                <a:lnTo>
                  <a:pt x="3349" y="586"/>
                </a:lnTo>
                <a:lnTo>
                  <a:pt x="3349" y="578"/>
                </a:lnTo>
                <a:lnTo>
                  <a:pt x="3348" y="572"/>
                </a:lnTo>
                <a:lnTo>
                  <a:pt x="3347" y="565"/>
                </a:lnTo>
                <a:lnTo>
                  <a:pt x="3346" y="558"/>
                </a:lnTo>
                <a:lnTo>
                  <a:pt x="3346" y="551"/>
                </a:lnTo>
                <a:lnTo>
                  <a:pt x="3347" y="545"/>
                </a:lnTo>
                <a:lnTo>
                  <a:pt x="3349" y="537"/>
                </a:lnTo>
                <a:lnTo>
                  <a:pt x="3353" y="530"/>
                </a:lnTo>
                <a:lnTo>
                  <a:pt x="3358" y="526"/>
                </a:lnTo>
                <a:lnTo>
                  <a:pt x="3361" y="523"/>
                </a:lnTo>
                <a:lnTo>
                  <a:pt x="3364" y="520"/>
                </a:lnTo>
                <a:lnTo>
                  <a:pt x="3365" y="517"/>
                </a:lnTo>
                <a:lnTo>
                  <a:pt x="3366" y="513"/>
                </a:lnTo>
                <a:lnTo>
                  <a:pt x="3365" y="508"/>
                </a:lnTo>
                <a:lnTo>
                  <a:pt x="3362" y="502"/>
                </a:lnTo>
                <a:lnTo>
                  <a:pt x="3360" y="499"/>
                </a:lnTo>
                <a:lnTo>
                  <a:pt x="3356" y="495"/>
                </a:lnTo>
                <a:lnTo>
                  <a:pt x="3349" y="488"/>
                </a:lnTo>
                <a:lnTo>
                  <a:pt x="3341" y="479"/>
                </a:lnTo>
                <a:lnTo>
                  <a:pt x="3359" y="471"/>
                </a:lnTo>
                <a:lnTo>
                  <a:pt x="3374" y="463"/>
                </a:lnTo>
                <a:lnTo>
                  <a:pt x="3381" y="459"/>
                </a:lnTo>
                <a:lnTo>
                  <a:pt x="3389" y="454"/>
                </a:lnTo>
                <a:lnTo>
                  <a:pt x="3396" y="449"/>
                </a:lnTo>
                <a:lnTo>
                  <a:pt x="3403" y="442"/>
                </a:lnTo>
                <a:lnTo>
                  <a:pt x="3404" y="411"/>
                </a:lnTo>
                <a:lnTo>
                  <a:pt x="3404" y="384"/>
                </a:lnTo>
                <a:lnTo>
                  <a:pt x="3404" y="357"/>
                </a:lnTo>
                <a:lnTo>
                  <a:pt x="3403" y="326"/>
                </a:lnTo>
                <a:lnTo>
                  <a:pt x="3390" y="324"/>
                </a:lnTo>
                <a:lnTo>
                  <a:pt x="3376" y="323"/>
                </a:lnTo>
                <a:lnTo>
                  <a:pt x="3367" y="323"/>
                </a:lnTo>
                <a:lnTo>
                  <a:pt x="3356" y="325"/>
                </a:lnTo>
                <a:lnTo>
                  <a:pt x="3347" y="327"/>
                </a:lnTo>
                <a:lnTo>
                  <a:pt x="3337" y="331"/>
                </a:lnTo>
                <a:lnTo>
                  <a:pt x="3333" y="333"/>
                </a:lnTo>
                <a:lnTo>
                  <a:pt x="3330" y="337"/>
                </a:lnTo>
                <a:lnTo>
                  <a:pt x="3327" y="340"/>
                </a:lnTo>
                <a:lnTo>
                  <a:pt x="3323" y="343"/>
                </a:lnTo>
                <a:lnTo>
                  <a:pt x="3321" y="347"/>
                </a:lnTo>
                <a:lnTo>
                  <a:pt x="3319" y="350"/>
                </a:lnTo>
                <a:lnTo>
                  <a:pt x="3318" y="356"/>
                </a:lnTo>
                <a:lnTo>
                  <a:pt x="3318" y="360"/>
                </a:lnTo>
                <a:close/>
                <a:moveTo>
                  <a:pt x="3097" y="805"/>
                </a:moveTo>
                <a:lnTo>
                  <a:pt x="3078" y="813"/>
                </a:lnTo>
                <a:lnTo>
                  <a:pt x="3063" y="821"/>
                </a:lnTo>
                <a:lnTo>
                  <a:pt x="3047" y="830"/>
                </a:lnTo>
                <a:lnTo>
                  <a:pt x="3029" y="839"/>
                </a:lnTo>
                <a:lnTo>
                  <a:pt x="3020" y="844"/>
                </a:lnTo>
                <a:lnTo>
                  <a:pt x="3011" y="848"/>
                </a:lnTo>
                <a:lnTo>
                  <a:pt x="3002" y="853"/>
                </a:lnTo>
                <a:lnTo>
                  <a:pt x="2995" y="858"/>
                </a:lnTo>
                <a:lnTo>
                  <a:pt x="2988" y="865"/>
                </a:lnTo>
                <a:lnTo>
                  <a:pt x="2982" y="872"/>
                </a:lnTo>
                <a:lnTo>
                  <a:pt x="2981" y="876"/>
                </a:lnTo>
                <a:lnTo>
                  <a:pt x="2979" y="880"/>
                </a:lnTo>
                <a:lnTo>
                  <a:pt x="2979" y="885"/>
                </a:lnTo>
                <a:lnTo>
                  <a:pt x="2978" y="890"/>
                </a:lnTo>
                <a:lnTo>
                  <a:pt x="2979" y="894"/>
                </a:lnTo>
                <a:lnTo>
                  <a:pt x="2979" y="898"/>
                </a:lnTo>
                <a:lnTo>
                  <a:pt x="2981" y="902"/>
                </a:lnTo>
                <a:lnTo>
                  <a:pt x="2983" y="905"/>
                </a:lnTo>
                <a:lnTo>
                  <a:pt x="2989" y="909"/>
                </a:lnTo>
                <a:lnTo>
                  <a:pt x="2996" y="913"/>
                </a:lnTo>
                <a:lnTo>
                  <a:pt x="3011" y="922"/>
                </a:lnTo>
                <a:lnTo>
                  <a:pt x="3026" y="931"/>
                </a:lnTo>
                <a:lnTo>
                  <a:pt x="3046" y="914"/>
                </a:lnTo>
                <a:lnTo>
                  <a:pt x="3064" y="897"/>
                </a:lnTo>
                <a:lnTo>
                  <a:pt x="3078" y="882"/>
                </a:lnTo>
                <a:lnTo>
                  <a:pt x="3092" y="865"/>
                </a:lnTo>
                <a:lnTo>
                  <a:pt x="3105" y="847"/>
                </a:lnTo>
                <a:lnTo>
                  <a:pt x="3117" y="828"/>
                </a:lnTo>
                <a:lnTo>
                  <a:pt x="3129" y="805"/>
                </a:lnTo>
                <a:lnTo>
                  <a:pt x="3142" y="781"/>
                </a:lnTo>
                <a:lnTo>
                  <a:pt x="3129" y="789"/>
                </a:lnTo>
                <a:lnTo>
                  <a:pt x="3120" y="795"/>
                </a:lnTo>
                <a:lnTo>
                  <a:pt x="3115" y="798"/>
                </a:lnTo>
                <a:lnTo>
                  <a:pt x="3110" y="801"/>
                </a:lnTo>
                <a:lnTo>
                  <a:pt x="3105" y="803"/>
                </a:lnTo>
                <a:lnTo>
                  <a:pt x="3097" y="805"/>
                </a:lnTo>
                <a:close/>
                <a:moveTo>
                  <a:pt x="3436" y="602"/>
                </a:moveTo>
                <a:lnTo>
                  <a:pt x="3437" y="606"/>
                </a:lnTo>
                <a:lnTo>
                  <a:pt x="3439" y="610"/>
                </a:lnTo>
                <a:lnTo>
                  <a:pt x="3440" y="614"/>
                </a:lnTo>
                <a:lnTo>
                  <a:pt x="3443" y="618"/>
                </a:lnTo>
                <a:lnTo>
                  <a:pt x="3448" y="624"/>
                </a:lnTo>
                <a:lnTo>
                  <a:pt x="3456" y="628"/>
                </a:lnTo>
                <a:lnTo>
                  <a:pt x="3465" y="631"/>
                </a:lnTo>
                <a:lnTo>
                  <a:pt x="3475" y="633"/>
                </a:lnTo>
                <a:lnTo>
                  <a:pt x="3485" y="635"/>
                </a:lnTo>
                <a:lnTo>
                  <a:pt x="3496" y="635"/>
                </a:lnTo>
                <a:lnTo>
                  <a:pt x="3536" y="635"/>
                </a:lnTo>
                <a:lnTo>
                  <a:pt x="3532" y="620"/>
                </a:lnTo>
                <a:lnTo>
                  <a:pt x="3528" y="606"/>
                </a:lnTo>
                <a:lnTo>
                  <a:pt x="3526" y="600"/>
                </a:lnTo>
                <a:lnTo>
                  <a:pt x="3524" y="593"/>
                </a:lnTo>
                <a:lnTo>
                  <a:pt x="3520" y="587"/>
                </a:lnTo>
                <a:lnTo>
                  <a:pt x="3515" y="581"/>
                </a:lnTo>
                <a:lnTo>
                  <a:pt x="3510" y="577"/>
                </a:lnTo>
                <a:lnTo>
                  <a:pt x="3506" y="574"/>
                </a:lnTo>
                <a:lnTo>
                  <a:pt x="3500" y="571"/>
                </a:lnTo>
                <a:lnTo>
                  <a:pt x="3494" y="570"/>
                </a:lnTo>
                <a:lnTo>
                  <a:pt x="3488" y="569"/>
                </a:lnTo>
                <a:lnTo>
                  <a:pt x="3482" y="569"/>
                </a:lnTo>
                <a:lnTo>
                  <a:pt x="3474" y="569"/>
                </a:lnTo>
                <a:lnTo>
                  <a:pt x="3468" y="570"/>
                </a:lnTo>
                <a:lnTo>
                  <a:pt x="3462" y="572"/>
                </a:lnTo>
                <a:lnTo>
                  <a:pt x="3456" y="575"/>
                </a:lnTo>
                <a:lnTo>
                  <a:pt x="3451" y="578"/>
                </a:lnTo>
                <a:lnTo>
                  <a:pt x="3446" y="582"/>
                </a:lnTo>
                <a:lnTo>
                  <a:pt x="3443" y="586"/>
                </a:lnTo>
                <a:lnTo>
                  <a:pt x="3440" y="590"/>
                </a:lnTo>
                <a:lnTo>
                  <a:pt x="3437" y="595"/>
                </a:lnTo>
                <a:lnTo>
                  <a:pt x="3436" y="602"/>
                </a:lnTo>
                <a:close/>
                <a:moveTo>
                  <a:pt x="3681" y="1314"/>
                </a:moveTo>
                <a:lnTo>
                  <a:pt x="3669" y="1329"/>
                </a:lnTo>
                <a:lnTo>
                  <a:pt x="3654" y="1342"/>
                </a:lnTo>
                <a:lnTo>
                  <a:pt x="3631" y="1350"/>
                </a:lnTo>
                <a:lnTo>
                  <a:pt x="3610" y="1360"/>
                </a:lnTo>
                <a:lnTo>
                  <a:pt x="3590" y="1367"/>
                </a:lnTo>
                <a:lnTo>
                  <a:pt x="3571" y="1375"/>
                </a:lnTo>
                <a:lnTo>
                  <a:pt x="3550" y="1381"/>
                </a:lnTo>
                <a:lnTo>
                  <a:pt x="3529" y="1385"/>
                </a:lnTo>
                <a:lnTo>
                  <a:pt x="3519" y="1387"/>
                </a:lnTo>
                <a:lnTo>
                  <a:pt x="3507" y="1388"/>
                </a:lnTo>
                <a:lnTo>
                  <a:pt x="3496" y="1389"/>
                </a:lnTo>
                <a:lnTo>
                  <a:pt x="3483" y="1389"/>
                </a:lnTo>
                <a:lnTo>
                  <a:pt x="3460" y="1388"/>
                </a:lnTo>
                <a:lnTo>
                  <a:pt x="3439" y="1386"/>
                </a:lnTo>
                <a:lnTo>
                  <a:pt x="3420" y="1382"/>
                </a:lnTo>
                <a:lnTo>
                  <a:pt x="3400" y="1377"/>
                </a:lnTo>
                <a:lnTo>
                  <a:pt x="3391" y="1373"/>
                </a:lnTo>
                <a:lnTo>
                  <a:pt x="3383" y="1368"/>
                </a:lnTo>
                <a:lnTo>
                  <a:pt x="3374" y="1364"/>
                </a:lnTo>
                <a:lnTo>
                  <a:pt x="3366" y="1359"/>
                </a:lnTo>
                <a:lnTo>
                  <a:pt x="3349" y="1346"/>
                </a:lnTo>
                <a:lnTo>
                  <a:pt x="3332" y="1331"/>
                </a:lnTo>
                <a:lnTo>
                  <a:pt x="3320" y="1322"/>
                </a:lnTo>
                <a:lnTo>
                  <a:pt x="3309" y="1311"/>
                </a:lnTo>
                <a:lnTo>
                  <a:pt x="3304" y="1306"/>
                </a:lnTo>
                <a:lnTo>
                  <a:pt x="3301" y="1301"/>
                </a:lnTo>
                <a:lnTo>
                  <a:pt x="3298" y="1293"/>
                </a:lnTo>
                <a:lnTo>
                  <a:pt x="3298" y="1286"/>
                </a:lnTo>
                <a:lnTo>
                  <a:pt x="3298" y="1280"/>
                </a:lnTo>
                <a:lnTo>
                  <a:pt x="3301" y="1275"/>
                </a:lnTo>
                <a:lnTo>
                  <a:pt x="3305" y="1271"/>
                </a:lnTo>
                <a:lnTo>
                  <a:pt x="3310" y="1268"/>
                </a:lnTo>
                <a:lnTo>
                  <a:pt x="3316" y="1266"/>
                </a:lnTo>
                <a:lnTo>
                  <a:pt x="3322" y="1265"/>
                </a:lnTo>
                <a:lnTo>
                  <a:pt x="3329" y="1264"/>
                </a:lnTo>
                <a:lnTo>
                  <a:pt x="3335" y="1264"/>
                </a:lnTo>
                <a:lnTo>
                  <a:pt x="3343" y="1264"/>
                </a:lnTo>
                <a:lnTo>
                  <a:pt x="3351" y="1266"/>
                </a:lnTo>
                <a:lnTo>
                  <a:pt x="3358" y="1267"/>
                </a:lnTo>
                <a:lnTo>
                  <a:pt x="3366" y="1269"/>
                </a:lnTo>
                <a:lnTo>
                  <a:pt x="3373" y="1271"/>
                </a:lnTo>
                <a:lnTo>
                  <a:pt x="3379" y="1272"/>
                </a:lnTo>
                <a:lnTo>
                  <a:pt x="3388" y="1273"/>
                </a:lnTo>
                <a:lnTo>
                  <a:pt x="3396" y="1274"/>
                </a:lnTo>
                <a:lnTo>
                  <a:pt x="3406" y="1273"/>
                </a:lnTo>
                <a:lnTo>
                  <a:pt x="3414" y="1272"/>
                </a:lnTo>
                <a:lnTo>
                  <a:pt x="3423" y="1270"/>
                </a:lnTo>
                <a:lnTo>
                  <a:pt x="3430" y="1267"/>
                </a:lnTo>
                <a:lnTo>
                  <a:pt x="3445" y="1260"/>
                </a:lnTo>
                <a:lnTo>
                  <a:pt x="3458" y="1251"/>
                </a:lnTo>
                <a:lnTo>
                  <a:pt x="3471" y="1242"/>
                </a:lnTo>
                <a:lnTo>
                  <a:pt x="3485" y="1233"/>
                </a:lnTo>
                <a:lnTo>
                  <a:pt x="3493" y="1229"/>
                </a:lnTo>
                <a:lnTo>
                  <a:pt x="3501" y="1226"/>
                </a:lnTo>
                <a:lnTo>
                  <a:pt x="3509" y="1223"/>
                </a:lnTo>
                <a:lnTo>
                  <a:pt x="3519" y="1219"/>
                </a:lnTo>
                <a:lnTo>
                  <a:pt x="3545" y="1227"/>
                </a:lnTo>
                <a:lnTo>
                  <a:pt x="3557" y="1222"/>
                </a:lnTo>
                <a:lnTo>
                  <a:pt x="3567" y="1216"/>
                </a:lnTo>
                <a:lnTo>
                  <a:pt x="3576" y="1211"/>
                </a:lnTo>
                <a:lnTo>
                  <a:pt x="3584" y="1206"/>
                </a:lnTo>
                <a:lnTo>
                  <a:pt x="3600" y="1192"/>
                </a:lnTo>
                <a:lnTo>
                  <a:pt x="3617" y="1175"/>
                </a:lnTo>
                <a:lnTo>
                  <a:pt x="3609" y="1175"/>
                </a:lnTo>
                <a:lnTo>
                  <a:pt x="3600" y="1174"/>
                </a:lnTo>
                <a:lnTo>
                  <a:pt x="3593" y="1173"/>
                </a:lnTo>
                <a:lnTo>
                  <a:pt x="3584" y="1172"/>
                </a:lnTo>
                <a:lnTo>
                  <a:pt x="3575" y="1173"/>
                </a:lnTo>
                <a:lnTo>
                  <a:pt x="3567" y="1174"/>
                </a:lnTo>
                <a:lnTo>
                  <a:pt x="3560" y="1176"/>
                </a:lnTo>
                <a:lnTo>
                  <a:pt x="3553" y="1179"/>
                </a:lnTo>
                <a:lnTo>
                  <a:pt x="3546" y="1181"/>
                </a:lnTo>
                <a:lnTo>
                  <a:pt x="3539" y="1184"/>
                </a:lnTo>
                <a:lnTo>
                  <a:pt x="3530" y="1185"/>
                </a:lnTo>
                <a:lnTo>
                  <a:pt x="3522" y="1186"/>
                </a:lnTo>
                <a:lnTo>
                  <a:pt x="3517" y="1186"/>
                </a:lnTo>
                <a:lnTo>
                  <a:pt x="3512" y="1185"/>
                </a:lnTo>
                <a:lnTo>
                  <a:pt x="3508" y="1182"/>
                </a:lnTo>
                <a:lnTo>
                  <a:pt x="3505" y="1180"/>
                </a:lnTo>
                <a:lnTo>
                  <a:pt x="3498" y="1175"/>
                </a:lnTo>
                <a:lnTo>
                  <a:pt x="3491" y="1169"/>
                </a:lnTo>
                <a:lnTo>
                  <a:pt x="3485" y="1162"/>
                </a:lnTo>
                <a:lnTo>
                  <a:pt x="3478" y="1157"/>
                </a:lnTo>
                <a:lnTo>
                  <a:pt x="3474" y="1155"/>
                </a:lnTo>
                <a:lnTo>
                  <a:pt x="3470" y="1153"/>
                </a:lnTo>
                <a:lnTo>
                  <a:pt x="3466" y="1152"/>
                </a:lnTo>
                <a:lnTo>
                  <a:pt x="3461" y="1152"/>
                </a:lnTo>
                <a:lnTo>
                  <a:pt x="3450" y="1153"/>
                </a:lnTo>
                <a:lnTo>
                  <a:pt x="3442" y="1155"/>
                </a:lnTo>
                <a:lnTo>
                  <a:pt x="3433" y="1158"/>
                </a:lnTo>
                <a:lnTo>
                  <a:pt x="3425" y="1161"/>
                </a:lnTo>
                <a:lnTo>
                  <a:pt x="3417" y="1166"/>
                </a:lnTo>
                <a:lnTo>
                  <a:pt x="3409" y="1169"/>
                </a:lnTo>
                <a:lnTo>
                  <a:pt x="3399" y="1171"/>
                </a:lnTo>
                <a:lnTo>
                  <a:pt x="3389" y="1172"/>
                </a:lnTo>
                <a:lnTo>
                  <a:pt x="3386" y="1172"/>
                </a:lnTo>
                <a:lnTo>
                  <a:pt x="3381" y="1171"/>
                </a:lnTo>
                <a:lnTo>
                  <a:pt x="3378" y="1169"/>
                </a:lnTo>
                <a:lnTo>
                  <a:pt x="3375" y="1166"/>
                </a:lnTo>
                <a:lnTo>
                  <a:pt x="3372" y="1163"/>
                </a:lnTo>
                <a:lnTo>
                  <a:pt x="3371" y="1159"/>
                </a:lnTo>
                <a:lnTo>
                  <a:pt x="3370" y="1156"/>
                </a:lnTo>
                <a:lnTo>
                  <a:pt x="3369" y="1152"/>
                </a:lnTo>
                <a:lnTo>
                  <a:pt x="3370" y="1147"/>
                </a:lnTo>
                <a:lnTo>
                  <a:pt x="3371" y="1141"/>
                </a:lnTo>
                <a:lnTo>
                  <a:pt x="3372" y="1136"/>
                </a:lnTo>
                <a:lnTo>
                  <a:pt x="3375" y="1132"/>
                </a:lnTo>
                <a:lnTo>
                  <a:pt x="3380" y="1124"/>
                </a:lnTo>
                <a:lnTo>
                  <a:pt x="3388" y="1117"/>
                </a:lnTo>
                <a:lnTo>
                  <a:pt x="3394" y="1110"/>
                </a:lnTo>
                <a:lnTo>
                  <a:pt x="3400" y="1101"/>
                </a:lnTo>
                <a:lnTo>
                  <a:pt x="3403" y="1097"/>
                </a:lnTo>
                <a:lnTo>
                  <a:pt x="3405" y="1093"/>
                </a:lnTo>
                <a:lnTo>
                  <a:pt x="3406" y="1087"/>
                </a:lnTo>
                <a:lnTo>
                  <a:pt x="3407" y="1082"/>
                </a:lnTo>
                <a:lnTo>
                  <a:pt x="3406" y="1077"/>
                </a:lnTo>
                <a:lnTo>
                  <a:pt x="3404" y="1073"/>
                </a:lnTo>
                <a:lnTo>
                  <a:pt x="3402" y="1068"/>
                </a:lnTo>
                <a:lnTo>
                  <a:pt x="3398" y="1065"/>
                </a:lnTo>
                <a:lnTo>
                  <a:pt x="3391" y="1059"/>
                </a:lnTo>
                <a:lnTo>
                  <a:pt x="3383" y="1054"/>
                </a:lnTo>
                <a:lnTo>
                  <a:pt x="3368" y="1067"/>
                </a:lnTo>
                <a:lnTo>
                  <a:pt x="3355" y="1082"/>
                </a:lnTo>
                <a:lnTo>
                  <a:pt x="3345" y="1096"/>
                </a:lnTo>
                <a:lnTo>
                  <a:pt x="3335" y="1111"/>
                </a:lnTo>
                <a:lnTo>
                  <a:pt x="3319" y="1142"/>
                </a:lnTo>
                <a:lnTo>
                  <a:pt x="3301" y="1179"/>
                </a:lnTo>
                <a:lnTo>
                  <a:pt x="3292" y="1174"/>
                </a:lnTo>
                <a:lnTo>
                  <a:pt x="3283" y="1169"/>
                </a:lnTo>
                <a:lnTo>
                  <a:pt x="3276" y="1162"/>
                </a:lnTo>
                <a:lnTo>
                  <a:pt x="3270" y="1156"/>
                </a:lnTo>
                <a:lnTo>
                  <a:pt x="3262" y="1150"/>
                </a:lnTo>
                <a:lnTo>
                  <a:pt x="3255" y="1143"/>
                </a:lnTo>
                <a:lnTo>
                  <a:pt x="3251" y="1141"/>
                </a:lnTo>
                <a:lnTo>
                  <a:pt x="3246" y="1140"/>
                </a:lnTo>
                <a:lnTo>
                  <a:pt x="3242" y="1139"/>
                </a:lnTo>
                <a:lnTo>
                  <a:pt x="3237" y="1138"/>
                </a:lnTo>
                <a:lnTo>
                  <a:pt x="3235" y="1151"/>
                </a:lnTo>
                <a:lnTo>
                  <a:pt x="3232" y="1163"/>
                </a:lnTo>
                <a:lnTo>
                  <a:pt x="3229" y="1168"/>
                </a:lnTo>
                <a:lnTo>
                  <a:pt x="3226" y="1172"/>
                </a:lnTo>
                <a:lnTo>
                  <a:pt x="3222" y="1175"/>
                </a:lnTo>
                <a:lnTo>
                  <a:pt x="3216" y="1175"/>
                </a:lnTo>
                <a:lnTo>
                  <a:pt x="3210" y="1175"/>
                </a:lnTo>
                <a:lnTo>
                  <a:pt x="3206" y="1174"/>
                </a:lnTo>
                <a:lnTo>
                  <a:pt x="3202" y="1172"/>
                </a:lnTo>
                <a:lnTo>
                  <a:pt x="3198" y="1169"/>
                </a:lnTo>
                <a:lnTo>
                  <a:pt x="3195" y="1166"/>
                </a:lnTo>
                <a:lnTo>
                  <a:pt x="3191" y="1161"/>
                </a:lnTo>
                <a:lnTo>
                  <a:pt x="3189" y="1156"/>
                </a:lnTo>
                <a:lnTo>
                  <a:pt x="3187" y="1151"/>
                </a:lnTo>
                <a:lnTo>
                  <a:pt x="3185" y="1140"/>
                </a:lnTo>
                <a:lnTo>
                  <a:pt x="3183" y="1129"/>
                </a:lnTo>
                <a:lnTo>
                  <a:pt x="3182" y="1116"/>
                </a:lnTo>
                <a:lnTo>
                  <a:pt x="3182" y="1104"/>
                </a:lnTo>
                <a:lnTo>
                  <a:pt x="3166" y="1103"/>
                </a:lnTo>
                <a:lnTo>
                  <a:pt x="3150" y="1101"/>
                </a:lnTo>
                <a:lnTo>
                  <a:pt x="3134" y="1098"/>
                </a:lnTo>
                <a:lnTo>
                  <a:pt x="3121" y="1093"/>
                </a:lnTo>
                <a:lnTo>
                  <a:pt x="3114" y="1090"/>
                </a:lnTo>
                <a:lnTo>
                  <a:pt x="3108" y="1085"/>
                </a:lnTo>
                <a:lnTo>
                  <a:pt x="3104" y="1081"/>
                </a:lnTo>
                <a:lnTo>
                  <a:pt x="3098" y="1076"/>
                </a:lnTo>
                <a:lnTo>
                  <a:pt x="3095" y="1071"/>
                </a:lnTo>
                <a:lnTo>
                  <a:pt x="3092" y="1064"/>
                </a:lnTo>
                <a:lnTo>
                  <a:pt x="3091" y="1057"/>
                </a:lnTo>
                <a:lnTo>
                  <a:pt x="3090" y="1049"/>
                </a:lnTo>
                <a:lnTo>
                  <a:pt x="3091" y="1040"/>
                </a:lnTo>
                <a:lnTo>
                  <a:pt x="3093" y="1030"/>
                </a:lnTo>
                <a:lnTo>
                  <a:pt x="3096" y="1021"/>
                </a:lnTo>
                <a:lnTo>
                  <a:pt x="3101" y="1012"/>
                </a:lnTo>
                <a:lnTo>
                  <a:pt x="3107" y="1006"/>
                </a:lnTo>
                <a:lnTo>
                  <a:pt x="3113" y="1000"/>
                </a:lnTo>
                <a:lnTo>
                  <a:pt x="3117" y="998"/>
                </a:lnTo>
                <a:lnTo>
                  <a:pt x="3122" y="997"/>
                </a:lnTo>
                <a:lnTo>
                  <a:pt x="3126" y="996"/>
                </a:lnTo>
                <a:lnTo>
                  <a:pt x="3131" y="996"/>
                </a:lnTo>
                <a:lnTo>
                  <a:pt x="3144" y="996"/>
                </a:lnTo>
                <a:lnTo>
                  <a:pt x="3156" y="997"/>
                </a:lnTo>
                <a:lnTo>
                  <a:pt x="3166" y="999"/>
                </a:lnTo>
                <a:lnTo>
                  <a:pt x="3177" y="1001"/>
                </a:lnTo>
                <a:lnTo>
                  <a:pt x="3186" y="1002"/>
                </a:lnTo>
                <a:lnTo>
                  <a:pt x="3198" y="1004"/>
                </a:lnTo>
                <a:lnTo>
                  <a:pt x="3208" y="1005"/>
                </a:lnTo>
                <a:lnTo>
                  <a:pt x="3221" y="1006"/>
                </a:lnTo>
                <a:lnTo>
                  <a:pt x="3232" y="1005"/>
                </a:lnTo>
                <a:lnTo>
                  <a:pt x="3242" y="1005"/>
                </a:lnTo>
                <a:lnTo>
                  <a:pt x="3253" y="1003"/>
                </a:lnTo>
                <a:lnTo>
                  <a:pt x="3263" y="1001"/>
                </a:lnTo>
                <a:lnTo>
                  <a:pt x="3267" y="999"/>
                </a:lnTo>
                <a:lnTo>
                  <a:pt x="3272" y="997"/>
                </a:lnTo>
                <a:lnTo>
                  <a:pt x="3275" y="995"/>
                </a:lnTo>
                <a:lnTo>
                  <a:pt x="3278" y="991"/>
                </a:lnTo>
                <a:lnTo>
                  <a:pt x="3280" y="988"/>
                </a:lnTo>
                <a:lnTo>
                  <a:pt x="3282" y="984"/>
                </a:lnTo>
                <a:lnTo>
                  <a:pt x="3283" y="980"/>
                </a:lnTo>
                <a:lnTo>
                  <a:pt x="3284" y="976"/>
                </a:lnTo>
                <a:lnTo>
                  <a:pt x="3281" y="968"/>
                </a:lnTo>
                <a:lnTo>
                  <a:pt x="3277" y="962"/>
                </a:lnTo>
                <a:lnTo>
                  <a:pt x="3244" y="956"/>
                </a:lnTo>
                <a:lnTo>
                  <a:pt x="3215" y="953"/>
                </a:lnTo>
                <a:lnTo>
                  <a:pt x="3200" y="950"/>
                </a:lnTo>
                <a:lnTo>
                  <a:pt x="3186" y="946"/>
                </a:lnTo>
                <a:lnTo>
                  <a:pt x="3179" y="944"/>
                </a:lnTo>
                <a:lnTo>
                  <a:pt x="3172" y="940"/>
                </a:lnTo>
                <a:lnTo>
                  <a:pt x="3165" y="935"/>
                </a:lnTo>
                <a:lnTo>
                  <a:pt x="3159" y="931"/>
                </a:lnTo>
                <a:lnTo>
                  <a:pt x="3162" y="914"/>
                </a:lnTo>
                <a:lnTo>
                  <a:pt x="3188" y="906"/>
                </a:lnTo>
                <a:lnTo>
                  <a:pt x="3211" y="897"/>
                </a:lnTo>
                <a:lnTo>
                  <a:pt x="3234" y="889"/>
                </a:lnTo>
                <a:lnTo>
                  <a:pt x="3260" y="880"/>
                </a:lnTo>
                <a:lnTo>
                  <a:pt x="3249" y="876"/>
                </a:lnTo>
                <a:lnTo>
                  <a:pt x="3240" y="873"/>
                </a:lnTo>
                <a:lnTo>
                  <a:pt x="3230" y="870"/>
                </a:lnTo>
                <a:lnTo>
                  <a:pt x="3220" y="867"/>
                </a:lnTo>
                <a:lnTo>
                  <a:pt x="3216" y="853"/>
                </a:lnTo>
                <a:lnTo>
                  <a:pt x="3236" y="822"/>
                </a:lnTo>
                <a:lnTo>
                  <a:pt x="3255" y="794"/>
                </a:lnTo>
                <a:lnTo>
                  <a:pt x="3260" y="788"/>
                </a:lnTo>
                <a:lnTo>
                  <a:pt x="3265" y="782"/>
                </a:lnTo>
                <a:lnTo>
                  <a:pt x="3271" y="777"/>
                </a:lnTo>
                <a:lnTo>
                  <a:pt x="3277" y="773"/>
                </a:lnTo>
                <a:lnTo>
                  <a:pt x="3284" y="770"/>
                </a:lnTo>
                <a:lnTo>
                  <a:pt x="3292" y="766"/>
                </a:lnTo>
                <a:lnTo>
                  <a:pt x="3300" y="765"/>
                </a:lnTo>
                <a:lnTo>
                  <a:pt x="3309" y="764"/>
                </a:lnTo>
                <a:lnTo>
                  <a:pt x="3319" y="765"/>
                </a:lnTo>
                <a:lnTo>
                  <a:pt x="3329" y="766"/>
                </a:lnTo>
                <a:lnTo>
                  <a:pt x="3338" y="767"/>
                </a:lnTo>
                <a:lnTo>
                  <a:pt x="3349" y="767"/>
                </a:lnTo>
                <a:lnTo>
                  <a:pt x="3356" y="765"/>
                </a:lnTo>
                <a:lnTo>
                  <a:pt x="3362" y="761"/>
                </a:lnTo>
                <a:lnTo>
                  <a:pt x="3321" y="734"/>
                </a:lnTo>
                <a:lnTo>
                  <a:pt x="3324" y="726"/>
                </a:lnTo>
                <a:lnTo>
                  <a:pt x="3328" y="719"/>
                </a:lnTo>
                <a:lnTo>
                  <a:pt x="3333" y="713"/>
                </a:lnTo>
                <a:lnTo>
                  <a:pt x="3339" y="708"/>
                </a:lnTo>
                <a:lnTo>
                  <a:pt x="3347" y="704"/>
                </a:lnTo>
                <a:lnTo>
                  <a:pt x="3354" y="702"/>
                </a:lnTo>
                <a:lnTo>
                  <a:pt x="3362" y="701"/>
                </a:lnTo>
                <a:lnTo>
                  <a:pt x="3371" y="700"/>
                </a:lnTo>
                <a:lnTo>
                  <a:pt x="3379" y="700"/>
                </a:lnTo>
                <a:lnTo>
                  <a:pt x="3388" y="701"/>
                </a:lnTo>
                <a:lnTo>
                  <a:pt x="3396" y="703"/>
                </a:lnTo>
                <a:lnTo>
                  <a:pt x="3404" y="705"/>
                </a:lnTo>
                <a:lnTo>
                  <a:pt x="3410" y="707"/>
                </a:lnTo>
                <a:lnTo>
                  <a:pt x="3417" y="712"/>
                </a:lnTo>
                <a:lnTo>
                  <a:pt x="3424" y="715"/>
                </a:lnTo>
                <a:lnTo>
                  <a:pt x="3430" y="719"/>
                </a:lnTo>
                <a:lnTo>
                  <a:pt x="3442" y="729"/>
                </a:lnTo>
                <a:lnTo>
                  <a:pt x="3453" y="741"/>
                </a:lnTo>
                <a:lnTo>
                  <a:pt x="3464" y="754"/>
                </a:lnTo>
                <a:lnTo>
                  <a:pt x="3474" y="767"/>
                </a:lnTo>
                <a:lnTo>
                  <a:pt x="3484" y="780"/>
                </a:lnTo>
                <a:lnTo>
                  <a:pt x="3494" y="790"/>
                </a:lnTo>
                <a:lnTo>
                  <a:pt x="3505" y="798"/>
                </a:lnTo>
                <a:lnTo>
                  <a:pt x="3517" y="807"/>
                </a:lnTo>
                <a:lnTo>
                  <a:pt x="3528" y="814"/>
                </a:lnTo>
                <a:lnTo>
                  <a:pt x="3540" y="822"/>
                </a:lnTo>
                <a:lnTo>
                  <a:pt x="3552" y="831"/>
                </a:lnTo>
                <a:lnTo>
                  <a:pt x="3562" y="842"/>
                </a:lnTo>
                <a:lnTo>
                  <a:pt x="3574" y="853"/>
                </a:lnTo>
                <a:lnTo>
                  <a:pt x="3584" y="863"/>
                </a:lnTo>
                <a:lnTo>
                  <a:pt x="3590" y="868"/>
                </a:lnTo>
                <a:lnTo>
                  <a:pt x="3593" y="873"/>
                </a:lnTo>
                <a:lnTo>
                  <a:pt x="3596" y="879"/>
                </a:lnTo>
                <a:lnTo>
                  <a:pt x="3597" y="887"/>
                </a:lnTo>
                <a:lnTo>
                  <a:pt x="3596" y="896"/>
                </a:lnTo>
                <a:lnTo>
                  <a:pt x="3593" y="906"/>
                </a:lnTo>
                <a:lnTo>
                  <a:pt x="3591" y="914"/>
                </a:lnTo>
                <a:lnTo>
                  <a:pt x="3590" y="924"/>
                </a:lnTo>
                <a:lnTo>
                  <a:pt x="3591" y="928"/>
                </a:lnTo>
                <a:lnTo>
                  <a:pt x="3593" y="931"/>
                </a:lnTo>
                <a:lnTo>
                  <a:pt x="3596" y="933"/>
                </a:lnTo>
                <a:lnTo>
                  <a:pt x="3599" y="935"/>
                </a:lnTo>
                <a:lnTo>
                  <a:pt x="3603" y="937"/>
                </a:lnTo>
                <a:lnTo>
                  <a:pt x="3607" y="939"/>
                </a:lnTo>
                <a:lnTo>
                  <a:pt x="3611" y="942"/>
                </a:lnTo>
                <a:lnTo>
                  <a:pt x="3614" y="945"/>
                </a:lnTo>
                <a:lnTo>
                  <a:pt x="3617" y="951"/>
                </a:lnTo>
                <a:lnTo>
                  <a:pt x="3619" y="958"/>
                </a:lnTo>
                <a:lnTo>
                  <a:pt x="3621" y="965"/>
                </a:lnTo>
                <a:lnTo>
                  <a:pt x="3621" y="972"/>
                </a:lnTo>
                <a:lnTo>
                  <a:pt x="3621" y="987"/>
                </a:lnTo>
                <a:lnTo>
                  <a:pt x="3621" y="1001"/>
                </a:lnTo>
                <a:lnTo>
                  <a:pt x="3621" y="1008"/>
                </a:lnTo>
                <a:lnTo>
                  <a:pt x="3621" y="1015"/>
                </a:lnTo>
                <a:lnTo>
                  <a:pt x="3622" y="1021"/>
                </a:lnTo>
                <a:lnTo>
                  <a:pt x="3623" y="1026"/>
                </a:lnTo>
                <a:lnTo>
                  <a:pt x="3626" y="1031"/>
                </a:lnTo>
                <a:lnTo>
                  <a:pt x="3630" y="1036"/>
                </a:lnTo>
                <a:lnTo>
                  <a:pt x="3635" y="1040"/>
                </a:lnTo>
                <a:lnTo>
                  <a:pt x="3640" y="1043"/>
                </a:lnTo>
                <a:lnTo>
                  <a:pt x="3652" y="1046"/>
                </a:lnTo>
                <a:lnTo>
                  <a:pt x="3662" y="1048"/>
                </a:lnTo>
                <a:lnTo>
                  <a:pt x="3672" y="1049"/>
                </a:lnTo>
                <a:lnTo>
                  <a:pt x="3682" y="1049"/>
                </a:lnTo>
                <a:lnTo>
                  <a:pt x="3703" y="1048"/>
                </a:lnTo>
                <a:lnTo>
                  <a:pt x="3726" y="1049"/>
                </a:lnTo>
                <a:lnTo>
                  <a:pt x="3681" y="1314"/>
                </a:lnTo>
                <a:close/>
                <a:moveTo>
                  <a:pt x="2466" y="1161"/>
                </a:moveTo>
                <a:lnTo>
                  <a:pt x="2459" y="1161"/>
                </a:lnTo>
                <a:lnTo>
                  <a:pt x="2451" y="1159"/>
                </a:lnTo>
                <a:lnTo>
                  <a:pt x="2445" y="1157"/>
                </a:lnTo>
                <a:lnTo>
                  <a:pt x="2438" y="1155"/>
                </a:lnTo>
                <a:lnTo>
                  <a:pt x="2432" y="1153"/>
                </a:lnTo>
                <a:lnTo>
                  <a:pt x="2425" y="1151"/>
                </a:lnTo>
                <a:lnTo>
                  <a:pt x="2418" y="1149"/>
                </a:lnTo>
                <a:lnTo>
                  <a:pt x="2410" y="1149"/>
                </a:lnTo>
                <a:lnTo>
                  <a:pt x="2369" y="1149"/>
                </a:lnTo>
                <a:lnTo>
                  <a:pt x="2369" y="1231"/>
                </a:lnTo>
                <a:lnTo>
                  <a:pt x="2368" y="1246"/>
                </a:lnTo>
                <a:lnTo>
                  <a:pt x="2365" y="1260"/>
                </a:lnTo>
                <a:lnTo>
                  <a:pt x="2360" y="1272"/>
                </a:lnTo>
                <a:lnTo>
                  <a:pt x="2356" y="1285"/>
                </a:lnTo>
                <a:lnTo>
                  <a:pt x="2351" y="1297"/>
                </a:lnTo>
                <a:lnTo>
                  <a:pt x="2347" y="1309"/>
                </a:lnTo>
                <a:lnTo>
                  <a:pt x="2344" y="1323"/>
                </a:lnTo>
                <a:lnTo>
                  <a:pt x="2343" y="1339"/>
                </a:lnTo>
                <a:lnTo>
                  <a:pt x="2342" y="1344"/>
                </a:lnTo>
                <a:lnTo>
                  <a:pt x="2342" y="1349"/>
                </a:lnTo>
                <a:lnTo>
                  <a:pt x="2340" y="1355"/>
                </a:lnTo>
                <a:lnTo>
                  <a:pt x="2338" y="1360"/>
                </a:lnTo>
                <a:lnTo>
                  <a:pt x="2334" y="1368"/>
                </a:lnTo>
                <a:lnTo>
                  <a:pt x="2327" y="1376"/>
                </a:lnTo>
                <a:lnTo>
                  <a:pt x="2312" y="1390"/>
                </a:lnTo>
                <a:lnTo>
                  <a:pt x="2296" y="1406"/>
                </a:lnTo>
                <a:lnTo>
                  <a:pt x="2272" y="1432"/>
                </a:lnTo>
                <a:lnTo>
                  <a:pt x="2247" y="1455"/>
                </a:lnTo>
                <a:lnTo>
                  <a:pt x="2224" y="1477"/>
                </a:lnTo>
                <a:lnTo>
                  <a:pt x="2203" y="1499"/>
                </a:lnTo>
                <a:lnTo>
                  <a:pt x="2193" y="1511"/>
                </a:lnTo>
                <a:lnTo>
                  <a:pt x="2185" y="1522"/>
                </a:lnTo>
                <a:lnTo>
                  <a:pt x="2179" y="1535"/>
                </a:lnTo>
                <a:lnTo>
                  <a:pt x="2172" y="1549"/>
                </a:lnTo>
                <a:lnTo>
                  <a:pt x="2168" y="1563"/>
                </a:lnTo>
                <a:lnTo>
                  <a:pt x="2166" y="1577"/>
                </a:lnTo>
                <a:lnTo>
                  <a:pt x="2165" y="1593"/>
                </a:lnTo>
                <a:lnTo>
                  <a:pt x="2166" y="1610"/>
                </a:lnTo>
                <a:lnTo>
                  <a:pt x="2123" y="1610"/>
                </a:lnTo>
                <a:lnTo>
                  <a:pt x="2122" y="1625"/>
                </a:lnTo>
                <a:lnTo>
                  <a:pt x="2120" y="1638"/>
                </a:lnTo>
                <a:lnTo>
                  <a:pt x="2116" y="1650"/>
                </a:lnTo>
                <a:lnTo>
                  <a:pt x="2112" y="1662"/>
                </a:lnTo>
                <a:lnTo>
                  <a:pt x="2106" y="1672"/>
                </a:lnTo>
                <a:lnTo>
                  <a:pt x="2100" y="1683"/>
                </a:lnTo>
                <a:lnTo>
                  <a:pt x="2092" y="1692"/>
                </a:lnTo>
                <a:lnTo>
                  <a:pt x="2085" y="1702"/>
                </a:lnTo>
                <a:lnTo>
                  <a:pt x="2066" y="1720"/>
                </a:lnTo>
                <a:lnTo>
                  <a:pt x="2046" y="1738"/>
                </a:lnTo>
                <a:lnTo>
                  <a:pt x="2025" y="1757"/>
                </a:lnTo>
                <a:lnTo>
                  <a:pt x="2003" y="1777"/>
                </a:lnTo>
                <a:lnTo>
                  <a:pt x="1992" y="1789"/>
                </a:lnTo>
                <a:lnTo>
                  <a:pt x="1982" y="1800"/>
                </a:lnTo>
                <a:lnTo>
                  <a:pt x="1973" y="1811"/>
                </a:lnTo>
                <a:lnTo>
                  <a:pt x="1965" y="1822"/>
                </a:lnTo>
                <a:lnTo>
                  <a:pt x="1950" y="1846"/>
                </a:lnTo>
                <a:lnTo>
                  <a:pt x="1932" y="1872"/>
                </a:lnTo>
                <a:lnTo>
                  <a:pt x="1951" y="1883"/>
                </a:lnTo>
                <a:lnTo>
                  <a:pt x="1968" y="1895"/>
                </a:lnTo>
                <a:lnTo>
                  <a:pt x="1983" y="1907"/>
                </a:lnTo>
                <a:lnTo>
                  <a:pt x="1998" y="1921"/>
                </a:lnTo>
                <a:lnTo>
                  <a:pt x="2012" y="1934"/>
                </a:lnTo>
                <a:lnTo>
                  <a:pt x="2023" y="1948"/>
                </a:lnTo>
                <a:lnTo>
                  <a:pt x="2035" y="1963"/>
                </a:lnTo>
                <a:lnTo>
                  <a:pt x="2045" y="1979"/>
                </a:lnTo>
                <a:lnTo>
                  <a:pt x="2053" y="1996"/>
                </a:lnTo>
                <a:lnTo>
                  <a:pt x="2060" y="2012"/>
                </a:lnTo>
                <a:lnTo>
                  <a:pt x="2067" y="2029"/>
                </a:lnTo>
                <a:lnTo>
                  <a:pt x="2072" y="2048"/>
                </a:lnTo>
                <a:lnTo>
                  <a:pt x="2076" y="2067"/>
                </a:lnTo>
                <a:lnTo>
                  <a:pt x="2079" y="2087"/>
                </a:lnTo>
                <a:lnTo>
                  <a:pt x="2080" y="2107"/>
                </a:lnTo>
                <a:lnTo>
                  <a:pt x="2082" y="2129"/>
                </a:lnTo>
                <a:lnTo>
                  <a:pt x="2082" y="2206"/>
                </a:lnTo>
                <a:lnTo>
                  <a:pt x="2078" y="2218"/>
                </a:lnTo>
                <a:lnTo>
                  <a:pt x="2075" y="2231"/>
                </a:lnTo>
                <a:lnTo>
                  <a:pt x="2075" y="2241"/>
                </a:lnTo>
                <a:lnTo>
                  <a:pt x="2076" y="2248"/>
                </a:lnTo>
                <a:lnTo>
                  <a:pt x="2077" y="2256"/>
                </a:lnTo>
                <a:lnTo>
                  <a:pt x="2078" y="2266"/>
                </a:lnTo>
                <a:lnTo>
                  <a:pt x="2086" y="2267"/>
                </a:lnTo>
                <a:lnTo>
                  <a:pt x="2092" y="2268"/>
                </a:lnTo>
                <a:lnTo>
                  <a:pt x="2100" y="2270"/>
                </a:lnTo>
                <a:lnTo>
                  <a:pt x="2106" y="2272"/>
                </a:lnTo>
                <a:lnTo>
                  <a:pt x="2111" y="2275"/>
                </a:lnTo>
                <a:lnTo>
                  <a:pt x="2119" y="2277"/>
                </a:lnTo>
                <a:lnTo>
                  <a:pt x="2125" y="2279"/>
                </a:lnTo>
                <a:lnTo>
                  <a:pt x="2132" y="2280"/>
                </a:lnTo>
                <a:lnTo>
                  <a:pt x="2136" y="2279"/>
                </a:lnTo>
                <a:lnTo>
                  <a:pt x="2140" y="2277"/>
                </a:lnTo>
                <a:lnTo>
                  <a:pt x="2143" y="2275"/>
                </a:lnTo>
                <a:lnTo>
                  <a:pt x="2146" y="2272"/>
                </a:lnTo>
                <a:lnTo>
                  <a:pt x="2150" y="2266"/>
                </a:lnTo>
                <a:lnTo>
                  <a:pt x="2157" y="2260"/>
                </a:lnTo>
                <a:lnTo>
                  <a:pt x="2182" y="2231"/>
                </a:lnTo>
                <a:lnTo>
                  <a:pt x="2205" y="2207"/>
                </a:lnTo>
                <a:lnTo>
                  <a:pt x="2211" y="2200"/>
                </a:lnTo>
                <a:lnTo>
                  <a:pt x="2218" y="2196"/>
                </a:lnTo>
                <a:lnTo>
                  <a:pt x="2224" y="2192"/>
                </a:lnTo>
                <a:lnTo>
                  <a:pt x="2232" y="2188"/>
                </a:lnTo>
                <a:lnTo>
                  <a:pt x="2239" y="2185"/>
                </a:lnTo>
                <a:lnTo>
                  <a:pt x="2247" y="2182"/>
                </a:lnTo>
                <a:lnTo>
                  <a:pt x="2256" y="2181"/>
                </a:lnTo>
                <a:lnTo>
                  <a:pt x="2265" y="2181"/>
                </a:lnTo>
                <a:lnTo>
                  <a:pt x="2279" y="2181"/>
                </a:lnTo>
                <a:lnTo>
                  <a:pt x="2292" y="2183"/>
                </a:lnTo>
                <a:lnTo>
                  <a:pt x="2304" y="2187"/>
                </a:lnTo>
                <a:lnTo>
                  <a:pt x="2316" y="2190"/>
                </a:lnTo>
                <a:lnTo>
                  <a:pt x="2328" y="2193"/>
                </a:lnTo>
                <a:lnTo>
                  <a:pt x="2340" y="2195"/>
                </a:lnTo>
                <a:lnTo>
                  <a:pt x="2353" y="2197"/>
                </a:lnTo>
                <a:lnTo>
                  <a:pt x="2367" y="2198"/>
                </a:lnTo>
                <a:lnTo>
                  <a:pt x="2370" y="2197"/>
                </a:lnTo>
                <a:lnTo>
                  <a:pt x="2373" y="2197"/>
                </a:lnTo>
                <a:lnTo>
                  <a:pt x="2376" y="2195"/>
                </a:lnTo>
                <a:lnTo>
                  <a:pt x="2378" y="2194"/>
                </a:lnTo>
                <a:lnTo>
                  <a:pt x="2383" y="2189"/>
                </a:lnTo>
                <a:lnTo>
                  <a:pt x="2385" y="2183"/>
                </a:lnTo>
                <a:lnTo>
                  <a:pt x="2390" y="2170"/>
                </a:lnTo>
                <a:lnTo>
                  <a:pt x="2397" y="2157"/>
                </a:lnTo>
                <a:lnTo>
                  <a:pt x="2421" y="2130"/>
                </a:lnTo>
                <a:lnTo>
                  <a:pt x="2443" y="2106"/>
                </a:lnTo>
                <a:lnTo>
                  <a:pt x="2452" y="2095"/>
                </a:lnTo>
                <a:lnTo>
                  <a:pt x="2460" y="2081"/>
                </a:lnTo>
                <a:lnTo>
                  <a:pt x="2463" y="2074"/>
                </a:lnTo>
                <a:lnTo>
                  <a:pt x="2465" y="2066"/>
                </a:lnTo>
                <a:lnTo>
                  <a:pt x="2467" y="2058"/>
                </a:lnTo>
                <a:lnTo>
                  <a:pt x="2469" y="2048"/>
                </a:lnTo>
                <a:lnTo>
                  <a:pt x="2472" y="2022"/>
                </a:lnTo>
                <a:lnTo>
                  <a:pt x="2476" y="1999"/>
                </a:lnTo>
                <a:lnTo>
                  <a:pt x="2480" y="1988"/>
                </a:lnTo>
                <a:lnTo>
                  <a:pt x="2485" y="1978"/>
                </a:lnTo>
                <a:lnTo>
                  <a:pt x="2491" y="1967"/>
                </a:lnTo>
                <a:lnTo>
                  <a:pt x="2500" y="1956"/>
                </a:lnTo>
                <a:lnTo>
                  <a:pt x="2507" y="1962"/>
                </a:lnTo>
                <a:lnTo>
                  <a:pt x="2512" y="1967"/>
                </a:lnTo>
                <a:lnTo>
                  <a:pt x="2519" y="1973"/>
                </a:lnTo>
                <a:lnTo>
                  <a:pt x="2524" y="1980"/>
                </a:lnTo>
                <a:lnTo>
                  <a:pt x="2529" y="1985"/>
                </a:lnTo>
                <a:lnTo>
                  <a:pt x="2535" y="1990"/>
                </a:lnTo>
                <a:lnTo>
                  <a:pt x="2539" y="1991"/>
                </a:lnTo>
                <a:lnTo>
                  <a:pt x="2542" y="1993"/>
                </a:lnTo>
                <a:lnTo>
                  <a:pt x="2546" y="1993"/>
                </a:lnTo>
                <a:lnTo>
                  <a:pt x="2550" y="1994"/>
                </a:lnTo>
                <a:lnTo>
                  <a:pt x="2554" y="1993"/>
                </a:lnTo>
                <a:lnTo>
                  <a:pt x="2558" y="1993"/>
                </a:lnTo>
                <a:lnTo>
                  <a:pt x="2561" y="1991"/>
                </a:lnTo>
                <a:lnTo>
                  <a:pt x="2563" y="1989"/>
                </a:lnTo>
                <a:lnTo>
                  <a:pt x="2567" y="1985"/>
                </a:lnTo>
                <a:lnTo>
                  <a:pt x="2572" y="1979"/>
                </a:lnTo>
                <a:lnTo>
                  <a:pt x="2578" y="1964"/>
                </a:lnTo>
                <a:lnTo>
                  <a:pt x="2584" y="1950"/>
                </a:lnTo>
                <a:lnTo>
                  <a:pt x="2587" y="1945"/>
                </a:lnTo>
                <a:lnTo>
                  <a:pt x="2592" y="1941"/>
                </a:lnTo>
                <a:lnTo>
                  <a:pt x="2596" y="1937"/>
                </a:lnTo>
                <a:lnTo>
                  <a:pt x="2600" y="1935"/>
                </a:lnTo>
                <a:lnTo>
                  <a:pt x="2608" y="1930"/>
                </a:lnTo>
                <a:lnTo>
                  <a:pt x="2618" y="1923"/>
                </a:lnTo>
                <a:lnTo>
                  <a:pt x="2626" y="1914"/>
                </a:lnTo>
                <a:lnTo>
                  <a:pt x="2634" y="1907"/>
                </a:lnTo>
                <a:lnTo>
                  <a:pt x="2640" y="1898"/>
                </a:lnTo>
                <a:lnTo>
                  <a:pt x="2647" y="1890"/>
                </a:lnTo>
                <a:lnTo>
                  <a:pt x="2652" y="1881"/>
                </a:lnTo>
                <a:lnTo>
                  <a:pt x="2659" y="1873"/>
                </a:lnTo>
                <a:lnTo>
                  <a:pt x="2667" y="1866"/>
                </a:lnTo>
                <a:lnTo>
                  <a:pt x="2676" y="1858"/>
                </a:lnTo>
                <a:lnTo>
                  <a:pt x="2696" y="1845"/>
                </a:lnTo>
                <a:lnTo>
                  <a:pt x="2716" y="1833"/>
                </a:lnTo>
                <a:lnTo>
                  <a:pt x="2734" y="1821"/>
                </a:lnTo>
                <a:lnTo>
                  <a:pt x="2752" y="1812"/>
                </a:lnTo>
                <a:lnTo>
                  <a:pt x="2790" y="1792"/>
                </a:lnTo>
                <a:lnTo>
                  <a:pt x="2832" y="1770"/>
                </a:lnTo>
                <a:lnTo>
                  <a:pt x="2847" y="1762"/>
                </a:lnTo>
                <a:lnTo>
                  <a:pt x="2862" y="1756"/>
                </a:lnTo>
                <a:lnTo>
                  <a:pt x="2877" y="1750"/>
                </a:lnTo>
                <a:lnTo>
                  <a:pt x="2892" y="1744"/>
                </a:lnTo>
                <a:lnTo>
                  <a:pt x="2919" y="1737"/>
                </a:lnTo>
                <a:lnTo>
                  <a:pt x="2946" y="1729"/>
                </a:lnTo>
                <a:lnTo>
                  <a:pt x="2974" y="1722"/>
                </a:lnTo>
                <a:lnTo>
                  <a:pt x="3001" y="1714"/>
                </a:lnTo>
                <a:lnTo>
                  <a:pt x="3015" y="1708"/>
                </a:lnTo>
                <a:lnTo>
                  <a:pt x="3030" y="1703"/>
                </a:lnTo>
                <a:lnTo>
                  <a:pt x="3045" y="1696"/>
                </a:lnTo>
                <a:lnTo>
                  <a:pt x="3059" y="1688"/>
                </a:lnTo>
                <a:lnTo>
                  <a:pt x="3076" y="1680"/>
                </a:lnTo>
                <a:lnTo>
                  <a:pt x="3091" y="1671"/>
                </a:lnTo>
                <a:lnTo>
                  <a:pt x="3097" y="1666"/>
                </a:lnTo>
                <a:lnTo>
                  <a:pt x="3103" y="1660"/>
                </a:lnTo>
                <a:lnTo>
                  <a:pt x="3107" y="1652"/>
                </a:lnTo>
                <a:lnTo>
                  <a:pt x="3111" y="1644"/>
                </a:lnTo>
                <a:lnTo>
                  <a:pt x="3097" y="1635"/>
                </a:lnTo>
                <a:lnTo>
                  <a:pt x="3085" y="1626"/>
                </a:lnTo>
                <a:lnTo>
                  <a:pt x="3075" y="1615"/>
                </a:lnTo>
                <a:lnTo>
                  <a:pt x="3066" y="1605"/>
                </a:lnTo>
                <a:lnTo>
                  <a:pt x="3058" y="1593"/>
                </a:lnTo>
                <a:lnTo>
                  <a:pt x="3051" y="1582"/>
                </a:lnTo>
                <a:lnTo>
                  <a:pt x="3046" y="1569"/>
                </a:lnTo>
                <a:lnTo>
                  <a:pt x="3040" y="1556"/>
                </a:lnTo>
                <a:lnTo>
                  <a:pt x="3030" y="1530"/>
                </a:lnTo>
                <a:lnTo>
                  <a:pt x="3020" y="1501"/>
                </a:lnTo>
                <a:lnTo>
                  <a:pt x="3015" y="1488"/>
                </a:lnTo>
                <a:lnTo>
                  <a:pt x="3010" y="1473"/>
                </a:lnTo>
                <a:lnTo>
                  <a:pt x="3002" y="1458"/>
                </a:lnTo>
                <a:lnTo>
                  <a:pt x="2995" y="1443"/>
                </a:lnTo>
                <a:lnTo>
                  <a:pt x="2984" y="1422"/>
                </a:lnTo>
                <a:lnTo>
                  <a:pt x="2975" y="1401"/>
                </a:lnTo>
                <a:lnTo>
                  <a:pt x="2970" y="1392"/>
                </a:lnTo>
                <a:lnTo>
                  <a:pt x="2962" y="1384"/>
                </a:lnTo>
                <a:lnTo>
                  <a:pt x="2958" y="1381"/>
                </a:lnTo>
                <a:lnTo>
                  <a:pt x="2954" y="1378"/>
                </a:lnTo>
                <a:lnTo>
                  <a:pt x="2949" y="1375"/>
                </a:lnTo>
                <a:lnTo>
                  <a:pt x="2942" y="1373"/>
                </a:lnTo>
                <a:lnTo>
                  <a:pt x="2841" y="1386"/>
                </a:lnTo>
                <a:lnTo>
                  <a:pt x="2834" y="1384"/>
                </a:lnTo>
                <a:lnTo>
                  <a:pt x="2829" y="1382"/>
                </a:lnTo>
                <a:lnTo>
                  <a:pt x="2823" y="1380"/>
                </a:lnTo>
                <a:lnTo>
                  <a:pt x="2819" y="1377"/>
                </a:lnTo>
                <a:lnTo>
                  <a:pt x="2809" y="1370"/>
                </a:lnTo>
                <a:lnTo>
                  <a:pt x="2802" y="1362"/>
                </a:lnTo>
                <a:lnTo>
                  <a:pt x="2788" y="1343"/>
                </a:lnTo>
                <a:lnTo>
                  <a:pt x="2774" y="1322"/>
                </a:lnTo>
                <a:lnTo>
                  <a:pt x="2752" y="1286"/>
                </a:lnTo>
                <a:lnTo>
                  <a:pt x="2732" y="1254"/>
                </a:lnTo>
                <a:lnTo>
                  <a:pt x="2721" y="1239"/>
                </a:lnTo>
                <a:lnTo>
                  <a:pt x="2710" y="1225"/>
                </a:lnTo>
                <a:lnTo>
                  <a:pt x="2696" y="1210"/>
                </a:lnTo>
                <a:lnTo>
                  <a:pt x="2679" y="1196"/>
                </a:lnTo>
                <a:lnTo>
                  <a:pt x="2673" y="1191"/>
                </a:lnTo>
                <a:lnTo>
                  <a:pt x="2667" y="1188"/>
                </a:lnTo>
                <a:lnTo>
                  <a:pt x="2659" y="1185"/>
                </a:lnTo>
                <a:lnTo>
                  <a:pt x="2653" y="1182"/>
                </a:lnTo>
                <a:lnTo>
                  <a:pt x="2639" y="1181"/>
                </a:lnTo>
                <a:lnTo>
                  <a:pt x="2625" y="1180"/>
                </a:lnTo>
                <a:lnTo>
                  <a:pt x="2611" y="1181"/>
                </a:lnTo>
                <a:lnTo>
                  <a:pt x="2596" y="1182"/>
                </a:lnTo>
                <a:lnTo>
                  <a:pt x="2580" y="1184"/>
                </a:lnTo>
                <a:lnTo>
                  <a:pt x="2564" y="1182"/>
                </a:lnTo>
                <a:lnTo>
                  <a:pt x="2554" y="1180"/>
                </a:lnTo>
                <a:lnTo>
                  <a:pt x="2543" y="1177"/>
                </a:lnTo>
                <a:lnTo>
                  <a:pt x="2535" y="1174"/>
                </a:lnTo>
                <a:lnTo>
                  <a:pt x="2526" y="1171"/>
                </a:lnTo>
                <a:lnTo>
                  <a:pt x="2518" y="1168"/>
                </a:lnTo>
                <a:lnTo>
                  <a:pt x="2509" y="1165"/>
                </a:lnTo>
                <a:lnTo>
                  <a:pt x="2499" y="1162"/>
                </a:lnTo>
                <a:lnTo>
                  <a:pt x="2488" y="1161"/>
                </a:lnTo>
                <a:lnTo>
                  <a:pt x="2466" y="1161"/>
                </a:lnTo>
                <a:close/>
                <a:moveTo>
                  <a:pt x="3543" y="2095"/>
                </a:moveTo>
                <a:lnTo>
                  <a:pt x="3536" y="2097"/>
                </a:lnTo>
                <a:lnTo>
                  <a:pt x="3528" y="2099"/>
                </a:lnTo>
                <a:lnTo>
                  <a:pt x="3526" y="2088"/>
                </a:lnTo>
                <a:lnTo>
                  <a:pt x="3523" y="2079"/>
                </a:lnTo>
                <a:lnTo>
                  <a:pt x="3520" y="2069"/>
                </a:lnTo>
                <a:lnTo>
                  <a:pt x="3516" y="2061"/>
                </a:lnTo>
                <a:lnTo>
                  <a:pt x="3510" y="2054"/>
                </a:lnTo>
                <a:lnTo>
                  <a:pt x="3504" y="2046"/>
                </a:lnTo>
                <a:lnTo>
                  <a:pt x="3497" y="2040"/>
                </a:lnTo>
                <a:lnTo>
                  <a:pt x="3488" y="2035"/>
                </a:lnTo>
                <a:lnTo>
                  <a:pt x="3481" y="2049"/>
                </a:lnTo>
                <a:lnTo>
                  <a:pt x="3473" y="2062"/>
                </a:lnTo>
                <a:lnTo>
                  <a:pt x="3465" y="2075"/>
                </a:lnTo>
                <a:lnTo>
                  <a:pt x="3458" y="2090"/>
                </a:lnTo>
                <a:lnTo>
                  <a:pt x="3452" y="2102"/>
                </a:lnTo>
                <a:lnTo>
                  <a:pt x="3446" y="2114"/>
                </a:lnTo>
                <a:lnTo>
                  <a:pt x="3443" y="2119"/>
                </a:lnTo>
                <a:lnTo>
                  <a:pt x="3439" y="2123"/>
                </a:lnTo>
                <a:lnTo>
                  <a:pt x="3433" y="2125"/>
                </a:lnTo>
                <a:lnTo>
                  <a:pt x="3427" y="2126"/>
                </a:lnTo>
                <a:lnTo>
                  <a:pt x="3418" y="2126"/>
                </a:lnTo>
                <a:lnTo>
                  <a:pt x="3411" y="2124"/>
                </a:lnTo>
                <a:lnTo>
                  <a:pt x="3404" y="2122"/>
                </a:lnTo>
                <a:lnTo>
                  <a:pt x="3397" y="2120"/>
                </a:lnTo>
                <a:lnTo>
                  <a:pt x="3384" y="2115"/>
                </a:lnTo>
                <a:lnTo>
                  <a:pt x="3369" y="2110"/>
                </a:lnTo>
                <a:lnTo>
                  <a:pt x="3373" y="2101"/>
                </a:lnTo>
                <a:lnTo>
                  <a:pt x="3377" y="2094"/>
                </a:lnTo>
                <a:lnTo>
                  <a:pt x="3383" y="2087"/>
                </a:lnTo>
                <a:lnTo>
                  <a:pt x="3388" y="2081"/>
                </a:lnTo>
                <a:lnTo>
                  <a:pt x="3399" y="2069"/>
                </a:lnTo>
                <a:lnTo>
                  <a:pt x="3411" y="2059"/>
                </a:lnTo>
                <a:lnTo>
                  <a:pt x="3423" y="2047"/>
                </a:lnTo>
                <a:lnTo>
                  <a:pt x="3432" y="2036"/>
                </a:lnTo>
                <a:lnTo>
                  <a:pt x="3435" y="2028"/>
                </a:lnTo>
                <a:lnTo>
                  <a:pt x="3437" y="2021"/>
                </a:lnTo>
                <a:lnTo>
                  <a:pt x="3440" y="2013"/>
                </a:lnTo>
                <a:lnTo>
                  <a:pt x="3441" y="2004"/>
                </a:lnTo>
                <a:lnTo>
                  <a:pt x="3440" y="2000"/>
                </a:lnTo>
                <a:lnTo>
                  <a:pt x="3437" y="1996"/>
                </a:lnTo>
                <a:lnTo>
                  <a:pt x="3435" y="1992"/>
                </a:lnTo>
                <a:lnTo>
                  <a:pt x="3431" y="1989"/>
                </a:lnTo>
                <a:lnTo>
                  <a:pt x="3423" y="1985"/>
                </a:lnTo>
                <a:lnTo>
                  <a:pt x="3413" y="1981"/>
                </a:lnTo>
                <a:lnTo>
                  <a:pt x="3390" y="1969"/>
                </a:lnTo>
                <a:lnTo>
                  <a:pt x="3370" y="1960"/>
                </a:lnTo>
                <a:lnTo>
                  <a:pt x="3361" y="1953"/>
                </a:lnTo>
                <a:lnTo>
                  <a:pt x="3352" y="1947"/>
                </a:lnTo>
                <a:lnTo>
                  <a:pt x="3343" y="1940"/>
                </a:lnTo>
                <a:lnTo>
                  <a:pt x="3335" y="1929"/>
                </a:lnTo>
                <a:lnTo>
                  <a:pt x="3318" y="1907"/>
                </a:lnTo>
                <a:lnTo>
                  <a:pt x="3303" y="1885"/>
                </a:lnTo>
                <a:lnTo>
                  <a:pt x="3299" y="1879"/>
                </a:lnTo>
                <a:lnTo>
                  <a:pt x="3295" y="1875"/>
                </a:lnTo>
                <a:lnTo>
                  <a:pt x="3290" y="1871"/>
                </a:lnTo>
                <a:lnTo>
                  <a:pt x="3285" y="1868"/>
                </a:lnTo>
                <a:lnTo>
                  <a:pt x="3279" y="1866"/>
                </a:lnTo>
                <a:lnTo>
                  <a:pt x="3274" y="1864"/>
                </a:lnTo>
                <a:lnTo>
                  <a:pt x="3267" y="1862"/>
                </a:lnTo>
                <a:lnTo>
                  <a:pt x="3260" y="1861"/>
                </a:lnTo>
                <a:lnTo>
                  <a:pt x="3256" y="1861"/>
                </a:lnTo>
                <a:lnTo>
                  <a:pt x="3253" y="1862"/>
                </a:lnTo>
                <a:lnTo>
                  <a:pt x="3251" y="1865"/>
                </a:lnTo>
                <a:lnTo>
                  <a:pt x="3247" y="1867"/>
                </a:lnTo>
                <a:lnTo>
                  <a:pt x="3244" y="1872"/>
                </a:lnTo>
                <a:lnTo>
                  <a:pt x="3242" y="1879"/>
                </a:lnTo>
                <a:lnTo>
                  <a:pt x="3239" y="1896"/>
                </a:lnTo>
                <a:lnTo>
                  <a:pt x="3233" y="1912"/>
                </a:lnTo>
                <a:lnTo>
                  <a:pt x="3229" y="1918"/>
                </a:lnTo>
                <a:lnTo>
                  <a:pt x="3226" y="1924"/>
                </a:lnTo>
                <a:lnTo>
                  <a:pt x="3222" y="1928"/>
                </a:lnTo>
                <a:lnTo>
                  <a:pt x="3218" y="1932"/>
                </a:lnTo>
                <a:lnTo>
                  <a:pt x="3208" y="1940"/>
                </a:lnTo>
                <a:lnTo>
                  <a:pt x="3198" y="1944"/>
                </a:lnTo>
                <a:lnTo>
                  <a:pt x="3187" y="1948"/>
                </a:lnTo>
                <a:lnTo>
                  <a:pt x="3175" y="1951"/>
                </a:lnTo>
                <a:lnTo>
                  <a:pt x="3162" y="1954"/>
                </a:lnTo>
                <a:lnTo>
                  <a:pt x="3148" y="1956"/>
                </a:lnTo>
                <a:lnTo>
                  <a:pt x="3134" y="1960"/>
                </a:lnTo>
                <a:lnTo>
                  <a:pt x="3143" y="1956"/>
                </a:lnTo>
                <a:lnTo>
                  <a:pt x="3150" y="1952"/>
                </a:lnTo>
                <a:lnTo>
                  <a:pt x="3157" y="1947"/>
                </a:lnTo>
                <a:lnTo>
                  <a:pt x="3162" y="1941"/>
                </a:lnTo>
                <a:lnTo>
                  <a:pt x="3165" y="1934"/>
                </a:lnTo>
                <a:lnTo>
                  <a:pt x="3169" y="1927"/>
                </a:lnTo>
                <a:lnTo>
                  <a:pt x="3171" y="1920"/>
                </a:lnTo>
                <a:lnTo>
                  <a:pt x="3173" y="1911"/>
                </a:lnTo>
                <a:lnTo>
                  <a:pt x="3179" y="1875"/>
                </a:lnTo>
                <a:lnTo>
                  <a:pt x="3185" y="1838"/>
                </a:lnTo>
                <a:lnTo>
                  <a:pt x="3189" y="1829"/>
                </a:lnTo>
                <a:lnTo>
                  <a:pt x="3194" y="1821"/>
                </a:lnTo>
                <a:lnTo>
                  <a:pt x="3196" y="1817"/>
                </a:lnTo>
                <a:lnTo>
                  <a:pt x="3198" y="1813"/>
                </a:lnTo>
                <a:lnTo>
                  <a:pt x="3199" y="1809"/>
                </a:lnTo>
                <a:lnTo>
                  <a:pt x="3199" y="1803"/>
                </a:lnTo>
                <a:lnTo>
                  <a:pt x="3199" y="1798"/>
                </a:lnTo>
                <a:lnTo>
                  <a:pt x="3198" y="1792"/>
                </a:lnTo>
                <a:lnTo>
                  <a:pt x="3197" y="1785"/>
                </a:lnTo>
                <a:lnTo>
                  <a:pt x="3195" y="1780"/>
                </a:lnTo>
                <a:lnTo>
                  <a:pt x="3192" y="1775"/>
                </a:lnTo>
                <a:lnTo>
                  <a:pt x="3189" y="1770"/>
                </a:lnTo>
                <a:lnTo>
                  <a:pt x="3186" y="1765"/>
                </a:lnTo>
                <a:lnTo>
                  <a:pt x="3182" y="1761"/>
                </a:lnTo>
                <a:lnTo>
                  <a:pt x="3178" y="1757"/>
                </a:lnTo>
                <a:lnTo>
                  <a:pt x="3173" y="1754"/>
                </a:lnTo>
                <a:lnTo>
                  <a:pt x="3168" y="1751"/>
                </a:lnTo>
                <a:lnTo>
                  <a:pt x="3163" y="1747"/>
                </a:lnTo>
                <a:lnTo>
                  <a:pt x="3158" y="1745"/>
                </a:lnTo>
                <a:lnTo>
                  <a:pt x="3151" y="1744"/>
                </a:lnTo>
                <a:lnTo>
                  <a:pt x="3146" y="1743"/>
                </a:lnTo>
                <a:lnTo>
                  <a:pt x="3140" y="1743"/>
                </a:lnTo>
                <a:lnTo>
                  <a:pt x="3122" y="1743"/>
                </a:lnTo>
                <a:lnTo>
                  <a:pt x="3104" y="1744"/>
                </a:lnTo>
                <a:lnTo>
                  <a:pt x="3088" y="1746"/>
                </a:lnTo>
                <a:lnTo>
                  <a:pt x="3072" y="1750"/>
                </a:lnTo>
                <a:lnTo>
                  <a:pt x="3057" y="1753"/>
                </a:lnTo>
                <a:lnTo>
                  <a:pt x="3043" y="1757"/>
                </a:lnTo>
                <a:lnTo>
                  <a:pt x="3028" y="1761"/>
                </a:lnTo>
                <a:lnTo>
                  <a:pt x="3014" y="1766"/>
                </a:lnTo>
                <a:lnTo>
                  <a:pt x="2985" y="1777"/>
                </a:lnTo>
                <a:lnTo>
                  <a:pt x="2957" y="1790"/>
                </a:lnTo>
                <a:lnTo>
                  <a:pt x="2926" y="1803"/>
                </a:lnTo>
                <a:lnTo>
                  <a:pt x="2894" y="1817"/>
                </a:lnTo>
                <a:lnTo>
                  <a:pt x="2852" y="1833"/>
                </a:lnTo>
                <a:lnTo>
                  <a:pt x="2815" y="1847"/>
                </a:lnTo>
                <a:lnTo>
                  <a:pt x="2807" y="1851"/>
                </a:lnTo>
                <a:lnTo>
                  <a:pt x="2799" y="1855"/>
                </a:lnTo>
                <a:lnTo>
                  <a:pt x="2791" y="1860"/>
                </a:lnTo>
                <a:lnTo>
                  <a:pt x="2784" y="1867"/>
                </a:lnTo>
                <a:lnTo>
                  <a:pt x="2776" y="1873"/>
                </a:lnTo>
                <a:lnTo>
                  <a:pt x="2770" y="1880"/>
                </a:lnTo>
                <a:lnTo>
                  <a:pt x="2764" y="1889"/>
                </a:lnTo>
                <a:lnTo>
                  <a:pt x="2757" y="1899"/>
                </a:lnTo>
                <a:lnTo>
                  <a:pt x="2754" y="1905"/>
                </a:lnTo>
                <a:lnTo>
                  <a:pt x="2750" y="1910"/>
                </a:lnTo>
                <a:lnTo>
                  <a:pt x="2745" y="1915"/>
                </a:lnTo>
                <a:lnTo>
                  <a:pt x="2739" y="1920"/>
                </a:lnTo>
                <a:lnTo>
                  <a:pt x="2729" y="1927"/>
                </a:lnTo>
                <a:lnTo>
                  <a:pt x="2718" y="1934"/>
                </a:lnTo>
                <a:lnTo>
                  <a:pt x="2709" y="1942"/>
                </a:lnTo>
                <a:lnTo>
                  <a:pt x="2700" y="1950"/>
                </a:lnTo>
                <a:lnTo>
                  <a:pt x="2697" y="1955"/>
                </a:lnTo>
                <a:lnTo>
                  <a:pt x="2695" y="1961"/>
                </a:lnTo>
                <a:lnTo>
                  <a:pt x="2694" y="1967"/>
                </a:lnTo>
                <a:lnTo>
                  <a:pt x="2693" y="1973"/>
                </a:lnTo>
                <a:lnTo>
                  <a:pt x="2694" y="1980"/>
                </a:lnTo>
                <a:lnTo>
                  <a:pt x="2695" y="1985"/>
                </a:lnTo>
                <a:lnTo>
                  <a:pt x="2698" y="1990"/>
                </a:lnTo>
                <a:lnTo>
                  <a:pt x="2701" y="1994"/>
                </a:lnTo>
                <a:lnTo>
                  <a:pt x="2708" y="2004"/>
                </a:lnTo>
                <a:lnTo>
                  <a:pt x="2713" y="2015"/>
                </a:lnTo>
                <a:lnTo>
                  <a:pt x="2710" y="2035"/>
                </a:lnTo>
                <a:lnTo>
                  <a:pt x="2700" y="2034"/>
                </a:lnTo>
                <a:lnTo>
                  <a:pt x="2693" y="2032"/>
                </a:lnTo>
                <a:lnTo>
                  <a:pt x="2686" y="2031"/>
                </a:lnTo>
                <a:lnTo>
                  <a:pt x="2676" y="2031"/>
                </a:lnTo>
                <a:lnTo>
                  <a:pt x="2671" y="2031"/>
                </a:lnTo>
                <a:lnTo>
                  <a:pt x="2666" y="2032"/>
                </a:lnTo>
                <a:lnTo>
                  <a:pt x="2661" y="2035"/>
                </a:lnTo>
                <a:lnTo>
                  <a:pt x="2657" y="2037"/>
                </a:lnTo>
                <a:lnTo>
                  <a:pt x="2650" y="2043"/>
                </a:lnTo>
                <a:lnTo>
                  <a:pt x="2644" y="2052"/>
                </a:lnTo>
                <a:lnTo>
                  <a:pt x="2634" y="2071"/>
                </a:lnTo>
                <a:lnTo>
                  <a:pt x="2621" y="2090"/>
                </a:lnTo>
                <a:lnTo>
                  <a:pt x="2611" y="2104"/>
                </a:lnTo>
                <a:lnTo>
                  <a:pt x="2601" y="2118"/>
                </a:lnTo>
                <a:lnTo>
                  <a:pt x="2593" y="2132"/>
                </a:lnTo>
                <a:lnTo>
                  <a:pt x="2585" y="2145"/>
                </a:lnTo>
                <a:lnTo>
                  <a:pt x="2579" y="2159"/>
                </a:lnTo>
                <a:lnTo>
                  <a:pt x="2574" y="2174"/>
                </a:lnTo>
                <a:lnTo>
                  <a:pt x="2568" y="2191"/>
                </a:lnTo>
                <a:lnTo>
                  <a:pt x="2564" y="2208"/>
                </a:lnTo>
                <a:lnTo>
                  <a:pt x="2581" y="2214"/>
                </a:lnTo>
                <a:lnTo>
                  <a:pt x="2597" y="2218"/>
                </a:lnTo>
                <a:lnTo>
                  <a:pt x="2612" y="2222"/>
                </a:lnTo>
                <a:lnTo>
                  <a:pt x="2625" y="2224"/>
                </a:lnTo>
                <a:lnTo>
                  <a:pt x="2656" y="2228"/>
                </a:lnTo>
                <a:lnTo>
                  <a:pt x="2690" y="2232"/>
                </a:lnTo>
                <a:lnTo>
                  <a:pt x="2693" y="2246"/>
                </a:lnTo>
                <a:lnTo>
                  <a:pt x="2672" y="2254"/>
                </a:lnTo>
                <a:lnTo>
                  <a:pt x="2653" y="2263"/>
                </a:lnTo>
                <a:lnTo>
                  <a:pt x="2645" y="2269"/>
                </a:lnTo>
                <a:lnTo>
                  <a:pt x="2638" y="2275"/>
                </a:lnTo>
                <a:lnTo>
                  <a:pt x="2631" y="2284"/>
                </a:lnTo>
                <a:lnTo>
                  <a:pt x="2625" y="2293"/>
                </a:lnTo>
                <a:lnTo>
                  <a:pt x="2625" y="2320"/>
                </a:lnTo>
                <a:lnTo>
                  <a:pt x="2635" y="2321"/>
                </a:lnTo>
                <a:lnTo>
                  <a:pt x="2643" y="2322"/>
                </a:lnTo>
                <a:lnTo>
                  <a:pt x="2652" y="2323"/>
                </a:lnTo>
                <a:lnTo>
                  <a:pt x="2661" y="2324"/>
                </a:lnTo>
                <a:lnTo>
                  <a:pt x="2676" y="2323"/>
                </a:lnTo>
                <a:lnTo>
                  <a:pt x="2689" y="2320"/>
                </a:lnTo>
                <a:lnTo>
                  <a:pt x="2700" y="2314"/>
                </a:lnTo>
                <a:lnTo>
                  <a:pt x="2711" y="2310"/>
                </a:lnTo>
                <a:lnTo>
                  <a:pt x="2723" y="2305"/>
                </a:lnTo>
                <a:lnTo>
                  <a:pt x="2734" y="2301"/>
                </a:lnTo>
                <a:lnTo>
                  <a:pt x="2747" y="2298"/>
                </a:lnTo>
                <a:lnTo>
                  <a:pt x="2761" y="2296"/>
                </a:lnTo>
                <a:lnTo>
                  <a:pt x="2773" y="2296"/>
                </a:lnTo>
                <a:lnTo>
                  <a:pt x="2785" y="2298"/>
                </a:lnTo>
                <a:lnTo>
                  <a:pt x="2795" y="2300"/>
                </a:lnTo>
                <a:lnTo>
                  <a:pt x="2806" y="2302"/>
                </a:lnTo>
                <a:lnTo>
                  <a:pt x="2826" y="2307"/>
                </a:lnTo>
                <a:lnTo>
                  <a:pt x="2846" y="2313"/>
                </a:lnTo>
                <a:lnTo>
                  <a:pt x="2865" y="2320"/>
                </a:lnTo>
                <a:lnTo>
                  <a:pt x="2885" y="2325"/>
                </a:lnTo>
                <a:lnTo>
                  <a:pt x="2896" y="2327"/>
                </a:lnTo>
                <a:lnTo>
                  <a:pt x="2907" y="2329"/>
                </a:lnTo>
                <a:lnTo>
                  <a:pt x="2919" y="2330"/>
                </a:lnTo>
                <a:lnTo>
                  <a:pt x="2931" y="2330"/>
                </a:lnTo>
                <a:lnTo>
                  <a:pt x="2907" y="2340"/>
                </a:lnTo>
                <a:lnTo>
                  <a:pt x="2885" y="2347"/>
                </a:lnTo>
                <a:lnTo>
                  <a:pt x="2864" y="2354"/>
                </a:lnTo>
                <a:lnTo>
                  <a:pt x="2843" y="2359"/>
                </a:lnTo>
                <a:lnTo>
                  <a:pt x="2822" y="2363"/>
                </a:lnTo>
                <a:lnTo>
                  <a:pt x="2800" y="2366"/>
                </a:lnTo>
                <a:lnTo>
                  <a:pt x="2776" y="2369"/>
                </a:lnTo>
                <a:lnTo>
                  <a:pt x="2751" y="2371"/>
                </a:lnTo>
                <a:lnTo>
                  <a:pt x="2730" y="2371"/>
                </a:lnTo>
                <a:lnTo>
                  <a:pt x="2710" y="2371"/>
                </a:lnTo>
                <a:lnTo>
                  <a:pt x="2691" y="2370"/>
                </a:lnTo>
                <a:lnTo>
                  <a:pt x="2673" y="2369"/>
                </a:lnTo>
                <a:lnTo>
                  <a:pt x="2656" y="2368"/>
                </a:lnTo>
                <a:lnTo>
                  <a:pt x="2637" y="2369"/>
                </a:lnTo>
                <a:lnTo>
                  <a:pt x="2628" y="2370"/>
                </a:lnTo>
                <a:lnTo>
                  <a:pt x="2618" y="2373"/>
                </a:lnTo>
                <a:lnTo>
                  <a:pt x="2608" y="2375"/>
                </a:lnTo>
                <a:lnTo>
                  <a:pt x="2598" y="2378"/>
                </a:lnTo>
                <a:lnTo>
                  <a:pt x="2601" y="2402"/>
                </a:lnTo>
                <a:lnTo>
                  <a:pt x="2604" y="2424"/>
                </a:lnTo>
                <a:lnTo>
                  <a:pt x="2607" y="2445"/>
                </a:lnTo>
                <a:lnTo>
                  <a:pt x="2611" y="2465"/>
                </a:lnTo>
                <a:lnTo>
                  <a:pt x="2615" y="2485"/>
                </a:lnTo>
                <a:lnTo>
                  <a:pt x="2621" y="2505"/>
                </a:lnTo>
                <a:lnTo>
                  <a:pt x="2625" y="2514"/>
                </a:lnTo>
                <a:lnTo>
                  <a:pt x="2630" y="2525"/>
                </a:lnTo>
                <a:lnTo>
                  <a:pt x="2636" y="2534"/>
                </a:lnTo>
                <a:lnTo>
                  <a:pt x="2642" y="2545"/>
                </a:lnTo>
                <a:lnTo>
                  <a:pt x="2648" y="2552"/>
                </a:lnTo>
                <a:lnTo>
                  <a:pt x="2654" y="2558"/>
                </a:lnTo>
                <a:lnTo>
                  <a:pt x="2660" y="2564"/>
                </a:lnTo>
                <a:lnTo>
                  <a:pt x="2668" y="2569"/>
                </a:lnTo>
                <a:lnTo>
                  <a:pt x="2675" y="2572"/>
                </a:lnTo>
                <a:lnTo>
                  <a:pt x="2682" y="2575"/>
                </a:lnTo>
                <a:lnTo>
                  <a:pt x="2691" y="2577"/>
                </a:lnTo>
                <a:lnTo>
                  <a:pt x="2698" y="2579"/>
                </a:lnTo>
                <a:lnTo>
                  <a:pt x="2716" y="2583"/>
                </a:lnTo>
                <a:lnTo>
                  <a:pt x="2734" y="2586"/>
                </a:lnTo>
                <a:lnTo>
                  <a:pt x="2752" y="2590"/>
                </a:lnTo>
                <a:lnTo>
                  <a:pt x="2771" y="2595"/>
                </a:lnTo>
                <a:lnTo>
                  <a:pt x="2776" y="2597"/>
                </a:lnTo>
                <a:lnTo>
                  <a:pt x="2781" y="2601"/>
                </a:lnTo>
                <a:lnTo>
                  <a:pt x="2785" y="2604"/>
                </a:lnTo>
                <a:lnTo>
                  <a:pt x="2789" y="2607"/>
                </a:lnTo>
                <a:lnTo>
                  <a:pt x="2796" y="2614"/>
                </a:lnTo>
                <a:lnTo>
                  <a:pt x="2803" y="2623"/>
                </a:lnTo>
                <a:lnTo>
                  <a:pt x="2809" y="2630"/>
                </a:lnTo>
                <a:lnTo>
                  <a:pt x="2818" y="2636"/>
                </a:lnTo>
                <a:lnTo>
                  <a:pt x="2821" y="2640"/>
                </a:lnTo>
                <a:lnTo>
                  <a:pt x="2826" y="2641"/>
                </a:lnTo>
                <a:lnTo>
                  <a:pt x="2831" y="2643"/>
                </a:lnTo>
                <a:lnTo>
                  <a:pt x="2837" y="2643"/>
                </a:lnTo>
                <a:lnTo>
                  <a:pt x="2903" y="2643"/>
                </a:lnTo>
                <a:lnTo>
                  <a:pt x="2919" y="2642"/>
                </a:lnTo>
                <a:lnTo>
                  <a:pt x="2933" y="2641"/>
                </a:lnTo>
                <a:lnTo>
                  <a:pt x="2946" y="2638"/>
                </a:lnTo>
                <a:lnTo>
                  <a:pt x="2959" y="2634"/>
                </a:lnTo>
                <a:lnTo>
                  <a:pt x="2972" y="2631"/>
                </a:lnTo>
                <a:lnTo>
                  <a:pt x="2985" y="2628"/>
                </a:lnTo>
                <a:lnTo>
                  <a:pt x="3000" y="2627"/>
                </a:lnTo>
                <a:lnTo>
                  <a:pt x="3016" y="2626"/>
                </a:lnTo>
                <a:lnTo>
                  <a:pt x="3025" y="2627"/>
                </a:lnTo>
                <a:lnTo>
                  <a:pt x="3032" y="2629"/>
                </a:lnTo>
                <a:lnTo>
                  <a:pt x="3039" y="2633"/>
                </a:lnTo>
                <a:lnTo>
                  <a:pt x="3046" y="2638"/>
                </a:lnTo>
                <a:lnTo>
                  <a:pt x="3059" y="2649"/>
                </a:lnTo>
                <a:lnTo>
                  <a:pt x="3073" y="2660"/>
                </a:lnTo>
                <a:lnTo>
                  <a:pt x="3093" y="2673"/>
                </a:lnTo>
                <a:lnTo>
                  <a:pt x="3111" y="2687"/>
                </a:lnTo>
                <a:lnTo>
                  <a:pt x="3128" y="2700"/>
                </a:lnTo>
                <a:lnTo>
                  <a:pt x="3148" y="2715"/>
                </a:lnTo>
                <a:lnTo>
                  <a:pt x="3158" y="2719"/>
                </a:lnTo>
                <a:lnTo>
                  <a:pt x="3166" y="2724"/>
                </a:lnTo>
                <a:lnTo>
                  <a:pt x="3176" y="2728"/>
                </a:lnTo>
                <a:lnTo>
                  <a:pt x="3185" y="2732"/>
                </a:lnTo>
                <a:lnTo>
                  <a:pt x="3204" y="2738"/>
                </a:lnTo>
                <a:lnTo>
                  <a:pt x="3222" y="2745"/>
                </a:lnTo>
                <a:lnTo>
                  <a:pt x="3229" y="2748"/>
                </a:lnTo>
                <a:lnTo>
                  <a:pt x="3238" y="2753"/>
                </a:lnTo>
                <a:lnTo>
                  <a:pt x="3245" y="2758"/>
                </a:lnTo>
                <a:lnTo>
                  <a:pt x="3252" y="2763"/>
                </a:lnTo>
                <a:lnTo>
                  <a:pt x="3257" y="2770"/>
                </a:lnTo>
                <a:lnTo>
                  <a:pt x="3261" y="2777"/>
                </a:lnTo>
                <a:lnTo>
                  <a:pt x="3264" y="2785"/>
                </a:lnTo>
                <a:lnTo>
                  <a:pt x="3267" y="2796"/>
                </a:lnTo>
                <a:lnTo>
                  <a:pt x="3149" y="2796"/>
                </a:lnTo>
                <a:lnTo>
                  <a:pt x="3133" y="2795"/>
                </a:lnTo>
                <a:lnTo>
                  <a:pt x="3120" y="2794"/>
                </a:lnTo>
                <a:lnTo>
                  <a:pt x="3106" y="2792"/>
                </a:lnTo>
                <a:lnTo>
                  <a:pt x="3092" y="2789"/>
                </a:lnTo>
                <a:lnTo>
                  <a:pt x="3067" y="2782"/>
                </a:lnTo>
                <a:lnTo>
                  <a:pt x="3043" y="2774"/>
                </a:lnTo>
                <a:lnTo>
                  <a:pt x="3018" y="2765"/>
                </a:lnTo>
                <a:lnTo>
                  <a:pt x="2994" y="2758"/>
                </a:lnTo>
                <a:lnTo>
                  <a:pt x="2980" y="2756"/>
                </a:lnTo>
                <a:lnTo>
                  <a:pt x="2966" y="2754"/>
                </a:lnTo>
                <a:lnTo>
                  <a:pt x="2952" y="2752"/>
                </a:lnTo>
                <a:lnTo>
                  <a:pt x="2937" y="2752"/>
                </a:lnTo>
                <a:lnTo>
                  <a:pt x="2870" y="2752"/>
                </a:lnTo>
                <a:lnTo>
                  <a:pt x="2859" y="2751"/>
                </a:lnTo>
                <a:lnTo>
                  <a:pt x="2848" y="2749"/>
                </a:lnTo>
                <a:lnTo>
                  <a:pt x="2839" y="2747"/>
                </a:lnTo>
                <a:lnTo>
                  <a:pt x="2829" y="2745"/>
                </a:lnTo>
                <a:lnTo>
                  <a:pt x="2820" y="2742"/>
                </a:lnTo>
                <a:lnTo>
                  <a:pt x="2810" y="2740"/>
                </a:lnTo>
                <a:lnTo>
                  <a:pt x="2800" y="2739"/>
                </a:lnTo>
                <a:lnTo>
                  <a:pt x="2788" y="2738"/>
                </a:lnTo>
                <a:lnTo>
                  <a:pt x="2774" y="2739"/>
                </a:lnTo>
                <a:lnTo>
                  <a:pt x="2762" y="2740"/>
                </a:lnTo>
                <a:lnTo>
                  <a:pt x="2750" y="2743"/>
                </a:lnTo>
                <a:lnTo>
                  <a:pt x="2738" y="2745"/>
                </a:lnTo>
                <a:lnTo>
                  <a:pt x="2728" y="2748"/>
                </a:lnTo>
                <a:lnTo>
                  <a:pt x="2716" y="2752"/>
                </a:lnTo>
                <a:lnTo>
                  <a:pt x="2704" y="2754"/>
                </a:lnTo>
                <a:lnTo>
                  <a:pt x="2690" y="2755"/>
                </a:lnTo>
                <a:lnTo>
                  <a:pt x="2670" y="2756"/>
                </a:lnTo>
                <a:lnTo>
                  <a:pt x="2652" y="2758"/>
                </a:lnTo>
                <a:lnTo>
                  <a:pt x="2634" y="2760"/>
                </a:lnTo>
                <a:lnTo>
                  <a:pt x="2617" y="2763"/>
                </a:lnTo>
                <a:lnTo>
                  <a:pt x="2610" y="2765"/>
                </a:lnTo>
                <a:lnTo>
                  <a:pt x="2602" y="2768"/>
                </a:lnTo>
                <a:lnTo>
                  <a:pt x="2594" y="2772"/>
                </a:lnTo>
                <a:lnTo>
                  <a:pt x="2587" y="2776"/>
                </a:lnTo>
                <a:lnTo>
                  <a:pt x="2580" y="2780"/>
                </a:lnTo>
                <a:lnTo>
                  <a:pt x="2574" y="2785"/>
                </a:lnTo>
                <a:lnTo>
                  <a:pt x="2566" y="2792"/>
                </a:lnTo>
                <a:lnTo>
                  <a:pt x="2561" y="2799"/>
                </a:lnTo>
                <a:lnTo>
                  <a:pt x="2570" y="2810"/>
                </a:lnTo>
                <a:lnTo>
                  <a:pt x="2579" y="2820"/>
                </a:lnTo>
                <a:lnTo>
                  <a:pt x="2586" y="2832"/>
                </a:lnTo>
                <a:lnTo>
                  <a:pt x="2593" y="2843"/>
                </a:lnTo>
                <a:lnTo>
                  <a:pt x="2598" y="2855"/>
                </a:lnTo>
                <a:lnTo>
                  <a:pt x="2602" y="2868"/>
                </a:lnTo>
                <a:lnTo>
                  <a:pt x="2606" y="2880"/>
                </a:lnTo>
                <a:lnTo>
                  <a:pt x="2611" y="2892"/>
                </a:lnTo>
                <a:lnTo>
                  <a:pt x="2617" y="2917"/>
                </a:lnTo>
                <a:lnTo>
                  <a:pt x="2623" y="2942"/>
                </a:lnTo>
                <a:lnTo>
                  <a:pt x="2630" y="2966"/>
                </a:lnTo>
                <a:lnTo>
                  <a:pt x="2637" y="2988"/>
                </a:lnTo>
                <a:lnTo>
                  <a:pt x="2643" y="2990"/>
                </a:lnTo>
                <a:lnTo>
                  <a:pt x="2695" y="2990"/>
                </a:lnTo>
                <a:lnTo>
                  <a:pt x="2700" y="2996"/>
                </a:lnTo>
                <a:lnTo>
                  <a:pt x="2706" y="3000"/>
                </a:lnTo>
                <a:lnTo>
                  <a:pt x="2712" y="3002"/>
                </a:lnTo>
                <a:lnTo>
                  <a:pt x="2719" y="3003"/>
                </a:lnTo>
                <a:lnTo>
                  <a:pt x="2728" y="3002"/>
                </a:lnTo>
                <a:lnTo>
                  <a:pt x="2735" y="3001"/>
                </a:lnTo>
                <a:lnTo>
                  <a:pt x="2736" y="2996"/>
                </a:lnTo>
                <a:lnTo>
                  <a:pt x="2737" y="2990"/>
                </a:lnTo>
                <a:lnTo>
                  <a:pt x="2739" y="2985"/>
                </a:lnTo>
                <a:lnTo>
                  <a:pt x="2742" y="2980"/>
                </a:lnTo>
                <a:lnTo>
                  <a:pt x="2744" y="2975"/>
                </a:lnTo>
                <a:lnTo>
                  <a:pt x="2746" y="2970"/>
                </a:lnTo>
                <a:lnTo>
                  <a:pt x="2747" y="2965"/>
                </a:lnTo>
                <a:lnTo>
                  <a:pt x="2747" y="2959"/>
                </a:lnTo>
                <a:lnTo>
                  <a:pt x="2747" y="2949"/>
                </a:lnTo>
                <a:lnTo>
                  <a:pt x="2745" y="2940"/>
                </a:lnTo>
                <a:lnTo>
                  <a:pt x="2742" y="2931"/>
                </a:lnTo>
                <a:lnTo>
                  <a:pt x="2738" y="2924"/>
                </a:lnTo>
                <a:lnTo>
                  <a:pt x="2729" y="2909"/>
                </a:lnTo>
                <a:lnTo>
                  <a:pt x="2717" y="2892"/>
                </a:lnTo>
                <a:lnTo>
                  <a:pt x="2712" y="2884"/>
                </a:lnTo>
                <a:lnTo>
                  <a:pt x="2708" y="2876"/>
                </a:lnTo>
                <a:lnTo>
                  <a:pt x="2702" y="2868"/>
                </a:lnTo>
                <a:lnTo>
                  <a:pt x="2696" y="2860"/>
                </a:lnTo>
                <a:lnTo>
                  <a:pt x="2689" y="2850"/>
                </a:lnTo>
                <a:lnTo>
                  <a:pt x="2681" y="2842"/>
                </a:lnTo>
                <a:lnTo>
                  <a:pt x="2678" y="2838"/>
                </a:lnTo>
                <a:lnTo>
                  <a:pt x="2675" y="2834"/>
                </a:lnTo>
                <a:lnTo>
                  <a:pt x="2673" y="2829"/>
                </a:lnTo>
                <a:lnTo>
                  <a:pt x="2673" y="2822"/>
                </a:lnTo>
                <a:lnTo>
                  <a:pt x="2673" y="2818"/>
                </a:lnTo>
                <a:lnTo>
                  <a:pt x="2675" y="2815"/>
                </a:lnTo>
                <a:lnTo>
                  <a:pt x="2678" y="2813"/>
                </a:lnTo>
                <a:lnTo>
                  <a:pt x="2682" y="2811"/>
                </a:lnTo>
                <a:lnTo>
                  <a:pt x="2692" y="2809"/>
                </a:lnTo>
                <a:lnTo>
                  <a:pt x="2701" y="2808"/>
                </a:lnTo>
                <a:lnTo>
                  <a:pt x="2709" y="2809"/>
                </a:lnTo>
                <a:lnTo>
                  <a:pt x="2715" y="2810"/>
                </a:lnTo>
                <a:lnTo>
                  <a:pt x="3053" y="2872"/>
                </a:lnTo>
                <a:lnTo>
                  <a:pt x="3054" y="2891"/>
                </a:lnTo>
                <a:lnTo>
                  <a:pt x="3053" y="2908"/>
                </a:lnTo>
                <a:lnTo>
                  <a:pt x="3052" y="2915"/>
                </a:lnTo>
                <a:lnTo>
                  <a:pt x="3050" y="2924"/>
                </a:lnTo>
                <a:lnTo>
                  <a:pt x="3048" y="2932"/>
                </a:lnTo>
                <a:lnTo>
                  <a:pt x="3045" y="2942"/>
                </a:lnTo>
                <a:lnTo>
                  <a:pt x="3040" y="2945"/>
                </a:lnTo>
                <a:lnTo>
                  <a:pt x="3038" y="2949"/>
                </a:lnTo>
                <a:lnTo>
                  <a:pt x="3039" y="2956"/>
                </a:lnTo>
                <a:lnTo>
                  <a:pt x="3041" y="2964"/>
                </a:lnTo>
                <a:lnTo>
                  <a:pt x="3050" y="2964"/>
                </a:lnTo>
                <a:lnTo>
                  <a:pt x="3057" y="2964"/>
                </a:lnTo>
                <a:lnTo>
                  <a:pt x="3065" y="2964"/>
                </a:lnTo>
                <a:lnTo>
                  <a:pt x="3073" y="2964"/>
                </a:lnTo>
                <a:lnTo>
                  <a:pt x="3082" y="2964"/>
                </a:lnTo>
                <a:lnTo>
                  <a:pt x="3089" y="2963"/>
                </a:lnTo>
                <a:lnTo>
                  <a:pt x="3096" y="2962"/>
                </a:lnTo>
                <a:lnTo>
                  <a:pt x="3104" y="2960"/>
                </a:lnTo>
                <a:lnTo>
                  <a:pt x="3111" y="2957"/>
                </a:lnTo>
                <a:lnTo>
                  <a:pt x="3119" y="2954"/>
                </a:lnTo>
                <a:lnTo>
                  <a:pt x="3125" y="2950"/>
                </a:lnTo>
                <a:lnTo>
                  <a:pt x="3130" y="2947"/>
                </a:lnTo>
                <a:lnTo>
                  <a:pt x="3136" y="2942"/>
                </a:lnTo>
                <a:lnTo>
                  <a:pt x="3142" y="2937"/>
                </a:lnTo>
                <a:lnTo>
                  <a:pt x="3147" y="2932"/>
                </a:lnTo>
                <a:lnTo>
                  <a:pt x="3151" y="2926"/>
                </a:lnTo>
                <a:lnTo>
                  <a:pt x="3154" y="2919"/>
                </a:lnTo>
                <a:lnTo>
                  <a:pt x="3159" y="2913"/>
                </a:lnTo>
                <a:lnTo>
                  <a:pt x="3161" y="2906"/>
                </a:lnTo>
                <a:lnTo>
                  <a:pt x="3164" y="2897"/>
                </a:lnTo>
                <a:lnTo>
                  <a:pt x="3405" y="2935"/>
                </a:lnTo>
                <a:lnTo>
                  <a:pt x="3543" y="2095"/>
                </a:lnTo>
                <a:close/>
                <a:moveTo>
                  <a:pt x="2334" y="2949"/>
                </a:moveTo>
                <a:lnTo>
                  <a:pt x="2320" y="2938"/>
                </a:lnTo>
                <a:lnTo>
                  <a:pt x="2304" y="2928"/>
                </a:lnTo>
                <a:lnTo>
                  <a:pt x="2286" y="2918"/>
                </a:lnTo>
                <a:lnTo>
                  <a:pt x="2268" y="2908"/>
                </a:lnTo>
                <a:lnTo>
                  <a:pt x="2251" y="2896"/>
                </a:lnTo>
                <a:lnTo>
                  <a:pt x="2235" y="2886"/>
                </a:lnTo>
                <a:lnTo>
                  <a:pt x="2220" y="2873"/>
                </a:lnTo>
                <a:lnTo>
                  <a:pt x="2206" y="2861"/>
                </a:lnTo>
                <a:lnTo>
                  <a:pt x="2193" y="2849"/>
                </a:lnTo>
                <a:lnTo>
                  <a:pt x="2182" y="2835"/>
                </a:lnTo>
                <a:lnTo>
                  <a:pt x="2170" y="2822"/>
                </a:lnTo>
                <a:lnTo>
                  <a:pt x="2160" y="2809"/>
                </a:lnTo>
                <a:lnTo>
                  <a:pt x="2139" y="2780"/>
                </a:lnTo>
                <a:lnTo>
                  <a:pt x="2117" y="2751"/>
                </a:lnTo>
                <a:lnTo>
                  <a:pt x="2106" y="2736"/>
                </a:lnTo>
                <a:lnTo>
                  <a:pt x="2093" y="2721"/>
                </a:lnTo>
                <a:lnTo>
                  <a:pt x="2079" y="2706"/>
                </a:lnTo>
                <a:lnTo>
                  <a:pt x="2065" y="2690"/>
                </a:lnTo>
                <a:lnTo>
                  <a:pt x="2058" y="2685"/>
                </a:lnTo>
                <a:lnTo>
                  <a:pt x="2052" y="2681"/>
                </a:lnTo>
                <a:lnTo>
                  <a:pt x="2046" y="2679"/>
                </a:lnTo>
                <a:lnTo>
                  <a:pt x="2038" y="2677"/>
                </a:lnTo>
                <a:lnTo>
                  <a:pt x="2023" y="2675"/>
                </a:lnTo>
                <a:lnTo>
                  <a:pt x="2007" y="2673"/>
                </a:lnTo>
                <a:lnTo>
                  <a:pt x="1984" y="2670"/>
                </a:lnTo>
                <a:lnTo>
                  <a:pt x="1964" y="2665"/>
                </a:lnTo>
                <a:lnTo>
                  <a:pt x="1955" y="2663"/>
                </a:lnTo>
                <a:lnTo>
                  <a:pt x="1944" y="2662"/>
                </a:lnTo>
                <a:lnTo>
                  <a:pt x="1934" y="2661"/>
                </a:lnTo>
                <a:lnTo>
                  <a:pt x="1922" y="2660"/>
                </a:lnTo>
                <a:lnTo>
                  <a:pt x="1917" y="2660"/>
                </a:lnTo>
                <a:lnTo>
                  <a:pt x="1913" y="2661"/>
                </a:lnTo>
                <a:lnTo>
                  <a:pt x="1908" y="2663"/>
                </a:lnTo>
                <a:lnTo>
                  <a:pt x="1904" y="2665"/>
                </a:lnTo>
                <a:lnTo>
                  <a:pt x="1898" y="2671"/>
                </a:lnTo>
                <a:lnTo>
                  <a:pt x="1893" y="2679"/>
                </a:lnTo>
                <a:lnTo>
                  <a:pt x="1883" y="2698"/>
                </a:lnTo>
                <a:lnTo>
                  <a:pt x="1875" y="2718"/>
                </a:lnTo>
                <a:lnTo>
                  <a:pt x="1869" y="2727"/>
                </a:lnTo>
                <a:lnTo>
                  <a:pt x="1863" y="2736"/>
                </a:lnTo>
                <a:lnTo>
                  <a:pt x="1856" y="2743"/>
                </a:lnTo>
                <a:lnTo>
                  <a:pt x="1847" y="2749"/>
                </a:lnTo>
                <a:lnTo>
                  <a:pt x="1839" y="2755"/>
                </a:lnTo>
                <a:lnTo>
                  <a:pt x="1829" y="2759"/>
                </a:lnTo>
                <a:lnTo>
                  <a:pt x="1820" y="2761"/>
                </a:lnTo>
                <a:lnTo>
                  <a:pt x="1808" y="2762"/>
                </a:lnTo>
                <a:lnTo>
                  <a:pt x="1801" y="2761"/>
                </a:lnTo>
                <a:lnTo>
                  <a:pt x="1794" y="2760"/>
                </a:lnTo>
                <a:lnTo>
                  <a:pt x="1788" y="2757"/>
                </a:lnTo>
                <a:lnTo>
                  <a:pt x="1782" y="2755"/>
                </a:lnTo>
                <a:lnTo>
                  <a:pt x="1771" y="2746"/>
                </a:lnTo>
                <a:lnTo>
                  <a:pt x="1758" y="2738"/>
                </a:lnTo>
                <a:lnTo>
                  <a:pt x="1752" y="2735"/>
                </a:lnTo>
                <a:lnTo>
                  <a:pt x="1746" y="2732"/>
                </a:lnTo>
                <a:lnTo>
                  <a:pt x="1743" y="2729"/>
                </a:lnTo>
                <a:lnTo>
                  <a:pt x="1740" y="2727"/>
                </a:lnTo>
                <a:lnTo>
                  <a:pt x="1739" y="2724"/>
                </a:lnTo>
                <a:lnTo>
                  <a:pt x="1738" y="2721"/>
                </a:lnTo>
                <a:lnTo>
                  <a:pt x="1739" y="2714"/>
                </a:lnTo>
                <a:lnTo>
                  <a:pt x="1742" y="2706"/>
                </a:lnTo>
                <a:lnTo>
                  <a:pt x="1744" y="2700"/>
                </a:lnTo>
                <a:lnTo>
                  <a:pt x="1748" y="2695"/>
                </a:lnTo>
                <a:lnTo>
                  <a:pt x="1757" y="2684"/>
                </a:lnTo>
                <a:lnTo>
                  <a:pt x="1769" y="2676"/>
                </a:lnTo>
                <a:lnTo>
                  <a:pt x="1781" y="2666"/>
                </a:lnTo>
                <a:lnTo>
                  <a:pt x="1790" y="2656"/>
                </a:lnTo>
                <a:lnTo>
                  <a:pt x="1794" y="2650"/>
                </a:lnTo>
                <a:lnTo>
                  <a:pt x="1797" y="2644"/>
                </a:lnTo>
                <a:lnTo>
                  <a:pt x="1799" y="2636"/>
                </a:lnTo>
                <a:lnTo>
                  <a:pt x="1800" y="2629"/>
                </a:lnTo>
                <a:lnTo>
                  <a:pt x="1799" y="2623"/>
                </a:lnTo>
                <a:lnTo>
                  <a:pt x="1797" y="2617"/>
                </a:lnTo>
                <a:lnTo>
                  <a:pt x="1794" y="2613"/>
                </a:lnTo>
                <a:lnTo>
                  <a:pt x="1791" y="2609"/>
                </a:lnTo>
                <a:lnTo>
                  <a:pt x="1788" y="2604"/>
                </a:lnTo>
                <a:lnTo>
                  <a:pt x="1784" y="2600"/>
                </a:lnTo>
                <a:lnTo>
                  <a:pt x="1782" y="2594"/>
                </a:lnTo>
                <a:lnTo>
                  <a:pt x="1780" y="2589"/>
                </a:lnTo>
                <a:lnTo>
                  <a:pt x="1810" y="2493"/>
                </a:lnTo>
                <a:lnTo>
                  <a:pt x="1800" y="2480"/>
                </a:lnTo>
                <a:lnTo>
                  <a:pt x="1788" y="2497"/>
                </a:lnTo>
                <a:lnTo>
                  <a:pt x="1777" y="2513"/>
                </a:lnTo>
                <a:lnTo>
                  <a:pt x="1766" y="2527"/>
                </a:lnTo>
                <a:lnTo>
                  <a:pt x="1754" y="2540"/>
                </a:lnTo>
                <a:lnTo>
                  <a:pt x="1743" y="2552"/>
                </a:lnTo>
                <a:lnTo>
                  <a:pt x="1728" y="2563"/>
                </a:lnTo>
                <a:lnTo>
                  <a:pt x="1712" y="2573"/>
                </a:lnTo>
                <a:lnTo>
                  <a:pt x="1694" y="2582"/>
                </a:lnTo>
                <a:lnTo>
                  <a:pt x="1684" y="2587"/>
                </a:lnTo>
                <a:lnTo>
                  <a:pt x="1676" y="2593"/>
                </a:lnTo>
                <a:lnTo>
                  <a:pt x="1669" y="2601"/>
                </a:lnTo>
                <a:lnTo>
                  <a:pt x="1662" y="2609"/>
                </a:lnTo>
                <a:lnTo>
                  <a:pt x="1651" y="2627"/>
                </a:lnTo>
                <a:lnTo>
                  <a:pt x="1640" y="2645"/>
                </a:lnTo>
                <a:lnTo>
                  <a:pt x="1635" y="2654"/>
                </a:lnTo>
                <a:lnTo>
                  <a:pt x="1630" y="2663"/>
                </a:lnTo>
                <a:lnTo>
                  <a:pt x="1624" y="2670"/>
                </a:lnTo>
                <a:lnTo>
                  <a:pt x="1618" y="2677"/>
                </a:lnTo>
                <a:lnTo>
                  <a:pt x="1611" y="2683"/>
                </a:lnTo>
                <a:lnTo>
                  <a:pt x="1602" y="2687"/>
                </a:lnTo>
                <a:lnTo>
                  <a:pt x="1593" y="2689"/>
                </a:lnTo>
                <a:lnTo>
                  <a:pt x="1582" y="2690"/>
                </a:lnTo>
                <a:lnTo>
                  <a:pt x="1574" y="2689"/>
                </a:lnTo>
                <a:lnTo>
                  <a:pt x="1566" y="2688"/>
                </a:lnTo>
                <a:lnTo>
                  <a:pt x="1560" y="2685"/>
                </a:lnTo>
                <a:lnTo>
                  <a:pt x="1554" y="2681"/>
                </a:lnTo>
                <a:lnTo>
                  <a:pt x="1548" y="2676"/>
                </a:lnTo>
                <a:lnTo>
                  <a:pt x="1543" y="2669"/>
                </a:lnTo>
                <a:lnTo>
                  <a:pt x="1539" y="2663"/>
                </a:lnTo>
                <a:lnTo>
                  <a:pt x="1535" y="2656"/>
                </a:lnTo>
                <a:lnTo>
                  <a:pt x="1531" y="2648"/>
                </a:lnTo>
                <a:lnTo>
                  <a:pt x="1529" y="2640"/>
                </a:lnTo>
                <a:lnTo>
                  <a:pt x="1527" y="2631"/>
                </a:lnTo>
                <a:lnTo>
                  <a:pt x="1525" y="2622"/>
                </a:lnTo>
                <a:lnTo>
                  <a:pt x="1523" y="2604"/>
                </a:lnTo>
                <a:lnTo>
                  <a:pt x="1523" y="2586"/>
                </a:lnTo>
                <a:lnTo>
                  <a:pt x="1523" y="2329"/>
                </a:lnTo>
                <a:lnTo>
                  <a:pt x="1522" y="2315"/>
                </a:lnTo>
                <a:lnTo>
                  <a:pt x="1521" y="2303"/>
                </a:lnTo>
                <a:lnTo>
                  <a:pt x="1518" y="2292"/>
                </a:lnTo>
                <a:lnTo>
                  <a:pt x="1514" y="2281"/>
                </a:lnTo>
                <a:lnTo>
                  <a:pt x="1507" y="2258"/>
                </a:lnTo>
                <a:lnTo>
                  <a:pt x="1501" y="2232"/>
                </a:lnTo>
                <a:lnTo>
                  <a:pt x="1483" y="2237"/>
                </a:lnTo>
                <a:lnTo>
                  <a:pt x="1467" y="2242"/>
                </a:lnTo>
                <a:lnTo>
                  <a:pt x="1451" y="2245"/>
                </a:lnTo>
                <a:lnTo>
                  <a:pt x="1433" y="2246"/>
                </a:lnTo>
                <a:lnTo>
                  <a:pt x="1433" y="2282"/>
                </a:lnTo>
                <a:lnTo>
                  <a:pt x="1433" y="2288"/>
                </a:lnTo>
                <a:lnTo>
                  <a:pt x="1435" y="2293"/>
                </a:lnTo>
                <a:lnTo>
                  <a:pt x="1438" y="2299"/>
                </a:lnTo>
                <a:lnTo>
                  <a:pt x="1442" y="2303"/>
                </a:lnTo>
                <a:lnTo>
                  <a:pt x="1445" y="2307"/>
                </a:lnTo>
                <a:lnTo>
                  <a:pt x="1447" y="2312"/>
                </a:lnTo>
                <a:lnTo>
                  <a:pt x="1449" y="2318"/>
                </a:lnTo>
                <a:lnTo>
                  <a:pt x="1450" y="2324"/>
                </a:lnTo>
                <a:lnTo>
                  <a:pt x="1449" y="2328"/>
                </a:lnTo>
                <a:lnTo>
                  <a:pt x="1448" y="2332"/>
                </a:lnTo>
                <a:lnTo>
                  <a:pt x="1446" y="2336"/>
                </a:lnTo>
                <a:lnTo>
                  <a:pt x="1444" y="2339"/>
                </a:lnTo>
                <a:lnTo>
                  <a:pt x="1437" y="2344"/>
                </a:lnTo>
                <a:lnTo>
                  <a:pt x="1429" y="2347"/>
                </a:lnTo>
                <a:lnTo>
                  <a:pt x="1410" y="2354"/>
                </a:lnTo>
                <a:lnTo>
                  <a:pt x="1392" y="2361"/>
                </a:lnTo>
                <a:lnTo>
                  <a:pt x="1368" y="2377"/>
                </a:lnTo>
                <a:lnTo>
                  <a:pt x="1347" y="2390"/>
                </a:lnTo>
                <a:lnTo>
                  <a:pt x="1335" y="2397"/>
                </a:lnTo>
                <a:lnTo>
                  <a:pt x="1323" y="2401"/>
                </a:lnTo>
                <a:lnTo>
                  <a:pt x="1311" y="2404"/>
                </a:lnTo>
                <a:lnTo>
                  <a:pt x="1296" y="2405"/>
                </a:lnTo>
                <a:lnTo>
                  <a:pt x="1286" y="2404"/>
                </a:lnTo>
                <a:lnTo>
                  <a:pt x="1277" y="2402"/>
                </a:lnTo>
                <a:lnTo>
                  <a:pt x="1275" y="2388"/>
                </a:lnTo>
                <a:lnTo>
                  <a:pt x="1273" y="2375"/>
                </a:lnTo>
                <a:lnTo>
                  <a:pt x="1247" y="2375"/>
                </a:lnTo>
                <a:lnTo>
                  <a:pt x="1223" y="2375"/>
                </a:lnTo>
                <a:lnTo>
                  <a:pt x="1202" y="2377"/>
                </a:lnTo>
                <a:lnTo>
                  <a:pt x="1182" y="2379"/>
                </a:lnTo>
                <a:lnTo>
                  <a:pt x="1163" y="2382"/>
                </a:lnTo>
                <a:lnTo>
                  <a:pt x="1144" y="2386"/>
                </a:lnTo>
                <a:lnTo>
                  <a:pt x="1124" y="2390"/>
                </a:lnTo>
                <a:lnTo>
                  <a:pt x="1103" y="2396"/>
                </a:lnTo>
                <a:lnTo>
                  <a:pt x="1079" y="2402"/>
                </a:lnTo>
                <a:lnTo>
                  <a:pt x="1065" y="2404"/>
                </a:lnTo>
                <a:lnTo>
                  <a:pt x="1051" y="2405"/>
                </a:lnTo>
                <a:lnTo>
                  <a:pt x="1045" y="2405"/>
                </a:lnTo>
                <a:lnTo>
                  <a:pt x="1038" y="2406"/>
                </a:lnTo>
                <a:lnTo>
                  <a:pt x="1032" y="2408"/>
                </a:lnTo>
                <a:lnTo>
                  <a:pt x="1026" y="2412"/>
                </a:lnTo>
                <a:lnTo>
                  <a:pt x="1018" y="2417"/>
                </a:lnTo>
                <a:lnTo>
                  <a:pt x="1012" y="2422"/>
                </a:lnTo>
                <a:lnTo>
                  <a:pt x="1007" y="2428"/>
                </a:lnTo>
                <a:lnTo>
                  <a:pt x="1002" y="2435"/>
                </a:lnTo>
                <a:lnTo>
                  <a:pt x="993" y="2449"/>
                </a:lnTo>
                <a:lnTo>
                  <a:pt x="981" y="2463"/>
                </a:lnTo>
                <a:lnTo>
                  <a:pt x="978" y="2419"/>
                </a:lnTo>
                <a:lnTo>
                  <a:pt x="956" y="2412"/>
                </a:lnTo>
                <a:lnTo>
                  <a:pt x="936" y="2404"/>
                </a:lnTo>
                <a:lnTo>
                  <a:pt x="926" y="2402"/>
                </a:lnTo>
                <a:lnTo>
                  <a:pt x="916" y="2400"/>
                </a:lnTo>
                <a:lnTo>
                  <a:pt x="905" y="2399"/>
                </a:lnTo>
                <a:lnTo>
                  <a:pt x="892" y="2398"/>
                </a:lnTo>
                <a:lnTo>
                  <a:pt x="881" y="2399"/>
                </a:lnTo>
                <a:lnTo>
                  <a:pt x="869" y="2400"/>
                </a:lnTo>
                <a:lnTo>
                  <a:pt x="859" y="2401"/>
                </a:lnTo>
                <a:lnTo>
                  <a:pt x="848" y="2403"/>
                </a:lnTo>
                <a:lnTo>
                  <a:pt x="829" y="2408"/>
                </a:lnTo>
                <a:lnTo>
                  <a:pt x="811" y="2417"/>
                </a:lnTo>
                <a:lnTo>
                  <a:pt x="775" y="2436"/>
                </a:lnTo>
                <a:lnTo>
                  <a:pt x="736" y="2459"/>
                </a:lnTo>
                <a:lnTo>
                  <a:pt x="719" y="2471"/>
                </a:lnTo>
                <a:lnTo>
                  <a:pt x="705" y="2482"/>
                </a:lnTo>
                <a:lnTo>
                  <a:pt x="696" y="2487"/>
                </a:lnTo>
                <a:lnTo>
                  <a:pt x="688" y="2490"/>
                </a:lnTo>
                <a:lnTo>
                  <a:pt x="679" y="2493"/>
                </a:lnTo>
                <a:lnTo>
                  <a:pt x="669" y="2493"/>
                </a:lnTo>
                <a:lnTo>
                  <a:pt x="661" y="2491"/>
                </a:lnTo>
                <a:lnTo>
                  <a:pt x="655" y="2487"/>
                </a:lnTo>
                <a:lnTo>
                  <a:pt x="661" y="2477"/>
                </a:lnTo>
                <a:lnTo>
                  <a:pt x="668" y="2468"/>
                </a:lnTo>
                <a:lnTo>
                  <a:pt x="674" y="2460"/>
                </a:lnTo>
                <a:lnTo>
                  <a:pt x="681" y="2453"/>
                </a:lnTo>
                <a:lnTo>
                  <a:pt x="689" y="2446"/>
                </a:lnTo>
                <a:lnTo>
                  <a:pt x="697" y="2441"/>
                </a:lnTo>
                <a:lnTo>
                  <a:pt x="706" y="2436"/>
                </a:lnTo>
                <a:lnTo>
                  <a:pt x="714" y="2432"/>
                </a:lnTo>
                <a:lnTo>
                  <a:pt x="752" y="2417"/>
                </a:lnTo>
                <a:lnTo>
                  <a:pt x="794" y="2402"/>
                </a:lnTo>
                <a:lnTo>
                  <a:pt x="828" y="2387"/>
                </a:lnTo>
                <a:lnTo>
                  <a:pt x="858" y="2373"/>
                </a:lnTo>
                <a:lnTo>
                  <a:pt x="872" y="2367"/>
                </a:lnTo>
                <a:lnTo>
                  <a:pt x="888" y="2362"/>
                </a:lnTo>
                <a:lnTo>
                  <a:pt x="896" y="2360"/>
                </a:lnTo>
                <a:lnTo>
                  <a:pt x="904" y="2359"/>
                </a:lnTo>
                <a:lnTo>
                  <a:pt x="914" y="2358"/>
                </a:lnTo>
                <a:lnTo>
                  <a:pt x="923" y="2358"/>
                </a:lnTo>
                <a:lnTo>
                  <a:pt x="931" y="2358"/>
                </a:lnTo>
                <a:lnTo>
                  <a:pt x="938" y="2359"/>
                </a:lnTo>
                <a:lnTo>
                  <a:pt x="945" y="2360"/>
                </a:lnTo>
                <a:lnTo>
                  <a:pt x="952" y="2362"/>
                </a:lnTo>
                <a:lnTo>
                  <a:pt x="964" y="2366"/>
                </a:lnTo>
                <a:lnTo>
                  <a:pt x="976" y="2371"/>
                </a:lnTo>
                <a:lnTo>
                  <a:pt x="988" y="2376"/>
                </a:lnTo>
                <a:lnTo>
                  <a:pt x="1000" y="2381"/>
                </a:lnTo>
                <a:lnTo>
                  <a:pt x="1007" y="2382"/>
                </a:lnTo>
                <a:lnTo>
                  <a:pt x="1014" y="2383"/>
                </a:lnTo>
                <a:lnTo>
                  <a:pt x="1021" y="2384"/>
                </a:lnTo>
                <a:lnTo>
                  <a:pt x="1029" y="2385"/>
                </a:lnTo>
                <a:lnTo>
                  <a:pt x="1047" y="2384"/>
                </a:lnTo>
                <a:lnTo>
                  <a:pt x="1064" y="2382"/>
                </a:lnTo>
                <a:lnTo>
                  <a:pt x="1079" y="2378"/>
                </a:lnTo>
                <a:lnTo>
                  <a:pt x="1094" y="2374"/>
                </a:lnTo>
                <a:lnTo>
                  <a:pt x="1125" y="2363"/>
                </a:lnTo>
                <a:lnTo>
                  <a:pt x="1158" y="2350"/>
                </a:lnTo>
                <a:lnTo>
                  <a:pt x="1174" y="2345"/>
                </a:lnTo>
                <a:lnTo>
                  <a:pt x="1191" y="2341"/>
                </a:lnTo>
                <a:lnTo>
                  <a:pt x="1208" y="2336"/>
                </a:lnTo>
                <a:lnTo>
                  <a:pt x="1223" y="2329"/>
                </a:lnTo>
                <a:lnTo>
                  <a:pt x="1230" y="2325"/>
                </a:lnTo>
                <a:lnTo>
                  <a:pt x="1237" y="2321"/>
                </a:lnTo>
                <a:lnTo>
                  <a:pt x="1242" y="2317"/>
                </a:lnTo>
                <a:lnTo>
                  <a:pt x="1247" y="2311"/>
                </a:lnTo>
                <a:lnTo>
                  <a:pt x="1250" y="2305"/>
                </a:lnTo>
                <a:lnTo>
                  <a:pt x="1254" y="2299"/>
                </a:lnTo>
                <a:lnTo>
                  <a:pt x="1256" y="2291"/>
                </a:lnTo>
                <a:lnTo>
                  <a:pt x="1256" y="2283"/>
                </a:lnTo>
                <a:lnTo>
                  <a:pt x="1256" y="2273"/>
                </a:lnTo>
                <a:lnTo>
                  <a:pt x="1255" y="2266"/>
                </a:lnTo>
                <a:lnTo>
                  <a:pt x="1253" y="2257"/>
                </a:lnTo>
                <a:lnTo>
                  <a:pt x="1249" y="2249"/>
                </a:lnTo>
                <a:lnTo>
                  <a:pt x="1243" y="2252"/>
                </a:lnTo>
                <a:lnTo>
                  <a:pt x="1238" y="2255"/>
                </a:lnTo>
                <a:lnTo>
                  <a:pt x="1233" y="2260"/>
                </a:lnTo>
                <a:lnTo>
                  <a:pt x="1228" y="2264"/>
                </a:lnTo>
                <a:lnTo>
                  <a:pt x="1223" y="2267"/>
                </a:lnTo>
                <a:lnTo>
                  <a:pt x="1218" y="2270"/>
                </a:lnTo>
                <a:lnTo>
                  <a:pt x="1212" y="2272"/>
                </a:lnTo>
                <a:lnTo>
                  <a:pt x="1205" y="2272"/>
                </a:lnTo>
                <a:lnTo>
                  <a:pt x="1199" y="2272"/>
                </a:lnTo>
                <a:lnTo>
                  <a:pt x="1193" y="2271"/>
                </a:lnTo>
                <a:lnTo>
                  <a:pt x="1188" y="2269"/>
                </a:lnTo>
                <a:lnTo>
                  <a:pt x="1183" y="2266"/>
                </a:lnTo>
                <a:lnTo>
                  <a:pt x="1174" y="2258"/>
                </a:lnTo>
                <a:lnTo>
                  <a:pt x="1166" y="2250"/>
                </a:lnTo>
                <a:lnTo>
                  <a:pt x="1158" y="2243"/>
                </a:lnTo>
                <a:lnTo>
                  <a:pt x="1149" y="2235"/>
                </a:lnTo>
                <a:lnTo>
                  <a:pt x="1144" y="2232"/>
                </a:lnTo>
                <a:lnTo>
                  <a:pt x="1139" y="2230"/>
                </a:lnTo>
                <a:lnTo>
                  <a:pt x="1133" y="2229"/>
                </a:lnTo>
                <a:lnTo>
                  <a:pt x="1127" y="2229"/>
                </a:lnTo>
                <a:lnTo>
                  <a:pt x="1114" y="2229"/>
                </a:lnTo>
                <a:lnTo>
                  <a:pt x="1102" y="2231"/>
                </a:lnTo>
                <a:lnTo>
                  <a:pt x="1090" y="2233"/>
                </a:lnTo>
                <a:lnTo>
                  <a:pt x="1079" y="2237"/>
                </a:lnTo>
                <a:lnTo>
                  <a:pt x="1058" y="2246"/>
                </a:lnTo>
                <a:lnTo>
                  <a:pt x="1038" y="2255"/>
                </a:lnTo>
                <a:lnTo>
                  <a:pt x="1019" y="2266"/>
                </a:lnTo>
                <a:lnTo>
                  <a:pt x="998" y="2274"/>
                </a:lnTo>
                <a:lnTo>
                  <a:pt x="988" y="2277"/>
                </a:lnTo>
                <a:lnTo>
                  <a:pt x="976" y="2281"/>
                </a:lnTo>
                <a:lnTo>
                  <a:pt x="963" y="2282"/>
                </a:lnTo>
                <a:lnTo>
                  <a:pt x="951" y="2283"/>
                </a:lnTo>
                <a:lnTo>
                  <a:pt x="938" y="2282"/>
                </a:lnTo>
                <a:lnTo>
                  <a:pt x="927" y="2281"/>
                </a:lnTo>
                <a:lnTo>
                  <a:pt x="917" y="2277"/>
                </a:lnTo>
                <a:lnTo>
                  <a:pt x="906" y="2274"/>
                </a:lnTo>
                <a:lnTo>
                  <a:pt x="896" y="2271"/>
                </a:lnTo>
                <a:lnTo>
                  <a:pt x="886" y="2268"/>
                </a:lnTo>
                <a:lnTo>
                  <a:pt x="875" y="2267"/>
                </a:lnTo>
                <a:lnTo>
                  <a:pt x="862" y="2266"/>
                </a:lnTo>
                <a:lnTo>
                  <a:pt x="856" y="2267"/>
                </a:lnTo>
                <a:lnTo>
                  <a:pt x="850" y="2269"/>
                </a:lnTo>
                <a:lnTo>
                  <a:pt x="845" y="2272"/>
                </a:lnTo>
                <a:lnTo>
                  <a:pt x="841" y="2277"/>
                </a:lnTo>
                <a:lnTo>
                  <a:pt x="834" y="2288"/>
                </a:lnTo>
                <a:lnTo>
                  <a:pt x="828" y="2302"/>
                </a:lnTo>
                <a:lnTo>
                  <a:pt x="823" y="2314"/>
                </a:lnTo>
                <a:lnTo>
                  <a:pt x="815" y="2326"/>
                </a:lnTo>
                <a:lnTo>
                  <a:pt x="811" y="2330"/>
                </a:lnTo>
                <a:lnTo>
                  <a:pt x="807" y="2334"/>
                </a:lnTo>
                <a:lnTo>
                  <a:pt x="801" y="2337"/>
                </a:lnTo>
                <a:lnTo>
                  <a:pt x="794" y="2338"/>
                </a:lnTo>
                <a:lnTo>
                  <a:pt x="788" y="2337"/>
                </a:lnTo>
                <a:lnTo>
                  <a:pt x="782" y="2336"/>
                </a:lnTo>
                <a:lnTo>
                  <a:pt x="776" y="2332"/>
                </a:lnTo>
                <a:lnTo>
                  <a:pt x="771" y="2329"/>
                </a:lnTo>
                <a:lnTo>
                  <a:pt x="763" y="2322"/>
                </a:lnTo>
                <a:lnTo>
                  <a:pt x="753" y="2311"/>
                </a:lnTo>
                <a:lnTo>
                  <a:pt x="658" y="2311"/>
                </a:lnTo>
                <a:lnTo>
                  <a:pt x="672" y="2295"/>
                </a:lnTo>
                <a:lnTo>
                  <a:pt x="684" y="2282"/>
                </a:lnTo>
                <a:lnTo>
                  <a:pt x="691" y="2275"/>
                </a:lnTo>
                <a:lnTo>
                  <a:pt x="695" y="2267"/>
                </a:lnTo>
                <a:lnTo>
                  <a:pt x="697" y="2264"/>
                </a:lnTo>
                <a:lnTo>
                  <a:pt x="698" y="2258"/>
                </a:lnTo>
                <a:lnTo>
                  <a:pt x="699" y="2254"/>
                </a:lnTo>
                <a:lnTo>
                  <a:pt x="699" y="2249"/>
                </a:lnTo>
                <a:lnTo>
                  <a:pt x="698" y="2239"/>
                </a:lnTo>
                <a:lnTo>
                  <a:pt x="697" y="2232"/>
                </a:lnTo>
                <a:lnTo>
                  <a:pt x="696" y="2224"/>
                </a:lnTo>
                <a:lnTo>
                  <a:pt x="694" y="2216"/>
                </a:lnTo>
                <a:lnTo>
                  <a:pt x="690" y="2201"/>
                </a:lnTo>
                <a:lnTo>
                  <a:pt x="686" y="2185"/>
                </a:lnTo>
                <a:lnTo>
                  <a:pt x="673" y="2186"/>
                </a:lnTo>
                <a:lnTo>
                  <a:pt x="660" y="2189"/>
                </a:lnTo>
                <a:lnTo>
                  <a:pt x="649" y="2192"/>
                </a:lnTo>
                <a:lnTo>
                  <a:pt x="638" y="2196"/>
                </a:lnTo>
                <a:lnTo>
                  <a:pt x="617" y="2206"/>
                </a:lnTo>
                <a:lnTo>
                  <a:pt x="597" y="2215"/>
                </a:lnTo>
                <a:lnTo>
                  <a:pt x="578" y="2226"/>
                </a:lnTo>
                <a:lnTo>
                  <a:pt x="557" y="2234"/>
                </a:lnTo>
                <a:lnTo>
                  <a:pt x="546" y="2237"/>
                </a:lnTo>
                <a:lnTo>
                  <a:pt x="535" y="2239"/>
                </a:lnTo>
                <a:lnTo>
                  <a:pt x="522" y="2242"/>
                </a:lnTo>
                <a:lnTo>
                  <a:pt x="509" y="2242"/>
                </a:lnTo>
                <a:lnTo>
                  <a:pt x="502" y="2242"/>
                </a:lnTo>
                <a:lnTo>
                  <a:pt x="494" y="2241"/>
                </a:lnTo>
                <a:lnTo>
                  <a:pt x="488" y="2238"/>
                </a:lnTo>
                <a:lnTo>
                  <a:pt x="482" y="2237"/>
                </a:lnTo>
                <a:lnTo>
                  <a:pt x="475" y="2235"/>
                </a:lnTo>
                <a:lnTo>
                  <a:pt x="469" y="2233"/>
                </a:lnTo>
                <a:lnTo>
                  <a:pt x="462" y="2232"/>
                </a:lnTo>
                <a:lnTo>
                  <a:pt x="454" y="2232"/>
                </a:lnTo>
                <a:lnTo>
                  <a:pt x="448" y="2232"/>
                </a:lnTo>
                <a:lnTo>
                  <a:pt x="442" y="2234"/>
                </a:lnTo>
                <a:lnTo>
                  <a:pt x="436" y="2236"/>
                </a:lnTo>
                <a:lnTo>
                  <a:pt x="432" y="2238"/>
                </a:lnTo>
                <a:lnTo>
                  <a:pt x="428" y="2243"/>
                </a:lnTo>
                <a:lnTo>
                  <a:pt x="424" y="2247"/>
                </a:lnTo>
                <a:lnTo>
                  <a:pt x="420" y="2252"/>
                </a:lnTo>
                <a:lnTo>
                  <a:pt x="417" y="2257"/>
                </a:lnTo>
                <a:lnTo>
                  <a:pt x="412" y="2269"/>
                </a:lnTo>
                <a:lnTo>
                  <a:pt x="408" y="2283"/>
                </a:lnTo>
                <a:lnTo>
                  <a:pt x="406" y="2296"/>
                </a:lnTo>
                <a:lnTo>
                  <a:pt x="404" y="2310"/>
                </a:lnTo>
                <a:lnTo>
                  <a:pt x="399" y="2341"/>
                </a:lnTo>
                <a:lnTo>
                  <a:pt x="395" y="2367"/>
                </a:lnTo>
                <a:lnTo>
                  <a:pt x="393" y="2381"/>
                </a:lnTo>
                <a:lnTo>
                  <a:pt x="391" y="2395"/>
                </a:lnTo>
                <a:lnTo>
                  <a:pt x="390" y="2409"/>
                </a:lnTo>
                <a:lnTo>
                  <a:pt x="390" y="2425"/>
                </a:lnTo>
                <a:lnTo>
                  <a:pt x="388" y="2407"/>
                </a:lnTo>
                <a:lnTo>
                  <a:pt x="386" y="2390"/>
                </a:lnTo>
                <a:lnTo>
                  <a:pt x="382" y="2375"/>
                </a:lnTo>
                <a:lnTo>
                  <a:pt x="378" y="2360"/>
                </a:lnTo>
                <a:lnTo>
                  <a:pt x="371" y="2330"/>
                </a:lnTo>
                <a:lnTo>
                  <a:pt x="362" y="2300"/>
                </a:lnTo>
                <a:lnTo>
                  <a:pt x="358" y="2308"/>
                </a:lnTo>
                <a:lnTo>
                  <a:pt x="354" y="2317"/>
                </a:lnTo>
                <a:lnTo>
                  <a:pt x="348" y="2323"/>
                </a:lnTo>
                <a:lnTo>
                  <a:pt x="341" y="2328"/>
                </a:lnTo>
                <a:lnTo>
                  <a:pt x="328" y="2339"/>
                </a:lnTo>
                <a:lnTo>
                  <a:pt x="312" y="2350"/>
                </a:lnTo>
                <a:lnTo>
                  <a:pt x="301" y="2360"/>
                </a:lnTo>
                <a:lnTo>
                  <a:pt x="292" y="2369"/>
                </a:lnTo>
                <a:lnTo>
                  <a:pt x="284" y="2378"/>
                </a:lnTo>
                <a:lnTo>
                  <a:pt x="277" y="2387"/>
                </a:lnTo>
                <a:lnTo>
                  <a:pt x="264" y="2407"/>
                </a:lnTo>
                <a:lnTo>
                  <a:pt x="252" y="2431"/>
                </a:lnTo>
                <a:lnTo>
                  <a:pt x="240" y="2454"/>
                </a:lnTo>
                <a:lnTo>
                  <a:pt x="229" y="2474"/>
                </a:lnTo>
                <a:lnTo>
                  <a:pt x="218" y="2494"/>
                </a:lnTo>
                <a:lnTo>
                  <a:pt x="204" y="2517"/>
                </a:lnTo>
                <a:lnTo>
                  <a:pt x="192" y="2534"/>
                </a:lnTo>
                <a:lnTo>
                  <a:pt x="180" y="2548"/>
                </a:lnTo>
                <a:lnTo>
                  <a:pt x="173" y="2555"/>
                </a:lnTo>
                <a:lnTo>
                  <a:pt x="168" y="2563"/>
                </a:lnTo>
                <a:lnTo>
                  <a:pt x="163" y="2571"/>
                </a:lnTo>
                <a:lnTo>
                  <a:pt x="159" y="2582"/>
                </a:lnTo>
                <a:lnTo>
                  <a:pt x="150" y="2598"/>
                </a:lnTo>
                <a:lnTo>
                  <a:pt x="141" y="2613"/>
                </a:lnTo>
                <a:lnTo>
                  <a:pt x="131" y="2627"/>
                </a:lnTo>
                <a:lnTo>
                  <a:pt x="123" y="2644"/>
                </a:lnTo>
                <a:lnTo>
                  <a:pt x="118" y="2656"/>
                </a:lnTo>
                <a:lnTo>
                  <a:pt x="114" y="2667"/>
                </a:lnTo>
                <a:lnTo>
                  <a:pt x="112" y="2678"/>
                </a:lnTo>
                <a:lnTo>
                  <a:pt x="110" y="2688"/>
                </a:lnTo>
                <a:lnTo>
                  <a:pt x="108" y="2699"/>
                </a:lnTo>
                <a:lnTo>
                  <a:pt x="105" y="2709"/>
                </a:lnTo>
                <a:lnTo>
                  <a:pt x="102" y="2721"/>
                </a:lnTo>
                <a:lnTo>
                  <a:pt x="97" y="2733"/>
                </a:lnTo>
                <a:lnTo>
                  <a:pt x="91" y="2746"/>
                </a:lnTo>
                <a:lnTo>
                  <a:pt x="86" y="2758"/>
                </a:lnTo>
                <a:lnTo>
                  <a:pt x="78" y="2768"/>
                </a:lnTo>
                <a:lnTo>
                  <a:pt x="71" y="2778"/>
                </a:lnTo>
                <a:lnTo>
                  <a:pt x="55" y="2796"/>
                </a:lnTo>
                <a:lnTo>
                  <a:pt x="34" y="2816"/>
                </a:lnTo>
                <a:lnTo>
                  <a:pt x="22" y="2826"/>
                </a:lnTo>
                <a:lnTo>
                  <a:pt x="12" y="2834"/>
                </a:lnTo>
                <a:lnTo>
                  <a:pt x="8" y="2839"/>
                </a:lnTo>
                <a:lnTo>
                  <a:pt x="3" y="2845"/>
                </a:lnTo>
                <a:lnTo>
                  <a:pt x="1" y="2851"/>
                </a:lnTo>
                <a:lnTo>
                  <a:pt x="0" y="2858"/>
                </a:lnTo>
                <a:lnTo>
                  <a:pt x="1" y="2862"/>
                </a:lnTo>
                <a:lnTo>
                  <a:pt x="3" y="2867"/>
                </a:lnTo>
                <a:lnTo>
                  <a:pt x="8" y="2870"/>
                </a:lnTo>
                <a:lnTo>
                  <a:pt x="12" y="2871"/>
                </a:lnTo>
                <a:lnTo>
                  <a:pt x="22" y="2874"/>
                </a:lnTo>
                <a:lnTo>
                  <a:pt x="33" y="2877"/>
                </a:lnTo>
                <a:lnTo>
                  <a:pt x="42" y="2880"/>
                </a:lnTo>
                <a:lnTo>
                  <a:pt x="52" y="2884"/>
                </a:lnTo>
                <a:lnTo>
                  <a:pt x="59" y="2888"/>
                </a:lnTo>
                <a:lnTo>
                  <a:pt x="68" y="2892"/>
                </a:lnTo>
                <a:lnTo>
                  <a:pt x="83" y="2903"/>
                </a:lnTo>
                <a:lnTo>
                  <a:pt x="99" y="2914"/>
                </a:lnTo>
                <a:lnTo>
                  <a:pt x="124" y="2932"/>
                </a:lnTo>
                <a:lnTo>
                  <a:pt x="147" y="2947"/>
                </a:lnTo>
                <a:lnTo>
                  <a:pt x="158" y="2955"/>
                </a:lnTo>
                <a:lnTo>
                  <a:pt x="169" y="2964"/>
                </a:lnTo>
                <a:lnTo>
                  <a:pt x="180" y="2974"/>
                </a:lnTo>
                <a:lnTo>
                  <a:pt x="190" y="2986"/>
                </a:lnTo>
                <a:lnTo>
                  <a:pt x="187" y="3020"/>
                </a:lnTo>
                <a:lnTo>
                  <a:pt x="186" y="3026"/>
                </a:lnTo>
                <a:lnTo>
                  <a:pt x="206" y="3149"/>
                </a:lnTo>
                <a:lnTo>
                  <a:pt x="206" y="3153"/>
                </a:lnTo>
                <a:lnTo>
                  <a:pt x="205" y="3157"/>
                </a:lnTo>
                <a:lnTo>
                  <a:pt x="204" y="3161"/>
                </a:lnTo>
                <a:lnTo>
                  <a:pt x="202" y="3164"/>
                </a:lnTo>
                <a:lnTo>
                  <a:pt x="198" y="3171"/>
                </a:lnTo>
                <a:lnTo>
                  <a:pt x="192" y="3177"/>
                </a:lnTo>
                <a:lnTo>
                  <a:pt x="186" y="3182"/>
                </a:lnTo>
                <a:lnTo>
                  <a:pt x="180" y="3189"/>
                </a:lnTo>
                <a:lnTo>
                  <a:pt x="173" y="3195"/>
                </a:lnTo>
                <a:lnTo>
                  <a:pt x="169" y="3202"/>
                </a:lnTo>
                <a:lnTo>
                  <a:pt x="160" y="3223"/>
                </a:lnTo>
                <a:lnTo>
                  <a:pt x="152" y="3239"/>
                </a:lnTo>
                <a:lnTo>
                  <a:pt x="149" y="3248"/>
                </a:lnTo>
                <a:lnTo>
                  <a:pt x="145" y="3256"/>
                </a:lnTo>
                <a:lnTo>
                  <a:pt x="140" y="3266"/>
                </a:lnTo>
                <a:lnTo>
                  <a:pt x="133" y="3274"/>
                </a:lnTo>
                <a:lnTo>
                  <a:pt x="122" y="3285"/>
                </a:lnTo>
                <a:lnTo>
                  <a:pt x="111" y="3294"/>
                </a:lnTo>
                <a:lnTo>
                  <a:pt x="106" y="3300"/>
                </a:lnTo>
                <a:lnTo>
                  <a:pt x="103" y="3305"/>
                </a:lnTo>
                <a:lnTo>
                  <a:pt x="99" y="3311"/>
                </a:lnTo>
                <a:lnTo>
                  <a:pt x="99" y="3319"/>
                </a:lnTo>
                <a:lnTo>
                  <a:pt x="99" y="3323"/>
                </a:lnTo>
                <a:lnTo>
                  <a:pt x="100" y="3327"/>
                </a:lnTo>
                <a:lnTo>
                  <a:pt x="103" y="3330"/>
                </a:lnTo>
                <a:lnTo>
                  <a:pt x="106" y="3332"/>
                </a:lnTo>
                <a:lnTo>
                  <a:pt x="112" y="3338"/>
                </a:lnTo>
                <a:lnTo>
                  <a:pt x="120" y="3344"/>
                </a:lnTo>
                <a:lnTo>
                  <a:pt x="125" y="3348"/>
                </a:lnTo>
                <a:lnTo>
                  <a:pt x="130" y="3352"/>
                </a:lnTo>
                <a:lnTo>
                  <a:pt x="136" y="3356"/>
                </a:lnTo>
                <a:lnTo>
                  <a:pt x="143" y="3359"/>
                </a:lnTo>
                <a:lnTo>
                  <a:pt x="155" y="3363"/>
                </a:lnTo>
                <a:lnTo>
                  <a:pt x="168" y="3368"/>
                </a:lnTo>
                <a:lnTo>
                  <a:pt x="174" y="3370"/>
                </a:lnTo>
                <a:lnTo>
                  <a:pt x="180" y="3372"/>
                </a:lnTo>
                <a:lnTo>
                  <a:pt x="185" y="3376"/>
                </a:lnTo>
                <a:lnTo>
                  <a:pt x="189" y="3379"/>
                </a:lnTo>
                <a:lnTo>
                  <a:pt x="192" y="3383"/>
                </a:lnTo>
                <a:lnTo>
                  <a:pt x="196" y="3388"/>
                </a:lnTo>
                <a:lnTo>
                  <a:pt x="197" y="3394"/>
                </a:lnTo>
                <a:lnTo>
                  <a:pt x="198" y="3400"/>
                </a:lnTo>
                <a:lnTo>
                  <a:pt x="193" y="3415"/>
                </a:lnTo>
                <a:lnTo>
                  <a:pt x="189" y="3428"/>
                </a:lnTo>
                <a:lnTo>
                  <a:pt x="189" y="3436"/>
                </a:lnTo>
                <a:lnTo>
                  <a:pt x="190" y="3443"/>
                </a:lnTo>
                <a:lnTo>
                  <a:pt x="192" y="3450"/>
                </a:lnTo>
                <a:lnTo>
                  <a:pt x="194" y="3455"/>
                </a:lnTo>
                <a:lnTo>
                  <a:pt x="196" y="3461"/>
                </a:lnTo>
                <a:lnTo>
                  <a:pt x="198" y="3468"/>
                </a:lnTo>
                <a:lnTo>
                  <a:pt x="199" y="3474"/>
                </a:lnTo>
                <a:lnTo>
                  <a:pt x="199" y="3481"/>
                </a:lnTo>
                <a:lnTo>
                  <a:pt x="199" y="3490"/>
                </a:lnTo>
                <a:lnTo>
                  <a:pt x="197" y="3497"/>
                </a:lnTo>
                <a:lnTo>
                  <a:pt x="192" y="3502"/>
                </a:lnTo>
                <a:lnTo>
                  <a:pt x="188" y="3509"/>
                </a:lnTo>
                <a:lnTo>
                  <a:pt x="177" y="3518"/>
                </a:lnTo>
                <a:lnTo>
                  <a:pt x="164" y="3529"/>
                </a:lnTo>
                <a:lnTo>
                  <a:pt x="149" y="3542"/>
                </a:lnTo>
                <a:lnTo>
                  <a:pt x="137" y="3556"/>
                </a:lnTo>
                <a:lnTo>
                  <a:pt x="126" y="3570"/>
                </a:lnTo>
                <a:lnTo>
                  <a:pt x="112" y="3585"/>
                </a:lnTo>
                <a:lnTo>
                  <a:pt x="104" y="3593"/>
                </a:lnTo>
                <a:lnTo>
                  <a:pt x="95" y="3600"/>
                </a:lnTo>
                <a:lnTo>
                  <a:pt x="91" y="3604"/>
                </a:lnTo>
                <a:lnTo>
                  <a:pt x="88" y="3607"/>
                </a:lnTo>
                <a:lnTo>
                  <a:pt x="85" y="3612"/>
                </a:lnTo>
                <a:lnTo>
                  <a:pt x="81" y="3617"/>
                </a:lnTo>
                <a:lnTo>
                  <a:pt x="88" y="3623"/>
                </a:lnTo>
                <a:lnTo>
                  <a:pt x="93" y="3628"/>
                </a:lnTo>
                <a:lnTo>
                  <a:pt x="96" y="3633"/>
                </a:lnTo>
                <a:lnTo>
                  <a:pt x="99" y="3640"/>
                </a:lnTo>
                <a:lnTo>
                  <a:pt x="102" y="3646"/>
                </a:lnTo>
                <a:lnTo>
                  <a:pt x="103" y="3653"/>
                </a:lnTo>
                <a:lnTo>
                  <a:pt x="104" y="3661"/>
                </a:lnTo>
                <a:lnTo>
                  <a:pt x="104" y="3668"/>
                </a:lnTo>
                <a:lnTo>
                  <a:pt x="104" y="3673"/>
                </a:lnTo>
                <a:lnTo>
                  <a:pt x="103" y="3678"/>
                </a:lnTo>
                <a:lnTo>
                  <a:pt x="100" y="3682"/>
                </a:lnTo>
                <a:lnTo>
                  <a:pt x="98" y="3685"/>
                </a:lnTo>
                <a:lnTo>
                  <a:pt x="92" y="3691"/>
                </a:lnTo>
                <a:lnTo>
                  <a:pt x="85" y="3697"/>
                </a:lnTo>
                <a:lnTo>
                  <a:pt x="76" y="3702"/>
                </a:lnTo>
                <a:lnTo>
                  <a:pt x="68" y="3707"/>
                </a:lnTo>
                <a:lnTo>
                  <a:pt x="65" y="3710"/>
                </a:lnTo>
                <a:lnTo>
                  <a:pt x="61" y="3714"/>
                </a:lnTo>
                <a:lnTo>
                  <a:pt x="58" y="3718"/>
                </a:lnTo>
                <a:lnTo>
                  <a:pt x="56" y="3723"/>
                </a:lnTo>
                <a:lnTo>
                  <a:pt x="52" y="3738"/>
                </a:lnTo>
                <a:lnTo>
                  <a:pt x="47" y="3754"/>
                </a:lnTo>
                <a:lnTo>
                  <a:pt x="41" y="3772"/>
                </a:lnTo>
                <a:lnTo>
                  <a:pt x="52" y="3774"/>
                </a:lnTo>
                <a:lnTo>
                  <a:pt x="61" y="3774"/>
                </a:lnTo>
                <a:lnTo>
                  <a:pt x="67" y="3777"/>
                </a:lnTo>
                <a:lnTo>
                  <a:pt x="72" y="3779"/>
                </a:lnTo>
                <a:lnTo>
                  <a:pt x="74" y="3781"/>
                </a:lnTo>
                <a:lnTo>
                  <a:pt x="75" y="3783"/>
                </a:lnTo>
                <a:lnTo>
                  <a:pt x="76" y="3786"/>
                </a:lnTo>
                <a:lnTo>
                  <a:pt x="77" y="3789"/>
                </a:lnTo>
                <a:lnTo>
                  <a:pt x="76" y="3794"/>
                </a:lnTo>
                <a:lnTo>
                  <a:pt x="74" y="3799"/>
                </a:lnTo>
                <a:lnTo>
                  <a:pt x="71" y="3802"/>
                </a:lnTo>
                <a:lnTo>
                  <a:pt x="68" y="3806"/>
                </a:lnTo>
                <a:lnTo>
                  <a:pt x="65" y="3811"/>
                </a:lnTo>
                <a:lnTo>
                  <a:pt x="61" y="3814"/>
                </a:lnTo>
                <a:lnTo>
                  <a:pt x="59" y="3819"/>
                </a:lnTo>
                <a:lnTo>
                  <a:pt x="58" y="3824"/>
                </a:lnTo>
                <a:lnTo>
                  <a:pt x="58" y="3839"/>
                </a:lnTo>
                <a:lnTo>
                  <a:pt x="57" y="3852"/>
                </a:lnTo>
                <a:lnTo>
                  <a:pt x="57" y="3865"/>
                </a:lnTo>
                <a:lnTo>
                  <a:pt x="56" y="3879"/>
                </a:lnTo>
                <a:lnTo>
                  <a:pt x="56" y="3899"/>
                </a:lnTo>
                <a:lnTo>
                  <a:pt x="57" y="3908"/>
                </a:lnTo>
                <a:lnTo>
                  <a:pt x="60" y="3914"/>
                </a:lnTo>
                <a:lnTo>
                  <a:pt x="65" y="3919"/>
                </a:lnTo>
                <a:lnTo>
                  <a:pt x="70" y="3924"/>
                </a:lnTo>
                <a:lnTo>
                  <a:pt x="76" y="3928"/>
                </a:lnTo>
                <a:lnTo>
                  <a:pt x="84" y="3931"/>
                </a:lnTo>
                <a:lnTo>
                  <a:pt x="91" y="3934"/>
                </a:lnTo>
                <a:lnTo>
                  <a:pt x="98" y="3936"/>
                </a:lnTo>
                <a:lnTo>
                  <a:pt x="114" y="3943"/>
                </a:lnTo>
                <a:lnTo>
                  <a:pt x="129" y="3950"/>
                </a:lnTo>
                <a:lnTo>
                  <a:pt x="134" y="3954"/>
                </a:lnTo>
                <a:lnTo>
                  <a:pt x="140" y="3960"/>
                </a:lnTo>
                <a:lnTo>
                  <a:pt x="143" y="3966"/>
                </a:lnTo>
                <a:lnTo>
                  <a:pt x="145" y="3974"/>
                </a:lnTo>
                <a:lnTo>
                  <a:pt x="146" y="3988"/>
                </a:lnTo>
                <a:lnTo>
                  <a:pt x="146" y="4001"/>
                </a:lnTo>
                <a:lnTo>
                  <a:pt x="147" y="4006"/>
                </a:lnTo>
                <a:lnTo>
                  <a:pt x="148" y="4012"/>
                </a:lnTo>
                <a:lnTo>
                  <a:pt x="150" y="4019"/>
                </a:lnTo>
                <a:lnTo>
                  <a:pt x="153" y="4025"/>
                </a:lnTo>
                <a:lnTo>
                  <a:pt x="166" y="4044"/>
                </a:lnTo>
                <a:lnTo>
                  <a:pt x="178" y="4062"/>
                </a:lnTo>
                <a:lnTo>
                  <a:pt x="183" y="4070"/>
                </a:lnTo>
                <a:lnTo>
                  <a:pt x="187" y="4080"/>
                </a:lnTo>
                <a:lnTo>
                  <a:pt x="190" y="4089"/>
                </a:lnTo>
                <a:lnTo>
                  <a:pt x="190" y="4101"/>
                </a:lnTo>
                <a:lnTo>
                  <a:pt x="190" y="4113"/>
                </a:lnTo>
                <a:lnTo>
                  <a:pt x="189" y="4122"/>
                </a:lnTo>
                <a:lnTo>
                  <a:pt x="187" y="4132"/>
                </a:lnTo>
                <a:lnTo>
                  <a:pt x="185" y="4140"/>
                </a:lnTo>
                <a:lnTo>
                  <a:pt x="178" y="4158"/>
                </a:lnTo>
                <a:lnTo>
                  <a:pt x="167" y="4176"/>
                </a:lnTo>
                <a:lnTo>
                  <a:pt x="162" y="4183"/>
                </a:lnTo>
                <a:lnTo>
                  <a:pt x="156" y="4189"/>
                </a:lnTo>
                <a:lnTo>
                  <a:pt x="153" y="4192"/>
                </a:lnTo>
                <a:lnTo>
                  <a:pt x="151" y="4195"/>
                </a:lnTo>
                <a:lnTo>
                  <a:pt x="150" y="4198"/>
                </a:lnTo>
                <a:lnTo>
                  <a:pt x="150" y="4202"/>
                </a:lnTo>
                <a:lnTo>
                  <a:pt x="150" y="4212"/>
                </a:lnTo>
                <a:lnTo>
                  <a:pt x="151" y="4220"/>
                </a:lnTo>
                <a:lnTo>
                  <a:pt x="160" y="4229"/>
                </a:lnTo>
                <a:lnTo>
                  <a:pt x="167" y="4237"/>
                </a:lnTo>
                <a:lnTo>
                  <a:pt x="170" y="4240"/>
                </a:lnTo>
                <a:lnTo>
                  <a:pt x="173" y="4246"/>
                </a:lnTo>
                <a:lnTo>
                  <a:pt x="174" y="4250"/>
                </a:lnTo>
                <a:lnTo>
                  <a:pt x="175" y="4256"/>
                </a:lnTo>
                <a:lnTo>
                  <a:pt x="174" y="4259"/>
                </a:lnTo>
                <a:lnTo>
                  <a:pt x="173" y="4262"/>
                </a:lnTo>
                <a:lnTo>
                  <a:pt x="171" y="4264"/>
                </a:lnTo>
                <a:lnTo>
                  <a:pt x="169" y="4266"/>
                </a:lnTo>
                <a:lnTo>
                  <a:pt x="163" y="4269"/>
                </a:lnTo>
                <a:lnTo>
                  <a:pt x="156" y="4273"/>
                </a:lnTo>
                <a:lnTo>
                  <a:pt x="148" y="4282"/>
                </a:lnTo>
                <a:lnTo>
                  <a:pt x="141" y="4290"/>
                </a:lnTo>
                <a:lnTo>
                  <a:pt x="132" y="4297"/>
                </a:lnTo>
                <a:lnTo>
                  <a:pt x="123" y="4305"/>
                </a:lnTo>
                <a:lnTo>
                  <a:pt x="118" y="4308"/>
                </a:lnTo>
                <a:lnTo>
                  <a:pt x="115" y="4311"/>
                </a:lnTo>
                <a:lnTo>
                  <a:pt x="112" y="4314"/>
                </a:lnTo>
                <a:lnTo>
                  <a:pt x="109" y="4319"/>
                </a:lnTo>
                <a:lnTo>
                  <a:pt x="106" y="4327"/>
                </a:lnTo>
                <a:lnTo>
                  <a:pt x="104" y="4335"/>
                </a:lnTo>
                <a:lnTo>
                  <a:pt x="103" y="4355"/>
                </a:lnTo>
                <a:lnTo>
                  <a:pt x="103" y="4376"/>
                </a:lnTo>
                <a:lnTo>
                  <a:pt x="103" y="4381"/>
                </a:lnTo>
                <a:lnTo>
                  <a:pt x="104" y="4386"/>
                </a:lnTo>
                <a:lnTo>
                  <a:pt x="106" y="4391"/>
                </a:lnTo>
                <a:lnTo>
                  <a:pt x="108" y="4396"/>
                </a:lnTo>
                <a:lnTo>
                  <a:pt x="113" y="4403"/>
                </a:lnTo>
                <a:lnTo>
                  <a:pt x="121" y="4410"/>
                </a:lnTo>
                <a:lnTo>
                  <a:pt x="127" y="4419"/>
                </a:lnTo>
                <a:lnTo>
                  <a:pt x="132" y="4426"/>
                </a:lnTo>
                <a:lnTo>
                  <a:pt x="134" y="4431"/>
                </a:lnTo>
                <a:lnTo>
                  <a:pt x="136" y="4436"/>
                </a:lnTo>
                <a:lnTo>
                  <a:pt x="137" y="4441"/>
                </a:lnTo>
                <a:lnTo>
                  <a:pt x="139" y="4446"/>
                </a:lnTo>
                <a:lnTo>
                  <a:pt x="137" y="4451"/>
                </a:lnTo>
                <a:lnTo>
                  <a:pt x="136" y="4454"/>
                </a:lnTo>
                <a:lnTo>
                  <a:pt x="135" y="4458"/>
                </a:lnTo>
                <a:lnTo>
                  <a:pt x="134" y="4460"/>
                </a:lnTo>
                <a:lnTo>
                  <a:pt x="129" y="4466"/>
                </a:lnTo>
                <a:lnTo>
                  <a:pt x="124" y="4471"/>
                </a:lnTo>
                <a:lnTo>
                  <a:pt x="117" y="4476"/>
                </a:lnTo>
                <a:lnTo>
                  <a:pt x="111" y="4481"/>
                </a:lnTo>
                <a:lnTo>
                  <a:pt x="106" y="4486"/>
                </a:lnTo>
                <a:lnTo>
                  <a:pt x="100" y="4494"/>
                </a:lnTo>
                <a:lnTo>
                  <a:pt x="92" y="4511"/>
                </a:lnTo>
                <a:lnTo>
                  <a:pt x="86" y="4527"/>
                </a:lnTo>
                <a:lnTo>
                  <a:pt x="84" y="4535"/>
                </a:lnTo>
                <a:lnTo>
                  <a:pt x="81" y="4544"/>
                </a:lnTo>
                <a:lnTo>
                  <a:pt x="80" y="4553"/>
                </a:lnTo>
                <a:lnTo>
                  <a:pt x="80" y="4563"/>
                </a:lnTo>
                <a:lnTo>
                  <a:pt x="80" y="4599"/>
                </a:lnTo>
                <a:lnTo>
                  <a:pt x="81" y="4606"/>
                </a:lnTo>
                <a:lnTo>
                  <a:pt x="84" y="4611"/>
                </a:lnTo>
                <a:lnTo>
                  <a:pt x="88" y="4616"/>
                </a:lnTo>
                <a:lnTo>
                  <a:pt x="91" y="4621"/>
                </a:lnTo>
                <a:lnTo>
                  <a:pt x="95" y="4626"/>
                </a:lnTo>
                <a:lnTo>
                  <a:pt x="99" y="4630"/>
                </a:lnTo>
                <a:lnTo>
                  <a:pt x="102" y="4635"/>
                </a:lnTo>
                <a:lnTo>
                  <a:pt x="103" y="4643"/>
                </a:lnTo>
                <a:lnTo>
                  <a:pt x="102" y="4648"/>
                </a:lnTo>
                <a:lnTo>
                  <a:pt x="100" y="4653"/>
                </a:lnTo>
                <a:lnTo>
                  <a:pt x="99" y="4658"/>
                </a:lnTo>
                <a:lnTo>
                  <a:pt x="97" y="4663"/>
                </a:lnTo>
                <a:lnTo>
                  <a:pt x="92" y="4670"/>
                </a:lnTo>
                <a:lnTo>
                  <a:pt x="86" y="4679"/>
                </a:lnTo>
                <a:lnTo>
                  <a:pt x="79" y="4686"/>
                </a:lnTo>
                <a:lnTo>
                  <a:pt x="74" y="4695"/>
                </a:lnTo>
                <a:lnTo>
                  <a:pt x="72" y="4699"/>
                </a:lnTo>
                <a:lnTo>
                  <a:pt x="70" y="4704"/>
                </a:lnTo>
                <a:lnTo>
                  <a:pt x="69" y="4709"/>
                </a:lnTo>
                <a:lnTo>
                  <a:pt x="69" y="4715"/>
                </a:lnTo>
                <a:lnTo>
                  <a:pt x="69" y="4720"/>
                </a:lnTo>
                <a:lnTo>
                  <a:pt x="70" y="4725"/>
                </a:lnTo>
                <a:lnTo>
                  <a:pt x="73" y="4729"/>
                </a:lnTo>
                <a:lnTo>
                  <a:pt x="75" y="4734"/>
                </a:lnTo>
                <a:lnTo>
                  <a:pt x="84" y="4741"/>
                </a:lnTo>
                <a:lnTo>
                  <a:pt x="92" y="4748"/>
                </a:lnTo>
                <a:lnTo>
                  <a:pt x="112" y="4762"/>
                </a:lnTo>
                <a:lnTo>
                  <a:pt x="129" y="4775"/>
                </a:lnTo>
                <a:lnTo>
                  <a:pt x="137" y="4782"/>
                </a:lnTo>
                <a:lnTo>
                  <a:pt x="145" y="4790"/>
                </a:lnTo>
                <a:lnTo>
                  <a:pt x="151" y="4798"/>
                </a:lnTo>
                <a:lnTo>
                  <a:pt x="159" y="4808"/>
                </a:lnTo>
                <a:lnTo>
                  <a:pt x="175" y="4835"/>
                </a:lnTo>
                <a:lnTo>
                  <a:pt x="190" y="4860"/>
                </a:lnTo>
                <a:lnTo>
                  <a:pt x="196" y="4873"/>
                </a:lnTo>
                <a:lnTo>
                  <a:pt x="201" y="4887"/>
                </a:lnTo>
                <a:lnTo>
                  <a:pt x="203" y="4901"/>
                </a:lnTo>
                <a:lnTo>
                  <a:pt x="204" y="4918"/>
                </a:lnTo>
                <a:lnTo>
                  <a:pt x="204" y="4937"/>
                </a:lnTo>
                <a:lnTo>
                  <a:pt x="203" y="4953"/>
                </a:lnTo>
                <a:lnTo>
                  <a:pt x="203" y="4970"/>
                </a:lnTo>
                <a:lnTo>
                  <a:pt x="203" y="4989"/>
                </a:lnTo>
                <a:lnTo>
                  <a:pt x="204" y="5002"/>
                </a:lnTo>
                <a:lnTo>
                  <a:pt x="206" y="5012"/>
                </a:lnTo>
                <a:lnTo>
                  <a:pt x="211" y="5022"/>
                </a:lnTo>
                <a:lnTo>
                  <a:pt x="217" y="5030"/>
                </a:lnTo>
                <a:lnTo>
                  <a:pt x="230" y="5048"/>
                </a:lnTo>
                <a:lnTo>
                  <a:pt x="245" y="5067"/>
                </a:lnTo>
                <a:lnTo>
                  <a:pt x="252" y="5078"/>
                </a:lnTo>
                <a:lnTo>
                  <a:pt x="257" y="5088"/>
                </a:lnTo>
                <a:lnTo>
                  <a:pt x="261" y="5098"/>
                </a:lnTo>
                <a:lnTo>
                  <a:pt x="264" y="5107"/>
                </a:lnTo>
                <a:lnTo>
                  <a:pt x="266" y="5118"/>
                </a:lnTo>
                <a:lnTo>
                  <a:pt x="267" y="5129"/>
                </a:lnTo>
                <a:lnTo>
                  <a:pt x="268" y="5140"/>
                </a:lnTo>
                <a:lnTo>
                  <a:pt x="268" y="5152"/>
                </a:lnTo>
                <a:lnTo>
                  <a:pt x="268" y="5158"/>
                </a:lnTo>
                <a:lnTo>
                  <a:pt x="267" y="5163"/>
                </a:lnTo>
                <a:lnTo>
                  <a:pt x="265" y="5168"/>
                </a:lnTo>
                <a:lnTo>
                  <a:pt x="263" y="5172"/>
                </a:lnTo>
                <a:lnTo>
                  <a:pt x="258" y="5181"/>
                </a:lnTo>
                <a:lnTo>
                  <a:pt x="252" y="5192"/>
                </a:lnTo>
                <a:lnTo>
                  <a:pt x="249" y="5202"/>
                </a:lnTo>
                <a:lnTo>
                  <a:pt x="246" y="5212"/>
                </a:lnTo>
                <a:lnTo>
                  <a:pt x="243" y="5221"/>
                </a:lnTo>
                <a:lnTo>
                  <a:pt x="242" y="5232"/>
                </a:lnTo>
                <a:lnTo>
                  <a:pt x="242" y="5267"/>
                </a:lnTo>
                <a:lnTo>
                  <a:pt x="253" y="5267"/>
                </a:lnTo>
                <a:lnTo>
                  <a:pt x="264" y="5267"/>
                </a:lnTo>
                <a:lnTo>
                  <a:pt x="268" y="5268"/>
                </a:lnTo>
                <a:lnTo>
                  <a:pt x="273" y="5270"/>
                </a:lnTo>
                <a:lnTo>
                  <a:pt x="275" y="5273"/>
                </a:lnTo>
                <a:lnTo>
                  <a:pt x="276" y="5278"/>
                </a:lnTo>
                <a:lnTo>
                  <a:pt x="276" y="5316"/>
                </a:lnTo>
                <a:lnTo>
                  <a:pt x="277" y="5324"/>
                </a:lnTo>
                <a:lnTo>
                  <a:pt x="279" y="5330"/>
                </a:lnTo>
                <a:lnTo>
                  <a:pt x="283" y="5337"/>
                </a:lnTo>
                <a:lnTo>
                  <a:pt x="287" y="5342"/>
                </a:lnTo>
                <a:lnTo>
                  <a:pt x="294" y="5346"/>
                </a:lnTo>
                <a:lnTo>
                  <a:pt x="300" y="5349"/>
                </a:lnTo>
                <a:lnTo>
                  <a:pt x="307" y="5350"/>
                </a:lnTo>
                <a:lnTo>
                  <a:pt x="316" y="5351"/>
                </a:lnTo>
                <a:lnTo>
                  <a:pt x="321" y="5351"/>
                </a:lnTo>
                <a:lnTo>
                  <a:pt x="325" y="5349"/>
                </a:lnTo>
                <a:lnTo>
                  <a:pt x="330" y="5347"/>
                </a:lnTo>
                <a:lnTo>
                  <a:pt x="334" y="5345"/>
                </a:lnTo>
                <a:lnTo>
                  <a:pt x="338" y="5342"/>
                </a:lnTo>
                <a:lnTo>
                  <a:pt x="342" y="5340"/>
                </a:lnTo>
                <a:lnTo>
                  <a:pt x="347" y="5339"/>
                </a:lnTo>
                <a:lnTo>
                  <a:pt x="352" y="5338"/>
                </a:lnTo>
                <a:lnTo>
                  <a:pt x="358" y="5339"/>
                </a:lnTo>
                <a:lnTo>
                  <a:pt x="364" y="5342"/>
                </a:lnTo>
                <a:lnTo>
                  <a:pt x="369" y="5345"/>
                </a:lnTo>
                <a:lnTo>
                  <a:pt x="372" y="5350"/>
                </a:lnTo>
                <a:lnTo>
                  <a:pt x="379" y="5363"/>
                </a:lnTo>
                <a:lnTo>
                  <a:pt x="386" y="5376"/>
                </a:lnTo>
                <a:lnTo>
                  <a:pt x="392" y="5382"/>
                </a:lnTo>
                <a:lnTo>
                  <a:pt x="398" y="5387"/>
                </a:lnTo>
                <a:lnTo>
                  <a:pt x="406" y="5390"/>
                </a:lnTo>
                <a:lnTo>
                  <a:pt x="413" y="5394"/>
                </a:lnTo>
                <a:lnTo>
                  <a:pt x="430" y="5396"/>
                </a:lnTo>
                <a:lnTo>
                  <a:pt x="449" y="5399"/>
                </a:lnTo>
                <a:lnTo>
                  <a:pt x="464" y="5405"/>
                </a:lnTo>
                <a:lnTo>
                  <a:pt x="480" y="5410"/>
                </a:lnTo>
                <a:lnTo>
                  <a:pt x="502" y="5413"/>
                </a:lnTo>
                <a:lnTo>
                  <a:pt x="522" y="5417"/>
                </a:lnTo>
                <a:lnTo>
                  <a:pt x="527" y="5418"/>
                </a:lnTo>
                <a:lnTo>
                  <a:pt x="531" y="5420"/>
                </a:lnTo>
                <a:lnTo>
                  <a:pt x="535" y="5422"/>
                </a:lnTo>
                <a:lnTo>
                  <a:pt x="538" y="5425"/>
                </a:lnTo>
                <a:lnTo>
                  <a:pt x="541" y="5428"/>
                </a:lnTo>
                <a:lnTo>
                  <a:pt x="542" y="5433"/>
                </a:lnTo>
                <a:lnTo>
                  <a:pt x="544" y="5437"/>
                </a:lnTo>
                <a:lnTo>
                  <a:pt x="544" y="5441"/>
                </a:lnTo>
                <a:lnTo>
                  <a:pt x="543" y="5446"/>
                </a:lnTo>
                <a:lnTo>
                  <a:pt x="542" y="5450"/>
                </a:lnTo>
                <a:lnTo>
                  <a:pt x="540" y="5454"/>
                </a:lnTo>
                <a:lnTo>
                  <a:pt x="538" y="5457"/>
                </a:lnTo>
                <a:lnTo>
                  <a:pt x="531" y="5463"/>
                </a:lnTo>
                <a:lnTo>
                  <a:pt x="525" y="5471"/>
                </a:lnTo>
                <a:lnTo>
                  <a:pt x="514" y="5486"/>
                </a:lnTo>
                <a:lnTo>
                  <a:pt x="506" y="5501"/>
                </a:lnTo>
                <a:lnTo>
                  <a:pt x="499" y="5517"/>
                </a:lnTo>
                <a:lnTo>
                  <a:pt x="491" y="5535"/>
                </a:lnTo>
                <a:lnTo>
                  <a:pt x="486" y="5542"/>
                </a:lnTo>
                <a:lnTo>
                  <a:pt x="481" y="5550"/>
                </a:lnTo>
                <a:lnTo>
                  <a:pt x="482" y="5555"/>
                </a:lnTo>
                <a:lnTo>
                  <a:pt x="484" y="5559"/>
                </a:lnTo>
                <a:lnTo>
                  <a:pt x="487" y="5564"/>
                </a:lnTo>
                <a:lnTo>
                  <a:pt x="491" y="5567"/>
                </a:lnTo>
                <a:lnTo>
                  <a:pt x="499" y="5573"/>
                </a:lnTo>
                <a:lnTo>
                  <a:pt x="507" y="5580"/>
                </a:lnTo>
                <a:lnTo>
                  <a:pt x="517" y="5594"/>
                </a:lnTo>
                <a:lnTo>
                  <a:pt x="524" y="5607"/>
                </a:lnTo>
                <a:lnTo>
                  <a:pt x="532" y="5620"/>
                </a:lnTo>
                <a:lnTo>
                  <a:pt x="542" y="5633"/>
                </a:lnTo>
                <a:lnTo>
                  <a:pt x="548" y="5639"/>
                </a:lnTo>
                <a:lnTo>
                  <a:pt x="554" y="5643"/>
                </a:lnTo>
                <a:lnTo>
                  <a:pt x="557" y="5645"/>
                </a:lnTo>
                <a:lnTo>
                  <a:pt x="559" y="5647"/>
                </a:lnTo>
                <a:lnTo>
                  <a:pt x="561" y="5650"/>
                </a:lnTo>
                <a:lnTo>
                  <a:pt x="561" y="5653"/>
                </a:lnTo>
                <a:lnTo>
                  <a:pt x="560" y="5660"/>
                </a:lnTo>
                <a:lnTo>
                  <a:pt x="558" y="5664"/>
                </a:lnTo>
                <a:lnTo>
                  <a:pt x="556" y="5668"/>
                </a:lnTo>
                <a:lnTo>
                  <a:pt x="552" y="5673"/>
                </a:lnTo>
                <a:lnTo>
                  <a:pt x="547" y="5683"/>
                </a:lnTo>
                <a:lnTo>
                  <a:pt x="632" y="5715"/>
                </a:lnTo>
                <a:lnTo>
                  <a:pt x="718" y="5745"/>
                </a:lnTo>
                <a:lnTo>
                  <a:pt x="804" y="5776"/>
                </a:lnTo>
                <a:lnTo>
                  <a:pt x="890" y="5805"/>
                </a:lnTo>
                <a:lnTo>
                  <a:pt x="977" y="5835"/>
                </a:lnTo>
                <a:lnTo>
                  <a:pt x="1063" y="5863"/>
                </a:lnTo>
                <a:lnTo>
                  <a:pt x="1148" y="5891"/>
                </a:lnTo>
                <a:lnTo>
                  <a:pt x="1234" y="5917"/>
                </a:lnTo>
                <a:lnTo>
                  <a:pt x="1336" y="5948"/>
                </a:lnTo>
                <a:lnTo>
                  <a:pt x="1438" y="5979"/>
                </a:lnTo>
                <a:lnTo>
                  <a:pt x="1540" y="6008"/>
                </a:lnTo>
                <a:lnTo>
                  <a:pt x="1642" y="6036"/>
                </a:lnTo>
                <a:lnTo>
                  <a:pt x="1745" y="6063"/>
                </a:lnTo>
                <a:lnTo>
                  <a:pt x="1847" y="6089"/>
                </a:lnTo>
                <a:lnTo>
                  <a:pt x="1950" y="6115"/>
                </a:lnTo>
                <a:lnTo>
                  <a:pt x="2052" y="6138"/>
                </a:lnTo>
                <a:lnTo>
                  <a:pt x="2154" y="6161"/>
                </a:lnTo>
                <a:lnTo>
                  <a:pt x="2257" y="6183"/>
                </a:lnTo>
                <a:lnTo>
                  <a:pt x="2359" y="6205"/>
                </a:lnTo>
                <a:lnTo>
                  <a:pt x="2461" y="6226"/>
                </a:lnTo>
                <a:lnTo>
                  <a:pt x="2563" y="6245"/>
                </a:lnTo>
                <a:lnTo>
                  <a:pt x="2666" y="6263"/>
                </a:lnTo>
                <a:lnTo>
                  <a:pt x="2768" y="6279"/>
                </a:lnTo>
                <a:lnTo>
                  <a:pt x="2870" y="6295"/>
                </a:lnTo>
                <a:lnTo>
                  <a:pt x="2926" y="6304"/>
                </a:lnTo>
                <a:lnTo>
                  <a:pt x="2982" y="6312"/>
                </a:lnTo>
                <a:lnTo>
                  <a:pt x="3038" y="6320"/>
                </a:lnTo>
                <a:lnTo>
                  <a:pt x="3094" y="6328"/>
                </a:lnTo>
                <a:lnTo>
                  <a:pt x="3151" y="6334"/>
                </a:lnTo>
                <a:lnTo>
                  <a:pt x="3207" y="6342"/>
                </a:lnTo>
                <a:lnTo>
                  <a:pt x="3263" y="6348"/>
                </a:lnTo>
                <a:lnTo>
                  <a:pt x="3319" y="6354"/>
                </a:lnTo>
                <a:lnTo>
                  <a:pt x="3375" y="6361"/>
                </a:lnTo>
                <a:lnTo>
                  <a:pt x="3431" y="6366"/>
                </a:lnTo>
                <a:lnTo>
                  <a:pt x="3487" y="6371"/>
                </a:lnTo>
                <a:lnTo>
                  <a:pt x="3543" y="6377"/>
                </a:lnTo>
                <a:lnTo>
                  <a:pt x="3600" y="6382"/>
                </a:lnTo>
                <a:lnTo>
                  <a:pt x="3656" y="6386"/>
                </a:lnTo>
                <a:lnTo>
                  <a:pt x="3712" y="6390"/>
                </a:lnTo>
                <a:lnTo>
                  <a:pt x="3768" y="6394"/>
                </a:lnTo>
                <a:lnTo>
                  <a:pt x="3841" y="6399"/>
                </a:lnTo>
                <a:lnTo>
                  <a:pt x="3887" y="6401"/>
                </a:lnTo>
                <a:lnTo>
                  <a:pt x="3935" y="6404"/>
                </a:lnTo>
                <a:lnTo>
                  <a:pt x="3981" y="6406"/>
                </a:lnTo>
                <a:lnTo>
                  <a:pt x="4028" y="6408"/>
                </a:lnTo>
                <a:lnTo>
                  <a:pt x="4074" y="6410"/>
                </a:lnTo>
                <a:lnTo>
                  <a:pt x="4122" y="6411"/>
                </a:lnTo>
                <a:lnTo>
                  <a:pt x="4168" y="6413"/>
                </a:lnTo>
                <a:lnTo>
                  <a:pt x="4215" y="6415"/>
                </a:lnTo>
                <a:lnTo>
                  <a:pt x="4255" y="5452"/>
                </a:lnTo>
                <a:lnTo>
                  <a:pt x="4256" y="5328"/>
                </a:lnTo>
                <a:lnTo>
                  <a:pt x="4262" y="4999"/>
                </a:lnTo>
                <a:lnTo>
                  <a:pt x="4259" y="4986"/>
                </a:lnTo>
                <a:lnTo>
                  <a:pt x="4256" y="4975"/>
                </a:lnTo>
                <a:lnTo>
                  <a:pt x="4253" y="4971"/>
                </a:lnTo>
                <a:lnTo>
                  <a:pt x="4250" y="4968"/>
                </a:lnTo>
                <a:lnTo>
                  <a:pt x="4245" y="4965"/>
                </a:lnTo>
                <a:lnTo>
                  <a:pt x="4239" y="4965"/>
                </a:lnTo>
                <a:lnTo>
                  <a:pt x="4227" y="4966"/>
                </a:lnTo>
                <a:lnTo>
                  <a:pt x="4215" y="4968"/>
                </a:lnTo>
                <a:lnTo>
                  <a:pt x="4204" y="4967"/>
                </a:lnTo>
                <a:lnTo>
                  <a:pt x="4194" y="4964"/>
                </a:lnTo>
                <a:lnTo>
                  <a:pt x="4185" y="4960"/>
                </a:lnTo>
                <a:lnTo>
                  <a:pt x="4173" y="4956"/>
                </a:lnTo>
                <a:lnTo>
                  <a:pt x="4162" y="4955"/>
                </a:lnTo>
                <a:lnTo>
                  <a:pt x="4150" y="4952"/>
                </a:lnTo>
                <a:lnTo>
                  <a:pt x="4147" y="4949"/>
                </a:lnTo>
                <a:lnTo>
                  <a:pt x="4144" y="4945"/>
                </a:lnTo>
                <a:lnTo>
                  <a:pt x="4142" y="4941"/>
                </a:lnTo>
                <a:lnTo>
                  <a:pt x="4140" y="4936"/>
                </a:lnTo>
                <a:lnTo>
                  <a:pt x="4139" y="4932"/>
                </a:lnTo>
                <a:lnTo>
                  <a:pt x="4135" y="4928"/>
                </a:lnTo>
                <a:lnTo>
                  <a:pt x="4132" y="4925"/>
                </a:lnTo>
                <a:lnTo>
                  <a:pt x="4128" y="4922"/>
                </a:lnTo>
                <a:lnTo>
                  <a:pt x="4118" y="4919"/>
                </a:lnTo>
                <a:lnTo>
                  <a:pt x="4108" y="4919"/>
                </a:lnTo>
                <a:lnTo>
                  <a:pt x="4099" y="4919"/>
                </a:lnTo>
                <a:lnTo>
                  <a:pt x="4087" y="4918"/>
                </a:lnTo>
                <a:lnTo>
                  <a:pt x="3245" y="4692"/>
                </a:lnTo>
                <a:lnTo>
                  <a:pt x="3232" y="4684"/>
                </a:lnTo>
                <a:lnTo>
                  <a:pt x="3218" y="4677"/>
                </a:lnTo>
                <a:lnTo>
                  <a:pt x="3211" y="4673"/>
                </a:lnTo>
                <a:lnTo>
                  <a:pt x="3206" y="4669"/>
                </a:lnTo>
                <a:lnTo>
                  <a:pt x="3201" y="4664"/>
                </a:lnTo>
                <a:lnTo>
                  <a:pt x="3196" y="4658"/>
                </a:lnTo>
                <a:lnTo>
                  <a:pt x="3190" y="4648"/>
                </a:lnTo>
                <a:lnTo>
                  <a:pt x="3186" y="4640"/>
                </a:lnTo>
                <a:lnTo>
                  <a:pt x="3183" y="4631"/>
                </a:lnTo>
                <a:lnTo>
                  <a:pt x="3181" y="4624"/>
                </a:lnTo>
                <a:lnTo>
                  <a:pt x="3176" y="4607"/>
                </a:lnTo>
                <a:lnTo>
                  <a:pt x="3170" y="4588"/>
                </a:lnTo>
                <a:lnTo>
                  <a:pt x="3165" y="4573"/>
                </a:lnTo>
                <a:lnTo>
                  <a:pt x="3158" y="4561"/>
                </a:lnTo>
                <a:lnTo>
                  <a:pt x="3151" y="4550"/>
                </a:lnTo>
                <a:lnTo>
                  <a:pt x="3143" y="4540"/>
                </a:lnTo>
                <a:lnTo>
                  <a:pt x="3126" y="4520"/>
                </a:lnTo>
                <a:lnTo>
                  <a:pt x="3107" y="4497"/>
                </a:lnTo>
                <a:lnTo>
                  <a:pt x="3100" y="4489"/>
                </a:lnTo>
                <a:lnTo>
                  <a:pt x="3093" y="4482"/>
                </a:lnTo>
                <a:lnTo>
                  <a:pt x="3090" y="4478"/>
                </a:lnTo>
                <a:lnTo>
                  <a:pt x="3088" y="4474"/>
                </a:lnTo>
                <a:lnTo>
                  <a:pt x="3086" y="4470"/>
                </a:lnTo>
                <a:lnTo>
                  <a:pt x="3086" y="4464"/>
                </a:lnTo>
                <a:lnTo>
                  <a:pt x="3086" y="4423"/>
                </a:lnTo>
                <a:lnTo>
                  <a:pt x="2923" y="4423"/>
                </a:lnTo>
                <a:lnTo>
                  <a:pt x="2919" y="4422"/>
                </a:lnTo>
                <a:lnTo>
                  <a:pt x="2916" y="4421"/>
                </a:lnTo>
                <a:lnTo>
                  <a:pt x="2914" y="4420"/>
                </a:lnTo>
                <a:lnTo>
                  <a:pt x="2912" y="4418"/>
                </a:lnTo>
                <a:lnTo>
                  <a:pt x="2906" y="4414"/>
                </a:lnTo>
                <a:lnTo>
                  <a:pt x="2900" y="4410"/>
                </a:lnTo>
                <a:lnTo>
                  <a:pt x="2881" y="4403"/>
                </a:lnTo>
                <a:lnTo>
                  <a:pt x="2863" y="4397"/>
                </a:lnTo>
                <a:lnTo>
                  <a:pt x="2853" y="4395"/>
                </a:lnTo>
                <a:lnTo>
                  <a:pt x="2845" y="4394"/>
                </a:lnTo>
                <a:lnTo>
                  <a:pt x="2834" y="4393"/>
                </a:lnTo>
                <a:lnTo>
                  <a:pt x="2824" y="4393"/>
                </a:lnTo>
                <a:lnTo>
                  <a:pt x="1970" y="3321"/>
                </a:lnTo>
                <a:lnTo>
                  <a:pt x="2098" y="2933"/>
                </a:lnTo>
                <a:lnTo>
                  <a:pt x="2334" y="2949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70"/>
          <p:cNvSpPr/>
          <p:nvPr/>
        </p:nvSpPr>
        <p:spPr>
          <a:xfrm>
            <a:off x="838080" y="1763640"/>
            <a:ext cx="1211400" cy="188928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889280"/>
              <a:gd name="textAreaBottom" fmla="*/ 1889640 h 1889280"/>
            </a:gdLst>
            <a:ahLst/>
            <a:rect l="textAreaLeft" t="textAreaTop" r="textAreaRight" b="textAreaBottom"/>
            <a:pathLst>
              <a:path w="2477" h="3875">
                <a:moveTo>
                  <a:pt x="2278" y="492"/>
                </a:moveTo>
                <a:lnTo>
                  <a:pt x="2274" y="500"/>
                </a:lnTo>
                <a:lnTo>
                  <a:pt x="2270" y="509"/>
                </a:lnTo>
                <a:lnTo>
                  <a:pt x="2264" y="515"/>
                </a:lnTo>
                <a:lnTo>
                  <a:pt x="2257" y="520"/>
                </a:lnTo>
                <a:lnTo>
                  <a:pt x="2244" y="531"/>
                </a:lnTo>
                <a:lnTo>
                  <a:pt x="2228" y="542"/>
                </a:lnTo>
                <a:lnTo>
                  <a:pt x="2217" y="552"/>
                </a:lnTo>
                <a:lnTo>
                  <a:pt x="2208" y="561"/>
                </a:lnTo>
                <a:lnTo>
                  <a:pt x="2200" y="570"/>
                </a:lnTo>
                <a:lnTo>
                  <a:pt x="2193" y="579"/>
                </a:lnTo>
                <a:lnTo>
                  <a:pt x="2180" y="599"/>
                </a:lnTo>
                <a:lnTo>
                  <a:pt x="2168" y="623"/>
                </a:lnTo>
                <a:lnTo>
                  <a:pt x="2156" y="646"/>
                </a:lnTo>
                <a:lnTo>
                  <a:pt x="2145" y="666"/>
                </a:lnTo>
                <a:lnTo>
                  <a:pt x="2134" y="686"/>
                </a:lnTo>
                <a:lnTo>
                  <a:pt x="2120" y="709"/>
                </a:lnTo>
                <a:lnTo>
                  <a:pt x="2108" y="726"/>
                </a:lnTo>
                <a:lnTo>
                  <a:pt x="2096" y="740"/>
                </a:lnTo>
                <a:lnTo>
                  <a:pt x="2089" y="747"/>
                </a:lnTo>
                <a:lnTo>
                  <a:pt x="2084" y="755"/>
                </a:lnTo>
                <a:lnTo>
                  <a:pt x="2079" y="763"/>
                </a:lnTo>
                <a:lnTo>
                  <a:pt x="2075" y="774"/>
                </a:lnTo>
                <a:lnTo>
                  <a:pt x="2066" y="790"/>
                </a:lnTo>
                <a:lnTo>
                  <a:pt x="2057" y="805"/>
                </a:lnTo>
                <a:lnTo>
                  <a:pt x="2047" y="819"/>
                </a:lnTo>
                <a:lnTo>
                  <a:pt x="2039" y="836"/>
                </a:lnTo>
                <a:lnTo>
                  <a:pt x="2034" y="848"/>
                </a:lnTo>
                <a:lnTo>
                  <a:pt x="2030" y="859"/>
                </a:lnTo>
                <a:lnTo>
                  <a:pt x="2028" y="870"/>
                </a:lnTo>
                <a:lnTo>
                  <a:pt x="2026" y="880"/>
                </a:lnTo>
                <a:lnTo>
                  <a:pt x="2024" y="891"/>
                </a:lnTo>
                <a:lnTo>
                  <a:pt x="2021" y="901"/>
                </a:lnTo>
                <a:lnTo>
                  <a:pt x="2018" y="913"/>
                </a:lnTo>
                <a:lnTo>
                  <a:pt x="2013" y="925"/>
                </a:lnTo>
                <a:lnTo>
                  <a:pt x="2007" y="938"/>
                </a:lnTo>
                <a:lnTo>
                  <a:pt x="2002" y="950"/>
                </a:lnTo>
                <a:lnTo>
                  <a:pt x="1994" y="960"/>
                </a:lnTo>
                <a:lnTo>
                  <a:pt x="1987" y="970"/>
                </a:lnTo>
                <a:lnTo>
                  <a:pt x="1971" y="988"/>
                </a:lnTo>
                <a:lnTo>
                  <a:pt x="1950" y="1008"/>
                </a:lnTo>
                <a:lnTo>
                  <a:pt x="1938" y="1018"/>
                </a:lnTo>
                <a:lnTo>
                  <a:pt x="1928" y="1026"/>
                </a:lnTo>
                <a:lnTo>
                  <a:pt x="1924" y="1031"/>
                </a:lnTo>
                <a:lnTo>
                  <a:pt x="1919" y="1037"/>
                </a:lnTo>
                <a:lnTo>
                  <a:pt x="1917" y="1043"/>
                </a:lnTo>
                <a:lnTo>
                  <a:pt x="1916" y="1050"/>
                </a:lnTo>
                <a:lnTo>
                  <a:pt x="1917" y="1054"/>
                </a:lnTo>
                <a:lnTo>
                  <a:pt x="1919" y="1059"/>
                </a:lnTo>
                <a:lnTo>
                  <a:pt x="1924" y="1062"/>
                </a:lnTo>
                <a:lnTo>
                  <a:pt x="1928" y="1063"/>
                </a:lnTo>
                <a:lnTo>
                  <a:pt x="1938" y="1066"/>
                </a:lnTo>
                <a:lnTo>
                  <a:pt x="1949" y="1069"/>
                </a:lnTo>
                <a:lnTo>
                  <a:pt x="1958" y="1072"/>
                </a:lnTo>
                <a:lnTo>
                  <a:pt x="1968" y="1076"/>
                </a:lnTo>
                <a:lnTo>
                  <a:pt x="1975" y="1080"/>
                </a:lnTo>
                <a:lnTo>
                  <a:pt x="1984" y="1084"/>
                </a:lnTo>
                <a:lnTo>
                  <a:pt x="1999" y="1095"/>
                </a:lnTo>
                <a:lnTo>
                  <a:pt x="2015" y="1106"/>
                </a:lnTo>
                <a:lnTo>
                  <a:pt x="2040" y="1124"/>
                </a:lnTo>
                <a:lnTo>
                  <a:pt x="2063" y="1139"/>
                </a:lnTo>
                <a:lnTo>
                  <a:pt x="2074" y="1147"/>
                </a:lnTo>
                <a:lnTo>
                  <a:pt x="2085" y="1156"/>
                </a:lnTo>
                <a:lnTo>
                  <a:pt x="2096" y="1166"/>
                </a:lnTo>
                <a:lnTo>
                  <a:pt x="2106" y="1178"/>
                </a:lnTo>
                <a:lnTo>
                  <a:pt x="2103" y="1212"/>
                </a:lnTo>
                <a:lnTo>
                  <a:pt x="2102" y="1218"/>
                </a:lnTo>
                <a:lnTo>
                  <a:pt x="2122" y="1341"/>
                </a:lnTo>
                <a:lnTo>
                  <a:pt x="2122" y="1345"/>
                </a:lnTo>
                <a:lnTo>
                  <a:pt x="2121" y="1349"/>
                </a:lnTo>
                <a:lnTo>
                  <a:pt x="2120" y="1353"/>
                </a:lnTo>
                <a:lnTo>
                  <a:pt x="2118" y="1356"/>
                </a:lnTo>
                <a:lnTo>
                  <a:pt x="2114" y="1363"/>
                </a:lnTo>
                <a:lnTo>
                  <a:pt x="2108" y="1369"/>
                </a:lnTo>
                <a:lnTo>
                  <a:pt x="2102" y="1374"/>
                </a:lnTo>
                <a:lnTo>
                  <a:pt x="2096" y="1381"/>
                </a:lnTo>
                <a:lnTo>
                  <a:pt x="2089" y="1387"/>
                </a:lnTo>
                <a:lnTo>
                  <a:pt x="2085" y="1394"/>
                </a:lnTo>
                <a:lnTo>
                  <a:pt x="2076" y="1415"/>
                </a:lnTo>
                <a:lnTo>
                  <a:pt x="2068" y="1431"/>
                </a:lnTo>
                <a:lnTo>
                  <a:pt x="2065" y="1440"/>
                </a:lnTo>
                <a:lnTo>
                  <a:pt x="2061" y="1448"/>
                </a:lnTo>
                <a:lnTo>
                  <a:pt x="2056" y="1458"/>
                </a:lnTo>
                <a:lnTo>
                  <a:pt x="2049" y="1466"/>
                </a:lnTo>
                <a:lnTo>
                  <a:pt x="2038" y="1477"/>
                </a:lnTo>
                <a:lnTo>
                  <a:pt x="2027" y="1486"/>
                </a:lnTo>
                <a:lnTo>
                  <a:pt x="2022" y="1492"/>
                </a:lnTo>
                <a:lnTo>
                  <a:pt x="2019" y="1497"/>
                </a:lnTo>
                <a:lnTo>
                  <a:pt x="2015" y="1503"/>
                </a:lnTo>
                <a:lnTo>
                  <a:pt x="2015" y="1511"/>
                </a:lnTo>
                <a:lnTo>
                  <a:pt x="2015" y="1515"/>
                </a:lnTo>
                <a:lnTo>
                  <a:pt x="2016" y="1519"/>
                </a:lnTo>
                <a:lnTo>
                  <a:pt x="2019" y="1522"/>
                </a:lnTo>
                <a:lnTo>
                  <a:pt x="2022" y="1524"/>
                </a:lnTo>
                <a:lnTo>
                  <a:pt x="2028" y="1530"/>
                </a:lnTo>
                <a:lnTo>
                  <a:pt x="2036" y="1536"/>
                </a:lnTo>
                <a:lnTo>
                  <a:pt x="2041" y="1540"/>
                </a:lnTo>
                <a:lnTo>
                  <a:pt x="2046" y="1544"/>
                </a:lnTo>
                <a:lnTo>
                  <a:pt x="2052" y="1548"/>
                </a:lnTo>
                <a:lnTo>
                  <a:pt x="2059" y="1551"/>
                </a:lnTo>
                <a:lnTo>
                  <a:pt x="2071" y="1555"/>
                </a:lnTo>
                <a:lnTo>
                  <a:pt x="2084" y="1560"/>
                </a:lnTo>
                <a:lnTo>
                  <a:pt x="2090" y="1562"/>
                </a:lnTo>
                <a:lnTo>
                  <a:pt x="2096" y="1564"/>
                </a:lnTo>
                <a:lnTo>
                  <a:pt x="2101" y="1568"/>
                </a:lnTo>
                <a:lnTo>
                  <a:pt x="2105" y="1571"/>
                </a:lnTo>
                <a:lnTo>
                  <a:pt x="2108" y="1575"/>
                </a:lnTo>
                <a:lnTo>
                  <a:pt x="2112" y="1580"/>
                </a:lnTo>
                <a:lnTo>
                  <a:pt x="2113" y="1586"/>
                </a:lnTo>
                <a:lnTo>
                  <a:pt x="2114" y="1592"/>
                </a:lnTo>
                <a:lnTo>
                  <a:pt x="2109" y="1607"/>
                </a:lnTo>
                <a:lnTo>
                  <a:pt x="2105" y="1620"/>
                </a:lnTo>
                <a:lnTo>
                  <a:pt x="2105" y="1628"/>
                </a:lnTo>
                <a:lnTo>
                  <a:pt x="2106" y="1635"/>
                </a:lnTo>
                <a:lnTo>
                  <a:pt x="2108" y="1642"/>
                </a:lnTo>
                <a:lnTo>
                  <a:pt x="2110" y="1647"/>
                </a:lnTo>
                <a:lnTo>
                  <a:pt x="2112" y="1653"/>
                </a:lnTo>
                <a:lnTo>
                  <a:pt x="2114" y="1660"/>
                </a:lnTo>
                <a:lnTo>
                  <a:pt x="2115" y="1666"/>
                </a:lnTo>
                <a:lnTo>
                  <a:pt x="2115" y="1673"/>
                </a:lnTo>
                <a:lnTo>
                  <a:pt x="2115" y="1682"/>
                </a:lnTo>
                <a:lnTo>
                  <a:pt x="2113" y="1689"/>
                </a:lnTo>
                <a:lnTo>
                  <a:pt x="2108" y="1694"/>
                </a:lnTo>
                <a:lnTo>
                  <a:pt x="2104" y="1701"/>
                </a:lnTo>
                <a:lnTo>
                  <a:pt x="2093" y="1710"/>
                </a:lnTo>
                <a:lnTo>
                  <a:pt x="2080" y="1721"/>
                </a:lnTo>
                <a:lnTo>
                  <a:pt x="2065" y="1734"/>
                </a:lnTo>
                <a:lnTo>
                  <a:pt x="2053" y="1748"/>
                </a:lnTo>
                <a:lnTo>
                  <a:pt x="2042" y="1762"/>
                </a:lnTo>
                <a:lnTo>
                  <a:pt x="2028" y="1777"/>
                </a:lnTo>
                <a:lnTo>
                  <a:pt x="2020" y="1785"/>
                </a:lnTo>
                <a:lnTo>
                  <a:pt x="2011" y="1792"/>
                </a:lnTo>
                <a:lnTo>
                  <a:pt x="2007" y="1796"/>
                </a:lnTo>
                <a:lnTo>
                  <a:pt x="2004" y="1799"/>
                </a:lnTo>
                <a:lnTo>
                  <a:pt x="2001" y="1804"/>
                </a:lnTo>
                <a:lnTo>
                  <a:pt x="1997" y="1809"/>
                </a:lnTo>
                <a:lnTo>
                  <a:pt x="2004" y="1815"/>
                </a:lnTo>
                <a:lnTo>
                  <a:pt x="2009" y="1820"/>
                </a:lnTo>
                <a:lnTo>
                  <a:pt x="2012" y="1825"/>
                </a:lnTo>
                <a:lnTo>
                  <a:pt x="2015" y="1832"/>
                </a:lnTo>
                <a:lnTo>
                  <a:pt x="2018" y="1838"/>
                </a:lnTo>
                <a:lnTo>
                  <a:pt x="2019" y="1845"/>
                </a:lnTo>
                <a:lnTo>
                  <a:pt x="2020" y="1853"/>
                </a:lnTo>
                <a:lnTo>
                  <a:pt x="2020" y="1860"/>
                </a:lnTo>
                <a:lnTo>
                  <a:pt x="2020" y="1865"/>
                </a:lnTo>
                <a:lnTo>
                  <a:pt x="2019" y="1870"/>
                </a:lnTo>
                <a:lnTo>
                  <a:pt x="2016" y="1874"/>
                </a:lnTo>
                <a:lnTo>
                  <a:pt x="2014" y="1877"/>
                </a:lnTo>
                <a:lnTo>
                  <a:pt x="2008" y="1883"/>
                </a:lnTo>
                <a:lnTo>
                  <a:pt x="2001" y="1889"/>
                </a:lnTo>
                <a:lnTo>
                  <a:pt x="1992" y="1894"/>
                </a:lnTo>
                <a:lnTo>
                  <a:pt x="1984" y="1899"/>
                </a:lnTo>
                <a:lnTo>
                  <a:pt x="1981" y="1902"/>
                </a:lnTo>
                <a:lnTo>
                  <a:pt x="1977" y="1906"/>
                </a:lnTo>
                <a:lnTo>
                  <a:pt x="1974" y="1910"/>
                </a:lnTo>
                <a:lnTo>
                  <a:pt x="1972" y="1915"/>
                </a:lnTo>
                <a:lnTo>
                  <a:pt x="1968" y="1930"/>
                </a:lnTo>
                <a:lnTo>
                  <a:pt x="1963" y="1946"/>
                </a:lnTo>
                <a:lnTo>
                  <a:pt x="1957" y="1964"/>
                </a:lnTo>
                <a:lnTo>
                  <a:pt x="1968" y="1966"/>
                </a:lnTo>
                <a:lnTo>
                  <a:pt x="1977" y="1966"/>
                </a:lnTo>
                <a:lnTo>
                  <a:pt x="1983" y="1969"/>
                </a:lnTo>
                <a:lnTo>
                  <a:pt x="1988" y="1971"/>
                </a:lnTo>
                <a:lnTo>
                  <a:pt x="1990" y="1973"/>
                </a:lnTo>
                <a:lnTo>
                  <a:pt x="1991" y="1975"/>
                </a:lnTo>
                <a:lnTo>
                  <a:pt x="1992" y="1978"/>
                </a:lnTo>
                <a:lnTo>
                  <a:pt x="1993" y="1981"/>
                </a:lnTo>
                <a:lnTo>
                  <a:pt x="1992" y="1986"/>
                </a:lnTo>
                <a:lnTo>
                  <a:pt x="1990" y="1991"/>
                </a:lnTo>
                <a:lnTo>
                  <a:pt x="1987" y="1994"/>
                </a:lnTo>
                <a:lnTo>
                  <a:pt x="1984" y="1998"/>
                </a:lnTo>
                <a:lnTo>
                  <a:pt x="1981" y="2003"/>
                </a:lnTo>
                <a:lnTo>
                  <a:pt x="1977" y="2006"/>
                </a:lnTo>
                <a:lnTo>
                  <a:pt x="1975" y="2011"/>
                </a:lnTo>
                <a:lnTo>
                  <a:pt x="1974" y="2016"/>
                </a:lnTo>
                <a:lnTo>
                  <a:pt x="1974" y="2031"/>
                </a:lnTo>
                <a:lnTo>
                  <a:pt x="1973" y="2044"/>
                </a:lnTo>
                <a:lnTo>
                  <a:pt x="1973" y="2057"/>
                </a:lnTo>
                <a:lnTo>
                  <a:pt x="1972" y="2071"/>
                </a:lnTo>
                <a:lnTo>
                  <a:pt x="1972" y="2091"/>
                </a:lnTo>
                <a:lnTo>
                  <a:pt x="1973" y="2100"/>
                </a:lnTo>
                <a:lnTo>
                  <a:pt x="1976" y="2106"/>
                </a:lnTo>
                <a:lnTo>
                  <a:pt x="1981" y="2111"/>
                </a:lnTo>
                <a:lnTo>
                  <a:pt x="1986" y="2116"/>
                </a:lnTo>
                <a:lnTo>
                  <a:pt x="1992" y="2120"/>
                </a:lnTo>
                <a:lnTo>
                  <a:pt x="2000" y="2123"/>
                </a:lnTo>
                <a:lnTo>
                  <a:pt x="2007" y="2126"/>
                </a:lnTo>
                <a:lnTo>
                  <a:pt x="2014" y="2128"/>
                </a:lnTo>
                <a:lnTo>
                  <a:pt x="2030" y="2135"/>
                </a:lnTo>
                <a:lnTo>
                  <a:pt x="2045" y="2142"/>
                </a:lnTo>
                <a:lnTo>
                  <a:pt x="2050" y="2146"/>
                </a:lnTo>
                <a:lnTo>
                  <a:pt x="2056" y="2152"/>
                </a:lnTo>
                <a:lnTo>
                  <a:pt x="2059" y="2158"/>
                </a:lnTo>
                <a:lnTo>
                  <a:pt x="2061" y="2166"/>
                </a:lnTo>
                <a:lnTo>
                  <a:pt x="2062" y="2180"/>
                </a:lnTo>
                <a:lnTo>
                  <a:pt x="2062" y="2193"/>
                </a:lnTo>
                <a:lnTo>
                  <a:pt x="2063" y="2198"/>
                </a:lnTo>
                <a:lnTo>
                  <a:pt x="2064" y="2204"/>
                </a:lnTo>
                <a:lnTo>
                  <a:pt x="2066" y="2211"/>
                </a:lnTo>
                <a:lnTo>
                  <a:pt x="2069" y="2217"/>
                </a:lnTo>
                <a:lnTo>
                  <a:pt x="2082" y="2236"/>
                </a:lnTo>
                <a:lnTo>
                  <a:pt x="2094" y="2254"/>
                </a:lnTo>
                <a:lnTo>
                  <a:pt x="2099" y="2262"/>
                </a:lnTo>
                <a:lnTo>
                  <a:pt x="2103" y="2272"/>
                </a:lnTo>
                <a:lnTo>
                  <a:pt x="2106" y="2281"/>
                </a:lnTo>
                <a:lnTo>
                  <a:pt x="2106" y="2293"/>
                </a:lnTo>
                <a:lnTo>
                  <a:pt x="2106" y="2305"/>
                </a:lnTo>
                <a:lnTo>
                  <a:pt x="2105" y="2314"/>
                </a:lnTo>
                <a:lnTo>
                  <a:pt x="2103" y="2324"/>
                </a:lnTo>
                <a:lnTo>
                  <a:pt x="2101" y="2332"/>
                </a:lnTo>
                <a:lnTo>
                  <a:pt x="2094" y="2350"/>
                </a:lnTo>
                <a:lnTo>
                  <a:pt x="2083" y="2368"/>
                </a:lnTo>
                <a:lnTo>
                  <a:pt x="2078" y="2375"/>
                </a:lnTo>
                <a:lnTo>
                  <a:pt x="2072" y="2381"/>
                </a:lnTo>
                <a:lnTo>
                  <a:pt x="2069" y="2384"/>
                </a:lnTo>
                <a:lnTo>
                  <a:pt x="2067" y="2387"/>
                </a:lnTo>
                <a:lnTo>
                  <a:pt x="2066" y="2390"/>
                </a:lnTo>
                <a:lnTo>
                  <a:pt x="2066" y="2394"/>
                </a:lnTo>
                <a:lnTo>
                  <a:pt x="2066" y="2404"/>
                </a:lnTo>
                <a:lnTo>
                  <a:pt x="2067" y="2412"/>
                </a:lnTo>
                <a:lnTo>
                  <a:pt x="2076" y="2421"/>
                </a:lnTo>
                <a:lnTo>
                  <a:pt x="2083" y="2429"/>
                </a:lnTo>
                <a:lnTo>
                  <a:pt x="2086" y="2432"/>
                </a:lnTo>
                <a:lnTo>
                  <a:pt x="2089" y="2438"/>
                </a:lnTo>
                <a:lnTo>
                  <a:pt x="2090" y="2442"/>
                </a:lnTo>
                <a:lnTo>
                  <a:pt x="2091" y="2448"/>
                </a:lnTo>
                <a:lnTo>
                  <a:pt x="2090" y="2451"/>
                </a:lnTo>
                <a:lnTo>
                  <a:pt x="2089" y="2454"/>
                </a:lnTo>
                <a:lnTo>
                  <a:pt x="2087" y="2456"/>
                </a:lnTo>
                <a:lnTo>
                  <a:pt x="2085" y="2458"/>
                </a:lnTo>
                <a:lnTo>
                  <a:pt x="2079" y="2461"/>
                </a:lnTo>
                <a:lnTo>
                  <a:pt x="2072" y="2465"/>
                </a:lnTo>
                <a:lnTo>
                  <a:pt x="2064" y="2474"/>
                </a:lnTo>
                <a:lnTo>
                  <a:pt x="2057" y="2482"/>
                </a:lnTo>
                <a:lnTo>
                  <a:pt x="2048" y="2489"/>
                </a:lnTo>
                <a:lnTo>
                  <a:pt x="2039" y="2497"/>
                </a:lnTo>
                <a:lnTo>
                  <a:pt x="2034" y="2500"/>
                </a:lnTo>
                <a:lnTo>
                  <a:pt x="2031" y="2503"/>
                </a:lnTo>
                <a:lnTo>
                  <a:pt x="2028" y="2506"/>
                </a:lnTo>
                <a:lnTo>
                  <a:pt x="2025" y="2511"/>
                </a:lnTo>
                <a:lnTo>
                  <a:pt x="2022" y="2519"/>
                </a:lnTo>
                <a:lnTo>
                  <a:pt x="2020" y="2527"/>
                </a:lnTo>
                <a:lnTo>
                  <a:pt x="2019" y="2547"/>
                </a:lnTo>
                <a:lnTo>
                  <a:pt x="2019" y="2568"/>
                </a:lnTo>
                <a:lnTo>
                  <a:pt x="2019" y="2573"/>
                </a:lnTo>
                <a:lnTo>
                  <a:pt x="2020" y="2578"/>
                </a:lnTo>
                <a:lnTo>
                  <a:pt x="2022" y="2583"/>
                </a:lnTo>
                <a:lnTo>
                  <a:pt x="2024" y="2588"/>
                </a:lnTo>
                <a:lnTo>
                  <a:pt x="2029" y="2595"/>
                </a:lnTo>
                <a:lnTo>
                  <a:pt x="2037" y="2602"/>
                </a:lnTo>
                <a:lnTo>
                  <a:pt x="2043" y="2611"/>
                </a:lnTo>
                <a:lnTo>
                  <a:pt x="2048" y="2618"/>
                </a:lnTo>
                <a:lnTo>
                  <a:pt x="2050" y="2623"/>
                </a:lnTo>
                <a:lnTo>
                  <a:pt x="2052" y="2628"/>
                </a:lnTo>
                <a:lnTo>
                  <a:pt x="2053" y="2633"/>
                </a:lnTo>
                <a:lnTo>
                  <a:pt x="2055" y="2638"/>
                </a:lnTo>
                <a:lnTo>
                  <a:pt x="2053" y="2643"/>
                </a:lnTo>
                <a:lnTo>
                  <a:pt x="2052" y="2646"/>
                </a:lnTo>
                <a:lnTo>
                  <a:pt x="2051" y="2650"/>
                </a:lnTo>
                <a:lnTo>
                  <a:pt x="2050" y="2652"/>
                </a:lnTo>
                <a:lnTo>
                  <a:pt x="2045" y="2658"/>
                </a:lnTo>
                <a:lnTo>
                  <a:pt x="2040" y="2663"/>
                </a:lnTo>
                <a:lnTo>
                  <a:pt x="2033" y="2668"/>
                </a:lnTo>
                <a:lnTo>
                  <a:pt x="2027" y="2673"/>
                </a:lnTo>
                <a:lnTo>
                  <a:pt x="2022" y="2678"/>
                </a:lnTo>
                <a:lnTo>
                  <a:pt x="2016" y="2686"/>
                </a:lnTo>
                <a:lnTo>
                  <a:pt x="2008" y="2703"/>
                </a:lnTo>
                <a:lnTo>
                  <a:pt x="2002" y="2719"/>
                </a:lnTo>
                <a:lnTo>
                  <a:pt x="2000" y="2727"/>
                </a:lnTo>
                <a:lnTo>
                  <a:pt x="1997" y="2736"/>
                </a:lnTo>
                <a:lnTo>
                  <a:pt x="1996" y="2745"/>
                </a:lnTo>
                <a:lnTo>
                  <a:pt x="1996" y="2755"/>
                </a:lnTo>
                <a:lnTo>
                  <a:pt x="1996" y="2791"/>
                </a:lnTo>
                <a:lnTo>
                  <a:pt x="1997" y="2798"/>
                </a:lnTo>
                <a:lnTo>
                  <a:pt x="2000" y="2803"/>
                </a:lnTo>
                <a:lnTo>
                  <a:pt x="2004" y="2808"/>
                </a:lnTo>
                <a:lnTo>
                  <a:pt x="2007" y="2813"/>
                </a:lnTo>
                <a:lnTo>
                  <a:pt x="2011" y="2818"/>
                </a:lnTo>
                <a:lnTo>
                  <a:pt x="2015" y="2822"/>
                </a:lnTo>
                <a:lnTo>
                  <a:pt x="2018" y="2827"/>
                </a:lnTo>
                <a:lnTo>
                  <a:pt x="2019" y="2835"/>
                </a:lnTo>
                <a:lnTo>
                  <a:pt x="2018" y="2840"/>
                </a:lnTo>
                <a:lnTo>
                  <a:pt x="2016" y="2845"/>
                </a:lnTo>
                <a:lnTo>
                  <a:pt x="2015" y="2850"/>
                </a:lnTo>
                <a:lnTo>
                  <a:pt x="2013" y="2855"/>
                </a:lnTo>
                <a:lnTo>
                  <a:pt x="2008" y="2862"/>
                </a:lnTo>
                <a:lnTo>
                  <a:pt x="2002" y="2871"/>
                </a:lnTo>
                <a:lnTo>
                  <a:pt x="1995" y="2878"/>
                </a:lnTo>
                <a:lnTo>
                  <a:pt x="1990" y="2887"/>
                </a:lnTo>
                <a:lnTo>
                  <a:pt x="1988" y="2891"/>
                </a:lnTo>
                <a:lnTo>
                  <a:pt x="1986" y="2896"/>
                </a:lnTo>
                <a:lnTo>
                  <a:pt x="1985" y="2901"/>
                </a:lnTo>
                <a:lnTo>
                  <a:pt x="1985" y="2907"/>
                </a:lnTo>
                <a:lnTo>
                  <a:pt x="1985" y="2912"/>
                </a:lnTo>
                <a:lnTo>
                  <a:pt x="1986" y="2917"/>
                </a:lnTo>
                <a:lnTo>
                  <a:pt x="1989" y="2921"/>
                </a:lnTo>
                <a:lnTo>
                  <a:pt x="1991" y="2926"/>
                </a:lnTo>
                <a:lnTo>
                  <a:pt x="2000" y="2933"/>
                </a:lnTo>
                <a:lnTo>
                  <a:pt x="2008" y="2940"/>
                </a:lnTo>
                <a:lnTo>
                  <a:pt x="2028" y="2954"/>
                </a:lnTo>
                <a:lnTo>
                  <a:pt x="2045" y="2967"/>
                </a:lnTo>
                <a:lnTo>
                  <a:pt x="2053" y="2974"/>
                </a:lnTo>
                <a:lnTo>
                  <a:pt x="2061" y="2982"/>
                </a:lnTo>
                <a:lnTo>
                  <a:pt x="2067" y="2990"/>
                </a:lnTo>
                <a:lnTo>
                  <a:pt x="2075" y="3000"/>
                </a:lnTo>
                <a:lnTo>
                  <a:pt x="2091" y="3027"/>
                </a:lnTo>
                <a:lnTo>
                  <a:pt x="2106" y="3052"/>
                </a:lnTo>
                <a:lnTo>
                  <a:pt x="2112" y="3065"/>
                </a:lnTo>
                <a:lnTo>
                  <a:pt x="2117" y="3079"/>
                </a:lnTo>
                <a:lnTo>
                  <a:pt x="2119" y="3093"/>
                </a:lnTo>
                <a:lnTo>
                  <a:pt x="2120" y="3110"/>
                </a:lnTo>
                <a:lnTo>
                  <a:pt x="2120" y="3129"/>
                </a:lnTo>
                <a:lnTo>
                  <a:pt x="2119" y="3145"/>
                </a:lnTo>
                <a:lnTo>
                  <a:pt x="2119" y="3162"/>
                </a:lnTo>
                <a:lnTo>
                  <a:pt x="2119" y="3181"/>
                </a:lnTo>
                <a:lnTo>
                  <a:pt x="2120" y="3194"/>
                </a:lnTo>
                <a:lnTo>
                  <a:pt x="2122" y="3204"/>
                </a:lnTo>
                <a:lnTo>
                  <a:pt x="2127" y="3214"/>
                </a:lnTo>
                <a:lnTo>
                  <a:pt x="2133" y="3222"/>
                </a:lnTo>
                <a:lnTo>
                  <a:pt x="2146" y="3240"/>
                </a:lnTo>
                <a:lnTo>
                  <a:pt x="2161" y="3259"/>
                </a:lnTo>
                <a:lnTo>
                  <a:pt x="2168" y="3270"/>
                </a:lnTo>
                <a:lnTo>
                  <a:pt x="2173" y="3280"/>
                </a:lnTo>
                <a:lnTo>
                  <a:pt x="2177" y="3290"/>
                </a:lnTo>
                <a:lnTo>
                  <a:pt x="2180" y="3299"/>
                </a:lnTo>
                <a:lnTo>
                  <a:pt x="2182" y="3310"/>
                </a:lnTo>
                <a:lnTo>
                  <a:pt x="2183" y="3321"/>
                </a:lnTo>
                <a:lnTo>
                  <a:pt x="2184" y="3332"/>
                </a:lnTo>
                <a:lnTo>
                  <a:pt x="2184" y="3344"/>
                </a:lnTo>
                <a:lnTo>
                  <a:pt x="2184" y="3350"/>
                </a:lnTo>
                <a:lnTo>
                  <a:pt x="2183" y="3355"/>
                </a:lnTo>
                <a:lnTo>
                  <a:pt x="2181" y="3360"/>
                </a:lnTo>
                <a:lnTo>
                  <a:pt x="2179" y="3364"/>
                </a:lnTo>
                <a:lnTo>
                  <a:pt x="2174" y="3373"/>
                </a:lnTo>
                <a:lnTo>
                  <a:pt x="2168" y="3384"/>
                </a:lnTo>
                <a:lnTo>
                  <a:pt x="2165" y="3394"/>
                </a:lnTo>
                <a:lnTo>
                  <a:pt x="2162" y="3404"/>
                </a:lnTo>
                <a:lnTo>
                  <a:pt x="2159" y="3413"/>
                </a:lnTo>
                <a:lnTo>
                  <a:pt x="2158" y="3424"/>
                </a:lnTo>
                <a:lnTo>
                  <a:pt x="2158" y="3459"/>
                </a:lnTo>
                <a:lnTo>
                  <a:pt x="2169" y="3459"/>
                </a:lnTo>
                <a:lnTo>
                  <a:pt x="2180" y="3459"/>
                </a:lnTo>
                <a:lnTo>
                  <a:pt x="2184" y="3460"/>
                </a:lnTo>
                <a:lnTo>
                  <a:pt x="2189" y="3462"/>
                </a:lnTo>
                <a:lnTo>
                  <a:pt x="2191" y="3465"/>
                </a:lnTo>
                <a:lnTo>
                  <a:pt x="2192" y="3470"/>
                </a:lnTo>
                <a:lnTo>
                  <a:pt x="2192" y="3508"/>
                </a:lnTo>
                <a:lnTo>
                  <a:pt x="2193" y="3516"/>
                </a:lnTo>
                <a:lnTo>
                  <a:pt x="2195" y="3522"/>
                </a:lnTo>
                <a:lnTo>
                  <a:pt x="2199" y="3529"/>
                </a:lnTo>
                <a:lnTo>
                  <a:pt x="2203" y="3534"/>
                </a:lnTo>
                <a:lnTo>
                  <a:pt x="2210" y="3538"/>
                </a:lnTo>
                <a:lnTo>
                  <a:pt x="2216" y="3541"/>
                </a:lnTo>
                <a:lnTo>
                  <a:pt x="2223" y="3542"/>
                </a:lnTo>
                <a:lnTo>
                  <a:pt x="2232" y="3543"/>
                </a:lnTo>
                <a:lnTo>
                  <a:pt x="2237" y="3543"/>
                </a:lnTo>
                <a:lnTo>
                  <a:pt x="2241" y="3541"/>
                </a:lnTo>
                <a:lnTo>
                  <a:pt x="2246" y="3539"/>
                </a:lnTo>
                <a:lnTo>
                  <a:pt x="2250" y="3537"/>
                </a:lnTo>
                <a:lnTo>
                  <a:pt x="2254" y="3534"/>
                </a:lnTo>
                <a:lnTo>
                  <a:pt x="2258" y="3532"/>
                </a:lnTo>
                <a:lnTo>
                  <a:pt x="2263" y="3531"/>
                </a:lnTo>
                <a:lnTo>
                  <a:pt x="2268" y="3530"/>
                </a:lnTo>
                <a:lnTo>
                  <a:pt x="2274" y="3531"/>
                </a:lnTo>
                <a:lnTo>
                  <a:pt x="2280" y="3534"/>
                </a:lnTo>
                <a:lnTo>
                  <a:pt x="2285" y="3537"/>
                </a:lnTo>
                <a:lnTo>
                  <a:pt x="2288" y="3542"/>
                </a:lnTo>
                <a:lnTo>
                  <a:pt x="2295" y="3555"/>
                </a:lnTo>
                <a:lnTo>
                  <a:pt x="2302" y="3568"/>
                </a:lnTo>
                <a:lnTo>
                  <a:pt x="2308" y="3574"/>
                </a:lnTo>
                <a:lnTo>
                  <a:pt x="2314" y="3579"/>
                </a:lnTo>
                <a:lnTo>
                  <a:pt x="2322" y="3582"/>
                </a:lnTo>
                <a:lnTo>
                  <a:pt x="2329" y="3586"/>
                </a:lnTo>
                <a:lnTo>
                  <a:pt x="2346" y="3588"/>
                </a:lnTo>
                <a:lnTo>
                  <a:pt x="2365" y="3591"/>
                </a:lnTo>
                <a:lnTo>
                  <a:pt x="2380" y="3597"/>
                </a:lnTo>
                <a:lnTo>
                  <a:pt x="2396" y="3602"/>
                </a:lnTo>
                <a:lnTo>
                  <a:pt x="2418" y="3605"/>
                </a:lnTo>
                <a:lnTo>
                  <a:pt x="2438" y="3609"/>
                </a:lnTo>
                <a:lnTo>
                  <a:pt x="2443" y="3610"/>
                </a:lnTo>
                <a:lnTo>
                  <a:pt x="2447" y="3612"/>
                </a:lnTo>
                <a:lnTo>
                  <a:pt x="2451" y="3614"/>
                </a:lnTo>
                <a:lnTo>
                  <a:pt x="2454" y="3617"/>
                </a:lnTo>
                <a:lnTo>
                  <a:pt x="2457" y="3620"/>
                </a:lnTo>
                <a:lnTo>
                  <a:pt x="2458" y="3625"/>
                </a:lnTo>
                <a:lnTo>
                  <a:pt x="2460" y="3629"/>
                </a:lnTo>
                <a:lnTo>
                  <a:pt x="2460" y="3633"/>
                </a:lnTo>
                <a:lnTo>
                  <a:pt x="2459" y="3638"/>
                </a:lnTo>
                <a:lnTo>
                  <a:pt x="2458" y="3642"/>
                </a:lnTo>
                <a:lnTo>
                  <a:pt x="2456" y="3646"/>
                </a:lnTo>
                <a:lnTo>
                  <a:pt x="2454" y="3649"/>
                </a:lnTo>
                <a:lnTo>
                  <a:pt x="2447" y="3655"/>
                </a:lnTo>
                <a:lnTo>
                  <a:pt x="2441" y="3663"/>
                </a:lnTo>
                <a:lnTo>
                  <a:pt x="2430" y="3678"/>
                </a:lnTo>
                <a:lnTo>
                  <a:pt x="2422" y="3693"/>
                </a:lnTo>
                <a:lnTo>
                  <a:pt x="2415" y="3709"/>
                </a:lnTo>
                <a:lnTo>
                  <a:pt x="2407" y="3727"/>
                </a:lnTo>
                <a:lnTo>
                  <a:pt x="2402" y="3734"/>
                </a:lnTo>
                <a:lnTo>
                  <a:pt x="2397" y="3742"/>
                </a:lnTo>
                <a:lnTo>
                  <a:pt x="2398" y="3747"/>
                </a:lnTo>
                <a:lnTo>
                  <a:pt x="2400" y="3751"/>
                </a:lnTo>
                <a:lnTo>
                  <a:pt x="2403" y="3756"/>
                </a:lnTo>
                <a:lnTo>
                  <a:pt x="2407" y="3759"/>
                </a:lnTo>
                <a:lnTo>
                  <a:pt x="2415" y="3765"/>
                </a:lnTo>
                <a:lnTo>
                  <a:pt x="2423" y="3772"/>
                </a:lnTo>
                <a:lnTo>
                  <a:pt x="2433" y="3786"/>
                </a:lnTo>
                <a:lnTo>
                  <a:pt x="2440" y="3799"/>
                </a:lnTo>
                <a:lnTo>
                  <a:pt x="2448" y="3812"/>
                </a:lnTo>
                <a:lnTo>
                  <a:pt x="2458" y="3825"/>
                </a:lnTo>
                <a:lnTo>
                  <a:pt x="2464" y="3831"/>
                </a:lnTo>
                <a:lnTo>
                  <a:pt x="2470" y="3835"/>
                </a:lnTo>
                <a:lnTo>
                  <a:pt x="2473" y="3837"/>
                </a:lnTo>
                <a:lnTo>
                  <a:pt x="2475" y="3839"/>
                </a:lnTo>
                <a:lnTo>
                  <a:pt x="2477" y="3842"/>
                </a:lnTo>
                <a:lnTo>
                  <a:pt x="2477" y="3845"/>
                </a:lnTo>
                <a:lnTo>
                  <a:pt x="2476" y="3852"/>
                </a:lnTo>
                <a:lnTo>
                  <a:pt x="2474" y="3856"/>
                </a:lnTo>
                <a:lnTo>
                  <a:pt x="2472" y="3860"/>
                </a:lnTo>
                <a:lnTo>
                  <a:pt x="2468" y="3865"/>
                </a:lnTo>
                <a:lnTo>
                  <a:pt x="2463" y="3875"/>
                </a:lnTo>
                <a:lnTo>
                  <a:pt x="2323" y="3822"/>
                </a:lnTo>
                <a:lnTo>
                  <a:pt x="2183" y="3766"/>
                </a:lnTo>
                <a:lnTo>
                  <a:pt x="2043" y="3709"/>
                </a:lnTo>
                <a:lnTo>
                  <a:pt x="1902" y="3650"/>
                </a:lnTo>
                <a:lnTo>
                  <a:pt x="1762" y="3589"/>
                </a:lnTo>
                <a:lnTo>
                  <a:pt x="1623" y="3526"/>
                </a:lnTo>
                <a:lnTo>
                  <a:pt x="1482" y="3461"/>
                </a:lnTo>
                <a:lnTo>
                  <a:pt x="1342" y="3394"/>
                </a:lnTo>
                <a:lnTo>
                  <a:pt x="1201" y="3326"/>
                </a:lnTo>
                <a:lnTo>
                  <a:pt x="1061" y="3255"/>
                </a:lnTo>
                <a:lnTo>
                  <a:pt x="920" y="3183"/>
                </a:lnTo>
                <a:lnTo>
                  <a:pt x="780" y="3109"/>
                </a:lnTo>
                <a:lnTo>
                  <a:pt x="639" y="3033"/>
                </a:lnTo>
                <a:lnTo>
                  <a:pt x="499" y="2955"/>
                </a:lnTo>
                <a:lnTo>
                  <a:pt x="359" y="2876"/>
                </a:lnTo>
                <a:lnTo>
                  <a:pt x="219" y="2794"/>
                </a:lnTo>
                <a:lnTo>
                  <a:pt x="221" y="2788"/>
                </a:lnTo>
                <a:lnTo>
                  <a:pt x="223" y="2783"/>
                </a:lnTo>
                <a:lnTo>
                  <a:pt x="227" y="2778"/>
                </a:lnTo>
                <a:lnTo>
                  <a:pt x="230" y="2772"/>
                </a:lnTo>
                <a:lnTo>
                  <a:pt x="237" y="2763"/>
                </a:lnTo>
                <a:lnTo>
                  <a:pt x="245" y="2753"/>
                </a:lnTo>
                <a:lnTo>
                  <a:pt x="252" y="2744"/>
                </a:lnTo>
                <a:lnTo>
                  <a:pt x="258" y="2734"/>
                </a:lnTo>
                <a:lnTo>
                  <a:pt x="261" y="2729"/>
                </a:lnTo>
                <a:lnTo>
                  <a:pt x="262" y="2723"/>
                </a:lnTo>
                <a:lnTo>
                  <a:pt x="264" y="2717"/>
                </a:lnTo>
                <a:lnTo>
                  <a:pt x="265" y="2710"/>
                </a:lnTo>
                <a:lnTo>
                  <a:pt x="264" y="2706"/>
                </a:lnTo>
                <a:lnTo>
                  <a:pt x="261" y="2703"/>
                </a:lnTo>
                <a:lnTo>
                  <a:pt x="259" y="2700"/>
                </a:lnTo>
                <a:lnTo>
                  <a:pt x="256" y="2698"/>
                </a:lnTo>
                <a:lnTo>
                  <a:pt x="248" y="2694"/>
                </a:lnTo>
                <a:lnTo>
                  <a:pt x="240" y="2689"/>
                </a:lnTo>
                <a:lnTo>
                  <a:pt x="230" y="2681"/>
                </a:lnTo>
                <a:lnTo>
                  <a:pt x="219" y="2673"/>
                </a:lnTo>
                <a:lnTo>
                  <a:pt x="213" y="2670"/>
                </a:lnTo>
                <a:lnTo>
                  <a:pt x="207" y="2668"/>
                </a:lnTo>
                <a:lnTo>
                  <a:pt x="200" y="2666"/>
                </a:lnTo>
                <a:lnTo>
                  <a:pt x="193" y="2666"/>
                </a:lnTo>
                <a:lnTo>
                  <a:pt x="179" y="2671"/>
                </a:lnTo>
                <a:lnTo>
                  <a:pt x="166" y="2676"/>
                </a:lnTo>
                <a:lnTo>
                  <a:pt x="143" y="2676"/>
                </a:lnTo>
                <a:lnTo>
                  <a:pt x="121" y="2674"/>
                </a:lnTo>
                <a:lnTo>
                  <a:pt x="111" y="2672"/>
                </a:lnTo>
                <a:lnTo>
                  <a:pt x="103" y="2668"/>
                </a:lnTo>
                <a:lnTo>
                  <a:pt x="99" y="2665"/>
                </a:lnTo>
                <a:lnTo>
                  <a:pt x="96" y="2662"/>
                </a:lnTo>
                <a:lnTo>
                  <a:pt x="94" y="2657"/>
                </a:lnTo>
                <a:lnTo>
                  <a:pt x="91" y="2652"/>
                </a:lnTo>
                <a:lnTo>
                  <a:pt x="86" y="2636"/>
                </a:lnTo>
                <a:lnTo>
                  <a:pt x="83" y="2620"/>
                </a:lnTo>
                <a:lnTo>
                  <a:pt x="81" y="2613"/>
                </a:lnTo>
                <a:lnTo>
                  <a:pt x="78" y="2607"/>
                </a:lnTo>
                <a:lnTo>
                  <a:pt x="73" y="2600"/>
                </a:lnTo>
                <a:lnTo>
                  <a:pt x="67" y="2594"/>
                </a:lnTo>
                <a:lnTo>
                  <a:pt x="47" y="2579"/>
                </a:lnTo>
                <a:lnTo>
                  <a:pt x="28" y="2564"/>
                </a:lnTo>
                <a:lnTo>
                  <a:pt x="20" y="2557"/>
                </a:lnTo>
                <a:lnTo>
                  <a:pt x="11" y="2549"/>
                </a:lnTo>
                <a:lnTo>
                  <a:pt x="5" y="2539"/>
                </a:lnTo>
                <a:lnTo>
                  <a:pt x="0" y="2526"/>
                </a:lnTo>
                <a:lnTo>
                  <a:pt x="1932" y="0"/>
                </a:lnTo>
                <a:lnTo>
                  <a:pt x="1940" y="8"/>
                </a:lnTo>
                <a:lnTo>
                  <a:pt x="1949" y="16"/>
                </a:lnTo>
                <a:lnTo>
                  <a:pt x="1972" y="34"/>
                </a:lnTo>
                <a:lnTo>
                  <a:pt x="1993" y="52"/>
                </a:lnTo>
                <a:lnTo>
                  <a:pt x="2013" y="69"/>
                </a:lnTo>
                <a:lnTo>
                  <a:pt x="2031" y="86"/>
                </a:lnTo>
                <a:lnTo>
                  <a:pt x="2040" y="96"/>
                </a:lnTo>
                <a:lnTo>
                  <a:pt x="2047" y="105"/>
                </a:lnTo>
                <a:lnTo>
                  <a:pt x="2055" y="116"/>
                </a:lnTo>
                <a:lnTo>
                  <a:pt x="2062" y="126"/>
                </a:lnTo>
                <a:lnTo>
                  <a:pt x="2068" y="137"/>
                </a:lnTo>
                <a:lnTo>
                  <a:pt x="2075" y="150"/>
                </a:lnTo>
                <a:lnTo>
                  <a:pt x="2080" y="162"/>
                </a:lnTo>
                <a:lnTo>
                  <a:pt x="2085" y="176"/>
                </a:lnTo>
                <a:lnTo>
                  <a:pt x="2094" y="197"/>
                </a:lnTo>
                <a:lnTo>
                  <a:pt x="2102" y="216"/>
                </a:lnTo>
                <a:lnTo>
                  <a:pt x="2112" y="234"/>
                </a:lnTo>
                <a:lnTo>
                  <a:pt x="2120" y="251"/>
                </a:lnTo>
                <a:lnTo>
                  <a:pt x="2129" y="269"/>
                </a:lnTo>
                <a:lnTo>
                  <a:pt x="2137" y="287"/>
                </a:lnTo>
                <a:lnTo>
                  <a:pt x="2144" y="307"/>
                </a:lnTo>
                <a:lnTo>
                  <a:pt x="2150" y="329"/>
                </a:lnTo>
                <a:lnTo>
                  <a:pt x="2154" y="343"/>
                </a:lnTo>
                <a:lnTo>
                  <a:pt x="2158" y="355"/>
                </a:lnTo>
                <a:lnTo>
                  <a:pt x="2163" y="368"/>
                </a:lnTo>
                <a:lnTo>
                  <a:pt x="2166" y="383"/>
                </a:lnTo>
                <a:lnTo>
                  <a:pt x="2172" y="410"/>
                </a:lnTo>
                <a:lnTo>
                  <a:pt x="2178" y="437"/>
                </a:lnTo>
                <a:lnTo>
                  <a:pt x="2180" y="443"/>
                </a:lnTo>
                <a:lnTo>
                  <a:pt x="2182" y="448"/>
                </a:lnTo>
                <a:lnTo>
                  <a:pt x="2185" y="453"/>
                </a:lnTo>
                <a:lnTo>
                  <a:pt x="2190" y="457"/>
                </a:lnTo>
                <a:lnTo>
                  <a:pt x="2194" y="460"/>
                </a:lnTo>
                <a:lnTo>
                  <a:pt x="2199" y="462"/>
                </a:lnTo>
                <a:lnTo>
                  <a:pt x="2204" y="464"/>
                </a:lnTo>
                <a:lnTo>
                  <a:pt x="2211" y="464"/>
                </a:lnTo>
                <a:lnTo>
                  <a:pt x="2216" y="464"/>
                </a:lnTo>
                <a:lnTo>
                  <a:pt x="2220" y="463"/>
                </a:lnTo>
                <a:lnTo>
                  <a:pt x="2225" y="461"/>
                </a:lnTo>
                <a:lnTo>
                  <a:pt x="2229" y="460"/>
                </a:lnTo>
                <a:lnTo>
                  <a:pt x="2232" y="458"/>
                </a:lnTo>
                <a:lnTo>
                  <a:pt x="2236" y="456"/>
                </a:lnTo>
                <a:lnTo>
                  <a:pt x="2240" y="455"/>
                </a:lnTo>
                <a:lnTo>
                  <a:pt x="2246" y="455"/>
                </a:lnTo>
                <a:lnTo>
                  <a:pt x="2272" y="455"/>
                </a:lnTo>
                <a:lnTo>
                  <a:pt x="2273" y="464"/>
                </a:lnTo>
                <a:lnTo>
                  <a:pt x="2275" y="474"/>
                </a:lnTo>
                <a:lnTo>
                  <a:pt x="2276" y="483"/>
                </a:lnTo>
                <a:lnTo>
                  <a:pt x="2278" y="492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2"/>
          <p:cNvSpPr/>
          <p:nvPr/>
        </p:nvSpPr>
        <p:spPr>
          <a:xfrm>
            <a:off x="5643720" y="3240000"/>
            <a:ext cx="2490480" cy="2730600"/>
          </a:xfrm>
          <a:custGeom>
            <a:avLst/>
            <a:gdLst>
              <a:gd name="textAreaLeft" fmla="*/ 0 w 2490480"/>
              <a:gd name="textAreaRight" fmla="*/ 2490840 w 2490480"/>
              <a:gd name="textAreaTop" fmla="*/ 0 h 2730600"/>
              <a:gd name="textAreaBottom" fmla="*/ 2730960 h 2730600"/>
            </a:gdLst>
            <a:ahLst/>
            <a:rect l="textAreaLeft" t="textAreaTop" r="textAreaRight" b="textAreaBottom"/>
            <a:pathLst>
              <a:path w="5102" h="5597">
                <a:moveTo>
                  <a:pt x="4396" y="2979"/>
                </a:moveTo>
                <a:lnTo>
                  <a:pt x="4384" y="2980"/>
                </a:lnTo>
                <a:lnTo>
                  <a:pt x="4374" y="2981"/>
                </a:lnTo>
                <a:lnTo>
                  <a:pt x="4364" y="2982"/>
                </a:lnTo>
                <a:lnTo>
                  <a:pt x="4355" y="2985"/>
                </a:lnTo>
                <a:lnTo>
                  <a:pt x="4337" y="2992"/>
                </a:lnTo>
                <a:lnTo>
                  <a:pt x="4319" y="2999"/>
                </a:lnTo>
                <a:lnTo>
                  <a:pt x="4302" y="3006"/>
                </a:lnTo>
                <a:lnTo>
                  <a:pt x="4284" y="3014"/>
                </a:lnTo>
                <a:lnTo>
                  <a:pt x="4275" y="3017"/>
                </a:lnTo>
                <a:lnTo>
                  <a:pt x="4265" y="3019"/>
                </a:lnTo>
                <a:lnTo>
                  <a:pt x="4255" y="3021"/>
                </a:lnTo>
                <a:lnTo>
                  <a:pt x="4243" y="3023"/>
                </a:lnTo>
                <a:lnTo>
                  <a:pt x="4210" y="3027"/>
                </a:lnTo>
                <a:lnTo>
                  <a:pt x="4180" y="3033"/>
                </a:lnTo>
                <a:lnTo>
                  <a:pt x="4166" y="3036"/>
                </a:lnTo>
                <a:lnTo>
                  <a:pt x="4151" y="3039"/>
                </a:lnTo>
                <a:lnTo>
                  <a:pt x="4137" y="3044"/>
                </a:lnTo>
                <a:lnTo>
                  <a:pt x="4125" y="3049"/>
                </a:lnTo>
                <a:lnTo>
                  <a:pt x="4112" y="3055"/>
                </a:lnTo>
                <a:lnTo>
                  <a:pt x="4100" y="3061"/>
                </a:lnTo>
                <a:lnTo>
                  <a:pt x="4089" y="3070"/>
                </a:lnTo>
                <a:lnTo>
                  <a:pt x="4078" y="3078"/>
                </a:lnTo>
                <a:lnTo>
                  <a:pt x="4068" y="3088"/>
                </a:lnTo>
                <a:lnTo>
                  <a:pt x="4057" y="3099"/>
                </a:lnTo>
                <a:lnTo>
                  <a:pt x="4048" y="3111"/>
                </a:lnTo>
                <a:lnTo>
                  <a:pt x="4039" y="3126"/>
                </a:lnTo>
                <a:lnTo>
                  <a:pt x="4051" y="3131"/>
                </a:lnTo>
                <a:lnTo>
                  <a:pt x="4062" y="3135"/>
                </a:lnTo>
                <a:lnTo>
                  <a:pt x="4074" y="3139"/>
                </a:lnTo>
                <a:lnTo>
                  <a:pt x="4085" y="3143"/>
                </a:lnTo>
                <a:lnTo>
                  <a:pt x="4106" y="3148"/>
                </a:lnTo>
                <a:lnTo>
                  <a:pt x="4127" y="3151"/>
                </a:lnTo>
                <a:lnTo>
                  <a:pt x="4148" y="3153"/>
                </a:lnTo>
                <a:lnTo>
                  <a:pt x="4170" y="3155"/>
                </a:lnTo>
                <a:lnTo>
                  <a:pt x="4193" y="3156"/>
                </a:lnTo>
                <a:lnTo>
                  <a:pt x="4219" y="3159"/>
                </a:lnTo>
                <a:lnTo>
                  <a:pt x="4252" y="3164"/>
                </a:lnTo>
                <a:lnTo>
                  <a:pt x="4282" y="3170"/>
                </a:lnTo>
                <a:lnTo>
                  <a:pt x="4297" y="3172"/>
                </a:lnTo>
                <a:lnTo>
                  <a:pt x="4312" y="3174"/>
                </a:lnTo>
                <a:lnTo>
                  <a:pt x="4327" y="3175"/>
                </a:lnTo>
                <a:lnTo>
                  <a:pt x="4344" y="3176"/>
                </a:lnTo>
                <a:lnTo>
                  <a:pt x="4380" y="3176"/>
                </a:lnTo>
                <a:lnTo>
                  <a:pt x="4411" y="3174"/>
                </a:lnTo>
                <a:lnTo>
                  <a:pt x="4426" y="3172"/>
                </a:lnTo>
                <a:lnTo>
                  <a:pt x="4440" y="3168"/>
                </a:lnTo>
                <a:lnTo>
                  <a:pt x="4455" y="3162"/>
                </a:lnTo>
                <a:lnTo>
                  <a:pt x="4471" y="3152"/>
                </a:lnTo>
                <a:lnTo>
                  <a:pt x="4484" y="3143"/>
                </a:lnTo>
                <a:lnTo>
                  <a:pt x="4495" y="3133"/>
                </a:lnTo>
                <a:lnTo>
                  <a:pt x="4501" y="3129"/>
                </a:lnTo>
                <a:lnTo>
                  <a:pt x="4507" y="3125"/>
                </a:lnTo>
                <a:lnTo>
                  <a:pt x="4513" y="3121"/>
                </a:lnTo>
                <a:lnTo>
                  <a:pt x="4522" y="3118"/>
                </a:lnTo>
                <a:lnTo>
                  <a:pt x="4546" y="3110"/>
                </a:lnTo>
                <a:lnTo>
                  <a:pt x="4570" y="3101"/>
                </a:lnTo>
                <a:lnTo>
                  <a:pt x="4594" y="3093"/>
                </a:lnTo>
                <a:lnTo>
                  <a:pt x="4615" y="3082"/>
                </a:lnTo>
                <a:lnTo>
                  <a:pt x="4625" y="3077"/>
                </a:lnTo>
                <a:lnTo>
                  <a:pt x="4634" y="3071"/>
                </a:lnTo>
                <a:lnTo>
                  <a:pt x="4642" y="3063"/>
                </a:lnTo>
                <a:lnTo>
                  <a:pt x="4649" y="3055"/>
                </a:lnTo>
                <a:lnTo>
                  <a:pt x="4657" y="3046"/>
                </a:lnTo>
                <a:lnTo>
                  <a:pt x="4662" y="3037"/>
                </a:lnTo>
                <a:lnTo>
                  <a:pt x="4667" y="3025"/>
                </a:lnTo>
                <a:lnTo>
                  <a:pt x="4671" y="3013"/>
                </a:lnTo>
                <a:lnTo>
                  <a:pt x="4447" y="2976"/>
                </a:lnTo>
                <a:lnTo>
                  <a:pt x="4434" y="2977"/>
                </a:lnTo>
                <a:lnTo>
                  <a:pt x="4421" y="2978"/>
                </a:lnTo>
                <a:lnTo>
                  <a:pt x="4409" y="2978"/>
                </a:lnTo>
                <a:lnTo>
                  <a:pt x="4396" y="2979"/>
                </a:lnTo>
                <a:close/>
                <a:moveTo>
                  <a:pt x="908" y="4074"/>
                </a:moveTo>
                <a:lnTo>
                  <a:pt x="1203" y="5214"/>
                </a:lnTo>
                <a:lnTo>
                  <a:pt x="1215" y="5226"/>
                </a:lnTo>
                <a:lnTo>
                  <a:pt x="1226" y="5238"/>
                </a:lnTo>
                <a:lnTo>
                  <a:pt x="1235" y="5249"/>
                </a:lnTo>
                <a:lnTo>
                  <a:pt x="1244" y="5261"/>
                </a:lnTo>
                <a:lnTo>
                  <a:pt x="1259" y="5286"/>
                </a:lnTo>
                <a:lnTo>
                  <a:pt x="1274" y="5316"/>
                </a:lnTo>
                <a:lnTo>
                  <a:pt x="1283" y="5333"/>
                </a:lnTo>
                <a:lnTo>
                  <a:pt x="1294" y="5348"/>
                </a:lnTo>
                <a:lnTo>
                  <a:pt x="1304" y="5361"/>
                </a:lnTo>
                <a:lnTo>
                  <a:pt x="1315" y="5373"/>
                </a:lnTo>
                <a:lnTo>
                  <a:pt x="1327" y="5384"/>
                </a:lnTo>
                <a:lnTo>
                  <a:pt x="1341" y="5394"/>
                </a:lnTo>
                <a:lnTo>
                  <a:pt x="1356" y="5404"/>
                </a:lnTo>
                <a:lnTo>
                  <a:pt x="1373" y="5415"/>
                </a:lnTo>
                <a:lnTo>
                  <a:pt x="1406" y="5437"/>
                </a:lnTo>
                <a:lnTo>
                  <a:pt x="1438" y="5456"/>
                </a:lnTo>
                <a:lnTo>
                  <a:pt x="1454" y="5465"/>
                </a:lnTo>
                <a:lnTo>
                  <a:pt x="1471" y="5471"/>
                </a:lnTo>
                <a:lnTo>
                  <a:pt x="1480" y="5473"/>
                </a:lnTo>
                <a:lnTo>
                  <a:pt x="1490" y="5474"/>
                </a:lnTo>
                <a:lnTo>
                  <a:pt x="1499" y="5475"/>
                </a:lnTo>
                <a:lnTo>
                  <a:pt x="1510" y="5476"/>
                </a:lnTo>
                <a:lnTo>
                  <a:pt x="1534" y="5475"/>
                </a:lnTo>
                <a:lnTo>
                  <a:pt x="1556" y="5473"/>
                </a:lnTo>
                <a:lnTo>
                  <a:pt x="1577" y="5470"/>
                </a:lnTo>
                <a:lnTo>
                  <a:pt x="1597" y="5467"/>
                </a:lnTo>
                <a:lnTo>
                  <a:pt x="1617" y="5465"/>
                </a:lnTo>
                <a:lnTo>
                  <a:pt x="1637" y="5461"/>
                </a:lnTo>
                <a:lnTo>
                  <a:pt x="1659" y="5459"/>
                </a:lnTo>
                <a:lnTo>
                  <a:pt x="1683" y="5458"/>
                </a:lnTo>
                <a:lnTo>
                  <a:pt x="1692" y="5459"/>
                </a:lnTo>
                <a:lnTo>
                  <a:pt x="1700" y="5460"/>
                </a:lnTo>
                <a:lnTo>
                  <a:pt x="1709" y="5461"/>
                </a:lnTo>
                <a:lnTo>
                  <a:pt x="1716" y="5463"/>
                </a:lnTo>
                <a:lnTo>
                  <a:pt x="1731" y="5469"/>
                </a:lnTo>
                <a:lnTo>
                  <a:pt x="1744" y="5475"/>
                </a:lnTo>
                <a:lnTo>
                  <a:pt x="1757" y="5484"/>
                </a:lnTo>
                <a:lnTo>
                  <a:pt x="1770" y="5492"/>
                </a:lnTo>
                <a:lnTo>
                  <a:pt x="1782" y="5502"/>
                </a:lnTo>
                <a:lnTo>
                  <a:pt x="1794" y="5511"/>
                </a:lnTo>
                <a:lnTo>
                  <a:pt x="1806" y="5522"/>
                </a:lnTo>
                <a:lnTo>
                  <a:pt x="1817" y="5531"/>
                </a:lnTo>
                <a:lnTo>
                  <a:pt x="1830" y="5540"/>
                </a:lnTo>
                <a:lnTo>
                  <a:pt x="1843" y="5548"/>
                </a:lnTo>
                <a:lnTo>
                  <a:pt x="1856" y="5554"/>
                </a:lnTo>
                <a:lnTo>
                  <a:pt x="1871" y="5560"/>
                </a:lnTo>
                <a:lnTo>
                  <a:pt x="1879" y="5562"/>
                </a:lnTo>
                <a:lnTo>
                  <a:pt x="1887" y="5563"/>
                </a:lnTo>
                <a:lnTo>
                  <a:pt x="1895" y="5564"/>
                </a:lnTo>
                <a:lnTo>
                  <a:pt x="1904" y="5564"/>
                </a:lnTo>
                <a:lnTo>
                  <a:pt x="1911" y="5564"/>
                </a:lnTo>
                <a:lnTo>
                  <a:pt x="1918" y="5563"/>
                </a:lnTo>
                <a:lnTo>
                  <a:pt x="1924" y="5561"/>
                </a:lnTo>
                <a:lnTo>
                  <a:pt x="1929" y="5557"/>
                </a:lnTo>
                <a:lnTo>
                  <a:pt x="1940" y="5551"/>
                </a:lnTo>
                <a:lnTo>
                  <a:pt x="1949" y="5544"/>
                </a:lnTo>
                <a:lnTo>
                  <a:pt x="1959" y="5536"/>
                </a:lnTo>
                <a:lnTo>
                  <a:pt x="1969" y="5530"/>
                </a:lnTo>
                <a:lnTo>
                  <a:pt x="1975" y="5527"/>
                </a:lnTo>
                <a:lnTo>
                  <a:pt x="1981" y="5525"/>
                </a:lnTo>
                <a:lnTo>
                  <a:pt x="1987" y="5524"/>
                </a:lnTo>
                <a:lnTo>
                  <a:pt x="1995" y="5524"/>
                </a:lnTo>
                <a:lnTo>
                  <a:pt x="2000" y="5524"/>
                </a:lnTo>
                <a:lnTo>
                  <a:pt x="2005" y="5525"/>
                </a:lnTo>
                <a:lnTo>
                  <a:pt x="2011" y="5527"/>
                </a:lnTo>
                <a:lnTo>
                  <a:pt x="2015" y="5530"/>
                </a:lnTo>
                <a:lnTo>
                  <a:pt x="2022" y="5536"/>
                </a:lnTo>
                <a:lnTo>
                  <a:pt x="2028" y="5546"/>
                </a:lnTo>
                <a:lnTo>
                  <a:pt x="2035" y="5555"/>
                </a:lnTo>
                <a:lnTo>
                  <a:pt x="2041" y="5565"/>
                </a:lnTo>
                <a:lnTo>
                  <a:pt x="2045" y="5569"/>
                </a:lnTo>
                <a:lnTo>
                  <a:pt x="2050" y="5573"/>
                </a:lnTo>
                <a:lnTo>
                  <a:pt x="2054" y="5578"/>
                </a:lnTo>
                <a:lnTo>
                  <a:pt x="2059" y="5581"/>
                </a:lnTo>
                <a:lnTo>
                  <a:pt x="2065" y="5585"/>
                </a:lnTo>
                <a:lnTo>
                  <a:pt x="2073" y="5588"/>
                </a:lnTo>
                <a:lnTo>
                  <a:pt x="2079" y="5591"/>
                </a:lnTo>
                <a:lnTo>
                  <a:pt x="2087" y="5593"/>
                </a:lnTo>
                <a:lnTo>
                  <a:pt x="2100" y="5595"/>
                </a:lnTo>
                <a:lnTo>
                  <a:pt x="2114" y="5597"/>
                </a:lnTo>
                <a:lnTo>
                  <a:pt x="2143" y="5595"/>
                </a:lnTo>
                <a:lnTo>
                  <a:pt x="2174" y="5594"/>
                </a:lnTo>
                <a:lnTo>
                  <a:pt x="2189" y="5594"/>
                </a:lnTo>
                <a:lnTo>
                  <a:pt x="2204" y="5592"/>
                </a:lnTo>
                <a:lnTo>
                  <a:pt x="2218" y="5591"/>
                </a:lnTo>
                <a:lnTo>
                  <a:pt x="2231" y="5588"/>
                </a:lnTo>
                <a:lnTo>
                  <a:pt x="2244" y="5584"/>
                </a:lnTo>
                <a:lnTo>
                  <a:pt x="2256" y="5580"/>
                </a:lnTo>
                <a:lnTo>
                  <a:pt x="2267" y="5574"/>
                </a:lnTo>
                <a:lnTo>
                  <a:pt x="2279" y="5569"/>
                </a:lnTo>
                <a:lnTo>
                  <a:pt x="2290" y="5563"/>
                </a:lnTo>
                <a:lnTo>
                  <a:pt x="2301" y="5555"/>
                </a:lnTo>
                <a:lnTo>
                  <a:pt x="2313" y="5548"/>
                </a:lnTo>
                <a:lnTo>
                  <a:pt x="2323" y="5541"/>
                </a:lnTo>
                <a:lnTo>
                  <a:pt x="2345" y="5523"/>
                </a:lnTo>
                <a:lnTo>
                  <a:pt x="2367" y="5503"/>
                </a:lnTo>
                <a:lnTo>
                  <a:pt x="2400" y="5473"/>
                </a:lnTo>
                <a:lnTo>
                  <a:pt x="2430" y="5447"/>
                </a:lnTo>
                <a:lnTo>
                  <a:pt x="2438" y="5441"/>
                </a:lnTo>
                <a:lnTo>
                  <a:pt x="2447" y="5436"/>
                </a:lnTo>
                <a:lnTo>
                  <a:pt x="2455" y="5432"/>
                </a:lnTo>
                <a:lnTo>
                  <a:pt x="2464" y="5429"/>
                </a:lnTo>
                <a:lnTo>
                  <a:pt x="2473" y="5425"/>
                </a:lnTo>
                <a:lnTo>
                  <a:pt x="2483" y="5423"/>
                </a:lnTo>
                <a:lnTo>
                  <a:pt x="2493" y="5421"/>
                </a:lnTo>
                <a:lnTo>
                  <a:pt x="2505" y="5421"/>
                </a:lnTo>
                <a:lnTo>
                  <a:pt x="2531" y="5421"/>
                </a:lnTo>
                <a:lnTo>
                  <a:pt x="2535" y="5444"/>
                </a:lnTo>
                <a:lnTo>
                  <a:pt x="2539" y="5466"/>
                </a:lnTo>
                <a:lnTo>
                  <a:pt x="2543" y="5484"/>
                </a:lnTo>
                <a:lnTo>
                  <a:pt x="2548" y="5502"/>
                </a:lnTo>
                <a:lnTo>
                  <a:pt x="2553" y="5518"/>
                </a:lnTo>
                <a:lnTo>
                  <a:pt x="2561" y="5536"/>
                </a:lnTo>
                <a:lnTo>
                  <a:pt x="2569" y="5555"/>
                </a:lnTo>
                <a:lnTo>
                  <a:pt x="2579" y="5576"/>
                </a:lnTo>
                <a:lnTo>
                  <a:pt x="2586" y="5572"/>
                </a:lnTo>
                <a:lnTo>
                  <a:pt x="2593" y="5569"/>
                </a:lnTo>
                <a:lnTo>
                  <a:pt x="3218" y="5333"/>
                </a:lnTo>
                <a:lnTo>
                  <a:pt x="3220" y="5320"/>
                </a:lnTo>
                <a:lnTo>
                  <a:pt x="3223" y="5308"/>
                </a:lnTo>
                <a:lnTo>
                  <a:pt x="3227" y="5298"/>
                </a:lnTo>
                <a:lnTo>
                  <a:pt x="3232" y="5285"/>
                </a:lnTo>
                <a:lnTo>
                  <a:pt x="3240" y="5269"/>
                </a:lnTo>
                <a:lnTo>
                  <a:pt x="3248" y="5254"/>
                </a:lnTo>
                <a:lnTo>
                  <a:pt x="3253" y="5248"/>
                </a:lnTo>
                <a:lnTo>
                  <a:pt x="3259" y="5244"/>
                </a:lnTo>
                <a:lnTo>
                  <a:pt x="3266" y="5240"/>
                </a:lnTo>
                <a:lnTo>
                  <a:pt x="3275" y="5238"/>
                </a:lnTo>
                <a:lnTo>
                  <a:pt x="3288" y="5240"/>
                </a:lnTo>
                <a:lnTo>
                  <a:pt x="3302" y="5240"/>
                </a:lnTo>
                <a:lnTo>
                  <a:pt x="3307" y="5238"/>
                </a:lnTo>
                <a:lnTo>
                  <a:pt x="3313" y="5235"/>
                </a:lnTo>
                <a:lnTo>
                  <a:pt x="3317" y="5233"/>
                </a:lnTo>
                <a:lnTo>
                  <a:pt x="3321" y="5230"/>
                </a:lnTo>
                <a:lnTo>
                  <a:pt x="3328" y="5223"/>
                </a:lnTo>
                <a:lnTo>
                  <a:pt x="3335" y="5214"/>
                </a:lnTo>
                <a:lnTo>
                  <a:pt x="3339" y="5205"/>
                </a:lnTo>
                <a:lnTo>
                  <a:pt x="3342" y="5194"/>
                </a:lnTo>
                <a:lnTo>
                  <a:pt x="3344" y="5183"/>
                </a:lnTo>
                <a:lnTo>
                  <a:pt x="3344" y="5171"/>
                </a:lnTo>
                <a:lnTo>
                  <a:pt x="3344" y="5138"/>
                </a:lnTo>
                <a:lnTo>
                  <a:pt x="3343" y="5128"/>
                </a:lnTo>
                <a:lnTo>
                  <a:pt x="3341" y="5119"/>
                </a:lnTo>
                <a:lnTo>
                  <a:pt x="3336" y="5111"/>
                </a:lnTo>
                <a:lnTo>
                  <a:pt x="3329" y="5103"/>
                </a:lnTo>
                <a:lnTo>
                  <a:pt x="3324" y="5100"/>
                </a:lnTo>
                <a:lnTo>
                  <a:pt x="3319" y="5098"/>
                </a:lnTo>
                <a:lnTo>
                  <a:pt x="3317" y="5097"/>
                </a:lnTo>
                <a:lnTo>
                  <a:pt x="3316" y="5095"/>
                </a:lnTo>
                <a:lnTo>
                  <a:pt x="3315" y="5093"/>
                </a:lnTo>
                <a:lnTo>
                  <a:pt x="3314" y="5090"/>
                </a:lnTo>
                <a:lnTo>
                  <a:pt x="3315" y="5084"/>
                </a:lnTo>
                <a:lnTo>
                  <a:pt x="3317" y="5080"/>
                </a:lnTo>
                <a:lnTo>
                  <a:pt x="3320" y="5076"/>
                </a:lnTo>
                <a:lnTo>
                  <a:pt x="3324" y="5073"/>
                </a:lnTo>
                <a:lnTo>
                  <a:pt x="3328" y="5070"/>
                </a:lnTo>
                <a:lnTo>
                  <a:pt x="3332" y="5065"/>
                </a:lnTo>
                <a:lnTo>
                  <a:pt x="3335" y="5061"/>
                </a:lnTo>
                <a:lnTo>
                  <a:pt x="3338" y="5056"/>
                </a:lnTo>
                <a:lnTo>
                  <a:pt x="3344" y="5039"/>
                </a:lnTo>
                <a:lnTo>
                  <a:pt x="3353" y="5023"/>
                </a:lnTo>
                <a:lnTo>
                  <a:pt x="3360" y="5008"/>
                </a:lnTo>
                <a:lnTo>
                  <a:pt x="3367" y="4995"/>
                </a:lnTo>
                <a:lnTo>
                  <a:pt x="3375" y="4980"/>
                </a:lnTo>
                <a:lnTo>
                  <a:pt x="3380" y="4965"/>
                </a:lnTo>
                <a:lnTo>
                  <a:pt x="3382" y="4958"/>
                </a:lnTo>
                <a:lnTo>
                  <a:pt x="3384" y="4949"/>
                </a:lnTo>
                <a:lnTo>
                  <a:pt x="3384" y="4940"/>
                </a:lnTo>
                <a:lnTo>
                  <a:pt x="3385" y="4930"/>
                </a:lnTo>
                <a:lnTo>
                  <a:pt x="3384" y="4924"/>
                </a:lnTo>
                <a:lnTo>
                  <a:pt x="3383" y="4918"/>
                </a:lnTo>
                <a:lnTo>
                  <a:pt x="3380" y="4912"/>
                </a:lnTo>
                <a:lnTo>
                  <a:pt x="3377" y="4907"/>
                </a:lnTo>
                <a:lnTo>
                  <a:pt x="3370" y="4898"/>
                </a:lnTo>
                <a:lnTo>
                  <a:pt x="3361" y="4886"/>
                </a:lnTo>
                <a:lnTo>
                  <a:pt x="3361" y="4867"/>
                </a:lnTo>
                <a:lnTo>
                  <a:pt x="3361" y="4849"/>
                </a:lnTo>
                <a:lnTo>
                  <a:pt x="3361" y="4832"/>
                </a:lnTo>
                <a:lnTo>
                  <a:pt x="3360" y="4812"/>
                </a:lnTo>
                <a:lnTo>
                  <a:pt x="3360" y="4783"/>
                </a:lnTo>
                <a:lnTo>
                  <a:pt x="3360" y="4757"/>
                </a:lnTo>
                <a:lnTo>
                  <a:pt x="3360" y="4733"/>
                </a:lnTo>
                <a:lnTo>
                  <a:pt x="3361" y="4708"/>
                </a:lnTo>
                <a:lnTo>
                  <a:pt x="3362" y="4685"/>
                </a:lnTo>
                <a:lnTo>
                  <a:pt x="3364" y="4661"/>
                </a:lnTo>
                <a:lnTo>
                  <a:pt x="3367" y="4635"/>
                </a:lnTo>
                <a:lnTo>
                  <a:pt x="3372" y="4606"/>
                </a:lnTo>
                <a:lnTo>
                  <a:pt x="3375" y="4592"/>
                </a:lnTo>
                <a:lnTo>
                  <a:pt x="3379" y="4581"/>
                </a:lnTo>
                <a:lnTo>
                  <a:pt x="3384" y="4569"/>
                </a:lnTo>
                <a:lnTo>
                  <a:pt x="3389" y="4555"/>
                </a:lnTo>
                <a:lnTo>
                  <a:pt x="3392" y="4543"/>
                </a:lnTo>
                <a:lnTo>
                  <a:pt x="3394" y="4531"/>
                </a:lnTo>
                <a:lnTo>
                  <a:pt x="3396" y="4519"/>
                </a:lnTo>
                <a:lnTo>
                  <a:pt x="3397" y="4509"/>
                </a:lnTo>
                <a:lnTo>
                  <a:pt x="3399" y="4487"/>
                </a:lnTo>
                <a:lnTo>
                  <a:pt x="3400" y="4461"/>
                </a:lnTo>
                <a:lnTo>
                  <a:pt x="3401" y="4454"/>
                </a:lnTo>
                <a:lnTo>
                  <a:pt x="3403" y="4447"/>
                </a:lnTo>
                <a:lnTo>
                  <a:pt x="3407" y="4440"/>
                </a:lnTo>
                <a:lnTo>
                  <a:pt x="3410" y="4434"/>
                </a:lnTo>
                <a:lnTo>
                  <a:pt x="3413" y="4429"/>
                </a:lnTo>
                <a:lnTo>
                  <a:pt x="3415" y="4422"/>
                </a:lnTo>
                <a:lnTo>
                  <a:pt x="3417" y="4415"/>
                </a:lnTo>
                <a:lnTo>
                  <a:pt x="3417" y="4406"/>
                </a:lnTo>
                <a:lnTo>
                  <a:pt x="3417" y="4365"/>
                </a:lnTo>
                <a:lnTo>
                  <a:pt x="3428" y="4368"/>
                </a:lnTo>
                <a:lnTo>
                  <a:pt x="3437" y="4373"/>
                </a:lnTo>
                <a:lnTo>
                  <a:pt x="3447" y="4377"/>
                </a:lnTo>
                <a:lnTo>
                  <a:pt x="3454" y="4381"/>
                </a:lnTo>
                <a:lnTo>
                  <a:pt x="3463" y="4386"/>
                </a:lnTo>
                <a:lnTo>
                  <a:pt x="3470" y="4393"/>
                </a:lnTo>
                <a:lnTo>
                  <a:pt x="3477" y="4399"/>
                </a:lnTo>
                <a:lnTo>
                  <a:pt x="3486" y="4408"/>
                </a:lnTo>
                <a:lnTo>
                  <a:pt x="3487" y="4409"/>
                </a:lnTo>
                <a:lnTo>
                  <a:pt x="3493" y="4402"/>
                </a:lnTo>
                <a:lnTo>
                  <a:pt x="3498" y="4396"/>
                </a:lnTo>
                <a:lnTo>
                  <a:pt x="3503" y="4390"/>
                </a:lnTo>
                <a:lnTo>
                  <a:pt x="3507" y="4382"/>
                </a:lnTo>
                <a:lnTo>
                  <a:pt x="3513" y="4367"/>
                </a:lnTo>
                <a:lnTo>
                  <a:pt x="3521" y="4351"/>
                </a:lnTo>
                <a:lnTo>
                  <a:pt x="3531" y="4332"/>
                </a:lnTo>
                <a:lnTo>
                  <a:pt x="3542" y="4316"/>
                </a:lnTo>
                <a:lnTo>
                  <a:pt x="3547" y="4307"/>
                </a:lnTo>
                <a:lnTo>
                  <a:pt x="3552" y="4299"/>
                </a:lnTo>
                <a:lnTo>
                  <a:pt x="3558" y="4289"/>
                </a:lnTo>
                <a:lnTo>
                  <a:pt x="3562" y="4279"/>
                </a:lnTo>
                <a:lnTo>
                  <a:pt x="3565" y="4268"/>
                </a:lnTo>
                <a:lnTo>
                  <a:pt x="3567" y="4257"/>
                </a:lnTo>
                <a:lnTo>
                  <a:pt x="3569" y="4247"/>
                </a:lnTo>
                <a:lnTo>
                  <a:pt x="3569" y="4236"/>
                </a:lnTo>
                <a:lnTo>
                  <a:pt x="3569" y="4216"/>
                </a:lnTo>
                <a:lnTo>
                  <a:pt x="3568" y="4192"/>
                </a:lnTo>
                <a:lnTo>
                  <a:pt x="3567" y="4175"/>
                </a:lnTo>
                <a:lnTo>
                  <a:pt x="3564" y="4160"/>
                </a:lnTo>
                <a:lnTo>
                  <a:pt x="3561" y="4146"/>
                </a:lnTo>
                <a:lnTo>
                  <a:pt x="3560" y="4128"/>
                </a:lnTo>
                <a:lnTo>
                  <a:pt x="3560" y="4121"/>
                </a:lnTo>
                <a:lnTo>
                  <a:pt x="3561" y="4116"/>
                </a:lnTo>
                <a:lnTo>
                  <a:pt x="3563" y="4111"/>
                </a:lnTo>
                <a:lnTo>
                  <a:pt x="3565" y="4107"/>
                </a:lnTo>
                <a:lnTo>
                  <a:pt x="3569" y="4097"/>
                </a:lnTo>
                <a:lnTo>
                  <a:pt x="3573" y="4085"/>
                </a:lnTo>
                <a:lnTo>
                  <a:pt x="3574" y="4079"/>
                </a:lnTo>
                <a:lnTo>
                  <a:pt x="3576" y="4074"/>
                </a:lnTo>
                <a:lnTo>
                  <a:pt x="3577" y="4072"/>
                </a:lnTo>
                <a:lnTo>
                  <a:pt x="3578" y="4069"/>
                </a:lnTo>
                <a:lnTo>
                  <a:pt x="3580" y="4066"/>
                </a:lnTo>
                <a:lnTo>
                  <a:pt x="3582" y="4065"/>
                </a:lnTo>
                <a:lnTo>
                  <a:pt x="3587" y="4062"/>
                </a:lnTo>
                <a:lnTo>
                  <a:pt x="3593" y="4061"/>
                </a:lnTo>
                <a:lnTo>
                  <a:pt x="3599" y="4060"/>
                </a:lnTo>
                <a:lnTo>
                  <a:pt x="3604" y="4060"/>
                </a:lnTo>
                <a:lnTo>
                  <a:pt x="3610" y="4059"/>
                </a:lnTo>
                <a:lnTo>
                  <a:pt x="3616" y="4059"/>
                </a:lnTo>
                <a:lnTo>
                  <a:pt x="3622" y="4057"/>
                </a:lnTo>
                <a:lnTo>
                  <a:pt x="3627" y="4055"/>
                </a:lnTo>
                <a:lnTo>
                  <a:pt x="3640" y="4047"/>
                </a:lnTo>
                <a:lnTo>
                  <a:pt x="3650" y="4040"/>
                </a:lnTo>
                <a:lnTo>
                  <a:pt x="3660" y="4032"/>
                </a:lnTo>
                <a:lnTo>
                  <a:pt x="3672" y="4023"/>
                </a:lnTo>
                <a:lnTo>
                  <a:pt x="3677" y="4020"/>
                </a:lnTo>
                <a:lnTo>
                  <a:pt x="3682" y="4018"/>
                </a:lnTo>
                <a:lnTo>
                  <a:pt x="3687" y="4016"/>
                </a:lnTo>
                <a:lnTo>
                  <a:pt x="3693" y="4015"/>
                </a:lnTo>
                <a:lnTo>
                  <a:pt x="3703" y="4014"/>
                </a:lnTo>
                <a:lnTo>
                  <a:pt x="3714" y="4011"/>
                </a:lnTo>
                <a:lnTo>
                  <a:pt x="3718" y="4019"/>
                </a:lnTo>
                <a:lnTo>
                  <a:pt x="3721" y="4025"/>
                </a:lnTo>
                <a:lnTo>
                  <a:pt x="3723" y="4028"/>
                </a:lnTo>
                <a:lnTo>
                  <a:pt x="3725" y="4031"/>
                </a:lnTo>
                <a:lnTo>
                  <a:pt x="3729" y="4033"/>
                </a:lnTo>
                <a:lnTo>
                  <a:pt x="3733" y="4033"/>
                </a:lnTo>
                <a:lnTo>
                  <a:pt x="3739" y="4033"/>
                </a:lnTo>
                <a:lnTo>
                  <a:pt x="3746" y="4031"/>
                </a:lnTo>
                <a:lnTo>
                  <a:pt x="3751" y="4027"/>
                </a:lnTo>
                <a:lnTo>
                  <a:pt x="3755" y="4024"/>
                </a:lnTo>
                <a:lnTo>
                  <a:pt x="3760" y="4020"/>
                </a:lnTo>
                <a:lnTo>
                  <a:pt x="3766" y="4017"/>
                </a:lnTo>
                <a:lnTo>
                  <a:pt x="3771" y="4014"/>
                </a:lnTo>
                <a:lnTo>
                  <a:pt x="3777" y="4011"/>
                </a:lnTo>
                <a:lnTo>
                  <a:pt x="3786" y="4007"/>
                </a:lnTo>
                <a:lnTo>
                  <a:pt x="3794" y="4004"/>
                </a:lnTo>
                <a:lnTo>
                  <a:pt x="3802" y="4000"/>
                </a:lnTo>
                <a:lnTo>
                  <a:pt x="3808" y="3996"/>
                </a:lnTo>
                <a:lnTo>
                  <a:pt x="3821" y="3987"/>
                </a:lnTo>
                <a:lnTo>
                  <a:pt x="3832" y="3977"/>
                </a:lnTo>
                <a:lnTo>
                  <a:pt x="3853" y="3954"/>
                </a:lnTo>
                <a:lnTo>
                  <a:pt x="3875" y="3926"/>
                </a:lnTo>
                <a:lnTo>
                  <a:pt x="3880" y="3922"/>
                </a:lnTo>
                <a:lnTo>
                  <a:pt x="3884" y="3919"/>
                </a:lnTo>
                <a:lnTo>
                  <a:pt x="3888" y="3917"/>
                </a:lnTo>
                <a:lnTo>
                  <a:pt x="3892" y="3914"/>
                </a:lnTo>
                <a:lnTo>
                  <a:pt x="3901" y="3910"/>
                </a:lnTo>
                <a:lnTo>
                  <a:pt x="3909" y="3904"/>
                </a:lnTo>
                <a:lnTo>
                  <a:pt x="3921" y="3891"/>
                </a:lnTo>
                <a:lnTo>
                  <a:pt x="3934" y="3880"/>
                </a:lnTo>
                <a:lnTo>
                  <a:pt x="3937" y="3866"/>
                </a:lnTo>
                <a:lnTo>
                  <a:pt x="3950" y="3856"/>
                </a:lnTo>
                <a:lnTo>
                  <a:pt x="3962" y="3847"/>
                </a:lnTo>
                <a:lnTo>
                  <a:pt x="3972" y="3837"/>
                </a:lnTo>
                <a:lnTo>
                  <a:pt x="3981" y="3828"/>
                </a:lnTo>
                <a:lnTo>
                  <a:pt x="3991" y="3817"/>
                </a:lnTo>
                <a:lnTo>
                  <a:pt x="4001" y="3808"/>
                </a:lnTo>
                <a:lnTo>
                  <a:pt x="4012" y="3799"/>
                </a:lnTo>
                <a:lnTo>
                  <a:pt x="4025" y="3791"/>
                </a:lnTo>
                <a:lnTo>
                  <a:pt x="4031" y="3789"/>
                </a:lnTo>
                <a:lnTo>
                  <a:pt x="4036" y="3787"/>
                </a:lnTo>
                <a:lnTo>
                  <a:pt x="4041" y="3786"/>
                </a:lnTo>
                <a:lnTo>
                  <a:pt x="4046" y="3786"/>
                </a:lnTo>
                <a:lnTo>
                  <a:pt x="4056" y="3786"/>
                </a:lnTo>
                <a:lnTo>
                  <a:pt x="4067" y="3786"/>
                </a:lnTo>
                <a:lnTo>
                  <a:pt x="4077" y="3787"/>
                </a:lnTo>
                <a:lnTo>
                  <a:pt x="4087" y="3787"/>
                </a:lnTo>
                <a:lnTo>
                  <a:pt x="4092" y="3786"/>
                </a:lnTo>
                <a:lnTo>
                  <a:pt x="4097" y="3785"/>
                </a:lnTo>
                <a:lnTo>
                  <a:pt x="4102" y="3783"/>
                </a:lnTo>
                <a:lnTo>
                  <a:pt x="4107" y="3780"/>
                </a:lnTo>
                <a:lnTo>
                  <a:pt x="4114" y="3776"/>
                </a:lnTo>
                <a:lnTo>
                  <a:pt x="4121" y="3771"/>
                </a:lnTo>
                <a:lnTo>
                  <a:pt x="4127" y="3764"/>
                </a:lnTo>
                <a:lnTo>
                  <a:pt x="4132" y="3758"/>
                </a:lnTo>
                <a:lnTo>
                  <a:pt x="4142" y="3745"/>
                </a:lnTo>
                <a:lnTo>
                  <a:pt x="4151" y="3733"/>
                </a:lnTo>
                <a:lnTo>
                  <a:pt x="4161" y="3721"/>
                </a:lnTo>
                <a:lnTo>
                  <a:pt x="4170" y="3711"/>
                </a:lnTo>
                <a:lnTo>
                  <a:pt x="4176" y="3705"/>
                </a:lnTo>
                <a:lnTo>
                  <a:pt x="4183" y="3701"/>
                </a:lnTo>
                <a:lnTo>
                  <a:pt x="4190" y="3698"/>
                </a:lnTo>
                <a:lnTo>
                  <a:pt x="4199" y="3696"/>
                </a:lnTo>
                <a:lnTo>
                  <a:pt x="4199" y="3672"/>
                </a:lnTo>
                <a:lnTo>
                  <a:pt x="4199" y="3650"/>
                </a:lnTo>
                <a:lnTo>
                  <a:pt x="4199" y="3641"/>
                </a:lnTo>
                <a:lnTo>
                  <a:pt x="4201" y="3630"/>
                </a:lnTo>
                <a:lnTo>
                  <a:pt x="4203" y="3620"/>
                </a:lnTo>
                <a:lnTo>
                  <a:pt x="4206" y="3607"/>
                </a:lnTo>
                <a:lnTo>
                  <a:pt x="4210" y="3596"/>
                </a:lnTo>
                <a:lnTo>
                  <a:pt x="4214" y="3584"/>
                </a:lnTo>
                <a:lnTo>
                  <a:pt x="4220" y="3573"/>
                </a:lnTo>
                <a:lnTo>
                  <a:pt x="4225" y="3563"/>
                </a:lnTo>
                <a:lnTo>
                  <a:pt x="4237" y="3544"/>
                </a:lnTo>
                <a:lnTo>
                  <a:pt x="4248" y="3526"/>
                </a:lnTo>
                <a:lnTo>
                  <a:pt x="4260" y="3507"/>
                </a:lnTo>
                <a:lnTo>
                  <a:pt x="4269" y="3488"/>
                </a:lnTo>
                <a:lnTo>
                  <a:pt x="4274" y="3477"/>
                </a:lnTo>
                <a:lnTo>
                  <a:pt x="4277" y="3466"/>
                </a:lnTo>
                <a:lnTo>
                  <a:pt x="4279" y="3454"/>
                </a:lnTo>
                <a:lnTo>
                  <a:pt x="4280" y="3441"/>
                </a:lnTo>
                <a:lnTo>
                  <a:pt x="4261" y="3437"/>
                </a:lnTo>
                <a:lnTo>
                  <a:pt x="4242" y="3432"/>
                </a:lnTo>
                <a:lnTo>
                  <a:pt x="4234" y="3428"/>
                </a:lnTo>
                <a:lnTo>
                  <a:pt x="4228" y="3422"/>
                </a:lnTo>
                <a:lnTo>
                  <a:pt x="4226" y="3419"/>
                </a:lnTo>
                <a:lnTo>
                  <a:pt x="4224" y="3416"/>
                </a:lnTo>
                <a:lnTo>
                  <a:pt x="4223" y="3412"/>
                </a:lnTo>
                <a:lnTo>
                  <a:pt x="4223" y="3407"/>
                </a:lnTo>
                <a:lnTo>
                  <a:pt x="4231" y="3395"/>
                </a:lnTo>
                <a:lnTo>
                  <a:pt x="4240" y="3383"/>
                </a:lnTo>
                <a:lnTo>
                  <a:pt x="4239" y="3376"/>
                </a:lnTo>
                <a:lnTo>
                  <a:pt x="4237" y="3369"/>
                </a:lnTo>
                <a:lnTo>
                  <a:pt x="4233" y="3363"/>
                </a:lnTo>
                <a:lnTo>
                  <a:pt x="4228" y="3358"/>
                </a:lnTo>
                <a:lnTo>
                  <a:pt x="4223" y="3355"/>
                </a:lnTo>
                <a:lnTo>
                  <a:pt x="4217" y="3352"/>
                </a:lnTo>
                <a:lnTo>
                  <a:pt x="4209" y="3350"/>
                </a:lnTo>
                <a:lnTo>
                  <a:pt x="4201" y="3347"/>
                </a:lnTo>
                <a:lnTo>
                  <a:pt x="4184" y="3346"/>
                </a:lnTo>
                <a:lnTo>
                  <a:pt x="4166" y="3345"/>
                </a:lnTo>
                <a:lnTo>
                  <a:pt x="4147" y="3345"/>
                </a:lnTo>
                <a:lnTo>
                  <a:pt x="4129" y="3346"/>
                </a:lnTo>
                <a:lnTo>
                  <a:pt x="4109" y="3346"/>
                </a:lnTo>
                <a:lnTo>
                  <a:pt x="4091" y="3346"/>
                </a:lnTo>
                <a:lnTo>
                  <a:pt x="4073" y="3348"/>
                </a:lnTo>
                <a:lnTo>
                  <a:pt x="4056" y="3352"/>
                </a:lnTo>
                <a:lnTo>
                  <a:pt x="4040" y="3356"/>
                </a:lnTo>
                <a:lnTo>
                  <a:pt x="4024" y="3361"/>
                </a:lnTo>
                <a:lnTo>
                  <a:pt x="4007" y="3370"/>
                </a:lnTo>
                <a:lnTo>
                  <a:pt x="3992" y="3380"/>
                </a:lnTo>
                <a:lnTo>
                  <a:pt x="3964" y="3402"/>
                </a:lnTo>
                <a:lnTo>
                  <a:pt x="3940" y="3422"/>
                </a:lnTo>
                <a:lnTo>
                  <a:pt x="3928" y="3433"/>
                </a:lnTo>
                <a:lnTo>
                  <a:pt x="3916" y="3442"/>
                </a:lnTo>
                <a:lnTo>
                  <a:pt x="3902" y="3452"/>
                </a:lnTo>
                <a:lnTo>
                  <a:pt x="3886" y="3461"/>
                </a:lnTo>
                <a:lnTo>
                  <a:pt x="3871" y="3471"/>
                </a:lnTo>
                <a:lnTo>
                  <a:pt x="3857" y="3480"/>
                </a:lnTo>
                <a:lnTo>
                  <a:pt x="3846" y="3492"/>
                </a:lnTo>
                <a:lnTo>
                  <a:pt x="3834" y="3503"/>
                </a:lnTo>
                <a:lnTo>
                  <a:pt x="3823" y="3513"/>
                </a:lnTo>
                <a:lnTo>
                  <a:pt x="3811" y="3524"/>
                </a:lnTo>
                <a:lnTo>
                  <a:pt x="3797" y="3534"/>
                </a:lnTo>
                <a:lnTo>
                  <a:pt x="3781" y="3543"/>
                </a:lnTo>
                <a:lnTo>
                  <a:pt x="3771" y="3547"/>
                </a:lnTo>
                <a:lnTo>
                  <a:pt x="3761" y="3550"/>
                </a:lnTo>
                <a:lnTo>
                  <a:pt x="3753" y="3553"/>
                </a:lnTo>
                <a:lnTo>
                  <a:pt x="3744" y="3555"/>
                </a:lnTo>
                <a:lnTo>
                  <a:pt x="3735" y="3558"/>
                </a:lnTo>
                <a:lnTo>
                  <a:pt x="3727" y="3561"/>
                </a:lnTo>
                <a:lnTo>
                  <a:pt x="3718" y="3564"/>
                </a:lnTo>
                <a:lnTo>
                  <a:pt x="3710" y="3570"/>
                </a:lnTo>
                <a:lnTo>
                  <a:pt x="3699" y="3579"/>
                </a:lnTo>
                <a:lnTo>
                  <a:pt x="3691" y="3588"/>
                </a:lnTo>
                <a:lnTo>
                  <a:pt x="3683" y="3597"/>
                </a:lnTo>
                <a:lnTo>
                  <a:pt x="3676" y="3606"/>
                </a:lnTo>
                <a:lnTo>
                  <a:pt x="3663" y="3626"/>
                </a:lnTo>
                <a:lnTo>
                  <a:pt x="3648" y="3648"/>
                </a:lnTo>
                <a:lnTo>
                  <a:pt x="3622" y="3683"/>
                </a:lnTo>
                <a:lnTo>
                  <a:pt x="3597" y="3715"/>
                </a:lnTo>
                <a:lnTo>
                  <a:pt x="3573" y="3743"/>
                </a:lnTo>
                <a:lnTo>
                  <a:pt x="3551" y="3772"/>
                </a:lnTo>
                <a:lnTo>
                  <a:pt x="3528" y="3800"/>
                </a:lnTo>
                <a:lnTo>
                  <a:pt x="3506" y="3830"/>
                </a:lnTo>
                <a:lnTo>
                  <a:pt x="3483" y="3863"/>
                </a:lnTo>
                <a:lnTo>
                  <a:pt x="3458" y="3900"/>
                </a:lnTo>
                <a:lnTo>
                  <a:pt x="3449" y="3915"/>
                </a:lnTo>
                <a:lnTo>
                  <a:pt x="3442" y="3931"/>
                </a:lnTo>
                <a:lnTo>
                  <a:pt x="3437" y="3947"/>
                </a:lnTo>
                <a:lnTo>
                  <a:pt x="3433" y="3962"/>
                </a:lnTo>
                <a:lnTo>
                  <a:pt x="3428" y="3978"/>
                </a:lnTo>
                <a:lnTo>
                  <a:pt x="3422" y="3994"/>
                </a:lnTo>
                <a:lnTo>
                  <a:pt x="3416" y="4009"/>
                </a:lnTo>
                <a:lnTo>
                  <a:pt x="3408" y="4025"/>
                </a:lnTo>
                <a:lnTo>
                  <a:pt x="3395" y="4045"/>
                </a:lnTo>
                <a:lnTo>
                  <a:pt x="3384" y="4064"/>
                </a:lnTo>
                <a:lnTo>
                  <a:pt x="3376" y="4082"/>
                </a:lnTo>
                <a:lnTo>
                  <a:pt x="3367" y="4100"/>
                </a:lnTo>
                <a:lnTo>
                  <a:pt x="3361" y="4118"/>
                </a:lnTo>
                <a:lnTo>
                  <a:pt x="3355" y="4137"/>
                </a:lnTo>
                <a:lnTo>
                  <a:pt x="3348" y="4158"/>
                </a:lnTo>
                <a:lnTo>
                  <a:pt x="3343" y="4182"/>
                </a:lnTo>
                <a:lnTo>
                  <a:pt x="3327" y="4236"/>
                </a:lnTo>
                <a:lnTo>
                  <a:pt x="3315" y="4288"/>
                </a:lnTo>
                <a:lnTo>
                  <a:pt x="3303" y="4338"/>
                </a:lnTo>
                <a:lnTo>
                  <a:pt x="3293" y="4384"/>
                </a:lnTo>
                <a:lnTo>
                  <a:pt x="3286" y="4408"/>
                </a:lnTo>
                <a:lnTo>
                  <a:pt x="3279" y="4431"/>
                </a:lnTo>
                <a:lnTo>
                  <a:pt x="3270" y="4453"/>
                </a:lnTo>
                <a:lnTo>
                  <a:pt x="3262" y="4476"/>
                </a:lnTo>
                <a:lnTo>
                  <a:pt x="3251" y="4499"/>
                </a:lnTo>
                <a:lnTo>
                  <a:pt x="3240" y="4524"/>
                </a:lnTo>
                <a:lnTo>
                  <a:pt x="3226" y="4547"/>
                </a:lnTo>
                <a:lnTo>
                  <a:pt x="3210" y="4572"/>
                </a:lnTo>
                <a:lnTo>
                  <a:pt x="3191" y="4600"/>
                </a:lnTo>
                <a:lnTo>
                  <a:pt x="3173" y="4626"/>
                </a:lnTo>
                <a:lnTo>
                  <a:pt x="3155" y="4650"/>
                </a:lnTo>
                <a:lnTo>
                  <a:pt x="3137" y="4674"/>
                </a:lnTo>
                <a:lnTo>
                  <a:pt x="3102" y="4717"/>
                </a:lnTo>
                <a:lnTo>
                  <a:pt x="3068" y="4758"/>
                </a:lnTo>
                <a:lnTo>
                  <a:pt x="3032" y="4799"/>
                </a:lnTo>
                <a:lnTo>
                  <a:pt x="2996" y="4842"/>
                </a:lnTo>
                <a:lnTo>
                  <a:pt x="2958" y="4888"/>
                </a:lnTo>
                <a:lnTo>
                  <a:pt x="2918" y="4939"/>
                </a:lnTo>
                <a:lnTo>
                  <a:pt x="2905" y="4958"/>
                </a:lnTo>
                <a:lnTo>
                  <a:pt x="2892" y="4976"/>
                </a:lnTo>
                <a:lnTo>
                  <a:pt x="2882" y="4994"/>
                </a:lnTo>
                <a:lnTo>
                  <a:pt x="2872" y="5010"/>
                </a:lnTo>
                <a:lnTo>
                  <a:pt x="2863" y="5028"/>
                </a:lnTo>
                <a:lnTo>
                  <a:pt x="2854" y="5046"/>
                </a:lnTo>
                <a:lnTo>
                  <a:pt x="2846" y="5066"/>
                </a:lnTo>
                <a:lnTo>
                  <a:pt x="2836" y="5089"/>
                </a:lnTo>
                <a:lnTo>
                  <a:pt x="2830" y="5102"/>
                </a:lnTo>
                <a:lnTo>
                  <a:pt x="2822" y="5115"/>
                </a:lnTo>
                <a:lnTo>
                  <a:pt x="2814" y="5126"/>
                </a:lnTo>
                <a:lnTo>
                  <a:pt x="2805" y="5136"/>
                </a:lnTo>
                <a:lnTo>
                  <a:pt x="2796" y="5147"/>
                </a:lnTo>
                <a:lnTo>
                  <a:pt x="2788" y="5157"/>
                </a:lnTo>
                <a:lnTo>
                  <a:pt x="2779" y="5170"/>
                </a:lnTo>
                <a:lnTo>
                  <a:pt x="2772" y="5184"/>
                </a:lnTo>
                <a:lnTo>
                  <a:pt x="2753" y="5225"/>
                </a:lnTo>
                <a:lnTo>
                  <a:pt x="2737" y="5262"/>
                </a:lnTo>
                <a:lnTo>
                  <a:pt x="2720" y="5299"/>
                </a:lnTo>
                <a:lnTo>
                  <a:pt x="2701" y="5340"/>
                </a:lnTo>
                <a:lnTo>
                  <a:pt x="2702" y="5326"/>
                </a:lnTo>
                <a:lnTo>
                  <a:pt x="2704" y="5315"/>
                </a:lnTo>
                <a:lnTo>
                  <a:pt x="2706" y="5302"/>
                </a:lnTo>
                <a:lnTo>
                  <a:pt x="2709" y="5291"/>
                </a:lnTo>
                <a:lnTo>
                  <a:pt x="2715" y="5269"/>
                </a:lnTo>
                <a:lnTo>
                  <a:pt x="2721" y="5248"/>
                </a:lnTo>
                <a:lnTo>
                  <a:pt x="2728" y="5228"/>
                </a:lnTo>
                <a:lnTo>
                  <a:pt x="2733" y="5206"/>
                </a:lnTo>
                <a:lnTo>
                  <a:pt x="2735" y="5194"/>
                </a:lnTo>
                <a:lnTo>
                  <a:pt x="2737" y="5183"/>
                </a:lnTo>
                <a:lnTo>
                  <a:pt x="2738" y="5170"/>
                </a:lnTo>
                <a:lnTo>
                  <a:pt x="2738" y="5157"/>
                </a:lnTo>
                <a:lnTo>
                  <a:pt x="2736" y="5150"/>
                </a:lnTo>
                <a:lnTo>
                  <a:pt x="2735" y="5142"/>
                </a:lnTo>
                <a:lnTo>
                  <a:pt x="2741" y="5126"/>
                </a:lnTo>
                <a:lnTo>
                  <a:pt x="2748" y="5111"/>
                </a:lnTo>
                <a:lnTo>
                  <a:pt x="2755" y="5096"/>
                </a:lnTo>
                <a:lnTo>
                  <a:pt x="2763" y="5083"/>
                </a:lnTo>
                <a:lnTo>
                  <a:pt x="2772" y="5071"/>
                </a:lnTo>
                <a:lnTo>
                  <a:pt x="2781" y="5059"/>
                </a:lnTo>
                <a:lnTo>
                  <a:pt x="2791" y="5047"/>
                </a:lnTo>
                <a:lnTo>
                  <a:pt x="2800" y="5037"/>
                </a:lnTo>
                <a:lnTo>
                  <a:pt x="2822" y="5015"/>
                </a:lnTo>
                <a:lnTo>
                  <a:pt x="2844" y="4993"/>
                </a:lnTo>
                <a:lnTo>
                  <a:pt x="2866" y="4969"/>
                </a:lnTo>
                <a:lnTo>
                  <a:pt x="2888" y="4942"/>
                </a:lnTo>
                <a:lnTo>
                  <a:pt x="2900" y="4926"/>
                </a:lnTo>
                <a:lnTo>
                  <a:pt x="2909" y="4909"/>
                </a:lnTo>
                <a:lnTo>
                  <a:pt x="2919" y="4893"/>
                </a:lnTo>
                <a:lnTo>
                  <a:pt x="2927" y="4877"/>
                </a:lnTo>
                <a:lnTo>
                  <a:pt x="2937" y="4863"/>
                </a:lnTo>
                <a:lnTo>
                  <a:pt x="2946" y="4848"/>
                </a:lnTo>
                <a:lnTo>
                  <a:pt x="2959" y="4832"/>
                </a:lnTo>
                <a:lnTo>
                  <a:pt x="2973" y="4816"/>
                </a:lnTo>
                <a:lnTo>
                  <a:pt x="2996" y="4796"/>
                </a:lnTo>
                <a:lnTo>
                  <a:pt x="3019" y="4779"/>
                </a:lnTo>
                <a:lnTo>
                  <a:pt x="3030" y="4770"/>
                </a:lnTo>
                <a:lnTo>
                  <a:pt x="3039" y="4760"/>
                </a:lnTo>
                <a:lnTo>
                  <a:pt x="3049" y="4749"/>
                </a:lnTo>
                <a:lnTo>
                  <a:pt x="3057" y="4735"/>
                </a:lnTo>
                <a:lnTo>
                  <a:pt x="3068" y="4715"/>
                </a:lnTo>
                <a:lnTo>
                  <a:pt x="3075" y="4697"/>
                </a:lnTo>
                <a:lnTo>
                  <a:pt x="3082" y="4678"/>
                </a:lnTo>
                <a:lnTo>
                  <a:pt x="3088" y="4660"/>
                </a:lnTo>
                <a:lnTo>
                  <a:pt x="3094" y="4642"/>
                </a:lnTo>
                <a:lnTo>
                  <a:pt x="3100" y="4624"/>
                </a:lnTo>
                <a:lnTo>
                  <a:pt x="3108" y="4605"/>
                </a:lnTo>
                <a:lnTo>
                  <a:pt x="3118" y="4586"/>
                </a:lnTo>
                <a:lnTo>
                  <a:pt x="3130" y="4567"/>
                </a:lnTo>
                <a:lnTo>
                  <a:pt x="3139" y="4548"/>
                </a:lnTo>
                <a:lnTo>
                  <a:pt x="3148" y="4530"/>
                </a:lnTo>
                <a:lnTo>
                  <a:pt x="3155" y="4512"/>
                </a:lnTo>
                <a:lnTo>
                  <a:pt x="3169" y="4478"/>
                </a:lnTo>
                <a:lnTo>
                  <a:pt x="3180" y="4445"/>
                </a:lnTo>
                <a:lnTo>
                  <a:pt x="3190" y="4410"/>
                </a:lnTo>
                <a:lnTo>
                  <a:pt x="3200" y="4374"/>
                </a:lnTo>
                <a:lnTo>
                  <a:pt x="3209" y="4335"/>
                </a:lnTo>
                <a:lnTo>
                  <a:pt x="3221" y="4294"/>
                </a:lnTo>
                <a:lnTo>
                  <a:pt x="3227" y="4271"/>
                </a:lnTo>
                <a:lnTo>
                  <a:pt x="3234" y="4252"/>
                </a:lnTo>
                <a:lnTo>
                  <a:pt x="3242" y="4233"/>
                </a:lnTo>
                <a:lnTo>
                  <a:pt x="3251" y="4212"/>
                </a:lnTo>
                <a:lnTo>
                  <a:pt x="3259" y="4207"/>
                </a:lnTo>
                <a:lnTo>
                  <a:pt x="3265" y="4202"/>
                </a:lnTo>
                <a:lnTo>
                  <a:pt x="3261" y="4195"/>
                </a:lnTo>
                <a:lnTo>
                  <a:pt x="3258" y="4188"/>
                </a:lnTo>
                <a:lnTo>
                  <a:pt x="3225" y="4193"/>
                </a:lnTo>
                <a:lnTo>
                  <a:pt x="3195" y="4197"/>
                </a:lnTo>
                <a:lnTo>
                  <a:pt x="3182" y="4200"/>
                </a:lnTo>
                <a:lnTo>
                  <a:pt x="3167" y="4201"/>
                </a:lnTo>
                <a:lnTo>
                  <a:pt x="3151" y="4202"/>
                </a:lnTo>
                <a:lnTo>
                  <a:pt x="3134" y="4202"/>
                </a:lnTo>
                <a:lnTo>
                  <a:pt x="3105" y="4202"/>
                </a:lnTo>
                <a:lnTo>
                  <a:pt x="3078" y="4198"/>
                </a:lnTo>
                <a:lnTo>
                  <a:pt x="3064" y="4196"/>
                </a:lnTo>
                <a:lnTo>
                  <a:pt x="3052" y="4193"/>
                </a:lnTo>
                <a:lnTo>
                  <a:pt x="3038" y="4190"/>
                </a:lnTo>
                <a:lnTo>
                  <a:pt x="3023" y="4185"/>
                </a:lnTo>
                <a:lnTo>
                  <a:pt x="3046" y="4177"/>
                </a:lnTo>
                <a:lnTo>
                  <a:pt x="3069" y="4171"/>
                </a:lnTo>
                <a:lnTo>
                  <a:pt x="3089" y="4165"/>
                </a:lnTo>
                <a:lnTo>
                  <a:pt x="3109" y="4160"/>
                </a:lnTo>
                <a:lnTo>
                  <a:pt x="3129" y="4156"/>
                </a:lnTo>
                <a:lnTo>
                  <a:pt x="3150" y="4153"/>
                </a:lnTo>
                <a:lnTo>
                  <a:pt x="3172" y="4152"/>
                </a:lnTo>
                <a:lnTo>
                  <a:pt x="3196" y="4151"/>
                </a:lnTo>
                <a:lnTo>
                  <a:pt x="3204" y="4152"/>
                </a:lnTo>
                <a:lnTo>
                  <a:pt x="3211" y="4153"/>
                </a:lnTo>
                <a:lnTo>
                  <a:pt x="3218" y="4155"/>
                </a:lnTo>
                <a:lnTo>
                  <a:pt x="3224" y="4157"/>
                </a:lnTo>
                <a:lnTo>
                  <a:pt x="3230" y="4160"/>
                </a:lnTo>
                <a:lnTo>
                  <a:pt x="3237" y="4163"/>
                </a:lnTo>
                <a:lnTo>
                  <a:pt x="3244" y="4164"/>
                </a:lnTo>
                <a:lnTo>
                  <a:pt x="3251" y="4165"/>
                </a:lnTo>
                <a:lnTo>
                  <a:pt x="3254" y="4165"/>
                </a:lnTo>
                <a:lnTo>
                  <a:pt x="3259" y="4164"/>
                </a:lnTo>
                <a:lnTo>
                  <a:pt x="3261" y="4162"/>
                </a:lnTo>
                <a:lnTo>
                  <a:pt x="3264" y="4159"/>
                </a:lnTo>
                <a:lnTo>
                  <a:pt x="3267" y="4154"/>
                </a:lnTo>
                <a:lnTo>
                  <a:pt x="3270" y="4147"/>
                </a:lnTo>
                <a:lnTo>
                  <a:pt x="3272" y="4131"/>
                </a:lnTo>
                <a:lnTo>
                  <a:pt x="3275" y="4114"/>
                </a:lnTo>
                <a:lnTo>
                  <a:pt x="3280" y="4091"/>
                </a:lnTo>
                <a:lnTo>
                  <a:pt x="3285" y="4070"/>
                </a:lnTo>
                <a:lnTo>
                  <a:pt x="3288" y="4060"/>
                </a:lnTo>
                <a:lnTo>
                  <a:pt x="3290" y="4050"/>
                </a:lnTo>
                <a:lnTo>
                  <a:pt x="3291" y="4038"/>
                </a:lnTo>
                <a:lnTo>
                  <a:pt x="3291" y="4026"/>
                </a:lnTo>
                <a:lnTo>
                  <a:pt x="3291" y="3929"/>
                </a:lnTo>
                <a:lnTo>
                  <a:pt x="3293" y="3925"/>
                </a:lnTo>
                <a:lnTo>
                  <a:pt x="3293" y="3921"/>
                </a:lnTo>
                <a:lnTo>
                  <a:pt x="3295" y="3918"/>
                </a:lnTo>
                <a:lnTo>
                  <a:pt x="3296" y="3914"/>
                </a:lnTo>
                <a:lnTo>
                  <a:pt x="3300" y="3909"/>
                </a:lnTo>
                <a:lnTo>
                  <a:pt x="3305" y="3904"/>
                </a:lnTo>
                <a:lnTo>
                  <a:pt x="3312" y="3899"/>
                </a:lnTo>
                <a:lnTo>
                  <a:pt x="3317" y="3893"/>
                </a:lnTo>
                <a:lnTo>
                  <a:pt x="3322" y="3887"/>
                </a:lnTo>
                <a:lnTo>
                  <a:pt x="3325" y="3880"/>
                </a:lnTo>
                <a:lnTo>
                  <a:pt x="3329" y="3868"/>
                </a:lnTo>
                <a:lnTo>
                  <a:pt x="3332" y="3856"/>
                </a:lnTo>
                <a:lnTo>
                  <a:pt x="3332" y="3846"/>
                </a:lnTo>
                <a:lnTo>
                  <a:pt x="3332" y="3835"/>
                </a:lnTo>
                <a:lnTo>
                  <a:pt x="3332" y="3825"/>
                </a:lnTo>
                <a:lnTo>
                  <a:pt x="3332" y="3814"/>
                </a:lnTo>
                <a:lnTo>
                  <a:pt x="3333" y="3803"/>
                </a:lnTo>
                <a:lnTo>
                  <a:pt x="3336" y="3791"/>
                </a:lnTo>
                <a:lnTo>
                  <a:pt x="3338" y="3787"/>
                </a:lnTo>
                <a:lnTo>
                  <a:pt x="3340" y="3782"/>
                </a:lnTo>
                <a:lnTo>
                  <a:pt x="3343" y="3779"/>
                </a:lnTo>
                <a:lnTo>
                  <a:pt x="3346" y="3776"/>
                </a:lnTo>
                <a:lnTo>
                  <a:pt x="3355" y="3773"/>
                </a:lnTo>
                <a:lnTo>
                  <a:pt x="3363" y="3770"/>
                </a:lnTo>
                <a:lnTo>
                  <a:pt x="3374" y="3767"/>
                </a:lnTo>
                <a:lnTo>
                  <a:pt x="3383" y="3764"/>
                </a:lnTo>
                <a:lnTo>
                  <a:pt x="3388" y="3762"/>
                </a:lnTo>
                <a:lnTo>
                  <a:pt x="3392" y="3760"/>
                </a:lnTo>
                <a:lnTo>
                  <a:pt x="3396" y="3757"/>
                </a:lnTo>
                <a:lnTo>
                  <a:pt x="3400" y="3754"/>
                </a:lnTo>
                <a:lnTo>
                  <a:pt x="3406" y="3748"/>
                </a:lnTo>
                <a:lnTo>
                  <a:pt x="3410" y="3742"/>
                </a:lnTo>
                <a:lnTo>
                  <a:pt x="3414" y="3736"/>
                </a:lnTo>
                <a:lnTo>
                  <a:pt x="3416" y="3730"/>
                </a:lnTo>
                <a:lnTo>
                  <a:pt x="3420" y="3717"/>
                </a:lnTo>
                <a:lnTo>
                  <a:pt x="3423" y="3705"/>
                </a:lnTo>
                <a:lnTo>
                  <a:pt x="3427" y="3693"/>
                </a:lnTo>
                <a:lnTo>
                  <a:pt x="3431" y="3680"/>
                </a:lnTo>
                <a:lnTo>
                  <a:pt x="3433" y="3674"/>
                </a:lnTo>
                <a:lnTo>
                  <a:pt x="3436" y="3667"/>
                </a:lnTo>
                <a:lnTo>
                  <a:pt x="3440" y="3661"/>
                </a:lnTo>
                <a:lnTo>
                  <a:pt x="3445" y="3655"/>
                </a:lnTo>
                <a:lnTo>
                  <a:pt x="3453" y="3645"/>
                </a:lnTo>
                <a:lnTo>
                  <a:pt x="3461" y="3638"/>
                </a:lnTo>
                <a:lnTo>
                  <a:pt x="3470" y="3630"/>
                </a:lnTo>
                <a:lnTo>
                  <a:pt x="3479" y="3623"/>
                </a:lnTo>
                <a:lnTo>
                  <a:pt x="3497" y="3609"/>
                </a:lnTo>
                <a:lnTo>
                  <a:pt x="3516" y="3593"/>
                </a:lnTo>
                <a:lnTo>
                  <a:pt x="3524" y="3588"/>
                </a:lnTo>
                <a:lnTo>
                  <a:pt x="3533" y="3584"/>
                </a:lnTo>
                <a:lnTo>
                  <a:pt x="3538" y="3582"/>
                </a:lnTo>
                <a:lnTo>
                  <a:pt x="3541" y="3579"/>
                </a:lnTo>
                <a:lnTo>
                  <a:pt x="3543" y="3574"/>
                </a:lnTo>
                <a:lnTo>
                  <a:pt x="3543" y="3570"/>
                </a:lnTo>
                <a:lnTo>
                  <a:pt x="3542" y="3553"/>
                </a:lnTo>
                <a:lnTo>
                  <a:pt x="3539" y="3539"/>
                </a:lnTo>
                <a:lnTo>
                  <a:pt x="3534" y="3524"/>
                </a:lnTo>
                <a:lnTo>
                  <a:pt x="3529" y="3511"/>
                </a:lnTo>
                <a:lnTo>
                  <a:pt x="3525" y="3497"/>
                </a:lnTo>
                <a:lnTo>
                  <a:pt x="3521" y="3484"/>
                </a:lnTo>
                <a:lnTo>
                  <a:pt x="3517" y="3468"/>
                </a:lnTo>
                <a:lnTo>
                  <a:pt x="3516" y="3451"/>
                </a:lnTo>
                <a:lnTo>
                  <a:pt x="3516" y="3440"/>
                </a:lnTo>
                <a:lnTo>
                  <a:pt x="3517" y="3431"/>
                </a:lnTo>
                <a:lnTo>
                  <a:pt x="3520" y="3421"/>
                </a:lnTo>
                <a:lnTo>
                  <a:pt x="3522" y="3413"/>
                </a:lnTo>
                <a:lnTo>
                  <a:pt x="3528" y="3397"/>
                </a:lnTo>
                <a:lnTo>
                  <a:pt x="3536" y="3381"/>
                </a:lnTo>
                <a:lnTo>
                  <a:pt x="3545" y="3365"/>
                </a:lnTo>
                <a:lnTo>
                  <a:pt x="3553" y="3350"/>
                </a:lnTo>
                <a:lnTo>
                  <a:pt x="3561" y="3332"/>
                </a:lnTo>
                <a:lnTo>
                  <a:pt x="3567" y="3311"/>
                </a:lnTo>
                <a:lnTo>
                  <a:pt x="3573" y="3291"/>
                </a:lnTo>
                <a:lnTo>
                  <a:pt x="3580" y="3272"/>
                </a:lnTo>
                <a:lnTo>
                  <a:pt x="3588" y="3254"/>
                </a:lnTo>
                <a:lnTo>
                  <a:pt x="3598" y="3239"/>
                </a:lnTo>
                <a:lnTo>
                  <a:pt x="3607" y="3223"/>
                </a:lnTo>
                <a:lnTo>
                  <a:pt x="3619" y="3209"/>
                </a:lnTo>
                <a:lnTo>
                  <a:pt x="3630" y="3195"/>
                </a:lnTo>
                <a:lnTo>
                  <a:pt x="3643" y="3182"/>
                </a:lnTo>
                <a:lnTo>
                  <a:pt x="3670" y="3157"/>
                </a:lnTo>
                <a:lnTo>
                  <a:pt x="3699" y="3133"/>
                </a:lnTo>
                <a:lnTo>
                  <a:pt x="3731" y="3108"/>
                </a:lnTo>
                <a:lnTo>
                  <a:pt x="3763" y="3081"/>
                </a:lnTo>
                <a:lnTo>
                  <a:pt x="3779" y="3070"/>
                </a:lnTo>
                <a:lnTo>
                  <a:pt x="3793" y="3060"/>
                </a:lnTo>
                <a:lnTo>
                  <a:pt x="3808" y="3052"/>
                </a:lnTo>
                <a:lnTo>
                  <a:pt x="3822" y="3043"/>
                </a:lnTo>
                <a:lnTo>
                  <a:pt x="3835" y="3035"/>
                </a:lnTo>
                <a:lnTo>
                  <a:pt x="3848" y="3025"/>
                </a:lnTo>
                <a:lnTo>
                  <a:pt x="3854" y="3020"/>
                </a:lnTo>
                <a:lnTo>
                  <a:pt x="3861" y="3014"/>
                </a:lnTo>
                <a:lnTo>
                  <a:pt x="3867" y="3007"/>
                </a:lnTo>
                <a:lnTo>
                  <a:pt x="3872" y="2999"/>
                </a:lnTo>
                <a:lnTo>
                  <a:pt x="3880" y="2989"/>
                </a:lnTo>
                <a:lnTo>
                  <a:pt x="3886" y="2980"/>
                </a:lnTo>
                <a:lnTo>
                  <a:pt x="3889" y="2976"/>
                </a:lnTo>
                <a:lnTo>
                  <a:pt x="3893" y="2971"/>
                </a:lnTo>
                <a:lnTo>
                  <a:pt x="3898" y="2968"/>
                </a:lnTo>
                <a:lnTo>
                  <a:pt x="3903" y="2965"/>
                </a:lnTo>
                <a:lnTo>
                  <a:pt x="3913" y="2961"/>
                </a:lnTo>
                <a:lnTo>
                  <a:pt x="3924" y="2958"/>
                </a:lnTo>
                <a:lnTo>
                  <a:pt x="3934" y="2957"/>
                </a:lnTo>
                <a:lnTo>
                  <a:pt x="3944" y="2955"/>
                </a:lnTo>
                <a:lnTo>
                  <a:pt x="3954" y="2954"/>
                </a:lnTo>
                <a:lnTo>
                  <a:pt x="3963" y="2951"/>
                </a:lnTo>
                <a:lnTo>
                  <a:pt x="3974" y="2949"/>
                </a:lnTo>
                <a:lnTo>
                  <a:pt x="3985" y="2945"/>
                </a:lnTo>
                <a:lnTo>
                  <a:pt x="4012" y="2935"/>
                </a:lnTo>
                <a:lnTo>
                  <a:pt x="4036" y="2924"/>
                </a:lnTo>
                <a:lnTo>
                  <a:pt x="4060" y="2913"/>
                </a:lnTo>
                <a:lnTo>
                  <a:pt x="4081" y="2903"/>
                </a:lnTo>
                <a:lnTo>
                  <a:pt x="4104" y="2891"/>
                </a:lnTo>
                <a:lnTo>
                  <a:pt x="4125" y="2878"/>
                </a:lnTo>
                <a:lnTo>
                  <a:pt x="4146" y="2862"/>
                </a:lnTo>
                <a:lnTo>
                  <a:pt x="4168" y="2844"/>
                </a:lnTo>
                <a:lnTo>
                  <a:pt x="4210" y="2830"/>
                </a:lnTo>
                <a:lnTo>
                  <a:pt x="4248" y="2817"/>
                </a:lnTo>
                <a:lnTo>
                  <a:pt x="4267" y="2810"/>
                </a:lnTo>
                <a:lnTo>
                  <a:pt x="4285" y="2803"/>
                </a:lnTo>
                <a:lnTo>
                  <a:pt x="4304" y="2793"/>
                </a:lnTo>
                <a:lnTo>
                  <a:pt x="4324" y="2782"/>
                </a:lnTo>
                <a:lnTo>
                  <a:pt x="4339" y="2772"/>
                </a:lnTo>
                <a:lnTo>
                  <a:pt x="4353" y="2761"/>
                </a:lnTo>
                <a:lnTo>
                  <a:pt x="4364" y="2751"/>
                </a:lnTo>
                <a:lnTo>
                  <a:pt x="4376" y="2740"/>
                </a:lnTo>
                <a:lnTo>
                  <a:pt x="4389" y="2732"/>
                </a:lnTo>
                <a:lnTo>
                  <a:pt x="4401" y="2724"/>
                </a:lnTo>
                <a:lnTo>
                  <a:pt x="4409" y="2721"/>
                </a:lnTo>
                <a:lnTo>
                  <a:pt x="4416" y="2719"/>
                </a:lnTo>
                <a:lnTo>
                  <a:pt x="4425" y="2718"/>
                </a:lnTo>
                <a:lnTo>
                  <a:pt x="4433" y="2717"/>
                </a:lnTo>
                <a:lnTo>
                  <a:pt x="4440" y="2718"/>
                </a:lnTo>
                <a:lnTo>
                  <a:pt x="4447" y="2720"/>
                </a:lnTo>
                <a:lnTo>
                  <a:pt x="4452" y="2724"/>
                </a:lnTo>
                <a:lnTo>
                  <a:pt x="4457" y="2728"/>
                </a:lnTo>
                <a:lnTo>
                  <a:pt x="4464" y="2732"/>
                </a:lnTo>
                <a:lnTo>
                  <a:pt x="4469" y="2735"/>
                </a:lnTo>
                <a:lnTo>
                  <a:pt x="4475" y="2737"/>
                </a:lnTo>
                <a:lnTo>
                  <a:pt x="4483" y="2738"/>
                </a:lnTo>
                <a:lnTo>
                  <a:pt x="4492" y="2737"/>
                </a:lnTo>
                <a:lnTo>
                  <a:pt x="4500" y="2734"/>
                </a:lnTo>
                <a:lnTo>
                  <a:pt x="4506" y="2731"/>
                </a:lnTo>
                <a:lnTo>
                  <a:pt x="4512" y="2725"/>
                </a:lnTo>
                <a:lnTo>
                  <a:pt x="4516" y="2718"/>
                </a:lnTo>
                <a:lnTo>
                  <a:pt x="4521" y="2711"/>
                </a:lnTo>
                <a:lnTo>
                  <a:pt x="4524" y="2703"/>
                </a:lnTo>
                <a:lnTo>
                  <a:pt x="4527" y="2695"/>
                </a:lnTo>
                <a:lnTo>
                  <a:pt x="4534" y="2676"/>
                </a:lnTo>
                <a:lnTo>
                  <a:pt x="4542" y="2658"/>
                </a:lnTo>
                <a:lnTo>
                  <a:pt x="4546" y="2649"/>
                </a:lnTo>
                <a:lnTo>
                  <a:pt x="4551" y="2642"/>
                </a:lnTo>
                <a:lnTo>
                  <a:pt x="4558" y="2636"/>
                </a:lnTo>
                <a:lnTo>
                  <a:pt x="4566" y="2629"/>
                </a:lnTo>
                <a:lnTo>
                  <a:pt x="4604" y="2604"/>
                </a:lnTo>
                <a:lnTo>
                  <a:pt x="4639" y="2584"/>
                </a:lnTo>
                <a:lnTo>
                  <a:pt x="4675" y="2564"/>
                </a:lnTo>
                <a:lnTo>
                  <a:pt x="4715" y="2541"/>
                </a:lnTo>
                <a:lnTo>
                  <a:pt x="4734" y="2532"/>
                </a:lnTo>
                <a:lnTo>
                  <a:pt x="4752" y="2526"/>
                </a:lnTo>
                <a:lnTo>
                  <a:pt x="4760" y="2522"/>
                </a:lnTo>
                <a:lnTo>
                  <a:pt x="4769" y="2517"/>
                </a:lnTo>
                <a:lnTo>
                  <a:pt x="4776" y="2511"/>
                </a:lnTo>
                <a:lnTo>
                  <a:pt x="4783" y="2504"/>
                </a:lnTo>
                <a:lnTo>
                  <a:pt x="4790" y="2494"/>
                </a:lnTo>
                <a:lnTo>
                  <a:pt x="4796" y="2485"/>
                </a:lnTo>
                <a:lnTo>
                  <a:pt x="4802" y="2475"/>
                </a:lnTo>
                <a:lnTo>
                  <a:pt x="4806" y="2466"/>
                </a:lnTo>
                <a:lnTo>
                  <a:pt x="4813" y="2448"/>
                </a:lnTo>
                <a:lnTo>
                  <a:pt x="4819" y="2429"/>
                </a:lnTo>
                <a:lnTo>
                  <a:pt x="4829" y="2391"/>
                </a:lnTo>
                <a:lnTo>
                  <a:pt x="4841" y="2347"/>
                </a:lnTo>
                <a:lnTo>
                  <a:pt x="4845" y="2335"/>
                </a:lnTo>
                <a:lnTo>
                  <a:pt x="4851" y="2324"/>
                </a:lnTo>
                <a:lnTo>
                  <a:pt x="4858" y="2315"/>
                </a:lnTo>
                <a:lnTo>
                  <a:pt x="4864" y="2306"/>
                </a:lnTo>
                <a:lnTo>
                  <a:pt x="4870" y="2297"/>
                </a:lnTo>
                <a:lnTo>
                  <a:pt x="4875" y="2287"/>
                </a:lnTo>
                <a:lnTo>
                  <a:pt x="4878" y="2282"/>
                </a:lnTo>
                <a:lnTo>
                  <a:pt x="4879" y="2276"/>
                </a:lnTo>
                <a:lnTo>
                  <a:pt x="4880" y="2269"/>
                </a:lnTo>
                <a:lnTo>
                  <a:pt x="4880" y="2263"/>
                </a:lnTo>
                <a:lnTo>
                  <a:pt x="4880" y="2020"/>
                </a:lnTo>
                <a:lnTo>
                  <a:pt x="4881" y="2012"/>
                </a:lnTo>
                <a:lnTo>
                  <a:pt x="4882" y="2003"/>
                </a:lnTo>
                <a:lnTo>
                  <a:pt x="4884" y="1996"/>
                </a:lnTo>
                <a:lnTo>
                  <a:pt x="4887" y="1989"/>
                </a:lnTo>
                <a:lnTo>
                  <a:pt x="4890" y="1983"/>
                </a:lnTo>
                <a:lnTo>
                  <a:pt x="4896" y="1977"/>
                </a:lnTo>
                <a:lnTo>
                  <a:pt x="4900" y="1972"/>
                </a:lnTo>
                <a:lnTo>
                  <a:pt x="4905" y="1966"/>
                </a:lnTo>
                <a:lnTo>
                  <a:pt x="4930" y="1945"/>
                </a:lnTo>
                <a:lnTo>
                  <a:pt x="4957" y="1923"/>
                </a:lnTo>
                <a:lnTo>
                  <a:pt x="4988" y="1889"/>
                </a:lnTo>
                <a:lnTo>
                  <a:pt x="5018" y="1860"/>
                </a:lnTo>
                <a:lnTo>
                  <a:pt x="5033" y="1846"/>
                </a:lnTo>
                <a:lnTo>
                  <a:pt x="5049" y="1832"/>
                </a:lnTo>
                <a:lnTo>
                  <a:pt x="5066" y="1818"/>
                </a:lnTo>
                <a:lnTo>
                  <a:pt x="5086" y="1804"/>
                </a:lnTo>
                <a:lnTo>
                  <a:pt x="5094" y="1798"/>
                </a:lnTo>
                <a:lnTo>
                  <a:pt x="5102" y="1792"/>
                </a:lnTo>
                <a:lnTo>
                  <a:pt x="5004" y="1648"/>
                </a:lnTo>
                <a:lnTo>
                  <a:pt x="3860" y="2384"/>
                </a:lnTo>
                <a:lnTo>
                  <a:pt x="3845" y="2379"/>
                </a:lnTo>
                <a:lnTo>
                  <a:pt x="3832" y="2375"/>
                </a:lnTo>
                <a:lnTo>
                  <a:pt x="3826" y="2373"/>
                </a:lnTo>
                <a:lnTo>
                  <a:pt x="3821" y="2370"/>
                </a:lnTo>
                <a:lnTo>
                  <a:pt x="3814" y="2366"/>
                </a:lnTo>
                <a:lnTo>
                  <a:pt x="3808" y="2361"/>
                </a:lnTo>
                <a:lnTo>
                  <a:pt x="3803" y="2355"/>
                </a:lnTo>
                <a:lnTo>
                  <a:pt x="3797" y="2347"/>
                </a:lnTo>
                <a:lnTo>
                  <a:pt x="3794" y="2341"/>
                </a:lnTo>
                <a:lnTo>
                  <a:pt x="3790" y="2334"/>
                </a:lnTo>
                <a:lnTo>
                  <a:pt x="3787" y="2326"/>
                </a:lnTo>
                <a:lnTo>
                  <a:pt x="3782" y="2319"/>
                </a:lnTo>
                <a:lnTo>
                  <a:pt x="3777" y="2313"/>
                </a:lnTo>
                <a:lnTo>
                  <a:pt x="3771" y="2306"/>
                </a:lnTo>
                <a:lnTo>
                  <a:pt x="3753" y="2296"/>
                </a:lnTo>
                <a:lnTo>
                  <a:pt x="3734" y="2287"/>
                </a:lnTo>
                <a:lnTo>
                  <a:pt x="3725" y="2282"/>
                </a:lnTo>
                <a:lnTo>
                  <a:pt x="3719" y="2277"/>
                </a:lnTo>
                <a:lnTo>
                  <a:pt x="3716" y="2272"/>
                </a:lnTo>
                <a:lnTo>
                  <a:pt x="3715" y="2268"/>
                </a:lnTo>
                <a:lnTo>
                  <a:pt x="3714" y="2264"/>
                </a:lnTo>
                <a:lnTo>
                  <a:pt x="3713" y="2259"/>
                </a:lnTo>
                <a:lnTo>
                  <a:pt x="3714" y="2250"/>
                </a:lnTo>
                <a:lnTo>
                  <a:pt x="3715" y="2242"/>
                </a:lnTo>
                <a:lnTo>
                  <a:pt x="3717" y="2234"/>
                </a:lnTo>
                <a:lnTo>
                  <a:pt x="3720" y="2227"/>
                </a:lnTo>
                <a:lnTo>
                  <a:pt x="3722" y="2220"/>
                </a:lnTo>
                <a:lnTo>
                  <a:pt x="3724" y="2211"/>
                </a:lnTo>
                <a:lnTo>
                  <a:pt x="3725" y="2204"/>
                </a:lnTo>
                <a:lnTo>
                  <a:pt x="3727" y="2194"/>
                </a:lnTo>
                <a:lnTo>
                  <a:pt x="3724" y="2183"/>
                </a:lnTo>
                <a:lnTo>
                  <a:pt x="3720" y="2172"/>
                </a:lnTo>
                <a:lnTo>
                  <a:pt x="3638" y="2172"/>
                </a:lnTo>
                <a:lnTo>
                  <a:pt x="3638" y="2184"/>
                </a:lnTo>
                <a:lnTo>
                  <a:pt x="3637" y="2193"/>
                </a:lnTo>
                <a:lnTo>
                  <a:pt x="3636" y="2203"/>
                </a:lnTo>
                <a:lnTo>
                  <a:pt x="3635" y="2214"/>
                </a:lnTo>
                <a:lnTo>
                  <a:pt x="3636" y="2222"/>
                </a:lnTo>
                <a:lnTo>
                  <a:pt x="3637" y="2228"/>
                </a:lnTo>
                <a:lnTo>
                  <a:pt x="3640" y="2234"/>
                </a:lnTo>
                <a:lnTo>
                  <a:pt x="3643" y="2240"/>
                </a:lnTo>
                <a:lnTo>
                  <a:pt x="3653" y="2250"/>
                </a:lnTo>
                <a:lnTo>
                  <a:pt x="3663" y="2260"/>
                </a:lnTo>
                <a:lnTo>
                  <a:pt x="3674" y="2268"/>
                </a:lnTo>
                <a:lnTo>
                  <a:pt x="3684" y="2279"/>
                </a:lnTo>
                <a:lnTo>
                  <a:pt x="3690" y="2284"/>
                </a:lnTo>
                <a:lnTo>
                  <a:pt x="3693" y="2289"/>
                </a:lnTo>
                <a:lnTo>
                  <a:pt x="3697" y="2296"/>
                </a:lnTo>
                <a:lnTo>
                  <a:pt x="3699" y="2303"/>
                </a:lnTo>
                <a:lnTo>
                  <a:pt x="3702" y="2317"/>
                </a:lnTo>
                <a:lnTo>
                  <a:pt x="3702" y="2331"/>
                </a:lnTo>
                <a:lnTo>
                  <a:pt x="3702" y="2337"/>
                </a:lnTo>
                <a:lnTo>
                  <a:pt x="3703" y="2343"/>
                </a:lnTo>
                <a:lnTo>
                  <a:pt x="3704" y="2351"/>
                </a:lnTo>
                <a:lnTo>
                  <a:pt x="3706" y="2358"/>
                </a:lnTo>
                <a:lnTo>
                  <a:pt x="3710" y="2364"/>
                </a:lnTo>
                <a:lnTo>
                  <a:pt x="3714" y="2370"/>
                </a:lnTo>
                <a:lnTo>
                  <a:pt x="3718" y="2375"/>
                </a:lnTo>
                <a:lnTo>
                  <a:pt x="3723" y="2379"/>
                </a:lnTo>
                <a:lnTo>
                  <a:pt x="3729" y="2383"/>
                </a:lnTo>
                <a:lnTo>
                  <a:pt x="3734" y="2389"/>
                </a:lnTo>
                <a:lnTo>
                  <a:pt x="3737" y="2395"/>
                </a:lnTo>
                <a:lnTo>
                  <a:pt x="3740" y="2401"/>
                </a:lnTo>
                <a:lnTo>
                  <a:pt x="3751" y="2436"/>
                </a:lnTo>
                <a:lnTo>
                  <a:pt x="3760" y="2467"/>
                </a:lnTo>
                <a:lnTo>
                  <a:pt x="3765" y="2483"/>
                </a:lnTo>
                <a:lnTo>
                  <a:pt x="3768" y="2498"/>
                </a:lnTo>
                <a:lnTo>
                  <a:pt x="3770" y="2515"/>
                </a:lnTo>
                <a:lnTo>
                  <a:pt x="3771" y="2534"/>
                </a:lnTo>
                <a:lnTo>
                  <a:pt x="3770" y="2545"/>
                </a:lnTo>
                <a:lnTo>
                  <a:pt x="3768" y="2553"/>
                </a:lnTo>
                <a:lnTo>
                  <a:pt x="3765" y="2562"/>
                </a:lnTo>
                <a:lnTo>
                  <a:pt x="3760" y="2571"/>
                </a:lnTo>
                <a:lnTo>
                  <a:pt x="3742" y="2562"/>
                </a:lnTo>
                <a:lnTo>
                  <a:pt x="3725" y="2555"/>
                </a:lnTo>
                <a:lnTo>
                  <a:pt x="3709" y="2550"/>
                </a:lnTo>
                <a:lnTo>
                  <a:pt x="3692" y="2545"/>
                </a:lnTo>
                <a:lnTo>
                  <a:pt x="3676" y="2540"/>
                </a:lnTo>
                <a:lnTo>
                  <a:pt x="3659" y="2534"/>
                </a:lnTo>
                <a:lnTo>
                  <a:pt x="3642" y="2527"/>
                </a:lnTo>
                <a:lnTo>
                  <a:pt x="3625" y="2517"/>
                </a:lnTo>
                <a:lnTo>
                  <a:pt x="3614" y="2508"/>
                </a:lnTo>
                <a:lnTo>
                  <a:pt x="3604" y="2497"/>
                </a:lnTo>
                <a:lnTo>
                  <a:pt x="3599" y="2493"/>
                </a:lnTo>
                <a:lnTo>
                  <a:pt x="3593" y="2490"/>
                </a:lnTo>
                <a:lnTo>
                  <a:pt x="3588" y="2488"/>
                </a:lnTo>
                <a:lnTo>
                  <a:pt x="3581" y="2487"/>
                </a:lnTo>
                <a:lnTo>
                  <a:pt x="3567" y="2488"/>
                </a:lnTo>
                <a:lnTo>
                  <a:pt x="3555" y="2490"/>
                </a:lnTo>
                <a:lnTo>
                  <a:pt x="3544" y="2493"/>
                </a:lnTo>
                <a:lnTo>
                  <a:pt x="3533" y="2497"/>
                </a:lnTo>
                <a:lnTo>
                  <a:pt x="3524" y="2504"/>
                </a:lnTo>
                <a:lnTo>
                  <a:pt x="3514" y="2510"/>
                </a:lnTo>
                <a:lnTo>
                  <a:pt x="3505" y="2517"/>
                </a:lnTo>
                <a:lnTo>
                  <a:pt x="3496" y="2525"/>
                </a:lnTo>
                <a:lnTo>
                  <a:pt x="3478" y="2540"/>
                </a:lnTo>
                <a:lnTo>
                  <a:pt x="3459" y="2555"/>
                </a:lnTo>
                <a:lnTo>
                  <a:pt x="3449" y="2562"/>
                </a:lnTo>
                <a:lnTo>
                  <a:pt x="3438" y="2568"/>
                </a:lnTo>
                <a:lnTo>
                  <a:pt x="3427" y="2573"/>
                </a:lnTo>
                <a:lnTo>
                  <a:pt x="3414" y="2579"/>
                </a:lnTo>
                <a:lnTo>
                  <a:pt x="3409" y="2581"/>
                </a:lnTo>
                <a:lnTo>
                  <a:pt x="3404" y="2584"/>
                </a:lnTo>
                <a:lnTo>
                  <a:pt x="3401" y="2587"/>
                </a:lnTo>
                <a:lnTo>
                  <a:pt x="3397" y="2591"/>
                </a:lnTo>
                <a:lnTo>
                  <a:pt x="3394" y="2596"/>
                </a:lnTo>
                <a:lnTo>
                  <a:pt x="3390" y="2599"/>
                </a:lnTo>
                <a:lnTo>
                  <a:pt x="3385" y="2601"/>
                </a:lnTo>
                <a:lnTo>
                  <a:pt x="3380" y="2602"/>
                </a:lnTo>
                <a:lnTo>
                  <a:pt x="3375" y="2602"/>
                </a:lnTo>
                <a:lnTo>
                  <a:pt x="3371" y="2601"/>
                </a:lnTo>
                <a:lnTo>
                  <a:pt x="3367" y="2600"/>
                </a:lnTo>
                <a:lnTo>
                  <a:pt x="3363" y="2598"/>
                </a:lnTo>
                <a:lnTo>
                  <a:pt x="3357" y="2593"/>
                </a:lnTo>
                <a:lnTo>
                  <a:pt x="3351" y="2587"/>
                </a:lnTo>
                <a:lnTo>
                  <a:pt x="3340" y="2573"/>
                </a:lnTo>
                <a:lnTo>
                  <a:pt x="3329" y="2558"/>
                </a:lnTo>
                <a:lnTo>
                  <a:pt x="3324" y="2552"/>
                </a:lnTo>
                <a:lnTo>
                  <a:pt x="3319" y="2548"/>
                </a:lnTo>
                <a:lnTo>
                  <a:pt x="3313" y="2544"/>
                </a:lnTo>
                <a:lnTo>
                  <a:pt x="3307" y="2541"/>
                </a:lnTo>
                <a:lnTo>
                  <a:pt x="3301" y="2536"/>
                </a:lnTo>
                <a:lnTo>
                  <a:pt x="3296" y="2532"/>
                </a:lnTo>
                <a:lnTo>
                  <a:pt x="3291" y="2527"/>
                </a:lnTo>
                <a:lnTo>
                  <a:pt x="3288" y="2521"/>
                </a:lnTo>
                <a:lnTo>
                  <a:pt x="3285" y="2509"/>
                </a:lnTo>
                <a:lnTo>
                  <a:pt x="3282" y="2498"/>
                </a:lnTo>
                <a:lnTo>
                  <a:pt x="3281" y="2489"/>
                </a:lnTo>
                <a:lnTo>
                  <a:pt x="3280" y="2478"/>
                </a:lnTo>
                <a:lnTo>
                  <a:pt x="3279" y="2458"/>
                </a:lnTo>
                <a:lnTo>
                  <a:pt x="3275" y="2436"/>
                </a:lnTo>
                <a:lnTo>
                  <a:pt x="3272" y="2429"/>
                </a:lnTo>
                <a:lnTo>
                  <a:pt x="3270" y="2422"/>
                </a:lnTo>
                <a:lnTo>
                  <a:pt x="3267" y="2417"/>
                </a:lnTo>
                <a:lnTo>
                  <a:pt x="3264" y="2412"/>
                </a:lnTo>
                <a:lnTo>
                  <a:pt x="3258" y="2402"/>
                </a:lnTo>
                <a:lnTo>
                  <a:pt x="3249" y="2394"/>
                </a:lnTo>
                <a:lnTo>
                  <a:pt x="3241" y="2385"/>
                </a:lnTo>
                <a:lnTo>
                  <a:pt x="3232" y="2376"/>
                </a:lnTo>
                <a:lnTo>
                  <a:pt x="3224" y="2366"/>
                </a:lnTo>
                <a:lnTo>
                  <a:pt x="3218" y="2354"/>
                </a:lnTo>
                <a:lnTo>
                  <a:pt x="3212" y="2344"/>
                </a:lnTo>
                <a:lnTo>
                  <a:pt x="3207" y="2335"/>
                </a:lnTo>
                <a:lnTo>
                  <a:pt x="3202" y="2327"/>
                </a:lnTo>
                <a:lnTo>
                  <a:pt x="3193" y="2320"/>
                </a:lnTo>
                <a:lnTo>
                  <a:pt x="3188" y="2327"/>
                </a:lnTo>
                <a:lnTo>
                  <a:pt x="3183" y="2336"/>
                </a:lnTo>
                <a:lnTo>
                  <a:pt x="3181" y="2343"/>
                </a:lnTo>
                <a:lnTo>
                  <a:pt x="3178" y="2352"/>
                </a:lnTo>
                <a:lnTo>
                  <a:pt x="3175" y="2370"/>
                </a:lnTo>
                <a:lnTo>
                  <a:pt x="3173" y="2388"/>
                </a:lnTo>
                <a:lnTo>
                  <a:pt x="3171" y="2398"/>
                </a:lnTo>
                <a:lnTo>
                  <a:pt x="3168" y="2408"/>
                </a:lnTo>
                <a:lnTo>
                  <a:pt x="3164" y="2417"/>
                </a:lnTo>
                <a:lnTo>
                  <a:pt x="3159" y="2426"/>
                </a:lnTo>
                <a:lnTo>
                  <a:pt x="3156" y="2434"/>
                </a:lnTo>
                <a:lnTo>
                  <a:pt x="3152" y="2442"/>
                </a:lnTo>
                <a:lnTo>
                  <a:pt x="3149" y="2452"/>
                </a:lnTo>
                <a:lnTo>
                  <a:pt x="3146" y="2463"/>
                </a:lnTo>
                <a:lnTo>
                  <a:pt x="3117" y="2448"/>
                </a:lnTo>
                <a:lnTo>
                  <a:pt x="3089" y="2434"/>
                </a:lnTo>
                <a:lnTo>
                  <a:pt x="3082" y="2431"/>
                </a:lnTo>
                <a:lnTo>
                  <a:pt x="3076" y="2427"/>
                </a:lnTo>
                <a:lnTo>
                  <a:pt x="3071" y="2422"/>
                </a:lnTo>
                <a:lnTo>
                  <a:pt x="3067" y="2418"/>
                </a:lnTo>
                <a:lnTo>
                  <a:pt x="3062" y="2412"/>
                </a:lnTo>
                <a:lnTo>
                  <a:pt x="3059" y="2407"/>
                </a:lnTo>
                <a:lnTo>
                  <a:pt x="3056" y="2399"/>
                </a:lnTo>
                <a:lnTo>
                  <a:pt x="3054" y="2392"/>
                </a:lnTo>
                <a:lnTo>
                  <a:pt x="3050" y="2358"/>
                </a:lnTo>
                <a:lnTo>
                  <a:pt x="3045" y="2326"/>
                </a:lnTo>
                <a:lnTo>
                  <a:pt x="3043" y="2320"/>
                </a:lnTo>
                <a:lnTo>
                  <a:pt x="3040" y="2313"/>
                </a:lnTo>
                <a:lnTo>
                  <a:pt x="3037" y="2306"/>
                </a:lnTo>
                <a:lnTo>
                  <a:pt x="3034" y="2301"/>
                </a:lnTo>
                <a:lnTo>
                  <a:pt x="3029" y="2296"/>
                </a:lnTo>
                <a:lnTo>
                  <a:pt x="3023" y="2290"/>
                </a:lnTo>
                <a:lnTo>
                  <a:pt x="3017" y="2286"/>
                </a:lnTo>
                <a:lnTo>
                  <a:pt x="3010" y="2283"/>
                </a:lnTo>
                <a:lnTo>
                  <a:pt x="2992" y="2278"/>
                </a:lnTo>
                <a:lnTo>
                  <a:pt x="2976" y="2275"/>
                </a:lnTo>
                <a:lnTo>
                  <a:pt x="2967" y="2272"/>
                </a:lnTo>
                <a:lnTo>
                  <a:pt x="2960" y="2269"/>
                </a:lnTo>
                <a:lnTo>
                  <a:pt x="2952" y="2265"/>
                </a:lnTo>
                <a:lnTo>
                  <a:pt x="2945" y="2259"/>
                </a:lnTo>
                <a:lnTo>
                  <a:pt x="2939" y="2250"/>
                </a:lnTo>
                <a:lnTo>
                  <a:pt x="2933" y="2242"/>
                </a:lnTo>
                <a:lnTo>
                  <a:pt x="2929" y="2232"/>
                </a:lnTo>
                <a:lnTo>
                  <a:pt x="2925" y="2224"/>
                </a:lnTo>
                <a:lnTo>
                  <a:pt x="2922" y="2215"/>
                </a:lnTo>
                <a:lnTo>
                  <a:pt x="2917" y="2207"/>
                </a:lnTo>
                <a:lnTo>
                  <a:pt x="2913" y="2204"/>
                </a:lnTo>
                <a:lnTo>
                  <a:pt x="2910" y="2201"/>
                </a:lnTo>
                <a:lnTo>
                  <a:pt x="2906" y="2197"/>
                </a:lnTo>
                <a:lnTo>
                  <a:pt x="2901" y="2194"/>
                </a:lnTo>
                <a:lnTo>
                  <a:pt x="2891" y="2191"/>
                </a:lnTo>
                <a:lnTo>
                  <a:pt x="2882" y="2189"/>
                </a:lnTo>
                <a:lnTo>
                  <a:pt x="2871" y="2189"/>
                </a:lnTo>
                <a:lnTo>
                  <a:pt x="2862" y="2188"/>
                </a:lnTo>
                <a:lnTo>
                  <a:pt x="2853" y="2188"/>
                </a:lnTo>
                <a:lnTo>
                  <a:pt x="2844" y="2186"/>
                </a:lnTo>
                <a:lnTo>
                  <a:pt x="2841" y="2184"/>
                </a:lnTo>
                <a:lnTo>
                  <a:pt x="2836" y="2182"/>
                </a:lnTo>
                <a:lnTo>
                  <a:pt x="2833" y="2178"/>
                </a:lnTo>
                <a:lnTo>
                  <a:pt x="2830" y="2174"/>
                </a:lnTo>
                <a:lnTo>
                  <a:pt x="2825" y="2166"/>
                </a:lnTo>
                <a:lnTo>
                  <a:pt x="2820" y="2157"/>
                </a:lnTo>
                <a:lnTo>
                  <a:pt x="2817" y="2150"/>
                </a:lnTo>
                <a:lnTo>
                  <a:pt x="2815" y="2142"/>
                </a:lnTo>
                <a:lnTo>
                  <a:pt x="2813" y="2133"/>
                </a:lnTo>
                <a:lnTo>
                  <a:pt x="2812" y="2126"/>
                </a:lnTo>
                <a:lnTo>
                  <a:pt x="2812" y="2117"/>
                </a:lnTo>
                <a:lnTo>
                  <a:pt x="2812" y="2109"/>
                </a:lnTo>
                <a:lnTo>
                  <a:pt x="2814" y="2074"/>
                </a:lnTo>
                <a:lnTo>
                  <a:pt x="2816" y="2036"/>
                </a:lnTo>
                <a:lnTo>
                  <a:pt x="2816" y="1952"/>
                </a:lnTo>
                <a:lnTo>
                  <a:pt x="2815" y="1943"/>
                </a:lnTo>
                <a:lnTo>
                  <a:pt x="2812" y="1933"/>
                </a:lnTo>
                <a:lnTo>
                  <a:pt x="2808" y="1926"/>
                </a:lnTo>
                <a:lnTo>
                  <a:pt x="2801" y="1920"/>
                </a:lnTo>
                <a:lnTo>
                  <a:pt x="2795" y="1913"/>
                </a:lnTo>
                <a:lnTo>
                  <a:pt x="2788" y="1907"/>
                </a:lnTo>
                <a:lnTo>
                  <a:pt x="2779" y="1902"/>
                </a:lnTo>
                <a:lnTo>
                  <a:pt x="2771" y="1897"/>
                </a:lnTo>
                <a:lnTo>
                  <a:pt x="2761" y="1891"/>
                </a:lnTo>
                <a:lnTo>
                  <a:pt x="2754" y="1886"/>
                </a:lnTo>
                <a:lnTo>
                  <a:pt x="2746" y="1881"/>
                </a:lnTo>
                <a:lnTo>
                  <a:pt x="2739" y="1874"/>
                </a:lnTo>
                <a:lnTo>
                  <a:pt x="2733" y="1867"/>
                </a:lnTo>
                <a:lnTo>
                  <a:pt x="2729" y="1860"/>
                </a:lnTo>
                <a:lnTo>
                  <a:pt x="2725" y="1851"/>
                </a:lnTo>
                <a:lnTo>
                  <a:pt x="2724" y="1842"/>
                </a:lnTo>
                <a:lnTo>
                  <a:pt x="2724" y="1836"/>
                </a:lnTo>
                <a:lnTo>
                  <a:pt x="2726" y="1833"/>
                </a:lnTo>
                <a:lnTo>
                  <a:pt x="2728" y="1829"/>
                </a:lnTo>
                <a:lnTo>
                  <a:pt x="2730" y="1826"/>
                </a:lnTo>
                <a:lnTo>
                  <a:pt x="2735" y="1819"/>
                </a:lnTo>
                <a:lnTo>
                  <a:pt x="2741" y="1814"/>
                </a:lnTo>
                <a:lnTo>
                  <a:pt x="2803" y="1837"/>
                </a:lnTo>
                <a:lnTo>
                  <a:pt x="2816" y="1831"/>
                </a:lnTo>
                <a:lnTo>
                  <a:pt x="2799" y="1800"/>
                </a:lnTo>
                <a:lnTo>
                  <a:pt x="2785" y="1773"/>
                </a:lnTo>
                <a:lnTo>
                  <a:pt x="2778" y="1760"/>
                </a:lnTo>
                <a:lnTo>
                  <a:pt x="2773" y="1746"/>
                </a:lnTo>
                <a:lnTo>
                  <a:pt x="2771" y="1738"/>
                </a:lnTo>
                <a:lnTo>
                  <a:pt x="2770" y="1730"/>
                </a:lnTo>
                <a:lnTo>
                  <a:pt x="2769" y="1721"/>
                </a:lnTo>
                <a:lnTo>
                  <a:pt x="2769" y="1712"/>
                </a:lnTo>
                <a:lnTo>
                  <a:pt x="2769" y="1708"/>
                </a:lnTo>
                <a:lnTo>
                  <a:pt x="2770" y="1703"/>
                </a:lnTo>
                <a:lnTo>
                  <a:pt x="2772" y="1700"/>
                </a:lnTo>
                <a:lnTo>
                  <a:pt x="2774" y="1697"/>
                </a:lnTo>
                <a:lnTo>
                  <a:pt x="2779" y="1691"/>
                </a:lnTo>
                <a:lnTo>
                  <a:pt x="2786" y="1686"/>
                </a:lnTo>
                <a:lnTo>
                  <a:pt x="2794" y="1682"/>
                </a:lnTo>
                <a:lnTo>
                  <a:pt x="2804" y="1680"/>
                </a:lnTo>
                <a:lnTo>
                  <a:pt x="2812" y="1679"/>
                </a:lnTo>
                <a:lnTo>
                  <a:pt x="2822" y="1678"/>
                </a:lnTo>
                <a:lnTo>
                  <a:pt x="3087" y="1733"/>
                </a:lnTo>
                <a:lnTo>
                  <a:pt x="3100" y="1731"/>
                </a:lnTo>
                <a:lnTo>
                  <a:pt x="3113" y="1728"/>
                </a:lnTo>
                <a:lnTo>
                  <a:pt x="3126" y="1724"/>
                </a:lnTo>
                <a:lnTo>
                  <a:pt x="3137" y="1720"/>
                </a:lnTo>
                <a:lnTo>
                  <a:pt x="3149" y="1716"/>
                </a:lnTo>
                <a:lnTo>
                  <a:pt x="3159" y="1711"/>
                </a:lnTo>
                <a:lnTo>
                  <a:pt x="3170" y="1705"/>
                </a:lnTo>
                <a:lnTo>
                  <a:pt x="3180" y="1699"/>
                </a:lnTo>
                <a:lnTo>
                  <a:pt x="3200" y="1685"/>
                </a:lnTo>
                <a:lnTo>
                  <a:pt x="3219" y="1671"/>
                </a:lnTo>
                <a:lnTo>
                  <a:pt x="3240" y="1655"/>
                </a:lnTo>
                <a:lnTo>
                  <a:pt x="3261" y="1638"/>
                </a:lnTo>
                <a:lnTo>
                  <a:pt x="3268" y="1633"/>
                </a:lnTo>
                <a:lnTo>
                  <a:pt x="3276" y="1629"/>
                </a:lnTo>
                <a:lnTo>
                  <a:pt x="3283" y="1627"/>
                </a:lnTo>
                <a:lnTo>
                  <a:pt x="3291" y="1625"/>
                </a:lnTo>
                <a:lnTo>
                  <a:pt x="3306" y="1624"/>
                </a:lnTo>
                <a:lnTo>
                  <a:pt x="3322" y="1625"/>
                </a:lnTo>
                <a:lnTo>
                  <a:pt x="3338" y="1625"/>
                </a:lnTo>
                <a:lnTo>
                  <a:pt x="3354" y="1623"/>
                </a:lnTo>
                <a:lnTo>
                  <a:pt x="3361" y="1622"/>
                </a:lnTo>
                <a:lnTo>
                  <a:pt x="3369" y="1619"/>
                </a:lnTo>
                <a:lnTo>
                  <a:pt x="3376" y="1616"/>
                </a:lnTo>
                <a:lnTo>
                  <a:pt x="3383" y="1610"/>
                </a:lnTo>
                <a:lnTo>
                  <a:pt x="3391" y="1604"/>
                </a:lnTo>
                <a:lnTo>
                  <a:pt x="3396" y="1597"/>
                </a:lnTo>
                <a:lnTo>
                  <a:pt x="3400" y="1589"/>
                </a:lnTo>
                <a:lnTo>
                  <a:pt x="3403" y="1581"/>
                </a:lnTo>
                <a:lnTo>
                  <a:pt x="3406" y="1572"/>
                </a:lnTo>
                <a:lnTo>
                  <a:pt x="3407" y="1563"/>
                </a:lnTo>
                <a:lnTo>
                  <a:pt x="3408" y="1554"/>
                </a:lnTo>
                <a:lnTo>
                  <a:pt x="3408" y="1544"/>
                </a:lnTo>
                <a:lnTo>
                  <a:pt x="3407" y="1521"/>
                </a:lnTo>
                <a:lnTo>
                  <a:pt x="3404" y="1501"/>
                </a:lnTo>
                <a:lnTo>
                  <a:pt x="3402" y="1491"/>
                </a:lnTo>
                <a:lnTo>
                  <a:pt x="3399" y="1482"/>
                </a:lnTo>
                <a:lnTo>
                  <a:pt x="3395" y="1471"/>
                </a:lnTo>
                <a:lnTo>
                  <a:pt x="3391" y="1460"/>
                </a:lnTo>
                <a:lnTo>
                  <a:pt x="3381" y="1447"/>
                </a:lnTo>
                <a:lnTo>
                  <a:pt x="3371" y="1435"/>
                </a:lnTo>
                <a:lnTo>
                  <a:pt x="3366" y="1429"/>
                </a:lnTo>
                <a:lnTo>
                  <a:pt x="3363" y="1422"/>
                </a:lnTo>
                <a:lnTo>
                  <a:pt x="3360" y="1415"/>
                </a:lnTo>
                <a:lnTo>
                  <a:pt x="3360" y="1408"/>
                </a:lnTo>
                <a:lnTo>
                  <a:pt x="3360" y="1335"/>
                </a:lnTo>
                <a:lnTo>
                  <a:pt x="3352" y="1328"/>
                </a:lnTo>
                <a:lnTo>
                  <a:pt x="3343" y="1323"/>
                </a:lnTo>
                <a:lnTo>
                  <a:pt x="3335" y="1320"/>
                </a:lnTo>
                <a:lnTo>
                  <a:pt x="3326" y="1317"/>
                </a:lnTo>
                <a:lnTo>
                  <a:pt x="3318" y="1315"/>
                </a:lnTo>
                <a:lnTo>
                  <a:pt x="3308" y="1312"/>
                </a:lnTo>
                <a:lnTo>
                  <a:pt x="3300" y="1307"/>
                </a:lnTo>
                <a:lnTo>
                  <a:pt x="3291" y="1301"/>
                </a:lnTo>
                <a:lnTo>
                  <a:pt x="3265" y="1277"/>
                </a:lnTo>
                <a:lnTo>
                  <a:pt x="3243" y="1253"/>
                </a:lnTo>
                <a:lnTo>
                  <a:pt x="3231" y="1243"/>
                </a:lnTo>
                <a:lnTo>
                  <a:pt x="3220" y="1232"/>
                </a:lnTo>
                <a:lnTo>
                  <a:pt x="3206" y="1223"/>
                </a:lnTo>
                <a:lnTo>
                  <a:pt x="3190" y="1212"/>
                </a:lnTo>
                <a:lnTo>
                  <a:pt x="3176" y="1206"/>
                </a:lnTo>
                <a:lnTo>
                  <a:pt x="3163" y="1202"/>
                </a:lnTo>
                <a:lnTo>
                  <a:pt x="3149" y="1198"/>
                </a:lnTo>
                <a:lnTo>
                  <a:pt x="3136" y="1194"/>
                </a:lnTo>
                <a:lnTo>
                  <a:pt x="3125" y="1190"/>
                </a:lnTo>
                <a:lnTo>
                  <a:pt x="3112" y="1184"/>
                </a:lnTo>
                <a:lnTo>
                  <a:pt x="3107" y="1181"/>
                </a:lnTo>
                <a:lnTo>
                  <a:pt x="3101" y="1176"/>
                </a:lnTo>
                <a:lnTo>
                  <a:pt x="3096" y="1171"/>
                </a:lnTo>
                <a:lnTo>
                  <a:pt x="3092" y="1165"/>
                </a:lnTo>
                <a:lnTo>
                  <a:pt x="3089" y="1159"/>
                </a:lnTo>
                <a:lnTo>
                  <a:pt x="3087" y="1154"/>
                </a:lnTo>
                <a:lnTo>
                  <a:pt x="3084" y="1149"/>
                </a:lnTo>
                <a:lnTo>
                  <a:pt x="3083" y="1143"/>
                </a:lnTo>
                <a:lnTo>
                  <a:pt x="3082" y="1137"/>
                </a:lnTo>
                <a:lnTo>
                  <a:pt x="3081" y="1131"/>
                </a:lnTo>
                <a:lnTo>
                  <a:pt x="3078" y="1126"/>
                </a:lnTo>
                <a:lnTo>
                  <a:pt x="3074" y="1121"/>
                </a:lnTo>
                <a:lnTo>
                  <a:pt x="3067" y="1114"/>
                </a:lnTo>
                <a:lnTo>
                  <a:pt x="3058" y="1109"/>
                </a:lnTo>
                <a:lnTo>
                  <a:pt x="3051" y="1105"/>
                </a:lnTo>
                <a:lnTo>
                  <a:pt x="3042" y="1100"/>
                </a:lnTo>
                <a:lnTo>
                  <a:pt x="3034" y="1095"/>
                </a:lnTo>
                <a:lnTo>
                  <a:pt x="3026" y="1091"/>
                </a:lnTo>
                <a:lnTo>
                  <a:pt x="3020" y="1085"/>
                </a:lnTo>
                <a:lnTo>
                  <a:pt x="3014" y="1077"/>
                </a:lnTo>
                <a:lnTo>
                  <a:pt x="3010" y="1071"/>
                </a:lnTo>
                <a:lnTo>
                  <a:pt x="3006" y="1066"/>
                </a:lnTo>
                <a:lnTo>
                  <a:pt x="3004" y="1060"/>
                </a:lnTo>
                <a:lnTo>
                  <a:pt x="3002" y="1054"/>
                </a:lnTo>
                <a:lnTo>
                  <a:pt x="2999" y="1042"/>
                </a:lnTo>
                <a:lnTo>
                  <a:pt x="2998" y="1031"/>
                </a:lnTo>
                <a:lnTo>
                  <a:pt x="2999" y="1006"/>
                </a:lnTo>
                <a:lnTo>
                  <a:pt x="3000" y="979"/>
                </a:lnTo>
                <a:lnTo>
                  <a:pt x="3000" y="909"/>
                </a:lnTo>
                <a:lnTo>
                  <a:pt x="2999" y="904"/>
                </a:lnTo>
                <a:lnTo>
                  <a:pt x="2998" y="899"/>
                </a:lnTo>
                <a:lnTo>
                  <a:pt x="2996" y="894"/>
                </a:lnTo>
                <a:lnTo>
                  <a:pt x="2994" y="890"/>
                </a:lnTo>
                <a:lnTo>
                  <a:pt x="2987" y="884"/>
                </a:lnTo>
                <a:lnTo>
                  <a:pt x="2979" y="878"/>
                </a:lnTo>
                <a:lnTo>
                  <a:pt x="2970" y="871"/>
                </a:lnTo>
                <a:lnTo>
                  <a:pt x="2961" y="865"/>
                </a:lnTo>
                <a:lnTo>
                  <a:pt x="2952" y="857"/>
                </a:lnTo>
                <a:lnTo>
                  <a:pt x="2945" y="849"/>
                </a:lnTo>
                <a:lnTo>
                  <a:pt x="2936" y="830"/>
                </a:lnTo>
                <a:lnTo>
                  <a:pt x="2929" y="812"/>
                </a:lnTo>
                <a:lnTo>
                  <a:pt x="2925" y="804"/>
                </a:lnTo>
                <a:lnTo>
                  <a:pt x="2920" y="796"/>
                </a:lnTo>
                <a:lnTo>
                  <a:pt x="2917" y="793"/>
                </a:lnTo>
                <a:lnTo>
                  <a:pt x="2913" y="790"/>
                </a:lnTo>
                <a:lnTo>
                  <a:pt x="2909" y="787"/>
                </a:lnTo>
                <a:lnTo>
                  <a:pt x="2905" y="785"/>
                </a:lnTo>
                <a:lnTo>
                  <a:pt x="2893" y="781"/>
                </a:lnTo>
                <a:lnTo>
                  <a:pt x="2884" y="779"/>
                </a:lnTo>
                <a:lnTo>
                  <a:pt x="2873" y="779"/>
                </a:lnTo>
                <a:lnTo>
                  <a:pt x="2864" y="781"/>
                </a:lnTo>
                <a:lnTo>
                  <a:pt x="2853" y="783"/>
                </a:lnTo>
                <a:lnTo>
                  <a:pt x="2843" y="785"/>
                </a:lnTo>
                <a:lnTo>
                  <a:pt x="2832" y="786"/>
                </a:lnTo>
                <a:lnTo>
                  <a:pt x="2819" y="785"/>
                </a:lnTo>
                <a:lnTo>
                  <a:pt x="2812" y="784"/>
                </a:lnTo>
                <a:lnTo>
                  <a:pt x="2806" y="781"/>
                </a:lnTo>
                <a:lnTo>
                  <a:pt x="2799" y="779"/>
                </a:lnTo>
                <a:lnTo>
                  <a:pt x="2794" y="776"/>
                </a:lnTo>
                <a:lnTo>
                  <a:pt x="2788" y="772"/>
                </a:lnTo>
                <a:lnTo>
                  <a:pt x="2784" y="769"/>
                </a:lnTo>
                <a:lnTo>
                  <a:pt x="2778" y="764"/>
                </a:lnTo>
                <a:lnTo>
                  <a:pt x="2774" y="758"/>
                </a:lnTo>
                <a:lnTo>
                  <a:pt x="2768" y="747"/>
                </a:lnTo>
                <a:lnTo>
                  <a:pt x="2761" y="734"/>
                </a:lnTo>
                <a:lnTo>
                  <a:pt x="2756" y="721"/>
                </a:lnTo>
                <a:lnTo>
                  <a:pt x="2752" y="706"/>
                </a:lnTo>
                <a:lnTo>
                  <a:pt x="2743" y="678"/>
                </a:lnTo>
                <a:lnTo>
                  <a:pt x="2736" y="653"/>
                </a:lnTo>
                <a:lnTo>
                  <a:pt x="2728" y="629"/>
                </a:lnTo>
                <a:lnTo>
                  <a:pt x="2719" y="606"/>
                </a:lnTo>
                <a:lnTo>
                  <a:pt x="2710" y="584"/>
                </a:lnTo>
                <a:lnTo>
                  <a:pt x="2700" y="561"/>
                </a:lnTo>
                <a:lnTo>
                  <a:pt x="2690" y="536"/>
                </a:lnTo>
                <a:lnTo>
                  <a:pt x="2677" y="510"/>
                </a:lnTo>
                <a:lnTo>
                  <a:pt x="2668" y="491"/>
                </a:lnTo>
                <a:lnTo>
                  <a:pt x="2661" y="471"/>
                </a:lnTo>
                <a:lnTo>
                  <a:pt x="2653" y="453"/>
                </a:lnTo>
                <a:lnTo>
                  <a:pt x="2643" y="436"/>
                </a:lnTo>
                <a:lnTo>
                  <a:pt x="2638" y="429"/>
                </a:lnTo>
                <a:lnTo>
                  <a:pt x="2633" y="422"/>
                </a:lnTo>
                <a:lnTo>
                  <a:pt x="2626" y="416"/>
                </a:lnTo>
                <a:lnTo>
                  <a:pt x="2620" y="411"/>
                </a:lnTo>
                <a:lnTo>
                  <a:pt x="2612" y="407"/>
                </a:lnTo>
                <a:lnTo>
                  <a:pt x="2604" y="403"/>
                </a:lnTo>
                <a:lnTo>
                  <a:pt x="2596" y="401"/>
                </a:lnTo>
                <a:lnTo>
                  <a:pt x="2585" y="401"/>
                </a:lnTo>
                <a:lnTo>
                  <a:pt x="2577" y="401"/>
                </a:lnTo>
                <a:lnTo>
                  <a:pt x="2569" y="403"/>
                </a:lnTo>
                <a:lnTo>
                  <a:pt x="2562" y="406"/>
                </a:lnTo>
                <a:lnTo>
                  <a:pt x="2554" y="408"/>
                </a:lnTo>
                <a:lnTo>
                  <a:pt x="2548" y="410"/>
                </a:lnTo>
                <a:lnTo>
                  <a:pt x="2541" y="413"/>
                </a:lnTo>
                <a:lnTo>
                  <a:pt x="2532" y="414"/>
                </a:lnTo>
                <a:lnTo>
                  <a:pt x="2524" y="415"/>
                </a:lnTo>
                <a:lnTo>
                  <a:pt x="2517" y="414"/>
                </a:lnTo>
                <a:lnTo>
                  <a:pt x="2512" y="412"/>
                </a:lnTo>
                <a:lnTo>
                  <a:pt x="2508" y="410"/>
                </a:lnTo>
                <a:lnTo>
                  <a:pt x="2505" y="407"/>
                </a:lnTo>
                <a:lnTo>
                  <a:pt x="2502" y="402"/>
                </a:lnTo>
                <a:lnTo>
                  <a:pt x="2499" y="397"/>
                </a:lnTo>
                <a:lnTo>
                  <a:pt x="2497" y="391"/>
                </a:lnTo>
                <a:lnTo>
                  <a:pt x="2496" y="385"/>
                </a:lnTo>
                <a:lnTo>
                  <a:pt x="2492" y="358"/>
                </a:lnTo>
                <a:lnTo>
                  <a:pt x="2487" y="330"/>
                </a:lnTo>
                <a:lnTo>
                  <a:pt x="2485" y="322"/>
                </a:lnTo>
                <a:lnTo>
                  <a:pt x="2482" y="316"/>
                </a:lnTo>
                <a:lnTo>
                  <a:pt x="2477" y="311"/>
                </a:lnTo>
                <a:lnTo>
                  <a:pt x="2473" y="305"/>
                </a:lnTo>
                <a:lnTo>
                  <a:pt x="2469" y="301"/>
                </a:lnTo>
                <a:lnTo>
                  <a:pt x="2464" y="297"/>
                </a:lnTo>
                <a:lnTo>
                  <a:pt x="2457" y="293"/>
                </a:lnTo>
                <a:lnTo>
                  <a:pt x="2452" y="289"/>
                </a:lnTo>
                <a:lnTo>
                  <a:pt x="2439" y="284"/>
                </a:lnTo>
                <a:lnTo>
                  <a:pt x="2424" y="281"/>
                </a:lnTo>
                <a:lnTo>
                  <a:pt x="2410" y="279"/>
                </a:lnTo>
                <a:lnTo>
                  <a:pt x="2395" y="279"/>
                </a:lnTo>
                <a:lnTo>
                  <a:pt x="2395" y="266"/>
                </a:lnTo>
                <a:lnTo>
                  <a:pt x="2395" y="255"/>
                </a:lnTo>
                <a:lnTo>
                  <a:pt x="2394" y="243"/>
                </a:lnTo>
                <a:lnTo>
                  <a:pt x="2392" y="232"/>
                </a:lnTo>
                <a:lnTo>
                  <a:pt x="2389" y="222"/>
                </a:lnTo>
                <a:lnTo>
                  <a:pt x="2383" y="212"/>
                </a:lnTo>
                <a:lnTo>
                  <a:pt x="2380" y="208"/>
                </a:lnTo>
                <a:lnTo>
                  <a:pt x="2377" y="205"/>
                </a:lnTo>
                <a:lnTo>
                  <a:pt x="2373" y="201"/>
                </a:lnTo>
                <a:lnTo>
                  <a:pt x="2367" y="198"/>
                </a:lnTo>
                <a:lnTo>
                  <a:pt x="2355" y="190"/>
                </a:lnTo>
                <a:lnTo>
                  <a:pt x="2341" y="183"/>
                </a:lnTo>
                <a:lnTo>
                  <a:pt x="2336" y="179"/>
                </a:lnTo>
                <a:lnTo>
                  <a:pt x="2332" y="173"/>
                </a:lnTo>
                <a:lnTo>
                  <a:pt x="2329" y="171"/>
                </a:lnTo>
                <a:lnTo>
                  <a:pt x="2328" y="168"/>
                </a:lnTo>
                <a:lnTo>
                  <a:pt x="2327" y="165"/>
                </a:lnTo>
                <a:lnTo>
                  <a:pt x="2327" y="161"/>
                </a:lnTo>
                <a:lnTo>
                  <a:pt x="2327" y="92"/>
                </a:lnTo>
                <a:lnTo>
                  <a:pt x="2315" y="81"/>
                </a:lnTo>
                <a:lnTo>
                  <a:pt x="2302" y="73"/>
                </a:lnTo>
                <a:lnTo>
                  <a:pt x="2289" y="66"/>
                </a:lnTo>
                <a:lnTo>
                  <a:pt x="2275" y="60"/>
                </a:lnTo>
                <a:lnTo>
                  <a:pt x="2270" y="74"/>
                </a:lnTo>
                <a:lnTo>
                  <a:pt x="2268" y="88"/>
                </a:lnTo>
                <a:lnTo>
                  <a:pt x="2266" y="102"/>
                </a:lnTo>
                <a:lnTo>
                  <a:pt x="2266" y="116"/>
                </a:lnTo>
                <a:lnTo>
                  <a:pt x="2266" y="196"/>
                </a:lnTo>
                <a:lnTo>
                  <a:pt x="2266" y="217"/>
                </a:lnTo>
                <a:lnTo>
                  <a:pt x="2268" y="234"/>
                </a:lnTo>
                <a:lnTo>
                  <a:pt x="2270" y="252"/>
                </a:lnTo>
                <a:lnTo>
                  <a:pt x="2272" y="271"/>
                </a:lnTo>
                <a:lnTo>
                  <a:pt x="2275" y="281"/>
                </a:lnTo>
                <a:lnTo>
                  <a:pt x="2276" y="290"/>
                </a:lnTo>
                <a:lnTo>
                  <a:pt x="2279" y="300"/>
                </a:lnTo>
                <a:lnTo>
                  <a:pt x="2282" y="308"/>
                </a:lnTo>
                <a:lnTo>
                  <a:pt x="2286" y="316"/>
                </a:lnTo>
                <a:lnTo>
                  <a:pt x="2291" y="321"/>
                </a:lnTo>
                <a:lnTo>
                  <a:pt x="2295" y="323"/>
                </a:lnTo>
                <a:lnTo>
                  <a:pt x="2299" y="325"/>
                </a:lnTo>
                <a:lnTo>
                  <a:pt x="2302" y="326"/>
                </a:lnTo>
                <a:lnTo>
                  <a:pt x="2306" y="326"/>
                </a:lnTo>
                <a:lnTo>
                  <a:pt x="2313" y="326"/>
                </a:lnTo>
                <a:lnTo>
                  <a:pt x="2317" y="324"/>
                </a:lnTo>
                <a:lnTo>
                  <a:pt x="2321" y="323"/>
                </a:lnTo>
                <a:lnTo>
                  <a:pt x="2325" y="321"/>
                </a:lnTo>
                <a:lnTo>
                  <a:pt x="2334" y="316"/>
                </a:lnTo>
                <a:lnTo>
                  <a:pt x="2342" y="309"/>
                </a:lnTo>
                <a:lnTo>
                  <a:pt x="2343" y="321"/>
                </a:lnTo>
                <a:lnTo>
                  <a:pt x="2343" y="331"/>
                </a:lnTo>
                <a:lnTo>
                  <a:pt x="2342" y="341"/>
                </a:lnTo>
                <a:lnTo>
                  <a:pt x="2342" y="353"/>
                </a:lnTo>
                <a:lnTo>
                  <a:pt x="2342" y="365"/>
                </a:lnTo>
                <a:lnTo>
                  <a:pt x="2340" y="376"/>
                </a:lnTo>
                <a:lnTo>
                  <a:pt x="2339" y="387"/>
                </a:lnTo>
                <a:lnTo>
                  <a:pt x="2337" y="397"/>
                </a:lnTo>
                <a:lnTo>
                  <a:pt x="2335" y="408"/>
                </a:lnTo>
                <a:lnTo>
                  <a:pt x="2333" y="418"/>
                </a:lnTo>
                <a:lnTo>
                  <a:pt x="2330" y="429"/>
                </a:lnTo>
                <a:lnTo>
                  <a:pt x="2330" y="441"/>
                </a:lnTo>
                <a:lnTo>
                  <a:pt x="2332" y="447"/>
                </a:lnTo>
                <a:lnTo>
                  <a:pt x="2335" y="451"/>
                </a:lnTo>
                <a:lnTo>
                  <a:pt x="2338" y="454"/>
                </a:lnTo>
                <a:lnTo>
                  <a:pt x="2341" y="458"/>
                </a:lnTo>
                <a:lnTo>
                  <a:pt x="2354" y="451"/>
                </a:lnTo>
                <a:lnTo>
                  <a:pt x="2366" y="445"/>
                </a:lnTo>
                <a:lnTo>
                  <a:pt x="2373" y="443"/>
                </a:lnTo>
                <a:lnTo>
                  <a:pt x="2380" y="440"/>
                </a:lnTo>
                <a:lnTo>
                  <a:pt x="2386" y="439"/>
                </a:lnTo>
                <a:lnTo>
                  <a:pt x="2395" y="438"/>
                </a:lnTo>
                <a:lnTo>
                  <a:pt x="2394" y="448"/>
                </a:lnTo>
                <a:lnTo>
                  <a:pt x="2391" y="456"/>
                </a:lnTo>
                <a:lnTo>
                  <a:pt x="2388" y="465"/>
                </a:lnTo>
                <a:lnTo>
                  <a:pt x="2383" y="472"/>
                </a:lnTo>
                <a:lnTo>
                  <a:pt x="2373" y="487"/>
                </a:lnTo>
                <a:lnTo>
                  <a:pt x="2361" y="500"/>
                </a:lnTo>
                <a:lnTo>
                  <a:pt x="2350" y="512"/>
                </a:lnTo>
                <a:lnTo>
                  <a:pt x="2340" y="526"/>
                </a:lnTo>
                <a:lnTo>
                  <a:pt x="2336" y="534"/>
                </a:lnTo>
                <a:lnTo>
                  <a:pt x="2333" y="542"/>
                </a:lnTo>
                <a:lnTo>
                  <a:pt x="2332" y="551"/>
                </a:lnTo>
                <a:lnTo>
                  <a:pt x="2330" y="561"/>
                </a:lnTo>
                <a:lnTo>
                  <a:pt x="2338" y="572"/>
                </a:lnTo>
                <a:lnTo>
                  <a:pt x="2347" y="584"/>
                </a:lnTo>
                <a:lnTo>
                  <a:pt x="2352" y="590"/>
                </a:lnTo>
                <a:lnTo>
                  <a:pt x="2355" y="597"/>
                </a:lnTo>
                <a:lnTo>
                  <a:pt x="2357" y="603"/>
                </a:lnTo>
                <a:lnTo>
                  <a:pt x="2358" y="609"/>
                </a:lnTo>
                <a:lnTo>
                  <a:pt x="2357" y="615"/>
                </a:lnTo>
                <a:lnTo>
                  <a:pt x="2356" y="618"/>
                </a:lnTo>
                <a:lnTo>
                  <a:pt x="2354" y="621"/>
                </a:lnTo>
                <a:lnTo>
                  <a:pt x="2352" y="624"/>
                </a:lnTo>
                <a:lnTo>
                  <a:pt x="2345" y="628"/>
                </a:lnTo>
                <a:lnTo>
                  <a:pt x="2337" y="633"/>
                </a:lnTo>
                <a:lnTo>
                  <a:pt x="2328" y="636"/>
                </a:lnTo>
                <a:lnTo>
                  <a:pt x="2319" y="639"/>
                </a:lnTo>
                <a:lnTo>
                  <a:pt x="2310" y="643"/>
                </a:lnTo>
                <a:lnTo>
                  <a:pt x="2303" y="648"/>
                </a:lnTo>
                <a:lnTo>
                  <a:pt x="2299" y="654"/>
                </a:lnTo>
                <a:lnTo>
                  <a:pt x="2295" y="659"/>
                </a:lnTo>
                <a:lnTo>
                  <a:pt x="2292" y="664"/>
                </a:lnTo>
                <a:lnTo>
                  <a:pt x="2290" y="671"/>
                </a:lnTo>
                <a:lnTo>
                  <a:pt x="2288" y="682"/>
                </a:lnTo>
                <a:lnTo>
                  <a:pt x="2287" y="694"/>
                </a:lnTo>
                <a:lnTo>
                  <a:pt x="2289" y="719"/>
                </a:lnTo>
                <a:lnTo>
                  <a:pt x="2289" y="748"/>
                </a:lnTo>
                <a:lnTo>
                  <a:pt x="2271" y="747"/>
                </a:lnTo>
                <a:lnTo>
                  <a:pt x="2254" y="746"/>
                </a:lnTo>
                <a:lnTo>
                  <a:pt x="2246" y="747"/>
                </a:lnTo>
                <a:lnTo>
                  <a:pt x="2239" y="749"/>
                </a:lnTo>
                <a:lnTo>
                  <a:pt x="2231" y="752"/>
                </a:lnTo>
                <a:lnTo>
                  <a:pt x="2225" y="757"/>
                </a:lnTo>
                <a:lnTo>
                  <a:pt x="2220" y="764"/>
                </a:lnTo>
                <a:lnTo>
                  <a:pt x="2215" y="771"/>
                </a:lnTo>
                <a:lnTo>
                  <a:pt x="2211" y="777"/>
                </a:lnTo>
                <a:lnTo>
                  <a:pt x="2209" y="784"/>
                </a:lnTo>
                <a:lnTo>
                  <a:pt x="2207" y="791"/>
                </a:lnTo>
                <a:lnTo>
                  <a:pt x="2205" y="797"/>
                </a:lnTo>
                <a:lnTo>
                  <a:pt x="2204" y="805"/>
                </a:lnTo>
                <a:lnTo>
                  <a:pt x="2203" y="812"/>
                </a:lnTo>
                <a:lnTo>
                  <a:pt x="2204" y="843"/>
                </a:lnTo>
                <a:lnTo>
                  <a:pt x="2205" y="876"/>
                </a:lnTo>
                <a:lnTo>
                  <a:pt x="2206" y="886"/>
                </a:lnTo>
                <a:lnTo>
                  <a:pt x="2208" y="893"/>
                </a:lnTo>
                <a:lnTo>
                  <a:pt x="2210" y="902"/>
                </a:lnTo>
                <a:lnTo>
                  <a:pt x="2211" y="910"/>
                </a:lnTo>
                <a:lnTo>
                  <a:pt x="2208" y="918"/>
                </a:lnTo>
                <a:lnTo>
                  <a:pt x="2205" y="924"/>
                </a:lnTo>
                <a:lnTo>
                  <a:pt x="2202" y="910"/>
                </a:lnTo>
                <a:lnTo>
                  <a:pt x="2188" y="881"/>
                </a:lnTo>
                <a:lnTo>
                  <a:pt x="2173" y="853"/>
                </a:lnTo>
                <a:lnTo>
                  <a:pt x="2169" y="847"/>
                </a:lnTo>
                <a:lnTo>
                  <a:pt x="2165" y="842"/>
                </a:lnTo>
                <a:lnTo>
                  <a:pt x="2159" y="837"/>
                </a:lnTo>
                <a:lnTo>
                  <a:pt x="2154" y="833"/>
                </a:lnTo>
                <a:lnTo>
                  <a:pt x="2148" y="830"/>
                </a:lnTo>
                <a:lnTo>
                  <a:pt x="2141" y="828"/>
                </a:lnTo>
                <a:lnTo>
                  <a:pt x="2134" y="826"/>
                </a:lnTo>
                <a:lnTo>
                  <a:pt x="2127" y="826"/>
                </a:lnTo>
                <a:lnTo>
                  <a:pt x="2113" y="831"/>
                </a:lnTo>
                <a:lnTo>
                  <a:pt x="2099" y="835"/>
                </a:lnTo>
                <a:lnTo>
                  <a:pt x="2095" y="835"/>
                </a:lnTo>
                <a:lnTo>
                  <a:pt x="2092" y="834"/>
                </a:lnTo>
                <a:lnTo>
                  <a:pt x="2089" y="833"/>
                </a:lnTo>
                <a:lnTo>
                  <a:pt x="2086" y="831"/>
                </a:lnTo>
                <a:lnTo>
                  <a:pt x="2080" y="826"/>
                </a:lnTo>
                <a:lnTo>
                  <a:pt x="2076" y="819"/>
                </a:lnTo>
                <a:lnTo>
                  <a:pt x="2072" y="812"/>
                </a:lnTo>
                <a:lnTo>
                  <a:pt x="2068" y="806"/>
                </a:lnTo>
                <a:lnTo>
                  <a:pt x="2062" y="799"/>
                </a:lnTo>
                <a:lnTo>
                  <a:pt x="2055" y="795"/>
                </a:lnTo>
                <a:lnTo>
                  <a:pt x="2051" y="803"/>
                </a:lnTo>
                <a:lnTo>
                  <a:pt x="2047" y="811"/>
                </a:lnTo>
                <a:lnTo>
                  <a:pt x="2045" y="819"/>
                </a:lnTo>
                <a:lnTo>
                  <a:pt x="2045" y="829"/>
                </a:lnTo>
                <a:lnTo>
                  <a:pt x="2045" y="840"/>
                </a:lnTo>
                <a:lnTo>
                  <a:pt x="2047" y="850"/>
                </a:lnTo>
                <a:lnTo>
                  <a:pt x="2050" y="860"/>
                </a:lnTo>
                <a:lnTo>
                  <a:pt x="2053" y="868"/>
                </a:lnTo>
                <a:lnTo>
                  <a:pt x="2059" y="886"/>
                </a:lnTo>
                <a:lnTo>
                  <a:pt x="2065" y="907"/>
                </a:lnTo>
                <a:lnTo>
                  <a:pt x="2049" y="893"/>
                </a:lnTo>
                <a:lnTo>
                  <a:pt x="2034" y="881"/>
                </a:lnTo>
                <a:lnTo>
                  <a:pt x="2026" y="874"/>
                </a:lnTo>
                <a:lnTo>
                  <a:pt x="2020" y="867"/>
                </a:lnTo>
                <a:lnTo>
                  <a:pt x="2014" y="859"/>
                </a:lnTo>
                <a:lnTo>
                  <a:pt x="2007" y="849"/>
                </a:lnTo>
                <a:lnTo>
                  <a:pt x="2004" y="841"/>
                </a:lnTo>
                <a:lnTo>
                  <a:pt x="2002" y="831"/>
                </a:lnTo>
                <a:lnTo>
                  <a:pt x="2001" y="822"/>
                </a:lnTo>
                <a:lnTo>
                  <a:pt x="2000" y="813"/>
                </a:lnTo>
                <a:lnTo>
                  <a:pt x="1999" y="805"/>
                </a:lnTo>
                <a:lnTo>
                  <a:pt x="1997" y="796"/>
                </a:lnTo>
                <a:lnTo>
                  <a:pt x="1996" y="792"/>
                </a:lnTo>
                <a:lnTo>
                  <a:pt x="1994" y="789"/>
                </a:lnTo>
                <a:lnTo>
                  <a:pt x="1990" y="785"/>
                </a:lnTo>
                <a:lnTo>
                  <a:pt x="1987" y="781"/>
                </a:lnTo>
                <a:lnTo>
                  <a:pt x="1981" y="776"/>
                </a:lnTo>
                <a:lnTo>
                  <a:pt x="1974" y="772"/>
                </a:lnTo>
                <a:lnTo>
                  <a:pt x="1967" y="769"/>
                </a:lnTo>
                <a:lnTo>
                  <a:pt x="1960" y="767"/>
                </a:lnTo>
                <a:lnTo>
                  <a:pt x="1944" y="765"/>
                </a:lnTo>
                <a:lnTo>
                  <a:pt x="1926" y="765"/>
                </a:lnTo>
                <a:lnTo>
                  <a:pt x="1915" y="765"/>
                </a:lnTo>
                <a:lnTo>
                  <a:pt x="1905" y="767"/>
                </a:lnTo>
                <a:lnTo>
                  <a:pt x="1895" y="770"/>
                </a:lnTo>
                <a:lnTo>
                  <a:pt x="1887" y="774"/>
                </a:lnTo>
                <a:lnTo>
                  <a:pt x="1880" y="778"/>
                </a:lnTo>
                <a:lnTo>
                  <a:pt x="1872" y="785"/>
                </a:lnTo>
                <a:lnTo>
                  <a:pt x="1865" y="791"/>
                </a:lnTo>
                <a:lnTo>
                  <a:pt x="1858" y="798"/>
                </a:lnTo>
                <a:lnTo>
                  <a:pt x="1846" y="814"/>
                </a:lnTo>
                <a:lnTo>
                  <a:pt x="1834" y="832"/>
                </a:lnTo>
                <a:lnTo>
                  <a:pt x="1823" y="850"/>
                </a:lnTo>
                <a:lnTo>
                  <a:pt x="1811" y="870"/>
                </a:lnTo>
                <a:lnTo>
                  <a:pt x="1796" y="888"/>
                </a:lnTo>
                <a:lnTo>
                  <a:pt x="1782" y="903"/>
                </a:lnTo>
                <a:lnTo>
                  <a:pt x="1776" y="911"/>
                </a:lnTo>
                <a:lnTo>
                  <a:pt x="1771" y="920"/>
                </a:lnTo>
                <a:lnTo>
                  <a:pt x="1767" y="929"/>
                </a:lnTo>
                <a:lnTo>
                  <a:pt x="1763" y="941"/>
                </a:lnTo>
                <a:lnTo>
                  <a:pt x="1758" y="939"/>
                </a:lnTo>
                <a:lnTo>
                  <a:pt x="1753" y="936"/>
                </a:lnTo>
                <a:lnTo>
                  <a:pt x="1749" y="931"/>
                </a:lnTo>
                <a:lnTo>
                  <a:pt x="1744" y="928"/>
                </a:lnTo>
                <a:lnTo>
                  <a:pt x="1738" y="919"/>
                </a:lnTo>
                <a:lnTo>
                  <a:pt x="1733" y="909"/>
                </a:lnTo>
                <a:lnTo>
                  <a:pt x="1730" y="898"/>
                </a:lnTo>
                <a:lnTo>
                  <a:pt x="1728" y="886"/>
                </a:lnTo>
                <a:lnTo>
                  <a:pt x="1726" y="873"/>
                </a:lnTo>
                <a:lnTo>
                  <a:pt x="1725" y="861"/>
                </a:lnTo>
                <a:lnTo>
                  <a:pt x="1728" y="846"/>
                </a:lnTo>
                <a:lnTo>
                  <a:pt x="1730" y="832"/>
                </a:lnTo>
                <a:lnTo>
                  <a:pt x="1772" y="832"/>
                </a:lnTo>
                <a:lnTo>
                  <a:pt x="1769" y="823"/>
                </a:lnTo>
                <a:lnTo>
                  <a:pt x="1768" y="813"/>
                </a:lnTo>
                <a:lnTo>
                  <a:pt x="1768" y="805"/>
                </a:lnTo>
                <a:lnTo>
                  <a:pt x="1769" y="795"/>
                </a:lnTo>
                <a:lnTo>
                  <a:pt x="1772" y="777"/>
                </a:lnTo>
                <a:lnTo>
                  <a:pt x="1773" y="757"/>
                </a:lnTo>
                <a:lnTo>
                  <a:pt x="1773" y="749"/>
                </a:lnTo>
                <a:lnTo>
                  <a:pt x="1771" y="741"/>
                </a:lnTo>
                <a:lnTo>
                  <a:pt x="1768" y="734"/>
                </a:lnTo>
                <a:lnTo>
                  <a:pt x="1764" y="727"/>
                </a:lnTo>
                <a:lnTo>
                  <a:pt x="1761" y="720"/>
                </a:lnTo>
                <a:lnTo>
                  <a:pt x="1758" y="713"/>
                </a:lnTo>
                <a:lnTo>
                  <a:pt x="1755" y="705"/>
                </a:lnTo>
                <a:lnTo>
                  <a:pt x="1753" y="696"/>
                </a:lnTo>
                <a:lnTo>
                  <a:pt x="1740" y="698"/>
                </a:lnTo>
                <a:lnTo>
                  <a:pt x="1726" y="699"/>
                </a:lnTo>
                <a:lnTo>
                  <a:pt x="1714" y="700"/>
                </a:lnTo>
                <a:lnTo>
                  <a:pt x="1701" y="700"/>
                </a:lnTo>
                <a:lnTo>
                  <a:pt x="1695" y="699"/>
                </a:lnTo>
                <a:lnTo>
                  <a:pt x="1690" y="697"/>
                </a:lnTo>
                <a:lnTo>
                  <a:pt x="1684" y="696"/>
                </a:lnTo>
                <a:lnTo>
                  <a:pt x="1679" y="693"/>
                </a:lnTo>
                <a:lnTo>
                  <a:pt x="1675" y="690"/>
                </a:lnTo>
                <a:lnTo>
                  <a:pt x="1670" y="686"/>
                </a:lnTo>
                <a:lnTo>
                  <a:pt x="1667" y="681"/>
                </a:lnTo>
                <a:lnTo>
                  <a:pt x="1665" y="676"/>
                </a:lnTo>
                <a:lnTo>
                  <a:pt x="1662" y="668"/>
                </a:lnTo>
                <a:lnTo>
                  <a:pt x="1660" y="661"/>
                </a:lnTo>
                <a:lnTo>
                  <a:pt x="1659" y="654"/>
                </a:lnTo>
                <a:lnTo>
                  <a:pt x="1658" y="647"/>
                </a:lnTo>
                <a:lnTo>
                  <a:pt x="1659" y="633"/>
                </a:lnTo>
                <a:lnTo>
                  <a:pt x="1660" y="619"/>
                </a:lnTo>
                <a:lnTo>
                  <a:pt x="1662" y="605"/>
                </a:lnTo>
                <a:lnTo>
                  <a:pt x="1664" y="591"/>
                </a:lnTo>
                <a:lnTo>
                  <a:pt x="1664" y="584"/>
                </a:lnTo>
                <a:lnTo>
                  <a:pt x="1664" y="577"/>
                </a:lnTo>
                <a:lnTo>
                  <a:pt x="1663" y="568"/>
                </a:lnTo>
                <a:lnTo>
                  <a:pt x="1661" y="561"/>
                </a:lnTo>
                <a:lnTo>
                  <a:pt x="1659" y="552"/>
                </a:lnTo>
                <a:lnTo>
                  <a:pt x="1655" y="546"/>
                </a:lnTo>
                <a:lnTo>
                  <a:pt x="1650" y="540"/>
                </a:lnTo>
                <a:lnTo>
                  <a:pt x="1644" y="535"/>
                </a:lnTo>
                <a:lnTo>
                  <a:pt x="1638" y="531"/>
                </a:lnTo>
                <a:lnTo>
                  <a:pt x="1630" y="529"/>
                </a:lnTo>
                <a:lnTo>
                  <a:pt x="1622" y="527"/>
                </a:lnTo>
                <a:lnTo>
                  <a:pt x="1613" y="527"/>
                </a:lnTo>
                <a:lnTo>
                  <a:pt x="1582" y="527"/>
                </a:lnTo>
                <a:lnTo>
                  <a:pt x="1553" y="528"/>
                </a:lnTo>
                <a:lnTo>
                  <a:pt x="1541" y="531"/>
                </a:lnTo>
                <a:lnTo>
                  <a:pt x="1527" y="534"/>
                </a:lnTo>
                <a:lnTo>
                  <a:pt x="1513" y="540"/>
                </a:lnTo>
                <a:lnTo>
                  <a:pt x="1498" y="547"/>
                </a:lnTo>
                <a:lnTo>
                  <a:pt x="1483" y="558"/>
                </a:lnTo>
                <a:lnTo>
                  <a:pt x="1469" y="567"/>
                </a:lnTo>
                <a:lnTo>
                  <a:pt x="1462" y="571"/>
                </a:lnTo>
                <a:lnTo>
                  <a:pt x="1455" y="574"/>
                </a:lnTo>
                <a:lnTo>
                  <a:pt x="1447" y="577"/>
                </a:lnTo>
                <a:lnTo>
                  <a:pt x="1437" y="578"/>
                </a:lnTo>
                <a:lnTo>
                  <a:pt x="1468" y="547"/>
                </a:lnTo>
                <a:lnTo>
                  <a:pt x="1495" y="521"/>
                </a:lnTo>
                <a:lnTo>
                  <a:pt x="1509" y="508"/>
                </a:lnTo>
                <a:lnTo>
                  <a:pt x="1522" y="494"/>
                </a:lnTo>
                <a:lnTo>
                  <a:pt x="1535" y="479"/>
                </a:lnTo>
                <a:lnTo>
                  <a:pt x="1549" y="463"/>
                </a:lnTo>
                <a:lnTo>
                  <a:pt x="1555" y="456"/>
                </a:lnTo>
                <a:lnTo>
                  <a:pt x="1562" y="451"/>
                </a:lnTo>
                <a:lnTo>
                  <a:pt x="1565" y="449"/>
                </a:lnTo>
                <a:lnTo>
                  <a:pt x="1567" y="446"/>
                </a:lnTo>
                <a:lnTo>
                  <a:pt x="1569" y="443"/>
                </a:lnTo>
                <a:lnTo>
                  <a:pt x="1569" y="438"/>
                </a:lnTo>
                <a:lnTo>
                  <a:pt x="1569" y="426"/>
                </a:lnTo>
                <a:lnTo>
                  <a:pt x="1566" y="415"/>
                </a:lnTo>
                <a:lnTo>
                  <a:pt x="1563" y="404"/>
                </a:lnTo>
                <a:lnTo>
                  <a:pt x="1558" y="394"/>
                </a:lnTo>
                <a:lnTo>
                  <a:pt x="1551" y="384"/>
                </a:lnTo>
                <a:lnTo>
                  <a:pt x="1545" y="376"/>
                </a:lnTo>
                <a:lnTo>
                  <a:pt x="1537" y="368"/>
                </a:lnTo>
                <a:lnTo>
                  <a:pt x="1530" y="359"/>
                </a:lnTo>
                <a:lnTo>
                  <a:pt x="1524" y="351"/>
                </a:lnTo>
                <a:lnTo>
                  <a:pt x="1516" y="342"/>
                </a:lnTo>
                <a:lnTo>
                  <a:pt x="1510" y="333"/>
                </a:lnTo>
                <a:lnTo>
                  <a:pt x="1504" y="323"/>
                </a:lnTo>
                <a:lnTo>
                  <a:pt x="1498" y="314"/>
                </a:lnTo>
                <a:lnTo>
                  <a:pt x="1495" y="303"/>
                </a:lnTo>
                <a:lnTo>
                  <a:pt x="1492" y="292"/>
                </a:lnTo>
                <a:lnTo>
                  <a:pt x="1491" y="280"/>
                </a:lnTo>
                <a:lnTo>
                  <a:pt x="1491" y="181"/>
                </a:lnTo>
                <a:lnTo>
                  <a:pt x="1443" y="181"/>
                </a:lnTo>
                <a:lnTo>
                  <a:pt x="1445" y="186"/>
                </a:lnTo>
                <a:lnTo>
                  <a:pt x="1445" y="192"/>
                </a:lnTo>
                <a:lnTo>
                  <a:pt x="1443" y="198"/>
                </a:lnTo>
                <a:lnTo>
                  <a:pt x="1442" y="204"/>
                </a:lnTo>
                <a:lnTo>
                  <a:pt x="1439" y="214"/>
                </a:lnTo>
                <a:lnTo>
                  <a:pt x="1434" y="224"/>
                </a:lnTo>
                <a:lnTo>
                  <a:pt x="1430" y="228"/>
                </a:lnTo>
                <a:lnTo>
                  <a:pt x="1427" y="232"/>
                </a:lnTo>
                <a:lnTo>
                  <a:pt x="1422" y="236"/>
                </a:lnTo>
                <a:lnTo>
                  <a:pt x="1418" y="239"/>
                </a:lnTo>
                <a:lnTo>
                  <a:pt x="1413" y="242"/>
                </a:lnTo>
                <a:lnTo>
                  <a:pt x="1408" y="243"/>
                </a:lnTo>
                <a:lnTo>
                  <a:pt x="1402" y="244"/>
                </a:lnTo>
                <a:lnTo>
                  <a:pt x="1396" y="245"/>
                </a:lnTo>
                <a:lnTo>
                  <a:pt x="1391" y="244"/>
                </a:lnTo>
                <a:lnTo>
                  <a:pt x="1384" y="243"/>
                </a:lnTo>
                <a:lnTo>
                  <a:pt x="1379" y="241"/>
                </a:lnTo>
                <a:lnTo>
                  <a:pt x="1375" y="238"/>
                </a:lnTo>
                <a:lnTo>
                  <a:pt x="1366" y="229"/>
                </a:lnTo>
                <a:lnTo>
                  <a:pt x="1359" y="221"/>
                </a:lnTo>
                <a:lnTo>
                  <a:pt x="1352" y="212"/>
                </a:lnTo>
                <a:lnTo>
                  <a:pt x="1343" y="205"/>
                </a:lnTo>
                <a:lnTo>
                  <a:pt x="1339" y="202"/>
                </a:lnTo>
                <a:lnTo>
                  <a:pt x="1334" y="200"/>
                </a:lnTo>
                <a:lnTo>
                  <a:pt x="1328" y="198"/>
                </a:lnTo>
                <a:lnTo>
                  <a:pt x="1322" y="198"/>
                </a:lnTo>
                <a:lnTo>
                  <a:pt x="1314" y="198"/>
                </a:lnTo>
                <a:lnTo>
                  <a:pt x="1305" y="199"/>
                </a:lnTo>
                <a:lnTo>
                  <a:pt x="1298" y="201"/>
                </a:lnTo>
                <a:lnTo>
                  <a:pt x="1291" y="204"/>
                </a:lnTo>
                <a:lnTo>
                  <a:pt x="1278" y="210"/>
                </a:lnTo>
                <a:lnTo>
                  <a:pt x="1266" y="218"/>
                </a:lnTo>
                <a:lnTo>
                  <a:pt x="1253" y="225"/>
                </a:lnTo>
                <a:lnTo>
                  <a:pt x="1241" y="231"/>
                </a:lnTo>
                <a:lnTo>
                  <a:pt x="1233" y="234"/>
                </a:lnTo>
                <a:lnTo>
                  <a:pt x="1226" y="237"/>
                </a:lnTo>
                <a:lnTo>
                  <a:pt x="1217" y="238"/>
                </a:lnTo>
                <a:lnTo>
                  <a:pt x="1209" y="238"/>
                </a:lnTo>
                <a:lnTo>
                  <a:pt x="1176" y="239"/>
                </a:lnTo>
                <a:lnTo>
                  <a:pt x="1146" y="239"/>
                </a:lnTo>
                <a:lnTo>
                  <a:pt x="1139" y="238"/>
                </a:lnTo>
                <a:lnTo>
                  <a:pt x="1132" y="237"/>
                </a:lnTo>
                <a:lnTo>
                  <a:pt x="1126" y="234"/>
                </a:lnTo>
                <a:lnTo>
                  <a:pt x="1118" y="231"/>
                </a:lnTo>
                <a:lnTo>
                  <a:pt x="1112" y="228"/>
                </a:lnTo>
                <a:lnTo>
                  <a:pt x="1106" y="225"/>
                </a:lnTo>
                <a:lnTo>
                  <a:pt x="1100" y="220"/>
                </a:lnTo>
                <a:lnTo>
                  <a:pt x="1094" y="214"/>
                </a:lnTo>
                <a:lnTo>
                  <a:pt x="1089" y="207"/>
                </a:lnTo>
                <a:lnTo>
                  <a:pt x="1083" y="201"/>
                </a:lnTo>
                <a:lnTo>
                  <a:pt x="1079" y="193"/>
                </a:lnTo>
                <a:lnTo>
                  <a:pt x="1077" y="186"/>
                </a:lnTo>
                <a:lnTo>
                  <a:pt x="1074" y="179"/>
                </a:lnTo>
                <a:lnTo>
                  <a:pt x="1073" y="171"/>
                </a:lnTo>
                <a:lnTo>
                  <a:pt x="1072" y="164"/>
                </a:lnTo>
                <a:lnTo>
                  <a:pt x="1071" y="156"/>
                </a:lnTo>
                <a:lnTo>
                  <a:pt x="1070" y="124"/>
                </a:lnTo>
                <a:lnTo>
                  <a:pt x="1066" y="89"/>
                </a:lnTo>
                <a:lnTo>
                  <a:pt x="1020" y="89"/>
                </a:lnTo>
                <a:lnTo>
                  <a:pt x="1014" y="89"/>
                </a:lnTo>
                <a:lnTo>
                  <a:pt x="1007" y="91"/>
                </a:lnTo>
                <a:lnTo>
                  <a:pt x="1003" y="94"/>
                </a:lnTo>
                <a:lnTo>
                  <a:pt x="999" y="98"/>
                </a:lnTo>
                <a:lnTo>
                  <a:pt x="989" y="107"/>
                </a:lnTo>
                <a:lnTo>
                  <a:pt x="979" y="115"/>
                </a:lnTo>
                <a:lnTo>
                  <a:pt x="965" y="112"/>
                </a:lnTo>
                <a:lnTo>
                  <a:pt x="963" y="106"/>
                </a:lnTo>
                <a:lnTo>
                  <a:pt x="961" y="99"/>
                </a:lnTo>
                <a:lnTo>
                  <a:pt x="958" y="94"/>
                </a:lnTo>
                <a:lnTo>
                  <a:pt x="955" y="89"/>
                </a:lnTo>
                <a:lnTo>
                  <a:pt x="950" y="85"/>
                </a:lnTo>
                <a:lnTo>
                  <a:pt x="946" y="81"/>
                </a:lnTo>
                <a:lnTo>
                  <a:pt x="941" y="79"/>
                </a:lnTo>
                <a:lnTo>
                  <a:pt x="934" y="78"/>
                </a:lnTo>
                <a:lnTo>
                  <a:pt x="927" y="79"/>
                </a:lnTo>
                <a:lnTo>
                  <a:pt x="921" y="80"/>
                </a:lnTo>
                <a:lnTo>
                  <a:pt x="915" y="83"/>
                </a:lnTo>
                <a:lnTo>
                  <a:pt x="910" y="87"/>
                </a:lnTo>
                <a:lnTo>
                  <a:pt x="901" y="95"/>
                </a:lnTo>
                <a:lnTo>
                  <a:pt x="890" y="106"/>
                </a:lnTo>
                <a:lnTo>
                  <a:pt x="850" y="106"/>
                </a:lnTo>
                <a:lnTo>
                  <a:pt x="851" y="75"/>
                </a:lnTo>
                <a:lnTo>
                  <a:pt x="853" y="45"/>
                </a:lnTo>
                <a:lnTo>
                  <a:pt x="853" y="39"/>
                </a:lnTo>
                <a:lnTo>
                  <a:pt x="852" y="33"/>
                </a:lnTo>
                <a:lnTo>
                  <a:pt x="850" y="26"/>
                </a:lnTo>
                <a:lnTo>
                  <a:pt x="848" y="21"/>
                </a:lnTo>
                <a:lnTo>
                  <a:pt x="845" y="17"/>
                </a:lnTo>
                <a:lnTo>
                  <a:pt x="840" y="14"/>
                </a:lnTo>
                <a:lnTo>
                  <a:pt x="835" y="11"/>
                </a:lnTo>
                <a:lnTo>
                  <a:pt x="829" y="9"/>
                </a:lnTo>
                <a:lnTo>
                  <a:pt x="815" y="6"/>
                </a:lnTo>
                <a:lnTo>
                  <a:pt x="802" y="6"/>
                </a:lnTo>
                <a:lnTo>
                  <a:pt x="790" y="6"/>
                </a:lnTo>
                <a:lnTo>
                  <a:pt x="775" y="6"/>
                </a:lnTo>
                <a:lnTo>
                  <a:pt x="766" y="7"/>
                </a:lnTo>
                <a:lnTo>
                  <a:pt x="757" y="10"/>
                </a:lnTo>
                <a:lnTo>
                  <a:pt x="750" y="13"/>
                </a:lnTo>
                <a:lnTo>
                  <a:pt x="741" y="16"/>
                </a:lnTo>
                <a:lnTo>
                  <a:pt x="734" y="18"/>
                </a:lnTo>
                <a:lnTo>
                  <a:pt x="726" y="21"/>
                </a:lnTo>
                <a:lnTo>
                  <a:pt x="718" y="23"/>
                </a:lnTo>
                <a:lnTo>
                  <a:pt x="708" y="24"/>
                </a:lnTo>
                <a:lnTo>
                  <a:pt x="698" y="23"/>
                </a:lnTo>
                <a:lnTo>
                  <a:pt x="689" y="21"/>
                </a:lnTo>
                <a:lnTo>
                  <a:pt x="681" y="19"/>
                </a:lnTo>
                <a:lnTo>
                  <a:pt x="673" y="16"/>
                </a:lnTo>
                <a:lnTo>
                  <a:pt x="657" y="9"/>
                </a:lnTo>
                <a:lnTo>
                  <a:pt x="639" y="0"/>
                </a:lnTo>
                <a:lnTo>
                  <a:pt x="631" y="22"/>
                </a:lnTo>
                <a:lnTo>
                  <a:pt x="624" y="42"/>
                </a:lnTo>
                <a:lnTo>
                  <a:pt x="620" y="52"/>
                </a:lnTo>
                <a:lnTo>
                  <a:pt x="614" y="60"/>
                </a:lnTo>
                <a:lnTo>
                  <a:pt x="607" y="68"/>
                </a:lnTo>
                <a:lnTo>
                  <a:pt x="598" y="75"/>
                </a:lnTo>
                <a:lnTo>
                  <a:pt x="590" y="79"/>
                </a:lnTo>
                <a:lnTo>
                  <a:pt x="581" y="82"/>
                </a:lnTo>
                <a:lnTo>
                  <a:pt x="572" y="86"/>
                </a:lnTo>
                <a:lnTo>
                  <a:pt x="564" y="88"/>
                </a:lnTo>
                <a:lnTo>
                  <a:pt x="555" y="91"/>
                </a:lnTo>
                <a:lnTo>
                  <a:pt x="549" y="95"/>
                </a:lnTo>
                <a:lnTo>
                  <a:pt x="547" y="97"/>
                </a:lnTo>
                <a:lnTo>
                  <a:pt x="545" y="100"/>
                </a:lnTo>
                <a:lnTo>
                  <a:pt x="544" y="105"/>
                </a:lnTo>
                <a:lnTo>
                  <a:pt x="544" y="109"/>
                </a:lnTo>
                <a:lnTo>
                  <a:pt x="543" y="115"/>
                </a:lnTo>
                <a:lnTo>
                  <a:pt x="541" y="120"/>
                </a:lnTo>
                <a:lnTo>
                  <a:pt x="537" y="125"/>
                </a:lnTo>
                <a:lnTo>
                  <a:pt x="533" y="129"/>
                </a:lnTo>
                <a:lnTo>
                  <a:pt x="447" y="129"/>
                </a:lnTo>
                <a:lnTo>
                  <a:pt x="430" y="130"/>
                </a:lnTo>
                <a:lnTo>
                  <a:pt x="416" y="132"/>
                </a:lnTo>
                <a:lnTo>
                  <a:pt x="410" y="134"/>
                </a:lnTo>
                <a:lnTo>
                  <a:pt x="403" y="136"/>
                </a:lnTo>
                <a:lnTo>
                  <a:pt x="397" y="141"/>
                </a:lnTo>
                <a:lnTo>
                  <a:pt x="391" y="146"/>
                </a:lnTo>
                <a:lnTo>
                  <a:pt x="386" y="152"/>
                </a:lnTo>
                <a:lnTo>
                  <a:pt x="383" y="158"/>
                </a:lnTo>
                <a:lnTo>
                  <a:pt x="382" y="162"/>
                </a:lnTo>
                <a:lnTo>
                  <a:pt x="380" y="165"/>
                </a:lnTo>
                <a:lnTo>
                  <a:pt x="377" y="166"/>
                </a:lnTo>
                <a:lnTo>
                  <a:pt x="374" y="167"/>
                </a:lnTo>
                <a:lnTo>
                  <a:pt x="366" y="166"/>
                </a:lnTo>
                <a:lnTo>
                  <a:pt x="359" y="165"/>
                </a:lnTo>
                <a:lnTo>
                  <a:pt x="353" y="162"/>
                </a:lnTo>
                <a:lnTo>
                  <a:pt x="346" y="158"/>
                </a:lnTo>
                <a:lnTo>
                  <a:pt x="335" y="152"/>
                </a:lnTo>
                <a:lnTo>
                  <a:pt x="320" y="146"/>
                </a:lnTo>
                <a:lnTo>
                  <a:pt x="304" y="142"/>
                </a:lnTo>
                <a:lnTo>
                  <a:pt x="289" y="138"/>
                </a:lnTo>
                <a:lnTo>
                  <a:pt x="274" y="136"/>
                </a:lnTo>
                <a:lnTo>
                  <a:pt x="261" y="134"/>
                </a:lnTo>
                <a:lnTo>
                  <a:pt x="233" y="133"/>
                </a:lnTo>
                <a:lnTo>
                  <a:pt x="201" y="133"/>
                </a:lnTo>
                <a:lnTo>
                  <a:pt x="176" y="132"/>
                </a:lnTo>
                <a:lnTo>
                  <a:pt x="153" y="132"/>
                </a:lnTo>
                <a:lnTo>
                  <a:pt x="132" y="132"/>
                </a:lnTo>
                <a:lnTo>
                  <a:pt x="111" y="133"/>
                </a:lnTo>
                <a:lnTo>
                  <a:pt x="100" y="134"/>
                </a:lnTo>
                <a:lnTo>
                  <a:pt x="91" y="136"/>
                </a:lnTo>
                <a:lnTo>
                  <a:pt x="80" y="138"/>
                </a:lnTo>
                <a:lnTo>
                  <a:pt x="71" y="142"/>
                </a:lnTo>
                <a:lnTo>
                  <a:pt x="61" y="146"/>
                </a:lnTo>
                <a:lnTo>
                  <a:pt x="51" y="150"/>
                </a:lnTo>
                <a:lnTo>
                  <a:pt x="41" y="156"/>
                </a:lnTo>
                <a:lnTo>
                  <a:pt x="31" y="163"/>
                </a:lnTo>
                <a:lnTo>
                  <a:pt x="25" y="168"/>
                </a:lnTo>
                <a:lnTo>
                  <a:pt x="20" y="173"/>
                </a:lnTo>
                <a:lnTo>
                  <a:pt x="16" y="179"/>
                </a:lnTo>
                <a:lnTo>
                  <a:pt x="12" y="184"/>
                </a:lnTo>
                <a:lnTo>
                  <a:pt x="8" y="190"/>
                </a:lnTo>
                <a:lnTo>
                  <a:pt x="6" y="196"/>
                </a:lnTo>
                <a:lnTo>
                  <a:pt x="4" y="202"/>
                </a:lnTo>
                <a:lnTo>
                  <a:pt x="3" y="208"/>
                </a:lnTo>
                <a:lnTo>
                  <a:pt x="1" y="222"/>
                </a:lnTo>
                <a:lnTo>
                  <a:pt x="0" y="237"/>
                </a:lnTo>
                <a:lnTo>
                  <a:pt x="0" y="251"/>
                </a:lnTo>
                <a:lnTo>
                  <a:pt x="0" y="267"/>
                </a:lnTo>
                <a:lnTo>
                  <a:pt x="1" y="286"/>
                </a:lnTo>
                <a:lnTo>
                  <a:pt x="4" y="304"/>
                </a:lnTo>
                <a:lnTo>
                  <a:pt x="8" y="321"/>
                </a:lnTo>
                <a:lnTo>
                  <a:pt x="15" y="337"/>
                </a:lnTo>
                <a:lnTo>
                  <a:pt x="29" y="368"/>
                </a:lnTo>
                <a:lnTo>
                  <a:pt x="47" y="401"/>
                </a:lnTo>
                <a:lnTo>
                  <a:pt x="55" y="417"/>
                </a:lnTo>
                <a:lnTo>
                  <a:pt x="60" y="432"/>
                </a:lnTo>
                <a:lnTo>
                  <a:pt x="63" y="439"/>
                </a:lnTo>
                <a:lnTo>
                  <a:pt x="66" y="447"/>
                </a:lnTo>
                <a:lnTo>
                  <a:pt x="72" y="453"/>
                </a:lnTo>
                <a:lnTo>
                  <a:pt x="78" y="458"/>
                </a:lnTo>
                <a:lnTo>
                  <a:pt x="85" y="463"/>
                </a:lnTo>
                <a:lnTo>
                  <a:pt x="92" y="464"/>
                </a:lnTo>
                <a:lnTo>
                  <a:pt x="99" y="464"/>
                </a:lnTo>
                <a:lnTo>
                  <a:pt x="106" y="464"/>
                </a:lnTo>
                <a:lnTo>
                  <a:pt x="113" y="464"/>
                </a:lnTo>
                <a:lnTo>
                  <a:pt x="120" y="464"/>
                </a:lnTo>
                <a:lnTo>
                  <a:pt x="127" y="466"/>
                </a:lnTo>
                <a:lnTo>
                  <a:pt x="133" y="469"/>
                </a:lnTo>
                <a:lnTo>
                  <a:pt x="138" y="473"/>
                </a:lnTo>
                <a:lnTo>
                  <a:pt x="141" y="478"/>
                </a:lnTo>
                <a:lnTo>
                  <a:pt x="145" y="484"/>
                </a:lnTo>
                <a:lnTo>
                  <a:pt x="147" y="490"/>
                </a:lnTo>
                <a:lnTo>
                  <a:pt x="149" y="503"/>
                </a:lnTo>
                <a:lnTo>
                  <a:pt x="150" y="516"/>
                </a:lnTo>
                <a:lnTo>
                  <a:pt x="150" y="536"/>
                </a:lnTo>
                <a:lnTo>
                  <a:pt x="151" y="554"/>
                </a:lnTo>
                <a:lnTo>
                  <a:pt x="153" y="571"/>
                </a:lnTo>
                <a:lnTo>
                  <a:pt x="155" y="588"/>
                </a:lnTo>
                <a:lnTo>
                  <a:pt x="156" y="604"/>
                </a:lnTo>
                <a:lnTo>
                  <a:pt x="158" y="621"/>
                </a:lnTo>
                <a:lnTo>
                  <a:pt x="159" y="639"/>
                </a:lnTo>
                <a:lnTo>
                  <a:pt x="160" y="659"/>
                </a:lnTo>
                <a:lnTo>
                  <a:pt x="159" y="665"/>
                </a:lnTo>
                <a:lnTo>
                  <a:pt x="158" y="671"/>
                </a:lnTo>
                <a:lnTo>
                  <a:pt x="156" y="676"/>
                </a:lnTo>
                <a:lnTo>
                  <a:pt x="155" y="681"/>
                </a:lnTo>
                <a:lnTo>
                  <a:pt x="153" y="686"/>
                </a:lnTo>
                <a:lnTo>
                  <a:pt x="151" y="692"/>
                </a:lnTo>
                <a:lnTo>
                  <a:pt x="150" y="697"/>
                </a:lnTo>
                <a:lnTo>
                  <a:pt x="150" y="703"/>
                </a:lnTo>
                <a:lnTo>
                  <a:pt x="150" y="721"/>
                </a:lnTo>
                <a:lnTo>
                  <a:pt x="151" y="738"/>
                </a:lnTo>
                <a:lnTo>
                  <a:pt x="153" y="746"/>
                </a:lnTo>
                <a:lnTo>
                  <a:pt x="156" y="753"/>
                </a:lnTo>
                <a:lnTo>
                  <a:pt x="160" y="759"/>
                </a:lnTo>
                <a:lnTo>
                  <a:pt x="167" y="765"/>
                </a:lnTo>
                <a:lnTo>
                  <a:pt x="171" y="767"/>
                </a:lnTo>
                <a:lnTo>
                  <a:pt x="175" y="768"/>
                </a:lnTo>
                <a:lnTo>
                  <a:pt x="178" y="769"/>
                </a:lnTo>
                <a:lnTo>
                  <a:pt x="183" y="769"/>
                </a:lnTo>
                <a:lnTo>
                  <a:pt x="191" y="769"/>
                </a:lnTo>
                <a:lnTo>
                  <a:pt x="199" y="767"/>
                </a:lnTo>
                <a:lnTo>
                  <a:pt x="208" y="765"/>
                </a:lnTo>
                <a:lnTo>
                  <a:pt x="217" y="762"/>
                </a:lnTo>
                <a:lnTo>
                  <a:pt x="222" y="762"/>
                </a:lnTo>
                <a:lnTo>
                  <a:pt x="226" y="762"/>
                </a:lnTo>
                <a:lnTo>
                  <a:pt x="230" y="764"/>
                </a:lnTo>
                <a:lnTo>
                  <a:pt x="234" y="765"/>
                </a:lnTo>
                <a:lnTo>
                  <a:pt x="241" y="768"/>
                </a:lnTo>
                <a:lnTo>
                  <a:pt x="246" y="771"/>
                </a:lnTo>
                <a:lnTo>
                  <a:pt x="250" y="775"/>
                </a:lnTo>
                <a:lnTo>
                  <a:pt x="253" y="779"/>
                </a:lnTo>
                <a:lnTo>
                  <a:pt x="260" y="790"/>
                </a:lnTo>
                <a:lnTo>
                  <a:pt x="265" y="802"/>
                </a:lnTo>
                <a:lnTo>
                  <a:pt x="274" y="819"/>
                </a:lnTo>
                <a:lnTo>
                  <a:pt x="282" y="836"/>
                </a:lnTo>
                <a:lnTo>
                  <a:pt x="286" y="845"/>
                </a:lnTo>
                <a:lnTo>
                  <a:pt x="288" y="853"/>
                </a:lnTo>
                <a:lnTo>
                  <a:pt x="290" y="863"/>
                </a:lnTo>
                <a:lnTo>
                  <a:pt x="292" y="873"/>
                </a:lnTo>
                <a:lnTo>
                  <a:pt x="295" y="905"/>
                </a:lnTo>
                <a:lnTo>
                  <a:pt x="298" y="936"/>
                </a:lnTo>
                <a:lnTo>
                  <a:pt x="300" y="942"/>
                </a:lnTo>
                <a:lnTo>
                  <a:pt x="302" y="948"/>
                </a:lnTo>
                <a:lnTo>
                  <a:pt x="304" y="955"/>
                </a:lnTo>
                <a:lnTo>
                  <a:pt x="307" y="959"/>
                </a:lnTo>
                <a:lnTo>
                  <a:pt x="311" y="963"/>
                </a:lnTo>
                <a:lnTo>
                  <a:pt x="317" y="966"/>
                </a:lnTo>
                <a:lnTo>
                  <a:pt x="323" y="967"/>
                </a:lnTo>
                <a:lnTo>
                  <a:pt x="329" y="968"/>
                </a:lnTo>
                <a:lnTo>
                  <a:pt x="335" y="967"/>
                </a:lnTo>
                <a:lnTo>
                  <a:pt x="339" y="965"/>
                </a:lnTo>
                <a:lnTo>
                  <a:pt x="343" y="963"/>
                </a:lnTo>
                <a:lnTo>
                  <a:pt x="346" y="960"/>
                </a:lnTo>
                <a:lnTo>
                  <a:pt x="350" y="957"/>
                </a:lnTo>
                <a:lnTo>
                  <a:pt x="355" y="954"/>
                </a:lnTo>
                <a:lnTo>
                  <a:pt x="359" y="951"/>
                </a:lnTo>
                <a:lnTo>
                  <a:pt x="364" y="951"/>
                </a:lnTo>
                <a:lnTo>
                  <a:pt x="371" y="955"/>
                </a:lnTo>
                <a:lnTo>
                  <a:pt x="377" y="958"/>
                </a:lnTo>
                <a:lnTo>
                  <a:pt x="381" y="970"/>
                </a:lnTo>
                <a:lnTo>
                  <a:pt x="384" y="981"/>
                </a:lnTo>
                <a:lnTo>
                  <a:pt x="386" y="993"/>
                </a:lnTo>
                <a:lnTo>
                  <a:pt x="387" y="1005"/>
                </a:lnTo>
                <a:lnTo>
                  <a:pt x="386" y="1018"/>
                </a:lnTo>
                <a:lnTo>
                  <a:pt x="385" y="1031"/>
                </a:lnTo>
                <a:lnTo>
                  <a:pt x="383" y="1041"/>
                </a:lnTo>
                <a:lnTo>
                  <a:pt x="380" y="1052"/>
                </a:lnTo>
                <a:lnTo>
                  <a:pt x="373" y="1073"/>
                </a:lnTo>
                <a:lnTo>
                  <a:pt x="367" y="1097"/>
                </a:lnTo>
                <a:lnTo>
                  <a:pt x="364" y="1116"/>
                </a:lnTo>
                <a:lnTo>
                  <a:pt x="362" y="1134"/>
                </a:lnTo>
                <a:lnTo>
                  <a:pt x="361" y="1152"/>
                </a:lnTo>
                <a:lnTo>
                  <a:pt x="360" y="1168"/>
                </a:lnTo>
                <a:lnTo>
                  <a:pt x="359" y="1185"/>
                </a:lnTo>
                <a:lnTo>
                  <a:pt x="357" y="1201"/>
                </a:lnTo>
                <a:lnTo>
                  <a:pt x="353" y="1219"/>
                </a:lnTo>
                <a:lnTo>
                  <a:pt x="346" y="1237"/>
                </a:lnTo>
                <a:lnTo>
                  <a:pt x="334" y="1252"/>
                </a:lnTo>
                <a:lnTo>
                  <a:pt x="320" y="1267"/>
                </a:lnTo>
                <a:lnTo>
                  <a:pt x="314" y="1280"/>
                </a:lnTo>
                <a:lnTo>
                  <a:pt x="308" y="1293"/>
                </a:lnTo>
                <a:lnTo>
                  <a:pt x="306" y="1305"/>
                </a:lnTo>
                <a:lnTo>
                  <a:pt x="304" y="1317"/>
                </a:lnTo>
                <a:lnTo>
                  <a:pt x="303" y="1342"/>
                </a:lnTo>
                <a:lnTo>
                  <a:pt x="303" y="1371"/>
                </a:lnTo>
                <a:lnTo>
                  <a:pt x="303" y="1389"/>
                </a:lnTo>
                <a:lnTo>
                  <a:pt x="306" y="1403"/>
                </a:lnTo>
                <a:lnTo>
                  <a:pt x="309" y="1418"/>
                </a:lnTo>
                <a:lnTo>
                  <a:pt x="314" y="1433"/>
                </a:lnTo>
                <a:lnTo>
                  <a:pt x="318" y="1447"/>
                </a:lnTo>
                <a:lnTo>
                  <a:pt x="322" y="1461"/>
                </a:lnTo>
                <a:lnTo>
                  <a:pt x="326" y="1477"/>
                </a:lnTo>
                <a:lnTo>
                  <a:pt x="329" y="1494"/>
                </a:lnTo>
                <a:lnTo>
                  <a:pt x="373" y="1508"/>
                </a:lnTo>
                <a:lnTo>
                  <a:pt x="412" y="1520"/>
                </a:lnTo>
                <a:lnTo>
                  <a:pt x="448" y="1531"/>
                </a:lnTo>
                <a:lnTo>
                  <a:pt x="484" y="1543"/>
                </a:lnTo>
                <a:lnTo>
                  <a:pt x="517" y="1554"/>
                </a:lnTo>
                <a:lnTo>
                  <a:pt x="553" y="1569"/>
                </a:lnTo>
                <a:lnTo>
                  <a:pt x="571" y="1577"/>
                </a:lnTo>
                <a:lnTo>
                  <a:pt x="589" y="1586"/>
                </a:lnTo>
                <a:lnTo>
                  <a:pt x="609" y="1596"/>
                </a:lnTo>
                <a:lnTo>
                  <a:pt x="628" y="1607"/>
                </a:lnTo>
                <a:lnTo>
                  <a:pt x="655" y="1621"/>
                </a:lnTo>
                <a:lnTo>
                  <a:pt x="679" y="1636"/>
                </a:lnTo>
                <a:lnTo>
                  <a:pt x="700" y="1649"/>
                </a:lnTo>
                <a:lnTo>
                  <a:pt x="721" y="1664"/>
                </a:lnTo>
                <a:lnTo>
                  <a:pt x="731" y="1673"/>
                </a:lnTo>
                <a:lnTo>
                  <a:pt x="740" y="1681"/>
                </a:lnTo>
                <a:lnTo>
                  <a:pt x="749" y="1691"/>
                </a:lnTo>
                <a:lnTo>
                  <a:pt x="758" y="1700"/>
                </a:lnTo>
                <a:lnTo>
                  <a:pt x="767" y="1710"/>
                </a:lnTo>
                <a:lnTo>
                  <a:pt x="775" y="1721"/>
                </a:lnTo>
                <a:lnTo>
                  <a:pt x="783" y="1733"/>
                </a:lnTo>
                <a:lnTo>
                  <a:pt x="792" y="1746"/>
                </a:lnTo>
                <a:lnTo>
                  <a:pt x="804" y="1767"/>
                </a:lnTo>
                <a:lnTo>
                  <a:pt x="814" y="1787"/>
                </a:lnTo>
                <a:lnTo>
                  <a:pt x="824" y="1806"/>
                </a:lnTo>
                <a:lnTo>
                  <a:pt x="832" y="1825"/>
                </a:lnTo>
                <a:lnTo>
                  <a:pt x="838" y="1844"/>
                </a:lnTo>
                <a:lnTo>
                  <a:pt x="845" y="1862"/>
                </a:lnTo>
                <a:lnTo>
                  <a:pt x="850" y="1881"/>
                </a:lnTo>
                <a:lnTo>
                  <a:pt x="854" y="1899"/>
                </a:lnTo>
                <a:lnTo>
                  <a:pt x="861" y="1937"/>
                </a:lnTo>
                <a:lnTo>
                  <a:pt x="866" y="1977"/>
                </a:lnTo>
                <a:lnTo>
                  <a:pt x="871" y="2019"/>
                </a:lnTo>
                <a:lnTo>
                  <a:pt x="876" y="2065"/>
                </a:lnTo>
                <a:lnTo>
                  <a:pt x="881" y="2092"/>
                </a:lnTo>
                <a:lnTo>
                  <a:pt x="885" y="2116"/>
                </a:lnTo>
                <a:lnTo>
                  <a:pt x="889" y="2139"/>
                </a:lnTo>
                <a:lnTo>
                  <a:pt x="893" y="2162"/>
                </a:lnTo>
                <a:lnTo>
                  <a:pt x="898" y="2184"/>
                </a:lnTo>
                <a:lnTo>
                  <a:pt x="901" y="2206"/>
                </a:lnTo>
                <a:lnTo>
                  <a:pt x="903" y="2230"/>
                </a:lnTo>
                <a:lnTo>
                  <a:pt x="904" y="2258"/>
                </a:lnTo>
                <a:lnTo>
                  <a:pt x="904" y="2281"/>
                </a:lnTo>
                <a:lnTo>
                  <a:pt x="902" y="2303"/>
                </a:lnTo>
                <a:lnTo>
                  <a:pt x="900" y="2325"/>
                </a:lnTo>
                <a:lnTo>
                  <a:pt x="895" y="2346"/>
                </a:lnTo>
                <a:lnTo>
                  <a:pt x="891" y="2366"/>
                </a:lnTo>
                <a:lnTo>
                  <a:pt x="886" y="2385"/>
                </a:lnTo>
                <a:lnTo>
                  <a:pt x="880" y="2404"/>
                </a:lnTo>
                <a:lnTo>
                  <a:pt x="872" y="2422"/>
                </a:lnTo>
                <a:lnTo>
                  <a:pt x="864" y="2440"/>
                </a:lnTo>
                <a:lnTo>
                  <a:pt x="854" y="2458"/>
                </a:lnTo>
                <a:lnTo>
                  <a:pt x="845" y="2475"/>
                </a:lnTo>
                <a:lnTo>
                  <a:pt x="833" y="2493"/>
                </a:lnTo>
                <a:lnTo>
                  <a:pt x="820" y="2511"/>
                </a:lnTo>
                <a:lnTo>
                  <a:pt x="808" y="2528"/>
                </a:lnTo>
                <a:lnTo>
                  <a:pt x="793" y="2546"/>
                </a:lnTo>
                <a:lnTo>
                  <a:pt x="778" y="2565"/>
                </a:lnTo>
                <a:lnTo>
                  <a:pt x="771" y="2572"/>
                </a:lnTo>
                <a:lnTo>
                  <a:pt x="763" y="2580"/>
                </a:lnTo>
                <a:lnTo>
                  <a:pt x="756" y="2585"/>
                </a:lnTo>
                <a:lnTo>
                  <a:pt x="749" y="2591"/>
                </a:lnTo>
                <a:lnTo>
                  <a:pt x="741" y="2597"/>
                </a:lnTo>
                <a:lnTo>
                  <a:pt x="734" y="2603"/>
                </a:lnTo>
                <a:lnTo>
                  <a:pt x="727" y="2610"/>
                </a:lnTo>
                <a:lnTo>
                  <a:pt x="720" y="2619"/>
                </a:lnTo>
                <a:lnTo>
                  <a:pt x="708" y="2634"/>
                </a:lnTo>
                <a:lnTo>
                  <a:pt x="697" y="2647"/>
                </a:lnTo>
                <a:lnTo>
                  <a:pt x="685" y="2659"/>
                </a:lnTo>
                <a:lnTo>
                  <a:pt x="674" y="2671"/>
                </a:lnTo>
                <a:lnTo>
                  <a:pt x="662" y="2681"/>
                </a:lnTo>
                <a:lnTo>
                  <a:pt x="650" y="2693"/>
                </a:lnTo>
                <a:lnTo>
                  <a:pt x="638" y="2706"/>
                </a:lnTo>
                <a:lnTo>
                  <a:pt x="625" y="2721"/>
                </a:lnTo>
                <a:lnTo>
                  <a:pt x="617" y="2735"/>
                </a:lnTo>
                <a:lnTo>
                  <a:pt x="609" y="2750"/>
                </a:lnTo>
                <a:lnTo>
                  <a:pt x="606" y="2756"/>
                </a:lnTo>
                <a:lnTo>
                  <a:pt x="601" y="2762"/>
                </a:lnTo>
                <a:lnTo>
                  <a:pt x="595" y="2768"/>
                </a:lnTo>
                <a:lnTo>
                  <a:pt x="588" y="2772"/>
                </a:lnTo>
                <a:lnTo>
                  <a:pt x="569" y="2779"/>
                </a:lnTo>
                <a:lnTo>
                  <a:pt x="552" y="2787"/>
                </a:lnTo>
                <a:lnTo>
                  <a:pt x="545" y="2790"/>
                </a:lnTo>
                <a:lnTo>
                  <a:pt x="536" y="2794"/>
                </a:lnTo>
                <a:lnTo>
                  <a:pt x="529" y="2799"/>
                </a:lnTo>
                <a:lnTo>
                  <a:pt x="521" y="2806"/>
                </a:lnTo>
                <a:lnTo>
                  <a:pt x="528" y="2816"/>
                </a:lnTo>
                <a:lnTo>
                  <a:pt x="535" y="2827"/>
                </a:lnTo>
                <a:lnTo>
                  <a:pt x="544" y="2835"/>
                </a:lnTo>
                <a:lnTo>
                  <a:pt x="552" y="2844"/>
                </a:lnTo>
                <a:lnTo>
                  <a:pt x="561" y="2851"/>
                </a:lnTo>
                <a:lnTo>
                  <a:pt x="569" y="2860"/>
                </a:lnTo>
                <a:lnTo>
                  <a:pt x="576" y="2870"/>
                </a:lnTo>
                <a:lnTo>
                  <a:pt x="585" y="2881"/>
                </a:lnTo>
                <a:lnTo>
                  <a:pt x="589" y="2890"/>
                </a:lnTo>
                <a:lnTo>
                  <a:pt x="592" y="2900"/>
                </a:lnTo>
                <a:lnTo>
                  <a:pt x="595" y="2909"/>
                </a:lnTo>
                <a:lnTo>
                  <a:pt x="598" y="2918"/>
                </a:lnTo>
                <a:lnTo>
                  <a:pt x="601" y="2927"/>
                </a:lnTo>
                <a:lnTo>
                  <a:pt x="605" y="2935"/>
                </a:lnTo>
                <a:lnTo>
                  <a:pt x="607" y="2939"/>
                </a:lnTo>
                <a:lnTo>
                  <a:pt x="610" y="2942"/>
                </a:lnTo>
                <a:lnTo>
                  <a:pt x="614" y="2945"/>
                </a:lnTo>
                <a:lnTo>
                  <a:pt x="619" y="2948"/>
                </a:lnTo>
                <a:lnTo>
                  <a:pt x="623" y="2951"/>
                </a:lnTo>
                <a:lnTo>
                  <a:pt x="628" y="2952"/>
                </a:lnTo>
                <a:lnTo>
                  <a:pt x="634" y="2954"/>
                </a:lnTo>
                <a:lnTo>
                  <a:pt x="639" y="2955"/>
                </a:lnTo>
                <a:lnTo>
                  <a:pt x="648" y="2954"/>
                </a:lnTo>
                <a:lnTo>
                  <a:pt x="659" y="2952"/>
                </a:lnTo>
                <a:lnTo>
                  <a:pt x="668" y="2951"/>
                </a:lnTo>
                <a:lnTo>
                  <a:pt x="679" y="2951"/>
                </a:lnTo>
                <a:lnTo>
                  <a:pt x="684" y="2951"/>
                </a:lnTo>
                <a:lnTo>
                  <a:pt x="689" y="2952"/>
                </a:lnTo>
                <a:lnTo>
                  <a:pt x="695" y="2954"/>
                </a:lnTo>
                <a:lnTo>
                  <a:pt x="700" y="2956"/>
                </a:lnTo>
                <a:lnTo>
                  <a:pt x="710" y="2961"/>
                </a:lnTo>
                <a:lnTo>
                  <a:pt x="717" y="2967"/>
                </a:lnTo>
                <a:lnTo>
                  <a:pt x="722" y="2975"/>
                </a:lnTo>
                <a:lnTo>
                  <a:pt x="726" y="2982"/>
                </a:lnTo>
                <a:lnTo>
                  <a:pt x="735" y="3000"/>
                </a:lnTo>
                <a:lnTo>
                  <a:pt x="744" y="3020"/>
                </a:lnTo>
                <a:lnTo>
                  <a:pt x="759" y="3045"/>
                </a:lnTo>
                <a:lnTo>
                  <a:pt x="771" y="3069"/>
                </a:lnTo>
                <a:lnTo>
                  <a:pt x="775" y="3080"/>
                </a:lnTo>
                <a:lnTo>
                  <a:pt x="778" y="3093"/>
                </a:lnTo>
                <a:lnTo>
                  <a:pt x="780" y="3107"/>
                </a:lnTo>
                <a:lnTo>
                  <a:pt x="781" y="3121"/>
                </a:lnTo>
                <a:lnTo>
                  <a:pt x="782" y="3137"/>
                </a:lnTo>
                <a:lnTo>
                  <a:pt x="783" y="3152"/>
                </a:lnTo>
                <a:lnTo>
                  <a:pt x="785" y="3166"/>
                </a:lnTo>
                <a:lnTo>
                  <a:pt x="787" y="3179"/>
                </a:lnTo>
                <a:lnTo>
                  <a:pt x="789" y="3193"/>
                </a:lnTo>
                <a:lnTo>
                  <a:pt x="790" y="3207"/>
                </a:lnTo>
                <a:lnTo>
                  <a:pt x="791" y="3221"/>
                </a:lnTo>
                <a:lnTo>
                  <a:pt x="792" y="3238"/>
                </a:lnTo>
                <a:lnTo>
                  <a:pt x="791" y="3260"/>
                </a:lnTo>
                <a:lnTo>
                  <a:pt x="792" y="3281"/>
                </a:lnTo>
                <a:lnTo>
                  <a:pt x="794" y="3290"/>
                </a:lnTo>
                <a:lnTo>
                  <a:pt x="797" y="3298"/>
                </a:lnTo>
                <a:lnTo>
                  <a:pt x="800" y="3302"/>
                </a:lnTo>
                <a:lnTo>
                  <a:pt x="804" y="3304"/>
                </a:lnTo>
                <a:lnTo>
                  <a:pt x="808" y="3307"/>
                </a:lnTo>
                <a:lnTo>
                  <a:pt x="812" y="3308"/>
                </a:lnTo>
                <a:lnTo>
                  <a:pt x="823" y="3310"/>
                </a:lnTo>
                <a:lnTo>
                  <a:pt x="833" y="3313"/>
                </a:lnTo>
                <a:lnTo>
                  <a:pt x="838" y="3314"/>
                </a:lnTo>
                <a:lnTo>
                  <a:pt x="843" y="3316"/>
                </a:lnTo>
                <a:lnTo>
                  <a:pt x="846" y="3318"/>
                </a:lnTo>
                <a:lnTo>
                  <a:pt x="850" y="3322"/>
                </a:lnTo>
                <a:lnTo>
                  <a:pt x="857" y="3335"/>
                </a:lnTo>
                <a:lnTo>
                  <a:pt x="864" y="3346"/>
                </a:lnTo>
                <a:lnTo>
                  <a:pt x="869" y="3358"/>
                </a:lnTo>
                <a:lnTo>
                  <a:pt x="873" y="3370"/>
                </a:lnTo>
                <a:lnTo>
                  <a:pt x="877" y="3381"/>
                </a:lnTo>
                <a:lnTo>
                  <a:pt x="883" y="3393"/>
                </a:lnTo>
                <a:lnTo>
                  <a:pt x="889" y="3405"/>
                </a:lnTo>
                <a:lnTo>
                  <a:pt x="898" y="3417"/>
                </a:lnTo>
                <a:lnTo>
                  <a:pt x="911" y="3434"/>
                </a:lnTo>
                <a:lnTo>
                  <a:pt x="926" y="3449"/>
                </a:lnTo>
                <a:lnTo>
                  <a:pt x="942" y="3462"/>
                </a:lnTo>
                <a:lnTo>
                  <a:pt x="957" y="3475"/>
                </a:lnTo>
                <a:lnTo>
                  <a:pt x="963" y="3483"/>
                </a:lnTo>
                <a:lnTo>
                  <a:pt x="969" y="3489"/>
                </a:lnTo>
                <a:lnTo>
                  <a:pt x="975" y="3496"/>
                </a:lnTo>
                <a:lnTo>
                  <a:pt x="980" y="3505"/>
                </a:lnTo>
                <a:lnTo>
                  <a:pt x="983" y="3513"/>
                </a:lnTo>
                <a:lnTo>
                  <a:pt x="986" y="3523"/>
                </a:lnTo>
                <a:lnTo>
                  <a:pt x="988" y="3532"/>
                </a:lnTo>
                <a:lnTo>
                  <a:pt x="988" y="3543"/>
                </a:lnTo>
                <a:lnTo>
                  <a:pt x="988" y="3561"/>
                </a:lnTo>
                <a:lnTo>
                  <a:pt x="986" y="3577"/>
                </a:lnTo>
                <a:lnTo>
                  <a:pt x="984" y="3591"/>
                </a:lnTo>
                <a:lnTo>
                  <a:pt x="980" y="3606"/>
                </a:lnTo>
                <a:lnTo>
                  <a:pt x="976" y="3620"/>
                </a:lnTo>
                <a:lnTo>
                  <a:pt x="969" y="3635"/>
                </a:lnTo>
                <a:lnTo>
                  <a:pt x="963" y="3649"/>
                </a:lnTo>
                <a:lnTo>
                  <a:pt x="955" y="3665"/>
                </a:lnTo>
                <a:lnTo>
                  <a:pt x="947" y="3677"/>
                </a:lnTo>
                <a:lnTo>
                  <a:pt x="940" y="3688"/>
                </a:lnTo>
                <a:lnTo>
                  <a:pt x="937" y="3694"/>
                </a:lnTo>
                <a:lnTo>
                  <a:pt x="933" y="3699"/>
                </a:lnTo>
                <a:lnTo>
                  <a:pt x="931" y="3705"/>
                </a:lnTo>
                <a:lnTo>
                  <a:pt x="931" y="3713"/>
                </a:lnTo>
                <a:lnTo>
                  <a:pt x="932" y="3721"/>
                </a:lnTo>
                <a:lnTo>
                  <a:pt x="934" y="3729"/>
                </a:lnTo>
                <a:lnTo>
                  <a:pt x="939" y="3735"/>
                </a:lnTo>
                <a:lnTo>
                  <a:pt x="944" y="3740"/>
                </a:lnTo>
                <a:lnTo>
                  <a:pt x="950" y="3744"/>
                </a:lnTo>
                <a:lnTo>
                  <a:pt x="958" y="3749"/>
                </a:lnTo>
                <a:lnTo>
                  <a:pt x="965" y="3752"/>
                </a:lnTo>
                <a:lnTo>
                  <a:pt x="974" y="3755"/>
                </a:lnTo>
                <a:lnTo>
                  <a:pt x="991" y="3760"/>
                </a:lnTo>
                <a:lnTo>
                  <a:pt x="1008" y="3768"/>
                </a:lnTo>
                <a:lnTo>
                  <a:pt x="1017" y="3772"/>
                </a:lnTo>
                <a:lnTo>
                  <a:pt x="1024" y="3777"/>
                </a:lnTo>
                <a:lnTo>
                  <a:pt x="1031" y="3783"/>
                </a:lnTo>
                <a:lnTo>
                  <a:pt x="1036" y="3791"/>
                </a:lnTo>
                <a:lnTo>
                  <a:pt x="1039" y="3797"/>
                </a:lnTo>
                <a:lnTo>
                  <a:pt x="1040" y="3803"/>
                </a:lnTo>
                <a:lnTo>
                  <a:pt x="1040" y="3809"/>
                </a:lnTo>
                <a:lnTo>
                  <a:pt x="1039" y="3815"/>
                </a:lnTo>
                <a:lnTo>
                  <a:pt x="1036" y="3827"/>
                </a:lnTo>
                <a:lnTo>
                  <a:pt x="1035" y="3841"/>
                </a:lnTo>
                <a:lnTo>
                  <a:pt x="1035" y="3857"/>
                </a:lnTo>
                <a:lnTo>
                  <a:pt x="1035" y="3872"/>
                </a:lnTo>
                <a:lnTo>
                  <a:pt x="1036" y="3887"/>
                </a:lnTo>
                <a:lnTo>
                  <a:pt x="1035" y="3903"/>
                </a:lnTo>
                <a:lnTo>
                  <a:pt x="1028" y="3900"/>
                </a:lnTo>
                <a:lnTo>
                  <a:pt x="1023" y="3896"/>
                </a:lnTo>
                <a:lnTo>
                  <a:pt x="1019" y="3892"/>
                </a:lnTo>
                <a:lnTo>
                  <a:pt x="1015" y="3888"/>
                </a:lnTo>
                <a:lnTo>
                  <a:pt x="1007" y="3879"/>
                </a:lnTo>
                <a:lnTo>
                  <a:pt x="1000" y="3868"/>
                </a:lnTo>
                <a:lnTo>
                  <a:pt x="994" y="3858"/>
                </a:lnTo>
                <a:lnTo>
                  <a:pt x="985" y="3849"/>
                </a:lnTo>
                <a:lnTo>
                  <a:pt x="981" y="3846"/>
                </a:lnTo>
                <a:lnTo>
                  <a:pt x="977" y="3842"/>
                </a:lnTo>
                <a:lnTo>
                  <a:pt x="971" y="3838"/>
                </a:lnTo>
                <a:lnTo>
                  <a:pt x="965" y="3835"/>
                </a:lnTo>
                <a:lnTo>
                  <a:pt x="958" y="3833"/>
                </a:lnTo>
                <a:lnTo>
                  <a:pt x="951" y="3832"/>
                </a:lnTo>
                <a:lnTo>
                  <a:pt x="945" y="3832"/>
                </a:lnTo>
                <a:lnTo>
                  <a:pt x="938" y="3832"/>
                </a:lnTo>
                <a:lnTo>
                  <a:pt x="931" y="3833"/>
                </a:lnTo>
                <a:lnTo>
                  <a:pt x="925" y="3833"/>
                </a:lnTo>
                <a:lnTo>
                  <a:pt x="918" y="3833"/>
                </a:lnTo>
                <a:lnTo>
                  <a:pt x="910" y="3832"/>
                </a:lnTo>
                <a:lnTo>
                  <a:pt x="898" y="3823"/>
                </a:lnTo>
                <a:lnTo>
                  <a:pt x="884" y="3815"/>
                </a:lnTo>
                <a:lnTo>
                  <a:pt x="878" y="3815"/>
                </a:lnTo>
                <a:lnTo>
                  <a:pt x="874" y="3816"/>
                </a:lnTo>
                <a:lnTo>
                  <a:pt x="870" y="3817"/>
                </a:lnTo>
                <a:lnTo>
                  <a:pt x="867" y="3820"/>
                </a:lnTo>
                <a:lnTo>
                  <a:pt x="864" y="3823"/>
                </a:lnTo>
                <a:lnTo>
                  <a:pt x="862" y="3826"/>
                </a:lnTo>
                <a:lnTo>
                  <a:pt x="859" y="3830"/>
                </a:lnTo>
                <a:lnTo>
                  <a:pt x="858" y="3834"/>
                </a:lnTo>
                <a:lnTo>
                  <a:pt x="855" y="3844"/>
                </a:lnTo>
                <a:lnTo>
                  <a:pt x="854" y="3854"/>
                </a:lnTo>
                <a:lnTo>
                  <a:pt x="853" y="3865"/>
                </a:lnTo>
                <a:lnTo>
                  <a:pt x="852" y="3876"/>
                </a:lnTo>
                <a:lnTo>
                  <a:pt x="900" y="4040"/>
                </a:lnTo>
                <a:lnTo>
                  <a:pt x="908" y="4045"/>
                </a:lnTo>
                <a:lnTo>
                  <a:pt x="918" y="4049"/>
                </a:lnTo>
                <a:lnTo>
                  <a:pt x="917" y="4062"/>
                </a:lnTo>
                <a:lnTo>
                  <a:pt x="914" y="4076"/>
                </a:lnTo>
                <a:lnTo>
                  <a:pt x="911" y="4075"/>
                </a:lnTo>
                <a:lnTo>
                  <a:pt x="908" y="407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5"/>
          <p:cNvSpPr/>
          <p:nvPr/>
        </p:nvSpPr>
        <p:spPr>
          <a:xfrm>
            <a:off x="4475160" y="4460760"/>
            <a:ext cx="2425680" cy="230508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4973" h="4726">
                <a:moveTo>
                  <a:pt x="3294" y="1539"/>
                </a:moveTo>
                <a:lnTo>
                  <a:pt x="3246" y="1375"/>
                </a:lnTo>
                <a:lnTo>
                  <a:pt x="3245" y="1387"/>
                </a:lnTo>
                <a:lnTo>
                  <a:pt x="3244" y="1399"/>
                </a:lnTo>
                <a:lnTo>
                  <a:pt x="3241" y="1408"/>
                </a:lnTo>
                <a:lnTo>
                  <a:pt x="3238" y="1418"/>
                </a:lnTo>
                <a:lnTo>
                  <a:pt x="3234" y="1426"/>
                </a:lnTo>
                <a:lnTo>
                  <a:pt x="3231" y="1433"/>
                </a:lnTo>
                <a:lnTo>
                  <a:pt x="3228" y="1442"/>
                </a:lnTo>
                <a:lnTo>
                  <a:pt x="3226" y="1450"/>
                </a:lnTo>
                <a:lnTo>
                  <a:pt x="3224" y="1460"/>
                </a:lnTo>
                <a:lnTo>
                  <a:pt x="3223" y="1469"/>
                </a:lnTo>
                <a:lnTo>
                  <a:pt x="3224" y="1478"/>
                </a:lnTo>
                <a:lnTo>
                  <a:pt x="3227" y="1484"/>
                </a:lnTo>
                <a:lnTo>
                  <a:pt x="3231" y="1491"/>
                </a:lnTo>
                <a:lnTo>
                  <a:pt x="3237" y="1495"/>
                </a:lnTo>
                <a:lnTo>
                  <a:pt x="3250" y="1504"/>
                </a:lnTo>
                <a:lnTo>
                  <a:pt x="3264" y="1514"/>
                </a:lnTo>
                <a:lnTo>
                  <a:pt x="3280" y="1527"/>
                </a:lnTo>
                <a:lnTo>
                  <a:pt x="3294" y="1539"/>
                </a:lnTo>
                <a:close/>
                <a:moveTo>
                  <a:pt x="3302" y="1573"/>
                </a:moveTo>
                <a:lnTo>
                  <a:pt x="3279" y="1564"/>
                </a:lnTo>
                <a:lnTo>
                  <a:pt x="3257" y="1557"/>
                </a:lnTo>
                <a:lnTo>
                  <a:pt x="3234" y="1550"/>
                </a:lnTo>
                <a:lnTo>
                  <a:pt x="3209" y="1541"/>
                </a:lnTo>
                <a:lnTo>
                  <a:pt x="3186" y="1531"/>
                </a:lnTo>
                <a:lnTo>
                  <a:pt x="3165" y="1519"/>
                </a:lnTo>
                <a:lnTo>
                  <a:pt x="3154" y="1515"/>
                </a:lnTo>
                <a:lnTo>
                  <a:pt x="3144" y="1511"/>
                </a:lnTo>
                <a:lnTo>
                  <a:pt x="3131" y="1508"/>
                </a:lnTo>
                <a:lnTo>
                  <a:pt x="3118" y="1507"/>
                </a:lnTo>
                <a:lnTo>
                  <a:pt x="3108" y="1507"/>
                </a:lnTo>
                <a:lnTo>
                  <a:pt x="3098" y="1510"/>
                </a:lnTo>
                <a:lnTo>
                  <a:pt x="3090" y="1512"/>
                </a:lnTo>
                <a:lnTo>
                  <a:pt x="3081" y="1514"/>
                </a:lnTo>
                <a:lnTo>
                  <a:pt x="3066" y="1520"/>
                </a:lnTo>
                <a:lnTo>
                  <a:pt x="3047" y="1527"/>
                </a:lnTo>
                <a:lnTo>
                  <a:pt x="3043" y="1517"/>
                </a:lnTo>
                <a:lnTo>
                  <a:pt x="3040" y="1507"/>
                </a:lnTo>
                <a:lnTo>
                  <a:pt x="3038" y="1498"/>
                </a:lnTo>
                <a:lnTo>
                  <a:pt x="3037" y="1488"/>
                </a:lnTo>
                <a:lnTo>
                  <a:pt x="3035" y="1469"/>
                </a:lnTo>
                <a:lnTo>
                  <a:pt x="3034" y="1451"/>
                </a:lnTo>
                <a:lnTo>
                  <a:pt x="3033" y="1435"/>
                </a:lnTo>
                <a:lnTo>
                  <a:pt x="3029" y="1417"/>
                </a:lnTo>
                <a:lnTo>
                  <a:pt x="3026" y="1408"/>
                </a:lnTo>
                <a:lnTo>
                  <a:pt x="3023" y="1400"/>
                </a:lnTo>
                <a:lnTo>
                  <a:pt x="3018" y="1390"/>
                </a:lnTo>
                <a:lnTo>
                  <a:pt x="3013" y="1382"/>
                </a:lnTo>
                <a:lnTo>
                  <a:pt x="3002" y="1368"/>
                </a:lnTo>
                <a:lnTo>
                  <a:pt x="2993" y="1356"/>
                </a:lnTo>
                <a:lnTo>
                  <a:pt x="2981" y="1345"/>
                </a:lnTo>
                <a:lnTo>
                  <a:pt x="2970" y="1334"/>
                </a:lnTo>
                <a:lnTo>
                  <a:pt x="2959" y="1325"/>
                </a:lnTo>
                <a:lnTo>
                  <a:pt x="2947" y="1316"/>
                </a:lnTo>
                <a:lnTo>
                  <a:pt x="2936" y="1309"/>
                </a:lnTo>
                <a:lnTo>
                  <a:pt x="2923" y="1302"/>
                </a:lnTo>
                <a:lnTo>
                  <a:pt x="2910" y="1295"/>
                </a:lnTo>
                <a:lnTo>
                  <a:pt x="2897" y="1290"/>
                </a:lnTo>
                <a:lnTo>
                  <a:pt x="2883" y="1286"/>
                </a:lnTo>
                <a:lnTo>
                  <a:pt x="2868" y="1282"/>
                </a:lnTo>
                <a:lnTo>
                  <a:pt x="2853" y="1279"/>
                </a:lnTo>
                <a:lnTo>
                  <a:pt x="2837" y="1278"/>
                </a:lnTo>
                <a:lnTo>
                  <a:pt x="2822" y="1276"/>
                </a:lnTo>
                <a:lnTo>
                  <a:pt x="2806" y="1276"/>
                </a:lnTo>
                <a:lnTo>
                  <a:pt x="2789" y="1276"/>
                </a:lnTo>
                <a:lnTo>
                  <a:pt x="2773" y="1277"/>
                </a:lnTo>
                <a:lnTo>
                  <a:pt x="2758" y="1278"/>
                </a:lnTo>
                <a:lnTo>
                  <a:pt x="2744" y="1280"/>
                </a:lnTo>
                <a:lnTo>
                  <a:pt x="2731" y="1282"/>
                </a:lnTo>
                <a:lnTo>
                  <a:pt x="2716" y="1287"/>
                </a:lnTo>
                <a:lnTo>
                  <a:pt x="2702" y="1291"/>
                </a:lnTo>
                <a:lnTo>
                  <a:pt x="2686" y="1296"/>
                </a:lnTo>
                <a:lnTo>
                  <a:pt x="2690" y="1284"/>
                </a:lnTo>
                <a:lnTo>
                  <a:pt x="2706" y="1268"/>
                </a:lnTo>
                <a:lnTo>
                  <a:pt x="2722" y="1253"/>
                </a:lnTo>
                <a:lnTo>
                  <a:pt x="2729" y="1244"/>
                </a:lnTo>
                <a:lnTo>
                  <a:pt x="2733" y="1236"/>
                </a:lnTo>
                <a:lnTo>
                  <a:pt x="2735" y="1232"/>
                </a:lnTo>
                <a:lnTo>
                  <a:pt x="2736" y="1227"/>
                </a:lnTo>
                <a:lnTo>
                  <a:pt x="2737" y="1221"/>
                </a:lnTo>
                <a:lnTo>
                  <a:pt x="2737" y="1215"/>
                </a:lnTo>
                <a:lnTo>
                  <a:pt x="2737" y="1211"/>
                </a:lnTo>
                <a:lnTo>
                  <a:pt x="2736" y="1208"/>
                </a:lnTo>
                <a:lnTo>
                  <a:pt x="2735" y="1204"/>
                </a:lnTo>
                <a:lnTo>
                  <a:pt x="2733" y="1201"/>
                </a:lnTo>
                <a:lnTo>
                  <a:pt x="2729" y="1196"/>
                </a:lnTo>
                <a:lnTo>
                  <a:pt x="2722" y="1192"/>
                </a:lnTo>
                <a:lnTo>
                  <a:pt x="2716" y="1186"/>
                </a:lnTo>
                <a:lnTo>
                  <a:pt x="2709" y="1182"/>
                </a:lnTo>
                <a:lnTo>
                  <a:pt x="2702" y="1177"/>
                </a:lnTo>
                <a:lnTo>
                  <a:pt x="2697" y="1171"/>
                </a:lnTo>
                <a:lnTo>
                  <a:pt x="2680" y="1152"/>
                </a:lnTo>
                <a:lnTo>
                  <a:pt x="2663" y="1134"/>
                </a:lnTo>
                <a:lnTo>
                  <a:pt x="2646" y="1118"/>
                </a:lnTo>
                <a:lnTo>
                  <a:pt x="2630" y="1103"/>
                </a:lnTo>
                <a:lnTo>
                  <a:pt x="2595" y="1076"/>
                </a:lnTo>
                <a:lnTo>
                  <a:pt x="2554" y="1045"/>
                </a:lnTo>
                <a:lnTo>
                  <a:pt x="2554" y="963"/>
                </a:lnTo>
                <a:lnTo>
                  <a:pt x="2553" y="955"/>
                </a:lnTo>
                <a:lnTo>
                  <a:pt x="2551" y="948"/>
                </a:lnTo>
                <a:lnTo>
                  <a:pt x="2548" y="941"/>
                </a:lnTo>
                <a:lnTo>
                  <a:pt x="2545" y="936"/>
                </a:lnTo>
                <a:lnTo>
                  <a:pt x="2542" y="930"/>
                </a:lnTo>
                <a:lnTo>
                  <a:pt x="2539" y="923"/>
                </a:lnTo>
                <a:lnTo>
                  <a:pt x="2535" y="917"/>
                </a:lnTo>
                <a:lnTo>
                  <a:pt x="2533" y="910"/>
                </a:lnTo>
                <a:lnTo>
                  <a:pt x="2528" y="880"/>
                </a:lnTo>
                <a:lnTo>
                  <a:pt x="2525" y="854"/>
                </a:lnTo>
                <a:lnTo>
                  <a:pt x="2521" y="826"/>
                </a:lnTo>
                <a:lnTo>
                  <a:pt x="2513" y="798"/>
                </a:lnTo>
                <a:lnTo>
                  <a:pt x="2507" y="766"/>
                </a:lnTo>
                <a:lnTo>
                  <a:pt x="2502" y="738"/>
                </a:lnTo>
                <a:lnTo>
                  <a:pt x="2497" y="724"/>
                </a:lnTo>
                <a:lnTo>
                  <a:pt x="2492" y="711"/>
                </a:lnTo>
                <a:lnTo>
                  <a:pt x="2489" y="705"/>
                </a:lnTo>
                <a:lnTo>
                  <a:pt x="2486" y="698"/>
                </a:lnTo>
                <a:lnTo>
                  <a:pt x="2480" y="691"/>
                </a:lnTo>
                <a:lnTo>
                  <a:pt x="2476" y="685"/>
                </a:lnTo>
                <a:lnTo>
                  <a:pt x="2468" y="678"/>
                </a:lnTo>
                <a:lnTo>
                  <a:pt x="2459" y="673"/>
                </a:lnTo>
                <a:lnTo>
                  <a:pt x="2451" y="669"/>
                </a:lnTo>
                <a:lnTo>
                  <a:pt x="2441" y="665"/>
                </a:lnTo>
                <a:lnTo>
                  <a:pt x="2434" y="659"/>
                </a:lnTo>
                <a:lnTo>
                  <a:pt x="2428" y="654"/>
                </a:lnTo>
                <a:lnTo>
                  <a:pt x="2425" y="651"/>
                </a:lnTo>
                <a:lnTo>
                  <a:pt x="2423" y="647"/>
                </a:lnTo>
                <a:lnTo>
                  <a:pt x="2421" y="643"/>
                </a:lnTo>
                <a:lnTo>
                  <a:pt x="2421" y="637"/>
                </a:lnTo>
                <a:lnTo>
                  <a:pt x="2422" y="619"/>
                </a:lnTo>
                <a:lnTo>
                  <a:pt x="2426" y="602"/>
                </a:lnTo>
                <a:lnTo>
                  <a:pt x="2430" y="587"/>
                </a:lnTo>
                <a:lnTo>
                  <a:pt x="2435" y="572"/>
                </a:lnTo>
                <a:lnTo>
                  <a:pt x="2440" y="556"/>
                </a:lnTo>
                <a:lnTo>
                  <a:pt x="2445" y="541"/>
                </a:lnTo>
                <a:lnTo>
                  <a:pt x="2448" y="524"/>
                </a:lnTo>
                <a:lnTo>
                  <a:pt x="2449" y="505"/>
                </a:lnTo>
                <a:lnTo>
                  <a:pt x="2448" y="487"/>
                </a:lnTo>
                <a:lnTo>
                  <a:pt x="2447" y="470"/>
                </a:lnTo>
                <a:lnTo>
                  <a:pt x="2445" y="456"/>
                </a:lnTo>
                <a:lnTo>
                  <a:pt x="2440" y="441"/>
                </a:lnTo>
                <a:lnTo>
                  <a:pt x="2434" y="426"/>
                </a:lnTo>
                <a:lnTo>
                  <a:pt x="2427" y="413"/>
                </a:lnTo>
                <a:lnTo>
                  <a:pt x="2416" y="400"/>
                </a:lnTo>
                <a:lnTo>
                  <a:pt x="2404" y="386"/>
                </a:lnTo>
                <a:lnTo>
                  <a:pt x="2403" y="380"/>
                </a:lnTo>
                <a:lnTo>
                  <a:pt x="2401" y="373"/>
                </a:lnTo>
                <a:lnTo>
                  <a:pt x="2399" y="368"/>
                </a:lnTo>
                <a:lnTo>
                  <a:pt x="2396" y="363"/>
                </a:lnTo>
                <a:lnTo>
                  <a:pt x="2392" y="357"/>
                </a:lnTo>
                <a:lnTo>
                  <a:pt x="2388" y="354"/>
                </a:lnTo>
                <a:lnTo>
                  <a:pt x="2382" y="350"/>
                </a:lnTo>
                <a:lnTo>
                  <a:pt x="2377" y="347"/>
                </a:lnTo>
                <a:lnTo>
                  <a:pt x="2364" y="342"/>
                </a:lnTo>
                <a:lnTo>
                  <a:pt x="2351" y="338"/>
                </a:lnTo>
                <a:lnTo>
                  <a:pt x="2337" y="336"/>
                </a:lnTo>
                <a:lnTo>
                  <a:pt x="2323" y="335"/>
                </a:lnTo>
                <a:lnTo>
                  <a:pt x="2307" y="335"/>
                </a:lnTo>
                <a:lnTo>
                  <a:pt x="2294" y="337"/>
                </a:lnTo>
                <a:lnTo>
                  <a:pt x="2281" y="338"/>
                </a:lnTo>
                <a:lnTo>
                  <a:pt x="2268" y="341"/>
                </a:lnTo>
                <a:lnTo>
                  <a:pt x="2257" y="343"/>
                </a:lnTo>
                <a:lnTo>
                  <a:pt x="2243" y="344"/>
                </a:lnTo>
                <a:lnTo>
                  <a:pt x="2229" y="345"/>
                </a:lnTo>
                <a:lnTo>
                  <a:pt x="2214" y="346"/>
                </a:lnTo>
                <a:lnTo>
                  <a:pt x="2202" y="345"/>
                </a:lnTo>
                <a:lnTo>
                  <a:pt x="2190" y="342"/>
                </a:lnTo>
                <a:lnTo>
                  <a:pt x="2180" y="338"/>
                </a:lnTo>
                <a:lnTo>
                  <a:pt x="2170" y="333"/>
                </a:lnTo>
                <a:lnTo>
                  <a:pt x="2161" y="329"/>
                </a:lnTo>
                <a:lnTo>
                  <a:pt x="2150" y="326"/>
                </a:lnTo>
                <a:lnTo>
                  <a:pt x="2138" y="323"/>
                </a:lnTo>
                <a:lnTo>
                  <a:pt x="2126" y="322"/>
                </a:lnTo>
                <a:lnTo>
                  <a:pt x="2117" y="323"/>
                </a:lnTo>
                <a:lnTo>
                  <a:pt x="2110" y="324"/>
                </a:lnTo>
                <a:lnTo>
                  <a:pt x="2102" y="326"/>
                </a:lnTo>
                <a:lnTo>
                  <a:pt x="2095" y="329"/>
                </a:lnTo>
                <a:lnTo>
                  <a:pt x="2081" y="336"/>
                </a:lnTo>
                <a:lnTo>
                  <a:pt x="2070" y="346"/>
                </a:lnTo>
                <a:lnTo>
                  <a:pt x="2057" y="354"/>
                </a:lnTo>
                <a:lnTo>
                  <a:pt x="2044" y="362"/>
                </a:lnTo>
                <a:lnTo>
                  <a:pt x="2037" y="365"/>
                </a:lnTo>
                <a:lnTo>
                  <a:pt x="2030" y="367"/>
                </a:lnTo>
                <a:lnTo>
                  <a:pt x="2021" y="369"/>
                </a:lnTo>
                <a:lnTo>
                  <a:pt x="2013" y="369"/>
                </a:lnTo>
                <a:lnTo>
                  <a:pt x="1943" y="369"/>
                </a:lnTo>
                <a:lnTo>
                  <a:pt x="1937" y="370"/>
                </a:lnTo>
                <a:lnTo>
                  <a:pt x="1930" y="372"/>
                </a:lnTo>
                <a:lnTo>
                  <a:pt x="1925" y="375"/>
                </a:lnTo>
                <a:lnTo>
                  <a:pt x="1920" y="380"/>
                </a:lnTo>
                <a:lnTo>
                  <a:pt x="1911" y="390"/>
                </a:lnTo>
                <a:lnTo>
                  <a:pt x="1904" y="402"/>
                </a:lnTo>
                <a:lnTo>
                  <a:pt x="1897" y="413"/>
                </a:lnTo>
                <a:lnTo>
                  <a:pt x="1888" y="424"/>
                </a:lnTo>
                <a:lnTo>
                  <a:pt x="1883" y="428"/>
                </a:lnTo>
                <a:lnTo>
                  <a:pt x="1878" y="431"/>
                </a:lnTo>
                <a:lnTo>
                  <a:pt x="1871" y="434"/>
                </a:lnTo>
                <a:lnTo>
                  <a:pt x="1865" y="434"/>
                </a:lnTo>
                <a:lnTo>
                  <a:pt x="1861" y="434"/>
                </a:lnTo>
                <a:lnTo>
                  <a:pt x="1856" y="432"/>
                </a:lnTo>
                <a:lnTo>
                  <a:pt x="1853" y="431"/>
                </a:lnTo>
                <a:lnTo>
                  <a:pt x="1851" y="430"/>
                </a:lnTo>
                <a:lnTo>
                  <a:pt x="1847" y="425"/>
                </a:lnTo>
                <a:lnTo>
                  <a:pt x="1844" y="420"/>
                </a:lnTo>
                <a:lnTo>
                  <a:pt x="1843" y="412"/>
                </a:lnTo>
                <a:lnTo>
                  <a:pt x="1842" y="404"/>
                </a:lnTo>
                <a:lnTo>
                  <a:pt x="1841" y="396"/>
                </a:lnTo>
                <a:lnTo>
                  <a:pt x="1841" y="386"/>
                </a:lnTo>
                <a:lnTo>
                  <a:pt x="1841" y="367"/>
                </a:lnTo>
                <a:lnTo>
                  <a:pt x="1838" y="350"/>
                </a:lnTo>
                <a:lnTo>
                  <a:pt x="1836" y="342"/>
                </a:lnTo>
                <a:lnTo>
                  <a:pt x="1832" y="335"/>
                </a:lnTo>
                <a:lnTo>
                  <a:pt x="1830" y="332"/>
                </a:lnTo>
                <a:lnTo>
                  <a:pt x="1827" y="329"/>
                </a:lnTo>
                <a:lnTo>
                  <a:pt x="1824" y="327"/>
                </a:lnTo>
                <a:lnTo>
                  <a:pt x="1820" y="325"/>
                </a:lnTo>
                <a:lnTo>
                  <a:pt x="1801" y="318"/>
                </a:lnTo>
                <a:lnTo>
                  <a:pt x="1784" y="313"/>
                </a:lnTo>
                <a:lnTo>
                  <a:pt x="1767" y="310"/>
                </a:lnTo>
                <a:lnTo>
                  <a:pt x="1750" y="308"/>
                </a:lnTo>
                <a:lnTo>
                  <a:pt x="1733" y="305"/>
                </a:lnTo>
                <a:lnTo>
                  <a:pt x="1716" y="303"/>
                </a:lnTo>
                <a:lnTo>
                  <a:pt x="1697" y="299"/>
                </a:lnTo>
                <a:lnTo>
                  <a:pt x="1678" y="294"/>
                </a:lnTo>
                <a:lnTo>
                  <a:pt x="1644" y="287"/>
                </a:lnTo>
                <a:lnTo>
                  <a:pt x="1615" y="281"/>
                </a:lnTo>
                <a:lnTo>
                  <a:pt x="1585" y="275"/>
                </a:lnTo>
                <a:lnTo>
                  <a:pt x="1552" y="268"/>
                </a:lnTo>
                <a:lnTo>
                  <a:pt x="1511" y="254"/>
                </a:lnTo>
                <a:lnTo>
                  <a:pt x="1475" y="240"/>
                </a:lnTo>
                <a:lnTo>
                  <a:pt x="1457" y="235"/>
                </a:lnTo>
                <a:lnTo>
                  <a:pt x="1438" y="231"/>
                </a:lnTo>
                <a:lnTo>
                  <a:pt x="1418" y="228"/>
                </a:lnTo>
                <a:lnTo>
                  <a:pt x="1396" y="227"/>
                </a:lnTo>
                <a:lnTo>
                  <a:pt x="1390" y="228"/>
                </a:lnTo>
                <a:lnTo>
                  <a:pt x="1384" y="229"/>
                </a:lnTo>
                <a:lnTo>
                  <a:pt x="1380" y="230"/>
                </a:lnTo>
                <a:lnTo>
                  <a:pt x="1375" y="232"/>
                </a:lnTo>
                <a:lnTo>
                  <a:pt x="1371" y="234"/>
                </a:lnTo>
                <a:lnTo>
                  <a:pt x="1365" y="235"/>
                </a:lnTo>
                <a:lnTo>
                  <a:pt x="1360" y="236"/>
                </a:lnTo>
                <a:lnTo>
                  <a:pt x="1355" y="237"/>
                </a:lnTo>
                <a:lnTo>
                  <a:pt x="1346" y="235"/>
                </a:lnTo>
                <a:lnTo>
                  <a:pt x="1338" y="234"/>
                </a:lnTo>
                <a:lnTo>
                  <a:pt x="1336" y="221"/>
                </a:lnTo>
                <a:lnTo>
                  <a:pt x="1334" y="211"/>
                </a:lnTo>
                <a:lnTo>
                  <a:pt x="1331" y="200"/>
                </a:lnTo>
                <a:lnTo>
                  <a:pt x="1326" y="191"/>
                </a:lnTo>
                <a:lnTo>
                  <a:pt x="1322" y="181"/>
                </a:lnTo>
                <a:lnTo>
                  <a:pt x="1317" y="172"/>
                </a:lnTo>
                <a:lnTo>
                  <a:pt x="1310" y="164"/>
                </a:lnTo>
                <a:lnTo>
                  <a:pt x="1304" y="156"/>
                </a:lnTo>
                <a:lnTo>
                  <a:pt x="1298" y="148"/>
                </a:lnTo>
                <a:lnTo>
                  <a:pt x="1290" y="141"/>
                </a:lnTo>
                <a:lnTo>
                  <a:pt x="1282" y="134"/>
                </a:lnTo>
                <a:lnTo>
                  <a:pt x="1273" y="127"/>
                </a:lnTo>
                <a:lnTo>
                  <a:pt x="1256" y="114"/>
                </a:lnTo>
                <a:lnTo>
                  <a:pt x="1235" y="101"/>
                </a:lnTo>
                <a:lnTo>
                  <a:pt x="1226" y="95"/>
                </a:lnTo>
                <a:lnTo>
                  <a:pt x="1218" y="87"/>
                </a:lnTo>
                <a:lnTo>
                  <a:pt x="1210" y="79"/>
                </a:lnTo>
                <a:lnTo>
                  <a:pt x="1202" y="70"/>
                </a:lnTo>
                <a:lnTo>
                  <a:pt x="1188" y="53"/>
                </a:lnTo>
                <a:lnTo>
                  <a:pt x="1175" y="38"/>
                </a:lnTo>
                <a:lnTo>
                  <a:pt x="1169" y="29"/>
                </a:lnTo>
                <a:lnTo>
                  <a:pt x="1162" y="23"/>
                </a:lnTo>
                <a:lnTo>
                  <a:pt x="1154" y="16"/>
                </a:lnTo>
                <a:lnTo>
                  <a:pt x="1147" y="10"/>
                </a:lnTo>
                <a:lnTo>
                  <a:pt x="1138" y="6"/>
                </a:lnTo>
                <a:lnTo>
                  <a:pt x="1129" y="2"/>
                </a:lnTo>
                <a:lnTo>
                  <a:pt x="1118" y="0"/>
                </a:lnTo>
                <a:lnTo>
                  <a:pt x="1107" y="0"/>
                </a:lnTo>
                <a:lnTo>
                  <a:pt x="1098" y="0"/>
                </a:lnTo>
                <a:lnTo>
                  <a:pt x="1090" y="1"/>
                </a:lnTo>
                <a:lnTo>
                  <a:pt x="1082" y="3"/>
                </a:lnTo>
                <a:lnTo>
                  <a:pt x="1075" y="5"/>
                </a:lnTo>
                <a:lnTo>
                  <a:pt x="1060" y="9"/>
                </a:lnTo>
                <a:lnTo>
                  <a:pt x="1045" y="12"/>
                </a:lnTo>
                <a:lnTo>
                  <a:pt x="417" y="980"/>
                </a:lnTo>
                <a:lnTo>
                  <a:pt x="0" y="1504"/>
                </a:lnTo>
                <a:lnTo>
                  <a:pt x="72" y="2764"/>
                </a:lnTo>
                <a:lnTo>
                  <a:pt x="76" y="2751"/>
                </a:lnTo>
                <a:lnTo>
                  <a:pt x="82" y="2739"/>
                </a:lnTo>
                <a:lnTo>
                  <a:pt x="91" y="2728"/>
                </a:lnTo>
                <a:lnTo>
                  <a:pt x="99" y="2716"/>
                </a:lnTo>
                <a:lnTo>
                  <a:pt x="119" y="2695"/>
                </a:lnTo>
                <a:lnTo>
                  <a:pt x="143" y="2672"/>
                </a:lnTo>
                <a:lnTo>
                  <a:pt x="160" y="2656"/>
                </a:lnTo>
                <a:lnTo>
                  <a:pt x="178" y="2641"/>
                </a:lnTo>
                <a:lnTo>
                  <a:pt x="186" y="2634"/>
                </a:lnTo>
                <a:lnTo>
                  <a:pt x="191" y="2626"/>
                </a:lnTo>
                <a:lnTo>
                  <a:pt x="193" y="2621"/>
                </a:lnTo>
                <a:lnTo>
                  <a:pt x="195" y="2616"/>
                </a:lnTo>
                <a:lnTo>
                  <a:pt x="196" y="2611"/>
                </a:lnTo>
                <a:lnTo>
                  <a:pt x="196" y="2605"/>
                </a:lnTo>
                <a:lnTo>
                  <a:pt x="195" y="2598"/>
                </a:lnTo>
                <a:lnTo>
                  <a:pt x="193" y="2593"/>
                </a:lnTo>
                <a:lnTo>
                  <a:pt x="189" y="2589"/>
                </a:lnTo>
                <a:lnTo>
                  <a:pt x="184" y="2584"/>
                </a:lnTo>
                <a:lnTo>
                  <a:pt x="172" y="2579"/>
                </a:lnTo>
                <a:lnTo>
                  <a:pt x="159" y="2574"/>
                </a:lnTo>
                <a:lnTo>
                  <a:pt x="174" y="2544"/>
                </a:lnTo>
                <a:lnTo>
                  <a:pt x="188" y="2519"/>
                </a:lnTo>
                <a:lnTo>
                  <a:pt x="201" y="2495"/>
                </a:lnTo>
                <a:lnTo>
                  <a:pt x="213" y="2465"/>
                </a:lnTo>
                <a:lnTo>
                  <a:pt x="224" y="2476"/>
                </a:lnTo>
                <a:lnTo>
                  <a:pt x="232" y="2487"/>
                </a:lnTo>
                <a:lnTo>
                  <a:pt x="239" y="2498"/>
                </a:lnTo>
                <a:lnTo>
                  <a:pt x="244" y="2508"/>
                </a:lnTo>
                <a:lnTo>
                  <a:pt x="253" y="2533"/>
                </a:lnTo>
                <a:lnTo>
                  <a:pt x="261" y="2560"/>
                </a:lnTo>
                <a:lnTo>
                  <a:pt x="263" y="2572"/>
                </a:lnTo>
                <a:lnTo>
                  <a:pt x="263" y="2582"/>
                </a:lnTo>
                <a:lnTo>
                  <a:pt x="264" y="2588"/>
                </a:lnTo>
                <a:lnTo>
                  <a:pt x="265" y="2593"/>
                </a:lnTo>
                <a:lnTo>
                  <a:pt x="267" y="2597"/>
                </a:lnTo>
                <a:lnTo>
                  <a:pt x="271" y="2601"/>
                </a:lnTo>
                <a:lnTo>
                  <a:pt x="278" y="2606"/>
                </a:lnTo>
                <a:lnTo>
                  <a:pt x="285" y="2610"/>
                </a:lnTo>
                <a:lnTo>
                  <a:pt x="292" y="2612"/>
                </a:lnTo>
                <a:lnTo>
                  <a:pt x="300" y="2614"/>
                </a:lnTo>
                <a:lnTo>
                  <a:pt x="316" y="2617"/>
                </a:lnTo>
                <a:lnTo>
                  <a:pt x="333" y="2621"/>
                </a:lnTo>
                <a:lnTo>
                  <a:pt x="329" y="2630"/>
                </a:lnTo>
                <a:lnTo>
                  <a:pt x="327" y="2638"/>
                </a:lnTo>
                <a:lnTo>
                  <a:pt x="325" y="2643"/>
                </a:lnTo>
                <a:lnTo>
                  <a:pt x="322" y="2646"/>
                </a:lnTo>
                <a:lnTo>
                  <a:pt x="320" y="2648"/>
                </a:lnTo>
                <a:lnTo>
                  <a:pt x="316" y="2649"/>
                </a:lnTo>
                <a:lnTo>
                  <a:pt x="306" y="2648"/>
                </a:lnTo>
                <a:lnTo>
                  <a:pt x="298" y="2645"/>
                </a:lnTo>
                <a:lnTo>
                  <a:pt x="291" y="2641"/>
                </a:lnTo>
                <a:lnTo>
                  <a:pt x="284" y="2636"/>
                </a:lnTo>
                <a:lnTo>
                  <a:pt x="277" y="2632"/>
                </a:lnTo>
                <a:lnTo>
                  <a:pt x="270" y="2629"/>
                </a:lnTo>
                <a:lnTo>
                  <a:pt x="262" y="2626"/>
                </a:lnTo>
                <a:lnTo>
                  <a:pt x="252" y="2625"/>
                </a:lnTo>
                <a:lnTo>
                  <a:pt x="247" y="2625"/>
                </a:lnTo>
                <a:lnTo>
                  <a:pt x="242" y="2626"/>
                </a:lnTo>
                <a:lnTo>
                  <a:pt x="236" y="2628"/>
                </a:lnTo>
                <a:lnTo>
                  <a:pt x="231" y="2630"/>
                </a:lnTo>
                <a:lnTo>
                  <a:pt x="227" y="2632"/>
                </a:lnTo>
                <a:lnTo>
                  <a:pt x="223" y="2635"/>
                </a:lnTo>
                <a:lnTo>
                  <a:pt x="219" y="2638"/>
                </a:lnTo>
                <a:lnTo>
                  <a:pt x="214" y="2643"/>
                </a:lnTo>
                <a:lnTo>
                  <a:pt x="209" y="2651"/>
                </a:lnTo>
                <a:lnTo>
                  <a:pt x="204" y="2660"/>
                </a:lnTo>
                <a:lnTo>
                  <a:pt x="201" y="2671"/>
                </a:lnTo>
                <a:lnTo>
                  <a:pt x="200" y="2683"/>
                </a:lnTo>
                <a:lnTo>
                  <a:pt x="201" y="2691"/>
                </a:lnTo>
                <a:lnTo>
                  <a:pt x="204" y="2699"/>
                </a:lnTo>
                <a:lnTo>
                  <a:pt x="207" y="2706"/>
                </a:lnTo>
                <a:lnTo>
                  <a:pt x="212" y="2711"/>
                </a:lnTo>
                <a:lnTo>
                  <a:pt x="219" y="2716"/>
                </a:lnTo>
                <a:lnTo>
                  <a:pt x="226" y="2720"/>
                </a:lnTo>
                <a:lnTo>
                  <a:pt x="234" y="2723"/>
                </a:lnTo>
                <a:lnTo>
                  <a:pt x="243" y="2723"/>
                </a:lnTo>
                <a:lnTo>
                  <a:pt x="256" y="2722"/>
                </a:lnTo>
                <a:lnTo>
                  <a:pt x="267" y="2720"/>
                </a:lnTo>
                <a:lnTo>
                  <a:pt x="279" y="2715"/>
                </a:lnTo>
                <a:lnTo>
                  <a:pt x="289" y="2711"/>
                </a:lnTo>
                <a:lnTo>
                  <a:pt x="300" y="2706"/>
                </a:lnTo>
                <a:lnTo>
                  <a:pt x="310" y="2702"/>
                </a:lnTo>
                <a:lnTo>
                  <a:pt x="323" y="2699"/>
                </a:lnTo>
                <a:lnTo>
                  <a:pt x="336" y="2696"/>
                </a:lnTo>
                <a:lnTo>
                  <a:pt x="340" y="2703"/>
                </a:lnTo>
                <a:lnTo>
                  <a:pt x="342" y="2710"/>
                </a:lnTo>
                <a:lnTo>
                  <a:pt x="340" y="2725"/>
                </a:lnTo>
                <a:lnTo>
                  <a:pt x="336" y="2741"/>
                </a:lnTo>
                <a:lnTo>
                  <a:pt x="316" y="2743"/>
                </a:lnTo>
                <a:lnTo>
                  <a:pt x="298" y="2746"/>
                </a:lnTo>
                <a:lnTo>
                  <a:pt x="280" y="2752"/>
                </a:lnTo>
                <a:lnTo>
                  <a:pt x="261" y="2761"/>
                </a:lnTo>
                <a:lnTo>
                  <a:pt x="265" y="2770"/>
                </a:lnTo>
                <a:lnTo>
                  <a:pt x="268" y="2781"/>
                </a:lnTo>
                <a:lnTo>
                  <a:pt x="267" y="2790"/>
                </a:lnTo>
                <a:lnTo>
                  <a:pt x="265" y="2800"/>
                </a:lnTo>
                <a:lnTo>
                  <a:pt x="262" y="2807"/>
                </a:lnTo>
                <a:lnTo>
                  <a:pt x="257" y="2815"/>
                </a:lnTo>
                <a:lnTo>
                  <a:pt x="251" y="2821"/>
                </a:lnTo>
                <a:lnTo>
                  <a:pt x="245" y="2827"/>
                </a:lnTo>
                <a:lnTo>
                  <a:pt x="238" y="2833"/>
                </a:lnTo>
                <a:lnTo>
                  <a:pt x="230" y="2838"/>
                </a:lnTo>
                <a:lnTo>
                  <a:pt x="231" y="2844"/>
                </a:lnTo>
                <a:lnTo>
                  <a:pt x="232" y="2851"/>
                </a:lnTo>
                <a:lnTo>
                  <a:pt x="234" y="2856"/>
                </a:lnTo>
                <a:lnTo>
                  <a:pt x="238" y="2861"/>
                </a:lnTo>
                <a:lnTo>
                  <a:pt x="242" y="2865"/>
                </a:lnTo>
                <a:lnTo>
                  <a:pt x="246" y="2869"/>
                </a:lnTo>
                <a:lnTo>
                  <a:pt x="250" y="2871"/>
                </a:lnTo>
                <a:lnTo>
                  <a:pt x="256" y="2871"/>
                </a:lnTo>
                <a:lnTo>
                  <a:pt x="263" y="2871"/>
                </a:lnTo>
                <a:lnTo>
                  <a:pt x="269" y="2869"/>
                </a:lnTo>
                <a:lnTo>
                  <a:pt x="275" y="2866"/>
                </a:lnTo>
                <a:lnTo>
                  <a:pt x="280" y="2863"/>
                </a:lnTo>
                <a:lnTo>
                  <a:pt x="285" y="2861"/>
                </a:lnTo>
                <a:lnTo>
                  <a:pt x="290" y="2858"/>
                </a:lnTo>
                <a:lnTo>
                  <a:pt x="297" y="2857"/>
                </a:lnTo>
                <a:lnTo>
                  <a:pt x="303" y="2856"/>
                </a:lnTo>
                <a:lnTo>
                  <a:pt x="310" y="2856"/>
                </a:lnTo>
                <a:lnTo>
                  <a:pt x="317" y="2858"/>
                </a:lnTo>
                <a:lnTo>
                  <a:pt x="323" y="2859"/>
                </a:lnTo>
                <a:lnTo>
                  <a:pt x="329" y="2862"/>
                </a:lnTo>
                <a:lnTo>
                  <a:pt x="335" y="2864"/>
                </a:lnTo>
                <a:lnTo>
                  <a:pt x="341" y="2865"/>
                </a:lnTo>
                <a:lnTo>
                  <a:pt x="347" y="2867"/>
                </a:lnTo>
                <a:lnTo>
                  <a:pt x="355" y="2867"/>
                </a:lnTo>
                <a:lnTo>
                  <a:pt x="363" y="2867"/>
                </a:lnTo>
                <a:lnTo>
                  <a:pt x="372" y="2866"/>
                </a:lnTo>
                <a:lnTo>
                  <a:pt x="379" y="2864"/>
                </a:lnTo>
                <a:lnTo>
                  <a:pt x="389" y="2864"/>
                </a:lnTo>
                <a:lnTo>
                  <a:pt x="394" y="2864"/>
                </a:lnTo>
                <a:lnTo>
                  <a:pt x="399" y="2865"/>
                </a:lnTo>
                <a:lnTo>
                  <a:pt x="403" y="2867"/>
                </a:lnTo>
                <a:lnTo>
                  <a:pt x="408" y="2870"/>
                </a:lnTo>
                <a:lnTo>
                  <a:pt x="416" y="2876"/>
                </a:lnTo>
                <a:lnTo>
                  <a:pt x="423" y="2882"/>
                </a:lnTo>
                <a:lnTo>
                  <a:pt x="431" y="2889"/>
                </a:lnTo>
                <a:lnTo>
                  <a:pt x="438" y="2894"/>
                </a:lnTo>
                <a:lnTo>
                  <a:pt x="442" y="2897"/>
                </a:lnTo>
                <a:lnTo>
                  <a:pt x="448" y="2898"/>
                </a:lnTo>
                <a:lnTo>
                  <a:pt x="453" y="2899"/>
                </a:lnTo>
                <a:lnTo>
                  <a:pt x="458" y="2900"/>
                </a:lnTo>
                <a:lnTo>
                  <a:pt x="467" y="2899"/>
                </a:lnTo>
                <a:lnTo>
                  <a:pt x="475" y="2896"/>
                </a:lnTo>
                <a:lnTo>
                  <a:pt x="483" y="2893"/>
                </a:lnTo>
                <a:lnTo>
                  <a:pt x="491" y="2889"/>
                </a:lnTo>
                <a:lnTo>
                  <a:pt x="477" y="2874"/>
                </a:lnTo>
                <a:lnTo>
                  <a:pt x="462" y="2858"/>
                </a:lnTo>
                <a:lnTo>
                  <a:pt x="455" y="2850"/>
                </a:lnTo>
                <a:lnTo>
                  <a:pt x="447" y="2842"/>
                </a:lnTo>
                <a:lnTo>
                  <a:pt x="437" y="2835"/>
                </a:lnTo>
                <a:lnTo>
                  <a:pt x="428" y="2828"/>
                </a:lnTo>
                <a:lnTo>
                  <a:pt x="432" y="2821"/>
                </a:lnTo>
                <a:lnTo>
                  <a:pt x="436" y="2815"/>
                </a:lnTo>
                <a:lnTo>
                  <a:pt x="440" y="2808"/>
                </a:lnTo>
                <a:lnTo>
                  <a:pt x="446" y="2803"/>
                </a:lnTo>
                <a:lnTo>
                  <a:pt x="451" y="2798"/>
                </a:lnTo>
                <a:lnTo>
                  <a:pt x="457" y="2795"/>
                </a:lnTo>
                <a:lnTo>
                  <a:pt x="465" y="2792"/>
                </a:lnTo>
                <a:lnTo>
                  <a:pt x="473" y="2791"/>
                </a:lnTo>
                <a:lnTo>
                  <a:pt x="506" y="2791"/>
                </a:lnTo>
                <a:lnTo>
                  <a:pt x="508" y="2804"/>
                </a:lnTo>
                <a:lnTo>
                  <a:pt x="509" y="2818"/>
                </a:lnTo>
                <a:lnTo>
                  <a:pt x="510" y="2824"/>
                </a:lnTo>
                <a:lnTo>
                  <a:pt x="513" y="2831"/>
                </a:lnTo>
                <a:lnTo>
                  <a:pt x="516" y="2836"/>
                </a:lnTo>
                <a:lnTo>
                  <a:pt x="522" y="2841"/>
                </a:lnTo>
                <a:lnTo>
                  <a:pt x="528" y="2844"/>
                </a:lnTo>
                <a:lnTo>
                  <a:pt x="535" y="2846"/>
                </a:lnTo>
                <a:lnTo>
                  <a:pt x="543" y="2848"/>
                </a:lnTo>
                <a:lnTo>
                  <a:pt x="550" y="2850"/>
                </a:lnTo>
                <a:lnTo>
                  <a:pt x="555" y="2848"/>
                </a:lnTo>
                <a:lnTo>
                  <a:pt x="561" y="2846"/>
                </a:lnTo>
                <a:lnTo>
                  <a:pt x="566" y="2844"/>
                </a:lnTo>
                <a:lnTo>
                  <a:pt x="570" y="2842"/>
                </a:lnTo>
                <a:lnTo>
                  <a:pt x="574" y="2840"/>
                </a:lnTo>
                <a:lnTo>
                  <a:pt x="580" y="2838"/>
                </a:lnTo>
                <a:lnTo>
                  <a:pt x="585" y="2836"/>
                </a:lnTo>
                <a:lnTo>
                  <a:pt x="590" y="2836"/>
                </a:lnTo>
                <a:lnTo>
                  <a:pt x="599" y="2836"/>
                </a:lnTo>
                <a:lnTo>
                  <a:pt x="605" y="2838"/>
                </a:lnTo>
                <a:lnTo>
                  <a:pt x="612" y="2840"/>
                </a:lnTo>
                <a:lnTo>
                  <a:pt x="619" y="2842"/>
                </a:lnTo>
                <a:lnTo>
                  <a:pt x="625" y="2844"/>
                </a:lnTo>
                <a:lnTo>
                  <a:pt x="631" y="2846"/>
                </a:lnTo>
                <a:lnTo>
                  <a:pt x="639" y="2848"/>
                </a:lnTo>
                <a:lnTo>
                  <a:pt x="646" y="2850"/>
                </a:lnTo>
                <a:lnTo>
                  <a:pt x="646" y="2862"/>
                </a:lnTo>
                <a:lnTo>
                  <a:pt x="645" y="2875"/>
                </a:lnTo>
                <a:lnTo>
                  <a:pt x="655" y="2875"/>
                </a:lnTo>
                <a:lnTo>
                  <a:pt x="662" y="2875"/>
                </a:lnTo>
                <a:lnTo>
                  <a:pt x="671" y="2875"/>
                </a:lnTo>
                <a:lnTo>
                  <a:pt x="679" y="2875"/>
                </a:lnTo>
                <a:lnTo>
                  <a:pt x="681" y="2890"/>
                </a:lnTo>
                <a:lnTo>
                  <a:pt x="683" y="2904"/>
                </a:lnTo>
                <a:lnTo>
                  <a:pt x="687" y="2917"/>
                </a:lnTo>
                <a:lnTo>
                  <a:pt x="692" y="2929"/>
                </a:lnTo>
                <a:lnTo>
                  <a:pt x="702" y="2954"/>
                </a:lnTo>
                <a:lnTo>
                  <a:pt x="715" y="2982"/>
                </a:lnTo>
                <a:lnTo>
                  <a:pt x="720" y="2977"/>
                </a:lnTo>
                <a:lnTo>
                  <a:pt x="724" y="2973"/>
                </a:lnTo>
                <a:lnTo>
                  <a:pt x="728" y="2968"/>
                </a:lnTo>
                <a:lnTo>
                  <a:pt x="730" y="2962"/>
                </a:lnTo>
                <a:lnTo>
                  <a:pt x="733" y="2957"/>
                </a:lnTo>
                <a:lnTo>
                  <a:pt x="735" y="2952"/>
                </a:lnTo>
                <a:lnTo>
                  <a:pt x="739" y="2947"/>
                </a:lnTo>
                <a:lnTo>
                  <a:pt x="743" y="2942"/>
                </a:lnTo>
                <a:lnTo>
                  <a:pt x="749" y="2939"/>
                </a:lnTo>
                <a:lnTo>
                  <a:pt x="753" y="2937"/>
                </a:lnTo>
                <a:lnTo>
                  <a:pt x="758" y="2936"/>
                </a:lnTo>
                <a:lnTo>
                  <a:pt x="762" y="2935"/>
                </a:lnTo>
                <a:lnTo>
                  <a:pt x="773" y="2934"/>
                </a:lnTo>
                <a:lnTo>
                  <a:pt x="785" y="2934"/>
                </a:lnTo>
                <a:lnTo>
                  <a:pt x="793" y="2935"/>
                </a:lnTo>
                <a:lnTo>
                  <a:pt x="800" y="2937"/>
                </a:lnTo>
                <a:lnTo>
                  <a:pt x="808" y="2942"/>
                </a:lnTo>
                <a:lnTo>
                  <a:pt x="813" y="2948"/>
                </a:lnTo>
                <a:lnTo>
                  <a:pt x="818" y="2954"/>
                </a:lnTo>
                <a:lnTo>
                  <a:pt x="822" y="2962"/>
                </a:lnTo>
                <a:lnTo>
                  <a:pt x="825" y="2971"/>
                </a:lnTo>
                <a:lnTo>
                  <a:pt x="825" y="2979"/>
                </a:lnTo>
                <a:lnTo>
                  <a:pt x="838" y="2979"/>
                </a:lnTo>
                <a:lnTo>
                  <a:pt x="849" y="2979"/>
                </a:lnTo>
                <a:lnTo>
                  <a:pt x="861" y="2979"/>
                </a:lnTo>
                <a:lnTo>
                  <a:pt x="873" y="2979"/>
                </a:lnTo>
                <a:lnTo>
                  <a:pt x="881" y="2980"/>
                </a:lnTo>
                <a:lnTo>
                  <a:pt x="886" y="2982"/>
                </a:lnTo>
                <a:lnTo>
                  <a:pt x="891" y="2983"/>
                </a:lnTo>
                <a:lnTo>
                  <a:pt x="896" y="2985"/>
                </a:lnTo>
                <a:lnTo>
                  <a:pt x="907" y="2991"/>
                </a:lnTo>
                <a:lnTo>
                  <a:pt x="916" y="2996"/>
                </a:lnTo>
                <a:lnTo>
                  <a:pt x="925" y="3003"/>
                </a:lnTo>
                <a:lnTo>
                  <a:pt x="936" y="3008"/>
                </a:lnTo>
                <a:lnTo>
                  <a:pt x="941" y="3011"/>
                </a:lnTo>
                <a:lnTo>
                  <a:pt x="946" y="3012"/>
                </a:lnTo>
                <a:lnTo>
                  <a:pt x="951" y="3013"/>
                </a:lnTo>
                <a:lnTo>
                  <a:pt x="959" y="3014"/>
                </a:lnTo>
                <a:lnTo>
                  <a:pt x="964" y="3013"/>
                </a:lnTo>
                <a:lnTo>
                  <a:pt x="968" y="3012"/>
                </a:lnTo>
                <a:lnTo>
                  <a:pt x="973" y="3010"/>
                </a:lnTo>
                <a:lnTo>
                  <a:pt x="977" y="3007"/>
                </a:lnTo>
                <a:lnTo>
                  <a:pt x="984" y="2999"/>
                </a:lnTo>
                <a:lnTo>
                  <a:pt x="990" y="2992"/>
                </a:lnTo>
                <a:lnTo>
                  <a:pt x="997" y="2984"/>
                </a:lnTo>
                <a:lnTo>
                  <a:pt x="1003" y="2976"/>
                </a:lnTo>
                <a:lnTo>
                  <a:pt x="1007" y="2974"/>
                </a:lnTo>
                <a:lnTo>
                  <a:pt x="1012" y="2971"/>
                </a:lnTo>
                <a:lnTo>
                  <a:pt x="1017" y="2970"/>
                </a:lnTo>
                <a:lnTo>
                  <a:pt x="1022" y="2970"/>
                </a:lnTo>
                <a:lnTo>
                  <a:pt x="1033" y="2971"/>
                </a:lnTo>
                <a:lnTo>
                  <a:pt x="1041" y="2973"/>
                </a:lnTo>
                <a:lnTo>
                  <a:pt x="1051" y="2975"/>
                </a:lnTo>
                <a:lnTo>
                  <a:pt x="1061" y="2978"/>
                </a:lnTo>
                <a:lnTo>
                  <a:pt x="1070" y="2979"/>
                </a:lnTo>
                <a:lnTo>
                  <a:pt x="1077" y="2979"/>
                </a:lnTo>
                <a:lnTo>
                  <a:pt x="1081" y="2980"/>
                </a:lnTo>
                <a:lnTo>
                  <a:pt x="1084" y="2982"/>
                </a:lnTo>
                <a:lnTo>
                  <a:pt x="1089" y="2984"/>
                </a:lnTo>
                <a:lnTo>
                  <a:pt x="1092" y="2987"/>
                </a:lnTo>
                <a:lnTo>
                  <a:pt x="1097" y="2993"/>
                </a:lnTo>
                <a:lnTo>
                  <a:pt x="1102" y="3001"/>
                </a:lnTo>
                <a:lnTo>
                  <a:pt x="1106" y="3003"/>
                </a:lnTo>
                <a:lnTo>
                  <a:pt x="1109" y="3005"/>
                </a:lnTo>
                <a:lnTo>
                  <a:pt x="1113" y="3007"/>
                </a:lnTo>
                <a:lnTo>
                  <a:pt x="1117" y="3007"/>
                </a:lnTo>
                <a:lnTo>
                  <a:pt x="1127" y="3006"/>
                </a:lnTo>
                <a:lnTo>
                  <a:pt x="1135" y="3004"/>
                </a:lnTo>
                <a:lnTo>
                  <a:pt x="1143" y="3002"/>
                </a:lnTo>
                <a:lnTo>
                  <a:pt x="1150" y="2997"/>
                </a:lnTo>
                <a:lnTo>
                  <a:pt x="1158" y="2994"/>
                </a:lnTo>
                <a:lnTo>
                  <a:pt x="1166" y="2991"/>
                </a:lnTo>
                <a:lnTo>
                  <a:pt x="1174" y="2990"/>
                </a:lnTo>
                <a:lnTo>
                  <a:pt x="1184" y="2989"/>
                </a:lnTo>
                <a:lnTo>
                  <a:pt x="1200" y="2989"/>
                </a:lnTo>
                <a:lnTo>
                  <a:pt x="1213" y="2989"/>
                </a:lnTo>
                <a:lnTo>
                  <a:pt x="1228" y="2988"/>
                </a:lnTo>
                <a:lnTo>
                  <a:pt x="1244" y="2988"/>
                </a:lnTo>
                <a:lnTo>
                  <a:pt x="1357" y="3015"/>
                </a:lnTo>
                <a:lnTo>
                  <a:pt x="1374" y="3005"/>
                </a:lnTo>
                <a:lnTo>
                  <a:pt x="1389" y="2994"/>
                </a:lnTo>
                <a:lnTo>
                  <a:pt x="1396" y="2988"/>
                </a:lnTo>
                <a:lnTo>
                  <a:pt x="1403" y="2982"/>
                </a:lnTo>
                <a:lnTo>
                  <a:pt x="1410" y="2973"/>
                </a:lnTo>
                <a:lnTo>
                  <a:pt x="1416" y="2965"/>
                </a:lnTo>
                <a:lnTo>
                  <a:pt x="1419" y="2958"/>
                </a:lnTo>
                <a:lnTo>
                  <a:pt x="1422" y="2953"/>
                </a:lnTo>
                <a:lnTo>
                  <a:pt x="1423" y="2947"/>
                </a:lnTo>
                <a:lnTo>
                  <a:pt x="1426" y="2940"/>
                </a:lnTo>
                <a:lnTo>
                  <a:pt x="1427" y="2929"/>
                </a:lnTo>
                <a:lnTo>
                  <a:pt x="1427" y="2917"/>
                </a:lnTo>
                <a:lnTo>
                  <a:pt x="1427" y="2905"/>
                </a:lnTo>
                <a:lnTo>
                  <a:pt x="1426" y="2893"/>
                </a:lnTo>
                <a:lnTo>
                  <a:pt x="1427" y="2879"/>
                </a:lnTo>
                <a:lnTo>
                  <a:pt x="1430" y="2866"/>
                </a:lnTo>
                <a:lnTo>
                  <a:pt x="1433" y="2856"/>
                </a:lnTo>
                <a:lnTo>
                  <a:pt x="1437" y="2847"/>
                </a:lnTo>
                <a:lnTo>
                  <a:pt x="1441" y="2839"/>
                </a:lnTo>
                <a:lnTo>
                  <a:pt x="1447" y="2832"/>
                </a:lnTo>
                <a:lnTo>
                  <a:pt x="1452" y="2824"/>
                </a:lnTo>
                <a:lnTo>
                  <a:pt x="1457" y="2816"/>
                </a:lnTo>
                <a:lnTo>
                  <a:pt x="1463" y="2807"/>
                </a:lnTo>
                <a:lnTo>
                  <a:pt x="1467" y="2798"/>
                </a:lnTo>
                <a:lnTo>
                  <a:pt x="1501" y="2798"/>
                </a:lnTo>
                <a:lnTo>
                  <a:pt x="1499" y="2816"/>
                </a:lnTo>
                <a:lnTo>
                  <a:pt x="1499" y="2832"/>
                </a:lnTo>
                <a:lnTo>
                  <a:pt x="1499" y="2848"/>
                </a:lnTo>
                <a:lnTo>
                  <a:pt x="1501" y="2866"/>
                </a:lnTo>
                <a:lnTo>
                  <a:pt x="1512" y="2858"/>
                </a:lnTo>
                <a:lnTo>
                  <a:pt x="1523" y="2850"/>
                </a:lnTo>
                <a:lnTo>
                  <a:pt x="1531" y="2841"/>
                </a:lnTo>
                <a:lnTo>
                  <a:pt x="1539" y="2831"/>
                </a:lnTo>
                <a:lnTo>
                  <a:pt x="1545" y="2820"/>
                </a:lnTo>
                <a:lnTo>
                  <a:pt x="1548" y="2807"/>
                </a:lnTo>
                <a:lnTo>
                  <a:pt x="1551" y="2795"/>
                </a:lnTo>
                <a:lnTo>
                  <a:pt x="1552" y="2781"/>
                </a:lnTo>
                <a:lnTo>
                  <a:pt x="1551" y="2772"/>
                </a:lnTo>
                <a:lnTo>
                  <a:pt x="1550" y="2764"/>
                </a:lnTo>
                <a:lnTo>
                  <a:pt x="1548" y="2757"/>
                </a:lnTo>
                <a:lnTo>
                  <a:pt x="1545" y="2749"/>
                </a:lnTo>
                <a:lnTo>
                  <a:pt x="1543" y="2742"/>
                </a:lnTo>
                <a:lnTo>
                  <a:pt x="1541" y="2734"/>
                </a:lnTo>
                <a:lnTo>
                  <a:pt x="1539" y="2726"/>
                </a:lnTo>
                <a:lnTo>
                  <a:pt x="1539" y="2718"/>
                </a:lnTo>
                <a:lnTo>
                  <a:pt x="1540" y="2703"/>
                </a:lnTo>
                <a:lnTo>
                  <a:pt x="1542" y="2688"/>
                </a:lnTo>
                <a:lnTo>
                  <a:pt x="1556" y="2687"/>
                </a:lnTo>
                <a:lnTo>
                  <a:pt x="1569" y="2687"/>
                </a:lnTo>
                <a:lnTo>
                  <a:pt x="1582" y="2688"/>
                </a:lnTo>
                <a:lnTo>
                  <a:pt x="1596" y="2688"/>
                </a:lnTo>
                <a:lnTo>
                  <a:pt x="1596" y="2704"/>
                </a:lnTo>
                <a:lnTo>
                  <a:pt x="1593" y="2720"/>
                </a:lnTo>
                <a:lnTo>
                  <a:pt x="1591" y="2734"/>
                </a:lnTo>
                <a:lnTo>
                  <a:pt x="1589" y="2748"/>
                </a:lnTo>
                <a:lnTo>
                  <a:pt x="1587" y="2762"/>
                </a:lnTo>
                <a:lnTo>
                  <a:pt x="1585" y="2777"/>
                </a:lnTo>
                <a:lnTo>
                  <a:pt x="1583" y="2791"/>
                </a:lnTo>
                <a:lnTo>
                  <a:pt x="1583" y="2808"/>
                </a:lnTo>
                <a:lnTo>
                  <a:pt x="1592" y="2803"/>
                </a:lnTo>
                <a:lnTo>
                  <a:pt x="1602" y="2796"/>
                </a:lnTo>
                <a:lnTo>
                  <a:pt x="1610" y="2787"/>
                </a:lnTo>
                <a:lnTo>
                  <a:pt x="1617" y="2778"/>
                </a:lnTo>
                <a:lnTo>
                  <a:pt x="1623" y="2768"/>
                </a:lnTo>
                <a:lnTo>
                  <a:pt x="1626" y="2757"/>
                </a:lnTo>
                <a:lnTo>
                  <a:pt x="1629" y="2745"/>
                </a:lnTo>
                <a:lnTo>
                  <a:pt x="1630" y="2733"/>
                </a:lnTo>
                <a:lnTo>
                  <a:pt x="1629" y="2726"/>
                </a:lnTo>
                <a:lnTo>
                  <a:pt x="1628" y="2720"/>
                </a:lnTo>
                <a:lnTo>
                  <a:pt x="1627" y="2713"/>
                </a:lnTo>
                <a:lnTo>
                  <a:pt x="1625" y="2707"/>
                </a:lnTo>
                <a:lnTo>
                  <a:pt x="1620" y="2695"/>
                </a:lnTo>
                <a:lnTo>
                  <a:pt x="1615" y="2684"/>
                </a:lnTo>
                <a:lnTo>
                  <a:pt x="1609" y="2673"/>
                </a:lnTo>
                <a:lnTo>
                  <a:pt x="1604" y="2662"/>
                </a:lnTo>
                <a:lnTo>
                  <a:pt x="1602" y="2655"/>
                </a:lnTo>
                <a:lnTo>
                  <a:pt x="1601" y="2649"/>
                </a:lnTo>
                <a:lnTo>
                  <a:pt x="1600" y="2643"/>
                </a:lnTo>
                <a:lnTo>
                  <a:pt x="1600" y="2635"/>
                </a:lnTo>
                <a:lnTo>
                  <a:pt x="1604" y="2628"/>
                </a:lnTo>
                <a:lnTo>
                  <a:pt x="1609" y="2621"/>
                </a:lnTo>
                <a:lnTo>
                  <a:pt x="1637" y="2628"/>
                </a:lnTo>
                <a:lnTo>
                  <a:pt x="1721" y="2628"/>
                </a:lnTo>
                <a:lnTo>
                  <a:pt x="1729" y="2629"/>
                </a:lnTo>
                <a:lnTo>
                  <a:pt x="1736" y="2630"/>
                </a:lnTo>
                <a:lnTo>
                  <a:pt x="1743" y="2631"/>
                </a:lnTo>
                <a:lnTo>
                  <a:pt x="1750" y="2633"/>
                </a:lnTo>
                <a:lnTo>
                  <a:pt x="1762" y="2638"/>
                </a:lnTo>
                <a:lnTo>
                  <a:pt x="1774" y="2644"/>
                </a:lnTo>
                <a:lnTo>
                  <a:pt x="1786" y="2649"/>
                </a:lnTo>
                <a:lnTo>
                  <a:pt x="1798" y="2654"/>
                </a:lnTo>
                <a:lnTo>
                  <a:pt x="1805" y="2656"/>
                </a:lnTo>
                <a:lnTo>
                  <a:pt x="1812" y="2657"/>
                </a:lnTo>
                <a:lnTo>
                  <a:pt x="1819" y="2658"/>
                </a:lnTo>
                <a:lnTo>
                  <a:pt x="1827" y="2658"/>
                </a:lnTo>
                <a:lnTo>
                  <a:pt x="1846" y="2658"/>
                </a:lnTo>
                <a:lnTo>
                  <a:pt x="1864" y="2656"/>
                </a:lnTo>
                <a:lnTo>
                  <a:pt x="1880" y="2653"/>
                </a:lnTo>
                <a:lnTo>
                  <a:pt x="1895" y="2650"/>
                </a:lnTo>
                <a:lnTo>
                  <a:pt x="1928" y="2639"/>
                </a:lnTo>
                <a:lnTo>
                  <a:pt x="1963" y="2628"/>
                </a:lnTo>
                <a:lnTo>
                  <a:pt x="1986" y="2631"/>
                </a:lnTo>
                <a:lnTo>
                  <a:pt x="2008" y="2634"/>
                </a:lnTo>
                <a:lnTo>
                  <a:pt x="2018" y="2637"/>
                </a:lnTo>
                <a:lnTo>
                  <a:pt x="2027" y="2641"/>
                </a:lnTo>
                <a:lnTo>
                  <a:pt x="2036" y="2648"/>
                </a:lnTo>
                <a:lnTo>
                  <a:pt x="2044" y="2655"/>
                </a:lnTo>
                <a:lnTo>
                  <a:pt x="2051" y="2664"/>
                </a:lnTo>
                <a:lnTo>
                  <a:pt x="2054" y="2672"/>
                </a:lnTo>
                <a:lnTo>
                  <a:pt x="2057" y="2680"/>
                </a:lnTo>
                <a:lnTo>
                  <a:pt x="2060" y="2688"/>
                </a:lnTo>
                <a:lnTo>
                  <a:pt x="2064" y="2705"/>
                </a:lnTo>
                <a:lnTo>
                  <a:pt x="2072" y="2723"/>
                </a:lnTo>
                <a:lnTo>
                  <a:pt x="2078" y="2734"/>
                </a:lnTo>
                <a:lnTo>
                  <a:pt x="2084" y="2745"/>
                </a:lnTo>
                <a:lnTo>
                  <a:pt x="2092" y="2753"/>
                </a:lnTo>
                <a:lnTo>
                  <a:pt x="2100" y="2762"/>
                </a:lnTo>
                <a:lnTo>
                  <a:pt x="2117" y="2777"/>
                </a:lnTo>
                <a:lnTo>
                  <a:pt x="2136" y="2795"/>
                </a:lnTo>
                <a:lnTo>
                  <a:pt x="2161" y="2821"/>
                </a:lnTo>
                <a:lnTo>
                  <a:pt x="2184" y="2845"/>
                </a:lnTo>
                <a:lnTo>
                  <a:pt x="2190" y="2851"/>
                </a:lnTo>
                <a:lnTo>
                  <a:pt x="2196" y="2855"/>
                </a:lnTo>
                <a:lnTo>
                  <a:pt x="2203" y="2859"/>
                </a:lnTo>
                <a:lnTo>
                  <a:pt x="2210" y="2862"/>
                </a:lnTo>
                <a:lnTo>
                  <a:pt x="2218" y="2865"/>
                </a:lnTo>
                <a:lnTo>
                  <a:pt x="2225" y="2867"/>
                </a:lnTo>
                <a:lnTo>
                  <a:pt x="2233" y="2869"/>
                </a:lnTo>
                <a:lnTo>
                  <a:pt x="2243" y="2870"/>
                </a:lnTo>
                <a:lnTo>
                  <a:pt x="2251" y="2869"/>
                </a:lnTo>
                <a:lnTo>
                  <a:pt x="2260" y="2867"/>
                </a:lnTo>
                <a:lnTo>
                  <a:pt x="2267" y="2866"/>
                </a:lnTo>
                <a:lnTo>
                  <a:pt x="2275" y="2863"/>
                </a:lnTo>
                <a:lnTo>
                  <a:pt x="2288" y="2858"/>
                </a:lnTo>
                <a:lnTo>
                  <a:pt x="2302" y="2851"/>
                </a:lnTo>
                <a:lnTo>
                  <a:pt x="2315" y="2844"/>
                </a:lnTo>
                <a:lnTo>
                  <a:pt x="2328" y="2838"/>
                </a:lnTo>
                <a:lnTo>
                  <a:pt x="2336" y="2836"/>
                </a:lnTo>
                <a:lnTo>
                  <a:pt x="2343" y="2834"/>
                </a:lnTo>
                <a:lnTo>
                  <a:pt x="2352" y="2833"/>
                </a:lnTo>
                <a:lnTo>
                  <a:pt x="2360" y="2832"/>
                </a:lnTo>
                <a:lnTo>
                  <a:pt x="2373" y="2835"/>
                </a:lnTo>
                <a:lnTo>
                  <a:pt x="2384" y="2839"/>
                </a:lnTo>
                <a:lnTo>
                  <a:pt x="2384" y="2846"/>
                </a:lnTo>
                <a:lnTo>
                  <a:pt x="2385" y="2854"/>
                </a:lnTo>
                <a:lnTo>
                  <a:pt x="2388" y="2860"/>
                </a:lnTo>
                <a:lnTo>
                  <a:pt x="2390" y="2866"/>
                </a:lnTo>
                <a:lnTo>
                  <a:pt x="2391" y="2873"/>
                </a:lnTo>
                <a:lnTo>
                  <a:pt x="2393" y="2879"/>
                </a:lnTo>
                <a:lnTo>
                  <a:pt x="2394" y="2885"/>
                </a:lnTo>
                <a:lnTo>
                  <a:pt x="2394" y="2893"/>
                </a:lnTo>
                <a:lnTo>
                  <a:pt x="2390" y="2907"/>
                </a:lnTo>
                <a:lnTo>
                  <a:pt x="2384" y="2920"/>
                </a:lnTo>
                <a:lnTo>
                  <a:pt x="2384" y="2928"/>
                </a:lnTo>
                <a:lnTo>
                  <a:pt x="2387" y="2933"/>
                </a:lnTo>
                <a:lnTo>
                  <a:pt x="2389" y="2939"/>
                </a:lnTo>
                <a:lnTo>
                  <a:pt x="2392" y="2945"/>
                </a:lnTo>
                <a:lnTo>
                  <a:pt x="2400" y="2953"/>
                </a:lnTo>
                <a:lnTo>
                  <a:pt x="2410" y="2960"/>
                </a:lnTo>
                <a:lnTo>
                  <a:pt x="2420" y="2968"/>
                </a:lnTo>
                <a:lnTo>
                  <a:pt x="2432" y="2975"/>
                </a:lnTo>
                <a:lnTo>
                  <a:pt x="2437" y="2979"/>
                </a:lnTo>
                <a:lnTo>
                  <a:pt x="2442" y="2985"/>
                </a:lnTo>
                <a:lnTo>
                  <a:pt x="2448" y="2990"/>
                </a:lnTo>
                <a:lnTo>
                  <a:pt x="2452" y="2995"/>
                </a:lnTo>
                <a:lnTo>
                  <a:pt x="2457" y="3004"/>
                </a:lnTo>
                <a:lnTo>
                  <a:pt x="2459" y="3012"/>
                </a:lnTo>
                <a:lnTo>
                  <a:pt x="2461" y="3021"/>
                </a:lnTo>
                <a:lnTo>
                  <a:pt x="2461" y="3029"/>
                </a:lnTo>
                <a:lnTo>
                  <a:pt x="2463" y="3039"/>
                </a:lnTo>
                <a:lnTo>
                  <a:pt x="2463" y="3047"/>
                </a:lnTo>
                <a:lnTo>
                  <a:pt x="2464" y="3056"/>
                </a:lnTo>
                <a:lnTo>
                  <a:pt x="2466" y="3066"/>
                </a:lnTo>
                <a:lnTo>
                  <a:pt x="2469" y="3078"/>
                </a:lnTo>
                <a:lnTo>
                  <a:pt x="2472" y="3089"/>
                </a:lnTo>
                <a:lnTo>
                  <a:pt x="2476" y="3099"/>
                </a:lnTo>
                <a:lnTo>
                  <a:pt x="2482" y="3108"/>
                </a:lnTo>
                <a:lnTo>
                  <a:pt x="2487" y="3118"/>
                </a:lnTo>
                <a:lnTo>
                  <a:pt x="2494" y="3125"/>
                </a:lnTo>
                <a:lnTo>
                  <a:pt x="2503" y="3133"/>
                </a:lnTo>
                <a:lnTo>
                  <a:pt x="2513" y="3138"/>
                </a:lnTo>
                <a:lnTo>
                  <a:pt x="2525" y="3141"/>
                </a:lnTo>
                <a:lnTo>
                  <a:pt x="2538" y="3143"/>
                </a:lnTo>
                <a:lnTo>
                  <a:pt x="2550" y="3143"/>
                </a:lnTo>
                <a:lnTo>
                  <a:pt x="2563" y="3144"/>
                </a:lnTo>
                <a:lnTo>
                  <a:pt x="2569" y="3144"/>
                </a:lnTo>
                <a:lnTo>
                  <a:pt x="2574" y="3145"/>
                </a:lnTo>
                <a:lnTo>
                  <a:pt x="2579" y="3147"/>
                </a:lnTo>
                <a:lnTo>
                  <a:pt x="2583" y="3148"/>
                </a:lnTo>
                <a:lnTo>
                  <a:pt x="2586" y="3152"/>
                </a:lnTo>
                <a:lnTo>
                  <a:pt x="2589" y="3155"/>
                </a:lnTo>
                <a:lnTo>
                  <a:pt x="2590" y="3159"/>
                </a:lnTo>
                <a:lnTo>
                  <a:pt x="2591" y="3165"/>
                </a:lnTo>
                <a:lnTo>
                  <a:pt x="2590" y="3173"/>
                </a:lnTo>
                <a:lnTo>
                  <a:pt x="2589" y="3179"/>
                </a:lnTo>
                <a:lnTo>
                  <a:pt x="2586" y="3184"/>
                </a:lnTo>
                <a:lnTo>
                  <a:pt x="2582" y="3191"/>
                </a:lnTo>
                <a:lnTo>
                  <a:pt x="2573" y="3200"/>
                </a:lnTo>
                <a:lnTo>
                  <a:pt x="2563" y="3209"/>
                </a:lnTo>
                <a:lnTo>
                  <a:pt x="2552" y="3218"/>
                </a:lnTo>
                <a:lnTo>
                  <a:pt x="2543" y="3228"/>
                </a:lnTo>
                <a:lnTo>
                  <a:pt x="2539" y="3234"/>
                </a:lnTo>
                <a:lnTo>
                  <a:pt x="2536" y="3239"/>
                </a:lnTo>
                <a:lnTo>
                  <a:pt x="2534" y="3245"/>
                </a:lnTo>
                <a:lnTo>
                  <a:pt x="2533" y="3253"/>
                </a:lnTo>
                <a:lnTo>
                  <a:pt x="2534" y="3261"/>
                </a:lnTo>
                <a:lnTo>
                  <a:pt x="2536" y="3269"/>
                </a:lnTo>
                <a:lnTo>
                  <a:pt x="2539" y="3276"/>
                </a:lnTo>
                <a:lnTo>
                  <a:pt x="2542" y="3282"/>
                </a:lnTo>
                <a:lnTo>
                  <a:pt x="2545" y="3290"/>
                </a:lnTo>
                <a:lnTo>
                  <a:pt x="2548" y="3296"/>
                </a:lnTo>
                <a:lnTo>
                  <a:pt x="2550" y="3305"/>
                </a:lnTo>
                <a:lnTo>
                  <a:pt x="2550" y="3313"/>
                </a:lnTo>
                <a:lnTo>
                  <a:pt x="2574" y="3313"/>
                </a:lnTo>
                <a:lnTo>
                  <a:pt x="2596" y="3313"/>
                </a:lnTo>
                <a:lnTo>
                  <a:pt x="2617" y="3312"/>
                </a:lnTo>
                <a:lnTo>
                  <a:pt x="2641" y="3311"/>
                </a:lnTo>
                <a:lnTo>
                  <a:pt x="2649" y="3311"/>
                </a:lnTo>
                <a:lnTo>
                  <a:pt x="2658" y="3312"/>
                </a:lnTo>
                <a:lnTo>
                  <a:pt x="2665" y="3314"/>
                </a:lnTo>
                <a:lnTo>
                  <a:pt x="2673" y="3316"/>
                </a:lnTo>
                <a:lnTo>
                  <a:pt x="2686" y="3322"/>
                </a:lnTo>
                <a:lnTo>
                  <a:pt x="2699" y="3328"/>
                </a:lnTo>
                <a:lnTo>
                  <a:pt x="2713" y="3334"/>
                </a:lnTo>
                <a:lnTo>
                  <a:pt x="2727" y="3339"/>
                </a:lnTo>
                <a:lnTo>
                  <a:pt x="2734" y="3342"/>
                </a:lnTo>
                <a:lnTo>
                  <a:pt x="2741" y="3344"/>
                </a:lnTo>
                <a:lnTo>
                  <a:pt x="2749" y="3345"/>
                </a:lnTo>
                <a:lnTo>
                  <a:pt x="2758" y="3345"/>
                </a:lnTo>
                <a:lnTo>
                  <a:pt x="2767" y="3345"/>
                </a:lnTo>
                <a:lnTo>
                  <a:pt x="2774" y="3344"/>
                </a:lnTo>
                <a:lnTo>
                  <a:pt x="2781" y="3342"/>
                </a:lnTo>
                <a:lnTo>
                  <a:pt x="2789" y="3341"/>
                </a:lnTo>
                <a:lnTo>
                  <a:pt x="2803" y="3335"/>
                </a:lnTo>
                <a:lnTo>
                  <a:pt x="2816" y="3330"/>
                </a:lnTo>
                <a:lnTo>
                  <a:pt x="2829" y="3324"/>
                </a:lnTo>
                <a:lnTo>
                  <a:pt x="2843" y="3319"/>
                </a:lnTo>
                <a:lnTo>
                  <a:pt x="2850" y="3317"/>
                </a:lnTo>
                <a:lnTo>
                  <a:pt x="2857" y="3315"/>
                </a:lnTo>
                <a:lnTo>
                  <a:pt x="2866" y="3315"/>
                </a:lnTo>
                <a:lnTo>
                  <a:pt x="2874" y="3314"/>
                </a:lnTo>
                <a:lnTo>
                  <a:pt x="2967" y="3314"/>
                </a:lnTo>
                <a:lnTo>
                  <a:pt x="2976" y="3314"/>
                </a:lnTo>
                <a:lnTo>
                  <a:pt x="2983" y="3312"/>
                </a:lnTo>
                <a:lnTo>
                  <a:pt x="2989" y="3310"/>
                </a:lnTo>
                <a:lnTo>
                  <a:pt x="2996" y="3308"/>
                </a:lnTo>
                <a:lnTo>
                  <a:pt x="3008" y="3301"/>
                </a:lnTo>
                <a:lnTo>
                  <a:pt x="3022" y="3297"/>
                </a:lnTo>
                <a:lnTo>
                  <a:pt x="3058" y="3291"/>
                </a:lnTo>
                <a:lnTo>
                  <a:pt x="3090" y="3287"/>
                </a:lnTo>
                <a:lnTo>
                  <a:pt x="3123" y="3283"/>
                </a:lnTo>
                <a:lnTo>
                  <a:pt x="3158" y="3280"/>
                </a:lnTo>
                <a:lnTo>
                  <a:pt x="3165" y="3276"/>
                </a:lnTo>
                <a:lnTo>
                  <a:pt x="3170" y="3272"/>
                </a:lnTo>
                <a:lnTo>
                  <a:pt x="3172" y="3270"/>
                </a:lnTo>
                <a:lnTo>
                  <a:pt x="3175" y="3269"/>
                </a:lnTo>
                <a:lnTo>
                  <a:pt x="3179" y="3268"/>
                </a:lnTo>
                <a:lnTo>
                  <a:pt x="3183" y="3267"/>
                </a:lnTo>
                <a:lnTo>
                  <a:pt x="3189" y="3272"/>
                </a:lnTo>
                <a:lnTo>
                  <a:pt x="3195" y="3277"/>
                </a:lnTo>
                <a:lnTo>
                  <a:pt x="3191" y="3293"/>
                </a:lnTo>
                <a:lnTo>
                  <a:pt x="3187" y="3308"/>
                </a:lnTo>
                <a:lnTo>
                  <a:pt x="3185" y="3315"/>
                </a:lnTo>
                <a:lnTo>
                  <a:pt x="3183" y="3323"/>
                </a:lnTo>
                <a:lnTo>
                  <a:pt x="3180" y="3330"/>
                </a:lnTo>
                <a:lnTo>
                  <a:pt x="3175" y="3338"/>
                </a:lnTo>
                <a:lnTo>
                  <a:pt x="3171" y="3345"/>
                </a:lnTo>
                <a:lnTo>
                  <a:pt x="3167" y="3349"/>
                </a:lnTo>
                <a:lnTo>
                  <a:pt x="3162" y="3353"/>
                </a:lnTo>
                <a:lnTo>
                  <a:pt x="3156" y="3356"/>
                </a:lnTo>
                <a:lnTo>
                  <a:pt x="3146" y="3362"/>
                </a:lnTo>
                <a:lnTo>
                  <a:pt x="3133" y="3364"/>
                </a:lnTo>
                <a:lnTo>
                  <a:pt x="3119" y="3366"/>
                </a:lnTo>
                <a:lnTo>
                  <a:pt x="3106" y="3368"/>
                </a:lnTo>
                <a:lnTo>
                  <a:pt x="3091" y="3370"/>
                </a:lnTo>
                <a:lnTo>
                  <a:pt x="3077" y="3375"/>
                </a:lnTo>
                <a:lnTo>
                  <a:pt x="3071" y="3380"/>
                </a:lnTo>
                <a:lnTo>
                  <a:pt x="3066" y="3385"/>
                </a:lnTo>
                <a:lnTo>
                  <a:pt x="3061" y="3390"/>
                </a:lnTo>
                <a:lnTo>
                  <a:pt x="3057" y="3395"/>
                </a:lnTo>
                <a:lnTo>
                  <a:pt x="3053" y="3401"/>
                </a:lnTo>
                <a:lnTo>
                  <a:pt x="3049" y="3405"/>
                </a:lnTo>
                <a:lnTo>
                  <a:pt x="3047" y="3407"/>
                </a:lnTo>
                <a:lnTo>
                  <a:pt x="3043" y="3408"/>
                </a:lnTo>
                <a:lnTo>
                  <a:pt x="3040" y="3409"/>
                </a:lnTo>
                <a:lnTo>
                  <a:pt x="3036" y="3409"/>
                </a:lnTo>
                <a:lnTo>
                  <a:pt x="3028" y="3409"/>
                </a:lnTo>
                <a:lnTo>
                  <a:pt x="3020" y="3407"/>
                </a:lnTo>
                <a:lnTo>
                  <a:pt x="3013" y="3404"/>
                </a:lnTo>
                <a:lnTo>
                  <a:pt x="3005" y="3401"/>
                </a:lnTo>
                <a:lnTo>
                  <a:pt x="2999" y="3398"/>
                </a:lnTo>
                <a:lnTo>
                  <a:pt x="2992" y="3395"/>
                </a:lnTo>
                <a:lnTo>
                  <a:pt x="2984" y="3393"/>
                </a:lnTo>
                <a:lnTo>
                  <a:pt x="2975" y="3392"/>
                </a:lnTo>
                <a:lnTo>
                  <a:pt x="2954" y="3393"/>
                </a:lnTo>
                <a:lnTo>
                  <a:pt x="2936" y="3396"/>
                </a:lnTo>
                <a:lnTo>
                  <a:pt x="2917" y="3401"/>
                </a:lnTo>
                <a:lnTo>
                  <a:pt x="2897" y="3406"/>
                </a:lnTo>
                <a:lnTo>
                  <a:pt x="2900" y="3413"/>
                </a:lnTo>
                <a:lnTo>
                  <a:pt x="2904" y="3420"/>
                </a:lnTo>
                <a:lnTo>
                  <a:pt x="2908" y="3426"/>
                </a:lnTo>
                <a:lnTo>
                  <a:pt x="2913" y="3430"/>
                </a:lnTo>
                <a:lnTo>
                  <a:pt x="2925" y="3440"/>
                </a:lnTo>
                <a:lnTo>
                  <a:pt x="2938" y="3450"/>
                </a:lnTo>
                <a:lnTo>
                  <a:pt x="2942" y="3455"/>
                </a:lnTo>
                <a:lnTo>
                  <a:pt x="2944" y="3460"/>
                </a:lnTo>
                <a:lnTo>
                  <a:pt x="2946" y="3462"/>
                </a:lnTo>
                <a:lnTo>
                  <a:pt x="2947" y="3464"/>
                </a:lnTo>
                <a:lnTo>
                  <a:pt x="2949" y="3465"/>
                </a:lnTo>
                <a:lnTo>
                  <a:pt x="2953" y="3465"/>
                </a:lnTo>
                <a:lnTo>
                  <a:pt x="2977" y="3465"/>
                </a:lnTo>
                <a:lnTo>
                  <a:pt x="2999" y="3466"/>
                </a:lnTo>
                <a:lnTo>
                  <a:pt x="3019" y="3466"/>
                </a:lnTo>
                <a:lnTo>
                  <a:pt x="3040" y="3466"/>
                </a:lnTo>
                <a:lnTo>
                  <a:pt x="3060" y="3466"/>
                </a:lnTo>
                <a:lnTo>
                  <a:pt x="3080" y="3467"/>
                </a:lnTo>
                <a:lnTo>
                  <a:pt x="3102" y="3467"/>
                </a:lnTo>
                <a:lnTo>
                  <a:pt x="3127" y="3467"/>
                </a:lnTo>
                <a:lnTo>
                  <a:pt x="3140" y="3467"/>
                </a:lnTo>
                <a:lnTo>
                  <a:pt x="3153" y="3466"/>
                </a:lnTo>
                <a:lnTo>
                  <a:pt x="3166" y="3465"/>
                </a:lnTo>
                <a:lnTo>
                  <a:pt x="3177" y="3463"/>
                </a:lnTo>
                <a:lnTo>
                  <a:pt x="3188" y="3459"/>
                </a:lnTo>
                <a:lnTo>
                  <a:pt x="3199" y="3454"/>
                </a:lnTo>
                <a:lnTo>
                  <a:pt x="3204" y="3450"/>
                </a:lnTo>
                <a:lnTo>
                  <a:pt x="3208" y="3446"/>
                </a:lnTo>
                <a:lnTo>
                  <a:pt x="3212" y="3442"/>
                </a:lnTo>
                <a:lnTo>
                  <a:pt x="3217" y="3437"/>
                </a:lnTo>
                <a:lnTo>
                  <a:pt x="3264" y="3447"/>
                </a:lnTo>
                <a:lnTo>
                  <a:pt x="3274" y="3443"/>
                </a:lnTo>
                <a:lnTo>
                  <a:pt x="3282" y="3439"/>
                </a:lnTo>
                <a:lnTo>
                  <a:pt x="3290" y="3434"/>
                </a:lnTo>
                <a:lnTo>
                  <a:pt x="3297" y="3428"/>
                </a:lnTo>
                <a:lnTo>
                  <a:pt x="3303" y="3422"/>
                </a:lnTo>
                <a:lnTo>
                  <a:pt x="3307" y="3414"/>
                </a:lnTo>
                <a:lnTo>
                  <a:pt x="3311" y="3406"/>
                </a:lnTo>
                <a:lnTo>
                  <a:pt x="3312" y="3395"/>
                </a:lnTo>
                <a:lnTo>
                  <a:pt x="3311" y="3388"/>
                </a:lnTo>
                <a:lnTo>
                  <a:pt x="3309" y="3382"/>
                </a:lnTo>
                <a:lnTo>
                  <a:pt x="3307" y="3374"/>
                </a:lnTo>
                <a:lnTo>
                  <a:pt x="3303" y="3368"/>
                </a:lnTo>
                <a:lnTo>
                  <a:pt x="3299" y="3363"/>
                </a:lnTo>
                <a:lnTo>
                  <a:pt x="3294" y="3358"/>
                </a:lnTo>
                <a:lnTo>
                  <a:pt x="3287" y="3356"/>
                </a:lnTo>
                <a:lnTo>
                  <a:pt x="3281" y="3355"/>
                </a:lnTo>
                <a:lnTo>
                  <a:pt x="3276" y="3355"/>
                </a:lnTo>
                <a:lnTo>
                  <a:pt x="3271" y="3356"/>
                </a:lnTo>
                <a:lnTo>
                  <a:pt x="3267" y="3358"/>
                </a:lnTo>
                <a:lnTo>
                  <a:pt x="3263" y="3361"/>
                </a:lnTo>
                <a:lnTo>
                  <a:pt x="3260" y="3362"/>
                </a:lnTo>
                <a:lnTo>
                  <a:pt x="3256" y="3364"/>
                </a:lnTo>
                <a:lnTo>
                  <a:pt x="3251" y="3365"/>
                </a:lnTo>
                <a:lnTo>
                  <a:pt x="3246" y="3365"/>
                </a:lnTo>
                <a:lnTo>
                  <a:pt x="3240" y="3364"/>
                </a:lnTo>
                <a:lnTo>
                  <a:pt x="3233" y="3362"/>
                </a:lnTo>
                <a:lnTo>
                  <a:pt x="3209" y="3362"/>
                </a:lnTo>
                <a:lnTo>
                  <a:pt x="3209" y="3334"/>
                </a:lnTo>
                <a:lnTo>
                  <a:pt x="3210" y="3328"/>
                </a:lnTo>
                <a:lnTo>
                  <a:pt x="3211" y="3322"/>
                </a:lnTo>
                <a:lnTo>
                  <a:pt x="3212" y="3315"/>
                </a:lnTo>
                <a:lnTo>
                  <a:pt x="3214" y="3310"/>
                </a:lnTo>
                <a:lnTo>
                  <a:pt x="3218" y="3305"/>
                </a:lnTo>
                <a:lnTo>
                  <a:pt x="3221" y="3299"/>
                </a:lnTo>
                <a:lnTo>
                  <a:pt x="3225" y="3295"/>
                </a:lnTo>
                <a:lnTo>
                  <a:pt x="3229" y="3291"/>
                </a:lnTo>
                <a:lnTo>
                  <a:pt x="3233" y="3287"/>
                </a:lnTo>
                <a:lnTo>
                  <a:pt x="3239" y="3283"/>
                </a:lnTo>
                <a:lnTo>
                  <a:pt x="3244" y="3280"/>
                </a:lnTo>
                <a:lnTo>
                  <a:pt x="3249" y="3278"/>
                </a:lnTo>
                <a:lnTo>
                  <a:pt x="3256" y="3276"/>
                </a:lnTo>
                <a:lnTo>
                  <a:pt x="3261" y="3275"/>
                </a:lnTo>
                <a:lnTo>
                  <a:pt x="3267" y="3274"/>
                </a:lnTo>
                <a:lnTo>
                  <a:pt x="3274" y="3274"/>
                </a:lnTo>
                <a:lnTo>
                  <a:pt x="3281" y="3277"/>
                </a:lnTo>
                <a:lnTo>
                  <a:pt x="3287" y="3280"/>
                </a:lnTo>
                <a:lnTo>
                  <a:pt x="3369" y="3280"/>
                </a:lnTo>
                <a:lnTo>
                  <a:pt x="3380" y="3279"/>
                </a:lnTo>
                <a:lnTo>
                  <a:pt x="3390" y="3277"/>
                </a:lnTo>
                <a:lnTo>
                  <a:pt x="3399" y="3275"/>
                </a:lnTo>
                <a:lnTo>
                  <a:pt x="3409" y="3271"/>
                </a:lnTo>
                <a:lnTo>
                  <a:pt x="3426" y="3259"/>
                </a:lnTo>
                <a:lnTo>
                  <a:pt x="3444" y="3247"/>
                </a:lnTo>
                <a:lnTo>
                  <a:pt x="3450" y="3267"/>
                </a:lnTo>
                <a:lnTo>
                  <a:pt x="3453" y="3286"/>
                </a:lnTo>
                <a:lnTo>
                  <a:pt x="3456" y="3294"/>
                </a:lnTo>
                <a:lnTo>
                  <a:pt x="3459" y="3303"/>
                </a:lnTo>
                <a:lnTo>
                  <a:pt x="3465" y="3310"/>
                </a:lnTo>
                <a:lnTo>
                  <a:pt x="3471" y="3317"/>
                </a:lnTo>
                <a:lnTo>
                  <a:pt x="3481" y="3326"/>
                </a:lnTo>
                <a:lnTo>
                  <a:pt x="3491" y="3331"/>
                </a:lnTo>
                <a:lnTo>
                  <a:pt x="3501" y="3335"/>
                </a:lnTo>
                <a:lnTo>
                  <a:pt x="3511" y="3338"/>
                </a:lnTo>
                <a:lnTo>
                  <a:pt x="3522" y="3342"/>
                </a:lnTo>
                <a:lnTo>
                  <a:pt x="3532" y="3346"/>
                </a:lnTo>
                <a:lnTo>
                  <a:pt x="3543" y="3351"/>
                </a:lnTo>
                <a:lnTo>
                  <a:pt x="3552" y="3358"/>
                </a:lnTo>
                <a:lnTo>
                  <a:pt x="3566" y="3372"/>
                </a:lnTo>
                <a:lnTo>
                  <a:pt x="3577" y="3386"/>
                </a:lnTo>
                <a:lnTo>
                  <a:pt x="3583" y="3392"/>
                </a:lnTo>
                <a:lnTo>
                  <a:pt x="3588" y="3399"/>
                </a:lnTo>
                <a:lnTo>
                  <a:pt x="3596" y="3404"/>
                </a:lnTo>
                <a:lnTo>
                  <a:pt x="3603" y="3409"/>
                </a:lnTo>
                <a:lnTo>
                  <a:pt x="3613" y="3413"/>
                </a:lnTo>
                <a:lnTo>
                  <a:pt x="3621" y="3417"/>
                </a:lnTo>
                <a:lnTo>
                  <a:pt x="3629" y="3419"/>
                </a:lnTo>
                <a:lnTo>
                  <a:pt x="3637" y="3421"/>
                </a:lnTo>
                <a:lnTo>
                  <a:pt x="3645" y="3423"/>
                </a:lnTo>
                <a:lnTo>
                  <a:pt x="3653" y="3426"/>
                </a:lnTo>
                <a:lnTo>
                  <a:pt x="3661" y="3430"/>
                </a:lnTo>
                <a:lnTo>
                  <a:pt x="3668" y="3437"/>
                </a:lnTo>
                <a:lnTo>
                  <a:pt x="3668" y="3507"/>
                </a:lnTo>
                <a:lnTo>
                  <a:pt x="3668" y="3512"/>
                </a:lnTo>
                <a:lnTo>
                  <a:pt x="3670" y="3516"/>
                </a:lnTo>
                <a:lnTo>
                  <a:pt x="3672" y="3519"/>
                </a:lnTo>
                <a:lnTo>
                  <a:pt x="3675" y="3521"/>
                </a:lnTo>
                <a:lnTo>
                  <a:pt x="3682" y="3525"/>
                </a:lnTo>
                <a:lnTo>
                  <a:pt x="3691" y="3526"/>
                </a:lnTo>
                <a:lnTo>
                  <a:pt x="3712" y="3528"/>
                </a:lnTo>
                <a:lnTo>
                  <a:pt x="3733" y="3532"/>
                </a:lnTo>
                <a:lnTo>
                  <a:pt x="3742" y="3535"/>
                </a:lnTo>
                <a:lnTo>
                  <a:pt x="3752" y="3538"/>
                </a:lnTo>
                <a:lnTo>
                  <a:pt x="3760" y="3541"/>
                </a:lnTo>
                <a:lnTo>
                  <a:pt x="3768" y="3545"/>
                </a:lnTo>
                <a:lnTo>
                  <a:pt x="3775" y="3551"/>
                </a:lnTo>
                <a:lnTo>
                  <a:pt x="3781" y="3557"/>
                </a:lnTo>
                <a:lnTo>
                  <a:pt x="3788" y="3564"/>
                </a:lnTo>
                <a:lnTo>
                  <a:pt x="3794" y="3573"/>
                </a:lnTo>
                <a:lnTo>
                  <a:pt x="3771" y="3574"/>
                </a:lnTo>
                <a:lnTo>
                  <a:pt x="3751" y="3576"/>
                </a:lnTo>
                <a:lnTo>
                  <a:pt x="3731" y="3580"/>
                </a:lnTo>
                <a:lnTo>
                  <a:pt x="3709" y="3587"/>
                </a:lnTo>
                <a:lnTo>
                  <a:pt x="3714" y="3608"/>
                </a:lnTo>
                <a:lnTo>
                  <a:pt x="3719" y="3626"/>
                </a:lnTo>
                <a:lnTo>
                  <a:pt x="3724" y="3645"/>
                </a:lnTo>
                <a:lnTo>
                  <a:pt x="3733" y="3665"/>
                </a:lnTo>
                <a:lnTo>
                  <a:pt x="3735" y="3668"/>
                </a:lnTo>
                <a:lnTo>
                  <a:pt x="3737" y="3671"/>
                </a:lnTo>
                <a:lnTo>
                  <a:pt x="3741" y="3673"/>
                </a:lnTo>
                <a:lnTo>
                  <a:pt x="3745" y="3675"/>
                </a:lnTo>
                <a:lnTo>
                  <a:pt x="3748" y="3678"/>
                </a:lnTo>
                <a:lnTo>
                  <a:pt x="3751" y="3681"/>
                </a:lnTo>
                <a:lnTo>
                  <a:pt x="3752" y="3684"/>
                </a:lnTo>
                <a:lnTo>
                  <a:pt x="3753" y="3688"/>
                </a:lnTo>
                <a:lnTo>
                  <a:pt x="3750" y="3696"/>
                </a:lnTo>
                <a:lnTo>
                  <a:pt x="3747" y="3705"/>
                </a:lnTo>
                <a:lnTo>
                  <a:pt x="3734" y="3706"/>
                </a:lnTo>
                <a:lnTo>
                  <a:pt x="3723" y="3707"/>
                </a:lnTo>
                <a:lnTo>
                  <a:pt x="3713" y="3708"/>
                </a:lnTo>
                <a:lnTo>
                  <a:pt x="3701" y="3708"/>
                </a:lnTo>
                <a:lnTo>
                  <a:pt x="3689" y="3708"/>
                </a:lnTo>
                <a:lnTo>
                  <a:pt x="3677" y="3705"/>
                </a:lnTo>
                <a:lnTo>
                  <a:pt x="3666" y="3702"/>
                </a:lnTo>
                <a:lnTo>
                  <a:pt x="3656" y="3698"/>
                </a:lnTo>
                <a:lnTo>
                  <a:pt x="3645" y="3694"/>
                </a:lnTo>
                <a:lnTo>
                  <a:pt x="3635" y="3690"/>
                </a:lnTo>
                <a:lnTo>
                  <a:pt x="3623" y="3687"/>
                </a:lnTo>
                <a:lnTo>
                  <a:pt x="3610" y="3685"/>
                </a:lnTo>
                <a:lnTo>
                  <a:pt x="3594" y="3684"/>
                </a:lnTo>
                <a:lnTo>
                  <a:pt x="3578" y="3685"/>
                </a:lnTo>
                <a:lnTo>
                  <a:pt x="3563" y="3686"/>
                </a:lnTo>
                <a:lnTo>
                  <a:pt x="3548" y="3687"/>
                </a:lnTo>
                <a:lnTo>
                  <a:pt x="3541" y="3687"/>
                </a:lnTo>
                <a:lnTo>
                  <a:pt x="3533" y="3687"/>
                </a:lnTo>
                <a:lnTo>
                  <a:pt x="3527" y="3686"/>
                </a:lnTo>
                <a:lnTo>
                  <a:pt x="3521" y="3684"/>
                </a:lnTo>
                <a:lnTo>
                  <a:pt x="3514" y="3682"/>
                </a:lnTo>
                <a:lnTo>
                  <a:pt x="3509" y="3678"/>
                </a:lnTo>
                <a:lnTo>
                  <a:pt x="3504" y="3673"/>
                </a:lnTo>
                <a:lnTo>
                  <a:pt x="3498" y="3668"/>
                </a:lnTo>
                <a:lnTo>
                  <a:pt x="3495" y="3663"/>
                </a:lnTo>
                <a:lnTo>
                  <a:pt x="3494" y="3657"/>
                </a:lnTo>
                <a:lnTo>
                  <a:pt x="3493" y="3652"/>
                </a:lnTo>
                <a:lnTo>
                  <a:pt x="3493" y="3647"/>
                </a:lnTo>
                <a:lnTo>
                  <a:pt x="3494" y="3636"/>
                </a:lnTo>
                <a:lnTo>
                  <a:pt x="3495" y="3624"/>
                </a:lnTo>
                <a:lnTo>
                  <a:pt x="3485" y="3622"/>
                </a:lnTo>
                <a:lnTo>
                  <a:pt x="3476" y="3619"/>
                </a:lnTo>
                <a:lnTo>
                  <a:pt x="3468" y="3616"/>
                </a:lnTo>
                <a:lnTo>
                  <a:pt x="3460" y="3613"/>
                </a:lnTo>
                <a:lnTo>
                  <a:pt x="3447" y="3603"/>
                </a:lnTo>
                <a:lnTo>
                  <a:pt x="3434" y="3593"/>
                </a:lnTo>
                <a:lnTo>
                  <a:pt x="3421" y="3582"/>
                </a:lnTo>
                <a:lnTo>
                  <a:pt x="3408" y="3571"/>
                </a:lnTo>
                <a:lnTo>
                  <a:pt x="3401" y="3565"/>
                </a:lnTo>
                <a:lnTo>
                  <a:pt x="3393" y="3560"/>
                </a:lnTo>
                <a:lnTo>
                  <a:pt x="3384" y="3556"/>
                </a:lnTo>
                <a:lnTo>
                  <a:pt x="3376" y="3552"/>
                </a:lnTo>
                <a:lnTo>
                  <a:pt x="3372" y="3565"/>
                </a:lnTo>
                <a:lnTo>
                  <a:pt x="3370" y="3579"/>
                </a:lnTo>
                <a:lnTo>
                  <a:pt x="3370" y="3593"/>
                </a:lnTo>
                <a:lnTo>
                  <a:pt x="3372" y="3605"/>
                </a:lnTo>
                <a:lnTo>
                  <a:pt x="3375" y="3616"/>
                </a:lnTo>
                <a:lnTo>
                  <a:pt x="3379" y="3628"/>
                </a:lnTo>
                <a:lnTo>
                  <a:pt x="3389" y="3648"/>
                </a:lnTo>
                <a:lnTo>
                  <a:pt x="3399" y="3668"/>
                </a:lnTo>
                <a:lnTo>
                  <a:pt x="3411" y="3687"/>
                </a:lnTo>
                <a:lnTo>
                  <a:pt x="3420" y="3708"/>
                </a:lnTo>
                <a:lnTo>
                  <a:pt x="3425" y="3719"/>
                </a:lnTo>
                <a:lnTo>
                  <a:pt x="3428" y="3730"/>
                </a:lnTo>
                <a:lnTo>
                  <a:pt x="3430" y="3743"/>
                </a:lnTo>
                <a:lnTo>
                  <a:pt x="3430" y="3756"/>
                </a:lnTo>
                <a:lnTo>
                  <a:pt x="3430" y="3769"/>
                </a:lnTo>
                <a:lnTo>
                  <a:pt x="3429" y="3783"/>
                </a:lnTo>
                <a:lnTo>
                  <a:pt x="3427" y="3795"/>
                </a:lnTo>
                <a:lnTo>
                  <a:pt x="3424" y="3807"/>
                </a:lnTo>
                <a:lnTo>
                  <a:pt x="3416" y="3829"/>
                </a:lnTo>
                <a:lnTo>
                  <a:pt x="3409" y="3851"/>
                </a:lnTo>
                <a:lnTo>
                  <a:pt x="3400" y="3873"/>
                </a:lnTo>
                <a:lnTo>
                  <a:pt x="3393" y="3895"/>
                </a:lnTo>
                <a:lnTo>
                  <a:pt x="3390" y="3907"/>
                </a:lnTo>
                <a:lnTo>
                  <a:pt x="3388" y="3919"/>
                </a:lnTo>
                <a:lnTo>
                  <a:pt x="3387" y="3932"/>
                </a:lnTo>
                <a:lnTo>
                  <a:pt x="3387" y="3947"/>
                </a:lnTo>
                <a:lnTo>
                  <a:pt x="3387" y="3961"/>
                </a:lnTo>
                <a:lnTo>
                  <a:pt x="3388" y="3976"/>
                </a:lnTo>
                <a:lnTo>
                  <a:pt x="3390" y="3991"/>
                </a:lnTo>
                <a:lnTo>
                  <a:pt x="3392" y="4005"/>
                </a:lnTo>
                <a:lnTo>
                  <a:pt x="3398" y="4030"/>
                </a:lnTo>
                <a:lnTo>
                  <a:pt x="3404" y="4054"/>
                </a:lnTo>
                <a:lnTo>
                  <a:pt x="3412" y="4080"/>
                </a:lnTo>
                <a:lnTo>
                  <a:pt x="3417" y="4105"/>
                </a:lnTo>
                <a:lnTo>
                  <a:pt x="3420" y="4119"/>
                </a:lnTo>
                <a:lnTo>
                  <a:pt x="3421" y="4134"/>
                </a:lnTo>
                <a:lnTo>
                  <a:pt x="3424" y="4148"/>
                </a:lnTo>
                <a:lnTo>
                  <a:pt x="3424" y="4163"/>
                </a:lnTo>
                <a:lnTo>
                  <a:pt x="3424" y="4169"/>
                </a:lnTo>
                <a:lnTo>
                  <a:pt x="3422" y="4175"/>
                </a:lnTo>
                <a:lnTo>
                  <a:pt x="3420" y="4180"/>
                </a:lnTo>
                <a:lnTo>
                  <a:pt x="3418" y="4184"/>
                </a:lnTo>
                <a:lnTo>
                  <a:pt x="3412" y="4192"/>
                </a:lnTo>
                <a:lnTo>
                  <a:pt x="3404" y="4199"/>
                </a:lnTo>
                <a:lnTo>
                  <a:pt x="3396" y="4205"/>
                </a:lnTo>
                <a:lnTo>
                  <a:pt x="3387" y="4212"/>
                </a:lnTo>
                <a:lnTo>
                  <a:pt x="3378" y="4219"/>
                </a:lnTo>
                <a:lnTo>
                  <a:pt x="3370" y="4229"/>
                </a:lnTo>
                <a:lnTo>
                  <a:pt x="3356" y="4244"/>
                </a:lnTo>
                <a:lnTo>
                  <a:pt x="3343" y="4260"/>
                </a:lnTo>
                <a:lnTo>
                  <a:pt x="3332" y="4275"/>
                </a:lnTo>
                <a:lnTo>
                  <a:pt x="3321" y="4290"/>
                </a:lnTo>
                <a:lnTo>
                  <a:pt x="3312" y="4305"/>
                </a:lnTo>
                <a:lnTo>
                  <a:pt x="3304" y="4321"/>
                </a:lnTo>
                <a:lnTo>
                  <a:pt x="3297" y="4339"/>
                </a:lnTo>
                <a:lnTo>
                  <a:pt x="3292" y="4361"/>
                </a:lnTo>
                <a:lnTo>
                  <a:pt x="3292" y="4379"/>
                </a:lnTo>
                <a:lnTo>
                  <a:pt x="3293" y="4393"/>
                </a:lnTo>
                <a:lnTo>
                  <a:pt x="3294" y="4408"/>
                </a:lnTo>
                <a:lnTo>
                  <a:pt x="3295" y="4426"/>
                </a:lnTo>
                <a:lnTo>
                  <a:pt x="3294" y="4440"/>
                </a:lnTo>
                <a:lnTo>
                  <a:pt x="3294" y="4451"/>
                </a:lnTo>
                <a:lnTo>
                  <a:pt x="3293" y="4463"/>
                </a:lnTo>
                <a:lnTo>
                  <a:pt x="3290" y="4477"/>
                </a:lnTo>
                <a:lnTo>
                  <a:pt x="3295" y="4478"/>
                </a:lnTo>
                <a:lnTo>
                  <a:pt x="3298" y="4480"/>
                </a:lnTo>
                <a:lnTo>
                  <a:pt x="3305" y="4484"/>
                </a:lnTo>
                <a:lnTo>
                  <a:pt x="3312" y="4488"/>
                </a:lnTo>
                <a:lnTo>
                  <a:pt x="3316" y="4495"/>
                </a:lnTo>
                <a:lnTo>
                  <a:pt x="3319" y="4501"/>
                </a:lnTo>
                <a:lnTo>
                  <a:pt x="3322" y="4508"/>
                </a:lnTo>
                <a:lnTo>
                  <a:pt x="3324" y="4517"/>
                </a:lnTo>
                <a:lnTo>
                  <a:pt x="3324" y="4525"/>
                </a:lnTo>
                <a:lnTo>
                  <a:pt x="3325" y="4534"/>
                </a:lnTo>
                <a:lnTo>
                  <a:pt x="3324" y="4540"/>
                </a:lnTo>
                <a:lnTo>
                  <a:pt x="3323" y="4546"/>
                </a:lnTo>
                <a:lnTo>
                  <a:pt x="3322" y="4552"/>
                </a:lnTo>
                <a:lnTo>
                  <a:pt x="3320" y="4557"/>
                </a:lnTo>
                <a:lnTo>
                  <a:pt x="3317" y="4562"/>
                </a:lnTo>
                <a:lnTo>
                  <a:pt x="3314" y="4568"/>
                </a:lnTo>
                <a:lnTo>
                  <a:pt x="3311" y="4572"/>
                </a:lnTo>
                <a:lnTo>
                  <a:pt x="3306" y="4576"/>
                </a:lnTo>
                <a:lnTo>
                  <a:pt x="3298" y="4583"/>
                </a:lnTo>
                <a:lnTo>
                  <a:pt x="3287" y="4590"/>
                </a:lnTo>
                <a:lnTo>
                  <a:pt x="3276" y="4596"/>
                </a:lnTo>
                <a:lnTo>
                  <a:pt x="3264" y="4601"/>
                </a:lnTo>
                <a:lnTo>
                  <a:pt x="3259" y="4604"/>
                </a:lnTo>
                <a:lnTo>
                  <a:pt x="3255" y="4608"/>
                </a:lnTo>
                <a:lnTo>
                  <a:pt x="3250" y="4612"/>
                </a:lnTo>
                <a:lnTo>
                  <a:pt x="3247" y="4616"/>
                </a:lnTo>
                <a:lnTo>
                  <a:pt x="3243" y="4619"/>
                </a:lnTo>
                <a:lnTo>
                  <a:pt x="3240" y="4622"/>
                </a:lnTo>
                <a:lnTo>
                  <a:pt x="3234" y="4625"/>
                </a:lnTo>
                <a:lnTo>
                  <a:pt x="3229" y="4626"/>
                </a:lnTo>
                <a:lnTo>
                  <a:pt x="3203" y="4626"/>
                </a:lnTo>
                <a:lnTo>
                  <a:pt x="3193" y="4649"/>
                </a:lnTo>
                <a:lnTo>
                  <a:pt x="3185" y="4669"/>
                </a:lnTo>
                <a:lnTo>
                  <a:pt x="3182" y="4679"/>
                </a:lnTo>
                <a:lnTo>
                  <a:pt x="3180" y="4690"/>
                </a:lnTo>
                <a:lnTo>
                  <a:pt x="3177" y="4703"/>
                </a:lnTo>
                <a:lnTo>
                  <a:pt x="3176" y="4715"/>
                </a:lnTo>
                <a:lnTo>
                  <a:pt x="3181" y="4715"/>
                </a:lnTo>
                <a:lnTo>
                  <a:pt x="3185" y="4715"/>
                </a:lnTo>
                <a:lnTo>
                  <a:pt x="3190" y="4716"/>
                </a:lnTo>
                <a:lnTo>
                  <a:pt x="3195" y="4717"/>
                </a:lnTo>
                <a:lnTo>
                  <a:pt x="3207" y="4722"/>
                </a:lnTo>
                <a:lnTo>
                  <a:pt x="3217" y="4726"/>
                </a:lnTo>
                <a:lnTo>
                  <a:pt x="3257" y="4701"/>
                </a:lnTo>
                <a:lnTo>
                  <a:pt x="3266" y="4705"/>
                </a:lnTo>
                <a:lnTo>
                  <a:pt x="3274" y="4708"/>
                </a:lnTo>
                <a:lnTo>
                  <a:pt x="3282" y="4710"/>
                </a:lnTo>
                <a:lnTo>
                  <a:pt x="3292" y="4710"/>
                </a:lnTo>
                <a:lnTo>
                  <a:pt x="3301" y="4710"/>
                </a:lnTo>
                <a:lnTo>
                  <a:pt x="3309" y="4708"/>
                </a:lnTo>
                <a:lnTo>
                  <a:pt x="3318" y="4706"/>
                </a:lnTo>
                <a:lnTo>
                  <a:pt x="3325" y="4702"/>
                </a:lnTo>
                <a:lnTo>
                  <a:pt x="3333" y="4697"/>
                </a:lnTo>
                <a:lnTo>
                  <a:pt x="3339" y="4692"/>
                </a:lnTo>
                <a:lnTo>
                  <a:pt x="3345" y="4687"/>
                </a:lnTo>
                <a:lnTo>
                  <a:pt x="3352" y="4681"/>
                </a:lnTo>
                <a:lnTo>
                  <a:pt x="3374" y="4652"/>
                </a:lnTo>
                <a:lnTo>
                  <a:pt x="3399" y="4622"/>
                </a:lnTo>
                <a:lnTo>
                  <a:pt x="3404" y="4616"/>
                </a:lnTo>
                <a:lnTo>
                  <a:pt x="3410" y="4611"/>
                </a:lnTo>
                <a:lnTo>
                  <a:pt x="3413" y="4604"/>
                </a:lnTo>
                <a:lnTo>
                  <a:pt x="3417" y="4598"/>
                </a:lnTo>
                <a:lnTo>
                  <a:pt x="3422" y="4587"/>
                </a:lnTo>
                <a:lnTo>
                  <a:pt x="3428" y="4574"/>
                </a:lnTo>
                <a:lnTo>
                  <a:pt x="3434" y="4561"/>
                </a:lnTo>
                <a:lnTo>
                  <a:pt x="3440" y="4551"/>
                </a:lnTo>
                <a:lnTo>
                  <a:pt x="3445" y="4544"/>
                </a:lnTo>
                <a:lnTo>
                  <a:pt x="3449" y="4540"/>
                </a:lnTo>
                <a:lnTo>
                  <a:pt x="3454" y="4535"/>
                </a:lnTo>
                <a:lnTo>
                  <a:pt x="3460" y="4531"/>
                </a:lnTo>
                <a:lnTo>
                  <a:pt x="3474" y="4528"/>
                </a:lnTo>
                <a:lnTo>
                  <a:pt x="3488" y="4527"/>
                </a:lnTo>
                <a:lnTo>
                  <a:pt x="3493" y="4525"/>
                </a:lnTo>
                <a:lnTo>
                  <a:pt x="3496" y="4522"/>
                </a:lnTo>
                <a:lnTo>
                  <a:pt x="3501" y="4519"/>
                </a:lnTo>
                <a:lnTo>
                  <a:pt x="3503" y="4516"/>
                </a:lnTo>
                <a:lnTo>
                  <a:pt x="3508" y="4507"/>
                </a:lnTo>
                <a:lnTo>
                  <a:pt x="3511" y="4498"/>
                </a:lnTo>
                <a:lnTo>
                  <a:pt x="3513" y="4488"/>
                </a:lnTo>
                <a:lnTo>
                  <a:pt x="3516" y="4478"/>
                </a:lnTo>
                <a:lnTo>
                  <a:pt x="3521" y="4468"/>
                </a:lnTo>
                <a:lnTo>
                  <a:pt x="3526" y="4459"/>
                </a:lnTo>
                <a:lnTo>
                  <a:pt x="3547" y="4425"/>
                </a:lnTo>
                <a:lnTo>
                  <a:pt x="3569" y="4394"/>
                </a:lnTo>
                <a:lnTo>
                  <a:pt x="3576" y="4388"/>
                </a:lnTo>
                <a:lnTo>
                  <a:pt x="3582" y="4382"/>
                </a:lnTo>
                <a:lnTo>
                  <a:pt x="3588" y="4376"/>
                </a:lnTo>
                <a:lnTo>
                  <a:pt x="3596" y="4372"/>
                </a:lnTo>
                <a:lnTo>
                  <a:pt x="3603" y="4369"/>
                </a:lnTo>
                <a:lnTo>
                  <a:pt x="3611" y="4366"/>
                </a:lnTo>
                <a:lnTo>
                  <a:pt x="3621" y="4365"/>
                </a:lnTo>
                <a:lnTo>
                  <a:pt x="3630" y="4364"/>
                </a:lnTo>
                <a:lnTo>
                  <a:pt x="3651" y="4365"/>
                </a:lnTo>
                <a:lnTo>
                  <a:pt x="3667" y="4367"/>
                </a:lnTo>
                <a:lnTo>
                  <a:pt x="3684" y="4370"/>
                </a:lnTo>
                <a:lnTo>
                  <a:pt x="3700" y="4374"/>
                </a:lnTo>
                <a:lnTo>
                  <a:pt x="3716" y="4377"/>
                </a:lnTo>
                <a:lnTo>
                  <a:pt x="3733" y="4381"/>
                </a:lnTo>
                <a:lnTo>
                  <a:pt x="3751" y="4384"/>
                </a:lnTo>
                <a:lnTo>
                  <a:pt x="3770" y="4384"/>
                </a:lnTo>
                <a:lnTo>
                  <a:pt x="3784" y="4384"/>
                </a:lnTo>
                <a:lnTo>
                  <a:pt x="3795" y="4381"/>
                </a:lnTo>
                <a:lnTo>
                  <a:pt x="3806" y="4376"/>
                </a:lnTo>
                <a:lnTo>
                  <a:pt x="3817" y="4371"/>
                </a:lnTo>
                <a:lnTo>
                  <a:pt x="3810" y="4362"/>
                </a:lnTo>
                <a:lnTo>
                  <a:pt x="3804" y="4353"/>
                </a:lnTo>
                <a:lnTo>
                  <a:pt x="3800" y="4349"/>
                </a:lnTo>
                <a:lnTo>
                  <a:pt x="3799" y="4345"/>
                </a:lnTo>
                <a:lnTo>
                  <a:pt x="3797" y="4339"/>
                </a:lnTo>
                <a:lnTo>
                  <a:pt x="3797" y="4333"/>
                </a:lnTo>
                <a:lnTo>
                  <a:pt x="3797" y="4327"/>
                </a:lnTo>
                <a:lnTo>
                  <a:pt x="3799" y="4320"/>
                </a:lnTo>
                <a:lnTo>
                  <a:pt x="3802" y="4315"/>
                </a:lnTo>
                <a:lnTo>
                  <a:pt x="3805" y="4311"/>
                </a:lnTo>
                <a:lnTo>
                  <a:pt x="3809" y="4306"/>
                </a:lnTo>
                <a:lnTo>
                  <a:pt x="3813" y="4302"/>
                </a:lnTo>
                <a:lnTo>
                  <a:pt x="3818" y="4299"/>
                </a:lnTo>
                <a:lnTo>
                  <a:pt x="3824" y="4296"/>
                </a:lnTo>
                <a:lnTo>
                  <a:pt x="3849" y="4285"/>
                </a:lnTo>
                <a:lnTo>
                  <a:pt x="3875" y="4272"/>
                </a:lnTo>
                <a:lnTo>
                  <a:pt x="3910" y="4249"/>
                </a:lnTo>
                <a:lnTo>
                  <a:pt x="3941" y="4228"/>
                </a:lnTo>
                <a:lnTo>
                  <a:pt x="3956" y="4218"/>
                </a:lnTo>
                <a:lnTo>
                  <a:pt x="3973" y="4209"/>
                </a:lnTo>
                <a:lnTo>
                  <a:pt x="3991" y="4201"/>
                </a:lnTo>
                <a:lnTo>
                  <a:pt x="4012" y="4194"/>
                </a:lnTo>
                <a:lnTo>
                  <a:pt x="4045" y="4188"/>
                </a:lnTo>
                <a:lnTo>
                  <a:pt x="4079" y="4184"/>
                </a:lnTo>
                <a:lnTo>
                  <a:pt x="4087" y="4183"/>
                </a:lnTo>
                <a:lnTo>
                  <a:pt x="4094" y="4181"/>
                </a:lnTo>
                <a:lnTo>
                  <a:pt x="4100" y="4178"/>
                </a:lnTo>
                <a:lnTo>
                  <a:pt x="4106" y="4175"/>
                </a:lnTo>
                <a:lnTo>
                  <a:pt x="4110" y="4170"/>
                </a:lnTo>
                <a:lnTo>
                  <a:pt x="4114" y="4165"/>
                </a:lnTo>
                <a:lnTo>
                  <a:pt x="4116" y="4159"/>
                </a:lnTo>
                <a:lnTo>
                  <a:pt x="4116" y="4150"/>
                </a:lnTo>
                <a:lnTo>
                  <a:pt x="4115" y="4137"/>
                </a:lnTo>
                <a:lnTo>
                  <a:pt x="4113" y="4123"/>
                </a:lnTo>
                <a:lnTo>
                  <a:pt x="4103" y="4110"/>
                </a:lnTo>
                <a:lnTo>
                  <a:pt x="4094" y="4099"/>
                </a:lnTo>
                <a:lnTo>
                  <a:pt x="4091" y="4091"/>
                </a:lnTo>
                <a:lnTo>
                  <a:pt x="4088" y="4085"/>
                </a:lnTo>
                <a:lnTo>
                  <a:pt x="4087" y="4078"/>
                </a:lnTo>
                <a:lnTo>
                  <a:pt x="4086" y="4069"/>
                </a:lnTo>
                <a:lnTo>
                  <a:pt x="4087" y="4054"/>
                </a:lnTo>
                <a:lnTo>
                  <a:pt x="4089" y="4040"/>
                </a:lnTo>
                <a:lnTo>
                  <a:pt x="4074" y="4048"/>
                </a:lnTo>
                <a:lnTo>
                  <a:pt x="4059" y="4055"/>
                </a:lnTo>
                <a:lnTo>
                  <a:pt x="4044" y="4062"/>
                </a:lnTo>
                <a:lnTo>
                  <a:pt x="4029" y="4067"/>
                </a:lnTo>
                <a:lnTo>
                  <a:pt x="4012" y="4072"/>
                </a:lnTo>
                <a:lnTo>
                  <a:pt x="3994" y="4075"/>
                </a:lnTo>
                <a:lnTo>
                  <a:pt x="3976" y="4078"/>
                </a:lnTo>
                <a:lnTo>
                  <a:pt x="3957" y="4079"/>
                </a:lnTo>
                <a:lnTo>
                  <a:pt x="3942" y="4078"/>
                </a:lnTo>
                <a:lnTo>
                  <a:pt x="3929" y="4077"/>
                </a:lnTo>
                <a:lnTo>
                  <a:pt x="3917" y="4073"/>
                </a:lnTo>
                <a:lnTo>
                  <a:pt x="3903" y="4068"/>
                </a:lnTo>
                <a:lnTo>
                  <a:pt x="3905" y="4048"/>
                </a:lnTo>
                <a:lnTo>
                  <a:pt x="3908" y="4029"/>
                </a:lnTo>
                <a:lnTo>
                  <a:pt x="3912" y="4010"/>
                </a:lnTo>
                <a:lnTo>
                  <a:pt x="3918" y="3992"/>
                </a:lnTo>
                <a:lnTo>
                  <a:pt x="3925" y="3974"/>
                </a:lnTo>
                <a:lnTo>
                  <a:pt x="3932" y="3958"/>
                </a:lnTo>
                <a:lnTo>
                  <a:pt x="3942" y="3942"/>
                </a:lnTo>
                <a:lnTo>
                  <a:pt x="3952" y="3928"/>
                </a:lnTo>
                <a:lnTo>
                  <a:pt x="3963" y="3914"/>
                </a:lnTo>
                <a:lnTo>
                  <a:pt x="3976" y="3900"/>
                </a:lnTo>
                <a:lnTo>
                  <a:pt x="3988" y="3889"/>
                </a:lnTo>
                <a:lnTo>
                  <a:pt x="4003" y="3877"/>
                </a:lnTo>
                <a:lnTo>
                  <a:pt x="4019" y="3866"/>
                </a:lnTo>
                <a:lnTo>
                  <a:pt x="4036" y="3857"/>
                </a:lnTo>
                <a:lnTo>
                  <a:pt x="4054" y="3848"/>
                </a:lnTo>
                <a:lnTo>
                  <a:pt x="4072" y="3841"/>
                </a:lnTo>
                <a:lnTo>
                  <a:pt x="4092" y="3833"/>
                </a:lnTo>
                <a:lnTo>
                  <a:pt x="4110" y="3824"/>
                </a:lnTo>
                <a:lnTo>
                  <a:pt x="4127" y="3815"/>
                </a:lnTo>
                <a:lnTo>
                  <a:pt x="4142" y="3805"/>
                </a:lnTo>
                <a:lnTo>
                  <a:pt x="4157" y="3797"/>
                </a:lnTo>
                <a:lnTo>
                  <a:pt x="4174" y="3787"/>
                </a:lnTo>
                <a:lnTo>
                  <a:pt x="4191" y="3778"/>
                </a:lnTo>
                <a:lnTo>
                  <a:pt x="4211" y="3769"/>
                </a:lnTo>
                <a:lnTo>
                  <a:pt x="4246" y="3759"/>
                </a:lnTo>
                <a:lnTo>
                  <a:pt x="4278" y="3748"/>
                </a:lnTo>
                <a:lnTo>
                  <a:pt x="4285" y="3745"/>
                </a:lnTo>
                <a:lnTo>
                  <a:pt x="4293" y="3742"/>
                </a:lnTo>
                <a:lnTo>
                  <a:pt x="4299" y="3738"/>
                </a:lnTo>
                <a:lnTo>
                  <a:pt x="4305" y="3732"/>
                </a:lnTo>
                <a:lnTo>
                  <a:pt x="4311" y="3727"/>
                </a:lnTo>
                <a:lnTo>
                  <a:pt x="4316" y="3721"/>
                </a:lnTo>
                <a:lnTo>
                  <a:pt x="4320" y="3713"/>
                </a:lnTo>
                <a:lnTo>
                  <a:pt x="4323" y="3705"/>
                </a:lnTo>
                <a:lnTo>
                  <a:pt x="4334" y="3706"/>
                </a:lnTo>
                <a:lnTo>
                  <a:pt x="4342" y="3707"/>
                </a:lnTo>
                <a:lnTo>
                  <a:pt x="4351" y="3708"/>
                </a:lnTo>
                <a:lnTo>
                  <a:pt x="4361" y="3708"/>
                </a:lnTo>
                <a:lnTo>
                  <a:pt x="4362" y="3723"/>
                </a:lnTo>
                <a:lnTo>
                  <a:pt x="4363" y="3735"/>
                </a:lnTo>
                <a:lnTo>
                  <a:pt x="4363" y="3748"/>
                </a:lnTo>
                <a:lnTo>
                  <a:pt x="4361" y="3763"/>
                </a:lnTo>
                <a:lnTo>
                  <a:pt x="4372" y="3762"/>
                </a:lnTo>
                <a:lnTo>
                  <a:pt x="4382" y="3761"/>
                </a:lnTo>
                <a:lnTo>
                  <a:pt x="4393" y="3758"/>
                </a:lnTo>
                <a:lnTo>
                  <a:pt x="4401" y="3754"/>
                </a:lnTo>
                <a:lnTo>
                  <a:pt x="4419" y="3746"/>
                </a:lnTo>
                <a:lnTo>
                  <a:pt x="4436" y="3735"/>
                </a:lnTo>
                <a:lnTo>
                  <a:pt x="4452" y="3726"/>
                </a:lnTo>
                <a:lnTo>
                  <a:pt x="4470" y="3716"/>
                </a:lnTo>
                <a:lnTo>
                  <a:pt x="4480" y="3713"/>
                </a:lnTo>
                <a:lnTo>
                  <a:pt x="4489" y="3711"/>
                </a:lnTo>
                <a:lnTo>
                  <a:pt x="4500" y="3709"/>
                </a:lnTo>
                <a:lnTo>
                  <a:pt x="4510" y="3708"/>
                </a:lnTo>
                <a:lnTo>
                  <a:pt x="4510" y="3635"/>
                </a:lnTo>
                <a:lnTo>
                  <a:pt x="4406" y="3635"/>
                </a:lnTo>
                <a:lnTo>
                  <a:pt x="4416" y="3627"/>
                </a:lnTo>
                <a:lnTo>
                  <a:pt x="4427" y="3621"/>
                </a:lnTo>
                <a:lnTo>
                  <a:pt x="4437" y="3617"/>
                </a:lnTo>
                <a:lnTo>
                  <a:pt x="4448" y="3613"/>
                </a:lnTo>
                <a:lnTo>
                  <a:pt x="4458" y="3610"/>
                </a:lnTo>
                <a:lnTo>
                  <a:pt x="4470" y="3607"/>
                </a:lnTo>
                <a:lnTo>
                  <a:pt x="4482" y="3602"/>
                </a:lnTo>
                <a:lnTo>
                  <a:pt x="4493" y="3596"/>
                </a:lnTo>
                <a:lnTo>
                  <a:pt x="4503" y="3591"/>
                </a:lnTo>
                <a:lnTo>
                  <a:pt x="4511" y="3584"/>
                </a:lnTo>
                <a:lnTo>
                  <a:pt x="4520" y="3578"/>
                </a:lnTo>
                <a:lnTo>
                  <a:pt x="4527" y="3572"/>
                </a:lnTo>
                <a:lnTo>
                  <a:pt x="4540" y="3558"/>
                </a:lnTo>
                <a:lnTo>
                  <a:pt x="4551" y="3544"/>
                </a:lnTo>
                <a:lnTo>
                  <a:pt x="4572" y="3514"/>
                </a:lnTo>
                <a:lnTo>
                  <a:pt x="4599" y="3481"/>
                </a:lnTo>
                <a:lnTo>
                  <a:pt x="4614" y="3465"/>
                </a:lnTo>
                <a:lnTo>
                  <a:pt x="4627" y="3450"/>
                </a:lnTo>
                <a:lnTo>
                  <a:pt x="4640" y="3438"/>
                </a:lnTo>
                <a:lnTo>
                  <a:pt x="4654" y="3425"/>
                </a:lnTo>
                <a:lnTo>
                  <a:pt x="4681" y="3401"/>
                </a:lnTo>
                <a:lnTo>
                  <a:pt x="4711" y="3372"/>
                </a:lnTo>
                <a:lnTo>
                  <a:pt x="4715" y="3375"/>
                </a:lnTo>
                <a:lnTo>
                  <a:pt x="4727" y="3345"/>
                </a:lnTo>
                <a:lnTo>
                  <a:pt x="4736" y="3316"/>
                </a:lnTo>
                <a:lnTo>
                  <a:pt x="4745" y="3289"/>
                </a:lnTo>
                <a:lnTo>
                  <a:pt x="4753" y="3262"/>
                </a:lnTo>
                <a:lnTo>
                  <a:pt x="4758" y="3250"/>
                </a:lnTo>
                <a:lnTo>
                  <a:pt x="4764" y="3237"/>
                </a:lnTo>
                <a:lnTo>
                  <a:pt x="4770" y="3224"/>
                </a:lnTo>
                <a:lnTo>
                  <a:pt x="4777" y="3212"/>
                </a:lnTo>
                <a:lnTo>
                  <a:pt x="4785" y="3200"/>
                </a:lnTo>
                <a:lnTo>
                  <a:pt x="4794" y="3188"/>
                </a:lnTo>
                <a:lnTo>
                  <a:pt x="4805" y="3177"/>
                </a:lnTo>
                <a:lnTo>
                  <a:pt x="4816" y="3165"/>
                </a:lnTo>
                <a:lnTo>
                  <a:pt x="4835" y="3148"/>
                </a:lnTo>
                <a:lnTo>
                  <a:pt x="4854" y="3135"/>
                </a:lnTo>
                <a:lnTo>
                  <a:pt x="4872" y="3123"/>
                </a:lnTo>
                <a:lnTo>
                  <a:pt x="4891" y="3112"/>
                </a:lnTo>
                <a:lnTo>
                  <a:pt x="4929" y="3094"/>
                </a:lnTo>
                <a:lnTo>
                  <a:pt x="4973" y="3075"/>
                </a:lnTo>
                <a:lnTo>
                  <a:pt x="4963" y="3054"/>
                </a:lnTo>
                <a:lnTo>
                  <a:pt x="4955" y="3035"/>
                </a:lnTo>
                <a:lnTo>
                  <a:pt x="4947" y="3017"/>
                </a:lnTo>
                <a:lnTo>
                  <a:pt x="4942" y="3001"/>
                </a:lnTo>
                <a:lnTo>
                  <a:pt x="4937" y="2983"/>
                </a:lnTo>
                <a:lnTo>
                  <a:pt x="4933" y="2965"/>
                </a:lnTo>
                <a:lnTo>
                  <a:pt x="4929" y="2943"/>
                </a:lnTo>
                <a:lnTo>
                  <a:pt x="4925" y="2920"/>
                </a:lnTo>
                <a:lnTo>
                  <a:pt x="4899" y="2920"/>
                </a:lnTo>
                <a:lnTo>
                  <a:pt x="4887" y="2920"/>
                </a:lnTo>
                <a:lnTo>
                  <a:pt x="4877" y="2922"/>
                </a:lnTo>
                <a:lnTo>
                  <a:pt x="4867" y="2924"/>
                </a:lnTo>
                <a:lnTo>
                  <a:pt x="4858" y="2928"/>
                </a:lnTo>
                <a:lnTo>
                  <a:pt x="4849" y="2931"/>
                </a:lnTo>
                <a:lnTo>
                  <a:pt x="4841" y="2935"/>
                </a:lnTo>
                <a:lnTo>
                  <a:pt x="4832" y="2940"/>
                </a:lnTo>
                <a:lnTo>
                  <a:pt x="4824" y="2946"/>
                </a:lnTo>
                <a:lnTo>
                  <a:pt x="4794" y="2972"/>
                </a:lnTo>
                <a:lnTo>
                  <a:pt x="4761" y="3002"/>
                </a:lnTo>
                <a:lnTo>
                  <a:pt x="4739" y="3022"/>
                </a:lnTo>
                <a:lnTo>
                  <a:pt x="4717" y="3040"/>
                </a:lnTo>
                <a:lnTo>
                  <a:pt x="4707" y="3047"/>
                </a:lnTo>
                <a:lnTo>
                  <a:pt x="4695" y="3054"/>
                </a:lnTo>
                <a:lnTo>
                  <a:pt x="4684" y="3062"/>
                </a:lnTo>
                <a:lnTo>
                  <a:pt x="4673" y="3068"/>
                </a:lnTo>
                <a:lnTo>
                  <a:pt x="4661" y="3073"/>
                </a:lnTo>
                <a:lnTo>
                  <a:pt x="4650" y="3079"/>
                </a:lnTo>
                <a:lnTo>
                  <a:pt x="4638" y="3083"/>
                </a:lnTo>
                <a:lnTo>
                  <a:pt x="4625" y="3087"/>
                </a:lnTo>
                <a:lnTo>
                  <a:pt x="4612" y="3090"/>
                </a:lnTo>
                <a:lnTo>
                  <a:pt x="4598" y="3091"/>
                </a:lnTo>
                <a:lnTo>
                  <a:pt x="4583" y="3093"/>
                </a:lnTo>
                <a:lnTo>
                  <a:pt x="4568" y="3093"/>
                </a:lnTo>
                <a:lnTo>
                  <a:pt x="4537" y="3094"/>
                </a:lnTo>
                <a:lnTo>
                  <a:pt x="4508" y="3096"/>
                </a:lnTo>
                <a:lnTo>
                  <a:pt x="4494" y="3094"/>
                </a:lnTo>
                <a:lnTo>
                  <a:pt x="4481" y="3092"/>
                </a:lnTo>
                <a:lnTo>
                  <a:pt x="4473" y="3090"/>
                </a:lnTo>
                <a:lnTo>
                  <a:pt x="4467" y="3087"/>
                </a:lnTo>
                <a:lnTo>
                  <a:pt x="4459" y="3084"/>
                </a:lnTo>
                <a:lnTo>
                  <a:pt x="4453" y="3080"/>
                </a:lnTo>
                <a:lnTo>
                  <a:pt x="4448" y="3077"/>
                </a:lnTo>
                <a:lnTo>
                  <a:pt x="4444" y="3072"/>
                </a:lnTo>
                <a:lnTo>
                  <a:pt x="4439" y="3068"/>
                </a:lnTo>
                <a:lnTo>
                  <a:pt x="4435" y="3064"/>
                </a:lnTo>
                <a:lnTo>
                  <a:pt x="4429" y="3054"/>
                </a:lnTo>
                <a:lnTo>
                  <a:pt x="4422" y="3045"/>
                </a:lnTo>
                <a:lnTo>
                  <a:pt x="4416" y="3035"/>
                </a:lnTo>
                <a:lnTo>
                  <a:pt x="4409" y="3029"/>
                </a:lnTo>
                <a:lnTo>
                  <a:pt x="4405" y="3026"/>
                </a:lnTo>
                <a:lnTo>
                  <a:pt x="4399" y="3024"/>
                </a:lnTo>
                <a:lnTo>
                  <a:pt x="4394" y="3023"/>
                </a:lnTo>
                <a:lnTo>
                  <a:pt x="4389" y="3023"/>
                </a:lnTo>
                <a:lnTo>
                  <a:pt x="4381" y="3023"/>
                </a:lnTo>
                <a:lnTo>
                  <a:pt x="4375" y="3024"/>
                </a:lnTo>
                <a:lnTo>
                  <a:pt x="4369" y="3026"/>
                </a:lnTo>
                <a:lnTo>
                  <a:pt x="4363" y="3029"/>
                </a:lnTo>
                <a:lnTo>
                  <a:pt x="4353" y="3035"/>
                </a:lnTo>
                <a:lnTo>
                  <a:pt x="4343" y="3043"/>
                </a:lnTo>
                <a:lnTo>
                  <a:pt x="4334" y="3050"/>
                </a:lnTo>
                <a:lnTo>
                  <a:pt x="4323" y="3056"/>
                </a:lnTo>
                <a:lnTo>
                  <a:pt x="4318" y="3060"/>
                </a:lnTo>
                <a:lnTo>
                  <a:pt x="4312" y="3062"/>
                </a:lnTo>
                <a:lnTo>
                  <a:pt x="4305" y="3063"/>
                </a:lnTo>
                <a:lnTo>
                  <a:pt x="4298" y="3063"/>
                </a:lnTo>
                <a:lnTo>
                  <a:pt x="4289" y="3063"/>
                </a:lnTo>
                <a:lnTo>
                  <a:pt x="4281" y="3062"/>
                </a:lnTo>
                <a:lnTo>
                  <a:pt x="4273" y="3061"/>
                </a:lnTo>
                <a:lnTo>
                  <a:pt x="4265" y="3059"/>
                </a:lnTo>
                <a:lnTo>
                  <a:pt x="4250" y="3053"/>
                </a:lnTo>
                <a:lnTo>
                  <a:pt x="4237" y="3047"/>
                </a:lnTo>
                <a:lnTo>
                  <a:pt x="4224" y="3039"/>
                </a:lnTo>
                <a:lnTo>
                  <a:pt x="4211" y="3030"/>
                </a:lnTo>
                <a:lnTo>
                  <a:pt x="4200" y="3021"/>
                </a:lnTo>
                <a:lnTo>
                  <a:pt x="4188" y="3010"/>
                </a:lnTo>
                <a:lnTo>
                  <a:pt x="4176" y="3001"/>
                </a:lnTo>
                <a:lnTo>
                  <a:pt x="4164" y="2991"/>
                </a:lnTo>
                <a:lnTo>
                  <a:pt x="4151" y="2983"/>
                </a:lnTo>
                <a:lnTo>
                  <a:pt x="4138" y="2974"/>
                </a:lnTo>
                <a:lnTo>
                  <a:pt x="4125" y="2968"/>
                </a:lnTo>
                <a:lnTo>
                  <a:pt x="4110" y="2962"/>
                </a:lnTo>
                <a:lnTo>
                  <a:pt x="4103" y="2960"/>
                </a:lnTo>
                <a:lnTo>
                  <a:pt x="4094" y="2959"/>
                </a:lnTo>
                <a:lnTo>
                  <a:pt x="4086" y="2958"/>
                </a:lnTo>
                <a:lnTo>
                  <a:pt x="4077" y="2957"/>
                </a:lnTo>
                <a:lnTo>
                  <a:pt x="4053" y="2958"/>
                </a:lnTo>
                <a:lnTo>
                  <a:pt x="4031" y="2960"/>
                </a:lnTo>
                <a:lnTo>
                  <a:pt x="4011" y="2964"/>
                </a:lnTo>
                <a:lnTo>
                  <a:pt x="3991" y="2966"/>
                </a:lnTo>
                <a:lnTo>
                  <a:pt x="3971" y="2969"/>
                </a:lnTo>
                <a:lnTo>
                  <a:pt x="3950" y="2972"/>
                </a:lnTo>
                <a:lnTo>
                  <a:pt x="3928" y="2974"/>
                </a:lnTo>
                <a:lnTo>
                  <a:pt x="3904" y="2975"/>
                </a:lnTo>
                <a:lnTo>
                  <a:pt x="3893" y="2974"/>
                </a:lnTo>
                <a:lnTo>
                  <a:pt x="3884" y="2973"/>
                </a:lnTo>
                <a:lnTo>
                  <a:pt x="3874" y="2972"/>
                </a:lnTo>
                <a:lnTo>
                  <a:pt x="3865" y="2970"/>
                </a:lnTo>
                <a:lnTo>
                  <a:pt x="3848" y="2964"/>
                </a:lnTo>
                <a:lnTo>
                  <a:pt x="3832" y="2955"/>
                </a:lnTo>
                <a:lnTo>
                  <a:pt x="3800" y="2936"/>
                </a:lnTo>
                <a:lnTo>
                  <a:pt x="3767" y="2914"/>
                </a:lnTo>
                <a:lnTo>
                  <a:pt x="3750" y="2903"/>
                </a:lnTo>
                <a:lnTo>
                  <a:pt x="3735" y="2893"/>
                </a:lnTo>
                <a:lnTo>
                  <a:pt x="3721" y="2883"/>
                </a:lnTo>
                <a:lnTo>
                  <a:pt x="3709" y="2872"/>
                </a:lnTo>
                <a:lnTo>
                  <a:pt x="3698" y="2860"/>
                </a:lnTo>
                <a:lnTo>
                  <a:pt x="3688" y="2847"/>
                </a:lnTo>
                <a:lnTo>
                  <a:pt x="3677" y="2832"/>
                </a:lnTo>
                <a:lnTo>
                  <a:pt x="3668" y="2815"/>
                </a:lnTo>
                <a:lnTo>
                  <a:pt x="3653" y="2785"/>
                </a:lnTo>
                <a:lnTo>
                  <a:pt x="3638" y="2760"/>
                </a:lnTo>
                <a:lnTo>
                  <a:pt x="3629" y="2748"/>
                </a:lnTo>
                <a:lnTo>
                  <a:pt x="3620" y="2737"/>
                </a:lnTo>
                <a:lnTo>
                  <a:pt x="3609" y="2725"/>
                </a:lnTo>
                <a:lnTo>
                  <a:pt x="3597" y="2713"/>
                </a:lnTo>
                <a:lnTo>
                  <a:pt x="3302" y="1573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6754680" y="3241800"/>
            <a:ext cx="2160720" cy="154944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4434" h="3170">
                <a:moveTo>
                  <a:pt x="3863" y="2138"/>
                </a:moveTo>
                <a:lnTo>
                  <a:pt x="3873" y="2137"/>
                </a:lnTo>
                <a:lnTo>
                  <a:pt x="3882" y="2137"/>
                </a:lnTo>
                <a:lnTo>
                  <a:pt x="3891" y="2134"/>
                </a:lnTo>
                <a:lnTo>
                  <a:pt x="3899" y="2132"/>
                </a:lnTo>
                <a:lnTo>
                  <a:pt x="3916" y="2128"/>
                </a:lnTo>
                <a:lnTo>
                  <a:pt x="3934" y="2124"/>
                </a:lnTo>
                <a:lnTo>
                  <a:pt x="3932" y="2140"/>
                </a:lnTo>
                <a:lnTo>
                  <a:pt x="3928" y="2153"/>
                </a:lnTo>
                <a:lnTo>
                  <a:pt x="3926" y="2167"/>
                </a:lnTo>
                <a:lnTo>
                  <a:pt x="3925" y="2182"/>
                </a:lnTo>
                <a:lnTo>
                  <a:pt x="3925" y="2213"/>
                </a:lnTo>
                <a:lnTo>
                  <a:pt x="3934" y="2210"/>
                </a:lnTo>
                <a:lnTo>
                  <a:pt x="3944" y="2208"/>
                </a:lnTo>
                <a:lnTo>
                  <a:pt x="3952" y="2205"/>
                </a:lnTo>
                <a:lnTo>
                  <a:pt x="3960" y="2201"/>
                </a:lnTo>
                <a:lnTo>
                  <a:pt x="3967" y="2196"/>
                </a:lnTo>
                <a:lnTo>
                  <a:pt x="3973" y="2189"/>
                </a:lnTo>
                <a:lnTo>
                  <a:pt x="3979" y="2183"/>
                </a:lnTo>
                <a:lnTo>
                  <a:pt x="3985" y="2176"/>
                </a:lnTo>
                <a:lnTo>
                  <a:pt x="3994" y="2159"/>
                </a:lnTo>
                <a:lnTo>
                  <a:pt x="4003" y="2142"/>
                </a:lnTo>
                <a:lnTo>
                  <a:pt x="4011" y="2123"/>
                </a:lnTo>
                <a:lnTo>
                  <a:pt x="4020" y="2104"/>
                </a:lnTo>
                <a:lnTo>
                  <a:pt x="4025" y="2087"/>
                </a:lnTo>
                <a:lnTo>
                  <a:pt x="4030" y="2070"/>
                </a:lnTo>
                <a:lnTo>
                  <a:pt x="4032" y="2064"/>
                </a:lnTo>
                <a:lnTo>
                  <a:pt x="4037" y="2057"/>
                </a:lnTo>
                <a:lnTo>
                  <a:pt x="4040" y="2055"/>
                </a:lnTo>
                <a:lnTo>
                  <a:pt x="4043" y="2054"/>
                </a:lnTo>
                <a:lnTo>
                  <a:pt x="4046" y="2053"/>
                </a:lnTo>
                <a:lnTo>
                  <a:pt x="4050" y="2052"/>
                </a:lnTo>
                <a:lnTo>
                  <a:pt x="4059" y="2054"/>
                </a:lnTo>
                <a:lnTo>
                  <a:pt x="4067" y="2056"/>
                </a:lnTo>
                <a:lnTo>
                  <a:pt x="4068" y="2068"/>
                </a:lnTo>
                <a:lnTo>
                  <a:pt x="4069" y="2080"/>
                </a:lnTo>
                <a:lnTo>
                  <a:pt x="4070" y="2090"/>
                </a:lnTo>
                <a:lnTo>
                  <a:pt x="4070" y="2103"/>
                </a:lnTo>
                <a:lnTo>
                  <a:pt x="4070" y="2110"/>
                </a:lnTo>
                <a:lnTo>
                  <a:pt x="4069" y="2117"/>
                </a:lnTo>
                <a:lnTo>
                  <a:pt x="4068" y="2123"/>
                </a:lnTo>
                <a:lnTo>
                  <a:pt x="4066" y="2128"/>
                </a:lnTo>
                <a:lnTo>
                  <a:pt x="4062" y="2140"/>
                </a:lnTo>
                <a:lnTo>
                  <a:pt x="4057" y="2150"/>
                </a:lnTo>
                <a:lnTo>
                  <a:pt x="4052" y="2161"/>
                </a:lnTo>
                <a:lnTo>
                  <a:pt x="4047" y="2172"/>
                </a:lnTo>
                <a:lnTo>
                  <a:pt x="4046" y="2179"/>
                </a:lnTo>
                <a:lnTo>
                  <a:pt x="4044" y="2185"/>
                </a:lnTo>
                <a:lnTo>
                  <a:pt x="4044" y="2191"/>
                </a:lnTo>
                <a:lnTo>
                  <a:pt x="4043" y="2199"/>
                </a:lnTo>
                <a:lnTo>
                  <a:pt x="4043" y="2227"/>
                </a:lnTo>
                <a:lnTo>
                  <a:pt x="4043" y="2254"/>
                </a:lnTo>
                <a:lnTo>
                  <a:pt x="4044" y="2266"/>
                </a:lnTo>
                <a:lnTo>
                  <a:pt x="4046" y="2279"/>
                </a:lnTo>
                <a:lnTo>
                  <a:pt x="4049" y="2293"/>
                </a:lnTo>
                <a:lnTo>
                  <a:pt x="4054" y="2308"/>
                </a:lnTo>
                <a:lnTo>
                  <a:pt x="4055" y="2311"/>
                </a:lnTo>
                <a:lnTo>
                  <a:pt x="4057" y="2313"/>
                </a:lnTo>
                <a:lnTo>
                  <a:pt x="4059" y="2316"/>
                </a:lnTo>
                <a:lnTo>
                  <a:pt x="4062" y="2318"/>
                </a:lnTo>
                <a:lnTo>
                  <a:pt x="4068" y="2321"/>
                </a:lnTo>
                <a:lnTo>
                  <a:pt x="4075" y="2323"/>
                </a:lnTo>
                <a:lnTo>
                  <a:pt x="4081" y="2327"/>
                </a:lnTo>
                <a:lnTo>
                  <a:pt x="4087" y="2331"/>
                </a:lnTo>
                <a:lnTo>
                  <a:pt x="4089" y="2333"/>
                </a:lnTo>
                <a:lnTo>
                  <a:pt x="4092" y="2335"/>
                </a:lnTo>
                <a:lnTo>
                  <a:pt x="4094" y="2338"/>
                </a:lnTo>
                <a:lnTo>
                  <a:pt x="4095" y="2341"/>
                </a:lnTo>
                <a:lnTo>
                  <a:pt x="4096" y="2355"/>
                </a:lnTo>
                <a:lnTo>
                  <a:pt x="4096" y="2368"/>
                </a:lnTo>
                <a:lnTo>
                  <a:pt x="4095" y="2382"/>
                </a:lnTo>
                <a:lnTo>
                  <a:pt x="4095" y="2395"/>
                </a:lnTo>
                <a:lnTo>
                  <a:pt x="4102" y="2394"/>
                </a:lnTo>
                <a:lnTo>
                  <a:pt x="4108" y="2395"/>
                </a:lnTo>
                <a:lnTo>
                  <a:pt x="4115" y="2396"/>
                </a:lnTo>
                <a:lnTo>
                  <a:pt x="4121" y="2398"/>
                </a:lnTo>
                <a:lnTo>
                  <a:pt x="4127" y="2402"/>
                </a:lnTo>
                <a:lnTo>
                  <a:pt x="4134" y="2404"/>
                </a:lnTo>
                <a:lnTo>
                  <a:pt x="4141" y="2405"/>
                </a:lnTo>
                <a:lnTo>
                  <a:pt x="4149" y="2406"/>
                </a:lnTo>
                <a:lnTo>
                  <a:pt x="4156" y="2403"/>
                </a:lnTo>
                <a:lnTo>
                  <a:pt x="4164" y="2399"/>
                </a:lnTo>
                <a:lnTo>
                  <a:pt x="4164" y="2259"/>
                </a:lnTo>
                <a:lnTo>
                  <a:pt x="4164" y="2250"/>
                </a:lnTo>
                <a:lnTo>
                  <a:pt x="4167" y="2241"/>
                </a:lnTo>
                <a:lnTo>
                  <a:pt x="4169" y="2234"/>
                </a:lnTo>
                <a:lnTo>
                  <a:pt x="4173" y="2226"/>
                </a:lnTo>
                <a:lnTo>
                  <a:pt x="4181" y="2213"/>
                </a:lnTo>
                <a:lnTo>
                  <a:pt x="4193" y="2199"/>
                </a:lnTo>
                <a:lnTo>
                  <a:pt x="4207" y="2208"/>
                </a:lnTo>
                <a:lnTo>
                  <a:pt x="4207" y="2263"/>
                </a:lnTo>
                <a:lnTo>
                  <a:pt x="4202" y="2274"/>
                </a:lnTo>
                <a:lnTo>
                  <a:pt x="4199" y="2285"/>
                </a:lnTo>
                <a:lnTo>
                  <a:pt x="4200" y="2301"/>
                </a:lnTo>
                <a:lnTo>
                  <a:pt x="4203" y="2317"/>
                </a:lnTo>
                <a:lnTo>
                  <a:pt x="4206" y="2325"/>
                </a:lnTo>
                <a:lnTo>
                  <a:pt x="4208" y="2332"/>
                </a:lnTo>
                <a:lnTo>
                  <a:pt x="4211" y="2339"/>
                </a:lnTo>
                <a:lnTo>
                  <a:pt x="4214" y="2346"/>
                </a:lnTo>
                <a:lnTo>
                  <a:pt x="4218" y="2352"/>
                </a:lnTo>
                <a:lnTo>
                  <a:pt x="4222" y="2358"/>
                </a:lnTo>
                <a:lnTo>
                  <a:pt x="4228" y="2363"/>
                </a:lnTo>
                <a:lnTo>
                  <a:pt x="4233" y="2367"/>
                </a:lnTo>
                <a:lnTo>
                  <a:pt x="4239" y="2371"/>
                </a:lnTo>
                <a:lnTo>
                  <a:pt x="4246" y="2373"/>
                </a:lnTo>
                <a:lnTo>
                  <a:pt x="4253" y="2375"/>
                </a:lnTo>
                <a:lnTo>
                  <a:pt x="4260" y="2375"/>
                </a:lnTo>
                <a:lnTo>
                  <a:pt x="4270" y="2374"/>
                </a:lnTo>
                <a:lnTo>
                  <a:pt x="4277" y="2372"/>
                </a:lnTo>
                <a:lnTo>
                  <a:pt x="4284" y="2368"/>
                </a:lnTo>
                <a:lnTo>
                  <a:pt x="4289" y="2363"/>
                </a:lnTo>
                <a:lnTo>
                  <a:pt x="4293" y="2357"/>
                </a:lnTo>
                <a:lnTo>
                  <a:pt x="4296" y="2350"/>
                </a:lnTo>
                <a:lnTo>
                  <a:pt x="4300" y="2341"/>
                </a:lnTo>
                <a:lnTo>
                  <a:pt x="4302" y="2333"/>
                </a:lnTo>
                <a:lnTo>
                  <a:pt x="4306" y="2313"/>
                </a:lnTo>
                <a:lnTo>
                  <a:pt x="4309" y="2293"/>
                </a:lnTo>
                <a:lnTo>
                  <a:pt x="4311" y="2282"/>
                </a:lnTo>
                <a:lnTo>
                  <a:pt x="4314" y="2273"/>
                </a:lnTo>
                <a:lnTo>
                  <a:pt x="4318" y="2262"/>
                </a:lnTo>
                <a:lnTo>
                  <a:pt x="4322" y="2253"/>
                </a:lnTo>
                <a:lnTo>
                  <a:pt x="4330" y="2260"/>
                </a:lnTo>
                <a:lnTo>
                  <a:pt x="4337" y="2268"/>
                </a:lnTo>
                <a:lnTo>
                  <a:pt x="4343" y="2275"/>
                </a:lnTo>
                <a:lnTo>
                  <a:pt x="4347" y="2283"/>
                </a:lnTo>
                <a:lnTo>
                  <a:pt x="4351" y="2291"/>
                </a:lnTo>
                <a:lnTo>
                  <a:pt x="4354" y="2299"/>
                </a:lnTo>
                <a:lnTo>
                  <a:pt x="4357" y="2309"/>
                </a:lnTo>
                <a:lnTo>
                  <a:pt x="4359" y="2317"/>
                </a:lnTo>
                <a:lnTo>
                  <a:pt x="4363" y="2356"/>
                </a:lnTo>
                <a:lnTo>
                  <a:pt x="4366" y="2399"/>
                </a:lnTo>
                <a:lnTo>
                  <a:pt x="4368" y="2417"/>
                </a:lnTo>
                <a:lnTo>
                  <a:pt x="4371" y="2435"/>
                </a:lnTo>
                <a:lnTo>
                  <a:pt x="4376" y="2451"/>
                </a:lnTo>
                <a:lnTo>
                  <a:pt x="4380" y="2466"/>
                </a:lnTo>
                <a:lnTo>
                  <a:pt x="4386" y="2481"/>
                </a:lnTo>
                <a:lnTo>
                  <a:pt x="4394" y="2495"/>
                </a:lnTo>
                <a:lnTo>
                  <a:pt x="4403" y="2509"/>
                </a:lnTo>
                <a:lnTo>
                  <a:pt x="4414" y="2525"/>
                </a:lnTo>
                <a:lnTo>
                  <a:pt x="4421" y="2535"/>
                </a:lnTo>
                <a:lnTo>
                  <a:pt x="4427" y="2543"/>
                </a:lnTo>
                <a:lnTo>
                  <a:pt x="4431" y="2548"/>
                </a:lnTo>
                <a:lnTo>
                  <a:pt x="4433" y="2554"/>
                </a:lnTo>
                <a:lnTo>
                  <a:pt x="4434" y="2559"/>
                </a:lnTo>
                <a:lnTo>
                  <a:pt x="4434" y="2565"/>
                </a:lnTo>
                <a:lnTo>
                  <a:pt x="4433" y="2573"/>
                </a:lnTo>
                <a:lnTo>
                  <a:pt x="4431" y="2580"/>
                </a:lnTo>
                <a:lnTo>
                  <a:pt x="4427" y="2585"/>
                </a:lnTo>
                <a:lnTo>
                  <a:pt x="4422" y="2591"/>
                </a:lnTo>
                <a:lnTo>
                  <a:pt x="4413" y="2601"/>
                </a:lnTo>
                <a:lnTo>
                  <a:pt x="4403" y="2613"/>
                </a:lnTo>
                <a:lnTo>
                  <a:pt x="4399" y="2621"/>
                </a:lnTo>
                <a:lnTo>
                  <a:pt x="4394" y="2630"/>
                </a:lnTo>
                <a:lnTo>
                  <a:pt x="4388" y="2637"/>
                </a:lnTo>
                <a:lnTo>
                  <a:pt x="4383" y="2643"/>
                </a:lnTo>
                <a:lnTo>
                  <a:pt x="4377" y="2650"/>
                </a:lnTo>
                <a:lnTo>
                  <a:pt x="4369" y="2654"/>
                </a:lnTo>
                <a:lnTo>
                  <a:pt x="4362" y="2656"/>
                </a:lnTo>
                <a:lnTo>
                  <a:pt x="4352" y="2657"/>
                </a:lnTo>
                <a:lnTo>
                  <a:pt x="4349" y="2657"/>
                </a:lnTo>
                <a:lnTo>
                  <a:pt x="4346" y="2656"/>
                </a:lnTo>
                <a:lnTo>
                  <a:pt x="4344" y="2655"/>
                </a:lnTo>
                <a:lnTo>
                  <a:pt x="4342" y="2653"/>
                </a:lnTo>
                <a:lnTo>
                  <a:pt x="4338" y="2649"/>
                </a:lnTo>
                <a:lnTo>
                  <a:pt x="4334" y="2643"/>
                </a:lnTo>
                <a:lnTo>
                  <a:pt x="4330" y="2630"/>
                </a:lnTo>
                <a:lnTo>
                  <a:pt x="4325" y="2616"/>
                </a:lnTo>
                <a:lnTo>
                  <a:pt x="4319" y="2601"/>
                </a:lnTo>
                <a:lnTo>
                  <a:pt x="4310" y="2589"/>
                </a:lnTo>
                <a:lnTo>
                  <a:pt x="4302" y="2576"/>
                </a:lnTo>
                <a:lnTo>
                  <a:pt x="4291" y="2562"/>
                </a:lnTo>
                <a:lnTo>
                  <a:pt x="4287" y="2554"/>
                </a:lnTo>
                <a:lnTo>
                  <a:pt x="4282" y="2544"/>
                </a:lnTo>
                <a:lnTo>
                  <a:pt x="4279" y="2541"/>
                </a:lnTo>
                <a:lnTo>
                  <a:pt x="4276" y="2538"/>
                </a:lnTo>
                <a:lnTo>
                  <a:pt x="4272" y="2536"/>
                </a:lnTo>
                <a:lnTo>
                  <a:pt x="4268" y="2535"/>
                </a:lnTo>
                <a:lnTo>
                  <a:pt x="4260" y="2538"/>
                </a:lnTo>
                <a:lnTo>
                  <a:pt x="4253" y="2542"/>
                </a:lnTo>
                <a:lnTo>
                  <a:pt x="4252" y="2554"/>
                </a:lnTo>
                <a:lnTo>
                  <a:pt x="4252" y="2566"/>
                </a:lnTo>
                <a:lnTo>
                  <a:pt x="4252" y="2578"/>
                </a:lnTo>
                <a:lnTo>
                  <a:pt x="4253" y="2589"/>
                </a:lnTo>
                <a:lnTo>
                  <a:pt x="4256" y="2610"/>
                </a:lnTo>
                <a:lnTo>
                  <a:pt x="4259" y="2630"/>
                </a:lnTo>
                <a:lnTo>
                  <a:pt x="4262" y="2650"/>
                </a:lnTo>
                <a:lnTo>
                  <a:pt x="4262" y="2671"/>
                </a:lnTo>
                <a:lnTo>
                  <a:pt x="4262" y="2681"/>
                </a:lnTo>
                <a:lnTo>
                  <a:pt x="4259" y="2692"/>
                </a:lnTo>
                <a:lnTo>
                  <a:pt x="4257" y="2704"/>
                </a:lnTo>
                <a:lnTo>
                  <a:pt x="4253" y="2715"/>
                </a:lnTo>
                <a:lnTo>
                  <a:pt x="4238" y="2715"/>
                </a:lnTo>
                <a:lnTo>
                  <a:pt x="4232" y="2714"/>
                </a:lnTo>
                <a:lnTo>
                  <a:pt x="4227" y="2714"/>
                </a:lnTo>
                <a:lnTo>
                  <a:pt x="4222" y="2712"/>
                </a:lnTo>
                <a:lnTo>
                  <a:pt x="4217" y="2711"/>
                </a:lnTo>
                <a:lnTo>
                  <a:pt x="4214" y="2709"/>
                </a:lnTo>
                <a:lnTo>
                  <a:pt x="4210" y="2706"/>
                </a:lnTo>
                <a:lnTo>
                  <a:pt x="4208" y="2703"/>
                </a:lnTo>
                <a:lnTo>
                  <a:pt x="4205" y="2699"/>
                </a:lnTo>
                <a:lnTo>
                  <a:pt x="4200" y="2691"/>
                </a:lnTo>
                <a:lnTo>
                  <a:pt x="4197" y="2681"/>
                </a:lnTo>
                <a:lnTo>
                  <a:pt x="4194" y="2671"/>
                </a:lnTo>
                <a:lnTo>
                  <a:pt x="4193" y="2659"/>
                </a:lnTo>
                <a:lnTo>
                  <a:pt x="4191" y="2635"/>
                </a:lnTo>
                <a:lnTo>
                  <a:pt x="4190" y="2609"/>
                </a:lnTo>
                <a:lnTo>
                  <a:pt x="4189" y="2596"/>
                </a:lnTo>
                <a:lnTo>
                  <a:pt x="4188" y="2583"/>
                </a:lnTo>
                <a:lnTo>
                  <a:pt x="4186" y="2571"/>
                </a:lnTo>
                <a:lnTo>
                  <a:pt x="4182" y="2559"/>
                </a:lnTo>
                <a:lnTo>
                  <a:pt x="4176" y="2540"/>
                </a:lnTo>
                <a:lnTo>
                  <a:pt x="4169" y="2522"/>
                </a:lnTo>
                <a:lnTo>
                  <a:pt x="4164" y="2514"/>
                </a:lnTo>
                <a:lnTo>
                  <a:pt x="4159" y="2506"/>
                </a:lnTo>
                <a:lnTo>
                  <a:pt x="4154" y="2499"/>
                </a:lnTo>
                <a:lnTo>
                  <a:pt x="4147" y="2492"/>
                </a:lnTo>
                <a:lnTo>
                  <a:pt x="4141" y="2486"/>
                </a:lnTo>
                <a:lnTo>
                  <a:pt x="4135" y="2480"/>
                </a:lnTo>
                <a:lnTo>
                  <a:pt x="4127" y="2476"/>
                </a:lnTo>
                <a:lnTo>
                  <a:pt x="4119" y="2471"/>
                </a:lnTo>
                <a:lnTo>
                  <a:pt x="4112" y="2468"/>
                </a:lnTo>
                <a:lnTo>
                  <a:pt x="4102" y="2466"/>
                </a:lnTo>
                <a:lnTo>
                  <a:pt x="4093" y="2464"/>
                </a:lnTo>
                <a:lnTo>
                  <a:pt x="4083" y="2464"/>
                </a:lnTo>
                <a:lnTo>
                  <a:pt x="4030" y="2464"/>
                </a:lnTo>
                <a:lnTo>
                  <a:pt x="4030" y="2486"/>
                </a:lnTo>
                <a:lnTo>
                  <a:pt x="4030" y="2493"/>
                </a:lnTo>
                <a:lnTo>
                  <a:pt x="4031" y="2500"/>
                </a:lnTo>
                <a:lnTo>
                  <a:pt x="4032" y="2506"/>
                </a:lnTo>
                <a:lnTo>
                  <a:pt x="4035" y="2512"/>
                </a:lnTo>
                <a:lnTo>
                  <a:pt x="4039" y="2524"/>
                </a:lnTo>
                <a:lnTo>
                  <a:pt x="4043" y="2535"/>
                </a:lnTo>
                <a:lnTo>
                  <a:pt x="4048" y="2545"/>
                </a:lnTo>
                <a:lnTo>
                  <a:pt x="4052" y="2557"/>
                </a:lnTo>
                <a:lnTo>
                  <a:pt x="4055" y="2562"/>
                </a:lnTo>
                <a:lnTo>
                  <a:pt x="4056" y="2568"/>
                </a:lnTo>
                <a:lnTo>
                  <a:pt x="4057" y="2576"/>
                </a:lnTo>
                <a:lnTo>
                  <a:pt x="4057" y="2582"/>
                </a:lnTo>
                <a:lnTo>
                  <a:pt x="4056" y="2591"/>
                </a:lnTo>
                <a:lnTo>
                  <a:pt x="4054" y="2597"/>
                </a:lnTo>
                <a:lnTo>
                  <a:pt x="4050" y="2603"/>
                </a:lnTo>
                <a:lnTo>
                  <a:pt x="4045" y="2609"/>
                </a:lnTo>
                <a:lnTo>
                  <a:pt x="4033" y="2617"/>
                </a:lnTo>
                <a:lnTo>
                  <a:pt x="4020" y="2625"/>
                </a:lnTo>
                <a:lnTo>
                  <a:pt x="4006" y="2633"/>
                </a:lnTo>
                <a:lnTo>
                  <a:pt x="3994" y="2642"/>
                </a:lnTo>
                <a:lnTo>
                  <a:pt x="3989" y="2648"/>
                </a:lnTo>
                <a:lnTo>
                  <a:pt x="3986" y="2654"/>
                </a:lnTo>
                <a:lnTo>
                  <a:pt x="3983" y="2660"/>
                </a:lnTo>
                <a:lnTo>
                  <a:pt x="3982" y="2668"/>
                </a:lnTo>
                <a:lnTo>
                  <a:pt x="3982" y="2737"/>
                </a:lnTo>
                <a:lnTo>
                  <a:pt x="3983" y="2749"/>
                </a:lnTo>
                <a:lnTo>
                  <a:pt x="3984" y="2760"/>
                </a:lnTo>
                <a:lnTo>
                  <a:pt x="3987" y="2769"/>
                </a:lnTo>
                <a:lnTo>
                  <a:pt x="3989" y="2779"/>
                </a:lnTo>
                <a:lnTo>
                  <a:pt x="3991" y="2788"/>
                </a:lnTo>
                <a:lnTo>
                  <a:pt x="3993" y="2799"/>
                </a:lnTo>
                <a:lnTo>
                  <a:pt x="3995" y="2809"/>
                </a:lnTo>
                <a:lnTo>
                  <a:pt x="3995" y="2820"/>
                </a:lnTo>
                <a:lnTo>
                  <a:pt x="3995" y="2826"/>
                </a:lnTo>
                <a:lnTo>
                  <a:pt x="3994" y="2830"/>
                </a:lnTo>
                <a:lnTo>
                  <a:pt x="3993" y="2836"/>
                </a:lnTo>
                <a:lnTo>
                  <a:pt x="3991" y="2840"/>
                </a:lnTo>
                <a:lnTo>
                  <a:pt x="3987" y="2848"/>
                </a:lnTo>
                <a:lnTo>
                  <a:pt x="3981" y="2856"/>
                </a:lnTo>
                <a:lnTo>
                  <a:pt x="3967" y="2869"/>
                </a:lnTo>
                <a:lnTo>
                  <a:pt x="3952" y="2885"/>
                </a:lnTo>
                <a:lnTo>
                  <a:pt x="3933" y="2906"/>
                </a:lnTo>
                <a:lnTo>
                  <a:pt x="3916" y="2926"/>
                </a:lnTo>
                <a:lnTo>
                  <a:pt x="3906" y="2935"/>
                </a:lnTo>
                <a:lnTo>
                  <a:pt x="3895" y="2940"/>
                </a:lnTo>
                <a:lnTo>
                  <a:pt x="3890" y="2943"/>
                </a:lnTo>
                <a:lnTo>
                  <a:pt x="3883" y="2944"/>
                </a:lnTo>
                <a:lnTo>
                  <a:pt x="3876" y="2945"/>
                </a:lnTo>
                <a:lnTo>
                  <a:pt x="3870" y="2945"/>
                </a:lnTo>
                <a:lnTo>
                  <a:pt x="3856" y="2944"/>
                </a:lnTo>
                <a:lnTo>
                  <a:pt x="3843" y="2942"/>
                </a:lnTo>
                <a:lnTo>
                  <a:pt x="3841" y="2929"/>
                </a:lnTo>
                <a:lnTo>
                  <a:pt x="3839" y="2915"/>
                </a:lnTo>
                <a:lnTo>
                  <a:pt x="3840" y="2908"/>
                </a:lnTo>
                <a:lnTo>
                  <a:pt x="3841" y="2903"/>
                </a:lnTo>
                <a:lnTo>
                  <a:pt x="3842" y="2898"/>
                </a:lnTo>
                <a:lnTo>
                  <a:pt x="3844" y="2894"/>
                </a:lnTo>
                <a:lnTo>
                  <a:pt x="3849" y="2885"/>
                </a:lnTo>
                <a:lnTo>
                  <a:pt x="3855" y="2877"/>
                </a:lnTo>
                <a:lnTo>
                  <a:pt x="3861" y="2869"/>
                </a:lnTo>
                <a:lnTo>
                  <a:pt x="3868" y="2861"/>
                </a:lnTo>
                <a:lnTo>
                  <a:pt x="3873" y="2851"/>
                </a:lnTo>
                <a:lnTo>
                  <a:pt x="3877" y="2841"/>
                </a:lnTo>
                <a:lnTo>
                  <a:pt x="3887" y="2810"/>
                </a:lnTo>
                <a:lnTo>
                  <a:pt x="3894" y="2782"/>
                </a:lnTo>
                <a:lnTo>
                  <a:pt x="3903" y="2755"/>
                </a:lnTo>
                <a:lnTo>
                  <a:pt x="3910" y="2730"/>
                </a:lnTo>
                <a:lnTo>
                  <a:pt x="3917" y="2705"/>
                </a:lnTo>
                <a:lnTo>
                  <a:pt x="3927" y="2678"/>
                </a:lnTo>
                <a:lnTo>
                  <a:pt x="3936" y="2650"/>
                </a:lnTo>
                <a:lnTo>
                  <a:pt x="3948" y="2620"/>
                </a:lnTo>
                <a:lnTo>
                  <a:pt x="3941" y="2623"/>
                </a:lnTo>
                <a:lnTo>
                  <a:pt x="3934" y="2628"/>
                </a:lnTo>
                <a:lnTo>
                  <a:pt x="3929" y="2632"/>
                </a:lnTo>
                <a:lnTo>
                  <a:pt x="3923" y="2637"/>
                </a:lnTo>
                <a:lnTo>
                  <a:pt x="3917" y="2641"/>
                </a:lnTo>
                <a:lnTo>
                  <a:pt x="3911" y="2647"/>
                </a:lnTo>
                <a:lnTo>
                  <a:pt x="3905" y="2650"/>
                </a:lnTo>
                <a:lnTo>
                  <a:pt x="3897" y="2654"/>
                </a:lnTo>
                <a:lnTo>
                  <a:pt x="3891" y="2656"/>
                </a:lnTo>
                <a:lnTo>
                  <a:pt x="3885" y="2657"/>
                </a:lnTo>
                <a:lnTo>
                  <a:pt x="3878" y="2658"/>
                </a:lnTo>
                <a:lnTo>
                  <a:pt x="3872" y="2659"/>
                </a:lnTo>
                <a:lnTo>
                  <a:pt x="3859" y="2659"/>
                </a:lnTo>
                <a:lnTo>
                  <a:pt x="3847" y="2659"/>
                </a:lnTo>
                <a:lnTo>
                  <a:pt x="3835" y="2660"/>
                </a:lnTo>
                <a:lnTo>
                  <a:pt x="3824" y="2663"/>
                </a:lnTo>
                <a:lnTo>
                  <a:pt x="3819" y="2666"/>
                </a:lnTo>
                <a:lnTo>
                  <a:pt x="3814" y="2669"/>
                </a:lnTo>
                <a:lnTo>
                  <a:pt x="3810" y="2673"/>
                </a:lnTo>
                <a:lnTo>
                  <a:pt x="3805" y="2677"/>
                </a:lnTo>
                <a:lnTo>
                  <a:pt x="3813" y="2682"/>
                </a:lnTo>
                <a:lnTo>
                  <a:pt x="3820" y="2686"/>
                </a:lnTo>
                <a:lnTo>
                  <a:pt x="3829" y="2688"/>
                </a:lnTo>
                <a:lnTo>
                  <a:pt x="3837" y="2690"/>
                </a:lnTo>
                <a:lnTo>
                  <a:pt x="3843" y="2692"/>
                </a:lnTo>
                <a:lnTo>
                  <a:pt x="3850" y="2696"/>
                </a:lnTo>
                <a:lnTo>
                  <a:pt x="3852" y="2698"/>
                </a:lnTo>
                <a:lnTo>
                  <a:pt x="3854" y="2700"/>
                </a:lnTo>
                <a:lnTo>
                  <a:pt x="3855" y="2705"/>
                </a:lnTo>
                <a:lnTo>
                  <a:pt x="3855" y="2708"/>
                </a:lnTo>
                <a:lnTo>
                  <a:pt x="3855" y="2719"/>
                </a:lnTo>
                <a:lnTo>
                  <a:pt x="3855" y="2730"/>
                </a:lnTo>
                <a:lnTo>
                  <a:pt x="3855" y="2741"/>
                </a:lnTo>
                <a:lnTo>
                  <a:pt x="3855" y="2752"/>
                </a:lnTo>
                <a:lnTo>
                  <a:pt x="3778" y="2752"/>
                </a:lnTo>
                <a:lnTo>
                  <a:pt x="3751" y="2760"/>
                </a:lnTo>
                <a:lnTo>
                  <a:pt x="3747" y="2755"/>
                </a:lnTo>
                <a:lnTo>
                  <a:pt x="3744" y="2751"/>
                </a:lnTo>
                <a:lnTo>
                  <a:pt x="3742" y="2747"/>
                </a:lnTo>
                <a:lnTo>
                  <a:pt x="3740" y="2742"/>
                </a:lnTo>
                <a:lnTo>
                  <a:pt x="3736" y="2731"/>
                </a:lnTo>
                <a:lnTo>
                  <a:pt x="3732" y="2722"/>
                </a:lnTo>
                <a:lnTo>
                  <a:pt x="3728" y="2712"/>
                </a:lnTo>
                <a:lnTo>
                  <a:pt x="3723" y="2705"/>
                </a:lnTo>
                <a:lnTo>
                  <a:pt x="3720" y="2701"/>
                </a:lnTo>
                <a:lnTo>
                  <a:pt x="3717" y="2699"/>
                </a:lnTo>
                <a:lnTo>
                  <a:pt x="3712" y="2698"/>
                </a:lnTo>
                <a:lnTo>
                  <a:pt x="3707" y="2698"/>
                </a:lnTo>
                <a:lnTo>
                  <a:pt x="3701" y="2698"/>
                </a:lnTo>
                <a:lnTo>
                  <a:pt x="3694" y="2699"/>
                </a:lnTo>
                <a:lnTo>
                  <a:pt x="3689" y="2701"/>
                </a:lnTo>
                <a:lnTo>
                  <a:pt x="3685" y="2704"/>
                </a:lnTo>
                <a:lnTo>
                  <a:pt x="3680" y="2707"/>
                </a:lnTo>
                <a:lnTo>
                  <a:pt x="3675" y="2711"/>
                </a:lnTo>
                <a:lnTo>
                  <a:pt x="3672" y="2714"/>
                </a:lnTo>
                <a:lnTo>
                  <a:pt x="3668" y="2719"/>
                </a:lnTo>
                <a:lnTo>
                  <a:pt x="3655" y="2740"/>
                </a:lnTo>
                <a:lnTo>
                  <a:pt x="3643" y="2763"/>
                </a:lnTo>
                <a:lnTo>
                  <a:pt x="3633" y="2776"/>
                </a:lnTo>
                <a:lnTo>
                  <a:pt x="3624" y="2788"/>
                </a:lnTo>
                <a:lnTo>
                  <a:pt x="3614" y="2799"/>
                </a:lnTo>
                <a:lnTo>
                  <a:pt x="3605" y="2809"/>
                </a:lnTo>
                <a:lnTo>
                  <a:pt x="3594" y="2820"/>
                </a:lnTo>
                <a:lnTo>
                  <a:pt x="3585" y="2830"/>
                </a:lnTo>
                <a:lnTo>
                  <a:pt x="3576" y="2843"/>
                </a:lnTo>
                <a:lnTo>
                  <a:pt x="3568" y="2858"/>
                </a:lnTo>
                <a:lnTo>
                  <a:pt x="3565" y="2862"/>
                </a:lnTo>
                <a:lnTo>
                  <a:pt x="3561" y="2866"/>
                </a:lnTo>
                <a:lnTo>
                  <a:pt x="3558" y="2869"/>
                </a:lnTo>
                <a:lnTo>
                  <a:pt x="3554" y="2873"/>
                </a:lnTo>
                <a:lnTo>
                  <a:pt x="3545" y="2876"/>
                </a:lnTo>
                <a:lnTo>
                  <a:pt x="3535" y="2878"/>
                </a:lnTo>
                <a:lnTo>
                  <a:pt x="3513" y="2880"/>
                </a:lnTo>
                <a:lnTo>
                  <a:pt x="3490" y="2881"/>
                </a:lnTo>
                <a:lnTo>
                  <a:pt x="3479" y="2884"/>
                </a:lnTo>
                <a:lnTo>
                  <a:pt x="3471" y="2887"/>
                </a:lnTo>
                <a:lnTo>
                  <a:pt x="3462" y="2893"/>
                </a:lnTo>
                <a:lnTo>
                  <a:pt x="3455" y="2898"/>
                </a:lnTo>
                <a:lnTo>
                  <a:pt x="3447" y="2904"/>
                </a:lnTo>
                <a:lnTo>
                  <a:pt x="3441" y="2913"/>
                </a:lnTo>
                <a:lnTo>
                  <a:pt x="3435" y="2920"/>
                </a:lnTo>
                <a:lnTo>
                  <a:pt x="3428" y="2929"/>
                </a:lnTo>
                <a:lnTo>
                  <a:pt x="3424" y="2939"/>
                </a:lnTo>
                <a:lnTo>
                  <a:pt x="3421" y="2951"/>
                </a:lnTo>
                <a:lnTo>
                  <a:pt x="3419" y="2955"/>
                </a:lnTo>
                <a:lnTo>
                  <a:pt x="3417" y="2959"/>
                </a:lnTo>
                <a:lnTo>
                  <a:pt x="3414" y="2962"/>
                </a:lnTo>
                <a:lnTo>
                  <a:pt x="3408" y="2963"/>
                </a:lnTo>
                <a:lnTo>
                  <a:pt x="3403" y="2962"/>
                </a:lnTo>
                <a:lnTo>
                  <a:pt x="3399" y="2960"/>
                </a:lnTo>
                <a:lnTo>
                  <a:pt x="3395" y="2957"/>
                </a:lnTo>
                <a:lnTo>
                  <a:pt x="3391" y="2954"/>
                </a:lnTo>
                <a:lnTo>
                  <a:pt x="3387" y="2952"/>
                </a:lnTo>
                <a:lnTo>
                  <a:pt x="3384" y="2949"/>
                </a:lnTo>
                <a:lnTo>
                  <a:pt x="3379" y="2946"/>
                </a:lnTo>
                <a:lnTo>
                  <a:pt x="3375" y="2945"/>
                </a:lnTo>
                <a:lnTo>
                  <a:pt x="3362" y="2948"/>
                </a:lnTo>
                <a:lnTo>
                  <a:pt x="3350" y="2950"/>
                </a:lnTo>
                <a:lnTo>
                  <a:pt x="3349" y="2962"/>
                </a:lnTo>
                <a:lnTo>
                  <a:pt x="3347" y="2976"/>
                </a:lnTo>
                <a:lnTo>
                  <a:pt x="3343" y="2989"/>
                </a:lnTo>
                <a:lnTo>
                  <a:pt x="3336" y="3000"/>
                </a:lnTo>
                <a:lnTo>
                  <a:pt x="3333" y="3006"/>
                </a:lnTo>
                <a:lnTo>
                  <a:pt x="3329" y="3010"/>
                </a:lnTo>
                <a:lnTo>
                  <a:pt x="3325" y="3014"/>
                </a:lnTo>
                <a:lnTo>
                  <a:pt x="3320" y="3017"/>
                </a:lnTo>
                <a:lnTo>
                  <a:pt x="3314" y="3020"/>
                </a:lnTo>
                <a:lnTo>
                  <a:pt x="3309" y="3023"/>
                </a:lnTo>
                <a:lnTo>
                  <a:pt x="3303" y="3024"/>
                </a:lnTo>
                <a:lnTo>
                  <a:pt x="3296" y="3024"/>
                </a:lnTo>
                <a:lnTo>
                  <a:pt x="3291" y="3024"/>
                </a:lnTo>
                <a:lnTo>
                  <a:pt x="3286" y="3023"/>
                </a:lnTo>
                <a:lnTo>
                  <a:pt x="3282" y="3021"/>
                </a:lnTo>
                <a:lnTo>
                  <a:pt x="3277" y="3019"/>
                </a:lnTo>
                <a:lnTo>
                  <a:pt x="3270" y="3014"/>
                </a:lnTo>
                <a:lnTo>
                  <a:pt x="3263" y="3007"/>
                </a:lnTo>
                <a:lnTo>
                  <a:pt x="3259" y="3019"/>
                </a:lnTo>
                <a:lnTo>
                  <a:pt x="3254" y="3030"/>
                </a:lnTo>
                <a:lnTo>
                  <a:pt x="3249" y="3039"/>
                </a:lnTo>
                <a:lnTo>
                  <a:pt x="3243" y="3049"/>
                </a:lnTo>
                <a:lnTo>
                  <a:pt x="3236" y="3057"/>
                </a:lnTo>
                <a:lnTo>
                  <a:pt x="3230" y="3067"/>
                </a:lnTo>
                <a:lnTo>
                  <a:pt x="3223" y="3076"/>
                </a:lnTo>
                <a:lnTo>
                  <a:pt x="3218" y="3089"/>
                </a:lnTo>
                <a:lnTo>
                  <a:pt x="3211" y="3106"/>
                </a:lnTo>
                <a:lnTo>
                  <a:pt x="3202" y="3121"/>
                </a:lnTo>
                <a:lnTo>
                  <a:pt x="3198" y="3128"/>
                </a:lnTo>
                <a:lnTo>
                  <a:pt x="3193" y="3134"/>
                </a:lnTo>
                <a:lnTo>
                  <a:pt x="3187" y="3141"/>
                </a:lnTo>
                <a:lnTo>
                  <a:pt x="3181" y="3147"/>
                </a:lnTo>
                <a:lnTo>
                  <a:pt x="3175" y="3152"/>
                </a:lnTo>
                <a:lnTo>
                  <a:pt x="3169" y="3157"/>
                </a:lnTo>
                <a:lnTo>
                  <a:pt x="3161" y="3161"/>
                </a:lnTo>
                <a:lnTo>
                  <a:pt x="3154" y="3164"/>
                </a:lnTo>
                <a:lnTo>
                  <a:pt x="3145" y="3166"/>
                </a:lnTo>
                <a:lnTo>
                  <a:pt x="3137" y="3168"/>
                </a:lnTo>
                <a:lnTo>
                  <a:pt x="3128" y="3169"/>
                </a:lnTo>
                <a:lnTo>
                  <a:pt x="3119" y="3170"/>
                </a:lnTo>
                <a:lnTo>
                  <a:pt x="3115" y="3169"/>
                </a:lnTo>
                <a:lnTo>
                  <a:pt x="3112" y="3169"/>
                </a:lnTo>
                <a:lnTo>
                  <a:pt x="3108" y="3167"/>
                </a:lnTo>
                <a:lnTo>
                  <a:pt x="3105" y="3165"/>
                </a:lnTo>
                <a:lnTo>
                  <a:pt x="3101" y="3160"/>
                </a:lnTo>
                <a:lnTo>
                  <a:pt x="3097" y="3153"/>
                </a:lnTo>
                <a:lnTo>
                  <a:pt x="3090" y="3138"/>
                </a:lnTo>
                <a:lnTo>
                  <a:pt x="3082" y="3123"/>
                </a:lnTo>
                <a:lnTo>
                  <a:pt x="3071" y="3110"/>
                </a:lnTo>
                <a:lnTo>
                  <a:pt x="3060" y="3101"/>
                </a:lnTo>
                <a:lnTo>
                  <a:pt x="3056" y="3095"/>
                </a:lnTo>
                <a:lnTo>
                  <a:pt x="3051" y="3089"/>
                </a:lnTo>
                <a:lnTo>
                  <a:pt x="3049" y="3083"/>
                </a:lnTo>
                <a:lnTo>
                  <a:pt x="3048" y="3075"/>
                </a:lnTo>
                <a:lnTo>
                  <a:pt x="3049" y="3068"/>
                </a:lnTo>
                <a:lnTo>
                  <a:pt x="3051" y="3062"/>
                </a:lnTo>
                <a:lnTo>
                  <a:pt x="3055" y="3056"/>
                </a:lnTo>
                <a:lnTo>
                  <a:pt x="3059" y="3051"/>
                </a:lnTo>
                <a:lnTo>
                  <a:pt x="3063" y="3046"/>
                </a:lnTo>
                <a:lnTo>
                  <a:pt x="3067" y="3040"/>
                </a:lnTo>
                <a:lnTo>
                  <a:pt x="3070" y="3034"/>
                </a:lnTo>
                <a:lnTo>
                  <a:pt x="3071" y="3028"/>
                </a:lnTo>
                <a:lnTo>
                  <a:pt x="3077" y="3001"/>
                </a:lnTo>
                <a:lnTo>
                  <a:pt x="3082" y="2977"/>
                </a:lnTo>
                <a:lnTo>
                  <a:pt x="3087" y="2955"/>
                </a:lnTo>
                <a:lnTo>
                  <a:pt x="3093" y="2933"/>
                </a:lnTo>
                <a:lnTo>
                  <a:pt x="3097" y="2911"/>
                </a:lnTo>
                <a:lnTo>
                  <a:pt x="3100" y="2888"/>
                </a:lnTo>
                <a:lnTo>
                  <a:pt x="3102" y="2864"/>
                </a:lnTo>
                <a:lnTo>
                  <a:pt x="3102" y="2838"/>
                </a:lnTo>
                <a:lnTo>
                  <a:pt x="3099" y="2830"/>
                </a:lnTo>
                <a:lnTo>
                  <a:pt x="3096" y="2824"/>
                </a:lnTo>
                <a:lnTo>
                  <a:pt x="3085" y="2827"/>
                </a:lnTo>
                <a:lnTo>
                  <a:pt x="3077" y="2832"/>
                </a:lnTo>
                <a:lnTo>
                  <a:pt x="3068" y="2838"/>
                </a:lnTo>
                <a:lnTo>
                  <a:pt x="3061" y="2844"/>
                </a:lnTo>
                <a:lnTo>
                  <a:pt x="3047" y="2857"/>
                </a:lnTo>
                <a:lnTo>
                  <a:pt x="3036" y="2872"/>
                </a:lnTo>
                <a:lnTo>
                  <a:pt x="3024" y="2886"/>
                </a:lnTo>
                <a:lnTo>
                  <a:pt x="3011" y="2900"/>
                </a:lnTo>
                <a:lnTo>
                  <a:pt x="3004" y="2906"/>
                </a:lnTo>
                <a:lnTo>
                  <a:pt x="2995" y="2913"/>
                </a:lnTo>
                <a:lnTo>
                  <a:pt x="2987" y="2918"/>
                </a:lnTo>
                <a:lnTo>
                  <a:pt x="2976" y="2922"/>
                </a:lnTo>
                <a:lnTo>
                  <a:pt x="2972" y="2913"/>
                </a:lnTo>
                <a:lnTo>
                  <a:pt x="2970" y="2902"/>
                </a:lnTo>
                <a:lnTo>
                  <a:pt x="2970" y="2891"/>
                </a:lnTo>
                <a:lnTo>
                  <a:pt x="2972" y="2880"/>
                </a:lnTo>
                <a:lnTo>
                  <a:pt x="2974" y="2872"/>
                </a:lnTo>
                <a:lnTo>
                  <a:pt x="2976" y="2862"/>
                </a:lnTo>
                <a:lnTo>
                  <a:pt x="2983" y="2844"/>
                </a:lnTo>
                <a:lnTo>
                  <a:pt x="2990" y="2824"/>
                </a:lnTo>
                <a:lnTo>
                  <a:pt x="3011" y="2850"/>
                </a:lnTo>
                <a:lnTo>
                  <a:pt x="3019" y="2837"/>
                </a:lnTo>
                <a:lnTo>
                  <a:pt x="3025" y="2825"/>
                </a:lnTo>
                <a:lnTo>
                  <a:pt x="3029" y="2819"/>
                </a:lnTo>
                <a:lnTo>
                  <a:pt x="3033" y="2813"/>
                </a:lnTo>
                <a:lnTo>
                  <a:pt x="3039" y="2808"/>
                </a:lnTo>
                <a:lnTo>
                  <a:pt x="3045" y="2803"/>
                </a:lnTo>
                <a:lnTo>
                  <a:pt x="3045" y="2717"/>
                </a:lnTo>
                <a:lnTo>
                  <a:pt x="3043" y="2698"/>
                </a:lnTo>
                <a:lnTo>
                  <a:pt x="3040" y="2682"/>
                </a:lnTo>
                <a:lnTo>
                  <a:pt x="3037" y="2666"/>
                </a:lnTo>
                <a:lnTo>
                  <a:pt x="3034" y="2647"/>
                </a:lnTo>
                <a:lnTo>
                  <a:pt x="3053" y="2646"/>
                </a:lnTo>
                <a:lnTo>
                  <a:pt x="3071" y="2643"/>
                </a:lnTo>
                <a:lnTo>
                  <a:pt x="3080" y="2642"/>
                </a:lnTo>
                <a:lnTo>
                  <a:pt x="3088" y="2640"/>
                </a:lnTo>
                <a:lnTo>
                  <a:pt x="3097" y="2637"/>
                </a:lnTo>
                <a:lnTo>
                  <a:pt x="3106" y="2633"/>
                </a:lnTo>
                <a:lnTo>
                  <a:pt x="3103" y="2623"/>
                </a:lnTo>
                <a:lnTo>
                  <a:pt x="3099" y="2614"/>
                </a:lnTo>
                <a:lnTo>
                  <a:pt x="3096" y="2605"/>
                </a:lnTo>
                <a:lnTo>
                  <a:pt x="3091" y="2598"/>
                </a:lnTo>
                <a:lnTo>
                  <a:pt x="3086" y="2591"/>
                </a:lnTo>
                <a:lnTo>
                  <a:pt x="3081" y="2583"/>
                </a:lnTo>
                <a:lnTo>
                  <a:pt x="3074" y="2578"/>
                </a:lnTo>
                <a:lnTo>
                  <a:pt x="3065" y="2573"/>
                </a:lnTo>
                <a:lnTo>
                  <a:pt x="3044" y="2562"/>
                </a:lnTo>
                <a:lnTo>
                  <a:pt x="3023" y="2553"/>
                </a:lnTo>
                <a:lnTo>
                  <a:pt x="3013" y="2547"/>
                </a:lnTo>
                <a:lnTo>
                  <a:pt x="3007" y="2540"/>
                </a:lnTo>
                <a:lnTo>
                  <a:pt x="3004" y="2537"/>
                </a:lnTo>
                <a:lnTo>
                  <a:pt x="3002" y="2531"/>
                </a:lnTo>
                <a:lnTo>
                  <a:pt x="3001" y="2527"/>
                </a:lnTo>
                <a:lnTo>
                  <a:pt x="3001" y="2521"/>
                </a:lnTo>
                <a:lnTo>
                  <a:pt x="3002" y="2506"/>
                </a:lnTo>
                <a:lnTo>
                  <a:pt x="3004" y="2492"/>
                </a:lnTo>
                <a:lnTo>
                  <a:pt x="3008" y="2481"/>
                </a:lnTo>
                <a:lnTo>
                  <a:pt x="3013" y="2469"/>
                </a:lnTo>
                <a:lnTo>
                  <a:pt x="3027" y="2447"/>
                </a:lnTo>
                <a:lnTo>
                  <a:pt x="3045" y="2423"/>
                </a:lnTo>
                <a:lnTo>
                  <a:pt x="3034" y="2410"/>
                </a:lnTo>
                <a:lnTo>
                  <a:pt x="3027" y="2398"/>
                </a:lnTo>
                <a:lnTo>
                  <a:pt x="3021" y="2386"/>
                </a:lnTo>
                <a:lnTo>
                  <a:pt x="3017" y="2373"/>
                </a:lnTo>
                <a:lnTo>
                  <a:pt x="3010" y="2345"/>
                </a:lnTo>
                <a:lnTo>
                  <a:pt x="3004" y="2314"/>
                </a:lnTo>
                <a:lnTo>
                  <a:pt x="3000" y="2295"/>
                </a:lnTo>
                <a:lnTo>
                  <a:pt x="2994" y="2277"/>
                </a:lnTo>
                <a:lnTo>
                  <a:pt x="2989" y="2260"/>
                </a:lnTo>
                <a:lnTo>
                  <a:pt x="2984" y="2244"/>
                </a:lnTo>
                <a:lnTo>
                  <a:pt x="2979" y="2228"/>
                </a:lnTo>
                <a:lnTo>
                  <a:pt x="2972" y="2212"/>
                </a:lnTo>
                <a:lnTo>
                  <a:pt x="2968" y="2195"/>
                </a:lnTo>
                <a:lnTo>
                  <a:pt x="2963" y="2175"/>
                </a:lnTo>
                <a:lnTo>
                  <a:pt x="2961" y="2157"/>
                </a:lnTo>
                <a:lnTo>
                  <a:pt x="2959" y="2141"/>
                </a:lnTo>
                <a:lnTo>
                  <a:pt x="2961" y="2125"/>
                </a:lnTo>
                <a:lnTo>
                  <a:pt x="2962" y="2109"/>
                </a:lnTo>
                <a:lnTo>
                  <a:pt x="2963" y="2094"/>
                </a:lnTo>
                <a:lnTo>
                  <a:pt x="2964" y="2077"/>
                </a:lnTo>
                <a:lnTo>
                  <a:pt x="2964" y="2061"/>
                </a:lnTo>
                <a:lnTo>
                  <a:pt x="2963" y="2043"/>
                </a:lnTo>
                <a:lnTo>
                  <a:pt x="2923" y="2043"/>
                </a:lnTo>
                <a:lnTo>
                  <a:pt x="2923" y="2005"/>
                </a:lnTo>
                <a:lnTo>
                  <a:pt x="2924" y="1998"/>
                </a:lnTo>
                <a:lnTo>
                  <a:pt x="2926" y="1993"/>
                </a:lnTo>
                <a:lnTo>
                  <a:pt x="2929" y="1989"/>
                </a:lnTo>
                <a:lnTo>
                  <a:pt x="2932" y="1986"/>
                </a:lnTo>
                <a:lnTo>
                  <a:pt x="2936" y="1981"/>
                </a:lnTo>
                <a:lnTo>
                  <a:pt x="2940" y="1977"/>
                </a:lnTo>
                <a:lnTo>
                  <a:pt x="2944" y="1973"/>
                </a:lnTo>
                <a:lnTo>
                  <a:pt x="2946" y="1968"/>
                </a:lnTo>
                <a:lnTo>
                  <a:pt x="2950" y="1957"/>
                </a:lnTo>
                <a:lnTo>
                  <a:pt x="2952" y="1946"/>
                </a:lnTo>
                <a:lnTo>
                  <a:pt x="2953" y="1936"/>
                </a:lnTo>
                <a:lnTo>
                  <a:pt x="2953" y="1926"/>
                </a:lnTo>
                <a:lnTo>
                  <a:pt x="2951" y="1905"/>
                </a:lnTo>
                <a:lnTo>
                  <a:pt x="2950" y="1883"/>
                </a:lnTo>
                <a:lnTo>
                  <a:pt x="2949" y="1872"/>
                </a:lnTo>
                <a:lnTo>
                  <a:pt x="2946" y="1861"/>
                </a:lnTo>
                <a:lnTo>
                  <a:pt x="2940" y="1851"/>
                </a:lnTo>
                <a:lnTo>
                  <a:pt x="2936" y="1842"/>
                </a:lnTo>
                <a:lnTo>
                  <a:pt x="2931" y="1832"/>
                </a:lnTo>
                <a:lnTo>
                  <a:pt x="2927" y="1823"/>
                </a:lnTo>
                <a:lnTo>
                  <a:pt x="2924" y="1812"/>
                </a:lnTo>
                <a:lnTo>
                  <a:pt x="2923" y="1801"/>
                </a:lnTo>
                <a:lnTo>
                  <a:pt x="2923" y="1788"/>
                </a:lnTo>
                <a:lnTo>
                  <a:pt x="2924" y="1775"/>
                </a:lnTo>
                <a:lnTo>
                  <a:pt x="2925" y="1764"/>
                </a:lnTo>
                <a:lnTo>
                  <a:pt x="2927" y="1752"/>
                </a:lnTo>
                <a:lnTo>
                  <a:pt x="2930" y="1741"/>
                </a:lnTo>
                <a:lnTo>
                  <a:pt x="2933" y="1730"/>
                </a:lnTo>
                <a:lnTo>
                  <a:pt x="2936" y="1719"/>
                </a:lnTo>
                <a:lnTo>
                  <a:pt x="2940" y="1709"/>
                </a:lnTo>
                <a:lnTo>
                  <a:pt x="2951" y="1689"/>
                </a:lnTo>
                <a:lnTo>
                  <a:pt x="2963" y="1669"/>
                </a:lnTo>
                <a:lnTo>
                  <a:pt x="2975" y="1649"/>
                </a:lnTo>
                <a:lnTo>
                  <a:pt x="2990" y="1628"/>
                </a:lnTo>
                <a:lnTo>
                  <a:pt x="2994" y="1623"/>
                </a:lnTo>
                <a:lnTo>
                  <a:pt x="2999" y="1619"/>
                </a:lnTo>
                <a:lnTo>
                  <a:pt x="3003" y="1616"/>
                </a:lnTo>
                <a:lnTo>
                  <a:pt x="3007" y="1613"/>
                </a:lnTo>
                <a:lnTo>
                  <a:pt x="3017" y="1608"/>
                </a:lnTo>
                <a:lnTo>
                  <a:pt x="3026" y="1603"/>
                </a:lnTo>
                <a:lnTo>
                  <a:pt x="3034" y="1599"/>
                </a:lnTo>
                <a:lnTo>
                  <a:pt x="3044" y="1594"/>
                </a:lnTo>
                <a:lnTo>
                  <a:pt x="3048" y="1590"/>
                </a:lnTo>
                <a:lnTo>
                  <a:pt x="3051" y="1586"/>
                </a:lnTo>
                <a:lnTo>
                  <a:pt x="3056" y="1582"/>
                </a:lnTo>
                <a:lnTo>
                  <a:pt x="3059" y="1577"/>
                </a:lnTo>
                <a:lnTo>
                  <a:pt x="3102" y="1577"/>
                </a:lnTo>
                <a:lnTo>
                  <a:pt x="3102" y="1593"/>
                </a:lnTo>
                <a:lnTo>
                  <a:pt x="3102" y="1606"/>
                </a:lnTo>
                <a:lnTo>
                  <a:pt x="3102" y="1620"/>
                </a:lnTo>
                <a:lnTo>
                  <a:pt x="3102" y="1636"/>
                </a:lnTo>
                <a:lnTo>
                  <a:pt x="3102" y="1641"/>
                </a:lnTo>
                <a:lnTo>
                  <a:pt x="3100" y="1648"/>
                </a:lnTo>
                <a:lnTo>
                  <a:pt x="3098" y="1652"/>
                </a:lnTo>
                <a:lnTo>
                  <a:pt x="3095" y="1657"/>
                </a:lnTo>
                <a:lnTo>
                  <a:pt x="3086" y="1666"/>
                </a:lnTo>
                <a:lnTo>
                  <a:pt x="3077" y="1673"/>
                </a:lnTo>
                <a:lnTo>
                  <a:pt x="3067" y="1680"/>
                </a:lnTo>
                <a:lnTo>
                  <a:pt x="3060" y="1688"/>
                </a:lnTo>
                <a:lnTo>
                  <a:pt x="3057" y="1693"/>
                </a:lnTo>
                <a:lnTo>
                  <a:pt x="3053" y="1697"/>
                </a:lnTo>
                <a:lnTo>
                  <a:pt x="3052" y="1704"/>
                </a:lnTo>
                <a:lnTo>
                  <a:pt x="3051" y="1710"/>
                </a:lnTo>
                <a:lnTo>
                  <a:pt x="3052" y="1719"/>
                </a:lnTo>
                <a:lnTo>
                  <a:pt x="3055" y="1730"/>
                </a:lnTo>
                <a:lnTo>
                  <a:pt x="3057" y="1734"/>
                </a:lnTo>
                <a:lnTo>
                  <a:pt x="3060" y="1737"/>
                </a:lnTo>
                <a:lnTo>
                  <a:pt x="3064" y="1740"/>
                </a:lnTo>
                <a:lnTo>
                  <a:pt x="3068" y="1740"/>
                </a:lnTo>
                <a:lnTo>
                  <a:pt x="3075" y="1740"/>
                </a:lnTo>
                <a:lnTo>
                  <a:pt x="3081" y="1736"/>
                </a:lnTo>
                <a:lnTo>
                  <a:pt x="3085" y="1732"/>
                </a:lnTo>
                <a:lnTo>
                  <a:pt x="3089" y="1728"/>
                </a:lnTo>
                <a:lnTo>
                  <a:pt x="3097" y="1716"/>
                </a:lnTo>
                <a:lnTo>
                  <a:pt x="3106" y="1706"/>
                </a:lnTo>
                <a:lnTo>
                  <a:pt x="3112" y="1711"/>
                </a:lnTo>
                <a:lnTo>
                  <a:pt x="3117" y="1716"/>
                </a:lnTo>
                <a:lnTo>
                  <a:pt x="3121" y="1722"/>
                </a:lnTo>
                <a:lnTo>
                  <a:pt x="3125" y="1727"/>
                </a:lnTo>
                <a:lnTo>
                  <a:pt x="3132" y="1738"/>
                </a:lnTo>
                <a:lnTo>
                  <a:pt x="3137" y="1750"/>
                </a:lnTo>
                <a:lnTo>
                  <a:pt x="3140" y="1764"/>
                </a:lnTo>
                <a:lnTo>
                  <a:pt x="3142" y="1778"/>
                </a:lnTo>
                <a:lnTo>
                  <a:pt x="3143" y="1792"/>
                </a:lnTo>
                <a:lnTo>
                  <a:pt x="3143" y="1807"/>
                </a:lnTo>
                <a:lnTo>
                  <a:pt x="3143" y="1860"/>
                </a:lnTo>
                <a:lnTo>
                  <a:pt x="3144" y="1872"/>
                </a:lnTo>
                <a:lnTo>
                  <a:pt x="3145" y="1883"/>
                </a:lnTo>
                <a:lnTo>
                  <a:pt x="3147" y="1893"/>
                </a:lnTo>
                <a:lnTo>
                  <a:pt x="3150" y="1902"/>
                </a:lnTo>
                <a:lnTo>
                  <a:pt x="3153" y="1913"/>
                </a:lnTo>
                <a:lnTo>
                  <a:pt x="3155" y="1922"/>
                </a:lnTo>
                <a:lnTo>
                  <a:pt x="3156" y="1934"/>
                </a:lnTo>
                <a:lnTo>
                  <a:pt x="3157" y="1945"/>
                </a:lnTo>
                <a:lnTo>
                  <a:pt x="3156" y="1962"/>
                </a:lnTo>
                <a:lnTo>
                  <a:pt x="3155" y="1977"/>
                </a:lnTo>
                <a:lnTo>
                  <a:pt x="3154" y="1991"/>
                </a:lnTo>
                <a:lnTo>
                  <a:pt x="3152" y="2005"/>
                </a:lnTo>
                <a:lnTo>
                  <a:pt x="3150" y="2017"/>
                </a:lnTo>
                <a:lnTo>
                  <a:pt x="3149" y="2032"/>
                </a:lnTo>
                <a:lnTo>
                  <a:pt x="3147" y="2047"/>
                </a:lnTo>
                <a:lnTo>
                  <a:pt x="3146" y="2063"/>
                </a:lnTo>
                <a:lnTo>
                  <a:pt x="3147" y="2090"/>
                </a:lnTo>
                <a:lnTo>
                  <a:pt x="3150" y="2115"/>
                </a:lnTo>
                <a:lnTo>
                  <a:pt x="3152" y="2128"/>
                </a:lnTo>
                <a:lnTo>
                  <a:pt x="3154" y="2140"/>
                </a:lnTo>
                <a:lnTo>
                  <a:pt x="3157" y="2150"/>
                </a:lnTo>
                <a:lnTo>
                  <a:pt x="3161" y="2162"/>
                </a:lnTo>
                <a:lnTo>
                  <a:pt x="3164" y="2172"/>
                </a:lnTo>
                <a:lnTo>
                  <a:pt x="3170" y="2184"/>
                </a:lnTo>
                <a:lnTo>
                  <a:pt x="3175" y="2195"/>
                </a:lnTo>
                <a:lnTo>
                  <a:pt x="3180" y="2205"/>
                </a:lnTo>
                <a:lnTo>
                  <a:pt x="3195" y="2227"/>
                </a:lnTo>
                <a:lnTo>
                  <a:pt x="3211" y="2250"/>
                </a:lnTo>
                <a:lnTo>
                  <a:pt x="3214" y="2242"/>
                </a:lnTo>
                <a:lnTo>
                  <a:pt x="3216" y="2235"/>
                </a:lnTo>
                <a:lnTo>
                  <a:pt x="3217" y="2228"/>
                </a:lnTo>
                <a:lnTo>
                  <a:pt x="3218" y="2221"/>
                </a:lnTo>
                <a:lnTo>
                  <a:pt x="3218" y="2208"/>
                </a:lnTo>
                <a:lnTo>
                  <a:pt x="3217" y="2196"/>
                </a:lnTo>
                <a:lnTo>
                  <a:pt x="3213" y="2169"/>
                </a:lnTo>
                <a:lnTo>
                  <a:pt x="3211" y="2139"/>
                </a:lnTo>
                <a:lnTo>
                  <a:pt x="3210" y="2106"/>
                </a:lnTo>
                <a:lnTo>
                  <a:pt x="3209" y="2072"/>
                </a:lnTo>
                <a:lnTo>
                  <a:pt x="3210" y="2065"/>
                </a:lnTo>
                <a:lnTo>
                  <a:pt x="3212" y="2057"/>
                </a:lnTo>
                <a:lnTo>
                  <a:pt x="3214" y="2051"/>
                </a:lnTo>
                <a:lnTo>
                  <a:pt x="3216" y="2046"/>
                </a:lnTo>
                <a:lnTo>
                  <a:pt x="3220" y="2042"/>
                </a:lnTo>
                <a:lnTo>
                  <a:pt x="3226" y="2038"/>
                </a:lnTo>
                <a:lnTo>
                  <a:pt x="3231" y="2036"/>
                </a:lnTo>
                <a:lnTo>
                  <a:pt x="3238" y="2035"/>
                </a:lnTo>
                <a:lnTo>
                  <a:pt x="3245" y="2036"/>
                </a:lnTo>
                <a:lnTo>
                  <a:pt x="3250" y="2039"/>
                </a:lnTo>
                <a:lnTo>
                  <a:pt x="3254" y="2043"/>
                </a:lnTo>
                <a:lnTo>
                  <a:pt x="3257" y="2048"/>
                </a:lnTo>
                <a:lnTo>
                  <a:pt x="3262" y="2059"/>
                </a:lnTo>
                <a:lnTo>
                  <a:pt x="3266" y="2073"/>
                </a:lnTo>
                <a:lnTo>
                  <a:pt x="3303" y="2054"/>
                </a:lnTo>
                <a:lnTo>
                  <a:pt x="3335" y="2037"/>
                </a:lnTo>
                <a:lnTo>
                  <a:pt x="3351" y="2030"/>
                </a:lnTo>
                <a:lnTo>
                  <a:pt x="3369" y="2024"/>
                </a:lnTo>
                <a:lnTo>
                  <a:pt x="3387" y="2017"/>
                </a:lnTo>
                <a:lnTo>
                  <a:pt x="3408" y="2012"/>
                </a:lnTo>
                <a:lnTo>
                  <a:pt x="3411" y="2029"/>
                </a:lnTo>
                <a:lnTo>
                  <a:pt x="3395" y="2056"/>
                </a:lnTo>
                <a:lnTo>
                  <a:pt x="3381" y="2081"/>
                </a:lnTo>
                <a:lnTo>
                  <a:pt x="3376" y="2093"/>
                </a:lnTo>
                <a:lnTo>
                  <a:pt x="3371" y="2107"/>
                </a:lnTo>
                <a:lnTo>
                  <a:pt x="3368" y="2122"/>
                </a:lnTo>
                <a:lnTo>
                  <a:pt x="3367" y="2138"/>
                </a:lnTo>
                <a:lnTo>
                  <a:pt x="3368" y="2148"/>
                </a:lnTo>
                <a:lnTo>
                  <a:pt x="3371" y="2157"/>
                </a:lnTo>
                <a:lnTo>
                  <a:pt x="3376" y="2165"/>
                </a:lnTo>
                <a:lnTo>
                  <a:pt x="3381" y="2174"/>
                </a:lnTo>
                <a:lnTo>
                  <a:pt x="3392" y="2188"/>
                </a:lnTo>
                <a:lnTo>
                  <a:pt x="3405" y="2205"/>
                </a:lnTo>
                <a:lnTo>
                  <a:pt x="3420" y="2199"/>
                </a:lnTo>
                <a:lnTo>
                  <a:pt x="3433" y="2190"/>
                </a:lnTo>
                <a:lnTo>
                  <a:pt x="3440" y="2187"/>
                </a:lnTo>
                <a:lnTo>
                  <a:pt x="3446" y="2184"/>
                </a:lnTo>
                <a:lnTo>
                  <a:pt x="3454" y="2182"/>
                </a:lnTo>
                <a:lnTo>
                  <a:pt x="3462" y="2182"/>
                </a:lnTo>
                <a:lnTo>
                  <a:pt x="3477" y="2183"/>
                </a:lnTo>
                <a:lnTo>
                  <a:pt x="3490" y="2184"/>
                </a:lnTo>
                <a:lnTo>
                  <a:pt x="3496" y="2185"/>
                </a:lnTo>
                <a:lnTo>
                  <a:pt x="3502" y="2185"/>
                </a:lnTo>
                <a:lnTo>
                  <a:pt x="3510" y="2184"/>
                </a:lnTo>
                <a:lnTo>
                  <a:pt x="3517" y="2182"/>
                </a:lnTo>
                <a:lnTo>
                  <a:pt x="3518" y="2158"/>
                </a:lnTo>
                <a:lnTo>
                  <a:pt x="3518" y="2137"/>
                </a:lnTo>
                <a:lnTo>
                  <a:pt x="3517" y="2114"/>
                </a:lnTo>
                <a:lnTo>
                  <a:pt x="3517" y="2090"/>
                </a:lnTo>
                <a:lnTo>
                  <a:pt x="3529" y="2102"/>
                </a:lnTo>
                <a:lnTo>
                  <a:pt x="3538" y="2114"/>
                </a:lnTo>
                <a:lnTo>
                  <a:pt x="3542" y="2121"/>
                </a:lnTo>
                <a:lnTo>
                  <a:pt x="3545" y="2127"/>
                </a:lnTo>
                <a:lnTo>
                  <a:pt x="3547" y="2136"/>
                </a:lnTo>
                <a:lnTo>
                  <a:pt x="3548" y="2143"/>
                </a:lnTo>
                <a:lnTo>
                  <a:pt x="3548" y="2243"/>
                </a:lnTo>
                <a:lnTo>
                  <a:pt x="3548" y="2250"/>
                </a:lnTo>
                <a:lnTo>
                  <a:pt x="3550" y="2255"/>
                </a:lnTo>
                <a:lnTo>
                  <a:pt x="3552" y="2259"/>
                </a:lnTo>
                <a:lnTo>
                  <a:pt x="3556" y="2263"/>
                </a:lnTo>
                <a:lnTo>
                  <a:pt x="3565" y="2270"/>
                </a:lnTo>
                <a:lnTo>
                  <a:pt x="3574" y="2277"/>
                </a:lnTo>
                <a:lnTo>
                  <a:pt x="3579" y="2291"/>
                </a:lnTo>
                <a:lnTo>
                  <a:pt x="3579" y="2206"/>
                </a:lnTo>
                <a:lnTo>
                  <a:pt x="3580" y="2197"/>
                </a:lnTo>
                <a:lnTo>
                  <a:pt x="3581" y="2188"/>
                </a:lnTo>
                <a:lnTo>
                  <a:pt x="3584" y="2181"/>
                </a:lnTo>
                <a:lnTo>
                  <a:pt x="3586" y="2174"/>
                </a:lnTo>
                <a:lnTo>
                  <a:pt x="3592" y="2160"/>
                </a:lnTo>
                <a:lnTo>
                  <a:pt x="3600" y="2147"/>
                </a:lnTo>
                <a:lnTo>
                  <a:pt x="3609" y="2134"/>
                </a:lnTo>
                <a:lnTo>
                  <a:pt x="3617" y="2121"/>
                </a:lnTo>
                <a:lnTo>
                  <a:pt x="3626" y="2107"/>
                </a:lnTo>
                <a:lnTo>
                  <a:pt x="3632" y="2090"/>
                </a:lnTo>
                <a:lnTo>
                  <a:pt x="3639" y="2064"/>
                </a:lnTo>
                <a:lnTo>
                  <a:pt x="3644" y="2038"/>
                </a:lnTo>
                <a:lnTo>
                  <a:pt x="3646" y="2033"/>
                </a:lnTo>
                <a:lnTo>
                  <a:pt x="3648" y="2028"/>
                </a:lnTo>
                <a:lnTo>
                  <a:pt x="3651" y="2024"/>
                </a:lnTo>
                <a:lnTo>
                  <a:pt x="3654" y="2019"/>
                </a:lnTo>
                <a:lnTo>
                  <a:pt x="3658" y="2016"/>
                </a:lnTo>
                <a:lnTo>
                  <a:pt x="3662" y="2014"/>
                </a:lnTo>
                <a:lnTo>
                  <a:pt x="3667" y="2012"/>
                </a:lnTo>
                <a:lnTo>
                  <a:pt x="3673" y="2012"/>
                </a:lnTo>
                <a:lnTo>
                  <a:pt x="3682" y="2013"/>
                </a:lnTo>
                <a:lnTo>
                  <a:pt x="3690" y="2015"/>
                </a:lnTo>
                <a:lnTo>
                  <a:pt x="3698" y="2017"/>
                </a:lnTo>
                <a:lnTo>
                  <a:pt x="3707" y="2018"/>
                </a:lnTo>
                <a:lnTo>
                  <a:pt x="3711" y="2018"/>
                </a:lnTo>
                <a:lnTo>
                  <a:pt x="3715" y="2017"/>
                </a:lnTo>
                <a:lnTo>
                  <a:pt x="3718" y="2015"/>
                </a:lnTo>
                <a:lnTo>
                  <a:pt x="3720" y="2013"/>
                </a:lnTo>
                <a:lnTo>
                  <a:pt x="3724" y="2007"/>
                </a:lnTo>
                <a:lnTo>
                  <a:pt x="3726" y="1999"/>
                </a:lnTo>
                <a:lnTo>
                  <a:pt x="3729" y="1982"/>
                </a:lnTo>
                <a:lnTo>
                  <a:pt x="3735" y="1964"/>
                </a:lnTo>
                <a:lnTo>
                  <a:pt x="3738" y="1959"/>
                </a:lnTo>
                <a:lnTo>
                  <a:pt x="3742" y="1955"/>
                </a:lnTo>
                <a:lnTo>
                  <a:pt x="3746" y="1953"/>
                </a:lnTo>
                <a:lnTo>
                  <a:pt x="3753" y="1951"/>
                </a:lnTo>
                <a:lnTo>
                  <a:pt x="3765" y="1949"/>
                </a:lnTo>
                <a:lnTo>
                  <a:pt x="3778" y="1948"/>
                </a:lnTo>
                <a:lnTo>
                  <a:pt x="3798" y="1942"/>
                </a:lnTo>
                <a:lnTo>
                  <a:pt x="3814" y="1938"/>
                </a:lnTo>
                <a:lnTo>
                  <a:pt x="3822" y="1936"/>
                </a:lnTo>
                <a:lnTo>
                  <a:pt x="3831" y="1935"/>
                </a:lnTo>
                <a:lnTo>
                  <a:pt x="3840" y="1934"/>
                </a:lnTo>
                <a:lnTo>
                  <a:pt x="3851" y="1934"/>
                </a:lnTo>
                <a:lnTo>
                  <a:pt x="3880" y="1934"/>
                </a:lnTo>
                <a:lnTo>
                  <a:pt x="3882" y="1941"/>
                </a:lnTo>
                <a:lnTo>
                  <a:pt x="3883" y="1949"/>
                </a:lnTo>
                <a:lnTo>
                  <a:pt x="3882" y="1960"/>
                </a:lnTo>
                <a:lnTo>
                  <a:pt x="3880" y="1971"/>
                </a:lnTo>
                <a:lnTo>
                  <a:pt x="3877" y="1980"/>
                </a:lnTo>
                <a:lnTo>
                  <a:pt x="3874" y="1990"/>
                </a:lnTo>
                <a:lnTo>
                  <a:pt x="3870" y="1999"/>
                </a:lnTo>
                <a:lnTo>
                  <a:pt x="3867" y="2009"/>
                </a:lnTo>
                <a:lnTo>
                  <a:pt x="3864" y="2019"/>
                </a:lnTo>
                <a:lnTo>
                  <a:pt x="3863" y="2031"/>
                </a:lnTo>
                <a:lnTo>
                  <a:pt x="3863" y="2104"/>
                </a:lnTo>
                <a:lnTo>
                  <a:pt x="3863" y="2112"/>
                </a:lnTo>
                <a:lnTo>
                  <a:pt x="3864" y="2121"/>
                </a:lnTo>
                <a:lnTo>
                  <a:pt x="3864" y="2129"/>
                </a:lnTo>
                <a:lnTo>
                  <a:pt x="3863" y="2138"/>
                </a:lnTo>
                <a:close/>
                <a:moveTo>
                  <a:pt x="0" y="54"/>
                </a:moveTo>
                <a:lnTo>
                  <a:pt x="14" y="60"/>
                </a:lnTo>
                <a:lnTo>
                  <a:pt x="27" y="67"/>
                </a:lnTo>
                <a:lnTo>
                  <a:pt x="40" y="75"/>
                </a:lnTo>
                <a:lnTo>
                  <a:pt x="52" y="86"/>
                </a:lnTo>
                <a:lnTo>
                  <a:pt x="52" y="155"/>
                </a:lnTo>
                <a:lnTo>
                  <a:pt x="52" y="159"/>
                </a:lnTo>
                <a:lnTo>
                  <a:pt x="53" y="162"/>
                </a:lnTo>
                <a:lnTo>
                  <a:pt x="54" y="165"/>
                </a:lnTo>
                <a:lnTo>
                  <a:pt x="57" y="167"/>
                </a:lnTo>
                <a:lnTo>
                  <a:pt x="61" y="173"/>
                </a:lnTo>
                <a:lnTo>
                  <a:pt x="66" y="177"/>
                </a:lnTo>
                <a:lnTo>
                  <a:pt x="80" y="184"/>
                </a:lnTo>
                <a:lnTo>
                  <a:pt x="92" y="192"/>
                </a:lnTo>
                <a:lnTo>
                  <a:pt x="98" y="195"/>
                </a:lnTo>
                <a:lnTo>
                  <a:pt x="102" y="199"/>
                </a:lnTo>
                <a:lnTo>
                  <a:pt x="105" y="202"/>
                </a:lnTo>
                <a:lnTo>
                  <a:pt x="108" y="206"/>
                </a:lnTo>
                <a:lnTo>
                  <a:pt x="114" y="216"/>
                </a:lnTo>
                <a:lnTo>
                  <a:pt x="117" y="226"/>
                </a:lnTo>
                <a:lnTo>
                  <a:pt x="119" y="237"/>
                </a:lnTo>
                <a:lnTo>
                  <a:pt x="120" y="249"/>
                </a:lnTo>
                <a:lnTo>
                  <a:pt x="120" y="260"/>
                </a:lnTo>
                <a:lnTo>
                  <a:pt x="120" y="273"/>
                </a:lnTo>
                <a:lnTo>
                  <a:pt x="135" y="273"/>
                </a:lnTo>
                <a:lnTo>
                  <a:pt x="149" y="275"/>
                </a:lnTo>
                <a:lnTo>
                  <a:pt x="164" y="278"/>
                </a:lnTo>
                <a:lnTo>
                  <a:pt x="177" y="283"/>
                </a:lnTo>
                <a:lnTo>
                  <a:pt x="182" y="287"/>
                </a:lnTo>
                <a:lnTo>
                  <a:pt x="189" y="291"/>
                </a:lnTo>
                <a:lnTo>
                  <a:pt x="194" y="295"/>
                </a:lnTo>
                <a:lnTo>
                  <a:pt x="198" y="299"/>
                </a:lnTo>
                <a:lnTo>
                  <a:pt x="202" y="305"/>
                </a:lnTo>
                <a:lnTo>
                  <a:pt x="207" y="310"/>
                </a:lnTo>
                <a:lnTo>
                  <a:pt x="210" y="316"/>
                </a:lnTo>
                <a:lnTo>
                  <a:pt x="212" y="324"/>
                </a:lnTo>
                <a:lnTo>
                  <a:pt x="217" y="352"/>
                </a:lnTo>
                <a:lnTo>
                  <a:pt x="221" y="379"/>
                </a:lnTo>
                <a:lnTo>
                  <a:pt x="222" y="385"/>
                </a:lnTo>
                <a:lnTo>
                  <a:pt x="224" y="391"/>
                </a:lnTo>
                <a:lnTo>
                  <a:pt x="227" y="396"/>
                </a:lnTo>
                <a:lnTo>
                  <a:pt x="230" y="401"/>
                </a:lnTo>
                <a:lnTo>
                  <a:pt x="233" y="404"/>
                </a:lnTo>
                <a:lnTo>
                  <a:pt x="237" y="406"/>
                </a:lnTo>
                <a:lnTo>
                  <a:pt x="242" y="408"/>
                </a:lnTo>
                <a:lnTo>
                  <a:pt x="249" y="409"/>
                </a:lnTo>
                <a:lnTo>
                  <a:pt x="257" y="408"/>
                </a:lnTo>
                <a:lnTo>
                  <a:pt x="266" y="407"/>
                </a:lnTo>
                <a:lnTo>
                  <a:pt x="273" y="404"/>
                </a:lnTo>
                <a:lnTo>
                  <a:pt x="279" y="402"/>
                </a:lnTo>
                <a:lnTo>
                  <a:pt x="287" y="400"/>
                </a:lnTo>
                <a:lnTo>
                  <a:pt x="294" y="397"/>
                </a:lnTo>
                <a:lnTo>
                  <a:pt x="302" y="395"/>
                </a:lnTo>
                <a:lnTo>
                  <a:pt x="310" y="395"/>
                </a:lnTo>
                <a:lnTo>
                  <a:pt x="321" y="395"/>
                </a:lnTo>
                <a:lnTo>
                  <a:pt x="329" y="397"/>
                </a:lnTo>
                <a:lnTo>
                  <a:pt x="337" y="401"/>
                </a:lnTo>
                <a:lnTo>
                  <a:pt x="345" y="405"/>
                </a:lnTo>
                <a:lnTo>
                  <a:pt x="351" y="410"/>
                </a:lnTo>
                <a:lnTo>
                  <a:pt x="358" y="416"/>
                </a:lnTo>
                <a:lnTo>
                  <a:pt x="363" y="423"/>
                </a:lnTo>
                <a:lnTo>
                  <a:pt x="368" y="430"/>
                </a:lnTo>
                <a:lnTo>
                  <a:pt x="378" y="447"/>
                </a:lnTo>
                <a:lnTo>
                  <a:pt x="386" y="465"/>
                </a:lnTo>
                <a:lnTo>
                  <a:pt x="393" y="485"/>
                </a:lnTo>
                <a:lnTo>
                  <a:pt x="402" y="504"/>
                </a:lnTo>
                <a:lnTo>
                  <a:pt x="415" y="530"/>
                </a:lnTo>
                <a:lnTo>
                  <a:pt x="425" y="555"/>
                </a:lnTo>
                <a:lnTo>
                  <a:pt x="435" y="578"/>
                </a:lnTo>
                <a:lnTo>
                  <a:pt x="444" y="600"/>
                </a:lnTo>
                <a:lnTo>
                  <a:pt x="453" y="623"/>
                </a:lnTo>
                <a:lnTo>
                  <a:pt x="461" y="647"/>
                </a:lnTo>
                <a:lnTo>
                  <a:pt x="468" y="672"/>
                </a:lnTo>
                <a:lnTo>
                  <a:pt x="477" y="700"/>
                </a:lnTo>
                <a:lnTo>
                  <a:pt x="481" y="715"/>
                </a:lnTo>
                <a:lnTo>
                  <a:pt x="486" y="728"/>
                </a:lnTo>
                <a:lnTo>
                  <a:pt x="493" y="741"/>
                </a:lnTo>
                <a:lnTo>
                  <a:pt x="499" y="752"/>
                </a:lnTo>
                <a:lnTo>
                  <a:pt x="503" y="758"/>
                </a:lnTo>
                <a:lnTo>
                  <a:pt x="509" y="763"/>
                </a:lnTo>
                <a:lnTo>
                  <a:pt x="513" y="766"/>
                </a:lnTo>
                <a:lnTo>
                  <a:pt x="519" y="770"/>
                </a:lnTo>
                <a:lnTo>
                  <a:pt x="524" y="773"/>
                </a:lnTo>
                <a:lnTo>
                  <a:pt x="531" y="775"/>
                </a:lnTo>
                <a:lnTo>
                  <a:pt x="537" y="778"/>
                </a:lnTo>
                <a:lnTo>
                  <a:pt x="544" y="779"/>
                </a:lnTo>
                <a:lnTo>
                  <a:pt x="557" y="780"/>
                </a:lnTo>
                <a:lnTo>
                  <a:pt x="568" y="779"/>
                </a:lnTo>
                <a:lnTo>
                  <a:pt x="578" y="777"/>
                </a:lnTo>
                <a:lnTo>
                  <a:pt x="589" y="775"/>
                </a:lnTo>
                <a:lnTo>
                  <a:pt x="598" y="773"/>
                </a:lnTo>
                <a:lnTo>
                  <a:pt x="609" y="773"/>
                </a:lnTo>
                <a:lnTo>
                  <a:pt x="618" y="775"/>
                </a:lnTo>
                <a:lnTo>
                  <a:pt x="630" y="779"/>
                </a:lnTo>
                <a:lnTo>
                  <a:pt x="634" y="781"/>
                </a:lnTo>
                <a:lnTo>
                  <a:pt x="638" y="784"/>
                </a:lnTo>
                <a:lnTo>
                  <a:pt x="642" y="787"/>
                </a:lnTo>
                <a:lnTo>
                  <a:pt x="645" y="790"/>
                </a:lnTo>
                <a:lnTo>
                  <a:pt x="650" y="798"/>
                </a:lnTo>
                <a:lnTo>
                  <a:pt x="654" y="806"/>
                </a:lnTo>
                <a:lnTo>
                  <a:pt x="661" y="824"/>
                </a:lnTo>
                <a:lnTo>
                  <a:pt x="670" y="843"/>
                </a:lnTo>
                <a:lnTo>
                  <a:pt x="677" y="851"/>
                </a:lnTo>
                <a:lnTo>
                  <a:pt x="686" y="859"/>
                </a:lnTo>
                <a:lnTo>
                  <a:pt x="695" y="865"/>
                </a:lnTo>
                <a:lnTo>
                  <a:pt x="704" y="872"/>
                </a:lnTo>
                <a:lnTo>
                  <a:pt x="712" y="878"/>
                </a:lnTo>
                <a:lnTo>
                  <a:pt x="719" y="884"/>
                </a:lnTo>
                <a:lnTo>
                  <a:pt x="721" y="888"/>
                </a:lnTo>
                <a:lnTo>
                  <a:pt x="723" y="893"/>
                </a:lnTo>
                <a:lnTo>
                  <a:pt x="724" y="898"/>
                </a:lnTo>
                <a:lnTo>
                  <a:pt x="725" y="903"/>
                </a:lnTo>
                <a:lnTo>
                  <a:pt x="725" y="973"/>
                </a:lnTo>
                <a:lnTo>
                  <a:pt x="724" y="1000"/>
                </a:lnTo>
                <a:lnTo>
                  <a:pt x="723" y="1025"/>
                </a:lnTo>
                <a:lnTo>
                  <a:pt x="724" y="1036"/>
                </a:lnTo>
                <a:lnTo>
                  <a:pt x="727" y="1048"/>
                </a:lnTo>
                <a:lnTo>
                  <a:pt x="729" y="1054"/>
                </a:lnTo>
                <a:lnTo>
                  <a:pt x="731" y="1060"/>
                </a:lnTo>
                <a:lnTo>
                  <a:pt x="735" y="1065"/>
                </a:lnTo>
                <a:lnTo>
                  <a:pt x="739" y="1071"/>
                </a:lnTo>
                <a:lnTo>
                  <a:pt x="745" y="1079"/>
                </a:lnTo>
                <a:lnTo>
                  <a:pt x="751" y="1085"/>
                </a:lnTo>
                <a:lnTo>
                  <a:pt x="759" y="1089"/>
                </a:lnTo>
                <a:lnTo>
                  <a:pt x="767" y="1094"/>
                </a:lnTo>
                <a:lnTo>
                  <a:pt x="776" y="1099"/>
                </a:lnTo>
                <a:lnTo>
                  <a:pt x="783" y="1103"/>
                </a:lnTo>
                <a:lnTo>
                  <a:pt x="792" y="1108"/>
                </a:lnTo>
                <a:lnTo>
                  <a:pt x="799" y="1115"/>
                </a:lnTo>
                <a:lnTo>
                  <a:pt x="803" y="1120"/>
                </a:lnTo>
                <a:lnTo>
                  <a:pt x="806" y="1125"/>
                </a:lnTo>
                <a:lnTo>
                  <a:pt x="807" y="1131"/>
                </a:lnTo>
                <a:lnTo>
                  <a:pt x="808" y="1137"/>
                </a:lnTo>
                <a:lnTo>
                  <a:pt x="809" y="1143"/>
                </a:lnTo>
                <a:lnTo>
                  <a:pt x="812" y="1148"/>
                </a:lnTo>
                <a:lnTo>
                  <a:pt x="814" y="1153"/>
                </a:lnTo>
                <a:lnTo>
                  <a:pt x="817" y="1159"/>
                </a:lnTo>
                <a:lnTo>
                  <a:pt x="821" y="1165"/>
                </a:lnTo>
                <a:lnTo>
                  <a:pt x="826" y="1170"/>
                </a:lnTo>
                <a:lnTo>
                  <a:pt x="832" y="1175"/>
                </a:lnTo>
                <a:lnTo>
                  <a:pt x="837" y="1178"/>
                </a:lnTo>
                <a:lnTo>
                  <a:pt x="850" y="1184"/>
                </a:lnTo>
                <a:lnTo>
                  <a:pt x="861" y="1188"/>
                </a:lnTo>
                <a:lnTo>
                  <a:pt x="874" y="1192"/>
                </a:lnTo>
                <a:lnTo>
                  <a:pt x="888" y="1196"/>
                </a:lnTo>
                <a:lnTo>
                  <a:pt x="901" y="1200"/>
                </a:lnTo>
                <a:lnTo>
                  <a:pt x="915" y="1206"/>
                </a:lnTo>
                <a:lnTo>
                  <a:pt x="931" y="1217"/>
                </a:lnTo>
                <a:lnTo>
                  <a:pt x="945" y="1226"/>
                </a:lnTo>
                <a:lnTo>
                  <a:pt x="956" y="1237"/>
                </a:lnTo>
                <a:lnTo>
                  <a:pt x="968" y="1247"/>
                </a:lnTo>
                <a:lnTo>
                  <a:pt x="990" y="1271"/>
                </a:lnTo>
                <a:lnTo>
                  <a:pt x="1016" y="1295"/>
                </a:lnTo>
                <a:lnTo>
                  <a:pt x="1025" y="1301"/>
                </a:lnTo>
                <a:lnTo>
                  <a:pt x="1033" y="1306"/>
                </a:lnTo>
                <a:lnTo>
                  <a:pt x="1043" y="1309"/>
                </a:lnTo>
                <a:lnTo>
                  <a:pt x="1051" y="1311"/>
                </a:lnTo>
                <a:lnTo>
                  <a:pt x="1060" y="1314"/>
                </a:lnTo>
                <a:lnTo>
                  <a:pt x="1068" y="1317"/>
                </a:lnTo>
                <a:lnTo>
                  <a:pt x="1077" y="1322"/>
                </a:lnTo>
                <a:lnTo>
                  <a:pt x="1085" y="1329"/>
                </a:lnTo>
                <a:lnTo>
                  <a:pt x="1085" y="1402"/>
                </a:lnTo>
                <a:lnTo>
                  <a:pt x="1085" y="1409"/>
                </a:lnTo>
                <a:lnTo>
                  <a:pt x="1088" y="1416"/>
                </a:lnTo>
                <a:lnTo>
                  <a:pt x="1091" y="1423"/>
                </a:lnTo>
                <a:lnTo>
                  <a:pt x="1096" y="1429"/>
                </a:lnTo>
                <a:lnTo>
                  <a:pt x="1106" y="1441"/>
                </a:lnTo>
                <a:lnTo>
                  <a:pt x="1116" y="1454"/>
                </a:lnTo>
                <a:lnTo>
                  <a:pt x="1120" y="1465"/>
                </a:lnTo>
                <a:lnTo>
                  <a:pt x="1124" y="1476"/>
                </a:lnTo>
                <a:lnTo>
                  <a:pt x="1127" y="1485"/>
                </a:lnTo>
                <a:lnTo>
                  <a:pt x="1129" y="1495"/>
                </a:lnTo>
                <a:lnTo>
                  <a:pt x="1132" y="1515"/>
                </a:lnTo>
                <a:lnTo>
                  <a:pt x="1133" y="1538"/>
                </a:lnTo>
                <a:lnTo>
                  <a:pt x="1133" y="1548"/>
                </a:lnTo>
                <a:lnTo>
                  <a:pt x="1132" y="1557"/>
                </a:lnTo>
                <a:lnTo>
                  <a:pt x="1131" y="1566"/>
                </a:lnTo>
                <a:lnTo>
                  <a:pt x="1128" y="1575"/>
                </a:lnTo>
                <a:lnTo>
                  <a:pt x="1125" y="1583"/>
                </a:lnTo>
                <a:lnTo>
                  <a:pt x="1121" y="1591"/>
                </a:lnTo>
                <a:lnTo>
                  <a:pt x="1116" y="1598"/>
                </a:lnTo>
                <a:lnTo>
                  <a:pt x="1108" y="1604"/>
                </a:lnTo>
                <a:lnTo>
                  <a:pt x="1101" y="1610"/>
                </a:lnTo>
                <a:lnTo>
                  <a:pt x="1094" y="1613"/>
                </a:lnTo>
                <a:lnTo>
                  <a:pt x="1086" y="1616"/>
                </a:lnTo>
                <a:lnTo>
                  <a:pt x="1079" y="1617"/>
                </a:lnTo>
                <a:lnTo>
                  <a:pt x="1063" y="1619"/>
                </a:lnTo>
                <a:lnTo>
                  <a:pt x="1047" y="1619"/>
                </a:lnTo>
                <a:lnTo>
                  <a:pt x="1031" y="1618"/>
                </a:lnTo>
                <a:lnTo>
                  <a:pt x="1016" y="1619"/>
                </a:lnTo>
                <a:lnTo>
                  <a:pt x="1008" y="1621"/>
                </a:lnTo>
                <a:lnTo>
                  <a:pt x="1001" y="1623"/>
                </a:lnTo>
                <a:lnTo>
                  <a:pt x="993" y="1627"/>
                </a:lnTo>
                <a:lnTo>
                  <a:pt x="986" y="1632"/>
                </a:lnTo>
                <a:lnTo>
                  <a:pt x="965" y="1649"/>
                </a:lnTo>
                <a:lnTo>
                  <a:pt x="944" y="1665"/>
                </a:lnTo>
                <a:lnTo>
                  <a:pt x="925" y="1679"/>
                </a:lnTo>
                <a:lnTo>
                  <a:pt x="905" y="1693"/>
                </a:lnTo>
                <a:lnTo>
                  <a:pt x="895" y="1699"/>
                </a:lnTo>
                <a:lnTo>
                  <a:pt x="884" y="1705"/>
                </a:lnTo>
                <a:lnTo>
                  <a:pt x="874" y="1710"/>
                </a:lnTo>
                <a:lnTo>
                  <a:pt x="862" y="1714"/>
                </a:lnTo>
                <a:lnTo>
                  <a:pt x="851" y="1718"/>
                </a:lnTo>
                <a:lnTo>
                  <a:pt x="838" y="1722"/>
                </a:lnTo>
                <a:lnTo>
                  <a:pt x="825" y="1725"/>
                </a:lnTo>
                <a:lnTo>
                  <a:pt x="812" y="1727"/>
                </a:lnTo>
                <a:lnTo>
                  <a:pt x="547" y="1672"/>
                </a:lnTo>
                <a:lnTo>
                  <a:pt x="537" y="1673"/>
                </a:lnTo>
                <a:lnTo>
                  <a:pt x="529" y="1674"/>
                </a:lnTo>
                <a:lnTo>
                  <a:pt x="519" y="1676"/>
                </a:lnTo>
                <a:lnTo>
                  <a:pt x="511" y="1680"/>
                </a:lnTo>
                <a:lnTo>
                  <a:pt x="504" y="1685"/>
                </a:lnTo>
                <a:lnTo>
                  <a:pt x="499" y="1691"/>
                </a:lnTo>
                <a:lnTo>
                  <a:pt x="497" y="1694"/>
                </a:lnTo>
                <a:lnTo>
                  <a:pt x="495" y="1697"/>
                </a:lnTo>
                <a:lnTo>
                  <a:pt x="494" y="1702"/>
                </a:lnTo>
                <a:lnTo>
                  <a:pt x="494" y="1706"/>
                </a:lnTo>
                <a:lnTo>
                  <a:pt x="494" y="1715"/>
                </a:lnTo>
                <a:lnTo>
                  <a:pt x="495" y="1724"/>
                </a:lnTo>
                <a:lnTo>
                  <a:pt x="496" y="1732"/>
                </a:lnTo>
                <a:lnTo>
                  <a:pt x="498" y="1740"/>
                </a:lnTo>
                <a:lnTo>
                  <a:pt x="503" y="1754"/>
                </a:lnTo>
                <a:lnTo>
                  <a:pt x="510" y="1767"/>
                </a:lnTo>
                <a:lnTo>
                  <a:pt x="524" y="1794"/>
                </a:lnTo>
                <a:lnTo>
                  <a:pt x="541" y="1825"/>
                </a:lnTo>
                <a:lnTo>
                  <a:pt x="528" y="1831"/>
                </a:lnTo>
                <a:lnTo>
                  <a:pt x="466" y="1808"/>
                </a:lnTo>
                <a:lnTo>
                  <a:pt x="460" y="1813"/>
                </a:lnTo>
                <a:lnTo>
                  <a:pt x="455" y="1820"/>
                </a:lnTo>
                <a:lnTo>
                  <a:pt x="453" y="1823"/>
                </a:lnTo>
                <a:lnTo>
                  <a:pt x="451" y="1827"/>
                </a:lnTo>
                <a:lnTo>
                  <a:pt x="449" y="1830"/>
                </a:lnTo>
                <a:lnTo>
                  <a:pt x="449" y="1836"/>
                </a:lnTo>
                <a:lnTo>
                  <a:pt x="450" y="1845"/>
                </a:lnTo>
                <a:lnTo>
                  <a:pt x="454" y="1854"/>
                </a:lnTo>
                <a:lnTo>
                  <a:pt x="458" y="1861"/>
                </a:lnTo>
                <a:lnTo>
                  <a:pt x="464" y="1868"/>
                </a:lnTo>
                <a:lnTo>
                  <a:pt x="471" y="1875"/>
                </a:lnTo>
                <a:lnTo>
                  <a:pt x="479" y="1880"/>
                </a:lnTo>
                <a:lnTo>
                  <a:pt x="486" y="1885"/>
                </a:lnTo>
                <a:lnTo>
                  <a:pt x="496" y="1891"/>
                </a:lnTo>
                <a:lnTo>
                  <a:pt x="504" y="1896"/>
                </a:lnTo>
                <a:lnTo>
                  <a:pt x="513" y="1901"/>
                </a:lnTo>
                <a:lnTo>
                  <a:pt x="520" y="1907"/>
                </a:lnTo>
                <a:lnTo>
                  <a:pt x="526" y="1914"/>
                </a:lnTo>
                <a:lnTo>
                  <a:pt x="533" y="1920"/>
                </a:lnTo>
                <a:lnTo>
                  <a:pt x="537" y="1927"/>
                </a:lnTo>
                <a:lnTo>
                  <a:pt x="540" y="1937"/>
                </a:lnTo>
                <a:lnTo>
                  <a:pt x="541" y="1946"/>
                </a:lnTo>
                <a:lnTo>
                  <a:pt x="541" y="2030"/>
                </a:lnTo>
                <a:lnTo>
                  <a:pt x="539" y="2068"/>
                </a:lnTo>
                <a:lnTo>
                  <a:pt x="537" y="2103"/>
                </a:lnTo>
                <a:lnTo>
                  <a:pt x="537" y="2111"/>
                </a:lnTo>
                <a:lnTo>
                  <a:pt x="537" y="2120"/>
                </a:lnTo>
                <a:lnTo>
                  <a:pt x="538" y="2127"/>
                </a:lnTo>
                <a:lnTo>
                  <a:pt x="540" y="2136"/>
                </a:lnTo>
                <a:lnTo>
                  <a:pt x="542" y="2144"/>
                </a:lnTo>
                <a:lnTo>
                  <a:pt x="545" y="2151"/>
                </a:lnTo>
                <a:lnTo>
                  <a:pt x="550" y="2160"/>
                </a:lnTo>
                <a:lnTo>
                  <a:pt x="555" y="2168"/>
                </a:lnTo>
                <a:lnTo>
                  <a:pt x="558" y="2172"/>
                </a:lnTo>
                <a:lnTo>
                  <a:pt x="561" y="2176"/>
                </a:lnTo>
                <a:lnTo>
                  <a:pt x="566" y="2178"/>
                </a:lnTo>
                <a:lnTo>
                  <a:pt x="569" y="2180"/>
                </a:lnTo>
                <a:lnTo>
                  <a:pt x="578" y="2182"/>
                </a:lnTo>
                <a:lnTo>
                  <a:pt x="587" y="2182"/>
                </a:lnTo>
                <a:lnTo>
                  <a:pt x="596" y="2183"/>
                </a:lnTo>
                <a:lnTo>
                  <a:pt x="607" y="2183"/>
                </a:lnTo>
                <a:lnTo>
                  <a:pt x="616" y="2185"/>
                </a:lnTo>
                <a:lnTo>
                  <a:pt x="626" y="2188"/>
                </a:lnTo>
                <a:lnTo>
                  <a:pt x="631" y="2191"/>
                </a:lnTo>
                <a:lnTo>
                  <a:pt x="635" y="2195"/>
                </a:lnTo>
                <a:lnTo>
                  <a:pt x="638" y="2198"/>
                </a:lnTo>
                <a:lnTo>
                  <a:pt x="642" y="2201"/>
                </a:lnTo>
                <a:lnTo>
                  <a:pt x="647" y="2209"/>
                </a:lnTo>
                <a:lnTo>
                  <a:pt x="650" y="2218"/>
                </a:lnTo>
                <a:lnTo>
                  <a:pt x="654" y="2226"/>
                </a:lnTo>
                <a:lnTo>
                  <a:pt x="658" y="2236"/>
                </a:lnTo>
                <a:lnTo>
                  <a:pt x="664" y="2244"/>
                </a:lnTo>
                <a:lnTo>
                  <a:pt x="670" y="2253"/>
                </a:lnTo>
                <a:lnTo>
                  <a:pt x="677" y="2259"/>
                </a:lnTo>
                <a:lnTo>
                  <a:pt x="685" y="2263"/>
                </a:lnTo>
                <a:lnTo>
                  <a:pt x="692" y="2266"/>
                </a:lnTo>
                <a:lnTo>
                  <a:pt x="701" y="2269"/>
                </a:lnTo>
                <a:lnTo>
                  <a:pt x="717" y="2272"/>
                </a:lnTo>
                <a:lnTo>
                  <a:pt x="735" y="2277"/>
                </a:lnTo>
                <a:lnTo>
                  <a:pt x="742" y="2280"/>
                </a:lnTo>
                <a:lnTo>
                  <a:pt x="748" y="2284"/>
                </a:lnTo>
                <a:lnTo>
                  <a:pt x="754" y="2290"/>
                </a:lnTo>
                <a:lnTo>
                  <a:pt x="759" y="2295"/>
                </a:lnTo>
                <a:lnTo>
                  <a:pt x="762" y="2300"/>
                </a:lnTo>
                <a:lnTo>
                  <a:pt x="765" y="2307"/>
                </a:lnTo>
                <a:lnTo>
                  <a:pt x="768" y="2314"/>
                </a:lnTo>
                <a:lnTo>
                  <a:pt x="770" y="2320"/>
                </a:lnTo>
                <a:lnTo>
                  <a:pt x="775" y="2352"/>
                </a:lnTo>
                <a:lnTo>
                  <a:pt x="779" y="2386"/>
                </a:lnTo>
                <a:lnTo>
                  <a:pt x="781" y="2393"/>
                </a:lnTo>
                <a:lnTo>
                  <a:pt x="784" y="2401"/>
                </a:lnTo>
                <a:lnTo>
                  <a:pt x="787" y="2406"/>
                </a:lnTo>
                <a:lnTo>
                  <a:pt x="792" y="2412"/>
                </a:lnTo>
                <a:lnTo>
                  <a:pt x="796" y="2416"/>
                </a:lnTo>
                <a:lnTo>
                  <a:pt x="801" y="2421"/>
                </a:lnTo>
                <a:lnTo>
                  <a:pt x="807" y="2425"/>
                </a:lnTo>
                <a:lnTo>
                  <a:pt x="814" y="2428"/>
                </a:lnTo>
                <a:lnTo>
                  <a:pt x="842" y="2442"/>
                </a:lnTo>
                <a:lnTo>
                  <a:pt x="871" y="2457"/>
                </a:lnTo>
                <a:lnTo>
                  <a:pt x="874" y="2446"/>
                </a:lnTo>
                <a:lnTo>
                  <a:pt x="877" y="2436"/>
                </a:lnTo>
                <a:lnTo>
                  <a:pt x="881" y="2428"/>
                </a:lnTo>
                <a:lnTo>
                  <a:pt x="884" y="2420"/>
                </a:lnTo>
                <a:lnTo>
                  <a:pt x="889" y="2411"/>
                </a:lnTo>
                <a:lnTo>
                  <a:pt x="893" y="2402"/>
                </a:lnTo>
                <a:lnTo>
                  <a:pt x="896" y="2392"/>
                </a:lnTo>
                <a:lnTo>
                  <a:pt x="898" y="2382"/>
                </a:lnTo>
                <a:lnTo>
                  <a:pt x="900" y="2364"/>
                </a:lnTo>
                <a:lnTo>
                  <a:pt x="903" y="2346"/>
                </a:lnTo>
                <a:lnTo>
                  <a:pt x="906" y="2337"/>
                </a:lnTo>
                <a:lnTo>
                  <a:pt x="908" y="2330"/>
                </a:lnTo>
                <a:lnTo>
                  <a:pt x="913" y="2321"/>
                </a:lnTo>
                <a:lnTo>
                  <a:pt x="918" y="2314"/>
                </a:lnTo>
                <a:lnTo>
                  <a:pt x="927" y="2321"/>
                </a:lnTo>
                <a:lnTo>
                  <a:pt x="932" y="2329"/>
                </a:lnTo>
                <a:lnTo>
                  <a:pt x="937" y="2338"/>
                </a:lnTo>
                <a:lnTo>
                  <a:pt x="943" y="2348"/>
                </a:lnTo>
                <a:lnTo>
                  <a:pt x="949" y="2360"/>
                </a:lnTo>
                <a:lnTo>
                  <a:pt x="957" y="2370"/>
                </a:lnTo>
                <a:lnTo>
                  <a:pt x="966" y="2379"/>
                </a:lnTo>
                <a:lnTo>
                  <a:pt x="974" y="2388"/>
                </a:lnTo>
                <a:lnTo>
                  <a:pt x="983" y="2396"/>
                </a:lnTo>
                <a:lnTo>
                  <a:pt x="989" y="2406"/>
                </a:lnTo>
                <a:lnTo>
                  <a:pt x="992" y="2411"/>
                </a:lnTo>
                <a:lnTo>
                  <a:pt x="995" y="2416"/>
                </a:lnTo>
                <a:lnTo>
                  <a:pt x="997" y="2423"/>
                </a:lnTo>
                <a:lnTo>
                  <a:pt x="1000" y="2430"/>
                </a:lnTo>
                <a:lnTo>
                  <a:pt x="1004" y="2452"/>
                </a:lnTo>
                <a:lnTo>
                  <a:pt x="1005" y="2472"/>
                </a:lnTo>
                <a:lnTo>
                  <a:pt x="1006" y="2483"/>
                </a:lnTo>
                <a:lnTo>
                  <a:pt x="1007" y="2492"/>
                </a:lnTo>
                <a:lnTo>
                  <a:pt x="1010" y="2503"/>
                </a:lnTo>
                <a:lnTo>
                  <a:pt x="1013" y="2515"/>
                </a:lnTo>
                <a:lnTo>
                  <a:pt x="1016" y="2521"/>
                </a:lnTo>
                <a:lnTo>
                  <a:pt x="1021" y="2526"/>
                </a:lnTo>
                <a:lnTo>
                  <a:pt x="1026" y="2530"/>
                </a:lnTo>
                <a:lnTo>
                  <a:pt x="1032" y="2535"/>
                </a:lnTo>
                <a:lnTo>
                  <a:pt x="1038" y="2538"/>
                </a:lnTo>
                <a:lnTo>
                  <a:pt x="1044" y="2542"/>
                </a:lnTo>
                <a:lnTo>
                  <a:pt x="1049" y="2546"/>
                </a:lnTo>
                <a:lnTo>
                  <a:pt x="1054" y="2552"/>
                </a:lnTo>
                <a:lnTo>
                  <a:pt x="1065" y="2567"/>
                </a:lnTo>
                <a:lnTo>
                  <a:pt x="1076" y="2581"/>
                </a:lnTo>
                <a:lnTo>
                  <a:pt x="1082" y="2587"/>
                </a:lnTo>
                <a:lnTo>
                  <a:pt x="1088" y="2592"/>
                </a:lnTo>
                <a:lnTo>
                  <a:pt x="1092" y="2594"/>
                </a:lnTo>
                <a:lnTo>
                  <a:pt x="1096" y="2595"/>
                </a:lnTo>
                <a:lnTo>
                  <a:pt x="1100" y="2596"/>
                </a:lnTo>
                <a:lnTo>
                  <a:pt x="1105" y="2596"/>
                </a:lnTo>
                <a:lnTo>
                  <a:pt x="1110" y="2595"/>
                </a:lnTo>
                <a:lnTo>
                  <a:pt x="1115" y="2593"/>
                </a:lnTo>
                <a:lnTo>
                  <a:pt x="1119" y="2590"/>
                </a:lnTo>
                <a:lnTo>
                  <a:pt x="1122" y="2585"/>
                </a:lnTo>
                <a:lnTo>
                  <a:pt x="1126" y="2581"/>
                </a:lnTo>
                <a:lnTo>
                  <a:pt x="1129" y="2578"/>
                </a:lnTo>
                <a:lnTo>
                  <a:pt x="1134" y="2575"/>
                </a:lnTo>
                <a:lnTo>
                  <a:pt x="1139" y="2573"/>
                </a:lnTo>
                <a:lnTo>
                  <a:pt x="1152" y="2567"/>
                </a:lnTo>
                <a:lnTo>
                  <a:pt x="1163" y="2562"/>
                </a:lnTo>
                <a:lnTo>
                  <a:pt x="1174" y="2556"/>
                </a:lnTo>
                <a:lnTo>
                  <a:pt x="1184" y="2549"/>
                </a:lnTo>
                <a:lnTo>
                  <a:pt x="1203" y="2534"/>
                </a:lnTo>
                <a:lnTo>
                  <a:pt x="1221" y="2519"/>
                </a:lnTo>
                <a:lnTo>
                  <a:pt x="1230" y="2511"/>
                </a:lnTo>
                <a:lnTo>
                  <a:pt x="1239" y="2504"/>
                </a:lnTo>
                <a:lnTo>
                  <a:pt x="1249" y="2498"/>
                </a:lnTo>
                <a:lnTo>
                  <a:pt x="1258" y="2491"/>
                </a:lnTo>
                <a:lnTo>
                  <a:pt x="1269" y="2487"/>
                </a:lnTo>
                <a:lnTo>
                  <a:pt x="1280" y="2484"/>
                </a:lnTo>
                <a:lnTo>
                  <a:pt x="1292" y="2482"/>
                </a:lnTo>
                <a:lnTo>
                  <a:pt x="1306" y="2481"/>
                </a:lnTo>
                <a:lnTo>
                  <a:pt x="1313" y="2482"/>
                </a:lnTo>
                <a:lnTo>
                  <a:pt x="1318" y="2484"/>
                </a:lnTo>
                <a:lnTo>
                  <a:pt x="1324" y="2487"/>
                </a:lnTo>
                <a:lnTo>
                  <a:pt x="1329" y="2491"/>
                </a:lnTo>
                <a:lnTo>
                  <a:pt x="1339" y="2502"/>
                </a:lnTo>
                <a:lnTo>
                  <a:pt x="1350" y="2511"/>
                </a:lnTo>
                <a:lnTo>
                  <a:pt x="1367" y="2521"/>
                </a:lnTo>
                <a:lnTo>
                  <a:pt x="1384" y="2528"/>
                </a:lnTo>
                <a:lnTo>
                  <a:pt x="1401" y="2534"/>
                </a:lnTo>
                <a:lnTo>
                  <a:pt x="1417" y="2539"/>
                </a:lnTo>
                <a:lnTo>
                  <a:pt x="1434" y="2544"/>
                </a:lnTo>
                <a:lnTo>
                  <a:pt x="1450" y="2549"/>
                </a:lnTo>
                <a:lnTo>
                  <a:pt x="1467" y="2556"/>
                </a:lnTo>
                <a:lnTo>
                  <a:pt x="1485" y="2565"/>
                </a:lnTo>
                <a:lnTo>
                  <a:pt x="1490" y="2556"/>
                </a:lnTo>
                <a:lnTo>
                  <a:pt x="1493" y="2547"/>
                </a:lnTo>
                <a:lnTo>
                  <a:pt x="1495" y="2539"/>
                </a:lnTo>
                <a:lnTo>
                  <a:pt x="1496" y="2528"/>
                </a:lnTo>
                <a:lnTo>
                  <a:pt x="1495" y="2509"/>
                </a:lnTo>
                <a:lnTo>
                  <a:pt x="1493" y="2492"/>
                </a:lnTo>
                <a:lnTo>
                  <a:pt x="1490" y="2477"/>
                </a:lnTo>
                <a:lnTo>
                  <a:pt x="1485" y="2461"/>
                </a:lnTo>
                <a:lnTo>
                  <a:pt x="1476" y="2430"/>
                </a:lnTo>
                <a:lnTo>
                  <a:pt x="1465" y="2395"/>
                </a:lnTo>
                <a:lnTo>
                  <a:pt x="1462" y="2389"/>
                </a:lnTo>
                <a:lnTo>
                  <a:pt x="1459" y="2383"/>
                </a:lnTo>
                <a:lnTo>
                  <a:pt x="1454" y="2377"/>
                </a:lnTo>
                <a:lnTo>
                  <a:pt x="1448" y="2373"/>
                </a:lnTo>
                <a:lnTo>
                  <a:pt x="1443" y="2369"/>
                </a:lnTo>
                <a:lnTo>
                  <a:pt x="1439" y="2364"/>
                </a:lnTo>
                <a:lnTo>
                  <a:pt x="1435" y="2358"/>
                </a:lnTo>
                <a:lnTo>
                  <a:pt x="1431" y="2352"/>
                </a:lnTo>
                <a:lnTo>
                  <a:pt x="1429" y="2345"/>
                </a:lnTo>
                <a:lnTo>
                  <a:pt x="1428" y="2337"/>
                </a:lnTo>
                <a:lnTo>
                  <a:pt x="1427" y="2331"/>
                </a:lnTo>
                <a:lnTo>
                  <a:pt x="1427" y="2325"/>
                </a:lnTo>
                <a:lnTo>
                  <a:pt x="1427" y="2311"/>
                </a:lnTo>
                <a:lnTo>
                  <a:pt x="1424" y="2297"/>
                </a:lnTo>
                <a:lnTo>
                  <a:pt x="1422" y="2290"/>
                </a:lnTo>
                <a:lnTo>
                  <a:pt x="1418" y="2283"/>
                </a:lnTo>
                <a:lnTo>
                  <a:pt x="1415" y="2278"/>
                </a:lnTo>
                <a:lnTo>
                  <a:pt x="1409" y="2273"/>
                </a:lnTo>
                <a:lnTo>
                  <a:pt x="1399" y="2262"/>
                </a:lnTo>
                <a:lnTo>
                  <a:pt x="1388" y="2254"/>
                </a:lnTo>
                <a:lnTo>
                  <a:pt x="1378" y="2244"/>
                </a:lnTo>
                <a:lnTo>
                  <a:pt x="1368" y="2234"/>
                </a:lnTo>
                <a:lnTo>
                  <a:pt x="1365" y="2228"/>
                </a:lnTo>
                <a:lnTo>
                  <a:pt x="1362" y="2222"/>
                </a:lnTo>
                <a:lnTo>
                  <a:pt x="1361" y="2216"/>
                </a:lnTo>
                <a:lnTo>
                  <a:pt x="1360" y="2208"/>
                </a:lnTo>
                <a:lnTo>
                  <a:pt x="1361" y="2197"/>
                </a:lnTo>
                <a:lnTo>
                  <a:pt x="1362" y="2187"/>
                </a:lnTo>
                <a:lnTo>
                  <a:pt x="1363" y="2178"/>
                </a:lnTo>
                <a:lnTo>
                  <a:pt x="1363" y="2166"/>
                </a:lnTo>
                <a:lnTo>
                  <a:pt x="1445" y="2166"/>
                </a:lnTo>
                <a:lnTo>
                  <a:pt x="1449" y="2177"/>
                </a:lnTo>
                <a:lnTo>
                  <a:pt x="1452" y="2188"/>
                </a:lnTo>
                <a:lnTo>
                  <a:pt x="1450" y="2198"/>
                </a:lnTo>
                <a:lnTo>
                  <a:pt x="1449" y="2205"/>
                </a:lnTo>
                <a:lnTo>
                  <a:pt x="1447" y="2214"/>
                </a:lnTo>
                <a:lnTo>
                  <a:pt x="1445" y="2221"/>
                </a:lnTo>
                <a:lnTo>
                  <a:pt x="1442" y="2228"/>
                </a:lnTo>
                <a:lnTo>
                  <a:pt x="1440" y="2236"/>
                </a:lnTo>
                <a:lnTo>
                  <a:pt x="1439" y="2244"/>
                </a:lnTo>
                <a:lnTo>
                  <a:pt x="1438" y="2253"/>
                </a:lnTo>
                <a:lnTo>
                  <a:pt x="1439" y="2258"/>
                </a:lnTo>
                <a:lnTo>
                  <a:pt x="1440" y="2262"/>
                </a:lnTo>
                <a:lnTo>
                  <a:pt x="1441" y="2266"/>
                </a:lnTo>
                <a:lnTo>
                  <a:pt x="1444" y="2271"/>
                </a:lnTo>
                <a:lnTo>
                  <a:pt x="1450" y="2276"/>
                </a:lnTo>
                <a:lnTo>
                  <a:pt x="1459" y="2281"/>
                </a:lnTo>
                <a:lnTo>
                  <a:pt x="1478" y="2290"/>
                </a:lnTo>
                <a:lnTo>
                  <a:pt x="1496" y="2300"/>
                </a:lnTo>
                <a:lnTo>
                  <a:pt x="1502" y="2307"/>
                </a:lnTo>
                <a:lnTo>
                  <a:pt x="1507" y="2313"/>
                </a:lnTo>
                <a:lnTo>
                  <a:pt x="1512" y="2320"/>
                </a:lnTo>
                <a:lnTo>
                  <a:pt x="1515" y="2328"/>
                </a:lnTo>
                <a:lnTo>
                  <a:pt x="1519" y="2335"/>
                </a:lnTo>
                <a:lnTo>
                  <a:pt x="1522" y="2341"/>
                </a:lnTo>
                <a:lnTo>
                  <a:pt x="1528" y="2349"/>
                </a:lnTo>
                <a:lnTo>
                  <a:pt x="1533" y="2355"/>
                </a:lnTo>
                <a:lnTo>
                  <a:pt x="1539" y="2360"/>
                </a:lnTo>
                <a:lnTo>
                  <a:pt x="1546" y="2364"/>
                </a:lnTo>
                <a:lnTo>
                  <a:pt x="1551" y="2367"/>
                </a:lnTo>
                <a:lnTo>
                  <a:pt x="1557" y="2369"/>
                </a:lnTo>
                <a:lnTo>
                  <a:pt x="1570" y="2373"/>
                </a:lnTo>
                <a:lnTo>
                  <a:pt x="1585" y="2378"/>
                </a:lnTo>
                <a:lnTo>
                  <a:pt x="2729" y="1642"/>
                </a:lnTo>
                <a:lnTo>
                  <a:pt x="2827" y="1786"/>
                </a:lnTo>
                <a:lnTo>
                  <a:pt x="2839" y="1779"/>
                </a:lnTo>
                <a:lnTo>
                  <a:pt x="2851" y="1771"/>
                </a:lnTo>
                <a:lnTo>
                  <a:pt x="2861" y="1764"/>
                </a:lnTo>
                <a:lnTo>
                  <a:pt x="2870" y="1755"/>
                </a:lnTo>
                <a:lnTo>
                  <a:pt x="2874" y="1751"/>
                </a:lnTo>
                <a:lnTo>
                  <a:pt x="2877" y="1746"/>
                </a:lnTo>
                <a:lnTo>
                  <a:pt x="2880" y="1742"/>
                </a:lnTo>
                <a:lnTo>
                  <a:pt x="2883" y="1735"/>
                </a:lnTo>
                <a:lnTo>
                  <a:pt x="2886" y="1730"/>
                </a:lnTo>
                <a:lnTo>
                  <a:pt x="2887" y="1724"/>
                </a:lnTo>
                <a:lnTo>
                  <a:pt x="2888" y="1717"/>
                </a:lnTo>
                <a:lnTo>
                  <a:pt x="2889" y="1710"/>
                </a:lnTo>
                <a:lnTo>
                  <a:pt x="2889" y="1637"/>
                </a:lnTo>
                <a:lnTo>
                  <a:pt x="2889" y="1610"/>
                </a:lnTo>
                <a:lnTo>
                  <a:pt x="2891" y="1584"/>
                </a:lnTo>
                <a:lnTo>
                  <a:pt x="2893" y="1573"/>
                </a:lnTo>
                <a:lnTo>
                  <a:pt x="2896" y="1560"/>
                </a:lnTo>
                <a:lnTo>
                  <a:pt x="2901" y="1548"/>
                </a:lnTo>
                <a:lnTo>
                  <a:pt x="2909" y="1536"/>
                </a:lnTo>
                <a:lnTo>
                  <a:pt x="2915" y="1528"/>
                </a:lnTo>
                <a:lnTo>
                  <a:pt x="2923" y="1522"/>
                </a:lnTo>
                <a:lnTo>
                  <a:pt x="2930" y="1516"/>
                </a:lnTo>
                <a:lnTo>
                  <a:pt x="2936" y="1510"/>
                </a:lnTo>
                <a:lnTo>
                  <a:pt x="2943" y="1504"/>
                </a:lnTo>
                <a:lnTo>
                  <a:pt x="2948" y="1498"/>
                </a:lnTo>
                <a:lnTo>
                  <a:pt x="2950" y="1494"/>
                </a:lnTo>
                <a:lnTo>
                  <a:pt x="2952" y="1489"/>
                </a:lnTo>
                <a:lnTo>
                  <a:pt x="2953" y="1485"/>
                </a:lnTo>
                <a:lnTo>
                  <a:pt x="2953" y="1480"/>
                </a:lnTo>
                <a:lnTo>
                  <a:pt x="2953" y="1474"/>
                </a:lnTo>
                <a:lnTo>
                  <a:pt x="2952" y="1469"/>
                </a:lnTo>
                <a:lnTo>
                  <a:pt x="2950" y="1464"/>
                </a:lnTo>
                <a:lnTo>
                  <a:pt x="2949" y="1459"/>
                </a:lnTo>
                <a:lnTo>
                  <a:pt x="2944" y="1449"/>
                </a:lnTo>
                <a:lnTo>
                  <a:pt x="2937" y="1441"/>
                </a:lnTo>
                <a:lnTo>
                  <a:pt x="2929" y="1434"/>
                </a:lnTo>
                <a:lnTo>
                  <a:pt x="2919" y="1428"/>
                </a:lnTo>
                <a:lnTo>
                  <a:pt x="2910" y="1422"/>
                </a:lnTo>
                <a:lnTo>
                  <a:pt x="2898" y="1417"/>
                </a:lnTo>
                <a:lnTo>
                  <a:pt x="2902" y="1404"/>
                </a:lnTo>
                <a:lnTo>
                  <a:pt x="2906" y="1391"/>
                </a:lnTo>
                <a:lnTo>
                  <a:pt x="2904" y="1378"/>
                </a:lnTo>
                <a:lnTo>
                  <a:pt x="2902" y="1367"/>
                </a:lnTo>
                <a:lnTo>
                  <a:pt x="2867" y="1365"/>
                </a:lnTo>
                <a:lnTo>
                  <a:pt x="2836" y="1363"/>
                </a:lnTo>
                <a:lnTo>
                  <a:pt x="2821" y="1362"/>
                </a:lnTo>
                <a:lnTo>
                  <a:pt x="2805" y="1359"/>
                </a:lnTo>
                <a:lnTo>
                  <a:pt x="2789" y="1355"/>
                </a:lnTo>
                <a:lnTo>
                  <a:pt x="2773" y="1350"/>
                </a:lnTo>
                <a:lnTo>
                  <a:pt x="2784" y="1334"/>
                </a:lnTo>
                <a:lnTo>
                  <a:pt x="2795" y="1320"/>
                </a:lnTo>
                <a:lnTo>
                  <a:pt x="2800" y="1314"/>
                </a:lnTo>
                <a:lnTo>
                  <a:pt x="2806" y="1308"/>
                </a:lnTo>
                <a:lnTo>
                  <a:pt x="2813" y="1301"/>
                </a:lnTo>
                <a:lnTo>
                  <a:pt x="2820" y="1295"/>
                </a:lnTo>
                <a:lnTo>
                  <a:pt x="2812" y="1289"/>
                </a:lnTo>
                <a:lnTo>
                  <a:pt x="2803" y="1284"/>
                </a:lnTo>
                <a:lnTo>
                  <a:pt x="2795" y="1280"/>
                </a:lnTo>
                <a:lnTo>
                  <a:pt x="2786" y="1277"/>
                </a:lnTo>
                <a:lnTo>
                  <a:pt x="2778" y="1273"/>
                </a:lnTo>
                <a:lnTo>
                  <a:pt x="2770" y="1269"/>
                </a:lnTo>
                <a:lnTo>
                  <a:pt x="2763" y="1262"/>
                </a:lnTo>
                <a:lnTo>
                  <a:pt x="2756" y="1254"/>
                </a:lnTo>
                <a:lnTo>
                  <a:pt x="2748" y="1242"/>
                </a:lnTo>
                <a:lnTo>
                  <a:pt x="2743" y="1231"/>
                </a:lnTo>
                <a:lnTo>
                  <a:pt x="2739" y="1219"/>
                </a:lnTo>
                <a:lnTo>
                  <a:pt x="2735" y="1207"/>
                </a:lnTo>
                <a:lnTo>
                  <a:pt x="2731" y="1196"/>
                </a:lnTo>
                <a:lnTo>
                  <a:pt x="2727" y="1183"/>
                </a:lnTo>
                <a:lnTo>
                  <a:pt x="2722" y="1171"/>
                </a:lnTo>
                <a:lnTo>
                  <a:pt x="2716" y="1159"/>
                </a:lnTo>
                <a:lnTo>
                  <a:pt x="2710" y="1151"/>
                </a:lnTo>
                <a:lnTo>
                  <a:pt x="2704" y="1144"/>
                </a:lnTo>
                <a:lnTo>
                  <a:pt x="2698" y="1138"/>
                </a:lnTo>
                <a:lnTo>
                  <a:pt x="2691" y="1131"/>
                </a:lnTo>
                <a:lnTo>
                  <a:pt x="2685" y="1125"/>
                </a:lnTo>
                <a:lnTo>
                  <a:pt x="2679" y="1121"/>
                </a:lnTo>
                <a:lnTo>
                  <a:pt x="2671" y="1115"/>
                </a:lnTo>
                <a:lnTo>
                  <a:pt x="2664" y="1112"/>
                </a:lnTo>
                <a:lnTo>
                  <a:pt x="2655" y="1109"/>
                </a:lnTo>
                <a:lnTo>
                  <a:pt x="2647" y="1106"/>
                </a:lnTo>
                <a:lnTo>
                  <a:pt x="2638" y="1104"/>
                </a:lnTo>
                <a:lnTo>
                  <a:pt x="2630" y="1102"/>
                </a:lnTo>
                <a:lnTo>
                  <a:pt x="2612" y="1099"/>
                </a:lnTo>
                <a:lnTo>
                  <a:pt x="2593" y="1099"/>
                </a:lnTo>
                <a:lnTo>
                  <a:pt x="2581" y="1100"/>
                </a:lnTo>
                <a:lnTo>
                  <a:pt x="2572" y="1102"/>
                </a:lnTo>
                <a:lnTo>
                  <a:pt x="2562" y="1104"/>
                </a:lnTo>
                <a:lnTo>
                  <a:pt x="2551" y="1105"/>
                </a:lnTo>
                <a:lnTo>
                  <a:pt x="2541" y="1105"/>
                </a:lnTo>
                <a:lnTo>
                  <a:pt x="2533" y="1104"/>
                </a:lnTo>
                <a:lnTo>
                  <a:pt x="2524" y="1103"/>
                </a:lnTo>
                <a:lnTo>
                  <a:pt x="2515" y="1102"/>
                </a:lnTo>
                <a:lnTo>
                  <a:pt x="2512" y="1089"/>
                </a:lnTo>
                <a:lnTo>
                  <a:pt x="2508" y="1079"/>
                </a:lnTo>
                <a:lnTo>
                  <a:pt x="2505" y="1074"/>
                </a:lnTo>
                <a:lnTo>
                  <a:pt x="2501" y="1070"/>
                </a:lnTo>
                <a:lnTo>
                  <a:pt x="2497" y="1068"/>
                </a:lnTo>
                <a:lnTo>
                  <a:pt x="2491" y="1068"/>
                </a:lnTo>
                <a:lnTo>
                  <a:pt x="2484" y="1068"/>
                </a:lnTo>
                <a:lnTo>
                  <a:pt x="2480" y="1071"/>
                </a:lnTo>
                <a:lnTo>
                  <a:pt x="2476" y="1075"/>
                </a:lnTo>
                <a:lnTo>
                  <a:pt x="2472" y="1081"/>
                </a:lnTo>
                <a:lnTo>
                  <a:pt x="2466" y="1092"/>
                </a:lnTo>
                <a:lnTo>
                  <a:pt x="2460" y="1105"/>
                </a:lnTo>
                <a:lnTo>
                  <a:pt x="2456" y="1112"/>
                </a:lnTo>
                <a:lnTo>
                  <a:pt x="2451" y="1120"/>
                </a:lnTo>
                <a:lnTo>
                  <a:pt x="2445" y="1126"/>
                </a:lnTo>
                <a:lnTo>
                  <a:pt x="2440" y="1131"/>
                </a:lnTo>
                <a:lnTo>
                  <a:pt x="2428" y="1143"/>
                </a:lnTo>
                <a:lnTo>
                  <a:pt x="2417" y="1156"/>
                </a:lnTo>
                <a:lnTo>
                  <a:pt x="2417" y="1268"/>
                </a:lnTo>
                <a:lnTo>
                  <a:pt x="2408" y="1272"/>
                </a:lnTo>
                <a:lnTo>
                  <a:pt x="2400" y="1275"/>
                </a:lnTo>
                <a:lnTo>
                  <a:pt x="2393" y="1274"/>
                </a:lnTo>
                <a:lnTo>
                  <a:pt x="2388" y="1272"/>
                </a:lnTo>
                <a:lnTo>
                  <a:pt x="2384" y="1270"/>
                </a:lnTo>
                <a:lnTo>
                  <a:pt x="2380" y="1265"/>
                </a:lnTo>
                <a:lnTo>
                  <a:pt x="2372" y="1257"/>
                </a:lnTo>
                <a:lnTo>
                  <a:pt x="2365" y="1247"/>
                </a:lnTo>
                <a:lnTo>
                  <a:pt x="2352" y="1236"/>
                </a:lnTo>
                <a:lnTo>
                  <a:pt x="2341" y="1224"/>
                </a:lnTo>
                <a:lnTo>
                  <a:pt x="2335" y="1219"/>
                </a:lnTo>
                <a:lnTo>
                  <a:pt x="2331" y="1213"/>
                </a:lnTo>
                <a:lnTo>
                  <a:pt x="2329" y="1205"/>
                </a:lnTo>
                <a:lnTo>
                  <a:pt x="2328" y="1197"/>
                </a:lnTo>
                <a:lnTo>
                  <a:pt x="2329" y="1188"/>
                </a:lnTo>
                <a:lnTo>
                  <a:pt x="2330" y="1182"/>
                </a:lnTo>
                <a:lnTo>
                  <a:pt x="2333" y="1176"/>
                </a:lnTo>
                <a:lnTo>
                  <a:pt x="2336" y="1169"/>
                </a:lnTo>
                <a:lnTo>
                  <a:pt x="2340" y="1163"/>
                </a:lnTo>
                <a:lnTo>
                  <a:pt x="2343" y="1157"/>
                </a:lnTo>
                <a:lnTo>
                  <a:pt x="2344" y="1150"/>
                </a:lnTo>
                <a:lnTo>
                  <a:pt x="2345" y="1142"/>
                </a:lnTo>
                <a:lnTo>
                  <a:pt x="2344" y="1128"/>
                </a:lnTo>
                <a:lnTo>
                  <a:pt x="2342" y="1113"/>
                </a:lnTo>
                <a:lnTo>
                  <a:pt x="2338" y="1100"/>
                </a:lnTo>
                <a:lnTo>
                  <a:pt x="2332" y="1087"/>
                </a:lnTo>
                <a:lnTo>
                  <a:pt x="2329" y="1082"/>
                </a:lnTo>
                <a:lnTo>
                  <a:pt x="2325" y="1076"/>
                </a:lnTo>
                <a:lnTo>
                  <a:pt x="2321" y="1072"/>
                </a:lnTo>
                <a:lnTo>
                  <a:pt x="2315" y="1068"/>
                </a:lnTo>
                <a:lnTo>
                  <a:pt x="2310" y="1065"/>
                </a:lnTo>
                <a:lnTo>
                  <a:pt x="2304" y="1063"/>
                </a:lnTo>
                <a:lnTo>
                  <a:pt x="2297" y="1062"/>
                </a:lnTo>
                <a:lnTo>
                  <a:pt x="2291" y="1061"/>
                </a:lnTo>
                <a:lnTo>
                  <a:pt x="2285" y="1061"/>
                </a:lnTo>
                <a:lnTo>
                  <a:pt x="2279" y="1062"/>
                </a:lnTo>
                <a:lnTo>
                  <a:pt x="2274" y="1064"/>
                </a:lnTo>
                <a:lnTo>
                  <a:pt x="2270" y="1066"/>
                </a:lnTo>
                <a:lnTo>
                  <a:pt x="2261" y="1071"/>
                </a:lnTo>
                <a:lnTo>
                  <a:pt x="2254" y="1079"/>
                </a:lnTo>
                <a:lnTo>
                  <a:pt x="2247" y="1086"/>
                </a:lnTo>
                <a:lnTo>
                  <a:pt x="2240" y="1093"/>
                </a:lnTo>
                <a:lnTo>
                  <a:pt x="2232" y="1102"/>
                </a:lnTo>
                <a:lnTo>
                  <a:pt x="2222" y="1108"/>
                </a:lnTo>
                <a:lnTo>
                  <a:pt x="2208" y="1119"/>
                </a:lnTo>
                <a:lnTo>
                  <a:pt x="2194" y="1128"/>
                </a:lnTo>
                <a:lnTo>
                  <a:pt x="2180" y="1138"/>
                </a:lnTo>
                <a:lnTo>
                  <a:pt x="2165" y="1149"/>
                </a:lnTo>
                <a:lnTo>
                  <a:pt x="2178" y="1176"/>
                </a:lnTo>
                <a:lnTo>
                  <a:pt x="2166" y="1184"/>
                </a:lnTo>
                <a:lnTo>
                  <a:pt x="2157" y="1192"/>
                </a:lnTo>
                <a:lnTo>
                  <a:pt x="2147" y="1200"/>
                </a:lnTo>
                <a:lnTo>
                  <a:pt x="2139" y="1208"/>
                </a:lnTo>
                <a:lnTo>
                  <a:pt x="2132" y="1218"/>
                </a:lnTo>
                <a:lnTo>
                  <a:pt x="2125" y="1227"/>
                </a:lnTo>
                <a:lnTo>
                  <a:pt x="2120" y="1237"/>
                </a:lnTo>
                <a:lnTo>
                  <a:pt x="2115" y="1247"/>
                </a:lnTo>
                <a:lnTo>
                  <a:pt x="2105" y="1269"/>
                </a:lnTo>
                <a:lnTo>
                  <a:pt x="2097" y="1292"/>
                </a:lnTo>
                <a:lnTo>
                  <a:pt x="2089" y="1316"/>
                </a:lnTo>
                <a:lnTo>
                  <a:pt x="2080" y="1343"/>
                </a:lnTo>
                <a:lnTo>
                  <a:pt x="2077" y="1351"/>
                </a:lnTo>
                <a:lnTo>
                  <a:pt x="2072" y="1359"/>
                </a:lnTo>
                <a:lnTo>
                  <a:pt x="2068" y="1367"/>
                </a:lnTo>
                <a:lnTo>
                  <a:pt x="2063" y="1373"/>
                </a:lnTo>
                <a:lnTo>
                  <a:pt x="2053" y="1386"/>
                </a:lnTo>
                <a:lnTo>
                  <a:pt x="2042" y="1397"/>
                </a:lnTo>
                <a:lnTo>
                  <a:pt x="2030" y="1409"/>
                </a:lnTo>
                <a:lnTo>
                  <a:pt x="2020" y="1421"/>
                </a:lnTo>
                <a:lnTo>
                  <a:pt x="2014" y="1428"/>
                </a:lnTo>
                <a:lnTo>
                  <a:pt x="2010" y="1435"/>
                </a:lnTo>
                <a:lnTo>
                  <a:pt x="2006" y="1443"/>
                </a:lnTo>
                <a:lnTo>
                  <a:pt x="2002" y="1451"/>
                </a:lnTo>
                <a:lnTo>
                  <a:pt x="1992" y="1474"/>
                </a:lnTo>
                <a:lnTo>
                  <a:pt x="1984" y="1497"/>
                </a:lnTo>
                <a:lnTo>
                  <a:pt x="1975" y="1517"/>
                </a:lnTo>
                <a:lnTo>
                  <a:pt x="1967" y="1537"/>
                </a:lnTo>
                <a:lnTo>
                  <a:pt x="1957" y="1556"/>
                </a:lnTo>
                <a:lnTo>
                  <a:pt x="1947" y="1575"/>
                </a:lnTo>
                <a:lnTo>
                  <a:pt x="1935" y="1594"/>
                </a:lnTo>
                <a:lnTo>
                  <a:pt x="1920" y="1614"/>
                </a:lnTo>
                <a:lnTo>
                  <a:pt x="1919" y="1609"/>
                </a:lnTo>
                <a:lnTo>
                  <a:pt x="1918" y="1603"/>
                </a:lnTo>
                <a:lnTo>
                  <a:pt x="1915" y="1598"/>
                </a:lnTo>
                <a:lnTo>
                  <a:pt x="1913" y="1594"/>
                </a:lnTo>
                <a:lnTo>
                  <a:pt x="1909" y="1591"/>
                </a:lnTo>
                <a:lnTo>
                  <a:pt x="1905" y="1587"/>
                </a:lnTo>
                <a:lnTo>
                  <a:pt x="1900" y="1584"/>
                </a:lnTo>
                <a:lnTo>
                  <a:pt x="1895" y="1581"/>
                </a:lnTo>
                <a:lnTo>
                  <a:pt x="1884" y="1577"/>
                </a:lnTo>
                <a:lnTo>
                  <a:pt x="1873" y="1573"/>
                </a:lnTo>
                <a:lnTo>
                  <a:pt x="1861" y="1570"/>
                </a:lnTo>
                <a:lnTo>
                  <a:pt x="1849" y="1566"/>
                </a:lnTo>
                <a:lnTo>
                  <a:pt x="1819" y="1559"/>
                </a:lnTo>
                <a:lnTo>
                  <a:pt x="1793" y="1554"/>
                </a:lnTo>
                <a:lnTo>
                  <a:pt x="1779" y="1552"/>
                </a:lnTo>
                <a:lnTo>
                  <a:pt x="1764" y="1551"/>
                </a:lnTo>
                <a:lnTo>
                  <a:pt x="1749" y="1551"/>
                </a:lnTo>
                <a:lnTo>
                  <a:pt x="1733" y="1549"/>
                </a:lnTo>
                <a:lnTo>
                  <a:pt x="1747" y="1543"/>
                </a:lnTo>
                <a:lnTo>
                  <a:pt x="1766" y="1540"/>
                </a:lnTo>
                <a:lnTo>
                  <a:pt x="1785" y="1539"/>
                </a:lnTo>
                <a:lnTo>
                  <a:pt x="1803" y="1539"/>
                </a:lnTo>
                <a:lnTo>
                  <a:pt x="1821" y="1538"/>
                </a:lnTo>
                <a:lnTo>
                  <a:pt x="1830" y="1538"/>
                </a:lnTo>
                <a:lnTo>
                  <a:pt x="1838" y="1537"/>
                </a:lnTo>
                <a:lnTo>
                  <a:pt x="1846" y="1536"/>
                </a:lnTo>
                <a:lnTo>
                  <a:pt x="1854" y="1534"/>
                </a:lnTo>
                <a:lnTo>
                  <a:pt x="1862" y="1530"/>
                </a:lnTo>
                <a:lnTo>
                  <a:pt x="1871" y="1527"/>
                </a:lnTo>
                <a:lnTo>
                  <a:pt x="1878" y="1522"/>
                </a:lnTo>
                <a:lnTo>
                  <a:pt x="1887" y="1516"/>
                </a:lnTo>
                <a:lnTo>
                  <a:pt x="1894" y="1508"/>
                </a:lnTo>
                <a:lnTo>
                  <a:pt x="1900" y="1501"/>
                </a:lnTo>
                <a:lnTo>
                  <a:pt x="1906" y="1494"/>
                </a:lnTo>
                <a:lnTo>
                  <a:pt x="1910" y="1485"/>
                </a:lnTo>
                <a:lnTo>
                  <a:pt x="1917" y="1467"/>
                </a:lnTo>
                <a:lnTo>
                  <a:pt x="1924" y="1448"/>
                </a:lnTo>
                <a:lnTo>
                  <a:pt x="1929" y="1436"/>
                </a:lnTo>
                <a:lnTo>
                  <a:pt x="1933" y="1426"/>
                </a:lnTo>
                <a:lnTo>
                  <a:pt x="1938" y="1415"/>
                </a:lnTo>
                <a:lnTo>
                  <a:pt x="1944" y="1406"/>
                </a:lnTo>
                <a:lnTo>
                  <a:pt x="1955" y="1388"/>
                </a:lnTo>
                <a:lnTo>
                  <a:pt x="1967" y="1371"/>
                </a:lnTo>
                <a:lnTo>
                  <a:pt x="1980" y="1354"/>
                </a:lnTo>
                <a:lnTo>
                  <a:pt x="1991" y="1337"/>
                </a:lnTo>
                <a:lnTo>
                  <a:pt x="2002" y="1317"/>
                </a:lnTo>
                <a:lnTo>
                  <a:pt x="2012" y="1295"/>
                </a:lnTo>
                <a:lnTo>
                  <a:pt x="2018" y="1285"/>
                </a:lnTo>
                <a:lnTo>
                  <a:pt x="2024" y="1277"/>
                </a:lnTo>
                <a:lnTo>
                  <a:pt x="2031" y="1270"/>
                </a:lnTo>
                <a:lnTo>
                  <a:pt x="2039" y="1262"/>
                </a:lnTo>
                <a:lnTo>
                  <a:pt x="2045" y="1255"/>
                </a:lnTo>
                <a:lnTo>
                  <a:pt x="2051" y="1247"/>
                </a:lnTo>
                <a:lnTo>
                  <a:pt x="2053" y="1242"/>
                </a:lnTo>
                <a:lnTo>
                  <a:pt x="2055" y="1238"/>
                </a:lnTo>
                <a:lnTo>
                  <a:pt x="2056" y="1233"/>
                </a:lnTo>
                <a:lnTo>
                  <a:pt x="2057" y="1227"/>
                </a:lnTo>
                <a:lnTo>
                  <a:pt x="2051" y="1220"/>
                </a:lnTo>
                <a:lnTo>
                  <a:pt x="2046" y="1214"/>
                </a:lnTo>
                <a:lnTo>
                  <a:pt x="2029" y="1231"/>
                </a:lnTo>
                <a:lnTo>
                  <a:pt x="2015" y="1245"/>
                </a:lnTo>
                <a:lnTo>
                  <a:pt x="2007" y="1252"/>
                </a:lnTo>
                <a:lnTo>
                  <a:pt x="1999" y="1257"/>
                </a:lnTo>
                <a:lnTo>
                  <a:pt x="1989" y="1263"/>
                </a:lnTo>
                <a:lnTo>
                  <a:pt x="1978" y="1268"/>
                </a:lnTo>
                <a:lnTo>
                  <a:pt x="2001" y="1237"/>
                </a:lnTo>
                <a:lnTo>
                  <a:pt x="2022" y="1211"/>
                </a:lnTo>
                <a:lnTo>
                  <a:pt x="2032" y="1197"/>
                </a:lnTo>
                <a:lnTo>
                  <a:pt x="2045" y="1185"/>
                </a:lnTo>
                <a:lnTo>
                  <a:pt x="2058" y="1172"/>
                </a:lnTo>
                <a:lnTo>
                  <a:pt x="2074" y="1159"/>
                </a:lnTo>
                <a:lnTo>
                  <a:pt x="2084" y="1152"/>
                </a:lnTo>
                <a:lnTo>
                  <a:pt x="2096" y="1147"/>
                </a:lnTo>
                <a:lnTo>
                  <a:pt x="2100" y="1144"/>
                </a:lnTo>
                <a:lnTo>
                  <a:pt x="2105" y="1141"/>
                </a:lnTo>
                <a:lnTo>
                  <a:pt x="2109" y="1137"/>
                </a:lnTo>
                <a:lnTo>
                  <a:pt x="2114" y="1132"/>
                </a:lnTo>
                <a:lnTo>
                  <a:pt x="2117" y="1128"/>
                </a:lnTo>
                <a:lnTo>
                  <a:pt x="2118" y="1124"/>
                </a:lnTo>
                <a:lnTo>
                  <a:pt x="2120" y="1121"/>
                </a:lnTo>
                <a:lnTo>
                  <a:pt x="2120" y="1117"/>
                </a:lnTo>
                <a:lnTo>
                  <a:pt x="2121" y="1108"/>
                </a:lnTo>
                <a:lnTo>
                  <a:pt x="2121" y="1100"/>
                </a:lnTo>
                <a:lnTo>
                  <a:pt x="2120" y="1091"/>
                </a:lnTo>
                <a:lnTo>
                  <a:pt x="2120" y="1082"/>
                </a:lnTo>
                <a:lnTo>
                  <a:pt x="2121" y="1073"/>
                </a:lnTo>
                <a:lnTo>
                  <a:pt x="2124" y="1064"/>
                </a:lnTo>
                <a:lnTo>
                  <a:pt x="2127" y="1060"/>
                </a:lnTo>
                <a:lnTo>
                  <a:pt x="2131" y="1055"/>
                </a:lnTo>
                <a:lnTo>
                  <a:pt x="2136" y="1052"/>
                </a:lnTo>
                <a:lnTo>
                  <a:pt x="2140" y="1049"/>
                </a:lnTo>
                <a:lnTo>
                  <a:pt x="2145" y="1046"/>
                </a:lnTo>
                <a:lnTo>
                  <a:pt x="2150" y="1043"/>
                </a:lnTo>
                <a:lnTo>
                  <a:pt x="2154" y="1038"/>
                </a:lnTo>
                <a:lnTo>
                  <a:pt x="2158" y="1033"/>
                </a:lnTo>
                <a:lnTo>
                  <a:pt x="2176" y="1001"/>
                </a:lnTo>
                <a:lnTo>
                  <a:pt x="2190" y="973"/>
                </a:lnTo>
                <a:lnTo>
                  <a:pt x="2197" y="959"/>
                </a:lnTo>
                <a:lnTo>
                  <a:pt x="2207" y="945"/>
                </a:lnTo>
                <a:lnTo>
                  <a:pt x="2216" y="932"/>
                </a:lnTo>
                <a:lnTo>
                  <a:pt x="2230" y="918"/>
                </a:lnTo>
                <a:lnTo>
                  <a:pt x="2221" y="909"/>
                </a:lnTo>
                <a:lnTo>
                  <a:pt x="2213" y="901"/>
                </a:lnTo>
                <a:lnTo>
                  <a:pt x="2209" y="898"/>
                </a:lnTo>
                <a:lnTo>
                  <a:pt x="2203" y="896"/>
                </a:lnTo>
                <a:lnTo>
                  <a:pt x="2198" y="895"/>
                </a:lnTo>
                <a:lnTo>
                  <a:pt x="2192" y="895"/>
                </a:lnTo>
                <a:lnTo>
                  <a:pt x="2189" y="895"/>
                </a:lnTo>
                <a:lnTo>
                  <a:pt x="2185" y="896"/>
                </a:lnTo>
                <a:lnTo>
                  <a:pt x="2182" y="897"/>
                </a:lnTo>
                <a:lnTo>
                  <a:pt x="2179" y="898"/>
                </a:lnTo>
                <a:lnTo>
                  <a:pt x="2175" y="903"/>
                </a:lnTo>
                <a:lnTo>
                  <a:pt x="2171" y="909"/>
                </a:lnTo>
                <a:lnTo>
                  <a:pt x="2166" y="914"/>
                </a:lnTo>
                <a:lnTo>
                  <a:pt x="2162" y="919"/>
                </a:lnTo>
                <a:lnTo>
                  <a:pt x="2157" y="924"/>
                </a:lnTo>
                <a:lnTo>
                  <a:pt x="2152" y="929"/>
                </a:lnTo>
                <a:lnTo>
                  <a:pt x="2133" y="937"/>
                </a:lnTo>
                <a:lnTo>
                  <a:pt x="2116" y="943"/>
                </a:lnTo>
                <a:lnTo>
                  <a:pt x="2106" y="945"/>
                </a:lnTo>
                <a:lnTo>
                  <a:pt x="2097" y="948"/>
                </a:lnTo>
                <a:lnTo>
                  <a:pt x="2087" y="949"/>
                </a:lnTo>
                <a:lnTo>
                  <a:pt x="2077" y="949"/>
                </a:lnTo>
                <a:lnTo>
                  <a:pt x="2070" y="948"/>
                </a:lnTo>
                <a:lnTo>
                  <a:pt x="2065" y="945"/>
                </a:lnTo>
                <a:lnTo>
                  <a:pt x="2061" y="941"/>
                </a:lnTo>
                <a:lnTo>
                  <a:pt x="2058" y="936"/>
                </a:lnTo>
                <a:lnTo>
                  <a:pt x="2052" y="924"/>
                </a:lnTo>
                <a:lnTo>
                  <a:pt x="2049" y="912"/>
                </a:lnTo>
                <a:lnTo>
                  <a:pt x="2042" y="916"/>
                </a:lnTo>
                <a:lnTo>
                  <a:pt x="2035" y="921"/>
                </a:lnTo>
                <a:lnTo>
                  <a:pt x="2029" y="925"/>
                </a:lnTo>
                <a:lnTo>
                  <a:pt x="2024" y="932"/>
                </a:lnTo>
                <a:lnTo>
                  <a:pt x="2015" y="943"/>
                </a:lnTo>
                <a:lnTo>
                  <a:pt x="2008" y="956"/>
                </a:lnTo>
                <a:lnTo>
                  <a:pt x="1994" y="983"/>
                </a:lnTo>
                <a:lnTo>
                  <a:pt x="1978" y="1013"/>
                </a:lnTo>
                <a:lnTo>
                  <a:pt x="1971" y="1025"/>
                </a:lnTo>
                <a:lnTo>
                  <a:pt x="1965" y="1034"/>
                </a:lnTo>
                <a:lnTo>
                  <a:pt x="1961" y="1038"/>
                </a:lnTo>
                <a:lnTo>
                  <a:pt x="1955" y="1042"/>
                </a:lnTo>
                <a:lnTo>
                  <a:pt x="1950" y="1043"/>
                </a:lnTo>
                <a:lnTo>
                  <a:pt x="1944" y="1044"/>
                </a:lnTo>
                <a:lnTo>
                  <a:pt x="1934" y="1044"/>
                </a:lnTo>
                <a:lnTo>
                  <a:pt x="1926" y="1043"/>
                </a:lnTo>
                <a:lnTo>
                  <a:pt x="1917" y="1041"/>
                </a:lnTo>
                <a:lnTo>
                  <a:pt x="1910" y="1039"/>
                </a:lnTo>
                <a:lnTo>
                  <a:pt x="1894" y="1034"/>
                </a:lnTo>
                <a:lnTo>
                  <a:pt x="1876" y="1027"/>
                </a:lnTo>
                <a:lnTo>
                  <a:pt x="1873" y="1026"/>
                </a:lnTo>
                <a:lnTo>
                  <a:pt x="1871" y="1024"/>
                </a:lnTo>
                <a:lnTo>
                  <a:pt x="1869" y="1020"/>
                </a:lnTo>
                <a:lnTo>
                  <a:pt x="1867" y="1018"/>
                </a:lnTo>
                <a:lnTo>
                  <a:pt x="1863" y="1012"/>
                </a:lnTo>
                <a:lnTo>
                  <a:pt x="1861" y="1006"/>
                </a:lnTo>
                <a:lnTo>
                  <a:pt x="1859" y="999"/>
                </a:lnTo>
                <a:lnTo>
                  <a:pt x="1856" y="993"/>
                </a:lnTo>
                <a:lnTo>
                  <a:pt x="1854" y="991"/>
                </a:lnTo>
                <a:lnTo>
                  <a:pt x="1852" y="989"/>
                </a:lnTo>
                <a:lnTo>
                  <a:pt x="1849" y="987"/>
                </a:lnTo>
                <a:lnTo>
                  <a:pt x="1845" y="986"/>
                </a:lnTo>
                <a:lnTo>
                  <a:pt x="1830" y="982"/>
                </a:lnTo>
                <a:lnTo>
                  <a:pt x="1816" y="980"/>
                </a:lnTo>
                <a:lnTo>
                  <a:pt x="1801" y="978"/>
                </a:lnTo>
                <a:lnTo>
                  <a:pt x="1784" y="976"/>
                </a:lnTo>
                <a:lnTo>
                  <a:pt x="1784" y="1027"/>
                </a:lnTo>
                <a:lnTo>
                  <a:pt x="1718" y="1027"/>
                </a:lnTo>
                <a:lnTo>
                  <a:pt x="1711" y="1026"/>
                </a:lnTo>
                <a:lnTo>
                  <a:pt x="1705" y="1025"/>
                </a:lnTo>
                <a:lnTo>
                  <a:pt x="1700" y="1023"/>
                </a:lnTo>
                <a:lnTo>
                  <a:pt x="1694" y="1020"/>
                </a:lnTo>
                <a:lnTo>
                  <a:pt x="1690" y="1017"/>
                </a:lnTo>
                <a:lnTo>
                  <a:pt x="1685" y="1015"/>
                </a:lnTo>
                <a:lnTo>
                  <a:pt x="1679" y="1014"/>
                </a:lnTo>
                <a:lnTo>
                  <a:pt x="1672" y="1013"/>
                </a:lnTo>
                <a:lnTo>
                  <a:pt x="1659" y="1016"/>
                </a:lnTo>
                <a:lnTo>
                  <a:pt x="1645" y="1020"/>
                </a:lnTo>
                <a:lnTo>
                  <a:pt x="1645" y="1105"/>
                </a:lnTo>
                <a:lnTo>
                  <a:pt x="1635" y="1119"/>
                </a:lnTo>
                <a:lnTo>
                  <a:pt x="1628" y="1109"/>
                </a:lnTo>
                <a:lnTo>
                  <a:pt x="1623" y="1101"/>
                </a:lnTo>
                <a:lnTo>
                  <a:pt x="1616" y="1092"/>
                </a:lnTo>
                <a:lnTo>
                  <a:pt x="1608" y="1085"/>
                </a:lnTo>
                <a:lnTo>
                  <a:pt x="1598" y="1092"/>
                </a:lnTo>
                <a:lnTo>
                  <a:pt x="1590" y="1100"/>
                </a:lnTo>
                <a:lnTo>
                  <a:pt x="1586" y="1103"/>
                </a:lnTo>
                <a:lnTo>
                  <a:pt x="1582" y="1108"/>
                </a:lnTo>
                <a:lnTo>
                  <a:pt x="1579" y="1112"/>
                </a:lnTo>
                <a:lnTo>
                  <a:pt x="1577" y="1119"/>
                </a:lnTo>
                <a:lnTo>
                  <a:pt x="1575" y="1130"/>
                </a:lnTo>
                <a:lnTo>
                  <a:pt x="1575" y="1143"/>
                </a:lnTo>
                <a:lnTo>
                  <a:pt x="1575" y="1157"/>
                </a:lnTo>
                <a:lnTo>
                  <a:pt x="1575" y="1168"/>
                </a:lnTo>
                <a:lnTo>
                  <a:pt x="1575" y="1175"/>
                </a:lnTo>
                <a:lnTo>
                  <a:pt x="1575" y="1180"/>
                </a:lnTo>
                <a:lnTo>
                  <a:pt x="1574" y="1184"/>
                </a:lnTo>
                <a:lnTo>
                  <a:pt x="1572" y="1188"/>
                </a:lnTo>
                <a:lnTo>
                  <a:pt x="1570" y="1192"/>
                </a:lnTo>
                <a:lnTo>
                  <a:pt x="1567" y="1195"/>
                </a:lnTo>
                <a:lnTo>
                  <a:pt x="1562" y="1196"/>
                </a:lnTo>
                <a:lnTo>
                  <a:pt x="1557" y="1197"/>
                </a:lnTo>
                <a:lnTo>
                  <a:pt x="1550" y="1192"/>
                </a:lnTo>
                <a:lnTo>
                  <a:pt x="1543" y="1186"/>
                </a:lnTo>
                <a:lnTo>
                  <a:pt x="1542" y="1163"/>
                </a:lnTo>
                <a:lnTo>
                  <a:pt x="1540" y="1142"/>
                </a:lnTo>
                <a:lnTo>
                  <a:pt x="1538" y="1122"/>
                </a:lnTo>
                <a:lnTo>
                  <a:pt x="1535" y="1103"/>
                </a:lnTo>
                <a:lnTo>
                  <a:pt x="1532" y="1084"/>
                </a:lnTo>
                <a:lnTo>
                  <a:pt x="1529" y="1065"/>
                </a:lnTo>
                <a:lnTo>
                  <a:pt x="1528" y="1044"/>
                </a:lnTo>
                <a:lnTo>
                  <a:pt x="1527" y="1020"/>
                </a:lnTo>
                <a:lnTo>
                  <a:pt x="1511" y="1021"/>
                </a:lnTo>
                <a:lnTo>
                  <a:pt x="1497" y="1023"/>
                </a:lnTo>
                <a:lnTo>
                  <a:pt x="1483" y="1021"/>
                </a:lnTo>
                <a:lnTo>
                  <a:pt x="1469" y="1021"/>
                </a:lnTo>
                <a:lnTo>
                  <a:pt x="1444" y="1018"/>
                </a:lnTo>
                <a:lnTo>
                  <a:pt x="1421" y="1013"/>
                </a:lnTo>
                <a:lnTo>
                  <a:pt x="1397" y="1006"/>
                </a:lnTo>
                <a:lnTo>
                  <a:pt x="1371" y="998"/>
                </a:lnTo>
                <a:lnTo>
                  <a:pt x="1345" y="991"/>
                </a:lnTo>
                <a:lnTo>
                  <a:pt x="1315" y="982"/>
                </a:lnTo>
                <a:lnTo>
                  <a:pt x="1309" y="978"/>
                </a:lnTo>
                <a:lnTo>
                  <a:pt x="1303" y="974"/>
                </a:lnTo>
                <a:lnTo>
                  <a:pt x="1296" y="970"/>
                </a:lnTo>
                <a:lnTo>
                  <a:pt x="1291" y="964"/>
                </a:lnTo>
                <a:lnTo>
                  <a:pt x="1283" y="955"/>
                </a:lnTo>
                <a:lnTo>
                  <a:pt x="1275" y="944"/>
                </a:lnTo>
                <a:lnTo>
                  <a:pt x="1267" y="933"/>
                </a:lnTo>
                <a:lnTo>
                  <a:pt x="1259" y="922"/>
                </a:lnTo>
                <a:lnTo>
                  <a:pt x="1250" y="912"/>
                </a:lnTo>
                <a:lnTo>
                  <a:pt x="1237" y="901"/>
                </a:lnTo>
                <a:lnTo>
                  <a:pt x="1229" y="912"/>
                </a:lnTo>
                <a:lnTo>
                  <a:pt x="1221" y="923"/>
                </a:lnTo>
                <a:lnTo>
                  <a:pt x="1217" y="928"/>
                </a:lnTo>
                <a:lnTo>
                  <a:pt x="1212" y="932"/>
                </a:lnTo>
                <a:lnTo>
                  <a:pt x="1207" y="934"/>
                </a:lnTo>
                <a:lnTo>
                  <a:pt x="1200" y="935"/>
                </a:lnTo>
                <a:lnTo>
                  <a:pt x="1194" y="933"/>
                </a:lnTo>
                <a:lnTo>
                  <a:pt x="1186" y="932"/>
                </a:lnTo>
                <a:lnTo>
                  <a:pt x="1184" y="937"/>
                </a:lnTo>
                <a:lnTo>
                  <a:pt x="1182" y="941"/>
                </a:lnTo>
                <a:lnTo>
                  <a:pt x="1180" y="944"/>
                </a:lnTo>
                <a:lnTo>
                  <a:pt x="1177" y="949"/>
                </a:lnTo>
                <a:lnTo>
                  <a:pt x="1155" y="949"/>
                </a:lnTo>
                <a:lnTo>
                  <a:pt x="1154" y="933"/>
                </a:lnTo>
                <a:lnTo>
                  <a:pt x="1154" y="918"/>
                </a:lnTo>
                <a:lnTo>
                  <a:pt x="1154" y="903"/>
                </a:lnTo>
                <a:lnTo>
                  <a:pt x="1155" y="887"/>
                </a:lnTo>
                <a:lnTo>
                  <a:pt x="1143" y="890"/>
                </a:lnTo>
                <a:lnTo>
                  <a:pt x="1133" y="891"/>
                </a:lnTo>
                <a:lnTo>
                  <a:pt x="1123" y="891"/>
                </a:lnTo>
                <a:lnTo>
                  <a:pt x="1111" y="887"/>
                </a:lnTo>
                <a:lnTo>
                  <a:pt x="1117" y="874"/>
                </a:lnTo>
                <a:lnTo>
                  <a:pt x="1122" y="862"/>
                </a:lnTo>
                <a:lnTo>
                  <a:pt x="1124" y="857"/>
                </a:lnTo>
                <a:lnTo>
                  <a:pt x="1127" y="850"/>
                </a:lnTo>
                <a:lnTo>
                  <a:pt x="1128" y="844"/>
                </a:lnTo>
                <a:lnTo>
                  <a:pt x="1128" y="837"/>
                </a:lnTo>
                <a:lnTo>
                  <a:pt x="1128" y="832"/>
                </a:lnTo>
                <a:lnTo>
                  <a:pt x="1127" y="828"/>
                </a:lnTo>
                <a:lnTo>
                  <a:pt x="1126" y="824"/>
                </a:lnTo>
                <a:lnTo>
                  <a:pt x="1124" y="821"/>
                </a:lnTo>
                <a:lnTo>
                  <a:pt x="1118" y="815"/>
                </a:lnTo>
                <a:lnTo>
                  <a:pt x="1110" y="810"/>
                </a:lnTo>
                <a:lnTo>
                  <a:pt x="1103" y="807"/>
                </a:lnTo>
                <a:lnTo>
                  <a:pt x="1094" y="804"/>
                </a:lnTo>
                <a:lnTo>
                  <a:pt x="1084" y="803"/>
                </a:lnTo>
                <a:lnTo>
                  <a:pt x="1075" y="803"/>
                </a:lnTo>
                <a:lnTo>
                  <a:pt x="1067" y="803"/>
                </a:lnTo>
                <a:lnTo>
                  <a:pt x="1061" y="805"/>
                </a:lnTo>
                <a:lnTo>
                  <a:pt x="1054" y="807"/>
                </a:lnTo>
                <a:lnTo>
                  <a:pt x="1049" y="809"/>
                </a:lnTo>
                <a:lnTo>
                  <a:pt x="1043" y="811"/>
                </a:lnTo>
                <a:lnTo>
                  <a:pt x="1038" y="815"/>
                </a:lnTo>
                <a:lnTo>
                  <a:pt x="1031" y="816"/>
                </a:lnTo>
                <a:lnTo>
                  <a:pt x="1024" y="817"/>
                </a:lnTo>
                <a:lnTo>
                  <a:pt x="1014" y="813"/>
                </a:lnTo>
                <a:lnTo>
                  <a:pt x="1007" y="809"/>
                </a:lnTo>
                <a:lnTo>
                  <a:pt x="1029" y="774"/>
                </a:lnTo>
                <a:lnTo>
                  <a:pt x="1050" y="744"/>
                </a:lnTo>
                <a:lnTo>
                  <a:pt x="1054" y="736"/>
                </a:lnTo>
                <a:lnTo>
                  <a:pt x="1059" y="729"/>
                </a:lnTo>
                <a:lnTo>
                  <a:pt x="1062" y="721"/>
                </a:lnTo>
                <a:lnTo>
                  <a:pt x="1065" y="712"/>
                </a:lnTo>
                <a:lnTo>
                  <a:pt x="1068" y="704"/>
                </a:lnTo>
                <a:lnTo>
                  <a:pt x="1069" y="694"/>
                </a:lnTo>
                <a:lnTo>
                  <a:pt x="1070" y="684"/>
                </a:lnTo>
                <a:lnTo>
                  <a:pt x="1071" y="673"/>
                </a:lnTo>
                <a:lnTo>
                  <a:pt x="1070" y="665"/>
                </a:lnTo>
                <a:lnTo>
                  <a:pt x="1068" y="656"/>
                </a:lnTo>
                <a:lnTo>
                  <a:pt x="1066" y="649"/>
                </a:lnTo>
                <a:lnTo>
                  <a:pt x="1062" y="642"/>
                </a:lnTo>
                <a:lnTo>
                  <a:pt x="1054" y="629"/>
                </a:lnTo>
                <a:lnTo>
                  <a:pt x="1047" y="613"/>
                </a:lnTo>
                <a:lnTo>
                  <a:pt x="1033" y="621"/>
                </a:lnTo>
                <a:lnTo>
                  <a:pt x="1021" y="631"/>
                </a:lnTo>
                <a:lnTo>
                  <a:pt x="1014" y="634"/>
                </a:lnTo>
                <a:lnTo>
                  <a:pt x="1007" y="637"/>
                </a:lnTo>
                <a:lnTo>
                  <a:pt x="1000" y="639"/>
                </a:lnTo>
                <a:lnTo>
                  <a:pt x="991" y="639"/>
                </a:lnTo>
                <a:lnTo>
                  <a:pt x="982" y="638"/>
                </a:lnTo>
                <a:lnTo>
                  <a:pt x="972" y="636"/>
                </a:lnTo>
                <a:lnTo>
                  <a:pt x="965" y="633"/>
                </a:lnTo>
                <a:lnTo>
                  <a:pt x="956" y="630"/>
                </a:lnTo>
                <a:lnTo>
                  <a:pt x="949" y="626"/>
                </a:lnTo>
                <a:lnTo>
                  <a:pt x="940" y="622"/>
                </a:lnTo>
                <a:lnTo>
                  <a:pt x="932" y="620"/>
                </a:lnTo>
                <a:lnTo>
                  <a:pt x="921" y="619"/>
                </a:lnTo>
                <a:lnTo>
                  <a:pt x="906" y="624"/>
                </a:lnTo>
                <a:lnTo>
                  <a:pt x="890" y="630"/>
                </a:lnTo>
                <a:lnTo>
                  <a:pt x="834" y="630"/>
                </a:lnTo>
                <a:lnTo>
                  <a:pt x="833" y="618"/>
                </a:lnTo>
                <a:lnTo>
                  <a:pt x="832" y="609"/>
                </a:lnTo>
                <a:lnTo>
                  <a:pt x="831" y="599"/>
                </a:lnTo>
                <a:lnTo>
                  <a:pt x="830" y="588"/>
                </a:lnTo>
                <a:lnTo>
                  <a:pt x="831" y="582"/>
                </a:lnTo>
                <a:lnTo>
                  <a:pt x="832" y="576"/>
                </a:lnTo>
                <a:lnTo>
                  <a:pt x="833" y="571"/>
                </a:lnTo>
                <a:lnTo>
                  <a:pt x="835" y="566"/>
                </a:lnTo>
                <a:lnTo>
                  <a:pt x="841" y="558"/>
                </a:lnTo>
                <a:lnTo>
                  <a:pt x="846" y="549"/>
                </a:lnTo>
                <a:lnTo>
                  <a:pt x="853" y="541"/>
                </a:lnTo>
                <a:lnTo>
                  <a:pt x="859" y="532"/>
                </a:lnTo>
                <a:lnTo>
                  <a:pt x="861" y="527"/>
                </a:lnTo>
                <a:lnTo>
                  <a:pt x="862" y="522"/>
                </a:lnTo>
                <a:lnTo>
                  <a:pt x="863" y="517"/>
                </a:lnTo>
                <a:lnTo>
                  <a:pt x="864" y="510"/>
                </a:lnTo>
                <a:lnTo>
                  <a:pt x="863" y="504"/>
                </a:lnTo>
                <a:lnTo>
                  <a:pt x="861" y="499"/>
                </a:lnTo>
                <a:lnTo>
                  <a:pt x="859" y="494"/>
                </a:lnTo>
                <a:lnTo>
                  <a:pt x="855" y="489"/>
                </a:lnTo>
                <a:lnTo>
                  <a:pt x="851" y="485"/>
                </a:lnTo>
                <a:lnTo>
                  <a:pt x="845" y="482"/>
                </a:lnTo>
                <a:lnTo>
                  <a:pt x="839" y="481"/>
                </a:lnTo>
                <a:lnTo>
                  <a:pt x="834" y="480"/>
                </a:lnTo>
                <a:lnTo>
                  <a:pt x="824" y="481"/>
                </a:lnTo>
                <a:lnTo>
                  <a:pt x="817" y="483"/>
                </a:lnTo>
                <a:lnTo>
                  <a:pt x="809" y="486"/>
                </a:lnTo>
                <a:lnTo>
                  <a:pt x="803" y="490"/>
                </a:lnTo>
                <a:lnTo>
                  <a:pt x="796" y="494"/>
                </a:lnTo>
                <a:lnTo>
                  <a:pt x="788" y="497"/>
                </a:lnTo>
                <a:lnTo>
                  <a:pt x="781" y="500"/>
                </a:lnTo>
                <a:lnTo>
                  <a:pt x="773" y="500"/>
                </a:lnTo>
                <a:lnTo>
                  <a:pt x="766" y="500"/>
                </a:lnTo>
                <a:lnTo>
                  <a:pt x="761" y="498"/>
                </a:lnTo>
                <a:lnTo>
                  <a:pt x="757" y="495"/>
                </a:lnTo>
                <a:lnTo>
                  <a:pt x="752" y="490"/>
                </a:lnTo>
                <a:lnTo>
                  <a:pt x="745" y="481"/>
                </a:lnTo>
                <a:lnTo>
                  <a:pt x="739" y="469"/>
                </a:lnTo>
                <a:lnTo>
                  <a:pt x="724" y="476"/>
                </a:lnTo>
                <a:lnTo>
                  <a:pt x="710" y="480"/>
                </a:lnTo>
                <a:lnTo>
                  <a:pt x="703" y="483"/>
                </a:lnTo>
                <a:lnTo>
                  <a:pt x="696" y="485"/>
                </a:lnTo>
                <a:lnTo>
                  <a:pt x="690" y="489"/>
                </a:lnTo>
                <a:lnTo>
                  <a:pt x="684" y="494"/>
                </a:lnTo>
                <a:lnTo>
                  <a:pt x="680" y="498"/>
                </a:lnTo>
                <a:lnTo>
                  <a:pt x="676" y="503"/>
                </a:lnTo>
                <a:lnTo>
                  <a:pt x="673" y="509"/>
                </a:lnTo>
                <a:lnTo>
                  <a:pt x="670" y="515"/>
                </a:lnTo>
                <a:lnTo>
                  <a:pt x="667" y="520"/>
                </a:lnTo>
                <a:lnTo>
                  <a:pt x="664" y="524"/>
                </a:lnTo>
                <a:lnTo>
                  <a:pt x="660" y="526"/>
                </a:lnTo>
                <a:lnTo>
                  <a:pt x="653" y="527"/>
                </a:lnTo>
                <a:lnTo>
                  <a:pt x="647" y="524"/>
                </a:lnTo>
                <a:lnTo>
                  <a:pt x="639" y="521"/>
                </a:lnTo>
                <a:lnTo>
                  <a:pt x="643" y="510"/>
                </a:lnTo>
                <a:lnTo>
                  <a:pt x="646" y="501"/>
                </a:lnTo>
                <a:lnTo>
                  <a:pt x="651" y="492"/>
                </a:lnTo>
                <a:lnTo>
                  <a:pt x="656" y="485"/>
                </a:lnTo>
                <a:lnTo>
                  <a:pt x="662" y="477"/>
                </a:lnTo>
                <a:lnTo>
                  <a:pt x="666" y="469"/>
                </a:lnTo>
                <a:lnTo>
                  <a:pt x="668" y="464"/>
                </a:lnTo>
                <a:lnTo>
                  <a:pt x="669" y="460"/>
                </a:lnTo>
                <a:lnTo>
                  <a:pt x="670" y="454"/>
                </a:lnTo>
                <a:lnTo>
                  <a:pt x="670" y="449"/>
                </a:lnTo>
                <a:lnTo>
                  <a:pt x="670" y="443"/>
                </a:lnTo>
                <a:lnTo>
                  <a:pt x="669" y="438"/>
                </a:lnTo>
                <a:lnTo>
                  <a:pt x="668" y="432"/>
                </a:lnTo>
                <a:lnTo>
                  <a:pt x="666" y="428"/>
                </a:lnTo>
                <a:lnTo>
                  <a:pt x="661" y="420"/>
                </a:lnTo>
                <a:lnTo>
                  <a:pt x="654" y="411"/>
                </a:lnTo>
                <a:lnTo>
                  <a:pt x="648" y="403"/>
                </a:lnTo>
                <a:lnTo>
                  <a:pt x="642" y="394"/>
                </a:lnTo>
                <a:lnTo>
                  <a:pt x="635" y="385"/>
                </a:lnTo>
                <a:lnTo>
                  <a:pt x="630" y="374"/>
                </a:lnTo>
                <a:lnTo>
                  <a:pt x="622" y="378"/>
                </a:lnTo>
                <a:lnTo>
                  <a:pt x="614" y="383"/>
                </a:lnTo>
                <a:lnTo>
                  <a:pt x="608" y="388"/>
                </a:lnTo>
                <a:lnTo>
                  <a:pt x="603" y="393"/>
                </a:lnTo>
                <a:lnTo>
                  <a:pt x="593" y="406"/>
                </a:lnTo>
                <a:lnTo>
                  <a:pt x="585" y="420"/>
                </a:lnTo>
                <a:lnTo>
                  <a:pt x="577" y="433"/>
                </a:lnTo>
                <a:lnTo>
                  <a:pt x="569" y="447"/>
                </a:lnTo>
                <a:lnTo>
                  <a:pt x="563" y="454"/>
                </a:lnTo>
                <a:lnTo>
                  <a:pt x="558" y="461"/>
                </a:lnTo>
                <a:lnTo>
                  <a:pt x="552" y="467"/>
                </a:lnTo>
                <a:lnTo>
                  <a:pt x="544" y="473"/>
                </a:lnTo>
                <a:lnTo>
                  <a:pt x="550" y="448"/>
                </a:lnTo>
                <a:lnTo>
                  <a:pt x="555" y="426"/>
                </a:lnTo>
                <a:lnTo>
                  <a:pt x="558" y="414"/>
                </a:lnTo>
                <a:lnTo>
                  <a:pt x="560" y="404"/>
                </a:lnTo>
                <a:lnTo>
                  <a:pt x="561" y="391"/>
                </a:lnTo>
                <a:lnTo>
                  <a:pt x="561" y="378"/>
                </a:lnTo>
                <a:lnTo>
                  <a:pt x="561" y="366"/>
                </a:lnTo>
                <a:lnTo>
                  <a:pt x="559" y="354"/>
                </a:lnTo>
                <a:lnTo>
                  <a:pt x="557" y="343"/>
                </a:lnTo>
                <a:lnTo>
                  <a:pt x="554" y="331"/>
                </a:lnTo>
                <a:lnTo>
                  <a:pt x="550" y="320"/>
                </a:lnTo>
                <a:lnTo>
                  <a:pt x="544" y="310"/>
                </a:lnTo>
                <a:lnTo>
                  <a:pt x="539" y="300"/>
                </a:lnTo>
                <a:lnTo>
                  <a:pt x="533" y="291"/>
                </a:lnTo>
                <a:lnTo>
                  <a:pt x="525" y="282"/>
                </a:lnTo>
                <a:lnTo>
                  <a:pt x="517" y="275"/>
                </a:lnTo>
                <a:lnTo>
                  <a:pt x="509" y="269"/>
                </a:lnTo>
                <a:lnTo>
                  <a:pt x="499" y="263"/>
                </a:lnTo>
                <a:lnTo>
                  <a:pt x="488" y="258"/>
                </a:lnTo>
                <a:lnTo>
                  <a:pt x="478" y="255"/>
                </a:lnTo>
                <a:lnTo>
                  <a:pt x="466" y="253"/>
                </a:lnTo>
                <a:lnTo>
                  <a:pt x="455" y="253"/>
                </a:lnTo>
                <a:lnTo>
                  <a:pt x="449" y="253"/>
                </a:lnTo>
                <a:lnTo>
                  <a:pt x="445" y="254"/>
                </a:lnTo>
                <a:lnTo>
                  <a:pt x="441" y="255"/>
                </a:lnTo>
                <a:lnTo>
                  <a:pt x="438" y="257"/>
                </a:lnTo>
                <a:lnTo>
                  <a:pt x="430" y="262"/>
                </a:lnTo>
                <a:lnTo>
                  <a:pt x="424" y="268"/>
                </a:lnTo>
                <a:lnTo>
                  <a:pt x="418" y="273"/>
                </a:lnTo>
                <a:lnTo>
                  <a:pt x="410" y="278"/>
                </a:lnTo>
                <a:lnTo>
                  <a:pt x="407" y="280"/>
                </a:lnTo>
                <a:lnTo>
                  <a:pt x="403" y="281"/>
                </a:lnTo>
                <a:lnTo>
                  <a:pt x="399" y="282"/>
                </a:lnTo>
                <a:lnTo>
                  <a:pt x="393" y="282"/>
                </a:lnTo>
                <a:lnTo>
                  <a:pt x="385" y="282"/>
                </a:lnTo>
                <a:lnTo>
                  <a:pt x="379" y="279"/>
                </a:lnTo>
                <a:lnTo>
                  <a:pt x="371" y="276"/>
                </a:lnTo>
                <a:lnTo>
                  <a:pt x="365" y="273"/>
                </a:lnTo>
                <a:lnTo>
                  <a:pt x="388" y="228"/>
                </a:lnTo>
                <a:lnTo>
                  <a:pt x="382" y="215"/>
                </a:lnTo>
                <a:lnTo>
                  <a:pt x="363" y="216"/>
                </a:lnTo>
                <a:lnTo>
                  <a:pt x="346" y="215"/>
                </a:lnTo>
                <a:lnTo>
                  <a:pt x="337" y="215"/>
                </a:lnTo>
                <a:lnTo>
                  <a:pt x="329" y="213"/>
                </a:lnTo>
                <a:lnTo>
                  <a:pt x="322" y="209"/>
                </a:lnTo>
                <a:lnTo>
                  <a:pt x="313" y="204"/>
                </a:lnTo>
                <a:lnTo>
                  <a:pt x="300" y="194"/>
                </a:lnTo>
                <a:lnTo>
                  <a:pt x="290" y="182"/>
                </a:lnTo>
                <a:lnTo>
                  <a:pt x="285" y="177"/>
                </a:lnTo>
                <a:lnTo>
                  <a:pt x="278" y="173"/>
                </a:lnTo>
                <a:lnTo>
                  <a:pt x="271" y="169"/>
                </a:lnTo>
                <a:lnTo>
                  <a:pt x="262" y="167"/>
                </a:lnTo>
                <a:lnTo>
                  <a:pt x="242" y="167"/>
                </a:lnTo>
                <a:lnTo>
                  <a:pt x="223" y="168"/>
                </a:lnTo>
                <a:lnTo>
                  <a:pt x="214" y="167"/>
                </a:lnTo>
                <a:lnTo>
                  <a:pt x="205" y="165"/>
                </a:lnTo>
                <a:lnTo>
                  <a:pt x="202" y="163"/>
                </a:lnTo>
                <a:lnTo>
                  <a:pt x="198" y="161"/>
                </a:lnTo>
                <a:lnTo>
                  <a:pt x="195" y="158"/>
                </a:lnTo>
                <a:lnTo>
                  <a:pt x="192" y="154"/>
                </a:lnTo>
                <a:lnTo>
                  <a:pt x="187" y="148"/>
                </a:lnTo>
                <a:lnTo>
                  <a:pt x="185" y="143"/>
                </a:lnTo>
                <a:lnTo>
                  <a:pt x="183" y="137"/>
                </a:lnTo>
                <a:lnTo>
                  <a:pt x="181" y="130"/>
                </a:lnTo>
                <a:lnTo>
                  <a:pt x="178" y="118"/>
                </a:lnTo>
                <a:lnTo>
                  <a:pt x="176" y="105"/>
                </a:lnTo>
                <a:lnTo>
                  <a:pt x="175" y="99"/>
                </a:lnTo>
                <a:lnTo>
                  <a:pt x="173" y="93"/>
                </a:lnTo>
                <a:lnTo>
                  <a:pt x="171" y="88"/>
                </a:lnTo>
                <a:lnTo>
                  <a:pt x="168" y="84"/>
                </a:lnTo>
                <a:lnTo>
                  <a:pt x="165" y="81"/>
                </a:lnTo>
                <a:lnTo>
                  <a:pt x="161" y="77"/>
                </a:lnTo>
                <a:lnTo>
                  <a:pt x="157" y="76"/>
                </a:lnTo>
                <a:lnTo>
                  <a:pt x="151" y="75"/>
                </a:lnTo>
                <a:lnTo>
                  <a:pt x="146" y="76"/>
                </a:lnTo>
                <a:lnTo>
                  <a:pt x="143" y="77"/>
                </a:lnTo>
                <a:lnTo>
                  <a:pt x="140" y="79"/>
                </a:lnTo>
                <a:lnTo>
                  <a:pt x="137" y="81"/>
                </a:lnTo>
                <a:lnTo>
                  <a:pt x="130" y="85"/>
                </a:lnTo>
                <a:lnTo>
                  <a:pt x="123" y="89"/>
                </a:lnTo>
                <a:lnTo>
                  <a:pt x="111" y="73"/>
                </a:lnTo>
                <a:lnTo>
                  <a:pt x="100" y="58"/>
                </a:lnTo>
                <a:lnTo>
                  <a:pt x="88" y="45"/>
                </a:lnTo>
                <a:lnTo>
                  <a:pt x="76" y="28"/>
                </a:lnTo>
                <a:lnTo>
                  <a:pt x="72" y="19"/>
                </a:lnTo>
                <a:lnTo>
                  <a:pt x="69" y="11"/>
                </a:lnTo>
                <a:lnTo>
                  <a:pt x="68" y="7"/>
                </a:lnTo>
                <a:lnTo>
                  <a:pt x="66" y="4"/>
                </a:lnTo>
                <a:lnTo>
                  <a:pt x="63" y="1"/>
                </a:lnTo>
                <a:lnTo>
                  <a:pt x="59" y="0"/>
                </a:lnTo>
                <a:lnTo>
                  <a:pt x="53" y="1"/>
                </a:lnTo>
                <a:lnTo>
                  <a:pt x="48" y="3"/>
                </a:lnTo>
                <a:lnTo>
                  <a:pt x="43" y="4"/>
                </a:lnTo>
                <a:lnTo>
                  <a:pt x="38" y="5"/>
                </a:lnTo>
                <a:lnTo>
                  <a:pt x="29" y="10"/>
                </a:lnTo>
                <a:lnTo>
                  <a:pt x="21" y="16"/>
                </a:lnTo>
                <a:lnTo>
                  <a:pt x="14" y="25"/>
                </a:lnTo>
                <a:lnTo>
                  <a:pt x="8" y="33"/>
                </a:lnTo>
                <a:lnTo>
                  <a:pt x="3" y="44"/>
                </a:lnTo>
                <a:lnTo>
                  <a:pt x="0" y="54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50000">
                <a:srgbClr val="ffc000"/>
              </a:gs>
              <a:gs pos="100000">
                <a:srgbClr val="404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81"/>
          <p:cNvSpPr/>
          <p:nvPr/>
        </p:nvSpPr>
        <p:spPr>
          <a:xfrm>
            <a:off x="7345440" y="5086440"/>
            <a:ext cx="588960" cy="520560"/>
          </a:xfrm>
          <a:custGeom>
            <a:avLst/>
            <a:gdLst>
              <a:gd name="textAreaLeft" fmla="*/ 0 w 588960"/>
              <a:gd name="textAreaRight" fmla="*/ 589320 w 5889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214" h="1066">
                <a:moveTo>
                  <a:pt x="0" y="624"/>
                </a:moveTo>
                <a:lnTo>
                  <a:pt x="6" y="617"/>
                </a:lnTo>
                <a:lnTo>
                  <a:pt x="11" y="611"/>
                </a:lnTo>
                <a:lnTo>
                  <a:pt x="16" y="605"/>
                </a:lnTo>
                <a:lnTo>
                  <a:pt x="20" y="597"/>
                </a:lnTo>
                <a:lnTo>
                  <a:pt x="26" y="582"/>
                </a:lnTo>
                <a:lnTo>
                  <a:pt x="34" y="566"/>
                </a:lnTo>
                <a:lnTo>
                  <a:pt x="44" y="547"/>
                </a:lnTo>
                <a:lnTo>
                  <a:pt x="55" y="531"/>
                </a:lnTo>
                <a:lnTo>
                  <a:pt x="60" y="522"/>
                </a:lnTo>
                <a:lnTo>
                  <a:pt x="65" y="514"/>
                </a:lnTo>
                <a:lnTo>
                  <a:pt x="71" y="504"/>
                </a:lnTo>
                <a:lnTo>
                  <a:pt x="75" y="494"/>
                </a:lnTo>
                <a:lnTo>
                  <a:pt x="78" y="483"/>
                </a:lnTo>
                <a:lnTo>
                  <a:pt x="80" y="472"/>
                </a:lnTo>
                <a:lnTo>
                  <a:pt x="82" y="462"/>
                </a:lnTo>
                <a:lnTo>
                  <a:pt x="82" y="451"/>
                </a:lnTo>
                <a:lnTo>
                  <a:pt x="82" y="431"/>
                </a:lnTo>
                <a:lnTo>
                  <a:pt x="81" y="407"/>
                </a:lnTo>
                <a:lnTo>
                  <a:pt x="80" y="390"/>
                </a:lnTo>
                <a:lnTo>
                  <a:pt x="77" y="375"/>
                </a:lnTo>
                <a:lnTo>
                  <a:pt x="74" y="361"/>
                </a:lnTo>
                <a:lnTo>
                  <a:pt x="73" y="343"/>
                </a:lnTo>
                <a:lnTo>
                  <a:pt x="73" y="336"/>
                </a:lnTo>
                <a:lnTo>
                  <a:pt x="74" y="331"/>
                </a:lnTo>
                <a:lnTo>
                  <a:pt x="76" y="326"/>
                </a:lnTo>
                <a:lnTo>
                  <a:pt x="78" y="322"/>
                </a:lnTo>
                <a:lnTo>
                  <a:pt x="82" y="312"/>
                </a:lnTo>
                <a:lnTo>
                  <a:pt x="86" y="300"/>
                </a:lnTo>
                <a:lnTo>
                  <a:pt x="87" y="294"/>
                </a:lnTo>
                <a:lnTo>
                  <a:pt x="89" y="289"/>
                </a:lnTo>
                <a:lnTo>
                  <a:pt x="90" y="287"/>
                </a:lnTo>
                <a:lnTo>
                  <a:pt x="91" y="284"/>
                </a:lnTo>
                <a:lnTo>
                  <a:pt x="93" y="281"/>
                </a:lnTo>
                <a:lnTo>
                  <a:pt x="95" y="280"/>
                </a:lnTo>
                <a:lnTo>
                  <a:pt x="100" y="277"/>
                </a:lnTo>
                <a:lnTo>
                  <a:pt x="106" y="276"/>
                </a:lnTo>
                <a:lnTo>
                  <a:pt x="112" y="275"/>
                </a:lnTo>
                <a:lnTo>
                  <a:pt x="117" y="275"/>
                </a:lnTo>
                <a:lnTo>
                  <a:pt x="123" y="274"/>
                </a:lnTo>
                <a:lnTo>
                  <a:pt x="129" y="274"/>
                </a:lnTo>
                <a:lnTo>
                  <a:pt x="135" y="272"/>
                </a:lnTo>
                <a:lnTo>
                  <a:pt x="140" y="270"/>
                </a:lnTo>
                <a:lnTo>
                  <a:pt x="153" y="262"/>
                </a:lnTo>
                <a:lnTo>
                  <a:pt x="163" y="255"/>
                </a:lnTo>
                <a:lnTo>
                  <a:pt x="173" y="247"/>
                </a:lnTo>
                <a:lnTo>
                  <a:pt x="185" y="238"/>
                </a:lnTo>
                <a:lnTo>
                  <a:pt x="190" y="235"/>
                </a:lnTo>
                <a:lnTo>
                  <a:pt x="195" y="233"/>
                </a:lnTo>
                <a:lnTo>
                  <a:pt x="200" y="231"/>
                </a:lnTo>
                <a:lnTo>
                  <a:pt x="206" y="230"/>
                </a:lnTo>
                <a:lnTo>
                  <a:pt x="216" y="229"/>
                </a:lnTo>
                <a:lnTo>
                  <a:pt x="227" y="226"/>
                </a:lnTo>
                <a:lnTo>
                  <a:pt x="231" y="234"/>
                </a:lnTo>
                <a:lnTo>
                  <a:pt x="234" y="240"/>
                </a:lnTo>
                <a:lnTo>
                  <a:pt x="236" y="243"/>
                </a:lnTo>
                <a:lnTo>
                  <a:pt x="238" y="246"/>
                </a:lnTo>
                <a:lnTo>
                  <a:pt x="242" y="248"/>
                </a:lnTo>
                <a:lnTo>
                  <a:pt x="246" y="248"/>
                </a:lnTo>
                <a:lnTo>
                  <a:pt x="252" y="248"/>
                </a:lnTo>
                <a:lnTo>
                  <a:pt x="259" y="246"/>
                </a:lnTo>
                <a:lnTo>
                  <a:pt x="264" y="242"/>
                </a:lnTo>
                <a:lnTo>
                  <a:pt x="268" y="239"/>
                </a:lnTo>
                <a:lnTo>
                  <a:pt x="273" y="235"/>
                </a:lnTo>
                <a:lnTo>
                  <a:pt x="279" y="232"/>
                </a:lnTo>
                <a:lnTo>
                  <a:pt x="284" y="229"/>
                </a:lnTo>
                <a:lnTo>
                  <a:pt x="290" y="226"/>
                </a:lnTo>
                <a:lnTo>
                  <a:pt x="299" y="222"/>
                </a:lnTo>
                <a:lnTo>
                  <a:pt x="307" y="219"/>
                </a:lnTo>
                <a:lnTo>
                  <a:pt x="315" y="215"/>
                </a:lnTo>
                <a:lnTo>
                  <a:pt x="321" y="211"/>
                </a:lnTo>
                <a:lnTo>
                  <a:pt x="334" y="202"/>
                </a:lnTo>
                <a:lnTo>
                  <a:pt x="345" y="192"/>
                </a:lnTo>
                <a:lnTo>
                  <a:pt x="366" y="169"/>
                </a:lnTo>
                <a:lnTo>
                  <a:pt x="388" y="141"/>
                </a:lnTo>
                <a:lnTo>
                  <a:pt x="393" y="137"/>
                </a:lnTo>
                <a:lnTo>
                  <a:pt x="397" y="134"/>
                </a:lnTo>
                <a:lnTo>
                  <a:pt x="401" y="132"/>
                </a:lnTo>
                <a:lnTo>
                  <a:pt x="405" y="129"/>
                </a:lnTo>
                <a:lnTo>
                  <a:pt x="414" y="125"/>
                </a:lnTo>
                <a:lnTo>
                  <a:pt x="422" y="119"/>
                </a:lnTo>
                <a:lnTo>
                  <a:pt x="434" y="106"/>
                </a:lnTo>
                <a:lnTo>
                  <a:pt x="447" y="95"/>
                </a:lnTo>
                <a:lnTo>
                  <a:pt x="455" y="98"/>
                </a:lnTo>
                <a:lnTo>
                  <a:pt x="463" y="101"/>
                </a:lnTo>
                <a:lnTo>
                  <a:pt x="479" y="100"/>
                </a:lnTo>
                <a:lnTo>
                  <a:pt x="492" y="98"/>
                </a:lnTo>
                <a:lnTo>
                  <a:pt x="505" y="94"/>
                </a:lnTo>
                <a:lnTo>
                  <a:pt x="516" y="89"/>
                </a:lnTo>
                <a:lnTo>
                  <a:pt x="528" y="85"/>
                </a:lnTo>
                <a:lnTo>
                  <a:pt x="540" y="81"/>
                </a:lnTo>
                <a:lnTo>
                  <a:pt x="554" y="79"/>
                </a:lnTo>
                <a:lnTo>
                  <a:pt x="569" y="78"/>
                </a:lnTo>
                <a:lnTo>
                  <a:pt x="585" y="78"/>
                </a:lnTo>
                <a:lnTo>
                  <a:pt x="600" y="80"/>
                </a:lnTo>
                <a:lnTo>
                  <a:pt x="614" y="82"/>
                </a:lnTo>
                <a:lnTo>
                  <a:pt x="627" y="86"/>
                </a:lnTo>
                <a:lnTo>
                  <a:pt x="641" y="91"/>
                </a:lnTo>
                <a:lnTo>
                  <a:pt x="653" y="97"/>
                </a:lnTo>
                <a:lnTo>
                  <a:pt x="667" y="104"/>
                </a:lnTo>
                <a:lnTo>
                  <a:pt x="681" y="111"/>
                </a:lnTo>
                <a:lnTo>
                  <a:pt x="688" y="100"/>
                </a:lnTo>
                <a:lnTo>
                  <a:pt x="694" y="88"/>
                </a:lnTo>
                <a:lnTo>
                  <a:pt x="698" y="77"/>
                </a:lnTo>
                <a:lnTo>
                  <a:pt x="702" y="65"/>
                </a:lnTo>
                <a:lnTo>
                  <a:pt x="707" y="54"/>
                </a:lnTo>
                <a:lnTo>
                  <a:pt x="714" y="45"/>
                </a:lnTo>
                <a:lnTo>
                  <a:pt x="717" y="41"/>
                </a:lnTo>
                <a:lnTo>
                  <a:pt x="721" y="37"/>
                </a:lnTo>
                <a:lnTo>
                  <a:pt x="726" y="33"/>
                </a:lnTo>
                <a:lnTo>
                  <a:pt x="732" y="30"/>
                </a:lnTo>
                <a:lnTo>
                  <a:pt x="737" y="28"/>
                </a:lnTo>
                <a:lnTo>
                  <a:pt x="741" y="27"/>
                </a:lnTo>
                <a:lnTo>
                  <a:pt x="745" y="26"/>
                </a:lnTo>
                <a:lnTo>
                  <a:pt x="750" y="26"/>
                </a:lnTo>
                <a:lnTo>
                  <a:pt x="759" y="26"/>
                </a:lnTo>
                <a:lnTo>
                  <a:pt x="768" y="28"/>
                </a:lnTo>
                <a:lnTo>
                  <a:pt x="776" y="29"/>
                </a:lnTo>
                <a:lnTo>
                  <a:pt x="785" y="30"/>
                </a:lnTo>
                <a:lnTo>
                  <a:pt x="794" y="29"/>
                </a:lnTo>
                <a:lnTo>
                  <a:pt x="803" y="26"/>
                </a:lnTo>
                <a:lnTo>
                  <a:pt x="808" y="24"/>
                </a:lnTo>
                <a:lnTo>
                  <a:pt x="812" y="21"/>
                </a:lnTo>
                <a:lnTo>
                  <a:pt x="815" y="18"/>
                </a:lnTo>
                <a:lnTo>
                  <a:pt x="817" y="13"/>
                </a:lnTo>
                <a:lnTo>
                  <a:pt x="823" y="6"/>
                </a:lnTo>
                <a:lnTo>
                  <a:pt x="831" y="0"/>
                </a:lnTo>
                <a:lnTo>
                  <a:pt x="845" y="3"/>
                </a:lnTo>
                <a:lnTo>
                  <a:pt x="844" y="11"/>
                </a:lnTo>
                <a:lnTo>
                  <a:pt x="845" y="21"/>
                </a:lnTo>
                <a:lnTo>
                  <a:pt x="844" y="32"/>
                </a:lnTo>
                <a:lnTo>
                  <a:pt x="841" y="43"/>
                </a:lnTo>
                <a:lnTo>
                  <a:pt x="839" y="52"/>
                </a:lnTo>
                <a:lnTo>
                  <a:pt x="836" y="62"/>
                </a:lnTo>
                <a:lnTo>
                  <a:pt x="827" y="81"/>
                </a:lnTo>
                <a:lnTo>
                  <a:pt x="817" y="98"/>
                </a:lnTo>
                <a:lnTo>
                  <a:pt x="807" y="115"/>
                </a:lnTo>
                <a:lnTo>
                  <a:pt x="798" y="133"/>
                </a:lnTo>
                <a:lnTo>
                  <a:pt x="795" y="142"/>
                </a:lnTo>
                <a:lnTo>
                  <a:pt x="792" y="153"/>
                </a:lnTo>
                <a:lnTo>
                  <a:pt x="791" y="163"/>
                </a:lnTo>
                <a:lnTo>
                  <a:pt x="790" y="175"/>
                </a:lnTo>
                <a:lnTo>
                  <a:pt x="790" y="257"/>
                </a:lnTo>
                <a:lnTo>
                  <a:pt x="796" y="265"/>
                </a:lnTo>
                <a:lnTo>
                  <a:pt x="803" y="271"/>
                </a:lnTo>
                <a:lnTo>
                  <a:pt x="807" y="274"/>
                </a:lnTo>
                <a:lnTo>
                  <a:pt x="811" y="276"/>
                </a:lnTo>
                <a:lnTo>
                  <a:pt x="815" y="277"/>
                </a:lnTo>
                <a:lnTo>
                  <a:pt x="820" y="277"/>
                </a:lnTo>
                <a:lnTo>
                  <a:pt x="827" y="277"/>
                </a:lnTo>
                <a:lnTo>
                  <a:pt x="831" y="275"/>
                </a:lnTo>
                <a:lnTo>
                  <a:pt x="836" y="273"/>
                </a:lnTo>
                <a:lnTo>
                  <a:pt x="839" y="270"/>
                </a:lnTo>
                <a:lnTo>
                  <a:pt x="847" y="262"/>
                </a:lnTo>
                <a:lnTo>
                  <a:pt x="852" y="252"/>
                </a:lnTo>
                <a:lnTo>
                  <a:pt x="857" y="241"/>
                </a:lnTo>
                <a:lnTo>
                  <a:pt x="863" y="231"/>
                </a:lnTo>
                <a:lnTo>
                  <a:pt x="866" y="226"/>
                </a:lnTo>
                <a:lnTo>
                  <a:pt x="870" y="221"/>
                </a:lnTo>
                <a:lnTo>
                  <a:pt x="873" y="217"/>
                </a:lnTo>
                <a:lnTo>
                  <a:pt x="878" y="213"/>
                </a:lnTo>
                <a:lnTo>
                  <a:pt x="919" y="216"/>
                </a:lnTo>
                <a:lnTo>
                  <a:pt x="919" y="258"/>
                </a:lnTo>
                <a:lnTo>
                  <a:pt x="919" y="264"/>
                </a:lnTo>
                <a:lnTo>
                  <a:pt x="917" y="268"/>
                </a:lnTo>
                <a:lnTo>
                  <a:pt x="915" y="272"/>
                </a:lnTo>
                <a:lnTo>
                  <a:pt x="914" y="276"/>
                </a:lnTo>
                <a:lnTo>
                  <a:pt x="912" y="280"/>
                </a:lnTo>
                <a:lnTo>
                  <a:pt x="910" y="285"/>
                </a:lnTo>
                <a:lnTo>
                  <a:pt x="909" y="290"/>
                </a:lnTo>
                <a:lnTo>
                  <a:pt x="909" y="294"/>
                </a:lnTo>
                <a:lnTo>
                  <a:pt x="910" y="302"/>
                </a:lnTo>
                <a:lnTo>
                  <a:pt x="912" y="307"/>
                </a:lnTo>
                <a:lnTo>
                  <a:pt x="917" y="311"/>
                </a:lnTo>
                <a:lnTo>
                  <a:pt x="923" y="314"/>
                </a:lnTo>
                <a:lnTo>
                  <a:pt x="935" y="321"/>
                </a:lnTo>
                <a:lnTo>
                  <a:pt x="949" y="325"/>
                </a:lnTo>
                <a:lnTo>
                  <a:pt x="964" y="332"/>
                </a:lnTo>
                <a:lnTo>
                  <a:pt x="977" y="340"/>
                </a:lnTo>
                <a:lnTo>
                  <a:pt x="982" y="345"/>
                </a:lnTo>
                <a:lnTo>
                  <a:pt x="987" y="350"/>
                </a:lnTo>
                <a:lnTo>
                  <a:pt x="992" y="355"/>
                </a:lnTo>
                <a:lnTo>
                  <a:pt x="997" y="363"/>
                </a:lnTo>
                <a:lnTo>
                  <a:pt x="1005" y="374"/>
                </a:lnTo>
                <a:lnTo>
                  <a:pt x="1014" y="386"/>
                </a:lnTo>
                <a:lnTo>
                  <a:pt x="1023" y="397"/>
                </a:lnTo>
                <a:lnTo>
                  <a:pt x="1032" y="405"/>
                </a:lnTo>
                <a:lnTo>
                  <a:pt x="1042" y="413"/>
                </a:lnTo>
                <a:lnTo>
                  <a:pt x="1054" y="419"/>
                </a:lnTo>
                <a:lnTo>
                  <a:pt x="1060" y="421"/>
                </a:lnTo>
                <a:lnTo>
                  <a:pt x="1066" y="422"/>
                </a:lnTo>
                <a:lnTo>
                  <a:pt x="1073" y="423"/>
                </a:lnTo>
                <a:lnTo>
                  <a:pt x="1080" y="424"/>
                </a:lnTo>
                <a:lnTo>
                  <a:pt x="1091" y="423"/>
                </a:lnTo>
                <a:lnTo>
                  <a:pt x="1099" y="421"/>
                </a:lnTo>
                <a:lnTo>
                  <a:pt x="1108" y="418"/>
                </a:lnTo>
                <a:lnTo>
                  <a:pt x="1116" y="415"/>
                </a:lnTo>
                <a:lnTo>
                  <a:pt x="1132" y="407"/>
                </a:lnTo>
                <a:lnTo>
                  <a:pt x="1150" y="400"/>
                </a:lnTo>
                <a:lnTo>
                  <a:pt x="1167" y="397"/>
                </a:lnTo>
                <a:lnTo>
                  <a:pt x="1183" y="396"/>
                </a:lnTo>
                <a:lnTo>
                  <a:pt x="1190" y="396"/>
                </a:lnTo>
                <a:lnTo>
                  <a:pt x="1197" y="394"/>
                </a:lnTo>
                <a:lnTo>
                  <a:pt x="1206" y="392"/>
                </a:lnTo>
                <a:lnTo>
                  <a:pt x="1214" y="389"/>
                </a:lnTo>
                <a:lnTo>
                  <a:pt x="1210" y="401"/>
                </a:lnTo>
                <a:lnTo>
                  <a:pt x="1205" y="410"/>
                </a:lnTo>
                <a:lnTo>
                  <a:pt x="1200" y="420"/>
                </a:lnTo>
                <a:lnTo>
                  <a:pt x="1194" y="430"/>
                </a:lnTo>
                <a:lnTo>
                  <a:pt x="1184" y="444"/>
                </a:lnTo>
                <a:lnTo>
                  <a:pt x="1174" y="455"/>
                </a:lnTo>
                <a:lnTo>
                  <a:pt x="1166" y="465"/>
                </a:lnTo>
                <a:lnTo>
                  <a:pt x="1157" y="480"/>
                </a:lnTo>
                <a:lnTo>
                  <a:pt x="1152" y="490"/>
                </a:lnTo>
                <a:lnTo>
                  <a:pt x="1149" y="498"/>
                </a:lnTo>
                <a:lnTo>
                  <a:pt x="1147" y="506"/>
                </a:lnTo>
                <a:lnTo>
                  <a:pt x="1145" y="515"/>
                </a:lnTo>
                <a:lnTo>
                  <a:pt x="1141" y="533"/>
                </a:lnTo>
                <a:lnTo>
                  <a:pt x="1136" y="552"/>
                </a:lnTo>
                <a:lnTo>
                  <a:pt x="1128" y="550"/>
                </a:lnTo>
                <a:lnTo>
                  <a:pt x="1119" y="545"/>
                </a:lnTo>
                <a:lnTo>
                  <a:pt x="1110" y="561"/>
                </a:lnTo>
                <a:lnTo>
                  <a:pt x="1102" y="576"/>
                </a:lnTo>
                <a:lnTo>
                  <a:pt x="1096" y="590"/>
                </a:lnTo>
                <a:lnTo>
                  <a:pt x="1091" y="605"/>
                </a:lnTo>
                <a:lnTo>
                  <a:pt x="1079" y="633"/>
                </a:lnTo>
                <a:lnTo>
                  <a:pt x="1065" y="665"/>
                </a:lnTo>
                <a:lnTo>
                  <a:pt x="1056" y="682"/>
                </a:lnTo>
                <a:lnTo>
                  <a:pt x="1045" y="695"/>
                </a:lnTo>
                <a:lnTo>
                  <a:pt x="1035" y="708"/>
                </a:lnTo>
                <a:lnTo>
                  <a:pt x="1024" y="721"/>
                </a:lnTo>
                <a:lnTo>
                  <a:pt x="1014" y="732"/>
                </a:lnTo>
                <a:lnTo>
                  <a:pt x="1004" y="746"/>
                </a:lnTo>
                <a:lnTo>
                  <a:pt x="995" y="760"/>
                </a:lnTo>
                <a:lnTo>
                  <a:pt x="987" y="777"/>
                </a:lnTo>
                <a:lnTo>
                  <a:pt x="982" y="792"/>
                </a:lnTo>
                <a:lnTo>
                  <a:pt x="979" y="804"/>
                </a:lnTo>
                <a:lnTo>
                  <a:pt x="976" y="817"/>
                </a:lnTo>
                <a:lnTo>
                  <a:pt x="972" y="830"/>
                </a:lnTo>
                <a:lnTo>
                  <a:pt x="970" y="842"/>
                </a:lnTo>
                <a:lnTo>
                  <a:pt x="967" y="855"/>
                </a:lnTo>
                <a:lnTo>
                  <a:pt x="963" y="869"/>
                </a:lnTo>
                <a:lnTo>
                  <a:pt x="957" y="882"/>
                </a:lnTo>
                <a:lnTo>
                  <a:pt x="952" y="888"/>
                </a:lnTo>
                <a:lnTo>
                  <a:pt x="948" y="892"/>
                </a:lnTo>
                <a:lnTo>
                  <a:pt x="943" y="894"/>
                </a:lnTo>
                <a:lnTo>
                  <a:pt x="938" y="897"/>
                </a:lnTo>
                <a:lnTo>
                  <a:pt x="931" y="899"/>
                </a:lnTo>
                <a:lnTo>
                  <a:pt x="926" y="901"/>
                </a:lnTo>
                <a:lnTo>
                  <a:pt x="921" y="904"/>
                </a:lnTo>
                <a:lnTo>
                  <a:pt x="915" y="910"/>
                </a:lnTo>
                <a:lnTo>
                  <a:pt x="911" y="916"/>
                </a:lnTo>
                <a:lnTo>
                  <a:pt x="908" y="922"/>
                </a:lnTo>
                <a:lnTo>
                  <a:pt x="906" y="930"/>
                </a:lnTo>
                <a:lnTo>
                  <a:pt x="905" y="936"/>
                </a:lnTo>
                <a:lnTo>
                  <a:pt x="903" y="944"/>
                </a:lnTo>
                <a:lnTo>
                  <a:pt x="900" y="951"/>
                </a:lnTo>
                <a:lnTo>
                  <a:pt x="896" y="957"/>
                </a:lnTo>
                <a:lnTo>
                  <a:pt x="892" y="964"/>
                </a:lnTo>
                <a:lnTo>
                  <a:pt x="885" y="970"/>
                </a:lnTo>
                <a:lnTo>
                  <a:pt x="877" y="975"/>
                </a:lnTo>
                <a:lnTo>
                  <a:pt x="870" y="978"/>
                </a:lnTo>
                <a:lnTo>
                  <a:pt x="862" y="982"/>
                </a:lnTo>
                <a:lnTo>
                  <a:pt x="853" y="984"/>
                </a:lnTo>
                <a:lnTo>
                  <a:pt x="845" y="987"/>
                </a:lnTo>
                <a:lnTo>
                  <a:pt x="836" y="990"/>
                </a:lnTo>
                <a:lnTo>
                  <a:pt x="828" y="994"/>
                </a:lnTo>
                <a:lnTo>
                  <a:pt x="816" y="1002"/>
                </a:lnTo>
                <a:lnTo>
                  <a:pt x="807" y="1009"/>
                </a:lnTo>
                <a:lnTo>
                  <a:pt x="799" y="1016"/>
                </a:lnTo>
                <a:lnTo>
                  <a:pt x="791" y="1025"/>
                </a:lnTo>
                <a:lnTo>
                  <a:pt x="783" y="1033"/>
                </a:lnTo>
                <a:lnTo>
                  <a:pt x="775" y="1042"/>
                </a:lnTo>
                <a:lnTo>
                  <a:pt x="766" y="1050"/>
                </a:lnTo>
                <a:lnTo>
                  <a:pt x="756" y="1059"/>
                </a:lnTo>
                <a:lnTo>
                  <a:pt x="751" y="1051"/>
                </a:lnTo>
                <a:lnTo>
                  <a:pt x="745" y="1046"/>
                </a:lnTo>
                <a:lnTo>
                  <a:pt x="740" y="1041"/>
                </a:lnTo>
                <a:lnTo>
                  <a:pt x="734" y="1036"/>
                </a:lnTo>
                <a:lnTo>
                  <a:pt x="720" y="1029"/>
                </a:lnTo>
                <a:lnTo>
                  <a:pt x="705" y="1022"/>
                </a:lnTo>
                <a:lnTo>
                  <a:pt x="702" y="1032"/>
                </a:lnTo>
                <a:lnTo>
                  <a:pt x="699" y="1042"/>
                </a:lnTo>
                <a:lnTo>
                  <a:pt x="696" y="1051"/>
                </a:lnTo>
                <a:lnTo>
                  <a:pt x="691" y="1062"/>
                </a:lnTo>
                <a:lnTo>
                  <a:pt x="691" y="1064"/>
                </a:lnTo>
                <a:lnTo>
                  <a:pt x="691" y="1066"/>
                </a:lnTo>
                <a:lnTo>
                  <a:pt x="666" y="1057"/>
                </a:lnTo>
                <a:lnTo>
                  <a:pt x="645" y="1047"/>
                </a:lnTo>
                <a:lnTo>
                  <a:pt x="625" y="1034"/>
                </a:lnTo>
                <a:lnTo>
                  <a:pt x="603" y="1020"/>
                </a:lnTo>
                <a:lnTo>
                  <a:pt x="591" y="1010"/>
                </a:lnTo>
                <a:lnTo>
                  <a:pt x="582" y="1001"/>
                </a:lnTo>
                <a:lnTo>
                  <a:pt x="573" y="991"/>
                </a:lnTo>
                <a:lnTo>
                  <a:pt x="564" y="979"/>
                </a:lnTo>
                <a:lnTo>
                  <a:pt x="556" y="967"/>
                </a:lnTo>
                <a:lnTo>
                  <a:pt x="549" y="955"/>
                </a:lnTo>
                <a:lnTo>
                  <a:pt x="545" y="950"/>
                </a:lnTo>
                <a:lnTo>
                  <a:pt x="540" y="946"/>
                </a:lnTo>
                <a:lnTo>
                  <a:pt x="535" y="943"/>
                </a:lnTo>
                <a:lnTo>
                  <a:pt x="528" y="940"/>
                </a:lnTo>
                <a:lnTo>
                  <a:pt x="521" y="939"/>
                </a:lnTo>
                <a:lnTo>
                  <a:pt x="515" y="939"/>
                </a:lnTo>
                <a:lnTo>
                  <a:pt x="509" y="941"/>
                </a:lnTo>
                <a:lnTo>
                  <a:pt x="502" y="943"/>
                </a:lnTo>
                <a:lnTo>
                  <a:pt x="496" y="944"/>
                </a:lnTo>
                <a:lnTo>
                  <a:pt x="490" y="944"/>
                </a:lnTo>
                <a:lnTo>
                  <a:pt x="485" y="944"/>
                </a:lnTo>
                <a:lnTo>
                  <a:pt x="477" y="941"/>
                </a:lnTo>
                <a:lnTo>
                  <a:pt x="471" y="938"/>
                </a:lnTo>
                <a:lnTo>
                  <a:pt x="467" y="934"/>
                </a:lnTo>
                <a:lnTo>
                  <a:pt x="463" y="929"/>
                </a:lnTo>
                <a:lnTo>
                  <a:pt x="461" y="922"/>
                </a:lnTo>
                <a:lnTo>
                  <a:pt x="457" y="910"/>
                </a:lnTo>
                <a:lnTo>
                  <a:pt x="452" y="896"/>
                </a:lnTo>
                <a:lnTo>
                  <a:pt x="441" y="871"/>
                </a:lnTo>
                <a:lnTo>
                  <a:pt x="433" y="847"/>
                </a:lnTo>
                <a:lnTo>
                  <a:pt x="424" y="825"/>
                </a:lnTo>
                <a:lnTo>
                  <a:pt x="415" y="799"/>
                </a:lnTo>
                <a:lnTo>
                  <a:pt x="401" y="767"/>
                </a:lnTo>
                <a:lnTo>
                  <a:pt x="391" y="740"/>
                </a:lnTo>
                <a:lnTo>
                  <a:pt x="379" y="712"/>
                </a:lnTo>
                <a:lnTo>
                  <a:pt x="363" y="682"/>
                </a:lnTo>
                <a:lnTo>
                  <a:pt x="351" y="661"/>
                </a:lnTo>
                <a:lnTo>
                  <a:pt x="340" y="642"/>
                </a:lnTo>
                <a:lnTo>
                  <a:pt x="335" y="632"/>
                </a:lnTo>
                <a:lnTo>
                  <a:pt x="330" y="621"/>
                </a:lnTo>
                <a:lnTo>
                  <a:pt x="326" y="611"/>
                </a:lnTo>
                <a:lnTo>
                  <a:pt x="323" y="598"/>
                </a:lnTo>
                <a:lnTo>
                  <a:pt x="320" y="586"/>
                </a:lnTo>
                <a:lnTo>
                  <a:pt x="315" y="574"/>
                </a:lnTo>
                <a:lnTo>
                  <a:pt x="310" y="563"/>
                </a:lnTo>
                <a:lnTo>
                  <a:pt x="304" y="554"/>
                </a:lnTo>
                <a:lnTo>
                  <a:pt x="297" y="545"/>
                </a:lnTo>
                <a:lnTo>
                  <a:pt x="287" y="539"/>
                </a:lnTo>
                <a:lnTo>
                  <a:pt x="276" y="533"/>
                </a:lnTo>
                <a:lnTo>
                  <a:pt x="265" y="529"/>
                </a:lnTo>
                <a:lnTo>
                  <a:pt x="250" y="525"/>
                </a:lnTo>
                <a:lnTo>
                  <a:pt x="236" y="523"/>
                </a:lnTo>
                <a:lnTo>
                  <a:pt x="223" y="522"/>
                </a:lnTo>
                <a:lnTo>
                  <a:pt x="210" y="521"/>
                </a:lnTo>
                <a:lnTo>
                  <a:pt x="185" y="522"/>
                </a:lnTo>
                <a:lnTo>
                  <a:pt x="155" y="522"/>
                </a:lnTo>
                <a:lnTo>
                  <a:pt x="150" y="528"/>
                </a:lnTo>
                <a:lnTo>
                  <a:pt x="147" y="533"/>
                </a:lnTo>
                <a:lnTo>
                  <a:pt x="143" y="538"/>
                </a:lnTo>
                <a:lnTo>
                  <a:pt x="141" y="543"/>
                </a:lnTo>
                <a:lnTo>
                  <a:pt x="137" y="555"/>
                </a:lnTo>
                <a:lnTo>
                  <a:pt x="133" y="568"/>
                </a:lnTo>
                <a:lnTo>
                  <a:pt x="130" y="573"/>
                </a:lnTo>
                <a:lnTo>
                  <a:pt x="127" y="576"/>
                </a:lnTo>
                <a:lnTo>
                  <a:pt x="123" y="578"/>
                </a:lnTo>
                <a:lnTo>
                  <a:pt x="119" y="580"/>
                </a:lnTo>
                <a:lnTo>
                  <a:pt x="109" y="582"/>
                </a:lnTo>
                <a:lnTo>
                  <a:pt x="99" y="587"/>
                </a:lnTo>
                <a:lnTo>
                  <a:pt x="86" y="594"/>
                </a:lnTo>
                <a:lnTo>
                  <a:pt x="77" y="601"/>
                </a:lnTo>
                <a:lnTo>
                  <a:pt x="66" y="609"/>
                </a:lnTo>
                <a:lnTo>
                  <a:pt x="55" y="617"/>
                </a:lnTo>
                <a:lnTo>
                  <a:pt x="46" y="625"/>
                </a:lnTo>
                <a:lnTo>
                  <a:pt x="39" y="633"/>
                </a:lnTo>
                <a:lnTo>
                  <a:pt x="36" y="637"/>
                </a:lnTo>
                <a:lnTo>
                  <a:pt x="31" y="639"/>
                </a:lnTo>
                <a:lnTo>
                  <a:pt x="27" y="642"/>
                </a:lnTo>
                <a:lnTo>
                  <a:pt x="22" y="643"/>
                </a:lnTo>
                <a:lnTo>
                  <a:pt x="18" y="643"/>
                </a:lnTo>
                <a:lnTo>
                  <a:pt x="15" y="641"/>
                </a:lnTo>
                <a:lnTo>
                  <a:pt x="12" y="638"/>
                </a:lnTo>
                <a:lnTo>
                  <a:pt x="9" y="636"/>
                </a:lnTo>
                <a:lnTo>
                  <a:pt x="5" y="630"/>
                </a:lnTo>
                <a:lnTo>
                  <a:pt x="0" y="62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83"/>
          <p:cNvSpPr/>
          <p:nvPr/>
        </p:nvSpPr>
        <p:spPr>
          <a:xfrm>
            <a:off x="7862760" y="5119560"/>
            <a:ext cx="235080" cy="117720"/>
          </a:xfrm>
          <a:custGeom>
            <a:avLst/>
            <a:gdLst>
              <a:gd name="textAreaLeft" fmla="*/ 0 w 235080"/>
              <a:gd name="textAreaRight" fmla="*/ 235440 w 2350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486" h="238">
                <a:moveTo>
                  <a:pt x="258" y="126"/>
                </a:moveTo>
                <a:lnTo>
                  <a:pt x="179" y="126"/>
                </a:lnTo>
                <a:lnTo>
                  <a:pt x="174" y="127"/>
                </a:lnTo>
                <a:lnTo>
                  <a:pt x="171" y="128"/>
                </a:lnTo>
                <a:lnTo>
                  <a:pt x="169" y="131"/>
                </a:lnTo>
                <a:lnTo>
                  <a:pt x="166" y="133"/>
                </a:lnTo>
                <a:lnTo>
                  <a:pt x="162" y="141"/>
                </a:lnTo>
                <a:lnTo>
                  <a:pt x="156" y="146"/>
                </a:lnTo>
                <a:lnTo>
                  <a:pt x="139" y="163"/>
                </a:lnTo>
                <a:lnTo>
                  <a:pt x="124" y="177"/>
                </a:lnTo>
                <a:lnTo>
                  <a:pt x="114" y="183"/>
                </a:lnTo>
                <a:lnTo>
                  <a:pt x="105" y="187"/>
                </a:lnTo>
                <a:lnTo>
                  <a:pt x="94" y="189"/>
                </a:lnTo>
                <a:lnTo>
                  <a:pt x="82" y="190"/>
                </a:lnTo>
                <a:lnTo>
                  <a:pt x="78" y="190"/>
                </a:lnTo>
                <a:lnTo>
                  <a:pt x="75" y="189"/>
                </a:lnTo>
                <a:lnTo>
                  <a:pt x="73" y="188"/>
                </a:lnTo>
                <a:lnTo>
                  <a:pt x="71" y="186"/>
                </a:lnTo>
                <a:lnTo>
                  <a:pt x="67" y="181"/>
                </a:lnTo>
                <a:lnTo>
                  <a:pt x="65" y="176"/>
                </a:lnTo>
                <a:lnTo>
                  <a:pt x="60" y="161"/>
                </a:lnTo>
                <a:lnTo>
                  <a:pt x="55" y="146"/>
                </a:lnTo>
                <a:lnTo>
                  <a:pt x="51" y="140"/>
                </a:lnTo>
                <a:lnTo>
                  <a:pt x="47" y="132"/>
                </a:lnTo>
                <a:lnTo>
                  <a:pt x="42" y="127"/>
                </a:lnTo>
                <a:lnTo>
                  <a:pt x="37" y="122"/>
                </a:lnTo>
                <a:lnTo>
                  <a:pt x="31" y="116"/>
                </a:lnTo>
                <a:lnTo>
                  <a:pt x="24" y="113"/>
                </a:lnTo>
                <a:lnTo>
                  <a:pt x="18" y="109"/>
                </a:lnTo>
                <a:lnTo>
                  <a:pt x="11" y="106"/>
                </a:lnTo>
                <a:lnTo>
                  <a:pt x="7" y="113"/>
                </a:lnTo>
                <a:lnTo>
                  <a:pt x="4" y="120"/>
                </a:lnTo>
                <a:lnTo>
                  <a:pt x="1" y="127"/>
                </a:lnTo>
                <a:lnTo>
                  <a:pt x="0" y="134"/>
                </a:lnTo>
                <a:lnTo>
                  <a:pt x="1" y="143"/>
                </a:lnTo>
                <a:lnTo>
                  <a:pt x="2" y="150"/>
                </a:lnTo>
                <a:lnTo>
                  <a:pt x="3" y="158"/>
                </a:lnTo>
                <a:lnTo>
                  <a:pt x="6" y="165"/>
                </a:lnTo>
                <a:lnTo>
                  <a:pt x="9" y="172"/>
                </a:lnTo>
                <a:lnTo>
                  <a:pt x="13" y="180"/>
                </a:lnTo>
                <a:lnTo>
                  <a:pt x="16" y="186"/>
                </a:lnTo>
                <a:lnTo>
                  <a:pt x="21" y="192"/>
                </a:lnTo>
                <a:lnTo>
                  <a:pt x="25" y="198"/>
                </a:lnTo>
                <a:lnTo>
                  <a:pt x="32" y="203"/>
                </a:lnTo>
                <a:lnTo>
                  <a:pt x="37" y="207"/>
                </a:lnTo>
                <a:lnTo>
                  <a:pt x="43" y="210"/>
                </a:lnTo>
                <a:lnTo>
                  <a:pt x="51" y="214"/>
                </a:lnTo>
                <a:lnTo>
                  <a:pt x="57" y="216"/>
                </a:lnTo>
                <a:lnTo>
                  <a:pt x="65" y="218"/>
                </a:lnTo>
                <a:lnTo>
                  <a:pt x="73" y="218"/>
                </a:lnTo>
                <a:lnTo>
                  <a:pt x="143" y="218"/>
                </a:lnTo>
                <a:lnTo>
                  <a:pt x="153" y="219"/>
                </a:lnTo>
                <a:lnTo>
                  <a:pt x="163" y="220"/>
                </a:lnTo>
                <a:lnTo>
                  <a:pt x="172" y="222"/>
                </a:lnTo>
                <a:lnTo>
                  <a:pt x="181" y="224"/>
                </a:lnTo>
                <a:lnTo>
                  <a:pt x="190" y="227"/>
                </a:lnTo>
                <a:lnTo>
                  <a:pt x="199" y="229"/>
                </a:lnTo>
                <a:lnTo>
                  <a:pt x="209" y="230"/>
                </a:lnTo>
                <a:lnTo>
                  <a:pt x="220" y="232"/>
                </a:lnTo>
                <a:lnTo>
                  <a:pt x="229" y="230"/>
                </a:lnTo>
                <a:lnTo>
                  <a:pt x="238" y="229"/>
                </a:lnTo>
                <a:lnTo>
                  <a:pt x="245" y="226"/>
                </a:lnTo>
                <a:lnTo>
                  <a:pt x="252" y="222"/>
                </a:lnTo>
                <a:lnTo>
                  <a:pt x="266" y="214"/>
                </a:lnTo>
                <a:lnTo>
                  <a:pt x="278" y="202"/>
                </a:lnTo>
                <a:lnTo>
                  <a:pt x="290" y="191"/>
                </a:lnTo>
                <a:lnTo>
                  <a:pt x="304" y="181"/>
                </a:lnTo>
                <a:lnTo>
                  <a:pt x="312" y="176"/>
                </a:lnTo>
                <a:lnTo>
                  <a:pt x="319" y="172"/>
                </a:lnTo>
                <a:lnTo>
                  <a:pt x="327" y="169"/>
                </a:lnTo>
                <a:lnTo>
                  <a:pt x="337" y="167"/>
                </a:lnTo>
                <a:lnTo>
                  <a:pt x="341" y="177"/>
                </a:lnTo>
                <a:lnTo>
                  <a:pt x="343" y="187"/>
                </a:lnTo>
                <a:lnTo>
                  <a:pt x="343" y="195"/>
                </a:lnTo>
                <a:lnTo>
                  <a:pt x="342" y="201"/>
                </a:lnTo>
                <a:lnTo>
                  <a:pt x="341" y="207"/>
                </a:lnTo>
                <a:lnTo>
                  <a:pt x="339" y="213"/>
                </a:lnTo>
                <a:lnTo>
                  <a:pt x="336" y="224"/>
                </a:lnTo>
                <a:lnTo>
                  <a:pt x="334" y="238"/>
                </a:lnTo>
                <a:lnTo>
                  <a:pt x="356" y="236"/>
                </a:lnTo>
                <a:lnTo>
                  <a:pt x="379" y="234"/>
                </a:lnTo>
                <a:lnTo>
                  <a:pt x="401" y="230"/>
                </a:lnTo>
                <a:lnTo>
                  <a:pt x="424" y="226"/>
                </a:lnTo>
                <a:lnTo>
                  <a:pt x="433" y="223"/>
                </a:lnTo>
                <a:lnTo>
                  <a:pt x="442" y="220"/>
                </a:lnTo>
                <a:lnTo>
                  <a:pt x="450" y="215"/>
                </a:lnTo>
                <a:lnTo>
                  <a:pt x="456" y="209"/>
                </a:lnTo>
                <a:lnTo>
                  <a:pt x="462" y="203"/>
                </a:lnTo>
                <a:lnTo>
                  <a:pt x="466" y="196"/>
                </a:lnTo>
                <a:lnTo>
                  <a:pt x="469" y="187"/>
                </a:lnTo>
                <a:lnTo>
                  <a:pt x="469" y="177"/>
                </a:lnTo>
                <a:lnTo>
                  <a:pt x="469" y="169"/>
                </a:lnTo>
                <a:lnTo>
                  <a:pt x="466" y="162"/>
                </a:lnTo>
                <a:lnTo>
                  <a:pt x="463" y="156"/>
                </a:lnTo>
                <a:lnTo>
                  <a:pt x="459" y="150"/>
                </a:lnTo>
                <a:lnTo>
                  <a:pt x="455" y="144"/>
                </a:lnTo>
                <a:lnTo>
                  <a:pt x="452" y="138"/>
                </a:lnTo>
                <a:lnTo>
                  <a:pt x="450" y="130"/>
                </a:lnTo>
                <a:lnTo>
                  <a:pt x="449" y="123"/>
                </a:lnTo>
                <a:lnTo>
                  <a:pt x="450" y="111"/>
                </a:lnTo>
                <a:lnTo>
                  <a:pt x="451" y="100"/>
                </a:lnTo>
                <a:lnTo>
                  <a:pt x="454" y="90"/>
                </a:lnTo>
                <a:lnTo>
                  <a:pt x="458" y="81"/>
                </a:lnTo>
                <a:lnTo>
                  <a:pt x="464" y="71"/>
                </a:lnTo>
                <a:lnTo>
                  <a:pt x="470" y="63"/>
                </a:lnTo>
                <a:lnTo>
                  <a:pt x="478" y="53"/>
                </a:lnTo>
                <a:lnTo>
                  <a:pt x="486" y="45"/>
                </a:lnTo>
                <a:lnTo>
                  <a:pt x="486" y="3"/>
                </a:lnTo>
                <a:lnTo>
                  <a:pt x="480" y="2"/>
                </a:lnTo>
                <a:lnTo>
                  <a:pt x="473" y="0"/>
                </a:lnTo>
                <a:lnTo>
                  <a:pt x="464" y="1"/>
                </a:lnTo>
                <a:lnTo>
                  <a:pt x="455" y="3"/>
                </a:lnTo>
                <a:lnTo>
                  <a:pt x="448" y="8"/>
                </a:lnTo>
                <a:lnTo>
                  <a:pt x="440" y="13"/>
                </a:lnTo>
                <a:lnTo>
                  <a:pt x="427" y="25"/>
                </a:lnTo>
                <a:lnTo>
                  <a:pt x="412" y="37"/>
                </a:lnTo>
                <a:lnTo>
                  <a:pt x="374" y="69"/>
                </a:lnTo>
                <a:lnTo>
                  <a:pt x="340" y="97"/>
                </a:lnTo>
                <a:lnTo>
                  <a:pt x="332" y="104"/>
                </a:lnTo>
                <a:lnTo>
                  <a:pt x="322" y="109"/>
                </a:lnTo>
                <a:lnTo>
                  <a:pt x="313" y="114"/>
                </a:lnTo>
                <a:lnTo>
                  <a:pt x="303" y="119"/>
                </a:lnTo>
                <a:lnTo>
                  <a:pt x="293" y="122"/>
                </a:lnTo>
                <a:lnTo>
                  <a:pt x="282" y="124"/>
                </a:lnTo>
                <a:lnTo>
                  <a:pt x="270" y="126"/>
                </a:lnTo>
                <a:lnTo>
                  <a:pt x="258" y="126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5"/>
          <p:cNvSpPr/>
          <p:nvPr/>
        </p:nvSpPr>
        <p:spPr>
          <a:xfrm>
            <a:off x="7824960" y="4948200"/>
            <a:ext cx="539640" cy="847800"/>
          </a:xfrm>
          <a:custGeom>
            <a:avLst/>
            <a:gdLst>
              <a:gd name="textAreaLeft" fmla="*/ 0 w 539640"/>
              <a:gd name="textAreaRight" fmla="*/ 540000 w 5396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110" h="1739">
                <a:moveTo>
                  <a:pt x="835" y="43"/>
                </a:moveTo>
                <a:lnTo>
                  <a:pt x="832" y="36"/>
                </a:lnTo>
                <a:lnTo>
                  <a:pt x="828" y="29"/>
                </a:lnTo>
                <a:lnTo>
                  <a:pt x="824" y="23"/>
                </a:lnTo>
                <a:lnTo>
                  <a:pt x="818" y="18"/>
                </a:lnTo>
                <a:lnTo>
                  <a:pt x="807" y="8"/>
                </a:lnTo>
                <a:lnTo>
                  <a:pt x="794" y="0"/>
                </a:lnTo>
                <a:lnTo>
                  <a:pt x="789" y="5"/>
                </a:lnTo>
                <a:lnTo>
                  <a:pt x="785" y="10"/>
                </a:lnTo>
                <a:lnTo>
                  <a:pt x="781" y="15"/>
                </a:lnTo>
                <a:lnTo>
                  <a:pt x="779" y="22"/>
                </a:lnTo>
                <a:lnTo>
                  <a:pt x="776" y="33"/>
                </a:lnTo>
                <a:lnTo>
                  <a:pt x="775" y="47"/>
                </a:lnTo>
                <a:lnTo>
                  <a:pt x="775" y="61"/>
                </a:lnTo>
                <a:lnTo>
                  <a:pt x="775" y="75"/>
                </a:lnTo>
                <a:lnTo>
                  <a:pt x="774" y="89"/>
                </a:lnTo>
                <a:lnTo>
                  <a:pt x="771" y="104"/>
                </a:lnTo>
                <a:lnTo>
                  <a:pt x="761" y="135"/>
                </a:lnTo>
                <a:lnTo>
                  <a:pt x="754" y="163"/>
                </a:lnTo>
                <a:lnTo>
                  <a:pt x="748" y="191"/>
                </a:lnTo>
                <a:lnTo>
                  <a:pt x="742" y="217"/>
                </a:lnTo>
                <a:lnTo>
                  <a:pt x="738" y="244"/>
                </a:lnTo>
                <a:lnTo>
                  <a:pt x="736" y="271"/>
                </a:lnTo>
                <a:lnTo>
                  <a:pt x="734" y="300"/>
                </a:lnTo>
                <a:lnTo>
                  <a:pt x="733" y="332"/>
                </a:lnTo>
                <a:lnTo>
                  <a:pt x="732" y="363"/>
                </a:lnTo>
                <a:lnTo>
                  <a:pt x="731" y="390"/>
                </a:lnTo>
                <a:lnTo>
                  <a:pt x="733" y="404"/>
                </a:lnTo>
                <a:lnTo>
                  <a:pt x="736" y="417"/>
                </a:lnTo>
                <a:lnTo>
                  <a:pt x="738" y="423"/>
                </a:lnTo>
                <a:lnTo>
                  <a:pt x="741" y="428"/>
                </a:lnTo>
                <a:lnTo>
                  <a:pt x="746" y="435"/>
                </a:lnTo>
                <a:lnTo>
                  <a:pt x="750" y="441"/>
                </a:lnTo>
                <a:lnTo>
                  <a:pt x="755" y="445"/>
                </a:lnTo>
                <a:lnTo>
                  <a:pt x="760" y="448"/>
                </a:lnTo>
                <a:lnTo>
                  <a:pt x="767" y="451"/>
                </a:lnTo>
                <a:lnTo>
                  <a:pt x="772" y="453"/>
                </a:lnTo>
                <a:lnTo>
                  <a:pt x="778" y="456"/>
                </a:lnTo>
                <a:lnTo>
                  <a:pt x="783" y="458"/>
                </a:lnTo>
                <a:lnTo>
                  <a:pt x="788" y="462"/>
                </a:lnTo>
                <a:lnTo>
                  <a:pt x="791" y="467"/>
                </a:lnTo>
                <a:lnTo>
                  <a:pt x="795" y="477"/>
                </a:lnTo>
                <a:lnTo>
                  <a:pt x="800" y="486"/>
                </a:lnTo>
                <a:lnTo>
                  <a:pt x="807" y="494"/>
                </a:lnTo>
                <a:lnTo>
                  <a:pt x="813" y="501"/>
                </a:lnTo>
                <a:lnTo>
                  <a:pt x="819" y="508"/>
                </a:lnTo>
                <a:lnTo>
                  <a:pt x="828" y="512"/>
                </a:lnTo>
                <a:lnTo>
                  <a:pt x="836" y="515"/>
                </a:lnTo>
                <a:lnTo>
                  <a:pt x="847" y="516"/>
                </a:lnTo>
                <a:lnTo>
                  <a:pt x="856" y="515"/>
                </a:lnTo>
                <a:lnTo>
                  <a:pt x="865" y="512"/>
                </a:lnTo>
                <a:lnTo>
                  <a:pt x="872" y="509"/>
                </a:lnTo>
                <a:lnTo>
                  <a:pt x="879" y="503"/>
                </a:lnTo>
                <a:lnTo>
                  <a:pt x="886" y="499"/>
                </a:lnTo>
                <a:lnTo>
                  <a:pt x="893" y="494"/>
                </a:lnTo>
                <a:lnTo>
                  <a:pt x="901" y="489"/>
                </a:lnTo>
                <a:lnTo>
                  <a:pt x="910" y="485"/>
                </a:lnTo>
                <a:lnTo>
                  <a:pt x="929" y="477"/>
                </a:lnTo>
                <a:lnTo>
                  <a:pt x="947" y="468"/>
                </a:lnTo>
                <a:lnTo>
                  <a:pt x="956" y="464"/>
                </a:lnTo>
                <a:lnTo>
                  <a:pt x="964" y="459"/>
                </a:lnTo>
                <a:lnTo>
                  <a:pt x="972" y="454"/>
                </a:lnTo>
                <a:lnTo>
                  <a:pt x="979" y="447"/>
                </a:lnTo>
                <a:lnTo>
                  <a:pt x="985" y="441"/>
                </a:lnTo>
                <a:lnTo>
                  <a:pt x="992" y="435"/>
                </a:lnTo>
                <a:lnTo>
                  <a:pt x="997" y="427"/>
                </a:lnTo>
                <a:lnTo>
                  <a:pt x="1001" y="420"/>
                </a:lnTo>
                <a:lnTo>
                  <a:pt x="1005" y="411"/>
                </a:lnTo>
                <a:lnTo>
                  <a:pt x="1008" y="403"/>
                </a:lnTo>
                <a:lnTo>
                  <a:pt x="1011" y="393"/>
                </a:lnTo>
                <a:lnTo>
                  <a:pt x="1012" y="383"/>
                </a:lnTo>
                <a:lnTo>
                  <a:pt x="1012" y="364"/>
                </a:lnTo>
                <a:lnTo>
                  <a:pt x="1011" y="346"/>
                </a:lnTo>
                <a:lnTo>
                  <a:pt x="1010" y="338"/>
                </a:lnTo>
                <a:lnTo>
                  <a:pt x="1011" y="330"/>
                </a:lnTo>
                <a:lnTo>
                  <a:pt x="1012" y="321"/>
                </a:lnTo>
                <a:lnTo>
                  <a:pt x="1015" y="312"/>
                </a:lnTo>
                <a:lnTo>
                  <a:pt x="1017" y="308"/>
                </a:lnTo>
                <a:lnTo>
                  <a:pt x="1019" y="304"/>
                </a:lnTo>
                <a:lnTo>
                  <a:pt x="1021" y="302"/>
                </a:lnTo>
                <a:lnTo>
                  <a:pt x="1024" y="298"/>
                </a:lnTo>
                <a:lnTo>
                  <a:pt x="1031" y="294"/>
                </a:lnTo>
                <a:lnTo>
                  <a:pt x="1038" y="291"/>
                </a:lnTo>
                <a:lnTo>
                  <a:pt x="1054" y="286"/>
                </a:lnTo>
                <a:lnTo>
                  <a:pt x="1070" y="277"/>
                </a:lnTo>
                <a:lnTo>
                  <a:pt x="1077" y="272"/>
                </a:lnTo>
                <a:lnTo>
                  <a:pt x="1085" y="266"/>
                </a:lnTo>
                <a:lnTo>
                  <a:pt x="1091" y="259"/>
                </a:lnTo>
                <a:lnTo>
                  <a:pt x="1096" y="253"/>
                </a:lnTo>
                <a:lnTo>
                  <a:pt x="1100" y="246"/>
                </a:lnTo>
                <a:lnTo>
                  <a:pt x="1105" y="238"/>
                </a:lnTo>
                <a:lnTo>
                  <a:pt x="1108" y="230"/>
                </a:lnTo>
                <a:lnTo>
                  <a:pt x="1110" y="220"/>
                </a:lnTo>
                <a:lnTo>
                  <a:pt x="1096" y="215"/>
                </a:lnTo>
                <a:lnTo>
                  <a:pt x="1083" y="212"/>
                </a:lnTo>
                <a:lnTo>
                  <a:pt x="1070" y="208"/>
                </a:lnTo>
                <a:lnTo>
                  <a:pt x="1056" y="203"/>
                </a:lnTo>
                <a:lnTo>
                  <a:pt x="1050" y="200"/>
                </a:lnTo>
                <a:lnTo>
                  <a:pt x="1045" y="196"/>
                </a:lnTo>
                <a:lnTo>
                  <a:pt x="1040" y="192"/>
                </a:lnTo>
                <a:lnTo>
                  <a:pt x="1036" y="188"/>
                </a:lnTo>
                <a:lnTo>
                  <a:pt x="1032" y="183"/>
                </a:lnTo>
                <a:lnTo>
                  <a:pt x="1027" y="179"/>
                </a:lnTo>
                <a:lnTo>
                  <a:pt x="1021" y="177"/>
                </a:lnTo>
                <a:lnTo>
                  <a:pt x="1015" y="176"/>
                </a:lnTo>
                <a:lnTo>
                  <a:pt x="1002" y="177"/>
                </a:lnTo>
                <a:lnTo>
                  <a:pt x="989" y="179"/>
                </a:lnTo>
                <a:lnTo>
                  <a:pt x="979" y="184"/>
                </a:lnTo>
                <a:lnTo>
                  <a:pt x="968" y="191"/>
                </a:lnTo>
                <a:lnTo>
                  <a:pt x="959" y="198"/>
                </a:lnTo>
                <a:lnTo>
                  <a:pt x="951" y="208"/>
                </a:lnTo>
                <a:lnTo>
                  <a:pt x="945" y="218"/>
                </a:lnTo>
                <a:lnTo>
                  <a:pt x="941" y="230"/>
                </a:lnTo>
                <a:lnTo>
                  <a:pt x="939" y="241"/>
                </a:lnTo>
                <a:lnTo>
                  <a:pt x="940" y="253"/>
                </a:lnTo>
                <a:lnTo>
                  <a:pt x="940" y="258"/>
                </a:lnTo>
                <a:lnTo>
                  <a:pt x="940" y="264"/>
                </a:lnTo>
                <a:lnTo>
                  <a:pt x="939" y="269"/>
                </a:lnTo>
                <a:lnTo>
                  <a:pt x="937" y="274"/>
                </a:lnTo>
                <a:lnTo>
                  <a:pt x="935" y="279"/>
                </a:lnTo>
                <a:lnTo>
                  <a:pt x="932" y="283"/>
                </a:lnTo>
                <a:lnTo>
                  <a:pt x="929" y="287"/>
                </a:lnTo>
                <a:lnTo>
                  <a:pt x="926" y="290"/>
                </a:lnTo>
                <a:lnTo>
                  <a:pt x="919" y="295"/>
                </a:lnTo>
                <a:lnTo>
                  <a:pt x="910" y="298"/>
                </a:lnTo>
                <a:lnTo>
                  <a:pt x="901" y="302"/>
                </a:lnTo>
                <a:lnTo>
                  <a:pt x="890" y="303"/>
                </a:lnTo>
                <a:lnTo>
                  <a:pt x="880" y="304"/>
                </a:lnTo>
                <a:lnTo>
                  <a:pt x="869" y="305"/>
                </a:lnTo>
                <a:lnTo>
                  <a:pt x="867" y="295"/>
                </a:lnTo>
                <a:lnTo>
                  <a:pt x="866" y="286"/>
                </a:lnTo>
                <a:lnTo>
                  <a:pt x="867" y="270"/>
                </a:lnTo>
                <a:lnTo>
                  <a:pt x="869" y="255"/>
                </a:lnTo>
                <a:lnTo>
                  <a:pt x="872" y="241"/>
                </a:lnTo>
                <a:lnTo>
                  <a:pt x="875" y="229"/>
                </a:lnTo>
                <a:lnTo>
                  <a:pt x="880" y="216"/>
                </a:lnTo>
                <a:lnTo>
                  <a:pt x="883" y="202"/>
                </a:lnTo>
                <a:lnTo>
                  <a:pt x="885" y="189"/>
                </a:lnTo>
                <a:lnTo>
                  <a:pt x="886" y="173"/>
                </a:lnTo>
                <a:lnTo>
                  <a:pt x="886" y="163"/>
                </a:lnTo>
                <a:lnTo>
                  <a:pt x="885" y="155"/>
                </a:lnTo>
                <a:lnTo>
                  <a:pt x="883" y="146"/>
                </a:lnTo>
                <a:lnTo>
                  <a:pt x="881" y="138"/>
                </a:lnTo>
                <a:lnTo>
                  <a:pt x="875" y="121"/>
                </a:lnTo>
                <a:lnTo>
                  <a:pt x="869" y="106"/>
                </a:lnTo>
                <a:lnTo>
                  <a:pt x="852" y="76"/>
                </a:lnTo>
                <a:lnTo>
                  <a:pt x="835" y="43"/>
                </a:lnTo>
                <a:close/>
                <a:moveTo>
                  <a:pt x="152" y="834"/>
                </a:moveTo>
                <a:lnTo>
                  <a:pt x="157" y="815"/>
                </a:lnTo>
                <a:lnTo>
                  <a:pt x="161" y="797"/>
                </a:lnTo>
                <a:lnTo>
                  <a:pt x="163" y="788"/>
                </a:lnTo>
                <a:lnTo>
                  <a:pt x="165" y="780"/>
                </a:lnTo>
                <a:lnTo>
                  <a:pt x="168" y="772"/>
                </a:lnTo>
                <a:lnTo>
                  <a:pt x="173" y="762"/>
                </a:lnTo>
                <a:lnTo>
                  <a:pt x="182" y="747"/>
                </a:lnTo>
                <a:lnTo>
                  <a:pt x="190" y="737"/>
                </a:lnTo>
                <a:lnTo>
                  <a:pt x="200" y="726"/>
                </a:lnTo>
                <a:lnTo>
                  <a:pt x="210" y="712"/>
                </a:lnTo>
                <a:lnTo>
                  <a:pt x="234" y="708"/>
                </a:lnTo>
                <a:lnTo>
                  <a:pt x="257" y="704"/>
                </a:lnTo>
                <a:lnTo>
                  <a:pt x="267" y="702"/>
                </a:lnTo>
                <a:lnTo>
                  <a:pt x="279" y="700"/>
                </a:lnTo>
                <a:lnTo>
                  <a:pt x="290" y="700"/>
                </a:lnTo>
                <a:lnTo>
                  <a:pt x="303" y="699"/>
                </a:lnTo>
                <a:lnTo>
                  <a:pt x="309" y="700"/>
                </a:lnTo>
                <a:lnTo>
                  <a:pt x="315" y="701"/>
                </a:lnTo>
                <a:lnTo>
                  <a:pt x="320" y="703"/>
                </a:lnTo>
                <a:lnTo>
                  <a:pt x="325" y="706"/>
                </a:lnTo>
                <a:lnTo>
                  <a:pt x="329" y="708"/>
                </a:lnTo>
                <a:lnTo>
                  <a:pt x="335" y="710"/>
                </a:lnTo>
                <a:lnTo>
                  <a:pt x="340" y="712"/>
                </a:lnTo>
                <a:lnTo>
                  <a:pt x="346" y="712"/>
                </a:lnTo>
                <a:lnTo>
                  <a:pt x="353" y="711"/>
                </a:lnTo>
                <a:lnTo>
                  <a:pt x="358" y="710"/>
                </a:lnTo>
                <a:lnTo>
                  <a:pt x="363" y="707"/>
                </a:lnTo>
                <a:lnTo>
                  <a:pt x="369" y="704"/>
                </a:lnTo>
                <a:lnTo>
                  <a:pt x="373" y="701"/>
                </a:lnTo>
                <a:lnTo>
                  <a:pt x="378" y="699"/>
                </a:lnTo>
                <a:lnTo>
                  <a:pt x="383" y="697"/>
                </a:lnTo>
                <a:lnTo>
                  <a:pt x="390" y="695"/>
                </a:lnTo>
                <a:lnTo>
                  <a:pt x="396" y="697"/>
                </a:lnTo>
                <a:lnTo>
                  <a:pt x="401" y="698"/>
                </a:lnTo>
                <a:lnTo>
                  <a:pt x="407" y="701"/>
                </a:lnTo>
                <a:lnTo>
                  <a:pt x="411" y="704"/>
                </a:lnTo>
                <a:lnTo>
                  <a:pt x="420" y="710"/>
                </a:lnTo>
                <a:lnTo>
                  <a:pt x="431" y="716"/>
                </a:lnTo>
                <a:lnTo>
                  <a:pt x="455" y="716"/>
                </a:lnTo>
                <a:lnTo>
                  <a:pt x="455" y="671"/>
                </a:lnTo>
                <a:lnTo>
                  <a:pt x="472" y="670"/>
                </a:lnTo>
                <a:lnTo>
                  <a:pt x="489" y="668"/>
                </a:lnTo>
                <a:lnTo>
                  <a:pt x="506" y="665"/>
                </a:lnTo>
                <a:lnTo>
                  <a:pt x="522" y="662"/>
                </a:lnTo>
                <a:lnTo>
                  <a:pt x="538" y="657"/>
                </a:lnTo>
                <a:lnTo>
                  <a:pt x="552" y="652"/>
                </a:lnTo>
                <a:lnTo>
                  <a:pt x="567" y="646"/>
                </a:lnTo>
                <a:lnTo>
                  <a:pt x="581" y="640"/>
                </a:lnTo>
                <a:lnTo>
                  <a:pt x="595" y="632"/>
                </a:lnTo>
                <a:lnTo>
                  <a:pt x="606" y="623"/>
                </a:lnTo>
                <a:lnTo>
                  <a:pt x="618" y="613"/>
                </a:lnTo>
                <a:lnTo>
                  <a:pt x="627" y="603"/>
                </a:lnTo>
                <a:lnTo>
                  <a:pt x="636" y="590"/>
                </a:lnTo>
                <a:lnTo>
                  <a:pt x="644" y="577"/>
                </a:lnTo>
                <a:lnTo>
                  <a:pt x="651" y="562"/>
                </a:lnTo>
                <a:lnTo>
                  <a:pt x="655" y="546"/>
                </a:lnTo>
                <a:lnTo>
                  <a:pt x="674" y="549"/>
                </a:lnTo>
                <a:lnTo>
                  <a:pt x="690" y="552"/>
                </a:lnTo>
                <a:lnTo>
                  <a:pt x="706" y="555"/>
                </a:lnTo>
                <a:lnTo>
                  <a:pt x="724" y="556"/>
                </a:lnTo>
                <a:lnTo>
                  <a:pt x="729" y="556"/>
                </a:lnTo>
                <a:lnTo>
                  <a:pt x="732" y="555"/>
                </a:lnTo>
                <a:lnTo>
                  <a:pt x="734" y="554"/>
                </a:lnTo>
                <a:lnTo>
                  <a:pt x="737" y="552"/>
                </a:lnTo>
                <a:lnTo>
                  <a:pt x="741" y="548"/>
                </a:lnTo>
                <a:lnTo>
                  <a:pt x="746" y="542"/>
                </a:lnTo>
                <a:lnTo>
                  <a:pt x="751" y="538"/>
                </a:lnTo>
                <a:lnTo>
                  <a:pt x="755" y="533"/>
                </a:lnTo>
                <a:lnTo>
                  <a:pt x="757" y="532"/>
                </a:lnTo>
                <a:lnTo>
                  <a:pt x="760" y="530"/>
                </a:lnTo>
                <a:lnTo>
                  <a:pt x="763" y="530"/>
                </a:lnTo>
                <a:lnTo>
                  <a:pt x="767" y="529"/>
                </a:lnTo>
                <a:lnTo>
                  <a:pt x="785" y="530"/>
                </a:lnTo>
                <a:lnTo>
                  <a:pt x="803" y="531"/>
                </a:lnTo>
                <a:lnTo>
                  <a:pt x="821" y="534"/>
                </a:lnTo>
                <a:lnTo>
                  <a:pt x="837" y="539"/>
                </a:lnTo>
                <a:lnTo>
                  <a:pt x="845" y="542"/>
                </a:lnTo>
                <a:lnTo>
                  <a:pt x="851" y="546"/>
                </a:lnTo>
                <a:lnTo>
                  <a:pt x="857" y="551"/>
                </a:lnTo>
                <a:lnTo>
                  <a:pt x="863" y="555"/>
                </a:lnTo>
                <a:lnTo>
                  <a:pt x="867" y="561"/>
                </a:lnTo>
                <a:lnTo>
                  <a:pt x="870" y="568"/>
                </a:lnTo>
                <a:lnTo>
                  <a:pt x="872" y="575"/>
                </a:lnTo>
                <a:lnTo>
                  <a:pt x="872" y="584"/>
                </a:lnTo>
                <a:lnTo>
                  <a:pt x="871" y="598"/>
                </a:lnTo>
                <a:lnTo>
                  <a:pt x="868" y="612"/>
                </a:lnTo>
                <a:lnTo>
                  <a:pt x="864" y="624"/>
                </a:lnTo>
                <a:lnTo>
                  <a:pt x="859" y="635"/>
                </a:lnTo>
                <a:lnTo>
                  <a:pt x="847" y="659"/>
                </a:lnTo>
                <a:lnTo>
                  <a:pt x="835" y="685"/>
                </a:lnTo>
                <a:lnTo>
                  <a:pt x="832" y="697"/>
                </a:lnTo>
                <a:lnTo>
                  <a:pt x="829" y="708"/>
                </a:lnTo>
                <a:lnTo>
                  <a:pt x="828" y="719"/>
                </a:lnTo>
                <a:lnTo>
                  <a:pt x="826" y="729"/>
                </a:lnTo>
                <a:lnTo>
                  <a:pt x="825" y="741"/>
                </a:lnTo>
                <a:lnTo>
                  <a:pt x="823" y="751"/>
                </a:lnTo>
                <a:lnTo>
                  <a:pt x="819" y="762"/>
                </a:lnTo>
                <a:lnTo>
                  <a:pt x="815" y="774"/>
                </a:lnTo>
                <a:lnTo>
                  <a:pt x="812" y="778"/>
                </a:lnTo>
                <a:lnTo>
                  <a:pt x="809" y="780"/>
                </a:lnTo>
                <a:lnTo>
                  <a:pt x="806" y="783"/>
                </a:lnTo>
                <a:lnTo>
                  <a:pt x="803" y="784"/>
                </a:lnTo>
                <a:lnTo>
                  <a:pt x="798" y="786"/>
                </a:lnTo>
                <a:lnTo>
                  <a:pt x="794" y="788"/>
                </a:lnTo>
                <a:lnTo>
                  <a:pt x="791" y="791"/>
                </a:lnTo>
                <a:lnTo>
                  <a:pt x="788" y="794"/>
                </a:lnTo>
                <a:lnTo>
                  <a:pt x="767" y="823"/>
                </a:lnTo>
                <a:lnTo>
                  <a:pt x="748" y="850"/>
                </a:lnTo>
                <a:lnTo>
                  <a:pt x="731" y="878"/>
                </a:lnTo>
                <a:lnTo>
                  <a:pt x="713" y="910"/>
                </a:lnTo>
                <a:lnTo>
                  <a:pt x="706" y="920"/>
                </a:lnTo>
                <a:lnTo>
                  <a:pt x="699" y="930"/>
                </a:lnTo>
                <a:lnTo>
                  <a:pt x="692" y="938"/>
                </a:lnTo>
                <a:lnTo>
                  <a:pt x="683" y="946"/>
                </a:lnTo>
                <a:lnTo>
                  <a:pt x="666" y="959"/>
                </a:lnTo>
                <a:lnTo>
                  <a:pt x="648" y="972"/>
                </a:lnTo>
                <a:lnTo>
                  <a:pt x="630" y="984"/>
                </a:lnTo>
                <a:lnTo>
                  <a:pt x="614" y="996"/>
                </a:lnTo>
                <a:lnTo>
                  <a:pt x="604" y="1004"/>
                </a:lnTo>
                <a:lnTo>
                  <a:pt x="596" y="1012"/>
                </a:lnTo>
                <a:lnTo>
                  <a:pt x="588" y="1022"/>
                </a:lnTo>
                <a:lnTo>
                  <a:pt x="581" y="1031"/>
                </a:lnTo>
                <a:lnTo>
                  <a:pt x="572" y="1045"/>
                </a:lnTo>
                <a:lnTo>
                  <a:pt x="567" y="1057"/>
                </a:lnTo>
                <a:lnTo>
                  <a:pt x="563" y="1069"/>
                </a:lnTo>
                <a:lnTo>
                  <a:pt x="560" y="1082"/>
                </a:lnTo>
                <a:lnTo>
                  <a:pt x="557" y="1095"/>
                </a:lnTo>
                <a:lnTo>
                  <a:pt x="553" y="1107"/>
                </a:lnTo>
                <a:lnTo>
                  <a:pt x="549" y="1120"/>
                </a:lnTo>
                <a:lnTo>
                  <a:pt x="543" y="1134"/>
                </a:lnTo>
                <a:lnTo>
                  <a:pt x="536" y="1147"/>
                </a:lnTo>
                <a:lnTo>
                  <a:pt x="529" y="1159"/>
                </a:lnTo>
                <a:lnTo>
                  <a:pt x="524" y="1164"/>
                </a:lnTo>
                <a:lnTo>
                  <a:pt x="519" y="1167"/>
                </a:lnTo>
                <a:lnTo>
                  <a:pt x="513" y="1171"/>
                </a:lnTo>
                <a:lnTo>
                  <a:pt x="506" y="1171"/>
                </a:lnTo>
                <a:lnTo>
                  <a:pt x="497" y="1170"/>
                </a:lnTo>
                <a:lnTo>
                  <a:pt x="490" y="1167"/>
                </a:lnTo>
                <a:lnTo>
                  <a:pt x="484" y="1163"/>
                </a:lnTo>
                <a:lnTo>
                  <a:pt x="477" y="1158"/>
                </a:lnTo>
                <a:lnTo>
                  <a:pt x="466" y="1147"/>
                </a:lnTo>
                <a:lnTo>
                  <a:pt x="451" y="1137"/>
                </a:lnTo>
                <a:lnTo>
                  <a:pt x="437" y="1140"/>
                </a:lnTo>
                <a:lnTo>
                  <a:pt x="436" y="1155"/>
                </a:lnTo>
                <a:lnTo>
                  <a:pt x="435" y="1167"/>
                </a:lnTo>
                <a:lnTo>
                  <a:pt x="436" y="1180"/>
                </a:lnTo>
                <a:lnTo>
                  <a:pt x="437" y="1195"/>
                </a:lnTo>
                <a:lnTo>
                  <a:pt x="427" y="1196"/>
                </a:lnTo>
                <a:lnTo>
                  <a:pt x="416" y="1198"/>
                </a:lnTo>
                <a:lnTo>
                  <a:pt x="406" y="1201"/>
                </a:lnTo>
                <a:lnTo>
                  <a:pt x="397" y="1204"/>
                </a:lnTo>
                <a:lnTo>
                  <a:pt x="393" y="1207"/>
                </a:lnTo>
                <a:lnTo>
                  <a:pt x="389" y="1209"/>
                </a:lnTo>
                <a:lnTo>
                  <a:pt x="385" y="1212"/>
                </a:lnTo>
                <a:lnTo>
                  <a:pt x="382" y="1215"/>
                </a:lnTo>
                <a:lnTo>
                  <a:pt x="380" y="1218"/>
                </a:lnTo>
                <a:lnTo>
                  <a:pt x="378" y="1222"/>
                </a:lnTo>
                <a:lnTo>
                  <a:pt x="377" y="1228"/>
                </a:lnTo>
                <a:lnTo>
                  <a:pt x="377" y="1232"/>
                </a:lnTo>
                <a:lnTo>
                  <a:pt x="377" y="1238"/>
                </a:lnTo>
                <a:lnTo>
                  <a:pt x="378" y="1245"/>
                </a:lnTo>
                <a:lnTo>
                  <a:pt x="379" y="1250"/>
                </a:lnTo>
                <a:lnTo>
                  <a:pt x="381" y="1255"/>
                </a:lnTo>
                <a:lnTo>
                  <a:pt x="387" y="1265"/>
                </a:lnTo>
                <a:lnTo>
                  <a:pt x="392" y="1274"/>
                </a:lnTo>
                <a:lnTo>
                  <a:pt x="397" y="1284"/>
                </a:lnTo>
                <a:lnTo>
                  <a:pt x="402" y="1294"/>
                </a:lnTo>
                <a:lnTo>
                  <a:pt x="404" y="1299"/>
                </a:lnTo>
                <a:lnTo>
                  <a:pt x="406" y="1305"/>
                </a:lnTo>
                <a:lnTo>
                  <a:pt x="407" y="1311"/>
                </a:lnTo>
                <a:lnTo>
                  <a:pt x="408" y="1317"/>
                </a:lnTo>
                <a:lnTo>
                  <a:pt x="407" y="1330"/>
                </a:lnTo>
                <a:lnTo>
                  <a:pt x="404" y="1343"/>
                </a:lnTo>
                <a:lnTo>
                  <a:pt x="400" y="1354"/>
                </a:lnTo>
                <a:lnTo>
                  <a:pt x="397" y="1365"/>
                </a:lnTo>
                <a:lnTo>
                  <a:pt x="393" y="1376"/>
                </a:lnTo>
                <a:lnTo>
                  <a:pt x="389" y="1386"/>
                </a:lnTo>
                <a:lnTo>
                  <a:pt x="385" y="1399"/>
                </a:lnTo>
                <a:lnTo>
                  <a:pt x="383" y="1412"/>
                </a:lnTo>
                <a:lnTo>
                  <a:pt x="381" y="1448"/>
                </a:lnTo>
                <a:lnTo>
                  <a:pt x="379" y="1480"/>
                </a:lnTo>
                <a:lnTo>
                  <a:pt x="377" y="1495"/>
                </a:lnTo>
                <a:lnTo>
                  <a:pt x="374" y="1511"/>
                </a:lnTo>
                <a:lnTo>
                  <a:pt x="372" y="1518"/>
                </a:lnTo>
                <a:lnTo>
                  <a:pt x="369" y="1525"/>
                </a:lnTo>
                <a:lnTo>
                  <a:pt x="364" y="1534"/>
                </a:lnTo>
                <a:lnTo>
                  <a:pt x="359" y="1541"/>
                </a:lnTo>
                <a:lnTo>
                  <a:pt x="339" y="1573"/>
                </a:lnTo>
                <a:lnTo>
                  <a:pt x="321" y="1601"/>
                </a:lnTo>
                <a:lnTo>
                  <a:pt x="314" y="1616"/>
                </a:lnTo>
                <a:lnTo>
                  <a:pt x="306" y="1631"/>
                </a:lnTo>
                <a:lnTo>
                  <a:pt x="300" y="1648"/>
                </a:lnTo>
                <a:lnTo>
                  <a:pt x="295" y="1667"/>
                </a:lnTo>
                <a:lnTo>
                  <a:pt x="293" y="1679"/>
                </a:lnTo>
                <a:lnTo>
                  <a:pt x="289" y="1691"/>
                </a:lnTo>
                <a:lnTo>
                  <a:pt x="285" y="1702"/>
                </a:lnTo>
                <a:lnTo>
                  <a:pt x="281" y="1712"/>
                </a:lnTo>
                <a:lnTo>
                  <a:pt x="278" y="1718"/>
                </a:lnTo>
                <a:lnTo>
                  <a:pt x="275" y="1722"/>
                </a:lnTo>
                <a:lnTo>
                  <a:pt x="271" y="1725"/>
                </a:lnTo>
                <a:lnTo>
                  <a:pt x="267" y="1728"/>
                </a:lnTo>
                <a:lnTo>
                  <a:pt x="263" y="1731"/>
                </a:lnTo>
                <a:lnTo>
                  <a:pt x="259" y="1733"/>
                </a:lnTo>
                <a:lnTo>
                  <a:pt x="253" y="1735"/>
                </a:lnTo>
                <a:lnTo>
                  <a:pt x="247" y="1735"/>
                </a:lnTo>
                <a:lnTo>
                  <a:pt x="242" y="1735"/>
                </a:lnTo>
                <a:lnTo>
                  <a:pt x="237" y="1732"/>
                </a:lnTo>
                <a:lnTo>
                  <a:pt x="231" y="1729"/>
                </a:lnTo>
                <a:lnTo>
                  <a:pt x="228" y="1725"/>
                </a:lnTo>
                <a:lnTo>
                  <a:pt x="221" y="1716"/>
                </a:lnTo>
                <a:lnTo>
                  <a:pt x="215" y="1704"/>
                </a:lnTo>
                <a:lnTo>
                  <a:pt x="209" y="1693"/>
                </a:lnTo>
                <a:lnTo>
                  <a:pt x="203" y="1683"/>
                </a:lnTo>
                <a:lnTo>
                  <a:pt x="199" y="1680"/>
                </a:lnTo>
                <a:lnTo>
                  <a:pt x="194" y="1676"/>
                </a:lnTo>
                <a:lnTo>
                  <a:pt x="189" y="1674"/>
                </a:lnTo>
                <a:lnTo>
                  <a:pt x="183" y="1673"/>
                </a:lnTo>
                <a:lnTo>
                  <a:pt x="178" y="1674"/>
                </a:lnTo>
                <a:lnTo>
                  <a:pt x="174" y="1675"/>
                </a:lnTo>
                <a:lnTo>
                  <a:pt x="171" y="1678"/>
                </a:lnTo>
                <a:lnTo>
                  <a:pt x="168" y="1680"/>
                </a:lnTo>
                <a:lnTo>
                  <a:pt x="166" y="1684"/>
                </a:lnTo>
                <a:lnTo>
                  <a:pt x="164" y="1687"/>
                </a:lnTo>
                <a:lnTo>
                  <a:pt x="163" y="1691"/>
                </a:lnTo>
                <a:lnTo>
                  <a:pt x="162" y="1697"/>
                </a:lnTo>
                <a:lnTo>
                  <a:pt x="159" y="1717"/>
                </a:lnTo>
                <a:lnTo>
                  <a:pt x="159" y="1739"/>
                </a:lnTo>
                <a:lnTo>
                  <a:pt x="133" y="1739"/>
                </a:lnTo>
                <a:lnTo>
                  <a:pt x="128" y="1738"/>
                </a:lnTo>
                <a:lnTo>
                  <a:pt x="124" y="1737"/>
                </a:lnTo>
                <a:lnTo>
                  <a:pt x="120" y="1736"/>
                </a:lnTo>
                <a:lnTo>
                  <a:pt x="117" y="1732"/>
                </a:lnTo>
                <a:lnTo>
                  <a:pt x="112" y="1726"/>
                </a:lnTo>
                <a:lnTo>
                  <a:pt x="108" y="1719"/>
                </a:lnTo>
                <a:lnTo>
                  <a:pt x="101" y="1700"/>
                </a:lnTo>
                <a:lnTo>
                  <a:pt x="95" y="1681"/>
                </a:lnTo>
                <a:lnTo>
                  <a:pt x="86" y="1660"/>
                </a:lnTo>
                <a:lnTo>
                  <a:pt x="76" y="1639"/>
                </a:lnTo>
                <a:lnTo>
                  <a:pt x="68" y="1620"/>
                </a:lnTo>
                <a:lnTo>
                  <a:pt x="59" y="1603"/>
                </a:lnTo>
                <a:lnTo>
                  <a:pt x="53" y="1584"/>
                </a:lnTo>
                <a:lnTo>
                  <a:pt x="48" y="1565"/>
                </a:lnTo>
                <a:lnTo>
                  <a:pt x="46" y="1554"/>
                </a:lnTo>
                <a:lnTo>
                  <a:pt x="44" y="1543"/>
                </a:lnTo>
                <a:lnTo>
                  <a:pt x="44" y="1532"/>
                </a:lnTo>
                <a:lnTo>
                  <a:pt x="43" y="1520"/>
                </a:lnTo>
                <a:lnTo>
                  <a:pt x="43" y="1449"/>
                </a:lnTo>
                <a:lnTo>
                  <a:pt x="35" y="1443"/>
                </a:lnTo>
                <a:lnTo>
                  <a:pt x="26" y="1436"/>
                </a:lnTo>
                <a:lnTo>
                  <a:pt x="19" y="1428"/>
                </a:lnTo>
                <a:lnTo>
                  <a:pt x="13" y="1421"/>
                </a:lnTo>
                <a:lnTo>
                  <a:pt x="7" y="1412"/>
                </a:lnTo>
                <a:lnTo>
                  <a:pt x="3" y="1403"/>
                </a:lnTo>
                <a:lnTo>
                  <a:pt x="0" y="1392"/>
                </a:lnTo>
                <a:lnTo>
                  <a:pt x="0" y="1382"/>
                </a:lnTo>
                <a:lnTo>
                  <a:pt x="0" y="1376"/>
                </a:lnTo>
                <a:lnTo>
                  <a:pt x="1" y="1371"/>
                </a:lnTo>
                <a:lnTo>
                  <a:pt x="3" y="1366"/>
                </a:lnTo>
                <a:lnTo>
                  <a:pt x="6" y="1363"/>
                </a:lnTo>
                <a:lnTo>
                  <a:pt x="10" y="1359"/>
                </a:lnTo>
                <a:lnTo>
                  <a:pt x="14" y="1356"/>
                </a:lnTo>
                <a:lnTo>
                  <a:pt x="18" y="1353"/>
                </a:lnTo>
                <a:lnTo>
                  <a:pt x="23" y="1351"/>
                </a:lnTo>
                <a:lnTo>
                  <a:pt x="35" y="1348"/>
                </a:lnTo>
                <a:lnTo>
                  <a:pt x="46" y="1346"/>
                </a:lnTo>
                <a:lnTo>
                  <a:pt x="59" y="1345"/>
                </a:lnTo>
                <a:lnTo>
                  <a:pt x="71" y="1344"/>
                </a:lnTo>
                <a:lnTo>
                  <a:pt x="65" y="1332"/>
                </a:lnTo>
                <a:lnTo>
                  <a:pt x="58" y="1323"/>
                </a:lnTo>
                <a:lnTo>
                  <a:pt x="55" y="1317"/>
                </a:lnTo>
                <a:lnTo>
                  <a:pt x="53" y="1312"/>
                </a:lnTo>
                <a:lnTo>
                  <a:pt x="51" y="1307"/>
                </a:lnTo>
                <a:lnTo>
                  <a:pt x="51" y="1301"/>
                </a:lnTo>
                <a:lnTo>
                  <a:pt x="51" y="1294"/>
                </a:lnTo>
                <a:lnTo>
                  <a:pt x="52" y="1290"/>
                </a:lnTo>
                <a:lnTo>
                  <a:pt x="53" y="1285"/>
                </a:lnTo>
                <a:lnTo>
                  <a:pt x="55" y="1280"/>
                </a:lnTo>
                <a:lnTo>
                  <a:pt x="60" y="1272"/>
                </a:lnTo>
                <a:lnTo>
                  <a:pt x="65" y="1265"/>
                </a:lnTo>
                <a:lnTo>
                  <a:pt x="72" y="1257"/>
                </a:lnTo>
                <a:lnTo>
                  <a:pt x="79" y="1250"/>
                </a:lnTo>
                <a:lnTo>
                  <a:pt x="86" y="1241"/>
                </a:lnTo>
                <a:lnTo>
                  <a:pt x="91" y="1232"/>
                </a:lnTo>
                <a:lnTo>
                  <a:pt x="101" y="1210"/>
                </a:lnTo>
                <a:lnTo>
                  <a:pt x="109" y="1189"/>
                </a:lnTo>
                <a:lnTo>
                  <a:pt x="112" y="1179"/>
                </a:lnTo>
                <a:lnTo>
                  <a:pt x="116" y="1169"/>
                </a:lnTo>
                <a:lnTo>
                  <a:pt x="121" y="1158"/>
                </a:lnTo>
                <a:lnTo>
                  <a:pt x="129" y="1147"/>
                </a:lnTo>
                <a:lnTo>
                  <a:pt x="144" y="1124"/>
                </a:lnTo>
                <a:lnTo>
                  <a:pt x="157" y="1105"/>
                </a:lnTo>
                <a:lnTo>
                  <a:pt x="172" y="1086"/>
                </a:lnTo>
                <a:lnTo>
                  <a:pt x="190" y="1066"/>
                </a:lnTo>
                <a:lnTo>
                  <a:pt x="200" y="1052"/>
                </a:lnTo>
                <a:lnTo>
                  <a:pt x="209" y="1039"/>
                </a:lnTo>
                <a:lnTo>
                  <a:pt x="213" y="1033"/>
                </a:lnTo>
                <a:lnTo>
                  <a:pt x="220" y="1029"/>
                </a:lnTo>
                <a:lnTo>
                  <a:pt x="223" y="1027"/>
                </a:lnTo>
                <a:lnTo>
                  <a:pt x="226" y="1026"/>
                </a:lnTo>
                <a:lnTo>
                  <a:pt x="230" y="1025"/>
                </a:lnTo>
                <a:lnTo>
                  <a:pt x="233" y="1025"/>
                </a:lnTo>
                <a:lnTo>
                  <a:pt x="240" y="1026"/>
                </a:lnTo>
                <a:lnTo>
                  <a:pt x="245" y="1029"/>
                </a:lnTo>
                <a:lnTo>
                  <a:pt x="250" y="1032"/>
                </a:lnTo>
                <a:lnTo>
                  <a:pt x="255" y="1037"/>
                </a:lnTo>
                <a:lnTo>
                  <a:pt x="259" y="1041"/>
                </a:lnTo>
                <a:lnTo>
                  <a:pt x="263" y="1045"/>
                </a:lnTo>
                <a:lnTo>
                  <a:pt x="268" y="1048"/>
                </a:lnTo>
                <a:lnTo>
                  <a:pt x="275" y="1049"/>
                </a:lnTo>
                <a:lnTo>
                  <a:pt x="280" y="1048"/>
                </a:lnTo>
                <a:lnTo>
                  <a:pt x="284" y="1047"/>
                </a:lnTo>
                <a:lnTo>
                  <a:pt x="288" y="1046"/>
                </a:lnTo>
                <a:lnTo>
                  <a:pt x="291" y="1043"/>
                </a:lnTo>
                <a:lnTo>
                  <a:pt x="298" y="1038"/>
                </a:lnTo>
                <a:lnTo>
                  <a:pt x="303" y="1030"/>
                </a:lnTo>
                <a:lnTo>
                  <a:pt x="307" y="1022"/>
                </a:lnTo>
                <a:lnTo>
                  <a:pt x="313" y="1013"/>
                </a:lnTo>
                <a:lnTo>
                  <a:pt x="319" y="1005"/>
                </a:lnTo>
                <a:lnTo>
                  <a:pt x="325" y="997"/>
                </a:lnTo>
                <a:lnTo>
                  <a:pt x="345" y="981"/>
                </a:lnTo>
                <a:lnTo>
                  <a:pt x="362" y="965"/>
                </a:lnTo>
                <a:lnTo>
                  <a:pt x="378" y="949"/>
                </a:lnTo>
                <a:lnTo>
                  <a:pt x="393" y="934"/>
                </a:lnTo>
                <a:lnTo>
                  <a:pt x="407" y="917"/>
                </a:lnTo>
                <a:lnTo>
                  <a:pt x="421" y="900"/>
                </a:lnTo>
                <a:lnTo>
                  <a:pt x="436" y="882"/>
                </a:lnTo>
                <a:lnTo>
                  <a:pt x="451" y="862"/>
                </a:lnTo>
                <a:lnTo>
                  <a:pt x="437" y="858"/>
                </a:lnTo>
                <a:lnTo>
                  <a:pt x="421" y="874"/>
                </a:lnTo>
                <a:lnTo>
                  <a:pt x="404" y="887"/>
                </a:lnTo>
                <a:lnTo>
                  <a:pt x="389" y="896"/>
                </a:lnTo>
                <a:lnTo>
                  <a:pt x="372" y="905"/>
                </a:lnTo>
                <a:lnTo>
                  <a:pt x="355" y="911"/>
                </a:lnTo>
                <a:lnTo>
                  <a:pt x="337" y="916"/>
                </a:lnTo>
                <a:lnTo>
                  <a:pt x="317" y="921"/>
                </a:lnTo>
                <a:lnTo>
                  <a:pt x="295" y="927"/>
                </a:lnTo>
                <a:lnTo>
                  <a:pt x="270" y="933"/>
                </a:lnTo>
                <a:lnTo>
                  <a:pt x="249" y="940"/>
                </a:lnTo>
                <a:lnTo>
                  <a:pt x="229" y="949"/>
                </a:lnTo>
                <a:lnTo>
                  <a:pt x="210" y="958"/>
                </a:lnTo>
                <a:lnTo>
                  <a:pt x="191" y="968"/>
                </a:lnTo>
                <a:lnTo>
                  <a:pt x="172" y="978"/>
                </a:lnTo>
                <a:lnTo>
                  <a:pt x="151" y="990"/>
                </a:lnTo>
                <a:lnTo>
                  <a:pt x="129" y="1002"/>
                </a:lnTo>
                <a:lnTo>
                  <a:pt x="127" y="991"/>
                </a:lnTo>
                <a:lnTo>
                  <a:pt x="126" y="982"/>
                </a:lnTo>
                <a:lnTo>
                  <a:pt x="126" y="974"/>
                </a:lnTo>
                <a:lnTo>
                  <a:pt x="127" y="967"/>
                </a:lnTo>
                <a:lnTo>
                  <a:pt x="128" y="959"/>
                </a:lnTo>
                <a:lnTo>
                  <a:pt x="130" y="953"/>
                </a:lnTo>
                <a:lnTo>
                  <a:pt x="135" y="940"/>
                </a:lnTo>
                <a:lnTo>
                  <a:pt x="142" y="928"/>
                </a:lnTo>
                <a:lnTo>
                  <a:pt x="147" y="916"/>
                </a:lnTo>
                <a:lnTo>
                  <a:pt x="152" y="903"/>
                </a:lnTo>
                <a:lnTo>
                  <a:pt x="154" y="897"/>
                </a:lnTo>
                <a:lnTo>
                  <a:pt x="156" y="890"/>
                </a:lnTo>
                <a:lnTo>
                  <a:pt x="157" y="882"/>
                </a:lnTo>
                <a:lnTo>
                  <a:pt x="157" y="875"/>
                </a:lnTo>
                <a:lnTo>
                  <a:pt x="157" y="864"/>
                </a:lnTo>
                <a:lnTo>
                  <a:pt x="157" y="855"/>
                </a:lnTo>
                <a:lnTo>
                  <a:pt x="156" y="845"/>
                </a:lnTo>
                <a:lnTo>
                  <a:pt x="155" y="835"/>
                </a:lnTo>
                <a:lnTo>
                  <a:pt x="154" y="835"/>
                </a:lnTo>
                <a:lnTo>
                  <a:pt x="152" y="83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88"/>
          <p:cNvSpPr/>
          <p:nvPr/>
        </p:nvSpPr>
        <p:spPr>
          <a:xfrm>
            <a:off x="3816360" y="3989520"/>
            <a:ext cx="1168560" cy="185724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398" h="3805">
                <a:moveTo>
                  <a:pt x="61" y="3800"/>
                </a:moveTo>
                <a:lnTo>
                  <a:pt x="146" y="3802"/>
                </a:lnTo>
                <a:lnTo>
                  <a:pt x="230" y="3803"/>
                </a:lnTo>
                <a:lnTo>
                  <a:pt x="315" y="3804"/>
                </a:lnTo>
                <a:lnTo>
                  <a:pt x="399" y="3804"/>
                </a:lnTo>
                <a:lnTo>
                  <a:pt x="484" y="3805"/>
                </a:lnTo>
                <a:lnTo>
                  <a:pt x="568" y="3804"/>
                </a:lnTo>
                <a:lnTo>
                  <a:pt x="653" y="3804"/>
                </a:lnTo>
                <a:lnTo>
                  <a:pt x="737" y="3803"/>
                </a:lnTo>
                <a:lnTo>
                  <a:pt x="823" y="3801"/>
                </a:lnTo>
                <a:lnTo>
                  <a:pt x="907" y="3799"/>
                </a:lnTo>
                <a:lnTo>
                  <a:pt x="993" y="3797"/>
                </a:lnTo>
                <a:lnTo>
                  <a:pt x="1077" y="3793"/>
                </a:lnTo>
                <a:lnTo>
                  <a:pt x="1163" y="3790"/>
                </a:lnTo>
                <a:lnTo>
                  <a:pt x="1247" y="3786"/>
                </a:lnTo>
                <a:lnTo>
                  <a:pt x="1333" y="3782"/>
                </a:lnTo>
                <a:lnTo>
                  <a:pt x="1418" y="3777"/>
                </a:lnTo>
                <a:lnTo>
                  <a:pt x="1419" y="3770"/>
                </a:lnTo>
                <a:lnTo>
                  <a:pt x="1421" y="3761"/>
                </a:lnTo>
                <a:lnTo>
                  <a:pt x="1421" y="3752"/>
                </a:lnTo>
                <a:lnTo>
                  <a:pt x="1422" y="3745"/>
                </a:lnTo>
                <a:lnTo>
                  <a:pt x="1423" y="3737"/>
                </a:lnTo>
                <a:lnTo>
                  <a:pt x="1425" y="3730"/>
                </a:lnTo>
                <a:lnTo>
                  <a:pt x="1353" y="2470"/>
                </a:lnTo>
                <a:lnTo>
                  <a:pt x="1770" y="1946"/>
                </a:lnTo>
                <a:lnTo>
                  <a:pt x="2398" y="978"/>
                </a:lnTo>
                <a:lnTo>
                  <a:pt x="2392" y="978"/>
                </a:lnTo>
                <a:lnTo>
                  <a:pt x="2385" y="978"/>
                </a:lnTo>
                <a:lnTo>
                  <a:pt x="2372" y="978"/>
                </a:lnTo>
                <a:lnTo>
                  <a:pt x="2359" y="977"/>
                </a:lnTo>
                <a:lnTo>
                  <a:pt x="2348" y="976"/>
                </a:lnTo>
                <a:lnTo>
                  <a:pt x="2336" y="973"/>
                </a:lnTo>
                <a:lnTo>
                  <a:pt x="2324" y="970"/>
                </a:lnTo>
                <a:lnTo>
                  <a:pt x="2314" y="966"/>
                </a:lnTo>
                <a:lnTo>
                  <a:pt x="2302" y="961"/>
                </a:lnTo>
                <a:lnTo>
                  <a:pt x="2290" y="955"/>
                </a:lnTo>
                <a:lnTo>
                  <a:pt x="2279" y="950"/>
                </a:lnTo>
                <a:lnTo>
                  <a:pt x="2267" y="945"/>
                </a:lnTo>
                <a:lnTo>
                  <a:pt x="2257" y="941"/>
                </a:lnTo>
                <a:lnTo>
                  <a:pt x="2246" y="939"/>
                </a:lnTo>
                <a:lnTo>
                  <a:pt x="2226" y="934"/>
                </a:lnTo>
                <a:lnTo>
                  <a:pt x="2205" y="932"/>
                </a:lnTo>
                <a:lnTo>
                  <a:pt x="2185" y="930"/>
                </a:lnTo>
                <a:lnTo>
                  <a:pt x="2163" y="926"/>
                </a:lnTo>
                <a:lnTo>
                  <a:pt x="2141" y="923"/>
                </a:lnTo>
                <a:lnTo>
                  <a:pt x="2116" y="918"/>
                </a:lnTo>
                <a:lnTo>
                  <a:pt x="2091" y="909"/>
                </a:lnTo>
                <a:lnTo>
                  <a:pt x="2068" y="898"/>
                </a:lnTo>
                <a:lnTo>
                  <a:pt x="2057" y="894"/>
                </a:lnTo>
                <a:lnTo>
                  <a:pt x="2045" y="891"/>
                </a:lnTo>
                <a:lnTo>
                  <a:pt x="2032" y="887"/>
                </a:lnTo>
                <a:lnTo>
                  <a:pt x="2018" y="887"/>
                </a:lnTo>
                <a:lnTo>
                  <a:pt x="2002" y="887"/>
                </a:lnTo>
                <a:lnTo>
                  <a:pt x="1988" y="887"/>
                </a:lnTo>
                <a:lnTo>
                  <a:pt x="1973" y="888"/>
                </a:lnTo>
                <a:lnTo>
                  <a:pt x="1960" y="891"/>
                </a:lnTo>
                <a:lnTo>
                  <a:pt x="1946" y="894"/>
                </a:lnTo>
                <a:lnTo>
                  <a:pt x="1934" y="898"/>
                </a:lnTo>
                <a:lnTo>
                  <a:pt x="1920" y="903"/>
                </a:lnTo>
                <a:lnTo>
                  <a:pt x="1906" y="911"/>
                </a:lnTo>
                <a:lnTo>
                  <a:pt x="1896" y="918"/>
                </a:lnTo>
                <a:lnTo>
                  <a:pt x="1886" y="926"/>
                </a:lnTo>
                <a:lnTo>
                  <a:pt x="1882" y="930"/>
                </a:lnTo>
                <a:lnTo>
                  <a:pt x="1877" y="932"/>
                </a:lnTo>
                <a:lnTo>
                  <a:pt x="1871" y="934"/>
                </a:lnTo>
                <a:lnTo>
                  <a:pt x="1865" y="935"/>
                </a:lnTo>
                <a:lnTo>
                  <a:pt x="1811" y="935"/>
                </a:lnTo>
                <a:lnTo>
                  <a:pt x="1801" y="943"/>
                </a:lnTo>
                <a:lnTo>
                  <a:pt x="1792" y="953"/>
                </a:lnTo>
                <a:lnTo>
                  <a:pt x="1784" y="962"/>
                </a:lnTo>
                <a:lnTo>
                  <a:pt x="1777" y="973"/>
                </a:lnTo>
                <a:lnTo>
                  <a:pt x="1765" y="995"/>
                </a:lnTo>
                <a:lnTo>
                  <a:pt x="1753" y="1019"/>
                </a:lnTo>
                <a:lnTo>
                  <a:pt x="1747" y="1015"/>
                </a:lnTo>
                <a:lnTo>
                  <a:pt x="1743" y="1009"/>
                </a:lnTo>
                <a:lnTo>
                  <a:pt x="1739" y="1007"/>
                </a:lnTo>
                <a:lnTo>
                  <a:pt x="1736" y="1005"/>
                </a:lnTo>
                <a:lnTo>
                  <a:pt x="1733" y="1002"/>
                </a:lnTo>
                <a:lnTo>
                  <a:pt x="1730" y="1002"/>
                </a:lnTo>
                <a:lnTo>
                  <a:pt x="1726" y="1002"/>
                </a:lnTo>
                <a:lnTo>
                  <a:pt x="1721" y="1004"/>
                </a:lnTo>
                <a:lnTo>
                  <a:pt x="1718" y="1006"/>
                </a:lnTo>
                <a:lnTo>
                  <a:pt x="1715" y="1008"/>
                </a:lnTo>
                <a:lnTo>
                  <a:pt x="1709" y="1012"/>
                </a:lnTo>
                <a:lnTo>
                  <a:pt x="1702" y="1016"/>
                </a:lnTo>
                <a:lnTo>
                  <a:pt x="1699" y="986"/>
                </a:lnTo>
                <a:lnTo>
                  <a:pt x="1712" y="972"/>
                </a:lnTo>
                <a:lnTo>
                  <a:pt x="1723" y="959"/>
                </a:lnTo>
                <a:lnTo>
                  <a:pt x="1732" y="945"/>
                </a:lnTo>
                <a:lnTo>
                  <a:pt x="1739" y="932"/>
                </a:lnTo>
                <a:lnTo>
                  <a:pt x="1746" y="917"/>
                </a:lnTo>
                <a:lnTo>
                  <a:pt x="1750" y="901"/>
                </a:lnTo>
                <a:lnTo>
                  <a:pt x="1752" y="885"/>
                </a:lnTo>
                <a:lnTo>
                  <a:pt x="1753" y="866"/>
                </a:lnTo>
                <a:lnTo>
                  <a:pt x="1753" y="862"/>
                </a:lnTo>
                <a:lnTo>
                  <a:pt x="1752" y="858"/>
                </a:lnTo>
                <a:lnTo>
                  <a:pt x="1751" y="854"/>
                </a:lnTo>
                <a:lnTo>
                  <a:pt x="1749" y="850"/>
                </a:lnTo>
                <a:lnTo>
                  <a:pt x="1745" y="843"/>
                </a:lnTo>
                <a:lnTo>
                  <a:pt x="1739" y="837"/>
                </a:lnTo>
                <a:lnTo>
                  <a:pt x="1733" y="830"/>
                </a:lnTo>
                <a:lnTo>
                  <a:pt x="1728" y="824"/>
                </a:lnTo>
                <a:lnTo>
                  <a:pt x="1723" y="817"/>
                </a:lnTo>
                <a:lnTo>
                  <a:pt x="1719" y="809"/>
                </a:lnTo>
                <a:lnTo>
                  <a:pt x="1709" y="780"/>
                </a:lnTo>
                <a:lnTo>
                  <a:pt x="1696" y="754"/>
                </a:lnTo>
                <a:lnTo>
                  <a:pt x="1685" y="731"/>
                </a:lnTo>
                <a:lnTo>
                  <a:pt x="1672" y="709"/>
                </a:lnTo>
                <a:lnTo>
                  <a:pt x="1659" y="686"/>
                </a:lnTo>
                <a:lnTo>
                  <a:pt x="1647" y="662"/>
                </a:lnTo>
                <a:lnTo>
                  <a:pt x="1635" y="637"/>
                </a:lnTo>
                <a:lnTo>
                  <a:pt x="1624" y="609"/>
                </a:lnTo>
                <a:lnTo>
                  <a:pt x="1620" y="597"/>
                </a:lnTo>
                <a:lnTo>
                  <a:pt x="1615" y="585"/>
                </a:lnTo>
                <a:lnTo>
                  <a:pt x="1609" y="576"/>
                </a:lnTo>
                <a:lnTo>
                  <a:pt x="1603" y="566"/>
                </a:lnTo>
                <a:lnTo>
                  <a:pt x="1589" y="548"/>
                </a:lnTo>
                <a:lnTo>
                  <a:pt x="1577" y="527"/>
                </a:lnTo>
                <a:lnTo>
                  <a:pt x="1566" y="505"/>
                </a:lnTo>
                <a:lnTo>
                  <a:pt x="1557" y="484"/>
                </a:lnTo>
                <a:lnTo>
                  <a:pt x="1553" y="475"/>
                </a:lnTo>
                <a:lnTo>
                  <a:pt x="1547" y="465"/>
                </a:lnTo>
                <a:lnTo>
                  <a:pt x="1541" y="456"/>
                </a:lnTo>
                <a:lnTo>
                  <a:pt x="1532" y="445"/>
                </a:lnTo>
                <a:lnTo>
                  <a:pt x="1528" y="442"/>
                </a:lnTo>
                <a:lnTo>
                  <a:pt x="1524" y="440"/>
                </a:lnTo>
                <a:lnTo>
                  <a:pt x="1519" y="439"/>
                </a:lnTo>
                <a:lnTo>
                  <a:pt x="1513" y="440"/>
                </a:lnTo>
                <a:lnTo>
                  <a:pt x="1501" y="441"/>
                </a:lnTo>
                <a:lnTo>
                  <a:pt x="1488" y="442"/>
                </a:lnTo>
                <a:lnTo>
                  <a:pt x="1472" y="442"/>
                </a:lnTo>
                <a:lnTo>
                  <a:pt x="1457" y="441"/>
                </a:lnTo>
                <a:lnTo>
                  <a:pt x="1444" y="440"/>
                </a:lnTo>
                <a:lnTo>
                  <a:pt x="1427" y="439"/>
                </a:lnTo>
                <a:lnTo>
                  <a:pt x="1421" y="440"/>
                </a:lnTo>
                <a:lnTo>
                  <a:pt x="1416" y="442"/>
                </a:lnTo>
                <a:lnTo>
                  <a:pt x="1412" y="446"/>
                </a:lnTo>
                <a:lnTo>
                  <a:pt x="1409" y="451"/>
                </a:lnTo>
                <a:lnTo>
                  <a:pt x="1403" y="463"/>
                </a:lnTo>
                <a:lnTo>
                  <a:pt x="1396" y="476"/>
                </a:lnTo>
                <a:lnTo>
                  <a:pt x="1395" y="472"/>
                </a:lnTo>
                <a:lnTo>
                  <a:pt x="1393" y="469"/>
                </a:lnTo>
                <a:lnTo>
                  <a:pt x="1390" y="466"/>
                </a:lnTo>
                <a:lnTo>
                  <a:pt x="1388" y="463"/>
                </a:lnTo>
                <a:lnTo>
                  <a:pt x="1380" y="459"/>
                </a:lnTo>
                <a:lnTo>
                  <a:pt x="1374" y="456"/>
                </a:lnTo>
                <a:lnTo>
                  <a:pt x="1358" y="450"/>
                </a:lnTo>
                <a:lnTo>
                  <a:pt x="1342" y="442"/>
                </a:lnTo>
                <a:lnTo>
                  <a:pt x="1337" y="438"/>
                </a:lnTo>
                <a:lnTo>
                  <a:pt x="1333" y="433"/>
                </a:lnTo>
                <a:lnTo>
                  <a:pt x="1330" y="429"/>
                </a:lnTo>
                <a:lnTo>
                  <a:pt x="1327" y="424"/>
                </a:lnTo>
                <a:lnTo>
                  <a:pt x="1322" y="414"/>
                </a:lnTo>
                <a:lnTo>
                  <a:pt x="1319" y="403"/>
                </a:lnTo>
                <a:lnTo>
                  <a:pt x="1316" y="379"/>
                </a:lnTo>
                <a:lnTo>
                  <a:pt x="1312" y="354"/>
                </a:lnTo>
                <a:lnTo>
                  <a:pt x="1309" y="346"/>
                </a:lnTo>
                <a:lnTo>
                  <a:pt x="1305" y="338"/>
                </a:lnTo>
                <a:lnTo>
                  <a:pt x="1302" y="331"/>
                </a:lnTo>
                <a:lnTo>
                  <a:pt x="1298" y="325"/>
                </a:lnTo>
                <a:lnTo>
                  <a:pt x="1290" y="312"/>
                </a:lnTo>
                <a:lnTo>
                  <a:pt x="1281" y="300"/>
                </a:lnTo>
                <a:lnTo>
                  <a:pt x="1274" y="289"/>
                </a:lnTo>
                <a:lnTo>
                  <a:pt x="1267" y="276"/>
                </a:lnTo>
                <a:lnTo>
                  <a:pt x="1264" y="269"/>
                </a:lnTo>
                <a:lnTo>
                  <a:pt x="1262" y="261"/>
                </a:lnTo>
                <a:lnTo>
                  <a:pt x="1261" y="254"/>
                </a:lnTo>
                <a:lnTo>
                  <a:pt x="1261" y="245"/>
                </a:lnTo>
                <a:lnTo>
                  <a:pt x="1261" y="204"/>
                </a:lnTo>
                <a:lnTo>
                  <a:pt x="1259" y="168"/>
                </a:lnTo>
                <a:lnTo>
                  <a:pt x="1257" y="151"/>
                </a:lnTo>
                <a:lnTo>
                  <a:pt x="1253" y="133"/>
                </a:lnTo>
                <a:lnTo>
                  <a:pt x="1247" y="114"/>
                </a:lnTo>
                <a:lnTo>
                  <a:pt x="1240" y="95"/>
                </a:lnTo>
                <a:lnTo>
                  <a:pt x="1241" y="69"/>
                </a:lnTo>
                <a:lnTo>
                  <a:pt x="1243" y="46"/>
                </a:lnTo>
                <a:lnTo>
                  <a:pt x="1244" y="24"/>
                </a:lnTo>
                <a:lnTo>
                  <a:pt x="1246" y="0"/>
                </a:lnTo>
                <a:lnTo>
                  <a:pt x="1197" y="5"/>
                </a:lnTo>
                <a:lnTo>
                  <a:pt x="1148" y="9"/>
                </a:lnTo>
                <a:lnTo>
                  <a:pt x="1098" y="13"/>
                </a:lnTo>
                <a:lnTo>
                  <a:pt x="1049" y="17"/>
                </a:lnTo>
                <a:lnTo>
                  <a:pt x="1000" y="20"/>
                </a:lnTo>
                <a:lnTo>
                  <a:pt x="951" y="24"/>
                </a:lnTo>
                <a:lnTo>
                  <a:pt x="901" y="27"/>
                </a:lnTo>
                <a:lnTo>
                  <a:pt x="851" y="30"/>
                </a:lnTo>
                <a:lnTo>
                  <a:pt x="803" y="32"/>
                </a:lnTo>
                <a:lnTo>
                  <a:pt x="753" y="34"/>
                </a:lnTo>
                <a:lnTo>
                  <a:pt x="704" y="36"/>
                </a:lnTo>
                <a:lnTo>
                  <a:pt x="655" y="38"/>
                </a:lnTo>
                <a:lnTo>
                  <a:pt x="605" y="41"/>
                </a:lnTo>
                <a:lnTo>
                  <a:pt x="556" y="42"/>
                </a:lnTo>
                <a:lnTo>
                  <a:pt x="507" y="43"/>
                </a:lnTo>
                <a:lnTo>
                  <a:pt x="457" y="44"/>
                </a:lnTo>
                <a:lnTo>
                  <a:pt x="403" y="45"/>
                </a:lnTo>
                <a:lnTo>
                  <a:pt x="356" y="45"/>
                </a:lnTo>
                <a:lnTo>
                  <a:pt x="310" y="45"/>
                </a:lnTo>
                <a:lnTo>
                  <a:pt x="262" y="45"/>
                </a:lnTo>
                <a:lnTo>
                  <a:pt x="216" y="45"/>
                </a:lnTo>
                <a:lnTo>
                  <a:pt x="168" y="45"/>
                </a:lnTo>
                <a:lnTo>
                  <a:pt x="122" y="44"/>
                </a:lnTo>
                <a:lnTo>
                  <a:pt x="75" y="44"/>
                </a:lnTo>
                <a:lnTo>
                  <a:pt x="28" y="43"/>
                </a:lnTo>
                <a:lnTo>
                  <a:pt x="11" y="732"/>
                </a:lnTo>
                <a:lnTo>
                  <a:pt x="0" y="1009"/>
                </a:lnTo>
                <a:lnTo>
                  <a:pt x="61" y="380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90"/>
          <p:cNvSpPr/>
          <p:nvPr/>
        </p:nvSpPr>
        <p:spPr>
          <a:xfrm>
            <a:off x="2913120" y="3951360"/>
            <a:ext cx="933480" cy="1888920"/>
          </a:xfrm>
          <a:custGeom>
            <a:avLst/>
            <a:gdLst>
              <a:gd name="textAreaLeft" fmla="*/ 0 w 933480"/>
              <a:gd name="textAreaRight" fmla="*/ 933840 w 9334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1913" h="3877">
                <a:moveTo>
                  <a:pt x="535" y="0"/>
                </a:moveTo>
                <a:lnTo>
                  <a:pt x="492" y="277"/>
                </a:lnTo>
                <a:lnTo>
                  <a:pt x="479" y="369"/>
                </a:lnTo>
                <a:lnTo>
                  <a:pt x="0" y="3714"/>
                </a:lnTo>
                <a:lnTo>
                  <a:pt x="119" y="3731"/>
                </a:lnTo>
                <a:lnTo>
                  <a:pt x="238" y="3747"/>
                </a:lnTo>
                <a:lnTo>
                  <a:pt x="357" y="3763"/>
                </a:lnTo>
                <a:lnTo>
                  <a:pt x="475" y="3776"/>
                </a:lnTo>
                <a:lnTo>
                  <a:pt x="595" y="3790"/>
                </a:lnTo>
                <a:lnTo>
                  <a:pt x="714" y="3802"/>
                </a:lnTo>
                <a:lnTo>
                  <a:pt x="833" y="3813"/>
                </a:lnTo>
                <a:lnTo>
                  <a:pt x="953" y="3824"/>
                </a:lnTo>
                <a:lnTo>
                  <a:pt x="1072" y="3833"/>
                </a:lnTo>
                <a:lnTo>
                  <a:pt x="1192" y="3843"/>
                </a:lnTo>
                <a:lnTo>
                  <a:pt x="1312" y="3850"/>
                </a:lnTo>
                <a:lnTo>
                  <a:pt x="1432" y="3858"/>
                </a:lnTo>
                <a:lnTo>
                  <a:pt x="1552" y="3863"/>
                </a:lnTo>
                <a:lnTo>
                  <a:pt x="1673" y="3868"/>
                </a:lnTo>
                <a:lnTo>
                  <a:pt x="1793" y="3874"/>
                </a:lnTo>
                <a:lnTo>
                  <a:pt x="1913" y="3877"/>
                </a:lnTo>
                <a:lnTo>
                  <a:pt x="1852" y="1086"/>
                </a:lnTo>
                <a:lnTo>
                  <a:pt x="1863" y="809"/>
                </a:lnTo>
                <a:lnTo>
                  <a:pt x="1880" y="120"/>
                </a:lnTo>
                <a:lnTo>
                  <a:pt x="1833" y="118"/>
                </a:lnTo>
                <a:lnTo>
                  <a:pt x="1787" y="116"/>
                </a:lnTo>
                <a:lnTo>
                  <a:pt x="1739" y="115"/>
                </a:lnTo>
                <a:lnTo>
                  <a:pt x="1693" y="113"/>
                </a:lnTo>
                <a:lnTo>
                  <a:pt x="1646" y="111"/>
                </a:lnTo>
                <a:lnTo>
                  <a:pt x="1600" y="109"/>
                </a:lnTo>
                <a:lnTo>
                  <a:pt x="1552" y="106"/>
                </a:lnTo>
                <a:lnTo>
                  <a:pt x="1506" y="104"/>
                </a:lnTo>
                <a:lnTo>
                  <a:pt x="1433" y="99"/>
                </a:lnTo>
                <a:lnTo>
                  <a:pt x="1377" y="95"/>
                </a:lnTo>
                <a:lnTo>
                  <a:pt x="1321" y="91"/>
                </a:lnTo>
                <a:lnTo>
                  <a:pt x="1265" y="87"/>
                </a:lnTo>
                <a:lnTo>
                  <a:pt x="1208" y="82"/>
                </a:lnTo>
                <a:lnTo>
                  <a:pt x="1152" y="76"/>
                </a:lnTo>
                <a:lnTo>
                  <a:pt x="1096" y="71"/>
                </a:lnTo>
                <a:lnTo>
                  <a:pt x="1040" y="66"/>
                </a:lnTo>
                <a:lnTo>
                  <a:pt x="984" y="59"/>
                </a:lnTo>
                <a:lnTo>
                  <a:pt x="928" y="53"/>
                </a:lnTo>
                <a:lnTo>
                  <a:pt x="872" y="47"/>
                </a:lnTo>
                <a:lnTo>
                  <a:pt x="816" y="39"/>
                </a:lnTo>
                <a:lnTo>
                  <a:pt x="759" y="33"/>
                </a:lnTo>
                <a:lnTo>
                  <a:pt x="703" y="25"/>
                </a:lnTo>
                <a:lnTo>
                  <a:pt x="647" y="17"/>
                </a:lnTo>
                <a:lnTo>
                  <a:pt x="591" y="9"/>
                </a:lnTo>
                <a:lnTo>
                  <a:pt x="535" y="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92"/>
          <p:cNvSpPr/>
          <p:nvPr/>
        </p:nvSpPr>
        <p:spPr>
          <a:xfrm>
            <a:off x="2073240" y="3768840"/>
            <a:ext cx="1100160" cy="19936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2257" h="4092">
                <a:moveTo>
                  <a:pt x="621" y="0"/>
                </a:moveTo>
                <a:lnTo>
                  <a:pt x="723" y="31"/>
                </a:lnTo>
                <a:lnTo>
                  <a:pt x="825" y="62"/>
                </a:lnTo>
                <a:lnTo>
                  <a:pt x="927" y="91"/>
                </a:lnTo>
                <a:lnTo>
                  <a:pt x="1029" y="119"/>
                </a:lnTo>
                <a:lnTo>
                  <a:pt x="1132" y="146"/>
                </a:lnTo>
                <a:lnTo>
                  <a:pt x="1234" y="172"/>
                </a:lnTo>
                <a:lnTo>
                  <a:pt x="1337" y="198"/>
                </a:lnTo>
                <a:lnTo>
                  <a:pt x="1439" y="221"/>
                </a:lnTo>
                <a:lnTo>
                  <a:pt x="1541" y="244"/>
                </a:lnTo>
                <a:lnTo>
                  <a:pt x="1644" y="266"/>
                </a:lnTo>
                <a:lnTo>
                  <a:pt x="1746" y="288"/>
                </a:lnTo>
                <a:lnTo>
                  <a:pt x="1848" y="309"/>
                </a:lnTo>
                <a:lnTo>
                  <a:pt x="1950" y="328"/>
                </a:lnTo>
                <a:lnTo>
                  <a:pt x="2053" y="346"/>
                </a:lnTo>
                <a:lnTo>
                  <a:pt x="2155" y="362"/>
                </a:lnTo>
                <a:lnTo>
                  <a:pt x="2257" y="378"/>
                </a:lnTo>
                <a:lnTo>
                  <a:pt x="2214" y="655"/>
                </a:lnTo>
                <a:lnTo>
                  <a:pt x="2201" y="747"/>
                </a:lnTo>
                <a:lnTo>
                  <a:pt x="1722" y="4092"/>
                </a:lnTo>
                <a:lnTo>
                  <a:pt x="1668" y="4085"/>
                </a:lnTo>
                <a:lnTo>
                  <a:pt x="1613" y="4076"/>
                </a:lnTo>
                <a:lnTo>
                  <a:pt x="1558" y="4068"/>
                </a:lnTo>
                <a:lnTo>
                  <a:pt x="1503" y="4059"/>
                </a:lnTo>
                <a:lnTo>
                  <a:pt x="1450" y="4050"/>
                </a:lnTo>
                <a:lnTo>
                  <a:pt x="1395" y="4041"/>
                </a:lnTo>
                <a:lnTo>
                  <a:pt x="1340" y="4032"/>
                </a:lnTo>
                <a:lnTo>
                  <a:pt x="1286" y="4022"/>
                </a:lnTo>
                <a:lnTo>
                  <a:pt x="1231" y="4013"/>
                </a:lnTo>
                <a:lnTo>
                  <a:pt x="1176" y="4003"/>
                </a:lnTo>
                <a:lnTo>
                  <a:pt x="1122" y="3994"/>
                </a:lnTo>
                <a:lnTo>
                  <a:pt x="1067" y="3983"/>
                </a:lnTo>
                <a:lnTo>
                  <a:pt x="1013" y="3973"/>
                </a:lnTo>
                <a:lnTo>
                  <a:pt x="959" y="3962"/>
                </a:lnTo>
                <a:lnTo>
                  <a:pt x="905" y="3952"/>
                </a:lnTo>
                <a:lnTo>
                  <a:pt x="850" y="3941"/>
                </a:lnTo>
                <a:lnTo>
                  <a:pt x="782" y="3774"/>
                </a:lnTo>
                <a:lnTo>
                  <a:pt x="784" y="3762"/>
                </a:lnTo>
                <a:lnTo>
                  <a:pt x="787" y="3750"/>
                </a:lnTo>
                <a:lnTo>
                  <a:pt x="790" y="3739"/>
                </a:lnTo>
                <a:lnTo>
                  <a:pt x="791" y="3727"/>
                </a:lnTo>
                <a:lnTo>
                  <a:pt x="790" y="3718"/>
                </a:lnTo>
                <a:lnTo>
                  <a:pt x="787" y="3711"/>
                </a:lnTo>
                <a:lnTo>
                  <a:pt x="784" y="3703"/>
                </a:lnTo>
                <a:lnTo>
                  <a:pt x="781" y="3697"/>
                </a:lnTo>
                <a:lnTo>
                  <a:pt x="777" y="3691"/>
                </a:lnTo>
                <a:lnTo>
                  <a:pt x="774" y="3683"/>
                </a:lnTo>
                <a:lnTo>
                  <a:pt x="772" y="3676"/>
                </a:lnTo>
                <a:lnTo>
                  <a:pt x="771" y="3668"/>
                </a:lnTo>
                <a:lnTo>
                  <a:pt x="771" y="3533"/>
                </a:lnTo>
                <a:lnTo>
                  <a:pt x="772" y="3498"/>
                </a:lnTo>
                <a:lnTo>
                  <a:pt x="774" y="3467"/>
                </a:lnTo>
                <a:lnTo>
                  <a:pt x="774" y="3451"/>
                </a:lnTo>
                <a:lnTo>
                  <a:pt x="773" y="3435"/>
                </a:lnTo>
                <a:lnTo>
                  <a:pt x="769" y="3419"/>
                </a:lnTo>
                <a:lnTo>
                  <a:pt x="764" y="3403"/>
                </a:lnTo>
                <a:lnTo>
                  <a:pt x="760" y="3395"/>
                </a:lnTo>
                <a:lnTo>
                  <a:pt x="756" y="3390"/>
                </a:lnTo>
                <a:lnTo>
                  <a:pt x="750" y="3386"/>
                </a:lnTo>
                <a:lnTo>
                  <a:pt x="745" y="3381"/>
                </a:lnTo>
                <a:lnTo>
                  <a:pt x="739" y="3378"/>
                </a:lnTo>
                <a:lnTo>
                  <a:pt x="734" y="3374"/>
                </a:lnTo>
                <a:lnTo>
                  <a:pt x="728" y="3369"/>
                </a:lnTo>
                <a:lnTo>
                  <a:pt x="723" y="3363"/>
                </a:lnTo>
                <a:lnTo>
                  <a:pt x="701" y="3329"/>
                </a:lnTo>
                <a:lnTo>
                  <a:pt x="682" y="3297"/>
                </a:lnTo>
                <a:lnTo>
                  <a:pt x="672" y="3282"/>
                </a:lnTo>
                <a:lnTo>
                  <a:pt x="662" y="3267"/>
                </a:lnTo>
                <a:lnTo>
                  <a:pt x="650" y="3252"/>
                </a:lnTo>
                <a:lnTo>
                  <a:pt x="636" y="3236"/>
                </a:lnTo>
                <a:lnTo>
                  <a:pt x="628" y="3225"/>
                </a:lnTo>
                <a:lnTo>
                  <a:pt x="622" y="3216"/>
                </a:lnTo>
                <a:lnTo>
                  <a:pt x="615" y="3206"/>
                </a:lnTo>
                <a:lnTo>
                  <a:pt x="611" y="3196"/>
                </a:lnTo>
                <a:lnTo>
                  <a:pt x="603" y="3174"/>
                </a:lnTo>
                <a:lnTo>
                  <a:pt x="594" y="3151"/>
                </a:lnTo>
                <a:lnTo>
                  <a:pt x="589" y="3139"/>
                </a:lnTo>
                <a:lnTo>
                  <a:pt x="585" y="3128"/>
                </a:lnTo>
                <a:lnTo>
                  <a:pt x="579" y="3118"/>
                </a:lnTo>
                <a:lnTo>
                  <a:pt x="574" y="3109"/>
                </a:lnTo>
                <a:lnTo>
                  <a:pt x="561" y="3091"/>
                </a:lnTo>
                <a:lnTo>
                  <a:pt x="548" y="3071"/>
                </a:lnTo>
                <a:lnTo>
                  <a:pt x="542" y="3063"/>
                </a:lnTo>
                <a:lnTo>
                  <a:pt x="538" y="3054"/>
                </a:lnTo>
                <a:lnTo>
                  <a:pt x="535" y="3047"/>
                </a:lnTo>
                <a:lnTo>
                  <a:pt x="532" y="3038"/>
                </a:lnTo>
                <a:lnTo>
                  <a:pt x="528" y="3022"/>
                </a:lnTo>
                <a:lnTo>
                  <a:pt x="524" y="3007"/>
                </a:lnTo>
                <a:lnTo>
                  <a:pt x="522" y="2991"/>
                </a:lnTo>
                <a:lnTo>
                  <a:pt x="519" y="2974"/>
                </a:lnTo>
                <a:lnTo>
                  <a:pt x="515" y="2957"/>
                </a:lnTo>
                <a:lnTo>
                  <a:pt x="509" y="2939"/>
                </a:lnTo>
                <a:lnTo>
                  <a:pt x="504" y="2932"/>
                </a:lnTo>
                <a:lnTo>
                  <a:pt x="499" y="2926"/>
                </a:lnTo>
                <a:lnTo>
                  <a:pt x="493" y="2921"/>
                </a:lnTo>
                <a:lnTo>
                  <a:pt x="486" y="2918"/>
                </a:lnTo>
                <a:lnTo>
                  <a:pt x="473" y="2912"/>
                </a:lnTo>
                <a:lnTo>
                  <a:pt x="459" y="2906"/>
                </a:lnTo>
                <a:lnTo>
                  <a:pt x="445" y="2901"/>
                </a:lnTo>
                <a:lnTo>
                  <a:pt x="433" y="2894"/>
                </a:lnTo>
                <a:lnTo>
                  <a:pt x="427" y="2889"/>
                </a:lnTo>
                <a:lnTo>
                  <a:pt x="422" y="2884"/>
                </a:lnTo>
                <a:lnTo>
                  <a:pt x="419" y="2878"/>
                </a:lnTo>
                <a:lnTo>
                  <a:pt x="416" y="2870"/>
                </a:lnTo>
                <a:lnTo>
                  <a:pt x="408" y="2848"/>
                </a:lnTo>
                <a:lnTo>
                  <a:pt x="401" y="2829"/>
                </a:lnTo>
                <a:lnTo>
                  <a:pt x="396" y="2820"/>
                </a:lnTo>
                <a:lnTo>
                  <a:pt x="390" y="2811"/>
                </a:lnTo>
                <a:lnTo>
                  <a:pt x="384" y="2802"/>
                </a:lnTo>
                <a:lnTo>
                  <a:pt x="377" y="2792"/>
                </a:lnTo>
                <a:lnTo>
                  <a:pt x="367" y="2784"/>
                </a:lnTo>
                <a:lnTo>
                  <a:pt x="359" y="2776"/>
                </a:lnTo>
                <a:lnTo>
                  <a:pt x="354" y="2772"/>
                </a:lnTo>
                <a:lnTo>
                  <a:pt x="352" y="2768"/>
                </a:lnTo>
                <a:lnTo>
                  <a:pt x="350" y="2763"/>
                </a:lnTo>
                <a:lnTo>
                  <a:pt x="349" y="2757"/>
                </a:lnTo>
                <a:lnTo>
                  <a:pt x="349" y="2716"/>
                </a:lnTo>
                <a:lnTo>
                  <a:pt x="315" y="2716"/>
                </a:lnTo>
                <a:lnTo>
                  <a:pt x="311" y="2713"/>
                </a:lnTo>
                <a:lnTo>
                  <a:pt x="308" y="2710"/>
                </a:lnTo>
                <a:lnTo>
                  <a:pt x="306" y="2706"/>
                </a:lnTo>
                <a:lnTo>
                  <a:pt x="305" y="2700"/>
                </a:lnTo>
                <a:lnTo>
                  <a:pt x="309" y="2686"/>
                </a:lnTo>
                <a:lnTo>
                  <a:pt x="312" y="2670"/>
                </a:lnTo>
                <a:lnTo>
                  <a:pt x="311" y="2663"/>
                </a:lnTo>
                <a:lnTo>
                  <a:pt x="310" y="2657"/>
                </a:lnTo>
                <a:lnTo>
                  <a:pt x="308" y="2651"/>
                </a:lnTo>
                <a:lnTo>
                  <a:pt x="305" y="2645"/>
                </a:lnTo>
                <a:lnTo>
                  <a:pt x="301" y="2641"/>
                </a:lnTo>
                <a:lnTo>
                  <a:pt x="296" y="2637"/>
                </a:lnTo>
                <a:lnTo>
                  <a:pt x="291" y="2633"/>
                </a:lnTo>
                <a:lnTo>
                  <a:pt x="286" y="2630"/>
                </a:lnTo>
                <a:lnTo>
                  <a:pt x="262" y="2617"/>
                </a:lnTo>
                <a:lnTo>
                  <a:pt x="235" y="2602"/>
                </a:lnTo>
                <a:lnTo>
                  <a:pt x="230" y="2598"/>
                </a:lnTo>
                <a:lnTo>
                  <a:pt x="226" y="2593"/>
                </a:lnTo>
                <a:lnTo>
                  <a:pt x="222" y="2587"/>
                </a:lnTo>
                <a:lnTo>
                  <a:pt x="220" y="2581"/>
                </a:lnTo>
                <a:lnTo>
                  <a:pt x="217" y="2568"/>
                </a:lnTo>
                <a:lnTo>
                  <a:pt x="217" y="2554"/>
                </a:lnTo>
                <a:lnTo>
                  <a:pt x="217" y="2517"/>
                </a:lnTo>
                <a:lnTo>
                  <a:pt x="220" y="2506"/>
                </a:lnTo>
                <a:lnTo>
                  <a:pt x="224" y="2495"/>
                </a:lnTo>
                <a:lnTo>
                  <a:pt x="222" y="2484"/>
                </a:lnTo>
                <a:lnTo>
                  <a:pt x="221" y="2474"/>
                </a:lnTo>
                <a:lnTo>
                  <a:pt x="218" y="2465"/>
                </a:lnTo>
                <a:lnTo>
                  <a:pt x="215" y="2455"/>
                </a:lnTo>
                <a:lnTo>
                  <a:pt x="206" y="2440"/>
                </a:lnTo>
                <a:lnTo>
                  <a:pt x="195" y="2424"/>
                </a:lnTo>
                <a:lnTo>
                  <a:pt x="184" y="2408"/>
                </a:lnTo>
                <a:lnTo>
                  <a:pt x="175" y="2391"/>
                </a:lnTo>
                <a:lnTo>
                  <a:pt x="171" y="2382"/>
                </a:lnTo>
                <a:lnTo>
                  <a:pt x="169" y="2373"/>
                </a:lnTo>
                <a:lnTo>
                  <a:pt x="167" y="2362"/>
                </a:lnTo>
                <a:lnTo>
                  <a:pt x="165" y="2352"/>
                </a:lnTo>
                <a:lnTo>
                  <a:pt x="167" y="2346"/>
                </a:lnTo>
                <a:lnTo>
                  <a:pt x="168" y="2340"/>
                </a:lnTo>
                <a:lnTo>
                  <a:pt x="170" y="2336"/>
                </a:lnTo>
                <a:lnTo>
                  <a:pt x="173" y="2331"/>
                </a:lnTo>
                <a:lnTo>
                  <a:pt x="175" y="2327"/>
                </a:lnTo>
                <a:lnTo>
                  <a:pt x="177" y="2321"/>
                </a:lnTo>
                <a:lnTo>
                  <a:pt x="179" y="2316"/>
                </a:lnTo>
                <a:lnTo>
                  <a:pt x="179" y="2310"/>
                </a:lnTo>
                <a:lnTo>
                  <a:pt x="178" y="2306"/>
                </a:lnTo>
                <a:lnTo>
                  <a:pt x="176" y="2303"/>
                </a:lnTo>
                <a:lnTo>
                  <a:pt x="134" y="2303"/>
                </a:lnTo>
                <a:lnTo>
                  <a:pt x="130" y="2303"/>
                </a:lnTo>
                <a:lnTo>
                  <a:pt x="125" y="2301"/>
                </a:lnTo>
                <a:lnTo>
                  <a:pt x="122" y="2299"/>
                </a:lnTo>
                <a:lnTo>
                  <a:pt x="118" y="2297"/>
                </a:lnTo>
                <a:lnTo>
                  <a:pt x="116" y="2294"/>
                </a:lnTo>
                <a:lnTo>
                  <a:pt x="114" y="2290"/>
                </a:lnTo>
                <a:lnTo>
                  <a:pt x="112" y="2285"/>
                </a:lnTo>
                <a:lnTo>
                  <a:pt x="109" y="2281"/>
                </a:lnTo>
                <a:lnTo>
                  <a:pt x="101" y="2271"/>
                </a:lnTo>
                <a:lnTo>
                  <a:pt x="92" y="2259"/>
                </a:lnTo>
                <a:lnTo>
                  <a:pt x="89" y="2248"/>
                </a:lnTo>
                <a:lnTo>
                  <a:pt x="88" y="2238"/>
                </a:lnTo>
                <a:lnTo>
                  <a:pt x="87" y="2234"/>
                </a:lnTo>
                <a:lnTo>
                  <a:pt x="86" y="2229"/>
                </a:lnTo>
                <a:lnTo>
                  <a:pt x="83" y="2225"/>
                </a:lnTo>
                <a:lnTo>
                  <a:pt x="79" y="2222"/>
                </a:lnTo>
                <a:lnTo>
                  <a:pt x="71" y="2218"/>
                </a:lnTo>
                <a:lnTo>
                  <a:pt x="63" y="2216"/>
                </a:lnTo>
                <a:lnTo>
                  <a:pt x="55" y="2215"/>
                </a:lnTo>
                <a:lnTo>
                  <a:pt x="45" y="2211"/>
                </a:lnTo>
                <a:lnTo>
                  <a:pt x="39" y="2207"/>
                </a:lnTo>
                <a:lnTo>
                  <a:pt x="33" y="2201"/>
                </a:lnTo>
                <a:lnTo>
                  <a:pt x="29" y="2195"/>
                </a:lnTo>
                <a:lnTo>
                  <a:pt x="25" y="2188"/>
                </a:lnTo>
                <a:lnTo>
                  <a:pt x="19" y="2181"/>
                </a:lnTo>
                <a:lnTo>
                  <a:pt x="12" y="2174"/>
                </a:lnTo>
                <a:lnTo>
                  <a:pt x="9" y="2171"/>
                </a:lnTo>
                <a:lnTo>
                  <a:pt x="7" y="2168"/>
                </a:lnTo>
                <a:lnTo>
                  <a:pt x="5" y="2164"/>
                </a:lnTo>
                <a:lnTo>
                  <a:pt x="5" y="2159"/>
                </a:lnTo>
                <a:lnTo>
                  <a:pt x="5" y="2154"/>
                </a:lnTo>
                <a:lnTo>
                  <a:pt x="6" y="2151"/>
                </a:lnTo>
                <a:lnTo>
                  <a:pt x="7" y="2147"/>
                </a:lnTo>
                <a:lnTo>
                  <a:pt x="9" y="2144"/>
                </a:lnTo>
                <a:lnTo>
                  <a:pt x="13" y="2139"/>
                </a:lnTo>
                <a:lnTo>
                  <a:pt x="19" y="2132"/>
                </a:lnTo>
                <a:lnTo>
                  <a:pt x="24" y="2127"/>
                </a:lnTo>
                <a:lnTo>
                  <a:pt x="29" y="2121"/>
                </a:lnTo>
                <a:lnTo>
                  <a:pt x="30" y="2117"/>
                </a:lnTo>
                <a:lnTo>
                  <a:pt x="32" y="2114"/>
                </a:lnTo>
                <a:lnTo>
                  <a:pt x="33" y="2110"/>
                </a:lnTo>
                <a:lnTo>
                  <a:pt x="33" y="2106"/>
                </a:lnTo>
                <a:lnTo>
                  <a:pt x="32" y="2096"/>
                </a:lnTo>
                <a:lnTo>
                  <a:pt x="31" y="2087"/>
                </a:lnTo>
                <a:lnTo>
                  <a:pt x="29" y="2078"/>
                </a:lnTo>
                <a:lnTo>
                  <a:pt x="25" y="2071"/>
                </a:lnTo>
                <a:lnTo>
                  <a:pt x="21" y="2064"/>
                </a:lnTo>
                <a:lnTo>
                  <a:pt x="14" y="2056"/>
                </a:lnTo>
                <a:lnTo>
                  <a:pt x="8" y="2051"/>
                </a:lnTo>
                <a:lnTo>
                  <a:pt x="0" y="2046"/>
                </a:lnTo>
                <a:lnTo>
                  <a:pt x="621" y="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94"/>
          <p:cNvSpPr/>
          <p:nvPr/>
        </p:nvSpPr>
        <p:spPr>
          <a:xfrm>
            <a:off x="868320" y="3125880"/>
            <a:ext cx="1617840" cy="2562120"/>
          </a:xfrm>
          <a:custGeom>
            <a:avLst/>
            <a:gdLst>
              <a:gd name="textAreaLeft" fmla="*/ 0 w 1617840"/>
              <a:gd name="textAreaRight" fmla="*/ 1618200 w 16178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3318" h="5256">
                <a:moveTo>
                  <a:pt x="594" y="3785"/>
                </a:moveTo>
                <a:lnTo>
                  <a:pt x="567" y="3778"/>
                </a:lnTo>
                <a:lnTo>
                  <a:pt x="558" y="3781"/>
                </a:lnTo>
                <a:lnTo>
                  <a:pt x="550" y="3785"/>
                </a:lnTo>
                <a:lnTo>
                  <a:pt x="542" y="3789"/>
                </a:lnTo>
                <a:lnTo>
                  <a:pt x="534" y="3795"/>
                </a:lnTo>
                <a:lnTo>
                  <a:pt x="528" y="3801"/>
                </a:lnTo>
                <a:lnTo>
                  <a:pt x="524" y="3807"/>
                </a:lnTo>
                <a:lnTo>
                  <a:pt x="521" y="3812"/>
                </a:lnTo>
                <a:lnTo>
                  <a:pt x="520" y="3816"/>
                </a:lnTo>
                <a:lnTo>
                  <a:pt x="519" y="3820"/>
                </a:lnTo>
                <a:lnTo>
                  <a:pt x="519" y="3824"/>
                </a:lnTo>
                <a:lnTo>
                  <a:pt x="519" y="3870"/>
                </a:lnTo>
                <a:lnTo>
                  <a:pt x="538" y="3870"/>
                </a:lnTo>
                <a:lnTo>
                  <a:pt x="557" y="3871"/>
                </a:lnTo>
                <a:lnTo>
                  <a:pt x="576" y="3872"/>
                </a:lnTo>
                <a:lnTo>
                  <a:pt x="593" y="3875"/>
                </a:lnTo>
                <a:lnTo>
                  <a:pt x="601" y="3878"/>
                </a:lnTo>
                <a:lnTo>
                  <a:pt x="609" y="3881"/>
                </a:lnTo>
                <a:lnTo>
                  <a:pt x="615" y="3884"/>
                </a:lnTo>
                <a:lnTo>
                  <a:pt x="622" y="3890"/>
                </a:lnTo>
                <a:lnTo>
                  <a:pt x="627" y="3895"/>
                </a:lnTo>
                <a:lnTo>
                  <a:pt x="631" y="3901"/>
                </a:lnTo>
                <a:lnTo>
                  <a:pt x="635" y="3909"/>
                </a:lnTo>
                <a:lnTo>
                  <a:pt x="639" y="3917"/>
                </a:lnTo>
                <a:lnTo>
                  <a:pt x="607" y="3926"/>
                </a:lnTo>
                <a:lnTo>
                  <a:pt x="578" y="3935"/>
                </a:lnTo>
                <a:lnTo>
                  <a:pt x="572" y="3938"/>
                </a:lnTo>
                <a:lnTo>
                  <a:pt x="566" y="3941"/>
                </a:lnTo>
                <a:lnTo>
                  <a:pt x="562" y="3945"/>
                </a:lnTo>
                <a:lnTo>
                  <a:pt x="556" y="3950"/>
                </a:lnTo>
                <a:lnTo>
                  <a:pt x="553" y="3954"/>
                </a:lnTo>
                <a:lnTo>
                  <a:pt x="550" y="3960"/>
                </a:lnTo>
                <a:lnTo>
                  <a:pt x="549" y="3967"/>
                </a:lnTo>
                <a:lnTo>
                  <a:pt x="548" y="3974"/>
                </a:lnTo>
                <a:lnTo>
                  <a:pt x="548" y="3988"/>
                </a:lnTo>
                <a:lnTo>
                  <a:pt x="548" y="3999"/>
                </a:lnTo>
                <a:lnTo>
                  <a:pt x="548" y="4012"/>
                </a:lnTo>
                <a:lnTo>
                  <a:pt x="548" y="4026"/>
                </a:lnTo>
                <a:lnTo>
                  <a:pt x="568" y="4027"/>
                </a:lnTo>
                <a:lnTo>
                  <a:pt x="585" y="4029"/>
                </a:lnTo>
                <a:lnTo>
                  <a:pt x="602" y="4031"/>
                </a:lnTo>
                <a:lnTo>
                  <a:pt x="618" y="4034"/>
                </a:lnTo>
                <a:lnTo>
                  <a:pt x="632" y="4038"/>
                </a:lnTo>
                <a:lnTo>
                  <a:pt x="649" y="4041"/>
                </a:lnTo>
                <a:lnTo>
                  <a:pt x="666" y="4042"/>
                </a:lnTo>
                <a:lnTo>
                  <a:pt x="686" y="4043"/>
                </a:lnTo>
                <a:lnTo>
                  <a:pt x="688" y="4059"/>
                </a:lnTo>
                <a:lnTo>
                  <a:pt x="689" y="4073"/>
                </a:lnTo>
                <a:lnTo>
                  <a:pt x="688" y="4078"/>
                </a:lnTo>
                <a:lnTo>
                  <a:pt x="686" y="4081"/>
                </a:lnTo>
                <a:lnTo>
                  <a:pt x="683" y="4084"/>
                </a:lnTo>
                <a:lnTo>
                  <a:pt x="680" y="4085"/>
                </a:lnTo>
                <a:lnTo>
                  <a:pt x="670" y="4089"/>
                </a:lnTo>
                <a:lnTo>
                  <a:pt x="662" y="4093"/>
                </a:lnTo>
                <a:lnTo>
                  <a:pt x="652" y="4103"/>
                </a:lnTo>
                <a:lnTo>
                  <a:pt x="645" y="4112"/>
                </a:lnTo>
                <a:lnTo>
                  <a:pt x="638" y="4123"/>
                </a:lnTo>
                <a:lnTo>
                  <a:pt x="631" y="4135"/>
                </a:lnTo>
                <a:lnTo>
                  <a:pt x="631" y="4162"/>
                </a:lnTo>
                <a:lnTo>
                  <a:pt x="659" y="4163"/>
                </a:lnTo>
                <a:lnTo>
                  <a:pt x="683" y="4166"/>
                </a:lnTo>
                <a:lnTo>
                  <a:pt x="695" y="4171"/>
                </a:lnTo>
                <a:lnTo>
                  <a:pt x="705" y="4175"/>
                </a:lnTo>
                <a:lnTo>
                  <a:pt x="710" y="4178"/>
                </a:lnTo>
                <a:lnTo>
                  <a:pt x="715" y="4182"/>
                </a:lnTo>
                <a:lnTo>
                  <a:pt x="719" y="4187"/>
                </a:lnTo>
                <a:lnTo>
                  <a:pt x="723" y="4193"/>
                </a:lnTo>
                <a:lnTo>
                  <a:pt x="728" y="4201"/>
                </a:lnTo>
                <a:lnTo>
                  <a:pt x="731" y="4211"/>
                </a:lnTo>
                <a:lnTo>
                  <a:pt x="733" y="4219"/>
                </a:lnTo>
                <a:lnTo>
                  <a:pt x="733" y="4229"/>
                </a:lnTo>
                <a:lnTo>
                  <a:pt x="734" y="4238"/>
                </a:lnTo>
                <a:lnTo>
                  <a:pt x="736" y="4247"/>
                </a:lnTo>
                <a:lnTo>
                  <a:pt x="739" y="4255"/>
                </a:lnTo>
                <a:lnTo>
                  <a:pt x="743" y="4263"/>
                </a:lnTo>
                <a:lnTo>
                  <a:pt x="747" y="4268"/>
                </a:lnTo>
                <a:lnTo>
                  <a:pt x="752" y="4272"/>
                </a:lnTo>
                <a:lnTo>
                  <a:pt x="757" y="4275"/>
                </a:lnTo>
                <a:lnTo>
                  <a:pt x="761" y="4278"/>
                </a:lnTo>
                <a:lnTo>
                  <a:pt x="772" y="4282"/>
                </a:lnTo>
                <a:lnTo>
                  <a:pt x="781" y="4288"/>
                </a:lnTo>
                <a:lnTo>
                  <a:pt x="791" y="4292"/>
                </a:lnTo>
                <a:lnTo>
                  <a:pt x="798" y="4298"/>
                </a:lnTo>
                <a:lnTo>
                  <a:pt x="800" y="4301"/>
                </a:lnTo>
                <a:lnTo>
                  <a:pt x="803" y="4306"/>
                </a:lnTo>
                <a:lnTo>
                  <a:pt x="804" y="4311"/>
                </a:lnTo>
                <a:lnTo>
                  <a:pt x="804" y="4316"/>
                </a:lnTo>
                <a:lnTo>
                  <a:pt x="803" y="4322"/>
                </a:lnTo>
                <a:lnTo>
                  <a:pt x="801" y="4326"/>
                </a:lnTo>
                <a:lnTo>
                  <a:pt x="798" y="4330"/>
                </a:lnTo>
                <a:lnTo>
                  <a:pt x="794" y="4333"/>
                </a:lnTo>
                <a:lnTo>
                  <a:pt x="789" y="4335"/>
                </a:lnTo>
                <a:lnTo>
                  <a:pt x="782" y="4337"/>
                </a:lnTo>
                <a:lnTo>
                  <a:pt x="777" y="4338"/>
                </a:lnTo>
                <a:lnTo>
                  <a:pt x="771" y="4338"/>
                </a:lnTo>
                <a:lnTo>
                  <a:pt x="764" y="4337"/>
                </a:lnTo>
                <a:lnTo>
                  <a:pt x="758" y="4336"/>
                </a:lnTo>
                <a:lnTo>
                  <a:pt x="753" y="4334"/>
                </a:lnTo>
                <a:lnTo>
                  <a:pt x="747" y="4332"/>
                </a:lnTo>
                <a:lnTo>
                  <a:pt x="742" y="4329"/>
                </a:lnTo>
                <a:lnTo>
                  <a:pt x="736" y="4327"/>
                </a:lnTo>
                <a:lnTo>
                  <a:pt x="731" y="4326"/>
                </a:lnTo>
                <a:lnTo>
                  <a:pt x="723" y="4325"/>
                </a:lnTo>
                <a:lnTo>
                  <a:pt x="709" y="4327"/>
                </a:lnTo>
                <a:lnTo>
                  <a:pt x="696" y="4332"/>
                </a:lnTo>
                <a:lnTo>
                  <a:pt x="696" y="4349"/>
                </a:lnTo>
                <a:lnTo>
                  <a:pt x="715" y="4356"/>
                </a:lnTo>
                <a:lnTo>
                  <a:pt x="731" y="4363"/>
                </a:lnTo>
                <a:lnTo>
                  <a:pt x="739" y="4366"/>
                </a:lnTo>
                <a:lnTo>
                  <a:pt x="747" y="4368"/>
                </a:lnTo>
                <a:lnTo>
                  <a:pt x="757" y="4370"/>
                </a:lnTo>
                <a:lnTo>
                  <a:pt x="767" y="4372"/>
                </a:lnTo>
                <a:lnTo>
                  <a:pt x="787" y="4374"/>
                </a:lnTo>
                <a:lnTo>
                  <a:pt x="806" y="4378"/>
                </a:lnTo>
                <a:lnTo>
                  <a:pt x="813" y="4381"/>
                </a:lnTo>
                <a:lnTo>
                  <a:pt x="819" y="4385"/>
                </a:lnTo>
                <a:lnTo>
                  <a:pt x="821" y="4388"/>
                </a:lnTo>
                <a:lnTo>
                  <a:pt x="823" y="4391"/>
                </a:lnTo>
                <a:lnTo>
                  <a:pt x="825" y="4395"/>
                </a:lnTo>
                <a:lnTo>
                  <a:pt x="826" y="4400"/>
                </a:lnTo>
                <a:lnTo>
                  <a:pt x="825" y="4405"/>
                </a:lnTo>
                <a:lnTo>
                  <a:pt x="822" y="4409"/>
                </a:lnTo>
                <a:lnTo>
                  <a:pt x="819" y="4412"/>
                </a:lnTo>
                <a:lnTo>
                  <a:pt x="816" y="4417"/>
                </a:lnTo>
                <a:lnTo>
                  <a:pt x="814" y="4420"/>
                </a:lnTo>
                <a:lnTo>
                  <a:pt x="811" y="4424"/>
                </a:lnTo>
                <a:lnTo>
                  <a:pt x="809" y="4428"/>
                </a:lnTo>
                <a:lnTo>
                  <a:pt x="808" y="4433"/>
                </a:lnTo>
                <a:lnTo>
                  <a:pt x="809" y="4438"/>
                </a:lnTo>
                <a:lnTo>
                  <a:pt x="810" y="4442"/>
                </a:lnTo>
                <a:lnTo>
                  <a:pt x="811" y="4446"/>
                </a:lnTo>
                <a:lnTo>
                  <a:pt x="812" y="4449"/>
                </a:lnTo>
                <a:lnTo>
                  <a:pt x="817" y="4456"/>
                </a:lnTo>
                <a:lnTo>
                  <a:pt x="822" y="4462"/>
                </a:lnTo>
                <a:lnTo>
                  <a:pt x="829" y="4467"/>
                </a:lnTo>
                <a:lnTo>
                  <a:pt x="835" y="4474"/>
                </a:lnTo>
                <a:lnTo>
                  <a:pt x="840" y="4480"/>
                </a:lnTo>
                <a:lnTo>
                  <a:pt x="846" y="4487"/>
                </a:lnTo>
                <a:lnTo>
                  <a:pt x="848" y="4493"/>
                </a:lnTo>
                <a:lnTo>
                  <a:pt x="849" y="4497"/>
                </a:lnTo>
                <a:lnTo>
                  <a:pt x="849" y="4501"/>
                </a:lnTo>
                <a:lnTo>
                  <a:pt x="849" y="4505"/>
                </a:lnTo>
                <a:lnTo>
                  <a:pt x="848" y="4514"/>
                </a:lnTo>
                <a:lnTo>
                  <a:pt x="847" y="4522"/>
                </a:lnTo>
                <a:lnTo>
                  <a:pt x="845" y="4531"/>
                </a:lnTo>
                <a:lnTo>
                  <a:pt x="845" y="4539"/>
                </a:lnTo>
                <a:lnTo>
                  <a:pt x="845" y="4543"/>
                </a:lnTo>
                <a:lnTo>
                  <a:pt x="846" y="4548"/>
                </a:lnTo>
                <a:lnTo>
                  <a:pt x="847" y="4552"/>
                </a:lnTo>
                <a:lnTo>
                  <a:pt x="849" y="4556"/>
                </a:lnTo>
                <a:lnTo>
                  <a:pt x="853" y="4561"/>
                </a:lnTo>
                <a:lnTo>
                  <a:pt x="859" y="4565"/>
                </a:lnTo>
                <a:lnTo>
                  <a:pt x="866" y="4569"/>
                </a:lnTo>
                <a:lnTo>
                  <a:pt x="872" y="4570"/>
                </a:lnTo>
                <a:lnTo>
                  <a:pt x="887" y="4572"/>
                </a:lnTo>
                <a:lnTo>
                  <a:pt x="904" y="4573"/>
                </a:lnTo>
                <a:lnTo>
                  <a:pt x="919" y="4575"/>
                </a:lnTo>
                <a:lnTo>
                  <a:pt x="931" y="4578"/>
                </a:lnTo>
                <a:lnTo>
                  <a:pt x="944" y="4581"/>
                </a:lnTo>
                <a:lnTo>
                  <a:pt x="957" y="4586"/>
                </a:lnTo>
                <a:lnTo>
                  <a:pt x="981" y="4594"/>
                </a:lnTo>
                <a:lnTo>
                  <a:pt x="1008" y="4603"/>
                </a:lnTo>
                <a:lnTo>
                  <a:pt x="1006" y="4611"/>
                </a:lnTo>
                <a:lnTo>
                  <a:pt x="1003" y="4618"/>
                </a:lnTo>
                <a:lnTo>
                  <a:pt x="999" y="4625"/>
                </a:lnTo>
                <a:lnTo>
                  <a:pt x="993" y="4631"/>
                </a:lnTo>
                <a:lnTo>
                  <a:pt x="983" y="4641"/>
                </a:lnTo>
                <a:lnTo>
                  <a:pt x="972" y="4651"/>
                </a:lnTo>
                <a:lnTo>
                  <a:pt x="962" y="4661"/>
                </a:lnTo>
                <a:lnTo>
                  <a:pt x="952" y="4671"/>
                </a:lnTo>
                <a:lnTo>
                  <a:pt x="949" y="4676"/>
                </a:lnTo>
                <a:lnTo>
                  <a:pt x="946" y="4684"/>
                </a:lnTo>
                <a:lnTo>
                  <a:pt x="945" y="4690"/>
                </a:lnTo>
                <a:lnTo>
                  <a:pt x="944" y="4699"/>
                </a:lnTo>
                <a:lnTo>
                  <a:pt x="944" y="4704"/>
                </a:lnTo>
                <a:lnTo>
                  <a:pt x="946" y="4708"/>
                </a:lnTo>
                <a:lnTo>
                  <a:pt x="947" y="4712"/>
                </a:lnTo>
                <a:lnTo>
                  <a:pt x="950" y="4715"/>
                </a:lnTo>
                <a:lnTo>
                  <a:pt x="957" y="4722"/>
                </a:lnTo>
                <a:lnTo>
                  <a:pt x="965" y="4727"/>
                </a:lnTo>
                <a:lnTo>
                  <a:pt x="983" y="4735"/>
                </a:lnTo>
                <a:lnTo>
                  <a:pt x="1002" y="4746"/>
                </a:lnTo>
                <a:lnTo>
                  <a:pt x="1014" y="4756"/>
                </a:lnTo>
                <a:lnTo>
                  <a:pt x="1023" y="4765"/>
                </a:lnTo>
                <a:lnTo>
                  <a:pt x="1033" y="4775"/>
                </a:lnTo>
                <a:lnTo>
                  <a:pt x="1040" y="4783"/>
                </a:lnTo>
                <a:lnTo>
                  <a:pt x="1057" y="4803"/>
                </a:lnTo>
                <a:lnTo>
                  <a:pt x="1077" y="4824"/>
                </a:lnTo>
                <a:lnTo>
                  <a:pt x="1084" y="4832"/>
                </a:lnTo>
                <a:lnTo>
                  <a:pt x="1092" y="4837"/>
                </a:lnTo>
                <a:lnTo>
                  <a:pt x="1099" y="4842"/>
                </a:lnTo>
                <a:lnTo>
                  <a:pt x="1108" y="4846"/>
                </a:lnTo>
                <a:lnTo>
                  <a:pt x="1116" y="4851"/>
                </a:lnTo>
                <a:lnTo>
                  <a:pt x="1124" y="4854"/>
                </a:lnTo>
                <a:lnTo>
                  <a:pt x="1134" y="4856"/>
                </a:lnTo>
                <a:lnTo>
                  <a:pt x="1144" y="4858"/>
                </a:lnTo>
                <a:lnTo>
                  <a:pt x="1155" y="4861"/>
                </a:lnTo>
                <a:lnTo>
                  <a:pt x="1165" y="4865"/>
                </a:lnTo>
                <a:lnTo>
                  <a:pt x="1173" y="4871"/>
                </a:lnTo>
                <a:lnTo>
                  <a:pt x="1180" y="4877"/>
                </a:lnTo>
                <a:lnTo>
                  <a:pt x="1188" y="4883"/>
                </a:lnTo>
                <a:lnTo>
                  <a:pt x="1196" y="4890"/>
                </a:lnTo>
                <a:lnTo>
                  <a:pt x="1206" y="4895"/>
                </a:lnTo>
                <a:lnTo>
                  <a:pt x="1215" y="4899"/>
                </a:lnTo>
                <a:lnTo>
                  <a:pt x="1222" y="4890"/>
                </a:lnTo>
                <a:lnTo>
                  <a:pt x="1228" y="4881"/>
                </a:lnTo>
                <a:lnTo>
                  <a:pt x="1234" y="4874"/>
                </a:lnTo>
                <a:lnTo>
                  <a:pt x="1242" y="4866"/>
                </a:lnTo>
                <a:lnTo>
                  <a:pt x="1247" y="4859"/>
                </a:lnTo>
                <a:lnTo>
                  <a:pt x="1252" y="4851"/>
                </a:lnTo>
                <a:lnTo>
                  <a:pt x="1254" y="4846"/>
                </a:lnTo>
                <a:lnTo>
                  <a:pt x="1255" y="4841"/>
                </a:lnTo>
                <a:lnTo>
                  <a:pt x="1256" y="4837"/>
                </a:lnTo>
                <a:lnTo>
                  <a:pt x="1256" y="4831"/>
                </a:lnTo>
                <a:lnTo>
                  <a:pt x="1256" y="4824"/>
                </a:lnTo>
                <a:lnTo>
                  <a:pt x="1255" y="4818"/>
                </a:lnTo>
                <a:lnTo>
                  <a:pt x="1254" y="4812"/>
                </a:lnTo>
                <a:lnTo>
                  <a:pt x="1252" y="4806"/>
                </a:lnTo>
                <a:lnTo>
                  <a:pt x="1248" y="4796"/>
                </a:lnTo>
                <a:lnTo>
                  <a:pt x="1243" y="4785"/>
                </a:lnTo>
                <a:lnTo>
                  <a:pt x="1237" y="4775"/>
                </a:lnTo>
                <a:lnTo>
                  <a:pt x="1233" y="4764"/>
                </a:lnTo>
                <a:lnTo>
                  <a:pt x="1232" y="4759"/>
                </a:lnTo>
                <a:lnTo>
                  <a:pt x="1230" y="4752"/>
                </a:lnTo>
                <a:lnTo>
                  <a:pt x="1230" y="4746"/>
                </a:lnTo>
                <a:lnTo>
                  <a:pt x="1229" y="4740"/>
                </a:lnTo>
                <a:lnTo>
                  <a:pt x="1229" y="4701"/>
                </a:lnTo>
                <a:lnTo>
                  <a:pt x="1228" y="4667"/>
                </a:lnTo>
                <a:lnTo>
                  <a:pt x="1226" y="4650"/>
                </a:lnTo>
                <a:lnTo>
                  <a:pt x="1224" y="4633"/>
                </a:lnTo>
                <a:lnTo>
                  <a:pt x="1218" y="4615"/>
                </a:lnTo>
                <a:lnTo>
                  <a:pt x="1212" y="4596"/>
                </a:lnTo>
                <a:lnTo>
                  <a:pt x="1210" y="4589"/>
                </a:lnTo>
                <a:lnTo>
                  <a:pt x="1209" y="4581"/>
                </a:lnTo>
                <a:lnTo>
                  <a:pt x="1208" y="4578"/>
                </a:lnTo>
                <a:lnTo>
                  <a:pt x="1207" y="4575"/>
                </a:lnTo>
                <a:lnTo>
                  <a:pt x="1205" y="4572"/>
                </a:lnTo>
                <a:lnTo>
                  <a:pt x="1203" y="4570"/>
                </a:lnTo>
                <a:lnTo>
                  <a:pt x="1192" y="4563"/>
                </a:lnTo>
                <a:lnTo>
                  <a:pt x="1181" y="4558"/>
                </a:lnTo>
                <a:lnTo>
                  <a:pt x="1171" y="4555"/>
                </a:lnTo>
                <a:lnTo>
                  <a:pt x="1160" y="4552"/>
                </a:lnTo>
                <a:lnTo>
                  <a:pt x="1150" y="4549"/>
                </a:lnTo>
                <a:lnTo>
                  <a:pt x="1140" y="4544"/>
                </a:lnTo>
                <a:lnTo>
                  <a:pt x="1130" y="4539"/>
                </a:lnTo>
                <a:lnTo>
                  <a:pt x="1120" y="4532"/>
                </a:lnTo>
                <a:lnTo>
                  <a:pt x="1113" y="4524"/>
                </a:lnTo>
                <a:lnTo>
                  <a:pt x="1105" y="4516"/>
                </a:lnTo>
                <a:lnTo>
                  <a:pt x="1099" y="4507"/>
                </a:lnTo>
                <a:lnTo>
                  <a:pt x="1093" y="4499"/>
                </a:lnTo>
                <a:lnTo>
                  <a:pt x="1087" y="4491"/>
                </a:lnTo>
                <a:lnTo>
                  <a:pt x="1082" y="4482"/>
                </a:lnTo>
                <a:lnTo>
                  <a:pt x="1078" y="4474"/>
                </a:lnTo>
                <a:lnTo>
                  <a:pt x="1075" y="4464"/>
                </a:lnTo>
                <a:lnTo>
                  <a:pt x="1070" y="4446"/>
                </a:lnTo>
                <a:lnTo>
                  <a:pt x="1065" y="4426"/>
                </a:lnTo>
                <a:lnTo>
                  <a:pt x="1063" y="4405"/>
                </a:lnTo>
                <a:lnTo>
                  <a:pt x="1063" y="4383"/>
                </a:lnTo>
                <a:lnTo>
                  <a:pt x="1075" y="4374"/>
                </a:lnTo>
                <a:lnTo>
                  <a:pt x="1086" y="4366"/>
                </a:lnTo>
                <a:lnTo>
                  <a:pt x="1086" y="4359"/>
                </a:lnTo>
                <a:lnTo>
                  <a:pt x="1085" y="4352"/>
                </a:lnTo>
                <a:lnTo>
                  <a:pt x="1083" y="4346"/>
                </a:lnTo>
                <a:lnTo>
                  <a:pt x="1080" y="4341"/>
                </a:lnTo>
                <a:lnTo>
                  <a:pt x="1074" y="4330"/>
                </a:lnTo>
                <a:lnTo>
                  <a:pt x="1065" y="4320"/>
                </a:lnTo>
                <a:lnTo>
                  <a:pt x="1057" y="4311"/>
                </a:lnTo>
                <a:lnTo>
                  <a:pt x="1048" y="4301"/>
                </a:lnTo>
                <a:lnTo>
                  <a:pt x="1044" y="4296"/>
                </a:lnTo>
                <a:lnTo>
                  <a:pt x="1041" y="4290"/>
                </a:lnTo>
                <a:lnTo>
                  <a:pt x="1038" y="4285"/>
                </a:lnTo>
                <a:lnTo>
                  <a:pt x="1036" y="4277"/>
                </a:lnTo>
                <a:lnTo>
                  <a:pt x="1033" y="4266"/>
                </a:lnTo>
                <a:lnTo>
                  <a:pt x="1030" y="4254"/>
                </a:lnTo>
                <a:lnTo>
                  <a:pt x="1029" y="4243"/>
                </a:lnTo>
                <a:lnTo>
                  <a:pt x="1028" y="4232"/>
                </a:lnTo>
                <a:lnTo>
                  <a:pt x="1028" y="4211"/>
                </a:lnTo>
                <a:lnTo>
                  <a:pt x="1027" y="4190"/>
                </a:lnTo>
                <a:lnTo>
                  <a:pt x="1026" y="4180"/>
                </a:lnTo>
                <a:lnTo>
                  <a:pt x="1025" y="4171"/>
                </a:lnTo>
                <a:lnTo>
                  <a:pt x="1023" y="4161"/>
                </a:lnTo>
                <a:lnTo>
                  <a:pt x="1020" y="4152"/>
                </a:lnTo>
                <a:lnTo>
                  <a:pt x="1016" y="4142"/>
                </a:lnTo>
                <a:lnTo>
                  <a:pt x="1010" y="4134"/>
                </a:lnTo>
                <a:lnTo>
                  <a:pt x="1003" y="4125"/>
                </a:lnTo>
                <a:lnTo>
                  <a:pt x="995" y="4118"/>
                </a:lnTo>
                <a:lnTo>
                  <a:pt x="971" y="4099"/>
                </a:lnTo>
                <a:lnTo>
                  <a:pt x="950" y="4082"/>
                </a:lnTo>
                <a:lnTo>
                  <a:pt x="928" y="4066"/>
                </a:lnTo>
                <a:lnTo>
                  <a:pt x="904" y="4050"/>
                </a:lnTo>
                <a:lnTo>
                  <a:pt x="883" y="4035"/>
                </a:lnTo>
                <a:lnTo>
                  <a:pt x="865" y="4022"/>
                </a:lnTo>
                <a:lnTo>
                  <a:pt x="848" y="4007"/>
                </a:lnTo>
                <a:lnTo>
                  <a:pt x="833" y="3992"/>
                </a:lnTo>
                <a:lnTo>
                  <a:pt x="804" y="3960"/>
                </a:lnTo>
                <a:lnTo>
                  <a:pt x="774" y="3923"/>
                </a:lnTo>
                <a:lnTo>
                  <a:pt x="766" y="3916"/>
                </a:lnTo>
                <a:lnTo>
                  <a:pt x="759" y="3910"/>
                </a:lnTo>
                <a:lnTo>
                  <a:pt x="751" y="3904"/>
                </a:lnTo>
                <a:lnTo>
                  <a:pt x="742" y="3900"/>
                </a:lnTo>
                <a:lnTo>
                  <a:pt x="733" y="3896"/>
                </a:lnTo>
                <a:lnTo>
                  <a:pt x="724" y="3892"/>
                </a:lnTo>
                <a:lnTo>
                  <a:pt x="715" y="3887"/>
                </a:lnTo>
                <a:lnTo>
                  <a:pt x="706" y="3880"/>
                </a:lnTo>
                <a:lnTo>
                  <a:pt x="691" y="3865"/>
                </a:lnTo>
                <a:lnTo>
                  <a:pt x="678" y="3851"/>
                </a:lnTo>
                <a:lnTo>
                  <a:pt x="666" y="3836"/>
                </a:lnTo>
                <a:lnTo>
                  <a:pt x="655" y="3822"/>
                </a:lnTo>
                <a:lnTo>
                  <a:pt x="649" y="3815"/>
                </a:lnTo>
                <a:lnTo>
                  <a:pt x="643" y="3809"/>
                </a:lnTo>
                <a:lnTo>
                  <a:pt x="637" y="3803"/>
                </a:lnTo>
                <a:lnTo>
                  <a:pt x="629" y="3798"/>
                </a:lnTo>
                <a:lnTo>
                  <a:pt x="622" y="3794"/>
                </a:lnTo>
                <a:lnTo>
                  <a:pt x="613" y="3790"/>
                </a:lnTo>
                <a:lnTo>
                  <a:pt x="604" y="3787"/>
                </a:lnTo>
                <a:lnTo>
                  <a:pt x="594" y="3785"/>
                </a:lnTo>
                <a:close/>
                <a:moveTo>
                  <a:pt x="669" y="3506"/>
                </a:moveTo>
                <a:lnTo>
                  <a:pt x="664" y="3511"/>
                </a:lnTo>
                <a:lnTo>
                  <a:pt x="660" y="3515"/>
                </a:lnTo>
                <a:lnTo>
                  <a:pt x="656" y="3519"/>
                </a:lnTo>
                <a:lnTo>
                  <a:pt x="651" y="3523"/>
                </a:lnTo>
                <a:lnTo>
                  <a:pt x="649" y="3529"/>
                </a:lnTo>
                <a:lnTo>
                  <a:pt x="647" y="3535"/>
                </a:lnTo>
                <a:lnTo>
                  <a:pt x="645" y="3540"/>
                </a:lnTo>
                <a:lnTo>
                  <a:pt x="645" y="3546"/>
                </a:lnTo>
                <a:lnTo>
                  <a:pt x="646" y="3553"/>
                </a:lnTo>
                <a:lnTo>
                  <a:pt x="649" y="3557"/>
                </a:lnTo>
                <a:lnTo>
                  <a:pt x="652" y="3562"/>
                </a:lnTo>
                <a:lnTo>
                  <a:pt x="656" y="3568"/>
                </a:lnTo>
                <a:lnTo>
                  <a:pt x="665" y="3562"/>
                </a:lnTo>
                <a:lnTo>
                  <a:pt x="674" y="3555"/>
                </a:lnTo>
                <a:lnTo>
                  <a:pt x="678" y="3551"/>
                </a:lnTo>
                <a:lnTo>
                  <a:pt x="680" y="3546"/>
                </a:lnTo>
                <a:lnTo>
                  <a:pt x="682" y="3541"/>
                </a:lnTo>
                <a:lnTo>
                  <a:pt x="682" y="3536"/>
                </a:lnTo>
                <a:lnTo>
                  <a:pt x="682" y="3510"/>
                </a:lnTo>
                <a:lnTo>
                  <a:pt x="669" y="3506"/>
                </a:lnTo>
                <a:close/>
                <a:moveTo>
                  <a:pt x="686" y="3353"/>
                </a:moveTo>
                <a:lnTo>
                  <a:pt x="686" y="3402"/>
                </a:lnTo>
                <a:lnTo>
                  <a:pt x="687" y="3408"/>
                </a:lnTo>
                <a:lnTo>
                  <a:pt x="689" y="3412"/>
                </a:lnTo>
                <a:lnTo>
                  <a:pt x="694" y="3418"/>
                </a:lnTo>
                <a:lnTo>
                  <a:pt x="698" y="3421"/>
                </a:lnTo>
                <a:lnTo>
                  <a:pt x="709" y="3427"/>
                </a:lnTo>
                <a:lnTo>
                  <a:pt x="720" y="3435"/>
                </a:lnTo>
                <a:lnTo>
                  <a:pt x="727" y="3425"/>
                </a:lnTo>
                <a:lnTo>
                  <a:pt x="734" y="3416"/>
                </a:lnTo>
                <a:lnTo>
                  <a:pt x="736" y="3410"/>
                </a:lnTo>
                <a:lnTo>
                  <a:pt x="738" y="3405"/>
                </a:lnTo>
                <a:lnTo>
                  <a:pt x="740" y="3400"/>
                </a:lnTo>
                <a:lnTo>
                  <a:pt x="740" y="3393"/>
                </a:lnTo>
                <a:lnTo>
                  <a:pt x="740" y="3353"/>
                </a:lnTo>
                <a:lnTo>
                  <a:pt x="686" y="3353"/>
                </a:lnTo>
                <a:close/>
                <a:moveTo>
                  <a:pt x="573" y="3058"/>
                </a:moveTo>
                <a:lnTo>
                  <a:pt x="569" y="3063"/>
                </a:lnTo>
                <a:lnTo>
                  <a:pt x="565" y="3067"/>
                </a:lnTo>
                <a:lnTo>
                  <a:pt x="563" y="3069"/>
                </a:lnTo>
                <a:lnTo>
                  <a:pt x="562" y="3072"/>
                </a:lnTo>
                <a:lnTo>
                  <a:pt x="561" y="3074"/>
                </a:lnTo>
                <a:lnTo>
                  <a:pt x="561" y="3079"/>
                </a:lnTo>
                <a:lnTo>
                  <a:pt x="561" y="3092"/>
                </a:lnTo>
                <a:lnTo>
                  <a:pt x="564" y="3106"/>
                </a:lnTo>
                <a:lnTo>
                  <a:pt x="568" y="3119"/>
                </a:lnTo>
                <a:lnTo>
                  <a:pt x="574" y="3130"/>
                </a:lnTo>
                <a:lnTo>
                  <a:pt x="582" y="3140"/>
                </a:lnTo>
                <a:lnTo>
                  <a:pt x="591" y="3149"/>
                </a:lnTo>
                <a:lnTo>
                  <a:pt x="602" y="3159"/>
                </a:lnTo>
                <a:lnTo>
                  <a:pt x="614" y="3166"/>
                </a:lnTo>
                <a:lnTo>
                  <a:pt x="618" y="3162"/>
                </a:lnTo>
                <a:lnTo>
                  <a:pt x="621" y="3157"/>
                </a:lnTo>
                <a:lnTo>
                  <a:pt x="624" y="3152"/>
                </a:lnTo>
                <a:lnTo>
                  <a:pt x="625" y="3146"/>
                </a:lnTo>
                <a:lnTo>
                  <a:pt x="624" y="3132"/>
                </a:lnTo>
                <a:lnTo>
                  <a:pt x="622" y="3119"/>
                </a:lnTo>
                <a:lnTo>
                  <a:pt x="618" y="3106"/>
                </a:lnTo>
                <a:lnTo>
                  <a:pt x="612" y="3095"/>
                </a:lnTo>
                <a:lnTo>
                  <a:pt x="605" y="3084"/>
                </a:lnTo>
                <a:lnTo>
                  <a:pt x="596" y="3074"/>
                </a:lnTo>
                <a:lnTo>
                  <a:pt x="586" y="3066"/>
                </a:lnTo>
                <a:lnTo>
                  <a:pt x="573" y="3058"/>
                </a:lnTo>
                <a:close/>
                <a:moveTo>
                  <a:pt x="642" y="2966"/>
                </a:moveTo>
                <a:lnTo>
                  <a:pt x="640" y="2975"/>
                </a:lnTo>
                <a:lnTo>
                  <a:pt x="639" y="2984"/>
                </a:lnTo>
                <a:lnTo>
                  <a:pt x="639" y="2989"/>
                </a:lnTo>
                <a:lnTo>
                  <a:pt x="641" y="2993"/>
                </a:lnTo>
                <a:lnTo>
                  <a:pt x="643" y="2996"/>
                </a:lnTo>
                <a:lnTo>
                  <a:pt x="645" y="3001"/>
                </a:lnTo>
                <a:lnTo>
                  <a:pt x="647" y="3004"/>
                </a:lnTo>
                <a:lnTo>
                  <a:pt x="649" y="3008"/>
                </a:lnTo>
                <a:lnTo>
                  <a:pt x="651" y="3012"/>
                </a:lnTo>
                <a:lnTo>
                  <a:pt x="651" y="3017"/>
                </a:lnTo>
                <a:lnTo>
                  <a:pt x="651" y="3023"/>
                </a:lnTo>
                <a:lnTo>
                  <a:pt x="648" y="3028"/>
                </a:lnTo>
                <a:lnTo>
                  <a:pt x="645" y="3032"/>
                </a:lnTo>
                <a:lnTo>
                  <a:pt x="642" y="3035"/>
                </a:lnTo>
                <a:lnTo>
                  <a:pt x="638" y="3040"/>
                </a:lnTo>
                <a:lnTo>
                  <a:pt x="634" y="3044"/>
                </a:lnTo>
                <a:lnTo>
                  <a:pt x="632" y="3049"/>
                </a:lnTo>
                <a:lnTo>
                  <a:pt x="631" y="3054"/>
                </a:lnTo>
                <a:lnTo>
                  <a:pt x="632" y="3064"/>
                </a:lnTo>
                <a:lnTo>
                  <a:pt x="633" y="3072"/>
                </a:lnTo>
                <a:lnTo>
                  <a:pt x="637" y="3081"/>
                </a:lnTo>
                <a:lnTo>
                  <a:pt x="640" y="3088"/>
                </a:lnTo>
                <a:lnTo>
                  <a:pt x="647" y="3102"/>
                </a:lnTo>
                <a:lnTo>
                  <a:pt x="657" y="3116"/>
                </a:lnTo>
                <a:lnTo>
                  <a:pt x="666" y="3129"/>
                </a:lnTo>
                <a:lnTo>
                  <a:pt x="675" y="3143"/>
                </a:lnTo>
                <a:lnTo>
                  <a:pt x="678" y="3151"/>
                </a:lnTo>
                <a:lnTo>
                  <a:pt x="680" y="3159"/>
                </a:lnTo>
                <a:lnTo>
                  <a:pt x="682" y="3167"/>
                </a:lnTo>
                <a:lnTo>
                  <a:pt x="682" y="3177"/>
                </a:lnTo>
                <a:lnTo>
                  <a:pt x="689" y="3180"/>
                </a:lnTo>
                <a:lnTo>
                  <a:pt x="696" y="3183"/>
                </a:lnTo>
                <a:lnTo>
                  <a:pt x="702" y="3183"/>
                </a:lnTo>
                <a:lnTo>
                  <a:pt x="707" y="3181"/>
                </a:lnTo>
                <a:lnTo>
                  <a:pt x="712" y="3178"/>
                </a:lnTo>
                <a:lnTo>
                  <a:pt x="716" y="3174"/>
                </a:lnTo>
                <a:lnTo>
                  <a:pt x="719" y="3170"/>
                </a:lnTo>
                <a:lnTo>
                  <a:pt x="721" y="3164"/>
                </a:lnTo>
                <a:lnTo>
                  <a:pt x="723" y="3158"/>
                </a:lnTo>
                <a:lnTo>
                  <a:pt x="723" y="3152"/>
                </a:lnTo>
                <a:lnTo>
                  <a:pt x="723" y="3083"/>
                </a:lnTo>
                <a:lnTo>
                  <a:pt x="722" y="3070"/>
                </a:lnTo>
                <a:lnTo>
                  <a:pt x="721" y="3060"/>
                </a:lnTo>
                <a:lnTo>
                  <a:pt x="718" y="3049"/>
                </a:lnTo>
                <a:lnTo>
                  <a:pt x="715" y="3040"/>
                </a:lnTo>
                <a:lnTo>
                  <a:pt x="712" y="3030"/>
                </a:lnTo>
                <a:lnTo>
                  <a:pt x="708" y="3020"/>
                </a:lnTo>
                <a:lnTo>
                  <a:pt x="707" y="3009"/>
                </a:lnTo>
                <a:lnTo>
                  <a:pt x="706" y="2996"/>
                </a:lnTo>
                <a:lnTo>
                  <a:pt x="708" y="2985"/>
                </a:lnTo>
                <a:lnTo>
                  <a:pt x="712" y="2973"/>
                </a:lnTo>
                <a:lnTo>
                  <a:pt x="713" y="2968"/>
                </a:lnTo>
                <a:lnTo>
                  <a:pt x="714" y="2963"/>
                </a:lnTo>
                <a:lnTo>
                  <a:pt x="713" y="2957"/>
                </a:lnTo>
                <a:lnTo>
                  <a:pt x="709" y="2952"/>
                </a:lnTo>
                <a:lnTo>
                  <a:pt x="706" y="2949"/>
                </a:lnTo>
                <a:lnTo>
                  <a:pt x="703" y="2947"/>
                </a:lnTo>
                <a:lnTo>
                  <a:pt x="699" y="2946"/>
                </a:lnTo>
                <a:lnTo>
                  <a:pt x="696" y="2946"/>
                </a:lnTo>
                <a:lnTo>
                  <a:pt x="688" y="2948"/>
                </a:lnTo>
                <a:lnTo>
                  <a:pt x="680" y="2951"/>
                </a:lnTo>
                <a:lnTo>
                  <a:pt x="670" y="2955"/>
                </a:lnTo>
                <a:lnTo>
                  <a:pt x="661" y="2960"/>
                </a:lnTo>
                <a:lnTo>
                  <a:pt x="651" y="2965"/>
                </a:lnTo>
                <a:lnTo>
                  <a:pt x="642" y="2966"/>
                </a:lnTo>
                <a:close/>
                <a:moveTo>
                  <a:pt x="519" y="2701"/>
                </a:moveTo>
                <a:lnTo>
                  <a:pt x="506" y="2705"/>
                </a:lnTo>
                <a:lnTo>
                  <a:pt x="478" y="2698"/>
                </a:lnTo>
                <a:lnTo>
                  <a:pt x="475" y="2706"/>
                </a:lnTo>
                <a:lnTo>
                  <a:pt x="472" y="2714"/>
                </a:lnTo>
                <a:lnTo>
                  <a:pt x="472" y="2720"/>
                </a:lnTo>
                <a:lnTo>
                  <a:pt x="474" y="2724"/>
                </a:lnTo>
                <a:lnTo>
                  <a:pt x="476" y="2727"/>
                </a:lnTo>
                <a:lnTo>
                  <a:pt x="478" y="2730"/>
                </a:lnTo>
                <a:lnTo>
                  <a:pt x="484" y="2738"/>
                </a:lnTo>
                <a:lnTo>
                  <a:pt x="489" y="2745"/>
                </a:lnTo>
                <a:lnTo>
                  <a:pt x="496" y="2761"/>
                </a:lnTo>
                <a:lnTo>
                  <a:pt x="502" y="2776"/>
                </a:lnTo>
                <a:lnTo>
                  <a:pt x="510" y="2789"/>
                </a:lnTo>
                <a:lnTo>
                  <a:pt x="518" y="2802"/>
                </a:lnTo>
                <a:lnTo>
                  <a:pt x="527" y="2814"/>
                </a:lnTo>
                <a:lnTo>
                  <a:pt x="537" y="2824"/>
                </a:lnTo>
                <a:lnTo>
                  <a:pt x="549" y="2835"/>
                </a:lnTo>
                <a:lnTo>
                  <a:pt x="564" y="2844"/>
                </a:lnTo>
                <a:lnTo>
                  <a:pt x="564" y="2804"/>
                </a:lnTo>
                <a:lnTo>
                  <a:pt x="564" y="2797"/>
                </a:lnTo>
                <a:lnTo>
                  <a:pt x="563" y="2789"/>
                </a:lnTo>
                <a:lnTo>
                  <a:pt x="561" y="2783"/>
                </a:lnTo>
                <a:lnTo>
                  <a:pt x="558" y="2776"/>
                </a:lnTo>
                <a:lnTo>
                  <a:pt x="553" y="2764"/>
                </a:lnTo>
                <a:lnTo>
                  <a:pt x="546" y="2751"/>
                </a:lnTo>
                <a:lnTo>
                  <a:pt x="539" y="2740"/>
                </a:lnTo>
                <a:lnTo>
                  <a:pt x="532" y="2728"/>
                </a:lnTo>
                <a:lnTo>
                  <a:pt x="525" y="2715"/>
                </a:lnTo>
                <a:lnTo>
                  <a:pt x="519" y="2701"/>
                </a:lnTo>
                <a:close/>
                <a:moveTo>
                  <a:pt x="614" y="2681"/>
                </a:moveTo>
                <a:lnTo>
                  <a:pt x="605" y="2674"/>
                </a:lnTo>
                <a:lnTo>
                  <a:pt x="596" y="2668"/>
                </a:lnTo>
                <a:lnTo>
                  <a:pt x="587" y="2662"/>
                </a:lnTo>
                <a:lnTo>
                  <a:pt x="577" y="2657"/>
                </a:lnTo>
                <a:lnTo>
                  <a:pt x="575" y="2664"/>
                </a:lnTo>
                <a:lnTo>
                  <a:pt x="573" y="2671"/>
                </a:lnTo>
                <a:lnTo>
                  <a:pt x="574" y="2682"/>
                </a:lnTo>
                <a:lnTo>
                  <a:pt x="576" y="2691"/>
                </a:lnTo>
                <a:lnTo>
                  <a:pt x="578" y="2699"/>
                </a:lnTo>
                <a:lnTo>
                  <a:pt x="582" y="2707"/>
                </a:lnTo>
                <a:lnTo>
                  <a:pt x="588" y="2723"/>
                </a:lnTo>
                <a:lnTo>
                  <a:pt x="594" y="2742"/>
                </a:lnTo>
                <a:lnTo>
                  <a:pt x="599" y="2764"/>
                </a:lnTo>
                <a:lnTo>
                  <a:pt x="604" y="2784"/>
                </a:lnTo>
                <a:lnTo>
                  <a:pt x="608" y="2793"/>
                </a:lnTo>
                <a:lnTo>
                  <a:pt x="612" y="2801"/>
                </a:lnTo>
                <a:lnTo>
                  <a:pt x="615" y="2804"/>
                </a:lnTo>
                <a:lnTo>
                  <a:pt x="620" y="2807"/>
                </a:lnTo>
                <a:lnTo>
                  <a:pt x="624" y="2811"/>
                </a:lnTo>
                <a:lnTo>
                  <a:pt x="628" y="2814"/>
                </a:lnTo>
                <a:lnTo>
                  <a:pt x="632" y="2800"/>
                </a:lnTo>
                <a:lnTo>
                  <a:pt x="634" y="2786"/>
                </a:lnTo>
                <a:lnTo>
                  <a:pt x="634" y="2770"/>
                </a:lnTo>
                <a:lnTo>
                  <a:pt x="632" y="2757"/>
                </a:lnTo>
                <a:lnTo>
                  <a:pt x="629" y="2745"/>
                </a:lnTo>
                <a:lnTo>
                  <a:pt x="626" y="2733"/>
                </a:lnTo>
                <a:lnTo>
                  <a:pt x="622" y="2722"/>
                </a:lnTo>
                <a:lnTo>
                  <a:pt x="619" y="2710"/>
                </a:lnTo>
                <a:lnTo>
                  <a:pt x="616" y="2696"/>
                </a:lnTo>
                <a:lnTo>
                  <a:pt x="614" y="2681"/>
                </a:lnTo>
                <a:close/>
                <a:moveTo>
                  <a:pt x="159" y="2664"/>
                </a:moveTo>
                <a:lnTo>
                  <a:pt x="149" y="2665"/>
                </a:lnTo>
                <a:lnTo>
                  <a:pt x="139" y="2667"/>
                </a:lnTo>
                <a:lnTo>
                  <a:pt x="130" y="2669"/>
                </a:lnTo>
                <a:lnTo>
                  <a:pt x="118" y="2670"/>
                </a:lnTo>
                <a:lnTo>
                  <a:pt x="104" y="2670"/>
                </a:lnTo>
                <a:lnTo>
                  <a:pt x="91" y="2670"/>
                </a:lnTo>
                <a:lnTo>
                  <a:pt x="78" y="2669"/>
                </a:lnTo>
                <a:lnTo>
                  <a:pt x="66" y="2667"/>
                </a:lnTo>
                <a:lnTo>
                  <a:pt x="55" y="2665"/>
                </a:lnTo>
                <a:lnTo>
                  <a:pt x="42" y="2661"/>
                </a:lnTo>
                <a:lnTo>
                  <a:pt x="29" y="2656"/>
                </a:lnTo>
                <a:lnTo>
                  <a:pt x="17" y="2650"/>
                </a:lnTo>
                <a:lnTo>
                  <a:pt x="14" y="2664"/>
                </a:lnTo>
                <a:lnTo>
                  <a:pt x="19" y="2670"/>
                </a:lnTo>
                <a:lnTo>
                  <a:pt x="23" y="2677"/>
                </a:lnTo>
                <a:lnTo>
                  <a:pt x="27" y="2684"/>
                </a:lnTo>
                <a:lnTo>
                  <a:pt x="30" y="2690"/>
                </a:lnTo>
                <a:lnTo>
                  <a:pt x="35" y="2705"/>
                </a:lnTo>
                <a:lnTo>
                  <a:pt x="37" y="2719"/>
                </a:lnTo>
                <a:lnTo>
                  <a:pt x="40" y="2749"/>
                </a:lnTo>
                <a:lnTo>
                  <a:pt x="44" y="2783"/>
                </a:lnTo>
                <a:lnTo>
                  <a:pt x="45" y="2788"/>
                </a:lnTo>
                <a:lnTo>
                  <a:pt x="48" y="2794"/>
                </a:lnTo>
                <a:lnTo>
                  <a:pt x="53" y="2799"/>
                </a:lnTo>
                <a:lnTo>
                  <a:pt x="57" y="2803"/>
                </a:lnTo>
                <a:lnTo>
                  <a:pt x="61" y="2807"/>
                </a:lnTo>
                <a:lnTo>
                  <a:pt x="65" y="2812"/>
                </a:lnTo>
                <a:lnTo>
                  <a:pt x="68" y="2817"/>
                </a:lnTo>
                <a:lnTo>
                  <a:pt x="71" y="2823"/>
                </a:lnTo>
                <a:lnTo>
                  <a:pt x="77" y="2854"/>
                </a:lnTo>
                <a:lnTo>
                  <a:pt x="81" y="2882"/>
                </a:lnTo>
                <a:lnTo>
                  <a:pt x="83" y="2910"/>
                </a:lnTo>
                <a:lnTo>
                  <a:pt x="86" y="2935"/>
                </a:lnTo>
                <a:lnTo>
                  <a:pt x="87" y="2948"/>
                </a:lnTo>
                <a:lnTo>
                  <a:pt x="90" y="2962"/>
                </a:lnTo>
                <a:lnTo>
                  <a:pt x="93" y="2974"/>
                </a:lnTo>
                <a:lnTo>
                  <a:pt x="96" y="2987"/>
                </a:lnTo>
                <a:lnTo>
                  <a:pt x="100" y="3000"/>
                </a:lnTo>
                <a:lnTo>
                  <a:pt x="105" y="3013"/>
                </a:lnTo>
                <a:lnTo>
                  <a:pt x="111" y="3027"/>
                </a:lnTo>
                <a:lnTo>
                  <a:pt x="118" y="3041"/>
                </a:lnTo>
                <a:lnTo>
                  <a:pt x="159" y="3041"/>
                </a:lnTo>
                <a:lnTo>
                  <a:pt x="165" y="3034"/>
                </a:lnTo>
                <a:lnTo>
                  <a:pt x="170" y="3027"/>
                </a:lnTo>
                <a:lnTo>
                  <a:pt x="169" y="3023"/>
                </a:lnTo>
                <a:lnTo>
                  <a:pt x="167" y="3019"/>
                </a:lnTo>
                <a:lnTo>
                  <a:pt x="163" y="3015"/>
                </a:lnTo>
                <a:lnTo>
                  <a:pt x="160" y="3012"/>
                </a:lnTo>
                <a:lnTo>
                  <a:pt x="152" y="3007"/>
                </a:lnTo>
                <a:lnTo>
                  <a:pt x="146" y="3001"/>
                </a:lnTo>
                <a:lnTo>
                  <a:pt x="141" y="2991"/>
                </a:lnTo>
                <a:lnTo>
                  <a:pt x="137" y="2983"/>
                </a:lnTo>
                <a:lnTo>
                  <a:pt x="134" y="2975"/>
                </a:lnTo>
                <a:lnTo>
                  <a:pt x="132" y="2967"/>
                </a:lnTo>
                <a:lnTo>
                  <a:pt x="130" y="2950"/>
                </a:lnTo>
                <a:lnTo>
                  <a:pt x="129" y="2931"/>
                </a:lnTo>
                <a:lnTo>
                  <a:pt x="130" y="2918"/>
                </a:lnTo>
                <a:lnTo>
                  <a:pt x="131" y="2908"/>
                </a:lnTo>
                <a:lnTo>
                  <a:pt x="133" y="2897"/>
                </a:lnTo>
                <a:lnTo>
                  <a:pt x="136" y="2888"/>
                </a:lnTo>
                <a:lnTo>
                  <a:pt x="138" y="2877"/>
                </a:lnTo>
                <a:lnTo>
                  <a:pt x="140" y="2866"/>
                </a:lnTo>
                <a:lnTo>
                  <a:pt x="141" y="2856"/>
                </a:lnTo>
                <a:lnTo>
                  <a:pt x="142" y="2844"/>
                </a:lnTo>
                <a:lnTo>
                  <a:pt x="141" y="2828"/>
                </a:lnTo>
                <a:lnTo>
                  <a:pt x="139" y="2815"/>
                </a:lnTo>
                <a:lnTo>
                  <a:pt x="136" y="2802"/>
                </a:lnTo>
                <a:lnTo>
                  <a:pt x="132" y="2789"/>
                </a:lnTo>
                <a:lnTo>
                  <a:pt x="129" y="2777"/>
                </a:lnTo>
                <a:lnTo>
                  <a:pt x="125" y="2764"/>
                </a:lnTo>
                <a:lnTo>
                  <a:pt x="123" y="2750"/>
                </a:lnTo>
                <a:lnTo>
                  <a:pt x="122" y="2736"/>
                </a:lnTo>
                <a:lnTo>
                  <a:pt x="122" y="2731"/>
                </a:lnTo>
                <a:lnTo>
                  <a:pt x="124" y="2727"/>
                </a:lnTo>
                <a:lnTo>
                  <a:pt x="128" y="2725"/>
                </a:lnTo>
                <a:lnTo>
                  <a:pt x="131" y="2722"/>
                </a:lnTo>
                <a:lnTo>
                  <a:pt x="135" y="2721"/>
                </a:lnTo>
                <a:lnTo>
                  <a:pt x="140" y="2719"/>
                </a:lnTo>
                <a:lnTo>
                  <a:pt x="144" y="2719"/>
                </a:lnTo>
                <a:lnTo>
                  <a:pt x="149" y="2719"/>
                </a:lnTo>
                <a:lnTo>
                  <a:pt x="159" y="2721"/>
                </a:lnTo>
                <a:lnTo>
                  <a:pt x="170" y="2725"/>
                </a:lnTo>
                <a:lnTo>
                  <a:pt x="193" y="2725"/>
                </a:lnTo>
                <a:lnTo>
                  <a:pt x="193" y="2699"/>
                </a:lnTo>
                <a:lnTo>
                  <a:pt x="193" y="2692"/>
                </a:lnTo>
                <a:lnTo>
                  <a:pt x="191" y="2685"/>
                </a:lnTo>
                <a:lnTo>
                  <a:pt x="188" y="2680"/>
                </a:lnTo>
                <a:lnTo>
                  <a:pt x="184" y="2674"/>
                </a:lnTo>
                <a:lnTo>
                  <a:pt x="178" y="2670"/>
                </a:lnTo>
                <a:lnTo>
                  <a:pt x="173" y="2667"/>
                </a:lnTo>
                <a:lnTo>
                  <a:pt x="167" y="2665"/>
                </a:lnTo>
                <a:lnTo>
                  <a:pt x="159" y="2664"/>
                </a:lnTo>
                <a:close/>
                <a:moveTo>
                  <a:pt x="499" y="2532"/>
                </a:moveTo>
                <a:lnTo>
                  <a:pt x="498" y="2540"/>
                </a:lnTo>
                <a:lnTo>
                  <a:pt x="497" y="2549"/>
                </a:lnTo>
                <a:lnTo>
                  <a:pt x="496" y="2556"/>
                </a:lnTo>
                <a:lnTo>
                  <a:pt x="496" y="2566"/>
                </a:lnTo>
                <a:lnTo>
                  <a:pt x="496" y="2571"/>
                </a:lnTo>
                <a:lnTo>
                  <a:pt x="497" y="2575"/>
                </a:lnTo>
                <a:lnTo>
                  <a:pt x="499" y="2578"/>
                </a:lnTo>
                <a:lnTo>
                  <a:pt x="502" y="2581"/>
                </a:lnTo>
                <a:lnTo>
                  <a:pt x="506" y="2585"/>
                </a:lnTo>
                <a:lnTo>
                  <a:pt x="510" y="2587"/>
                </a:lnTo>
                <a:lnTo>
                  <a:pt x="514" y="2589"/>
                </a:lnTo>
                <a:lnTo>
                  <a:pt x="518" y="2590"/>
                </a:lnTo>
                <a:lnTo>
                  <a:pt x="540" y="2593"/>
                </a:lnTo>
                <a:lnTo>
                  <a:pt x="564" y="2596"/>
                </a:lnTo>
                <a:lnTo>
                  <a:pt x="566" y="2586"/>
                </a:lnTo>
                <a:lnTo>
                  <a:pt x="567" y="2576"/>
                </a:lnTo>
                <a:lnTo>
                  <a:pt x="567" y="2562"/>
                </a:lnTo>
                <a:lnTo>
                  <a:pt x="565" y="2550"/>
                </a:lnTo>
                <a:lnTo>
                  <a:pt x="563" y="2544"/>
                </a:lnTo>
                <a:lnTo>
                  <a:pt x="559" y="2539"/>
                </a:lnTo>
                <a:lnTo>
                  <a:pt x="555" y="2535"/>
                </a:lnTo>
                <a:lnTo>
                  <a:pt x="550" y="2532"/>
                </a:lnTo>
                <a:lnTo>
                  <a:pt x="544" y="2529"/>
                </a:lnTo>
                <a:lnTo>
                  <a:pt x="537" y="2528"/>
                </a:lnTo>
                <a:lnTo>
                  <a:pt x="532" y="2528"/>
                </a:lnTo>
                <a:lnTo>
                  <a:pt x="526" y="2529"/>
                </a:lnTo>
                <a:lnTo>
                  <a:pt x="513" y="2530"/>
                </a:lnTo>
                <a:lnTo>
                  <a:pt x="499" y="2532"/>
                </a:lnTo>
                <a:close/>
                <a:moveTo>
                  <a:pt x="101" y="2293"/>
                </a:moveTo>
                <a:lnTo>
                  <a:pt x="93" y="2299"/>
                </a:lnTo>
                <a:lnTo>
                  <a:pt x="85" y="2306"/>
                </a:lnTo>
                <a:lnTo>
                  <a:pt x="80" y="2313"/>
                </a:lnTo>
                <a:lnTo>
                  <a:pt x="74" y="2319"/>
                </a:lnTo>
                <a:lnTo>
                  <a:pt x="63" y="2335"/>
                </a:lnTo>
                <a:lnTo>
                  <a:pt x="50" y="2351"/>
                </a:lnTo>
                <a:lnTo>
                  <a:pt x="41" y="2361"/>
                </a:lnTo>
                <a:lnTo>
                  <a:pt x="31" y="2368"/>
                </a:lnTo>
                <a:lnTo>
                  <a:pt x="27" y="2372"/>
                </a:lnTo>
                <a:lnTo>
                  <a:pt x="23" y="2377"/>
                </a:lnTo>
                <a:lnTo>
                  <a:pt x="21" y="2382"/>
                </a:lnTo>
                <a:lnTo>
                  <a:pt x="20" y="2389"/>
                </a:lnTo>
                <a:lnTo>
                  <a:pt x="21" y="2394"/>
                </a:lnTo>
                <a:lnTo>
                  <a:pt x="23" y="2399"/>
                </a:lnTo>
                <a:lnTo>
                  <a:pt x="25" y="2403"/>
                </a:lnTo>
                <a:lnTo>
                  <a:pt x="28" y="2407"/>
                </a:lnTo>
                <a:lnTo>
                  <a:pt x="31" y="2411"/>
                </a:lnTo>
                <a:lnTo>
                  <a:pt x="35" y="2416"/>
                </a:lnTo>
                <a:lnTo>
                  <a:pt x="37" y="2421"/>
                </a:lnTo>
                <a:lnTo>
                  <a:pt x="37" y="2426"/>
                </a:lnTo>
                <a:lnTo>
                  <a:pt x="37" y="2431"/>
                </a:lnTo>
                <a:lnTo>
                  <a:pt x="36" y="2437"/>
                </a:lnTo>
                <a:lnTo>
                  <a:pt x="34" y="2441"/>
                </a:lnTo>
                <a:lnTo>
                  <a:pt x="31" y="2445"/>
                </a:lnTo>
                <a:lnTo>
                  <a:pt x="25" y="2453"/>
                </a:lnTo>
                <a:lnTo>
                  <a:pt x="19" y="2460"/>
                </a:lnTo>
                <a:lnTo>
                  <a:pt x="11" y="2467"/>
                </a:lnTo>
                <a:lnTo>
                  <a:pt x="5" y="2475"/>
                </a:lnTo>
                <a:lnTo>
                  <a:pt x="3" y="2479"/>
                </a:lnTo>
                <a:lnTo>
                  <a:pt x="1" y="2484"/>
                </a:lnTo>
                <a:lnTo>
                  <a:pt x="0" y="2488"/>
                </a:lnTo>
                <a:lnTo>
                  <a:pt x="0" y="2494"/>
                </a:lnTo>
                <a:lnTo>
                  <a:pt x="1" y="2499"/>
                </a:lnTo>
                <a:lnTo>
                  <a:pt x="3" y="2503"/>
                </a:lnTo>
                <a:lnTo>
                  <a:pt x="7" y="2506"/>
                </a:lnTo>
                <a:lnTo>
                  <a:pt x="12" y="2509"/>
                </a:lnTo>
                <a:lnTo>
                  <a:pt x="23" y="2513"/>
                </a:lnTo>
                <a:lnTo>
                  <a:pt x="34" y="2518"/>
                </a:lnTo>
                <a:lnTo>
                  <a:pt x="38" y="2522"/>
                </a:lnTo>
                <a:lnTo>
                  <a:pt x="42" y="2526"/>
                </a:lnTo>
                <a:lnTo>
                  <a:pt x="45" y="2532"/>
                </a:lnTo>
                <a:lnTo>
                  <a:pt x="47" y="2536"/>
                </a:lnTo>
                <a:lnTo>
                  <a:pt x="53" y="2547"/>
                </a:lnTo>
                <a:lnTo>
                  <a:pt x="58" y="2558"/>
                </a:lnTo>
                <a:lnTo>
                  <a:pt x="30" y="2566"/>
                </a:lnTo>
                <a:lnTo>
                  <a:pt x="27" y="2579"/>
                </a:lnTo>
                <a:lnTo>
                  <a:pt x="41" y="2592"/>
                </a:lnTo>
                <a:lnTo>
                  <a:pt x="56" y="2602"/>
                </a:lnTo>
                <a:lnTo>
                  <a:pt x="71" y="2611"/>
                </a:lnTo>
                <a:lnTo>
                  <a:pt x="85" y="2617"/>
                </a:lnTo>
                <a:lnTo>
                  <a:pt x="101" y="2621"/>
                </a:lnTo>
                <a:lnTo>
                  <a:pt x="118" y="2625"/>
                </a:lnTo>
                <a:lnTo>
                  <a:pt x="137" y="2626"/>
                </a:lnTo>
                <a:lnTo>
                  <a:pt x="156" y="2627"/>
                </a:lnTo>
                <a:lnTo>
                  <a:pt x="161" y="2626"/>
                </a:lnTo>
                <a:lnTo>
                  <a:pt x="167" y="2625"/>
                </a:lnTo>
                <a:lnTo>
                  <a:pt x="171" y="2624"/>
                </a:lnTo>
                <a:lnTo>
                  <a:pt x="175" y="2620"/>
                </a:lnTo>
                <a:lnTo>
                  <a:pt x="182" y="2614"/>
                </a:lnTo>
                <a:lnTo>
                  <a:pt x="189" y="2606"/>
                </a:lnTo>
                <a:lnTo>
                  <a:pt x="199" y="2587"/>
                </a:lnTo>
                <a:lnTo>
                  <a:pt x="210" y="2566"/>
                </a:lnTo>
                <a:lnTo>
                  <a:pt x="222" y="2548"/>
                </a:lnTo>
                <a:lnTo>
                  <a:pt x="233" y="2533"/>
                </a:lnTo>
                <a:lnTo>
                  <a:pt x="245" y="2519"/>
                </a:lnTo>
                <a:lnTo>
                  <a:pt x="257" y="2506"/>
                </a:lnTo>
                <a:lnTo>
                  <a:pt x="270" y="2494"/>
                </a:lnTo>
                <a:lnTo>
                  <a:pt x="283" y="2481"/>
                </a:lnTo>
                <a:lnTo>
                  <a:pt x="295" y="2466"/>
                </a:lnTo>
                <a:lnTo>
                  <a:pt x="309" y="2449"/>
                </a:lnTo>
                <a:lnTo>
                  <a:pt x="309" y="2426"/>
                </a:lnTo>
                <a:lnTo>
                  <a:pt x="300" y="2425"/>
                </a:lnTo>
                <a:lnTo>
                  <a:pt x="292" y="2424"/>
                </a:lnTo>
                <a:lnTo>
                  <a:pt x="284" y="2423"/>
                </a:lnTo>
                <a:lnTo>
                  <a:pt x="274" y="2423"/>
                </a:lnTo>
                <a:lnTo>
                  <a:pt x="267" y="2423"/>
                </a:lnTo>
                <a:lnTo>
                  <a:pt x="261" y="2426"/>
                </a:lnTo>
                <a:lnTo>
                  <a:pt x="254" y="2429"/>
                </a:lnTo>
                <a:lnTo>
                  <a:pt x="249" y="2435"/>
                </a:lnTo>
                <a:lnTo>
                  <a:pt x="241" y="2446"/>
                </a:lnTo>
                <a:lnTo>
                  <a:pt x="232" y="2460"/>
                </a:lnTo>
                <a:lnTo>
                  <a:pt x="225" y="2474"/>
                </a:lnTo>
                <a:lnTo>
                  <a:pt x="215" y="2485"/>
                </a:lnTo>
                <a:lnTo>
                  <a:pt x="210" y="2491"/>
                </a:lnTo>
                <a:lnTo>
                  <a:pt x="205" y="2494"/>
                </a:lnTo>
                <a:lnTo>
                  <a:pt x="197" y="2497"/>
                </a:lnTo>
                <a:lnTo>
                  <a:pt x="190" y="2497"/>
                </a:lnTo>
                <a:lnTo>
                  <a:pt x="184" y="2497"/>
                </a:lnTo>
                <a:lnTo>
                  <a:pt x="178" y="2495"/>
                </a:lnTo>
                <a:lnTo>
                  <a:pt x="174" y="2493"/>
                </a:lnTo>
                <a:lnTo>
                  <a:pt x="170" y="2489"/>
                </a:lnTo>
                <a:lnTo>
                  <a:pt x="161" y="2482"/>
                </a:lnTo>
                <a:lnTo>
                  <a:pt x="153" y="2474"/>
                </a:lnTo>
                <a:lnTo>
                  <a:pt x="165" y="2468"/>
                </a:lnTo>
                <a:lnTo>
                  <a:pt x="177" y="2464"/>
                </a:lnTo>
                <a:lnTo>
                  <a:pt x="189" y="2460"/>
                </a:lnTo>
                <a:lnTo>
                  <a:pt x="201" y="2457"/>
                </a:lnTo>
                <a:lnTo>
                  <a:pt x="207" y="2455"/>
                </a:lnTo>
                <a:lnTo>
                  <a:pt x="211" y="2451"/>
                </a:lnTo>
                <a:lnTo>
                  <a:pt x="216" y="2449"/>
                </a:lnTo>
                <a:lnTo>
                  <a:pt x="219" y="2446"/>
                </a:lnTo>
                <a:lnTo>
                  <a:pt x="223" y="2442"/>
                </a:lnTo>
                <a:lnTo>
                  <a:pt x="226" y="2438"/>
                </a:lnTo>
                <a:lnTo>
                  <a:pt x="227" y="2432"/>
                </a:lnTo>
                <a:lnTo>
                  <a:pt x="227" y="2426"/>
                </a:lnTo>
                <a:lnTo>
                  <a:pt x="227" y="2420"/>
                </a:lnTo>
                <a:lnTo>
                  <a:pt x="224" y="2416"/>
                </a:lnTo>
                <a:lnTo>
                  <a:pt x="220" y="2411"/>
                </a:lnTo>
                <a:lnTo>
                  <a:pt x="215" y="2408"/>
                </a:lnTo>
                <a:lnTo>
                  <a:pt x="205" y="2402"/>
                </a:lnTo>
                <a:lnTo>
                  <a:pt x="193" y="2396"/>
                </a:lnTo>
                <a:lnTo>
                  <a:pt x="165" y="2373"/>
                </a:lnTo>
                <a:lnTo>
                  <a:pt x="138" y="2351"/>
                </a:lnTo>
                <a:lnTo>
                  <a:pt x="128" y="2338"/>
                </a:lnTo>
                <a:lnTo>
                  <a:pt x="117" y="2326"/>
                </a:lnTo>
                <a:lnTo>
                  <a:pt x="113" y="2318"/>
                </a:lnTo>
                <a:lnTo>
                  <a:pt x="109" y="2311"/>
                </a:lnTo>
                <a:lnTo>
                  <a:pt x="104" y="2303"/>
                </a:lnTo>
                <a:lnTo>
                  <a:pt x="101" y="2293"/>
                </a:lnTo>
                <a:close/>
                <a:moveTo>
                  <a:pt x="158" y="0"/>
                </a:moveTo>
                <a:lnTo>
                  <a:pt x="156" y="7"/>
                </a:lnTo>
                <a:lnTo>
                  <a:pt x="156" y="14"/>
                </a:lnTo>
                <a:lnTo>
                  <a:pt x="156" y="22"/>
                </a:lnTo>
                <a:lnTo>
                  <a:pt x="157" y="29"/>
                </a:lnTo>
                <a:lnTo>
                  <a:pt x="158" y="37"/>
                </a:lnTo>
                <a:lnTo>
                  <a:pt x="160" y="43"/>
                </a:lnTo>
                <a:lnTo>
                  <a:pt x="165" y="55"/>
                </a:lnTo>
                <a:lnTo>
                  <a:pt x="170" y="66"/>
                </a:lnTo>
                <a:lnTo>
                  <a:pt x="174" y="79"/>
                </a:lnTo>
                <a:lnTo>
                  <a:pt x="179" y="90"/>
                </a:lnTo>
                <a:lnTo>
                  <a:pt x="180" y="97"/>
                </a:lnTo>
                <a:lnTo>
                  <a:pt x="181" y="104"/>
                </a:lnTo>
                <a:lnTo>
                  <a:pt x="182" y="112"/>
                </a:lnTo>
                <a:lnTo>
                  <a:pt x="184" y="119"/>
                </a:lnTo>
                <a:lnTo>
                  <a:pt x="184" y="181"/>
                </a:lnTo>
                <a:lnTo>
                  <a:pt x="184" y="192"/>
                </a:lnTo>
                <a:lnTo>
                  <a:pt x="185" y="201"/>
                </a:lnTo>
                <a:lnTo>
                  <a:pt x="187" y="211"/>
                </a:lnTo>
                <a:lnTo>
                  <a:pt x="190" y="219"/>
                </a:lnTo>
                <a:lnTo>
                  <a:pt x="195" y="236"/>
                </a:lnTo>
                <a:lnTo>
                  <a:pt x="200" y="255"/>
                </a:lnTo>
                <a:lnTo>
                  <a:pt x="205" y="283"/>
                </a:lnTo>
                <a:lnTo>
                  <a:pt x="208" y="307"/>
                </a:lnTo>
                <a:lnTo>
                  <a:pt x="210" y="330"/>
                </a:lnTo>
                <a:lnTo>
                  <a:pt x="211" y="353"/>
                </a:lnTo>
                <a:lnTo>
                  <a:pt x="211" y="377"/>
                </a:lnTo>
                <a:lnTo>
                  <a:pt x="211" y="400"/>
                </a:lnTo>
                <a:lnTo>
                  <a:pt x="210" y="425"/>
                </a:lnTo>
                <a:lnTo>
                  <a:pt x="210" y="453"/>
                </a:lnTo>
                <a:lnTo>
                  <a:pt x="226" y="447"/>
                </a:lnTo>
                <a:lnTo>
                  <a:pt x="238" y="442"/>
                </a:lnTo>
                <a:lnTo>
                  <a:pt x="246" y="440"/>
                </a:lnTo>
                <a:lnTo>
                  <a:pt x="252" y="438"/>
                </a:lnTo>
                <a:lnTo>
                  <a:pt x="260" y="436"/>
                </a:lnTo>
                <a:lnTo>
                  <a:pt x="268" y="436"/>
                </a:lnTo>
                <a:lnTo>
                  <a:pt x="276" y="436"/>
                </a:lnTo>
                <a:lnTo>
                  <a:pt x="284" y="437"/>
                </a:lnTo>
                <a:lnTo>
                  <a:pt x="290" y="439"/>
                </a:lnTo>
                <a:lnTo>
                  <a:pt x="297" y="441"/>
                </a:lnTo>
                <a:lnTo>
                  <a:pt x="304" y="442"/>
                </a:lnTo>
                <a:lnTo>
                  <a:pt x="310" y="444"/>
                </a:lnTo>
                <a:lnTo>
                  <a:pt x="318" y="445"/>
                </a:lnTo>
                <a:lnTo>
                  <a:pt x="326" y="446"/>
                </a:lnTo>
                <a:lnTo>
                  <a:pt x="332" y="445"/>
                </a:lnTo>
                <a:lnTo>
                  <a:pt x="339" y="443"/>
                </a:lnTo>
                <a:lnTo>
                  <a:pt x="345" y="440"/>
                </a:lnTo>
                <a:lnTo>
                  <a:pt x="350" y="436"/>
                </a:lnTo>
                <a:lnTo>
                  <a:pt x="359" y="425"/>
                </a:lnTo>
                <a:lnTo>
                  <a:pt x="366" y="414"/>
                </a:lnTo>
                <a:lnTo>
                  <a:pt x="375" y="402"/>
                </a:lnTo>
                <a:lnTo>
                  <a:pt x="383" y="391"/>
                </a:lnTo>
                <a:lnTo>
                  <a:pt x="388" y="387"/>
                </a:lnTo>
                <a:lnTo>
                  <a:pt x="394" y="384"/>
                </a:lnTo>
                <a:lnTo>
                  <a:pt x="400" y="382"/>
                </a:lnTo>
                <a:lnTo>
                  <a:pt x="407" y="381"/>
                </a:lnTo>
                <a:lnTo>
                  <a:pt x="418" y="385"/>
                </a:lnTo>
                <a:lnTo>
                  <a:pt x="427" y="388"/>
                </a:lnTo>
                <a:lnTo>
                  <a:pt x="434" y="387"/>
                </a:lnTo>
                <a:lnTo>
                  <a:pt x="439" y="387"/>
                </a:lnTo>
                <a:lnTo>
                  <a:pt x="443" y="385"/>
                </a:lnTo>
                <a:lnTo>
                  <a:pt x="449" y="383"/>
                </a:lnTo>
                <a:lnTo>
                  <a:pt x="457" y="379"/>
                </a:lnTo>
                <a:lnTo>
                  <a:pt x="465" y="372"/>
                </a:lnTo>
                <a:lnTo>
                  <a:pt x="473" y="367"/>
                </a:lnTo>
                <a:lnTo>
                  <a:pt x="482" y="362"/>
                </a:lnTo>
                <a:lnTo>
                  <a:pt x="487" y="361"/>
                </a:lnTo>
                <a:lnTo>
                  <a:pt x="492" y="359"/>
                </a:lnTo>
                <a:lnTo>
                  <a:pt x="497" y="358"/>
                </a:lnTo>
                <a:lnTo>
                  <a:pt x="502" y="358"/>
                </a:lnTo>
                <a:lnTo>
                  <a:pt x="507" y="358"/>
                </a:lnTo>
                <a:lnTo>
                  <a:pt x="511" y="359"/>
                </a:lnTo>
                <a:lnTo>
                  <a:pt x="515" y="360"/>
                </a:lnTo>
                <a:lnTo>
                  <a:pt x="518" y="362"/>
                </a:lnTo>
                <a:lnTo>
                  <a:pt x="526" y="367"/>
                </a:lnTo>
                <a:lnTo>
                  <a:pt x="532" y="372"/>
                </a:lnTo>
                <a:lnTo>
                  <a:pt x="537" y="379"/>
                </a:lnTo>
                <a:lnTo>
                  <a:pt x="545" y="384"/>
                </a:lnTo>
                <a:lnTo>
                  <a:pt x="552" y="388"/>
                </a:lnTo>
                <a:lnTo>
                  <a:pt x="561" y="391"/>
                </a:lnTo>
                <a:lnTo>
                  <a:pt x="589" y="396"/>
                </a:lnTo>
                <a:lnTo>
                  <a:pt x="615" y="398"/>
                </a:lnTo>
                <a:lnTo>
                  <a:pt x="643" y="398"/>
                </a:lnTo>
                <a:lnTo>
                  <a:pt x="672" y="398"/>
                </a:lnTo>
                <a:lnTo>
                  <a:pt x="672" y="426"/>
                </a:lnTo>
                <a:lnTo>
                  <a:pt x="671" y="438"/>
                </a:lnTo>
                <a:lnTo>
                  <a:pt x="670" y="448"/>
                </a:lnTo>
                <a:lnTo>
                  <a:pt x="668" y="458"/>
                </a:lnTo>
                <a:lnTo>
                  <a:pt x="665" y="467"/>
                </a:lnTo>
                <a:lnTo>
                  <a:pt x="658" y="486"/>
                </a:lnTo>
                <a:lnTo>
                  <a:pt x="648" y="503"/>
                </a:lnTo>
                <a:lnTo>
                  <a:pt x="640" y="520"/>
                </a:lnTo>
                <a:lnTo>
                  <a:pt x="632" y="538"/>
                </a:lnTo>
                <a:lnTo>
                  <a:pt x="629" y="548"/>
                </a:lnTo>
                <a:lnTo>
                  <a:pt x="627" y="558"/>
                </a:lnTo>
                <a:lnTo>
                  <a:pt x="625" y="569"/>
                </a:lnTo>
                <a:lnTo>
                  <a:pt x="625" y="580"/>
                </a:lnTo>
                <a:lnTo>
                  <a:pt x="625" y="586"/>
                </a:lnTo>
                <a:lnTo>
                  <a:pt x="626" y="591"/>
                </a:lnTo>
                <a:lnTo>
                  <a:pt x="628" y="595"/>
                </a:lnTo>
                <a:lnTo>
                  <a:pt x="630" y="599"/>
                </a:lnTo>
                <a:lnTo>
                  <a:pt x="637" y="608"/>
                </a:lnTo>
                <a:lnTo>
                  <a:pt x="643" y="615"/>
                </a:lnTo>
                <a:lnTo>
                  <a:pt x="650" y="623"/>
                </a:lnTo>
                <a:lnTo>
                  <a:pt x="657" y="630"/>
                </a:lnTo>
                <a:lnTo>
                  <a:pt x="660" y="634"/>
                </a:lnTo>
                <a:lnTo>
                  <a:pt x="662" y="639"/>
                </a:lnTo>
                <a:lnTo>
                  <a:pt x="664" y="644"/>
                </a:lnTo>
                <a:lnTo>
                  <a:pt x="665" y="650"/>
                </a:lnTo>
                <a:lnTo>
                  <a:pt x="669" y="682"/>
                </a:lnTo>
                <a:lnTo>
                  <a:pt x="672" y="710"/>
                </a:lnTo>
                <a:lnTo>
                  <a:pt x="675" y="740"/>
                </a:lnTo>
                <a:lnTo>
                  <a:pt x="679" y="771"/>
                </a:lnTo>
                <a:lnTo>
                  <a:pt x="684" y="795"/>
                </a:lnTo>
                <a:lnTo>
                  <a:pt x="690" y="816"/>
                </a:lnTo>
                <a:lnTo>
                  <a:pt x="698" y="836"/>
                </a:lnTo>
                <a:lnTo>
                  <a:pt x="705" y="855"/>
                </a:lnTo>
                <a:lnTo>
                  <a:pt x="713" y="874"/>
                </a:lnTo>
                <a:lnTo>
                  <a:pt x="718" y="893"/>
                </a:lnTo>
                <a:lnTo>
                  <a:pt x="720" y="903"/>
                </a:lnTo>
                <a:lnTo>
                  <a:pt x="722" y="914"/>
                </a:lnTo>
                <a:lnTo>
                  <a:pt x="723" y="926"/>
                </a:lnTo>
                <a:lnTo>
                  <a:pt x="723" y="938"/>
                </a:lnTo>
                <a:lnTo>
                  <a:pt x="722" y="966"/>
                </a:lnTo>
                <a:lnTo>
                  <a:pt x="720" y="991"/>
                </a:lnTo>
                <a:lnTo>
                  <a:pt x="717" y="1014"/>
                </a:lnTo>
                <a:lnTo>
                  <a:pt x="714" y="1037"/>
                </a:lnTo>
                <a:lnTo>
                  <a:pt x="710" y="1060"/>
                </a:lnTo>
                <a:lnTo>
                  <a:pt x="707" y="1083"/>
                </a:lnTo>
                <a:lnTo>
                  <a:pt x="705" y="1107"/>
                </a:lnTo>
                <a:lnTo>
                  <a:pt x="704" y="1136"/>
                </a:lnTo>
                <a:lnTo>
                  <a:pt x="704" y="1152"/>
                </a:lnTo>
                <a:lnTo>
                  <a:pt x="704" y="1165"/>
                </a:lnTo>
                <a:lnTo>
                  <a:pt x="703" y="1180"/>
                </a:lnTo>
                <a:lnTo>
                  <a:pt x="703" y="1196"/>
                </a:lnTo>
                <a:lnTo>
                  <a:pt x="704" y="1211"/>
                </a:lnTo>
                <a:lnTo>
                  <a:pt x="707" y="1223"/>
                </a:lnTo>
                <a:lnTo>
                  <a:pt x="710" y="1235"/>
                </a:lnTo>
                <a:lnTo>
                  <a:pt x="714" y="1247"/>
                </a:lnTo>
                <a:lnTo>
                  <a:pt x="718" y="1258"/>
                </a:lnTo>
                <a:lnTo>
                  <a:pt x="720" y="1271"/>
                </a:lnTo>
                <a:lnTo>
                  <a:pt x="722" y="1284"/>
                </a:lnTo>
                <a:lnTo>
                  <a:pt x="723" y="1297"/>
                </a:lnTo>
                <a:lnTo>
                  <a:pt x="723" y="1384"/>
                </a:lnTo>
                <a:lnTo>
                  <a:pt x="722" y="1398"/>
                </a:lnTo>
                <a:lnTo>
                  <a:pt x="720" y="1409"/>
                </a:lnTo>
                <a:lnTo>
                  <a:pt x="717" y="1421"/>
                </a:lnTo>
                <a:lnTo>
                  <a:pt x="713" y="1431"/>
                </a:lnTo>
                <a:lnTo>
                  <a:pt x="709" y="1442"/>
                </a:lnTo>
                <a:lnTo>
                  <a:pt x="706" y="1454"/>
                </a:lnTo>
                <a:lnTo>
                  <a:pt x="704" y="1465"/>
                </a:lnTo>
                <a:lnTo>
                  <a:pt x="703" y="1478"/>
                </a:lnTo>
                <a:lnTo>
                  <a:pt x="703" y="1490"/>
                </a:lnTo>
                <a:lnTo>
                  <a:pt x="705" y="1500"/>
                </a:lnTo>
                <a:lnTo>
                  <a:pt x="707" y="1510"/>
                </a:lnTo>
                <a:lnTo>
                  <a:pt x="709" y="1519"/>
                </a:lnTo>
                <a:lnTo>
                  <a:pt x="713" y="1529"/>
                </a:lnTo>
                <a:lnTo>
                  <a:pt x="715" y="1538"/>
                </a:lnTo>
                <a:lnTo>
                  <a:pt x="716" y="1549"/>
                </a:lnTo>
                <a:lnTo>
                  <a:pt x="717" y="1560"/>
                </a:lnTo>
                <a:lnTo>
                  <a:pt x="716" y="1573"/>
                </a:lnTo>
                <a:lnTo>
                  <a:pt x="714" y="1584"/>
                </a:lnTo>
                <a:lnTo>
                  <a:pt x="710" y="1594"/>
                </a:lnTo>
                <a:lnTo>
                  <a:pt x="706" y="1605"/>
                </a:lnTo>
                <a:lnTo>
                  <a:pt x="702" y="1614"/>
                </a:lnTo>
                <a:lnTo>
                  <a:pt x="697" y="1625"/>
                </a:lnTo>
                <a:lnTo>
                  <a:pt x="693" y="1636"/>
                </a:lnTo>
                <a:lnTo>
                  <a:pt x="689" y="1648"/>
                </a:lnTo>
                <a:lnTo>
                  <a:pt x="701" y="1654"/>
                </a:lnTo>
                <a:lnTo>
                  <a:pt x="712" y="1661"/>
                </a:lnTo>
                <a:lnTo>
                  <a:pt x="722" y="1668"/>
                </a:lnTo>
                <a:lnTo>
                  <a:pt x="732" y="1674"/>
                </a:lnTo>
                <a:lnTo>
                  <a:pt x="740" y="1682"/>
                </a:lnTo>
                <a:lnTo>
                  <a:pt x="748" y="1690"/>
                </a:lnTo>
                <a:lnTo>
                  <a:pt x="757" y="1699"/>
                </a:lnTo>
                <a:lnTo>
                  <a:pt x="763" y="1707"/>
                </a:lnTo>
                <a:lnTo>
                  <a:pt x="777" y="1725"/>
                </a:lnTo>
                <a:lnTo>
                  <a:pt x="789" y="1745"/>
                </a:lnTo>
                <a:lnTo>
                  <a:pt x="800" y="1767"/>
                </a:lnTo>
                <a:lnTo>
                  <a:pt x="812" y="1790"/>
                </a:lnTo>
                <a:lnTo>
                  <a:pt x="817" y="1804"/>
                </a:lnTo>
                <a:lnTo>
                  <a:pt x="820" y="1817"/>
                </a:lnTo>
                <a:lnTo>
                  <a:pt x="823" y="1830"/>
                </a:lnTo>
                <a:lnTo>
                  <a:pt x="827" y="1842"/>
                </a:lnTo>
                <a:lnTo>
                  <a:pt x="830" y="1855"/>
                </a:lnTo>
                <a:lnTo>
                  <a:pt x="834" y="1866"/>
                </a:lnTo>
                <a:lnTo>
                  <a:pt x="840" y="1878"/>
                </a:lnTo>
                <a:lnTo>
                  <a:pt x="849" y="1890"/>
                </a:lnTo>
                <a:lnTo>
                  <a:pt x="857" y="1898"/>
                </a:lnTo>
                <a:lnTo>
                  <a:pt x="867" y="1907"/>
                </a:lnTo>
                <a:lnTo>
                  <a:pt x="877" y="1913"/>
                </a:lnTo>
                <a:lnTo>
                  <a:pt x="886" y="1920"/>
                </a:lnTo>
                <a:lnTo>
                  <a:pt x="894" y="1928"/>
                </a:lnTo>
                <a:lnTo>
                  <a:pt x="901" y="1936"/>
                </a:lnTo>
                <a:lnTo>
                  <a:pt x="903" y="1940"/>
                </a:lnTo>
                <a:lnTo>
                  <a:pt x="905" y="1946"/>
                </a:lnTo>
                <a:lnTo>
                  <a:pt x="906" y="1951"/>
                </a:lnTo>
                <a:lnTo>
                  <a:pt x="907" y="1957"/>
                </a:lnTo>
                <a:lnTo>
                  <a:pt x="906" y="1977"/>
                </a:lnTo>
                <a:lnTo>
                  <a:pt x="903" y="1996"/>
                </a:lnTo>
                <a:lnTo>
                  <a:pt x="901" y="2006"/>
                </a:lnTo>
                <a:lnTo>
                  <a:pt x="897" y="2014"/>
                </a:lnTo>
                <a:lnTo>
                  <a:pt x="894" y="2023"/>
                </a:lnTo>
                <a:lnTo>
                  <a:pt x="891" y="2031"/>
                </a:lnTo>
                <a:lnTo>
                  <a:pt x="883" y="2048"/>
                </a:lnTo>
                <a:lnTo>
                  <a:pt x="872" y="2063"/>
                </a:lnTo>
                <a:lnTo>
                  <a:pt x="859" y="2078"/>
                </a:lnTo>
                <a:lnTo>
                  <a:pt x="846" y="2094"/>
                </a:lnTo>
                <a:lnTo>
                  <a:pt x="850" y="2104"/>
                </a:lnTo>
                <a:lnTo>
                  <a:pt x="852" y="2116"/>
                </a:lnTo>
                <a:lnTo>
                  <a:pt x="852" y="2122"/>
                </a:lnTo>
                <a:lnTo>
                  <a:pt x="850" y="2128"/>
                </a:lnTo>
                <a:lnTo>
                  <a:pt x="847" y="2134"/>
                </a:lnTo>
                <a:lnTo>
                  <a:pt x="844" y="2139"/>
                </a:lnTo>
                <a:lnTo>
                  <a:pt x="835" y="2148"/>
                </a:lnTo>
                <a:lnTo>
                  <a:pt x="826" y="2158"/>
                </a:lnTo>
                <a:lnTo>
                  <a:pt x="800" y="2184"/>
                </a:lnTo>
                <a:lnTo>
                  <a:pt x="780" y="2210"/>
                </a:lnTo>
                <a:lnTo>
                  <a:pt x="771" y="2223"/>
                </a:lnTo>
                <a:lnTo>
                  <a:pt x="762" y="2237"/>
                </a:lnTo>
                <a:lnTo>
                  <a:pt x="755" y="2253"/>
                </a:lnTo>
                <a:lnTo>
                  <a:pt x="747" y="2270"/>
                </a:lnTo>
                <a:lnTo>
                  <a:pt x="765" y="2264"/>
                </a:lnTo>
                <a:lnTo>
                  <a:pt x="782" y="2256"/>
                </a:lnTo>
                <a:lnTo>
                  <a:pt x="797" y="2250"/>
                </a:lnTo>
                <a:lnTo>
                  <a:pt x="811" y="2241"/>
                </a:lnTo>
                <a:lnTo>
                  <a:pt x="839" y="2223"/>
                </a:lnTo>
                <a:lnTo>
                  <a:pt x="869" y="2202"/>
                </a:lnTo>
                <a:lnTo>
                  <a:pt x="865" y="2215"/>
                </a:lnTo>
                <a:lnTo>
                  <a:pt x="859" y="2227"/>
                </a:lnTo>
                <a:lnTo>
                  <a:pt x="853" y="2236"/>
                </a:lnTo>
                <a:lnTo>
                  <a:pt x="845" y="2246"/>
                </a:lnTo>
                <a:lnTo>
                  <a:pt x="827" y="2261"/>
                </a:lnTo>
                <a:lnTo>
                  <a:pt x="804" y="2276"/>
                </a:lnTo>
                <a:lnTo>
                  <a:pt x="810" y="2287"/>
                </a:lnTo>
                <a:lnTo>
                  <a:pt x="815" y="2295"/>
                </a:lnTo>
                <a:lnTo>
                  <a:pt x="819" y="2304"/>
                </a:lnTo>
                <a:lnTo>
                  <a:pt x="826" y="2314"/>
                </a:lnTo>
                <a:lnTo>
                  <a:pt x="836" y="2319"/>
                </a:lnTo>
                <a:lnTo>
                  <a:pt x="819" y="2311"/>
                </a:lnTo>
                <a:lnTo>
                  <a:pt x="794" y="2299"/>
                </a:lnTo>
                <a:lnTo>
                  <a:pt x="777" y="2293"/>
                </a:lnTo>
                <a:lnTo>
                  <a:pt x="772" y="2294"/>
                </a:lnTo>
                <a:lnTo>
                  <a:pt x="766" y="2295"/>
                </a:lnTo>
                <a:lnTo>
                  <a:pt x="762" y="2298"/>
                </a:lnTo>
                <a:lnTo>
                  <a:pt x="758" y="2300"/>
                </a:lnTo>
                <a:lnTo>
                  <a:pt x="751" y="2309"/>
                </a:lnTo>
                <a:lnTo>
                  <a:pt x="744" y="2318"/>
                </a:lnTo>
                <a:lnTo>
                  <a:pt x="738" y="2328"/>
                </a:lnTo>
                <a:lnTo>
                  <a:pt x="732" y="2337"/>
                </a:lnTo>
                <a:lnTo>
                  <a:pt x="727" y="2342"/>
                </a:lnTo>
                <a:lnTo>
                  <a:pt x="723" y="2346"/>
                </a:lnTo>
                <a:lnTo>
                  <a:pt x="718" y="2349"/>
                </a:lnTo>
                <a:lnTo>
                  <a:pt x="713" y="2351"/>
                </a:lnTo>
                <a:lnTo>
                  <a:pt x="694" y="2360"/>
                </a:lnTo>
                <a:lnTo>
                  <a:pt x="675" y="2369"/>
                </a:lnTo>
                <a:lnTo>
                  <a:pt x="666" y="2374"/>
                </a:lnTo>
                <a:lnTo>
                  <a:pt x="658" y="2380"/>
                </a:lnTo>
                <a:lnTo>
                  <a:pt x="649" y="2386"/>
                </a:lnTo>
                <a:lnTo>
                  <a:pt x="642" y="2392"/>
                </a:lnTo>
                <a:lnTo>
                  <a:pt x="635" y="2399"/>
                </a:lnTo>
                <a:lnTo>
                  <a:pt x="629" y="2406"/>
                </a:lnTo>
                <a:lnTo>
                  <a:pt x="624" y="2413"/>
                </a:lnTo>
                <a:lnTo>
                  <a:pt x="620" y="2422"/>
                </a:lnTo>
                <a:lnTo>
                  <a:pt x="615" y="2430"/>
                </a:lnTo>
                <a:lnTo>
                  <a:pt x="613" y="2440"/>
                </a:lnTo>
                <a:lnTo>
                  <a:pt x="611" y="2449"/>
                </a:lnTo>
                <a:lnTo>
                  <a:pt x="611" y="2460"/>
                </a:lnTo>
                <a:lnTo>
                  <a:pt x="611" y="2472"/>
                </a:lnTo>
                <a:lnTo>
                  <a:pt x="612" y="2482"/>
                </a:lnTo>
                <a:lnTo>
                  <a:pt x="614" y="2493"/>
                </a:lnTo>
                <a:lnTo>
                  <a:pt x="618" y="2503"/>
                </a:lnTo>
                <a:lnTo>
                  <a:pt x="622" y="2512"/>
                </a:lnTo>
                <a:lnTo>
                  <a:pt x="628" y="2520"/>
                </a:lnTo>
                <a:lnTo>
                  <a:pt x="631" y="2523"/>
                </a:lnTo>
                <a:lnTo>
                  <a:pt x="635" y="2526"/>
                </a:lnTo>
                <a:lnTo>
                  <a:pt x="640" y="2529"/>
                </a:lnTo>
                <a:lnTo>
                  <a:pt x="645" y="2532"/>
                </a:lnTo>
                <a:lnTo>
                  <a:pt x="638" y="2538"/>
                </a:lnTo>
                <a:lnTo>
                  <a:pt x="630" y="2544"/>
                </a:lnTo>
                <a:lnTo>
                  <a:pt x="624" y="2551"/>
                </a:lnTo>
                <a:lnTo>
                  <a:pt x="619" y="2558"/>
                </a:lnTo>
                <a:lnTo>
                  <a:pt x="614" y="2566"/>
                </a:lnTo>
                <a:lnTo>
                  <a:pt x="610" y="2574"/>
                </a:lnTo>
                <a:lnTo>
                  <a:pt x="608" y="2582"/>
                </a:lnTo>
                <a:lnTo>
                  <a:pt x="608" y="2593"/>
                </a:lnTo>
                <a:lnTo>
                  <a:pt x="608" y="2601"/>
                </a:lnTo>
                <a:lnTo>
                  <a:pt x="609" y="2610"/>
                </a:lnTo>
                <a:lnTo>
                  <a:pt x="610" y="2618"/>
                </a:lnTo>
                <a:lnTo>
                  <a:pt x="612" y="2626"/>
                </a:lnTo>
                <a:lnTo>
                  <a:pt x="616" y="2640"/>
                </a:lnTo>
                <a:lnTo>
                  <a:pt x="623" y="2654"/>
                </a:lnTo>
                <a:lnTo>
                  <a:pt x="629" y="2668"/>
                </a:lnTo>
                <a:lnTo>
                  <a:pt x="637" y="2683"/>
                </a:lnTo>
                <a:lnTo>
                  <a:pt x="643" y="2698"/>
                </a:lnTo>
                <a:lnTo>
                  <a:pt x="648" y="2714"/>
                </a:lnTo>
                <a:lnTo>
                  <a:pt x="653" y="2737"/>
                </a:lnTo>
                <a:lnTo>
                  <a:pt x="656" y="2756"/>
                </a:lnTo>
                <a:lnTo>
                  <a:pt x="657" y="2765"/>
                </a:lnTo>
                <a:lnTo>
                  <a:pt x="659" y="2776"/>
                </a:lnTo>
                <a:lnTo>
                  <a:pt x="662" y="2785"/>
                </a:lnTo>
                <a:lnTo>
                  <a:pt x="665" y="2797"/>
                </a:lnTo>
                <a:lnTo>
                  <a:pt x="674" y="2788"/>
                </a:lnTo>
                <a:lnTo>
                  <a:pt x="681" y="2780"/>
                </a:lnTo>
                <a:lnTo>
                  <a:pt x="687" y="2771"/>
                </a:lnTo>
                <a:lnTo>
                  <a:pt x="694" y="2762"/>
                </a:lnTo>
                <a:lnTo>
                  <a:pt x="700" y="2755"/>
                </a:lnTo>
                <a:lnTo>
                  <a:pt x="707" y="2748"/>
                </a:lnTo>
                <a:lnTo>
                  <a:pt x="712" y="2745"/>
                </a:lnTo>
                <a:lnTo>
                  <a:pt x="716" y="2744"/>
                </a:lnTo>
                <a:lnTo>
                  <a:pt x="721" y="2742"/>
                </a:lnTo>
                <a:lnTo>
                  <a:pt x="726" y="2742"/>
                </a:lnTo>
                <a:lnTo>
                  <a:pt x="733" y="2742"/>
                </a:lnTo>
                <a:lnTo>
                  <a:pt x="738" y="2744"/>
                </a:lnTo>
                <a:lnTo>
                  <a:pt x="742" y="2745"/>
                </a:lnTo>
                <a:lnTo>
                  <a:pt x="747" y="2747"/>
                </a:lnTo>
                <a:lnTo>
                  <a:pt x="752" y="2749"/>
                </a:lnTo>
                <a:lnTo>
                  <a:pt x="757" y="2750"/>
                </a:lnTo>
                <a:lnTo>
                  <a:pt x="761" y="2751"/>
                </a:lnTo>
                <a:lnTo>
                  <a:pt x="767" y="2752"/>
                </a:lnTo>
                <a:lnTo>
                  <a:pt x="778" y="2751"/>
                </a:lnTo>
                <a:lnTo>
                  <a:pt x="787" y="2748"/>
                </a:lnTo>
                <a:lnTo>
                  <a:pt x="795" y="2744"/>
                </a:lnTo>
                <a:lnTo>
                  <a:pt x="802" y="2740"/>
                </a:lnTo>
                <a:lnTo>
                  <a:pt x="810" y="2733"/>
                </a:lnTo>
                <a:lnTo>
                  <a:pt x="817" y="2728"/>
                </a:lnTo>
                <a:lnTo>
                  <a:pt x="826" y="2723"/>
                </a:lnTo>
                <a:lnTo>
                  <a:pt x="835" y="2719"/>
                </a:lnTo>
                <a:lnTo>
                  <a:pt x="846" y="2731"/>
                </a:lnTo>
                <a:lnTo>
                  <a:pt x="836" y="2739"/>
                </a:lnTo>
                <a:lnTo>
                  <a:pt x="828" y="2746"/>
                </a:lnTo>
                <a:lnTo>
                  <a:pt x="819" y="2752"/>
                </a:lnTo>
                <a:lnTo>
                  <a:pt x="812" y="2761"/>
                </a:lnTo>
                <a:lnTo>
                  <a:pt x="807" y="2769"/>
                </a:lnTo>
                <a:lnTo>
                  <a:pt x="801" y="2778"/>
                </a:lnTo>
                <a:lnTo>
                  <a:pt x="799" y="2788"/>
                </a:lnTo>
                <a:lnTo>
                  <a:pt x="798" y="2800"/>
                </a:lnTo>
                <a:lnTo>
                  <a:pt x="799" y="2806"/>
                </a:lnTo>
                <a:lnTo>
                  <a:pt x="801" y="2811"/>
                </a:lnTo>
                <a:lnTo>
                  <a:pt x="804" y="2816"/>
                </a:lnTo>
                <a:lnTo>
                  <a:pt x="808" y="2820"/>
                </a:lnTo>
                <a:lnTo>
                  <a:pt x="817" y="2827"/>
                </a:lnTo>
                <a:lnTo>
                  <a:pt x="826" y="2837"/>
                </a:lnTo>
                <a:lnTo>
                  <a:pt x="836" y="2854"/>
                </a:lnTo>
                <a:lnTo>
                  <a:pt x="845" y="2868"/>
                </a:lnTo>
                <a:lnTo>
                  <a:pt x="849" y="2877"/>
                </a:lnTo>
                <a:lnTo>
                  <a:pt x="851" y="2882"/>
                </a:lnTo>
                <a:lnTo>
                  <a:pt x="852" y="2884"/>
                </a:lnTo>
                <a:lnTo>
                  <a:pt x="851" y="2885"/>
                </a:lnTo>
                <a:lnTo>
                  <a:pt x="850" y="2887"/>
                </a:lnTo>
                <a:lnTo>
                  <a:pt x="849" y="2887"/>
                </a:lnTo>
                <a:lnTo>
                  <a:pt x="845" y="2884"/>
                </a:lnTo>
                <a:lnTo>
                  <a:pt x="839" y="2881"/>
                </a:lnTo>
                <a:lnTo>
                  <a:pt x="825" y="2872"/>
                </a:lnTo>
                <a:lnTo>
                  <a:pt x="808" y="2860"/>
                </a:lnTo>
                <a:lnTo>
                  <a:pt x="799" y="2855"/>
                </a:lnTo>
                <a:lnTo>
                  <a:pt x="792" y="2851"/>
                </a:lnTo>
                <a:lnTo>
                  <a:pt x="784" y="2849"/>
                </a:lnTo>
                <a:lnTo>
                  <a:pt x="777" y="2847"/>
                </a:lnTo>
                <a:lnTo>
                  <a:pt x="772" y="2847"/>
                </a:lnTo>
                <a:lnTo>
                  <a:pt x="767" y="2849"/>
                </a:lnTo>
                <a:lnTo>
                  <a:pt x="762" y="2850"/>
                </a:lnTo>
                <a:lnTo>
                  <a:pt x="758" y="2852"/>
                </a:lnTo>
                <a:lnTo>
                  <a:pt x="750" y="2857"/>
                </a:lnTo>
                <a:lnTo>
                  <a:pt x="743" y="2864"/>
                </a:lnTo>
                <a:lnTo>
                  <a:pt x="738" y="2873"/>
                </a:lnTo>
                <a:lnTo>
                  <a:pt x="734" y="2882"/>
                </a:lnTo>
                <a:lnTo>
                  <a:pt x="731" y="2893"/>
                </a:lnTo>
                <a:lnTo>
                  <a:pt x="729" y="2903"/>
                </a:lnTo>
                <a:lnTo>
                  <a:pt x="731" y="2923"/>
                </a:lnTo>
                <a:lnTo>
                  <a:pt x="732" y="2942"/>
                </a:lnTo>
                <a:lnTo>
                  <a:pt x="734" y="2959"/>
                </a:lnTo>
                <a:lnTo>
                  <a:pt x="737" y="2977"/>
                </a:lnTo>
                <a:lnTo>
                  <a:pt x="743" y="3012"/>
                </a:lnTo>
                <a:lnTo>
                  <a:pt x="751" y="3051"/>
                </a:lnTo>
                <a:lnTo>
                  <a:pt x="751" y="3096"/>
                </a:lnTo>
                <a:lnTo>
                  <a:pt x="764" y="3093"/>
                </a:lnTo>
                <a:lnTo>
                  <a:pt x="777" y="3091"/>
                </a:lnTo>
                <a:lnTo>
                  <a:pt x="782" y="3092"/>
                </a:lnTo>
                <a:lnTo>
                  <a:pt x="787" y="3093"/>
                </a:lnTo>
                <a:lnTo>
                  <a:pt x="791" y="3096"/>
                </a:lnTo>
                <a:lnTo>
                  <a:pt x="794" y="3098"/>
                </a:lnTo>
                <a:lnTo>
                  <a:pt x="797" y="3101"/>
                </a:lnTo>
                <a:lnTo>
                  <a:pt x="799" y="3104"/>
                </a:lnTo>
                <a:lnTo>
                  <a:pt x="801" y="3108"/>
                </a:lnTo>
                <a:lnTo>
                  <a:pt x="801" y="3113"/>
                </a:lnTo>
                <a:lnTo>
                  <a:pt x="801" y="3118"/>
                </a:lnTo>
                <a:lnTo>
                  <a:pt x="800" y="3122"/>
                </a:lnTo>
                <a:lnTo>
                  <a:pt x="799" y="3127"/>
                </a:lnTo>
                <a:lnTo>
                  <a:pt x="797" y="3132"/>
                </a:lnTo>
                <a:lnTo>
                  <a:pt x="792" y="3139"/>
                </a:lnTo>
                <a:lnTo>
                  <a:pt x="785" y="3146"/>
                </a:lnTo>
                <a:lnTo>
                  <a:pt x="770" y="3159"/>
                </a:lnTo>
                <a:lnTo>
                  <a:pt x="754" y="3174"/>
                </a:lnTo>
                <a:lnTo>
                  <a:pt x="737" y="3192"/>
                </a:lnTo>
                <a:lnTo>
                  <a:pt x="722" y="3210"/>
                </a:lnTo>
                <a:lnTo>
                  <a:pt x="707" y="3227"/>
                </a:lnTo>
                <a:lnTo>
                  <a:pt x="689" y="3244"/>
                </a:lnTo>
                <a:lnTo>
                  <a:pt x="696" y="3258"/>
                </a:lnTo>
                <a:lnTo>
                  <a:pt x="712" y="3254"/>
                </a:lnTo>
                <a:lnTo>
                  <a:pt x="725" y="3250"/>
                </a:lnTo>
                <a:lnTo>
                  <a:pt x="739" y="3244"/>
                </a:lnTo>
                <a:lnTo>
                  <a:pt x="754" y="3241"/>
                </a:lnTo>
                <a:lnTo>
                  <a:pt x="760" y="3255"/>
                </a:lnTo>
                <a:lnTo>
                  <a:pt x="760" y="3326"/>
                </a:lnTo>
                <a:lnTo>
                  <a:pt x="767" y="3340"/>
                </a:lnTo>
                <a:lnTo>
                  <a:pt x="782" y="3335"/>
                </a:lnTo>
                <a:lnTo>
                  <a:pt x="797" y="3332"/>
                </a:lnTo>
                <a:lnTo>
                  <a:pt x="811" y="3330"/>
                </a:lnTo>
                <a:lnTo>
                  <a:pt x="823" y="3329"/>
                </a:lnTo>
                <a:lnTo>
                  <a:pt x="837" y="3327"/>
                </a:lnTo>
                <a:lnTo>
                  <a:pt x="851" y="3324"/>
                </a:lnTo>
                <a:lnTo>
                  <a:pt x="865" y="3321"/>
                </a:lnTo>
                <a:lnTo>
                  <a:pt x="879" y="3316"/>
                </a:lnTo>
                <a:lnTo>
                  <a:pt x="886" y="3313"/>
                </a:lnTo>
                <a:lnTo>
                  <a:pt x="891" y="3309"/>
                </a:lnTo>
                <a:lnTo>
                  <a:pt x="895" y="3305"/>
                </a:lnTo>
                <a:lnTo>
                  <a:pt x="899" y="3299"/>
                </a:lnTo>
                <a:lnTo>
                  <a:pt x="907" y="3289"/>
                </a:lnTo>
                <a:lnTo>
                  <a:pt x="916" y="3278"/>
                </a:lnTo>
                <a:lnTo>
                  <a:pt x="929" y="3270"/>
                </a:lnTo>
                <a:lnTo>
                  <a:pt x="941" y="3262"/>
                </a:lnTo>
                <a:lnTo>
                  <a:pt x="952" y="3257"/>
                </a:lnTo>
                <a:lnTo>
                  <a:pt x="965" y="3254"/>
                </a:lnTo>
                <a:lnTo>
                  <a:pt x="990" y="3248"/>
                </a:lnTo>
                <a:lnTo>
                  <a:pt x="1019" y="3241"/>
                </a:lnTo>
                <a:lnTo>
                  <a:pt x="1008" y="3254"/>
                </a:lnTo>
                <a:lnTo>
                  <a:pt x="998" y="3265"/>
                </a:lnTo>
                <a:lnTo>
                  <a:pt x="987" y="3274"/>
                </a:lnTo>
                <a:lnTo>
                  <a:pt x="977" y="3283"/>
                </a:lnTo>
                <a:lnTo>
                  <a:pt x="953" y="3298"/>
                </a:lnTo>
                <a:lnTo>
                  <a:pt x="927" y="3316"/>
                </a:lnTo>
                <a:lnTo>
                  <a:pt x="927" y="3356"/>
                </a:lnTo>
                <a:lnTo>
                  <a:pt x="968" y="3356"/>
                </a:lnTo>
                <a:lnTo>
                  <a:pt x="970" y="3371"/>
                </a:lnTo>
                <a:lnTo>
                  <a:pt x="971" y="3385"/>
                </a:lnTo>
                <a:lnTo>
                  <a:pt x="970" y="3392"/>
                </a:lnTo>
                <a:lnTo>
                  <a:pt x="968" y="3399"/>
                </a:lnTo>
                <a:lnTo>
                  <a:pt x="964" y="3405"/>
                </a:lnTo>
                <a:lnTo>
                  <a:pt x="961" y="3411"/>
                </a:lnTo>
                <a:lnTo>
                  <a:pt x="949" y="3406"/>
                </a:lnTo>
                <a:lnTo>
                  <a:pt x="940" y="3401"/>
                </a:lnTo>
                <a:lnTo>
                  <a:pt x="934" y="3398"/>
                </a:lnTo>
                <a:lnTo>
                  <a:pt x="929" y="3395"/>
                </a:lnTo>
                <a:lnTo>
                  <a:pt x="923" y="3394"/>
                </a:lnTo>
                <a:lnTo>
                  <a:pt x="916" y="3394"/>
                </a:lnTo>
                <a:lnTo>
                  <a:pt x="908" y="3394"/>
                </a:lnTo>
                <a:lnTo>
                  <a:pt x="899" y="3395"/>
                </a:lnTo>
                <a:lnTo>
                  <a:pt x="891" y="3398"/>
                </a:lnTo>
                <a:lnTo>
                  <a:pt x="884" y="3400"/>
                </a:lnTo>
                <a:lnTo>
                  <a:pt x="869" y="3405"/>
                </a:lnTo>
                <a:lnTo>
                  <a:pt x="856" y="3412"/>
                </a:lnTo>
                <a:lnTo>
                  <a:pt x="842" y="3421"/>
                </a:lnTo>
                <a:lnTo>
                  <a:pt x="829" y="3429"/>
                </a:lnTo>
                <a:lnTo>
                  <a:pt x="814" y="3438"/>
                </a:lnTo>
                <a:lnTo>
                  <a:pt x="798" y="3445"/>
                </a:lnTo>
                <a:lnTo>
                  <a:pt x="767" y="3457"/>
                </a:lnTo>
                <a:lnTo>
                  <a:pt x="739" y="3468"/>
                </a:lnTo>
                <a:lnTo>
                  <a:pt x="733" y="3473"/>
                </a:lnTo>
                <a:lnTo>
                  <a:pt x="727" y="3477"/>
                </a:lnTo>
                <a:lnTo>
                  <a:pt x="722" y="3481"/>
                </a:lnTo>
                <a:lnTo>
                  <a:pt x="718" y="3486"/>
                </a:lnTo>
                <a:lnTo>
                  <a:pt x="715" y="3492"/>
                </a:lnTo>
                <a:lnTo>
                  <a:pt x="712" y="3498"/>
                </a:lnTo>
                <a:lnTo>
                  <a:pt x="710" y="3505"/>
                </a:lnTo>
                <a:lnTo>
                  <a:pt x="709" y="3513"/>
                </a:lnTo>
                <a:lnTo>
                  <a:pt x="710" y="3525"/>
                </a:lnTo>
                <a:lnTo>
                  <a:pt x="712" y="3538"/>
                </a:lnTo>
                <a:lnTo>
                  <a:pt x="714" y="3542"/>
                </a:lnTo>
                <a:lnTo>
                  <a:pt x="717" y="3546"/>
                </a:lnTo>
                <a:lnTo>
                  <a:pt x="721" y="3550"/>
                </a:lnTo>
                <a:lnTo>
                  <a:pt x="726" y="3551"/>
                </a:lnTo>
                <a:lnTo>
                  <a:pt x="740" y="3550"/>
                </a:lnTo>
                <a:lnTo>
                  <a:pt x="752" y="3546"/>
                </a:lnTo>
                <a:lnTo>
                  <a:pt x="763" y="3541"/>
                </a:lnTo>
                <a:lnTo>
                  <a:pt x="774" y="3537"/>
                </a:lnTo>
                <a:lnTo>
                  <a:pt x="784" y="3532"/>
                </a:lnTo>
                <a:lnTo>
                  <a:pt x="796" y="3527"/>
                </a:lnTo>
                <a:lnTo>
                  <a:pt x="809" y="3524"/>
                </a:lnTo>
                <a:lnTo>
                  <a:pt x="821" y="3523"/>
                </a:lnTo>
                <a:lnTo>
                  <a:pt x="828" y="3524"/>
                </a:lnTo>
                <a:lnTo>
                  <a:pt x="833" y="3526"/>
                </a:lnTo>
                <a:lnTo>
                  <a:pt x="838" y="3530"/>
                </a:lnTo>
                <a:lnTo>
                  <a:pt x="841" y="3535"/>
                </a:lnTo>
                <a:lnTo>
                  <a:pt x="849" y="3545"/>
                </a:lnTo>
                <a:lnTo>
                  <a:pt x="855" y="3557"/>
                </a:lnTo>
                <a:lnTo>
                  <a:pt x="836" y="3559"/>
                </a:lnTo>
                <a:lnTo>
                  <a:pt x="819" y="3559"/>
                </a:lnTo>
                <a:lnTo>
                  <a:pt x="802" y="3558"/>
                </a:lnTo>
                <a:lnTo>
                  <a:pt x="782" y="3557"/>
                </a:lnTo>
                <a:lnTo>
                  <a:pt x="781" y="3572"/>
                </a:lnTo>
                <a:lnTo>
                  <a:pt x="781" y="3586"/>
                </a:lnTo>
                <a:lnTo>
                  <a:pt x="781" y="3598"/>
                </a:lnTo>
                <a:lnTo>
                  <a:pt x="781" y="3613"/>
                </a:lnTo>
                <a:lnTo>
                  <a:pt x="717" y="3613"/>
                </a:lnTo>
                <a:lnTo>
                  <a:pt x="716" y="3626"/>
                </a:lnTo>
                <a:lnTo>
                  <a:pt x="716" y="3636"/>
                </a:lnTo>
                <a:lnTo>
                  <a:pt x="716" y="3647"/>
                </a:lnTo>
                <a:lnTo>
                  <a:pt x="717" y="3659"/>
                </a:lnTo>
                <a:lnTo>
                  <a:pt x="723" y="3659"/>
                </a:lnTo>
                <a:lnTo>
                  <a:pt x="729" y="3661"/>
                </a:lnTo>
                <a:lnTo>
                  <a:pt x="735" y="3663"/>
                </a:lnTo>
                <a:lnTo>
                  <a:pt x="740" y="3666"/>
                </a:lnTo>
                <a:lnTo>
                  <a:pt x="744" y="3670"/>
                </a:lnTo>
                <a:lnTo>
                  <a:pt x="748" y="3675"/>
                </a:lnTo>
                <a:lnTo>
                  <a:pt x="752" y="3681"/>
                </a:lnTo>
                <a:lnTo>
                  <a:pt x="754" y="3686"/>
                </a:lnTo>
                <a:lnTo>
                  <a:pt x="740" y="3690"/>
                </a:lnTo>
                <a:lnTo>
                  <a:pt x="732" y="3684"/>
                </a:lnTo>
                <a:lnTo>
                  <a:pt x="724" y="3678"/>
                </a:lnTo>
                <a:lnTo>
                  <a:pt x="720" y="3676"/>
                </a:lnTo>
                <a:lnTo>
                  <a:pt x="716" y="3674"/>
                </a:lnTo>
                <a:lnTo>
                  <a:pt x="712" y="3673"/>
                </a:lnTo>
                <a:lnTo>
                  <a:pt x="706" y="3672"/>
                </a:lnTo>
                <a:lnTo>
                  <a:pt x="701" y="3673"/>
                </a:lnTo>
                <a:lnTo>
                  <a:pt x="696" y="3674"/>
                </a:lnTo>
                <a:lnTo>
                  <a:pt x="691" y="3675"/>
                </a:lnTo>
                <a:lnTo>
                  <a:pt x="687" y="3677"/>
                </a:lnTo>
                <a:lnTo>
                  <a:pt x="684" y="3681"/>
                </a:lnTo>
                <a:lnTo>
                  <a:pt x="681" y="3684"/>
                </a:lnTo>
                <a:lnTo>
                  <a:pt x="680" y="3688"/>
                </a:lnTo>
                <a:lnTo>
                  <a:pt x="679" y="3693"/>
                </a:lnTo>
                <a:lnTo>
                  <a:pt x="682" y="3704"/>
                </a:lnTo>
                <a:lnTo>
                  <a:pt x="686" y="3713"/>
                </a:lnTo>
                <a:lnTo>
                  <a:pt x="696" y="3713"/>
                </a:lnTo>
                <a:lnTo>
                  <a:pt x="705" y="3714"/>
                </a:lnTo>
                <a:lnTo>
                  <a:pt x="715" y="3715"/>
                </a:lnTo>
                <a:lnTo>
                  <a:pt x="723" y="3718"/>
                </a:lnTo>
                <a:lnTo>
                  <a:pt x="740" y="3723"/>
                </a:lnTo>
                <a:lnTo>
                  <a:pt x="756" y="3729"/>
                </a:lnTo>
                <a:lnTo>
                  <a:pt x="787" y="3745"/>
                </a:lnTo>
                <a:lnTo>
                  <a:pt x="821" y="3761"/>
                </a:lnTo>
                <a:lnTo>
                  <a:pt x="821" y="3781"/>
                </a:lnTo>
                <a:lnTo>
                  <a:pt x="808" y="3785"/>
                </a:lnTo>
                <a:lnTo>
                  <a:pt x="795" y="3788"/>
                </a:lnTo>
                <a:lnTo>
                  <a:pt x="790" y="3787"/>
                </a:lnTo>
                <a:lnTo>
                  <a:pt x="785" y="3786"/>
                </a:lnTo>
                <a:lnTo>
                  <a:pt x="782" y="3785"/>
                </a:lnTo>
                <a:lnTo>
                  <a:pt x="779" y="3782"/>
                </a:lnTo>
                <a:lnTo>
                  <a:pt x="773" y="3777"/>
                </a:lnTo>
                <a:lnTo>
                  <a:pt x="766" y="3769"/>
                </a:lnTo>
                <a:lnTo>
                  <a:pt x="761" y="3763"/>
                </a:lnTo>
                <a:lnTo>
                  <a:pt x="755" y="3757"/>
                </a:lnTo>
                <a:lnTo>
                  <a:pt x="752" y="3755"/>
                </a:lnTo>
                <a:lnTo>
                  <a:pt x="747" y="3752"/>
                </a:lnTo>
                <a:lnTo>
                  <a:pt x="744" y="3751"/>
                </a:lnTo>
                <a:lnTo>
                  <a:pt x="739" y="3750"/>
                </a:lnTo>
                <a:lnTo>
                  <a:pt x="700" y="3750"/>
                </a:lnTo>
                <a:lnTo>
                  <a:pt x="707" y="3766"/>
                </a:lnTo>
                <a:lnTo>
                  <a:pt x="715" y="3780"/>
                </a:lnTo>
                <a:lnTo>
                  <a:pt x="723" y="3793"/>
                </a:lnTo>
                <a:lnTo>
                  <a:pt x="732" y="3804"/>
                </a:lnTo>
                <a:lnTo>
                  <a:pt x="741" y="3816"/>
                </a:lnTo>
                <a:lnTo>
                  <a:pt x="752" y="3825"/>
                </a:lnTo>
                <a:lnTo>
                  <a:pt x="764" y="3836"/>
                </a:lnTo>
                <a:lnTo>
                  <a:pt x="777" y="3845"/>
                </a:lnTo>
                <a:lnTo>
                  <a:pt x="787" y="3838"/>
                </a:lnTo>
                <a:lnTo>
                  <a:pt x="796" y="3832"/>
                </a:lnTo>
                <a:lnTo>
                  <a:pt x="806" y="3827"/>
                </a:lnTo>
                <a:lnTo>
                  <a:pt x="815" y="3825"/>
                </a:lnTo>
                <a:lnTo>
                  <a:pt x="825" y="3823"/>
                </a:lnTo>
                <a:lnTo>
                  <a:pt x="836" y="3822"/>
                </a:lnTo>
                <a:lnTo>
                  <a:pt x="847" y="3822"/>
                </a:lnTo>
                <a:lnTo>
                  <a:pt x="859" y="3822"/>
                </a:lnTo>
                <a:lnTo>
                  <a:pt x="870" y="3822"/>
                </a:lnTo>
                <a:lnTo>
                  <a:pt x="879" y="3823"/>
                </a:lnTo>
                <a:lnTo>
                  <a:pt x="889" y="3823"/>
                </a:lnTo>
                <a:lnTo>
                  <a:pt x="899" y="3824"/>
                </a:lnTo>
                <a:lnTo>
                  <a:pt x="910" y="3822"/>
                </a:lnTo>
                <a:lnTo>
                  <a:pt x="921" y="3819"/>
                </a:lnTo>
                <a:lnTo>
                  <a:pt x="923" y="3824"/>
                </a:lnTo>
                <a:lnTo>
                  <a:pt x="925" y="3828"/>
                </a:lnTo>
                <a:lnTo>
                  <a:pt x="926" y="3834"/>
                </a:lnTo>
                <a:lnTo>
                  <a:pt x="927" y="3839"/>
                </a:lnTo>
                <a:lnTo>
                  <a:pt x="927" y="3850"/>
                </a:lnTo>
                <a:lnTo>
                  <a:pt x="926" y="3859"/>
                </a:lnTo>
                <a:lnTo>
                  <a:pt x="926" y="3870"/>
                </a:lnTo>
                <a:lnTo>
                  <a:pt x="926" y="3879"/>
                </a:lnTo>
                <a:lnTo>
                  <a:pt x="927" y="3890"/>
                </a:lnTo>
                <a:lnTo>
                  <a:pt x="930" y="3900"/>
                </a:lnTo>
                <a:lnTo>
                  <a:pt x="933" y="3906"/>
                </a:lnTo>
                <a:lnTo>
                  <a:pt x="936" y="3910"/>
                </a:lnTo>
                <a:lnTo>
                  <a:pt x="940" y="3914"/>
                </a:lnTo>
                <a:lnTo>
                  <a:pt x="943" y="3918"/>
                </a:lnTo>
                <a:lnTo>
                  <a:pt x="952" y="3925"/>
                </a:lnTo>
                <a:lnTo>
                  <a:pt x="962" y="3929"/>
                </a:lnTo>
                <a:lnTo>
                  <a:pt x="972" y="3931"/>
                </a:lnTo>
                <a:lnTo>
                  <a:pt x="984" y="3933"/>
                </a:lnTo>
                <a:lnTo>
                  <a:pt x="997" y="3934"/>
                </a:lnTo>
                <a:lnTo>
                  <a:pt x="1008" y="3934"/>
                </a:lnTo>
                <a:lnTo>
                  <a:pt x="1020" y="3933"/>
                </a:lnTo>
                <a:lnTo>
                  <a:pt x="1035" y="3932"/>
                </a:lnTo>
                <a:lnTo>
                  <a:pt x="1051" y="3930"/>
                </a:lnTo>
                <a:lnTo>
                  <a:pt x="1062" y="3929"/>
                </a:lnTo>
                <a:lnTo>
                  <a:pt x="1065" y="3930"/>
                </a:lnTo>
                <a:lnTo>
                  <a:pt x="1066" y="3931"/>
                </a:lnTo>
                <a:lnTo>
                  <a:pt x="1064" y="3932"/>
                </a:lnTo>
                <a:lnTo>
                  <a:pt x="1060" y="3934"/>
                </a:lnTo>
                <a:lnTo>
                  <a:pt x="1040" y="3942"/>
                </a:lnTo>
                <a:lnTo>
                  <a:pt x="1002" y="3954"/>
                </a:lnTo>
                <a:lnTo>
                  <a:pt x="978" y="3961"/>
                </a:lnTo>
                <a:lnTo>
                  <a:pt x="955" y="3969"/>
                </a:lnTo>
                <a:lnTo>
                  <a:pt x="950" y="3971"/>
                </a:lnTo>
                <a:lnTo>
                  <a:pt x="946" y="3974"/>
                </a:lnTo>
                <a:lnTo>
                  <a:pt x="942" y="3977"/>
                </a:lnTo>
                <a:lnTo>
                  <a:pt x="939" y="3980"/>
                </a:lnTo>
                <a:lnTo>
                  <a:pt x="935" y="3985"/>
                </a:lnTo>
                <a:lnTo>
                  <a:pt x="934" y="3989"/>
                </a:lnTo>
                <a:lnTo>
                  <a:pt x="932" y="3994"/>
                </a:lnTo>
                <a:lnTo>
                  <a:pt x="932" y="3999"/>
                </a:lnTo>
                <a:lnTo>
                  <a:pt x="932" y="4012"/>
                </a:lnTo>
                <a:lnTo>
                  <a:pt x="932" y="4023"/>
                </a:lnTo>
                <a:lnTo>
                  <a:pt x="932" y="4034"/>
                </a:lnTo>
                <a:lnTo>
                  <a:pt x="932" y="4046"/>
                </a:lnTo>
                <a:lnTo>
                  <a:pt x="944" y="4047"/>
                </a:lnTo>
                <a:lnTo>
                  <a:pt x="954" y="4049"/>
                </a:lnTo>
                <a:lnTo>
                  <a:pt x="964" y="4051"/>
                </a:lnTo>
                <a:lnTo>
                  <a:pt x="973" y="4054"/>
                </a:lnTo>
                <a:lnTo>
                  <a:pt x="983" y="4058"/>
                </a:lnTo>
                <a:lnTo>
                  <a:pt x="993" y="4061"/>
                </a:lnTo>
                <a:lnTo>
                  <a:pt x="1004" y="4063"/>
                </a:lnTo>
                <a:lnTo>
                  <a:pt x="1016" y="4063"/>
                </a:lnTo>
                <a:lnTo>
                  <a:pt x="1020" y="4063"/>
                </a:lnTo>
                <a:lnTo>
                  <a:pt x="1023" y="4062"/>
                </a:lnTo>
                <a:lnTo>
                  <a:pt x="1026" y="4060"/>
                </a:lnTo>
                <a:lnTo>
                  <a:pt x="1029" y="4057"/>
                </a:lnTo>
                <a:lnTo>
                  <a:pt x="1036" y="4051"/>
                </a:lnTo>
                <a:lnTo>
                  <a:pt x="1042" y="4046"/>
                </a:lnTo>
                <a:lnTo>
                  <a:pt x="1056" y="4050"/>
                </a:lnTo>
                <a:lnTo>
                  <a:pt x="1058" y="4059"/>
                </a:lnTo>
                <a:lnTo>
                  <a:pt x="1060" y="4068"/>
                </a:lnTo>
                <a:lnTo>
                  <a:pt x="1064" y="4076"/>
                </a:lnTo>
                <a:lnTo>
                  <a:pt x="1070" y="4083"/>
                </a:lnTo>
                <a:lnTo>
                  <a:pt x="1076" y="4089"/>
                </a:lnTo>
                <a:lnTo>
                  <a:pt x="1083" y="4093"/>
                </a:lnTo>
                <a:lnTo>
                  <a:pt x="1091" y="4097"/>
                </a:lnTo>
                <a:lnTo>
                  <a:pt x="1100" y="4098"/>
                </a:lnTo>
                <a:lnTo>
                  <a:pt x="1103" y="4097"/>
                </a:lnTo>
                <a:lnTo>
                  <a:pt x="1105" y="4096"/>
                </a:lnTo>
                <a:lnTo>
                  <a:pt x="1108" y="4093"/>
                </a:lnTo>
                <a:lnTo>
                  <a:pt x="1109" y="4091"/>
                </a:lnTo>
                <a:lnTo>
                  <a:pt x="1111" y="4085"/>
                </a:lnTo>
                <a:lnTo>
                  <a:pt x="1114" y="4080"/>
                </a:lnTo>
                <a:lnTo>
                  <a:pt x="1122" y="4070"/>
                </a:lnTo>
                <a:lnTo>
                  <a:pt x="1131" y="4061"/>
                </a:lnTo>
                <a:lnTo>
                  <a:pt x="1139" y="4052"/>
                </a:lnTo>
                <a:lnTo>
                  <a:pt x="1148" y="4045"/>
                </a:lnTo>
                <a:lnTo>
                  <a:pt x="1157" y="4039"/>
                </a:lnTo>
                <a:lnTo>
                  <a:pt x="1168" y="4032"/>
                </a:lnTo>
                <a:lnTo>
                  <a:pt x="1179" y="4027"/>
                </a:lnTo>
                <a:lnTo>
                  <a:pt x="1192" y="4023"/>
                </a:lnTo>
                <a:lnTo>
                  <a:pt x="1195" y="4029"/>
                </a:lnTo>
                <a:lnTo>
                  <a:pt x="1198" y="4036"/>
                </a:lnTo>
                <a:lnTo>
                  <a:pt x="1198" y="4044"/>
                </a:lnTo>
                <a:lnTo>
                  <a:pt x="1197" y="4051"/>
                </a:lnTo>
                <a:lnTo>
                  <a:pt x="1194" y="4058"/>
                </a:lnTo>
                <a:lnTo>
                  <a:pt x="1192" y="4064"/>
                </a:lnTo>
                <a:lnTo>
                  <a:pt x="1184" y="4074"/>
                </a:lnTo>
                <a:lnTo>
                  <a:pt x="1175" y="4085"/>
                </a:lnTo>
                <a:lnTo>
                  <a:pt x="1166" y="4095"/>
                </a:lnTo>
                <a:lnTo>
                  <a:pt x="1156" y="4105"/>
                </a:lnTo>
                <a:lnTo>
                  <a:pt x="1152" y="4111"/>
                </a:lnTo>
                <a:lnTo>
                  <a:pt x="1148" y="4117"/>
                </a:lnTo>
                <a:lnTo>
                  <a:pt x="1143" y="4124"/>
                </a:lnTo>
                <a:lnTo>
                  <a:pt x="1141" y="4131"/>
                </a:lnTo>
                <a:lnTo>
                  <a:pt x="1162" y="4139"/>
                </a:lnTo>
                <a:lnTo>
                  <a:pt x="1183" y="4145"/>
                </a:lnTo>
                <a:lnTo>
                  <a:pt x="1193" y="4147"/>
                </a:lnTo>
                <a:lnTo>
                  <a:pt x="1203" y="4149"/>
                </a:lnTo>
                <a:lnTo>
                  <a:pt x="1214" y="4149"/>
                </a:lnTo>
                <a:lnTo>
                  <a:pt x="1226" y="4148"/>
                </a:lnTo>
                <a:lnTo>
                  <a:pt x="1229" y="4162"/>
                </a:lnTo>
                <a:lnTo>
                  <a:pt x="1219" y="4165"/>
                </a:lnTo>
                <a:lnTo>
                  <a:pt x="1210" y="4171"/>
                </a:lnTo>
                <a:lnTo>
                  <a:pt x="1203" y="4177"/>
                </a:lnTo>
                <a:lnTo>
                  <a:pt x="1195" y="4183"/>
                </a:lnTo>
                <a:lnTo>
                  <a:pt x="1189" y="4191"/>
                </a:lnTo>
                <a:lnTo>
                  <a:pt x="1185" y="4200"/>
                </a:lnTo>
                <a:lnTo>
                  <a:pt x="1180" y="4210"/>
                </a:lnTo>
                <a:lnTo>
                  <a:pt x="1178" y="4219"/>
                </a:lnTo>
                <a:lnTo>
                  <a:pt x="1175" y="4230"/>
                </a:lnTo>
                <a:lnTo>
                  <a:pt x="1171" y="4238"/>
                </a:lnTo>
                <a:lnTo>
                  <a:pt x="1166" y="4246"/>
                </a:lnTo>
                <a:lnTo>
                  <a:pt x="1159" y="4253"/>
                </a:lnTo>
                <a:lnTo>
                  <a:pt x="1154" y="4260"/>
                </a:lnTo>
                <a:lnTo>
                  <a:pt x="1149" y="4269"/>
                </a:lnTo>
                <a:lnTo>
                  <a:pt x="1147" y="4273"/>
                </a:lnTo>
                <a:lnTo>
                  <a:pt x="1146" y="4277"/>
                </a:lnTo>
                <a:lnTo>
                  <a:pt x="1144" y="4282"/>
                </a:lnTo>
                <a:lnTo>
                  <a:pt x="1144" y="4288"/>
                </a:lnTo>
                <a:lnTo>
                  <a:pt x="1144" y="4295"/>
                </a:lnTo>
                <a:lnTo>
                  <a:pt x="1147" y="4303"/>
                </a:lnTo>
                <a:lnTo>
                  <a:pt x="1149" y="4309"/>
                </a:lnTo>
                <a:lnTo>
                  <a:pt x="1152" y="4315"/>
                </a:lnTo>
                <a:lnTo>
                  <a:pt x="1158" y="4328"/>
                </a:lnTo>
                <a:lnTo>
                  <a:pt x="1165" y="4342"/>
                </a:lnTo>
                <a:lnTo>
                  <a:pt x="1172" y="4362"/>
                </a:lnTo>
                <a:lnTo>
                  <a:pt x="1181" y="4381"/>
                </a:lnTo>
                <a:lnTo>
                  <a:pt x="1188" y="4388"/>
                </a:lnTo>
                <a:lnTo>
                  <a:pt x="1194" y="4394"/>
                </a:lnTo>
                <a:lnTo>
                  <a:pt x="1198" y="4397"/>
                </a:lnTo>
                <a:lnTo>
                  <a:pt x="1203" y="4399"/>
                </a:lnTo>
                <a:lnTo>
                  <a:pt x="1207" y="4399"/>
                </a:lnTo>
                <a:lnTo>
                  <a:pt x="1212" y="4400"/>
                </a:lnTo>
                <a:lnTo>
                  <a:pt x="1221" y="4399"/>
                </a:lnTo>
                <a:lnTo>
                  <a:pt x="1229" y="4398"/>
                </a:lnTo>
                <a:lnTo>
                  <a:pt x="1236" y="4397"/>
                </a:lnTo>
                <a:lnTo>
                  <a:pt x="1243" y="4393"/>
                </a:lnTo>
                <a:lnTo>
                  <a:pt x="1249" y="4390"/>
                </a:lnTo>
                <a:lnTo>
                  <a:pt x="1255" y="4387"/>
                </a:lnTo>
                <a:lnTo>
                  <a:pt x="1261" y="4383"/>
                </a:lnTo>
                <a:lnTo>
                  <a:pt x="1266" y="4378"/>
                </a:lnTo>
                <a:lnTo>
                  <a:pt x="1276" y="4367"/>
                </a:lnTo>
                <a:lnTo>
                  <a:pt x="1287" y="4355"/>
                </a:lnTo>
                <a:lnTo>
                  <a:pt x="1297" y="4342"/>
                </a:lnTo>
                <a:lnTo>
                  <a:pt x="1307" y="4328"/>
                </a:lnTo>
                <a:lnTo>
                  <a:pt x="1310" y="4345"/>
                </a:lnTo>
                <a:lnTo>
                  <a:pt x="1312" y="4361"/>
                </a:lnTo>
                <a:lnTo>
                  <a:pt x="1315" y="4375"/>
                </a:lnTo>
                <a:lnTo>
                  <a:pt x="1316" y="4390"/>
                </a:lnTo>
                <a:lnTo>
                  <a:pt x="1316" y="4420"/>
                </a:lnTo>
                <a:lnTo>
                  <a:pt x="1318" y="4454"/>
                </a:lnTo>
                <a:lnTo>
                  <a:pt x="1309" y="4448"/>
                </a:lnTo>
                <a:lnTo>
                  <a:pt x="1302" y="4443"/>
                </a:lnTo>
                <a:lnTo>
                  <a:pt x="1294" y="4437"/>
                </a:lnTo>
                <a:lnTo>
                  <a:pt x="1288" y="4430"/>
                </a:lnTo>
                <a:lnTo>
                  <a:pt x="1282" y="4425"/>
                </a:lnTo>
                <a:lnTo>
                  <a:pt x="1274" y="4421"/>
                </a:lnTo>
                <a:lnTo>
                  <a:pt x="1270" y="4419"/>
                </a:lnTo>
                <a:lnTo>
                  <a:pt x="1266" y="4418"/>
                </a:lnTo>
                <a:lnTo>
                  <a:pt x="1262" y="4417"/>
                </a:lnTo>
                <a:lnTo>
                  <a:pt x="1256" y="4417"/>
                </a:lnTo>
                <a:lnTo>
                  <a:pt x="1251" y="4418"/>
                </a:lnTo>
                <a:lnTo>
                  <a:pt x="1247" y="4420"/>
                </a:lnTo>
                <a:lnTo>
                  <a:pt x="1244" y="4422"/>
                </a:lnTo>
                <a:lnTo>
                  <a:pt x="1241" y="4426"/>
                </a:lnTo>
                <a:lnTo>
                  <a:pt x="1238" y="4431"/>
                </a:lnTo>
                <a:lnTo>
                  <a:pt x="1237" y="4437"/>
                </a:lnTo>
                <a:lnTo>
                  <a:pt x="1236" y="4442"/>
                </a:lnTo>
                <a:lnTo>
                  <a:pt x="1236" y="4447"/>
                </a:lnTo>
                <a:lnTo>
                  <a:pt x="1236" y="4451"/>
                </a:lnTo>
                <a:lnTo>
                  <a:pt x="1238" y="4455"/>
                </a:lnTo>
                <a:lnTo>
                  <a:pt x="1242" y="4458"/>
                </a:lnTo>
                <a:lnTo>
                  <a:pt x="1246" y="4460"/>
                </a:lnTo>
                <a:lnTo>
                  <a:pt x="1250" y="4462"/>
                </a:lnTo>
                <a:lnTo>
                  <a:pt x="1253" y="4464"/>
                </a:lnTo>
                <a:lnTo>
                  <a:pt x="1257" y="4467"/>
                </a:lnTo>
                <a:lnTo>
                  <a:pt x="1260" y="4470"/>
                </a:lnTo>
                <a:lnTo>
                  <a:pt x="1276" y="4500"/>
                </a:lnTo>
                <a:lnTo>
                  <a:pt x="1292" y="4524"/>
                </a:lnTo>
                <a:lnTo>
                  <a:pt x="1302" y="4536"/>
                </a:lnTo>
                <a:lnTo>
                  <a:pt x="1312" y="4546"/>
                </a:lnTo>
                <a:lnTo>
                  <a:pt x="1324" y="4557"/>
                </a:lnTo>
                <a:lnTo>
                  <a:pt x="1338" y="4565"/>
                </a:lnTo>
                <a:lnTo>
                  <a:pt x="1349" y="4555"/>
                </a:lnTo>
                <a:lnTo>
                  <a:pt x="1360" y="4544"/>
                </a:lnTo>
                <a:lnTo>
                  <a:pt x="1372" y="4536"/>
                </a:lnTo>
                <a:lnTo>
                  <a:pt x="1383" y="4529"/>
                </a:lnTo>
                <a:lnTo>
                  <a:pt x="1396" y="4523"/>
                </a:lnTo>
                <a:lnTo>
                  <a:pt x="1410" y="4518"/>
                </a:lnTo>
                <a:lnTo>
                  <a:pt x="1423" y="4515"/>
                </a:lnTo>
                <a:lnTo>
                  <a:pt x="1440" y="4512"/>
                </a:lnTo>
                <a:lnTo>
                  <a:pt x="1436" y="4524"/>
                </a:lnTo>
                <a:lnTo>
                  <a:pt x="1432" y="4536"/>
                </a:lnTo>
                <a:lnTo>
                  <a:pt x="1426" y="4546"/>
                </a:lnTo>
                <a:lnTo>
                  <a:pt x="1421" y="4557"/>
                </a:lnTo>
                <a:lnTo>
                  <a:pt x="1410" y="4577"/>
                </a:lnTo>
                <a:lnTo>
                  <a:pt x="1397" y="4595"/>
                </a:lnTo>
                <a:lnTo>
                  <a:pt x="1392" y="4605"/>
                </a:lnTo>
                <a:lnTo>
                  <a:pt x="1386" y="4614"/>
                </a:lnTo>
                <a:lnTo>
                  <a:pt x="1381" y="4624"/>
                </a:lnTo>
                <a:lnTo>
                  <a:pt x="1377" y="4633"/>
                </a:lnTo>
                <a:lnTo>
                  <a:pt x="1374" y="4644"/>
                </a:lnTo>
                <a:lnTo>
                  <a:pt x="1370" y="4655"/>
                </a:lnTo>
                <a:lnTo>
                  <a:pt x="1369" y="4667"/>
                </a:lnTo>
                <a:lnTo>
                  <a:pt x="1368" y="4680"/>
                </a:lnTo>
                <a:lnTo>
                  <a:pt x="1369" y="4695"/>
                </a:lnTo>
                <a:lnTo>
                  <a:pt x="1372" y="4709"/>
                </a:lnTo>
                <a:lnTo>
                  <a:pt x="1376" y="4723"/>
                </a:lnTo>
                <a:lnTo>
                  <a:pt x="1381" y="4735"/>
                </a:lnTo>
                <a:lnTo>
                  <a:pt x="1501" y="4775"/>
                </a:lnTo>
                <a:lnTo>
                  <a:pt x="1621" y="4814"/>
                </a:lnTo>
                <a:lnTo>
                  <a:pt x="1741" y="4852"/>
                </a:lnTo>
                <a:lnTo>
                  <a:pt x="1862" y="4889"/>
                </a:lnTo>
                <a:lnTo>
                  <a:pt x="1982" y="4924"/>
                </a:lnTo>
                <a:lnTo>
                  <a:pt x="2103" y="4959"/>
                </a:lnTo>
                <a:lnTo>
                  <a:pt x="2224" y="4993"/>
                </a:lnTo>
                <a:lnTo>
                  <a:pt x="2345" y="5026"/>
                </a:lnTo>
                <a:lnTo>
                  <a:pt x="2466" y="5059"/>
                </a:lnTo>
                <a:lnTo>
                  <a:pt x="2587" y="5089"/>
                </a:lnTo>
                <a:lnTo>
                  <a:pt x="2708" y="5120"/>
                </a:lnTo>
                <a:lnTo>
                  <a:pt x="2830" y="5148"/>
                </a:lnTo>
                <a:lnTo>
                  <a:pt x="2952" y="5177"/>
                </a:lnTo>
                <a:lnTo>
                  <a:pt x="3074" y="5204"/>
                </a:lnTo>
                <a:lnTo>
                  <a:pt x="3196" y="5231"/>
                </a:lnTo>
                <a:lnTo>
                  <a:pt x="3318" y="5256"/>
                </a:lnTo>
                <a:lnTo>
                  <a:pt x="3250" y="5089"/>
                </a:lnTo>
                <a:lnTo>
                  <a:pt x="3252" y="5077"/>
                </a:lnTo>
                <a:lnTo>
                  <a:pt x="3255" y="5065"/>
                </a:lnTo>
                <a:lnTo>
                  <a:pt x="3258" y="5054"/>
                </a:lnTo>
                <a:lnTo>
                  <a:pt x="3259" y="5042"/>
                </a:lnTo>
                <a:lnTo>
                  <a:pt x="3258" y="5033"/>
                </a:lnTo>
                <a:lnTo>
                  <a:pt x="3255" y="5026"/>
                </a:lnTo>
                <a:lnTo>
                  <a:pt x="3252" y="5018"/>
                </a:lnTo>
                <a:lnTo>
                  <a:pt x="3249" y="5012"/>
                </a:lnTo>
                <a:lnTo>
                  <a:pt x="3245" y="5006"/>
                </a:lnTo>
                <a:lnTo>
                  <a:pt x="3242" y="4998"/>
                </a:lnTo>
                <a:lnTo>
                  <a:pt x="3240" y="4991"/>
                </a:lnTo>
                <a:lnTo>
                  <a:pt x="3239" y="4983"/>
                </a:lnTo>
                <a:lnTo>
                  <a:pt x="3239" y="4848"/>
                </a:lnTo>
                <a:lnTo>
                  <a:pt x="3240" y="4813"/>
                </a:lnTo>
                <a:lnTo>
                  <a:pt x="3242" y="4782"/>
                </a:lnTo>
                <a:lnTo>
                  <a:pt x="3242" y="4766"/>
                </a:lnTo>
                <a:lnTo>
                  <a:pt x="3241" y="4750"/>
                </a:lnTo>
                <a:lnTo>
                  <a:pt x="3237" y="4734"/>
                </a:lnTo>
                <a:lnTo>
                  <a:pt x="3232" y="4718"/>
                </a:lnTo>
                <a:lnTo>
                  <a:pt x="3228" y="4710"/>
                </a:lnTo>
                <a:lnTo>
                  <a:pt x="3224" y="4705"/>
                </a:lnTo>
                <a:lnTo>
                  <a:pt x="3218" y="4701"/>
                </a:lnTo>
                <a:lnTo>
                  <a:pt x="3213" y="4696"/>
                </a:lnTo>
                <a:lnTo>
                  <a:pt x="3207" y="4693"/>
                </a:lnTo>
                <a:lnTo>
                  <a:pt x="3202" y="4689"/>
                </a:lnTo>
                <a:lnTo>
                  <a:pt x="3196" y="4684"/>
                </a:lnTo>
                <a:lnTo>
                  <a:pt x="3191" y="4678"/>
                </a:lnTo>
                <a:lnTo>
                  <a:pt x="3169" y="4644"/>
                </a:lnTo>
                <a:lnTo>
                  <a:pt x="3150" y="4612"/>
                </a:lnTo>
                <a:lnTo>
                  <a:pt x="3140" y="4597"/>
                </a:lnTo>
                <a:lnTo>
                  <a:pt x="3130" y="4582"/>
                </a:lnTo>
                <a:lnTo>
                  <a:pt x="3118" y="4567"/>
                </a:lnTo>
                <a:lnTo>
                  <a:pt x="3104" y="4551"/>
                </a:lnTo>
                <a:lnTo>
                  <a:pt x="3096" y="4540"/>
                </a:lnTo>
                <a:lnTo>
                  <a:pt x="3090" y="4531"/>
                </a:lnTo>
                <a:lnTo>
                  <a:pt x="3083" y="4521"/>
                </a:lnTo>
                <a:lnTo>
                  <a:pt x="3079" y="4511"/>
                </a:lnTo>
                <a:lnTo>
                  <a:pt x="3071" y="4489"/>
                </a:lnTo>
                <a:lnTo>
                  <a:pt x="3062" y="4466"/>
                </a:lnTo>
                <a:lnTo>
                  <a:pt x="3057" y="4454"/>
                </a:lnTo>
                <a:lnTo>
                  <a:pt x="3053" y="4443"/>
                </a:lnTo>
                <a:lnTo>
                  <a:pt x="3047" y="4433"/>
                </a:lnTo>
                <a:lnTo>
                  <a:pt x="3042" y="4424"/>
                </a:lnTo>
                <a:lnTo>
                  <a:pt x="3029" y="4406"/>
                </a:lnTo>
                <a:lnTo>
                  <a:pt x="3016" y="4386"/>
                </a:lnTo>
                <a:lnTo>
                  <a:pt x="3010" y="4378"/>
                </a:lnTo>
                <a:lnTo>
                  <a:pt x="3006" y="4369"/>
                </a:lnTo>
                <a:lnTo>
                  <a:pt x="3003" y="4362"/>
                </a:lnTo>
                <a:lnTo>
                  <a:pt x="3000" y="4353"/>
                </a:lnTo>
                <a:lnTo>
                  <a:pt x="2996" y="4337"/>
                </a:lnTo>
                <a:lnTo>
                  <a:pt x="2992" y="4322"/>
                </a:lnTo>
                <a:lnTo>
                  <a:pt x="2990" y="4306"/>
                </a:lnTo>
                <a:lnTo>
                  <a:pt x="2987" y="4289"/>
                </a:lnTo>
                <a:lnTo>
                  <a:pt x="2983" y="4272"/>
                </a:lnTo>
                <a:lnTo>
                  <a:pt x="2977" y="4254"/>
                </a:lnTo>
                <a:lnTo>
                  <a:pt x="2972" y="4247"/>
                </a:lnTo>
                <a:lnTo>
                  <a:pt x="2967" y="4241"/>
                </a:lnTo>
                <a:lnTo>
                  <a:pt x="2961" y="4236"/>
                </a:lnTo>
                <a:lnTo>
                  <a:pt x="2954" y="4233"/>
                </a:lnTo>
                <a:lnTo>
                  <a:pt x="2941" y="4227"/>
                </a:lnTo>
                <a:lnTo>
                  <a:pt x="2927" y="4221"/>
                </a:lnTo>
                <a:lnTo>
                  <a:pt x="2913" y="4216"/>
                </a:lnTo>
                <a:lnTo>
                  <a:pt x="2901" y="4209"/>
                </a:lnTo>
                <a:lnTo>
                  <a:pt x="2895" y="4204"/>
                </a:lnTo>
                <a:lnTo>
                  <a:pt x="2890" y="4199"/>
                </a:lnTo>
                <a:lnTo>
                  <a:pt x="2887" y="4193"/>
                </a:lnTo>
                <a:lnTo>
                  <a:pt x="2884" y="4185"/>
                </a:lnTo>
                <a:lnTo>
                  <a:pt x="2876" y="4163"/>
                </a:lnTo>
                <a:lnTo>
                  <a:pt x="2869" y="4144"/>
                </a:lnTo>
                <a:lnTo>
                  <a:pt x="2864" y="4135"/>
                </a:lnTo>
                <a:lnTo>
                  <a:pt x="2858" y="4126"/>
                </a:lnTo>
                <a:lnTo>
                  <a:pt x="2852" y="4117"/>
                </a:lnTo>
                <a:lnTo>
                  <a:pt x="2845" y="4107"/>
                </a:lnTo>
                <a:lnTo>
                  <a:pt x="2835" y="4099"/>
                </a:lnTo>
                <a:lnTo>
                  <a:pt x="2827" y="4091"/>
                </a:lnTo>
                <a:lnTo>
                  <a:pt x="2822" y="4087"/>
                </a:lnTo>
                <a:lnTo>
                  <a:pt x="2820" y="4083"/>
                </a:lnTo>
                <a:lnTo>
                  <a:pt x="2818" y="4078"/>
                </a:lnTo>
                <a:lnTo>
                  <a:pt x="2817" y="4072"/>
                </a:lnTo>
                <a:lnTo>
                  <a:pt x="2817" y="4031"/>
                </a:lnTo>
                <a:lnTo>
                  <a:pt x="2783" y="4031"/>
                </a:lnTo>
                <a:lnTo>
                  <a:pt x="2779" y="4028"/>
                </a:lnTo>
                <a:lnTo>
                  <a:pt x="2776" y="4025"/>
                </a:lnTo>
                <a:lnTo>
                  <a:pt x="2774" y="4021"/>
                </a:lnTo>
                <a:lnTo>
                  <a:pt x="2773" y="4015"/>
                </a:lnTo>
                <a:lnTo>
                  <a:pt x="2777" y="4001"/>
                </a:lnTo>
                <a:lnTo>
                  <a:pt x="2780" y="3985"/>
                </a:lnTo>
                <a:lnTo>
                  <a:pt x="2779" y="3978"/>
                </a:lnTo>
                <a:lnTo>
                  <a:pt x="2778" y="3972"/>
                </a:lnTo>
                <a:lnTo>
                  <a:pt x="2776" y="3966"/>
                </a:lnTo>
                <a:lnTo>
                  <a:pt x="2773" y="3960"/>
                </a:lnTo>
                <a:lnTo>
                  <a:pt x="2769" y="3956"/>
                </a:lnTo>
                <a:lnTo>
                  <a:pt x="2764" y="3952"/>
                </a:lnTo>
                <a:lnTo>
                  <a:pt x="2759" y="3948"/>
                </a:lnTo>
                <a:lnTo>
                  <a:pt x="2754" y="3945"/>
                </a:lnTo>
                <a:lnTo>
                  <a:pt x="2730" y="3932"/>
                </a:lnTo>
                <a:lnTo>
                  <a:pt x="2703" y="3917"/>
                </a:lnTo>
                <a:lnTo>
                  <a:pt x="2698" y="3913"/>
                </a:lnTo>
                <a:lnTo>
                  <a:pt x="2694" y="3908"/>
                </a:lnTo>
                <a:lnTo>
                  <a:pt x="2690" y="3902"/>
                </a:lnTo>
                <a:lnTo>
                  <a:pt x="2688" y="3896"/>
                </a:lnTo>
                <a:lnTo>
                  <a:pt x="2685" y="3883"/>
                </a:lnTo>
                <a:lnTo>
                  <a:pt x="2685" y="3869"/>
                </a:lnTo>
                <a:lnTo>
                  <a:pt x="2685" y="3832"/>
                </a:lnTo>
                <a:lnTo>
                  <a:pt x="2688" y="3821"/>
                </a:lnTo>
                <a:lnTo>
                  <a:pt x="2692" y="3810"/>
                </a:lnTo>
                <a:lnTo>
                  <a:pt x="2690" y="3799"/>
                </a:lnTo>
                <a:lnTo>
                  <a:pt x="2689" y="3789"/>
                </a:lnTo>
                <a:lnTo>
                  <a:pt x="2686" y="3780"/>
                </a:lnTo>
                <a:lnTo>
                  <a:pt x="2683" y="3770"/>
                </a:lnTo>
                <a:lnTo>
                  <a:pt x="2674" y="3755"/>
                </a:lnTo>
                <a:lnTo>
                  <a:pt x="2663" y="3739"/>
                </a:lnTo>
                <a:lnTo>
                  <a:pt x="2652" y="3723"/>
                </a:lnTo>
                <a:lnTo>
                  <a:pt x="2643" y="3706"/>
                </a:lnTo>
                <a:lnTo>
                  <a:pt x="2639" y="3697"/>
                </a:lnTo>
                <a:lnTo>
                  <a:pt x="2637" y="3688"/>
                </a:lnTo>
                <a:lnTo>
                  <a:pt x="2635" y="3677"/>
                </a:lnTo>
                <a:lnTo>
                  <a:pt x="2633" y="3667"/>
                </a:lnTo>
                <a:lnTo>
                  <a:pt x="2635" y="3661"/>
                </a:lnTo>
                <a:lnTo>
                  <a:pt x="2636" y="3655"/>
                </a:lnTo>
                <a:lnTo>
                  <a:pt x="2638" y="3651"/>
                </a:lnTo>
                <a:lnTo>
                  <a:pt x="2641" y="3646"/>
                </a:lnTo>
                <a:lnTo>
                  <a:pt x="2643" y="3642"/>
                </a:lnTo>
                <a:lnTo>
                  <a:pt x="2645" y="3636"/>
                </a:lnTo>
                <a:lnTo>
                  <a:pt x="2647" y="3631"/>
                </a:lnTo>
                <a:lnTo>
                  <a:pt x="2647" y="3625"/>
                </a:lnTo>
                <a:lnTo>
                  <a:pt x="2646" y="3621"/>
                </a:lnTo>
                <a:lnTo>
                  <a:pt x="2644" y="3618"/>
                </a:lnTo>
                <a:lnTo>
                  <a:pt x="2602" y="3618"/>
                </a:lnTo>
                <a:lnTo>
                  <a:pt x="2598" y="3618"/>
                </a:lnTo>
                <a:lnTo>
                  <a:pt x="2593" y="3616"/>
                </a:lnTo>
                <a:lnTo>
                  <a:pt x="2590" y="3614"/>
                </a:lnTo>
                <a:lnTo>
                  <a:pt x="2586" y="3612"/>
                </a:lnTo>
                <a:lnTo>
                  <a:pt x="2584" y="3609"/>
                </a:lnTo>
                <a:lnTo>
                  <a:pt x="2582" y="3605"/>
                </a:lnTo>
                <a:lnTo>
                  <a:pt x="2580" y="3600"/>
                </a:lnTo>
                <a:lnTo>
                  <a:pt x="2577" y="3596"/>
                </a:lnTo>
                <a:lnTo>
                  <a:pt x="2569" y="3586"/>
                </a:lnTo>
                <a:lnTo>
                  <a:pt x="2560" y="3574"/>
                </a:lnTo>
                <a:lnTo>
                  <a:pt x="2557" y="3563"/>
                </a:lnTo>
                <a:lnTo>
                  <a:pt x="2556" y="3553"/>
                </a:lnTo>
                <a:lnTo>
                  <a:pt x="2555" y="3549"/>
                </a:lnTo>
                <a:lnTo>
                  <a:pt x="2554" y="3544"/>
                </a:lnTo>
                <a:lnTo>
                  <a:pt x="2551" y="3540"/>
                </a:lnTo>
                <a:lnTo>
                  <a:pt x="2547" y="3537"/>
                </a:lnTo>
                <a:lnTo>
                  <a:pt x="2539" y="3533"/>
                </a:lnTo>
                <a:lnTo>
                  <a:pt x="2531" y="3531"/>
                </a:lnTo>
                <a:lnTo>
                  <a:pt x="2523" y="3530"/>
                </a:lnTo>
                <a:lnTo>
                  <a:pt x="2513" y="3526"/>
                </a:lnTo>
                <a:lnTo>
                  <a:pt x="2507" y="3522"/>
                </a:lnTo>
                <a:lnTo>
                  <a:pt x="2501" y="3516"/>
                </a:lnTo>
                <a:lnTo>
                  <a:pt x="2497" y="3510"/>
                </a:lnTo>
                <a:lnTo>
                  <a:pt x="2493" y="3503"/>
                </a:lnTo>
                <a:lnTo>
                  <a:pt x="2487" y="3496"/>
                </a:lnTo>
                <a:lnTo>
                  <a:pt x="2480" y="3489"/>
                </a:lnTo>
                <a:lnTo>
                  <a:pt x="2477" y="3486"/>
                </a:lnTo>
                <a:lnTo>
                  <a:pt x="2475" y="3483"/>
                </a:lnTo>
                <a:lnTo>
                  <a:pt x="2473" y="3479"/>
                </a:lnTo>
                <a:lnTo>
                  <a:pt x="2473" y="3474"/>
                </a:lnTo>
                <a:lnTo>
                  <a:pt x="2473" y="3469"/>
                </a:lnTo>
                <a:lnTo>
                  <a:pt x="2474" y="3466"/>
                </a:lnTo>
                <a:lnTo>
                  <a:pt x="2475" y="3462"/>
                </a:lnTo>
                <a:lnTo>
                  <a:pt x="2477" y="3459"/>
                </a:lnTo>
                <a:lnTo>
                  <a:pt x="2481" y="3454"/>
                </a:lnTo>
                <a:lnTo>
                  <a:pt x="2487" y="3447"/>
                </a:lnTo>
                <a:lnTo>
                  <a:pt x="2492" y="3442"/>
                </a:lnTo>
                <a:lnTo>
                  <a:pt x="2497" y="3436"/>
                </a:lnTo>
                <a:lnTo>
                  <a:pt x="2498" y="3432"/>
                </a:lnTo>
                <a:lnTo>
                  <a:pt x="2500" y="3429"/>
                </a:lnTo>
                <a:lnTo>
                  <a:pt x="2501" y="3425"/>
                </a:lnTo>
                <a:lnTo>
                  <a:pt x="2501" y="3421"/>
                </a:lnTo>
                <a:lnTo>
                  <a:pt x="2500" y="3411"/>
                </a:lnTo>
                <a:lnTo>
                  <a:pt x="2499" y="3402"/>
                </a:lnTo>
                <a:lnTo>
                  <a:pt x="2497" y="3393"/>
                </a:lnTo>
                <a:lnTo>
                  <a:pt x="2493" y="3386"/>
                </a:lnTo>
                <a:lnTo>
                  <a:pt x="2489" y="3379"/>
                </a:lnTo>
                <a:lnTo>
                  <a:pt x="2482" y="3371"/>
                </a:lnTo>
                <a:lnTo>
                  <a:pt x="2476" y="3366"/>
                </a:lnTo>
                <a:lnTo>
                  <a:pt x="2468" y="3361"/>
                </a:lnTo>
                <a:lnTo>
                  <a:pt x="3089" y="1315"/>
                </a:lnTo>
                <a:lnTo>
                  <a:pt x="3003" y="1289"/>
                </a:lnTo>
                <a:lnTo>
                  <a:pt x="2918" y="1261"/>
                </a:lnTo>
                <a:lnTo>
                  <a:pt x="2832" y="1233"/>
                </a:lnTo>
                <a:lnTo>
                  <a:pt x="2745" y="1203"/>
                </a:lnTo>
                <a:lnTo>
                  <a:pt x="2659" y="1174"/>
                </a:lnTo>
                <a:lnTo>
                  <a:pt x="2573" y="1143"/>
                </a:lnTo>
                <a:lnTo>
                  <a:pt x="2487" y="1113"/>
                </a:lnTo>
                <a:lnTo>
                  <a:pt x="2402" y="1081"/>
                </a:lnTo>
                <a:lnTo>
                  <a:pt x="2262" y="1028"/>
                </a:lnTo>
                <a:lnTo>
                  <a:pt x="2122" y="972"/>
                </a:lnTo>
                <a:lnTo>
                  <a:pt x="1982" y="915"/>
                </a:lnTo>
                <a:lnTo>
                  <a:pt x="1841" y="856"/>
                </a:lnTo>
                <a:lnTo>
                  <a:pt x="1701" y="795"/>
                </a:lnTo>
                <a:lnTo>
                  <a:pt x="1562" y="732"/>
                </a:lnTo>
                <a:lnTo>
                  <a:pt x="1421" y="667"/>
                </a:lnTo>
                <a:lnTo>
                  <a:pt x="1281" y="600"/>
                </a:lnTo>
                <a:lnTo>
                  <a:pt x="1140" y="532"/>
                </a:lnTo>
                <a:lnTo>
                  <a:pt x="1000" y="461"/>
                </a:lnTo>
                <a:lnTo>
                  <a:pt x="859" y="389"/>
                </a:lnTo>
                <a:lnTo>
                  <a:pt x="719" y="315"/>
                </a:lnTo>
                <a:lnTo>
                  <a:pt x="578" y="239"/>
                </a:lnTo>
                <a:lnTo>
                  <a:pt x="438" y="161"/>
                </a:lnTo>
                <a:lnTo>
                  <a:pt x="298" y="82"/>
                </a:lnTo>
                <a:lnTo>
                  <a:pt x="158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50000">
                <a:srgbClr val="ffc000"/>
              </a:gs>
              <a:gs pos="100000">
                <a:srgbClr val="404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6"/>
          <p:cNvGrpSpPr/>
          <p:nvPr/>
        </p:nvGrpSpPr>
        <p:grpSpPr>
          <a:xfrm>
            <a:off x="5790960" y="591120"/>
            <a:ext cx="3130920" cy="1720440"/>
            <a:chOff x="5790960" y="591120"/>
            <a:chExt cx="3130920" cy="1720440"/>
          </a:xfrm>
        </p:grpSpPr>
        <p:grpSp>
          <p:nvGrpSpPr>
            <p:cNvPr id="461" name="Group 17"/>
            <p:cNvGrpSpPr/>
            <p:nvPr/>
          </p:nvGrpSpPr>
          <p:grpSpPr>
            <a:xfrm>
              <a:off x="5790960" y="591120"/>
              <a:ext cx="3130920" cy="1674360"/>
              <a:chOff x="5790960" y="591120"/>
              <a:chExt cx="3130920" cy="1674360"/>
            </a:xfrm>
          </p:grpSpPr>
          <p:grpSp>
            <p:nvGrpSpPr>
              <p:cNvPr id="462" name="Group 18"/>
              <p:cNvGrpSpPr/>
              <p:nvPr/>
            </p:nvGrpSpPr>
            <p:grpSpPr>
              <a:xfrm>
                <a:off x="7114320" y="591120"/>
                <a:ext cx="1807560" cy="1674360"/>
                <a:chOff x="7114320" y="591120"/>
                <a:chExt cx="1807560" cy="1674360"/>
              </a:xfrm>
            </p:grpSpPr>
            <p:sp>
              <p:nvSpPr>
                <p:cNvPr id="463" name="Freeform 5"/>
                <p:cNvSpPr/>
                <p:nvPr/>
              </p:nvSpPr>
              <p:spPr>
                <a:xfrm flipH="1" rot="223200">
                  <a:off x="7166880" y="609480"/>
                  <a:ext cx="620640" cy="1637280"/>
                </a:xfrm>
                <a:custGeom>
                  <a:avLst/>
                  <a:gdLst>
                    <a:gd name="textAreaLeft" fmla="*/ 360 w 620640"/>
                    <a:gd name="textAreaRight" fmla="*/ 621360 w 620640"/>
                    <a:gd name="textAreaTop" fmla="*/ 0 h 1637280"/>
                    <a:gd name="textAreaBottom" fmla="*/ 1637640 h 1637280"/>
                  </a:gdLst>
                  <a:ahLst/>
                  <a:rect l="textAreaLeft" t="textAreaTop" r="textAreaRight" b="textAreaBottom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Straight Connector 25"/>
                <p:cNvSpPr/>
                <p:nvPr/>
              </p:nvSpPr>
              <p:spPr>
                <a:xfrm>
                  <a:off x="7518240" y="1285200"/>
                  <a:ext cx="3492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Straight Connector 26"/>
                <p:cNvSpPr/>
                <p:nvPr/>
              </p:nvSpPr>
              <p:spPr>
                <a:xfrm>
                  <a:off x="7648560" y="93996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27"/>
                <p:cNvSpPr/>
                <p:nvPr/>
              </p:nvSpPr>
              <p:spPr>
                <a:xfrm>
                  <a:off x="7472160" y="838800"/>
                  <a:ext cx="1449720" cy="1079640"/>
                </a:xfrm>
                <a:custGeom>
                  <a:avLst/>
                  <a:gdLst>
                    <a:gd name="textAreaLeft" fmla="*/ 0 w 1449720"/>
                    <a:gd name="textAreaRight" fmla="*/ 1450080 w 144972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449556" h="1082953">
                      <a:moveTo>
                        <a:pt x="265471" y="0"/>
                      </a:moveTo>
                      <a:cubicBezTo>
                        <a:pt x="1181627" y="47756"/>
                        <a:pt x="941790" y="255288"/>
                        <a:pt x="1002891" y="307609"/>
                      </a:cubicBezTo>
                      <a:cubicBezTo>
                        <a:pt x="1153535" y="375381"/>
                        <a:pt x="1301721" y="402069"/>
                        <a:pt x="1449556" y="400313"/>
                      </a:cubicBezTo>
                      <a:lnTo>
                        <a:pt x="1171444" y="1082953"/>
                      </a:lnTo>
                      <a:cubicBezTo>
                        <a:pt x="1021151" y="1047838"/>
                        <a:pt x="868750" y="1076280"/>
                        <a:pt x="720564" y="977607"/>
                      </a:cubicBezTo>
                      <a:cubicBezTo>
                        <a:pt x="716206" y="658559"/>
                        <a:pt x="133438" y="728154"/>
                        <a:pt x="0" y="678425"/>
                      </a:cubicBezTo>
                      <a:lnTo>
                        <a:pt x="265471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23"/>
              <p:cNvGrpSpPr/>
              <p:nvPr/>
            </p:nvGrpSpPr>
            <p:grpSpPr>
              <a:xfrm>
                <a:off x="5790960" y="591120"/>
                <a:ext cx="1807560" cy="1674360"/>
                <a:chOff x="5790960" y="591120"/>
                <a:chExt cx="1807560" cy="1674360"/>
              </a:xfrm>
            </p:grpSpPr>
            <p:sp>
              <p:nvSpPr>
                <p:cNvPr id="468" name="Freeform 5"/>
                <p:cNvSpPr/>
                <p:nvPr/>
              </p:nvSpPr>
              <p:spPr>
                <a:xfrm rot="21376800">
                  <a:off x="6925320" y="609480"/>
                  <a:ext cx="620640" cy="16376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1637640"/>
                    <a:gd name="textAreaBottom" fmla="*/ 1638000 h 1637640"/>
                  </a:gdLst>
                  <a:ahLst/>
                  <a:rect l="textAreaLeft" t="textAreaTop" r="textAreaRight" b="textAreaBottom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Straight Connector 21"/>
                <p:cNvSpPr/>
                <p:nvPr/>
              </p:nvSpPr>
              <p:spPr>
                <a:xfrm flipH="1">
                  <a:off x="7159680" y="1285200"/>
                  <a:ext cx="3492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Straight Connector 22"/>
                <p:cNvSpPr/>
                <p:nvPr/>
              </p:nvSpPr>
              <p:spPr>
                <a:xfrm flipH="1">
                  <a:off x="7030800" y="93996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3"/>
                <p:cNvSpPr/>
                <p:nvPr/>
              </p:nvSpPr>
              <p:spPr>
                <a:xfrm flipH="1">
                  <a:off x="5790600" y="838800"/>
                  <a:ext cx="1449720" cy="1079640"/>
                </a:xfrm>
                <a:custGeom>
                  <a:avLst/>
                  <a:gdLst>
                    <a:gd name="textAreaLeft" fmla="*/ -360 w 1449720"/>
                    <a:gd name="textAreaRight" fmla="*/ 1449720 w 144972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449556" h="1082953">
                      <a:moveTo>
                        <a:pt x="265471" y="0"/>
                      </a:moveTo>
                      <a:cubicBezTo>
                        <a:pt x="1181627" y="47756"/>
                        <a:pt x="941790" y="255288"/>
                        <a:pt x="1002891" y="307609"/>
                      </a:cubicBezTo>
                      <a:cubicBezTo>
                        <a:pt x="1153535" y="375381"/>
                        <a:pt x="1301721" y="402069"/>
                        <a:pt x="1449556" y="400313"/>
                      </a:cubicBezTo>
                      <a:lnTo>
                        <a:pt x="1171444" y="1082953"/>
                      </a:lnTo>
                      <a:cubicBezTo>
                        <a:pt x="1021151" y="1047838"/>
                        <a:pt x="868750" y="1076280"/>
                        <a:pt x="720564" y="977607"/>
                      </a:cubicBezTo>
                      <a:cubicBezTo>
                        <a:pt x="716206" y="658559"/>
                        <a:pt x="133438" y="728154"/>
                        <a:pt x="0" y="678425"/>
                      </a:cubicBezTo>
                      <a:lnTo>
                        <a:pt x="26547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28"/>
            <p:cNvGrpSpPr/>
            <p:nvPr/>
          </p:nvGrpSpPr>
          <p:grpSpPr>
            <a:xfrm>
              <a:off x="6913080" y="2190240"/>
              <a:ext cx="859320" cy="121320"/>
              <a:chOff x="6913080" y="2190240"/>
              <a:chExt cx="859320" cy="121320"/>
            </a:xfrm>
          </p:grpSpPr>
          <p:pic>
            <p:nvPicPr>
              <p:cNvPr id="473" name="Ellipse 87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3080" y="2190240"/>
                <a:ext cx="859320" cy="12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Text Box 30"/>
              <p:cNvSpPr/>
              <p:nvPr/>
            </p:nvSpPr>
            <p:spPr>
              <a:xfrm>
                <a:off x="7045200" y="2212200"/>
                <a:ext cx="59904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Rectangle 177"/>
          <p:cNvSpPr/>
          <p:nvPr/>
        </p:nvSpPr>
        <p:spPr>
          <a:xfrm>
            <a:off x="2966040" y="51055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Saskatche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8"/>
          <p:cNvSpPr/>
          <p:nvPr/>
        </p:nvSpPr>
        <p:spPr>
          <a:xfrm>
            <a:off x="2381400" y="449568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Alb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79"/>
          <p:cNvSpPr/>
          <p:nvPr/>
        </p:nvSpPr>
        <p:spPr>
          <a:xfrm>
            <a:off x="3941640" y="4419720"/>
            <a:ext cx="63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0"/>
          <p:cNvSpPr/>
          <p:nvPr/>
        </p:nvSpPr>
        <p:spPr>
          <a:xfrm>
            <a:off x="3773160" y="301608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Nunav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1"/>
          <p:cNvSpPr/>
          <p:nvPr/>
        </p:nvSpPr>
        <p:spPr>
          <a:xfrm>
            <a:off x="1832040" y="267804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Northwest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2"/>
          <p:cNvSpPr/>
          <p:nvPr/>
        </p:nvSpPr>
        <p:spPr>
          <a:xfrm>
            <a:off x="1300320" y="3809880"/>
            <a:ext cx="117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Arial"/>
              </a:rPr>
              <a:t>Britsh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3"/>
          <p:cNvSpPr/>
          <p:nvPr/>
        </p:nvSpPr>
        <p:spPr>
          <a:xfrm>
            <a:off x="4648680" y="502920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4"/>
          <p:cNvSpPr/>
          <p:nvPr/>
        </p:nvSpPr>
        <p:spPr>
          <a:xfrm>
            <a:off x="6324480" y="42228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5"/>
          <p:cNvSpPr/>
          <p:nvPr/>
        </p:nvSpPr>
        <p:spPr>
          <a:xfrm>
            <a:off x="7729920" y="3156120"/>
            <a:ext cx="1178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ew Foun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Lab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8"/>
          <p:cNvSpPr/>
          <p:nvPr/>
        </p:nvSpPr>
        <p:spPr>
          <a:xfrm>
            <a:off x="6879240" y="525780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ew Brunsw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9"/>
          <p:cNvSpPr/>
          <p:nvPr/>
        </p:nvSpPr>
        <p:spPr>
          <a:xfrm>
            <a:off x="8012880" y="537840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ova Sco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91"/>
          <p:cNvSpPr/>
          <p:nvPr/>
        </p:nvSpPr>
        <p:spPr>
          <a:xfrm>
            <a:off x="1244520" y="2666880"/>
            <a:ext cx="5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Yuk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ad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\\192.168.125.11\Non Voice Data\rinkesh\Rinkesh\Collection\07.09.2009\more collection\PPT\dd_canada_map\can_Slide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3360" y="1407960"/>
            <a:ext cx="3670200" cy="5559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\\192.168.125.11\Non Voice Data\rinkesh\Rinkesh\Collection\07.09.2009\more collection\PPT\dd_canada_map\can_Slide1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97360" y="1407960"/>
            <a:ext cx="3670200" cy="555948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42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43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own Arrow 45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D6B-4352-4D41-8E55-F529ACA8B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Group 10" descr=""/>
          <p:cNvPicPr/>
          <p:nvPr/>
        </p:nvPicPr>
        <p:blipFill>
          <a:blip r:embed="rId1"/>
          <a:stretch/>
        </p:blipFill>
        <p:spPr>
          <a:xfrm>
            <a:off x="3243240" y="3560760"/>
            <a:ext cx="5711760" cy="41623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ny Mores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\\192.168.125.11\Non Voice Data\rinkesh\Rinkesh\Collection\07.09.2009\more collection\PPT\dd_smoke_template\smoke_Slide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571760"/>
            <a:ext cx="2641680" cy="1981080"/>
          </a:xfrm>
          <a:prstGeom prst="rect">
            <a:avLst/>
          </a:prstGeom>
          <a:ln w="38160">
            <a:solidFill>
              <a:srgbClr val="ff9600"/>
            </a:solidFill>
            <a:prstDash val="dash"/>
            <a:miter/>
          </a:ln>
        </p:spPr>
      </p:pic>
      <p:pic>
        <p:nvPicPr>
          <p:cNvPr id="499" name="Picture 4" descr="\\192.168.125.11\Non Voice Data\rinkesh\Rinkesh\Collection\07.09.2009\more collection\PPT\dd_smoke_template\smoke_Slide0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95800" y="1571760"/>
            <a:ext cx="2646360" cy="1984320"/>
          </a:xfrm>
          <a:prstGeom prst="rect">
            <a:avLst/>
          </a:prstGeom>
          <a:ln w="38160">
            <a:solidFill>
              <a:srgbClr val="ff9600"/>
            </a:solidFill>
            <a:prstDash val="dash"/>
            <a:miter/>
          </a:ln>
        </p:spPr>
      </p:pic>
      <p:pic>
        <p:nvPicPr>
          <p:cNvPr id="500" name="Picture 5" descr="\\192.168.125.11\Non Voice Data\rinkesh\Rinkesh\Collection\07.09.2009\more collection\PPT\dd_diamond_shape\diam_Slide1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48520" y="1571760"/>
            <a:ext cx="2646360" cy="1984320"/>
          </a:xfrm>
          <a:prstGeom prst="rect">
            <a:avLst/>
          </a:prstGeom>
          <a:ln w="38160">
            <a:solidFill>
              <a:srgbClr val="ff9600"/>
            </a:solidFill>
            <a:prstDash val="dash"/>
            <a:miter/>
          </a:ln>
        </p:spPr>
      </p:pic>
      <p:pic>
        <p:nvPicPr>
          <p:cNvPr id="501" name="Picture 6" descr="\\192.168.125.11\Non Voice Data\rinkesh\Rinkesh\Collection\07.09.2009\more collection\PPT\dd_piechart_puzzle_a\pie_a_Slide0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8680" y="3541680"/>
            <a:ext cx="2755800" cy="42372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8"/>
          <p:cNvSpPr/>
          <p:nvPr/>
        </p:nvSpPr>
        <p:spPr>
          <a:xfrm>
            <a:off x="3286080" y="3616200"/>
            <a:ext cx="55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 are also provide customization Service where we look after your presentation to look professional. Simply fill this form for our Customization Serv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ounded Rectangle 22">
            <a:hlinkClick r:id="rId1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lobes Temp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\\192.168.125.11\Non Voice Data\rinkesh\Rinkesh\Collection\07.09.2009\more collection\PPT\dd_globes_template\globe_Slide0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4040" y="1328760"/>
            <a:ext cx="3664080" cy="555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\\192.168.125.11\Non Voice Data\rinkesh\Rinkesh\Collection\07.09.2009\more collection\PPT\dd_globes_template\globe_Slide09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95760" y="1328760"/>
            <a:ext cx="3664080" cy="5559480"/>
          </a:xfrm>
          <a:prstGeom prst="rect">
            <a:avLst/>
          </a:prstGeom>
          <a:ln w="0">
            <a:noFill/>
          </a:ln>
        </p:spPr>
      </p:pic>
      <p:sp>
        <p:nvSpPr>
          <p:cNvPr id="112" name="Rounded Rectangle 19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21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2508120" y="2189160"/>
            <a:ext cx="4280040" cy="2662200"/>
          </a:xfrm>
          <a:prstGeom prst="rect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8"/>
          <p:cNvSpPr/>
          <p:nvPr/>
        </p:nvSpPr>
        <p:spPr>
          <a:xfrm>
            <a:off x="2508120" y="3521160"/>
            <a:ext cx="4280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0"/>
          <p:cNvSpPr/>
          <p:nvPr/>
        </p:nvSpPr>
        <p:spPr>
          <a:xfrm>
            <a:off x="4648320" y="2189160"/>
            <a:ext cx="0" cy="266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2658960" y="1219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658960" y="1555920"/>
            <a:ext cx="194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4716360" y="48182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4716360" y="5154480"/>
            <a:ext cx="194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7120080" y="4896000"/>
            <a:ext cx="1060200" cy="212400"/>
            <a:chOff x="7120080" y="4896000"/>
            <a:chExt cx="1060200" cy="212400"/>
          </a:xfrm>
        </p:grpSpPr>
        <p:pic>
          <p:nvPicPr>
            <p:cNvPr id="123" name="Oval 28" descr=""/>
            <p:cNvPicPr/>
            <p:nvPr/>
          </p:nvPicPr>
          <p:blipFill>
            <a:blip r:embed="rId1"/>
            <a:stretch/>
          </p:blipFill>
          <p:spPr>
            <a:xfrm>
              <a:off x="7120080" y="4896000"/>
              <a:ext cx="106020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7281720" y="4930560"/>
              <a:ext cx="74088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3"/>
          <p:cNvGrpSpPr/>
          <p:nvPr/>
        </p:nvGrpSpPr>
        <p:grpSpPr>
          <a:xfrm>
            <a:off x="1066680" y="3870360"/>
            <a:ext cx="1060560" cy="220680"/>
            <a:chOff x="1066680" y="3870360"/>
            <a:chExt cx="1060560" cy="220680"/>
          </a:xfrm>
        </p:grpSpPr>
        <p:pic>
          <p:nvPicPr>
            <p:cNvPr id="126" name="Oval 29" descr=""/>
            <p:cNvPicPr/>
            <p:nvPr/>
          </p:nvPicPr>
          <p:blipFill>
            <a:blip r:embed="rId2"/>
            <a:stretch/>
          </p:blipFill>
          <p:spPr>
            <a:xfrm>
              <a:off x="1066680" y="3870360"/>
              <a:ext cx="10605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5"/>
            <p:cNvSpPr/>
            <p:nvPr/>
          </p:nvSpPr>
          <p:spPr>
            <a:xfrm>
              <a:off x="1228680" y="3906720"/>
              <a:ext cx="7412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6923160" y="3670200"/>
            <a:ext cx="1038240" cy="911160"/>
            <a:chOff x="6923160" y="3670200"/>
            <a:chExt cx="1038240" cy="911160"/>
          </a:xfrm>
        </p:grpSpPr>
        <p:sp>
          <p:nvSpPr>
            <p:cNvPr id="129" name="Freeform 1260"/>
            <p:cNvSpPr/>
            <p:nvPr/>
          </p:nvSpPr>
          <p:spPr>
            <a:xfrm flipH="1">
              <a:off x="6923160" y="3701880"/>
              <a:ext cx="866160" cy="757080"/>
            </a:xfrm>
            <a:custGeom>
              <a:avLst/>
              <a:gdLst>
                <a:gd name="textAreaLeft" fmla="*/ 360 w 866160"/>
                <a:gd name="textAreaRight" fmla="*/ 866880 w 86616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85" h="687">
                  <a:moveTo>
                    <a:pt x="439" y="0"/>
                  </a:moveTo>
                  <a:lnTo>
                    <a:pt x="478" y="2"/>
                  </a:lnTo>
                  <a:lnTo>
                    <a:pt x="517" y="6"/>
                  </a:lnTo>
                  <a:lnTo>
                    <a:pt x="554" y="14"/>
                  </a:lnTo>
                  <a:lnTo>
                    <a:pt x="588" y="24"/>
                  </a:lnTo>
                  <a:lnTo>
                    <a:pt x="619" y="35"/>
                  </a:lnTo>
                  <a:lnTo>
                    <a:pt x="644" y="48"/>
                  </a:lnTo>
                  <a:lnTo>
                    <a:pt x="665" y="63"/>
                  </a:lnTo>
                  <a:lnTo>
                    <a:pt x="681" y="76"/>
                  </a:lnTo>
                  <a:lnTo>
                    <a:pt x="709" y="112"/>
                  </a:lnTo>
                  <a:lnTo>
                    <a:pt x="733" y="142"/>
                  </a:lnTo>
                  <a:lnTo>
                    <a:pt x="750" y="170"/>
                  </a:lnTo>
                  <a:lnTo>
                    <a:pt x="765" y="196"/>
                  </a:lnTo>
                  <a:lnTo>
                    <a:pt x="774" y="220"/>
                  </a:lnTo>
                  <a:lnTo>
                    <a:pt x="782" y="263"/>
                  </a:lnTo>
                  <a:lnTo>
                    <a:pt x="785" y="306"/>
                  </a:lnTo>
                  <a:lnTo>
                    <a:pt x="782" y="350"/>
                  </a:lnTo>
                  <a:lnTo>
                    <a:pt x="773" y="394"/>
                  </a:lnTo>
                  <a:lnTo>
                    <a:pt x="758" y="435"/>
                  </a:lnTo>
                  <a:lnTo>
                    <a:pt x="738" y="476"/>
                  </a:lnTo>
                  <a:lnTo>
                    <a:pt x="714" y="513"/>
                  </a:lnTo>
                  <a:lnTo>
                    <a:pt x="684" y="548"/>
                  </a:lnTo>
                  <a:lnTo>
                    <a:pt x="651" y="578"/>
                  </a:lnTo>
                  <a:lnTo>
                    <a:pt x="611" y="605"/>
                  </a:lnTo>
                  <a:lnTo>
                    <a:pt x="571" y="625"/>
                  </a:lnTo>
                  <a:lnTo>
                    <a:pt x="529" y="638"/>
                  </a:lnTo>
                  <a:lnTo>
                    <a:pt x="485" y="646"/>
                  </a:lnTo>
                  <a:lnTo>
                    <a:pt x="441" y="647"/>
                  </a:lnTo>
                  <a:lnTo>
                    <a:pt x="398" y="645"/>
                  </a:lnTo>
                  <a:lnTo>
                    <a:pt x="355" y="634"/>
                  </a:lnTo>
                  <a:lnTo>
                    <a:pt x="349" y="633"/>
                  </a:lnTo>
                  <a:lnTo>
                    <a:pt x="341" y="631"/>
                  </a:lnTo>
                  <a:lnTo>
                    <a:pt x="335" y="630"/>
                  </a:lnTo>
                  <a:lnTo>
                    <a:pt x="334" y="629"/>
                  </a:lnTo>
                  <a:lnTo>
                    <a:pt x="330" y="629"/>
                  </a:lnTo>
                  <a:lnTo>
                    <a:pt x="321" y="626"/>
                  </a:lnTo>
                  <a:lnTo>
                    <a:pt x="306" y="625"/>
                  </a:lnTo>
                  <a:lnTo>
                    <a:pt x="288" y="622"/>
                  </a:lnTo>
                  <a:lnTo>
                    <a:pt x="266" y="622"/>
                  </a:lnTo>
                  <a:lnTo>
                    <a:pt x="241" y="623"/>
                  </a:lnTo>
                  <a:lnTo>
                    <a:pt x="215" y="629"/>
                  </a:lnTo>
                  <a:lnTo>
                    <a:pt x="187" y="637"/>
                  </a:lnTo>
                  <a:lnTo>
                    <a:pt x="159" y="650"/>
                  </a:lnTo>
                  <a:lnTo>
                    <a:pt x="133" y="667"/>
                  </a:lnTo>
                  <a:lnTo>
                    <a:pt x="110" y="682"/>
                  </a:lnTo>
                  <a:lnTo>
                    <a:pt x="89" y="687"/>
                  </a:lnTo>
                  <a:lnTo>
                    <a:pt x="68" y="687"/>
                  </a:lnTo>
                  <a:lnTo>
                    <a:pt x="49" y="680"/>
                  </a:lnTo>
                  <a:lnTo>
                    <a:pt x="32" y="670"/>
                  </a:lnTo>
                  <a:lnTo>
                    <a:pt x="19" y="655"/>
                  </a:lnTo>
                  <a:lnTo>
                    <a:pt x="8" y="638"/>
                  </a:lnTo>
                  <a:lnTo>
                    <a:pt x="1" y="619"/>
                  </a:lnTo>
                  <a:lnTo>
                    <a:pt x="0" y="599"/>
                  </a:lnTo>
                  <a:lnTo>
                    <a:pt x="4" y="578"/>
                  </a:lnTo>
                  <a:lnTo>
                    <a:pt x="15" y="560"/>
                  </a:lnTo>
                  <a:lnTo>
                    <a:pt x="32" y="541"/>
                  </a:lnTo>
                  <a:lnTo>
                    <a:pt x="56" y="517"/>
                  </a:lnTo>
                  <a:lnTo>
                    <a:pt x="76" y="491"/>
                  </a:lnTo>
                  <a:lnTo>
                    <a:pt x="90" y="463"/>
                  </a:lnTo>
                  <a:lnTo>
                    <a:pt x="102" y="436"/>
                  </a:lnTo>
                  <a:lnTo>
                    <a:pt x="110" y="411"/>
                  </a:lnTo>
                  <a:lnTo>
                    <a:pt x="115" y="389"/>
                  </a:lnTo>
                  <a:lnTo>
                    <a:pt x="118" y="371"/>
                  </a:lnTo>
                  <a:lnTo>
                    <a:pt x="119" y="360"/>
                  </a:lnTo>
                  <a:lnTo>
                    <a:pt x="121" y="356"/>
                  </a:lnTo>
                  <a:lnTo>
                    <a:pt x="121" y="353"/>
                  </a:lnTo>
                  <a:lnTo>
                    <a:pt x="121" y="346"/>
                  </a:lnTo>
                  <a:lnTo>
                    <a:pt x="119" y="337"/>
                  </a:lnTo>
                  <a:lnTo>
                    <a:pt x="119" y="329"/>
                  </a:lnTo>
                  <a:lnTo>
                    <a:pt x="122" y="287"/>
                  </a:lnTo>
                  <a:lnTo>
                    <a:pt x="129" y="244"/>
                  </a:lnTo>
                  <a:lnTo>
                    <a:pt x="142" y="202"/>
                  </a:lnTo>
                  <a:lnTo>
                    <a:pt x="159" y="162"/>
                  </a:lnTo>
                  <a:lnTo>
                    <a:pt x="183" y="125"/>
                  </a:lnTo>
                  <a:lnTo>
                    <a:pt x="212" y="90"/>
                  </a:lnTo>
                  <a:lnTo>
                    <a:pt x="247" y="60"/>
                  </a:lnTo>
                  <a:lnTo>
                    <a:pt x="281" y="37"/>
                  </a:lnTo>
                  <a:lnTo>
                    <a:pt x="318" y="20"/>
                  </a:lnTo>
                  <a:lnTo>
                    <a:pt x="358" y="10"/>
                  </a:lnTo>
                  <a:lnTo>
                    <a:pt x="398" y="3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7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63"/>
            <p:cNvSpPr/>
            <p:nvPr/>
          </p:nvSpPr>
          <p:spPr>
            <a:xfrm flipH="1">
              <a:off x="7432920" y="4352400"/>
              <a:ext cx="437040" cy="228960"/>
            </a:xfrm>
            <a:custGeom>
              <a:avLst/>
              <a:gdLst>
                <a:gd name="textAreaLeft" fmla="*/ 360 w 437040"/>
                <a:gd name="textAreaRight" fmla="*/ 437760 w 43704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396" h="208">
                  <a:moveTo>
                    <a:pt x="342" y="0"/>
                  </a:moveTo>
                  <a:lnTo>
                    <a:pt x="363" y="1"/>
                  </a:lnTo>
                  <a:lnTo>
                    <a:pt x="380" y="4"/>
                  </a:lnTo>
                  <a:lnTo>
                    <a:pt x="391" y="5"/>
                  </a:lnTo>
                  <a:lnTo>
                    <a:pt x="395" y="7"/>
                  </a:lnTo>
                  <a:lnTo>
                    <a:pt x="396" y="7"/>
                  </a:lnTo>
                  <a:lnTo>
                    <a:pt x="391" y="36"/>
                  </a:lnTo>
                  <a:lnTo>
                    <a:pt x="374" y="33"/>
                  </a:lnTo>
                  <a:lnTo>
                    <a:pt x="353" y="32"/>
                  </a:lnTo>
                  <a:lnTo>
                    <a:pt x="326" y="32"/>
                  </a:lnTo>
                  <a:lnTo>
                    <a:pt x="297" y="36"/>
                  </a:lnTo>
                  <a:lnTo>
                    <a:pt x="266" y="44"/>
                  </a:lnTo>
                  <a:lnTo>
                    <a:pt x="236" y="57"/>
                  </a:lnTo>
                  <a:lnTo>
                    <a:pt x="206" y="77"/>
                  </a:lnTo>
                  <a:lnTo>
                    <a:pt x="175" y="102"/>
                  </a:lnTo>
                  <a:lnTo>
                    <a:pt x="150" y="122"/>
                  </a:lnTo>
                  <a:lnTo>
                    <a:pt x="130" y="141"/>
                  </a:lnTo>
                  <a:lnTo>
                    <a:pt x="114" y="155"/>
                  </a:lnTo>
                  <a:lnTo>
                    <a:pt x="101" y="167"/>
                  </a:lnTo>
                  <a:lnTo>
                    <a:pt x="90" y="176"/>
                  </a:lnTo>
                  <a:lnTo>
                    <a:pt x="81" y="184"/>
                  </a:lnTo>
                  <a:lnTo>
                    <a:pt x="73" y="191"/>
                  </a:lnTo>
                  <a:lnTo>
                    <a:pt x="62" y="199"/>
                  </a:lnTo>
                  <a:lnTo>
                    <a:pt x="53" y="204"/>
                  </a:lnTo>
                  <a:lnTo>
                    <a:pt x="41" y="208"/>
                  </a:lnTo>
                  <a:lnTo>
                    <a:pt x="31" y="208"/>
                  </a:lnTo>
                  <a:lnTo>
                    <a:pt x="17" y="203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13" y="195"/>
                  </a:lnTo>
                  <a:lnTo>
                    <a:pt x="27" y="195"/>
                  </a:lnTo>
                  <a:lnTo>
                    <a:pt x="39" y="190"/>
                  </a:lnTo>
                  <a:lnTo>
                    <a:pt x="40" y="188"/>
                  </a:lnTo>
                  <a:lnTo>
                    <a:pt x="46" y="182"/>
                  </a:lnTo>
                  <a:lnTo>
                    <a:pt x="56" y="173"/>
                  </a:lnTo>
                  <a:lnTo>
                    <a:pt x="69" y="159"/>
                  </a:lnTo>
                  <a:lnTo>
                    <a:pt x="85" y="145"/>
                  </a:lnTo>
                  <a:lnTo>
                    <a:pt x="103" y="126"/>
                  </a:lnTo>
                  <a:lnTo>
                    <a:pt x="123" y="108"/>
                  </a:lnTo>
                  <a:lnTo>
                    <a:pt x="147" y="88"/>
                  </a:lnTo>
                  <a:lnTo>
                    <a:pt x="171" y="66"/>
                  </a:lnTo>
                  <a:lnTo>
                    <a:pt x="198" y="47"/>
                  </a:lnTo>
                  <a:lnTo>
                    <a:pt x="227" y="27"/>
                  </a:lnTo>
                  <a:lnTo>
                    <a:pt x="257" y="13"/>
                  </a:lnTo>
                  <a:lnTo>
                    <a:pt x="288" y="5"/>
                  </a:lnTo>
                  <a:lnTo>
                    <a:pt x="316" y="1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1717"/>
            </a:solidFill>
            <a:ln w="0">
              <a:solidFill>
                <a:srgbClr val="171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64"/>
            <p:cNvSpPr/>
            <p:nvPr/>
          </p:nvSpPr>
          <p:spPr>
            <a:xfrm flipH="1">
              <a:off x="6951240" y="3670200"/>
              <a:ext cx="1009800" cy="897120"/>
            </a:xfrm>
            <a:custGeom>
              <a:avLst/>
              <a:gdLst>
                <a:gd name="textAreaLeft" fmla="*/ -360 w 1009800"/>
                <a:gd name="textAreaRight" fmla="*/ 1009800 w 100980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915" h="814">
                  <a:moveTo>
                    <a:pt x="612" y="0"/>
                  </a:moveTo>
                  <a:lnTo>
                    <a:pt x="657" y="5"/>
                  </a:lnTo>
                  <a:lnTo>
                    <a:pt x="701" y="16"/>
                  </a:lnTo>
                  <a:lnTo>
                    <a:pt x="743" y="33"/>
                  </a:lnTo>
                  <a:lnTo>
                    <a:pt x="782" y="57"/>
                  </a:lnTo>
                  <a:lnTo>
                    <a:pt x="817" y="86"/>
                  </a:lnTo>
                  <a:lnTo>
                    <a:pt x="849" y="122"/>
                  </a:lnTo>
                  <a:lnTo>
                    <a:pt x="876" y="162"/>
                  </a:lnTo>
                  <a:lnTo>
                    <a:pt x="896" y="203"/>
                  </a:lnTo>
                  <a:lnTo>
                    <a:pt x="909" y="247"/>
                  </a:lnTo>
                  <a:lnTo>
                    <a:pt x="915" y="292"/>
                  </a:lnTo>
                  <a:lnTo>
                    <a:pt x="915" y="337"/>
                  </a:lnTo>
                  <a:lnTo>
                    <a:pt x="910" y="381"/>
                  </a:lnTo>
                  <a:lnTo>
                    <a:pt x="898" y="424"/>
                  </a:lnTo>
                  <a:lnTo>
                    <a:pt x="880" y="467"/>
                  </a:lnTo>
                  <a:lnTo>
                    <a:pt x="856" y="505"/>
                  </a:lnTo>
                  <a:lnTo>
                    <a:pt x="825" y="542"/>
                  </a:lnTo>
                  <a:lnTo>
                    <a:pt x="790" y="574"/>
                  </a:lnTo>
                  <a:lnTo>
                    <a:pt x="752" y="601"/>
                  </a:lnTo>
                  <a:lnTo>
                    <a:pt x="711" y="619"/>
                  </a:lnTo>
                  <a:lnTo>
                    <a:pt x="670" y="634"/>
                  </a:lnTo>
                  <a:lnTo>
                    <a:pt x="628" y="642"/>
                  </a:lnTo>
                  <a:lnTo>
                    <a:pt x="584" y="643"/>
                  </a:lnTo>
                  <a:lnTo>
                    <a:pt x="542" y="640"/>
                  </a:lnTo>
                  <a:lnTo>
                    <a:pt x="499" y="631"/>
                  </a:lnTo>
                  <a:lnTo>
                    <a:pt x="495" y="630"/>
                  </a:lnTo>
                  <a:lnTo>
                    <a:pt x="490" y="628"/>
                  </a:lnTo>
                  <a:lnTo>
                    <a:pt x="486" y="627"/>
                  </a:lnTo>
                  <a:lnTo>
                    <a:pt x="482" y="627"/>
                  </a:lnTo>
                  <a:lnTo>
                    <a:pt x="479" y="626"/>
                  </a:lnTo>
                  <a:lnTo>
                    <a:pt x="478" y="626"/>
                  </a:lnTo>
                  <a:lnTo>
                    <a:pt x="474" y="624"/>
                  </a:lnTo>
                  <a:lnTo>
                    <a:pt x="463" y="623"/>
                  </a:lnTo>
                  <a:lnTo>
                    <a:pt x="446" y="620"/>
                  </a:lnTo>
                  <a:lnTo>
                    <a:pt x="425" y="619"/>
                  </a:lnTo>
                  <a:lnTo>
                    <a:pt x="399" y="620"/>
                  </a:lnTo>
                  <a:lnTo>
                    <a:pt x="371" y="624"/>
                  </a:lnTo>
                  <a:lnTo>
                    <a:pt x="340" y="632"/>
                  </a:lnTo>
                  <a:lnTo>
                    <a:pt x="310" y="646"/>
                  </a:lnTo>
                  <a:lnTo>
                    <a:pt x="281" y="666"/>
                  </a:lnTo>
                  <a:lnTo>
                    <a:pt x="254" y="685"/>
                  </a:lnTo>
                  <a:lnTo>
                    <a:pt x="230" y="707"/>
                  </a:lnTo>
                  <a:lnTo>
                    <a:pt x="206" y="727"/>
                  </a:lnTo>
                  <a:lnTo>
                    <a:pt x="186" y="745"/>
                  </a:lnTo>
                  <a:lnTo>
                    <a:pt x="168" y="764"/>
                  </a:lnTo>
                  <a:lnTo>
                    <a:pt x="152" y="778"/>
                  </a:lnTo>
                  <a:lnTo>
                    <a:pt x="139" y="792"/>
                  </a:lnTo>
                  <a:lnTo>
                    <a:pt x="129" y="801"/>
                  </a:lnTo>
                  <a:lnTo>
                    <a:pt x="123" y="807"/>
                  </a:lnTo>
                  <a:lnTo>
                    <a:pt x="122" y="809"/>
                  </a:lnTo>
                  <a:lnTo>
                    <a:pt x="110" y="814"/>
                  </a:lnTo>
                  <a:lnTo>
                    <a:pt x="96" y="814"/>
                  </a:lnTo>
                  <a:lnTo>
                    <a:pt x="83" y="807"/>
                  </a:lnTo>
                  <a:lnTo>
                    <a:pt x="79" y="803"/>
                  </a:lnTo>
                  <a:lnTo>
                    <a:pt x="75" y="799"/>
                  </a:lnTo>
                  <a:lnTo>
                    <a:pt x="66" y="788"/>
                  </a:lnTo>
                  <a:lnTo>
                    <a:pt x="50" y="766"/>
                  </a:lnTo>
                  <a:lnTo>
                    <a:pt x="8" y="712"/>
                  </a:lnTo>
                  <a:lnTo>
                    <a:pt x="5" y="709"/>
                  </a:lnTo>
                  <a:lnTo>
                    <a:pt x="0" y="695"/>
                  </a:lnTo>
                  <a:lnTo>
                    <a:pt x="0" y="680"/>
                  </a:lnTo>
                  <a:lnTo>
                    <a:pt x="2" y="674"/>
                  </a:lnTo>
                  <a:lnTo>
                    <a:pt x="5" y="670"/>
                  </a:lnTo>
                  <a:lnTo>
                    <a:pt x="9" y="666"/>
                  </a:lnTo>
                  <a:lnTo>
                    <a:pt x="12" y="663"/>
                  </a:lnTo>
                  <a:lnTo>
                    <a:pt x="19" y="659"/>
                  </a:lnTo>
                  <a:lnTo>
                    <a:pt x="31" y="651"/>
                  </a:lnTo>
                  <a:lnTo>
                    <a:pt x="46" y="640"/>
                  </a:lnTo>
                  <a:lnTo>
                    <a:pt x="65" y="628"/>
                  </a:lnTo>
                  <a:lnTo>
                    <a:pt x="86" y="614"/>
                  </a:lnTo>
                  <a:lnTo>
                    <a:pt x="110" y="598"/>
                  </a:lnTo>
                  <a:lnTo>
                    <a:pt x="133" y="579"/>
                  </a:lnTo>
                  <a:lnTo>
                    <a:pt x="157" y="561"/>
                  </a:lnTo>
                  <a:lnTo>
                    <a:pt x="181" y="542"/>
                  </a:lnTo>
                  <a:lnTo>
                    <a:pt x="206" y="518"/>
                  </a:lnTo>
                  <a:lnTo>
                    <a:pt x="225" y="492"/>
                  </a:lnTo>
                  <a:lnTo>
                    <a:pt x="239" y="465"/>
                  </a:lnTo>
                  <a:lnTo>
                    <a:pt x="251" y="439"/>
                  </a:lnTo>
                  <a:lnTo>
                    <a:pt x="259" y="414"/>
                  </a:lnTo>
                  <a:lnTo>
                    <a:pt x="265" y="391"/>
                  </a:lnTo>
                  <a:lnTo>
                    <a:pt x="269" y="374"/>
                  </a:lnTo>
                  <a:lnTo>
                    <a:pt x="270" y="363"/>
                  </a:lnTo>
                  <a:lnTo>
                    <a:pt x="270" y="359"/>
                  </a:lnTo>
                  <a:lnTo>
                    <a:pt x="270" y="357"/>
                  </a:lnTo>
                  <a:lnTo>
                    <a:pt x="270" y="350"/>
                  </a:lnTo>
                  <a:lnTo>
                    <a:pt x="270" y="341"/>
                  </a:lnTo>
                  <a:lnTo>
                    <a:pt x="270" y="333"/>
                  </a:lnTo>
                  <a:lnTo>
                    <a:pt x="271" y="290"/>
                  </a:lnTo>
                  <a:lnTo>
                    <a:pt x="279" y="249"/>
                  </a:lnTo>
                  <a:lnTo>
                    <a:pt x="293" y="208"/>
                  </a:lnTo>
                  <a:lnTo>
                    <a:pt x="310" y="170"/>
                  </a:lnTo>
                  <a:lnTo>
                    <a:pt x="334" y="133"/>
                  </a:lnTo>
                  <a:lnTo>
                    <a:pt x="363" y="100"/>
                  </a:lnTo>
                  <a:lnTo>
                    <a:pt x="396" y="69"/>
                  </a:lnTo>
                  <a:lnTo>
                    <a:pt x="436" y="43"/>
                  </a:lnTo>
                  <a:lnTo>
                    <a:pt x="478" y="21"/>
                  </a:lnTo>
                  <a:lnTo>
                    <a:pt x="522" y="8"/>
                  </a:lnTo>
                  <a:lnTo>
                    <a:pt x="567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3b3b3b"/>
            </a:solidFill>
            <a:ln w="0">
              <a:solidFill>
                <a:srgbClr val="3b3b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65"/>
            <p:cNvSpPr/>
            <p:nvPr/>
          </p:nvSpPr>
          <p:spPr>
            <a:xfrm flipH="1">
              <a:off x="7489080" y="4150440"/>
              <a:ext cx="472320" cy="411120"/>
            </a:xfrm>
            <a:custGeom>
              <a:avLst/>
              <a:gdLst>
                <a:gd name="textAreaLeft" fmla="*/ 360 w 472320"/>
                <a:gd name="textAreaRight" fmla="*/ 473040 w 472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428" h="373">
                  <a:moveTo>
                    <a:pt x="357" y="0"/>
                  </a:moveTo>
                  <a:lnTo>
                    <a:pt x="399" y="35"/>
                  </a:lnTo>
                  <a:lnTo>
                    <a:pt x="404" y="43"/>
                  </a:lnTo>
                  <a:lnTo>
                    <a:pt x="428" y="90"/>
                  </a:lnTo>
                  <a:lnTo>
                    <a:pt x="86" y="373"/>
                  </a:lnTo>
                  <a:lnTo>
                    <a:pt x="80" y="369"/>
                  </a:lnTo>
                  <a:lnTo>
                    <a:pt x="75" y="363"/>
                  </a:lnTo>
                  <a:lnTo>
                    <a:pt x="8" y="276"/>
                  </a:lnTo>
                  <a:lnTo>
                    <a:pt x="4" y="269"/>
                  </a:lnTo>
                  <a:lnTo>
                    <a:pt x="0" y="263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b0c0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66"/>
            <p:cNvSpPr/>
            <p:nvPr/>
          </p:nvSpPr>
          <p:spPr>
            <a:xfrm flipH="1">
              <a:off x="7488720" y="4150440"/>
              <a:ext cx="119160" cy="1231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8" h="112">
                  <a:moveTo>
                    <a:pt x="37" y="0"/>
                  </a:moveTo>
                  <a:lnTo>
                    <a:pt x="79" y="35"/>
                  </a:lnTo>
                  <a:lnTo>
                    <a:pt x="84" y="43"/>
                  </a:lnTo>
                  <a:lnTo>
                    <a:pt x="108" y="90"/>
                  </a:lnTo>
                  <a:lnTo>
                    <a:pt x="100" y="98"/>
                  </a:lnTo>
                  <a:lnTo>
                    <a:pt x="77" y="108"/>
                  </a:lnTo>
                  <a:lnTo>
                    <a:pt x="57" y="112"/>
                  </a:lnTo>
                  <a:lnTo>
                    <a:pt x="37" y="112"/>
                  </a:lnTo>
                  <a:lnTo>
                    <a:pt x="22" y="106"/>
                  </a:lnTo>
                  <a:lnTo>
                    <a:pt x="8" y="96"/>
                  </a:lnTo>
                  <a:lnTo>
                    <a:pt x="3" y="84"/>
                  </a:lnTo>
                  <a:lnTo>
                    <a:pt x="0" y="68"/>
                  </a:lnTo>
                  <a:lnTo>
                    <a:pt x="3" y="52"/>
                  </a:lnTo>
                  <a:lnTo>
                    <a:pt x="10" y="35"/>
                  </a:lnTo>
                  <a:lnTo>
                    <a:pt x="20" y="17"/>
                  </a:lnTo>
                  <a:lnTo>
                    <a:pt x="35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3ebe9"/>
            </a:solidFill>
            <a:ln w="0">
              <a:solidFill>
                <a:srgbClr val="e3eb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67"/>
            <p:cNvSpPr/>
            <p:nvPr/>
          </p:nvSpPr>
          <p:spPr>
            <a:xfrm flipH="1">
              <a:off x="6951600" y="3670200"/>
              <a:ext cx="711720" cy="708480"/>
            </a:xfrm>
            <a:custGeom>
              <a:avLst/>
              <a:gdLst>
                <a:gd name="textAreaLeft" fmla="*/ -360 w 711720"/>
                <a:gd name="textAreaRight" fmla="*/ 711720 w 711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645" h="643">
                  <a:moveTo>
                    <a:pt x="342" y="0"/>
                  </a:moveTo>
                  <a:lnTo>
                    <a:pt x="387" y="5"/>
                  </a:lnTo>
                  <a:lnTo>
                    <a:pt x="431" y="16"/>
                  </a:lnTo>
                  <a:lnTo>
                    <a:pt x="473" y="33"/>
                  </a:lnTo>
                  <a:lnTo>
                    <a:pt x="512" y="57"/>
                  </a:lnTo>
                  <a:lnTo>
                    <a:pt x="547" y="86"/>
                  </a:lnTo>
                  <a:lnTo>
                    <a:pt x="579" y="122"/>
                  </a:lnTo>
                  <a:lnTo>
                    <a:pt x="606" y="162"/>
                  </a:lnTo>
                  <a:lnTo>
                    <a:pt x="626" y="203"/>
                  </a:lnTo>
                  <a:lnTo>
                    <a:pt x="639" y="247"/>
                  </a:lnTo>
                  <a:lnTo>
                    <a:pt x="645" y="292"/>
                  </a:lnTo>
                  <a:lnTo>
                    <a:pt x="645" y="337"/>
                  </a:lnTo>
                  <a:lnTo>
                    <a:pt x="640" y="381"/>
                  </a:lnTo>
                  <a:lnTo>
                    <a:pt x="628" y="424"/>
                  </a:lnTo>
                  <a:lnTo>
                    <a:pt x="610" y="467"/>
                  </a:lnTo>
                  <a:lnTo>
                    <a:pt x="586" y="505"/>
                  </a:lnTo>
                  <a:lnTo>
                    <a:pt x="555" y="542"/>
                  </a:lnTo>
                  <a:lnTo>
                    <a:pt x="520" y="574"/>
                  </a:lnTo>
                  <a:lnTo>
                    <a:pt x="482" y="601"/>
                  </a:lnTo>
                  <a:lnTo>
                    <a:pt x="441" y="619"/>
                  </a:lnTo>
                  <a:lnTo>
                    <a:pt x="400" y="634"/>
                  </a:lnTo>
                  <a:lnTo>
                    <a:pt x="358" y="642"/>
                  </a:lnTo>
                  <a:lnTo>
                    <a:pt x="314" y="643"/>
                  </a:lnTo>
                  <a:lnTo>
                    <a:pt x="272" y="640"/>
                  </a:lnTo>
                  <a:lnTo>
                    <a:pt x="229" y="631"/>
                  </a:lnTo>
                  <a:lnTo>
                    <a:pt x="225" y="630"/>
                  </a:lnTo>
                  <a:lnTo>
                    <a:pt x="221" y="628"/>
                  </a:lnTo>
                  <a:lnTo>
                    <a:pt x="217" y="628"/>
                  </a:lnTo>
                  <a:lnTo>
                    <a:pt x="215" y="627"/>
                  </a:lnTo>
                  <a:lnTo>
                    <a:pt x="211" y="626"/>
                  </a:lnTo>
                  <a:lnTo>
                    <a:pt x="209" y="626"/>
                  </a:lnTo>
                  <a:lnTo>
                    <a:pt x="208" y="626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0" y="350"/>
                  </a:lnTo>
                  <a:lnTo>
                    <a:pt x="0" y="341"/>
                  </a:lnTo>
                  <a:lnTo>
                    <a:pt x="0" y="333"/>
                  </a:lnTo>
                  <a:lnTo>
                    <a:pt x="1" y="290"/>
                  </a:lnTo>
                  <a:lnTo>
                    <a:pt x="9" y="249"/>
                  </a:lnTo>
                  <a:lnTo>
                    <a:pt x="23" y="208"/>
                  </a:lnTo>
                  <a:lnTo>
                    <a:pt x="40" y="170"/>
                  </a:lnTo>
                  <a:lnTo>
                    <a:pt x="64" y="133"/>
                  </a:lnTo>
                  <a:lnTo>
                    <a:pt x="93" y="100"/>
                  </a:lnTo>
                  <a:lnTo>
                    <a:pt x="126" y="69"/>
                  </a:lnTo>
                  <a:lnTo>
                    <a:pt x="166" y="43"/>
                  </a:lnTo>
                  <a:lnTo>
                    <a:pt x="208" y="21"/>
                  </a:lnTo>
                  <a:lnTo>
                    <a:pt x="252" y="8"/>
                  </a:lnTo>
                  <a:lnTo>
                    <a:pt x="297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dd0000"/>
            </a:solidFill>
            <a:ln w="0">
              <a:solidFill>
                <a:srgbClr val="dd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3"/>
          <p:cNvGrpSpPr/>
          <p:nvPr/>
        </p:nvGrpSpPr>
        <p:grpSpPr>
          <a:xfrm>
            <a:off x="1398600" y="2367000"/>
            <a:ext cx="887400" cy="1049400"/>
            <a:chOff x="1398600" y="2367000"/>
            <a:chExt cx="887400" cy="1049400"/>
          </a:xfrm>
        </p:grpSpPr>
        <p:sp>
          <p:nvSpPr>
            <p:cNvPr id="136" name="Freeform 1268"/>
            <p:cNvSpPr/>
            <p:nvPr/>
          </p:nvSpPr>
          <p:spPr>
            <a:xfrm>
              <a:off x="1542960" y="2391120"/>
              <a:ext cx="743040" cy="87192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674" h="791">
                  <a:moveTo>
                    <a:pt x="385" y="0"/>
                  </a:moveTo>
                  <a:lnTo>
                    <a:pt x="418" y="2"/>
                  </a:lnTo>
                  <a:lnTo>
                    <a:pt x="447" y="6"/>
                  </a:lnTo>
                  <a:lnTo>
                    <a:pt x="471" y="13"/>
                  </a:lnTo>
                  <a:lnTo>
                    <a:pt x="489" y="22"/>
                  </a:lnTo>
                  <a:lnTo>
                    <a:pt x="527" y="46"/>
                  </a:lnTo>
                  <a:lnTo>
                    <a:pt x="558" y="69"/>
                  </a:lnTo>
                  <a:lnTo>
                    <a:pt x="585" y="90"/>
                  </a:lnTo>
                  <a:lnTo>
                    <a:pt x="606" y="111"/>
                  </a:lnTo>
                  <a:lnTo>
                    <a:pt x="622" y="131"/>
                  </a:lnTo>
                  <a:lnTo>
                    <a:pt x="643" y="168"/>
                  </a:lnTo>
                  <a:lnTo>
                    <a:pt x="659" y="209"/>
                  </a:lnTo>
                  <a:lnTo>
                    <a:pt x="670" y="252"/>
                  </a:lnTo>
                  <a:lnTo>
                    <a:pt x="674" y="295"/>
                  </a:lnTo>
                  <a:lnTo>
                    <a:pt x="674" y="340"/>
                  </a:lnTo>
                  <a:lnTo>
                    <a:pt x="667" y="384"/>
                  </a:lnTo>
                  <a:lnTo>
                    <a:pt x="655" y="428"/>
                  </a:lnTo>
                  <a:lnTo>
                    <a:pt x="638" y="469"/>
                  </a:lnTo>
                  <a:lnTo>
                    <a:pt x="614" y="509"/>
                  </a:lnTo>
                  <a:lnTo>
                    <a:pt x="586" y="546"/>
                  </a:lnTo>
                  <a:lnTo>
                    <a:pt x="553" y="578"/>
                  </a:lnTo>
                  <a:lnTo>
                    <a:pt x="517" y="603"/>
                  </a:lnTo>
                  <a:lnTo>
                    <a:pt x="478" y="624"/>
                  </a:lnTo>
                  <a:lnTo>
                    <a:pt x="436" y="640"/>
                  </a:lnTo>
                  <a:lnTo>
                    <a:pt x="394" y="649"/>
                  </a:lnTo>
                  <a:lnTo>
                    <a:pt x="350" y="653"/>
                  </a:lnTo>
                  <a:lnTo>
                    <a:pt x="341" y="653"/>
                  </a:lnTo>
                  <a:lnTo>
                    <a:pt x="332" y="655"/>
                  </a:lnTo>
                  <a:lnTo>
                    <a:pt x="328" y="655"/>
                  </a:lnTo>
                  <a:lnTo>
                    <a:pt x="324" y="655"/>
                  </a:lnTo>
                  <a:lnTo>
                    <a:pt x="313" y="656"/>
                  </a:lnTo>
                  <a:lnTo>
                    <a:pt x="296" y="658"/>
                  </a:lnTo>
                  <a:lnTo>
                    <a:pt x="275" y="665"/>
                  </a:lnTo>
                  <a:lnTo>
                    <a:pt x="250" y="673"/>
                  </a:lnTo>
                  <a:lnTo>
                    <a:pt x="223" y="685"/>
                  </a:lnTo>
                  <a:lnTo>
                    <a:pt x="197" y="702"/>
                  </a:lnTo>
                  <a:lnTo>
                    <a:pt x="171" y="725"/>
                  </a:lnTo>
                  <a:lnTo>
                    <a:pt x="149" y="753"/>
                  </a:lnTo>
                  <a:lnTo>
                    <a:pt x="132" y="772"/>
                  </a:lnTo>
                  <a:lnTo>
                    <a:pt x="113" y="784"/>
                  </a:lnTo>
                  <a:lnTo>
                    <a:pt x="93" y="791"/>
                  </a:lnTo>
                  <a:lnTo>
                    <a:pt x="73" y="791"/>
                  </a:lnTo>
                  <a:lnTo>
                    <a:pt x="53" y="786"/>
                  </a:lnTo>
                  <a:lnTo>
                    <a:pt x="36" y="776"/>
                  </a:lnTo>
                  <a:lnTo>
                    <a:pt x="22" y="763"/>
                  </a:lnTo>
                  <a:lnTo>
                    <a:pt x="10" y="747"/>
                  </a:lnTo>
                  <a:lnTo>
                    <a:pt x="2" y="727"/>
                  </a:lnTo>
                  <a:lnTo>
                    <a:pt x="0" y="708"/>
                  </a:lnTo>
                  <a:lnTo>
                    <a:pt x="3" y="686"/>
                  </a:lnTo>
                  <a:lnTo>
                    <a:pt x="14" y="664"/>
                  </a:lnTo>
                  <a:lnTo>
                    <a:pt x="28" y="636"/>
                  </a:lnTo>
                  <a:lnTo>
                    <a:pt x="39" y="608"/>
                  </a:lnTo>
                  <a:lnTo>
                    <a:pt x="44" y="580"/>
                  </a:lnTo>
                  <a:lnTo>
                    <a:pt x="48" y="554"/>
                  </a:lnTo>
                  <a:lnTo>
                    <a:pt x="49" y="529"/>
                  </a:lnTo>
                  <a:lnTo>
                    <a:pt x="48" y="506"/>
                  </a:lnTo>
                  <a:lnTo>
                    <a:pt x="47" y="487"/>
                  </a:lnTo>
                  <a:lnTo>
                    <a:pt x="44" y="472"/>
                  </a:lnTo>
                  <a:lnTo>
                    <a:pt x="41" y="462"/>
                  </a:lnTo>
                  <a:lnTo>
                    <a:pt x="41" y="460"/>
                  </a:lnTo>
                  <a:lnTo>
                    <a:pt x="40" y="457"/>
                  </a:lnTo>
                  <a:lnTo>
                    <a:pt x="39" y="450"/>
                  </a:lnTo>
                  <a:lnTo>
                    <a:pt x="36" y="442"/>
                  </a:lnTo>
                  <a:lnTo>
                    <a:pt x="34" y="434"/>
                  </a:lnTo>
                  <a:lnTo>
                    <a:pt x="22" y="393"/>
                  </a:lnTo>
                  <a:lnTo>
                    <a:pt x="15" y="351"/>
                  </a:lnTo>
                  <a:lnTo>
                    <a:pt x="15" y="307"/>
                  </a:lnTo>
                  <a:lnTo>
                    <a:pt x="20" y="263"/>
                  </a:lnTo>
                  <a:lnTo>
                    <a:pt x="31" y="221"/>
                  </a:lnTo>
                  <a:lnTo>
                    <a:pt x="48" y="180"/>
                  </a:lnTo>
                  <a:lnTo>
                    <a:pt x="71" y="140"/>
                  </a:lnTo>
                  <a:lnTo>
                    <a:pt x="97" y="107"/>
                  </a:lnTo>
                  <a:lnTo>
                    <a:pt x="128" y="81"/>
                  </a:lnTo>
                  <a:lnTo>
                    <a:pt x="161" y="57"/>
                  </a:lnTo>
                  <a:lnTo>
                    <a:pt x="198" y="38"/>
                  </a:lnTo>
                  <a:lnTo>
                    <a:pt x="235" y="24"/>
                  </a:lnTo>
                  <a:lnTo>
                    <a:pt x="273" y="13"/>
                  </a:lnTo>
                  <a:lnTo>
                    <a:pt x="312" y="5"/>
                  </a:lnTo>
                  <a:lnTo>
                    <a:pt x="349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7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69"/>
            <p:cNvSpPr/>
            <p:nvPr/>
          </p:nvSpPr>
          <p:spPr>
            <a:xfrm>
              <a:off x="1528560" y="3082320"/>
              <a:ext cx="359280" cy="33408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326" h="303">
                  <a:moveTo>
                    <a:pt x="322" y="0"/>
                  </a:moveTo>
                  <a:lnTo>
                    <a:pt x="326" y="29"/>
                  </a:lnTo>
                  <a:lnTo>
                    <a:pt x="309" y="31"/>
                  </a:lnTo>
                  <a:lnTo>
                    <a:pt x="288" y="37"/>
                  </a:lnTo>
                  <a:lnTo>
                    <a:pt x="263" y="46"/>
                  </a:lnTo>
                  <a:lnTo>
                    <a:pt x="236" y="58"/>
                  </a:lnTo>
                  <a:lnTo>
                    <a:pt x="210" y="75"/>
                  </a:lnTo>
                  <a:lnTo>
                    <a:pt x="184" y="98"/>
                  </a:lnTo>
                  <a:lnTo>
                    <a:pt x="162" y="126"/>
                  </a:lnTo>
                  <a:lnTo>
                    <a:pt x="141" y="159"/>
                  </a:lnTo>
                  <a:lnTo>
                    <a:pt x="123" y="185"/>
                  </a:lnTo>
                  <a:lnTo>
                    <a:pt x="109" y="209"/>
                  </a:lnTo>
                  <a:lnTo>
                    <a:pt x="98" y="228"/>
                  </a:lnTo>
                  <a:lnTo>
                    <a:pt x="90" y="242"/>
                  </a:lnTo>
                  <a:lnTo>
                    <a:pt x="82" y="256"/>
                  </a:lnTo>
                  <a:lnTo>
                    <a:pt x="77" y="266"/>
                  </a:lnTo>
                  <a:lnTo>
                    <a:pt x="72" y="274"/>
                  </a:lnTo>
                  <a:lnTo>
                    <a:pt x="64" y="285"/>
                  </a:lnTo>
                  <a:lnTo>
                    <a:pt x="56" y="294"/>
                  </a:lnTo>
                  <a:lnTo>
                    <a:pt x="47" y="301"/>
                  </a:lnTo>
                  <a:lnTo>
                    <a:pt x="35" y="303"/>
                  </a:lnTo>
                  <a:lnTo>
                    <a:pt x="21" y="303"/>
                  </a:lnTo>
                  <a:lnTo>
                    <a:pt x="5" y="297"/>
                  </a:lnTo>
                  <a:lnTo>
                    <a:pt x="0" y="294"/>
                  </a:lnTo>
                  <a:lnTo>
                    <a:pt x="15" y="297"/>
                  </a:lnTo>
                  <a:lnTo>
                    <a:pt x="28" y="293"/>
                  </a:lnTo>
                  <a:lnTo>
                    <a:pt x="37" y="285"/>
                  </a:lnTo>
                  <a:lnTo>
                    <a:pt x="39" y="281"/>
                  </a:lnTo>
                  <a:lnTo>
                    <a:pt x="44" y="271"/>
                  </a:lnTo>
                  <a:lnTo>
                    <a:pt x="50" y="257"/>
                  </a:lnTo>
                  <a:lnTo>
                    <a:pt x="61" y="237"/>
                  </a:lnTo>
                  <a:lnTo>
                    <a:pt x="74" y="214"/>
                  </a:lnTo>
                  <a:lnTo>
                    <a:pt x="89" y="188"/>
                  </a:lnTo>
                  <a:lnTo>
                    <a:pt x="106" y="159"/>
                  </a:lnTo>
                  <a:lnTo>
                    <a:pt x="125" y="130"/>
                  </a:lnTo>
                  <a:lnTo>
                    <a:pt x="145" y="98"/>
                  </a:lnTo>
                  <a:lnTo>
                    <a:pt x="167" y="70"/>
                  </a:lnTo>
                  <a:lnTo>
                    <a:pt x="192" y="49"/>
                  </a:lnTo>
                  <a:lnTo>
                    <a:pt x="217" y="31"/>
                  </a:lnTo>
                  <a:lnTo>
                    <a:pt x="244" y="20"/>
                  </a:lnTo>
                  <a:lnTo>
                    <a:pt x="268" y="10"/>
                  </a:lnTo>
                  <a:lnTo>
                    <a:pt x="289" y="5"/>
                  </a:lnTo>
                  <a:lnTo>
                    <a:pt x="306" y="2"/>
                  </a:lnTo>
                  <a:lnTo>
                    <a:pt x="317" y="1"/>
                  </a:lnTo>
                  <a:lnTo>
                    <a:pt x="321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171717"/>
            </a:solidFill>
            <a:ln w="0">
              <a:solidFill>
                <a:srgbClr val="171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72"/>
            <p:cNvSpPr/>
            <p:nvPr/>
          </p:nvSpPr>
          <p:spPr>
            <a:xfrm>
              <a:off x="1398600" y="2367000"/>
              <a:ext cx="856800" cy="10429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777" h="946">
                  <a:moveTo>
                    <a:pt x="464" y="0"/>
                  </a:moveTo>
                  <a:lnTo>
                    <a:pt x="509" y="4"/>
                  </a:lnTo>
                  <a:lnTo>
                    <a:pt x="553" y="15"/>
                  </a:lnTo>
                  <a:lnTo>
                    <a:pt x="597" y="32"/>
                  </a:lnTo>
                  <a:lnTo>
                    <a:pt x="638" y="56"/>
                  </a:lnTo>
                  <a:lnTo>
                    <a:pt x="675" y="85"/>
                  </a:lnTo>
                  <a:lnTo>
                    <a:pt x="707" y="118"/>
                  </a:lnTo>
                  <a:lnTo>
                    <a:pt x="732" y="157"/>
                  </a:lnTo>
                  <a:lnTo>
                    <a:pt x="753" y="197"/>
                  </a:lnTo>
                  <a:lnTo>
                    <a:pt x="766" y="239"/>
                  </a:lnTo>
                  <a:lnTo>
                    <a:pt x="774" y="284"/>
                  </a:lnTo>
                  <a:lnTo>
                    <a:pt x="777" y="329"/>
                  </a:lnTo>
                  <a:lnTo>
                    <a:pt x="773" y="374"/>
                  </a:lnTo>
                  <a:lnTo>
                    <a:pt x="761" y="419"/>
                  </a:lnTo>
                  <a:lnTo>
                    <a:pt x="744" y="463"/>
                  </a:lnTo>
                  <a:lnTo>
                    <a:pt x="720" y="504"/>
                  </a:lnTo>
                  <a:lnTo>
                    <a:pt x="692" y="540"/>
                  </a:lnTo>
                  <a:lnTo>
                    <a:pt x="659" y="572"/>
                  </a:lnTo>
                  <a:lnTo>
                    <a:pt x="623" y="598"/>
                  </a:lnTo>
                  <a:lnTo>
                    <a:pt x="586" y="618"/>
                  </a:lnTo>
                  <a:lnTo>
                    <a:pt x="545" y="634"/>
                  </a:lnTo>
                  <a:lnTo>
                    <a:pt x="504" y="643"/>
                  </a:lnTo>
                  <a:lnTo>
                    <a:pt x="460" y="647"/>
                  </a:lnTo>
                  <a:lnTo>
                    <a:pt x="456" y="647"/>
                  </a:lnTo>
                  <a:lnTo>
                    <a:pt x="451" y="649"/>
                  </a:lnTo>
                  <a:lnTo>
                    <a:pt x="447" y="649"/>
                  </a:lnTo>
                  <a:lnTo>
                    <a:pt x="443" y="649"/>
                  </a:lnTo>
                  <a:lnTo>
                    <a:pt x="440" y="649"/>
                  </a:lnTo>
                  <a:lnTo>
                    <a:pt x="439" y="649"/>
                  </a:lnTo>
                  <a:lnTo>
                    <a:pt x="435" y="650"/>
                  </a:lnTo>
                  <a:lnTo>
                    <a:pt x="424" y="651"/>
                  </a:lnTo>
                  <a:lnTo>
                    <a:pt x="407" y="654"/>
                  </a:lnTo>
                  <a:lnTo>
                    <a:pt x="386" y="659"/>
                  </a:lnTo>
                  <a:lnTo>
                    <a:pt x="362" y="669"/>
                  </a:lnTo>
                  <a:lnTo>
                    <a:pt x="335" y="680"/>
                  </a:lnTo>
                  <a:lnTo>
                    <a:pt x="310" y="698"/>
                  </a:lnTo>
                  <a:lnTo>
                    <a:pt x="285" y="719"/>
                  </a:lnTo>
                  <a:lnTo>
                    <a:pt x="263" y="747"/>
                  </a:lnTo>
                  <a:lnTo>
                    <a:pt x="243" y="779"/>
                  </a:lnTo>
                  <a:lnTo>
                    <a:pt x="224" y="808"/>
                  </a:lnTo>
                  <a:lnTo>
                    <a:pt x="207" y="837"/>
                  </a:lnTo>
                  <a:lnTo>
                    <a:pt x="192" y="863"/>
                  </a:lnTo>
                  <a:lnTo>
                    <a:pt x="179" y="886"/>
                  </a:lnTo>
                  <a:lnTo>
                    <a:pt x="168" y="906"/>
                  </a:lnTo>
                  <a:lnTo>
                    <a:pt x="162" y="920"/>
                  </a:lnTo>
                  <a:lnTo>
                    <a:pt x="157" y="930"/>
                  </a:lnTo>
                  <a:lnTo>
                    <a:pt x="155" y="934"/>
                  </a:lnTo>
                  <a:lnTo>
                    <a:pt x="146" y="942"/>
                  </a:lnTo>
                  <a:lnTo>
                    <a:pt x="133" y="946"/>
                  </a:lnTo>
                  <a:lnTo>
                    <a:pt x="118" y="943"/>
                  </a:lnTo>
                  <a:lnTo>
                    <a:pt x="113" y="940"/>
                  </a:lnTo>
                  <a:lnTo>
                    <a:pt x="109" y="938"/>
                  </a:lnTo>
                  <a:lnTo>
                    <a:pt x="96" y="930"/>
                  </a:lnTo>
                  <a:lnTo>
                    <a:pt x="74" y="915"/>
                  </a:lnTo>
                  <a:lnTo>
                    <a:pt x="17" y="875"/>
                  </a:lnTo>
                  <a:lnTo>
                    <a:pt x="13" y="873"/>
                  </a:lnTo>
                  <a:lnTo>
                    <a:pt x="3" y="861"/>
                  </a:lnTo>
                  <a:lnTo>
                    <a:pt x="0" y="848"/>
                  </a:lnTo>
                  <a:lnTo>
                    <a:pt x="0" y="842"/>
                  </a:lnTo>
                  <a:lnTo>
                    <a:pt x="1" y="836"/>
                  </a:lnTo>
                  <a:lnTo>
                    <a:pt x="4" y="830"/>
                  </a:lnTo>
                  <a:lnTo>
                    <a:pt x="5" y="829"/>
                  </a:lnTo>
                  <a:lnTo>
                    <a:pt x="12" y="821"/>
                  </a:lnTo>
                  <a:lnTo>
                    <a:pt x="21" y="810"/>
                  </a:lnTo>
                  <a:lnTo>
                    <a:pt x="32" y="796"/>
                  </a:lnTo>
                  <a:lnTo>
                    <a:pt x="47" y="779"/>
                  </a:lnTo>
                  <a:lnTo>
                    <a:pt x="62" y="757"/>
                  </a:lnTo>
                  <a:lnTo>
                    <a:pt x="78" y="736"/>
                  </a:lnTo>
                  <a:lnTo>
                    <a:pt x="96" y="711"/>
                  </a:lnTo>
                  <a:lnTo>
                    <a:pt x="114" y="686"/>
                  </a:lnTo>
                  <a:lnTo>
                    <a:pt x="131" y="661"/>
                  </a:lnTo>
                  <a:lnTo>
                    <a:pt x="146" y="630"/>
                  </a:lnTo>
                  <a:lnTo>
                    <a:pt x="157" y="600"/>
                  </a:lnTo>
                  <a:lnTo>
                    <a:pt x="163" y="569"/>
                  </a:lnTo>
                  <a:lnTo>
                    <a:pt x="166" y="540"/>
                  </a:lnTo>
                  <a:lnTo>
                    <a:pt x="166" y="515"/>
                  </a:lnTo>
                  <a:lnTo>
                    <a:pt x="165" y="492"/>
                  </a:lnTo>
                  <a:lnTo>
                    <a:pt x="162" y="474"/>
                  </a:lnTo>
                  <a:lnTo>
                    <a:pt x="159" y="463"/>
                  </a:lnTo>
                  <a:lnTo>
                    <a:pt x="159" y="459"/>
                  </a:lnTo>
                  <a:lnTo>
                    <a:pt x="158" y="456"/>
                  </a:lnTo>
                  <a:lnTo>
                    <a:pt x="157" y="450"/>
                  </a:lnTo>
                  <a:lnTo>
                    <a:pt x="154" y="442"/>
                  </a:lnTo>
                  <a:lnTo>
                    <a:pt x="151" y="435"/>
                  </a:lnTo>
                  <a:lnTo>
                    <a:pt x="139" y="394"/>
                  </a:lnTo>
                  <a:lnTo>
                    <a:pt x="134" y="352"/>
                  </a:lnTo>
                  <a:lnTo>
                    <a:pt x="134" y="309"/>
                  </a:lnTo>
                  <a:lnTo>
                    <a:pt x="139" y="267"/>
                  </a:lnTo>
                  <a:lnTo>
                    <a:pt x="150" y="224"/>
                  </a:lnTo>
                  <a:lnTo>
                    <a:pt x="167" y="183"/>
                  </a:lnTo>
                  <a:lnTo>
                    <a:pt x="190" y="144"/>
                  </a:lnTo>
                  <a:lnTo>
                    <a:pt x="220" y="106"/>
                  </a:lnTo>
                  <a:lnTo>
                    <a:pt x="253" y="75"/>
                  </a:lnTo>
                  <a:lnTo>
                    <a:pt x="292" y="48"/>
                  </a:lnTo>
                  <a:lnTo>
                    <a:pt x="332" y="27"/>
                  </a:lnTo>
                  <a:lnTo>
                    <a:pt x="375" y="12"/>
                  </a:lnTo>
                  <a:lnTo>
                    <a:pt x="419" y="3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3b3b3b"/>
            </a:solidFill>
            <a:ln w="0">
              <a:solidFill>
                <a:srgbClr val="3b3b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73"/>
            <p:cNvSpPr/>
            <p:nvPr/>
          </p:nvSpPr>
          <p:spPr>
            <a:xfrm>
              <a:off x="1406160" y="2924640"/>
              <a:ext cx="390240" cy="48276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54" h="438">
                  <a:moveTo>
                    <a:pt x="258" y="0"/>
                  </a:moveTo>
                  <a:lnTo>
                    <a:pt x="307" y="21"/>
                  </a:lnTo>
                  <a:lnTo>
                    <a:pt x="317" y="26"/>
                  </a:lnTo>
                  <a:lnTo>
                    <a:pt x="354" y="64"/>
                  </a:lnTo>
                  <a:lnTo>
                    <a:pt x="115" y="438"/>
                  </a:lnTo>
                  <a:lnTo>
                    <a:pt x="108" y="436"/>
                  </a:lnTo>
                  <a:lnTo>
                    <a:pt x="102" y="432"/>
                  </a:lnTo>
                  <a:lnTo>
                    <a:pt x="10" y="369"/>
                  </a:lnTo>
                  <a:lnTo>
                    <a:pt x="4" y="365"/>
                  </a:lnTo>
                  <a:lnTo>
                    <a:pt x="0" y="36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74"/>
            <p:cNvSpPr/>
            <p:nvPr/>
          </p:nvSpPr>
          <p:spPr>
            <a:xfrm>
              <a:off x="1672920" y="2924640"/>
              <a:ext cx="123480" cy="116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12" h="106">
                  <a:moveTo>
                    <a:pt x="16" y="0"/>
                  </a:moveTo>
                  <a:lnTo>
                    <a:pt x="65" y="21"/>
                  </a:lnTo>
                  <a:lnTo>
                    <a:pt x="75" y="26"/>
                  </a:lnTo>
                  <a:lnTo>
                    <a:pt x="112" y="64"/>
                  </a:lnTo>
                  <a:lnTo>
                    <a:pt x="105" y="74"/>
                  </a:lnTo>
                  <a:lnTo>
                    <a:pt x="88" y="90"/>
                  </a:lnTo>
                  <a:lnTo>
                    <a:pt x="69" y="100"/>
                  </a:lnTo>
                  <a:lnTo>
                    <a:pt x="51" y="106"/>
                  </a:lnTo>
                  <a:lnTo>
                    <a:pt x="33" y="106"/>
                  </a:lnTo>
                  <a:lnTo>
                    <a:pt x="19" y="100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6" y="22"/>
                  </a:lnTo>
                  <a:lnTo>
                    <a:pt x="15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0c0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75"/>
            <p:cNvSpPr/>
            <p:nvPr/>
          </p:nvSpPr>
          <p:spPr>
            <a:xfrm>
              <a:off x="1546200" y="2367000"/>
              <a:ext cx="708840" cy="7153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643" h="649">
                  <a:moveTo>
                    <a:pt x="330" y="0"/>
                  </a:moveTo>
                  <a:lnTo>
                    <a:pt x="375" y="4"/>
                  </a:lnTo>
                  <a:lnTo>
                    <a:pt x="419" y="15"/>
                  </a:lnTo>
                  <a:lnTo>
                    <a:pt x="463" y="32"/>
                  </a:lnTo>
                  <a:lnTo>
                    <a:pt x="504" y="56"/>
                  </a:lnTo>
                  <a:lnTo>
                    <a:pt x="541" y="85"/>
                  </a:lnTo>
                  <a:lnTo>
                    <a:pt x="573" y="118"/>
                  </a:lnTo>
                  <a:lnTo>
                    <a:pt x="598" y="157"/>
                  </a:lnTo>
                  <a:lnTo>
                    <a:pt x="619" y="197"/>
                  </a:lnTo>
                  <a:lnTo>
                    <a:pt x="632" y="239"/>
                  </a:lnTo>
                  <a:lnTo>
                    <a:pt x="640" y="284"/>
                  </a:lnTo>
                  <a:lnTo>
                    <a:pt x="643" y="329"/>
                  </a:lnTo>
                  <a:lnTo>
                    <a:pt x="639" y="374"/>
                  </a:lnTo>
                  <a:lnTo>
                    <a:pt x="627" y="419"/>
                  </a:lnTo>
                  <a:lnTo>
                    <a:pt x="610" y="463"/>
                  </a:lnTo>
                  <a:lnTo>
                    <a:pt x="586" y="504"/>
                  </a:lnTo>
                  <a:lnTo>
                    <a:pt x="558" y="540"/>
                  </a:lnTo>
                  <a:lnTo>
                    <a:pt x="525" y="572"/>
                  </a:lnTo>
                  <a:lnTo>
                    <a:pt x="489" y="598"/>
                  </a:lnTo>
                  <a:lnTo>
                    <a:pt x="452" y="618"/>
                  </a:lnTo>
                  <a:lnTo>
                    <a:pt x="411" y="634"/>
                  </a:lnTo>
                  <a:lnTo>
                    <a:pt x="370" y="643"/>
                  </a:lnTo>
                  <a:lnTo>
                    <a:pt x="326" y="647"/>
                  </a:lnTo>
                  <a:lnTo>
                    <a:pt x="317" y="649"/>
                  </a:lnTo>
                  <a:lnTo>
                    <a:pt x="309" y="649"/>
                  </a:lnTo>
                  <a:lnTo>
                    <a:pt x="305" y="649"/>
                  </a:lnTo>
                  <a:lnTo>
                    <a:pt x="25" y="459"/>
                  </a:lnTo>
                  <a:lnTo>
                    <a:pt x="24" y="456"/>
                  </a:lnTo>
                  <a:lnTo>
                    <a:pt x="23" y="450"/>
                  </a:lnTo>
                  <a:lnTo>
                    <a:pt x="20" y="442"/>
                  </a:lnTo>
                  <a:lnTo>
                    <a:pt x="17" y="435"/>
                  </a:lnTo>
                  <a:lnTo>
                    <a:pt x="5" y="394"/>
                  </a:lnTo>
                  <a:lnTo>
                    <a:pt x="0" y="352"/>
                  </a:lnTo>
                  <a:lnTo>
                    <a:pt x="0" y="309"/>
                  </a:lnTo>
                  <a:lnTo>
                    <a:pt x="5" y="267"/>
                  </a:lnTo>
                  <a:lnTo>
                    <a:pt x="16" y="224"/>
                  </a:lnTo>
                  <a:lnTo>
                    <a:pt x="33" y="183"/>
                  </a:lnTo>
                  <a:lnTo>
                    <a:pt x="56" y="144"/>
                  </a:lnTo>
                  <a:lnTo>
                    <a:pt x="86" y="106"/>
                  </a:lnTo>
                  <a:lnTo>
                    <a:pt x="119" y="75"/>
                  </a:lnTo>
                  <a:lnTo>
                    <a:pt x="158" y="48"/>
                  </a:lnTo>
                  <a:lnTo>
                    <a:pt x="198" y="27"/>
                  </a:lnTo>
                  <a:lnTo>
                    <a:pt x="241" y="12"/>
                  </a:lnTo>
                  <a:lnTo>
                    <a:pt x="285" y="3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dc0000"/>
            </a:solidFill>
            <a:ln w="0">
              <a:solidFill>
                <a:srgbClr val="d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reeform 1276"/>
          <p:cNvSpPr/>
          <p:nvPr/>
        </p:nvSpPr>
        <p:spPr>
          <a:xfrm>
            <a:off x="1954080" y="2639880"/>
            <a:ext cx="246240" cy="246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3" h="223">
                <a:moveTo>
                  <a:pt x="111" y="0"/>
                </a:moveTo>
                <a:lnTo>
                  <a:pt x="140" y="4"/>
                </a:lnTo>
                <a:lnTo>
                  <a:pt x="167" y="16"/>
                </a:lnTo>
                <a:lnTo>
                  <a:pt x="189" y="33"/>
                </a:lnTo>
                <a:lnTo>
                  <a:pt x="207" y="56"/>
                </a:lnTo>
                <a:lnTo>
                  <a:pt x="219" y="82"/>
                </a:lnTo>
                <a:lnTo>
                  <a:pt x="223" y="111"/>
                </a:lnTo>
                <a:lnTo>
                  <a:pt x="219" y="142"/>
                </a:lnTo>
                <a:lnTo>
                  <a:pt x="207" y="168"/>
                </a:lnTo>
                <a:lnTo>
                  <a:pt x="189" y="191"/>
                </a:lnTo>
                <a:lnTo>
                  <a:pt x="167" y="208"/>
                </a:lnTo>
                <a:lnTo>
                  <a:pt x="140" y="219"/>
                </a:lnTo>
                <a:lnTo>
                  <a:pt x="111" y="223"/>
                </a:lnTo>
                <a:lnTo>
                  <a:pt x="81" y="219"/>
                </a:lnTo>
                <a:lnTo>
                  <a:pt x="54" y="208"/>
                </a:lnTo>
                <a:lnTo>
                  <a:pt x="32" y="191"/>
                </a:lnTo>
                <a:lnTo>
                  <a:pt x="14" y="168"/>
                </a:lnTo>
                <a:lnTo>
                  <a:pt x="4" y="142"/>
                </a:lnTo>
                <a:lnTo>
                  <a:pt x="0" y="111"/>
                </a:lnTo>
                <a:lnTo>
                  <a:pt x="4" y="82"/>
                </a:lnTo>
                <a:lnTo>
                  <a:pt x="14" y="56"/>
                </a:lnTo>
                <a:lnTo>
                  <a:pt x="32" y="33"/>
                </a:lnTo>
                <a:lnTo>
                  <a:pt x="54" y="16"/>
                </a:lnTo>
                <a:lnTo>
                  <a:pt x="81" y="4"/>
                </a:lnTo>
                <a:lnTo>
                  <a:pt x="111" y="0"/>
                </a:lnTo>
                <a:close/>
              </a:path>
            </a:pathLst>
          </a:custGeom>
          <a:solidFill>
            <a:srgbClr val="980000"/>
          </a:solidFill>
          <a:ln w="0">
            <a:solidFill>
              <a:srgbClr val="98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1"/>
          <p:cNvGrpSpPr/>
          <p:nvPr/>
        </p:nvGrpSpPr>
        <p:grpSpPr>
          <a:xfrm>
            <a:off x="1900080" y="2590920"/>
            <a:ext cx="249480" cy="247680"/>
            <a:chOff x="1900080" y="2590920"/>
            <a:chExt cx="249480" cy="247680"/>
          </a:xfrm>
        </p:grpSpPr>
        <p:sp>
          <p:nvSpPr>
            <p:cNvPr id="144" name="Freeform 1277"/>
            <p:cNvSpPr/>
            <p:nvPr/>
          </p:nvSpPr>
          <p:spPr>
            <a:xfrm>
              <a:off x="1900080" y="2590920"/>
              <a:ext cx="249480" cy="247680"/>
            </a:xfrm>
            <a:prstGeom prst="ellipse">
              <a:avLst/>
            </a:pr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78"/>
            <p:cNvSpPr/>
            <p:nvPr/>
          </p:nvSpPr>
          <p:spPr>
            <a:xfrm>
              <a:off x="1915560" y="2609640"/>
              <a:ext cx="85320" cy="114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7" h="104">
                  <a:moveTo>
                    <a:pt x="77" y="0"/>
                  </a:moveTo>
                  <a:lnTo>
                    <a:pt x="55" y="16"/>
                  </a:lnTo>
                  <a:lnTo>
                    <a:pt x="39" y="32"/>
                  </a:lnTo>
                  <a:lnTo>
                    <a:pt x="30" y="48"/>
                  </a:lnTo>
                  <a:lnTo>
                    <a:pt x="24" y="63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6" y="97"/>
                  </a:lnTo>
                  <a:lnTo>
                    <a:pt x="27" y="102"/>
                  </a:lnTo>
                  <a:lnTo>
                    <a:pt x="28" y="104"/>
                  </a:lnTo>
                  <a:lnTo>
                    <a:pt x="0" y="102"/>
                  </a:lnTo>
                  <a:lnTo>
                    <a:pt x="2" y="77"/>
                  </a:lnTo>
                  <a:lnTo>
                    <a:pt x="8" y="57"/>
                  </a:lnTo>
                  <a:lnTo>
                    <a:pt x="16" y="40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49" y="10"/>
                  </a:lnTo>
                  <a:lnTo>
                    <a:pt x="60" y="6"/>
                  </a:lnTo>
                  <a:lnTo>
                    <a:pt x="69" y="2"/>
                  </a:lnTo>
                  <a:lnTo>
                    <a:pt x="76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7169"/>
          <p:cNvSpPr/>
          <p:nvPr/>
        </p:nvSpPr>
        <p:spPr>
          <a:xfrm rot="21138600">
            <a:off x="2387520" y="2351160"/>
            <a:ext cx="4444920" cy="1811160"/>
          </a:xfrm>
          <a:custGeom>
            <a:avLst/>
            <a:gdLst>
              <a:gd name="textAreaLeft" fmla="*/ 0 w 4444920"/>
              <a:gd name="textAreaRight" fmla="*/ 4445280 w 4444920"/>
              <a:gd name="textAreaTop" fmla="*/ 0 h 1811160"/>
              <a:gd name="textAreaBottom" fmla="*/ 1811520 h 1811160"/>
            </a:gdLst>
            <a:ahLst/>
            <a:rect l="textAreaLeft" t="textAreaTop" r="textAreaRight" b="textAreaBottom"/>
            <a:pathLst>
              <a:path w="4119847" h="1811042">
                <a:moveTo>
                  <a:pt x="0" y="0"/>
                </a:moveTo>
                <a:cubicBezTo>
                  <a:pt x="1822174" y="245165"/>
                  <a:pt x="2057606" y="1086301"/>
                  <a:pt x="2388910" y="1480553"/>
                </a:cubicBezTo>
                <a:cubicBezTo>
                  <a:pt x="3368782" y="1455034"/>
                  <a:pt x="3274965" y="1350068"/>
                  <a:pt x="4119847" y="1811042"/>
                </a:cubicBezTo>
              </a:path>
            </a:pathLst>
          </a:custGeom>
          <a:noFill/>
          <a:ln w="28440">
            <a:solidFill>
              <a:srgbClr val="f2f2f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26708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 Diagonal Corner Rectangle 2"/>
          <p:cNvSpPr/>
          <p:nvPr/>
        </p:nvSpPr>
        <p:spPr>
          <a:xfrm>
            <a:off x="-31680" y="2905200"/>
            <a:ext cx="9175680" cy="914400"/>
          </a:xfrm>
          <a:custGeom>
            <a:avLst/>
            <a:gdLst>
              <a:gd name="textAreaLeft" fmla="*/ 44280 w 9175680"/>
              <a:gd name="textAreaRight" fmla="*/ 9131400 w 917568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77338" h="914400">
                <a:moveTo>
                  <a:pt x="152403" y="0"/>
                </a:moveTo>
                <a:lnTo>
                  <a:pt x="9177338" y="0"/>
                </a:lnTo>
                <a:lnTo>
                  <a:pt x="9177338" y="761997"/>
                </a:lnTo>
                <a:cubicBezTo>
                  <a:pt x="9177338" y="846166"/>
                  <a:pt x="9109104" y="914399"/>
                  <a:pt x="9024935" y="914400"/>
                </a:cubicBezTo>
                <a:lnTo>
                  <a:pt x="0" y="914400"/>
                </a:lnTo>
                <a:lnTo>
                  <a:pt x="0" y="152403"/>
                </a:lnTo>
                <a:cubicBezTo>
                  <a:pt x="0" y="68233"/>
                  <a:pt x="68233" y="0"/>
                  <a:pt x="152402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rapezoid 3"/>
          <p:cNvSpPr/>
          <p:nvPr/>
        </p:nvSpPr>
        <p:spPr>
          <a:xfrm>
            <a:off x="4836960" y="4546440"/>
            <a:ext cx="4307040" cy="2311560"/>
          </a:xfrm>
          <a:custGeom>
            <a:avLst/>
            <a:gdLst>
              <a:gd name="textAreaLeft" fmla="*/ 1030680 w 4307040"/>
              <a:gd name="textAreaRight" fmla="*/ 3276360 w 4307040"/>
              <a:gd name="textAreaTop" fmla="*/ 552960 h 2311560"/>
              <a:gd name="textAreaBottom" fmla="*/ 2311920 h 2311560"/>
            </a:gdLst>
            <a:ahLst/>
            <a:rect l="textAreaLeft" t="textAreaTop" r="textAreaRight" b="textAreaBottom"/>
            <a:pathLst>
              <a:path w="4306887" h="2311400">
                <a:moveTo>
                  <a:pt x="0" y="2311400"/>
                </a:moveTo>
                <a:lnTo>
                  <a:pt x="1546142" y="0"/>
                </a:lnTo>
                <a:lnTo>
                  <a:pt x="2760745" y="0"/>
                </a:lnTo>
                <a:lnTo>
                  <a:pt x="4306887" y="2311400"/>
                </a:lnTo>
                <a:close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 rot="19706400">
            <a:off x="4541400" y="5119200"/>
            <a:ext cx="2452680" cy="1212840"/>
          </a:xfrm>
          <a:custGeom>
            <a:avLst/>
            <a:gdLst>
              <a:gd name="textAreaLeft" fmla="*/ 0 w 2452680"/>
              <a:gd name="textAreaRight" fmla="*/ 2453040 w 24526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H="1" rot="1893600">
            <a:off x="7012800" y="5105160"/>
            <a:ext cx="2405160" cy="1241280"/>
          </a:xfrm>
          <a:custGeom>
            <a:avLst/>
            <a:gdLst>
              <a:gd name="textAreaLeft" fmla="*/ -360 w 2405160"/>
              <a:gd name="textAreaRight" fmla="*/ 2405160 w 2405160"/>
              <a:gd name="textAreaTop" fmla="*/ 0 h 1241280"/>
              <a:gd name="textAreaBottom" fmla="*/ 1241280 h 1241280"/>
            </a:gdLst>
            <a:ahLst/>
            <a:rect l="textAreaLeft" t="textAreaTop" r="textAreaRight" b="textAreaBottom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2311560" y="3271320"/>
            <a:ext cx="288360" cy="423720"/>
            <a:chOff x="2311560" y="3271320"/>
            <a:chExt cx="288360" cy="423720"/>
          </a:xfrm>
        </p:grpSpPr>
        <p:sp>
          <p:nvSpPr>
            <p:cNvPr id="154" name="Freeform 1074"/>
            <p:cNvSpPr/>
            <p:nvPr/>
          </p:nvSpPr>
          <p:spPr>
            <a:xfrm rot="1072800">
              <a:off x="2366640" y="3288960"/>
              <a:ext cx="177840" cy="387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76"/>
            <p:cNvSpPr/>
            <p:nvPr/>
          </p:nvSpPr>
          <p:spPr>
            <a:xfrm rot="1072800">
              <a:off x="2427840" y="336456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77"/>
            <p:cNvSpPr/>
            <p:nvPr/>
          </p:nvSpPr>
          <p:spPr>
            <a:xfrm rot="1072800">
              <a:off x="2428200" y="3380040"/>
              <a:ext cx="55800" cy="23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78"/>
            <p:cNvSpPr/>
            <p:nvPr/>
          </p:nvSpPr>
          <p:spPr>
            <a:xfrm rot="1072800">
              <a:off x="2394000" y="3635280"/>
              <a:ext cx="95400" cy="442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75"/>
            <p:cNvSpPr/>
            <p:nvPr/>
          </p:nvSpPr>
          <p:spPr>
            <a:xfrm rot="1072800">
              <a:off x="2424600" y="3290400"/>
              <a:ext cx="24120" cy="61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1766880" y="3271320"/>
            <a:ext cx="289800" cy="424080"/>
            <a:chOff x="1766880" y="3271320"/>
            <a:chExt cx="289800" cy="424080"/>
          </a:xfrm>
        </p:grpSpPr>
        <p:sp>
          <p:nvSpPr>
            <p:cNvPr id="160" name="Freeform 1074"/>
            <p:cNvSpPr/>
            <p:nvPr/>
          </p:nvSpPr>
          <p:spPr>
            <a:xfrm flipH="1" rot="20527200">
              <a:off x="1821240" y="3289320"/>
              <a:ext cx="179640" cy="387720"/>
            </a:xfrm>
            <a:custGeom>
              <a:avLst/>
              <a:gdLst>
                <a:gd name="textAreaLeft" fmla="*/ -360 w 179640"/>
                <a:gd name="textAreaRight" fmla="*/ 179640 w 1796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76"/>
            <p:cNvSpPr/>
            <p:nvPr/>
          </p:nvSpPr>
          <p:spPr>
            <a:xfrm flipH="1" rot="20527200">
              <a:off x="1883160" y="3364560"/>
              <a:ext cx="57240" cy="23760"/>
            </a:xfrm>
            <a:custGeom>
              <a:avLst/>
              <a:gdLst>
                <a:gd name="textAreaLeft" fmla="*/ -360 w 57240"/>
                <a:gd name="textAreaRight" fmla="*/ 57240 w 57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77"/>
            <p:cNvSpPr/>
            <p:nvPr/>
          </p:nvSpPr>
          <p:spPr>
            <a:xfrm flipH="1" rot="20527200">
              <a:off x="1883520" y="3380040"/>
              <a:ext cx="56160" cy="23760"/>
            </a:xfrm>
            <a:custGeom>
              <a:avLst/>
              <a:gdLst>
                <a:gd name="textAreaLeft" fmla="*/ 360 w 56160"/>
                <a:gd name="textAreaRight" fmla="*/ 56880 w 56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78"/>
            <p:cNvSpPr/>
            <p:nvPr/>
          </p:nvSpPr>
          <p:spPr>
            <a:xfrm flipH="1" rot="20527200">
              <a:off x="1877400" y="3635640"/>
              <a:ext cx="96480" cy="4428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75"/>
            <p:cNvSpPr/>
            <p:nvPr/>
          </p:nvSpPr>
          <p:spPr>
            <a:xfrm flipH="1" rot="20527200">
              <a:off x="1918080" y="3290400"/>
              <a:ext cx="24480" cy="61560"/>
            </a:xfrm>
            <a:custGeom>
              <a:avLst/>
              <a:gdLst>
                <a:gd name="textAreaLeft" fmla="*/ 360 w 24480"/>
                <a:gd name="textAreaRight" fmla="*/ 25200 w 244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9"/>
          <p:cNvGrpSpPr/>
          <p:nvPr/>
        </p:nvGrpSpPr>
        <p:grpSpPr>
          <a:xfrm>
            <a:off x="2112120" y="3267720"/>
            <a:ext cx="345960" cy="505440"/>
            <a:chOff x="2112120" y="3267720"/>
            <a:chExt cx="345960" cy="505440"/>
          </a:xfrm>
        </p:grpSpPr>
        <p:sp>
          <p:nvSpPr>
            <p:cNvPr id="166" name="Freeform 1074"/>
            <p:cNvSpPr/>
            <p:nvPr/>
          </p:nvSpPr>
          <p:spPr>
            <a:xfrm flipH="1" rot="20527200">
              <a:off x="2177640" y="3289320"/>
              <a:ext cx="214200" cy="46188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6"/>
            <p:cNvSpPr/>
            <p:nvPr/>
          </p:nvSpPr>
          <p:spPr>
            <a:xfrm flipH="1" rot="20527200">
              <a:off x="2249640" y="3379680"/>
              <a:ext cx="68400" cy="284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7"/>
            <p:cNvSpPr/>
            <p:nvPr/>
          </p:nvSpPr>
          <p:spPr>
            <a:xfrm flipH="1" rot="20527200">
              <a:off x="2250720" y="3397320"/>
              <a:ext cx="66960" cy="2808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78"/>
            <p:cNvSpPr/>
            <p:nvPr/>
          </p:nvSpPr>
          <p:spPr>
            <a:xfrm flipH="1" rot="20527200">
              <a:off x="2243520" y="3702960"/>
              <a:ext cx="114840" cy="52920"/>
            </a:xfrm>
            <a:custGeom>
              <a:avLst/>
              <a:gdLst>
                <a:gd name="textAreaLeft" fmla="*/ -360 w 114840"/>
                <a:gd name="textAreaRight" fmla="*/ 114840 w 1148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75"/>
            <p:cNvSpPr/>
            <p:nvPr/>
          </p:nvSpPr>
          <p:spPr>
            <a:xfrm flipH="1" rot="20527200">
              <a:off x="2293200" y="3290760"/>
              <a:ext cx="29160" cy="7344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5"/>
          <p:cNvGrpSpPr/>
          <p:nvPr/>
        </p:nvGrpSpPr>
        <p:grpSpPr>
          <a:xfrm>
            <a:off x="1931040" y="3267720"/>
            <a:ext cx="343800" cy="504720"/>
            <a:chOff x="1931040" y="3267720"/>
            <a:chExt cx="343800" cy="504720"/>
          </a:xfrm>
        </p:grpSpPr>
        <p:sp>
          <p:nvSpPr>
            <p:cNvPr id="172" name="Freeform 1074"/>
            <p:cNvSpPr/>
            <p:nvPr/>
          </p:nvSpPr>
          <p:spPr>
            <a:xfrm flipH="1" rot="20527200">
              <a:off x="1996200" y="3288960"/>
              <a:ext cx="212400" cy="46188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6"/>
            <p:cNvSpPr/>
            <p:nvPr/>
          </p:nvSpPr>
          <p:spPr>
            <a:xfrm flipH="1" rot="20527200">
              <a:off x="2068200" y="3379680"/>
              <a:ext cx="68040" cy="2808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77"/>
            <p:cNvSpPr/>
            <p:nvPr/>
          </p:nvSpPr>
          <p:spPr>
            <a:xfrm flipH="1" rot="20527200">
              <a:off x="2069280" y="3397680"/>
              <a:ext cx="66600" cy="280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78"/>
            <p:cNvSpPr/>
            <p:nvPr/>
          </p:nvSpPr>
          <p:spPr>
            <a:xfrm flipH="1" rot="20527200">
              <a:off x="2061720" y="3702600"/>
              <a:ext cx="114120" cy="5292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75"/>
            <p:cNvSpPr/>
            <p:nvPr/>
          </p:nvSpPr>
          <p:spPr>
            <a:xfrm flipH="1" rot="20527200">
              <a:off x="2111040" y="3290760"/>
              <a:ext cx="29160" cy="7344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1"/>
          <p:cNvGrpSpPr/>
          <p:nvPr/>
        </p:nvGrpSpPr>
        <p:grpSpPr>
          <a:xfrm>
            <a:off x="2529000" y="3271320"/>
            <a:ext cx="289800" cy="424080"/>
            <a:chOff x="2529000" y="3271320"/>
            <a:chExt cx="289800" cy="424080"/>
          </a:xfrm>
        </p:grpSpPr>
        <p:sp>
          <p:nvSpPr>
            <p:cNvPr id="178" name="Freeform 1074"/>
            <p:cNvSpPr/>
            <p:nvPr/>
          </p:nvSpPr>
          <p:spPr>
            <a:xfrm rot="1072800">
              <a:off x="2584080" y="3289320"/>
              <a:ext cx="179280" cy="387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76"/>
            <p:cNvSpPr/>
            <p:nvPr/>
          </p:nvSpPr>
          <p:spPr>
            <a:xfrm rot="1072800">
              <a:off x="2645640" y="3364560"/>
              <a:ext cx="57240" cy="23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77"/>
            <p:cNvSpPr/>
            <p:nvPr/>
          </p:nvSpPr>
          <p:spPr>
            <a:xfrm rot="1072800">
              <a:off x="2646360" y="3380040"/>
              <a:ext cx="56160" cy="237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78"/>
            <p:cNvSpPr/>
            <p:nvPr/>
          </p:nvSpPr>
          <p:spPr>
            <a:xfrm rot="1072800">
              <a:off x="2611440" y="3635640"/>
              <a:ext cx="96120" cy="442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75"/>
            <p:cNvSpPr/>
            <p:nvPr/>
          </p:nvSpPr>
          <p:spPr>
            <a:xfrm rot="1072800">
              <a:off x="2642760" y="3290400"/>
              <a:ext cx="24480" cy="61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7"/>
          <p:cNvGrpSpPr/>
          <p:nvPr/>
        </p:nvGrpSpPr>
        <p:grpSpPr>
          <a:xfrm>
            <a:off x="2370600" y="3269520"/>
            <a:ext cx="321120" cy="471960"/>
            <a:chOff x="2370600" y="3269520"/>
            <a:chExt cx="321120" cy="471960"/>
          </a:xfrm>
        </p:grpSpPr>
        <p:sp>
          <p:nvSpPr>
            <p:cNvPr id="184" name="Freeform 1074"/>
            <p:cNvSpPr/>
            <p:nvPr/>
          </p:nvSpPr>
          <p:spPr>
            <a:xfrm rot="1072800">
              <a:off x="2431800" y="3289320"/>
              <a:ext cx="198360" cy="4320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76"/>
            <p:cNvSpPr/>
            <p:nvPr/>
          </p:nvSpPr>
          <p:spPr>
            <a:xfrm rot="1072800">
              <a:off x="2499480" y="3373560"/>
              <a:ext cx="63360" cy="26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77"/>
            <p:cNvSpPr/>
            <p:nvPr/>
          </p:nvSpPr>
          <p:spPr>
            <a:xfrm rot="1072800">
              <a:off x="2500200" y="3390120"/>
              <a:ext cx="62280" cy="26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8"/>
            <p:cNvSpPr/>
            <p:nvPr/>
          </p:nvSpPr>
          <p:spPr>
            <a:xfrm rot="1072800">
              <a:off x="2462040" y="3674880"/>
              <a:ext cx="106560" cy="49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75"/>
            <p:cNvSpPr/>
            <p:nvPr/>
          </p:nvSpPr>
          <p:spPr>
            <a:xfrm rot="1072800">
              <a:off x="2496600" y="3290400"/>
              <a:ext cx="27000" cy="68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43"/>
          <p:cNvGrpSpPr/>
          <p:nvPr/>
        </p:nvGrpSpPr>
        <p:grpSpPr>
          <a:xfrm>
            <a:off x="2197800" y="3267720"/>
            <a:ext cx="344160" cy="504720"/>
            <a:chOff x="2197800" y="3267720"/>
            <a:chExt cx="344160" cy="504720"/>
          </a:xfrm>
        </p:grpSpPr>
        <p:sp>
          <p:nvSpPr>
            <p:cNvPr id="190" name="Freeform 1074"/>
            <p:cNvSpPr/>
            <p:nvPr/>
          </p:nvSpPr>
          <p:spPr>
            <a:xfrm rot="1072800">
              <a:off x="2263320" y="3288960"/>
              <a:ext cx="212760" cy="461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76"/>
            <p:cNvSpPr/>
            <p:nvPr/>
          </p:nvSpPr>
          <p:spPr>
            <a:xfrm rot="1072800">
              <a:off x="2336400" y="3379680"/>
              <a:ext cx="68040" cy="28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77"/>
            <p:cNvSpPr/>
            <p:nvPr/>
          </p:nvSpPr>
          <p:spPr>
            <a:xfrm rot="1072800">
              <a:off x="2336760" y="3397680"/>
              <a:ext cx="66600" cy="28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78"/>
            <p:cNvSpPr/>
            <p:nvPr/>
          </p:nvSpPr>
          <p:spPr>
            <a:xfrm rot="1072800">
              <a:off x="2296080" y="3702960"/>
              <a:ext cx="114120" cy="52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75"/>
            <p:cNvSpPr/>
            <p:nvPr/>
          </p:nvSpPr>
          <p:spPr>
            <a:xfrm rot="1072800">
              <a:off x="2332440" y="3290760"/>
              <a:ext cx="29160" cy="7344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rapezoid 48"/>
          <p:cNvSpPr/>
          <p:nvPr/>
        </p:nvSpPr>
        <p:spPr>
          <a:xfrm>
            <a:off x="0" y="3809880"/>
            <a:ext cx="4307040" cy="3048120"/>
          </a:xfrm>
          <a:custGeom>
            <a:avLst/>
            <a:gdLst>
              <a:gd name="textAreaLeft" fmla="*/ 945360 w 4307040"/>
              <a:gd name="textAreaRight" fmla="*/ 3361680 w 4307040"/>
              <a:gd name="textAreaTop" fmla="*/ 668880 h 3048120"/>
              <a:gd name="textAreaBottom" fmla="*/ 3048480 h 3048120"/>
            </a:gdLst>
            <a:ahLst/>
            <a:rect l="textAreaLeft" t="textAreaTop" r="textAreaRight" b="textAreaBottom"/>
            <a:pathLst>
              <a:path w="4306888" h="3048000">
                <a:moveTo>
                  <a:pt x="0" y="3048000"/>
                </a:moveTo>
                <a:lnTo>
                  <a:pt x="1417991" y="0"/>
                </a:lnTo>
                <a:lnTo>
                  <a:pt x="2888897" y="0"/>
                </a:lnTo>
                <a:lnTo>
                  <a:pt x="4306888" y="3048000"/>
                </a:lnTo>
                <a:close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0"/>
          <p:cNvGrpSpPr/>
          <p:nvPr/>
        </p:nvGrpSpPr>
        <p:grpSpPr>
          <a:xfrm>
            <a:off x="1996200" y="3265200"/>
            <a:ext cx="385920" cy="565920"/>
            <a:chOff x="1996200" y="3265200"/>
            <a:chExt cx="385920" cy="565920"/>
          </a:xfrm>
        </p:grpSpPr>
        <p:sp>
          <p:nvSpPr>
            <p:cNvPr id="197" name="Freeform 1074"/>
            <p:cNvSpPr/>
            <p:nvPr/>
          </p:nvSpPr>
          <p:spPr>
            <a:xfrm rot="1072800">
              <a:off x="2070000" y="3288960"/>
              <a:ext cx="238320" cy="517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76"/>
            <p:cNvSpPr/>
            <p:nvPr/>
          </p:nvSpPr>
          <p:spPr>
            <a:xfrm rot="1072800">
              <a:off x="2151360" y="3390480"/>
              <a:ext cx="76320" cy="31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77"/>
            <p:cNvSpPr/>
            <p:nvPr/>
          </p:nvSpPr>
          <p:spPr>
            <a:xfrm rot="1072800">
              <a:off x="2151720" y="3410640"/>
              <a:ext cx="74520" cy="31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78"/>
            <p:cNvSpPr/>
            <p:nvPr/>
          </p:nvSpPr>
          <p:spPr>
            <a:xfrm rot="1072800">
              <a:off x="2106360" y="3752280"/>
              <a:ext cx="127800" cy="5940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75"/>
            <p:cNvSpPr/>
            <p:nvPr/>
          </p:nvSpPr>
          <p:spPr>
            <a:xfrm rot="1072800">
              <a:off x="2147040" y="3291120"/>
              <a:ext cx="32400" cy="820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Freeform 16"/>
          <p:cNvSpPr/>
          <p:nvPr/>
        </p:nvSpPr>
        <p:spPr>
          <a:xfrm rot="19706400">
            <a:off x="-498600" y="4403880"/>
            <a:ext cx="2727360" cy="190800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1908000"/>
              <a:gd name="textAreaBottom" fmla="*/ 1908360 h 1908000"/>
            </a:gdLst>
            <a:ahLst/>
            <a:rect l="textAreaLeft" t="textAreaTop" r="textAreaRight" b="textAreaBottom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H="1" rot="1893600">
            <a:off x="2013840" y="4403880"/>
            <a:ext cx="2728800" cy="1908000"/>
          </a:xfrm>
          <a:custGeom>
            <a:avLst/>
            <a:gdLst>
              <a:gd name="textAreaLeft" fmla="*/ 360 w 2728800"/>
              <a:gd name="textAreaRight" fmla="*/ 2729520 w 2728800"/>
              <a:gd name="textAreaTop" fmla="*/ 0 h 1908000"/>
              <a:gd name="textAreaBottom" fmla="*/ 1908360 h 1908000"/>
            </a:gdLst>
            <a:ahLst/>
            <a:rect l="textAreaLeft" t="textAreaTop" r="textAreaRight" b="textAreaBottom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8"/>
          <p:cNvGrpSpPr/>
          <p:nvPr/>
        </p:nvGrpSpPr>
        <p:grpSpPr>
          <a:xfrm>
            <a:off x="1538280" y="3271320"/>
            <a:ext cx="289800" cy="424080"/>
            <a:chOff x="1538280" y="3271320"/>
            <a:chExt cx="289800" cy="424080"/>
          </a:xfrm>
        </p:grpSpPr>
        <p:sp>
          <p:nvSpPr>
            <p:cNvPr id="205" name="Freeform 1074"/>
            <p:cNvSpPr/>
            <p:nvPr/>
          </p:nvSpPr>
          <p:spPr>
            <a:xfrm flipH="1" rot="20527200">
              <a:off x="1592640" y="3289320"/>
              <a:ext cx="179640" cy="387720"/>
            </a:xfrm>
            <a:custGeom>
              <a:avLst/>
              <a:gdLst>
                <a:gd name="textAreaLeft" fmla="*/ -360 w 179640"/>
                <a:gd name="textAreaRight" fmla="*/ 179640 w 1796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76"/>
            <p:cNvSpPr/>
            <p:nvPr/>
          </p:nvSpPr>
          <p:spPr>
            <a:xfrm flipH="1" rot="20527200">
              <a:off x="1654560" y="3364560"/>
              <a:ext cx="57240" cy="23760"/>
            </a:xfrm>
            <a:custGeom>
              <a:avLst/>
              <a:gdLst>
                <a:gd name="textAreaLeft" fmla="*/ -360 w 57240"/>
                <a:gd name="textAreaRight" fmla="*/ 57240 w 57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77"/>
            <p:cNvSpPr/>
            <p:nvPr/>
          </p:nvSpPr>
          <p:spPr>
            <a:xfrm flipH="1" rot="20527200">
              <a:off x="1654920" y="3380040"/>
              <a:ext cx="56160" cy="23760"/>
            </a:xfrm>
            <a:custGeom>
              <a:avLst/>
              <a:gdLst>
                <a:gd name="textAreaLeft" fmla="*/ 360 w 56160"/>
                <a:gd name="textAreaRight" fmla="*/ 56880 w 56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78"/>
            <p:cNvSpPr/>
            <p:nvPr/>
          </p:nvSpPr>
          <p:spPr>
            <a:xfrm flipH="1" rot="20527200">
              <a:off x="1648800" y="3635640"/>
              <a:ext cx="96480" cy="4428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75"/>
            <p:cNvSpPr/>
            <p:nvPr/>
          </p:nvSpPr>
          <p:spPr>
            <a:xfrm flipH="1" rot="20527200">
              <a:off x="1689480" y="3290400"/>
              <a:ext cx="24480" cy="61560"/>
            </a:xfrm>
            <a:custGeom>
              <a:avLst/>
              <a:gdLst>
                <a:gd name="textAreaLeft" fmla="*/ 360 w 24480"/>
                <a:gd name="textAreaRight" fmla="*/ 25200 w 244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64"/>
          <p:cNvGrpSpPr/>
          <p:nvPr/>
        </p:nvGrpSpPr>
        <p:grpSpPr>
          <a:xfrm>
            <a:off x="1668600" y="3269160"/>
            <a:ext cx="322560" cy="472320"/>
            <a:chOff x="1668600" y="3269160"/>
            <a:chExt cx="322560" cy="472320"/>
          </a:xfrm>
        </p:grpSpPr>
        <p:sp>
          <p:nvSpPr>
            <p:cNvPr id="211" name="Freeform 1074"/>
            <p:cNvSpPr/>
            <p:nvPr/>
          </p:nvSpPr>
          <p:spPr>
            <a:xfrm flipH="1" rot="20527200">
              <a:off x="1729800" y="3289320"/>
              <a:ext cx="199800" cy="432000"/>
            </a:xfrm>
            <a:custGeom>
              <a:avLst/>
              <a:gdLst>
                <a:gd name="textAreaLeft" fmla="*/ -360 w 199800"/>
                <a:gd name="textAreaRight" fmla="*/ 199800 w 1998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6"/>
            <p:cNvSpPr/>
            <p:nvPr/>
          </p:nvSpPr>
          <p:spPr>
            <a:xfrm flipH="1" rot="20527200">
              <a:off x="1798200" y="3373560"/>
              <a:ext cx="63360" cy="2628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77"/>
            <p:cNvSpPr/>
            <p:nvPr/>
          </p:nvSpPr>
          <p:spPr>
            <a:xfrm flipH="1" rot="20527200">
              <a:off x="1798200" y="3390120"/>
              <a:ext cx="62640" cy="2664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8"/>
            <p:cNvSpPr/>
            <p:nvPr/>
          </p:nvSpPr>
          <p:spPr>
            <a:xfrm flipH="1" rot="20527200">
              <a:off x="1791720" y="3674880"/>
              <a:ext cx="107280" cy="496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5"/>
            <p:cNvSpPr/>
            <p:nvPr/>
          </p:nvSpPr>
          <p:spPr>
            <a:xfrm flipH="1" rot="20527200">
              <a:off x="1837800" y="3290760"/>
              <a:ext cx="27360" cy="6840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0"/>
          <p:cNvGrpSpPr/>
          <p:nvPr/>
        </p:nvGrpSpPr>
        <p:grpSpPr>
          <a:xfrm>
            <a:off x="1821600" y="3267720"/>
            <a:ext cx="345960" cy="505440"/>
            <a:chOff x="1821600" y="3267720"/>
            <a:chExt cx="345960" cy="505440"/>
          </a:xfrm>
        </p:grpSpPr>
        <p:sp>
          <p:nvSpPr>
            <p:cNvPr id="217" name="Freeform 1074"/>
            <p:cNvSpPr/>
            <p:nvPr/>
          </p:nvSpPr>
          <p:spPr>
            <a:xfrm flipH="1" rot="20527200">
              <a:off x="1887120" y="3289320"/>
              <a:ext cx="214200" cy="46188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76"/>
            <p:cNvSpPr/>
            <p:nvPr/>
          </p:nvSpPr>
          <p:spPr>
            <a:xfrm flipH="1" rot="20527200">
              <a:off x="1959120" y="3379680"/>
              <a:ext cx="68400" cy="284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77"/>
            <p:cNvSpPr/>
            <p:nvPr/>
          </p:nvSpPr>
          <p:spPr>
            <a:xfrm flipH="1" rot="20527200">
              <a:off x="1960200" y="3397320"/>
              <a:ext cx="66960" cy="2808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78"/>
            <p:cNvSpPr/>
            <p:nvPr/>
          </p:nvSpPr>
          <p:spPr>
            <a:xfrm flipH="1" rot="20527200">
              <a:off x="1953000" y="3702960"/>
              <a:ext cx="114840" cy="52920"/>
            </a:xfrm>
            <a:custGeom>
              <a:avLst/>
              <a:gdLst>
                <a:gd name="textAreaLeft" fmla="*/ -360 w 114840"/>
                <a:gd name="textAreaRight" fmla="*/ 114840 w 1148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75"/>
            <p:cNvSpPr/>
            <p:nvPr/>
          </p:nvSpPr>
          <p:spPr>
            <a:xfrm flipH="1" rot="20527200">
              <a:off x="2002680" y="3290760"/>
              <a:ext cx="29160" cy="7344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76"/>
          <p:cNvGrpSpPr/>
          <p:nvPr/>
        </p:nvGrpSpPr>
        <p:grpSpPr>
          <a:xfrm>
            <a:off x="7225920" y="4061160"/>
            <a:ext cx="402480" cy="588600"/>
            <a:chOff x="7225920" y="4061160"/>
            <a:chExt cx="402480" cy="588600"/>
          </a:xfrm>
        </p:grpSpPr>
        <p:sp>
          <p:nvSpPr>
            <p:cNvPr id="223" name="Freeform 1074"/>
            <p:cNvSpPr/>
            <p:nvPr/>
          </p:nvSpPr>
          <p:spPr>
            <a:xfrm rot="1072800">
              <a:off x="7302240" y="4086360"/>
              <a:ext cx="249120" cy="5382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76"/>
            <p:cNvSpPr/>
            <p:nvPr/>
          </p:nvSpPr>
          <p:spPr>
            <a:xfrm rot="1072800">
              <a:off x="7387200" y="4191120"/>
              <a:ext cx="79560" cy="32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77"/>
            <p:cNvSpPr/>
            <p:nvPr/>
          </p:nvSpPr>
          <p:spPr>
            <a:xfrm rot="1072800">
              <a:off x="7388280" y="4212360"/>
              <a:ext cx="78120" cy="32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8"/>
            <p:cNvSpPr/>
            <p:nvPr/>
          </p:nvSpPr>
          <p:spPr>
            <a:xfrm rot="1072800">
              <a:off x="7340400" y="4566960"/>
              <a:ext cx="133920" cy="619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75"/>
            <p:cNvSpPr/>
            <p:nvPr/>
          </p:nvSpPr>
          <p:spPr>
            <a:xfrm rot="1072800">
              <a:off x="7383240" y="4087800"/>
              <a:ext cx="33840" cy="853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82"/>
          <p:cNvGrpSpPr/>
          <p:nvPr/>
        </p:nvGrpSpPr>
        <p:grpSpPr>
          <a:xfrm>
            <a:off x="6470640" y="4061160"/>
            <a:ext cx="401400" cy="586800"/>
            <a:chOff x="6470640" y="4061160"/>
            <a:chExt cx="401400" cy="586800"/>
          </a:xfrm>
        </p:grpSpPr>
        <p:sp>
          <p:nvSpPr>
            <p:cNvPr id="229" name="Freeform 1074"/>
            <p:cNvSpPr/>
            <p:nvPr/>
          </p:nvSpPr>
          <p:spPr>
            <a:xfrm flipH="1" rot="20527200">
              <a:off x="6546240" y="4086360"/>
              <a:ext cx="249120" cy="53640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76"/>
            <p:cNvSpPr/>
            <p:nvPr/>
          </p:nvSpPr>
          <p:spPr>
            <a:xfrm flipH="1" rot="20527200">
              <a:off x="6631560" y="4190760"/>
              <a:ext cx="79560" cy="32400"/>
            </a:xfrm>
            <a:custGeom>
              <a:avLst/>
              <a:gdLst>
                <a:gd name="textAreaLeft" fmla="*/ -360 w 79560"/>
                <a:gd name="textAreaRight" fmla="*/ 79560 w 795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77"/>
            <p:cNvSpPr/>
            <p:nvPr/>
          </p:nvSpPr>
          <p:spPr>
            <a:xfrm flipH="1" rot="20527200">
              <a:off x="6631200" y="4212000"/>
              <a:ext cx="78480" cy="3240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78"/>
            <p:cNvSpPr/>
            <p:nvPr/>
          </p:nvSpPr>
          <p:spPr>
            <a:xfrm flipH="1" rot="20527200">
              <a:off x="6623640" y="4565520"/>
              <a:ext cx="133920" cy="61560"/>
            </a:xfrm>
            <a:custGeom>
              <a:avLst/>
              <a:gdLst>
                <a:gd name="textAreaLeft" fmla="*/ 360 w 133920"/>
                <a:gd name="textAreaRight" fmla="*/ 134640 w 13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75"/>
            <p:cNvSpPr/>
            <p:nvPr/>
          </p:nvSpPr>
          <p:spPr>
            <a:xfrm flipH="1" rot="20527200">
              <a:off x="6681600" y="4087800"/>
              <a:ext cx="33840" cy="8460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88"/>
          <p:cNvGrpSpPr/>
          <p:nvPr/>
        </p:nvGrpSpPr>
        <p:grpSpPr>
          <a:xfrm>
            <a:off x="6948720" y="4056120"/>
            <a:ext cx="481320" cy="702000"/>
            <a:chOff x="6948720" y="4056120"/>
            <a:chExt cx="481320" cy="702000"/>
          </a:xfrm>
        </p:grpSpPr>
        <p:sp>
          <p:nvSpPr>
            <p:cNvPr id="235" name="Freeform 1074"/>
            <p:cNvSpPr/>
            <p:nvPr/>
          </p:nvSpPr>
          <p:spPr>
            <a:xfrm flipH="1" rot="20527200">
              <a:off x="7039800" y="4086360"/>
              <a:ext cx="298440" cy="641160"/>
            </a:xfrm>
            <a:custGeom>
              <a:avLst/>
              <a:gdLst>
                <a:gd name="textAreaLeft" fmla="*/ -360 w 298440"/>
                <a:gd name="textAreaRight" fmla="*/ 298440 w 2984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76"/>
            <p:cNvSpPr/>
            <p:nvPr/>
          </p:nvSpPr>
          <p:spPr>
            <a:xfrm flipH="1" rot="20527200">
              <a:off x="7141320" y="4211280"/>
              <a:ext cx="95400" cy="3924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77"/>
            <p:cNvSpPr/>
            <p:nvPr/>
          </p:nvSpPr>
          <p:spPr>
            <a:xfrm flipH="1" rot="20527200">
              <a:off x="7141680" y="4236840"/>
              <a:ext cx="93600" cy="3924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78"/>
            <p:cNvSpPr/>
            <p:nvPr/>
          </p:nvSpPr>
          <p:spPr>
            <a:xfrm flipH="1" rot="20527200">
              <a:off x="7131960" y="4660200"/>
              <a:ext cx="160560" cy="73800"/>
            </a:xfrm>
            <a:custGeom>
              <a:avLst/>
              <a:gdLst>
                <a:gd name="textAreaLeft" fmla="*/ 360 w 160560"/>
                <a:gd name="textAreaRight" fmla="*/ 161280 w 1605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75"/>
            <p:cNvSpPr/>
            <p:nvPr/>
          </p:nvSpPr>
          <p:spPr>
            <a:xfrm flipH="1" rot="20527200">
              <a:off x="7201080" y="4088520"/>
              <a:ext cx="41040" cy="1018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4"/>
          <p:cNvGrpSpPr/>
          <p:nvPr/>
        </p:nvGrpSpPr>
        <p:grpSpPr>
          <a:xfrm>
            <a:off x="6696360" y="4056120"/>
            <a:ext cx="481320" cy="702000"/>
            <a:chOff x="6696360" y="4056120"/>
            <a:chExt cx="481320" cy="702000"/>
          </a:xfrm>
        </p:grpSpPr>
        <p:sp>
          <p:nvSpPr>
            <p:cNvPr id="241" name="Freeform 1074"/>
            <p:cNvSpPr/>
            <p:nvPr/>
          </p:nvSpPr>
          <p:spPr>
            <a:xfrm flipH="1" rot="20527200">
              <a:off x="6787440" y="4086360"/>
              <a:ext cx="298440" cy="641160"/>
            </a:xfrm>
            <a:custGeom>
              <a:avLst/>
              <a:gdLst>
                <a:gd name="textAreaLeft" fmla="*/ -360 w 298440"/>
                <a:gd name="textAreaRight" fmla="*/ 298440 w 2984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76"/>
            <p:cNvSpPr/>
            <p:nvPr/>
          </p:nvSpPr>
          <p:spPr>
            <a:xfrm flipH="1" rot="20527200">
              <a:off x="6888960" y="4211280"/>
              <a:ext cx="95400" cy="3924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77"/>
            <p:cNvSpPr/>
            <p:nvPr/>
          </p:nvSpPr>
          <p:spPr>
            <a:xfrm flipH="1" rot="20527200">
              <a:off x="6889320" y="4236840"/>
              <a:ext cx="93600" cy="3924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78"/>
            <p:cNvSpPr/>
            <p:nvPr/>
          </p:nvSpPr>
          <p:spPr>
            <a:xfrm flipH="1" rot="20527200">
              <a:off x="6879600" y="4660200"/>
              <a:ext cx="160560" cy="73800"/>
            </a:xfrm>
            <a:custGeom>
              <a:avLst/>
              <a:gdLst>
                <a:gd name="textAreaLeft" fmla="*/ 360 w 160560"/>
                <a:gd name="textAreaRight" fmla="*/ 161280 w 1605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75"/>
            <p:cNvSpPr/>
            <p:nvPr/>
          </p:nvSpPr>
          <p:spPr>
            <a:xfrm flipH="1" rot="20527200">
              <a:off x="6948720" y="4088520"/>
              <a:ext cx="41040" cy="1018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00"/>
          <p:cNvGrpSpPr/>
          <p:nvPr/>
        </p:nvGrpSpPr>
        <p:grpSpPr>
          <a:xfrm>
            <a:off x="7445880" y="4088520"/>
            <a:ext cx="574200" cy="534600"/>
            <a:chOff x="7445880" y="4088520"/>
            <a:chExt cx="574200" cy="534600"/>
          </a:xfrm>
        </p:grpSpPr>
        <p:sp>
          <p:nvSpPr>
            <p:cNvPr id="247" name="Freeform 1074"/>
            <p:cNvSpPr/>
            <p:nvPr/>
          </p:nvSpPr>
          <p:spPr>
            <a:xfrm rot="3033600">
              <a:off x="7608240" y="4086360"/>
              <a:ext cx="249480" cy="5382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76"/>
            <p:cNvSpPr/>
            <p:nvPr/>
          </p:nvSpPr>
          <p:spPr>
            <a:xfrm rot="3033600">
              <a:off x="7776000" y="4217040"/>
              <a:ext cx="79920" cy="327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77"/>
            <p:cNvSpPr/>
            <p:nvPr/>
          </p:nvSpPr>
          <p:spPr>
            <a:xfrm rot="3033600">
              <a:off x="7765560" y="4235400"/>
              <a:ext cx="78120" cy="32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78"/>
            <p:cNvSpPr/>
            <p:nvPr/>
          </p:nvSpPr>
          <p:spPr>
            <a:xfrm rot="3033600">
              <a:off x="7521120" y="4520520"/>
              <a:ext cx="133920" cy="619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75"/>
            <p:cNvSpPr/>
            <p:nvPr/>
          </p:nvSpPr>
          <p:spPr>
            <a:xfrm rot="3033600">
              <a:off x="7817760" y="4111560"/>
              <a:ext cx="33840" cy="853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6"/>
          <p:cNvGrpSpPr/>
          <p:nvPr/>
        </p:nvGrpSpPr>
        <p:grpSpPr>
          <a:xfrm>
            <a:off x="7250040" y="4060800"/>
            <a:ext cx="566640" cy="650160"/>
            <a:chOff x="7250040" y="4060800"/>
            <a:chExt cx="566640" cy="650160"/>
          </a:xfrm>
        </p:grpSpPr>
        <p:sp>
          <p:nvSpPr>
            <p:cNvPr id="253" name="Freeform 1074"/>
            <p:cNvSpPr/>
            <p:nvPr/>
          </p:nvSpPr>
          <p:spPr>
            <a:xfrm rot="2068200">
              <a:off x="7395120" y="4086360"/>
              <a:ext cx="276480" cy="598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6"/>
            <p:cNvSpPr/>
            <p:nvPr/>
          </p:nvSpPr>
          <p:spPr>
            <a:xfrm rot="2068200">
              <a:off x="7536600" y="4210200"/>
              <a:ext cx="88560" cy="36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7"/>
            <p:cNvSpPr/>
            <p:nvPr/>
          </p:nvSpPr>
          <p:spPr>
            <a:xfrm rot="2068200">
              <a:off x="7530840" y="4232880"/>
              <a:ext cx="86760" cy="36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8"/>
            <p:cNvSpPr/>
            <p:nvPr/>
          </p:nvSpPr>
          <p:spPr>
            <a:xfrm rot="2068200">
              <a:off x="7362000" y="4602960"/>
              <a:ext cx="148320" cy="687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5"/>
            <p:cNvSpPr/>
            <p:nvPr/>
          </p:nvSpPr>
          <p:spPr>
            <a:xfrm rot="2068200">
              <a:off x="7557840" y="4089960"/>
              <a:ext cx="37800" cy="94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2"/>
          <p:cNvGrpSpPr/>
          <p:nvPr/>
        </p:nvGrpSpPr>
        <p:grpSpPr>
          <a:xfrm>
            <a:off x="7010640" y="4056840"/>
            <a:ext cx="598320" cy="699840"/>
            <a:chOff x="7010640" y="4056840"/>
            <a:chExt cx="598320" cy="699840"/>
          </a:xfrm>
        </p:grpSpPr>
        <p:sp>
          <p:nvSpPr>
            <p:cNvPr id="259" name="Freeform 1074"/>
            <p:cNvSpPr/>
            <p:nvPr/>
          </p:nvSpPr>
          <p:spPr>
            <a:xfrm rot="1972800">
              <a:off x="7160400" y="4086360"/>
              <a:ext cx="298440" cy="640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 rot="1972800">
              <a:off x="7310160" y="4219560"/>
              <a:ext cx="95400" cy="392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 rot="1972800">
              <a:off x="7304760" y="4243320"/>
              <a:ext cx="93600" cy="39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 rot="1972800">
              <a:off x="7134120" y="4645440"/>
              <a:ext cx="160200" cy="73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5"/>
            <p:cNvSpPr/>
            <p:nvPr/>
          </p:nvSpPr>
          <p:spPr>
            <a:xfrm rot="1972800">
              <a:off x="7329960" y="4091400"/>
              <a:ext cx="40680" cy="101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18"/>
          <p:cNvGrpSpPr/>
          <p:nvPr/>
        </p:nvGrpSpPr>
        <p:grpSpPr>
          <a:xfrm>
            <a:off x="6736320" y="4051440"/>
            <a:ext cx="643320" cy="787680"/>
            <a:chOff x="6736320" y="4051440"/>
            <a:chExt cx="643320" cy="787680"/>
          </a:xfrm>
        </p:grpSpPr>
        <p:sp>
          <p:nvSpPr>
            <p:cNvPr id="265" name="Freeform 1074"/>
            <p:cNvSpPr/>
            <p:nvPr/>
          </p:nvSpPr>
          <p:spPr>
            <a:xfrm rot="1782000">
              <a:off x="6891840" y="4086360"/>
              <a:ext cx="331560" cy="7174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76"/>
            <p:cNvSpPr/>
            <p:nvPr/>
          </p:nvSpPr>
          <p:spPr>
            <a:xfrm rot="1782000">
              <a:off x="7045920" y="4231080"/>
              <a:ext cx="106200" cy="43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77"/>
            <p:cNvSpPr/>
            <p:nvPr/>
          </p:nvSpPr>
          <p:spPr>
            <a:xfrm rot="1782000">
              <a:off x="7041600" y="4258440"/>
              <a:ext cx="104040" cy="439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78"/>
            <p:cNvSpPr/>
            <p:nvPr/>
          </p:nvSpPr>
          <p:spPr>
            <a:xfrm rot="1782000">
              <a:off x="6877440" y="4715640"/>
              <a:ext cx="177840" cy="82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75"/>
            <p:cNvSpPr/>
            <p:nvPr/>
          </p:nvSpPr>
          <p:spPr>
            <a:xfrm rot="1782000">
              <a:off x="7062480" y="4087800"/>
              <a:ext cx="45360" cy="1137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24"/>
          <p:cNvGrpSpPr/>
          <p:nvPr/>
        </p:nvGrpSpPr>
        <p:grpSpPr>
          <a:xfrm>
            <a:off x="6152760" y="4061160"/>
            <a:ext cx="402120" cy="588600"/>
            <a:chOff x="6152760" y="4061160"/>
            <a:chExt cx="402120" cy="588600"/>
          </a:xfrm>
        </p:grpSpPr>
        <p:sp>
          <p:nvSpPr>
            <p:cNvPr id="271" name="Freeform 1074"/>
            <p:cNvSpPr/>
            <p:nvPr/>
          </p:nvSpPr>
          <p:spPr>
            <a:xfrm flipH="1" rot="20527200">
              <a:off x="6228720" y="4086360"/>
              <a:ext cx="249120" cy="53820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6"/>
            <p:cNvSpPr/>
            <p:nvPr/>
          </p:nvSpPr>
          <p:spPr>
            <a:xfrm flipH="1" rot="20527200">
              <a:off x="6314040" y="4191120"/>
              <a:ext cx="79560" cy="32400"/>
            </a:xfrm>
            <a:custGeom>
              <a:avLst/>
              <a:gdLst>
                <a:gd name="textAreaLeft" fmla="*/ -360 w 79560"/>
                <a:gd name="textAreaRight" fmla="*/ 79560 w 795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77"/>
            <p:cNvSpPr/>
            <p:nvPr/>
          </p:nvSpPr>
          <p:spPr>
            <a:xfrm flipH="1" rot="20527200">
              <a:off x="6313680" y="4212360"/>
              <a:ext cx="78480" cy="3240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78"/>
            <p:cNvSpPr/>
            <p:nvPr/>
          </p:nvSpPr>
          <p:spPr>
            <a:xfrm flipH="1" rot="20527200">
              <a:off x="6306120" y="4566960"/>
              <a:ext cx="133920" cy="61920"/>
            </a:xfrm>
            <a:custGeom>
              <a:avLst/>
              <a:gdLst>
                <a:gd name="textAreaLeft" fmla="*/ 360 w 133920"/>
                <a:gd name="textAreaRight" fmla="*/ 134640 w 13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75"/>
            <p:cNvSpPr/>
            <p:nvPr/>
          </p:nvSpPr>
          <p:spPr>
            <a:xfrm flipH="1" rot="20527200">
              <a:off x="6364080" y="4087800"/>
              <a:ext cx="33840" cy="84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30"/>
          <p:cNvGrpSpPr/>
          <p:nvPr/>
        </p:nvGrpSpPr>
        <p:grpSpPr>
          <a:xfrm>
            <a:off x="6334200" y="4058640"/>
            <a:ext cx="446040" cy="654120"/>
            <a:chOff x="6334200" y="4058640"/>
            <a:chExt cx="446040" cy="654120"/>
          </a:xfrm>
        </p:grpSpPr>
        <p:sp>
          <p:nvSpPr>
            <p:cNvPr id="277" name="Freeform 1074"/>
            <p:cNvSpPr/>
            <p:nvPr/>
          </p:nvSpPr>
          <p:spPr>
            <a:xfrm flipH="1" rot="20527200">
              <a:off x="6418440" y="4086360"/>
              <a:ext cx="276120" cy="59832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76"/>
            <p:cNvSpPr/>
            <p:nvPr/>
          </p:nvSpPr>
          <p:spPr>
            <a:xfrm flipH="1" rot="20527200">
              <a:off x="6512760" y="4203000"/>
              <a:ext cx="88200" cy="3672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77"/>
            <p:cNvSpPr/>
            <p:nvPr/>
          </p:nvSpPr>
          <p:spPr>
            <a:xfrm flipH="1" rot="20527200">
              <a:off x="6514200" y="4226400"/>
              <a:ext cx="86400" cy="3672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78"/>
            <p:cNvSpPr/>
            <p:nvPr/>
          </p:nvSpPr>
          <p:spPr>
            <a:xfrm flipH="1" rot="20527200">
              <a:off x="6504480" y="4620240"/>
              <a:ext cx="148320" cy="68760"/>
            </a:xfrm>
            <a:custGeom>
              <a:avLst/>
              <a:gdLst>
                <a:gd name="textAreaLeft" fmla="*/ 360 w 148320"/>
                <a:gd name="textAreaRight" fmla="*/ 149040 w 1483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75"/>
            <p:cNvSpPr/>
            <p:nvPr/>
          </p:nvSpPr>
          <p:spPr>
            <a:xfrm flipH="1" rot="20527200">
              <a:off x="6567840" y="4088160"/>
              <a:ext cx="37800" cy="9504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36"/>
          <p:cNvGrpSpPr/>
          <p:nvPr/>
        </p:nvGrpSpPr>
        <p:grpSpPr>
          <a:xfrm>
            <a:off x="6547320" y="4056480"/>
            <a:ext cx="479520" cy="701640"/>
            <a:chOff x="6547320" y="4056480"/>
            <a:chExt cx="479520" cy="701640"/>
          </a:xfrm>
        </p:grpSpPr>
        <p:sp>
          <p:nvSpPr>
            <p:cNvPr id="283" name="Freeform 1074"/>
            <p:cNvSpPr/>
            <p:nvPr/>
          </p:nvSpPr>
          <p:spPr>
            <a:xfrm flipH="1" rot="20527200">
              <a:off x="6638400" y="4086360"/>
              <a:ext cx="297000" cy="641520"/>
            </a:xfrm>
            <a:custGeom>
              <a:avLst/>
              <a:gdLst>
                <a:gd name="textAreaLeft" fmla="*/ -360 w 297000"/>
                <a:gd name="textAreaRight" fmla="*/ 297000 w 2970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76"/>
            <p:cNvSpPr/>
            <p:nvPr/>
          </p:nvSpPr>
          <p:spPr>
            <a:xfrm flipH="1" rot="20527200">
              <a:off x="6738480" y="4211280"/>
              <a:ext cx="95040" cy="392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77"/>
            <p:cNvSpPr/>
            <p:nvPr/>
          </p:nvSpPr>
          <p:spPr>
            <a:xfrm flipH="1" rot="20527200">
              <a:off x="6739560" y="4236840"/>
              <a:ext cx="93240" cy="388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78"/>
            <p:cNvSpPr/>
            <p:nvPr/>
          </p:nvSpPr>
          <p:spPr>
            <a:xfrm flipH="1" rot="20527200">
              <a:off x="6729840" y="4659840"/>
              <a:ext cx="159480" cy="73800"/>
            </a:xfrm>
            <a:custGeom>
              <a:avLst/>
              <a:gdLst>
                <a:gd name="textAreaLeft" fmla="*/ -360 w 159480"/>
                <a:gd name="textAreaRight" fmla="*/ 159480 w 1594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75"/>
            <p:cNvSpPr/>
            <p:nvPr/>
          </p:nvSpPr>
          <p:spPr>
            <a:xfrm flipH="1" rot="20527200">
              <a:off x="6798240" y="4088520"/>
              <a:ext cx="41040" cy="1018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42"/>
          <p:cNvGrpSpPr/>
          <p:nvPr/>
        </p:nvGrpSpPr>
        <p:grpSpPr>
          <a:xfrm>
            <a:off x="6776280" y="4517280"/>
            <a:ext cx="372240" cy="380160"/>
            <a:chOff x="6776280" y="4517280"/>
            <a:chExt cx="372240" cy="380160"/>
          </a:xfrm>
        </p:grpSpPr>
        <p:sp>
          <p:nvSpPr>
            <p:cNvPr id="289" name="Freeform 399"/>
            <p:cNvSpPr/>
            <p:nvPr/>
          </p:nvSpPr>
          <p:spPr>
            <a:xfrm>
              <a:off x="6799320" y="4546440"/>
              <a:ext cx="349200" cy="351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00"/>
            <p:cNvSpPr/>
            <p:nvPr/>
          </p:nvSpPr>
          <p:spPr>
            <a:xfrm>
              <a:off x="6988320" y="4620960"/>
              <a:ext cx="48960" cy="46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1"/>
            <p:cNvSpPr/>
            <p:nvPr/>
          </p:nvSpPr>
          <p:spPr>
            <a:xfrm>
              <a:off x="7057440" y="4597200"/>
              <a:ext cx="35640" cy="36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02"/>
            <p:cNvSpPr/>
            <p:nvPr/>
          </p:nvSpPr>
          <p:spPr>
            <a:xfrm>
              <a:off x="7068240" y="4659840"/>
              <a:ext cx="38520" cy="457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Ellipse 18"/>
            <p:cNvSpPr/>
            <p:nvPr/>
          </p:nvSpPr>
          <p:spPr>
            <a:xfrm rot="19501800">
              <a:off x="6807240" y="4573440"/>
              <a:ext cx="255600" cy="189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48"/>
          <p:cNvGrpSpPr/>
          <p:nvPr/>
        </p:nvGrpSpPr>
        <p:grpSpPr>
          <a:xfrm>
            <a:off x="1639800" y="5744160"/>
            <a:ext cx="952560" cy="970920"/>
            <a:chOff x="1639800" y="5744160"/>
            <a:chExt cx="952560" cy="970920"/>
          </a:xfrm>
        </p:grpSpPr>
        <p:sp>
          <p:nvSpPr>
            <p:cNvPr id="295" name="Freeform 399"/>
            <p:cNvSpPr/>
            <p:nvPr/>
          </p:nvSpPr>
          <p:spPr>
            <a:xfrm>
              <a:off x="1697040" y="5819760"/>
              <a:ext cx="895320" cy="8953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00"/>
            <p:cNvSpPr/>
            <p:nvPr/>
          </p:nvSpPr>
          <p:spPr>
            <a:xfrm>
              <a:off x="2181600" y="6010560"/>
              <a:ext cx="125640" cy="118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01"/>
            <p:cNvSpPr/>
            <p:nvPr/>
          </p:nvSpPr>
          <p:spPr>
            <a:xfrm>
              <a:off x="2359080" y="59497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02"/>
            <p:cNvSpPr/>
            <p:nvPr/>
          </p:nvSpPr>
          <p:spPr>
            <a:xfrm>
              <a:off x="2386080" y="6109200"/>
              <a:ext cx="98640" cy="116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Ellipse 18"/>
            <p:cNvSpPr/>
            <p:nvPr/>
          </p:nvSpPr>
          <p:spPr>
            <a:xfrm rot="19501800">
              <a:off x="1719000" y="588744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Box 11270"/>
          <p:cNvSpPr/>
          <p:nvPr/>
        </p:nvSpPr>
        <p:spPr>
          <a:xfrm>
            <a:off x="3378960" y="29052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24"/>
          <p:cNvSpPr/>
          <p:nvPr/>
        </p:nvSpPr>
        <p:spPr>
          <a:xfrm>
            <a:off x="6491160" y="29052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5"/>
          <p:cNvSpPr/>
          <p:nvPr/>
        </p:nvSpPr>
        <p:spPr>
          <a:xfrm>
            <a:off x="3078000" y="3184560"/>
            <a:ext cx="225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6"/>
          <p:cNvSpPr/>
          <p:nvPr/>
        </p:nvSpPr>
        <p:spPr>
          <a:xfrm>
            <a:off x="6084720" y="3184560"/>
            <a:ext cx="225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58"/>
          <p:cNvGrpSpPr/>
          <p:nvPr/>
        </p:nvGrpSpPr>
        <p:grpSpPr>
          <a:xfrm>
            <a:off x="3392280" y="1757160"/>
            <a:ext cx="781200" cy="795600"/>
            <a:chOff x="3392280" y="1757160"/>
            <a:chExt cx="781200" cy="795600"/>
          </a:xfrm>
        </p:grpSpPr>
        <p:sp>
          <p:nvSpPr>
            <p:cNvPr id="305" name="Freeform 399"/>
            <p:cNvSpPr/>
            <p:nvPr/>
          </p:nvSpPr>
          <p:spPr>
            <a:xfrm>
              <a:off x="3440160" y="1819440"/>
              <a:ext cx="733320" cy="73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00"/>
            <p:cNvSpPr/>
            <p:nvPr/>
          </p:nvSpPr>
          <p:spPr>
            <a:xfrm>
              <a:off x="3837240" y="1975680"/>
              <a:ext cx="102960" cy="972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01"/>
            <p:cNvSpPr/>
            <p:nvPr/>
          </p:nvSpPr>
          <p:spPr>
            <a:xfrm>
              <a:off x="3982320" y="19260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02"/>
            <p:cNvSpPr/>
            <p:nvPr/>
          </p:nvSpPr>
          <p:spPr>
            <a:xfrm>
              <a:off x="4004640" y="2056320"/>
              <a:ext cx="80640" cy="954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Ellipse 18"/>
            <p:cNvSpPr/>
            <p:nvPr/>
          </p:nvSpPr>
          <p:spPr>
            <a:xfrm rot="19501800">
              <a:off x="3457080" y="1874880"/>
              <a:ext cx="534960" cy="39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64"/>
          <p:cNvGrpSpPr/>
          <p:nvPr/>
        </p:nvGrpSpPr>
        <p:grpSpPr>
          <a:xfrm>
            <a:off x="2971800" y="1934280"/>
            <a:ext cx="952560" cy="970920"/>
            <a:chOff x="2971800" y="1934280"/>
            <a:chExt cx="952560" cy="970920"/>
          </a:xfrm>
        </p:grpSpPr>
        <p:sp>
          <p:nvSpPr>
            <p:cNvPr id="311" name="Freeform 399"/>
            <p:cNvSpPr/>
            <p:nvPr/>
          </p:nvSpPr>
          <p:spPr>
            <a:xfrm>
              <a:off x="3029040" y="2009880"/>
              <a:ext cx="895320" cy="8953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00"/>
            <p:cNvSpPr/>
            <p:nvPr/>
          </p:nvSpPr>
          <p:spPr>
            <a:xfrm>
              <a:off x="3513600" y="2200680"/>
              <a:ext cx="125640" cy="118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01"/>
            <p:cNvSpPr/>
            <p:nvPr/>
          </p:nvSpPr>
          <p:spPr>
            <a:xfrm>
              <a:off x="3691080" y="213984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02"/>
            <p:cNvSpPr/>
            <p:nvPr/>
          </p:nvSpPr>
          <p:spPr>
            <a:xfrm>
              <a:off x="3718080" y="2299320"/>
              <a:ext cx="98640" cy="116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Ellipse 18"/>
            <p:cNvSpPr/>
            <p:nvPr/>
          </p:nvSpPr>
          <p:spPr>
            <a:xfrm rot="19501800">
              <a:off x="3051000" y="207756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70"/>
          <p:cNvGrpSpPr/>
          <p:nvPr/>
        </p:nvGrpSpPr>
        <p:grpSpPr>
          <a:xfrm>
            <a:off x="3862440" y="1953360"/>
            <a:ext cx="952560" cy="970920"/>
            <a:chOff x="3862440" y="1953360"/>
            <a:chExt cx="952560" cy="970920"/>
          </a:xfrm>
        </p:grpSpPr>
        <p:sp>
          <p:nvSpPr>
            <p:cNvPr id="317" name="Freeform 399"/>
            <p:cNvSpPr/>
            <p:nvPr/>
          </p:nvSpPr>
          <p:spPr>
            <a:xfrm>
              <a:off x="3919680" y="2028960"/>
              <a:ext cx="895320" cy="8953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0"/>
            <p:cNvSpPr/>
            <p:nvPr/>
          </p:nvSpPr>
          <p:spPr>
            <a:xfrm>
              <a:off x="4404240" y="2219760"/>
              <a:ext cx="125640" cy="118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01"/>
            <p:cNvSpPr/>
            <p:nvPr/>
          </p:nvSpPr>
          <p:spPr>
            <a:xfrm>
              <a:off x="4581720" y="215892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02"/>
            <p:cNvSpPr/>
            <p:nvPr/>
          </p:nvSpPr>
          <p:spPr>
            <a:xfrm>
              <a:off x="4608720" y="2318400"/>
              <a:ext cx="98640" cy="116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Ellipse 18"/>
            <p:cNvSpPr/>
            <p:nvPr/>
          </p:nvSpPr>
          <p:spPr>
            <a:xfrm rot="19501800">
              <a:off x="3941640" y="209664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76"/>
          <p:cNvGrpSpPr/>
          <p:nvPr/>
        </p:nvGrpSpPr>
        <p:grpSpPr>
          <a:xfrm>
            <a:off x="6376320" y="1529280"/>
            <a:ext cx="931320" cy="1431000"/>
            <a:chOff x="6376320" y="1529280"/>
            <a:chExt cx="931320" cy="1431000"/>
          </a:xfrm>
        </p:grpSpPr>
        <p:sp>
          <p:nvSpPr>
            <p:cNvPr id="323" name="Freeform 1074"/>
            <p:cNvSpPr/>
            <p:nvPr/>
          </p:nvSpPr>
          <p:spPr>
            <a:xfrm rot="903000">
              <a:off x="6536880" y="1585800"/>
              <a:ext cx="609840" cy="1317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317960"/>
                <a:gd name="textAreaBottom" fmla="*/ 1318320 h 131796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76"/>
            <p:cNvSpPr/>
            <p:nvPr/>
          </p:nvSpPr>
          <p:spPr>
            <a:xfrm rot="903000">
              <a:off x="6727320" y="1843200"/>
              <a:ext cx="195120" cy="8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77"/>
            <p:cNvSpPr/>
            <p:nvPr/>
          </p:nvSpPr>
          <p:spPr>
            <a:xfrm rot="903000">
              <a:off x="6732000" y="1895040"/>
              <a:ext cx="191160" cy="806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78"/>
            <p:cNvSpPr/>
            <p:nvPr/>
          </p:nvSpPr>
          <p:spPr>
            <a:xfrm rot="903000">
              <a:off x="6660000" y="2764800"/>
              <a:ext cx="327240" cy="151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75"/>
            <p:cNvSpPr/>
            <p:nvPr/>
          </p:nvSpPr>
          <p:spPr>
            <a:xfrm rot="903000">
              <a:off x="6707880" y="1594440"/>
              <a:ext cx="83160" cy="2091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82"/>
          <p:cNvGrpSpPr/>
          <p:nvPr/>
        </p:nvGrpSpPr>
        <p:grpSpPr>
          <a:xfrm>
            <a:off x="6042960" y="1528920"/>
            <a:ext cx="933120" cy="1432800"/>
            <a:chOff x="6042960" y="1528920"/>
            <a:chExt cx="933120" cy="1432800"/>
          </a:xfrm>
        </p:grpSpPr>
        <p:sp>
          <p:nvSpPr>
            <p:cNvPr id="329" name="Freeform 1074"/>
            <p:cNvSpPr/>
            <p:nvPr/>
          </p:nvSpPr>
          <p:spPr>
            <a:xfrm rot="903000">
              <a:off x="6203880" y="1585440"/>
              <a:ext cx="611280" cy="131940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76"/>
            <p:cNvSpPr/>
            <p:nvPr/>
          </p:nvSpPr>
          <p:spPr>
            <a:xfrm rot="903000">
              <a:off x="6394320" y="1843560"/>
              <a:ext cx="195480" cy="806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77"/>
            <p:cNvSpPr/>
            <p:nvPr/>
          </p:nvSpPr>
          <p:spPr>
            <a:xfrm rot="903000">
              <a:off x="6399360" y="1895400"/>
              <a:ext cx="191520" cy="806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8"/>
            <p:cNvSpPr/>
            <p:nvPr/>
          </p:nvSpPr>
          <p:spPr>
            <a:xfrm rot="903000">
              <a:off x="6327000" y="2766240"/>
              <a:ext cx="328320" cy="15156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75"/>
            <p:cNvSpPr/>
            <p:nvPr/>
          </p:nvSpPr>
          <p:spPr>
            <a:xfrm rot="903000">
              <a:off x="6375240" y="1594440"/>
              <a:ext cx="83520" cy="209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8"/>
          <p:cNvGrpSpPr/>
          <p:nvPr/>
        </p:nvGrpSpPr>
        <p:grpSpPr>
          <a:xfrm>
            <a:off x="6549480" y="1756440"/>
            <a:ext cx="1430640" cy="1253160"/>
            <a:chOff x="6549480" y="1756440"/>
            <a:chExt cx="1430640" cy="1253160"/>
          </a:xfrm>
        </p:grpSpPr>
        <p:sp>
          <p:nvSpPr>
            <p:cNvPr id="335" name="Freeform 1074"/>
            <p:cNvSpPr/>
            <p:nvPr/>
          </p:nvSpPr>
          <p:spPr>
            <a:xfrm rot="3313200">
              <a:off x="6959520" y="1723680"/>
              <a:ext cx="609840" cy="13183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318320"/>
                <a:gd name="textAreaBottom" fmla="*/ 1318680 h 1318320"/>
              </a:gdLst>
              <a:ahLst/>
              <a:rect l="textAreaLeft" t="textAreaTop" r="textAreaRight" b="textAreaBottom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76"/>
            <p:cNvSpPr/>
            <p:nvPr/>
          </p:nvSpPr>
          <p:spPr>
            <a:xfrm rot="3313200">
              <a:off x="7389360" y="2057040"/>
              <a:ext cx="195120" cy="8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77"/>
            <p:cNvSpPr/>
            <p:nvPr/>
          </p:nvSpPr>
          <p:spPr>
            <a:xfrm rot="3313200">
              <a:off x="7360560" y="2098080"/>
              <a:ext cx="191160" cy="806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78"/>
            <p:cNvSpPr/>
            <p:nvPr/>
          </p:nvSpPr>
          <p:spPr>
            <a:xfrm rot="3313200">
              <a:off x="6705360" y="2751840"/>
              <a:ext cx="327240" cy="15156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075"/>
            <p:cNvSpPr/>
            <p:nvPr/>
          </p:nvSpPr>
          <p:spPr>
            <a:xfrm rot="3313200">
              <a:off x="7506720" y="1803240"/>
              <a:ext cx="83160" cy="2091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\\192.168.125.11\Non Voice Data\rinkesh\Rinkesh\Collection\07.09.2009\more collection\PPT\dd_indoor_games\indoor_Game_Slid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240" y="1560600"/>
            <a:ext cx="3670560" cy="5559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\\192.168.125.11\Non Voice Data\rinkesh\Rinkesh\Collection\07.09.2009\more collection\PPT\dd_indoor_games\indoor_Game_Slide0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0680" y="1560600"/>
            <a:ext cx="3670200" cy="5559480"/>
          </a:xfrm>
          <a:prstGeom prst="rect">
            <a:avLst/>
          </a:prstGeom>
          <a:ln w="0">
            <a:noFill/>
          </a:ln>
        </p:spPr>
      </p:pic>
      <p:sp>
        <p:nvSpPr>
          <p:cNvPr id="343" name="Rounded Rectangle 197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198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own Arrow 200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zzle Chart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2"/>
          <p:cNvSpPr/>
          <p:nvPr/>
        </p:nvSpPr>
        <p:spPr>
          <a:xfrm>
            <a:off x="2363760" y="2666880"/>
            <a:ext cx="1487520" cy="2667240"/>
          </a:xfrm>
          <a:custGeom>
            <a:avLst/>
            <a:gdLst>
              <a:gd name="textAreaLeft" fmla="*/ 72360 w 1487520"/>
              <a:gd name="textAreaRight" fmla="*/ 1415160 w 1487520"/>
              <a:gd name="textAreaTop" fmla="*/ 72360 h 2667240"/>
              <a:gd name="textAreaBottom" fmla="*/ 2594880 h 2667240"/>
            </a:gdLst>
            <a:ahLst/>
            <a:rect l="textAreaLeft" t="textAreaTop" r="textAreaRight" b="textAreaBottom"/>
            <a:pathLst>
              <a:path w="21600" h="38726">
                <a:moveTo>
                  <a:pt x="3600" y="0"/>
                </a:moveTo>
                <a:arcTo wR="3600" hR="3600" stAng="16200000" swAng="-5400000"/>
                <a:lnTo>
                  <a:pt x="0" y="35126"/>
                </a:lnTo>
                <a:arcTo wR="3600" hR="3600" stAng="10800000" swAng="-5400000"/>
                <a:lnTo>
                  <a:pt x="18000" y="387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3"/>
          <p:cNvSpPr/>
          <p:nvPr/>
        </p:nvSpPr>
        <p:spPr>
          <a:xfrm>
            <a:off x="3851280" y="2666880"/>
            <a:ext cx="1496880" cy="266724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84">
                <a:moveTo>
                  <a:pt x="3600" y="0"/>
                </a:moveTo>
                <a:arcTo wR="3600" hR="3600" stAng="16200000" swAng="-5400000"/>
                <a:lnTo>
                  <a:pt x="0" y="34884"/>
                </a:lnTo>
                <a:arcTo wR="3600" hR="3600" stAng="10800000" swAng="-5400000"/>
                <a:lnTo>
                  <a:pt x="18000" y="38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4"/>
          <p:cNvSpPr/>
          <p:nvPr/>
        </p:nvSpPr>
        <p:spPr>
          <a:xfrm>
            <a:off x="5348160" y="2666880"/>
            <a:ext cx="1497240" cy="2667240"/>
          </a:xfrm>
          <a:custGeom>
            <a:avLst/>
            <a:gdLst>
              <a:gd name="textAreaLeft" fmla="*/ 73080 w 1497240"/>
              <a:gd name="textAreaRight" fmla="*/ 1424160 w 149724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75">
                <a:moveTo>
                  <a:pt x="3600" y="0"/>
                </a:moveTo>
                <a:arcTo wR="3600" hR="3600" stAng="16200000" swAng="-5400000"/>
                <a:lnTo>
                  <a:pt x="0" y="34875"/>
                </a:lnTo>
                <a:arcTo wR="3600" hR="3600" stAng="10800000" swAng="-5400000"/>
                <a:lnTo>
                  <a:pt x="18000" y="384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5"/>
          <p:cNvSpPr/>
          <p:nvPr/>
        </p:nvSpPr>
        <p:spPr>
          <a:xfrm>
            <a:off x="6845400" y="2666880"/>
            <a:ext cx="1496880" cy="266724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84">
                <a:moveTo>
                  <a:pt x="3600" y="0"/>
                </a:moveTo>
                <a:arcTo wR="3600" hR="3600" stAng="16200000" swAng="-5400000"/>
                <a:lnTo>
                  <a:pt x="0" y="34884"/>
                </a:lnTo>
                <a:arcTo wR="3600" hR="3600" stAng="10800000" swAng="-5400000"/>
                <a:lnTo>
                  <a:pt x="18000" y="38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6"/>
          <p:cNvSpPr/>
          <p:nvPr/>
        </p:nvSpPr>
        <p:spPr>
          <a:xfrm>
            <a:off x="878040" y="2666880"/>
            <a:ext cx="1479240" cy="2667240"/>
          </a:xfrm>
          <a:custGeom>
            <a:avLst/>
            <a:gdLst>
              <a:gd name="textAreaLeft" fmla="*/ 72000 w 1479240"/>
              <a:gd name="textAreaRight" fmla="*/ 1407240 w 1479240"/>
              <a:gd name="textAreaTop" fmla="*/ 72000 h 2667240"/>
              <a:gd name="textAreaBottom" fmla="*/ 2595240 h 2667240"/>
            </a:gdLst>
            <a:ahLst/>
            <a:rect l="textAreaLeft" t="textAreaTop" r="textAreaRight" b="textAreaBottom"/>
            <a:pathLst>
              <a:path w="21600" h="38943">
                <a:moveTo>
                  <a:pt x="3600" y="0"/>
                </a:moveTo>
                <a:arcTo wR="3600" hR="3600" stAng="16200000" swAng="-5400000"/>
                <a:lnTo>
                  <a:pt x="0" y="35343"/>
                </a:lnTo>
                <a:arcTo wR="3600" hR="3600" stAng="10800000" swAng="-5400000"/>
                <a:lnTo>
                  <a:pt x="18000" y="38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1"/>
          <p:cNvSpPr/>
          <p:nvPr/>
        </p:nvSpPr>
        <p:spPr>
          <a:xfrm>
            <a:off x="86688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23b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5"/>
          <p:cNvSpPr/>
          <p:nvPr/>
        </p:nvSpPr>
        <p:spPr>
          <a:xfrm flipH="1">
            <a:off x="87912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23b"/>
                </a:solidFill>
                <a:latin typeface="Arial"/>
                <a:ea typeface="宋体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235440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5"/>
          <p:cNvSpPr/>
          <p:nvPr/>
        </p:nvSpPr>
        <p:spPr>
          <a:xfrm flipH="1">
            <a:off x="236520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1"/>
          <p:cNvSpPr/>
          <p:nvPr/>
        </p:nvSpPr>
        <p:spPr>
          <a:xfrm>
            <a:off x="3867120" y="3860640"/>
            <a:ext cx="149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 flipH="1">
            <a:off x="387936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1"/>
          <p:cNvSpPr/>
          <p:nvPr/>
        </p:nvSpPr>
        <p:spPr>
          <a:xfrm>
            <a:off x="537696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 flipH="1">
            <a:off x="538920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6888240" y="3860640"/>
            <a:ext cx="149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5"/>
          <p:cNvSpPr/>
          <p:nvPr/>
        </p:nvSpPr>
        <p:spPr>
          <a:xfrm flipH="1">
            <a:off x="690048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ounded Rectangle 17"/>
          <p:cNvSpPr/>
          <p:nvPr/>
        </p:nvSpPr>
        <p:spPr>
          <a:xfrm>
            <a:off x="2354400" y="5448240"/>
            <a:ext cx="149040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18"/>
          <p:cNvSpPr/>
          <p:nvPr/>
        </p:nvSpPr>
        <p:spPr>
          <a:xfrm>
            <a:off x="3844800" y="5448240"/>
            <a:ext cx="150336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19"/>
          <p:cNvSpPr/>
          <p:nvPr/>
        </p:nvSpPr>
        <p:spPr>
          <a:xfrm>
            <a:off x="5357880" y="5448240"/>
            <a:ext cx="148752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20"/>
          <p:cNvSpPr/>
          <p:nvPr/>
        </p:nvSpPr>
        <p:spPr>
          <a:xfrm>
            <a:off x="6845400" y="5448240"/>
            <a:ext cx="149688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21"/>
          <p:cNvSpPr/>
          <p:nvPr/>
        </p:nvSpPr>
        <p:spPr>
          <a:xfrm>
            <a:off x="878040" y="5448240"/>
            <a:ext cx="147636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 flipV="1" rot="5400000">
            <a:off x="3852720" y="1228680"/>
            <a:ext cx="1495440" cy="2625480"/>
          </a:xfrm>
          <a:custGeom>
            <a:avLst/>
            <a:gdLst>
              <a:gd name="textAreaLeft" fmla="*/ 0 w 1495440"/>
              <a:gd name="textAreaRight" fmla="*/ 1495800 w 1495440"/>
              <a:gd name="textAreaTop" fmla="*/ -360 h 2625480"/>
              <a:gd name="textAreaBottom" fmla="*/ 2625480 h 2625480"/>
            </a:gdLst>
            <a:ahLst/>
            <a:rect l="textAreaLeft" t="textAreaTop" r="textAreaRight" b="textAreaBottom"/>
            <a:pathLst>
              <a:path w="840" h="1475">
                <a:moveTo>
                  <a:pt x="420" y="0"/>
                </a:moveTo>
                <a:lnTo>
                  <a:pt x="448" y="3"/>
                </a:lnTo>
                <a:lnTo>
                  <a:pt x="475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4" y="124"/>
                </a:lnTo>
                <a:lnTo>
                  <a:pt x="541" y="150"/>
                </a:lnTo>
                <a:lnTo>
                  <a:pt x="533" y="174"/>
                </a:lnTo>
                <a:lnTo>
                  <a:pt x="521" y="195"/>
                </a:lnTo>
                <a:lnTo>
                  <a:pt x="504" y="214"/>
                </a:lnTo>
                <a:lnTo>
                  <a:pt x="505" y="217"/>
                </a:lnTo>
                <a:lnTo>
                  <a:pt x="505" y="318"/>
                </a:lnTo>
                <a:lnTo>
                  <a:pt x="757" y="318"/>
                </a:lnTo>
                <a:lnTo>
                  <a:pt x="778" y="320"/>
                </a:lnTo>
                <a:lnTo>
                  <a:pt x="799" y="329"/>
                </a:lnTo>
                <a:lnTo>
                  <a:pt x="816" y="341"/>
                </a:lnTo>
                <a:lnTo>
                  <a:pt x="830" y="359"/>
                </a:lnTo>
                <a:lnTo>
                  <a:pt x="838" y="380"/>
                </a:lnTo>
                <a:lnTo>
                  <a:pt x="840" y="401"/>
                </a:lnTo>
                <a:lnTo>
                  <a:pt x="840" y="652"/>
                </a:lnTo>
                <a:lnTo>
                  <a:pt x="741" y="652"/>
                </a:lnTo>
                <a:lnTo>
                  <a:pt x="738" y="654"/>
                </a:lnTo>
                <a:lnTo>
                  <a:pt x="719" y="636"/>
                </a:lnTo>
                <a:lnTo>
                  <a:pt x="697" y="624"/>
                </a:lnTo>
                <a:lnTo>
                  <a:pt x="673" y="616"/>
                </a:lnTo>
                <a:lnTo>
                  <a:pt x="648" y="614"/>
                </a:lnTo>
                <a:lnTo>
                  <a:pt x="618" y="616"/>
                </a:lnTo>
                <a:lnTo>
                  <a:pt x="593" y="626"/>
                </a:lnTo>
                <a:lnTo>
                  <a:pt x="569" y="640"/>
                </a:lnTo>
                <a:lnTo>
                  <a:pt x="551" y="660"/>
                </a:lnTo>
                <a:lnTo>
                  <a:pt x="536" y="683"/>
                </a:lnTo>
                <a:lnTo>
                  <a:pt x="527" y="709"/>
                </a:lnTo>
                <a:lnTo>
                  <a:pt x="523" y="737"/>
                </a:lnTo>
                <a:lnTo>
                  <a:pt x="527" y="767"/>
                </a:lnTo>
                <a:lnTo>
                  <a:pt x="536" y="792"/>
                </a:lnTo>
                <a:lnTo>
                  <a:pt x="551" y="814"/>
                </a:lnTo>
                <a:lnTo>
                  <a:pt x="569" y="834"/>
                </a:lnTo>
                <a:lnTo>
                  <a:pt x="593" y="849"/>
                </a:lnTo>
                <a:lnTo>
                  <a:pt x="618" y="858"/>
                </a:lnTo>
                <a:lnTo>
                  <a:pt x="648" y="861"/>
                </a:lnTo>
                <a:lnTo>
                  <a:pt x="673" y="858"/>
                </a:lnTo>
                <a:lnTo>
                  <a:pt x="697" y="850"/>
                </a:lnTo>
                <a:lnTo>
                  <a:pt x="719" y="838"/>
                </a:lnTo>
                <a:lnTo>
                  <a:pt x="738" y="822"/>
                </a:lnTo>
                <a:lnTo>
                  <a:pt x="741" y="822"/>
                </a:lnTo>
                <a:lnTo>
                  <a:pt x="840" y="822"/>
                </a:lnTo>
                <a:lnTo>
                  <a:pt x="840" y="1073"/>
                </a:lnTo>
                <a:lnTo>
                  <a:pt x="838" y="1096"/>
                </a:lnTo>
                <a:lnTo>
                  <a:pt x="830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8" y="1154"/>
                </a:lnTo>
                <a:lnTo>
                  <a:pt x="757" y="1157"/>
                </a:lnTo>
                <a:lnTo>
                  <a:pt x="505" y="1157"/>
                </a:lnTo>
                <a:lnTo>
                  <a:pt x="505" y="1258"/>
                </a:lnTo>
                <a:lnTo>
                  <a:pt x="504" y="1261"/>
                </a:lnTo>
                <a:lnTo>
                  <a:pt x="521" y="1279"/>
                </a:lnTo>
                <a:lnTo>
                  <a:pt x="533" y="1301"/>
                </a:lnTo>
                <a:lnTo>
                  <a:pt x="541" y="1325"/>
                </a:lnTo>
                <a:lnTo>
                  <a:pt x="544" y="1351"/>
                </a:lnTo>
                <a:lnTo>
                  <a:pt x="541" y="1379"/>
                </a:lnTo>
                <a:lnTo>
                  <a:pt x="532" y="1406"/>
                </a:lnTo>
                <a:lnTo>
                  <a:pt x="517" y="1428"/>
                </a:lnTo>
                <a:lnTo>
                  <a:pt x="498" y="1448"/>
                </a:lnTo>
                <a:lnTo>
                  <a:pt x="475" y="1463"/>
                </a:lnTo>
                <a:lnTo>
                  <a:pt x="448" y="1472"/>
                </a:lnTo>
                <a:lnTo>
                  <a:pt x="420" y="1475"/>
                </a:lnTo>
                <a:lnTo>
                  <a:pt x="393" y="1472"/>
                </a:lnTo>
                <a:lnTo>
                  <a:pt x="366" y="1463"/>
                </a:lnTo>
                <a:lnTo>
                  <a:pt x="343" y="1448"/>
                </a:lnTo>
                <a:lnTo>
                  <a:pt x="323" y="1428"/>
                </a:lnTo>
                <a:lnTo>
                  <a:pt x="309" y="1406"/>
                </a:lnTo>
                <a:lnTo>
                  <a:pt x="299" y="1379"/>
                </a:lnTo>
                <a:lnTo>
                  <a:pt x="297" y="1351"/>
                </a:lnTo>
                <a:lnTo>
                  <a:pt x="299" y="1325"/>
                </a:lnTo>
                <a:lnTo>
                  <a:pt x="307" y="1301"/>
                </a:lnTo>
                <a:lnTo>
                  <a:pt x="319" y="1279"/>
                </a:lnTo>
                <a:lnTo>
                  <a:pt x="335" y="1261"/>
                </a:lnTo>
                <a:lnTo>
                  <a:pt x="335" y="1258"/>
                </a:lnTo>
                <a:lnTo>
                  <a:pt x="335" y="1157"/>
                </a:lnTo>
                <a:lnTo>
                  <a:pt x="84" y="1157"/>
                </a:lnTo>
                <a:lnTo>
                  <a:pt x="62" y="1154"/>
                </a:lnTo>
                <a:lnTo>
                  <a:pt x="42" y="1147"/>
                </a:lnTo>
                <a:lnTo>
                  <a:pt x="24" y="1133"/>
                </a:lnTo>
                <a:lnTo>
                  <a:pt x="11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1" y="359"/>
                </a:lnTo>
                <a:lnTo>
                  <a:pt x="24" y="341"/>
                </a:lnTo>
                <a:lnTo>
                  <a:pt x="42" y="329"/>
                </a:lnTo>
                <a:lnTo>
                  <a:pt x="62" y="320"/>
                </a:lnTo>
                <a:lnTo>
                  <a:pt x="84" y="318"/>
                </a:lnTo>
                <a:lnTo>
                  <a:pt x="335" y="318"/>
                </a:lnTo>
                <a:lnTo>
                  <a:pt x="335" y="217"/>
                </a:lnTo>
                <a:lnTo>
                  <a:pt x="335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7" y="124"/>
                </a:lnTo>
                <a:lnTo>
                  <a:pt x="299" y="96"/>
                </a:lnTo>
                <a:lnTo>
                  <a:pt x="309" y="69"/>
                </a:lnTo>
                <a:lnTo>
                  <a:pt x="323" y="46"/>
                </a:lnTo>
                <a:lnTo>
                  <a:pt x="343" y="27"/>
                </a:lnTo>
                <a:lnTo>
                  <a:pt x="366" y="12"/>
                </a:lnTo>
                <a:lnTo>
                  <a:pt x="393" y="3"/>
                </a:lnTo>
                <a:lnTo>
                  <a:pt x="42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6"/>
          <p:cNvSpPr/>
          <p:nvPr/>
        </p:nvSpPr>
        <p:spPr>
          <a:xfrm rot="5400000">
            <a:off x="1148400" y="1508760"/>
            <a:ext cx="1497240" cy="2060640"/>
          </a:xfrm>
          <a:custGeom>
            <a:avLst/>
            <a:gdLst>
              <a:gd name="textAreaLeft" fmla="*/ 0 w 1497240"/>
              <a:gd name="textAreaRight" fmla="*/ 1497600 w 149724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841" h="1157">
                <a:moveTo>
                  <a:pt x="420" y="0"/>
                </a:moveTo>
                <a:lnTo>
                  <a:pt x="449" y="3"/>
                </a:lnTo>
                <a:lnTo>
                  <a:pt x="474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5" y="124"/>
                </a:lnTo>
                <a:lnTo>
                  <a:pt x="541" y="150"/>
                </a:lnTo>
                <a:lnTo>
                  <a:pt x="534" y="174"/>
                </a:lnTo>
                <a:lnTo>
                  <a:pt x="521" y="195"/>
                </a:lnTo>
                <a:lnTo>
                  <a:pt x="505" y="214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9" y="320"/>
                </a:lnTo>
                <a:lnTo>
                  <a:pt x="799" y="329"/>
                </a:lnTo>
                <a:lnTo>
                  <a:pt x="816" y="341"/>
                </a:lnTo>
                <a:lnTo>
                  <a:pt x="829" y="359"/>
                </a:lnTo>
                <a:lnTo>
                  <a:pt x="837" y="380"/>
                </a:lnTo>
                <a:lnTo>
                  <a:pt x="841" y="401"/>
                </a:lnTo>
                <a:lnTo>
                  <a:pt x="841" y="652"/>
                </a:lnTo>
                <a:lnTo>
                  <a:pt x="740" y="652"/>
                </a:lnTo>
                <a:lnTo>
                  <a:pt x="738" y="654"/>
                </a:lnTo>
                <a:lnTo>
                  <a:pt x="719" y="636"/>
                </a:lnTo>
                <a:lnTo>
                  <a:pt x="698" y="624"/>
                </a:lnTo>
                <a:lnTo>
                  <a:pt x="674" y="616"/>
                </a:lnTo>
                <a:lnTo>
                  <a:pt x="647" y="614"/>
                </a:lnTo>
                <a:lnTo>
                  <a:pt x="619" y="616"/>
                </a:lnTo>
                <a:lnTo>
                  <a:pt x="593" y="626"/>
                </a:lnTo>
                <a:lnTo>
                  <a:pt x="570" y="640"/>
                </a:lnTo>
                <a:lnTo>
                  <a:pt x="550" y="660"/>
                </a:lnTo>
                <a:lnTo>
                  <a:pt x="536" y="683"/>
                </a:lnTo>
                <a:lnTo>
                  <a:pt x="526" y="709"/>
                </a:lnTo>
                <a:lnTo>
                  <a:pt x="524" y="737"/>
                </a:lnTo>
                <a:lnTo>
                  <a:pt x="526" y="767"/>
                </a:lnTo>
                <a:lnTo>
                  <a:pt x="536" y="792"/>
                </a:lnTo>
                <a:lnTo>
                  <a:pt x="550" y="814"/>
                </a:lnTo>
                <a:lnTo>
                  <a:pt x="570" y="834"/>
                </a:lnTo>
                <a:lnTo>
                  <a:pt x="593" y="849"/>
                </a:lnTo>
                <a:lnTo>
                  <a:pt x="619" y="858"/>
                </a:lnTo>
                <a:lnTo>
                  <a:pt x="647" y="861"/>
                </a:lnTo>
                <a:lnTo>
                  <a:pt x="674" y="858"/>
                </a:lnTo>
                <a:lnTo>
                  <a:pt x="698" y="850"/>
                </a:lnTo>
                <a:lnTo>
                  <a:pt x="719" y="838"/>
                </a:lnTo>
                <a:lnTo>
                  <a:pt x="738" y="822"/>
                </a:lnTo>
                <a:lnTo>
                  <a:pt x="740" y="822"/>
                </a:lnTo>
                <a:lnTo>
                  <a:pt x="841" y="822"/>
                </a:lnTo>
                <a:lnTo>
                  <a:pt x="841" y="1073"/>
                </a:lnTo>
                <a:lnTo>
                  <a:pt x="837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9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3" y="1147"/>
                </a:lnTo>
                <a:lnTo>
                  <a:pt x="25" y="1133"/>
                </a:lnTo>
                <a:lnTo>
                  <a:pt x="12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2" y="359"/>
                </a:lnTo>
                <a:lnTo>
                  <a:pt x="25" y="341"/>
                </a:lnTo>
                <a:lnTo>
                  <a:pt x="43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10" y="69"/>
                </a:lnTo>
                <a:lnTo>
                  <a:pt x="324" y="46"/>
                </a:lnTo>
                <a:lnTo>
                  <a:pt x="343" y="27"/>
                </a:lnTo>
                <a:lnTo>
                  <a:pt x="365" y="12"/>
                </a:lnTo>
                <a:lnTo>
                  <a:pt x="392" y="3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7923b"/>
              </a:gs>
            </a:gsLst>
            <a:lin ang="13500000"/>
          </a:gra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 flipV="1">
            <a:off x="2355840" y="1795320"/>
            <a:ext cx="1495440" cy="2060640"/>
          </a:xfrm>
          <a:custGeom>
            <a:avLst/>
            <a:gdLst>
              <a:gd name="textAreaLeft" fmla="*/ 0 w 1495440"/>
              <a:gd name="textAreaRight" fmla="*/ 1495800 w 1495440"/>
              <a:gd name="textAreaTop" fmla="*/ 360 h 2060640"/>
              <a:gd name="textAreaBottom" fmla="*/ 2061360 h 2060640"/>
            </a:gdLst>
            <a:ahLst/>
            <a:rect l="textAreaLeft" t="textAreaTop" r="textAreaRight" b="textAreaBottom"/>
            <a:pathLst>
              <a:path w="841" h="1157">
                <a:moveTo>
                  <a:pt x="421" y="0"/>
                </a:moveTo>
                <a:lnTo>
                  <a:pt x="449" y="4"/>
                </a:lnTo>
                <a:lnTo>
                  <a:pt x="475" y="13"/>
                </a:lnTo>
                <a:lnTo>
                  <a:pt x="498" y="28"/>
                </a:lnTo>
                <a:lnTo>
                  <a:pt x="517" y="46"/>
                </a:lnTo>
                <a:lnTo>
                  <a:pt x="531" y="69"/>
                </a:lnTo>
                <a:lnTo>
                  <a:pt x="541" y="96"/>
                </a:lnTo>
                <a:lnTo>
                  <a:pt x="545" y="124"/>
                </a:lnTo>
                <a:lnTo>
                  <a:pt x="542" y="150"/>
                </a:lnTo>
                <a:lnTo>
                  <a:pt x="534" y="174"/>
                </a:lnTo>
                <a:lnTo>
                  <a:pt x="521" y="197"/>
                </a:lnTo>
                <a:lnTo>
                  <a:pt x="505" y="215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8" y="320"/>
                </a:lnTo>
                <a:lnTo>
                  <a:pt x="798" y="329"/>
                </a:lnTo>
                <a:lnTo>
                  <a:pt x="816" y="341"/>
                </a:lnTo>
                <a:lnTo>
                  <a:pt x="829" y="359"/>
                </a:lnTo>
                <a:lnTo>
                  <a:pt x="838" y="380"/>
                </a:lnTo>
                <a:lnTo>
                  <a:pt x="841" y="401"/>
                </a:lnTo>
                <a:lnTo>
                  <a:pt x="841" y="652"/>
                </a:lnTo>
                <a:lnTo>
                  <a:pt x="739" y="652"/>
                </a:lnTo>
                <a:lnTo>
                  <a:pt x="736" y="654"/>
                </a:lnTo>
                <a:lnTo>
                  <a:pt x="717" y="636"/>
                </a:lnTo>
                <a:lnTo>
                  <a:pt x="696" y="624"/>
                </a:lnTo>
                <a:lnTo>
                  <a:pt x="672" y="616"/>
                </a:lnTo>
                <a:lnTo>
                  <a:pt x="646" y="614"/>
                </a:lnTo>
                <a:lnTo>
                  <a:pt x="618" y="616"/>
                </a:lnTo>
                <a:lnTo>
                  <a:pt x="591" y="626"/>
                </a:lnTo>
                <a:lnTo>
                  <a:pt x="568" y="640"/>
                </a:lnTo>
                <a:lnTo>
                  <a:pt x="550" y="660"/>
                </a:lnTo>
                <a:lnTo>
                  <a:pt x="535" y="683"/>
                </a:lnTo>
                <a:lnTo>
                  <a:pt x="526" y="709"/>
                </a:lnTo>
                <a:lnTo>
                  <a:pt x="522" y="737"/>
                </a:lnTo>
                <a:lnTo>
                  <a:pt x="526" y="767"/>
                </a:lnTo>
                <a:lnTo>
                  <a:pt x="535" y="792"/>
                </a:lnTo>
                <a:lnTo>
                  <a:pt x="550" y="814"/>
                </a:lnTo>
                <a:lnTo>
                  <a:pt x="568" y="834"/>
                </a:lnTo>
                <a:lnTo>
                  <a:pt x="591" y="849"/>
                </a:lnTo>
                <a:lnTo>
                  <a:pt x="618" y="858"/>
                </a:lnTo>
                <a:lnTo>
                  <a:pt x="646" y="861"/>
                </a:lnTo>
                <a:lnTo>
                  <a:pt x="672" y="858"/>
                </a:lnTo>
                <a:lnTo>
                  <a:pt x="696" y="850"/>
                </a:lnTo>
                <a:lnTo>
                  <a:pt x="717" y="838"/>
                </a:lnTo>
                <a:lnTo>
                  <a:pt x="736" y="822"/>
                </a:lnTo>
                <a:lnTo>
                  <a:pt x="739" y="822"/>
                </a:lnTo>
                <a:lnTo>
                  <a:pt x="841" y="822"/>
                </a:lnTo>
                <a:lnTo>
                  <a:pt x="841" y="1073"/>
                </a:lnTo>
                <a:lnTo>
                  <a:pt x="838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8" y="1147"/>
                </a:lnTo>
                <a:lnTo>
                  <a:pt x="778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2" y="1147"/>
                </a:lnTo>
                <a:lnTo>
                  <a:pt x="25" y="1133"/>
                </a:lnTo>
                <a:lnTo>
                  <a:pt x="12" y="1116"/>
                </a:lnTo>
                <a:lnTo>
                  <a:pt x="2" y="1096"/>
                </a:lnTo>
                <a:lnTo>
                  <a:pt x="0" y="1073"/>
                </a:lnTo>
                <a:lnTo>
                  <a:pt x="0" y="822"/>
                </a:lnTo>
                <a:lnTo>
                  <a:pt x="102" y="822"/>
                </a:lnTo>
                <a:lnTo>
                  <a:pt x="105" y="822"/>
                </a:lnTo>
                <a:lnTo>
                  <a:pt x="123" y="838"/>
                </a:lnTo>
                <a:lnTo>
                  <a:pt x="145" y="850"/>
                </a:lnTo>
                <a:lnTo>
                  <a:pt x="168" y="858"/>
                </a:lnTo>
                <a:lnTo>
                  <a:pt x="195" y="861"/>
                </a:lnTo>
                <a:lnTo>
                  <a:pt x="223" y="858"/>
                </a:lnTo>
                <a:lnTo>
                  <a:pt x="250" y="849"/>
                </a:lnTo>
                <a:lnTo>
                  <a:pt x="272" y="834"/>
                </a:lnTo>
                <a:lnTo>
                  <a:pt x="291" y="814"/>
                </a:lnTo>
                <a:lnTo>
                  <a:pt x="305" y="792"/>
                </a:lnTo>
                <a:lnTo>
                  <a:pt x="315" y="767"/>
                </a:lnTo>
                <a:lnTo>
                  <a:pt x="319" y="737"/>
                </a:lnTo>
                <a:lnTo>
                  <a:pt x="315" y="709"/>
                </a:lnTo>
                <a:lnTo>
                  <a:pt x="305" y="683"/>
                </a:lnTo>
                <a:lnTo>
                  <a:pt x="291" y="660"/>
                </a:lnTo>
                <a:lnTo>
                  <a:pt x="272" y="640"/>
                </a:lnTo>
                <a:lnTo>
                  <a:pt x="250" y="626"/>
                </a:lnTo>
                <a:lnTo>
                  <a:pt x="223" y="616"/>
                </a:lnTo>
                <a:lnTo>
                  <a:pt x="195" y="614"/>
                </a:lnTo>
                <a:lnTo>
                  <a:pt x="168" y="616"/>
                </a:lnTo>
                <a:lnTo>
                  <a:pt x="145" y="624"/>
                </a:lnTo>
                <a:lnTo>
                  <a:pt x="123" y="636"/>
                </a:lnTo>
                <a:lnTo>
                  <a:pt x="105" y="654"/>
                </a:lnTo>
                <a:lnTo>
                  <a:pt x="102" y="652"/>
                </a:lnTo>
                <a:lnTo>
                  <a:pt x="0" y="652"/>
                </a:lnTo>
                <a:lnTo>
                  <a:pt x="0" y="401"/>
                </a:lnTo>
                <a:lnTo>
                  <a:pt x="2" y="380"/>
                </a:lnTo>
                <a:lnTo>
                  <a:pt x="12" y="359"/>
                </a:lnTo>
                <a:lnTo>
                  <a:pt x="25" y="341"/>
                </a:lnTo>
                <a:lnTo>
                  <a:pt x="42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5"/>
                </a:lnTo>
                <a:lnTo>
                  <a:pt x="320" y="197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09" y="69"/>
                </a:lnTo>
                <a:lnTo>
                  <a:pt x="324" y="46"/>
                </a:lnTo>
                <a:lnTo>
                  <a:pt x="343" y="28"/>
                </a:lnTo>
                <a:lnTo>
                  <a:pt x="366" y="13"/>
                </a:lnTo>
                <a:lnTo>
                  <a:pt x="392" y="4"/>
                </a:lnTo>
                <a:lnTo>
                  <a:pt x="421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8"/>
          <p:cNvSpPr/>
          <p:nvPr/>
        </p:nvSpPr>
        <p:spPr>
          <a:xfrm flipV="1">
            <a:off x="5348160" y="1795320"/>
            <a:ext cx="1497240" cy="2060640"/>
          </a:xfrm>
          <a:custGeom>
            <a:avLst/>
            <a:gdLst>
              <a:gd name="textAreaLeft" fmla="*/ 0 w 1497240"/>
              <a:gd name="textAreaRight" fmla="*/ 1497600 w 1497240"/>
              <a:gd name="textAreaTop" fmla="*/ 360 h 2060640"/>
              <a:gd name="textAreaBottom" fmla="*/ 2061360 h 2060640"/>
            </a:gdLst>
            <a:ahLst/>
            <a:rect l="textAreaLeft" t="textAreaTop" r="textAreaRight" b="textAreaBottom"/>
            <a:pathLst>
              <a:path w="841" h="1157">
                <a:moveTo>
                  <a:pt x="421" y="0"/>
                </a:moveTo>
                <a:lnTo>
                  <a:pt x="449" y="4"/>
                </a:lnTo>
                <a:lnTo>
                  <a:pt x="475" y="13"/>
                </a:lnTo>
                <a:lnTo>
                  <a:pt x="498" y="28"/>
                </a:lnTo>
                <a:lnTo>
                  <a:pt x="517" y="46"/>
                </a:lnTo>
                <a:lnTo>
                  <a:pt x="531" y="69"/>
                </a:lnTo>
                <a:lnTo>
                  <a:pt x="541" y="96"/>
                </a:lnTo>
                <a:lnTo>
                  <a:pt x="545" y="124"/>
                </a:lnTo>
                <a:lnTo>
                  <a:pt x="542" y="150"/>
                </a:lnTo>
                <a:lnTo>
                  <a:pt x="534" y="174"/>
                </a:lnTo>
                <a:lnTo>
                  <a:pt x="521" y="197"/>
                </a:lnTo>
                <a:lnTo>
                  <a:pt x="505" y="215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8" y="320"/>
                </a:lnTo>
                <a:lnTo>
                  <a:pt x="798" y="329"/>
                </a:lnTo>
                <a:lnTo>
                  <a:pt x="816" y="341"/>
                </a:lnTo>
                <a:lnTo>
                  <a:pt x="829" y="359"/>
                </a:lnTo>
                <a:lnTo>
                  <a:pt x="838" y="380"/>
                </a:lnTo>
                <a:lnTo>
                  <a:pt x="841" y="401"/>
                </a:lnTo>
                <a:lnTo>
                  <a:pt x="841" y="652"/>
                </a:lnTo>
                <a:lnTo>
                  <a:pt x="739" y="652"/>
                </a:lnTo>
                <a:lnTo>
                  <a:pt x="736" y="654"/>
                </a:lnTo>
                <a:lnTo>
                  <a:pt x="717" y="636"/>
                </a:lnTo>
                <a:lnTo>
                  <a:pt x="696" y="624"/>
                </a:lnTo>
                <a:lnTo>
                  <a:pt x="672" y="616"/>
                </a:lnTo>
                <a:lnTo>
                  <a:pt x="646" y="614"/>
                </a:lnTo>
                <a:lnTo>
                  <a:pt x="618" y="616"/>
                </a:lnTo>
                <a:lnTo>
                  <a:pt x="591" y="626"/>
                </a:lnTo>
                <a:lnTo>
                  <a:pt x="568" y="640"/>
                </a:lnTo>
                <a:lnTo>
                  <a:pt x="550" y="660"/>
                </a:lnTo>
                <a:lnTo>
                  <a:pt x="535" y="683"/>
                </a:lnTo>
                <a:lnTo>
                  <a:pt x="526" y="709"/>
                </a:lnTo>
                <a:lnTo>
                  <a:pt x="522" y="737"/>
                </a:lnTo>
                <a:lnTo>
                  <a:pt x="526" y="767"/>
                </a:lnTo>
                <a:lnTo>
                  <a:pt x="535" y="792"/>
                </a:lnTo>
                <a:lnTo>
                  <a:pt x="550" y="814"/>
                </a:lnTo>
                <a:lnTo>
                  <a:pt x="568" y="834"/>
                </a:lnTo>
                <a:lnTo>
                  <a:pt x="591" y="849"/>
                </a:lnTo>
                <a:lnTo>
                  <a:pt x="618" y="858"/>
                </a:lnTo>
                <a:lnTo>
                  <a:pt x="646" y="861"/>
                </a:lnTo>
                <a:lnTo>
                  <a:pt x="672" y="858"/>
                </a:lnTo>
                <a:lnTo>
                  <a:pt x="696" y="850"/>
                </a:lnTo>
                <a:lnTo>
                  <a:pt x="717" y="838"/>
                </a:lnTo>
                <a:lnTo>
                  <a:pt x="736" y="822"/>
                </a:lnTo>
                <a:lnTo>
                  <a:pt x="739" y="822"/>
                </a:lnTo>
                <a:lnTo>
                  <a:pt x="841" y="822"/>
                </a:lnTo>
                <a:lnTo>
                  <a:pt x="841" y="1073"/>
                </a:lnTo>
                <a:lnTo>
                  <a:pt x="838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8" y="1147"/>
                </a:lnTo>
                <a:lnTo>
                  <a:pt x="778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2" y="1147"/>
                </a:lnTo>
                <a:lnTo>
                  <a:pt x="25" y="1133"/>
                </a:lnTo>
                <a:lnTo>
                  <a:pt x="12" y="1116"/>
                </a:lnTo>
                <a:lnTo>
                  <a:pt x="2" y="1096"/>
                </a:lnTo>
                <a:lnTo>
                  <a:pt x="0" y="1073"/>
                </a:lnTo>
                <a:lnTo>
                  <a:pt x="0" y="822"/>
                </a:lnTo>
                <a:lnTo>
                  <a:pt x="102" y="822"/>
                </a:lnTo>
                <a:lnTo>
                  <a:pt x="105" y="822"/>
                </a:lnTo>
                <a:lnTo>
                  <a:pt x="123" y="838"/>
                </a:lnTo>
                <a:lnTo>
                  <a:pt x="145" y="850"/>
                </a:lnTo>
                <a:lnTo>
                  <a:pt x="168" y="858"/>
                </a:lnTo>
                <a:lnTo>
                  <a:pt x="195" y="861"/>
                </a:lnTo>
                <a:lnTo>
                  <a:pt x="223" y="858"/>
                </a:lnTo>
                <a:lnTo>
                  <a:pt x="250" y="849"/>
                </a:lnTo>
                <a:lnTo>
                  <a:pt x="272" y="834"/>
                </a:lnTo>
                <a:lnTo>
                  <a:pt x="291" y="814"/>
                </a:lnTo>
                <a:lnTo>
                  <a:pt x="305" y="792"/>
                </a:lnTo>
                <a:lnTo>
                  <a:pt x="315" y="767"/>
                </a:lnTo>
                <a:lnTo>
                  <a:pt x="319" y="737"/>
                </a:lnTo>
                <a:lnTo>
                  <a:pt x="315" y="709"/>
                </a:lnTo>
                <a:lnTo>
                  <a:pt x="305" y="683"/>
                </a:lnTo>
                <a:lnTo>
                  <a:pt x="291" y="660"/>
                </a:lnTo>
                <a:lnTo>
                  <a:pt x="272" y="640"/>
                </a:lnTo>
                <a:lnTo>
                  <a:pt x="250" y="626"/>
                </a:lnTo>
                <a:lnTo>
                  <a:pt x="223" y="616"/>
                </a:lnTo>
                <a:lnTo>
                  <a:pt x="195" y="614"/>
                </a:lnTo>
                <a:lnTo>
                  <a:pt x="168" y="616"/>
                </a:lnTo>
                <a:lnTo>
                  <a:pt x="145" y="624"/>
                </a:lnTo>
                <a:lnTo>
                  <a:pt x="123" y="636"/>
                </a:lnTo>
                <a:lnTo>
                  <a:pt x="105" y="654"/>
                </a:lnTo>
                <a:lnTo>
                  <a:pt x="102" y="652"/>
                </a:lnTo>
                <a:lnTo>
                  <a:pt x="0" y="652"/>
                </a:lnTo>
                <a:lnTo>
                  <a:pt x="0" y="401"/>
                </a:lnTo>
                <a:lnTo>
                  <a:pt x="2" y="380"/>
                </a:lnTo>
                <a:lnTo>
                  <a:pt x="12" y="359"/>
                </a:lnTo>
                <a:lnTo>
                  <a:pt x="25" y="341"/>
                </a:lnTo>
                <a:lnTo>
                  <a:pt x="42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5"/>
                </a:lnTo>
                <a:lnTo>
                  <a:pt x="320" y="197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09" y="69"/>
                </a:lnTo>
                <a:lnTo>
                  <a:pt x="324" y="46"/>
                </a:lnTo>
                <a:lnTo>
                  <a:pt x="343" y="28"/>
                </a:lnTo>
                <a:lnTo>
                  <a:pt x="366" y="13"/>
                </a:lnTo>
                <a:lnTo>
                  <a:pt x="392" y="4"/>
                </a:lnTo>
                <a:lnTo>
                  <a:pt x="421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6"/>
          <p:cNvSpPr/>
          <p:nvPr/>
        </p:nvSpPr>
        <p:spPr>
          <a:xfrm flipH="1" rot="16200000">
            <a:off x="6563160" y="1509840"/>
            <a:ext cx="1497240" cy="2058840"/>
          </a:xfrm>
          <a:custGeom>
            <a:avLst/>
            <a:gdLst>
              <a:gd name="textAreaLeft" fmla="*/ -360 w 1497240"/>
              <a:gd name="textAreaRight" fmla="*/ 1497240 w 1497240"/>
              <a:gd name="textAreaTop" fmla="*/ 0 h 2058840"/>
              <a:gd name="textAreaBottom" fmla="*/ 2059200 h 2058840"/>
            </a:gdLst>
            <a:ahLst/>
            <a:rect l="textAreaLeft" t="textAreaTop" r="textAreaRight" b="textAreaBottom"/>
            <a:pathLst>
              <a:path w="841" h="1157">
                <a:moveTo>
                  <a:pt x="420" y="0"/>
                </a:moveTo>
                <a:lnTo>
                  <a:pt x="449" y="3"/>
                </a:lnTo>
                <a:lnTo>
                  <a:pt x="474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5" y="124"/>
                </a:lnTo>
                <a:lnTo>
                  <a:pt x="541" y="150"/>
                </a:lnTo>
                <a:lnTo>
                  <a:pt x="534" y="174"/>
                </a:lnTo>
                <a:lnTo>
                  <a:pt x="521" y="195"/>
                </a:lnTo>
                <a:lnTo>
                  <a:pt x="505" y="214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9" y="320"/>
                </a:lnTo>
                <a:lnTo>
                  <a:pt x="799" y="329"/>
                </a:lnTo>
                <a:lnTo>
                  <a:pt x="816" y="341"/>
                </a:lnTo>
                <a:lnTo>
                  <a:pt x="829" y="359"/>
                </a:lnTo>
                <a:lnTo>
                  <a:pt x="837" y="380"/>
                </a:lnTo>
                <a:lnTo>
                  <a:pt x="841" y="401"/>
                </a:lnTo>
                <a:lnTo>
                  <a:pt x="841" y="652"/>
                </a:lnTo>
                <a:lnTo>
                  <a:pt x="740" y="652"/>
                </a:lnTo>
                <a:lnTo>
                  <a:pt x="738" y="654"/>
                </a:lnTo>
                <a:lnTo>
                  <a:pt x="719" y="636"/>
                </a:lnTo>
                <a:lnTo>
                  <a:pt x="698" y="624"/>
                </a:lnTo>
                <a:lnTo>
                  <a:pt x="674" y="616"/>
                </a:lnTo>
                <a:lnTo>
                  <a:pt x="647" y="614"/>
                </a:lnTo>
                <a:lnTo>
                  <a:pt x="619" y="616"/>
                </a:lnTo>
                <a:lnTo>
                  <a:pt x="593" y="626"/>
                </a:lnTo>
                <a:lnTo>
                  <a:pt x="570" y="640"/>
                </a:lnTo>
                <a:lnTo>
                  <a:pt x="550" y="660"/>
                </a:lnTo>
                <a:lnTo>
                  <a:pt x="536" y="683"/>
                </a:lnTo>
                <a:lnTo>
                  <a:pt x="526" y="709"/>
                </a:lnTo>
                <a:lnTo>
                  <a:pt x="524" y="737"/>
                </a:lnTo>
                <a:lnTo>
                  <a:pt x="526" y="767"/>
                </a:lnTo>
                <a:lnTo>
                  <a:pt x="536" y="792"/>
                </a:lnTo>
                <a:lnTo>
                  <a:pt x="550" y="814"/>
                </a:lnTo>
                <a:lnTo>
                  <a:pt x="570" y="834"/>
                </a:lnTo>
                <a:lnTo>
                  <a:pt x="593" y="849"/>
                </a:lnTo>
                <a:lnTo>
                  <a:pt x="619" y="858"/>
                </a:lnTo>
                <a:lnTo>
                  <a:pt x="647" y="861"/>
                </a:lnTo>
                <a:lnTo>
                  <a:pt x="674" y="858"/>
                </a:lnTo>
                <a:lnTo>
                  <a:pt x="698" y="850"/>
                </a:lnTo>
                <a:lnTo>
                  <a:pt x="719" y="838"/>
                </a:lnTo>
                <a:lnTo>
                  <a:pt x="738" y="822"/>
                </a:lnTo>
                <a:lnTo>
                  <a:pt x="740" y="822"/>
                </a:lnTo>
                <a:lnTo>
                  <a:pt x="841" y="822"/>
                </a:lnTo>
                <a:lnTo>
                  <a:pt x="841" y="1073"/>
                </a:lnTo>
                <a:lnTo>
                  <a:pt x="837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9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3" y="1147"/>
                </a:lnTo>
                <a:lnTo>
                  <a:pt x="25" y="1133"/>
                </a:lnTo>
                <a:lnTo>
                  <a:pt x="12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2" y="359"/>
                </a:lnTo>
                <a:lnTo>
                  <a:pt x="25" y="341"/>
                </a:lnTo>
                <a:lnTo>
                  <a:pt x="43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10" y="69"/>
                </a:lnTo>
                <a:lnTo>
                  <a:pt x="324" y="46"/>
                </a:lnTo>
                <a:lnTo>
                  <a:pt x="343" y="27"/>
                </a:lnTo>
                <a:lnTo>
                  <a:pt x="365" y="12"/>
                </a:lnTo>
                <a:lnTo>
                  <a:pt x="392" y="3"/>
                </a:lnTo>
                <a:lnTo>
                  <a:pt x="42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37448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288108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440496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590364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7"/>
          <p:cNvSpPr/>
          <p:nvPr/>
        </p:nvSpPr>
        <p:spPr>
          <a:xfrm>
            <a:off x="737352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zzle Chart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\\192.168.125.11\Non Voice Data\rinkesh\Rinkesh\Collection\07.09.2009\more collection\PPT\dd_puzzle_chart_b\puz_b_Slide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880" y="1481040"/>
            <a:ext cx="3668760" cy="5559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\\192.168.125.11\Non Voice Data\rinkesh\Rinkesh\Collection\07.09.2009\more collection\PPT\dd_puzzle_chart_b\puz_b_Slide1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4400" y="1481040"/>
            <a:ext cx="3668400" cy="5559480"/>
          </a:xfrm>
          <a:prstGeom prst="rect">
            <a:avLst/>
          </a:prstGeom>
          <a:ln w="0">
            <a:noFill/>
          </a:ln>
        </p:spPr>
      </p:pic>
      <p:sp>
        <p:nvSpPr>
          <p:cNvPr id="380" name="Rounded Rectangle 34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5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own Arrow 37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ffi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7"/>
          <p:cNvSpPr/>
          <p:nvPr/>
        </p:nvSpPr>
        <p:spPr>
          <a:xfrm>
            <a:off x="455760" y="4713120"/>
            <a:ext cx="136440" cy="18720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36525" h="1871663">
                <a:moveTo>
                  <a:pt x="0" y="0"/>
                </a:moveTo>
                <a:lnTo>
                  <a:pt x="136525" y="0"/>
                </a:lnTo>
                <a:lnTo>
                  <a:pt x="136525" y="1871663"/>
                </a:lnTo>
                <a:lnTo>
                  <a:pt x="60325" y="1782372"/>
                </a:lnTo>
                <a:lnTo>
                  <a:pt x="0" y="187166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79"/>
          <p:cNvSpPr/>
          <p:nvPr/>
        </p:nvSpPr>
        <p:spPr>
          <a:xfrm>
            <a:off x="25560" y="4029120"/>
            <a:ext cx="996840" cy="998640"/>
          </a:xfrm>
          <a:custGeom>
            <a:avLst/>
            <a:gdLst>
              <a:gd name="textAreaLeft" fmla="*/ 0 w 996840"/>
              <a:gd name="textAreaRight" fmla="*/ 997200 w 9968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567" h="568">
                <a:moveTo>
                  <a:pt x="166" y="0"/>
                </a:moveTo>
                <a:lnTo>
                  <a:pt x="402" y="0"/>
                </a:lnTo>
                <a:lnTo>
                  <a:pt x="567" y="167"/>
                </a:lnTo>
                <a:lnTo>
                  <a:pt x="567" y="402"/>
                </a:lnTo>
                <a:lnTo>
                  <a:pt x="402" y="568"/>
                </a:lnTo>
                <a:lnTo>
                  <a:pt x="166" y="568"/>
                </a:lnTo>
                <a:lnTo>
                  <a:pt x="0" y="402"/>
                </a:lnTo>
                <a:lnTo>
                  <a:pt x="0" y="167"/>
                </a:lnTo>
                <a:lnTo>
                  <a:pt x="16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"/>
          <p:cNvGrpSpPr/>
          <p:nvPr/>
        </p:nvGrpSpPr>
        <p:grpSpPr>
          <a:xfrm>
            <a:off x="-6480" y="3819600"/>
            <a:ext cx="9124920" cy="3038400"/>
            <a:chOff x="-6480" y="3819600"/>
            <a:chExt cx="9124920" cy="3038400"/>
          </a:xfrm>
        </p:grpSpPr>
        <p:sp>
          <p:nvSpPr>
            <p:cNvPr id="387" name="Freeform 15"/>
            <p:cNvSpPr/>
            <p:nvPr/>
          </p:nvSpPr>
          <p:spPr>
            <a:xfrm>
              <a:off x="-6480" y="3819600"/>
              <a:ext cx="9124920" cy="3038400"/>
            </a:xfrm>
            <a:custGeom>
              <a:avLst/>
              <a:gdLst>
                <a:gd name="textAreaLeft" fmla="*/ 2348280 w 9124920"/>
                <a:gd name="textAreaRight" fmla="*/ 6776640 w 9124920"/>
                <a:gd name="textAreaTop" fmla="*/ 781920 h 3038400"/>
                <a:gd name="textAreaBottom" fmla="*/ 3038760 h 3038400"/>
              </a:gdLst>
              <a:ahLst/>
              <a:rect l="textAreaLeft" t="textAreaTop" r="textAreaRight" b="textAreaBottom"/>
              <a:pathLst>
                <a:path w="9126538" h="2565400">
                  <a:moveTo>
                    <a:pt x="0" y="2565400"/>
                  </a:moveTo>
                  <a:lnTo>
                    <a:pt x="3522936" y="0"/>
                  </a:lnTo>
                  <a:lnTo>
                    <a:pt x="5603602" y="0"/>
                  </a:lnTo>
                  <a:lnTo>
                    <a:pt x="9126538" y="256540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558320" y="3898440"/>
              <a:ext cx="21960" cy="183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14" h="98">
                  <a:moveTo>
                    <a:pt x="2" y="0"/>
                  </a:moveTo>
                  <a:lnTo>
                    <a:pt x="13" y="0"/>
                  </a:lnTo>
                  <a:lnTo>
                    <a:pt x="14" y="38"/>
                  </a:lnTo>
                  <a:lnTo>
                    <a:pt x="14" y="66"/>
                  </a:lnTo>
                  <a:lnTo>
                    <a:pt x="14" y="98"/>
                  </a:lnTo>
                  <a:lnTo>
                    <a:pt x="0" y="98"/>
                  </a:lnTo>
                  <a:lnTo>
                    <a:pt x="0" y="66"/>
                  </a:lnTo>
                  <a:lnTo>
                    <a:pt x="2" y="3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4506120" y="4558320"/>
              <a:ext cx="122040" cy="16866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86600"/>
                <a:gd name="textAreaBottom" fmla="*/ 1686960 h 1686600"/>
              </a:gdLst>
              <a:ahLst/>
              <a:rect l="textAreaLeft" t="textAreaTop" r="textAreaRight" b="textAreaBottom"/>
              <a:pathLst>
                <a:path w="77" h="897">
                  <a:moveTo>
                    <a:pt x="26" y="0"/>
                  </a:moveTo>
                  <a:lnTo>
                    <a:pt x="56" y="0"/>
                  </a:lnTo>
                  <a:lnTo>
                    <a:pt x="58" y="56"/>
                  </a:lnTo>
                  <a:lnTo>
                    <a:pt x="60" y="120"/>
                  </a:lnTo>
                  <a:lnTo>
                    <a:pt x="61" y="194"/>
                  </a:lnTo>
                  <a:lnTo>
                    <a:pt x="63" y="281"/>
                  </a:lnTo>
                  <a:lnTo>
                    <a:pt x="65" y="354"/>
                  </a:lnTo>
                  <a:lnTo>
                    <a:pt x="67" y="436"/>
                  </a:lnTo>
                  <a:lnTo>
                    <a:pt x="68" y="530"/>
                  </a:lnTo>
                  <a:lnTo>
                    <a:pt x="72" y="609"/>
                  </a:lnTo>
                  <a:lnTo>
                    <a:pt x="74" y="696"/>
                  </a:lnTo>
                  <a:lnTo>
                    <a:pt x="75" y="792"/>
                  </a:lnTo>
                  <a:lnTo>
                    <a:pt x="77" y="895"/>
                  </a:lnTo>
                  <a:lnTo>
                    <a:pt x="0" y="897"/>
                  </a:lnTo>
                  <a:lnTo>
                    <a:pt x="4" y="792"/>
                  </a:lnTo>
                  <a:lnTo>
                    <a:pt x="5" y="696"/>
                  </a:lnTo>
                  <a:lnTo>
                    <a:pt x="9" y="609"/>
                  </a:lnTo>
                  <a:lnTo>
                    <a:pt x="11" y="530"/>
                  </a:lnTo>
                  <a:lnTo>
                    <a:pt x="14" y="436"/>
                  </a:lnTo>
                  <a:lnTo>
                    <a:pt x="16" y="352"/>
                  </a:lnTo>
                  <a:lnTo>
                    <a:pt x="18" y="279"/>
                  </a:lnTo>
                  <a:lnTo>
                    <a:pt x="21" y="194"/>
                  </a:lnTo>
                  <a:lnTo>
                    <a:pt x="23" y="120"/>
                  </a:lnTo>
                  <a:lnTo>
                    <a:pt x="25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Freeform 279"/>
          <p:cNvSpPr/>
          <p:nvPr/>
        </p:nvSpPr>
        <p:spPr>
          <a:xfrm>
            <a:off x="74520" y="4078440"/>
            <a:ext cx="900360" cy="901440"/>
          </a:xfrm>
          <a:custGeom>
            <a:avLst/>
            <a:gdLst>
              <a:gd name="textAreaLeft" fmla="*/ 0 w 900360"/>
              <a:gd name="textAreaRight" fmla="*/ 900720 w 9003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567" h="568">
                <a:moveTo>
                  <a:pt x="166" y="0"/>
                </a:moveTo>
                <a:lnTo>
                  <a:pt x="402" y="0"/>
                </a:lnTo>
                <a:lnTo>
                  <a:pt x="567" y="167"/>
                </a:lnTo>
                <a:lnTo>
                  <a:pt x="567" y="402"/>
                </a:lnTo>
                <a:lnTo>
                  <a:pt x="402" y="568"/>
                </a:lnTo>
                <a:lnTo>
                  <a:pt x="166" y="568"/>
                </a:lnTo>
                <a:lnTo>
                  <a:pt x="0" y="402"/>
                </a:lnTo>
                <a:lnTo>
                  <a:pt x="0" y="167"/>
                </a:lnTo>
                <a:lnTo>
                  <a:pt x="166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87480" y="43545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1"/>
          <p:cNvGrpSpPr/>
          <p:nvPr/>
        </p:nvGrpSpPr>
        <p:grpSpPr>
          <a:xfrm>
            <a:off x="3538440" y="3533760"/>
            <a:ext cx="527040" cy="1249200"/>
            <a:chOff x="3538440" y="3533760"/>
            <a:chExt cx="527040" cy="1249200"/>
          </a:xfrm>
        </p:grpSpPr>
        <p:sp>
          <p:nvSpPr>
            <p:cNvPr id="393" name="Rounded Rectangle 11"/>
            <p:cNvSpPr/>
            <p:nvPr/>
          </p:nvSpPr>
          <p:spPr>
            <a:xfrm>
              <a:off x="3538440" y="4400640"/>
              <a:ext cx="527040" cy="38232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3663720" y="3533760"/>
              <a:ext cx="287280" cy="1057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59"/>
            <p:cNvSpPr/>
            <p:nvPr/>
          </p:nvSpPr>
          <p:spPr>
            <a:xfrm>
              <a:off x="3726720" y="3697560"/>
              <a:ext cx="160560" cy="247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0"/>
            <p:cNvSpPr/>
            <p:nvPr/>
          </p:nvSpPr>
          <p:spPr>
            <a:xfrm>
              <a:off x="3694320" y="4108320"/>
              <a:ext cx="227160" cy="1648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6"/>
          <p:cNvGrpSpPr/>
          <p:nvPr/>
        </p:nvGrpSpPr>
        <p:grpSpPr>
          <a:xfrm>
            <a:off x="4208400" y="4046400"/>
            <a:ext cx="527040" cy="1247760"/>
            <a:chOff x="4208400" y="4046400"/>
            <a:chExt cx="527040" cy="1247760"/>
          </a:xfrm>
        </p:grpSpPr>
        <p:sp>
          <p:nvSpPr>
            <p:cNvPr id="398" name="Rounded Rectangle 16"/>
            <p:cNvSpPr/>
            <p:nvPr/>
          </p:nvSpPr>
          <p:spPr>
            <a:xfrm>
              <a:off x="4208400" y="4911480"/>
              <a:ext cx="527040" cy="38268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4333680" y="4046400"/>
              <a:ext cx="287280" cy="1057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59"/>
            <p:cNvSpPr/>
            <p:nvPr/>
          </p:nvSpPr>
          <p:spPr>
            <a:xfrm>
              <a:off x="4396680" y="4210200"/>
              <a:ext cx="160560" cy="2469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60"/>
            <p:cNvSpPr/>
            <p:nvPr/>
          </p:nvSpPr>
          <p:spPr>
            <a:xfrm>
              <a:off x="4364280" y="4620240"/>
              <a:ext cx="227160" cy="1645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1"/>
          <p:cNvGrpSpPr/>
          <p:nvPr/>
        </p:nvGrpSpPr>
        <p:grpSpPr>
          <a:xfrm>
            <a:off x="2871720" y="4403880"/>
            <a:ext cx="527040" cy="1247760"/>
            <a:chOff x="2871720" y="4403880"/>
            <a:chExt cx="527040" cy="1247760"/>
          </a:xfrm>
        </p:grpSpPr>
        <p:sp>
          <p:nvSpPr>
            <p:cNvPr id="403" name="Rounded Rectangle 21"/>
            <p:cNvSpPr/>
            <p:nvPr/>
          </p:nvSpPr>
          <p:spPr>
            <a:xfrm>
              <a:off x="2871720" y="5268960"/>
              <a:ext cx="527040" cy="38268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"/>
            <p:cNvSpPr/>
            <p:nvPr/>
          </p:nvSpPr>
          <p:spPr>
            <a:xfrm>
              <a:off x="2997000" y="4403880"/>
              <a:ext cx="287280" cy="1057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59"/>
            <p:cNvSpPr/>
            <p:nvPr/>
          </p:nvSpPr>
          <p:spPr>
            <a:xfrm>
              <a:off x="3060000" y="4567680"/>
              <a:ext cx="160560" cy="2469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60"/>
            <p:cNvSpPr/>
            <p:nvPr/>
          </p:nvSpPr>
          <p:spPr>
            <a:xfrm>
              <a:off x="3027600" y="4977720"/>
              <a:ext cx="227160" cy="1645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ounded Rectangle 25"/>
          <p:cNvSpPr/>
          <p:nvPr/>
        </p:nvSpPr>
        <p:spPr>
          <a:xfrm>
            <a:off x="4010040" y="1689120"/>
            <a:ext cx="2319480" cy="2133720"/>
          </a:xfrm>
          <a:prstGeom prst="roundRect">
            <a:avLst>
              <a:gd name="adj" fmla="val 16667"/>
            </a:avLst>
          </a:prstGeom>
          <a:solidFill>
            <a:srgbClr val="f7923b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5"/>
          <p:cNvSpPr/>
          <p:nvPr/>
        </p:nvSpPr>
        <p:spPr>
          <a:xfrm flipH="1">
            <a:off x="4341240" y="18414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m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1"/>
          <p:cNvSpPr/>
          <p:nvPr/>
        </p:nvSpPr>
        <p:spPr>
          <a:xfrm>
            <a:off x="4040280" y="2305080"/>
            <a:ext cx="2193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ffi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\\192.168.125.11\Non Voice Data\rinkesh\Rinkesh\Collection\07.09.2009\more collection\PPT\dd_traffic_rules\tra_rul_Slide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160" y="1560600"/>
            <a:ext cx="3668760" cy="5559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\\192.168.125.11\Non Voice Data\rinkesh\Rinkesh\Collection\07.09.2009\more collection\PPT\dd_traffic_rules\tra_rul_Slide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9960" y="1560600"/>
            <a:ext cx="3668760" cy="5559480"/>
          </a:xfrm>
          <a:prstGeom prst="rect">
            <a:avLst/>
          </a:prstGeom>
          <a:ln w="0">
            <a:noFill/>
          </a:ln>
        </p:spPr>
      </p:pic>
      <p:sp>
        <p:nvSpPr>
          <p:cNvPr id="413" name="Rounded Rectangle 30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31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33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4:26Z</dcterms:created>
  <dc:creator>Dreamy Designing!</dc:creator>
  <dc:description/>
  <dc:language>en-US</dc:language>
  <cp:lastModifiedBy>Administrator</cp:lastModifiedBy>
  <dcterms:modified xsi:type="dcterms:W3CDTF">2015-08-09T01:09:44Z</dcterms:modified>
  <cp:revision>137</cp:revision>
  <dc:subject>Presentations</dc:subject>
  <dc:title>Comp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