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730-BE4A-4000-A0BA-2BC47B57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12D-1755-467F-BECE-8AEF48A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F38-724F-40A3-B532-AC764C62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63B-AB5C-4F3D-892C-D21D5FD5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5B8-D8BD-4805-80CD-061BF0EB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A71-59E0-4FCA-A9C5-FA9E8338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3BE-080E-4AB8-A43D-51A9208B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BA5-C291-4B35-AA18-F4208C60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D29-0651-430C-8498-2EF2BF55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55C-EB1F-45F0-B136-9E0AF36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42F-D4F2-4828-92C4-420B1E57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DBA-6434-49E4-BCB4-5B039CF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4A81-52E7-4652-92EA-32C5894F25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8CF8-E052-4F74-88B7-3C5094F477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20920" y="15238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毛玻璃风格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背景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0120" y="9144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CAA-A4E6-447C-A432-16BD26B9E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陈莽昆</dc:creator>
  <dc:description/>
  <dc:language>en-US</dc:language>
  <cp:lastModifiedBy>Administrator</cp:lastModifiedBy>
  <dcterms:modified xsi:type="dcterms:W3CDTF">2015-08-10T01:18:46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