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27F-69C7-4B9D-8D75-FB9B423D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222-B559-4F63-9D0C-1C71B086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F56E-1B56-4D7E-8842-6D9D9BE4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4F1-6078-4F39-843A-D60BBB18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BD56-2E40-4328-A0DF-56FC7274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018-6299-4474-9D7C-67C0CD3A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92E-420B-43AB-A06A-4AD4831A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2BE-4C37-4042-ABA8-76F4BED3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602B-7442-49B1-AB47-6B0DD373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93FA-A2F2-4624-B6C3-BFC8B926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EB2-24F1-44FA-A194-7443285F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5D2A-8F74-44B0-9043-8DCE6A2A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EBDE-B227-4210-B626-921D59D2526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D9CF-D0A3-493D-9DB3-458CE41DA4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0"/>
            <a:ext cx="9144000" cy="142884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0" y="1428840"/>
            <a:ext cx="9144000" cy="5472000"/>
          </a:xfrm>
          <a:prstGeom prst="rect">
            <a:avLst/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761280" y="2174760"/>
            <a:ext cx="45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YOUR COURSE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tangolo 7"/>
          <p:cNvSpPr/>
          <p:nvPr/>
        </p:nvSpPr>
        <p:spPr>
          <a:xfrm>
            <a:off x="4280040" y="2847960"/>
            <a:ext cx="356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922320" y="2276640"/>
            <a:ext cx="3009960" cy="30096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8"/>
          <p:cNvGrpSpPr/>
          <p:nvPr/>
        </p:nvGrpSpPr>
        <p:grpSpPr>
          <a:xfrm>
            <a:off x="7429680" y="4929120"/>
            <a:ext cx="285480" cy="285840"/>
            <a:chOff x="7429680" y="4929120"/>
            <a:chExt cx="285480" cy="285840"/>
          </a:xfrm>
        </p:grpSpPr>
        <p:sp>
          <p:nvSpPr>
            <p:cNvPr id="48" name="Oval 45"/>
            <p:cNvSpPr/>
            <p:nvPr/>
          </p:nvSpPr>
          <p:spPr>
            <a:xfrm rot="16200000">
              <a:off x="7429320" y="4929120"/>
              <a:ext cx="285840" cy="285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AutoShape 59"/>
          <p:cNvSpPr/>
          <p:nvPr/>
        </p:nvSpPr>
        <p:spPr>
          <a:xfrm>
            <a:off x="6715080" y="825480"/>
            <a:ext cx="11365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1" name="Group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2" name="Group 2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" name=""/>
          <p:cNvSpPr/>
          <p:nvPr/>
        </p:nvSpPr>
        <p:spPr>
          <a:xfrm>
            <a:off x="1623600" y="40320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时尚小清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8abe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tangolo 7"/>
          <p:cNvSpPr/>
          <p:nvPr/>
        </p:nvSpPr>
        <p:spPr>
          <a:xfrm>
            <a:off x="857160" y="2311560"/>
            <a:ext cx="357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0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857840" y="2533680"/>
            <a:ext cx="3286080" cy="22273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grpSp>
        <p:nvGrpSpPr>
          <p:cNvPr id="62" name="Group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3" name="Group 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4" name="Group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5" name="直接连接符 31"/>
          <p:cNvSpPr/>
          <p:nvPr/>
        </p:nvSpPr>
        <p:spPr>
          <a:xfrm>
            <a:off x="928800" y="4929120"/>
            <a:ext cx="3024000" cy="18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tangolo 7"/>
          <p:cNvSpPr/>
          <p:nvPr/>
        </p:nvSpPr>
        <p:spPr>
          <a:xfrm>
            <a:off x="857160" y="3994200"/>
            <a:ext cx="392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36"/>
          <p:cNvSpPr/>
          <p:nvPr/>
        </p:nvSpPr>
        <p:spPr>
          <a:xfrm>
            <a:off x="928800" y="3929040"/>
            <a:ext cx="3024000" cy="14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ttangolo 7"/>
          <p:cNvSpPr/>
          <p:nvPr/>
        </p:nvSpPr>
        <p:spPr>
          <a:xfrm>
            <a:off x="857160" y="5072040"/>
            <a:ext cx="750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cc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tangolo 5"/>
          <p:cNvSpPr/>
          <p:nvPr/>
        </p:nvSpPr>
        <p:spPr>
          <a:xfrm rot="10800000">
            <a:off x="7286760" y="5357880"/>
            <a:ext cx="785520" cy="642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ttangolo 5"/>
          <p:cNvSpPr/>
          <p:nvPr/>
        </p:nvSpPr>
        <p:spPr>
          <a:xfrm>
            <a:off x="857160" y="2127240"/>
            <a:ext cx="7572600" cy="3643200"/>
          </a:xfrm>
          <a:prstGeom prst="roundRect">
            <a:avLst>
              <a:gd name="adj" fmla="val 28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9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7" name="Group 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8" name="Group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9" name="Group 20"/>
          <p:cNvGrpSpPr/>
          <p:nvPr/>
        </p:nvGrpSpPr>
        <p:grpSpPr>
          <a:xfrm>
            <a:off x="1160280" y="2558880"/>
            <a:ext cx="2190960" cy="2665800"/>
            <a:chOff x="1160280" y="2558880"/>
            <a:chExt cx="2190960" cy="2665800"/>
          </a:xfrm>
        </p:grpSpPr>
        <p:sp>
          <p:nvSpPr>
            <p:cNvPr id="80" name="Rettangolo 7"/>
            <p:cNvSpPr/>
            <p:nvPr/>
          </p:nvSpPr>
          <p:spPr>
            <a:xfrm>
              <a:off x="1225080" y="2999520"/>
              <a:ext cx="20613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Lorem ipsum dolor sit amet, consectetur adipiscing elit. In vestibulum consectetur nisl vitae vehicula. Aliquam ultricies euismod condimentum. Lorem ipsum dolor sit amet, consectetur adipiscing eli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18"/>
            <p:cNvSpPr/>
            <p:nvPr/>
          </p:nvSpPr>
          <p:spPr>
            <a:xfrm>
              <a:off x="1160280" y="2558880"/>
              <a:ext cx="21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4444"/>
                  </a:solidFill>
                  <a:latin typeface="Articulate"/>
                </a:rPr>
                <a:t>Course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23"/>
          <p:cNvGrpSpPr/>
          <p:nvPr/>
        </p:nvGrpSpPr>
        <p:grpSpPr>
          <a:xfrm>
            <a:off x="3584520" y="2558880"/>
            <a:ext cx="2190960" cy="2665800"/>
            <a:chOff x="3584520" y="2558880"/>
            <a:chExt cx="2190960" cy="2665800"/>
          </a:xfrm>
        </p:grpSpPr>
        <p:sp>
          <p:nvSpPr>
            <p:cNvPr id="83" name="Rettangolo 7"/>
            <p:cNvSpPr/>
            <p:nvPr/>
          </p:nvSpPr>
          <p:spPr>
            <a:xfrm>
              <a:off x="3649320" y="2999520"/>
              <a:ext cx="20613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Lorem ipsum dolor sit amet, consectetur adipiscing elit. In vestibulum consectetur nisl vitae vehicula. Aliquam ultricies euismod condimentum. Lorem ipsum dolor sit amet, consectetur adipiscing eli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45"/>
            <p:cNvSpPr/>
            <p:nvPr/>
          </p:nvSpPr>
          <p:spPr>
            <a:xfrm>
              <a:off x="3584520" y="2558880"/>
              <a:ext cx="21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4444"/>
                  </a:solidFill>
                  <a:latin typeface="Articulate"/>
                </a:rPr>
                <a:t>Course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6"/>
          <p:cNvGrpSpPr/>
          <p:nvPr/>
        </p:nvGrpSpPr>
        <p:grpSpPr>
          <a:xfrm>
            <a:off x="6006960" y="2558880"/>
            <a:ext cx="2190960" cy="2665800"/>
            <a:chOff x="6006960" y="2558880"/>
            <a:chExt cx="2190960" cy="2665800"/>
          </a:xfrm>
        </p:grpSpPr>
        <p:sp>
          <p:nvSpPr>
            <p:cNvPr id="86" name="Rettangolo 7"/>
            <p:cNvSpPr/>
            <p:nvPr/>
          </p:nvSpPr>
          <p:spPr>
            <a:xfrm>
              <a:off x="6071760" y="2999520"/>
              <a:ext cx="20613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Lorem ipsum dolor sit amet, consectetur adipiscing elit. In vestibulum consectetur nisl vitae vehicula. Aliquam ultricies euismod condimentum. Lorem ipsum dolor sit amet, consectetur adipiscing eli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48"/>
            <p:cNvSpPr/>
            <p:nvPr/>
          </p:nvSpPr>
          <p:spPr>
            <a:xfrm>
              <a:off x="6006960" y="2558880"/>
              <a:ext cx="21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4444"/>
                  </a:solidFill>
                  <a:latin typeface="Articulate"/>
                </a:rPr>
                <a:t>Course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直接连接符 50"/>
          <p:cNvSpPr/>
          <p:nvPr/>
        </p:nvSpPr>
        <p:spPr>
          <a:xfrm flipH="1">
            <a:off x="3427560" y="3000240"/>
            <a:ext cx="1440" cy="200052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51"/>
          <p:cNvSpPr/>
          <p:nvPr/>
        </p:nvSpPr>
        <p:spPr>
          <a:xfrm flipH="1">
            <a:off x="5857920" y="3000240"/>
            <a:ext cx="1440" cy="200052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2"/>
          <p:cNvSpPr/>
          <p:nvPr/>
        </p:nvSpPr>
        <p:spPr>
          <a:xfrm>
            <a:off x="6842160" y="60008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hiller"/>
              </a:rPr>
              <a:t>To 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200" y="69228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动态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cdb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rcRect l="0" t="9562" r="2169" b="17744"/>
          <a:stretch/>
        </p:blipFill>
        <p:spPr>
          <a:xfrm>
            <a:off x="1071720" y="2357280"/>
            <a:ext cx="3044520" cy="25718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94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3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cc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9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9" name="Group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0" name="Group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1" name="矩形 25"/>
          <p:cNvSpPr/>
          <p:nvPr/>
        </p:nvSpPr>
        <p:spPr>
          <a:xfrm>
            <a:off x="4452480" y="218124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1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6"/>
          <p:cNvSpPr/>
          <p:nvPr/>
        </p:nvSpPr>
        <p:spPr>
          <a:xfrm>
            <a:off x="4470840" y="278928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2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7"/>
          <p:cNvSpPr/>
          <p:nvPr/>
        </p:nvSpPr>
        <p:spPr>
          <a:xfrm>
            <a:off x="4475520" y="339552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3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8"/>
          <p:cNvSpPr/>
          <p:nvPr/>
        </p:nvSpPr>
        <p:spPr>
          <a:xfrm>
            <a:off x="4470840" y="40035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4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9"/>
          <p:cNvSpPr/>
          <p:nvPr/>
        </p:nvSpPr>
        <p:spPr>
          <a:xfrm>
            <a:off x="4476240" y="46101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5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1"/>
          <p:cNvSpPr/>
          <p:nvPr/>
        </p:nvSpPr>
        <p:spPr>
          <a:xfrm>
            <a:off x="857160" y="514368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A06-4BC5-4C4C-8747-57FF6A6854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ac5d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cdb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9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16" name="Group 1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17" name="Group 1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18" name="矩形 35"/>
          <p:cNvSpPr/>
          <p:nvPr/>
        </p:nvSpPr>
        <p:spPr>
          <a:xfrm>
            <a:off x="1500120" y="2286000"/>
            <a:ext cx="70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 Aliquam ultricies euismod condiment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0"/>
          <p:cNvGrpSpPr/>
          <p:nvPr/>
        </p:nvGrpSpPr>
        <p:grpSpPr>
          <a:xfrm>
            <a:off x="1571760" y="3357720"/>
            <a:ext cx="4071960" cy="2404800"/>
            <a:chOff x="1571760" y="3357720"/>
            <a:chExt cx="4071960" cy="2404800"/>
          </a:xfrm>
        </p:grpSpPr>
        <p:sp>
          <p:nvSpPr>
            <p:cNvPr id="120" name="AutoShape 3"/>
            <p:cNvSpPr/>
            <p:nvPr/>
          </p:nvSpPr>
          <p:spPr>
            <a:xfrm>
              <a:off x="1571760" y="3357720"/>
              <a:ext cx="4071960" cy="24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1668600" y="3589200"/>
              <a:ext cx="3883320" cy="1919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9"/>
            <p:cNvSpPr/>
            <p:nvPr/>
          </p:nvSpPr>
          <p:spPr>
            <a:xfrm>
              <a:off x="1668600" y="5472000"/>
              <a:ext cx="3883320" cy="38520"/>
            </a:xfrm>
            <a:prstGeom prst="rect">
              <a:avLst/>
            </a:pr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0"/>
            <p:cNvSpPr/>
            <p:nvPr/>
          </p:nvSpPr>
          <p:spPr>
            <a:xfrm>
              <a:off x="1668600" y="5472000"/>
              <a:ext cx="2700000" cy="38520"/>
            </a:xfrm>
            <a:prstGeom prst="rect">
              <a:avLst/>
            </a:prstGeom>
            <a:solidFill>
              <a:srgbClr val="b76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0"/>
            <p:cNvSpPr/>
            <p:nvPr/>
          </p:nvSpPr>
          <p:spPr>
            <a:xfrm>
              <a:off x="4291920" y="5419440"/>
              <a:ext cx="154440" cy="154440"/>
            </a:xfrm>
            <a:prstGeom prst="ellipse">
              <a:avLst/>
            </a:prstGeom>
            <a:solidFill>
              <a:srgbClr val="eae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7"/>
            <p:cNvSpPr/>
            <p:nvPr/>
          </p:nvSpPr>
          <p:spPr>
            <a:xfrm>
              <a:off x="2710440" y="5591520"/>
              <a:ext cx="105120" cy="104040"/>
            </a:xfrm>
            <a:prstGeom prst="ellipse">
              <a:avLst/>
            </a:prstGeom>
            <a:solidFill>
              <a:srgbClr val="eae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矩形 99"/>
          <p:cNvSpPr/>
          <p:nvPr/>
        </p:nvSpPr>
        <p:spPr>
          <a:xfrm>
            <a:off x="4208400" y="516744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00"/>
          <p:cNvSpPr/>
          <p:nvPr/>
        </p:nvSpPr>
        <p:spPr>
          <a:xfrm>
            <a:off x="4360680" y="531972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1"/>
          <p:cNvSpPr/>
          <p:nvPr/>
        </p:nvSpPr>
        <p:spPr>
          <a:xfrm>
            <a:off x="4715280" y="550080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8:00/9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3:20:00Z</dcterms:created>
  <dc:creator>yingzi</dc:creator>
  <dc:description/>
  <dc:language>en-US</dc:language>
  <cp:lastModifiedBy>Administrator</cp:lastModifiedBy>
  <dcterms:modified xsi:type="dcterms:W3CDTF">2015-08-09T01:09:32Z</dcterms:modified>
  <cp:revision>9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