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Slide%2011.wav" ContentType="audio/x-wav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590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372600" y="12949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372600" y="38826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2590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37260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35528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372600" y="38826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55280" y="38826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920" y="2590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372600" y="12949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2000600" y="12949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4628240" y="12949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372600" y="38826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12000600" y="38826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14628240" y="38826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9E34-F6B2-4840-9663-86CC2F33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590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3726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4C8F-7544-43F6-9E99-06537266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590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3726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2D0E-D92A-4A67-9359-2DB6BAFD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590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372600" y="12949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3355280" y="12949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EA87-485C-4325-A43A-C9BD3B23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590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ED78-4D3A-40C1-8A46-D9BD24CE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2590560"/>
            <a:ext cx="6248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825"/>
              </a:spcBef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250D-0680-4AE1-8BB1-EB422FBB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590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37260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3355280" y="12949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372600" y="38826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7859-DEBB-403D-BF51-BC0A9CB4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590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3726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590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372600" y="12949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335528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355280" y="38826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58D6-FEC1-492E-843E-8854E4CF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590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37260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35528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372600" y="38826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E676-7282-4FFE-BFB8-97956B2A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590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372600" y="12949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372600" y="38826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B6F7-6DE1-43BF-AACB-11A02D07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590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37260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35528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372600" y="38826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355280" y="38826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7E01-0AAB-4193-A807-79440A1A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590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372600" y="12949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2000600" y="12949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4628240" y="12949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372600" y="38826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12000600" y="38826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14628240" y="38826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4843-0AC5-4EED-B1BF-EDB714AD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590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3726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590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372600" y="12949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355280" y="12949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590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c3f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7920" y="2590560"/>
            <a:ext cx="6248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825"/>
              </a:spcBef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590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37260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3355280" y="12949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372600" y="38826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590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372600" y="12949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35528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355280" y="38826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2590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37260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35528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372600" y="38826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825"/>
              </a:spcBef>
              <a:buNone/>
            </a:pP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nside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7920" y="2590560"/>
            <a:ext cx="624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1c3f6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3726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825"/>
              </a:spcBef>
              <a:buClr>
                <a:srgbClr val="1c3f67"/>
              </a:buClr>
              <a:buSzPct val="25000"/>
              <a:buFont typeface="Arial"/>
              <a:buChar char="•"/>
            </a:pPr>
            <a:r>
              <a:rPr b="0" lang="en-US" sz="1900" spc="-1" strike="noStrike">
                <a:solidFill>
                  <a:srgbClr val="1c3f67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1c3f67"/>
              </a:buClr>
              <a:buSzPct val="25000"/>
              <a:buFont typeface="Arial"/>
              <a:buChar char="–"/>
            </a:pPr>
            <a:r>
              <a:rPr b="0" lang="en-US" sz="1900" spc="-1" strike="noStrike">
                <a:solidFill>
                  <a:srgbClr val="1c3f67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825"/>
              </a:spcBef>
              <a:buClr>
                <a:srgbClr val="1c3f67"/>
              </a:buClr>
              <a:buSzPct val="25000"/>
              <a:buFont typeface="Arial"/>
              <a:buChar char="•"/>
            </a:pPr>
            <a:r>
              <a:rPr b="0" lang="en-US" sz="1900" spc="-1" strike="noStrike">
                <a:solidFill>
                  <a:srgbClr val="1c3f67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825"/>
              </a:spcBef>
              <a:buClr>
                <a:srgbClr val="1c3f67"/>
              </a:buClr>
              <a:buSzPct val="25000"/>
              <a:buFont typeface="Arial"/>
              <a:buChar char="–"/>
            </a:pPr>
            <a:r>
              <a:rPr b="0" lang="en-US" sz="1900" spc="-1" strike="noStrike">
                <a:solidFill>
                  <a:srgbClr val="1c3f67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825"/>
              </a:spcBef>
              <a:buClr>
                <a:srgbClr val="1c3f67"/>
              </a:buClr>
              <a:buSzPct val="25000"/>
              <a:buFont typeface="Arial"/>
              <a:buChar char="»"/>
            </a:pPr>
            <a:r>
              <a:rPr b="0" lang="en-US" sz="1900" spc="-1" strike="noStrike">
                <a:solidFill>
                  <a:srgbClr val="1c3f67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1900" spc="-1" strike="noStrike">
                <a:solidFill>
                  <a:srgbClr val="1c3f67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1900" spc="-1" strike="noStrike">
                <a:solidFill>
                  <a:srgbClr val="1c3f67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1c3f67"/>
              </a:solidFill>
              <a:latin typeface="Arial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179280" y="762120"/>
            <a:ext cx="8763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951760" y="685800"/>
            <a:ext cx="1800" cy="304920"/>
            <a:chOff x="8951760" y="685800"/>
            <a:chExt cx="1800" cy="304920"/>
          </a:xfrm>
        </p:grpSpPr>
        <p:sp>
          <p:nvSpPr>
            <p:cNvPr id="5" name="Line 9"/>
            <p:cNvSpPr/>
            <p:nvPr/>
          </p:nvSpPr>
          <p:spPr>
            <a:xfrm>
              <a:off x="8951760" y="685800"/>
              <a:ext cx="18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 txBox="1"/>
            <p:nvPr/>
          </p:nvSpPr>
          <p:spPr>
            <a:xfrm>
              <a:off x="8951760" y="685800"/>
              <a:ext cx="1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" name=""/>
          <p:cNvGrpSpPr/>
          <p:nvPr/>
        </p:nvGrpSpPr>
        <p:grpSpPr>
          <a:xfrm>
            <a:off x="181080" y="609480"/>
            <a:ext cx="360" cy="304920"/>
            <a:chOff x="181080" y="609480"/>
            <a:chExt cx="360" cy="304920"/>
          </a:xfrm>
        </p:grpSpPr>
        <p:sp>
          <p:nvSpPr>
            <p:cNvPr id="8" name="Line 10"/>
            <p:cNvSpPr/>
            <p:nvPr/>
          </p:nvSpPr>
          <p:spPr>
            <a:xfrm>
              <a:off x="181080" y="6094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 txBox="1"/>
            <p:nvPr/>
          </p:nvSpPr>
          <p:spPr>
            <a:xfrm>
              <a:off x="181080" y="60948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839A-0B26-4242-B629-12E825E7549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5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image" Target="../media/image15.png"/><Relationship Id="rId24" Type="http://schemas.openxmlformats.org/officeDocument/2006/relationships/image" Target="../media/image16.png"/><Relationship Id="rId25" Type="http://schemas.openxmlformats.org/officeDocument/2006/relationships/image" Target="../media/image17.png"/><Relationship Id="rId26" Type="http://schemas.openxmlformats.org/officeDocument/2006/relationships/image" Target="../media/image18.png"/><Relationship Id="rId27" Type="http://schemas.openxmlformats.org/officeDocument/2006/relationships/audio" Target="../media/Slide%2011.wav"/><Relationship Id="rId2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42AF-954A-41A3-89F9-9AAA89ECAE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bigstockphoto_Balls_1392779"/>
          <p:cNvPicPr/>
          <p:nvPr/>
        </p:nvPicPr>
        <p:blipFill>
          <a:blip r:embed="rId1"/>
          <a:srcRect l="0" t="0" r="-49" b="10"/>
          <a:stretch/>
        </p:blipFill>
        <p:spPr>
          <a:xfrm>
            <a:off x="2808360" y="1733400"/>
            <a:ext cx="3475080" cy="3549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bigstockphoto_Balls_1392779"/>
          <p:cNvPicPr/>
          <p:nvPr/>
        </p:nvPicPr>
        <p:blipFill>
          <a:blip r:embed="rId2">
            <a:grayscl/>
          </a:blip>
          <a:srcRect l="0" t="0" r="-49" b="10"/>
          <a:stretch/>
        </p:blipFill>
        <p:spPr>
          <a:xfrm>
            <a:off x="2808360" y="1733400"/>
            <a:ext cx="3475080" cy="3549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Yellow3"/>
          <p:cNvPicPr/>
          <p:nvPr/>
        </p:nvPicPr>
        <p:blipFill>
          <a:blip r:embed="rId3"/>
          <a:stretch/>
        </p:blipFill>
        <p:spPr>
          <a:xfrm>
            <a:off x="2814480" y="3695760"/>
            <a:ext cx="590760" cy="804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Red1"/>
          <p:cNvPicPr/>
          <p:nvPr/>
        </p:nvPicPr>
        <p:blipFill>
          <a:blip r:embed="rId4"/>
          <a:stretch/>
        </p:blipFill>
        <p:spPr>
          <a:xfrm>
            <a:off x="3529080" y="1797120"/>
            <a:ext cx="871560" cy="798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Picture 11_pptX"/>
          <p:cNvPicPr/>
          <p:nvPr/>
        </p:nvPicPr>
        <p:blipFill>
          <a:blip r:embed="rId5"/>
          <a:stretch/>
        </p:blipFill>
        <p:spPr>
          <a:xfrm>
            <a:off x="1981080" y="893880"/>
            <a:ext cx="5378400" cy="5324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-238680" y="6197760"/>
            <a:ext cx="592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ource: Insight Ecosystems, LLC: The Customer Ecosyst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6"/>
          <a:stretch/>
        </p:blipFill>
        <p:spPr>
          <a:xfrm>
            <a:off x="1981080" y="893880"/>
            <a:ext cx="5181840" cy="51721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0"/>
          <p:cNvSpPr/>
          <p:nvPr/>
        </p:nvSpPr>
        <p:spPr>
          <a:xfrm>
            <a:off x="1981080" y="857160"/>
            <a:ext cx="516600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Group 21"/>
          <p:cNvGrpSpPr/>
          <p:nvPr/>
        </p:nvGrpSpPr>
        <p:grpSpPr>
          <a:xfrm>
            <a:off x="3103560" y="608040"/>
            <a:ext cx="2962440" cy="5591160"/>
            <a:chOff x="3103560" y="608040"/>
            <a:chExt cx="2962440" cy="5591160"/>
          </a:xfrm>
        </p:grpSpPr>
        <p:sp>
          <p:nvSpPr>
            <p:cNvPr id="99" name="AutoShape 22"/>
            <p:cNvSpPr/>
            <p:nvPr/>
          </p:nvSpPr>
          <p:spPr>
            <a:xfrm>
              <a:off x="3103560" y="3403800"/>
              <a:ext cx="2940120" cy="27954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5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AutoShape 23"/>
            <p:cNvSpPr/>
            <p:nvPr/>
          </p:nvSpPr>
          <p:spPr>
            <a:xfrm flipV="1">
              <a:off x="3125880" y="607680"/>
              <a:ext cx="2940120" cy="2795760"/>
            </a:xfrm>
            <a:prstGeom prst="triangle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1" name="Picture 24" descr="Yellow1"/>
          <p:cNvPicPr/>
          <p:nvPr/>
        </p:nvPicPr>
        <p:blipFill>
          <a:blip r:embed="rId7"/>
          <a:stretch/>
        </p:blipFill>
        <p:spPr>
          <a:xfrm>
            <a:off x="4184640" y="2747880"/>
            <a:ext cx="1004760" cy="946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5" descr="Yellow2"/>
          <p:cNvPicPr/>
          <p:nvPr/>
        </p:nvPicPr>
        <p:blipFill>
          <a:blip r:embed="rId8"/>
          <a:stretch/>
        </p:blipFill>
        <p:spPr>
          <a:xfrm>
            <a:off x="3044880" y="3225960"/>
            <a:ext cx="768240" cy="779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6" descr="Red2"/>
          <p:cNvPicPr/>
          <p:nvPr/>
        </p:nvPicPr>
        <p:blipFill>
          <a:blip r:embed="rId9"/>
          <a:stretch/>
        </p:blipFill>
        <p:spPr>
          <a:xfrm>
            <a:off x="3565440" y="3600360"/>
            <a:ext cx="739800" cy="714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7" descr="Red3"/>
          <p:cNvPicPr/>
          <p:nvPr/>
        </p:nvPicPr>
        <p:blipFill>
          <a:blip r:embed="rId10"/>
          <a:stretch/>
        </p:blipFill>
        <p:spPr>
          <a:xfrm>
            <a:off x="4805280" y="4108320"/>
            <a:ext cx="831960" cy="930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8" descr="Red1"/>
          <p:cNvPicPr/>
          <p:nvPr/>
        </p:nvPicPr>
        <p:blipFill>
          <a:blip r:embed="rId11"/>
          <a:stretch/>
        </p:blipFill>
        <p:spPr>
          <a:xfrm>
            <a:off x="4527720" y="2054160"/>
            <a:ext cx="904680" cy="8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9" descr="Green1"/>
          <p:cNvPicPr/>
          <p:nvPr/>
        </p:nvPicPr>
        <p:blipFill>
          <a:blip r:embed="rId12"/>
          <a:stretch/>
        </p:blipFill>
        <p:spPr>
          <a:xfrm>
            <a:off x="4908600" y="3036960"/>
            <a:ext cx="822240" cy="8348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0"/>
          <p:cNvSpPr/>
          <p:nvPr/>
        </p:nvSpPr>
        <p:spPr>
          <a:xfrm>
            <a:off x="536400" y="4371840"/>
            <a:ext cx="137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verage acquisi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st: $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31"/>
          <p:cNvSpPr/>
          <p:nvPr/>
        </p:nvSpPr>
        <p:spPr>
          <a:xfrm>
            <a:off x="515880" y="1720800"/>
            <a:ext cx="1503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verage contribution:</a:t>
            </a: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- $1,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32"/>
          <p:cNvSpPr/>
          <p:nvPr/>
        </p:nvSpPr>
        <p:spPr>
          <a:xfrm>
            <a:off x="3176640" y="461880"/>
            <a:ext cx="28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verage contribution: $3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33"/>
          <p:cNvSpPr/>
          <p:nvPr/>
        </p:nvSpPr>
        <p:spPr>
          <a:xfrm>
            <a:off x="7128000" y="1720800"/>
            <a:ext cx="1455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verage contribution: 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$15,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34"/>
          <p:cNvSpPr/>
          <p:nvPr/>
        </p:nvSpPr>
        <p:spPr>
          <a:xfrm>
            <a:off x="7128000" y="4676760"/>
            <a:ext cx="1455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verage attrition: </a:t>
            </a: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42" descr="Green1"/>
          <p:cNvPicPr/>
          <p:nvPr/>
        </p:nvPicPr>
        <p:blipFill>
          <a:blip r:embed="rId13"/>
          <a:stretch/>
        </p:blipFill>
        <p:spPr>
          <a:xfrm>
            <a:off x="4911840" y="2982960"/>
            <a:ext cx="901440" cy="915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4" descr="Green1"/>
          <p:cNvPicPr/>
          <p:nvPr/>
        </p:nvPicPr>
        <p:blipFill>
          <a:blip r:embed="rId14"/>
          <a:stretch/>
        </p:blipFill>
        <p:spPr>
          <a:xfrm>
            <a:off x="4255920" y="2789280"/>
            <a:ext cx="901800" cy="915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5" descr="Green1"/>
          <p:cNvPicPr/>
          <p:nvPr/>
        </p:nvPicPr>
        <p:blipFill>
          <a:blip r:embed="rId15"/>
          <a:stretch/>
        </p:blipFill>
        <p:spPr>
          <a:xfrm>
            <a:off x="4579920" y="2009880"/>
            <a:ext cx="876240" cy="890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6" descr="Green1"/>
          <p:cNvPicPr/>
          <p:nvPr/>
        </p:nvPicPr>
        <p:blipFill>
          <a:blip r:embed="rId16"/>
          <a:stretch/>
        </p:blipFill>
        <p:spPr>
          <a:xfrm>
            <a:off x="3527280" y="1722600"/>
            <a:ext cx="876600" cy="890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7" descr="Green1"/>
          <p:cNvPicPr/>
          <p:nvPr/>
        </p:nvPicPr>
        <p:blipFill>
          <a:blip r:embed="rId17"/>
          <a:stretch/>
        </p:blipFill>
        <p:spPr>
          <a:xfrm>
            <a:off x="3027240" y="3198960"/>
            <a:ext cx="825480" cy="838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8" descr="Green1"/>
          <p:cNvPicPr/>
          <p:nvPr/>
        </p:nvPicPr>
        <p:blipFill>
          <a:blip r:embed="rId18"/>
          <a:stretch/>
        </p:blipFill>
        <p:spPr>
          <a:xfrm>
            <a:off x="3548160" y="3586320"/>
            <a:ext cx="771480" cy="782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9" descr="Green1"/>
          <p:cNvPicPr/>
          <p:nvPr/>
        </p:nvPicPr>
        <p:blipFill>
          <a:blip r:embed="rId19"/>
          <a:stretch/>
        </p:blipFill>
        <p:spPr>
          <a:xfrm>
            <a:off x="4772160" y="4105440"/>
            <a:ext cx="930240" cy="942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0" descr="Green1"/>
          <p:cNvPicPr/>
          <p:nvPr/>
        </p:nvPicPr>
        <p:blipFill>
          <a:blip r:embed="rId20"/>
          <a:stretch/>
        </p:blipFill>
        <p:spPr>
          <a:xfrm>
            <a:off x="2697120" y="3645000"/>
            <a:ext cx="797040" cy="8078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1"/>
          <p:cNvSpPr/>
          <p:nvPr/>
        </p:nvSpPr>
        <p:spPr>
          <a:xfrm>
            <a:off x="7340760" y="6858000"/>
            <a:ext cx="1981080" cy="393840"/>
          </a:xfrm>
          <a:prstGeom prst="rect">
            <a:avLst/>
          </a:prstGeom>
          <a:solidFill>
            <a:srgbClr val="1c3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53" descr=""/>
          <p:cNvPicPr/>
          <p:nvPr/>
        </p:nvPicPr>
        <p:blipFill>
          <a:blip r:embed="rId21"/>
          <a:srcRect l="11946" t="53710" r="72420" b="20769"/>
          <a:stretch/>
        </p:blipFill>
        <p:spPr>
          <a:xfrm rot="21391200">
            <a:off x="2268360" y="3708360"/>
            <a:ext cx="914400" cy="1498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4" descr=""/>
          <p:cNvPicPr/>
          <p:nvPr/>
        </p:nvPicPr>
        <p:blipFill>
          <a:blip r:embed="rId22"/>
          <a:srcRect l="68267" t="57773" r="11662" b="17047"/>
          <a:stretch/>
        </p:blipFill>
        <p:spPr>
          <a:xfrm>
            <a:off x="5778360" y="3949560"/>
            <a:ext cx="1270080" cy="1587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5" descr=""/>
          <p:cNvPicPr/>
          <p:nvPr/>
        </p:nvPicPr>
        <p:blipFill>
          <a:blip r:embed="rId23"/>
          <a:srcRect l="71644" t="19954" r="0" b="46185"/>
          <a:stretch/>
        </p:blipFill>
        <p:spPr>
          <a:xfrm>
            <a:off x="5791320" y="1685880"/>
            <a:ext cx="1631880" cy="1971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6" descr=""/>
          <p:cNvPicPr/>
          <p:nvPr/>
        </p:nvPicPr>
        <p:blipFill>
          <a:blip r:embed="rId24"/>
          <a:srcRect l="9846" t="19617" r="66850" b="51762"/>
          <a:stretch/>
        </p:blipFill>
        <p:spPr>
          <a:xfrm>
            <a:off x="2151000" y="1574640"/>
            <a:ext cx="1405080" cy="174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7" descr=""/>
          <p:cNvPicPr/>
          <p:nvPr/>
        </p:nvPicPr>
        <p:blipFill>
          <a:blip r:embed="rId25"/>
          <a:srcRect l="33503" t="-516" r="29264" b="82681"/>
          <a:stretch/>
        </p:blipFill>
        <p:spPr>
          <a:xfrm>
            <a:off x="3822840" y="1092240"/>
            <a:ext cx="1689120" cy="809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8" descr=""/>
          <p:cNvPicPr/>
          <p:nvPr/>
        </p:nvPicPr>
        <p:blipFill>
          <a:blip r:embed="rId26"/>
          <a:srcRect l="29691" t="85281" r="34949" b="0"/>
          <a:stretch/>
        </p:blipFill>
        <p:spPr>
          <a:xfrm rot="21441000">
            <a:off x="3746520" y="5168880"/>
            <a:ext cx="1612800" cy="665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181520" y="20520"/>
            <a:ext cx="708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国外银行开拓客户成本的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3320" y="641340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0">
    <p:fade/>
    <p:sndAc>
      <p:stSnd>
        <p:snd r:embed="rId27" name="Slide%201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6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3600000">
                                      <p:cBhvr>
                                        <p:cTn id="1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mph" presetID="8">
                                  <p:stCondLst>
                                    <p:cond delay="9700"/>
                                  </p:stCondLst>
                                  <p:childTnLst>
                                    <p:animRot by="3600000">
                                      <p:cBhvr>
                                        <p:cTn id="1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0">
                                  <p:stCondLst>
                                    <p:cond delay="112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xit" presetID="10">
                                  <p:stCondLst>
                                    <p:cond delay="9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xit" presetID="10">
                                  <p:stCondLst>
                                    <p:cond delay="9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xit" presetID="10">
                                  <p:stCondLst>
                                    <p:cond delay="9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xit" presetID="10">
                                  <p:stCondLst>
                                    <p:cond delay="9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0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0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xit" presetID="10">
                                  <p:stCondLst>
                                    <p:cond delay="17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xit" presetID="10">
                                  <p:stCondLst>
                                    <p:cond delay="17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xit" presetID="10">
                                  <p:stCondLst>
                                    <p:cond delay="17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xit" presetID="10">
                                  <p:stCondLst>
                                    <p:cond delay="17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mph" presetID="8">
                                  <p:stCondLst>
                                    <p:cond delay="17000"/>
                                  </p:stCondLst>
                                  <p:childTnLst>
                                    <p:animRot by="3720000">
                                      <p:cBhvr>
                                        <p:cTn id="5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mph" presetID="8">
                                  <p:stCondLst>
                                    <p:cond delay="21600"/>
                                  </p:stCondLst>
                                  <p:childTnLst>
                                    <p:animRot by="3900000">
                                      <p:cBhvr>
                                        <p:cTn id="6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0">
                                  <p:stCondLst>
                                    <p:cond delay="229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xit" presetID="10">
                                  <p:stCondLst>
                                    <p:cond delay="21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xit" presetID="10">
                                  <p:stCondLst>
                                    <p:cond delay="21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xit" presetID="10">
                                  <p:stCondLst>
                                    <p:cond delay="21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0">
                                  <p:stCondLst>
                                    <p:cond delay="216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mph" presetID="8">
                                  <p:stCondLst>
                                    <p:cond delay="29900"/>
                                  </p:stCondLst>
                                  <p:childTnLst>
                                    <p:animRot by="3600000">
                                      <p:cBhvr>
                                        <p:cTn id="7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xit" presetID="9">
                                  <p:stCondLst>
                                    <p:cond delay="3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0">
                                  <p:stCondLst>
                                    <p:cond delay="314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0">
                                  <p:stCondLst>
                                    <p:cond delay="378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0">
                                  <p:stCondLst>
                                    <p:cond delay="379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0">
                                  <p:stCondLst>
                                    <p:cond delay="374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0">
                                  <p:stCondLst>
                                    <p:cond delay="377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0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0">
                                  <p:stCondLst>
                                    <p:cond delay="384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0">
                                  <p:stCondLst>
                                    <p:cond delay="376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0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mph" presetID="1" presetSubtype="2">
                                  <p:stCondLst>
                                    <p:cond delay="40300"/>
                                  </p:stCondLst>
                                  <p:childTnLst>
                                    <p:animClr clrSpc="rgb">
                                      <p:cBhvr>
                                        <p:cTn id="109" dur="46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0" dur="46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02:12:00Z</dcterms:created>
  <dc:creator>chinakui</dc:creator>
  <dc:description/>
  <dc:language>en-US</dc:language>
  <cp:lastModifiedBy>微软用户</cp:lastModifiedBy>
  <dcterms:modified xsi:type="dcterms:W3CDTF">2015-08-09T01:09:45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_TemplateID">
    <vt:lpwstr>TC300035349990</vt:lpwstr>
  </property>
</Properties>
</file>