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0D7-A1C8-4D8B-ACAC-3BF84EB3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C25-FEBB-467A-90C9-ECB64FC6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FB6-7D92-4FDF-B6E2-E899F562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B6C-ACAF-486D-A245-F9709A5C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F06-C242-4CA6-BE32-B8DBC5E6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529-F02B-41A0-B01E-5FA3309A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F97-4BF6-4F4B-AF9C-431CC87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223-5E06-40A6-821A-A012DF8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60A-E5E2-4671-ACBF-3F5C8AF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BD2-F720-4BBE-9685-1B7B8DD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5A1-4651-45F6-888F-71778B1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EC0-9168-4233-9BB9-D2DF95E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1FD-6F18-4C88-9FCA-F8171AA9BA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梅奥国际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www.mayo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A1C-173A-4EB2-9781-AEC437AF0F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5720" y="178560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2ed"/>
                </a:solidFill>
                <a:latin typeface="Arial"/>
              </a:rPr>
              <a:t>Power Point </a:t>
            </a:r>
            <a:br>
              <a:rPr sz="43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536560" y="37530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6440" y="476280"/>
            <a:ext cx="72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医药医疗行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14280" y="785880"/>
            <a:ext cx="6715440" cy="5429160"/>
            <a:chOff x="1214280" y="785880"/>
            <a:chExt cx="6715440" cy="5429160"/>
          </a:xfrm>
        </p:grpSpPr>
        <p:sp>
          <p:nvSpPr>
            <p:cNvPr id="47" name=""/>
            <p:cNvSpPr/>
            <p:nvPr/>
          </p:nvSpPr>
          <p:spPr>
            <a:xfrm>
              <a:off x="1214280" y="166932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337d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15160" y="3086280"/>
              <a:ext cx="1903680" cy="3128760"/>
            </a:xfrm>
            <a:custGeom>
              <a:avLst/>
              <a:gdLst>
                <a:gd name="textAreaLeft" fmla="*/ 0 w 1903680"/>
                <a:gd name="textAreaRight" fmla="*/ 1904040 w 1903680"/>
                <a:gd name="textAreaTop" fmla="*/ 0 h 3128760"/>
                <a:gd name="textAreaBottom" fmla="*/ 3129120 h 31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32" y="5030"/>
                  </a:moveTo>
                  <a:arcTo wR="-10330" hR="-10330" stAng="-8762578" swAng="-14612933"/>
                  <a:lnTo>
                    <a:pt x="1409" y="16133"/>
                  </a:lnTo>
                  <a:arcTo wR="10800" hR="10800" stAng="9024489" swAng="14612933"/>
                  <a:lnTo>
                    <a:pt x="21998" y="18341"/>
                  </a:lnTo>
                  <a:lnTo>
                    <a:pt x="17924" y="19136"/>
                  </a:lnTo>
                  <a:lnTo>
                    <a:pt x="17129" y="15062"/>
                  </a:lnTo>
                  <a:close/>
                </a:path>
              </a:pathLst>
            </a:custGeom>
            <a:solidFill>
              <a:srgbClr val="46a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3548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337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5528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1864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4640" y="28756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03680" y="785880"/>
              <a:ext cx="2145960" cy="3526920"/>
            </a:xfrm>
            <a:custGeom>
              <a:avLst/>
              <a:gdLst>
                <a:gd name="textAreaLeft" fmla="*/ 0 w 2145960"/>
                <a:gd name="textAreaRight" fmla="*/ 2145960 w 2145960"/>
                <a:gd name="textAreaTop" fmla="*/ 0 h 3526920"/>
                <a:gd name="textAreaBottom" fmla="*/ 3527280 h 35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6" y="16522"/>
                  </a:moveTo>
                  <a:arcTo wR="-10383" hR="-10383" stAng="8793451" swAng="-7017940"/>
                  <a:lnTo>
                    <a:pt x="1409" y="5467"/>
                  </a:lnTo>
                  <a:arcTo wR="10800" hR="10800" stAng="-9024489" swAng="7017940"/>
                  <a:lnTo>
                    <a:pt x="22065" y="3360"/>
                  </a:lnTo>
                  <a:lnTo>
                    <a:pt x="21241" y="7390"/>
                  </a:lnTo>
                  <a:lnTo>
                    <a:pt x="17211" y="6566"/>
                  </a:lnTo>
                  <a:close/>
                </a:path>
              </a:pathLst>
            </a:custGeom>
            <a:solidFill>
              <a:srgbClr val="bcd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39840" y="17146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59640" y="17470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300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59000" y="23248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420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6400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43000" y="1643040"/>
            <a:ext cx="6095880" cy="3992760"/>
            <a:chOff x="1143000" y="1643040"/>
            <a:chExt cx="6095880" cy="3992760"/>
          </a:xfrm>
        </p:grpSpPr>
        <p:sp>
          <p:nvSpPr>
            <p:cNvPr id="62" name=""/>
            <p:cNvSpPr/>
            <p:nvPr/>
          </p:nvSpPr>
          <p:spPr>
            <a:xfrm>
              <a:off x="1682640" y="1856160"/>
              <a:ext cx="5231880" cy="344376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40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5000" y="1978920"/>
              <a:ext cx="5231880" cy="3443760"/>
            </a:xfrm>
            <a:prstGeom prst="pie">
              <a:avLst/>
            </a:pr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0600" y="4213440"/>
              <a:ext cx="2802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000" y="1856160"/>
              <a:ext cx="5231880" cy="3443760"/>
            </a:xfrm>
            <a:prstGeom prst="pie">
              <a:avLst/>
            </a:pr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73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36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4" y="6770"/>
                  </a:moveTo>
                  <a:arcTo wR="-9702" hR="-9702" stAng="-9327528" swAng="-6873040"/>
                  <a:lnTo>
                    <a:pt x="10798" y="0"/>
                  </a:lnTo>
                  <a:arcTo wR="10800" hR="10800" stAng="-5400569" swAng="6873040"/>
                  <a:lnTo>
                    <a:pt x="23080" y="16407"/>
                  </a:lnTo>
                  <a:lnTo>
                    <a:pt x="18775" y="18013"/>
                  </a:lnTo>
                  <a:lnTo>
                    <a:pt x="17169" y="13708"/>
                  </a:lnTo>
                  <a:close/>
                </a:path>
              </a:pathLst>
            </a:cu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1000" y="176580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702" y="5171"/>
                  </a:moveTo>
                  <a:arcTo wR="-9702" hR="-9702" stAng="-2128031" swAng="-6871468"/>
                  <a:lnTo>
                    <a:pt x="20152" y="16201"/>
                  </a:lnTo>
                  <a:arcTo wR="10800" hR="10800" stAng="1800502" swAng="6871468"/>
                  <a:lnTo>
                    <a:pt x="-195" y="18633"/>
                  </a:lnTo>
                  <a:lnTo>
                    <a:pt x="566" y="14102"/>
                  </a:lnTo>
                  <a:lnTo>
                    <a:pt x="5097" y="14863"/>
                  </a:lnTo>
                  <a:close/>
                </a:path>
              </a:pathLst>
            </a:cu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721" y="20458"/>
                  </a:moveTo>
                  <a:arcTo wR="-9702" hR="-9702" stAng="5073039" swAng="-6873039"/>
                  <a:lnTo>
                    <a:pt x="1447" y="16200"/>
                  </a:lnTo>
                  <a:arcTo wR="10800" hR="10800" stAng="9000000" swAng="6873039"/>
                  <a:lnTo>
                    <a:pt x="9518" y="-2639"/>
                  </a:lnTo>
                  <a:lnTo>
                    <a:pt x="13061" y="287"/>
                  </a:lnTo>
                  <a:lnTo>
                    <a:pt x="10135" y="3830"/>
                  </a:lnTo>
                  <a:close/>
                </a:path>
              </a:pathLst>
            </a:cu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504-5C61-49EA-901F-5FE8CFC0C4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42760" y="2130120"/>
            <a:ext cx="58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ff2ed"/>
                </a:solidFill>
                <a:latin typeface="Arial"/>
              </a:rPr>
              <a:t>Thank You!</a:t>
            </a:r>
            <a:endParaRPr b="1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22400" y="36432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00Z</dcterms:created>
  <dc:creator>YlmF</dc:creator>
  <dc:description/>
  <dc:language>en-US</dc:language>
  <cp:lastModifiedBy>火韦</cp:lastModifiedBy>
  <dcterms:modified xsi:type="dcterms:W3CDTF">2015-08-09T01:09:28Z</dcterms:modified>
  <cp:revision>12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