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3D61-680D-42FA-8E46-BF7CD9FC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7DF8-2902-4EF3-A322-4A34C698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85E-3B53-4549-9743-2ACA532E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39C-22DC-4D30-A3D2-B9523F14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E407-B99C-4D66-9082-C63B30E2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D39-3261-4E5F-AA5B-F0ACE04A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65C5-5F83-4BE9-80FC-A4189637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503-2531-41D6-82CF-3A384028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96EA-D8F9-445B-94F7-E6C1F1A0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22AF-219F-4366-A025-3C8DD34E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FD48-B57B-45DA-9734-9F6ABE39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60C4-4EF4-461B-8902-6D652E12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47D4-6F37-44A2-9CF9-1989F9A44FC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C0BB-B853-4E3D-888B-D4BF25723C2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16320" y="476280"/>
            <a:ext cx="661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性工作总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37E-C5E4-48B3-BE99-9A1C86EFD9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1726200" y="2286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479808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501264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172620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071720" y="5000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655080" y="31305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358380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365508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177120" y="6429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22660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583800" y="1285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479808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-37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372672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215496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465516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2484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655160" y="4572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86972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186912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151200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494100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44080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15496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22676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1226160" y="2286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5290200" y="3121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3512160" y="257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272664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215496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494100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365508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158364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501264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3583800" y="171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3512160" y="4643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PC</cp:lastModifiedBy>
  <dcterms:modified xsi:type="dcterms:W3CDTF">2015-08-09T01:08:52Z</dcterms:modified>
  <cp:revision>1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