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9A8E6-1FED-43E2-850A-987EBB73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614592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2803A-ED01-43D1-9F32-FCFE6737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932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61459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9320" y="61459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9B54C-025B-422A-94C8-838B79B6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7040" y="58672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02840" y="58672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61459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7040" y="61459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02840" y="61459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92604-A010-4107-A618-60D04168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9320" y="58672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4869000"/>
            <a:ext cx="9144000" cy="33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9320" y="58672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240" y="61459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2F477-E519-48E5-B0E3-8B4274FD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932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29320" y="61459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932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240" y="614592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240" y="614592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932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240" y="61459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29320" y="61459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7040" y="58672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02840" y="58672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240" y="61459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7040" y="61459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02840" y="61459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92A9-FCBE-4E4C-AA6A-7B01DCAC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9320" y="58672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75DE8-A462-42D8-9924-160E02E4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F2516-21B4-478E-A213-85592262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869000"/>
            <a:ext cx="9144000" cy="33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FEA03-A240-402C-9A1A-080620CF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9320" y="58672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61459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8C83B-CCE4-4602-83C9-318FE231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932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9320" y="61459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7E46C-061D-4E16-91DC-EAE28762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932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614592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0202-CC00-46B1-BCB8-4E72C502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63794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63794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BA3B-9267-498D-8447-2C2A2E520D9E}" type="slidenum">
              <a:rPr b="0" lang="zh-CN" sz="1200" spc="-1" strike="noStrike">
                <a:solidFill>
                  <a:srgbClr val="163794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6200" y="228600"/>
            <a:ext cx="114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63794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1680" y="4647960"/>
            <a:ext cx="9175680" cy="101268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工业设计毕业论文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在线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6237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3794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63794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6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6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65289"/>
              </a:gs>
              <a:gs pos="50000">
                <a:srgbClr val="6699ff"/>
              </a:gs>
              <a:gs pos="100000">
                <a:srgbClr val="36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99ff">
                  <a:alpha val="0"/>
                </a:srgbClr>
              </a:gs>
              <a:gs pos="100000">
                <a:srgbClr val="4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6969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6969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05050"/>
              </a:gs>
              <a:gs pos="50000">
                <a:srgbClr val="969696"/>
              </a:gs>
              <a:gs pos="100000">
                <a:srgbClr val="5050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69696">
                  <a:alpha val="0"/>
                </a:srgbClr>
              </a:gs>
              <a:gs pos="100000">
                <a:srgbClr val="5e5e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9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999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4646"/>
              </a:gs>
              <a:gs pos="100000">
                <a:srgbClr val="00999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05252"/>
              </a:gs>
              <a:gs pos="50000">
                <a:srgbClr val="009999"/>
              </a:gs>
              <a:gs pos="100000">
                <a:srgbClr val="0052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009999">
                  <a:alpha val="0"/>
                </a:srgbClr>
              </a:gs>
              <a:gs pos="100000">
                <a:srgbClr val="00606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9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4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219320" y="1447920"/>
            <a:ext cx="3657600" cy="4181400"/>
            <a:chOff x="1219320" y="1447920"/>
            <a:chExt cx="3657600" cy="4181400"/>
          </a:xfrm>
        </p:grpSpPr>
        <p:sp>
          <p:nvSpPr>
            <p:cNvPr id="295" name=""/>
            <p:cNvSpPr/>
            <p:nvPr/>
          </p:nvSpPr>
          <p:spPr>
            <a:xfrm rot="20876400">
              <a:off x="3240360" y="4819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71960" y="3600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92480" y="361008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10120" y="36259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02280" y="3670560"/>
              <a:ext cx="140940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89560" y="4227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20826600">
              <a:off x="1397160" y="420984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1320840" y="3219480"/>
              <a:ext cx="1371240" cy="1441080"/>
              <a:chOff x="1320840" y="3219480"/>
              <a:chExt cx="1371240" cy="1441080"/>
            </a:xfrm>
          </p:grpSpPr>
          <p:sp>
            <p:nvSpPr>
              <p:cNvPr id="303" name=""/>
              <p:cNvSpPr/>
              <p:nvPr/>
            </p:nvSpPr>
            <p:spPr>
              <a:xfrm>
                <a:off x="1320840" y="3219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338840" y="322776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351800" y="32410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423440" y="327780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601280" y="3725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219320" y="2454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95640" y="1847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08240" y="18525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19400" y="186372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73400" y="1889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92560" y="2197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8616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0856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1792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2440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60760" y="147636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7876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22" name="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8755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8755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43f30"/>
                </a:gs>
                <a:gs pos="50000">
                  <a:srgbClr val="d8755a"/>
                </a:gs>
                <a:gs pos="100000">
                  <a:srgbClr val="743f3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0"/>
                  </a:srgbClr>
                </a:gs>
                <a:gs pos="100000">
                  <a:srgbClr val="884a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800520" y="2055960"/>
                <a:ext cx="174312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332" name=""/>
          <p:cNvGrpSpPr/>
          <p:nvPr/>
        </p:nvGrpSpPr>
        <p:grpSpPr>
          <a:xfrm>
            <a:off x="2895480" y="2743200"/>
            <a:ext cx="3580920" cy="1904040"/>
            <a:chOff x="2895480" y="2743200"/>
            <a:chExt cx="3580920" cy="1904040"/>
          </a:xfrm>
        </p:grpSpPr>
        <p:sp>
          <p:nvSpPr>
            <p:cNvPr id="333" name=""/>
            <p:cNvSpPr/>
            <p:nvPr/>
          </p:nvSpPr>
          <p:spPr>
            <a:xfrm rot="10800000">
              <a:off x="5866920" y="274320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44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274320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8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637320" y="2286000"/>
            <a:ext cx="1440000" cy="1440000"/>
            <a:chOff x="6637320" y="2286000"/>
            <a:chExt cx="1440000" cy="1440000"/>
          </a:xfrm>
        </p:grpSpPr>
        <p:sp>
          <p:nvSpPr>
            <p:cNvPr id="339" name=""/>
            <p:cNvSpPr/>
            <p:nvPr/>
          </p:nvSpPr>
          <p:spPr>
            <a:xfrm>
              <a:off x="6637320" y="22860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37320" y="22860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32720" y="23796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32720" y="23828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94640" y="24433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6811920" y="2460600"/>
              <a:ext cx="1090800" cy="1092240"/>
              <a:chOff x="6811920" y="2460600"/>
              <a:chExt cx="1090800" cy="1092240"/>
            </a:xfrm>
          </p:grpSpPr>
          <p:sp>
            <p:nvSpPr>
              <p:cNvPr id="345" name=""/>
              <p:cNvSpPr/>
              <p:nvPr/>
            </p:nvSpPr>
            <p:spPr>
              <a:xfrm>
                <a:off x="6811920" y="24606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37120" y="24771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896160" y="25048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5257800" y="4495680"/>
            <a:ext cx="1444680" cy="1523880"/>
            <a:chOff x="5257800" y="4495680"/>
            <a:chExt cx="1444680" cy="1523880"/>
          </a:xfrm>
        </p:grpSpPr>
        <p:sp>
          <p:nvSpPr>
            <p:cNvPr id="351" name=""/>
            <p:cNvSpPr/>
            <p:nvPr/>
          </p:nvSpPr>
          <p:spPr>
            <a:xfrm>
              <a:off x="5257800" y="449568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66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57800" y="449568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66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51400" y="4593960"/>
              <a:ext cx="1257480" cy="1327320"/>
            </a:xfrm>
            <a:prstGeom prst="ellipse">
              <a:avLst/>
            </a:prstGeom>
            <a:gradFill rotWithShape="0">
              <a:gsLst>
                <a:gs pos="0">
                  <a:srgbClr val="893652"/>
                </a:gs>
                <a:gs pos="50000">
                  <a:srgbClr val="ff6699"/>
                </a:gs>
                <a:gs pos="100000">
                  <a:srgbClr val="8936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34120" y="4572000"/>
              <a:ext cx="1255680" cy="132696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0"/>
                  </a:srgbClr>
                </a:gs>
                <a:gs pos="100000">
                  <a:srgbClr val="a14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9800" y="4662360"/>
              <a:ext cx="1130400" cy="119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464796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64080" y="4698720"/>
              <a:ext cx="1015920" cy="105264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22760" y="4728960"/>
              <a:ext cx="903600" cy="854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39400" y="50893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62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d36"/>
                </a:gs>
                <a:gs pos="50000">
                  <a:srgbClr val="00cc66"/>
                </a:gs>
                <a:gs pos="100000">
                  <a:srgbClr val="00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90680" y="2385000"/>
              <a:ext cx="1256760" cy="1325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58000" y="245232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76360" y="2471400"/>
              <a:ext cx="1095840" cy="115452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90040" y="2478600"/>
              <a:ext cx="1068840" cy="112392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01200" y="2489040"/>
              <a:ext cx="1017000" cy="105192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73" name="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74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965e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965e1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688840" y="4591080"/>
                <a:ext cx="1249200" cy="1250640"/>
              </a:xfrm>
              <a:prstGeom prst="ellipse">
                <a:avLst/>
              </a:prstGeom>
              <a:gradFill rotWithShape="0">
                <a:gsLst>
                  <a:gs pos="0">
                    <a:srgbClr val="1e3679"/>
                  </a:gs>
                  <a:gs pos="50000">
                    <a:srgbClr val="3965e1"/>
                  </a:gs>
                  <a:gs pos="100000">
                    <a:srgbClr val="1e367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688840" y="4600440"/>
                <a:ext cx="1249200" cy="1251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0"/>
                    </a:srgbClr>
                  </a:gs>
                  <a:gs pos="100000">
                    <a:srgbClr val="25439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750760" y="4662360"/>
                <a:ext cx="112536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5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2779560" y="4676760"/>
                <a:ext cx="1090080" cy="1092240"/>
                <a:chOff x="2779560" y="4676760"/>
                <a:chExt cx="1090080" cy="10922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2779560" y="4676760"/>
                  <a:ext cx="109008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793240" y="4682880"/>
                  <a:ext cx="106380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804760" y="4693320"/>
                  <a:ext cx="101160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63800" y="4721040"/>
                  <a:ext cx="89928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4" name=""/>
            <p:cNvSpPr/>
            <p:nvPr/>
          </p:nvSpPr>
          <p:spPr>
            <a:xfrm>
              <a:off x="295128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387" name="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394" name="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083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02" name="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38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5628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6420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7032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0560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81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85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528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16" name=""/>
            <p:cNvSpPr/>
            <p:nvPr/>
          </p:nvSpPr>
          <p:spPr>
            <a:xfrm>
              <a:off x="586764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1840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1840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6612120" y="1832040"/>
              <a:ext cx="642960" cy="642600"/>
              <a:chOff x="6612120" y="1832040"/>
              <a:chExt cx="642960" cy="642600"/>
            </a:xfrm>
          </p:grpSpPr>
          <p:sp>
            <p:nvSpPr>
              <p:cNvPr id="421" name=""/>
              <p:cNvSpPr/>
              <p:nvPr/>
            </p:nvSpPr>
            <p:spPr>
              <a:xfrm>
                <a:off x="66121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186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265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63300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6668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054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2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35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436" name="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439" name="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2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48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3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4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57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5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70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71" name="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74" name="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77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83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87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88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89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2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94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5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501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514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4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518" name=""/>
            <p:cNvCxnSpPr>
              <a:stCxn id="514" idx="3"/>
              <a:endCxn id="515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9" name=""/>
            <p:cNvCxnSpPr>
              <a:stCxn id="515" idx="3"/>
              <a:endCxn id="516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452600" y="1246320"/>
            <a:ext cx="5786280" cy="5077800"/>
            <a:chOff x="1452600" y="1246320"/>
            <a:chExt cx="5786280" cy="5077800"/>
          </a:xfrm>
        </p:grpSpPr>
        <p:sp>
          <p:nvSpPr>
            <p:cNvPr id="523" name=""/>
            <p:cNvSpPr/>
            <p:nvPr/>
          </p:nvSpPr>
          <p:spPr>
            <a:xfrm>
              <a:off x="5367240" y="2106360"/>
              <a:ext cx="743040" cy="205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81680" y="3792240"/>
              <a:ext cx="1257120" cy="348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5120" y="5817960"/>
              <a:ext cx="1823760" cy="506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681200" y="4454280"/>
              <a:ext cx="1481040" cy="410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3770000">
              <a:off x="4914720" y="3683520"/>
              <a:ext cx="960120" cy="19188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0856000">
              <a:off x="2928600" y="3234960"/>
              <a:ext cx="1009800" cy="1728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3867120" y="1928880"/>
              <a:ext cx="1702440" cy="1835640"/>
              <a:chOff x="3867120" y="1928880"/>
              <a:chExt cx="1702440" cy="1835640"/>
            </a:xfrm>
          </p:grpSpPr>
          <p:sp>
            <p:nvSpPr>
              <p:cNvPr id="530" name=""/>
              <p:cNvSpPr/>
              <p:nvPr/>
            </p:nvSpPr>
            <p:spPr>
              <a:xfrm rot="18394200">
                <a:off x="5041440" y="2140920"/>
                <a:ext cx="59544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531" name=""/>
              <p:cNvGrpSpPr/>
              <p:nvPr/>
            </p:nvGrpSpPr>
            <p:grpSpPr>
              <a:xfrm>
                <a:off x="3867120" y="2176920"/>
                <a:ext cx="1609560" cy="1587600"/>
                <a:chOff x="3867120" y="2176920"/>
                <a:chExt cx="1609560" cy="15876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867120" y="2176920"/>
                  <a:ext cx="1609560" cy="158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051080" y="2203200"/>
                  <a:ext cx="1241640" cy="599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>
                <a:off x="3953880" y="28677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5276880" y="1246320"/>
              <a:ext cx="891720" cy="861480"/>
              <a:chOff x="5276880" y="1246320"/>
              <a:chExt cx="891720" cy="86148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5276880" y="1246320"/>
                <a:ext cx="871560" cy="861480"/>
                <a:chOff x="5276880" y="1246320"/>
                <a:chExt cx="871560" cy="86148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276880" y="1246320"/>
                  <a:ext cx="871560" cy="86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54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376240" y="1260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5297400" y="1577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1452600" y="2571480"/>
              <a:ext cx="1744560" cy="1790280"/>
              <a:chOff x="1452600" y="2571480"/>
              <a:chExt cx="1744560" cy="179028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1452600" y="2571480"/>
                <a:ext cx="1744560" cy="1790280"/>
                <a:chOff x="1452600" y="2571480"/>
                <a:chExt cx="1744560" cy="17902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1452600" y="2571480"/>
                  <a:ext cx="1744560" cy="179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6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652040" y="260100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>
                <a:off x="1546920" y="33663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5208480" y="3831840"/>
              <a:ext cx="2013120" cy="1989000"/>
              <a:chOff x="5208480" y="3831840"/>
              <a:chExt cx="2013120" cy="198900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5208480" y="3831840"/>
                <a:ext cx="2013120" cy="1989000"/>
                <a:chOff x="5208480" y="3831840"/>
                <a:chExt cx="2013120" cy="198900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5208480" y="383184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7538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438520" y="386460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5496840" y="46936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56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1980000"/>
            </a:gra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58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64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1980000"/>
            </a:gra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70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838080" y="224172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63794"/>
                      </a:solidFill>
                    </a:lnR>
                    <a:lnT>
                      <a:noFill/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"/>
          <p:cNvGrpSpPr/>
          <p:nvPr/>
        </p:nvGrpSpPr>
        <p:grpSpPr>
          <a:xfrm>
            <a:off x="753480" y="603000"/>
            <a:ext cx="7379280" cy="5581080"/>
            <a:chOff x="753480" y="603000"/>
            <a:chExt cx="7379280" cy="5581080"/>
          </a:xfrm>
        </p:grpSpPr>
        <p:sp>
          <p:nvSpPr>
            <p:cNvPr id="586" name=""/>
            <p:cNvSpPr/>
            <p:nvPr/>
          </p:nvSpPr>
          <p:spPr>
            <a:xfrm>
              <a:off x="2290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0601600">
              <a:off x="1565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20601600">
              <a:off x="1621800" y="211428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20601600">
              <a:off x="1537920" y="209988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dbdf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rot="20602200">
              <a:off x="1587240" y="209988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20601600">
              <a:off x="1545120" y="21110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496eb8"/>
                </a:gs>
                <a:gs pos="100000">
                  <a:srgbClr val="6699f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20602200">
              <a:off x="1555560" y="2109600"/>
              <a:ext cx="5702040" cy="29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616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20539200">
              <a:off x="1171800" y="1506960"/>
              <a:ext cx="654264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627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6363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0601600">
              <a:off x="3082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73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978720" y="228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807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02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92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46440" y="410220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99ff">
                    <a:alpha val="19215"/>
                  </a:srgbClr>
                </a:gs>
                <a:gs pos="100000">
                  <a:srgbClr val="98ba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20601600">
              <a:off x="3184560" y="308124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066680" y="1981080"/>
            <a:ext cx="6781680" cy="4006440"/>
            <a:chOff x="1066680" y="1981080"/>
            <a:chExt cx="6781680" cy="4006440"/>
          </a:xfrm>
        </p:grpSpPr>
        <p:sp>
          <p:nvSpPr>
            <p:cNvPr id="607" name="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adbfe"/>
                </a:gs>
              </a:gsLst>
              <a:lin ang="5400000"/>
            </a:gradFill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08" name="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0" name=""/>
            <p:cNvSpPr/>
            <p:nvPr/>
          </p:nvSpPr>
          <p:spPr>
            <a:xfrm>
              <a:off x="1374840" y="1981080"/>
              <a:ext cx="271296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412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5190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d7eeee"/>
                </a:gs>
              </a:gsLst>
              <a:lin ang="5400000"/>
            </a:gra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14" name=""/>
            <p:cNvGraphicFramePr/>
            <p:nvPr/>
          </p:nvGraphicFramePr>
          <p:xfrm>
            <a:off x="4704120" y="2597400"/>
            <a:ext cx="292860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6" name="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507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9360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-2422440" y="147420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e1e1e1"/>
              </a:gs>
              <a:gs pos="50000">
                <a:srgbClr val="c0c0c0"/>
              </a:gs>
              <a:gs pos="100000">
                <a:srgbClr val="e1e1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rot="5400000">
            <a:off x="-2016720" y="1910520"/>
            <a:ext cx="403200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fefefe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7" name="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4" name="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4192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4192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1" name="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8" name="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4192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4192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5" name="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3794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A9226-09E2-4D1B-988F-4B6FD8A01D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1676520" y="3809880"/>
            <a:ext cx="57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163794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163794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8840" y="146808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63794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5c5c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ddfe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40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41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14a7b"/>
                  </a:gs>
                  <a:gs pos="100000">
                    <a:srgbClr val="66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bad0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a5dada"/>
                </a:gs>
                <a:gs pos="100000">
                  <a:srgbClr val="00999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48235"/>
                  </a:srgbClr>
                </a:gs>
                <a:gs pos="100000">
                  <a:srgbClr val="0078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268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63794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2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3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2f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36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63794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6379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170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63794"/>
              </a:solidFill>
              <a:miter/>
            </a:ln>
          </p:spPr>
        </p:cxnSp>
        <p:sp>
          <p:nvSpPr>
            <p:cNvPr id="171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3794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4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4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95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6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365289"/>
                  </a:gs>
                  <a:gs pos="50000">
                    <a:srgbClr val="6699ff"/>
                  </a:gs>
                  <a:gs pos="100000">
                    <a:srgbClr val="36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794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3" name="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60000"/>
                </a:gs>
                <a:gs pos="50000">
                  <a:srgbClr val="990000"/>
                </a:gs>
                <a:gs pos="100000">
                  <a:srgbClr val="4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6e0000"/>
                </a:gs>
                <a:gs pos="50000">
                  <a:srgbClr val="990000"/>
                </a:gs>
                <a:gs pos="100000">
                  <a:srgbClr val="6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496eb8"/>
                </a:gs>
                <a:gs pos="50000">
                  <a:srgbClr val="6699ff"/>
                </a:gs>
                <a:gs pos="100000">
                  <a:srgbClr val="496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50000">
                  <a:srgbClr val="969696"/>
                </a:gs>
                <a:gs pos="100000">
                  <a:srgbClr val="6c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6e6e"/>
                </a:gs>
                <a:gs pos="50000">
                  <a:srgbClr val="009999"/>
                </a:gs>
                <a:gs pos="100000">
                  <a:srgbClr val="006e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009999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0000"/>
              </a:gs>
              <a:gs pos="100000">
                <a:srgbClr val="b74c4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93b7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2T14:59:58Z</dcterms:created>
  <dc:creator>pc</dc:creator>
  <dc:description/>
  <dc:language>en-US</dc:language>
  <cp:lastModifiedBy>微软用户</cp:lastModifiedBy>
  <dcterms:modified xsi:type="dcterms:W3CDTF">2015-08-09T01:10:06Z</dcterms:modified>
  <cp:revision>2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