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033-E022-4510-9870-040179BA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C53-3AAB-43A3-8E84-CCD4DD91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7F6-1C8A-46AB-A6BD-9A97CD53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1C9-7EDE-48BE-B622-65C34275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992-DA81-479F-9249-C38603DE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2E9A-D603-44C6-BC82-85E1548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5F4-6D28-47F3-9E5E-5791B83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F68-2F14-47DA-9B48-6DB22CEE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49F-F807-48D9-98B3-9F2A352A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AB47-5502-4FAA-9880-1FD50850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205A-65D4-4729-B78F-BA9F53C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FBE-D6DF-4D69-9E8A-8C84752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2B38-EAD5-4340-B2BD-47D21CC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F8D-0F9B-456B-9AF2-9F65A08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5FD3-823D-429A-97E2-7B81182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630C-4D51-457E-A421-4CD23B6A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0FD4-9BD1-455F-8E4F-0FAFDB40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E18-C1D4-43CA-82D7-182C9FC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C69-B7A6-4519-A284-3A983C47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7A7-53FC-47E7-BB13-5F324D3D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11C-6168-4744-929E-1A69811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531-316D-4A97-AAD4-1FD8EAD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F66-B4D9-4BB0-A85D-7AB6835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E37-DF1B-4A59-8AE3-DDB30F3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E59-A1C1-48EC-9168-3D1E78D2D9F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2CC-99E6-420A-99DB-BB3F2E51BD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8440" y="-17640"/>
            <a:ext cx="9208800" cy="704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242100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工作生活休闲咖啡物语</a:t>
            </a: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ppt</a:t>
            </a: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7000" y="-19080"/>
            <a:ext cx="9353520" cy="7048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60800" y="220356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0720" y="278136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完成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60800" y="292428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364500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0720" y="198900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接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0720" y="35020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享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440" y="196920"/>
            <a:ext cx="9353520" cy="6472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3080" y="1917720"/>
            <a:ext cx="0" cy="2232000"/>
          </a:xfrm>
          <a:prstGeom prst="line">
            <a:avLst/>
          </a:prstGeom>
          <a:ln w="28440">
            <a:solidFill>
              <a:srgbClr val="382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0800" y="2492280"/>
            <a:ext cx="42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2735"/>
                </a:solidFill>
                <a:latin typeface="Arial"/>
                <a:ea typeface="华康海报体W12"/>
              </a:rPr>
              <a:t>享受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7000" y="237960"/>
            <a:ext cx="9353520" cy="6863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8560" y="620640"/>
            <a:ext cx="506412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2735"/>
                </a:solidFill>
                <a:latin typeface="华康少女文字W5(P)"/>
                <a:ea typeface="华康海报体W12"/>
              </a:rPr>
              <a:t>朝</a:t>
            </a: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九晚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如果工作只让你感觉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那生活将多么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和暗恋的同事一个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办公楼下有卖你爱吃的关东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老板请客  省下饭费二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年终聚会  大家都在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偷练的舞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不曾孤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这些卑微的小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是工作给我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额外眷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AEB-D5B1-4391-A522-316E17B5A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27000" y="193680"/>
            <a:ext cx="9425160" cy="6470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9240" y="198900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ce5c4"/>
                </a:solidFill>
                <a:latin typeface="Segoe Print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10:0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