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652-7619-4CAE-815F-8B66F35C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753-E80D-46D0-81AB-62A5CA03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072-C458-4C1E-818A-2BCFC675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14B-EC38-4EF4-B073-F3ED981B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FE0-4830-4ADB-8E7D-A8A9DCB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EFE-8F06-4C6E-8A68-95F7D76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7C7-24A1-4B7E-9CCD-1E7CCB75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B13-19E6-4A54-BB02-273AA26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48F-2541-4C7B-9154-AEB9434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ECF-276A-41FA-BE9D-168A604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62C-ECAB-465A-9A83-4FC3DC3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91F-BBFC-4447-9C5E-AAFFD60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A1F-9357-4CB1-87EE-81D406AB5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86080" y="4338720"/>
            <a:ext cx="4857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护士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357720" y="48387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72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护士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E05-4E95-40B4-B24F-692BD7060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剪去同侧角的矩形 15"/>
          <p:cNvSpPr/>
          <p:nvPr/>
        </p:nvSpPr>
        <p:spPr>
          <a:xfrm rot="16200000">
            <a:off x="892800" y="2250000"/>
            <a:ext cx="4214880" cy="2428920"/>
          </a:xfrm>
          <a:custGeom>
            <a:avLst/>
            <a:gdLst/>
            <a:ahLst/>
            <a:rect l="l" t="t" r="r" b="b"/>
            <a:pathLst>
              <a:path w="4214812" h="2428875">
                <a:moveTo>
                  <a:pt x="1214438" y="0"/>
                </a:moveTo>
                <a:lnTo>
                  <a:pt x="3000375" y="0"/>
                </a:lnTo>
                <a:lnTo>
                  <a:pt x="4214812" y="1214438"/>
                </a:lnTo>
                <a:lnTo>
                  <a:pt x="4214812" y="2428875"/>
                </a:lnTo>
                <a:lnTo>
                  <a:pt x="4214812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剪去同侧角的矩形 16"/>
          <p:cNvSpPr/>
          <p:nvPr/>
        </p:nvSpPr>
        <p:spPr>
          <a:xfrm flipH="1" flipV="1" rot="16200000">
            <a:off x="4321080" y="2250000"/>
            <a:ext cx="4214880" cy="2428920"/>
          </a:xfrm>
          <a:custGeom>
            <a:avLst/>
            <a:gdLst/>
            <a:ahLst/>
            <a:rect l="l" t="t" r="r" b="b"/>
            <a:pathLst>
              <a:path w="4214812" h="2428875">
                <a:moveTo>
                  <a:pt x="1214438" y="0"/>
                </a:moveTo>
                <a:lnTo>
                  <a:pt x="3000375" y="0"/>
                </a:lnTo>
                <a:lnTo>
                  <a:pt x="4214812" y="1214438"/>
                </a:lnTo>
                <a:lnTo>
                  <a:pt x="4214812" y="2428875"/>
                </a:lnTo>
                <a:lnTo>
                  <a:pt x="4214812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17"/>
          <p:cNvSpPr/>
          <p:nvPr/>
        </p:nvSpPr>
        <p:spPr>
          <a:xfrm>
            <a:off x="4429080" y="3071880"/>
            <a:ext cx="654120" cy="571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2497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泪滴形 9"/>
          <p:cNvSpPr/>
          <p:nvPr/>
        </p:nvSpPr>
        <p:spPr>
          <a:xfrm>
            <a:off x="2500200" y="2685960"/>
            <a:ext cx="53352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泪滴形 10"/>
          <p:cNvSpPr/>
          <p:nvPr/>
        </p:nvSpPr>
        <p:spPr>
          <a:xfrm>
            <a:off x="2500200" y="3505320"/>
            <a:ext cx="533520" cy="53316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泪滴形 11"/>
          <p:cNvSpPr/>
          <p:nvPr/>
        </p:nvSpPr>
        <p:spPr>
          <a:xfrm>
            <a:off x="5396040" y="271944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泪滴形 12"/>
          <p:cNvSpPr/>
          <p:nvPr/>
        </p:nvSpPr>
        <p:spPr>
          <a:xfrm>
            <a:off x="5396040" y="353844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285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28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6213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621252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折角形 11"/>
          <p:cNvSpPr/>
          <p:nvPr/>
        </p:nvSpPr>
        <p:spPr>
          <a:xfrm>
            <a:off x="2857680" y="1500120"/>
            <a:ext cx="1963440" cy="1963800"/>
          </a:xfrm>
          <a:prstGeom prst="foldedCorner">
            <a:avLst>
              <a:gd name="adj" fmla="val 33828"/>
            </a:avLst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折角形 12"/>
          <p:cNvSpPr/>
          <p:nvPr/>
        </p:nvSpPr>
        <p:spPr>
          <a:xfrm flipH="1">
            <a:off x="4822200" y="1500120"/>
            <a:ext cx="1963800" cy="1963800"/>
          </a:xfrm>
          <a:prstGeom prst="foldedCorner">
            <a:avLst>
              <a:gd name="adj" fmla="val 33828"/>
            </a:avLst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折角形 13"/>
          <p:cNvSpPr/>
          <p:nvPr/>
        </p:nvSpPr>
        <p:spPr>
          <a:xfrm flipH="1" flipV="1">
            <a:off x="4822200" y="3464640"/>
            <a:ext cx="1963800" cy="1963800"/>
          </a:xfrm>
          <a:prstGeom prst="foldedCorner">
            <a:avLst>
              <a:gd name="adj" fmla="val 33828"/>
            </a:avLst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折角形 14"/>
          <p:cNvSpPr/>
          <p:nvPr/>
        </p:nvSpPr>
        <p:spPr>
          <a:xfrm flipV="1">
            <a:off x="2857680" y="3464640"/>
            <a:ext cx="1963440" cy="1963800"/>
          </a:xfrm>
          <a:prstGeom prst="foldedCorner">
            <a:avLst>
              <a:gd name="adj" fmla="val 33828"/>
            </a:avLst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855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211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流程图: 离页连接符 10"/>
          <p:cNvSpPr/>
          <p:nvPr/>
        </p:nvSpPr>
        <p:spPr>
          <a:xfrm>
            <a:off x="5429160" y="3214800"/>
            <a:ext cx="135756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离页连接符 12"/>
          <p:cNvSpPr/>
          <p:nvPr/>
        </p:nvSpPr>
        <p:spPr>
          <a:xfrm>
            <a:off x="4000680" y="3214800"/>
            <a:ext cx="135720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离页连接符 13"/>
          <p:cNvSpPr/>
          <p:nvPr/>
        </p:nvSpPr>
        <p:spPr>
          <a:xfrm flipV="1">
            <a:off x="5429160" y="1571760"/>
            <a:ext cx="135756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流程图: 离页连接符 14"/>
          <p:cNvSpPr/>
          <p:nvPr/>
        </p:nvSpPr>
        <p:spPr>
          <a:xfrm>
            <a:off x="2571840" y="3214800"/>
            <a:ext cx="135720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离页连接符 15"/>
          <p:cNvSpPr/>
          <p:nvPr/>
        </p:nvSpPr>
        <p:spPr>
          <a:xfrm flipV="1">
            <a:off x="4000680" y="1571760"/>
            <a:ext cx="135720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流程图: 离页连接符 17"/>
          <p:cNvSpPr/>
          <p:nvPr/>
        </p:nvSpPr>
        <p:spPr>
          <a:xfrm flipV="1">
            <a:off x="2571840" y="1571760"/>
            <a:ext cx="135720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4212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燕尾形箭头 10"/>
          <p:cNvSpPr/>
          <p:nvPr/>
        </p:nvSpPr>
        <p:spPr>
          <a:xfrm>
            <a:off x="3357720" y="785880"/>
            <a:ext cx="2712960" cy="134280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600 h 1342800"/>
              <a:gd name="textAreaBottom" fmla="*/ 80820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箭头 11"/>
          <p:cNvSpPr/>
          <p:nvPr/>
        </p:nvSpPr>
        <p:spPr>
          <a:xfrm flipH="1">
            <a:off x="3499560" y="1585800"/>
            <a:ext cx="2713320" cy="1343160"/>
          </a:xfrm>
          <a:custGeom>
            <a:avLst/>
            <a:gdLst>
              <a:gd name="textAreaLeft" fmla="*/ 524520 w 2713320"/>
              <a:gd name="textAreaRight" fmla="*/ 2188800 w 271332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箭头 12"/>
          <p:cNvSpPr/>
          <p:nvPr/>
        </p:nvSpPr>
        <p:spPr>
          <a:xfrm>
            <a:off x="3357720" y="2371680"/>
            <a:ext cx="2712960" cy="134316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箭头 13"/>
          <p:cNvSpPr/>
          <p:nvPr/>
        </p:nvSpPr>
        <p:spPr>
          <a:xfrm flipH="1">
            <a:off x="3499560" y="3170160"/>
            <a:ext cx="2713320" cy="1344600"/>
          </a:xfrm>
          <a:custGeom>
            <a:avLst/>
            <a:gdLst>
              <a:gd name="textAreaLeft" fmla="*/ 524880 w 2713320"/>
              <a:gd name="textAreaRight" fmla="*/ 2188440 w 2713320"/>
              <a:gd name="textAreaTop" fmla="*/ 535320 h 1344600"/>
              <a:gd name="textAreaBottom" fmla="*/ 80928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69" y="8601"/>
                </a:lnTo>
                <a:lnTo>
                  <a:pt x="1069" y="0"/>
                </a:lnTo>
                <a:lnTo>
                  <a:pt x="21600" y="10800"/>
                </a:lnTo>
                <a:lnTo>
                  <a:pt x="1069" y="21600"/>
                </a:lnTo>
                <a:lnTo>
                  <a:pt x="1069" y="12999"/>
                </a:lnTo>
                <a:lnTo>
                  <a:pt x="0" y="12999"/>
                </a:lnTo>
                <a:lnTo>
                  <a:pt x="4180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箭头 14"/>
          <p:cNvSpPr/>
          <p:nvPr/>
        </p:nvSpPr>
        <p:spPr>
          <a:xfrm>
            <a:off x="3357720" y="3929040"/>
            <a:ext cx="2712960" cy="134316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箭头 15"/>
          <p:cNvSpPr/>
          <p:nvPr/>
        </p:nvSpPr>
        <p:spPr>
          <a:xfrm flipH="1">
            <a:off x="3499560" y="4729320"/>
            <a:ext cx="2713320" cy="1342800"/>
          </a:xfrm>
          <a:custGeom>
            <a:avLst/>
            <a:gdLst>
              <a:gd name="textAreaLeft" fmla="*/ 524520 w 2713320"/>
              <a:gd name="textAreaRight" fmla="*/ 2188800 w 2713320"/>
              <a:gd name="textAreaTop" fmla="*/ 534600 h 1342800"/>
              <a:gd name="textAreaBottom" fmla="*/ 80820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355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355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6426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140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569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497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乘号 10"/>
          <p:cNvSpPr/>
          <p:nvPr/>
        </p:nvSpPr>
        <p:spPr>
          <a:xfrm>
            <a:off x="3000240" y="1285920"/>
            <a:ext cx="3907080" cy="3906720"/>
          </a:xfrm>
          <a:custGeom>
            <a:avLst/>
            <a:gdLst/>
            <a:ahLst/>
            <a:rect l="l" t="t" r="r" b="b"/>
            <a:pathLst>
              <a:path w="3906838" h="3906838">
                <a:moveTo>
                  <a:pt x="613449" y="1263201"/>
                </a:moveTo>
                <a:lnTo>
                  <a:pt x="1263201" y="613449"/>
                </a:lnTo>
                <a:lnTo>
                  <a:pt x="1953419" y="1303667"/>
                </a:lnTo>
                <a:lnTo>
                  <a:pt x="2643637" y="613449"/>
                </a:lnTo>
                <a:lnTo>
                  <a:pt x="3293389" y="1263201"/>
                </a:lnTo>
                <a:lnTo>
                  <a:pt x="2603171" y="1953419"/>
                </a:lnTo>
                <a:lnTo>
                  <a:pt x="3293389" y="2643637"/>
                </a:lnTo>
                <a:lnTo>
                  <a:pt x="2643637" y="3293389"/>
                </a:lnTo>
                <a:lnTo>
                  <a:pt x="1953419" y="2603171"/>
                </a:lnTo>
                <a:lnTo>
                  <a:pt x="1263201" y="3293389"/>
                </a:lnTo>
                <a:lnTo>
                  <a:pt x="613449" y="2643637"/>
                </a:lnTo>
                <a:lnTo>
                  <a:pt x="1303667" y="1953419"/>
                </a:lnTo>
                <a:lnTo>
                  <a:pt x="613449" y="1263201"/>
                </a:lnTo>
                <a:close/>
              </a:path>
            </a:pathLst>
          </a:custGeom>
          <a:solidFill>
            <a:srgbClr val="aca2d7"/>
          </a:solidFill>
          <a:ln w="25560">
            <a:solidFill>
              <a:srgbClr val="f095b5"/>
            </a:solidFill>
            <a:round/>
          </a:ln>
          <a:effectLst>
            <a:outerShdw dist="5076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流程图: 决策 10"/>
          <p:cNvSpPr/>
          <p:nvPr/>
        </p:nvSpPr>
        <p:spPr>
          <a:xfrm>
            <a:off x="3214800" y="2225520"/>
            <a:ext cx="3485880" cy="2337120"/>
          </a:xfrm>
          <a:prstGeom prst="flowChartDecision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决策 15"/>
          <p:cNvSpPr/>
          <p:nvPr/>
        </p:nvSpPr>
        <p:spPr>
          <a:xfrm>
            <a:off x="2714760" y="1857240"/>
            <a:ext cx="1830240" cy="122580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决策 16"/>
          <p:cNvSpPr/>
          <p:nvPr/>
        </p:nvSpPr>
        <p:spPr>
          <a:xfrm>
            <a:off x="5384880" y="1868400"/>
            <a:ext cx="1830240" cy="12272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决策 17"/>
          <p:cNvSpPr/>
          <p:nvPr/>
        </p:nvSpPr>
        <p:spPr>
          <a:xfrm>
            <a:off x="2741760" y="3714840"/>
            <a:ext cx="1830240" cy="12254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流程图: 决策 18"/>
          <p:cNvSpPr/>
          <p:nvPr/>
        </p:nvSpPr>
        <p:spPr>
          <a:xfrm>
            <a:off x="5357880" y="3714840"/>
            <a:ext cx="1830240" cy="12254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497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6069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069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对角圆角矩形 20"/>
          <p:cNvSpPr/>
          <p:nvPr/>
        </p:nvSpPr>
        <p:spPr>
          <a:xfrm>
            <a:off x="1349280" y="3857760"/>
            <a:ext cx="1865520" cy="1865160"/>
          </a:xfrm>
          <a:custGeom>
            <a:avLst/>
            <a:gdLst/>
            <a:ahLst/>
            <a:rect l="l" t="t" r="r" b="b"/>
            <a:pathLst>
              <a:path w="1865313" h="1865313">
                <a:moveTo>
                  <a:pt x="932657" y="0"/>
                </a:moveTo>
                <a:lnTo>
                  <a:pt x="1865313" y="0"/>
                </a:lnTo>
                <a:lnTo>
                  <a:pt x="1865313" y="0"/>
                </a:lnTo>
                <a:lnTo>
                  <a:pt x="1865313" y="932657"/>
                </a:lnTo>
                <a:cubicBezTo>
                  <a:pt x="1865313" y="1447749"/>
                  <a:pt x="1447748" y="1865314"/>
                  <a:pt x="932656" y="1865314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7"/>
                </a:lnTo>
                <a:cubicBezTo>
                  <a:pt x="0" y="417565"/>
                  <a:pt x="417565" y="0"/>
                  <a:pt x="932657" y="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对角圆角矩形 21"/>
          <p:cNvSpPr/>
          <p:nvPr/>
        </p:nvSpPr>
        <p:spPr>
          <a:xfrm>
            <a:off x="3214800" y="2616120"/>
            <a:ext cx="1865160" cy="1865520"/>
          </a:xfrm>
          <a:custGeom>
            <a:avLst/>
            <a:gdLst/>
            <a:ahLst/>
            <a:rect l="l" t="t" r="r" b="b"/>
            <a:pathLst>
              <a:path w="1865312" h="1865313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7"/>
                </a:lnTo>
                <a:cubicBezTo>
                  <a:pt x="1865312" y="1447749"/>
                  <a:pt x="1447748" y="1865313"/>
                  <a:pt x="932656" y="1865313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对角圆角矩形 22"/>
          <p:cNvSpPr/>
          <p:nvPr/>
        </p:nvSpPr>
        <p:spPr>
          <a:xfrm>
            <a:off x="5072040" y="1357200"/>
            <a:ext cx="1865160" cy="1865520"/>
          </a:xfrm>
          <a:custGeom>
            <a:avLst/>
            <a:gdLst/>
            <a:ahLst/>
            <a:rect l="l" t="t" r="r" b="b"/>
            <a:pathLst>
              <a:path w="1865312" h="1865312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6"/>
                </a:lnTo>
                <a:cubicBezTo>
                  <a:pt x="1865312" y="1447748"/>
                  <a:pt x="1447748" y="1865312"/>
                  <a:pt x="932656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711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5569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3640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缺角矩形 10"/>
          <p:cNvSpPr/>
          <p:nvPr/>
        </p:nvSpPr>
        <p:spPr>
          <a:xfrm>
            <a:off x="2657520" y="1800360"/>
            <a:ext cx="4130640" cy="3402000"/>
          </a:xfrm>
          <a:custGeom>
            <a:avLst/>
            <a:gdLst>
              <a:gd name="textAreaLeft" fmla="*/ 400680 w 4130640"/>
              <a:gd name="textAreaRight" fmla="*/ 3729960 w 4130640"/>
              <a:gd name="textAreaTop" fmla="*/ 400680 h 3402000"/>
              <a:gd name="textAreaBottom" fmla="*/ 3001320 h 3402000"/>
            </a:gdLst>
            <a:ahLst/>
            <a:rect l="textAreaLeft" t="textAreaTop" r="textAreaRight" b="textAreaBottom"/>
            <a:pathLst>
              <a:path w="262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626" y="21600"/>
                </a:lnTo>
                <a:arcTo wR="3600" hR="3600" stAng="10800000" swAng="5400000"/>
                <a:lnTo>
                  <a:pt x="26226" y="3600"/>
                </a:lnTo>
                <a:arcTo wR="3600" hR="3600" stAng="5400000" swAng="5400000"/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1"/>
          <p:cNvSpPr/>
          <p:nvPr/>
        </p:nvSpPr>
        <p:spPr>
          <a:xfrm>
            <a:off x="2243160" y="137160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2"/>
          <p:cNvSpPr/>
          <p:nvPr/>
        </p:nvSpPr>
        <p:spPr>
          <a:xfrm>
            <a:off x="6300720" y="138600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3"/>
          <p:cNvSpPr/>
          <p:nvPr/>
        </p:nvSpPr>
        <p:spPr>
          <a:xfrm>
            <a:off x="2228760" y="471492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4"/>
          <p:cNvSpPr/>
          <p:nvPr/>
        </p:nvSpPr>
        <p:spPr>
          <a:xfrm>
            <a:off x="6286680" y="472932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4497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6640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783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711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6405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8-09T01:10:19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