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7196-D69E-4AEA-AF7F-F16EE295D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7424-7A7E-438A-AB4A-D05A9989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E047-145B-48CD-9C9E-674E054A5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9933-5182-419B-9AE3-20E0F91E7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F941-2895-4C5A-BFF0-4582911C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BD65-743C-4197-92AA-A2CB8FB5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B131-6331-4CA9-98C3-762FD22B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CF95-761E-48B2-B730-FF8DCD51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6B58-D9BE-4D60-9FAC-C9DD150B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E577-131E-4B9A-AF3C-B88BD933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B6C5-88A0-49A0-84A7-27929AFE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C6D5-BA91-4F8F-894C-50C30302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E9A2-7428-49E7-85CF-0EA288EA975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3BEC-6BFA-4165-8AA9-F8D4F64060B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4857840" y="1357200"/>
            <a:ext cx="7077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72920" y="117360"/>
            <a:ext cx="628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鸿运羊年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57CB-1B3E-4B47-A74A-3032FFE730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8"/>
          <p:cNvSpPr/>
          <p:nvPr/>
        </p:nvSpPr>
        <p:spPr>
          <a:xfrm>
            <a:off x="-3708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9"/>
          <p:cNvSpPr/>
          <p:nvPr/>
        </p:nvSpPr>
        <p:spPr>
          <a:xfrm>
            <a:off x="4155120" y="1571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9"/>
          <p:cNvSpPr/>
          <p:nvPr/>
        </p:nvSpPr>
        <p:spPr>
          <a:xfrm>
            <a:off x="3369600" y="3500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/>
          <p:cNvSpPr/>
          <p:nvPr/>
        </p:nvSpPr>
        <p:spPr>
          <a:xfrm>
            <a:off x="2583720" y="2643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2940840" y="4929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571680" y="4287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2583720" y="1571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1226160" y="3857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3798000" y="4929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-69120" y="42876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2512080" y="2143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4726800" y="3429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2297880" y="3571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-37080" y="42876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2428920" y="30002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3155040" y="1357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2226600" y="4786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4869720" y="4357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-6912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3655080" y="1785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5012640" y="3571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2012040" y="3429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3369600" y="4786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3420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869040" y="3071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5798160" y="3071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3583800" y="1571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3583800" y="4643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-3708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4655160" y="1857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/>
          <p:cNvSpPr/>
          <p:nvPr/>
        </p:nvSpPr>
        <p:spPr>
          <a:xfrm>
            <a:off x="1512000" y="4143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4512600" y="4714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2083680" y="2357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8"/>
          <p:cNvSpPr/>
          <p:nvPr/>
        </p:nvSpPr>
        <p:spPr>
          <a:xfrm>
            <a:off x="-3708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3369600" y="1571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5226840" y="3357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1940760" y="3643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3440880" y="4572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8"/>
          <p:cNvSpPr/>
          <p:nvPr/>
        </p:nvSpPr>
        <p:spPr>
          <a:xfrm>
            <a:off x="-3708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5512680" y="2714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2083680" y="1785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2226600" y="4214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4798080" y="4500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bj</dc:creator>
  <dc:description/>
  <dc:language>en-US</dc:language>
  <cp:lastModifiedBy>PC</cp:lastModifiedBy>
  <dcterms:modified xsi:type="dcterms:W3CDTF">2015-08-09T01:12:03Z</dcterms:modified>
  <cp:revision>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