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5A3-DA83-4134-9B68-D53C49AA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810A-977D-4021-9B02-7F1B5C34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1B81-9A17-4EBA-9A0C-CE015269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666-8930-4924-8930-E324BBB3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60BB-E5C0-4F15-AB95-3F376B58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9227-368A-415B-AE1C-A15A5098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58AB-4C88-4757-AFAB-5B050BDF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604A-7EEE-4FD1-8258-F790E953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EB3A-4869-48A1-BC8A-074A2A85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AE9A-66C3-49D4-94C9-2D5995AB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DD4F-5A5C-4710-B64F-070D85C5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6D7-1B95-4DC6-92FD-701156F1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04C8-0F86-4394-8018-8E4B423D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820B-3291-4331-BA44-B847C696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5811-979D-49BE-8982-6960D6F2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BAF4-6C7B-4145-B39D-FDA493A1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83E2-780D-4658-8FC6-2EA432DA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795-F97F-401D-A76A-6C26C63A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B705-B727-4E4B-A882-6333C426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358-0CD0-4CA5-A416-55E69E7E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F28-66AB-43DE-B119-82DF71DF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0D56-FD67-4EF5-97ED-053F6D95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030-1F91-4344-9DB6-38541568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6058-0F76-4CDB-9F35-C27F2B94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3FB7-7F62-4F12-BC4C-B98E5134378B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D587-36F5-4768-AB49-A710371BA8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 rot="21181200">
            <a:off x="539280" y="2904840"/>
            <a:ext cx="8040960" cy="7034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824d00">
                <a:alpha val="9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9ba07"/>
                </a:solidFill>
                <a:latin typeface="Arial"/>
                <a:ea typeface="微软雅黑"/>
              </a:rPr>
              <a:t>简约设计绿色办公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 rot="21181200">
            <a:off x="4839840" y="3451320"/>
            <a:ext cx="3981600" cy="9320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824d00">
                <a:alpha val="9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90fd23"/>
                </a:solidFill>
                <a:latin typeface="Arial"/>
                <a:ea typeface="微软雅黑"/>
              </a:rPr>
              <a:t>WPS2012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Users\toshiba\Desktop\封面.png"/>
          <p:cNvPicPr/>
          <p:nvPr/>
        </p:nvPicPr>
        <p:blipFill>
          <a:blip r:embed="rId2"/>
          <a:stretch/>
        </p:blipFill>
        <p:spPr>
          <a:xfrm>
            <a:off x="2771640" y="1008000"/>
            <a:ext cx="2025720" cy="1897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27"/>
          <p:cNvGrpSpPr/>
          <p:nvPr/>
        </p:nvGrpSpPr>
        <p:grpSpPr>
          <a:xfrm>
            <a:off x="1908000" y="879480"/>
            <a:ext cx="4945320" cy="884160"/>
            <a:chOff x="1908000" y="879480"/>
            <a:chExt cx="4945320" cy="884160"/>
          </a:xfrm>
        </p:grpSpPr>
        <p:grpSp>
          <p:nvGrpSpPr>
            <p:cNvPr id="87" name="组合 18"/>
            <p:cNvGrpSpPr/>
            <p:nvPr/>
          </p:nvGrpSpPr>
          <p:grpSpPr>
            <a:xfrm>
              <a:off x="1908000" y="879480"/>
              <a:ext cx="4945320" cy="884160"/>
              <a:chOff x="1908000" y="879480"/>
              <a:chExt cx="4945320" cy="884160"/>
            </a:xfrm>
          </p:grpSpPr>
          <p:pic>
            <p:nvPicPr>
              <p:cNvPr id="88" name="Picture 8" descr="C:\Users\toshiba\Desktop\1条.jpg"/>
              <p:cNvPicPr/>
              <p:nvPr/>
            </p:nvPicPr>
            <p:blipFill>
              <a:blip r:embed="rId2"/>
              <a:stretch/>
            </p:blipFill>
            <p:spPr>
              <a:xfrm>
                <a:off x="1908000" y="879480"/>
                <a:ext cx="494532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TextBox 13"/>
              <p:cNvSpPr/>
              <p:nvPr/>
            </p:nvSpPr>
            <p:spPr>
              <a:xfrm>
                <a:off x="3576600" y="1090440"/>
                <a:ext cx="189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24d00"/>
                    </a:solidFill>
                    <a:latin typeface="微软雅黑"/>
                    <a:ea typeface="微软雅黑"/>
                  </a:rPr>
                  <a:t>1</a:t>
                </a:r>
                <a:r>
                  <a:rPr b="1" lang="zh-CN" sz="2400" spc="-1" strike="noStrike">
                    <a:solidFill>
                      <a:srgbClr val="824d00"/>
                    </a:solidFill>
                    <a:latin typeface="微软雅黑"/>
                    <a:ea typeface="微软雅黑"/>
                  </a:rPr>
                  <a:t>分钟下载</a:t>
                </a:r>
                <a:r>
                  <a:rPr b="1" lang="en-US" sz="2400" spc="-1" strike="noStrike">
                    <a:solidFill>
                      <a:srgbClr val="824d00"/>
                    </a:solidFill>
                    <a:latin typeface="微软雅黑"/>
                    <a:ea typeface="微软雅黑"/>
                  </a:rPr>
                  <a:t>&amp;</a:t>
                </a:r>
                <a:r>
                  <a:rPr b="1" lang="zh-CN" sz="2400" spc="-1" strike="noStrike">
                    <a:solidFill>
                      <a:srgbClr val="824d00"/>
                    </a:solidFill>
                    <a:latin typeface="微软雅黑"/>
                    <a:ea typeface="微软雅黑"/>
                  </a:rPr>
                  <a:t>安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Box 23"/>
            <p:cNvSpPr/>
            <p:nvPr/>
          </p:nvSpPr>
          <p:spPr>
            <a:xfrm>
              <a:off x="2123640" y="102852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28"/>
          <p:cNvGrpSpPr/>
          <p:nvPr/>
        </p:nvGrpSpPr>
        <p:grpSpPr>
          <a:xfrm>
            <a:off x="1908000" y="2139840"/>
            <a:ext cx="4945320" cy="820800"/>
            <a:chOff x="1908000" y="2139840"/>
            <a:chExt cx="4945320" cy="820800"/>
          </a:xfrm>
        </p:grpSpPr>
        <p:grpSp>
          <p:nvGrpSpPr>
            <p:cNvPr id="92" name="组合 19"/>
            <p:cNvGrpSpPr/>
            <p:nvPr/>
          </p:nvGrpSpPr>
          <p:grpSpPr>
            <a:xfrm>
              <a:off x="1908000" y="2139840"/>
              <a:ext cx="4945320" cy="820800"/>
              <a:chOff x="1908000" y="2139840"/>
              <a:chExt cx="4945320" cy="820800"/>
            </a:xfrm>
          </p:grpSpPr>
          <p:pic>
            <p:nvPicPr>
              <p:cNvPr id="93" name="Picture 9" descr="C:\Users\toshiba\Desktop\2条.jpg"/>
              <p:cNvPicPr/>
              <p:nvPr/>
            </p:nvPicPr>
            <p:blipFill>
              <a:blip r:embed="rId3"/>
              <a:stretch/>
            </p:blipFill>
            <p:spPr>
              <a:xfrm>
                <a:off x="1908000" y="2139840"/>
                <a:ext cx="4945320" cy="82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TextBox 15"/>
              <p:cNvSpPr/>
              <p:nvPr/>
            </p:nvSpPr>
            <p:spPr>
              <a:xfrm>
                <a:off x="3652560" y="231912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824d00"/>
                    </a:solidFill>
                    <a:latin typeface="微软雅黑"/>
                    <a:ea typeface="微软雅黑"/>
                  </a:rPr>
                  <a:t>全新视觉体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xtBox 24"/>
            <p:cNvSpPr/>
            <p:nvPr/>
          </p:nvSpPr>
          <p:spPr>
            <a:xfrm>
              <a:off x="2123640" y="225720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29"/>
          <p:cNvGrpSpPr/>
          <p:nvPr/>
        </p:nvGrpSpPr>
        <p:grpSpPr>
          <a:xfrm>
            <a:off x="1908000" y="3336840"/>
            <a:ext cx="4945320" cy="884160"/>
            <a:chOff x="1908000" y="3336840"/>
            <a:chExt cx="4945320" cy="884160"/>
          </a:xfrm>
        </p:grpSpPr>
        <p:grpSp>
          <p:nvGrpSpPr>
            <p:cNvPr id="97" name="组合 20"/>
            <p:cNvGrpSpPr/>
            <p:nvPr/>
          </p:nvGrpSpPr>
          <p:grpSpPr>
            <a:xfrm>
              <a:off x="1908000" y="3336840"/>
              <a:ext cx="4945320" cy="884160"/>
              <a:chOff x="1908000" y="3336840"/>
              <a:chExt cx="4945320" cy="884160"/>
            </a:xfrm>
          </p:grpSpPr>
          <p:pic>
            <p:nvPicPr>
              <p:cNvPr id="98" name="Picture 5" descr="C:\Users\toshiba\Desktop\1条.jpg"/>
              <p:cNvPicPr/>
              <p:nvPr/>
            </p:nvPicPr>
            <p:blipFill>
              <a:blip r:embed="rId4"/>
              <a:stretch/>
            </p:blipFill>
            <p:spPr>
              <a:xfrm>
                <a:off x="1908000" y="3336840"/>
                <a:ext cx="494532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TextBox 16"/>
              <p:cNvSpPr/>
              <p:nvPr/>
            </p:nvSpPr>
            <p:spPr>
              <a:xfrm>
                <a:off x="3839400" y="3573360"/>
                <a:ext cx="182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824d00"/>
                    </a:solidFill>
                    <a:latin typeface="微软雅黑"/>
                    <a:ea typeface="微软雅黑"/>
                  </a:rPr>
                  <a:t>简单的文档创作功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TextBox 25"/>
            <p:cNvSpPr/>
            <p:nvPr/>
          </p:nvSpPr>
          <p:spPr>
            <a:xfrm>
              <a:off x="2123640" y="348588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30"/>
          <p:cNvGrpSpPr/>
          <p:nvPr/>
        </p:nvGrpSpPr>
        <p:grpSpPr>
          <a:xfrm>
            <a:off x="1908000" y="4597560"/>
            <a:ext cx="4945320" cy="804600"/>
            <a:chOff x="1908000" y="4597560"/>
            <a:chExt cx="4945320" cy="804600"/>
          </a:xfrm>
        </p:grpSpPr>
        <p:grpSp>
          <p:nvGrpSpPr>
            <p:cNvPr id="102" name="组合 21"/>
            <p:cNvGrpSpPr/>
            <p:nvPr/>
          </p:nvGrpSpPr>
          <p:grpSpPr>
            <a:xfrm>
              <a:off x="1908000" y="4597560"/>
              <a:ext cx="4945320" cy="804600"/>
              <a:chOff x="1908000" y="4597560"/>
              <a:chExt cx="4945320" cy="804600"/>
            </a:xfrm>
          </p:grpSpPr>
          <p:pic>
            <p:nvPicPr>
              <p:cNvPr id="103" name="Picture 9" descr="C:\Users\toshiba\Desktop\2条.jpg"/>
              <p:cNvPicPr/>
              <p:nvPr/>
            </p:nvPicPr>
            <p:blipFill>
              <a:blip r:embed="rId5"/>
              <a:stretch/>
            </p:blipFill>
            <p:spPr>
              <a:xfrm>
                <a:off x="1908000" y="4597560"/>
                <a:ext cx="4945320" cy="8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TextBox 17"/>
              <p:cNvSpPr/>
              <p:nvPr/>
            </p:nvSpPr>
            <p:spPr>
              <a:xfrm>
                <a:off x="3701160" y="4768920"/>
                <a:ext cx="205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24d00"/>
                    </a:solidFill>
                    <a:latin typeface="微软雅黑"/>
                    <a:ea typeface="微软雅黑"/>
                  </a:rPr>
                  <a:t>100</a:t>
                </a:r>
                <a:r>
                  <a:rPr b="1" lang="zh-CN" sz="2400" spc="-1" strike="noStrike">
                    <a:solidFill>
                      <a:srgbClr val="824d00"/>
                    </a:solidFill>
                    <a:latin typeface="微软雅黑"/>
                    <a:ea typeface="微软雅黑"/>
                  </a:rPr>
                  <a:t>项深度功能改进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Box 26"/>
            <p:cNvSpPr/>
            <p:nvPr/>
          </p:nvSpPr>
          <p:spPr>
            <a:xfrm>
              <a:off x="2123640" y="470844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:\Users\toshiba\Desktop\过渡页 (2).png"/>
          <p:cNvPicPr/>
          <p:nvPr/>
        </p:nvPicPr>
        <p:blipFill>
          <a:blip r:embed="rId2"/>
          <a:stretch/>
        </p:blipFill>
        <p:spPr>
          <a:xfrm>
            <a:off x="539640" y="1341360"/>
            <a:ext cx="3240360" cy="3052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203640" y="2533680"/>
            <a:ext cx="5689440" cy="82512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24d00">
                <a:alpha val="9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ba07"/>
                </a:solidFill>
                <a:latin typeface="Arial"/>
                <a:ea typeface="微软雅黑"/>
              </a:rPr>
              <a:t>1</a:t>
            </a:r>
            <a:r>
              <a:rPr b="1" lang="zh-CN" sz="4800" spc="-1" strike="noStrike">
                <a:solidFill>
                  <a:srgbClr val="f9ba07"/>
                </a:solidFill>
                <a:latin typeface="Arial"/>
                <a:ea typeface="微软雅黑"/>
              </a:rPr>
              <a:t>分钟下载</a:t>
            </a:r>
            <a:r>
              <a:rPr b="1" lang="en-US" sz="4800" spc="-1" strike="noStrike">
                <a:solidFill>
                  <a:srgbClr val="f9ba07"/>
                </a:solidFill>
                <a:latin typeface="Arial"/>
                <a:ea typeface="微软雅黑"/>
              </a:rPr>
              <a:t>&amp;</a:t>
            </a:r>
            <a:r>
              <a:rPr b="1" lang="zh-CN" sz="4800" spc="-1" strike="noStrike">
                <a:solidFill>
                  <a:srgbClr val="f9ba07"/>
                </a:solidFill>
                <a:latin typeface="Arial"/>
                <a:ea typeface="微软雅黑"/>
              </a:rPr>
              <a:t>安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1727280" y="2349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4"/>
          <p:cNvSpPr/>
          <p:nvPr/>
        </p:nvSpPr>
        <p:spPr>
          <a:xfrm>
            <a:off x="1619280" y="1916280"/>
            <a:ext cx="58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24d00"/>
                </a:solidFill>
                <a:latin typeface="微软雅黑"/>
              </a:rPr>
              <a:t>WPS Office 2012</a:t>
            </a:r>
            <a:r>
              <a:rPr b="1" lang="zh-CN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体积超小，几十兆的瘦小身材，</a:t>
            </a:r>
            <a:r>
              <a:rPr b="1" lang="en-US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分钟即可完成下载与安装。还深度兼容微软</a:t>
            </a:r>
            <a:r>
              <a:rPr b="1" lang="en-US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Office </a:t>
            </a:r>
            <a:r>
              <a:rPr b="1" lang="zh-CN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各个版本</a:t>
            </a:r>
            <a:r>
              <a:rPr b="1" lang="en-US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从微软的</a:t>
            </a:r>
            <a:r>
              <a:rPr b="1" lang="en-US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Office 2003</a:t>
            </a:r>
            <a:r>
              <a:rPr b="1" lang="zh-CN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到</a:t>
            </a:r>
            <a:r>
              <a:rPr b="1" lang="en-US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2010)</a:t>
            </a:r>
            <a:r>
              <a:rPr b="1" lang="zh-CN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，与微软</a:t>
            </a:r>
            <a:r>
              <a:rPr b="1" lang="en-US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Office</a:t>
            </a:r>
            <a:r>
              <a:rPr b="1" lang="zh-CN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实现文件读写双向兼容。</a:t>
            </a:r>
            <a:r>
              <a:rPr b="1" lang="en-US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WPS2012</a:t>
            </a:r>
            <a:r>
              <a:rPr b="1" lang="zh-CN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无论是界面风格还是应用习惯都与微软</a:t>
            </a:r>
            <a:r>
              <a:rPr b="1" lang="en-US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Office</a:t>
            </a:r>
            <a:r>
              <a:rPr b="1" lang="zh-CN" sz="2400" spc="-1" strike="noStrike">
                <a:solidFill>
                  <a:srgbClr val="824d00"/>
                </a:solidFill>
                <a:latin typeface="微软雅黑"/>
                <a:ea typeface="微软雅黑"/>
              </a:rPr>
              <a:t>完全兼容，用户无需学习就可直接上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900000" y="600120"/>
            <a:ext cx="5688000" cy="5814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824d00">
                <a:alpha val="9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下载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&amp;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安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611280" y="2604960"/>
            <a:ext cx="5689440" cy="11912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824d00">
                <a:alpha val="9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9ba07"/>
                </a:solidFill>
                <a:latin typeface="Arial"/>
                <a:ea typeface="微软雅黑"/>
              </a:rPr>
              <a:t>Thank You</a:t>
            </a:r>
            <a:r>
              <a:rPr b="1" lang="zh-CN" sz="7200" spc="-1" strike="noStrike">
                <a:solidFill>
                  <a:srgbClr val="f9ba07"/>
                </a:solidFill>
                <a:latin typeface="Arial"/>
                <a:ea typeface="微软雅黑"/>
              </a:rPr>
              <a:t>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:\Users\toshiba\Desktop\结束页 (2).png"/>
          <p:cNvPicPr/>
          <p:nvPr/>
        </p:nvPicPr>
        <p:blipFill>
          <a:blip r:embed="rId2"/>
          <a:stretch/>
        </p:blipFill>
        <p:spPr>
          <a:xfrm>
            <a:off x="6084720" y="1989000"/>
            <a:ext cx="2094120" cy="211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6EB-AD40-4421-8B52-F6C5D8E57D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123</cp:lastModifiedBy>
  <dcterms:modified xsi:type="dcterms:W3CDTF">2015-08-09T01:11:17Z</dcterms:modified>
  <cp:revision>52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