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61E-0AD1-47EB-A24E-778D6741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293-F6C9-41A9-8B87-2DB0A9C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432-2650-4E40-8396-142DFD23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2E3-BC29-48A2-AA4C-052EAEF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10F-C356-4DB7-A22B-C5CAC57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0A8-B8F4-4178-A4E4-E25BA7C8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62DC-E804-470B-8219-FE6E5BA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C2E8-659B-4B3B-993B-09913FF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76E-8370-4083-9157-7EA2F22F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3E9-93FF-4EF9-8DAE-78D18C3D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B50-693B-4DAA-9095-EE13DD7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856-81BB-44E0-AE96-B7DB2542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3FD-DCCF-4810-B977-7B67662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3500-7520-4F50-ADD5-61F6FF0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902-7A27-416F-8286-882867DB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8697-D46A-484E-A15B-AB0E51C3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4DBB-C30C-4799-96ED-966E7321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969-12CE-4A6C-BFBE-96136F36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6FF-C561-4BD8-BECE-62702D2C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ABE-5ED9-4742-BBE0-999374C7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E5F-CB07-484D-8AE8-AA00AFE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718-D794-4592-8C54-C9E33AA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F88-0B2D-4BE3-BCB3-A327A4A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3FC-DBBA-46BE-A922-2750CFF5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3F56-83AF-44F4-94E6-E1221BB7B48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C86D-BC68-4E93-A843-820C3D943D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50864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WPS </a:t>
            </a:r>
            <a:r>
              <a:rPr b="0" i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22440" y="557388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你的办公助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/>
          <p:nvPr/>
        </p:nvCxnSpPr>
        <p:spPr>
          <a:xfrm>
            <a:off x="283680" y="5725800"/>
            <a:ext cx="2127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H="1" flipV="1" rot="10800000">
            <a:off x="7956360" y="188640"/>
            <a:ext cx="865800" cy="361080"/>
          </a:xfrm>
          <a:prstGeom prst="bentConnector3">
            <a:avLst>
              <a:gd name="adj1" fmla="val -8277"/>
            </a:avLst>
          </a:prstGeom>
          <a:ln w="9360">
            <a:solidFill>
              <a:srgbClr val="907a8f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7956720" y="24444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7a8f"/>
                </a:solidFill>
                <a:latin typeface="Arial"/>
                <a:ea typeface="方正细倩简体"/>
              </a:rPr>
              <a:t>女性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4600" y="27097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准圆简体"/>
              </a:rPr>
              <a:t>浪漫女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方正准圆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准圆简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8840" y="306864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1320" y="348444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139920"/>
            <a:ext cx="160200" cy="160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440" y="3533760"/>
            <a:ext cx="160200" cy="15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3240" y="3916440"/>
            <a:ext cx="160560" cy="16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313000"/>
            <a:ext cx="4176720" cy="360360"/>
          </a:xfrm>
          <a:prstGeom prst="rect">
            <a:avLst/>
          </a:prstGeom>
          <a:solidFill>
            <a:srgbClr val="90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7600" y="350532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特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8520" y="391644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新增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79720" y="249228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工作平台实现个性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859120"/>
            <a:ext cx="49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ork platform for the realization of personalized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/>
          <p:nvPr/>
        </p:nvCxnSpPr>
        <p:spPr>
          <a:xfrm>
            <a:off x="3060720" y="2276280"/>
            <a:ext cx="5493600" cy="1080"/>
          </a:xfrm>
          <a:prstGeom prst="straightConnector1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631960" y="372744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爱不释手的文字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1080" y="3998880"/>
            <a:ext cx="49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Put the tex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箭头 128"/>
          <p:cNvSpPr/>
          <p:nvPr/>
        </p:nvSpPr>
        <p:spPr>
          <a:xfrm>
            <a:off x="108000" y="4654440"/>
            <a:ext cx="4824360" cy="0"/>
          </a:xfrm>
          <a:prstGeom prst="line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" name=""/>
          <p:cNvCxnSpPr/>
          <p:nvPr/>
        </p:nvCxnSpPr>
        <p:spPr>
          <a:xfrm>
            <a:off x="324000" y="907560"/>
            <a:ext cx="5040720" cy="367560"/>
          </a:xfrm>
          <a:prstGeom prst="bentConnector3">
            <a:avLst>
              <a:gd name="adj1" fmla="val 35790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348280" y="9079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Office 2012</a:t>
            </a: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专业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4560" y="1784520"/>
            <a:ext cx="677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440" y="2927520"/>
            <a:ext cx="677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3876840" y="4460400"/>
            <a:ext cx="5040720" cy="366120"/>
          </a:xfrm>
          <a:prstGeom prst="bentConnector3">
            <a:avLst>
              <a:gd name="adj1" fmla="val 82472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356000" y="4487760"/>
            <a:ext cx="3448080" cy="38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872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50B-EBE7-40AF-9CCE-4BFFAACF7BE1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52240" y="2590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07a8f"/>
                </a:solidFill>
                <a:latin typeface="Arial"/>
                <a:ea typeface="方正细倩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10:4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