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8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545-F5B3-405D-8C39-FAB84F5B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A9F-5D12-405F-A296-2082A6D4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A82-810E-40FC-A4CD-BD68989A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F4D-DB5F-436B-AC92-414B9071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7D7-B655-4ADB-8B26-352E70A3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8B2-A08C-4639-99E0-14D0F17C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28E-F03B-4834-BE9B-73BFAF92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855-F8B9-4D6C-9EEF-8C7B5CB3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97C-205D-4A23-9039-AD31AE33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ACC-147D-4E8C-B7BC-4DD7E03F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7EC-4B93-4E6F-AB45-75209C1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58B-8D7C-4496-8DEC-AE46D846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F26-6708-4E88-8912-C174972CC2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57200" y="1981080"/>
            <a:ext cx="5943600" cy="403884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2" descr="clock"/>
          <p:cNvPicPr/>
          <p:nvPr/>
        </p:nvPicPr>
        <p:blipFill>
          <a:blip r:embed="rId2"/>
          <a:stretch/>
        </p:blipFill>
        <p:spPr>
          <a:xfrm>
            <a:off x="2097000" y="17366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0" descr="tools"/>
          <p:cNvPicPr/>
          <p:nvPr/>
        </p:nvPicPr>
        <p:blipFill>
          <a:blip r:embed="rId3"/>
          <a:stretch/>
        </p:blipFill>
        <p:spPr>
          <a:xfrm>
            <a:off x="768240" y="2567160"/>
            <a:ext cx="822600" cy="169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7" descr="graph"/>
          <p:cNvPicPr/>
          <p:nvPr/>
        </p:nvPicPr>
        <p:blipFill>
          <a:blip r:embed="rId4"/>
          <a:stretch/>
        </p:blipFill>
        <p:spPr>
          <a:xfrm>
            <a:off x="1590840" y="3852720"/>
            <a:ext cx="1244520" cy="20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0" descr="browser"/>
          <p:cNvPicPr/>
          <p:nvPr/>
        </p:nvPicPr>
        <p:blipFill>
          <a:blip r:embed="rId5"/>
          <a:stretch/>
        </p:blipFill>
        <p:spPr>
          <a:xfrm>
            <a:off x="3767040" y="4138560"/>
            <a:ext cx="1322640" cy="264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040" y="404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叶背景论文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4" descr="a18.jpg"/>
          <p:cNvPicPr/>
          <p:nvPr/>
        </p:nvPicPr>
        <p:blipFill>
          <a:blip r:embed="rId1"/>
          <a:stretch/>
        </p:blipFill>
        <p:spPr>
          <a:xfrm>
            <a:off x="-1785960" y="0"/>
            <a:ext cx="18288000" cy="85726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4"/>
          <p:cNvGrpSpPr/>
          <p:nvPr/>
        </p:nvGrpSpPr>
        <p:grpSpPr>
          <a:xfrm>
            <a:off x="2082960" y="3959280"/>
            <a:ext cx="2202840" cy="1523880"/>
            <a:chOff x="2082960" y="3959280"/>
            <a:chExt cx="2202840" cy="1523880"/>
          </a:xfrm>
        </p:grpSpPr>
        <p:sp>
          <p:nvSpPr>
            <p:cNvPr id="50" name="Line 14"/>
            <p:cNvSpPr/>
            <p:nvPr/>
          </p:nvSpPr>
          <p:spPr>
            <a:xfrm>
              <a:off x="3401640" y="3959280"/>
              <a:ext cx="30780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3554280" y="4089600"/>
              <a:ext cx="371160" cy="10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6"/>
            <p:cNvSpPr/>
            <p:nvPr/>
          </p:nvSpPr>
          <p:spPr>
            <a:xfrm>
              <a:off x="3543120" y="4708440"/>
              <a:ext cx="742680" cy="749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0"/>
            <p:cNvSpPr/>
            <p:nvPr/>
          </p:nvSpPr>
          <p:spPr>
            <a:xfrm>
              <a:off x="2619000" y="4381560"/>
              <a:ext cx="448920" cy="144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1"/>
            <p:cNvSpPr/>
            <p:nvPr/>
          </p:nvSpPr>
          <p:spPr>
            <a:xfrm rot="270000">
              <a:off x="2341080" y="5044680"/>
              <a:ext cx="969480" cy="2127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2"/>
            <p:cNvSpPr/>
            <p:nvPr/>
          </p:nvSpPr>
          <p:spPr>
            <a:xfrm flipV="1">
              <a:off x="2449440" y="4708440"/>
              <a:ext cx="49644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3"/>
            <p:cNvSpPr/>
            <p:nvPr/>
          </p:nvSpPr>
          <p:spPr>
            <a:xfrm>
              <a:off x="2830320" y="4498920"/>
              <a:ext cx="36324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4"/>
            <p:cNvSpPr/>
            <p:nvPr/>
          </p:nvSpPr>
          <p:spPr>
            <a:xfrm flipV="1">
              <a:off x="2895480" y="4506480"/>
              <a:ext cx="809280" cy="1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5"/>
            <p:cNvSpPr/>
            <p:nvPr/>
          </p:nvSpPr>
          <p:spPr>
            <a:xfrm flipV="1">
              <a:off x="3190680" y="4557600"/>
              <a:ext cx="5425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39"/>
            <p:cNvSpPr/>
            <p:nvPr/>
          </p:nvSpPr>
          <p:spPr>
            <a:xfrm>
              <a:off x="2082960" y="4734000"/>
              <a:ext cx="742680" cy="74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6"/>
          <p:cNvGrpSpPr/>
          <p:nvPr/>
        </p:nvGrpSpPr>
        <p:grpSpPr>
          <a:xfrm>
            <a:off x="2729160" y="3931920"/>
            <a:ext cx="208800" cy="995760"/>
            <a:chOff x="2729160" y="3931920"/>
            <a:chExt cx="208800" cy="995760"/>
          </a:xfrm>
        </p:grpSpPr>
        <p:sp>
          <p:nvSpPr>
            <p:cNvPr id="61" name="Line 4"/>
            <p:cNvSpPr/>
            <p:nvPr/>
          </p:nvSpPr>
          <p:spPr>
            <a:xfrm>
              <a:off x="2833920" y="4429080"/>
              <a:ext cx="104040" cy="49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2729160" y="3931920"/>
              <a:ext cx="104040" cy="49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2711880" y="4446720"/>
            <a:ext cx="448560" cy="914400"/>
            <a:chOff x="2711880" y="4446720"/>
            <a:chExt cx="448560" cy="914400"/>
          </a:xfrm>
        </p:grpSpPr>
        <p:sp>
          <p:nvSpPr>
            <p:cNvPr id="64" name="Line 8"/>
            <p:cNvSpPr/>
            <p:nvPr/>
          </p:nvSpPr>
          <p:spPr>
            <a:xfrm flipH="1">
              <a:off x="2711880" y="490356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935440" y="444672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8"/>
          <p:cNvGrpSpPr/>
          <p:nvPr/>
        </p:nvGrpSpPr>
        <p:grpSpPr>
          <a:xfrm>
            <a:off x="2830680" y="3537000"/>
            <a:ext cx="685800" cy="882720"/>
            <a:chOff x="2830680" y="3537000"/>
            <a:chExt cx="685800" cy="882720"/>
          </a:xfrm>
        </p:grpSpPr>
        <p:sp>
          <p:nvSpPr>
            <p:cNvPr id="67" name="Line 10"/>
            <p:cNvSpPr/>
            <p:nvPr/>
          </p:nvSpPr>
          <p:spPr>
            <a:xfrm flipV="1">
              <a:off x="2830680" y="3809880"/>
              <a:ext cx="4507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3208680" y="3537000"/>
              <a:ext cx="307800" cy="28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12"/>
          <p:cNvSpPr/>
          <p:nvPr/>
        </p:nvSpPr>
        <p:spPr>
          <a:xfrm>
            <a:off x="3143160" y="3978360"/>
            <a:ext cx="541440" cy="263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3143160" y="3965400"/>
            <a:ext cx="287280" cy="43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6"/>
          <p:cNvGrpSpPr/>
          <p:nvPr/>
        </p:nvGrpSpPr>
        <p:grpSpPr>
          <a:xfrm>
            <a:off x="2730960" y="3933360"/>
            <a:ext cx="208800" cy="996480"/>
            <a:chOff x="2730960" y="3933360"/>
            <a:chExt cx="208800" cy="996480"/>
          </a:xfrm>
        </p:grpSpPr>
        <p:sp>
          <p:nvSpPr>
            <p:cNvPr id="72" name="Line 27"/>
            <p:cNvSpPr/>
            <p:nvPr/>
          </p:nvSpPr>
          <p:spPr>
            <a:xfrm>
              <a:off x="2835720" y="4430880"/>
              <a:ext cx="10404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>
              <a:off x="2730960" y="3933360"/>
              <a:ext cx="104040" cy="49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45"/>
          <p:cNvGrpSpPr/>
          <p:nvPr/>
        </p:nvGrpSpPr>
        <p:grpSpPr>
          <a:xfrm>
            <a:off x="2708640" y="4448160"/>
            <a:ext cx="448560" cy="914400"/>
            <a:chOff x="2708640" y="4448160"/>
            <a:chExt cx="448560" cy="914400"/>
          </a:xfrm>
        </p:grpSpPr>
        <p:sp>
          <p:nvSpPr>
            <p:cNvPr id="75" name="Line 46"/>
            <p:cNvSpPr/>
            <p:nvPr/>
          </p:nvSpPr>
          <p:spPr>
            <a:xfrm flipH="1">
              <a:off x="2708640" y="490500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 flipH="1">
              <a:off x="2932200" y="444816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48"/>
          <p:cNvSpPr/>
          <p:nvPr/>
        </p:nvSpPr>
        <p:spPr>
          <a:xfrm>
            <a:off x="3925800" y="470844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9"/>
          <p:cNvSpPr/>
          <p:nvPr/>
        </p:nvSpPr>
        <p:spPr>
          <a:xfrm>
            <a:off x="3559320" y="5062680"/>
            <a:ext cx="7268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0"/>
          <p:cNvSpPr/>
          <p:nvPr/>
        </p:nvSpPr>
        <p:spPr>
          <a:xfrm>
            <a:off x="2452680" y="47293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1"/>
          <p:cNvSpPr/>
          <p:nvPr/>
        </p:nvSpPr>
        <p:spPr>
          <a:xfrm>
            <a:off x="2082960" y="5083200"/>
            <a:ext cx="7477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2"/>
          <p:cNvSpPr/>
          <p:nvPr/>
        </p:nvSpPr>
        <p:spPr>
          <a:xfrm>
            <a:off x="0" y="5632560"/>
            <a:ext cx="997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5"/>
          <p:cNvSpPr/>
          <p:nvPr/>
        </p:nvSpPr>
        <p:spPr>
          <a:xfrm>
            <a:off x="0" y="7858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走着以为是终点的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199880">
                                      <p:cBhvr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-3899880">
                                      <p:cBhvr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-4199880">
                                      <p:cBhvr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autoRev="1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-3899880">
                                      <p:cBhvr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-0.14699 L -0.64566 -0.14699 E">
                                      <p:cBhvr>
                                        <p:cTn id="6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" descr="f7a1de6200ed2a0921abc9a7c88267c5.gif"/>
          <p:cNvPicPr/>
          <p:nvPr/>
        </p:nvPicPr>
        <p:blipFill>
          <a:blip r:embed="rId2"/>
          <a:stretch/>
        </p:blipFill>
        <p:spPr>
          <a:xfrm>
            <a:off x="0" y="242892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84" name="云形 3"/>
          <p:cNvSpPr/>
          <p:nvPr/>
        </p:nvSpPr>
        <p:spPr>
          <a:xfrm>
            <a:off x="2643120" y="3286080"/>
            <a:ext cx="4429080" cy="1214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214800" y="350028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身边的人们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每一个终点里都是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0CD-D2D4-4624-BE72-F25C9BEF16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2010153163138632.gif"/>
          <p:cNvPicPr/>
          <p:nvPr/>
        </p:nvPicPr>
        <p:blipFill>
          <a:blip r:embed="rId1"/>
          <a:stretch/>
        </p:blipFill>
        <p:spPr>
          <a:xfrm>
            <a:off x="0" y="-1071720"/>
            <a:ext cx="9144000" cy="7572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1571760" y="3571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希望能在终点里停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214280" y="200016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但 我 的 步 伐 终 究 没 有 停 下   </a:t>
            </a:r>
            <a:r>
              <a:rPr b="0" lang="en-US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143000" y="4071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  仍  然  迷  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3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35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350"/>
                            </p:stCondLst>
                            <p:childTnLst>
                              <p:par>
                                <p:cTn id="107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350"/>
                            </p:stCondLst>
                            <p:childTnLst>
                              <p:par>
                                <p:cTn id="1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8950"/>
                            </p:stCondLst>
                            <p:childTnLst>
                              <p:par>
                                <p:cTn id="119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2:14:55Z</dcterms:created>
  <dc:creator>pc</dc:creator>
  <dc:description/>
  <dc:language>en-US</dc:language>
  <cp:lastModifiedBy>黄炜炜</cp:lastModifiedBy>
  <dcterms:modified xsi:type="dcterms:W3CDTF">2015-08-09T01:11:24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