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F13-3FF9-46F1-B753-0EF42459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533-2B53-4953-BB46-943282E7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A85-5933-4335-A518-8FBCB859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279-8BBD-4DE0-9455-EFE870E1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0F1-2DF9-4AC7-BDC1-398A2BC6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10C-7A4E-483B-A90C-2AD85D39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3D7-30D6-4B3A-B3AA-3A53BBCE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DA9-82A0-41EC-825E-3DC38F70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01C-0490-427E-8C04-526DEBAB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6CC-5447-4CE1-ACE9-B519E463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369-EDE0-4598-B73D-6DEE2AAF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10E-07AD-4B9F-8377-2BBB3012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5690-EA3B-491D-99B1-79067D1EC72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BCBC-5092-4C17-A8CD-227AB06A788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内容占位符 3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83760" y="33336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马年吉祥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071720" y="7858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194076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3155760" y="324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365508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214200" y="2286000"/>
            <a:ext cx="85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226680" y="1500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329796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337104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272664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265500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85840" y="2255760"/>
            <a:ext cx="85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512080" y="1428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90792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"/>
          <p:cNvSpPr/>
          <p:nvPr/>
        </p:nvSpPr>
        <p:spPr>
          <a:xfrm>
            <a:off x="6357960" y="2714760"/>
            <a:ext cx="42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4214880" y="2857680"/>
            <a:ext cx="57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14200" y="2286000"/>
            <a:ext cx="57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786040" y="285768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4"/>
          <p:cNvSpPr/>
          <p:nvPr/>
        </p:nvSpPr>
        <p:spPr>
          <a:xfrm>
            <a:off x="272664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14200" y="2214720"/>
            <a:ext cx="57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401220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627-08E2-4C43-9DCD-9701AE3E57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5012640" y="5214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"/>
          <p:cNvSpPr/>
          <p:nvPr/>
        </p:nvSpPr>
        <p:spPr>
          <a:xfrm>
            <a:off x="358380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214200" y="2214720"/>
            <a:ext cx="7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144072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144072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358380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1226160" y="5357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123</cp:lastModifiedBy>
  <dcterms:modified xsi:type="dcterms:W3CDTF">2015-08-09T01:11:59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