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971-3B82-42C1-87FD-860E59DD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086-06D8-4BAF-91F1-38CA17E4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273-4744-4D3B-B3D9-E1800C9F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4F6-7E07-418F-A9D8-34DFF642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76D8-3B85-44C6-AEEA-C5CB5875E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0773-AB7A-4939-A20F-596476E2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9BB0-C566-4140-921B-11B98279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6FB7-D094-4A36-AC76-88BD2E13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89BF-FE16-4FA6-9C2D-9CC4D64F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B62C-C9FC-4223-813B-417B86CF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C39E-B698-4F02-9A88-BED7CC1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4E6E-7C95-4BAB-96BE-80884DC3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922C-EBE0-4BCC-8FF1-48D432AA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BFCC-B25A-4553-B4C3-8F059ADE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CD3-0EDA-4715-B9F0-CC69003B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3D6F-66D4-42BA-A556-8BBD7242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820B-B939-49FD-98BF-A8F0626DE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EAF-A9A9-43A9-B0D3-0F5739BD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56D7-97E3-4C24-B74F-AFA1C4DB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0D0-873F-42F8-8E67-38F7F68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38B-07B5-4700-9D83-1DA9336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DDB0-67DF-48A8-A0F7-816BDC33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C47F-F0AC-4B02-B95D-C477F1A7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BBA-31F8-4276-8484-7F43818E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F34-A249-49A5-A1E3-BA5C6787091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FD26-4DF4-4A29-8C39-BE83BA669B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 rot="21232200">
            <a:off x="443880" y="723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=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度假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 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 rot="21232200">
            <a:off x="443880" y="72396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=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度假</a:t>
            </a:r>
            <a:r>
              <a:rPr b="1" lang="en-US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 </a:t>
            </a: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 rot="316800">
            <a:off x="440280" y="1379520"/>
            <a:ext cx="88394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快乐的工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Kozuka Gothic Pr6N EL"/>
                <a:ea typeface="Kozuka Gothic Pr6N EL"/>
              </a:rPr>
              <a:t>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 rot="21157200">
            <a:off x="3080880" y="3366720"/>
            <a:ext cx="56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040"/>
                </a:solidFill>
                <a:latin typeface="华文琥珀"/>
                <a:ea typeface="华文琥珀"/>
              </a:rPr>
              <a:t>做一个工作像度假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3456000" y="54936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Adobe Gothic Std B"/>
                <a:ea typeface="Adobe Gothic Std B"/>
              </a:rPr>
              <a:t>NO</a:t>
            </a:r>
            <a:r>
              <a:rPr b="0" lang="zh-CN" sz="4000" spc="-1" strike="noStrike">
                <a:solidFill>
                  <a:srgbClr val="404040"/>
                </a:solidFill>
                <a:latin typeface="Kozuka Gothic Pro B"/>
                <a:ea typeface="Kozuka Gothic Pro B"/>
              </a:rPr>
              <a:t>抱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692600" y="1614600"/>
            <a:ext cx="405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404040"/>
                </a:solidFill>
                <a:latin typeface="Kozuka Gothic Pr6N EL"/>
                <a:ea typeface="Kozuka Gothic Pr6N EL"/>
              </a:rPr>
              <a:t>Let’s g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179280" y="4215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成就感——忘记工作的抱怨</a:t>
            </a:r>
            <a:r>
              <a:rPr b="1" lang="zh-CN" sz="40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997000" y="1989000"/>
            <a:ext cx="479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那种感觉绝对比度假要舒服</a:t>
            </a:r>
            <a:r>
              <a:rPr b="1" lang="en-US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N</a:t>
            </a:r>
            <a:r>
              <a:rPr b="1" lang="zh-CN" sz="4000" spc="-1" strike="noStrike">
                <a:solidFill>
                  <a:srgbClr val="404040"/>
                </a:solidFill>
                <a:latin typeface="方正姚体"/>
                <a:ea typeface="方正姚体"/>
              </a:rPr>
              <a:t>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066-69F7-44B2-80AC-EEEB97A5DD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3492360" y="6251400"/>
            <a:ext cx="62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be or not to be, to do or </a:t>
            </a: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不想</a:t>
            </a:r>
            <a:r>
              <a:rPr b="0" lang="en-US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do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 rot="915600">
            <a:off x="2017440" y="2336760"/>
            <a:ext cx="566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04040"/>
                </a:solidFill>
                <a:latin typeface="方正姚体"/>
                <a:ea typeface="方正姚体"/>
              </a:rPr>
              <a:t>你的工作像度假吗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微软用户</cp:lastModifiedBy>
  <dcterms:modified xsi:type="dcterms:W3CDTF">2015-08-09T01:09:02Z</dcterms:modified>
  <cp:revision>18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