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4E4-4277-43B0-9FFC-182EE047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467-25F9-41B0-AD1A-766F8784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522-6D78-45F4-A0DE-1D78439D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8CA-B91D-400E-B56D-FA6CC36D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29A7-B4CD-44F4-840D-8D8CE290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5CDB-2A9F-4214-946A-0DBAC48F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C08D-52C4-430B-B432-9CB58262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205D-89B3-4797-B726-8F24D5D0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BEA9-42D4-46D3-B544-1F84751D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B457-58C8-4EA9-A8C0-DEE021F6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967F-A62B-46E4-90F3-149A08E0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786-31CE-47E7-A468-B9030287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07AB-4E5A-4A2D-8B39-11DD7D69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8C55-03D1-454C-8FA0-F84551BF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08BC-3456-46DF-86A3-F07A3E9B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FE3C-8C65-4D80-A606-A05F6106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9BC6-3A7C-48E1-9578-0292830C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3E5-3375-448F-B379-E469D009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F4E-38D4-42AF-97A7-BA25EBDC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CF3-B067-4557-B5B0-764BBE25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8BB-A006-4A70-8983-BF12F32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688-444A-48AB-AB0E-2B4783C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CDB-66A2-460B-9F01-DC631E85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BB8-F71D-48A7-A134-A910869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E962-05B0-4CC3-9871-49390D7262BC}" type="slidenum">
              <a:rPr b="0" lang="zh-CN" sz="1200" spc="-1" strike="noStrike">
                <a:solidFill>
                  <a:srgbClr val="ff38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88920" y="549360"/>
            <a:ext cx="8947080" cy="93492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A0F8-BE68-434E-A740-9A70EF94A712}" type="slidenum">
              <a:rPr b="0" lang="zh-CN" sz="1200" spc="-1" strike="noStrike">
                <a:solidFill>
                  <a:srgbClr val="ff38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179280" y="5013360"/>
            <a:ext cx="8837640" cy="129528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 rot="1248600">
            <a:off x="1623600" y="50760"/>
            <a:ext cx="5694480" cy="4718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6175440" y="3645000"/>
            <a:ext cx="278928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127080" y="3645000"/>
            <a:ext cx="2573280" cy="1179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395280" y="5229360"/>
            <a:ext cx="81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述职报告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8241-1232-4D09-B6F0-D74339A873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4"/>
          <p:cNvSpPr/>
          <p:nvPr/>
        </p:nvSpPr>
        <p:spPr>
          <a:xfrm>
            <a:off x="3166920" y="4638600"/>
            <a:ext cx="28101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615636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17928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C:\Documents and Settings\Administrator\桌面\锐\2012年新年素材\龙4\6090.jpg"/>
          <p:cNvPicPr/>
          <p:nvPr/>
        </p:nvPicPr>
        <p:blipFill>
          <a:blip r:embed="rId1"/>
          <a:stretch/>
        </p:blipFill>
        <p:spPr>
          <a:xfrm>
            <a:off x="6300720" y="4724280"/>
            <a:ext cx="2519280" cy="1527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2"/>
          <a:stretch/>
        </p:blipFill>
        <p:spPr>
          <a:xfrm>
            <a:off x="2664000" y="3429000"/>
            <a:ext cx="3995640" cy="367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250920" y="4840200"/>
            <a:ext cx="2665440" cy="1160640"/>
          </a:xfrm>
          <a:prstGeom prst="rect">
            <a:avLst/>
          </a:prstGeom>
          <a:ln w="0">
            <a:noFill/>
          </a:ln>
        </p:spPr>
      </p:pic>
      <p:sp>
        <p:nvSpPr>
          <p:cNvPr id="166" name="矩形 28"/>
          <p:cNvSpPr/>
          <p:nvPr/>
        </p:nvSpPr>
        <p:spPr>
          <a:xfrm>
            <a:off x="88920" y="549360"/>
            <a:ext cx="8947080" cy="367164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9"/>
          <p:cNvSpPr/>
          <p:nvPr/>
        </p:nvSpPr>
        <p:spPr>
          <a:xfrm>
            <a:off x="971640" y="21495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,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飞龙崛起 再创佳绩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50920" y="5493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示 3" descr=""/>
          <p:cNvPicPr/>
          <p:nvPr/>
        </p:nvPicPr>
        <p:blipFill>
          <a:blip r:embed="rId1"/>
          <a:stretch/>
        </p:blipFill>
        <p:spPr>
          <a:xfrm>
            <a:off x="1316160" y="1835280"/>
            <a:ext cx="61578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示 3" descr=""/>
          <p:cNvPicPr/>
          <p:nvPr/>
        </p:nvPicPr>
        <p:blipFill>
          <a:blip r:embed="rId1"/>
          <a:stretch/>
        </p:blipFill>
        <p:spPr>
          <a:xfrm>
            <a:off x="1427040" y="2048040"/>
            <a:ext cx="5424480" cy="31273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1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108" name="圆角矩形 5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圆角矩形 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110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4"/>
          <p:cNvGrpSpPr/>
          <p:nvPr/>
        </p:nvGrpSpPr>
        <p:grpSpPr>
          <a:xfrm>
            <a:off x="108000" y="1542960"/>
            <a:ext cx="1942920" cy="517680"/>
            <a:chOff x="108000" y="1542960"/>
            <a:chExt cx="1942920" cy="517680"/>
          </a:xfrm>
        </p:grpSpPr>
        <p:sp>
          <p:nvSpPr>
            <p:cNvPr id="113" name="矩形 5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6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Ⅰ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2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117" name="圆角矩形 13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8" name="圆角矩形 1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119" name="圆角矩形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2"/>
          <p:cNvGrpSpPr/>
          <p:nvPr/>
        </p:nvGrpSpPr>
        <p:grpSpPr>
          <a:xfrm>
            <a:off x="108000" y="1542960"/>
            <a:ext cx="1800000" cy="517680"/>
            <a:chOff x="108000" y="1542960"/>
            <a:chExt cx="1800000" cy="517680"/>
          </a:xfrm>
        </p:grpSpPr>
        <p:sp>
          <p:nvSpPr>
            <p:cNvPr id="122" name="矩形 3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4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Ⅱ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效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0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126" name="圆角矩形 11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7" name="圆角矩形 12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128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1"/>
          <p:cNvGrpSpPr/>
          <p:nvPr/>
        </p:nvGrpSpPr>
        <p:grpSpPr>
          <a:xfrm>
            <a:off x="108000" y="1542960"/>
            <a:ext cx="3095640" cy="517680"/>
            <a:chOff x="108000" y="1542960"/>
            <a:chExt cx="3095640" cy="517680"/>
          </a:xfrm>
        </p:grpSpPr>
        <p:sp>
          <p:nvSpPr>
            <p:cNvPr id="131" name="矩形 2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 3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Ⅲ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工作指标达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10"/>
          <p:cNvGrpSpPr/>
          <p:nvPr/>
        </p:nvGrpSpPr>
        <p:grpSpPr>
          <a:xfrm>
            <a:off x="179280" y="657360"/>
            <a:ext cx="1219320" cy="755640"/>
            <a:chOff x="179280" y="657360"/>
            <a:chExt cx="1219320" cy="755640"/>
          </a:xfrm>
        </p:grpSpPr>
        <p:sp>
          <p:nvSpPr>
            <p:cNvPr id="135" name="圆角矩形 11"/>
            <p:cNvSpPr/>
            <p:nvPr/>
          </p:nvSpPr>
          <p:spPr>
            <a:xfrm>
              <a:off x="193680" y="667800"/>
              <a:ext cx="1195560" cy="73188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圆角矩形 12"/>
            <p:cNvGrpSpPr/>
            <p:nvPr/>
          </p:nvGrpSpPr>
          <p:grpSpPr>
            <a:xfrm>
              <a:off x="179280" y="657360"/>
              <a:ext cx="1219320" cy="755640"/>
              <a:chOff x="179280" y="657360"/>
              <a:chExt cx="1219320" cy="755640"/>
            </a:xfrm>
          </p:grpSpPr>
          <p:pic>
            <p:nvPicPr>
              <p:cNvPr id="137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5736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15280" y="68940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403280" y="6332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态度自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圆角矩形 3"/>
          <p:cNvGrpSpPr/>
          <p:nvPr/>
        </p:nvGrpSpPr>
        <p:grpSpPr>
          <a:xfrm>
            <a:off x="165240" y="609480"/>
            <a:ext cx="1242720" cy="781200"/>
            <a:chOff x="165240" y="609480"/>
            <a:chExt cx="1242720" cy="781200"/>
          </a:xfrm>
        </p:grpSpPr>
        <p:pic>
          <p:nvPicPr>
            <p:cNvPr id="14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65240" y="609480"/>
              <a:ext cx="124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01240" y="642960"/>
              <a:ext cx="1174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4000" y="3573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03280" y="620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1"/>
          <p:cNvGrpSpPr/>
          <p:nvPr/>
        </p:nvGrpSpPr>
        <p:grpSpPr>
          <a:xfrm>
            <a:off x="179280" y="620640"/>
            <a:ext cx="1219320" cy="755640"/>
            <a:chOff x="179280" y="620640"/>
            <a:chExt cx="1219320" cy="755640"/>
          </a:xfrm>
        </p:grpSpPr>
        <p:sp>
          <p:nvSpPr>
            <p:cNvPr id="146" name="圆角矩形 3"/>
            <p:cNvSpPr/>
            <p:nvPr/>
          </p:nvSpPr>
          <p:spPr>
            <a:xfrm>
              <a:off x="238680" y="643680"/>
              <a:ext cx="1150560" cy="708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7" name="圆角矩形 2"/>
            <p:cNvGrpSpPr/>
            <p:nvPr/>
          </p:nvGrpSpPr>
          <p:grpSpPr>
            <a:xfrm>
              <a:off x="179280" y="620640"/>
              <a:ext cx="1219320" cy="755640"/>
              <a:chOff x="179280" y="620640"/>
              <a:chExt cx="1219320" cy="755640"/>
            </a:xfrm>
          </p:grpSpPr>
          <p:pic>
            <p:nvPicPr>
              <p:cNvPr id="148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064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215280" y="65268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6"/>
          <p:cNvGrpSpPr/>
          <p:nvPr/>
        </p:nvGrpSpPr>
        <p:grpSpPr>
          <a:xfrm>
            <a:off x="179280" y="620640"/>
            <a:ext cx="1219320" cy="770040"/>
            <a:chOff x="179280" y="620640"/>
            <a:chExt cx="1219320" cy="770040"/>
          </a:xfrm>
        </p:grpSpPr>
        <p:sp>
          <p:nvSpPr>
            <p:cNvPr id="151" name="圆角矩形 2"/>
            <p:cNvSpPr/>
            <p:nvPr/>
          </p:nvSpPr>
          <p:spPr>
            <a:xfrm>
              <a:off x="193680" y="620640"/>
              <a:ext cx="1195560" cy="744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e73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2" name="圆角矩形 1"/>
            <p:cNvGrpSpPr/>
            <p:nvPr/>
          </p:nvGrpSpPr>
          <p:grpSpPr>
            <a:xfrm>
              <a:off x="179280" y="621360"/>
              <a:ext cx="1219320" cy="769320"/>
              <a:chOff x="179280" y="621360"/>
              <a:chExt cx="1219320" cy="769320"/>
            </a:xfrm>
          </p:grpSpPr>
          <p:pic>
            <p:nvPicPr>
              <p:cNvPr id="153" name="圆角矩形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1360"/>
                <a:ext cx="1219320" cy="76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215280" y="655560"/>
                <a:ext cx="11520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5" name="矩形 3"/>
          <p:cNvSpPr/>
          <p:nvPr/>
        </p:nvSpPr>
        <p:spPr>
          <a:xfrm>
            <a:off x="1403280" y="6206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续工作设想及改善计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1424160" y="24210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3:33:56Z</dcterms:created>
  <dc:creator>冯凯欣</dc:creator>
  <dc:description/>
  <dc:language>en-US</dc:language>
  <cp:lastModifiedBy>冯凯欣</cp:lastModifiedBy>
  <dcterms:modified xsi:type="dcterms:W3CDTF">2015-08-09T01:10:10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