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A40-2335-4332-BAA3-DBEE5A99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EB1-A5F8-462A-8ECD-09A58E63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5F7-6A23-485D-98B8-CFCD6788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927-6E4E-4834-ACFD-D912E1FA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67E-4B9D-41B4-8A18-7D524337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B68-77FE-41E1-B690-FD251EFF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7DE-7C47-4CBF-A148-E9F702BF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939-7527-4989-8B62-9041D117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DD8-0C5D-4B22-8F48-D128EDC4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239-5581-4BE1-AFA4-34BC1AFF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959-72A2-4A27-8A4A-351FA8F3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E3C-9FFF-442C-9D30-B91F55E6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EC0C-92EB-4ADA-8439-AA296BB49B3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F1E4-8E1D-45FB-8982-95DA974A4E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4605480" y="12733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4419720" y="4529160"/>
            <a:ext cx="873000" cy="1160280"/>
          </a:xfrm>
          <a:prstGeom prst="rect">
            <a:avLst/>
          </a:prstGeom>
          <a:ln w="0">
            <a:noFill/>
          </a:ln>
        </p:spPr>
      </p:pic>
      <p:pic>
        <p:nvPicPr>
          <p:cNvPr id="43" name="Halo Remember.wma" descr=""/>
          <p:cNvPicPr/>
          <p:nvPr/>
        </p:nvPicPr>
        <p:blipFill>
          <a:blip r:embed="rId2"/>
          <a:stretch/>
        </p:blipFill>
        <p:spPr>
          <a:xfrm>
            <a:off x="4130640" y="-81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20760" y="9208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度总结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5338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5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3.21865E-006 C 0.00937 -0.00805 0.04514 -0.09629 0.05677 -0.09629 C 0.1302 -0.09629 0.18715 -0.03469 0.18715 0.09017 C 0.18715 0.02719 0.23316 -0.1035 0.26892 -0.1035 C 0.30659 -0.1035 0.3493 -0.01055 0.3493 0.05161 C 0.3493 0.02053 0.43038 -0.15178 0.4493 -0.15178 C 0.46823 -0.15178 0.56284 0.0147 0.56284 0.04661 E">
                                      <p:cBhvr>
                                        <p:cTn id="33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4"/>
          <p:cNvSpPr/>
          <p:nvPr/>
        </p:nvSpPr>
        <p:spPr>
          <a:xfrm>
            <a:off x="3276720" y="712800"/>
            <a:ext cx="5543280" cy="480852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345960" y="1346040"/>
            <a:ext cx="2714760" cy="237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-2698920" y="1308240"/>
            <a:ext cx="2708280" cy="3638520"/>
          </a:xfrm>
          <a:prstGeom prst="rect">
            <a:avLst/>
          </a:prstGeom>
          <a:ln w="0">
            <a:noFill/>
          </a:ln>
        </p:spPr>
      </p:pic>
      <p:sp>
        <p:nvSpPr>
          <p:cNvPr id="208" name="矩形 8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展望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4230720" y="84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在新的一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5"/>
          <p:cNvSpPr/>
          <p:nvPr/>
        </p:nvSpPr>
        <p:spPr>
          <a:xfrm>
            <a:off x="3564000" y="4441680"/>
            <a:ext cx="482436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6"/>
          <p:cNvSpPr/>
          <p:nvPr/>
        </p:nvSpPr>
        <p:spPr>
          <a:xfrm>
            <a:off x="3564000" y="4865760"/>
            <a:ext cx="482436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7"/>
          <p:cNvSpPr/>
          <p:nvPr/>
        </p:nvSpPr>
        <p:spPr>
          <a:xfrm>
            <a:off x="3564000" y="5289480"/>
            <a:ext cx="482436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3564000" y="1488960"/>
            <a:ext cx="4824360" cy="2705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755640" y="2098800"/>
            <a:ext cx="2709720" cy="3638520"/>
          </a:xfrm>
          <a:prstGeom prst="rect">
            <a:avLst/>
          </a:prstGeom>
          <a:ln w="0">
            <a:noFill/>
          </a:ln>
        </p:spPr>
      </p:pic>
      <p:sp>
        <p:nvSpPr>
          <p:cNvPr id="215" name="矩形 31"/>
          <p:cNvSpPr/>
          <p:nvPr/>
        </p:nvSpPr>
        <p:spPr>
          <a:xfrm>
            <a:off x="1364040" y="37940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333 L 0.37778 0.13861 E">
                                      <p:cBhvr>
                                        <p:cTn id="257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00"/>
                            </p:stCondLst>
                            <p:childTnLst>
                              <p:par>
                                <p:cTn id="26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4" dur="1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mph" presetID="32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67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68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70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73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21600000">
                                      <p:cBhvr>
                                        <p:cTn id="2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DF4-90D3-4471-8DE8-17BB18CECE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2916360" y="148896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谢谢大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3854520" y="3433680"/>
            <a:ext cx="1809720" cy="15843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-1101600" y="378468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47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7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8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9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53" name="椭圆 14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711252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56" name="椭圆 17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59" name="椭圆 20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12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093080" y="1606680"/>
            <a:ext cx="503280" cy="642600"/>
            <a:chOff x="7093080" y="1606680"/>
            <a:chExt cx="503280" cy="642600"/>
          </a:xfrm>
        </p:grpSpPr>
        <p:sp>
          <p:nvSpPr>
            <p:cNvPr id="63" name="椭圆 10"/>
            <p:cNvSpPr/>
            <p:nvPr/>
          </p:nvSpPr>
          <p:spPr>
            <a:xfrm>
              <a:off x="7093080" y="1712880"/>
              <a:ext cx="50328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6"/>
            <p:cNvSpPr/>
            <p:nvPr/>
          </p:nvSpPr>
          <p:spPr>
            <a:xfrm>
              <a:off x="7123320" y="1606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324000" y="4433760"/>
            <a:ext cx="871560" cy="116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4211640" y="833400"/>
            <a:ext cx="87300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596E-006 L 0.15573 0.11432 E">
                                      <p:cBhvr>
                                        <p:cTn id="39" dur="8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43199879">
                                      <p:cBhvr>
                                        <p:cTn id="60" dur="1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path" presetID="35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62" dur="1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-0.00035 0.00083 L 0.42482 -0.62847 E">
                                      <p:cBhvr>
                                        <p:cTn id="67" dur="8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100"/>
                            </p:stCondLst>
                            <p:childTnLst>
                              <p:par>
                                <p:cTn id="7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-322200" y="912960"/>
            <a:ext cx="10152000" cy="4105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39640" y="1128600"/>
            <a:ext cx="597708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877080" y="3330720"/>
            <a:ext cx="1828800" cy="1368360"/>
          </a:xfrm>
          <a:prstGeom prst="rect">
            <a:avLst/>
          </a:prstGeom>
          <a:ln w="0">
            <a:noFill/>
          </a:ln>
        </p:spPr>
      </p:pic>
      <p:sp>
        <p:nvSpPr>
          <p:cNvPr id="71" name="矩形 8"/>
          <p:cNvSpPr/>
          <p:nvPr/>
        </p:nvSpPr>
        <p:spPr>
          <a:xfrm>
            <a:off x="906840" y="1254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上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"/>
          <p:cNvSpPr/>
          <p:nvPr/>
        </p:nvSpPr>
        <p:spPr>
          <a:xfrm>
            <a:off x="755640" y="218448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755640" y="2608200"/>
            <a:ext cx="540072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6"/>
          <p:cNvSpPr/>
          <p:nvPr/>
        </p:nvSpPr>
        <p:spPr>
          <a:xfrm>
            <a:off x="755640" y="303228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7"/>
          <p:cNvSpPr/>
          <p:nvPr/>
        </p:nvSpPr>
        <p:spPr>
          <a:xfrm>
            <a:off x="755640" y="34574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8"/>
          <p:cNvSpPr/>
          <p:nvPr/>
        </p:nvSpPr>
        <p:spPr>
          <a:xfrm>
            <a:off x="755640" y="388152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9"/>
          <p:cNvSpPr/>
          <p:nvPr/>
        </p:nvSpPr>
        <p:spPr>
          <a:xfrm>
            <a:off x="755640" y="43052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0"/>
          <p:cNvSpPr/>
          <p:nvPr/>
        </p:nvSpPr>
        <p:spPr>
          <a:xfrm>
            <a:off x="755640" y="472932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4233960" y="4586400"/>
            <a:ext cx="873000" cy="1160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2"/>
          <p:cNvSpPr/>
          <p:nvPr/>
        </p:nvSpPr>
        <p:spPr>
          <a:xfrm>
            <a:off x="945000" y="178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945000" y="221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945000" y="263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4"/>
          <p:cNvSpPr/>
          <p:nvPr/>
        </p:nvSpPr>
        <p:spPr>
          <a:xfrm>
            <a:off x="945000" y="3060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5"/>
          <p:cNvSpPr/>
          <p:nvPr/>
        </p:nvSpPr>
        <p:spPr>
          <a:xfrm>
            <a:off x="945000" y="348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6"/>
          <p:cNvSpPr/>
          <p:nvPr/>
        </p:nvSpPr>
        <p:spPr>
          <a:xfrm>
            <a:off x="945000" y="390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991440" y="4334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89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91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 rot="5400000">
            <a:off x="266760" y="1878840"/>
            <a:ext cx="2662200" cy="188604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843280" y="-596880"/>
            <a:ext cx="5761080" cy="73436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900000" y="458640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2987640" y="1128600"/>
            <a:ext cx="540072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3156120" y="1254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下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9"/>
          <p:cNvSpPr/>
          <p:nvPr/>
        </p:nvSpPr>
        <p:spPr>
          <a:xfrm>
            <a:off x="3203640" y="218448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3203640" y="2608200"/>
            <a:ext cx="487980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1"/>
          <p:cNvSpPr/>
          <p:nvPr/>
        </p:nvSpPr>
        <p:spPr>
          <a:xfrm>
            <a:off x="3203640" y="303228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2"/>
          <p:cNvSpPr/>
          <p:nvPr/>
        </p:nvSpPr>
        <p:spPr>
          <a:xfrm>
            <a:off x="3203640" y="34574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3"/>
          <p:cNvSpPr/>
          <p:nvPr/>
        </p:nvSpPr>
        <p:spPr>
          <a:xfrm>
            <a:off x="3203640" y="388152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4"/>
          <p:cNvSpPr/>
          <p:nvPr/>
        </p:nvSpPr>
        <p:spPr>
          <a:xfrm>
            <a:off x="3203640" y="43052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5"/>
          <p:cNvSpPr/>
          <p:nvPr/>
        </p:nvSpPr>
        <p:spPr>
          <a:xfrm>
            <a:off x="3203640" y="472932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203640" y="178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3203640" y="221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320364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3203640" y="306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3203640" y="3484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203640" y="390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3203640" y="4334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A07-30B4-438B-8A47-763FFF5A657F}" type="slidenum">
              <a:t>4</a:t>
            </a:fld>
          </a:p>
        </p:txBody>
      </p:sp>
    </p:spTree>
  </p:cSld>
  <p:transition spd="med" advTm="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09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1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6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7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8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114" name="椭圆 10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1"/>
            <p:cNvSpPr/>
            <p:nvPr/>
          </p:nvSpPr>
          <p:spPr>
            <a:xfrm>
              <a:off x="711252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17" name="椭圆 13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4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20" name="椭圆 16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7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8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24" name="椭圆 25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26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27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28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29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1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879">
                                      <p:cBhvr>
                                        <p:cTn id="134" dur="1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36" dur="1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7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35"/>
          <p:cNvSpPr/>
          <p:nvPr/>
        </p:nvSpPr>
        <p:spPr>
          <a:xfrm>
            <a:off x="6372360" y="1201680"/>
            <a:ext cx="1079280" cy="503280"/>
          </a:xfrm>
          <a:prstGeom prst="rect">
            <a:avLst/>
          </a:prstGeom>
          <a:solidFill>
            <a:srgbClr val="3f3f3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30"/>
          <p:cNvSpPr/>
          <p:nvPr/>
        </p:nvSpPr>
        <p:spPr>
          <a:xfrm>
            <a:off x="1332000" y="3936960"/>
            <a:ext cx="6191280" cy="180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9"/>
          <p:cNvSpPr/>
          <p:nvPr/>
        </p:nvSpPr>
        <p:spPr>
          <a:xfrm>
            <a:off x="1317600" y="3073320"/>
            <a:ext cx="619272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8"/>
          <p:cNvSpPr/>
          <p:nvPr/>
        </p:nvSpPr>
        <p:spPr>
          <a:xfrm>
            <a:off x="1260360" y="2235240"/>
            <a:ext cx="619128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6"/>
          <p:cNvSpPr/>
          <p:nvPr/>
        </p:nvSpPr>
        <p:spPr>
          <a:xfrm>
            <a:off x="2195640" y="3505320"/>
            <a:ext cx="360360" cy="1368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7"/>
          <p:cNvSpPr/>
          <p:nvPr/>
        </p:nvSpPr>
        <p:spPr>
          <a:xfrm>
            <a:off x="3587760" y="2496960"/>
            <a:ext cx="360360" cy="2376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8"/>
          <p:cNvSpPr/>
          <p:nvPr/>
        </p:nvSpPr>
        <p:spPr>
          <a:xfrm>
            <a:off x="4979880" y="3222720"/>
            <a:ext cx="360360" cy="1646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9"/>
          <p:cNvSpPr/>
          <p:nvPr/>
        </p:nvSpPr>
        <p:spPr>
          <a:xfrm>
            <a:off x="6372360" y="3686040"/>
            <a:ext cx="360360" cy="11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183528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3227400" y="2136600"/>
            <a:ext cx="360360" cy="27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4619520" y="2786040"/>
            <a:ext cx="360360" cy="20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601200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直接箭头连接符 7"/>
          <p:cNvCxnSpPr/>
          <p:nvPr/>
        </p:nvCxnSpPr>
        <p:spPr>
          <a:xfrm>
            <a:off x="1116000" y="4873320"/>
            <a:ext cx="6790320" cy="108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cxnSp>
        <p:nvCxnSpPr>
          <p:cNvPr id="142" name="直接箭头连接符 8"/>
          <p:cNvCxnSpPr/>
          <p:nvPr/>
        </p:nvCxnSpPr>
        <p:spPr>
          <a:xfrm flipV="1">
            <a:off x="1267920" y="1416960"/>
            <a:ext cx="1080" cy="360900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pic>
        <p:nvPicPr>
          <p:cNvPr id="143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0"/>
          <p:cNvSpPr/>
          <p:nvPr/>
        </p:nvSpPr>
        <p:spPr>
          <a:xfrm>
            <a:off x="1993680" y="494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325008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466596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608220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417240" y="2924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10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481680" y="3784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416520" y="20653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1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1"/>
          <p:cNvSpPr/>
          <p:nvPr/>
        </p:nvSpPr>
        <p:spPr>
          <a:xfrm flipV="1">
            <a:off x="6492960" y="1488960"/>
            <a:ext cx="162000" cy="1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2"/>
          <p:cNvSpPr/>
          <p:nvPr/>
        </p:nvSpPr>
        <p:spPr>
          <a:xfrm flipV="1">
            <a:off x="6492960" y="1272600"/>
            <a:ext cx="16200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3"/>
          <p:cNvSpPr/>
          <p:nvPr/>
        </p:nvSpPr>
        <p:spPr>
          <a:xfrm>
            <a:off x="6778440" y="12016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4"/>
          <p:cNvSpPr/>
          <p:nvPr/>
        </p:nvSpPr>
        <p:spPr>
          <a:xfrm>
            <a:off x="6777720" y="14176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5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5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5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61" name="椭圆 12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13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64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68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21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72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174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403-CAAB-46B5-B24C-8E68CB49D086}" type="slidenum">
              <a:t>7</a:t>
            </a:fld>
          </a:p>
        </p:txBody>
      </p:sp>
    </p:spTree>
  </p:cSld>
  <p:transition spd="med"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7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7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7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879">
                                      <p:cBhvr>
                                        <p:cTn id="181" dur="1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83" dur="1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 rot="20470800">
            <a:off x="860400" y="1272960"/>
            <a:ext cx="2987640" cy="248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 rot="2253600">
            <a:off x="5073480" y="1125000"/>
            <a:ext cx="3121200" cy="1997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 rot="19870800">
            <a:off x="3790440" y="2730600"/>
            <a:ext cx="312120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79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250920" y="3289320"/>
            <a:ext cx="1822320" cy="2598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5"/>
          <a:stretch/>
        </p:blipFill>
        <p:spPr>
          <a:xfrm>
            <a:off x="3772080" y="1224000"/>
            <a:ext cx="1800000" cy="180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1" name="TextBox 4"/>
          <p:cNvSpPr/>
          <p:nvPr/>
        </p:nvSpPr>
        <p:spPr>
          <a:xfrm>
            <a:off x="7083720" y="5234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此页可插入各种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0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0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5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52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94040" y="3132000"/>
            <a:ext cx="502920" cy="642600"/>
            <a:chOff x="1994040" y="3132000"/>
            <a:chExt cx="502920" cy="642600"/>
          </a:xfrm>
        </p:grpSpPr>
        <p:sp>
          <p:nvSpPr>
            <p:cNvPr id="189" name="椭圆 12"/>
            <p:cNvSpPr/>
            <p:nvPr/>
          </p:nvSpPr>
          <p:spPr>
            <a:xfrm>
              <a:off x="1994040" y="323784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3"/>
            <p:cNvSpPr/>
            <p:nvPr/>
          </p:nvSpPr>
          <p:spPr>
            <a:xfrm>
              <a:off x="20239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93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矩形 21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301680" y="3936960"/>
            <a:ext cx="1422360" cy="1911240"/>
          </a:xfrm>
          <a:prstGeom prst="rect">
            <a:avLst/>
          </a:prstGeom>
          <a:ln w="0">
            <a:noFill/>
          </a:ln>
        </p:spPr>
      </p:pic>
      <p:sp>
        <p:nvSpPr>
          <p:cNvPr id="197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199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27"/>
          <p:cNvSpPr/>
          <p:nvPr/>
        </p:nvSpPr>
        <p:spPr>
          <a:xfrm>
            <a:off x="4311360" y="391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展望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203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38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9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1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43199879">
                                      <p:cBhvr>
                                        <p:cTn id="246" dur="17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248" dur="1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0:23:16Z</dcterms:created>
  <dc:creator>Administrator</dc:creator>
  <dc:description/>
  <dc:language>en-US</dc:language>
  <cp:lastModifiedBy>Peng Jinfeng</cp:lastModifiedBy>
  <dcterms:modified xsi:type="dcterms:W3CDTF">2015-08-09T01:10:09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