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094-1573-4002-8845-43FDB7CC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C2C0-D9C3-4315-9FD5-31680D6A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8EA-2489-425B-BA71-924A96CA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6513-0A07-4DF3-935A-4117F260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9D2-756B-46E4-84D1-0F3945DE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25D-7FD4-441F-9F85-C442F96E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2BEE-4772-4542-A093-99255EC8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849-E514-4A44-9267-CD1B7DA2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82E-D0AE-4C2C-BF43-B8B35209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CBF-6E7E-4815-81F3-03D35146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C74-8347-43EC-B68B-FD8803DC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6995-0596-4AB4-B00C-CB58D1AA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8BA5-4F95-4734-A904-4ACA56AE85C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9AC4-8210-46AB-8697-5955E5F786D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908000" y="162864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年终述职报告汇报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643200" y="250020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工作总结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 flipV="1">
            <a:off x="3643200" y="2503080"/>
            <a:ext cx="2500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4357800" y="2928960"/>
            <a:ext cx="1428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229788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58320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29804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558396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94084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265500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29812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358380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122616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79816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44072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08368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15520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86972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94108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36916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08368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458388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5C9-085D-4C7C-94EE-8B9E854EFF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44080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265500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458388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36968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PC</cp:lastModifiedBy>
  <dcterms:modified xsi:type="dcterms:W3CDTF">2015-08-09T01:10:15Z</dcterms:modified>
  <cp:revision>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