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B52-1544-4B01-AAE6-821C12CE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E66-8793-4B1F-BA0C-3D701FB3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171-AE23-47A1-9B37-C72FCFC0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B1E-FDF0-4BA4-8672-8838D0A9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63C-AC70-46A0-AD27-83DFE552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6CE-F222-42CE-B5E3-B3355DA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4BC-A2B7-4BD5-8D82-501C6330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D12-CB6A-4262-BFFB-5C32E34A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07A-FE04-4CA8-9B8B-3D809591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D10-92E8-4F68-868E-3221514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05B-7327-44B1-BA9F-A230E62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A54-7727-449E-9B8B-08905C1D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40F8-4CC3-46FF-9A59-BB9BAD26CFC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15ED-4FBB-439C-8F89-5C9F2A38BC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soaphoteldonati-090607202852-phpapp01-slid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55600" y="11736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欧美风卓别林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58770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soaphoteldonati-090607202852-phpapp01-slide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soaphoteldonati-090607202852-phpapp01-slid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soaphoteldonati-090607202852-phpapp01-slide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soaphoteldonati-090607202852-phpapp01-slide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oaphoteldonati-090607202852-phpapp01-slide-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soaphoteldonati-090607202852-phpapp01-slide-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soaphoteldonati-090607202852-phpapp01-slide-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781360"/>
            <a:ext cx="528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soaphoteldonati-090607202852-phpapp01-slide-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F4D-7B5A-4706-8F39-29CD30A7AC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00:53:00Z</dcterms:created>
  <dc:creator>hp</dc:creator>
  <dc:description/>
  <dc:language>en-US</dc:language>
  <cp:lastModifiedBy>微软用户</cp:lastModifiedBy>
  <dcterms:modified xsi:type="dcterms:W3CDTF">2015-08-10T01:34:28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