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287-861B-4514-B4C1-45FF8735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970-28C9-4CD5-9960-4F830284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B64-216C-40EC-8E19-D7C24039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CD1-BDE1-4AB8-828B-675191CE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C65-EF5C-4283-9F60-A8485E9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A63-5E5B-45BB-BB1F-22A6B46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EA6-A12F-45B9-881A-1DB777C9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339-8A20-4D54-8538-C49D4B4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976-E123-4E40-9947-142D8A1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AEE-E0A6-4CF0-824E-D6C0350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82F-7367-4CB8-B38A-E47071D1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AE0-7F38-4BA3-B8A4-BB0C9EF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7588-27E8-4569-9521-4F18F58E76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3040" y="911160"/>
            <a:ext cx="53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欧美企业公司办公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4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22200" y="15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654-7D3F-48AF-AFB1-20ED7AEB2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" descr="6 副本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123</cp:lastModifiedBy>
  <dcterms:modified xsi:type="dcterms:W3CDTF">2015-08-09T01:10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