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77D-CB06-4159-B345-75D7E9B7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3CB-53B5-4800-BBDC-C6420933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80B-3352-47EF-A2B2-1E76AF12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07D-6C3E-42A1-A31C-0EC62DEA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401-E28D-4DBE-9320-728A75D4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0A9-A4BE-4B94-8EC8-5A73DCC7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3E4-C44A-4A58-B03C-68C06A21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215-2251-4F5D-876B-8820EA99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C11-AFEA-4A0B-AC0D-1E5FF313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D64-6E50-41C1-AD66-27843DBD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AC4-62A5-4527-BC0F-B7CC23FF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0B3-BFA9-4C95-BEED-C642D7E8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8426-0480-404F-843D-C4F8A73138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89080" y="98100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情人节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950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CBA-6738-447E-8246-7670AA8EBE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六边形 10"/>
          <p:cNvSpPr/>
          <p:nvPr/>
        </p:nvSpPr>
        <p:spPr>
          <a:xfrm>
            <a:off x="428760" y="1857240"/>
            <a:ext cx="2071440" cy="3214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六边形 11"/>
          <p:cNvSpPr/>
          <p:nvPr/>
        </p:nvSpPr>
        <p:spPr>
          <a:xfrm>
            <a:off x="2500200" y="1857240"/>
            <a:ext cx="2071800" cy="3214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六边形 12"/>
          <p:cNvSpPr/>
          <p:nvPr/>
        </p:nvSpPr>
        <p:spPr>
          <a:xfrm>
            <a:off x="4572000" y="1857240"/>
            <a:ext cx="2071800" cy="3214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六边形 13"/>
          <p:cNvSpPr/>
          <p:nvPr/>
        </p:nvSpPr>
        <p:spPr>
          <a:xfrm>
            <a:off x="6643800" y="1857240"/>
            <a:ext cx="2071440" cy="3214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2"/>
          <p:cNvSpPr/>
          <p:nvPr/>
        </p:nvSpPr>
        <p:spPr>
          <a:xfrm>
            <a:off x="307080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3"/>
          <p:cNvSpPr/>
          <p:nvPr/>
        </p:nvSpPr>
        <p:spPr>
          <a:xfrm>
            <a:off x="7212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5140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925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0"/>
          <p:cNvSpPr/>
          <p:nvPr/>
        </p:nvSpPr>
        <p:spPr>
          <a:xfrm>
            <a:off x="4570920" y="3836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1"/>
          <p:cNvSpPr/>
          <p:nvPr/>
        </p:nvSpPr>
        <p:spPr>
          <a:xfrm>
            <a:off x="4570920" y="2550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2"/>
          <p:cNvSpPr/>
          <p:nvPr/>
        </p:nvSpPr>
        <p:spPr>
          <a:xfrm>
            <a:off x="4570920" y="3181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虚尾箭头 9"/>
          <p:cNvSpPr/>
          <p:nvPr/>
        </p:nvSpPr>
        <p:spPr>
          <a:xfrm>
            <a:off x="3425760" y="1785960"/>
            <a:ext cx="862200" cy="622440"/>
          </a:xfrm>
          <a:custGeom>
            <a:avLst/>
            <a:gdLst/>
            <a:ahLst/>
            <a:rect l="l" t="t" r="r" b="b"/>
            <a:pathLst>
              <a:path w="862013" h="622300">
                <a:moveTo>
                  <a:pt x="0" y="155575"/>
                </a:moveTo>
                <a:lnTo>
                  <a:pt x="19447" y="155575"/>
                </a:lnTo>
                <a:lnTo>
                  <a:pt x="19447" y="466725"/>
                </a:lnTo>
                <a:lnTo>
                  <a:pt x="0" y="466725"/>
                </a:lnTo>
                <a:lnTo>
                  <a:pt x="0" y="155575"/>
                </a:lnTo>
                <a:close/>
                <a:moveTo>
                  <a:pt x="38894" y="155575"/>
                </a:moveTo>
                <a:lnTo>
                  <a:pt x="77788" y="155575"/>
                </a:lnTo>
                <a:lnTo>
                  <a:pt x="77788" y="466725"/>
                </a:lnTo>
                <a:lnTo>
                  <a:pt x="38894" y="466725"/>
                </a:lnTo>
                <a:lnTo>
                  <a:pt x="38894" y="155575"/>
                </a:lnTo>
                <a:close/>
                <a:moveTo>
                  <a:pt x="97234" y="155575"/>
                </a:moveTo>
                <a:lnTo>
                  <a:pt x="550863" y="155575"/>
                </a:lnTo>
                <a:lnTo>
                  <a:pt x="550863" y="0"/>
                </a:lnTo>
                <a:lnTo>
                  <a:pt x="862013" y="311150"/>
                </a:lnTo>
                <a:lnTo>
                  <a:pt x="550863" y="622300"/>
                </a:lnTo>
                <a:lnTo>
                  <a:pt x="550863" y="466725"/>
                </a:lnTo>
                <a:lnTo>
                  <a:pt x="97234" y="466725"/>
                </a:lnTo>
                <a:lnTo>
                  <a:pt x="97234" y="155575"/>
                </a:ln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虚尾箭头 10"/>
          <p:cNvSpPr/>
          <p:nvPr/>
        </p:nvSpPr>
        <p:spPr>
          <a:xfrm>
            <a:off x="3425760" y="2428920"/>
            <a:ext cx="862200" cy="622080"/>
          </a:xfrm>
          <a:custGeom>
            <a:avLst/>
            <a:gdLst/>
            <a:ahLst/>
            <a:rect l="l" t="t" r="r" b="b"/>
            <a:pathLst>
              <a:path w="862013" h="622300">
                <a:moveTo>
                  <a:pt x="0" y="155575"/>
                </a:moveTo>
                <a:lnTo>
                  <a:pt x="19447" y="155575"/>
                </a:lnTo>
                <a:lnTo>
                  <a:pt x="19447" y="466725"/>
                </a:lnTo>
                <a:lnTo>
                  <a:pt x="0" y="466725"/>
                </a:lnTo>
                <a:lnTo>
                  <a:pt x="0" y="155575"/>
                </a:lnTo>
                <a:close/>
                <a:moveTo>
                  <a:pt x="38894" y="155575"/>
                </a:moveTo>
                <a:lnTo>
                  <a:pt x="77788" y="155575"/>
                </a:lnTo>
                <a:lnTo>
                  <a:pt x="77788" y="466725"/>
                </a:lnTo>
                <a:lnTo>
                  <a:pt x="38894" y="466725"/>
                </a:lnTo>
                <a:lnTo>
                  <a:pt x="38894" y="155575"/>
                </a:lnTo>
                <a:close/>
                <a:moveTo>
                  <a:pt x="97234" y="155575"/>
                </a:moveTo>
                <a:lnTo>
                  <a:pt x="550863" y="155575"/>
                </a:lnTo>
                <a:lnTo>
                  <a:pt x="550863" y="0"/>
                </a:lnTo>
                <a:lnTo>
                  <a:pt x="862013" y="311150"/>
                </a:lnTo>
                <a:lnTo>
                  <a:pt x="550863" y="622300"/>
                </a:lnTo>
                <a:lnTo>
                  <a:pt x="550863" y="466725"/>
                </a:lnTo>
                <a:lnTo>
                  <a:pt x="97234" y="466725"/>
                </a:lnTo>
                <a:lnTo>
                  <a:pt x="97234" y="155575"/>
                </a:ln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虚尾箭头 11"/>
          <p:cNvSpPr/>
          <p:nvPr/>
        </p:nvSpPr>
        <p:spPr>
          <a:xfrm>
            <a:off x="3425760" y="3071880"/>
            <a:ext cx="862200" cy="622080"/>
          </a:xfrm>
          <a:custGeom>
            <a:avLst/>
            <a:gdLst/>
            <a:ahLst/>
            <a:rect l="l" t="t" r="r" b="b"/>
            <a:pathLst>
              <a:path w="862013" h="622300">
                <a:moveTo>
                  <a:pt x="0" y="155575"/>
                </a:moveTo>
                <a:lnTo>
                  <a:pt x="19447" y="155575"/>
                </a:lnTo>
                <a:lnTo>
                  <a:pt x="19447" y="466725"/>
                </a:lnTo>
                <a:lnTo>
                  <a:pt x="0" y="466725"/>
                </a:lnTo>
                <a:lnTo>
                  <a:pt x="0" y="155575"/>
                </a:lnTo>
                <a:close/>
                <a:moveTo>
                  <a:pt x="38894" y="155575"/>
                </a:moveTo>
                <a:lnTo>
                  <a:pt x="77788" y="155575"/>
                </a:lnTo>
                <a:lnTo>
                  <a:pt x="77788" y="466725"/>
                </a:lnTo>
                <a:lnTo>
                  <a:pt x="38894" y="466725"/>
                </a:lnTo>
                <a:lnTo>
                  <a:pt x="38894" y="155575"/>
                </a:lnTo>
                <a:close/>
                <a:moveTo>
                  <a:pt x="97234" y="155575"/>
                </a:moveTo>
                <a:lnTo>
                  <a:pt x="550863" y="155575"/>
                </a:lnTo>
                <a:lnTo>
                  <a:pt x="550863" y="0"/>
                </a:lnTo>
                <a:lnTo>
                  <a:pt x="862013" y="311150"/>
                </a:lnTo>
                <a:lnTo>
                  <a:pt x="550863" y="622300"/>
                </a:lnTo>
                <a:lnTo>
                  <a:pt x="550863" y="466725"/>
                </a:lnTo>
                <a:lnTo>
                  <a:pt x="97234" y="466725"/>
                </a:lnTo>
                <a:lnTo>
                  <a:pt x="97234" y="155575"/>
                </a:ln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虚尾箭头 12"/>
          <p:cNvSpPr/>
          <p:nvPr/>
        </p:nvSpPr>
        <p:spPr>
          <a:xfrm>
            <a:off x="3425760" y="3714840"/>
            <a:ext cx="862200" cy="622080"/>
          </a:xfrm>
          <a:custGeom>
            <a:avLst/>
            <a:gdLst/>
            <a:ahLst/>
            <a:rect l="l" t="t" r="r" b="b"/>
            <a:pathLst>
              <a:path w="862013" h="622300">
                <a:moveTo>
                  <a:pt x="0" y="155575"/>
                </a:moveTo>
                <a:lnTo>
                  <a:pt x="19447" y="155575"/>
                </a:lnTo>
                <a:lnTo>
                  <a:pt x="19447" y="466725"/>
                </a:lnTo>
                <a:lnTo>
                  <a:pt x="0" y="466725"/>
                </a:lnTo>
                <a:lnTo>
                  <a:pt x="0" y="155575"/>
                </a:lnTo>
                <a:close/>
                <a:moveTo>
                  <a:pt x="38894" y="155575"/>
                </a:moveTo>
                <a:lnTo>
                  <a:pt x="77788" y="155575"/>
                </a:lnTo>
                <a:lnTo>
                  <a:pt x="77788" y="466725"/>
                </a:lnTo>
                <a:lnTo>
                  <a:pt x="38894" y="466725"/>
                </a:lnTo>
                <a:lnTo>
                  <a:pt x="38894" y="155575"/>
                </a:lnTo>
                <a:close/>
                <a:moveTo>
                  <a:pt x="97234" y="155575"/>
                </a:moveTo>
                <a:lnTo>
                  <a:pt x="550863" y="155575"/>
                </a:lnTo>
                <a:lnTo>
                  <a:pt x="550863" y="0"/>
                </a:lnTo>
                <a:lnTo>
                  <a:pt x="862013" y="311150"/>
                </a:lnTo>
                <a:lnTo>
                  <a:pt x="550863" y="622300"/>
                </a:lnTo>
                <a:lnTo>
                  <a:pt x="550863" y="466725"/>
                </a:lnTo>
                <a:lnTo>
                  <a:pt x="97234" y="466725"/>
                </a:lnTo>
                <a:lnTo>
                  <a:pt x="97234" y="155575"/>
                </a:ln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4570920" y="1895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角三角形 10"/>
          <p:cNvSpPr/>
          <p:nvPr/>
        </p:nvSpPr>
        <p:spPr>
          <a:xfrm rot="2689800">
            <a:off x="896760" y="2190240"/>
            <a:ext cx="1913040" cy="1913040"/>
          </a:xfrm>
          <a:prstGeom prst="rtTriangle">
            <a:avLst/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角三角形 11"/>
          <p:cNvSpPr/>
          <p:nvPr/>
        </p:nvSpPr>
        <p:spPr>
          <a:xfrm flipH="1" flipV="1" rot="2689800">
            <a:off x="896040" y="2190240"/>
            <a:ext cx="1913040" cy="1913400"/>
          </a:xfrm>
          <a:prstGeom prst="rtTriangle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角三角形 12"/>
          <p:cNvSpPr/>
          <p:nvPr/>
        </p:nvSpPr>
        <p:spPr>
          <a:xfrm rot="2689800">
            <a:off x="3683160" y="2190600"/>
            <a:ext cx="1912680" cy="1913040"/>
          </a:xfrm>
          <a:prstGeom prst="rtTriangle">
            <a:avLst/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角三角形 13"/>
          <p:cNvSpPr/>
          <p:nvPr/>
        </p:nvSpPr>
        <p:spPr>
          <a:xfrm flipH="1" flipV="1" rot="2689800">
            <a:off x="3683160" y="2190600"/>
            <a:ext cx="1912680" cy="1912680"/>
          </a:xfrm>
          <a:prstGeom prst="rtTriangle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角三角形 14"/>
          <p:cNvSpPr/>
          <p:nvPr/>
        </p:nvSpPr>
        <p:spPr>
          <a:xfrm rot="2689800">
            <a:off x="6469200" y="2190600"/>
            <a:ext cx="1912680" cy="1913040"/>
          </a:xfrm>
          <a:prstGeom prst="rtTriangle">
            <a:avLst/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角三角形 15"/>
          <p:cNvSpPr/>
          <p:nvPr/>
        </p:nvSpPr>
        <p:spPr>
          <a:xfrm flipH="1" flipV="1" rot="2689800">
            <a:off x="6469200" y="2190600"/>
            <a:ext cx="1912680" cy="1912680"/>
          </a:xfrm>
          <a:prstGeom prst="rtTriangle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1344960" y="299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6988680" y="2927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4131000" y="299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半闭框 10"/>
          <p:cNvSpPr/>
          <p:nvPr/>
        </p:nvSpPr>
        <p:spPr>
          <a:xfrm>
            <a:off x="2830680" y="1143000"/>
            <a:ext cx="2027160" cy="2027160"/>
          </a:xfrm>
          <a:custGeom>
            <a:avLst/>
            <a:gdLst/>
            <a:ahLst/>
            <a:rect l="l" t="t" r="r" b="b"/>
            <a:pathLst>
              <a:path w="2027237" h="2027238">
                <a:moveTo>
                  <a:pt x="0" y="0"/>
                </a:moveTo>
                <a:lnTo>
                  <a:pt x="2027237" y="0"/>
                </a:lnTo>
                <a:lnTo>
                  <a:pt x="1943309" y="83928"/>
                </a:lnTo>
                <a:lnTo>
                  <a:pt x="83928" y="83928"/>
                </a:lnTo>
                <a:lnTo>
                  <a:pt x="83928" y="1943310"/>
                </a:lnTo>
                <a:lnTo>
                  <a:pt x="0" y="2027238"/>
                </a:lnTo>
                <a:lnTo>
                  <a:pt x="0" y="0"/>
                </a:ln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半闭框 11"/>
          <p:cNvSpPr/>
          <p:nvPr/>
        </p:nvSpPr>
        <p:spPr>
          <a:xfrm flipH="1">
            <a:off x="4901400" y="1143000"/>
            <a:ext cx="2027160" cy="2027160"/>
          </a:xfrm>
          <a:custGeom>
            <a:avLst/>
            <a:gdLst/>
            <a:ahLst/>
            <a:rect l="l" t="t" r="r" b="b"/>
            <a:pathLst>
              <a:path w="2027238" h="2027238">
                <a:moveTo>
                  <a:pt x="0" y="0"/>
                </a:moveTo>
                <a:lnTo>
                  <a:pt x="2027238" y="0"/>
                </a:lnTo>
                <a:lnTo>
                  <a:pt x="1943310" y="83928"/>
                </a:lnTo>
                <a:lnTo>
                  <a:pt x="83928" y="83928"/>
                </a:lnTo>
                <a:lnTo>
                  <a:pt x="83928" y="1943310"/>
                </a:lnTo>
                <a:lnTo>
                  <a:pt x="0" y="2027238"/>
                </a:lnTo>
                <a:lnTo>
                  <a:pt x="0" y="0"/>
                </a:ln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半闭框 12"/>
          <p:cNvSpPr/>
          <p:nvPr/>
        </p:nvSpPr>
        <p:spPr>
          <a:xfrm flipV="1">
            <a:off x="4902120" y="1213920"/>
            <a:ext cx="2027160" cy="2027520"/>
          </a:xfrm>
          <a:custGeom>
            <a:avLst/>
            <a:gdLst/>
            <a:ahLst/>
            <a:rect l="l" t="t" r="r" b="b"/>
            <a:pathLst>
              <a:path w="2027238" h="2027237">
                <a:moveTo>
                  <a:pt x="0" y="0"/>
                </a:moveTo>
                <a:lnTo>
                  <a:pt x="2027238" y="0"/>
                </a:lnTo>
                <a:lnTo>
                  <a:pt x="1943310" y="83928"/>
                </a:lnTo>
                <a:lnTo>
                  <a:pt x="83928" y="83928"/>
                </a:lnTo>
                <a:lnTo>
                  <a:pt x="83928" y="1943309"/>
                </a:lnTo>
                <a:lnTo>
                  <a:pt x="0" y="2027237"/>
                </a:lnTo>
                <a:lnTo>
                  <a:pt x="0" y="0"/>
                </a:ln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半闭框 13"/>
          <p:cNvSpPr/>
          <p:nvPr/>
        </p:nvSpPr>
        <p:spPr>
          <a:xfrm flipH="1" flipV="1">
            <a:off x="2829960" y="1214280"/>
            <a:ext cx="2027160" cy="2027520"/>
          </a:xfrm>
          <a:custGeom>
            <a:avLst/>
            <a:gdLst/>
            <a:ahLst/>
            <a:rect l="l" t="t" r="r" b="b"/>
            <a:pathLst>
              <a:path w="2027237" h="2027237">
                <a:moveTo>
                  <a:pt x="0" y="0"/>
                </a:moveTo>
                <a:lnTo>
                  <a:pt x="2027237" y="0"/>
                </a:lnTo>
                <a:lnTo>
                  <a:pt x="1943309" y="83928"/>
                </a:lnTo>
                <a:lnTo>
                  <a:pt x="83928" y="83928"/>
                </a:lnTo>
                <a:lnTo>
                  <a:pt x="83928" y="1943309"/>
                </a:lnTo>
                <a:lnTo>
                  <a:pt x="0" y="2027237"/>
                </a:lnTo>
                <a:lnTo>
                  <a:pt x="0" y="0"/>
                </a:ln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半闭框 14"/>
          <p:cNvSpPr/>
          <p:nvPr/>
        </p:nvSpPr>
        <p:spPr>
          <a:xfrm>
            <a:off x="2830680" y="3286080"/>
            <a:ext cx="2027160" cy="2027160"/>
          </a:xfrm>
          <a:custGeom>
            <a:avLst/>
            <a:gdLst/>
            <a:ahLst/>
            <a:rect l="l" t="t" r="r" b="b"/>
            <a:pathLst>
              <a:path w="2027237" h="2027238">
                <a:moveTo>
                  <a:pt x="0" y="0"/>
                </a:moveTo>
                <a:lnTo>
                  <a:pt x="2027237" y="0"/>
                </a:lnTo>
                <a:lnTo>
                  <a:pt x="1943309" y="83928"/>
                </a:lnTo>
                <a:lnTo>
                  <a:pt x="83928" y="83928"/>
                </a:lnTo>
                <a:lnTo>
                  <a:pt x="83928" y="1943310"/>
                </a:lnTo>
                <a:lnTo>
                  <a:pt x="0" y="2027238"/>
                </a:lnTo>
                <a:lnTo>
                  <a:pt x="0" y="0"/>
                </a:ln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半闭框 15"/>
          <p:cNvSpPr/>
          <p:nvPr/>
        </p:nvSpPr>
        <p:spPr>
          <a:xfrm flipH="1">
            <a:off x="4901400" y="3286080"/>
            <a:ext cx="2027160" cy="2027160"/>
          </a:xfrm>
          <a:custGeom>
            <a:avLst/>
            <a:gdLst/>
            <a:ahLst/>
            <a:rect l="l" t="t" r="r" b="b"/>
            <a:pathLst>
              <a:path w="2027238" h="2027238">
                <a:moveTo>
                  <a:pt x="0" y="0"/>
                </a:moveTo>
                <a:lnTo>
                  <a:pt x="2027238" y="0"/>
                </a:lnTo>
                <a:lnTo>
                  <a:pt x="1943310" y="83928"/>
                </a:lnTo>
                <a:lnTo>
                  <a:pt x="83928" y="83928"/>
                </a:lnTo>
                <a:lnTo>
                  <a:pt x="83928" y="1943310"/>
                </a:lnTo>
                <a:lnTo>
                  <a:pt x="0" y="2027238"/>
                </a:lnTo>
                <a:lnTo>
                  <a:pt x="0" y="0"/>
                </a:ln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半闭框 16"/>
          <p:cNvSpPr/>
          <p:nvPr/>
        </p:nvSpPr>
        <p:spPr>
          <a:xfrm flipV="1">
            <a:off x="4902120" y="3357000"/>
            <a:ext cx="2027160" cy="2027160"/>
          </a:xfrm>
          <a:custGeom>
            <a:avLst/>
            <a:gdLst/>
            <a:ahLst/>
            <a:rect l="l" t="t" r="r" b="b"/>
            <a:pathLst>
              <a:path w="2027238" h="2027237">
                <a:moveTo>
                  <a:pt x="0" y="0"/>
                </a:moveTo>
                <a:lnTo>
                  <a:pt x="2027238" y="0"/>
                </a:lnTo>
                <a:lnTo>
                  <a:pt x="1943310" y="83928"/>
                </a:lnTo>
                <a:lnTo>
                  <a:pt x="83928" y="83928"/>
                </a:lnTo>
                <a:lnTo>
                  <a:pt x="83928" y="1943309"/>
                </a:lnTo>
                <a:lnTo>
                  <a:pt x="0" y="2027237"/>
                </a:lnTo>
                <a:lnTo>
                  <a:pt x="0" y="0"/>
                </a:ln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半闭框 17"/>
          <p:cNvSpPr/>
          <p:nvPr/>
        </p:nvSpPr>
        <p:spPr>
          <a:xfrm flipH="1" flipV="1">
            <a:off x="2829960" y="3357000"/>
            <a:ext cx="2027160" cy="2027160"/>
          </a:xfrm>
          <a:custGeom>
            <a:avLst/>
            <a:gdLst/>
            <a:ahLst/>
            <a:rect l="l" t="t" r="r" b="b"/>
            <a:pathLst>
              <a:path w="2027237" h="2027237">
                <a:moveTo>
                  <a:pt x="0" y="0"/>
                </a:moveTo>
                <a:lnTo>
                  <a:pt x="2027237" y="0"/>
                </a:lnTo>
                <a:lnTo>
                  <a:pt x="1943309" y="83928"/>
                </a:lnTo>
                <a:lnTo>
                  <a:pt x="83928" y="83928"/>
                </a:lnTo>
                <a:lnTo>
                  <a:pt x="83928" y="1943309"/>
                </a:lnTo>
                <a:lnTo>
                  <a:pt x="0" y="2027237"/>
                </a:lnTo>
                <a:lnTo>
                  <a:pt x="0" y="0"/>
                </a:ln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3354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5426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5355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3354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6021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流程图: 终止 13"/>
          <p:cNvSpPr/>
          <p:nvPr/>
        </p:nvSpPr>
        <p:spPr>
          <a:xfrm>
            <a:off x="4119480" y="1571760"/>
            <a:ext cx="2309760" cy="761760"/>
          </a:xfrm>
          <a:prstGeom prst="flowChartTerminator">
            <a:avLst/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流程图: 终止 14"/>
          <p:cNvSpPr/>
          <p:nvPr/>
        </p:nvSpPr>
        <p:spPr>
          <a:xfrm rot="16200000">
            <a:off x="2535840" y="2345400"/>
            <a:ext cx="2309760" cy="762120"/>
          </a:xfrm>
          <a:prstGeom prst="flowChartTerminator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流程图: 终止 15"/>
          <p:cNvSpPr/>
          <p:nvPr/>
        </p:nvSpPr>
        <p:spPr>
          <a:xfrm>
            <a:off x="2928960" y="3809880"/>
            <a:ext cx="2309760" cy="762120"/>
          </a:xfrm>
          <a:prstGeom prst="flowChartTerminator">
            <a:avLst/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流程图: 终止 16"/>
          <p:cNvSpPr/>
          <p:nvPr/>
        </p:nvSpPr>
        <p:spPr>
          <a:xfrm rot="16200000">
            <a:off x="4464720" y="3107160"/>
            <a:ext cx="2309760" cy="762120"/>
          </a:xfrm>
          <a:prstGeom prst="flowChartTerminator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3500280" y="1857240"/>
            <a:ext cx="42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37119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47851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5429160" y="27147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流程图: 手动输入 10"/>
          <p:cNvSpPr/>
          <p:nvPr/>
        </p:nvSpPr>
        <p:spPr>
          <a:xfrm>
            <a:off x="2357280" y="2928960"/>
            <a:ext cx="1214640" cy="1785960"/>
          </a:xfrm>
          <a:prstGeom prst="flowChartManualInput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手动输入 11"/>
          <p:cNvSpPr/>
          <p:nvPr/>
        </p:nvSpPr>
        <p:spPr>
          <a:xfrm>
            <a:off x="4071960" y="2286000"/>
            <a:ext cx="1214280" cy="2357280"/>
          </a:xfrm>
          <a:prstGeom prst="flowChartManualInput">
            <a:avLst/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手动输入 12"/>
          <p:cNvSpPr/>
          <p:nvPr/>
        </p:nvSpPr>
        <p:spPr>
          <a:xfrm>
            <a:off x="5786280" y="1571760"/>
            <a:ext cx="1214640" cy="3071520"/>
          </a:xfrm>
          <a:prstGeom prst="flowChartManualInput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59979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42120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2354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 形 10"/>
          <p:cNvSpPr/>
          <p:nvPr/>
        </p:nvSpPr>
        <p:spPr>
          <a:xfrm>
            <a:off x="2428920" y="1071720"/>
            <a:ext cx="2428920" cy="2428560"/>
          </a:xfrm>
          <a:custGeom>
            <a:avLst/>
            <a:gdLst/>
            <a:ahLst/>
            <a:rect l="l" t="t" r="r" b="b"/>
            <a:pathLst>
              <a:path w="2428875" h="2428875">
                <a:moveTo>
                  <a:pt x="0" y="0"/>
                </a:moveTo>
                <a:lnTo>
                  <a:pt x="1214438" y="0"/>
                </a:lnTo>
                <a:lnTo>
                  <a:pt x="1214438" y="1214438"/>
                </a:lnTo>
                <a:lnTo>
                  <a:pt x="2428875" y="1214438"/>
                </a:lnTo>
                <a:lnTo>
                  <a:pt x="2428875" y="2428875"/>
                </a:lnTo>
                <a:lnTo>
                  <a:pt x="0" y="2428875"/>
                </a:lnTo>
                <a:lnTo>
                  <a:pt x="0" y="0"/>
                </a:ln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 形 11"/>
          <p:cNvSpPr/>
          <p:nvPr/>
        </p:nvSpPr>
        <p:spPr>
          <a:xfrm flipH="1">
            <a:off x="4857120" y="1071720"/>
            <a:ext cx="2428920" cy="2428560"/>
          </a:xfrm>
          <a:custGeom>
            <a:avLst/>
            <a:gdLst/>
            <a:ahLst/>
            <a:rect l="l" t="t" r="r" b="b"/>
            <a:pathLst>
              <a:path w="2428875" h="2428875">
                <a:moveTo>
                  <a:pt x="0" y="0"/>
                </a:moveTo>
                <a:lnTo>
                  <a:pt x="1214438" y="0"/>
                </a:lnTo>
                <a:lnTo>
                  <a:pt x="1214438" y="1214438"/>
                </a:lnTo>
                <a:lnTo>
                  <a:pt x="2428875" y="1214438"/>
                </a:lnTo>
                <a:lnTo>
                  <a:pt x="2428875" y="2428875"/>
                </a:lnTo>
                <a:lnTo>
                  <a:pt x="0" y="2428875"/>
                </a:lnTo>
                <a:lnTo>
                  <a:pt x="0" y="0"/>
                </a:ln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 形 12"/>
          <p:cNvSpPr/>
          <p:nvPr/>
        </p:nvSpPr>
        <p:spPr>
          <a:xfrm flipH="1" flipV="1">
            <a:off x="4857120" y="3499560"/>
            <a:ext cx="2428920" cy="2428920"/>
          </a:xfrm>
          <a:custGeom>
            <a:avLst/>
            <a:gdLst/>
            <a:ahLst/>
            <a:rect l="l" t="t" r="r" b="b"/>
            <a:pathLst>
              <a:path w="2428875" h="2428875">
                <a:moveTo>
                  <a:pt x="0" y="0"/>
                </a:moveTo>
                <a:lnTo>
                  <a:pt x="1214438" y="0"/>
                </a:lnTo>
                <a:lnTo>
                  <a:pt x="1214438" y="1214438"/>
                </a:lnTo>
                <a:lnTo>
                  <a:pt x="2428875" y="1214438"/>
                </a:lnTo>
                <a:lnTo>
                  <a:pt x="2428875" y="2428875"/>
                </a:lnTo>
                <a:lnTo>
                  <a:pt x="0" y="2428875"/>
                </a:lnTo>
                <a:lnTo>
                  <a:pt x="0" y="0"/>
                </a:ln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 形 13"/>
          <p:cNvSpPr/>
          <p:nvPr/>
        </p:nvSpPr>
        <p:spPr>
          <a:xfrm flipV="1">
            <a:off x="2428920" y="3499560"/>
            <a:ext cx="2428920" cy="2428920"/>
          </a:xfrm>
          <a:custGeom>
            <a:avLst/>
            <a:gdLst/>
            <a:ahLst/>
            <a:rect l="l" t="t" r="r" b="b"/>
            <a:pathLst>
              <a:path w="2428875" h="2428875">
                <a:moveTo>
                  <a:pt x="0" y="0"/>
                </a:moveTo>
                <a:lnTo>
                  <a:pt x="1214438" y="0"/>
                </a:lnTo>
                <a:lnTo>
                  <a:pt x="1214438" y="1214438"/>
                </a:lnTo>
                <a:lnTo>
                  <a:pt x="2428875" y="1214438"/>
                </a:lnTo>
                <a:lnTo>
                  <a:pt x="2428875" y="2428875"/>
                </a:lnTo>
                <a:lnTo>
                  <a:pt x="0" y="2428875"/>
                </a:lnTo>
                <a:lnTo>
                  <a:pt x="0" y="0"/>
                </a:ln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3211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55695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4"/>
          <p:cNvSpPr/>
          <p:nvPr/>
        </p:nvSpPr>
        <p:spPr>
          <a:xfrm>
            <a:off x="53550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5"/>
          <p:cNvSpPr/>
          <p:nvPr/>
        </p:nvSpPr>
        <p:spPr>
          <a:xfrm>
            <a:off x="30690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线形标注 2 10"/>
          <p:cNvSpPr/>
          <p:nvPr/>
        </p:nvSpPr>
        <p:spPr>
          <a:xfrm>
            <a:off x="2143080" y="1428840"/>
            <a:ext cx="2500200" cy="167472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6"/>
              <a:gd name="adj5" fmla="val 112500"/>
              <a:gd name="adj6" fmla="val -46666"/>
            </a:avLst>
          </a:prstGeom>
          <a:solidFill>
            <a:srgbClr val="ff9b9b"/>
          </a:solidFill>
          <a:ln w="25560">
            <a:solidFill>
              <a:srgbClr val="ff9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线形标注 2 11"/>
          <p:cNvSpPr/>
          <p:nvPr/>
        </p:nvSpPr>
        <p:spPr>
          <a:xfrm flipV="1">
            <a:off x="2143080" y="3571920"/>
            <a:ext cx="2500200" cy="167472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6"/>
              <a:gd name="adj5" fmla="val 112500"/>
              <a:gd name="adj6" fmla="val -46666"/>
            </a:avLst>
          </a:prstGeom>
          <a:solidFill>
            <a:srgbClr val="f8302f"/>
          </a:solidFill>
          <a:ln w="25560">
            <a:solidFill>
              <a:srgbClr val="f8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5500800" y="1428840"/>
            <a:ext cx="2500200" cy="1714320"/>
          </a:xfrm>
          <a:prstGeom prst="rect">
            <a:avLst/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500800" y="3571920"/>
            <a:ext cx="2500200" cy="1714320"/>
          </a:xfrm>
          <a:prstGeom prst="rect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29977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6355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6283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5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右箭头 14"/>
          <p:cNvSpPr/>
          <p:nvPr/>
        </p:nvSpPr>
        <p:spPr>
          <a:xfrm>
            <a:off x="4964040" y="2000160"/>
            <a:ext cx="322200" cy="31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右箭头 15"/>
          <p:cNvSpPr/>
          <p:nvPr/>
        </p:nvSpPr>
        <p:spPr>
          <a:xfrm>
            <a:off x="5000760" y="4214880"/>
            <a:ext cx="322200" cy="31572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泪滴形 10"/>
          <p:cNvSpPr/>
          <p:nvPr/>
        </p:nvSpPr>
        <p:spPr>
          <a:xfrm>
            <a:off x="1428840" y="207180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1000125"/>
                </a:moveTo>
                <a:cubicBezTo>
                  <a:pt x="0" y="447771"/>
                  <a:pt x="447771" y="0"/>
                  <a:pt x="1000125" y="0"/>
                </a:cubicBezTo>
                <a:lnTo>
                  <a:pt x="2000250" y="0"/>
                </a:lnTo>
                <a:lnTo>
                  <a:pt x="2000250" y="1000125"/>
                </a:lnTo>
                <a:cubicBezTo>
                  <a:pt x="2000250" y="1552479"/>
                  <a:pt x="1552479" y="2000250"/>
                  <a:pt x="1000125" y="2000250"/>
                </a:cubicBezTo>
                <a:cubicBezTo>
                  <a:pt x="447771" y="2000250"/>
                  <a:pt x="0" y="1552479"/>
                  <a:pt x="0" y="1000125"/>
                </a:cubicBez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泪滴形 11"/>
          <p:cNvSpPr/>
          <p:nvPr/>
        </p:nvSpPr>
        <p:spPr>
          <a:xfrm>
            <a:off x="3571920" y="214308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1000125"/>
                </a:moveTo>
                <a:cubicBezTo>
                  <a:pt x="0" y="447771"/>
                  <a:pt x="447771" y="0"/>
                  <a:pt x="1000125" y="0"/>
                </a:cubicBezTo>
                <a:lnTo>
                  <a:pt x="2000250" y="0"/>
                </a:lnTo>
                <a:lnTo>
                  <a:pt x="2000250" y="1000125"/>
                </a:lnTo>
                <a:cubicBezTo>
                  <a:pt x="2000250" y="1552479"/>
                  <a:pt x="1552479" y="2000250"/>
                  <a:pt x="1000125" y="2000250"/>
                </a:cubicBezTo>
                <a:cubicBezTo>
                  <a:pt x="447771" y="2000250"/>
                  <a:pt x="0" y="1552479"/>
                  <a:pt x="0" y="1000125"/>
                </a:cubicBez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泪滴形 12"/>
          <p:cNvSpPr/>
          <p:nvPr/>
        </p:nvSpPr>
        <p:spPr>
          <a:xfrm>
            <a:off x="5929200" y="2143080"/>
            <a:ext cx="200052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1000125"/>
                </a:moveTo>
                <a:cubicBezTo>
                  <a:pt x="0" y="447771"/>
                  <a:pt x="447771" y="0"/>
                  <a:pt x="1000125" y="0"/>
                </a:cubicBezTo>
                <a:lnTo>
                  <a:pt x="2000250" y="0"/>
                </a:lnTo>
                <a:lnTo>
                  <a:pt x="2000250" y="1000125"/>
                </a:lnTo>
                <a:cubicBezTo>
                  <a:pt x="2000250" y="1552479"/>
                  <a:pt x="1552479" y="2000250"/>
                  <a:pt x="1000125" y="2000250"/>
                </a:cubicBezTo>
                <a:cubicBezTo>
                  <a:pt x="447771" y="2000250"/>
                  <a:pt x="0" y="1552479"/>
                  <a:pt x="0" y="1000125"/>
                </a:cubicBez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569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4140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1926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 .</cp:lastModifiedBy>
  <dcterms:modified xsi:type="dcterms:W3CDTF">2015-08-09T01:10:18Z</dcterms:modified>
  <cp:revision>2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