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5A3A-3B63-40EF-A53E-D669CAB5C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1D42-48BB-47C7-B47B-7B16D70F4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E4D4-A5D6-4002-B2FF-0C049F8BC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006D-2471-4DCF-BD03-2970EE57E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1DBAC-D231-4F90-B57A-65040FD7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6B123-2BC8-4563-BB4E-84C85382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D2989-A470-42EA-A750-DF074AA9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C6338-6F59-4043-BF77-21BD8130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36D3B-A6AD-4774-A6E2-4C4177A6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83EC8-B4FE-49EB-B5EC-A57F781E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2B28E-4A04-49C6-BD77-2EB4564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AD8C-29F3-40DF-9883-40168035C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FCF4F-4416-486C-B328-002F5A6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A4848-16AE-4651-B4D8-3AD03476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09C7D-AB9B-4E8F-BC03-8F8EF0C9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F9A51-F3EC-4D8A-9596-A9BA6820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86D98-DA78-4BD4-98EA-425993C2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E67D-59D4-439A-8CA5-FEF485D73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4650-A440-474B-8A67-167218C49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51CC-14F9-4EE8-AD72-7FF279BEF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B4D7-01E1-4FB4-B56A-16F135BAE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95D1-EA38-4CF3-B3EB-5C483265F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10F7-6653-433F-9A56-3D6509CC5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4AEA-9A7B-4F9A-9275-045365DE6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684360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50000">
                <a:srgbClr val="bad16f"/>
              </a:gs>
              <a:gs pos="100000">
                <a:srgbClr val="f2ef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AutoShape 154"/>
          <p:cNvSpPr/>
          <p:nvPr/>
        </p:nvSpPr>
        <p:spPr>
          <a:xfrm>
            <a:off x="334800" y="971640"/>
            <a:ext cx="8496360" cy="5449680"/>
          </a:xfrm>
          <a:prstGeom prst="roundRect">
            <a:avLst>
              <a:gd name="adj" fmla="val 3352"/>
            </a:avLst>
          </a:prstGeom>
          <a:solidFill>
            <a:srgbClr val="ffffff"/>
          </a:solidFill>
          <a:ln w="0">
            <a:noFill/>
          </a:ln>
          <a:effectLst>
            <a:outerShdw dist="25560" dir="16200000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2ef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426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07800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1799-DD08-4BC4-ADF6-4415EA609B45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55"/>
          <p:cNvSpPr/>
          <p:nvPr/>
        </p:nvSpPr>
        <p:spPr>
          <a:xfrm>
            <a:off x="338040" y="958680"/>
            <a:ext cx="8496360" cy="5457960"/>
          </a:xfrm>
          <a:prstGeom prst="roundRect">
            <a:avLst>
              <a:gd name="adj" fmla="val 2940"/>
            </a:avLst>
          </a:prstGeom>
          <a:noFill/>
          <a:ln w="9360">
            <a:solidFill>
              <a:srgbClr val="5078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7" name="Group 34"/>
          <p:cNvGrpSpPr/>
          <p:nvPr/>
        </p:nvGrpSpPr>
        <p:grpSpPr>
          <a:xfrm>
            <a:off x="8311680" y="4871880"/>
            <a:ext cx="703080" cy="1771920"/>
            <a:chOff x="8311680" y="4871880"/>
            <a:chExt cx="703080" cy="1771920"/>
          </a:xfrm>
        </p:grpSpPr>
        <p:grpSp>
          <p:nvGrpSpPr>
            <p:cNvPr id="8" name="Group 35"/>
            <p:cNvGrpSpPr/>
            <p:nvPr/>
          </p:nvGrpSpPr>
          <p:grpSpPr>
            <a:xfrm>
              <a:off x="8322840" y="4875480"/>
              <a:ext cx="691920" cy="1758240"/>
              <a:chOff x="8322840" y="4875480"/>
              <a:chExt cx="691920" cy="1758240"/>
            </a:xfrm>
          </p:grpSpPr>
          <p:sp>
            <p:nvSpPr>
              <p:cNvPr id="9" name="AutoShape 36"/>
              <p:cNvSpPr/>
              <p:nvPr/>
            </p:nvSpPr>
            <p:spPr>
              <a:xfrm flipH="1">
                <a:off x="8322480" y="6213600"/>
                <a:ext cx="276120" cy="13788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" name="Freeform 37"/>
              <p:cNvSpPr/>
              <p:nvPr/>
            </p:nvSpPr>
            <p:spPr>
              <a:xfrm flipH="1">
                <a:off x="8460360" y="6281640"/>
                <a:ext cx="137880" cy="20952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1" name="Freeform 38"/>
              <p:cNvSpPr/>
              <p:nvPr/>
            </p:nvSpPr>
            <p:spPr>
              <a:xfrm>
                <a:off x="8323200" y="6281640"/>
                <a:ext cx="137880" cy="2095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2" name="AutoShape 39"/>
              <p:cNvSpPr/>
              <p:nvPr/>
            </p:nvSpPr>
            <p:spPr>
              <a:xfrm flipH="1">
                <a:off x="8322480" y="6072480"/>
                <a:ext cx="276120" cy="13932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" name="Freeform 40"/>
              <p:cNvSpPr/>
              <p:nvPr/>
            </p:nvSpPr>
            <p:spPr>
              <a:xfrm flipH="1">
                <a:off x="8460360" y="6140520"/>
                <a:ext cx="137880" cy="20952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" name="Freeform 41"/>
              <p:cNvSpPr/>
              <p:nvPr/>
            </p:nvSpPr>
            <p:spPr>
              <a:xfrm>
                <a:off x="8323200" y="6140520"/>
                <a:ext cx="137880" cy="2113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5" name="Group 42"/>
              <p:cNvGrpSpPr/>
              <p:nvPr/>
            </p:nvGrpSpPr>
            <p:grpSpPr>
              <a:xfrm>
                <a:off x="8326440" y="5934240"/>
                <a:ext cx="276480" cy="278280"/>
                <a:chOff x="8326440" y="5934240"/>
                <a:chExt cx="276480" cy="278280"/>
              </a:xfrm>
            </p:grpSpPr>
            <p:sp>
              <p:nvSpPr>
                <p:cNvPr id="16" name="AutoShape 43"/>
                <p:cNvSpPr/>
                <p:nvPr/>
              </p:nvSpPr>
              <p:spPr>
                <a:xfrm flipH="1">
                  <a:off x="8326080" y="5934240"/>
                  <a:ext cx="276120" cy="1393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44"/>
                <p:cNvSpPr/>
                <p:nvPr/>
              </p:nvSpPr>
              <p:spPr>
                <a:xfrm flipH="1">
                  <a:off x="8464680" y="6001920"/>
                  <a:ext cx="138240" cy="21060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45"/>
                <p:cNvSpPr/>
                <p:nvPr/>
              </p:nvSpPr>
              <p:spPr>
                <a:xfrm>
                  <a:off x="8326800" y="6001920"/>
                  <a:ext cx="137880" cy="2106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" name="AutoShape 46"/>
              <p:cNvSpPr/>
              <p:nvPr/>
            </p:nvSpPr>
            <p:spPr>
              <a:xfrm flipH="1">
                <a:off x="8462160" y="6283080"/>
                <a:ext cx="276120" cy="13788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0" name="Freeform 47"/>
              <p:cNvSpPr/>
              <p:nvPr/>
            </p:nvSpPr>
            <p:spPr>
              <a:xfrm flipH="1">
                <a:off x="8597160" y="6351840"/>
                <a:ext cx="137880" cy="20952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1" name="Freeform 48"/>
              <p:cNvSpPr/>
              <p:nvPr/>
            </p:nvSpPr>
            <p:spPr>
              <a:xfrm>
                <a:off x="8462880" y="6351840"/>
                <a:ext cx="137880" cy="2095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2" name="Group 49"/>
              <p:cNvGrpSpPr/>
              <p:nvPr/>
            </p:nvGrpSpPr>
            <p:grpSpPr>
              <a:xfrm>
                <a:off x="8462520" y="6143400"/>
                <a:ext cx="276120" cy="277560"/>
                <a:chOff x="8462520" y="6143400"/>
                <a:chExt cx="276120" cy="277560"/>
              </a:xfrm>
            </p:grpSpPr>
            <p:sp>
              <p:nvSpPr>
                <p:cNvPr id="23" name="AutoShape 50"/>
                <p:cNvSpPr/>
                <p:nvPr/>
              </p:nvSpPr>
              <p:spPr>
                <a:xfrm flipH="1">
                  <a:off x="8462160" y="6143400"/>
                  <a:ext cx="276120" cy="1375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51"/>
                <p:cNvSpPr/>
                <p:nvPr/>
              </p:nvSpPr>
              <p:spPr>
                <a:xfrm flipH="1">
                  <a:off x="8600040" y="6210360"/>
                  <a:ext cx="137880" cy="21060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52"/>
                <p:cNvSpPr/>
                <p:nvPr/>
              </p:nvSpPr>
              <p:spPr>
                <a:xfrm>
                  <a:off x="8462880" y="621180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53"/>
              <p:cNvGrpSpPr/>
              <p:nvPr/>
            </p:nvGrpSpPr>
            <p:grpSpPr>
              <a:xfrm>
                <a:off x="8466120" y="6006960"/>
                <a:ext cx="276120" cy="277200"/>
                <a:chOff x="8466120" y="6006960"/>
                <a:chExt cx="276120" cy="277200"/>
              </a:xfrm>
            </p:grpSpPr>
            <p:sp>
              <p:nvSpPr>
                <p:cNvPr id="27" name="AutoShape 54"/>
                <p:cNvSpPr/>
                <p:nvPr/>
              </p:nvSpPr>
              <p:spPr>
                <a:xfrm flipH="1">
                  <a:off x="8465760" y="6006960"/>
                  <a:ext cx="276120" cy="1371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55"/>
                <p:cNvSpPr/>
                <p:nvPr/>
              </p:nvSpPr>
              <p:spPr>
                <a:xfrm flipH="1">
                  <a:off x="8601840" y="6073200"/>
                  <a:ext cx="137880" cy="2084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56"/>
                <p:cNvSpPr/>
                <p:nvPr/>
              </p:nvSpPr>
              <p:spPr>
                <a:xfrm>
                  <a:off x="8469000" y="607500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" name="Group 57"/>
              <p:cNvGrpSpPr/>
              <p:nvPr/>
            </p:nvGrpSpPr>
            <p:grpSpPr>
              <a:xfrm>
                <a:off x="8605800" y="6356160"/>
                <a:ext cx="276480" cy="277560"/>
                <a:chOff x="8605800" y="6356160"/>
                <a:chExt cx="276480" cy="277560"/>
              </a:xfrm>
            </p:grpSpPr>
            <p:sp>
              <p:nvSpPr>
                <p:cNvPr id="31" name="AutoShape 58"/>
                <p:cNvSpPr/>
                <p:nvPr/>
              </p:nvSpPr>
              <p:spPr>
                <a:xfrm flipH="1">
                  <a:off x="8605440" y="6356160"/>
                  <a:ext cx="276120" cy="1375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59"/>
                <p:cNvSpPr/>
                <p:nvPr/>
              </p:nvSpPr>
              <p:spPr>
                <a:xfrm flipH="1">
                  <a:off x="8744040" y="6422040"/>
                  <a:ext cx="138240" cy="21060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60"/>
                <p:cNvSpPr/>
                <p:nvPr/>
              </p:nvSpPr>
              <p:spPr>
                <a:xfrm>
                  <a:off x="8606160" y="642456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" name="Group 61"/>
              <p:cNvGrpSpPr/>
              <p:nvPr/>
            </p:nvGrpSpPr>
            <p:grpSpPr>
              <a:xfrm>
                <a:off x="8604360" y="6217200"/>
                <a:ext cx="276120" cy="277200"/>
                <a:chOff x="8604360" y="6217200"/>
                <a:chExt cx="276120" cy="277200"/>
              </a:xfrm>
            </p:grpSpPr>
            <p:sp>
              <p:nvSpPr>
                <p:cNvPr id="35" name="AutoShape 62"/>
                <p:cNvSpPr/>
                <p:nvPr/>
              </p:nvSpPr>
              <p:spPr>
                <a:xfrm flipH="1">
                  <a:off x="8604000" y="621720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63"/>
                <p:cNvSpPr/>
                <p:nvPr/>
              </p:nvSpPr>
              <p:spPr>
                <a:xfrm flipH="1">
                  <a:off x="8741880" y="6286680"/>
                  <a:ext cx="137880" cy="2059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64"/>
                <p:cNvSpPr/>
                <p:nvPr/>
              </p:nvSpPr>
              <p:spPr>
                <a:xfrm>
                  <a:off x="8609040" y="6286680"/>
                  <a:ext cx="137880" cy="2077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Group 65"/>
              <p:cNvGrpSpPr/>
              <p:nvPr/>
            </p:nvGrpSpPr>
            <p:grpSpPr>
              <a:xfrm>
                <a:off x="8322840" y="5795280"/>
                <a:ext cx="276120" cy="276480"/>
                <a:chOff x="8322840" y="5795280"/>
                <a:chExt cx="276120" cy="276480"/>
              </a:xfrm>
            </p:grpSpPr>
            <p:sp>
              <p:nvSpPr>
                <p:cNvPr id="39" name="AutoShape 66"/>
                <p:cNvSpPr/>
                <p:nvPr/>
              </p:nvSpPr>
              <p:spPr>
                <a:xfrm flipH="1">
                  <a:off x="8322480" y="5795280"/>
                  <a:ext cx="276120" cy="13824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67"/>
                <p:cNvSpPr/>
                <p:nvPr/>
              </p:nvSpPr>
              <p:spPr>
                <a:xfrm flipH="1">
                  <a:off x="8457480" y="5863320"/>
                  <a:ext cx="137880" cy="2084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68"/>
                <p:cNvSpPr/>
                <p:nvPr/>
              </p:nvSpPr>
              <p:spPr>
                <a:xfrm>
                  <a:off x="8323200" y="5863320"/>
                  <a:ext cx="137880" cy="2084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69"/>
              <p:cNvGrpSpPr/>
              <p:nvPr/>
            </p:nvGrpSpPr>
            <p:grpSpPr>
              <a:xfrm>
                <a:off x="8465400" y="5864760"/>
                <a:ext cx="276120" cy="277920"/>
                <a:chOff x="8465400" y="5864760"/>
                <a:chExt cx="276120" cy="277920"/>
              </a:xfrm>
            </p:grpSpPr>
            <p:sp>
              <p:nvSpPr>
                <p:cNvPr id="43" name="AutoShape 70"/>
                <p:cNvSpPr/>
                <p:nvPr/>
              </p:nvSpPr>
              <p:spPr>
                <a:xfrm flipH="1">
                  <a:off x="8465040" y="5864760"/>
                  <a:ext cx="276120" cy="1389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71"/>
                <p:cNvSpPr/>
                <p:nvPr/>
              </p:nvSpPr>
              <p:spPr>
                <a:xfrm flipH="1">
                  <a:off x="8602920" y="5930640"/>
                  <a:ext cx="137880" cy="2120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72"/>
                <p:cNvSpPr/>
                <p:nvPr/>
              </p:nvSpPr>
              <p:spPr>
                <a:xfrm>
                  <a:off x="8465760" y="5930640"/>
                  <a:ext cx="137880" cy="2120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Group 73"/>
              <p:cNvGrpSpPr/>
              <p:nvPr/>
            </p:nvGrpSpPr>
            <p:grpSpPr>
              <a:xfrm>
                <a:off x="8735760" y="5442120"/>
                <a:ext cx="276120" cy="277560"/>
                <a:chOff x="8735760" y="5442120"/>
                <a:chExt cx="276120" cy="277560"/>
              </a:xfrm>
            </p:grpSpPr>
            <p:sp>
              <p:nvSpPr>
                <p:cNvPr id="47" name="AutoShape 74"/>
                <p:cNvSpPr/>
                <p:nvPr/>
              </p:nvSpPr>
              <p:spPr>
                <a:xfrm flipH="1">
                  <a:off x="8735400" y="5442120"/>
                  <a:ext cx="276120" cy="1375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75"/>
                <p:cNvSpPr/>
                <p:nvPr/>
              </p:nvSpPr>
              <p:spPr>
                <a:xfrm flipH="1">
                  <a:off x="8873280" y="5508720"/>
                  <a:ext cx="137880" cy="21060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76"/>
                <p:cNvSpPr/>
                <p:nvPr/>
              </p:nvSpPr>
              <p:spPr>
                <a:xfrm>
                  <a:off x="8736120" y="551052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Group 77"/>
              <p:cNvGrpSpPr/>
              <p:nvPr/>
            </p:nvGrpSpPr>
            <p:grpSpPr>
              <a:xfrm>
                <a:off x="8601480" y="5654160"/>
                <a:ext cx="276480" cy="276480"/>
                <a:chOff x="8601480" y="5654160"/>
                <a:chExt cx="276480" cy="276480"/>
              </a:xfrm>
            </p:grpSpPr>
            <p:sp>
              <p:nvSpPr>
                <p:cNvPr id="51" name="AutoShape 78"/>
                <p:cNvSpPr/>
                <p:nvPr/>
              </p:nvSpPr>
              <p:spPr>
                <a:xfrm flipH="1">
                  <a:off x="8601120" y="565416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79"/>
                <p:cNvSpPr/>
                <p:nvPr/>
              </p:nvSpPr>
              <p:spPr>
                <a:xfrm flipH="1">
                  <a:off x="8739720" y="5721120"/>
                  <a:ext cx="138240" cy="20952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80"/>
                <p:cNvSpPr/>
                <p:nvPr/>
              </p:nvSpPr>
              <p:spPr>
                <a:xfrm>
                  <a:off x="8601840" y="5722560"/>
                  <a:ext cx="137880" cy="20808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81"/>
              <p:cNvGrpSpPr/>
              <p:nvPr/>
            </p:nvGrpSpPr>
            <p:grpSpPr>
              <a:xfrm>
                <a:off x="8607960" y="6076080"/>
                <a:ext cx="276120" cy="276840"/>
                <a:chOff x="8607960" y="6076080"/>
                <a:chExt cx="276120" cy="276840"/>
              </a:xfrm>
            </p:grpSpPr>
            <p:sp>
              <p:nvSpPr>
                <p:cNvPr id="55" name="AutoShape 82"/>
                <p:cNvSpPr/>
                <p:nvPr/>
              </p:nvSpPr>
              <p:spPr>
                <a:xfrm flipH="1">
                  <a:off x="8607600" y="6076080"/>
                  <a:ext cx="276120" cy="13824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83"/>
                <p:cNvSpPr/>
                <p:nvPr/>
              </p:nvSpPr>
              <p:spPr>
                <a:xfrm flipH="1">
                  <a:off x="8745480" y="6142680"/>
                  <a:ext cx="137880" cy="2102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Freeform 84"/>
                <p:cNvSpPr/>
                <p:nvPr/>
              </p:nvSpPr>
              <p:spPr>
                <a:xfrm>
                  <a:off x="8608320" y="6144120"/>
                  <a:ext cx="137880" cy="2084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Group 85"/>
              <p:cNvGrpSpPr/>
              <p:nvPr/>
            </p:nvGrpSpPr>
            <p:grpSpPr>
              <a:xfrm>
                <a:off x="8726760" y="4875480"/>
                <a:ext cx="276480" cy="277560"/>
                <a:chOff x="8726760" y="4875480"/>
                <a:chExt cx="276480" cy="277560"/>
              </a:xfrm>
            </p:grpSpPr>
            <p:sp>
              <p:nvSpPr>
                <p:cNvPr id="59" name="AutoShape 86"/>
                <p:cNvSpPr/>
                <p:nvPr/>
              </p:nvSpPr>
              <p:spPr>
                <a:xfrm flipH="1">
                  <a:off x="8726400" y="4875480"/>
                  <a:ext cx="276120" cy="1375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87"/>
                <p:cNvSpPr/>
                <p:nvPr/>
              </p:nvSpPr>
              <p:spPr>
                <a:xfrm flipH="1">
                  <a:off x="8865000" y="4942080"/>
                  <a:ext cx="138240" cy="21060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Freeform 88"/>
                <p:cNvSpPr/>
                <p:nvPr/>
              </p:nvSpPr>
              <p:spPr>
                <a:xfrm>
                  <a:off x="8727120" y="494388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89"/>
              <p:cNvGrpSpPr/>
              <p:nvPr/>
            </p:nvGrpSpPr>
            <p:grpSpPr>
              <a:xfrm>
                <a:off x="8738640" y="5859000"/>
                <a:ext cx="276120" cy="277560"/>
                <a:chOff x="8738640" y="5859000"/>
                <a:chExt cx="276120" cy="277560"/>
              </a:xfrm>
            </p:grpSpPr>
            <p:sp>
              <p:nvSpPr>
                <p:cNvPr id="63" name="AutoShape 90"/>
                <p:cNvSpPr/>
                <p:nvPr/>
              </p:nvSpPr>
              <p:spPr>
                <a:xfrm flipH="1">
                  <a:off x="8738280" y="5859000"/>
                  <a:ext cx="276120" cy="1393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91"/>
                <p:cNvSpPr/>
                <p:nvPr/>
              </p:nvSpPr>
              <p:spPr>
                <a:xfrm flipH="1">
                  <a:off x="8874720" y="5927040"/>
                  <a:ext cx="137880" cy="2095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92"/>
                <p:cNvSpPr/>
                <p:nvPr/>
              </p:nvSpPr>
              <p:spPr>
                <a:xfrm>
                  <a:off x="8741880" y="5927040"/>
                  <a:ext cx="137880" cy="2095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" name="Group 93"/>
            <p:cNvGrpSpPr/>
            <p:nvPr/>
          </p:nvGrpSpPr>
          <p:grpSpPr>
            <a:xfrm>
              <a:off x="8311680" y="4871880"/>
              <a:ext cx="691920" cy="1771920"/>
              <a:chOff x="8311680" y="4871880"/>
              <a:chExt cx="691920" cy="1771920"/>
            </a:xfrm>
          </p:grpSpPr>
          <p:sp>
            <p:nvSpPr>
              <p:cNvPr id="67" name="AutoShape 94"/>
              <p:cNvSpPr/>
              <p:nvPr/>
            </p:nvSpPr>
            <p:spPr>
              <a:xfrm flipH="1">
                <a:off x="8311320" y="6223320"/>
                <a:ext cx="276120" cy="13788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8" name="Freeform 95"/>
              <p:cNvSpPr/>
              <p:nvPr/>
            </p:nvSpPr>
            <p:spPr>
              <a:xfrm flipH="1">
                <a:off x="8449200" y="6291360"/>
                <a:ext cx="137880" cy="20952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9" name="Freeform 96"/>
              <p:cNvSpPr/>
              <p:nvPr/>
            </p:nvSpPr>
            <p:spPr>
              <a:xfrm>
                <a:off x="8312040" y="6291360"/>
                <a:ext cx="137880" cy="2095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0" name="AutoShape 97"/>
              <p:cNvSpPr/>
              <p:nvPr/>
            </p:nvSpPr>
            <p:spPr>
              <a:xfrm flipH="1">
                <a:off x="8311320" y="6081480"/>
                <a:ext cx="276120" cy="139320"/>
              </a:xfrm>
              <a:prstGeom prst="diamond">
                <a:avLst/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1" name="Freeform 98"/>
              <p:cNvSpPr/>
              <p:nvPr/>
            </p:nvSpPr>
            <p:spPr>
              <a:xfrm flipH="1">
                <a:off x="8449200" y="6150240"/>
                <a:ext cx="137880" cy="20988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2" name="Freeform 99"/>
              <p:cNvSpPr/>
              <p:nvPr/>
            </p:nvSpPr>
            <p:spPr>
              <a:xfrm>
                <a:off x="8312040" y="6151680"/>
                <a:ext cx="137880" cy="2095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73" name="Group 100"/>
              <p:cNvGrpSpPr/>
              <p:nvPr/>
            </p:nvGrpSpPr>
            <p:grpSpPr>
              <a:xfrm>
                <a:off x="8315280" y="5943960"/>
                <a:ext cx="276480" cy="278280"/>
                <a:chOff x="8315280" y="5943960"/>
                <a:chExt cx="276480" cy="278280"/>
              </a:xfrm>
            </p:grpSpPr>
            <p:sp>
              <p:nvSpPr>
                <p:cNvPr id="74" name="AutoShape 101"/>
                <p:cNvSpPr/>
                <p:nvPr/>
              </p:nvSpPr>
              <p:spPr>
                <a:xfrm flipH="1">
                  <a:off x="8314920" y="5943960"/>
                  <a:ext cx="276120" cy="1386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102"/>
                <p:cNvSpPr/>
                <p:nvPr/>
              </p:nvSpPr>
              <p:spPr>
                <a:xfrm flipH="1">
                  <a:off x="8453520" y="6012000"/>
                  <a:ext cx="138240" cy="21024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103"/>
                <p:cNvSpPr/>
                <p:nvPr/>
              </p:nvSpPr>
              <p:spPr>
                <a:xfrm>
                  <a:off x="8315640" y="6012000"/>
                  <a:ext cx="137880" cy="2102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AutoShape 104"/>
              <p:cNvSpPr/>
              <p:nvPr/>
            </p:nvSpPr>
            <p:spPr>
              <a:xfrm flipH="1">
                <a:off x="8451000" y="6292800"/>
                <a:ext cx="276120" cy="13788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8" name="Freeform 105"/>
              <p:cNvSpPr/>
              <p:nvPr/>
            </p:nvSpPr>
            <p:spPr>
              <a:xfrm flipH="1">
                <a:off x="8586000" y="6361560"/>
                <a:ext cx="137880" cy="20988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9" name="Freeform 106"/>
              <p:cNvSpPr/>
              <p:nvPr/>
            </p:nvSpPr>
            <p:spPr>
              <a:xfrm>
                <a:off x="8451720" y="6361560"/>
                <a:ext cx="137880" cy="209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80" name="Group 107"/>
              <p:cNvGrpSpPr/>
              <p:nvPr/>
            </p:nvGrpSpPr>
            <p:grpSpPr>
              <a:xfrm>
                <a:off x="8451360" y="6153120"/>
                <a:ext cx="276120" cy="277560"/>
                <a:chOff x="8451360" y="6153120"/>
                <a:chExt cx="276120" cy="277560"/>
              </a:xfrm>
            </p:grpSpPr>
            <p:sp>
              <p:nvSpPr>
                <p:cNvPr id="81" name="AutoShape 108"/>
                <p:cNvSpPr/>
                <p:nvPr/>
              </p:nvSpPr>
              <p:spPr>
                <a:xfrm flipH="1">
                  <a:off x="8451000" y="615312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09"/>
                <p:cNvSpPr/>
                <p:nvPr/>
              </p:nvSpPr>
              <p:spPr>
                <a:xfrm flipH="1">
                  <a:off x="8588880" y="6219360"/>
                  <a:ext cx="137880" cy="2113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10"/>
                <p:cNvSpPr/>
                <p:nvPr/>
              </p:nvSpPr>
              <p:spPr>
                <a:xfrm>
                  <a:off x="8451720" y="6220800"/>
                  <a:ext cx="137880" cy="2095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111"/>
              <p:cNvGrpSpPr/>
              <p:nvPr/>
            </p:nvGrpSpPr>
            <p:grpSpPr>
              <a:xfrm>
                <a:off x="8454960" y="6016680"/>
                <a:ext cx="276120" cy="277200"/>
                <a:chOff x="8454960" y="6016680"/>
                <a:chExt cx="276120" cy="277200"/>
              </a:xfrm>
            </p:grpSpPr>
            <p:sp>
              <p:nvSpPr>
                <p:cNvPr id="85" name="AutoShape 112"/>
                <p:cNvSpPr/>
                <p:nvPr/>
              </p:nvSpPr>
              <p:spPr>
                <a:xfrm flipH="1">
                  <a:off x="8454600" y="6016680"/>
                  <a:ext cx="276120" cy="137160"/>
                </a:xfrm>
                <a:prstGeom prst="diamond">
                  <a:avLst/>
                </a:pr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13"/>
                <p:cNvSpPr/>
                <p:nvPr/>
              </p:nvSpPr>
              <p:spPr>
                <a:xfrm flipH="1">
                  <a:off x="8590680" y="6082920"/>
                  <a:ext cx="137880" cy="2084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14"/>
                <p:cNvSpPr/>
                <p:nvPr/>
              </p:nvSpPr>
              <p:spPr>
                <a:xfrm>
                  <a:off x="8457840" y="608472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Group 115"/>
              <p:cNvGrpSpPr/>
              <p:nvPr/>
            </p:nvGrpSpPr>
            <p:grpSpPr>
              <a:xfrm>
                <a:off x="8594640" y="6366240"/>
                <a:ext cx="276120" cy="277560"/>
                <a:chOff x="8594640" y="6366240"/>
                <a:chExt cx="276120" cy="277560"/>
              </a:xfrm>
            </p:grpSpPr>
            <p:sp>
              <p:nvSpPr>
                <p:cNvPr id="89" name="AutoShape 116"/>
                <p:cNvSpPr/>
                <p:nvPr/>
              </p:nvSpPr>
              <p:spPr>
                <a:xfrm flipH="1">
                  <a:off x="8594280" y="636624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117"/>
                <p:cNvSpPr/>
                <p:nvPr/>
              </p:nvSpPr>
              <p:spPr>
                <a:xfrm flipH="1">
                  <a:off x="8731440" y="6432480"/>
                  <a:ext cx="137880" cy="2113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118"/>
                <p:cNvSpPr/>
                <p:nvPr/>
              </p:nvSpPr>
              <p:spPr>
                <a:xfrm>
                  <a:off x="8595000" y="6433920"/>
                  <a:ext cx="137880" cy="2095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119"/>
              <p:cNvGrpSpPr/>
              <p:nvPr/>
            </p:nvGrpSpPr>
            <p:grpSpPr>
              <a:xfrm>
                <a:off x="8593200" y="6227280"/>
                <a:ext cx="276120" cy="277200"/>
                <a:chOff x="8593200" y="6227280"/>
                <a:chExt cx="276120" cy="277200"/>
              </a:xfrm>
            </p:grpSpPr>
            <p:sp>
              <p:nvSpPr>
                <p:cNvPr id="93" name="AutoShape 120"/>
                <p:cNvSpPr/>
                <p:nvPr/>
              </p:nvSpPr>
              <p:spPr>
                <a:xfrm flipH="1">
                  <a:off x="8592840" y="6227280"/>
                  <a:ext cx="276120" cy="138240"/>
                </a:xfrm>
                <a:prstGeom prst="diamond">
                  <a:avLst/>
                </a:prstGeom>
                <a:solidFill>
                  <a:srgbClr val="f2ef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21"/>
                <p:cNvSpPr/>
                <p:nvPr/>
              </p:nvSpPr>
              <p:spPr>
                <a:xfrm flipH="1">
                  <a:off x="8730720" y="6293880"/>
                  <a:ext cx="137880" cy="2077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22"/>
                <p:cNvSpPr/>
                <p:nvPr/>
              </p:nvSpPr>
              <p:spPr>
                <a:xfrm>
                  <a:off x="8597880" y="6293880"/>
                  <a:ext cx="137880" cy="2106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123"/>
              <p:cNvGrpSpPr/>
              <p:nvPr/>
            </p:nvGrpSpPr>
            <p:grpSpPr>
              <a:xfrm>
                <a:off x="8311680" y="5805000"/>
                <a:ext cx="276120" cy="276480"/>
                <a:chOff x="8311680" y="5805000"/>
                <a:chExt cx="276120" cy="276480"/>
              </a:xfrm>
            </p:grpSpPr>
            <p:sp>
              <p:nvSpPr>
                <p:cNvPr id="97" name="AutoShape 124"/>
                <p:cNvSpPr/>
                <p:nvPr/>
              </p:nvSpPr>
              <p:spPr>
                <a:xfrm flipH="1">
                  <a:off x="8311320" y="580500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125"/>
                <p:cNvSpPr/>
                <p:nvPr/>
              </p:nvSpPr>
              <p:spPr>
                <a:xfrm flipH="1">
                  <a:off x="8446320" y="5873400"/>
                  <a:ext cx="137880" cy="20808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126"/>
                <p:cNvSpPr/>
                <p:nvPr/>
              </p:nvSpPr>
              <p:spPr>
                <a:xfrm>
                  <a:off x="8312040" y="5873400"/>
                  <a:ext cx="137880" cy="20808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Group 127"/>
              <p:cNvGrpSpPr/>
              <p:nvPr/>
            </p:nvGrpSpPr>
            <p:grpSpPr>
              <a:xfrm>
                <a:off x="8454240" y="5874480"/>
                <a:ext cx="276120" cy="278280"/>
                <a:chOff x="8454240" y="5874480"/>
                <a:chExt cx="276120" cy="278280"/>
              </a:xfrm>
            </p:grpSpPr>
            <p:sp>
              <p:nvSpPr>
                <p:cNvPr id="101" name="AutoShape 128"/>
                <p:cNvSpPr/>
                <p:nvPr/>
              </p:nvSpPr>
              <p:spPr>
                <a:xfrm flipH="1">
                  <a:off x="8453880" y="5874480"/>
                  <a:ext cx="276120" cy="13824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29"/>
                <p:cNvSpPr/>
                <p:nvPr/>
              </p:nvSpPr>
              <p:spPr>
                <a:xfrm flipH="1">
                  <a:off x="8591760" y="5942520"/>
                  <a:ext cx="137880" cy="2102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130"/>
                <p:cNvSpPr/>
                <p:nvPr/>
              </p:nvSpPr>
              <p:spPr>
                <a:xfrm>
                  <a:off x="8454600" y="5942520"/>
                  <a:ext cx="137880" cy="2102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31"/>
              <p:cNvGrpSpPr/>
              <p:nvPr/>
            </p:nvGrpSpPr>
            <p:grpSpPr>
              <a:xfrm>
                <a:off x="8724600" y="5451840"/>
                <a:ext cx="276120" cy="277560"/>
                <a:chOff x="8724600" y="5451840"/>
                <a:chExt cx="276120" cy="277560"/>
              </a:xfrm>
            </p:grpSpPr>
            <p:sp>
              <p:nvSpPr>
                <p:cNvPr id="105" name="AutoShape 132"/>
                <p:cNvSpPr/>
                <p:nvPr/>
              </p:nvSpPr>
              <p:spPr>
                <a:xfrm flipH="1">
                  <a:off x="8724240" y="5451840"/>
                  <a:ext cx="276120" cy="13752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133"/>
                <p:cNvSpPr/>
                <p:nvPr/>
              </p:nvSpPr>
              <p:spPr>
                <a:xfrm flipH="1">
                  <a:off x="8862120" y="5516280"/>
                  <a:ext cx="137880" cy="2120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134"/>
                <p:cNvSpPr/>
                <p:nvPr/>
              </p:nvSpPr>
              <p:spPr>
                <a:xfrm>
                  <a:off x="8724960" y="552024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35"/>
              <p:cNvGrpSpPr/>
              <p:nvPr/>
            </p:nvGrpSpPr>
            <p:grpSpPr>
              <a:xfrm>
                <a:off x="8590320" y="5664240"/>
                <a:ext cx="276480" cy="276840"/>
                <a:chOff x="8590320" y="5664240"/>
                <a:chExt cx="276480" cy="276840"/>
              </a:xfrm>
            </p:grpSpPr>
            <p:sp>
              <p:nvSpPr>
                <p:cNvPr id="109" name="AutoShape 136"/>
                <p:cNvSpPr/>
                <p:nvPr/>
              </p:nvSpPr>
              <p:spPr>
                <a:xfrm flipH="1">
                  <a:off x="8589960" y="5664240"/>
                  <a:ext cx="276120" cy="13824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137"/>
                <p:cNvSpPr/>
                <p:nvPr/>
              </p:nvSpPr>
              <p:spPr>
                <a:xfrm flipH="1">
                  <a:off x="8728560" y="5730480"/>
                  <a:ext cx="138240" cy="21024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138"/>
                <p:cNvSpPr/>
                <p:nvPr/>
              </p:nvSpPr>
              <p:spPr>
                <a:xfrm>
                  <a:off x="8590680" y="5732280"/>
                  <a:ext cx="137880" cy="2088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800"/>
                    <a:gd name="textAreaBottom" fmla="*/ 209160 h 2088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139"/>
              <p:cNvGrpSpPr/>
              <p:nvPr/>
            </p:nvGrpSpPr>
            <p:grpSpPr>
              <a:xfrm>
                <a:off x="8590320" y="6085800"/>
                <a:ext cx="276480" cy="276840"/>
                <a:chOff x="8590320" y="6085800"/>
                <a:chExt cx="276480" cy="276840"/>
              </a:xfrm>
            </p:grpSpPr>
            <p:sp>
              <p:nvSpPr>
                <p:cNvPr id="113" name="AutoShape 140"/>
                <p:cNvSpPr/>
                <p:nvPr/>
              </p:nvSpPr>
              <p:spPr>
                <a:xfrm flipH="1">
                  <a:off x="8589960" y="6085800"/>
                  <a:ext cx="276120" cy="13824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141"/>
                <p:cNvSpPr/>
                <p:nvPr/>
              </p:nvSpPr>
              <p:spPr>
                <a:xfrm flipH="1">
                  <a:off x="8728560" y="6152400"/>
                  <a:ext cx="138240" cy="21024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142"/>
                <p:cNvSpPr/>
                <p:nvPr/>
              </p:nvSpPr>
              <p:spPr>
                <a:xfrm>
                  <a:off x="8590680" y="6153840"/>
                  <a:ext cx="137880" cy="2084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143"/>
              <p:cNvGrpSpPr/>
              <p:nvPr/>
            </p:nvGrpSpPr>
            <p:grpSpPr>
              <a:xfrm>
                <a:off x="8715600" y="4871880"/>
                <a:ext cx="276480" cy="277560"/>
                <a:chOff x="8715600" y="4871880"/>
                <a:chExt cx="276480" cy="277560"/>
              </a:xfrm>
            </p:grpSpPr>
            <p:sp>
              <p:nvSpPr>
                <p:cNvPr id="117" name="AutoShape 144"/>
                <p:cNvSpPr/>
                <p:nvPr/>
              </p:nvSpPr>
              <p:spPr>
                <a:xfrm flipH="1">
                  <a:off x="8715240" y="4871880"/>
                  <a:ext cx="276120" cy="137880"/>
                </a:xfrm>
                <a:prstGeom prst="diamond">
                  <a:avLst/>
                </a:pr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145"/>
                <p:cNvSpPr/>
                <p:nvPr/>
              </p:nvSpPr>
              <p:spPr>
                <a:xfrm flipH="1">
                  <a:off x="8853840" y="4938120"/>
                  <a:ext cx="138240" cy="21132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146"/>
                <p:cNvSpPr/>
                <p:nvPr/>
              </p:nvSpPr>
              <p:spPr>
                <a:xfrm>
                  <a:off x="8715960" y="4939560"/>
                  <a:ext cx="137880" cy="2095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47"/>
              <p:cNvGrpSpPr/>
              <p:nvPr/>
            </p:nvGrpSpPr>
            <p:grpSpPr>
              <a:xfrm>
                <a:off x="8727480" y="5868720"/>
                <a:ext cx="276120" cy="277560"/>
                <a:chOff x="8727480" y="5868720"/>
                <a:chExt cx="276120" cy="277560"/>
              </a:xfrm>
            </p:grpSpPr>
            <p:sp>
              <p:nvSpPr>
                <p:cNvPr id="121" name="AutoShape 148"/>
                <p:cNvSpPr/>
                <p:nvPr/>
              </p:nvSpPr>
              <p:spPr>
                <a:xfrm flipH="1">
                  <a:off x="8727120" y="5868720"/>
                  <a:ext cx="276120" cy="137520"/>
                </a:xfrm>
                <a:prstGeom prst="diamond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149"/>
                <p:cNvSpPr/>
                <p:nvPr/>
              </p:nvSpPr>
              <p:spPr>
                <a:xfrm flipH="1">
                  <a:off x="8863560" y="5937120"/>
                  <a:ext cx="137880" cy="20916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150"/>
                <p:cNvSpPr/>
                <p:nvPr/>
              </p:nvSpPr>
              <p:spPr>
                <a:xfrm>
                  <a:off x="8730720" y="593712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1"/>
          <p:cNvSpPr/>
          <p:nvPr/>
        </p:nvSpPr>
        <p:spPr>
          <a:xfrm>
            <a:off x="4883040" y="2036880"/>
            <a:ext cx="4260960" cy="331632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bad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0" y="2017800"/>
            <a:ext cx="4881600" cy="3316320"/>
          </a:xfrm>
          <a:prstGeom prst="rect">
            <a:avLst/>
          </a:prstGeom>
          <a:gradFill rotWithShape="0">
            <a:gsLst>
              <a:gs pos="0">
                <a:srgbClr val="bad16f"/>
              </a:gs>
              <a:gs pos="100000">
                <a:srgbClr val="50780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-18000" y="1541160"/>
            <a:ext cx="2844720" cy="2781000"/>
            <a:chOff x="-18000" y="1541160"/>
            <a:chExt cx="2844720" cy="2781000"/>
          </a:xfrm>
        </p:grpSpPr>
        <p:sp>
          <p:nvSpPr>
            <p:cNvPr id="163" name="Arc 34"/>
            <p:cNvSpPr/>
            <p:nvPr/>
          </p:nvSpPr>
          <p:spPr>
            <a:xfrm flipH="1" rot="5407800">
              <a:off x="382680" y="2877120"/>
              <a:ext cx="1036440" cy="1805400"/>
            </a:xfrm>
            <a:custGeom>
              <a:avLst/>
              <a:gdLst>
                <a:gd name="textAreaLeft" fmla="*/ -360 w 1036440"/>
                <a:gd name="textAreaRight" fmla="*/ 1036440 w 1036440"/>
                <a:gd name="textAreaTop" fmla="*/ 0 h 1805400"/>
                <a:gd name="textAreaBottom" fmla="*/ 1805760 h 180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8" y="0"/>
                    <a:pt x="21598" y="9668"/>
                    <a:pt x="21599" y="21597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8" y="0"/>
                    <a:pt x="21598" y="9668"/>
                    <a:pt x="21599" y="21597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64" name="Arc 35"/>
            <p:cNvSpPr/>
            <p:nvPr/>
          </p:nvSpPr>
          <p:spPr>
            <a:xfrm flipH="1" rot="1756800">
              <a:off x="329400" y="1939680"/>
              <a:ext cx="2149560" cy="1983240"/>
            </a:xfrm>
            <a:custGeom>
              <a:avLst/>
              <a:gdLst>
                <a:gd name="textAreaLeft" fmla="*/ -360 w 2149560"/>
                <a:gd name="textAreaRight" fmla="*/ 2149560 w 2149560"/>
                <a:gd name="textAreaTop" fmla="*/ 0 h 1983240"/>
                <a:gd name="textAreaBottom" fmla="*/ 1983600 h 1983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8" y="0"/>
                    <a:pt x="21598" y="9668"/>
                    <a:pt x="21599" y="21597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8" y="0"/>
                    <a:pt x="21598" y="9668"/>
                    <a:pt x="21599" y="21597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65" name="Oval 36"/>
          <p:cNvSpPr/>
          <p:nvPr/>
        </p:nvSpPr>
        <p:spPr>
          <a:xfrm>
            <a:off x="0" y="2033640"/>
            <a:ext cx="4800600" cy="4800600"/>
          </a:xfrm>
          <a:prstGeom prst="ellipse">
            <a:avLst/>
          </a:prstGeom>
          <a:gradFill rotWithShape="0">
            <a:gsLst>
              <a:gs pos="0">
                <a:srgbClr val="bad16f"/>
              </a:gs>
              <a:gs pos="100000">
                <a:srgbClr val="8fad2f"/>
              </a:gs>
            </a:gsLst>
            <a:lin ang="8100000"/>
          </a:gradFill>
          <a:ln w="0">
            <a:noFill/>
          </a:ln>
          <a:effectLst>
            <a:outerShdw dist="92520" dir="20637765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0" y="4602240"/>
            <a:ext cx="9144000" cy="2255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8496" dir="17774481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Text Box 29"/>
          <p:cNvSpPr/>
          <p:nvPr/>
        </p:nvSpPr>
        <p:spPr>
          <a:xfrm>
            <a:off x="7957440" y="6186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68" name="Group 38"/>
          <p:cNvGrpSpPr/>
          <p:nvPr/>
        </p:nvGrpSpPr>
        <p:grpSpPr>
          <a:xfrm>
            <a:off x="385920" y="2395440"/>
            <a:ext cx="3290760" cy="3305160"/>
            <a:chOff x="385920" y="2395440"/>
            <a:chExt cx="3290760" cy="3305160"/>
          </a:xfrm>
        </p:grpSpPr>
        <p:sp>
          <p:nvSpPr>
            <p:cNvPr id="169" name="Oval 39"/>
            <p:cNvSpPr/>
            <p:nvPr/>
          </p:nvSpPr>
          <p:spPr>
            <a:xfrm>
              <a:off x="400320" y="2423880"/>
              <a:ext cx="3276360" cy="32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5078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70" name="Oval 40"/>
            <p:cNvSpPr/>
            <p:nvPr/>
          </p:nvSpPr>
          <p:spPr>
            <a:xfrm>
              <a:off x="385920" y="2395440"/>
              <a:ext cx="3124080" cy="3124080"/>
            </a:xfrm>
            <a:prstGeom prst="ellipse">
              <a:avLst/>
            </a:prstGeom>
            <a:solidFill>
              <a:srgbClr val="8fa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71" name="Rectangle 41"/>
          <p:cNvSpPr/>
          <p:nvPr/>
        </p:nvSpPr>
        <p:spPr>
          <a:xfrm>
            <a:off x="0" y="1989000"/>
            <a:ext cx="9144000" cy="3952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507800">
                  <a:alpha val="80000"/>
                </a:srgbClr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72" name="Group 160"/>
          <p:cNvGrpSpPr/>
          <p:nvPr/>
        </p:nvGrpSpPr>
        <p:grpSpPr>
          <a:xfrm>
            <a:off x="1162080" y="1560600"/>
            <a:ext cx="1495440" cy="3767040"/>
            <a:chOff x="1162080" y="1560600"/>
            <a:chExt cx="1495440" cy="3767040"/>
          </a:xfrm>
        </p:grpSpPr>
        <p:grpSp>
          <p:nvGrpSpPr>
            <p:cNvPr id="173" name="Group 43"/>
            <p:cNvGrpSpPr/>
            <p:nvPr/>
          </p:nvGrpSpPr>
          <p:grpSpPr>
            <a:xfrm>
              <a:off x="1185840" y="1568520"/>
              <a:ext cx="1471680" cy="3738240"/>
              <a:chOff x="1185840" y="1568520"/>
              <a:chExt cx="1471680" cy="3738240"/>
            </a:xfrm>
          </p:grpSpPr>
          <p:sp>
            <p:nvSpPr>
              <p:cNvPr id="174" name="AutoShape 44"/>
              <p:cNvSpPr/>
              <p:nvPr/>
            </p:nvSpPr>
            <p:spPr>
              <a:xfrm flipH="1">
                <a:off x="1185840" y="4413240"/>
                <a:ext cx="587520" cy="29376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5" name="Freeform 45"/>
              <p:cNvSpPr/>
              <p:nvPr/>
            </p:nvSpPr>
            <p:spPr>
              <a:xfrm flipH="1">
                <a:off x="1479600" y="4557960"/>
                <a:ext cx="293760" cy="44604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6" name="Freeform 46"/>
              <p:cNvSpPr/>
              <p:nvPr/>
            </p:nvSpPr>
            <p:spPr>
              <a:xfrm>
                <a:off x="1185840" y="4557960"/>
                <a:ext cx="293760" cy="4460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7" name="AutoShape 47"/>
              <p:cNvSpPr/>
              <p:nvPr/>
            </p:nvSpPr>
            <p:spPr>
              <a:xfrm flipH="1">
                <a:off x="1185840" y="4113360"/>
                <a:ext cx="587520" cy="29520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8" name="Freeform 48"/>
              <p:cNvSpPr/>
              <p:nvPr/>
            </p:nvSpPr>
            <p:spPr>
              <a:xfrm flipH="1">
                <a:off x="1479600" y="4257720"/>
                <a:ext cx="293760" cy="44604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9" name="Freeform 49"/>
              <p:cNvSpPr/>
              <p:nvPr/>
            </p:nvSpPr>
            <p:spPr>
              <a:xfrm>
                <a:off x="1187280" y="4259160"/>
                <a:ext cx="293760" cy="4464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80" name="Group 50"/>
              <p:cNvGrpSpPr/>
              <p:nvPr/>
            </p:nvGrpSpPr>
            <p:grpSpPr>
              <a:xfrm>
                <a:off x="1193760" y="3819600"/>
                <a:ext cx="587520" cy="592200"/>
                <a:chOff x="1193760" y="3819600"/>
                <a:chExt cx="587520" cy="592200"/>
              </a:xfrm>
            </p:grpSpPr>
            <p:sp>
              <p:nvSpPr>
                <p:cNvPr id="181" name="AutoShape 51"/>
                <p:cNvSpPr/>
                <p:nvPr/>
              </p:nvSpPr>
              <p:spPr>
                <a:xfrm flipH="1">
                  <a:off x="1193760" y="3819600"/>
                  <a:ext cx="587520" cy="2952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52"/>
                <p:cNvSpPr/>
                <p:nvPr/>
              </p:nvSpPr>
              <p:spPr>
                <a:xfrm flipH="1">
                  <a:off x="1487520" y="396396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53"/>
                <p:cNvSpPr/>
                <p:nvPr/>
              </p:nvSpPr>
              <p:spPr>
                <a:xfrm>
                  <a:off x="1195200" y="3963960"/>
                  <a:ext cx="293760" cy="4478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AutoShape 54"/>
              <p:cNvSpPr/>
              <p:nvPr/>
            </p:nvSpPr>
            <p:spPr>
              <a:xfrm flipH="1">
                <a:off x="1482120" y="4560840"/>
                <a:ext cx="587160" cy="29376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5" name="Freeform 55"/>
              <p:cNvSpPr/>
              <p:nvPr/>
            </p:nvSpPr>
            <p:spPr>
              <a:xfrm flipH="1">
                <a:off x="1770120" y="4705560"/>
                <a:ext cx="293760" cy="44748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6" name="Freeform 56"/>
              <p:cNvSpPr/>
              <p:nvPr/>
            </p:nvSpPr>
            <p:spPr>
              <a:xfrm>
                <a:off x="1482840" y="4705560"/>
                <a:ext cx="293400" cy="44748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87" name="Group 57"/>
              <p:cNvGrpSpPr/>
              <p:nvPr/>
            </p:nvGrpSpPr>
            <p:grpSpPr>
              <a:xfrm>
                <a:off x="1482480" y="4264200"/>
                <a:ext cx="587160" cy="590400"/>
                <a:chOff x="1482480" y="4264200"/>
                <a:chExt cx="587160" cy="590400"/>
              </a:xfrm>
            </p:grpSpPr>
            <p:sp>
              <p:nvSpPr>
                <p:cNvPr id="188" name="AutoShape 58"/>
                <p:cNvSpPr/>
                <p:nvPr/>
              </p:nvSpPr>
              <p:spPr>
                <a:xfrm flipH="1">
                  <a:off x="1482120" y="426420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59"/>
                <p:cNvSpPr/>
                <p:nvPr/>
              </p:nvSpPr>
              <p:spPr>
                <a:xfrm flipH="1">
                  <a:off x="1775520" y="440712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60"/>
                <p:cNvSpPr/>
                <p:nvPr/>
              </p:nvSpPr>
              <p:spPr>
                <a:xfrm>
                  <a:off x="1483920" y="440856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61"/>
              <p:cNvGrpSpPr/>
              <p:nvPr/>
            </p:nvGrpSpPr>
            <p:grpSpPr>
              <a:xfrm>
                <a:off x="1490760" y="3969000"/>
                <a:ext cx="586800" cy="588600"/>
                <a:chOff x="1490760" y="3969000"/>
                <a:chExt cx="586800" cy="588600"/>
              </a:xfrm>
            </p:grpSpPr>
            <p:sp>
              <p:nvSpPr>
                <p:cNvPr id="192" name="AutoShape 62"/>
                <p:cNvSpPr/>
                <p:nvPr/>
              </p:nvSpPr>
              <p:spPr>
                <a:xfrm flipH="1">
                  <a:off x="1490760" y="3969000"/>
                  <a:ext cx="586800" cy="2934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63"/>
                <p:cNvSpPr/>
                <p:nvPr/>
              </p:nvSpPr>
              <p:spPr>
                <a:xfrm flipH="1">
                  <a:off x="1777680" y="4110840"/>
                  <a:ext cx="293400" cy="44496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64"/>
                <p:cNvSpPr/>
                <p:nvPr/>
              </p:nvSpPr>
              <p:spPr>
                <a:xfrm>
                  <a:off x="1492200" y="4112640"/>
                  <a:ext cx="293400" cy="44496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65"/>
              <p:cNvGrpSpPr/>
              <p:nvPr/>
            </p:nvGrpSpPr>
            <p:grpSpPr>
              <a:xfrm>
                <a:off x="1787400" y="4716360"/>
                <a:ext cx="587520" cy="590400"/>
                <a:chOff x="1787400" y="4716360"/>
                <a:chExt cx="587520" cy="590400"/>
              </a:xfrm>
            </p:grpSpPr>
            <p:sp>
              <p:nvSpPr>
                <p:cNvPr id="196" name="AutoShape 66"/>
                <p:cNvSpPr/>
                <p:nvPr/>
              </p:nvSpPr>
              <p:spPr>
                <a:xfrm flipH="1">
                  <a:off x="1787400" y="471636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67"/>
                <p:cNvSpPr/>
                <p:nvPr/>
              </p:nvSpPr>
              <p:spPr>
                <a:xfrm flipH="1">
                  <a:off x="2081160" y="485928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68"/>
                <p:cNvSpPr/>
                <p:nvPr/>
              </p:nvSpPr>
              <p:spPr>
                <a:xfrm>
                  <a:off x="1788840" y="4860720"/>
                  <a:ext cx="293760" cy="4460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9"/>
              <p:cNvGrpSpPr/>
              <p:nvPr/>
            </p:nvGrpSpPr>
            <p:grpSpPr>
              <a:xfrm>
                <a:off x="1783800" y="4413240"/>
                <a:ext cx="587160" cy="588600"/>
                <a:chOff x="1783800" y="4413240"/>
                <a:chExt cx="587160" cy="588600"/>
              </a:xfrm>
            </p:grpSpPr>
            <p:sp>
              <p:nvSpPr>
                <p:cNvPr id="200" name="AutoShape 70"/>
                <p:cNvSpPr/>
                <p:nvPr/>
              </p:nvSpPr>
              <p:spPr>
                <a:xfrm flipH="1">
                  <a:off x="1783440" y="4413240"/>
                  <a:ext cx="587160" cy="2934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71"/>
                <p:cNvSpPr/>
                <p:nvPr/>
              </p:nvSpPr>
              <p:spPr>
                <a:xfrm flipH="1">
                  <a:off x="2072880" y="4556880"/>
                  <a:ext cx="293400" cy="44316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3160"/>
                    <a:gd name="textAreaBottom" fmla="*/ 443520 h 443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72"/>
                <p:cNvSpPr/>
                <p:nvPr/>
              </p:nvSpPr>
              <p:spPr>
                <a:xfrm>
                  <a:off x="1789560" y="4556880"/>
                  <a:ext cx="293400" cy="44496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3"/>
              <p:cNvGrpSpPr/>
              <p:nvPr/>
            </p:nvGrpSpPr>
            <p:grpSpPr>
              <a:xfrm>
                <a:off x="1185840" y="3524400"/>
                <a:ext cx="587520" cy="588960"/>
                <a:chOff x="1185840" y="3524400"/>
                <a:chExt cx="587520" cy="588960"/>
              </a:xfrm>
            </p:grpSpPr>
            <p:sp>
              <p:nvSpPr>
                <p:cNvPr id="204" name="AutoShape 74"/>
                <p:cNvSpPr/>
                <p:nvPr/>
              </p:nvSpPr>
              <p:spPr>
                <a:xfrm flipH="1">
                  <a:off x="1185840" y="352440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75"/>
                <p:cNvSpPr/>
                <p:nvPr/>
              </p:nvSpPr>
              <p:spPr>
                <a:xfrm flipH="1">
                  <a:off x="1471680" y="3668760"/>
                  <a:ext cx="293760" cy="44460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76"/>
                <p:cNvSpPr/>
                <p:nvPr/>
              </p:nvSpPr>
              <p:spPr>
                <a:xfrm>
                  <a:off x="1185840" y="3668760"/>
                  <a:ext cx="293760" cy="4446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77"/>
              <p:cNvGrpSpPr/>
              <p:nvPr/>
            </p:nvGrpSpPr>
            <p:grpSpPr>
              <a:xfrm>
                <a:off x="1488960" y="3672000"/>
                <a:ext cx="587520" cy="592200"/>
                <a:chOff x="1488960" y="3672000"/>
                <a:chExt cx="587520" cy="592200"/>
              </a:xfrm>
            </p:grpSpPr>
            <p:sp>
              <p:nvSpPr>
                <p:cNvPr id="208" name="AutoShape 78"/>
                <p:cNvSpPr/>
                <p:nvPr/>
              </p:nvSpPr>
              <p:spPr>
                <a:xfrm flipH="1">
                  <a:off x="1488960" y="3672000"/>
                  <a:ext cx="587520" cy="2952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79"/>
                <p:cNvSpPr/>
                <p:nvPr/>
              </p:nvSpPr>
              <p:spPr>
                <a:xfrm flipH="1">
                  <a:off x="1782720" y="381636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80"/>
                <p:cNvSpPr/>
                <p:nvPr/>
              </p:nvSpPr>
              <p:spPr>
                <a:xfrm>
                  <a:off x="1490400" y="3816360"/>
                  <a:ext cx="293760" cy="4478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81"/>
              <p:cNvGrpSpPr/>
              <p:nvPr/>
            </p:nvGrpSpPr>
            <p:grpSpPr>
              <a:xfrm>
                <a:off x="2063520" y="2773440"/>
                <a:ext cx="587160" cy="590400"/>
                <a:chOff x="2063520" y="2773440"/>
                <a:chExt cx="587160" cy="590400"/>
              </a:xfrm>
            </p:grpSpPr>
            <p:sp>
              <p:nvSpPr>
                <p:cNvPr id="212" name="AutoShape 82"/>
                <p:cNvSpPr/>
                <p:nvPr/>
              </p:nvSpPr>
              <p:spPr>
                <a:xfrm flipH="1">
                  <a:off x="2063160" y="277344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83"/>
                <p:cNvSpPr/>
                <p:nvPr/>
              </p:nvSpPr>
              <p:spPr>
                <a:xfrm flipH="1">
                  <a:off x="2356560" y="291636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84"/>
                <p:cNvSpPr/>
                <p:nvPr/>
              </p:nvSpPr>
              <p:spPr>
                <a:xfrm>
                  <a:off x="2064960" y="291780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85"/>
              <p:cNvGrpSpPr/>
              <p:nvPr/>
            </p:nvGrpSpPr>
            <p:grpSpPr>
              <a:xfrm>
                <a:off x="1777680" y="3224160"/>
                <a:ext cx="587160" cy="588960"/>
                <a:chOff x="1777680" y="3224160"/>
                <a:chExt cx="587160" cy="588960"/>
              </a:xfrm>
            </p:grpSpPr>
            <p:sp>
              <p:nvSpPr>
                <p:cNvPr id="216" name="AutoShape 86"/>
                <p:cNvSpPr/>
                <p:nvPr/>
              </p:nvSpPr>
              <p:spPr>
                <a:xfrm flipH="1">
                  <a:off x="1777320" y="322416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87"/>
                <p:cNvSpPr/>
                <p:nvPr/>
              </p:nvSpPr>
              <p:spPr>
                <a:xfrm flipH="1">
                  <a:off x="2070720" y="3367080"/>
                  <a:ext cx="293400" cy="44460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88"/>
                <p:cNvSpPr/>
                <p:nvPr/>
              </p:nvSpPr>
              <p:spPr>
                <a:xfrm>
                  <a:off x="1779120" y="3368520"/>
                  <a:ext cx="293400" cy="44460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89"/>
              <p:cNvGrpSpPr/>
              <p:nvPr/>
            </p:nvGrpSpPr>
            <p:grpSpPr>
              <a:xfrm>
                <a:off x="1792080" y="4121280"/>
                <a:ext cx="587160" cy="588960"/>
                <a:chOff x="1792080" y="4121280"/>
                <a:chExt cx="587160" cy="588960"/>
              </a:xfrm>
            </p:grpSpPr>
            <p:sp>
              <p:nvSpPr>
                <p:cNvPr id="220" name="AutoShape 90"/>
                <p:cNvSpPr/>
                <p:nvPr/>
              </p:nvSpPr>
              <p:spPr>
                <a:xfrm flipH="1">
                  <a:off x="1791720" y="412128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91"/>
                <p:cNvSpPr/>
                <p:nvPr/>
              </p:nvSpPr>
              <p:spPr>
                <a:xfrm flipH="1">
                  <a:off x="2085120" y="4264200"/>
                  <a:ext cx="293400" cy="44460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92"/>
                <p:cNvSpPr/>
                <p:nvPr/>
              </p:nvSpPr>
              <p:spPr>
                <a:xfrm>
                  <a:off x="1793520" y="4265640"/>
                  <a:ext cx="293400" cy="44460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Group 93"/>
              <p:cNvGrpSpPr/>
              <p:nvPr/>
            </p:nvGrpSpPr>
            <p:grpSpPr>
              <a:xfrm>
                <a:off x="2044440" y="1568520"/>
                <a:ext cx="587160" cy="590400"/>
                <a:chOff x="2044440" y="1568520"/>
                <a:chExt cx="587160" cy="590400"/>
              </a:xfrm>
            </p:grpSpPr>
            <p:sp>
              <p:nvSpPr>
                <p:cNvPr id="224" name="AutoShape 94"/>
                <p:cNvSpPr/>
                <p:nvPr/>
              </p:nvSpPr>
              <p:spPr>
                <a:xfrm flipH="1">
                  <a:off x="2044080" y="156852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95"/>
                <p:cNvSpPr/>
                <p:nvPr/>
              </p:nvSpPr>
              <p:spPr>
                <a:xfrm flipH="1">
                  <a:off x="2337480" y="171144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96"/>
                <p:cNvSpPr/>
                <p:nvPr/>
              </p:nvSpPr>
              <p:spPr>
                <a:xfrm>
                  <a:off x="2045880" y="171288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97"/>
              <p:cNvGrpSpPr/>
              <p:nvPr/>
            </p:nvGrpSpPr>
            <p:grpSpPr>
              <a:xfrm>
                <a:off x="2070000" y="3659400"/>
                <a:ext cx="587520" cy="590400"/>
                <a:chOff x="2070000" y="3659400"/>
                <a:chExt cx="587520" cy="590400"/>
              </a:xfrm>
            </p:grpSpPr>
            <p:sp>
              <p:nvSpPr>
                <p:cNvPr id="228" name="AutoShape 98"/>
                <p:cNvSpPr/>
                <p:nvPr/>
              </p:nvSpPr>
              <p:spPr>
                <a:xfrm flipH="1">
                  <a:off x="2070000" y="365940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99"/>
                <p:cNvSpPr/>
                <p:nvPr/>
              </p:nvSpPr>
              <p:spPr>
                <a:xfrm flipH="1">
                  <a:off x="2360520" y="3803760"/>
                  <a:ext cx="293760" cy="44460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00"/>
                <p:cNvSpPr/>
                <p:nvPr/>
              </p:nvSpPr>
              <p:spPr>
                <a:xfrm>
                  <a:off x="2076480" y="380376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Group 101"/>
            <p:cNvGrpSpPr/>
            <p:nvPr/>
          </p:nvGrpSpPr>
          <p:grpSpPr>
            <a:xfrm>
              <a:off x="1162080" y="1560600"/>
              <a:ext cx="1471680" cy="3767040"/>
              <a:chOff x="1162080" y="1560600"/>
              <a:chExt cx="1471680" cy="3767040"/>
            </a:xfrm>
          </p:grpSpPr>
          <p:sp>
            <p:nvSpPr>
              <p:cNvPr id="232" name="AutoShape 102"/>
              <p:cNvSpPr/>
              <p:nvPr/>
            </p:nvSpPr>
            <p:spPr>
              <a:xfrm flipH="1">
                <a:off x="1162080" y="4434120"/>
                <a:ext cx="587520" cy="29340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3" name="Freeform 103"/>
              <p:cNvSpPr/>
              <p:nvPr/>
            </p:nvSpPr>
            <p:spPr>
              <a:xfrm flipH="1">
                <a:off x="1455840" y="4578480"/>
                <a:ext cx="293760" cy="44604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4" name="Freeform 104"/>
              <p:cNvSpPr/>
              <p:nvPr/>
            </p:nvSpPr>
            <p:spPr>
              <a:xfrm>
                <a:off x="1162080" y="4578480"/>
                <a:ext cx="293760" cy="4460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5" name="AutoShape 105"/>
              <p:cNvSpPr/>
              <p:nvPr/>
            </p:nvSpPr>
            <p:spPr>
              <a:xfrm flipH="1">
                <a:off x="1162080" y="4133880"/>
                <a:ext cx="587520" cy="295200"/>
              </a:xfrm>
              <a:prstGeom prst="diamond">
                <a:avLst/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6" name="Freeform 106"/>
              <p:cNvSpPr/>
              <p:nvPr/>
            </p:nvSpPr>
            <p:spPr>
              <a:xfrm flipH="1">
                <a:off x="1455840" y="4278240"/>
                <a:ext cx="293760" cy="44640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7" name="Freeform 107"/>
              <p:cNvSpPr/>
              <p:nvPr/>
            </p:nvSpPr>
            <p:spPr>
              <a:xfrm>
                <a:off x="1163520" y="4280040"/>
                <a:ext cx="293760" cy="4460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38" name="Group 108"/>
              <p:cNvGrpSpPr/>
              <p:nvPr/>
            </p:nvGrpSpPr>
            <p:grpSpPr>
              <a:xfrm>
                <a:off x="1170000" y="3840120"/>
                <a:ext cx="587520" cy="592200"/>
                <a:chOff x="1170000" y="3840120"/>
                <a:chExt cx="587520" cy="592200"/>
              </a:xfrm>
            </p:grpSpPr>
            <p:sp>
              <p:nvSpPr>
                <p:cNvPr id="239" name="AutoShape 109"/>
                <p:cNvSpPr/>
                <p:nvPr/>
              </p:nvSpPr>
              <p:spPr>
                <a:xfrm flipH="1">
                  <a:off x="1170000" y="3840120"/>
                  <a:ext cx="587520" cy="2952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10"/>
                <p:cNvSpPr/>
                <p:nvPr/>
              </p:nvSpPr>
              <p:spPr>
                <a:xfrm flipH="1">
                  <a:off x="1463760" y="398448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11"/>
                <p:cNvSpPr/>
                <p:nvPr/>
              </p:nvSpPr>
              <p:spPr>
                <a:xfrm>
                  <a:off x="1171440" y="3984480"/>
                  <a:ext cx="293760" cy="4478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AutoShape 112"/>
              <p:cNvSpPr/>
              <p:nvPr/>
            </p:nvSpPr>
            <p:spPr>
              <a:xfrm flipH="1">
                <a:off x="1458360" y="4581720"/>
                <a:ext cx="587160" cy="29376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3" name="Freeform 113"/>
              <p:cNvSpPr/>
              <p:nvPr/>
            </p:nvSpPr>
            <p:spPr>
              <a:xfrm flipH="1">
                <a:off x="1746360" y="4726080"/>
                <a:ext cx="293760" cy="44784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4" name="Freeform 114"/>
              <p:cNvSpPr/>
              <p:nvPr/>
            </p:nvSpPr>
            <p:spPr>
              <a:xfrm>
                <a:off x="1459080" y="4726080"/>
                <a:ext cx="293400" cy="447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45" name="Group 115"/>
              <p:cNvGrpSpPr/>
              <p:nvPr/>
            </p:nvGrpSpPr>
            <p:grpSpPr>
              <a:xfrm>
                <a:off x="1458720" y="4284720"/>
                <a:ext cx="587160" cy="590400"/>
                <a:chOff x="1458720" y="4284720"/>
                <a:chExt cx="587160" cy="590400"/>
              </a:xfrm>
            </p:grpSpPr>
            <p:sp>
              <p:nvSpPr>
                <p:cNvPr id="246" name="AutoShape 116"/>
                <p:cNvSpPr/>
                <p:nvPr/>
              </p:nvSpPr>
              <p:spPr>
                <a:xfrm flipH="1">
                  <a:off x="1458360" y="428472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17"/>
                <p:cNvSpPr/>
                <p:nvPr/>
              </p:nvSpPr>
              <p:spPr>
                <a:xfrm flipH="1">
                  <a:off x="1751760" y="442764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18"/>
                <p:cNvSpPr/>
                <p:nvPr/>
              </p:nvSpPr>
              <p:spPr>
                <a:xfrm>
                  <a:off x="1460160" y="442908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119"/>
              <p:cNvGrpSpPr/>
              <p:nvPr/>
            </p:nvGrpSpPr>
            <p:grpSpPr>
              <a:xfrm>
                <a:off x="1467000" y="3989520"/>
                <a:ext cx="586800" cy="588600"/>
                <a:chOff x="1467000" y="3989520"/>
                <a:chExt cx="586800" cy="588600"/>
              </a:xfrm>
            </p:grpSpPr>
            <p:sp>
              <p:nvSpPr>
                <p:cNvPr id="250" name="AutoShape 120"/>
                <p:cNvSpPr/>
                <p:nvPr/>
              </p:nvSpPr>
              <p:spPr>
                <a:xfrm flipH="1">
                  <a:off x="1467000" y="3989520"/>
                  <a:ext cx="586800" cy="293400"/>
                </a:xfrm>
                <a:prstGeom prst="diamond">
                  <a:avLst/>
                </a:pr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21"/>
                <p:cNvSpPr/>
                <p:nvPr/>
              </p:nvSpPr>
              <p:spPr>
                <a:xfrm flipH="1">
                  <a:off x="1753920" y="4131360"/>
                  <a:ext cx="293400" cy="44496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22"/>
                <p:cNvSpPr/>
                <p:nvPr/>
              </p:nvSpPr>
              <p:spPr>
                <a:xfrm>
                  <a:off x="1468440" y="4133160"/>
                  <a:ext cx="293400" cy="44496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Group 123"/>
              <p:cNvGrpSpPr/>
              <p:nvPr/>
            </p:nvGrpSpPr>
            <p:grpSpPr>
              <a:xfrm>
                <a:off x="1763640" y="4737240"/>
                <a:ext cx="587520" cy="590400"/>
                <a:chOff x="1763640" y="4737240"/>
                <a:chExt cx="587520" cy="590400"/>
              </a:xfrm>
            </p:grpSpPr>
            <p:sp>
              <p:nvSpPr>
                <p:cNvPr id="254" name="AutoShape 124"/>
                <p:cNvSpPr/>
                <p:nvPr/>
              </p:nvSpPr>
              <p:spPr>
                <a:xfrm flipH="1">
                  <a:off x="1763640" y="4737240"/>
                  <a:ext cx="58752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25"/>
                <p:cNvSpPr/>
                <p:nvPr/>
              </p:nvSpPr>
              <p:spPr>
                <a:xfrm flipH="1">
                  <a:off x="2057400" y="488016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126"/>
                <p:cNvSpPr/>
                <p:nvPr/>
              </p:nvSpPr>
              <p:spPr>
                <a:xfrm>
                  <a:off x="1765080" y="4881600"/>
                  <a:ext cx="293760" cy="4460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27"/>
              <p:cNvGrpSpPr/>
              <p:nvPr/>
            </p:nvGrpSpPr>
            <p:grpSpPr>
              <a:xfrm>
                <a:off x="1760040" y="4434120"/>
                <a:ext cx="587160" cy="588600"/>
                <a:chOff x="1760040" y="4434120"/>
                <a:chExt cx="587160" cy="588600"/>
              </a:xfrm>
            </p:grpSpPr>
            <p:sp>
              <p:nvSpPr>
                <p:cNvPr id="258" name="AutoShape 128"/>
                <p:cNvSpPr/>
                <p:nvPr/>
              </p:nvSpPr>
              <p:spPr>
                <a:xfrm flipH="1">
                  <a:off x="1759680" y="4434120"/>
                  <a:ext cx="587160" cy="293400"/>
                </a:xfrm>
                <a:prstGeom prst="diamond">
                  <a:avLst/>
                </a:prstGeom>
                <a:solidFill>
                  <a:srgbClr val="f2ef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29"/>
                <p:cNvSpPr/>
                <p:nvPr/>
              </p:nvSpPr>
              <p:spPr>
                <a:xfrm flipH="1">
                  <a:off x="2049120" y="4577760"/>
                  <a:ext cx="293400" cy="44316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3160"/>
                    <a:gd name="textAreaBottom" fmla="*/ 443520 h 443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30"/>
                <p:cNvSpPr/>
                <p:nvPr/>
              </p:nvSpPr>
              <p:spPr>
                <a:xfrm>
                  <a:off x="1765800" y="4577760"/>
                  <a:ext cx="293400" cy="44496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131"/>
              <p:cNvGrpSpPr/>
              <p:nvPr/>
            </p:nvGrpSpPr>
            <p:grpSpPr>
              <a:xfrm>
                <a:off x="1162080" y="3544920"/>
                <a:ext cx="587520" cy="588960"/>
                <a:chOff x="1162080" y="3544920"/>
                <a:chExt cx="587520" cy="588960"/>
              </a:xfrm>
            </p:grpSpPr>
            <p:sp>
              <p:nvSpPr>
                <p:cNvPr id="262" name="AutoShape 132"/>
                <p:cNvSpPr/>
                <p:nvPr/>
              </p:nvSpPr>
              <p:spPr>
                <a:xfrm flipH="1">
                  <a:off x="1162080" y="3544920"/>
                  <a:ext cx="58752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33"/>
                <p:cNvSpPr/>
                <p:nvPr/>
              </p:nvSpPr>
              <p:spPr>
                <a:xfrm flipH="1">
                  <a:off x="1447920" y="3689280"/>
                  <a:ext cx="293760" cy="44460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34"/>
                <p:cNvSpPr/>
                <p:nvPr/>
              </p:nvSpPr>
              <p:spPr>
                <a:xfrm>
                  <a:off x="1162080" y="3689280"/>
                  <a:ext cx="293760" cy="4446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Group 135"/>
              <p:cNvGrpSpPr/>
              <p:nvPr/>
            </p:nvGrpSpPr>
            <p:grpSpPr>
              <a:xfrm>
                <a:off x="1465200" y="3692520"/>
                <a:ext cx="587520" cy="592200"/>
                <a:chOff x="1465200" y="3692520"/>
                <a:chExt cx="587520" cy="592200"/>
              </a:xfrm>
            </p:grpSpPr>
            <p:sp>
              <p:nvSpPr>
                <p:cNvPr id="266" name="AutoShape 136"/>
                <p:cNvSpPr/>
                <p:nvPr/>
              </p:nvSpPr>
              <p:spPr>
                <a:xfrm flipH="1">
                  <a:off x="1465200" y="3692520"/>
                  <a:ext cx="587520" cy="2952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37"/>
                <p:cNvSpPr/>
                <p:nvPr/>
              </p:nvSpPr>
              <p:spPr>
                <a:xfrm flipH="1">
                  <a:off x="1758960" y="383688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38"/>
                <p:cNvSpPr/>
                <p:nvPr/>
              </p:nvSpPr>
              <p:spPr>
                <a:xfrm>
                  <a:off x="1466640" y="3836880"/>
                  <a:ext cx="293760" cy="4478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139"/>
              <p:cNvGrpSpPr/>
              <p:nvPr/>
            </p:nvGrpSpPr>
            <p:grpSpPr>
              <a:xfrm>
                <a:off x="2039760" y="2793960"/>
                <a:ext cx="587160" cy="590400"/>
                <a:chOff x="2039760" y="2793960"/>
                <a:chExt cx="587160" cy="590400"/>
              </a:xfrm>
            </p:grpSpPr>
            <p:sp>
              <p:nvSpPr>
                <p:cNvPr id="270" name="AutoShape 140"/>
                <p:cNvSpPr/>
                <p:nvPr/>
              </p:nvSpPr>
              <p:spPr>
                <a:xfrm flipH="1">
                  <a:off x="2039400" y="279396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141"/>
                <p:cNvSpPr/>
                <p:nvPr/>
              </p:nvSpPr>
              <p:spPr>
                <a:xfrm flipH="1">
                  <a:off x="2332800" y="293688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142"/>
                <p:cNvSpPr/>
                <p:nvPr/>
              </p:nvSpPr>
              <p:spPr>
                <a:xfrm>
                  <a:off x="2041200" y="293832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Group 143"/>
              <p:cNvGrpSpPr/>
              <p:nvPr/>
            </p:nvGrpSpPr>
            <p:grpSpPr>
              <a:xfrm>
                <a:off x="1753920" y="3245040"/>
                <a:ext cx="587160" cy="588960"/>
                <a:chOff x="1753920" y="3245040"/>
                <a:chExt cx="587160" cy="588960"/>
              </a:xfrm>
            </p:grpSpPr>
            <p:sp>
              <p:nvSpPr>
                <p:cNvPr id="274" name="AutoShape 144"/>
                <p:cNvSpPr/>
                <p:nvPr/>
              </p:nvSpPr>
              <p:spPr>
                <a:xfrm flipH="1">
                  <a:off x="1753560" y="324504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45"/>
                <p:cNvSpPr/>
                <p:nvPr/>
              </p:nvSpPr>
              <p:spPr>
                <a:xfrm flipH="1">
                  <a:off x="2046960" y="3387960"/>
                  <a:ext cx="293400" cy="44460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46"/>
                <p:cNvSpPr/>
                <p:nvPr/>
              </p:nvSpPr>
              <p:spPr>
                <a:xfrm>
                  <a:off x="1755360" y="3389400"/>
                  <a:ext cx="293400" cy="44460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147"/>
              <p:cNvGrpSpPr/>
              <p:nvPr/>
            </p:nvGrpSpPr>
            <p:grpSpPr>
              <a:xfrm>
                <a:off x="1753920" y="4141800"/>
                <a:ext cx="587160" cy="588960"/>
                <a:chOff x="1753920" y="4141800"/>
                <a:chExt cx="587160" cy="588960"/>
              </a:xfrm>
            </p:grpSpPr>
            <p:sp>
              <p:nvSpPr>
                <p:cNvPr id="278" name="AutoShape 148"/>
                <p:cNvSpPr/>
                <p:nvPr/>
              </p:nvSpPr>
              <p:spPr>
                <a:xfrm flipH="1">
                  <a:off x="1753560" y="4141800"/>
                  <a:ext cx="587160" cy="29376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49"/>
                <p:cNvSpPr/>
                <p:nvPr/>
              </p:nvSpPr>
              <p:spPr>
                <a:xfrm flipH="1">
                  <a:off x="2046960" y="4284720"/>
                  <a:ext cx="293400" cy="44460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50"/>
                <p:cNvSpPr/>
                <p:nvPr/>
              </p:nvSpPr>
              <p:spPr>
                <a:xfrm>
                  <a:off x="1755360" y="4286160"/>
                  <a:ext cx="293400" cy="44460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151"/>
              <p:cNvGrpSpPr/>
              <p:nvPr/>
            </p:nvGrpSpPr>
            <p:grpSpPr>
              <a:xfrm>
                <a:off x="2020680" y="1560600"/>
                <a:ext cx="587160" cy="590400"/>
                <a:chOff x="2020680" y="1560600"/>
                <a:chExt cx="587160" cy="590400"/>
              </a:xfrm>
            </p:grpSpPr>
            <p:sp>
              <p:nvSpPr>
                <p:cNvPr id="282" name="AutoShape 152"/>
                <p:cNvSpPr/>
                <p:nvPr/>
              </p:nvSpPr>
              <p:spPr>
                <a:xfrm flipH="1">
                  <a:off x="2020320" y="1560600"/>
                  <a:ext cx="587160" cy="293760"/>
                </a:xfrm>
                <a:prstGeom prst="diamond">
                  <a:avLst/>
                </a:pr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53"/>
                <p:cNvSpPr/>
                <p:nvPr/>
              </p:nvSpPr>
              <p:spPr>
                <a:xfrm flipH="1">
                  <a:off x="2313720" y="170352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54"/>
                <p:cNvSpPr/>
                <p:nvPr/>
              </p:nvSpPr>
              <p:spPr>
                <a:xfrm>
                  <a:off x="2022120" y="170496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55"/>
              <p:cNvGrpSpPr/>
              <p:nvPr/>
            </p:nvGrpSpPr>
            <p:grpSpPr>
              <a:xfrm>
                <a:off x="2046240" y="3679920"/>
                <a:ext cx="587520" cy="590400"/>
                <a:chOff x="2046240" y="3679920"/>
                <a:chExt cx="587520" cy="590400"/>
              </a:xfrm>
            </p:grpSpPr>
            <p:sp>
              <p:nvSpPr>
                <p:cNvPr id="286" name="AutoShape 156"/>
                <p:cNvSpPr/>
                <p:nvPr/>
              </p:nvSpPr>
              <p:spPr>
                <a:xfrm flipH="1">
                  <a:off x="2046240" y="3679920"/>
                  <a:ext cx="587520" cy="293760"/>
                </a:xfrm>
                <a:prstGeom prst="diamond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57"/>
                <p:cNvSpPr/>
                <p:nvPr/>
              </p:nvSpPr>
              <p:spPr>
                <a:xfrm flipH="1">
                  <a:off x="2336760" y="3824280"/>
                  <a:ext cx="293760" cy="44460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58"/>
                <p:cNvSpPr/>
                <p:nvPr/>
              </p:nvSpPr>
              <p:spPr>
                <a:xfrm>
                  <a:off x="2052720" y="382428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2ef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3C26-4953-4D24-9033-F5DB2AC18745}" type="slidenum">
              <a:rPr b="0" lang="ko-KR" sz="1400" spc="-1" strike="noStrike">
                <a:solidFill>
                  <a:srgbClr val="4d4d4d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57320" y="897120"/>
            <a:ext cx="718992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Verdana"/>
                <a:ea typeface="Gulim"/>
              </a:rPr>
              <a:t>清爽绿色论文答辩经典</a:t>
            </a:r>
            <a:r>
              <a:rPr b="1" lang="en-US" sz="3600" spc="-1" strike="noStrike">
                <a:solidFill>
                  <a:srgbClr val="4d4d4d"/>
                </a:solidFill>
                <a:latin typeface="Verdana"/>
                <a:ea typeface="Gulim"/>
              </a:rPr>
              <a:t>PPT</a:t>
            </a:r>
            <a:r>
              <a:rPr b="1" lang="zh-CN" sz="3600" spc="-1" strike="noStrike">
                <a:solidFill>
                  <a:srgbClr val="4d4d4d"/>
                </a:solidFill>
                <a:latin typeface="Verdana"/>
                <a:ea typeface="Gulim"/>
              </a:rPr>
              <a:t>模板</a:t>
            </a:r>
            <a:endParaRPr b="1" lang="en-US" sz="36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4438080" y="2535120"/>
            <a:ext cx="27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题目：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******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答辩人：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***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fad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Gulim"/>
              </a:rPr>
              <a:t>Strengths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fad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3"/>
          <p:cNvSpPr/>
          <p:nvPr/>
        </p:nvSpPr>
        <p:spPr>
          <a:xfrm>
            <a:off x="587520" y="1906560"/>
            <a:ext cx="1587240" cy="37623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2293920" y="1914480"/>
            <a:ext cx="1587600" cy="37623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7" name="Rectangle 28"/>
          <p:cNvSpPr/>
          <p:nvPr/>
        </p:nvSpPr>
        <p:spPr>
          <a:xfrm>
            <a:off x="3998880" y="1920960"/>
            <a:ext cx="1587600" cy="376236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5703840" y="1927080"/>
            <a:ext cx="1587600" cy="37623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7377120" y="2066760"/>
            <a:ext cx="1157400" cy="3610080"/>
          </a:xfrm>
          <a:custGeom>
            <a:avLst/>
            <a:gdLst>
              <a:gd name="textAreaLeft" fmla="*/ 0 w 1157400"/>
              <a:gd name="textAreaRight" fmla="*/ 1157400 w 1157400"/>
              <a:gd name="textAreaTop" fmla="*/ 0 h 3610080"/>
              <a:gd name="textAreaBottom" fmla="*/ 3610440 h 361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877" y="0"/>
                </a:lnTo>
                <a:lnTo>
                  <a:pt x="21600" y="10800"/>
                </a:lnTo>
                <a:lnTo>
                  <a:pt x="68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HY헤드라인M"/>
              </a:rPr>
              <a:t>Sub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HY헤드라인M"/>
              </a:rPr>
              <a:t>Titl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0" name="AutoShape 11"/>
          <p:cNvSpPr/>
          <p:nvPr/>
        </p:nvSpPr>
        <p:spPr>
          <a:xfrm>
            <a:off x="5721480" y="1522440"/>
            <a:ext cx="2104920" cy="1093680"/>
          </a:xfrm>
          <a:prstGeom prst="rightArrow">
            <a:avLst>
              <a:gd name="adj1" fmla="val 65917"/>
              <a:gd name="adj2" fmla="val 49684"/>
            </a:avLst>
          </a:prstGeom>
          <a:gradFill rotWithShape="0">
            <a:gsLst>
              <a:gs pos="0">
                <a:srgbClr val="706f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1" name="Oval 13"/>
          <p:cNvSpPr/>
          <p:nvPr/>
        </p:nvSpPr>
        <p:spPr>
          <a:xfrm>
            <a:off x="2077920" y="3402000"/>
            <a:ext cx="292320" cy="29196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2" name="AutoShape 14"/>
          <p:cNvSpPr/>
          <p:nvPr/>
        </p:nvSpPr>
        <p:spPr>
          <a:xfrm rot="5400000">
            <a:off x="2163960" y="348840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3" name="Oval 16"/>
          <p:cNvSpPr/>
          <p:nvPr/>
        </p:nvSpPr>
        <p:spPr>
          <a:xfrm>
            <a:off x="3792600" y="3414600"/>
            <a:ext cx="291960" cy="29232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706f2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4" name="AutoShape 17"/>
          <p:cNvSpPr/>
          <p:nvPr/>
        </p:nvSpPr>
        <p:spPr>
          <a:xfrm rot="5400000">
            <a:off x="3879000" y="3501000"/>
            <a:ext cx="169920" cy="11448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5502240" y="3414600"/>
            <a:ext cx="291960" cy="29232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 rot="5400000">
            <a:off x="5588280" y="350100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4035600" y="1522440"/>
            <a:ext cx="2103120" cy="1093680"/>
          </a:xfrm>
          <a:prstGeom prst="rightArrow">
            <a:avLst>
              <a:gd name="adj1" fmla="val 65917"/>
              <a:gd name="adj2" fmla="val 49641"/>
            </a:avLst>
          </a:pr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C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9" name="AutoShape 9"/>
          <p:cNvSpPr/>
          <p:nvPr/>
        </p:nvSpPr>
        <p:spPr>
          <a:xfrm>
            <a:off x="2316240" y="1522440"/>
            <a:ext cx="2128680" cy="1093680"/>
          </a:xfrm>
          <a:prstGeom prst="rightArrow">
            <a:avLst>
              <a:gd name="adj1" fmla="val 65917"/>
              <a:gd name="adj2" fmla="val 50244"/>
            </a:avLst>
          </a:prstGeom>
          <a:gradFill rotWithShape="0">
            <a:gsLst>
              <a:gs pos="0">
                <a:srgbClr val="706f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B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563400" y="1522440"/>
            <a:ext cx="2165400" cy="1093680"/>
          </a:xfrm>
          <a:prstGeom prst="rightArrow">
            <a:avLst>
              <a:gd name="adj1" fmla="val 65917"/>
              <a:gd name="adj2" fmla="val 51111"/>
            </a:avLst>
          </a:pr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7545240" y="1312920"/>
            <a:ext cx="898560" cy="2952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69880" y="3621240"/>
            <a:ext cx="7877160" cy="2369880"/>
          </a:xfrm>
          <a:prstGeom prst="rect">
            <a:avLst/>
          </a:prstGeom>
          <a:gradFill rotWithShape="0">
            <a:gsLst>
              <a:gs pos="0">
                <a:srgbClr val="dbe8b2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Freeform 6"/>
          <p:cNvSpPr/>
          <p:nvPr/>
        </p:nvSpPr>
        <p:spPr>
          <a:xfrm rot="19947600">
            <a:off x="4628880" y="1362240"/>
            <a:ext cx="311040" cy="312480"/>
          </a:xfrm>
          <a:custGeom>
            <a:avLst/>
            <a:gdLst>
              <a:gd name="textAreaLeft" fmla="*/ 0 w 311040"/>
              <a:gd name="textAreaRight" fmla="*/ 311400 w 31104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408" h="411">
                <a:moveTo>
                  <a:pt x="0" y="411"/>
                </a:moveTo>
                <a:lnTo>
                  <a:pt x="408" y="411"/>
                </a:lnTo>
                <a:lnTo>
                  <a:pt x="408" y="0"/>
                </a:lnTo>
                <a:lnTo>
                  <a:pt x="0" y="411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ffffff">
                  <a:alpha val="20000"/>
                </a:srgbClr>
              </a:gs>
            </a:gsLst>
            <a:lin ang="70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569880" y="1608120"/>
            <a:ext cx="7877160" cy="2030400"/>
          </a:xfrm>
          <a:prstGeom prst="rect">
            <a:avLst/>
          </a:prstGeom>
          <a:solidFill>
            <a:srgbClr val="dbe8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720720" y="1860480"/>
            <a:ext cx="36972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1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708120" y="2886120"/>
            <a:ext cx="217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2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698400" y="3938760"/>
            <a:ext cx="2451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3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2571840" y="226692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714240" y="4927680"/>
            <a:ext cx="225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4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6651720" y="1312920"/>
            <a:ext cx="898560" cy="296640"/>
          </a:xfrm>
          <a:prstGeom prst="rect">
            <a:avLst/>
          </a:pr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5764320" y="1312920"/>
            <a:ext cx="898560" cy="2966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4856040" y="1312920"/>
            <a:ext cx="908280" cy="296640"/>
          </a:xfrm>
          <a:prstGeom prst="rect">
            <a:avLst/>
          </a:pr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5081760" y="1320840"/>
            <a:ext cx="509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5991120" y="1335240"/>
            <a:ext cx="465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2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6886440" y="1322280"/>
            <a:ext cx="466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7791480" y="1328760"/>
            <a:ext cx="39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4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2581200" y="329076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2590920" y="4371840"/>
            <a:ext cx="1990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2600280" y="532440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4853160" y="1596960"/>
            <a:ext cx="3417840" cy="4411440"/>
            <a:chOff x="4853160" y="1596960"/>
            <a:chExt cx="3417840" cy="4411440"/>
          </a:xfrm>
        </p:grpSpPr>
        <p:grpSp>
          <p:nvGrpSpPr>
            <p:cNvPr id="371" name="Group 24"/>
            <p:cNvGrpSpPr/>
            <p:nvPr/>
          </p:nvGrpSpPr>
          <p:grpSpPr>
            <a:xfrm>
              <a:off x="4853160" y="1596960"/>
              <a:ext cx="3414600" cy="2045880"/>
              <a:chOff x="4853160" y="1596960"/>
              <a:chExt cx="3414600" cy="2045880"/>
            </a:xfrm>
          </p:grpSpPr>
          <p:grpSp>
            <p:nvGrpSpPr>
              <p:cNvPr id="372" name="Group 25"/>
              <p:cNvGrpSpPr/>
              <p:nvPr/>
            </p:nvGrpSpPr>
            <p:grpSpPr>
              <a:xfrm>
                <a:off x="4853160" y="1599480"/>
                <a:ext cx="906480" cy="2031840"/>
                <a:chOff x="4853160" y="1599480"/>
                <a:chExt cx="906480" cy="2031840"/>
              </a:xfrm>
            </p:grpSpPr>
            <p:sp>
              <p:nvSpPr>
                <p:cNvPr id="373" name="Rectangle 26"/>
                <p:cNvSpPr/>
                <p:nvPr/>
              </p:nvSpPr>
              <p:spPr>
                <a:xfrm>
                  <a:off x="5577120" y="1599480"/>
                  <a:ext cx="182520" cy="203148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27"/>
                <p:cNvSpPr/>
                <p:nvPr/>
              </p:nvSpPr>
              <p:spPr>
                <a:xfrm>
                  <a:off x="4853160" y="1600560"/>
                  <a:ext cx="182520" cy="203076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Rectangle 28"/>
                <p:cNvSpPr/>
                <p:nvPr/>
              </p:nvSpPr>
              <p:spPr>
                <a:xfrm>
                  <a:off x="5221440" y="1599480"/>
                  <a:ext cx="182520" cy="203148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Rectangle 29"/>
              <p:cNvSpPr/>
              <p:nvPr/>
            </p:nvSpPr>
            <p:spPr>
              <a:xfrm>
                <a:off x="6656400" y="1599480"/>
                <a:ext cx="169920" cy="20376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7" name="Rectangle 30"/>
              <p:cNvSpPr/>
              <p:nvPr/>
            </p:nvSpPr>
            <p:spPr>
              <a:xfrm>
                <a:off x="5932800" y="1600200"/>
                <a:ext cx="182520" cy="203076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8" name="Rectangle 31"/>
              <p:cNvSpPr/>
              <p:nvPr/>
            </p:nvSpPr>
            <p:spPr>
              <a:xfrm>
                <a:off x="6301080" y="1598040"/>
                <a:ext cx="166680" cy="203904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9" name="Rectangle 32"/>
              <p:cNvSpPr/>
              <p:nvPr/>
            </p:nvSpPr>
            <p:spPr>
              <a:xfrm>
                <a:off x="7012080" y="1599480"/>
                <a:ext cx="182520" cy="20376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0" name="Rectangle 33"/>
              <p:cNvSpPr/>
              <p:nvPr/>
            </p:nvSpPr>
            <p:spPr>
              <a:xfrm>
                <a:off x="7366320" y="1598040"/>
                <a:ext cx="182520" cy="20448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1" name="Rectangle 34"/>
              <p:cNvSpPr/>
              <p:nvPr/>
            </p:nvSpPr>
            <p:spPr>
              <a:xfrm>
                <a:off x="7731360" y="1596960"/>
                <a:ext cx="182520" cy="204048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2" name="Rectangle 35"/>
              <p:cNvSpPr/>
              <p:nvPr/>
            </p:nvSpPr>
            <p:spPr>
              <a:xfrm>
                <a:off x="8099640" y="1601640"/>
                <a:ext cx="168120" cy="204048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36"/>
            <p:cNvGrpSpPr/>
            <p:nvPr/>
          </p:nvGrpSpPr>
          <p:grpSpPr>
            <a:xfrm>
              <a:off x="4856400" y="3638520"/>
              <a:ext cx="3414600" cy="2369880"/>
              <a:chOff x="4856400" y="3638520"/>
              <a:chExt cx="3414600" cy="2369880"/>
            </a:xfrm>
          </p:grpSpPr>
          <p:grpSp>
            <p:nvGrpSpPr>
              <p:cNvPr id="384" name="Group 37"/>
              <p:cNvGrpSpPr/>
              <p:nvPr/>
            </p:nvGrpSpPr>
            <p:grpSpPr>
              <a:xfrm>
                <a:off x="4856400" y="3641760"/>
                <a:ext cx="906480" cy="2353320"/>
                <a:chOff x="4856400" y="3641760"/>
                <a:chExt cx="906480" cy="2353320"/>
              </a:xfrm>
            </p:grpSpPr>
            <p:sp>
              <p:nvSpPr>
                <p:cNvPr id="385" name="Rectangle 38"/>
                <p:cNvSpPr/>
                <p:nvPr/>
              </p:nvSpPr>
              <p:spPr>
                <a:xfrm>
                  <a:off x="5580360" y="3641760"/>
                  <a:ext cx="182520" cy="235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39"/>
                <p:cNvSpPr/>
                <p:nvPr/>
              </p:nvSpPr>
              <p:spPr>
                <a:xfrm>
                  <a:off x="4856400" y="3643200"/>
                  <a:ext cx="182520" cy="235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Rectangle 40"/>
                <p:cNvSpPr/>
                <p:nvPr/>
              </p:nvSpPr>
              <p:spPr>
                <a:xfrm>
                  <a:off x="5224680" y="3641760"/>
                  <a:ext cx="182520" cy="235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Rectangle 41"/>
              <p:cNvSpPr/>
              <p:nvPr/>
            </p:nvSpPr>
            <p:spPr>
              <a:xfrm>
                <a:off x="6659640" y="3641760"/>
                <a:ext cx="169920" cy="23601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9" name="Rectangle 42"/>
              <p:cNvSpPr/>
              <p:nvPr/>
            </p:nvSpPr>
            <p:spPr>
              <a:xfrm>
                <a:off x="5936040" y="3642480"/>
                <a:ext cx="182520" cy="235224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0" name="Rectangle 43"/>
              <p:cNvSpPr/>
              <p:nvPr/>
            </p:nvSpPr>
            <p:spPr>
              <a:xfrm>
                <a:off x="6304320" y="3639960"/>
                <a:ext cx="166680" cy="23619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1" name="Rectangle 44"/>
              <p:cNvSpPr/>
              <p:nvPr/>
            </p:nvSpPr>
            <p:spPr>
              <a:xfrm>
                <a:off x="7015320" y="3641760"/>
                <a:ext cx="182520" cy="23601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2" name="Rectangle 45"/>
              <p:cNvSpPr/>
              <p:nvPr/>
            </p:nvSpPr>
            <p:spPr>
              <a:xfrm>
                <a:off x="7369560" y="3639960"/>
                <a:ext cx="182520" cy="236844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3" name="Rectangle 46"/>
              <p:cNvSpPr/>
              <p:nvPr/>
            </p:nvSpPr>
            <p:spPr>
              <a:xfrm>
                <a:off x="7734600" y="3638520"/>
                <a:ext cx="182520" cy="23637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4" name="Rectangle 47"/>
              <p:cNvSpPr/>
              <p:nvPr/>
            </p:nvSpPr>
            <p:spPr>
              <a:xfrm>
                <a:off x="8102880" y="3643920"/>
                <a:ext cx="168120" cy="23637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Line 48"/>
          <p:cNvSpPr/>
          <p:nvPr/>
        </p:nvSpPr>
        <p:spPr>
          <a:xfrm>
            <a:off x="577800" y="2577960"/>
            <a:ext cx="786600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6" name="Line 49"/>
          <p:cNvSpPr/>
          <p:nvPr/>
        </p:nvSpPr>
        <p:spPr>
          <a:xfrm>
            <a:off x="590400" y="3637080"/>
            <a:ext cx="786636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7" name="Line 50"/>
          <p:cNvSpPr/>
          <p:nvPr/>
        </p:nvSpPr>
        <p:spPr>
          <a:xfrm>
            <a:off x="579600" y="4710240"/>
            <a:ext cx="786600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8" name="Rectangle 51"/>
          <p:cNvSpPr/>
          <p:nvPr/>
        </p:nvSpPr>
        <p:spPr>
          <a:xfrm>
            <a:off x="4859280" y="1989000"/>
            <a:ext cx="900000" cy="195480"/>
          </a:xfrm>
          <a:prstGeom prst="rect">
            <a:avLst/>
          </a:prstGeom>
          <a:gradFill rotWithShape="0">
            <a:gsLst>
              <a:gs pos="0">
                <a:srgbClr val="253800"/>
              </a:gs>
              <a:gs pos="50000">
                <a:srgbClr val="507800"/>
              </a:gs>
              <a:gs pos="100000">
                <a:srgbClr val="253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9" name="Rectangle 52"/>
          <p:cNvSpPr/>
          <p:nvPr/>
        </p:nvSpPr>
        <p:spPr>
          <a:xfrm>
            <a:off x="5780160" y="3024360"/>
            <a:ext cx="900000" cy="195120"/>
          </a:xfrm>
          <a:prstGeom prst="rect">
            <a:avLst/>
          </a:prstGeom>
          <a:gradFill rotWithShape="0">
            <a:gsLst>
              <a:gs pos="0">
                <a:srgbClr val="253800"/>
              </a:gs>
              <a:gs pos="50000">
                <a:srgbClr val="507800"/>
              </a:gs>
              <a:gs pos="100000">
                <a:srgbClr val="253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0" name="Rectangle 53"/>
          <p:cNvSpPr/>
          <p:nvPr/>
        </p:nvSpPr>
        <p:spPr>
          <a:xfrm>
            <a:off x="6659640" y="4086360"/>
            <a:ext cx="900000" cy="195120"/>
          </a:xfrm>
          <a:prstGeom prst="rect">
            <a:avLst/>
          </a:prstGeom>
          <a:gradFill rotWithShape="0">
            <a:gsLst>
              <a:gs pos="0">
                <a:srgbClr val="253800"/>
              </a:gs>
              <a:gs pos="50000">
                <a:srgbClr val="507800"/>
              </a:gs>
              <a:gs pos="100000">
                <a:srgbClr val="253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1" name="Rectangle 54"/>
          <p:cNvSpPr/>
          <p:nvPr/>
        </p:nvSpPr>
        <p:spPr>
          <a:xfrm>
            <a:off x="7551720" y="5102280"/>
            <a:ext cx="900000" cy="195120"/>
          </a:xfrm>
          <a:prstGeom prst="rect">
            <a:avLst/>
          </a:prstGeom>
          <a:gradFill rotWithShape="0">
            <a:gsLst>
              <a:gs pos="0">
                <a:srgbClr val="253800"/>
              </a:gs>
              <a:gs pos="50000">
                <a:srgbClr val="507800"/>
              </a:gs>
              <a:gs pos="100000">
                <a:srgbClr val="253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Time Schedu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4"/>
          <p:cNvSpPr/>
          <p:nvPr/>
        </p:nvSpPr>
        <p:spPr>
          <a:xfrm>
            <a:off x="6286680" y="1754280"/>
            <a:ext cx="2427120" cy="928440"/>
          </a:xfrm>
          <a:custGeom>
            <a:avLst/>
            <a:gdLst>
              <a:gd name="textAreaLeft" fmla="*/ 0 w 2427120"/>
              <a:gd name="textAreaRight" fmla="*/ 2427480 w 24271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4408560" y="1754280"/>
            <a:ext cx="2388960" cy="92844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06f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2470320" y="1751040"/>
            <a:ext cx="2427120" cy="942840"/>
          </a:xfrm>
          <a:custGeom>
            <a:avLst/>
            <a:gdLst>
              <a:gd name="textAreaLeft" fmla="*/ 0 w 2427120"/>
              <a:gd name="textAreaRight" fmla="*/ 2427480 w 24271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514440" y="1752480"/>
            <a:ext cx="2378160" cy="93996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06f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6797520" y="2017800"/>
            <a:ext cx="1576440" cy="4395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D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4902120" y="2014560"/>
            <a:ext cx="1609920" cy="438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C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9" name="AutoShape 10"/>
          <p:cNvSpPr/>
          <p:nvPr/>
        </p:nvSpPr>
        <p:spPr>
          <a:xfrm>
            <a:off x="627120" y="1982880"/>
            <a:ext cx="1931760" cy="434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2790720" y="1987560"/>
            <a:ext cx="1792440" cy="438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B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6381720" y="2641680"/>
            <a:ext cx="1949400" cy="30081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4527720" y="2641680"/>
            <a:ext cx="1876320" cy="30081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2530440" y="2639880"/>
            <a:ext cx="1986120" cy="30085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514440" y="2646360"/>
            <a:ext cx="2011320" cy="300348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627120" y="3184560"/>
            <a:ext cx="1828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6" name="Oval 20"/>
          <p:cNvSpPr/>
          <p:nvPr/>
        </p:nvSpPr>
        <p:spPr>
          <a:xfrm rot="16200000">
            <a:off x="138096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706f2d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7" name="AutoShape 21"/>
          <p:cNvSpPr/>
          <p:nvPr/>
        </p:nvSpPr>
        <p:spPr>
          <a:xfrm>
            <a:off x="1440000" y="2629080"/>
            <a:ext cx="16956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8" name="Oval 22"/>
          <p:cNvSpPr/>
          <p:nvPr/>
        </p:nvSpPr>
        <p:spPr>
          <a:xfrm rot="16200000">
            <a:off x="338760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100000">
                <a:srgbClr val="2538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9" name="AutoShape 23"/>
          <p:cNvSpPr/>
          <p:nvPr/>
        </p:nvSpPr>
        <p:spPr>
          <a:xfrm>
            <a:off x="3446640" y="2629080"/>
            <a:ext cx="16956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0" name="Oval 25"/>
          <p:cNvSpPr/>
          <p:nvPr/>
        </p:nvSpPr>
        <p:spPr>
          <a:xfrm rot="16200000">
            <a:off x="5362200" y="2565360"/>
            <a:ext cx="292320" cy="29196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706f2d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1" name="AutoShape 26"/>
          <p:cNvSpPr/>
          <p:nvPr/>
        </p:nvSpPr>
        <p:spPr>
          <a:xfrm>
            <a:off x="5421240" y="262908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2" name="Oval 27"/>
          <p:cNvSpPr/>
          <p:nvPr/>
        </p:nvSpPr>
        <p:spPr>
          <a:xfrm rot="16200000">
            <a:off x="726588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100000">
                <a:srgbClr val="2538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3" name="AutoShape 28"/>
          <p:cNvSpPr/>
          <p:nvPr/>
        </p:nvSpPr>
        <p:spPr>
          <a:xfrm>
            <a:off x="7324560" y="262908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5" name="Rectangle 32"/>
          <p:cNvSpPr/>
          <p:nvPr/>
        </p:nvSpPr>
        <p:spPr>
          <a:xfrm>
            <a:off x="2614680" y="3193920"/>
            <a:ext cx="182880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6" name="Rectangle 33"/>
          <p:cNvSpPr/>
          <p:nvPr/>
        </p:nvSpPr>
        <p:spPr>
          <a:xfrm>
            <a:off x="4559400" y="3203640"/>
            <a:ext cx="1828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7" name="Rectangle 34"/>
          <p:cNvSpPr/>
          <p:nvPr/>
        </p:nvSpPr>
        <p:spPr>
          <a:xfrm>
            <a:off x="6475320" y="3213000"/>
            <a:ext cx="182880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5200" y="1114560"/>
            <a:ext cx="443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Times New Roman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078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12C0-A84C-45F9-9BD4-0951C4654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57320" y="513360"/>
            <a:ext cx="71899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Verdana"/>
                <a:ea typeface="Gulim"/>
              </a:rPr>
              <a:t>PowerPoint</a:t>
            </a:r>
            <a:r>
              <a:rPr b="1" lang="en-US" sz="4400" spc="-1" strike="noStrike">
                <a:solidFill>
                  <a:srgbClr val="507800"/>
                </a:solidFill>
                <a:latin typeface="Verdana"/>
                <a:ea typeface="Gulim"/>
              </a:rPr>
              <a:t> Template</a:t>
            </a:r>
            <a:br>
              <a:rPr sz="4400"/>
            </a:b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4864680" y="31352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d4d4d"/>
                </a:solidFill>
                <a:latin typeface="方正粗圆简体"/>
                <a:ea typeface="方正粗圆简体"/>
              </a:rPr>
              <a:t>谢谢您的关注</a:t>
            </a:r>
            <a:endParaRPr b="0" lang="en-US" sz="4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3:18:13Z</dcterms:created>
  <dc:creator>keke</dc:creator>
  <dc:description/>
  <dc:language>en-US</dc:language>
  <cp:lastModifiedBy>黄炜炜</cp:lastModifiedBy>
  <dcterms:modified xsi:type="dcterms:W3CDTF">2015-08-09T01:10:59Z</dcterms:modified>
  <cp:revision>34</cp:revision>
  <dc:subject/>
  <dc:title>PowerPoint Template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