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690-78D2-43A9-9F7D-DA99ADD2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476-EF1C-4389-A965-BFE8B905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70CC-6A0B-4561-852D-230C8DBD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AE2-A02F-4352-B12C-840207C6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E2F0-DBAF-4767-80B0-CD4C884D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74D-671B-408E-8573-41A53AD2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AAED-74F5-472A-8798-D52903D5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70B-5A76-4B70-92A8-8DDB4FC1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5C07-8025-40E4-9385-8BFBD0DB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33C6-2FE4-46C0-9E32-578E7712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326-4F14-41AF-A243-E2C99DA4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9999-80D2-4580-8A0F-358C0E08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FE18-B8B5-4FD3-8B96-D9D3AD3EBC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71002.ht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50553.htm" TargetMode="External"/><Relationship Id="rId3" Type="http://schemas.openxmlformats.org/officeDocument/2006/relationships/hyperlink" Target="http://baike.baidu.com/view/1410852.ht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143160" y="4071960"/>
            <a:ext cx="48578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七夕爱情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214800" y="457200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26960" y="117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七夕爱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6021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AF7A-0024-451F-AC50-17BE97923A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15" descr="13212066_091307118000_2.jpg"/>
          <p:cNvPicPr/>
          <p:nvPr/>
        </p:nvPicPr>
        <p:blipFill>
          <a:blip r:embed="rId2"/>
          <a:stretch/>
        </p:blipFill>
        <p:spPr>
          <a:xfrm>
            <a:off x="1285920" y="1357200"/>
            <a:ext cx="647388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流程图: 文档 10"/>
          <p:cNvSpPr/>
          <p:nvPr/>
        </p:nvSpPr>
        <p:spPr>
          <a:xfrm>
            <a:off x="928800" y="1785960"/>
            <a:ext cx="7429320" cy="2357280"/>
          </a:xfrm>
          <a:prstGeom prst="flowChartDocument">
            <a:avLst/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夕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1500120" y="2259000"/>
            <a:ext cx="607212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夕节，又名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乞巧节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七巧节或七姐诞，发源于中国，是华人地区以及部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汉族文化影响的东亚国家传统节日，农历七月七日夜或七月六日夜妇女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庭院向织女星乞求智巧，故称为“”乞巧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日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1"/>
          <p:cNvSpPr/>
          <p:nvPr/>
        </p:nvSpPr>
        <p:spPr>
          <a:xfrm>
            <a:off x="928800" y="1857240"/>
            <a:ext cx="428400" cy="214560"/>
          </a:xfrm>
          <a:prstGeom prst="roundRect">
            <a:avLst>
              <a:gd name="adj" fmla="val 16667"/>
            </a:avLst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12"/>
          <p:cNvSpPr/>
          <p:nvPr/>
        </p:nvSpPr>
        <p:spPr>
          <a:xfrm>
            <a:off x="928800" y="2428920"/>
            <a:ext cx="428400" cy="285840"/>
          </a:xfrm>
          <a:prstGeom prst="roundRect">
            <a:avLst>
              <a:gd name="adj" fmla="val 16667"/>
            </a:avLst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13"/>
          <p:cNvSpPr/>
          <p:nvPr/>
        </p:nvSpPr>
        <p:spPr>
          <a:xfrm>
            <a:off x="928800" y="2857680"/>
            <a:ext cx="428400" cy="285480"/>
          </a:xfrm>
          <a:prstGeom prst="roundRect">
            <a:avLst>
              <a:gd name="adj" fmla="val 16667"/>
            </a:avLst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14"/>
          <p:cNvSpPr/>
          <p:nvPr/>
        </p:nvSpPr>
        <p:spPr>
          <a:xfrm>
            <a:off x="928800" y="3357720"/>
            <a:ext cx="428400" cy="285480"/>
          </a:xfrm>
          <a:prstGeom prst="roundRect">
            <a:avLst>
              <a:gd name="adj" fmla="val 16667"/>
            </a:avLst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15"/>
          <p:cNvSpPr/>
          <p:nvPr/>
        </p:nvSpPr>
        <p:spPr>
          <a:xfrm>
            <a:off x="928800" y="3714840"/>
            <a:ext cx="428400" cy="285840"/>
          </a:xfrm>
          <a:prstGeom prst="roundRect">
            <a:avLst>
              <a:gd name="adj" fmla="val 16667"/>
            </a:avLst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 16"/>
          <p:cNvSpPr/>
          <p:nvPr/>
        </p:nvSpPr>
        <p:spPr>
          <a:xfrm>
            <a:off x="928800" y="4143240"/>
            <a:ext cx="714240" cy="285840"/>
          </a:xfrm>
          <a:prstGeom prst="roundRect">
            <a:avLst>
              <a:gd name="adj" fmla="val 16667"/>
            </a:avLst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 18"/>
          <p:cNvSpPr/>
          <p:nvPr/>
        </p:nvSpPr>
        <p:spPr>
          <a:xfrm>
            <a:off x="928800" y="4572000"/>
            <a:ext cx="714240" cy="285840"/>
          </a:xfrm>
          <a:prstGeom prst="roundRect">
            <a:avLst>
              <a:gd name="adj" fmla="val 16667"/>
            </a:avLst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857160" y="1828800"/>
            <a:ext cx="7358040" cy="33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七：此日月、日皆为七，故称，也称重七。香日：俗传七夕牛女相会，织女要梳妆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打扮、涂脂抹粉，以至满天飘香，故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星期：牛郎织女二星所在的方位特别，一年才能一相遇，故称这一日为星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巧夕：因七夕有乞巧的风俗，故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女节：七夕节以少女拜仙及乞巧、赛巧等为主要节俗活动，故称女节，亦称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女儿节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少女节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兰夜：农历七月古称“兰月”，故七夕又称“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兰夜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儿节：因为乞巧、乞文等俗多由少女、童子为之，故称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穿针节：因为这天有穿针的习俗，故称。</a:t>
            </a:r>
            <a:r>
              <a:rPr b="0" lang="en-US" sz="14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[9]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左大括号 19"/>
          <p:cNvSpPr/>
          <p:nvPr/>
        </p:nvSpPr>
        <p:spPr>
          <a:xfrm>
            <a:off x="428760" y="2000160"/>
            <a:ext cx="357120" cy="2786040"/>
          </a:xfrm>
          <a:custGeom>
            <a:avLst/>
            <a:gdLst>
              <a:gd name="textAreaLeft" fmla="*/ 228240 w 357120"/>
              <a:gd name="textAreaRight" fmla="*/ 357480 w 357120"/>
              <a:gd name="textAreaTop" fmla="*/ 51480 h 2786040"/>
              <a:gd name="textAreaBottom" fmla="*/ 273456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2"/>
                  <a:pt x="10800" y="1284"/>
                </a:cubicBezTo>
                <a:lnTo>
                  <a:pt x="10800" y="9516"/>
                </a:lnTo>
                <a:cubicBezTo>
                  <a:pt x="10800" y="10158"/>
                  <a:pt x="5400" y="10800"/>
                  <a:pt x="0" y="10800"/>
                </a:cubicBezTo>
                <a:cubicBezTo>
                  <a:pt x="5400" y="10800"/>
                  <a:pt x="10800" y="11442"/>
                  <a:pt x="10800" y="12084"/>
                </a:cubicBezTo>
                <a:lnTo>
                  <a:pt x="10800" y="20316"/>
                </a:lnTo>
                <a:cubicBezTo>
                  <a:pt x="10800" y="2095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b54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日习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1643040" y="4143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穿针乞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11" descr="1281988710_AAmf6t.jpg"/>
          <p:cNvPicPr/>
          <p:nvPr/>
        </p:nvPicPr>
        <p:blipFill>
          <a:blip r:embed="rId2"/>
          <a:stretch/>
        </p:blipFill>
        <p:spPr>
          <a:xfrm>
            <a:off x="1143000" y="2357280"/>
            <a:ext cx="2235240" cy="15130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2" descr="qixiqiqiaotu(2).jpg"/>
          <p:cNvPicPr/>
          <p:nvPr/>
        </p:nvPicPr>
        <p:blipFill>
          <a:blip r:embed="rId3"/>
          <a:stretch/>
        </p:blipFill>
        <p:spPr>
          <a:xfrm>
            <a:off x="3786120" y="2382840"/>
            <a:ext cx="1970280" cy="1474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3"/>
          <p:cNvSpPr/>
          <p:nvPr/>
        </p:nvSpPr>
        <p:spPr>
          <a:xfrm>
            <a:off x="4286160" y="41306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拜织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15" descr="u=3280869929,164404997&amp;fm=15&amp;gp=0.jpg"/>
          <p:cNvPicPr/>
          <p:nvPr/>
        </p:nvPicPr>
        <p:blipFill>
          <a:blip r:embed="rId4"/>
          <a:stretch/>
        </p:blipFill>
        <p:spPr>
          <a:xfrm>
            <a:off x="6221520" y="2428920"/>
            <a:ext cx="1850760" cy="1413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16"/>
          <p:cNvSpPr/>
          <p:nvPr/>
        </p:nvSpPr>
        <p:spPr>
          <a:xfrm>
            <a:off x="6643800" y="40719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扎巧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乞巧歌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571680" y="1785960"/>
            <a:ext cx="6429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乞巧歌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  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乞手巧，乞貌巧；乞心通，乞颜容； 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  乞我爹娘千百岁；乞我姊妹千万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  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皇皇地皇皇，俺请七姐姐下天堂。 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  不图你的针，不图你的线，光学你的七十二样好手段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  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巧芽芽，生的怪。盆盆生，手中盖； 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  七月七日摘下来，姐姐妹妹照影来。又像花，又像菜，看谁心灵手儿快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1" descr="19300001332062131242905757163_950.jpg"/>
          <p:cNvPicPr/>
          <p:nvPr/>
        </p:nvPicPr>
        <p:blipFill>
          <a:blip r:embed="rId2"/>
          <a:stretch/>
        </p:blipFill>
        <p:spPr>
          <a:xfrm>
            <a:off x="5572080" y="142920"/>
            <a:ext cx="34434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 形 10"/>
          <p:cNvSpPr/>
          <p:nvPr/>
        </p:nvSpPr>
        <p:spPr>
          <a:xfrm rot="18976800">
            <a:off x="3992400" y="925200"/>
            <a:ext cx="1714680" cy="171432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0" y="0"/>
                </a:moveTo>
                <a:lnTo>
                  <a:pt x="857250" y="0"/>
                </a:lnTo>
                <a:lnTo>
                  <a:pt x="857250" y="857250"/>
                </a:lnTo>
                <a:lnTo>
                  <a:pt x="1714500" y="857250"/>
                </a:lnTo>
                <a:lnTo>
                  <a:pt x="1714500" y="1714500"/>
                </a:lnTo>
                <a:lnTo>
                  <a:pt x="0" y="1714500"/>
                </a:lnTo>
                <a:lnTo>
                  <a:pt x="0" y="0"/>
                </a:lnTo>
                <a:close/>
              </a:path>
            </a:pathLst>
          </a:cu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 形 11"/>
          <p:cNvSpPr/>
          <p:nvPr/>
        </p:nvSpPr>
        <p:spPr>
          <a:xfrm rot="18976800">
            <a:off x="2711520" y="2139840"/>
            <a:ext cx="1714320" cy="171468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0" y="0"/>
                </a:moveTo>
                <a:lnTo>
                  <a:pt x="857250" y="0"/>
                </a:lnTo>
                <a:lnTo>
                  <a:pt x="857250" y="857250"/>
                </a:lnTo>
                <a:lnTo>
                  <a:pt x="1714500" y="857250"/>
                </a:lnTo>
                <a:lnTo>
                  <a:pt x="1714500" y="1714500"/>
                </a:lnTo>
                <a:lnTo>
                  <a:pt x="0" y="1714500"/>
                </a:lnTo>
                <a:lnTo>
                  <a:pt x="0" y="0"/>
                </a:lnTo>
                <a:close/>
              </a:path>
            </a:pathLst>
          </a:cu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 形 12"/>
          <p:cNvSpPr/>
          <p:nvPr/>
        </p:nvSpPr>
        <p:spPr>
          <a:xfrm rot="18976800">
            <a:off x="5207040" y="2217600"/>
            <a:ext cx="1714320" cy="171468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0" y="0"/>
                </a:moveTo>
                <a:lnTo>
                  <a:pt x="857250" y="0"/>
                </a:lnTo>
                <a:lnTo>
                  <a:pt x="857250" y="857250"/>
                </a:lnTo>
                <a:lnTo>
                  <a:pt x="1714500" y="857250"/>
                </a:lnTo>
                <a:lnTo>
                  <a:pt x="1714500" y="1714500"/>
                </a:lnTo>
                <a:lnTo>
                  <a:pt x="0" y="1714500"/>
                </a:lnTo>
                <a:lnTo>
                  <a:pt x="0" y="0"/>
                </a:lnTo>
                <a:close/>
              </a:path>
            </a:pathLst>
          </a:cu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 形 13"/>
          <p:cNvSpPr/>
          <p:nvPr/>
        </p:nvSpPr>
        <p:spPr>
          <a:xfrm rot="18976800">
            <a:off x="3921120" y="3425400"/>
            <a:ext cx="1714680" cy="1714680"/>
          </a:xfrm>
          <a:custGeom>
            <a:avLst/>
            <a:gdLst/>
            <a:ahLst/>
            <a:rect l="l" t="t" r="r" b="b"/>
            <a:pathLst>
              <a:path w="1714500" h="1714500">
                <a:moveTo>
                  <a:pt x="0" y="0"/>
                </a:moveTo>
                <a:lnTo>
                  <a:pt x="857250" y="0"/>
                </a:lnTo>
                <a:lnTo>
                  <a:pt x="857250" y="857250"/>
                </a:lnTo>
                <a:lnTo>
                  <a:pt x="1714500" y="857250"/>
                </a:lnTo>
                <a:lnTo>
                  <a:pt x="1714500" y="1714500"/>
                </a:lnTo>
                <a:lnTo>
                  <a:pt x="0" y="1714500"/>
                </a:lnTo>
                <a:lnTo>
                  <a:pt x="0" y="0"/>
                </a:lnTo>
                <a:close/>
              </a:path>
            </a:pathLst>
          </a:cu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4354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5640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4"/>
          <p:cNvSpPr/>
          <p:nvPr/>
        </p:nvSpPr>
        <p:spPr>
          <a:xfrm>
            <a:off x="4354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5"/>
          <p:cNvSpPr/>
          <p:nvPr/>
        </p:nvSpPr>
        <p:spPr>
          <a:xfrm>
            <a:off x="29991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对角圆角矩形 14"/>
          <p:cNvSpPr/>
          <p:nvPr/>
        </p:nvSpPr>
        <p:spPr>
          <a:xfrm>
            <a:off x="1857240" y="3500280"/>
            <a:ext cx="1865520" cy="1865520"/>
          </a:xfrm>
          <a:custGeom>
            <a:avLst/>
            <a:gdLst/>
            <a:ahLst/>
            <a:rect l="l" t="t" r="r" b="b"/>
            <a:pathLst>
              <a:path w="1865313" h="1865312">
                <a:moveTo>
                  <a:pt x="932656" y="0"/>
                </a:moveTo>
                <a:lnTo>
                  <a:pt x="1865313" y="0"/>
                </a:lnTo>
                <a:lnTo>
                  <a:pt x="1865313" y="0"/>
                </a:lnTo>
                <a:lnTo>
                  <a:pt x="1865313" y="932656"/>
                </a:lnTo>
                <a:cubicBezTo>
                  <a:pt x="1865313" y="1447748"/>
                  <a:pt x="1447749" y="1865312"/>
                  <a:pt x="932657" y="1865312"/>
                </a:cubicBezTo>
                <a:lnTo>
                  <a:pt x="0" y="1865312"/>
                </a:lnTo>
                <a:lnTo>
                  <a:pt x="0" y="1865312"/>
                </a:lnTo>
                <a:lnTo>
                  <a:pt x="0" y="932656"/>
                </a:lnTo>
                <a:cubicBezTo>
                  <a:pt x="0" y="417564"/>
                  <a:pt x="417564" y="0"/>
                  <a:pt x="932656" y="0"/>
                </a:cubicBezTo>
                <a:close/>
              </a:path>
            </a:pathLst>
          </a:cu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对角圆角矩形 15"/>
          <p:cNvSpPr/>
          <p:nvPr/>
        </p:nvSpPr>
        <p:spPr>
          <a:xfrm>
            <a:off x="3722760" y="2259000"/>
            <a:ext cx="1865160" cy="1865160"/>
          </a:xfrm>
          <a:custGeom>
            <a:avLst/>
            <a:gdLst/>
            <a:ahLst/>
            <a:rect l="l" t="t" r="r" b="b"/>
            <a:pathLst>
              <a:path w="1865312" h="1865312">
                <a:moveTo>
                  <a:pt x="932656" y="0"/>
                </a:moveTo>
                <a:lnTo>
                  <a:pt x="1865312" y="0"/>
                </a:lnTo>
                <a:lnTo>
                  <a:pt x="1865312" y="0"/>
                </a:lnTo>
                <a:lnTo>
                  <a:pt x="1865312" y="932656"/>
                </a:lnTo>
                <a:cubicBezTo>
                  <a:pt x="1865312" y="1447748"/>
                  <a:pt x="1447748" y="1865312"/>
                  <a:pt x="932656" y="1865312"/>
                </a:cubicBezTo>
                <a:lnTo>
                  <a:pt x="0" y="1865312"/>
                </a:lnTo>
                <a:lnTo>
                  <a:pt x="0" y="1865312"/>
                </a:lnTo>
                <a:lnTo>
                  <a:pt x="0" y="932656"/>
                </a:lnTo>
                <a:cubicBezTo>
                  <a:pt x="0" y="417564"/>
                  <a:pt x="417564" y="0"/>
                  <a:pt x="932656" y="0"/>
                </a:cubicBezTo>
                <a:close/>
              </a:path>
            </a:pathLst>
          </a:cu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对角圆角矩形 16"/>
          <p:cNvSpPr/>
          <p:nvPr/>
        </p:nvSpPr>
        <p:spPr>
          <a:xfrm>
            <a:off x="5580000" y="1000080"/>
            <a:ext cx="1865520" cy="1865520"/>
          </a:xfrm>
          <a:custGeom>
            <a:avLst/>
            <a:gdLst/>
            <a:ahLst/>
            <a:rect l="l" t="t" r="r" b="b"/>
            <a:pathLst>
              <a:path w="1865312" h="1865313">
                <a:moveTo>
                  <a:pt x="932656" y="0"/>
                </a:moveTo>
                <a:lnTo>
                  <a:pt x="1865312" y="0"/>
                </a:lnTo>
                <a:lnTo>
                  <a:pt x="1865312" y="0"/>
                </a:lnTo>
                <a:lnTo>
                  <a:pt x="1865312" y="932657"/>
                </a:lnTo>
                <a:cubicBezTo>
                  <a:pt x="1865312" y="1447749"/>
                  <a:pt x="1447748" y="1865313"/>
                  <a:pt x="932656" y="1865313"/>
                </a:cubicBezTo>
                <a:lnTo>
                  <a:pt x="0" y="1865313"/>
                </a:lnTo>
                <a:lnTo>
                  <a:pt x="0" y="1865313"/>
                </a:lnTo>
                <a:lnTo>
                  <a:pt x="0" y="932656"/>
                </a:lnTo>
                <a:cubicBezTo>
                  <a:pt x="0" y="417564"/>
                  <a:pt x="417564" y="0"/>
                  <a:pt x="932656" y="0"/>
                </a:cubicBezTo>
                <a:close/>
              </a:path>
            </a:pathLst>
          </a:cu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2"/>
          <p:cNvSpPr/>
          <p:nvPr/>
        </p:nvSpPr>
        <p:spPr>
          <a:xfrm>
            <a:off x="2426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60696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4"/>
          <p:cNvSpPr/>
          <p:nvPr/>
        </p:nvSpPr>
        <p:spPr>
          <a:xfrm>
            <a:off x="4140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19"/>
          <p:cNvGrpSpPr/>
          <p:nvPr/>
        </p:nvGrpSpPr>
        <p:grpSpPr>
          <a:xfrm>
            <a:off x="2071800" y="1400040"/>
            <a:ext cx="5567400" cy="3814920"/>
            <a:chOff x="2071800" y="1400040"/>
            <a:chExt cx="5567400" cy="3814920"/>
          </a:xfrm>
        </p:grpSpPr>
        <p:sp>
          <p:nvSpPr>
            <p:cNvPr id="111" name="流程图: 决策 14"/>
            <p:cNvSpPr/>
            <p:nvPr/>
          </p:nvSpPr>
          <p:spPr>
            <a:xfrm>
              <a:off x="2690640" y="1855440"/>
              <a:ext cx="4311720" cy="2892600"/>
            </a:xfrm>
            <a:prstGeom prst="flowChartDecision">
              <a:avLst/>
            </a:prstGeom>
            <a:noFill/>
            <a:ln w="25560">
              <a:solidFill>
                <a:srgbClr val="fb5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流程图: 决策 15"/>
            <p:cNvSpPr/>
            <p:nvPr/>
          </p:nvSpPr>
          <p:spPr>
            <a:xfrm>
              <a:off x="2071800" y="1400040"/>
              <a:ext cx="2263680" cy="1515960"/>
            </a:xfrm>
            <a:prstGeom prst="flowChartDecision">
              <a:avLst/>
            </a:prstGeom>
            <a:solidFill>
              <a:srgbClr val="fb5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流程图: 决策 16"/>
            <p:cNvSpPr/>
            <p:nvPr/>
          </p:nvSpPr>
          <p:spPr>
            <a:xfrm>
              <a:off x="5375520" y="1414080"/>
              <a:ext cx="2263680" cy="1517760"/>
            </a:xfrm>
            <a:prstGeom prst="flowChartDecision">
              <a:avLst/>
            </a:prstGeom>
            <a:solidFill>
              <a:srgbClr val="fb5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流程图: 决策 17"/>
            <p:cNvSpPr/>
            <p:nvPr/>
          </p:nvSpPr>
          <p:spPr>
            <a:xfrm>
              <a:off x="2104920" y="3699000"/>
              <a:ext cx="2263680" cy="1515960"/>
            </a:xfrm>
            <a:prstGeom prst="flowChartDecision">
              <a:avLst/>
            </a:prstGeom>
            <a:solidFill>
              <a:srgbClr val="fb5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流程图: 决策 18"/>
            <p:cNvSpPr/>
            <p:nvPr/>
          </p:nvSpPr>
          <p:spPr>
            <a:xfrm>
              <a:off x="5342040" y="3699000"/>
              <a:ext cx="2263680" cy="1515960"/>
            </a:xfrm>
            <a:prstGeom prst="flowChartDecision">
              <a:avLst/>
            </a:prstGeom>
            <a:solidFill>
              <a:srgbClr val="fb5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2784960" y="42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>
            <a:off x="5997960" y="42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6071040" y="1971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2640600" y="1971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5"/>
          <p:cNvSpPr/>
          <p:nvPr/>
        </p:nvSpPr>
        <p:spPr>
          <a:xfrm>
            <a:off x="4426560" y="31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剪去同侧角的矩形 14"/>
          <p:cNvSpPr/>
          <p:nvPr/>
        </p:nvSpPr>
        <p:spPr>
          <a:xfrm rot="16200000">
            <a:off x="892800" y="2178720"/>
            <a:ext cx="4214880" cy="2428920"/>
          </a:xfrm>
          <a:custGeom>
            <a:avLst/>
            <a:gdLst/>
            <a:ahLst/>
            <a:rect l="l" t="t" r="r" b="b"/>
            <a:pathLst>
              <a:path w="4214813" h="2428875">
                <a:moveTo>
                  <a:pt x="1214438" y="0"/>
                </a:moveTo>
                <a:lnTo>
                  <a:pt x="3000376" y="0"/>
                </a:lnTo>
                <a:lnTo>
                  <a:pt x="4214813" y="1214438"/>
                </a:lnTo>
                <a:lnTo>
                  <a:pt x="4214813" y="2428875"/>
                </a:lnTo>
                <a:lnTo>
                  <a:pt x="4214813" y="2428875"/>
                </a:lnTo>
                <a:lnTo>
                  <a:pt x="0" y="2428875"/>
                </a:lnTo>
                <a:lnTo>
                  <a:pt x="0" y="2428875"/>
                </a:lnTo>
                <a:lnTo>
                  <a:pt x="0" y="1214438"/>
                </a:lnTo>
                <a:lnTo>
                  <a:pt x="1214438" y="0"/>
                </a:lnTo>
                <a:close/>
              </a:path>
            </a:pathLst>
          </a:cu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剪去同侧角的矩形 15"/>
          <p:cNvSpPr/>
          <p:nvPr/>
        </p:nvSpPr>
        <p:spPr>
          <a:xfrm flipH="1" flipV="1" rot="16200000">
            <a:off x="4321080" y="2178720"/>
            <a:ext cx="4214880" cy="2428920"/>
          </a:xfrm>
          <a:custGeom>
            <a:avLst/>
            <a:gdLst/>
            <a:ahLst/>
            <a:rect l="l" t="t" r="r" b="b"/>
            <a:pathLst>
              <a:path w="4214813" h="2428875">
                <a:moveTo>
                  <a:pt x="1214438" y="0"/>
                </a:moveTo>
                <a:lnTo>
                  <a:pt x="3000376" y="0"/>
                </a:lnTo>
                <a:lnTo>
                  <a:pt x="4214813" y="1214438"/>
                </a:lnTo>
                <a:lnTo>
                  <a:pt x="4214813" y="2428875"/>
                </a:lnTo>
                <a:lnTo>
                  <a:pt x="4214813" y="2428875"/>
                </a:lnTo>
                <a:lnTo>
                  <a:pt x="0" y="2428875"/>
                </a:lnTo>
                <a:lnTo>
                  <a:pt x="0" y="2428875"/>
                </a:lnTo>
                <a:lnTo>
                  <a:pt x="0" y="1214438"/>
                </a:lnTo>
                <a:lnTo>
                  <a:pt x="1214438" y="0"/>
                </a:lnTo>
                <a:close/>
              </a:path>
            </a:pathLst>
          </a:cu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右箭头 16"/>
          <p:cNvSpPr/>
          <p:nvPr/>
        </p:nvSpPr>
        <p:spPr>
          <a:xfrm>
            <a:off x="4429080" y="3000240"/>
            <a:ext cx="654120" cy="571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25689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4"/>
          <p:cNvSpPr/>
          <p:nvPr/>
        </p:nvSpPr>
        <p:spPr>
          <a:xfrm>
            <a:off x="5997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Hong .</cp:lastModifiedBy>
  <dcterms:modified xsi:type="dcterms:W3CDTF">2015-08-09T01:08:49Z</dcterms:modified>
  <cp:revision>30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