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3DF3-7D86-4E97-A96A-516BF806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EB2-EB59-40EA-8A80-36439A03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875A-6346-4897-8FEA-0B33397B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F769-A042-4036-9C18-83198EC1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76A-5B74-4043-B046-AD29D6C5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5E57-2305-4C48-9C9B-62032DAE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DE7-2458-435F-B1D7-D08261B3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5A2E-687F-49EE-BC9A-F0CB39D2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3162-FFE9-4709-B2A5-7F6C77D6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8B71-63CE-4845-BDED-EB001ACD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2A8C-4E1B-4FAA-A0BB-15AC207A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361C-951C-41B1-B2A8-24979C00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3D32-A76D-4025-A9E0-977C76687768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91520" y="558972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生活娱乐工作旅游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" descr="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005 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006 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E2CE-EFE3-4EC9-87B1-527855E879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2" descr="007 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1:22:00Z</dcterms:created>
  <dc:creator>Administrator</dc:creator>
  <dc:description/>
  <dc:language>en-US</dc:language>
  <cp:lastModifiedBy>123</cp:lastModifiedBy>
  <dcterms:modified xsi:type="dcterms:W3CDTF">2015-08-09T01:11:00Z</dcterms:modified>
  <cp:revision>29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