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2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E65A9-4D33-4525-99D0-44AC3170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298C-78F3-4C20-9726-09386695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AFC1D-2563-4F49-A42E-84ADC0D8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83C8-E812-4CA7-B217-E88B4E8F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A7F5D-B43E-4D4B-891E-132B1C1F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FF44D-D408-4745-A82E-E2C64C8F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682A3-4BEB-4BC0-91E3-ADA03499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3B118-6528-4444-B3A9-E9F49873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C9CE-79F7-4FC1-B6B6-91D907C5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000C5-B4B7-4860-B271-AFCA8B56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E3B33-7152-475F-99E4-C9AD72E7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B937-AD86-48D1-B50A-15089224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794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468360" y="952200"/>
            <a:ext cx="8229600" cy="20520"/>
          </a:xfrm>
          <a:prstGeom prst="line">
            <a:avLst/>
          </a:prstGeom>
          <a:ln cap="rnd" w="34920">
            <a:solidFill>
              <a:srgbClr val="0808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02640" y="6443640"/>
            <a:ext cx="152280" cy="152280"/>
          </a:xfrm>
          <a:prstGeom prst="ellipse">
            <a:avLst/>
          </a:prstGeom>
          <a:solidFill>
            <a:srgbClr val="93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023320" y="6443640"/>
            <a:ext cx="152280" cy="152280"/>
          </a:xfrm>
          <a:prstGeom prst="ellipse">
            <a:avLst/>
          </a:prstGeom>
          <a:solidFill>
            <a:srgbClr val="b24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251920" y="6443640"/>
            <a:ext cx="152280" cy="152280"/>
          </a:xfrm>
          <a:prstGeom prst="ellipse">
            <a:avLst/>
          </a:prstGeom>
          <a:solidFill>
            <a:srgbClr val="ec9f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80520" y="6443640"/>
            <a:ext cx="152280" cy="152280"/>
          </a:xfrm>
          <a:prstGeom prst="ellipse">
            <a:avLst/>
          </a:prstGeom>
          <a:solidFill>
            <a:srgbClr val="5c4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459400" y="6378480"/>
            <a:ext cx="23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company slogan in here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8C47-0A1D-4BDD-A384-D73305578C3D}" type="slidenum">
              <a: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rcRect l="18017" t="0" r="0" b="12679"/>
          <a:stretch/>
        </p:blipFill>
        <p:spPr>
          <a:xfrm>
            <a:off x="0" y="1468440"/>
            <a:ext cx="7808760" cy="538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a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098720"/>
            <a:ext cx="8458200" cy="954000"/>
          </a:xfrm>
          <a:prstGeom prst="rect">
            <a:avLst/>
          </a:prstGeom>
          <a:gradFill rotWithShape="0">
            <a:gsLst>
              <a:gs pos="0">
                <a:srgbClr val="5c414f"/>
              </a:gs>
              <a:gs pos="100000">
                <a:srgbClr val="86727c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02640" y="6443640"/>
            <a:ext cx="152280" cy="152280"/>
          </a:xfrm>
          <a:prstGeom prst="ellipse">
            <a:avLst/>
          </a:prstGeom>
          <a:solidFill>
            <a:srgbClr val="93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23320" y="6443640"/>
            <a:ext cx="152280" cy="152280"/>
          </a:xfrm>
          <a:prstGeom prst="ellipse">
            <a:avLst/>
          </a:prstGeom>
          <a:solidFill>
            <a:srgbClr val="b24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51920" y="6443640"/>
            <a:ext cx="152280" cy="152280"/>
          </a:xfrm>
          <a:prstGeom prst="ellipse">
            <a:avLst/>
          </a:prstGeom>
          <a:solidFill>
            <a:srgbClr val="ec9f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480520" y="6443640"/>
            <a:ext cx="152280" cy="152280"/>
          </a:xfrm>
          <a:prstGeom prst="ellipse">
            <a:avLst/>
          </a:prstGeom>
          <a:solidFill>
            <a:srgbClr val="5c4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59400" y="6378480"/>
            <a:ext cx="23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company slogan in here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04040" y="5227560"/>
            <a:ext cx="917280" cy="981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253200" y="5305320"/>
            <a:ext cx="1431720" cy="949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499520" y="5253120"/>
            <a:ext cx="1190520" cy="974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66560" y="1838160"/>
            <a:ext cx="3670560" cy="5019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a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2920" y="133200"/>
            <a:ext cx="11700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45960" y="121752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适合银行会议的</a:t>
            </a:r>
            <a:r>
              <a:rPr b="1" lang="en-US" sz="4000" spc="-1" strike="noStrike">
                <a:solidFill>
                  <a:srgbClr val="1c1c1c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c1c1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130480" y="1986120"/>
            <a:ext cx="4905360" cy="2425320"/>
            <a:chOff x="2130480" y="1986120"/>
            <a:chExt cx="4905360" cy="2425320"/>
          </a:xfrm>
        </p:grpSpPr>
        <p:sp>
          <p:nvSpPr>
            <p:cNvPr id="478" name=""/>
            <p:cNvSpPr/>
            <p:nvPr/>
          </p:nvSpPr>
          <p:spPr>
            <a:xfrm>
              <a:off x="2130480" y="2136240"/>
              <a:ext cx="4905360" cy="2275200"/>
            </a:xfrm>
            <a:prstGeom prst="donut">
              <a:avLst>
                <a:gd name="adj" fmla="val 13949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30480" y="1993680"/>
              <a:ext cx="4905360" cy="2275560"/>
            </a:xfrm>
            <a:prstGeom prst="donut">
              <a:avLst>
                <a:gd name="adj" fmla="val 13949"/>
              </a:avLst>
            </a:prstGeom>
            <a:gradFill rotWithShape="0">
              <a:gsLst>
                <a:gs pos="0">
                  <a:srgbClr val="ec9f14"/>
                </a:gs>
                <a:gs pos="50000">
                  <a:srgbClr val="b24476"/>
                </a:gs>
                <a:gs pos="100000">
                  <a:srgbClr val="ec9f1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563000" y="1986120"/>
              <a:ext cx="0" cy="46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64400" y="2636640"/>
              <a:ext cx="0" cy="14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961240" y="2617200"/>
              <a:ext cx="0" cy="15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5961240" y="2403360"/>
              <a:ext cx="49752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2671920" y="2412000"/>
              <a:ext cx="489600" cy="22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3245760" y="3815640"/>
              <a:ext cx="376920" cy="27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03480" y="3762720"/>
              <a:ext cx="472680" cy="23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3237840" y="408240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169680" y="399456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3689280" y="1812960"/>
            <a:ext cx="0" cy="43668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508720" y="1768320"/>
            <a:ext cx="0" cy="48132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668840" y="4111560"/>
            <a:ext cx="0" cy="53496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640200" y="3075120"/>
            <a:ext cx="5763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03320" y="3075120"/>
            <a:ext cx="5763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40040" y="1378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681440" y="1378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218360" y="2911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21040" y="4667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01680" y="291132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00440" y="287820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82920" y="2544840"/>
            <a:ext cx="2340000" cy="663480"/>
          </a:xfrm>
          <a:custGeom>
            <a:avLst/>
            <a:gdLst>
              <a:gd name="textAreaLeft" fmla="*/ 0 w 2340000"/>
              <a:gd name="textAreaRight" fmla="*/ 2340000 w 234000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21600" h="21600">
                <a:moveTo>
                  <a:pt x="2330" y="10769"/>
                </a:moveTo>
                <a:arcTo wR="-8470" hR="-8470" stAng="-10787419" swAng="-10704052"/>
                <a:lnTo>
                  <a:pt x="5" y="10459"/>
                </a:lnTo>
                <a:arcTo wR="10800" hR="10800" stAng="-10691471" swAng="10704052"/>
                <a:lnTo>
                  <a:pt x="24300" y="10849"/>
                </a:lnTo>
                <a:lnTo>
                  <a:pt x="20421" y="14700"/>
                </a:lnTo>
                <a:lnTo>
                  <a:pt x="16570" y="10821"/>
                </a:lnTo>
                <a:close/>
              </a:path>
            </a:pathLst>
          </a:custGeom>
          <a:gradFill rotWithShape="0">
            <a:gsLst>
              <a:gs pos="0">
                <a:srgbClr val="939932"/>
              </a:gs>
              <a:gs pos="100000">
                <a:srgbClr val="4f53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3461760" y="3176640"/>
            <a:ext cx="2392200" cy="620640"/>
          </a:xfrm>
          <a:custGeom>
            <a:avLst/>
            <a:gdLst>
              <a:gd name="textAreaLeft" fmla="*/ -360 w 2392200"/>
              <a:gd name="textAreaRight" fmla="*/ 2392200 w 2392200"/>
              <a:gd name="textAreaTop" fmla="*/ 0 h 620640"/>
              <a:gd name="textAreaBottom" fmla="*/ 620640 h 620640"/>
            </a:gdLst>
            <a:ahLst/>
            <a:rect l="textAreaLeft" t="textAreaTop" r="textAreaRight" b="textAreaBottom"/>
            <a:pathLst>
              <a:path w="21600" h="21600">
                <a:moveTo>
                  <a:pt x="2226" y="10832"/>
                </a:moveTo>
                <a:arcTo wR="-8574" hR="-8574" stAng="10787169" swAng="-10678640"/>
                <a:lnTo>
                  <a:pt x="5" y="10459"/>
                </a:lnTo>
                <a:arcTo wR="10800" hR="10800" stAng="-10691471" swAng="10678640"/>
                <a:lnTo>
                  <a:pt x="24300" y="10750"/>
                </a:lnTo>
                <a:lnTo>
                  <a:pt x="20501" y="14577"/>
                </a:lnTo>
                <a:lnTo>
                  <a:pt x="16674" y="10778"/>
                </a:lnTo>
                <a:close/>
              </a:path>
            </a:pathLst>
          </a:custGeom>
          <a:gradFill rotWithShape="0">
            <a:gsLst>
              <a:gs pos="0">
                <a:srgbClr val="939932"/>
              </a:gs>
              <a:gs pos="100000">
                <a:srgbClr val="6165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34880" y="536724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3200" y="5292720"/>
            <a:ext cx="836460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703440" y="2535120"/>
            <a:ext cx="7740360" cy="619200"/>
          </a:xfrm>
          <a:prstGeom prst="rect">
            <a:avLst/>
          </a:prstGeom>
          <a:solidFill>
            <a:srgbClr val="d7d7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92280" y="2535120"/>
            <a:ext cx="2053440" cy="618840"/>
            <a:chOff x="692280" y="2535120"/>
            <a:chExt cx="2053440" cy="618840"/>
          </a:xfrm>
        </p:grpSpPr>
        <p:sp>
          <p:nvSpPr>
            <p:cNvPr id="506" name=""/>
            <p:cNvSpPr/>
            <p:nvPr/>
          </p:nvSpPr>
          <p:spPr>
            <a:xfrm>
              <a:off x="692280" y="2535120"/>
              <a:ext cx="1915920" cy="618840"/>
            </a:xfrm>
            <a:prstGeom prst="rect">
              <a:avLst/>
            </a:prstGeom>
            <a:solidFill>
              <a:srgbClr val="b244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5400000">
              <a:off x="2505960" y="27500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b244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2606760" y="26668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14240" y="264168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178160" y="270180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b24476"/>
              </a:gs>
              <a:gs pos="100000">
                <a:srgbClr val="d7d7c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557600" y="2666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207120" y="270180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b24476"/>
              </a:gs>
              <a:gs pos="100000">
                <a:srgbClr val="d7d7c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545160" y="2666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988920" y="3284640"/>
            <a:ext cx="1114560" cy="1114200"/>
          </a:xfrm>
          <a:prstGeom prst="diamond">
            <a:avLst/>
          </a:prstGeom>
          <a:solidFill>
            <a:srgbClr val="b24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70360" y="3284640"/>
            <a:ext cx="111420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960800" y="3284640"/>
            <a:ext cx="111456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904080" y="3284640"/>
            <a:ext cx="111456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518" name=""/>
          <p:cNvCxnSpPr>
            <a:stCxn id="514" idx="3"/>
            <a:endCxn id="515" idx="1"/>
          </p:cNvCxnSpPr>
          <p:nvPr/>
        </p:nvCxnSpPr>
        <p:spPr>
          <a:xfrm>
            <a:off x="2103480" y="384156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519" name=""/>
          <p:cNvCxnSpPr>
            <a:stCxn id="515" idx="3"/>
            <a:endCxn id="516" idx="1"/>
          </p:cNvCxnSpPr>
          <p:nvPr/>
        </p:nvCxnSpPr>
        <p:spPr>
          <a:xfrm>
            <a:off x="4084560" y="38415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520" name=""/>
          <p:cNvCxnSpPr>
            <a:stCxn id="516" idx="3"/>
            <a:endCxn id="517" idx="1"/>
          </p:cNvCxnSpPr>
          <p:nvPr/>
        </p:nvCxnSpPr>
        <p:spPr>
          <a:xfrm>
            <a:off x="6075360" y="38415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521" name=""/>
          <p:cNvSpPr/>
          <p:nvPr/>
        </p:nvSpPr>
        <p:spPr>
          <a:xfrm>
            <a:off x="1092240" y="36100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59280" y="36100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051520" y="36100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21440" y="36100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35120" y="448956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678040" y="44895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92600" y="44895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640560" y="44895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317600" y="1695600"/>
            <a:ext cx="6353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1463760"/>
            <a:ext cx="6043680" cy="53942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52520" y="2189160"/>
            <a:ext cx="8238960" cy="364824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461b2f"/>
              </a:gs>
              <a:gs pos="50000">
                <a:srgbClr val="b24476"/>
              </a:gs>
              <a:gs pos="100000">
                <a:srgbClr val="461b2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49520" y="2577960"/>
            <a:ext cx="252360" cy="1558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658960" y="2946240"/>
            <a:ext cx="295200" cy="21276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57680" y="3298680"/>
            <a:ext cx="399960" cy="34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97560" y="4030560"/>
            <a:ext cx="630360" cy="76068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046840" y="3724200"/>
            <a:ext cx="495000" cy="47628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243080" y="18288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290680" y="184464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444840" y="184932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775040" y="18414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173640" y="183816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760" y="2960640"/>
            <a:ext cx="25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040" y="350676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714680" y="413856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067200" y="476892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111560" y="5497560"/>
            <a:ext cx="27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548" name=""/>
          <p:cNvCxnSpPr>
            <a:stCxn id="533" idx="3"/>
            <a:endCxn id="543" idx="0"/>
          </p:cNvCxnSpPr>
          <p:nvPr/>
        </p:nvCxnSpPr>
        <p:spPr>
          <a:xfrm rot="5400000">
            <a:off x="1442880" y="262800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49" name=""/>
          <p:cNvCxnSpPr>
            <a:stCxn id="534" idx="3"/>
            <a:endCxn id="544" idx="0"/>
          </p:cNvCxnSpPr>
          <p:nvPr/>
        </p:nvCxnSpPr>
        <p:spPr>
          <a:xfrm rot="5400000">
            <a:off x="2243160" y="2944080"/>
            <a:ext cx="348480" cy="778320"/>
          </a:xfrm>
          <a:prstGeom prst="bentConnector3">
            <a:avLst>
              <a:gd name="adj1" fmla="val 49741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50" name=""/>
          <p:cNvCxnSpPr>
            <a:stCxn id="535" idx="3"/>
            <a:endCxn id="545" idx="0"/>
          </p:cNvCxnSpPr>
          <p:nvPr/>
        </p:nvCxnSpPr>
        <p:spPr>
          <a:xfrm rot="5400000">
            <a:off x="3270240" y="345204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51" name=""/>
          <p:cNvCxnSpPr>
            <a:stCxn id="537" idx="3"/>
            <a:endCxn id="546" idx="0"/>
          </p:cNvCxnSpPr>
          <p:nvPr/>
        </p:nvCxnSpPr>
        <p:spPr>
          <a:xfrm rot="5400000">
            <a:off x="4579200" y="4053960"/>
            <a:ext cx="568800" cy="861120"/>
          </a:xfrm>
          <a:prstGeom prst="bentConnector3">
            <a:avLst>
              <a:gd name="adj1" fmla="val 4996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52" name=""/>
          <p:cNvCxnSpPr>
            <a:stCxn id="536" idx="3"/>
            <a:endCxn id="547" idx="0"/>
          </p:cNvCxnSpPr>
          <p:nvPr/>
        </p:nvCxnSpPr>
        <p:spPr>
          <a:xfrm rot="5400000">
            <a:off x="5742000" y="4526640"/>
            <a:ext cx="707040" cy="1235880"/>
          </a:xfrm>
          <a:prstGeom prst="bentConnector3">
            <a:avLst>
              <a:gd name="adj1" fmla="val 49872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553" name=""/>
          <p:cNvSpPr/>
          <p:nvPr/>
        </p:nvSpPr>
        <p:spPr>
          <a:xfrm>
            <a:off x="6397560" y="2239920"/>
            <a:ext cx="630360" cy="192744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0b728"/>
              </a:gs>
              <a:gs pos="50000">
                <a:srgbClr val="f8e4b1"/>
              </a:gs>
              <a:gs pos="100000">
                <a:srgbClr val="f0b7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46840" y="2236680"/>
            <a:ext cx="495000" cy="159696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0b728"/>
              </a:gs>
              <a:gs pos="50000">
                <a:srgbClr val="f8e4b1"/>
              </a:gs>
              <a:gs pos="100000">
                <a:srgbClr val="f0b7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757680" y="2233440"/>
            <a:ext cx="399960" cy="11700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8e4b1"/>
              </a:gs>
              <a:gs pos="100000">
                <a:srgbClr val="f0b7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658960" y="2241720"/>
            <a:ext cx="295200" cy="7664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8e4b1"/>
              </a:gs>
              <a:gs pos="100000">
                <a:srgbClr val="f0b7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649520" y="2243160"/>
            <a:ext cx="252360" cy="398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8e4b1"/>
              </a:gs>
              <a:gs pos="100000">
                <a:srgbClr val="f0b7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24476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1463760"/>
            <a:ext cx="6043680" cy="53942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840200" y="2239920"/>
            <a:ext cx="3970440" cy="3727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dddddd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93880" y="2130480"/>
            <a:ext cx="3355920" cy="33559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81040" y="237816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33242c"/>
              </a:gs>
              <a:gs pos="50000">
                <a:srgbClr val="5c414f"/>
              </a:gs>
              <a:gs pos="100000">
                <a:srgbClr val="33242c"/>
              </a:gs>
            </a:gsLst>
            <a:lin ang="13500000"/>
          </a:gradFill>
          <a:ln w="38160">
            <a:solidFill>
              <a:srgbClr val="ebf5ff"/>
            </a:solidFill>
            <a:miter/>
          </a:ln>
          <a:effectLst>
            <a:outerShdw dist="40186" dir="4303641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376440" y="237816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33242c"/>
              </a:gs>
              <a:gs pos="50000">
                <a:srgbClr val="5c414f"/>
              </a:gs>
              <a:gs pos="100000">
                <a:srgbClr val="33242c"/>
              </a:gs>
            </a:gsLst>
            <a:lin ang="13500000"/>
          </a:gradFill>
          <a:ln w="38160">
            <a:solidFill>
              <a:srgbClr val="ebf5ff"/>
            </a:solidFill>
            <a:miter/>
          </a:ln>
          <a:effectLst>
            <a:outerShdw dist="40186" dir="4303641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30400" y="489096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33242c"/>
              </a:gs>
              <a:gs pos="50000">
                <a:srgbClr val="5c414f"/>
              </a:gs>
              <a:gs pos="100000">
                <a:srgbClr val="33242c"/>
              </a:gs>
            </a:gsLst>
            <a:lin ang="13500000"/>
          </a:gradFill>
          <a:ln w="38160">
            <a:solidFill>
              <a:srgbClr val="ebf5ff"/>
            </a:solidFill>
            <a:miter/>
          </a:ln>
          <a:effectLst>
            <a:outerShdw dist="40186" dir="4303641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163600" y="1789200"/>
            <a:ext cx="777960" cy="777960"/>
          </a:xfrm>
          <a:prstGeom prst="ellipse">
            <a:avLst/>
          </a:prstGeom>
          <a:solidFill>
            <a:srgbClr val="ec9f14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21240" y="4160880"/>
            <a:ext cx="777600" cy="777960"/>
          </a:xfrm>
          <a:prstGeom prst="ellipse">
            <a:avLst/>
          </a:prstGeom>
          <a:solidFill>
            <a:srgbClr val="ec9f14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98400" y="4199040"/>
            <a:ext cx="777960" cy="777600"/>
          </a:xfrm>
          <a:prstGeom prst="ellipse">
            <a:avLst/>
          </a:prstGeom>
          <a:solidFill>
            <a:srgbClr val="ec9f14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569" name=""/>
          <p:cNvCxnSpPr>
            <a:stCxn id="565" idx="0"/>
          </p:cNvCxnSpPr>
          <p:nvPr/>
        </p:nvCxnSpPr>
        <p:spPr>
          <a:xfrm flipH="1" flipV="1">
            <a:off x="2591640" y="4419360"/>
            <a:ext cx="10440" cy="4528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70" name=""/>
          <p:cNvCxnSpPr>
            <a:stCxn id="564" idx="3"/>
          </p:cNvCxnSpPr>
          <p:nvPr/>
        </p:nvCxnSpPr>
        <p:spPr>
          <a:xfrm flipH="1">
            <a:off x="3131280" y="3373560"/>
            <a:ext cx="412200" cy="1101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71" name=""/>
          <p:cNvCxnSpPr>
            <a:stCxn id="563" idx="5"/>
          </p:cNvCxnSpPr>
          <p:nvPr/>
        </p:nvCxnSpPr>
        <p:spPr>
          <a:xfrm>
            <a:off x="1557360" y="3373560"/>
            <a:ext cx="496080" cy="1101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572" name=""/>
          <p:cNvSpPr/>
          <p:nvPr/>
        </p:nvSpPr>
        <p:spPr>
          <a:xfrm>
            <a:off x="3463920" y="265428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098800" y="516240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58800" y="265752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170080" y="201312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1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66720" y="441324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2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594240" y="441324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3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16600" y="2678040"/>
            <a:ext cx="370044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20000"/>
                </a:solidFill>
                <a:latin typeface="Arial"/>
                <a:ea typeface="宋体"/>
              </a:rPr>
              <a:t>1.Describe contents for a Step1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0b0b"/>
                </a:solidFill>
                <a:latin typeface="Arial"/>
                <a:ea typeface="宋体"/>
              </a:rPr>
              <a:t>2.Describe contents for a Step2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3.Describe contents for a Step3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2008080" y="3182760"/>
            <a:ext cx="1100160" cy="11750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80" name=""/>
          <p:cNvSpPr/>
          <p:nvPr/>
        </p:nvSpPr>
        <p:spPr>
          <a:xfrm>
            <a:off x="4981680" y="1962000"/>
            <a:ext cx="3686040" cy="501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b3553"/>
              </a:gs>
              <a:gs pos="100000">
                <a:srgbClr val="5f73b5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68840" y="1971720"/>
            <a:ext cx="24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733920" y="3465360"/>
            <a:ext cx="1743120" cy="1163880"/>
          </a:xfrm>
          <a:prstGeom prst="rect">
            <a:avLst/>
          </a:prstGeom>
          <a:solidFill>
            <a:srgbClr val="93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325600" y="2422440"/>
            <a:ext cx="4538880" cy="1001880"/>
          </a:xfrm>
          <a:custGeom>
            <a:avLst/>
            <a:gdLst>
              <a:gd name="textAreaLeft" fmla="*/ 1129680 w 4538880"/>
              <a:gd name="textAreaRight" fmla="*/ 3409200 w 4538880"/>
              <a:gd name="textAreaTop" fmla="*/ 249120 h 1001880"/>
              <a:gd name="textAreaBottom" fmla="*/ 752760 h 10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072" y="21600"/>
                </a:lnTo>
                <a:lnTo>
                  <a:pt x="6528" y="21600"/>
                </a:lnTo>
                <a:close/>
              </a:path>
            </a:pathLst>
          </a:custGeom>
          <a:gradFill rotWithShape="0">
            <a:gsLst>
              <a:gs pos="0">
                <a:srgbClr val="f1c068"/>
              </a:gs>
              <a:gs pos="100000">
                <a:srgbClr val="ec9f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506920" y="2422440"/>
            <a:ext cx="1430280" cy="2216160"/>
          </a:xfrm>
          <a:custGeom>
            <a:avLst/>
            <a:gdLst/>
            <a:ahLst/>
            <a:rect l="l" t="t" r="r" b="b"/>
            <a:pathLst>
              <a:path w="901" h="1389">
                <a:moveTo>
                  <a:pt x="0" y="657"/>
                </a:moveTo>
                <a:lnTo>
                  <a:pt x="0" y="1389"/>
                </a:lnTo>
                <a:lnTo>
                  <a:pt x="901" y="1389"/>
                </a:lnTo>
                <a:lnTo>
                  <a:pt x="901" y="0"/>
                </a:lnTo>
                <a:lnTo>
                  <a:pt x="0" y="657"/>
                </a:lnTo>
                <a:close/>
              </a:path>
            </a:pathLst>
          </a:custGeom>
          <a:gradFill rotWithShape="0">
            <a:gsLst>
              <a:gs pos="0">
                <a:srgbClr val="f0b751"/>
              </a:gs>
              <a:gs pos="100000">
                <a:srgbClr val="ec9f1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261520" y="2424240"/>
            <a:ext cx="1430280" cy="2205000"/>
          </a:xfrm>
          <a:custGeom>
            <a:avLst/>
            <a:gdLst/>
            <a:ahLst/>
            <a:rect l="l" t="t" r="r" b="b"/>
            <a:pathLst>
              <a:path w="901" h="1389">
                <a:moveTo>
                  <a:pt x="0" y="657"/>
                </a:moveTo>
                <a:lnTo>
                  <a:pt x="0" y="1389"/>
                </a:lnTo>
                <a:lnTo>
                  <a:pt x="901" y="1389"/>
                </a:lnTo>
                <a:lnTo>
                  <a:pt x="901" y="0"/>
                </a:lnTo>
                <a:lnTo>
                  <a:pt x="0" y="657"/>
                </a:lnTo>
                <a:close/>
              </a:path>
            </a:pathLst>
          </a:custGeom>
          <a:gradFill rotWithShape="0">
            <a:gsLst>
              <a:gs pos="0">
                <a:srgbClr val="f0b751"/>
              </a:gs>
              <a:gs pos="100000">
                <a:srgbClr val="ec9f1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47840" y="4668840"/>
            <a:ext cx="4691160" cy="1289160"/>
          </a:xfrm>
          <a:prstGeom prst="rect">
            <a:avLst/>
          </a:prstGeom>
          <a:solidFill>
            <a:srgbClr val="5c4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31840" y="277164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ositioning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361960" y="3811680"/>
            <a:ext cx="12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572800" y="384192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argeting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870360" y="3727440"/>
            <a:ext cx="145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Marketing Plan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00480" y="4803840"/>
            <a:ext cx="437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220920" y="1633680"/>
            <a:ext cx="27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595" name=""/>
          <p:cNvCxnSpPr>
            <a:endCxn id="585" idx="3"/>
          </p:cNvCxnSpPr>
          <p:nvPr/>
        </p:nvCxnSpPr>
        <p:spPr>
          <a:xfrm flipV="1" rot="10800000">
            <a:off x="4595040" y="2027880"/>
            <a:ext cx="8640" cy="394200"/>
          </a:xfrm>
          <a:prstGeom prst="bentConnector2">
            <a:avLst/>
          </a:prstGeom>
          <a:ln w="19080">
            <a:solidFill>
              <a:srgbClr val="1c1c1c"/>
            </a:solidFill>
            <a:miter/>
          </a:ln>
        </p:spPr>
      </p:cxnSp>
      <p:sp>
        <p:nvSpPr>
          <p:cNvPr id="596" name=""/>
          <p:cNvSpPr/>
          <p:nvPr/>
        </p:nvSpPr>
        <p:spPr>
          <a:xfrm flipH="1">
            <a:off x="1795320" y="3497400"/>
            <a:ext cx="463680" cy="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922800" y="3497400"/>
            <a:ext cx="463320" cy="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432560" y="3235320"/>
            <a:ext cx="157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7440" y="3235320"/>
            <a:ext cx="157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0" y="966960"/>
            <a:ext cx="9144000" cy="58910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781200" y="3983040"/>
            <a:ext cx="7551360" cy="1427040"/>
            <a:chOff x="781200" y="3983040"/>
            <a:chExt cx="7551360" cy="1427040"/>
          </a:xfrm>
        </p:grpSpPr>
        <p:sp>
          <p:nvSpPr>
            <p:cNvPr id="602" name=""/>
            <p:cNvSpPr/>
            <p:nvPr/>
          </p:nvSpPr>
          <p:spPr>
            <a:xfrm>
              <a:off x="919440" y="4046040"/>
              <a:ext cx="2220840" cy="130464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49240" y="4170600"/>
              <a:ext cx="59400" cy="1872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87800" y="4253400"/>
              <a:ext cx="68040" cy="2124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758320" y="4291200"/>
              <a:ext cx="171720" cy="4968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27440" y="4549680"/>
              <a:ext cx="276840" cy="561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55320" y="4592880"/>
              <a:ext cx="173520" cy="273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339280" y="4610160"/>
              <a:ext cx="66600" cy="118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37560" y="4612320"/>
              <a:ext cx="20880" cy="165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16800" y="4042800"/>
              <a:ext cx="315360" cy="5904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256840" y="4015080"/>
              <a:ext cx="255960" cy="39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616480" y="4062240"/>
              <a:ext cx="408240" cy="1278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612880" y="4007160"/>
              <a:ext cx="77040" cy="248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65640" y="4054320"/>
              <a:ext cx="113400" cy="2808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84800" y="4059720"/>
              <a:ext cx="94320" cy="1656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534040" y="4035240"/>
              <a:ext cx="111960" cy="2268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86880" y="4014000"/>
              <a:ext cx="77040" cy="1584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86320" y="4015800"/>
              <a:ext cx="199800" cy="518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81200" y="4180680"/>
              <a:ext cx="43560" cy="100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07800" y="4524840"/>
              <a:ext cx="28080" cy="7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13200" y="4541760"/>
              <a:ext cx="28080" cy="7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71040" y="4630320"/>
              <a:ext cx="25920" cy="7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88480" y="4304520"/>
              <a:ext cx="66240" cy="118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13160" y="4166640"/>
              <a:ext cx="66240" cy="118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26560" y="4046040"/>
              <a:ext cx="68040" cy="118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37080" y="4118760"/>
              <a:ext cx="66600" cy="118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765520" y="3983040"/>
              <a:ext cx="1219680" cy="23292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38840" y="4106520"/>
              <a:ext cx="68040" cy="158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634920" y="4151160"/>
              <a:ext cx="223920" cy="3636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11680" y="4041360"/>
              <a:ext cx="68040" cy="158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83640" y="4020120"/>
              <a:ext cx="271440" cy="421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53200" y="4042080"/>
              <a:ext cx="84240" cy="140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941640" y="4225320"/>
              <a:ext cx="190800" cy="8856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46960" y="4257360"/>
              <a:ext cx="120600" cy="457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02200" y="5027040"/>
              <a:ext cx="830880" cy="33300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60320" y="4851360"/>
              <a:ext cx="558720" cy="14112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75800" y="4852440"/>
              <a:ext cx="545040" cy="1418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479360" y="5371200"/>
              <a:ext cx="78480" cy="388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17320" y="5310360"/>
              <a:ext cx="287280" cy="5724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015400" y="5276520"/>
              <a:ext cx="182160" cy="6192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111520" y="5249160"/>
              <a:ext cx="65160" cy="172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91840" y="4921920"/>
              <a:ext cx="215280" cy="1350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023880" y="4712040"/>
              <a:ext cx="86040" cy="410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07800" y="4756320"/>
              <a:ext cx="194040" cy="1231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42920" y="4717800"/>
              <a:ext cx="126360" cy="9216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28600" y="4791960"/>
              <a:ext cx="70200" cy="8820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607800" y="4884480"/>
              <a:ext cx="113760" cy="36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790320" y="4820400"/>
              <a:ext cx="145440" cy="784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41000" y="4538880"/>
              <a:ext cx="38520" cy="478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765840" y="4619160"/>
              <a:ext cx="106920" cy="79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40720" y="4723920"/>
              <a:ext cx="112320" cy="5292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74280" y="4818960"/>
              <a:ext cx="50400" cy="32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946200" y="4874040"/>
              <a:ext cx="3132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993360" y="4867560"/>
              <a:ext cx="78480" cy="248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14320" y="4914720"/>
              <a:ext cx="42120" cy="219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582680" y="4886280"/>
              <a:ext cx="80640" cy="313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86440" y="4925880"/>
              <a:ext cx="80640" cy="3348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00760" y="4938840"/>
              <a:ext cx="55800" cy="18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63680" y="4919400"/>
              <a:ext cx="42120" cy="2088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823440" y="4926600"/>
              <a:ext cx="59400" cy="1584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37400" y="4703040"/>
              <a:ext cx="47160" cy="3708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827040" y="4697280"/>
              <a:ext cx="33120" cy="367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65560" y="4685760"/>
              <a:ext cx="17280" cy="1656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82840" y="4693680"/>
              <a:ext cx="36720" cy="32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411600" y="4740120"/>
              <a:ext cx="20880" cy="18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393960" y="4724640"/>
              <a:ext cx="17280" cy="9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86760" y="4712760"/>
              <a:ext cx="20880" cy="93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65880" y="4685760"/>
              <a:ext cx="19440" cy="126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369480" y="4702680"/>
              <a:ext cx="28080" cy="86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835040" y="5121720"/>
              <a:ext cx="78480" cy="403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39680" y="5088960"/>
              <a:ext cx="92880" cy="309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959600" y="5072040"/>
              <a:ext cx="29520" cy="151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945560" y="5057280"/>
              <a:ext cx="3492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77360" y="4926600"/>
              <a:ext cx="42120" cy="219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36760" y="4955760"/>
              <a:ext cx="45000" cy="219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784280" y="4998240"/>
              <a:ext cx="48600" cy="18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843680" y="4991400"/>
              <a:ext cx="48600" cy="172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26400" y="4966920"/>
              <a:ext cx="45000" cy="133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780680" y="4950360"/>
              <a:ext cx="45360" cy="2340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724520" y="4939560"/>
              <a:ext cx="42120" cy="172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794360" y="4975200"/>
              <a:ext cx="42120" cy="172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972320" y="4050360"/>
              <a:ext cx="246600" cy="72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119560" y="4120200"/>
              <a:ext cx="69840" cy="7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78840" y="4015080"/>
              <a:ext cx="73440" cy="1872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31400" y="4024080"/>
              <a:ext cx="87840" cy="1332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626080" y="4025880"/>
              <a:ext cx="87840" cy="2124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237720" y="4044240"/>
              <a:ext cx="154440" cy="208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395760" y="4043520"/>
              <a:ext cx="80640" cy="1584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59040" y="4062960"/>
              <a:ext cx="64440" cy="111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00760" y="4213800"/>
              <a:ext cx="132840" cy="763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07680" y="4293360"/>
              <a:ext cx="96480" cy="5220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844320" y="4347000"/>
              <a:ext cx="191160" cy="1270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984920" y="4007880"/>
              <a:ext cx="90720" cy="198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97000" y="4014000"/>
              <a:ext cx="32760" cy="147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39120" y="4012920"/>
              <a:ext cx="64440" cy="18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46400" y="4007160"/>
              <a:ext cx="34920" cy="104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914360" y="4019040"/>
              <a:ext cx="25920" cy="86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912720" y="4030200"/>
              <a:ext cx="31680" cy="219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63280" y="5007600"/>
              <a:ext cx="54360" cy="1188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433120" y="5002920"/>
              <a:ext cx="17640" cy="9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15760" y="4899240"/>
              <a:ext cx="15840" cy="9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421240" y="4849920"/>
              <a:ext cx="19080" cy="126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379120" y="4849200"/>
              <a:ext cx="19080" cy="126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359680" y="4863960"/>
              <a:ext cx="17280" cy="9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315760" y="4887000"/>
              <a:ext cx="15840" cy="9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9240" y="4878360"/>
              <a:ext cx="17280" cy="9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064040" y="4213080"/>
              <a:ext cx="17640" cy="9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957120" y="4190040"/>
              <a:ext cx="17640" cy="9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40240" y="4044240"/>
              <a:ext cx="3610800" cy="1106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710" name=""/>
          <p:cNvSpPr/>
          <p:nvPr/>
        </p:nvSpPr>
        <p:spPr>
          <a:xfrm flipH="1" flipV="1">
            <a:off x="1887120" y="4344480"/>
            <a:ext cx="2228760" cy="1451160"/>
          </a:xfrm>
          <a:prstGeom prst="line">
            <a:avLst/>
          </a:prstGeom>
          <a:ln w="57240">
            <a:solidFill>
              <a:srgbClr val="5c41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587840" y="4168440"/>
            <a:ext cx="0" cy="1468440"/>
          </a:xfrm>
          <a:prstGeom prst="line">
            <a:avLst/>
          </a:prstGeom>
          <a:ln w="57240">
            <a:solidFill>
              <a:srgbClr val="5c41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935600" y="4302000"/>
            <a:ext cx="2179440" cy="1549440"/>
          </a:xfrm>
          <a:prstGeom prst="line">
            <a:avLst/>
          </a:prstGeom>
          <a:ln w="57240">
            <a:solidFill>
              <a:srgbClr val="5c41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2514600" y="5351400"/>
            <a:ext cx="4186080" cy="9604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593640" y="1239840"/>
            <a:ext cx="2575080" cy="2768760"/>
          </a:xfrm>
          <a:custGeom>
            <a:avLst/>
            <a:gdLst/>
            <a:ahLst/>
            <a:rect l="l" t="t" r="r" b="b"/>
            <a:pathLst>
              <a:path w="1622" h="1744">
                <a:moveTo>
                  <a:pt x="0" y="0"/>
                </a:moveTo>
                <a:lnTo>
                  <a:pt x="4" y="1744"/>
                </a:lnTo>
                <a:lnTo>
                  <a:pt x="1622" y="1705"/>
                </a:lnTo>
                <a:lnTo>
                  <a:pt x="1622" y="130"/>
                </a:lnTo>
                <a:lnTo>
                  <a:pt x="0" y="0"/>
                </a:lnTo>
                <a:close/>
              </a:path>
            </a:pathLst>
          </a:custGeom>
          <a:solidFill>
            <a:srgbClr val="ec9f14">
              <a:alpha val="97000"/>
            </a:srgbClr>
          </a:solidFill>
          <a:ln w="93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267000" y="1454040"/>
            <a:ext cx="2565360" cy="2489400"/>
          </a:xfrm>
          <a:prstGeom prst="rect">
            <a:avLst/>
          </a:prstGeom>
          <a:solidFill>
            <a:srgbClr val="ec9f14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937120" y="1258920"/>
            <a:ext cx="2568600" cy="2749680"/>
          </a:xfrm>
          <a:custGeom>
            <a:avLst/>
            <a:gdLst/>
            <a:ahLst/>
            <a:rect l="l" t="t" r="r" b="b"/>
            <a:pathLst>
              <a:path w="1618" h="1732">
                <a:moveTo>
                  <a:pt x="1616" y="0"/>
                </a:moveTo>
                <a:lnTo>
                  <a:pt x="1618" y="1732"/>
                </a:lnTo>
                <a:lnTo>
                  <a:pt x="0" y="1693"/>
                </a:lnTo>
                <a:lnTo>
                  <a:pt x="0" y="118"/>
                </a:lnTo>
                <a:lnTo>
                  <a:pt x="1616" y="0"/>
                </a:lnTo>
                <a:close/>
              </a:path>
            </a:pathLst>
          </a:custGeom>
          <a:solidFill>
            <a:srgbClr val="ec9f14"/>
          </a:solidFill>
          <a:ln w="93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321000" y="1492200"/>
            <a:ext cx="2463840" cy="2443320"/>
          </a:xfrm>
          <a:prstGeom prst="rect">
            <a:avLst/>
          </a:prstGeom>
          <a:blipFill rotWithShape="0">
            <a:blip r:embed="rId2">
              <a:alphaModFix amt="9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746440" y="4813200"/>
            <a:ext cx="3722400" cy="1207800"/>
            <a:chOff x="2746440" y="4813200"/>
            <a:chExt cx="3722400" cy="1207800"/>
          </a:xfrm>
        </p:grpSpPr>
        <p:sp>
          <p:nvSpPr>
            <p:cNvPr id="719" name=""/>
            <p:cNvSpPr/>
            <p:nvPr/>
          </p:nvSpPr>
          <p:spPr>
            <a:xfrm>
              <a:off x="2747880" y="4905360"/>
              <a:ext cx="3720960" cy="111564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c0c0c0"/>
                </a:gs>
                <a:gs pos="100000">
                  <a:srgbClr val="575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46440" y="4813200"/>
              <a:ext cx="3722400" cy="111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798640" y="5102280"/>
            <a:ext cx="35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44400" y="1278000"/>
            <a:ext cx="2514600" cy="2724120"/>
          </a:xfrm>
          <a:custGeom>
            <a:avLst/>
            <a:gdLst/>
            <a:ahLst/>
            <a:rect l="l" t="t" r="r" b="b"/>
            <a:pathLst>
              <a:path w="1584" h="1716">
                <a:moveTo>
                  <a:pt x="0" y="0"/>
                </a:moveTo>
                <a:lnTo>
                  <a:pt x="30" y="1716"/>
                </a:lnTo>
                <a:lnTo>
                  <a:pt x="1584" y="1686"/>
                </a:lnTo>
                <a:lnTo>
                  <a:pt x="1524" y="1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5d498"/>
              </a:gs>
              <a:gs pos="50000">
                <a:srgbClr val="ec9f14"/>
              </a:gs>
              <a:gs pos="100000">
                <a:srgbClr val="f5d49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5950800" y="1289160"/>
            <a:ext cx="2514600" cy="2724120"/>
          </a:xfrm>
          <a:custGeom>
            <a:avLst/>
            <a:gdLst/>
            <a:ahLst/>
            <a:rect l="l" t="t" r="r" b="b"/>
            <a:pathLst>
              <a:path w="1584" h="1716">
                <a:moveTo>
                  <a:pt x="0" y="0"/>
                </a:moveTo>
                <a:lnTo>
                  <a:pt x="30" y="1716"/>
                </a:lnTo>
                <a:lnTo>
                  <a:pt x="1584" y="1686"/>
                </a:lnTo>
                <a:lnTo>
                  <a:pt x="1524" y="1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5d293"/>
              </a:gs>
              <a:gs pos="50000">
                <a:srgbClr val="ec9f14"/>
              </a:gs>
              <a:gs pos="100000">
                <a:srgbClr val="f5d29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58880" y="2106720"/>
            <a:ext cx="226692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   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01.Titl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073920" y="2028960"/>
            <a:ext cx="226692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   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02.Titl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321000" y="2028960"/>
            <a:ext cx="246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0" y="1463760"/>
            <a:ext cx="6043680" cy="53942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090440" y="2181240"/>
            <a:ext cx="6838920" cy="3365640"/>
            <a:chOff x="1090440" y="2181240"/>
            <a:chExt cx="6838920" cy="3365640"/>
          </a:xfrm>
        </p:grpSpPr>
        <p:sp>
          <p:nvSpPr>
            <p:cNvPr id="730" name=""/>
            <p:cNvSpPr/>
            <p:nvPr/>
          </p:nvSpPr>
          <p:spPr>
            <a:xfrm>
              <a:off x="1215720" y="2330640"/>
              <a:ext cx="201132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152360" y="2624040"/>
              <a:ext cx="54000" cy="4464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39800" y="281952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81080" y="290844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28680" y="3517920"/>
              <a:ext cx="250920" cy="13320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34960" y="3619440"/>
              <a:ext cx="157320" cy="651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501640" y="366084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590560" y="3665520"/>
              <a:ext cx="19080" cy="396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00040" y="2322360"/>
              <a:ext cx="285840" cy="14004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27120" y="2257560"/>
              <a:ext cx="231840" cy="9504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752560" y="2368440"/>
              <a:ext cx="36972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49320" y="223848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16120" y="2349360"/>
              <a:ext cx="102960" cy="66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24120" y="236232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78040" y="230508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35200" y="225432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15920" y="225900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090440" y="2647800"/>
              <a:ext cx="39600" cy="241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292120" y="345924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96800" y="349884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20800" y="3708360"/>
              <a:ext cx="237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17720" y="294012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658960" y="261468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761920" y="233064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62000" y="250200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87560" y="218124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225600" y="24732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74880" y="2577960"/>
              <a:ext cx="203040" cy="8604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35080" y="2319480"/>
              <a:ext cx="61920" cy="378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262400" y="2268720"/>
              <a:ext cx="245880" cy="99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416120" y="232092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952800" y="275292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867120" y="2828880"/>
              <a:ext cx="109440" cy="1080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43360" y="46432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777000" y="422928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791040" y="4232160"/>
              <a:ext cx="493920" cy="33516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156440" y="545472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372080" y="5311800"/>
              <a:ext cx="26028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642080" y="52322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729200" y="5167440"/>
              <a:ext cx="59040" cy="4104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994280" y="439596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838480" y="3900600"/>
              <a:ext cx="7812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367320" y="400536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17920" y="3914640"/>
              <a:ext cx="114480" cy="2178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295680" y="4089240"/>
              <a:ext cx="6372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367320" y="430704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32560" y="415620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487920" y="3492360"/>
              <a:ext cx="34920" cy="11304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510240" y="3681360"/>
              <a:ext cx="96840" cy="18756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578280" y="3929040"/>
              <a:ext cx="101880" cy="12528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699240" y="415296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673680" y="42829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716520" y="4267080"/>
              <a:ext cx="71280" cy="59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825960" y="437832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50040" y="431172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619680" y="440532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41920" y="443556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508440" y="438948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562440" y="44067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484680" y="3879720"/>
              <a:ext cx="42840" cy="8748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565680" y="3865680"/>
              <a:ext cx="30240" cy="87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00600" y="383868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16440" y="3857760"/>
              <a:ext cx="33480" cy="759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189480" y="396720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173640" y="393084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167160" y="3902040"/>
              <a:ext cx="1908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48080" y="383868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151320" y="3878280"/>
              <a:ext cx="25560" cy="205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478640" y="4867200"/>
              <a:ext cx="71280" cy="9540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845120" y="4789440"/>
              <a:ext cx="84240" cy="7308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591320" y="4749840"/>
              <a:ext cx="27000" cy="36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78720" y="471492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35720" y="44067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389720" y="447516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432560" y="4575240"/>
              <a:ext cx="44280" cy="442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486560" y="4559400"/>
              <a:ext cx="44280" cy="410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70720" y="4502160"/>
              <a:ext cx="41040" cy="31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429320" y="446256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378560" y="443700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441920" y="452124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886280" y="2340000"/>
              <a:ext cx="223560" cy="171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019480" y="2505240"/>
              <a:ext cx="6336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44920" y="2257560"/>
              <a:ext cx="66600" cy="442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92440" y="2278080"/>
              <a:ext cx="79560" cy="3168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478120" y="2282760"/>
              <a:ext cx="7956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032160" y="2325600"/>
              <a:ext cx="140040" cy="4932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175080" y="232416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141960" y="237024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41920" y="2725920"/>
              <a:ext cx="120600" cy="1807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38760" y="291312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581520" y="304020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897440" y="22399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727520" y="2254320"/>
              <a:ext cx="2988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765680" y="2252520"/>
              <a:ext cx="58680" cy="432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862520" y="2238480"/>
              <a:ext cx="31680" cy="252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833720" y="2266920"/>
              <a:ext cx="23760" cy="205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643440" y="2292480"/>
              <a:ext cx="28800" cy="52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160" y="459756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03520" y="458640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97320" y="43419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292720" y="422604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4560" y="422424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6920" y="42591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197320" y="43131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27560" y="429264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063680" y="27241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966840" y="26701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589200" y="2325600"/>
              <a:ext cx="3270240" cy="261000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1903320" y="2550960"/>
            <a:ext cx="260280" cy="2606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763440" y="13176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720880" y="5614920"/>
            <a:ext cx="409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887560" y="509436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A title about conten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424400" y="387684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413400" y="302904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846680" y="265428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35120" y="4838760"/>
            <a:ext cx="26064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292720" y="1765440"/>
            <a:ext cx="3146400" cy="433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969840"/>
            <a:ext cx="6043680" cy="588816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8080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595680" y="1690560"/>
            <a:ext cx="1919160" cy="59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4476"/>
              </a:gs>
              <a:gs pos="100000">
                <a:srgbClr val="873359"/>
              </a:gs>
            </a:gsLst>
            <a:lin ang="5400000"/>
          </a:gradFill>
          <a:ln w="28440">
            <a:solidFill>
              <a:srgbClr val="b24476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330200" y="299736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4476"/>
              </a:gs>
              <a:gs pos="100000">
                <a:srgbClr val="873359"/>
              </a:gs>
            </a:gsLst>
            <a:lin ang="5400000"/>
          </a:gradFill>
          <a:ln w="28440">
            <a:solidFill>
              <a:srgbClr val="b24476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840280" y="299736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4476"/>
              </a:gs>
              <a:gs pos="100000">
                <a:srgbClr val="873359"/>
              </a:gs>
            </a:gsLst>
            <a:lin ang="5400000"/>
          </a:gradFill>
          <a:ln w="28440">
            <a:solidFill>
              <a:srgbClr val="b24476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40040" y="4743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4476"/>
              </a:gs>
              <a:gs pos="100000">
                <a:srgbClr val="873359"/>
              </a:gs>
            </a:gsLst>
            <a:lin ang="5400000"/>
          </a:gradFill>
          <a:ln w="28440">
            <a:solidFill>
              <a:srgbClr val="b24476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207040" y="478152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4476"/>
              </a:gs>
              <a:gs pos="100000">
                <a:srgbClr val="873359"/>
              </a:gs>
            </a:gsLst>
            <a:lin ang="5400000"/>
          </a:gradFill>
          <a:ln w="28440">
            <a:solidFill>
              <a:srgbClr val="b24476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649840" y="1724040"/>
            <a:ext cx="21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262560" y="3716280"/>
            <a:ext cx="1497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170320" y="5451480"/>
            <a:ext cx="228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482840" y="372096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825560" y="5451480"/>
            <a:ext cx="21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840120" y="1806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56204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10056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416560" y="4902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166840" y="48639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2"/>
          <a:stretch/>
        </p:blipFill>
        <p:spPr>
          <a:xfrm>
            <a:off x="3030480" y="3270240"/>
            <a:ext cx="2982960" cy="101592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 txBox="1"/>
          <p:nvPr/>
        </p:nvSpPr>
        <p:spPr>
          <a:xfrm>
            <a:off x="3997440" y="3543480"/>
            <a:ext cx="1182600" cy="434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itle</a:t>
            </a:r>
            <a:endParaRPr b="1" lang="en-US" sz="2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 rot="21175800">
            <a:off x="631800" y="2959200"/>
            <a:ext cx="1812960" cy="2336760"/>
          </a:xfrm>
          <a:custGeom>
            <a:avLst/>
            <a:gdLst/>
            <a:ahLst/>
            <a:rect l="l" t="t" r="r" b="b"/>
            <a:pathLst>
              <a:path w="2220" h="2878">
                <a:moveTo>
                  <a:pt x="832" y="20"/>
                </a:moveTo>
                <a:lnTo>
                  <a:pt x="784" y="20"/>
                </a:lnTo>
                <a:lnTo>
                  <a:pt x="756" y="0"/>
                </a:lnTo>
                <a:lnTo>
                  <a:pt x="676" y="20"/>
                </a:lnTo>
                <a:lnTo>
                  <a:pt x="624" y="44"/>
                </a:lnTo>
                <a:lnTo>
                  <a:pt x="568" y="112"/>
                </a:lnTo>
                <a:lnTo>
                  <a:pt x="536" y="164"/>
                </a:lnTo>
                <a:lnTo>
                  <a:pt x="508" y="208"/>
                </a:lnTo>
                <a:lnTo>
                  <a:pt x="464" y="212"/>
                </a:lnTo>
                <a:lnTo>
                  <a:pt x="392" y="164"/>
                </a:lnTo>
                <a:lnTo>
                  <a:pt x="352" y="140"/>
                </a:lnTo>
                <a:lnTo>
                  <a:pt x="300" y="164"/>
                </a:lnTo>
                <a:lnTo>
                  <a:pt x="280" y="184"/>
                </a:lnTo>
                <a:lnTo>
                  <a:pt x="216" y="184"/>
                </a:lnTo>
                <a:lnTo>
                  <a:pt x="180" y="156"/>
                </a:lnTo>
                <a:lnTo>
                  <a:pt x="108" y="152"/>
                </a:lnTo>
                <a:lnTo>
                  <a:pt x="48" y="184"/>
                </a:lnTo>
                <a:lnTo>
                  <a:pt x="16" y="184"/>
                </a:lnTo>
                <a:lnTo>
                  <a:pt x="0" y="264"/>
                </a:lnTo>
                <a:lnTo>
                  <a:pt x="4" y="312"/>
                </a:lnTo>
                <a:lnTo>
                  <a:pt x="68" y="368"/>
                </a:lnTo>
                <a:lnTo>
                  <a:pt x="124" y="408"/>
                </a:lnTo>
                <a:lnTo>
                  <a:pt x="196" y="432"/>
                </a:lnTo>
                <a:lnTo>
                  <a:pt x="224" y="460"/>
                </a:lnTo>
                <a:lnTo>
                  <a:pt x="256" y="588"/>
                </a:lnTo>
                <a:lnTo>
                  <a:pt x="272" y="636"/>
                </a:lnTo>
                <a:lnTo>
                  <a:pt x="272" y="664"/>
                </a:lnTo>
                <a:lnTo>
                  <a:pt x="276" y="724"/>
                </a:lnTo>
                <a:lnTo>
                  <a:pt x="256" y="812"/>
                </a:lnTo>
                <a:lnTo>
                  <a:pt x="248" y="900"/>
                </a:lnTo>
                <a:lnTo>
                  <a:pt x="216" y="964"/>
                </a:lnTo>
                <a:lnTo>
                  <a:pt x="216" y="1012"/>
                </a:lnTo>
                <a:lnTo>
                  <a:pt x="180" y="1072"/>
                </a:lnTo>
                <a:lnTo>
                  <a:pt x="180" y="1100"/>
                </a:lnTo>
                <a:lnTo>
                  <a:pt x="132" y="1160"/>
                </a:lnTo>
                <a:lnTo>
                  <a:pt x="144" y="1240"/>
                </a:lnTo>
                <a:lnTo>
                  <a:pt x="156" y="1296"/>
                </a:lnTo>
                <a:lnTo>
                  <a:pt x="184" y="1372"/>
                </a:lnTo>
                <a:lnTo>
                  <a:pt x="236" y="1476"/>
                </a:lnTo>
                <a:lnTo>
                  <a:pt x="268" y="1500"/>
                </a:lnTo>
                <a:lnTo>
                  <a:pt x="292" y="1500"/>
                </a:lnTo>
                <a:lnTo>
                  <a:pt x="328" y="1556"/>
                </a:lnTo>
                <a:lnTo>
                  <a:pt x="404" y="1640"/>
                </a:lnTo>
                <a:lnTo>
                  <a:pt x="412" y="1716"/>
                </a:lnTo>
                <a:lnTo>
                  <a:pt x="436" y="1772"/>
                </a:lnTo>
                <a:lnTo>
                  <a:pt x="452" y="1796"/>
                </a:lnTo>
                <a:lnTo>
                  <a:pt x="460" y="1824"/>
                </a:lnTo>
                <a:lnTo>
                  <a:pt x="452" y="1964"/>
                </a:lnTo>
                <a:lnTo>
                  <a:pt x="452" y="2152"/>
                </a:lnTo>
                <a:lnTo>
                  <a:pt x="424" y="2196"/>
                </a:lnTo>
                <a:lnTo>
                  <a:pt x="384" y="2196"/>
                </a:lnTo>
                <a:lnTo>
                  <a:pt x="264" y="2276"/>
                </a:lnTo>
                <a:lnTo>
                  <a:pt x="116" y="2392"/>
                </a:lnTo>
                <a:lnTo>
                  <a:pt x="140" y="2420"/>
                </a:lnTo>
                <a:lnTo>
                  <a:pt x="76" y="2420"/>
                </a:lnTo>
                <a:lnTo>
                  <a:pt x="16" y="2472"/>
                </a:lnTo>
                <a:lnTo>
                  <a:pt x="64" y="2572"/>
                </a:lnTo>
                <a:lnTo>
                  <a:pt x="100" y="2708"/>
                </a:lnTo>
                <a:lnTo>
                  <a:pt x="136" y="2828"/>
                </a:lnTo>
                <a:cubicBezTo>
                  <a:pt x="151" y="2851"/>
                  <a:pt x="171" y="2878"/>
                  <a:pt x="188" y="2848"/>
                </a:cubicBezTo>
                <a:cubicBezTo>
                  <a:pt x="213" y="2839"/>
                  <a:pt x="221" y="2698"/>
                  <a:pt x="240" y="2648"/>
                </a:cubicBezTo>
                <a:cubicBezTo>
                  <a:pt x="259" y="2598"/>
                  <a:pt x="280" y="2563"/>
                  <a:pt x="300" y="2548"/>
                </a:cubicBezTo>
                <a:lnTo>
                  <a:pt x="360" y="2556"/>
                </a:lnTo>
                <a:lnTo>
                  <a:pt x="408" y="2484"/>
                </a:lnTo>
                <a:lnTo>
                  <a:pt x="524" y="2420"/>
                </a:lnTo>
                <a:lnTo>
                  <a:pt x="680" y="2340"/>
                </a:lnTo>
                <a:lnTo>
                  <a:pt x="736" y="2224"/>
                </a:lnTo>
                <a:lnTo>
                  <a:pt x="752" y="2144"/>
                </a:lnTo>
                <a:lnTo>
                  <a:pt x="744" y="2076"/>
                </a:lnTo>
                <a:lnTo>
                  <a:pt x="748" y="1972"/>
                </a:lnTo>
                <a:lnTo>
                  <a:pt x="756" y="1720"/>
                </a:lnTo>
                <a:lnTo>
                  <a:pt x="736" y="1644"/>
                </a:lnTo>
                <a:lnTo>
                  <a:pt x="728" y="1584"/>
                </a:lnTo>
                <a:lnTo>
                  <a:pt x="728" y="1500"/>
                </a:lnTo>
                <a:lnTo>
                  <a:pt x="756" y="1412"/>
                </a:lnTo>
                <a:lnTo>
                  <a:pt x="808" y="1412"/>
                </a:lnTo>
                <a:lnTo>
                  <a:pt x="844" y="1332"/>
                </a:lnTo>
                <a:lnTo>
                  <a:pt x="888" y="1304"/>
                </a:lnTo>
                <a:lnTo>
                  <a:pt x="940" y="1320"/>
                </a:lnTo>
                <a:lnTo>
                  <a:pt x="980" y="1308"/>
                </a:lnTo>
                <a:lnTo>
                  <a:pt x="1060" y="1292"/>
                </a:lnTo>
                <a:lnTo>
                  <a:pt x="1164" y="1312"/>
                </a:lnTo>
                <a:lnTo>
                  <a:pt x="1240" y="1304"/>
                </a:lnTo>
                <a:lnTo>
                  <a:pt x="1260" y="1328"/>
                </a:lnTo>
                <a:lnTo>
                  <a:pt x="1312" y="1332"/>
                </a:lnTo>
                <a:lnTo>
                  <a:pt x="1364" y="1360"/>
                </a:lnTo>
                <a:lnTo>
                  <a:pt x="1400" y="1380"/>
                </a:lnTo>
                <a:lnTo>
                  <a:pt x="1488" y="1384"/>
                </a:lnTo>
                <a:lnTo>
                  <a:pt x="1548" y="1460"/>
                </a:lnTo>
                <a:lnTo>
                  <a:pt x="1672" y="1484"/>
                </a:lnTo>
                <a:lnTo>
                  <a:pt x="1744" y="1500"/>
                </a:lnTo>
                <a:lnTo>
                  <a:pt x="1808" y="1488"/>
                </a:lnTo>
                <a:lnTo>
                  <a:pt x="1856" y="1432"/>
                </a:lnTo>
                <a:lnTo>
                  <a:pt x="1908" y="1304"/>
                </a:lnTo>
                <a:lnTo>
                  <a:pt x="1912" y="1228"/>
                </a:lnTo>
                <a:lnTo>
                  <a:pt x="1896" y="1148"/>
                </a:lnTo>
                <a:lnTo>
                  <a:pt x="1932" y="1028"/>
                </a:lnTo>
                <a:lnTo>
                  <a:pt x="1996" y="936"/>
                </a:lnTo>
                <a:lnTo>
                  <a:pt x="2032" y="832"/>
                </a:lnTo>
                <a:lnTo>
                  <a:pt x="2168" y="856"/>
                </a:lnTo>
                <a:lnTo>
                  <a:pt x="2196" y="860"/>
                </a:lnTo>
                <a:lnTo>
                  <a:pt x="2220" y="140"/>
                </a:lnTo>
                <a:lnTo>
                  <a:pt x="2144" y="132"/>
                </a:lnTo>
                <a:lnTo>
                  <a:pt x="1988" y="136"/>
                </a:lnTo>
                <a:lnTo>
                  <a:pt x="1788" y="108"/>
                </a:lnTo>
                <a:lnTo>
                  <a:pt x="1724" y="120"/>
                </a:lnTo>
                <a:lnTo>
                  <a:pt x="1712" y="188"/>
                </a:lnTo>
                <a:lnTo>
                  <a:pt x="1724" y="320"/>
                </a:lnTo>
                <a:lnTo>
                  <a:pt x="1652" y="340"/>
                </a:lnTo>
                <a:lnTo>
                  <a:pt x="1674" y="356"/>
                </a:lnTo>
                <a:lnTo>
                  <a:pt x="1723" y="351"/>
                </a:lnTo>
                <a:lnTo>
                  <a:pt x="1724" y="536"/>
                </a:lnTo>
                <a:lnTo>
                  <a:pt x="1660" y="536"/>
                </a:lnTo>
                <a:lnTo>
                  <a:pt x="1620" y="548"/>
                </a:lnTo>
                <a:lnTo>
                  <a:pt x="1712" y="584"/>
                </a:lnTo>
                <a:lnTo>
                  <a:pt x="1720" y="612"/>
                </a:lnTo>
                <a:lnTo>
                  <a:pt x="1700" y="780"/>
                </a:lnTo>
                <a:lnTo>
                  <a:pt x="1668" y="820"/>
                </a:lnTo>
                <a:lnTo>
                  <a:pt x="1664" y="868"/>
                </a:lnTo>
                <a:lnTo>
                  <a:pt x="1632" y="904"/>
                </a:lnTo>
                <a:lnTo>
                  <a:pt x="1564" y="900"/>
                </a:lnTo>
                <a:lnTo>
                  <a:pt x="1496" y="924"/>
                </a:lnTo>
                <a:lnTo>
                  <a:pt x="1424" y="952"/>
                </a:lnTo>
                <a:lnTo>
                  <a:pt x="1384" y="980"/>
                </a:lnTo>
                <a:lnTo>
                  <a:pt x="1368" y="1008"/>
                </a:lnTo>
                <a:lnTo>
                  <a:pt x="1216" y="992"/>
                </a:lnTo>
                <a:lnTo>
                  <a:pt x="1168" y="956"/>
                </a:lnTo>
                <a:lnTo>
                  <a:pt x="1088" y="956"/>
                </a:lnTo>
                <a:lnTo>
                  <a:pt x="992" y="956"/>
                </a:lnTo>
                <a:lnTo>
                  <a:pt x="924" y="940"/>
                </a:lnTo>
                <a:lnTo>
                  <a:pt x="892" y="924"/>
                </a:lnTo>
                <a:lnTo>
                  <a:pt x="876" y="884"/>
                </a:lnTo>
                <a:lnTo>
                  <a:pt x="888" y="832"/>
                </a:lnTo>
                <a:lnTo>
                  <a:pt x="912" y="784"/>
                </a:lnTo>
                <a:lnTo>
                  <a:pt x="928" y="728"/>
                </a:lnTo>
                <a:lnTo>
                  <a:pt x="976" y="712"/>
                </a:lnTo>
                <a:lnTo>
                  <a:pt x="1060" y="732"/>
                </a:lnTo>
                <a:lnTo>
                  <a:pt x="1204" y="740"/>
                </a:lnTo>
                <a:lnTo>
                  <a:pt x="1288" y="712"/>
                </a:lnTo>
                <a:lnTo>
                  <a:pt x="1388" y="660"/>
                </a:lnTo>
                <a:lnTo>
                  <a:pt x="1468" y="592"/>
                </a:lnTo>
                <a:lnTo>
                  <a:pt x="1520" y="536"/>
                </a:lnTo>
                <a:lnTo>
                  <a:pt x="1544" y="508"/>
                </a:lnTo>
                <a:lnTo>
                  <a:pt x="1592" y="520"/>
                </a:lnTo>
                <a:lnTo>
                  <a:pt x="1624" y="548"/>
                </a:lnTo>
                <a:lnTo>
                  <a:pt x="1647" y="536"/>
                </a:lnTo>
                <a:lnTo>
                  <a:pt x="1612" y="492"/>
                </a:lnTo>
                <a:lnTo>
                  <a:pt x="1632" y="456"/>
                </a:lnTo>
                <a:lnTo>
                  <a:pt x="1632" y="420"/>
                </a:lnTo>
                <a:lnTo>
                  <a:pt x="1648" y="376"/>
                </a:lnTo>
                <a:lnTo>
                  <a:pt x="1672" y="356"/>
                </a:lnTo>
                <a:lnTo>
                  <a:pt x="1656" y="341"/>
                </a:lnTo>
                <a:lnTo>
                  <a:pt x="1584" y="344"/>
                </a:lnTo>
                <a:lnTo>
                  <a:pt x="1536" y="356"/>
                </a:lnTo>
                <a:lnTo>
                  <a:pt x="1540" y="392"/>
                </a:lnTo>
                <a:lnTo>
                  <a:pt x="1496" y="424"/>
                </a:lnTo>
                <a:lnTo>
                  <a:pt x="1444" y="464"/>
                </a:lnTo>
                <a:lnTo>
                  <a:pt x="1444" y="492"/>
                </a:lnTo>
                <a:lnTo>
                  <a:pt x="1392" y="492"/>
                </a:lnTo>
                <a:lnTo>
                  <a:pt x="1384" y="520"/>
                </a:lnTo>
                <a:lnTo>
                  <a:pt x="1340" y="520"/>
                </a:lnTo>
                <a:lnTo>
                  <a:pt x="1300" y="540"/>
                </a:lnTo>
                <a:lnTo>
                  <a:pt x="1236" y="572"/>
                </a:lnTo>
                <a:lnTo>
                  <a:pt x="1208" y="584"/>
                </a:lnTo>
                <a:lnTo>
                  <a:pt x="1148" y="564"/>
                </a:lnTo>
                <a:lnTo>
                  <a:pt x="1080" y="556"/>
                </a:lnTo>
                <a:lnTo>
                  <a:pt x="1048" y="528"/>
                </a:lnTo>
                <a:lnTo>
                  <a:pt x="1028" y="500"/>
                </a:lnTo>
                <a:lnTo>
                  <a:pt x="1012" y="480"/>
                </a:lnTo>
                <a:lnTo>
                  <a:pt x="976" y="432"/>
                </a:lnTo>
                <a:lnTo>
                  <a:pt x="936" y="388"/>
                </a:lnTo>
                <a:lnTo>
                  <a:pt x="904" y="368"/>
                </a:lnTo>
                <a:lnTo>
                  <a:pt x="844" y="372"/>
                </a:lnTo>
                <a:lnTo>
                  <a:pt x="824" y="344"/>
                </a:lnTo>
                <a:lnTo>
                  <a:pt x="820" y="316"/>
                </a:lnTo>
                <a:lnTo>
                  <a:pt x="844" y="264"/>
                </a:lnTo>
                <a:lnTo>
                  <a:pt x="860" y="212"/>
                </a:lnTo>
                <a:lnTo>
                  <a:pt x="868" y="152"/>
                </a:lnTo>
                <a:lnTo>
                  <a:pt x="880" y="120"/>
                </a:lnTo>
                <a:lnTo>
                  <a:pt x="876" y="96"/>
                </a:lnTo>
                <a:lnTo>
                  <a:pt x="856" y="72"/>
                </a:lnTo>
                <a:lnTo>
                  <a:pt x="852" y="48"/>
                </a:lnTo>
                <a:lnTo>
                  <a:pt x="83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1949400" y="2464920"/>
            <a:ext cx="4784760" cy="302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1909800" y="5349240"/>
            <a:ext cx="216000" cy="219600"/>
            <a:chOff x="1909800" y="5349240"/>
            <a:chExt cx="216000" cy="219600"/>
          </a:xfrm>
        </p:grpSpPr>
        <p:pic>
          <p:nvPicPr>
            <p:cNvPr id="871" name="" descr=""/>
            <p:cNvPicPr/>
            <p:nvPr/>
          </p:nvPicPr>
          <p:blipFill>
            <a:blip r:embed="rId1"/>
            <a:stretch/>
          </p:blipFill>
          <p:spPr>
            <a:xfrm>
              <a:off x="1932480" y="536904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1932480" y="536904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030303"/>
                </a:gs>
                <a:gs pos="50000">
                  <a:srgbClr val="080808">
                    <a:alpha val="50196"/>
                  </a:srgbClr>
                </a:gs>
                <a:gs pos="100000">
                  <a:srgbClr val="0303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1945440" y="5500440"/>
              <a:ext cx="170280" cy="68400"/>
              <a:chOff x="1945440" y="5500440"/>
              <a:chExt cx="170280" cy="68400"/>
            </a:xfrm>
          </p:grpSpPr>
          <p:grpSp>
            <p:nvGrpSpPr>
              <p:cNvPr id="874" name=""/>
              <p:cNvGrpSpPr/>
              <p:nvPr/>
            </p:nvGrpSpPr>
            <p:grpSpPr>
              <a:xfrm>
                <a:off x="1975680" y="5500440"/>
                <a:ext cx="140040" cy="64080"/>
                <a:chOff x="1975680" y="5500440"/>
                <a:chExt cx="140040" cy="64080"/>
              </a:xfrm>
            </p:grpSpPr>
            <p:sp>
              <p:nvSpPr>
                <p:cNvPr id="875" name=""/>
                <p:cNvSpPr/>
                <p:nvPr/>
              </p:nvSpPr>
              <p:spPr>
                <a:xfrm flipH="1" flipV="1" rot="3964800">
                  <a:off x="2051280" y="54813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 rot="4780200">
                  <a:off x="2035800" y="548784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 flipV="1" rot="5076000">
                  <a:off x="2026080" y="548928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 flipV="1" rot="5608200">
                  <a:off x="2014920" y="549036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" name=""/>
              <p:cNvGrpSpPr/>
              <p:nvPr/>
            </p:nvGrpSpPr>
            <p:grpSpPr>
              <a:xfrm>
                <a:off x="1945440" y="5501160"/>
                <a:ext cx="140760" cy="67680"/>
                <a:chOff x="1945440" y="5501160"/>
                <a:chExt cx="140760" cy="67680"/>
              </a:xfrm>
            </p:grpSpPr>
            <p:sp>
              <p:nvSpPr>
                <p:cNvPr id="880" name=""/>
                <p:cNvSpPr/>
                <p:nvPr/>
              </p:nvSpPr>
              <p:spPr>
                <a:xfrm flipH="1" flipV="1" rot="5317800">
                  <a:off x="2021760" y="5490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 flipV="1" rot="6133800">
                  <a:off x="2004840" y="549036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 rot="6429000">
                  <a:off x="1995480" y="54871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 flipV="1" rot="6961200">
                  <a:off x="1983600" y="54838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84" name="" descr=""/>
            <p:cNvPicPr/>
            <p:nvPr/>
          </p:nvPicPr>
          <p:blipFill>
            <a:blip r:embed="rId2"/>
            <a:srcRect l="0" t="23740" r="0" b="0"/>
            <a:stretch/>
          </p:blipFill>
          <p:spPr>
            <a:xfrm rot="19029600">
              <a:off x="1922040" y="5385600"/>
              <a:ext cx="14328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5" name=""/>
          <p:cNvGrpSpPr/>
          <p:nvPr/>
        </p:nvGrpSpPr>
        <p:grpSpPr>
          <a:xfrm>
            <a:off x="3592440" y="4253760"/>
            <a:ext cx="216000" cy="219600"/>
            <a:chOff x="3592440" y="4253760"/>
            <a:chExt cx="216000" cy="219600"/>
          </a:xfrm>
        </p:grpSpPr>
        <p:pic>
          <p:nvPicPr>
            <p:cNvPr id="886" name="" descr=""/>
            <p:cNvPicPr/>
            <p:nvPr/>
          </p:nvPicPr>
          <p:blipFill>
            <a:blip r:embed="rId3"/>
            <a:stretch/>
          </p:blipFill>
          <p:spPr>
            <a:xfrm>
              <a:off x="3615120" y="427356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3615120" y="427356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030303"/>
                </a:gs>
                <a:gs pos="50000">
                  <a:srgbClr val="080808">
                    <a:alpha val="50196"/>
                  </a:srgbClr>
                </a:gs>
                <a:gs pos="100000">
                  <a:srgbClr val="0303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3628080" y="4404960"/>
              <a:ext cx="170280" cy="68400"/>
              <a:chOff x="3628080" y="4404960"/>
              <a:chExt cx="170280" cy="68400"/>
            </a:xfrm>
          </p:grpSpPr>
          <p:grpSp>
            <p:nvGrpSpPr>
              <p:cNvPr id="889" name=""/>
              <p:cNvGrpSpPr/>
              <p:nvPr/>
            </p:nvGrpSpPr>
            <p:grpSpPr>
              <a:xfrm>
                <a:off x="3658320" y="4404960"/>
                <a:ext cx="140040" cy="64080"/>
                <a:chOff x="3658320" y="4404960"/>
                <a:chExt cx="140040" cy="64080"/>
              </a:xfrm>
            </p:grpSpPr>
            <p:sp>
              <p:nvSpPr>
                <p:cNvPr id="890" name=""/>
                <p:cNvSpPr/>
                <p:nvPr/>
              </p:nvSpPr>
              <p:spPr>
                <a:xfrm flipH="1" flipV="1" rot="3964800">
                  <a:off x="3733920" y="438588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 rot="4780200">
                  <a:off x="3718440" y="43923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 flipV="1" rot="5076000">
                  <a:off x="3708720" y="439380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 flipV="1" rot="5608200">
                  <a:off x="3697560" y="439488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3628080" y="4405680"/>
                <a:ext cx="140760" cy="67680"/>
                <a:chOff x="3628080" y="4405680"/>
                <a:chExt cx="140760" cy="67680"/>
              </a:xfrm>
            </p:grpSpPr>
            <p:sp>
              <p:nvSpPr>
                <p:cNvPr id="895" name=""/>
                <p:cNvSpPr/>
                <p:nvPr/>
              </p:nvSpPr>
              <p:spPr>
                <a:xfrm flipH="1" flipV="1" rot="5317800">
                  <a:off x="3704400" y="43945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 flipV="1" rot="6133800">
                  <a:off x="3687480" y="43948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 rot="6429000">
                  <a:off x="3678120" y="43916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 flipV="1" rot="6961200">
                  <a:off x="3666240" y="43884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99" name="" descr=""/>
            <p:cNvPicPr/>
            <p:nvPr/>
          </p:nvPicPr>
          <p:blipFill>
            <a:blip r:embed="rId4"/>
            <a:srcRect l="0" t="23740" r="0" b="0"/>
            <a:stretch/>
          </p:blipFill>
          <p:spPr>
            <a:xfrm rot="19029600">
              <a:off x="3604680" y="4290120"/>
              <a:ext cx="14328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0" name=""/>
          <p:cNvGrpSpPr/>
          <p:nvPr/>
        </p:nvGrpSpPr>
        <p:grpSpPr>
          <a:xfrm>
            <a:off x="5200920" y="3255120"/>
            <a:ext cx="215280" cy="219600"/>
            <a:chOff x="5200920" y="3255120"/>
            <a:chExt cx="215280" cy="219600"/>
          </a:xfrm>
        </p:grpSpPr>
        <p:pic>
          <p:nvPicPr>
            <p:cNvPr id="901" name="" descr=""/>
            <p:cNvPicPr/>
            <p:nvPr/>
          </p:nvPicPr>
          <p:blipFill>
            <a:blip r:embed="rId5"/>
            <a:stretch/>
          </p:blipFill>
          <p:spPr>
            <a:xfrm>
              <a:off x="5223240" y="3274920"/>
              <a:ext cx="1929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5223240" y="3274920"/>
              <a:ext cx="191880" cy="190440"/>
            </a:xfrm>
            <a:prstGeom prst="ellipse">
              <a:avLst/>
            </a:prstGeom>
            <a:gradFill rotWithShape="0">
              <a:gsLst>
                <a:gs pos="0">
                  <a:srgbClr val="030303"/>
                </a:gs>
                <a:gs pos="50000">
                  <a:srgbClr val="080808">
                    <a:alpha val="50196"/>
                  </a:srgbClr>
                </a:gs>
                <a:gs pos="100000">
                  <a:srgbClr val="0303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903" name=""/>
            <p:cNvGrpSpPr/>
            <p:nvPr/>
          </p:nvGrpSpPr>
          <p:grpSpPr>
            <a:xfrm>
              <a:off x="5236200" y="3406680"/>
              <a:ext cx="169920" cy="68040"/>
              <a:chOff x="5236200" y="3406680"/>
              <a:chExt cx="169920" cy="68040"/>
            </a:xfrm>
          </p:grpSpPr>
          <p:grpSp>
            <p:nvGrpSpPr>
              <p:cNvPr id="904" name=""/>
              <p:cNvGrpSpPr/>
              <p:nvPr/>
            </p:nvGrpSpPr>
            <p:grpSpPr>
              <a:xfrm>
                <a:off x="5266440" y="3406680"/>
                <a:ext cx="139680" cy="64080"/>
                <a:chOff x="5266440" y="3406680"/>
                <a:chExt cx="139680" cy="64080"/>
              </a:xfrm>
            </p:grpSpPr>
            <p:sp>
              <p:nvSpPr>
                <p:cNvPr id="905" name=""/>
                <p:cNvSpPr/>
                <p:nvPr/>
              </p:nvSpPr>
              <p:spPr>
                <a:xfrm flipH="1" flipV="1" rot="3964800">
                  <a:off x="5341680" y="338760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 flipV="1" rot="4780200">
                  <a:off x="5326200" y="339372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H="1" flipV="1" rot="5076000">
                  <a:off x="5316480" y="339516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flipV="1" rot="5608200">
                  <a:off x="5305680" y="339624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5236200" y="3407040"/>
                <a:ext cx="140400" cy="67680"/>
                <a:chOff x="5236200" y="3407040"/>
                <a:chExt cx="140400" cy="67680"/>
              </a:xfrm>
            </p:grpSpPr>
            <p:sp>
              <p:nvSpPr>
                <p:cNvPr id="910" name=""/>
                <p:cNvSpPr/>
                <p:nvPr/>
              </p:nvSpPr>
              <p:spPr>
                <a:xfrm flipH="1" flipV="1" rot="5317800">
                  <a:off x="5312160" y="33958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 flipV="1" rot="6133800">
                  <a:off x="5294880" y="33958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flipV="1" rot="6429000">
                  <a:off x="5285880" y="3393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flipV="1" rot="6961200">
                  <a:off x="5274360" y="338976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914" name="" descr=""/>
            <p:cNvPicPr/>
            <p:nvPr/>
          </p:nvPicPr>
          <p:blipFill>
            <a:blip r:embed="rId6"/>
            <a:srcRect l="0" t="23740" r="0" b="0"/>
            <a:stretch/>
          </p:blipFill>
          <p:spPr>
            <a:xfrm rot="19029600">
              <a:off x="5213520" y="3291120"/>
              <a:ext cx="14292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5" name=""/>
          <p:cNvGrpSpPr/>
          <p:nvPr/>
        </p:nvGrpSpPr>
        <p:grpSpPr>
          <a:xfrm>
            <a:off x="6556320" y="2370960"/>
            <a:ext cx="216000" cy="219600"/>
            <a:chOff x="6556320" y="2370960"/>
            <a:chExt cx="216000" cy="219600"/>
          </a:xfrm>
        </p:grpSpPr>
        <p:pic>
          <p:nvPicPr>
            <p:cNvPr id="916" name="" descr=""/>
            <p:cNvPicPr/>
            <p:nvPr/>
          </p:nvPicPr>
          <p:blipFill>
            <a:blip r:embed="rId7"/>
            <a:stretch/>
          </p:blipFill>
          <p:spPr>
            <a:xfrm>
              <a:off x="6579000" y="239076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"/>
            <p:cNvSpPr/>
            <p:nvPr/>
          </p:nvSpPr>
          <p:spPr>
            <a:xfrm>
              <a:off x="6579000" y="239076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005675"/>
                </a:gs>
                <a:gs pos="50000">
                  <a:srgbClr val="01bcff">
                    <a:alpha val="50196"/>
                  </a:srgbClr>
                </a:gs>
                <a:gs pos="100000">
                  <a:srgbClr val="005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6591960" y="2522160"/>
              <a:ext cx="170280" cy="68400"/>
              <a:chOff x="6591960" y="2522160"/>
              <a:chExt cx="170280" cy="68400"/>
            </a:xfrm>
          </p:grpSpPr>
          <p:grpSp>
            <p:nvGrpSpPr>
              <p:cNvPr id="919" name=""/>
              <p:cNvGrpSpPr/>
              <p:nvPr/>
            </p:nvGrpSpPr>
            <p:grpSpPr>
              <a:xfrm>
                <a:off x="6622200" y="2522160"/>
                <a:ext cx="140040" cy="64080"/>
                <a:chOff x="6622200" y="2522160"/>
                <a:chExt cx="140040" cy="64080"/>
              </a:xfrm>
            </p:grpSpPr>
            <p:sp>
              <p:nvSpPr>
                <p:cNvPr id="920" name=""/>
                <p:cNvSpPr/>
                <p:nvPr/>
              </p:nvSpPr>
              <p:spPr>
                <a:xfrm flipH="1" flipV="1" rot="3964800">
                  <a:off x="6697800" y="250308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 flipV="1" rot="4780200">
                  <a:off x="6682320" y="25095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H="1" flipV="1" rot="5076000">
                  <a:off x="6672600" y="251100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 flipV="1" rot="5608200">
                  <a:off x="6661440" y="251208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6591960" y="2522880"/>
                <a:ext cx="140760" cy="67680"/>
                <a:chOff x="6591960" y="2522880"/>
                <a:chExt cx="140760" cy="67680"/>
              </a:xfrm>
            </p:grpSpPr>
            <p:sp>
              <p:nvSpPr>
                <p:cNvPr id="925" name=""/>
                <p:cNvSpPr/>
                <p:nvPr/>
              </p:nvSpPr>
              <p:spPr>
                <a:xfrm flipH="1" flipV="1" rot="5317800">
                  <a:off x="6668280" y="25117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 flipV="1" rot="6133800">
                  <a:off x="6651360" y="25120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 flipV="1" rot="6429000">
                  <a:off x="6642000" y="25088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H="1" flipV="1" rot="6961200">
                  <a:off x="6630120" y="25056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929" name="" descr=""/>
            <p:cNvPicPr/>
            <p:nvPr/>
          </p:nvPicPr>
          <p:blipFill>
            <a:blip r:embed="rId8"/>
            <a:srcRect l="0" t="23740" r="0" b="0"/>
            <a:stretch/>
          </p:blipFill>
          <p:spPr>
            <a:xfrm rot="19029600">
              <a:off x="6568560" y="2407320"/>
              <a:ext cx="143280" cy="9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0" name=""/>
          <p:cNvSpPr/>
          <p:nvPr/>
        </p:nvSpPr>
        <p:spPr>
          <a:xfrm>
            <a:off x="550800" y="5041800"/>
            <a:ext cx="1339920" cy="327240"/>
          </a:xfrm>
          <a:prstGeom prst="roundRect">
            <a:avLst>
              <a:gd name="adj" fmla="val 22815"/>
            </a:avLst>
          </a:prstGeom>
          <a:solidFill>
            <a:srgbClr val="ec9f14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265480" y="3946680"/>
            <a:ext cx="1339560" cy="326880"/>
          </a:xfrm>
          <a:prstGeom prst="roundRect">
            <a:avLst>
              <a:gd name="adj" fmla="val 22815"/>
            </a:avLst>
          </a:prstGeom>
          <a:solidFill>
            <a:srgbClr val="ec9f14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808440" y="2948040"/>
            <a:ext cx="1339920" cy="326880"/>
          </a:xfrm>
          <a:prstGeom prst="roundRect">
            <a:avLst>
              <a:gd name="adj" fmla="val 22815"/>
            </a:avLst>
          </a:prstGeom>
          <a:solidFill>
            <a:srgbClr val="ec9f14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4040" y="50227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1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490840" y="39337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2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094280" y="293040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3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9"/>
          <a:stretch/>
        </p:blipFill>
        <p:spPr>
          <a:xfrm>
            <a:off x="6729480" y="1228680"/>
            <a:ext cx="1434960" cy="128124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2028960" y="547848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747960" y="4383000"/>
            <a:ext cx="3094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361120" y="341784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5541840" y="2463840"/>
            <a:ext cx="2659320" cy="1555560"/>
          </a:xfrm>
          <a:prstGeom prst="rect">
            <a:avLst/>
          </a:prstGeom>
          <a:gradFill rotWithShape="0">
            <a:gsLst>
              <a:gs pos="0">
                <a:srgbClr val="ca81a3"/>
              </a:gs>
              <a:gs pos="100000">
                <a:srgbClr val="b244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01880" y="2463840"/>
            <a:ext cx="2658960" cy="1555560"/>
          </a:xfrm>
          <a:prstGeom prst="rect">
            <a:avLst/>
          </a:prstGeom>
          <a:gradFill rotWithShape="0">
            <a:gsLst>
              <a:gs pos="0">
                <a:srgbClr val="b24476"/>
              </a:gs>
              <a:gs pos="100000">
                <a:srgbClr val="8031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909880" y="1779480"/>
            <a:ext cx="23907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630760" y="1779480"/>
            <a:ext cx="23907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541840" y="4255920"/>
            <a:ext cx="2659320" cy="1555920"/>
          </a:xfrm>
          <a:prstGeom prst="rect">
            <a:avLst/>
          </a:prstGeom>
          <a:gradFill rotWithShape="0">
            <a:gsLst>
              <a:gs pos="0">
                <a:srgbClr val="b7bb78"/>
              </a:gs>
              <a:gs pos="100000">
                <a:srgbClr val="939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801880" y="4255920"/>
            <a:ext cx="2658960" cy="1555920"/>
          </a:xfrm>
          <a:prstGeom prst="rect">
            <a:avLst/>
          </a:prstGeom>
          <a:gradFill rotWithShape="0">
            <a:gsLst>
              <a:gs pos="0">
                <a:srgbClr val="939932"/>
              </a:gs>
              <a:gs pos="100000">
                <a:srgbClr val="7e832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236760" y="2946240"/>
            <a:ext cx="168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130560" y="476892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903240" y="2476440"/>
            <a:ext cx="1827000" cy="1523880"/>
            <a:chOff x="903240" y="2476440"/>
            <a:chExt cx="1827000" cy="1523880"/>
          </a:xfrm>
        </p:grpSpPr>
        <p:sp>
          <p:nvSpPr>
            <p:cNvPr id="950" name=""/>
            <p:cNvSpPr/>
            <p:nvPr/>
          </p:nvSpPr>
          <p:spPr>
            <a:xfrm>
              <a:off x="903240" y="2476440"/>
              <a:ext cx="1827000" cy="1523880"/>
            </a:xfrm>
            <a:custGeom>
              <a:avLst/>
              <a:gdLst>
                <a:gd name="textAreaLeft" fmla="*/ 0 w 1827000"/>
                <a:gd name="textAreaRight" fmla="*/ 1827360 w 18270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921240" y="2492280"/>
              <a:ext cx="1778040" cy="1482840"/>
            </a:xfrm>
            <a:custGeom>
              <a:avLst/>
              <a:gdLst>
                <a:gd name="textAreaLeft" fmla="*/ 0 w 1778040"/>
                <a:gd name="textAreaRight" fmla="*/ 1778400 w 177804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903240" y="4309920"/>
            <a:ext cx="1827000" cy="1523880"/>
            <a:chOff x="903240" y="4309920"/>
            <a:chExt cx="1827000" cy="1523880"/>
          </a:xfrm>
        </p:grpSpPr>
        <p:sp>
          <p:nvSpPr>
            <p:cNvPr id="953" name=""/>
            <p:cNvSpPr/>
            <p:nvPr/>
          </p:nvSpPr>
          <p:spPr>
            <a:xfrm>
              <a:off x="903240" y="4309920"/>
              <a:ext cx="1827000" cy="1523880"/>
            </a:xfrm>
            <a:custGeom>
              <a:avLst/>
              <a:gdLst>
                <a:gd name="textAreaLeft" fmla="*/ 0 w 1827000"/>
                <a:gd name="textAreaRight" fmla="*/ 1827360 w 18270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921240" y="4325760"/>
              <a:ext cx="1778040" cy="1482840"/>
            </a:xfrm>
            <a:custGeom>
              <a:avLst/>
              <a:gdLst>
                <a:gd name="textAreaLeft" fmla="*/ 0 w 1778040"/>
                <a:gd name="textAreaRight" fmla="*/ 1778400 w 177804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824040" y="302436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824040" y="485136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691240" y="2806560"/>
            <a:ext cx="236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691240" y="4606920"/>
            <a:ext cx="236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989440" y="1847880"/>
            <a:ext cx="2246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892840" y="1847880"/>
            <a:ext cx="1901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17640" y="4829040"/>
            <a:ext cx="4534200" cy="568440"/>
          </a:xfrm>
          <a:custGeom>
            <a:avLst/>
            <a:gdLst/>
            <a:ahLst/>
            <a:rect l="l" t="t" r="r" b="b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797e29"/>
              </a:gs>
              <a:gs pos="50000">
                <a:srgbClr val="939932"/>
              </a:gs>
              <a:gs pos="100000">
                <a:srgbClr val="797e29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16000" y="4829040"/>
            <a:ext cx="609840" cy="568440"/>
          </a:xfrm>
          <a:custGeom>
            <a:avLst/>
            <a:gdLst/>
            <a:ahLst/>
            <a:rect l="l" t="t" r="r" b="b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787c28"/>
              </a:gs>
              <a:gs pos="50000">
                <a:srgbClr val="939932"/>
              </a:gs>
              <a:gs pos="100000">
                <a:srgbClr val="787c28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17640" y="3870360"/>
            <a:ext cx="4534200" cy="568440"/>
          </a:xfrm>
          <a:custGeom>
            <a:avLst/>
            <a:gdLst/>
            <a:ahLst/>
            <a:rect l="l" t="t" r="r" b="b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813155"/>
              </a:gs>
              <a:gs pos="50000">
                <a:srgbClr val="b24476"/>
              </a:gs>
              <a:gs pos="100000">
                <a:srgbClr val="813155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16000" y="3870360"/>
            <a:ext cx="609840" cy="568440"/>
          </a:xfrm>
          <a:custGeom>
            <a:avLst/>
            <a:gdLst/>
            <a:ahLst/>
            <a:rect l="l" t="t" r="r" b="b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913760"/>
              </a:gs>
              <a:gs pos="50000">
                <a:srgbClr val="b24476"/>
              </a:gs>
              <a:gs pos="100000">
                <a:srgbClr val="913760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1200" y="392904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17640" y="2905200"/>
            <a:ext cx="4534200" cy="568080"/>
          </a:xfrm>
          <a:custGeom>
            <a:avLst/>
            <a:gdLst/>
            <a:ahLst/>
            <a:rect l="l" t="t" r="r" b="b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5c414f"/>
              </a:gs>
              <a:gs pos="50000">
                <a:srgbClr val="86727c"/>
              </a:gs>
              <a:gs pos="100000">
                <a:srgbClr val="5c414f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16000" y="2905200"/>
            <a:ext cx="609840" cy="568080"/>
          </a:xfrm>
          <a:custGeom>
            <a:avLst/>
            <a:gdLst/>
            <a:ahLst/>
            <a:rect l="l" t="t" r="r" b="b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5c414f"/>
              </a:gs>
              <a:gs pos="50000">
                <a:srgbClr val="86727c"/>
              </a:gs>
              <a:gs pos="100000">
                <a:srgbClr val="5c414f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17640" y="1974960"/>
            <a:ext cx="4534200" cy="568080"/>
          </a:xfrm>
          <a:custGeom>
            <a:avLst/>
            <a:gdLst/>
            <a:ahLst/>
            <a:rect l="l" t="t" r="r" b="b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c08110"/>
              </a:gs>
              <a:gs pos="50000">
                <a:srgbClr val="ec9f14"/>
              </a:gs>
              <a:gs pos="100000">
                <a:srgbClr val="c08110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16000" y="1974960"/>
            <a:ext cx="609840" cy="568080"/>
          </a:xfrm>
          <a:custGeom>
            <a:avLst/>
            <a:gdLst/>
            <a:ahLst/>
            <a:rect l="l" t="t" r="r" b="b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c08110"/>
              </a:gs>
              <a:gs pos="50000">
                <a:srgbClr val="ec9f14"/>
              </a:gs>
              <a:gs pos="100000">
                <a:srgbClr val="c08110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1200" y="203976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1200" y="296388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1200" y="489744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49560" y="1927080"/>
            <a:ext cx="30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49560" y="2867040"/>
            <a:ext cx="30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9560" y="3819600"/>
            <a:ext cx="30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9840" y="4781520"/>
            <a:ext cx="30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</a:rPr>
              <a:t>使用规范说明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b2447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c414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04BD8-3A30-49AB-A603-286164D017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a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 txBox="1"/>
          <p:nvPr/>
        </p:nvSpPr>
        <p:spPr>
          <a:xfrm>
            <a:off x="3571920" y="1235160"/>
            <a:ext cx="474660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5c414f"/>
                </a:solidFill>
                <a:effectLst>
                  <a:outerShdw dist="153753" dir="2700000" blurRad="0" rotWithShape="0">
                    <a:srgbClr val="333333">
                      <a:alpha val="50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5c414f"/>
              </a:solidFill>
              <a:effectLst>
                <a:outerShdw dist="153753" dir="2700000" blurRad="0" rotWithShape="0">
                  <a:srgbClr val="333333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0360" y="182088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99"/>
              </a:spcBef>
              <a:buClr>
                <a:srgbClr val="1c1c1c"/>
              </a:buClr>
              <a:buFont typeface="Wingdings" charset="2"/>
              <a:buChar char=""/>
              <a:tabLst>
                <a:tab algn="l" pos="685800"/>
                <a:tab algn="l" pos="4343400"/>
                <a:tab algn="l" pos="86868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How do I incorporate my logo to a slid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799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 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that will apply to all the other slides?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-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On the [View] menu, point to [Master], and then click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[Slide Master] or Notes Master.  Change images to the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one you like, the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it will apply to all the other slides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4707000"/>
            <a:ext cx="7315200" cy="1218960"/>
          </a:xfrm>
          <a:prstGeom prst="rect">
            <a:avLst/>
          </a:prstGeom>
          <a:solidFill>
            <a:srgbClr val="93993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6160" y="4881600"/>
            <a:ext cx="57913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1111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Image : 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Banking and Finance_PHOTODISC(MULTIBITS)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1111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Note to customers : This image has been licensed to be used within </a:t>
            </a:r>
            <a:r>
              <a:rPr b="1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PowerPoint template only.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- You may not extract the image for any other use.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5280" y="82080"/>
            <a:ext cx="7890120" cy="86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  <a:ea typeface="宋体"/>
              </a:rPr>
              <a:t>Introduction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  <a:ea typeface="宋体"/>
              </a:rPr>
              <a:t>3D Pie Chart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8800" y="3519360"/>
            <a:ext cx="1638360" cy="449280"/>
          </a:xfrm>
          <a:custGeom>
            <a:avLst/>
            <a:gdLst/>
            <a:ahLst/>
            <a:rect l="l" t="t" r="r" b="b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rgbClr val="5c414f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63880" y="1379520"/>
            <a:ext cx="3390840" cy="339084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954160" y="1373040"/>
            <a:ext cx="3407040" cy="3400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950920" y="1386000"/>
            <a:ext cx="3413520" cy="341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4357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43579"/>
              </a:path>
            </a:pathLst>
          </a:custGeom>
          <a:solidFill>
            <a:srgbClr val="b2447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2975040" y="1382400"/>
            <a:ext cx="3367080" cy="34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95" y="2"/>
                </a:moveTo>
                <a:arcTo wR="10800" hR="10800" stAng="-5465392" swAng="5476597"/>
                <a:lnTo>
                  <a:pt x="10800" y="10800"/>
                </a:lnTo>
                <a:close/>
              </a:path>
              <a:path fill="none" w="21600" h="21600">
                <a:moveTo>
                  <a:pt x="10595" y="2"/>
                </a:moveTo>
                <a:arcTo wR="10800" hR="10800" stAng="-5465392" swAng="5476597"/>
              </a:path>
            </a:pathLst>
          </a:custGeom>
          <a:solidFill>
            <a:srgbClr val="93993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 rot="5400000">
            <a:off x="2951280" y="1388880"/>
            <a:ext cx="3413160" cy="338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13" y="2"/>
                </a:moveTo>
                <a:arcTo wR="10800" hR="10800" stAng="-5332190" swAng="5362650"/>
                <a:lnTo>
                  <a:pt x="10800" y="10800"/>
                </a:lnTo>
                <a:close/>
              </a:path>
              <a:path fill="none" w="21600" h="21600">
                <a:moveTo>
                  <a:pt x="11013" y="2"/>
                </a:moveTo>
                <a:arcTo wR="10800" hR="10800" stAng="-5332190" swAng="5362650"/>
              </a:path>
            </a:pathLst>
          </a:custGeom>
          <a:solidFill>
            <a:srgbClr val="5c41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419000">
            <a:off x="2966760" y="1389960"/>
            <a:ext cx="3352680" cy="338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70" y="53"/>
                </a:moveTo>
                <a:arcTo wR="10800" hR="10800" stAng="-5058775" swAng="5513674"/>
                <a:lnTo>
                  <a:pt x="10800" y="10800"/>
                </a:lnTo>
                <a:close/>
              </a:path>
              <a:path fill="none" w="21600" h="21600">
                <a:moveTo>
                  <a:pt x="11870" y="53"/>
                </a:moveTo>
                <a:arcTo wR="10800" hR="10800" stAng="-5058775" swAng="5513674"/>
              </a:path>
            </a:pathLst>
          </a:custGeom>
          <a:solidFill>
            <a:srgbClr val="ec9f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211280" y="1292400"/>
            <a:ext cx="2175840" cy="1800360"/>
            <a:chOff x="4211280" y="1292400"/>
            <a:chExt cx="2175840" cy="1800360"/>
          </a:xfrm>
        </p:grpSpPr>
        <p:grpSp>
          <p:nvGrpSpPr>
            <p:cNvPr id="133" name=""/>
            <p:cNvGrpSpPr/>
            <p:nvPr/>
          </p:nvGrpSpPr>
          <p:grpSpPr>
            <a:xfrm>
              <a:off x="4686840" y="1292400"/>
              <a:ext cx="1700280" cy="1800360"/>
              <a:chOff x="4686840" y="1292400"/>
              <a:chExt cx="1700280" cy="1800360"/>
            </a:xfrm>
          </p:grpSpPr>
          <p:sp>
            <p:nvSpPr>
              <p:cNvPr id="134" name=""/>
              <p:cNvSpPr/>
              <p:nvPr/>
            </p:nvSpPr>
            <p:spPr>
              <a:xfrm flipV="1" rot="8983800">
                <a:off x="5658840" y="1523160"/>
                <a:ext cx="352440" cy="158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 rot="8167800">
                <a:off x="5517000" y="1301400"/>
                <a:ext cx="352440" cy="158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 rot="7872600">
                <a:off x="5409000" y="1194480"/>
                <a:ext cx="352440" cy="158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 rot="7340400">
                <a:off x="5275440" y="1072080"/>
                <a:ext cx="352440" cy="158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211280" y="1301400"/>
              <a:ext cx="2080800" cy="1251720"/>
              <a:chOff x="4211280" y="1301400"/>
              <a:chExt cx="2080800" cy="1251720"/>
            </a:xfrm>
          </p:grpSpPr>
          <p:sp>
            <p:nvSpPr>
              <p:cNvPr id="139" name=""/>
              <p:cNvSpPr/>
              <p:nvPr/>
            </p:nvSpPr>
            <p:spPr>
              <a:xfrm flipV="1" rot="7630800">
                <a:off x="5374800" y="1137240"/>
                <a:ext cx="353880" cy="158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 rot="6814800">
                <a:off x="5158440" y="986400"/>
                <a:ext cx="353880" cy="158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 rot="6519600">
                <a:off x="5017680" y="930240"/>
                <a:ext cx="353880" cy="158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 rot="5987400">
                <a:off x="4847040" y="868320"/>
                <a:ext cx="353880" cy="158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2891160" y="2934000"/>
            <a:ext cx="2068200" cy="1932480"/>
            <a:chOff x="2891160" y="2934000"/>
            <a:chExt cx="2068200" cy="1932480"/>
          </a:xfrm>
        </p:grpSpPr>
        <p:grpSp>
          <p:nvGrpSpPr>
            <p:cNvPr id="144" name=""/>
            <p:cNvGrpSpPr/>
            <p:nvPr/>
          </p:nvGrpSpPr>
          <p:grpSpPr>
            <a:xfrm>
              <a:off x="2891160" y="2934000"/>
              <a:ext cx="1584000" cy="1906560"/>
              <a:chOff x="2891160" y="2934000"/>
              <a:chExt cx="1584000" cy="1906560"/>
            </a:xfrm>
          </p:grpSpPr>
          <p:sp>
            <p:nvSpPr>
              <p:cNvPr id="145" name=""/>
              <p:cNvSpPr/>
              <p:nvPr/>
            </p:nvSpPr>
            <p:spPr>
              <a:xfrm flipV="1" rot="20112000">
                <a:off x="3225240" y="2934360"/>
                <a:ext cx="352080" cy="158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 rot="19296600">
                <a:off x="3345480" y="3169440"/>
                <a:ext cx="352080" cy="158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 rot="19000800">
                <a:off x="3443040" y="3286800"/>
                <a:ext cx="352080" cy="1587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 rot="18468600">
                <a:off x="3563640" y="3420360"/>
                <a:ext cx="352440" cy="1587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942280" y="3470760"/>
              <a:ext cx="2017080" cy="1395720"/>
              <a:chOff x="2942280" y="3470760"/>
              <a:chExt cx="2017080" cy="1395720"/>
            </a:xfrm>
          </p:grpSpPr>
          <p:sp>
            <p:nvSpPr>
              <p:cNvPr id="150" name=""/>
              <p:cNvSpPr/>
              <p:nvPr/>
            </p:nvSpPr>
            <p:spPr>
              <a:xfrm flipV="1" rot="18758400">
                <a:off x="3469320" y="3344040"/>
                <a:ext cx="353880" cy="158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7943000">
                <a:off x="3670560" y="3515760"/>
                <a:ext cx="353880" cy="158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 rot="17647800">
                <a:off x="3805200" y="3585600"/>
                <a:ext cx="353880" cy="158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 rot="17115600">
                <a:off x="3969360" y="3663360"/>
                <a:ext cx="353880" cy="158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4076640" y="2500200"/>
            <a:ext cx="1186920" cy="1190160"/>
            <a:chOff x="4076640" y="2500200"/>
            <a:chExt cx="1186920" cy="119016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4076640" y="2500200"/>
              <a:ext cx="1165320" cy="115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091760" y="2508120"/>
              <a:ext cx="1149840" cy="1149480"/>
            </a:xfrm>
            <a:prstGeom prst="ellipse">
              <a:avLst/>
            </a:prstGeom>
            <a:gradFill rotWithShape="0">
              <a:gsLst>
                <a:gs pos="0">
                  <a:srgbClr val="96ab94"/>
                </a:gs>
                <a:gs pos="100000">
                  <a:srgbClr val="8488c4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448880" y="2948040"/>
              <a:ext cx="814680" cy="742320"/>
              <a:chOff x="4448880" y="2948040"/>
              <a:chExt cx="814680" cy="74232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4637160" y="2948040"/>
                <a:ext cx="626400" cy="735120"/>
                <a:chOff x="4637160" y="2948040"/>
                <a:chExt cx="626400" cy="735120"/>
              </a:xfrm>
            </p:grpSpPr>
            <p:sp>
              <p:nvSpPr>
                <p:cNvPr id="159" name=""/>
                <p:cNvSpPr/>
                <p:nvPr/>
              </p:nvSpPr>
              <p:spPr>
                <a:xfrm flipH="1" flipV="1" rot="1528800">
                  <a:off x="4985280" y="2950200"/>
                  <a:ext cx="149040" cy="61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flipV="1" rot="2344200">
                  <a:off x="4938840" y="3040200"/>
                  <a:ext cx="149040" cy="610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flipV="1" rot="2640000">
                  <a:off x="4899240" y="3083040"/>
                  <a:ext cx="149040" cy="610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flipV="1" rot="3172200">
                  <a:off x="4850280" y="3134160"/>
                  <a:ext cx="149040" cy="610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4448880" y="3150360"/>
                <a:ext cx="787320" cy="540000"/>
                <a:chOff x="4448880" y="3150360"/>
                <a:chExt cx="787320" cy="540000"/>
              </a:xfrm>
            </p:grpSpPr>
            <p:sp>
              <p:nvSpPr>
                <p:cNvPr id="164" name=""/>
                <p:cNvSpPr/>
                <p:nvPr/>
              </p:nvSpPr>
              <p:spPr>
                <a:xfrm flipH="1" flipV="1" rot="2881800">
                  <a:off x="4883760" y="3104640"/>
                  <a:ext cx="149760" cy="610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flipV="1" rot="3697200">
                  <a:off x="4805640" y="3168720"/>
                  <a:ext cx="149760" cy="61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 rot="3993000">
                  <a:off x="4752360" y="3194640"/>
                  <a:ext cx="150120" cy="610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flipV="1" rot="4525200">
                  <a:off x="4687920" y="3222720"/>
                  <a:ext cx="149760" cy="61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8" name=""/>
          <p:cNvSpPr/>
          <p:nvPr/>
        </p:nvSpPr>
        <p:spPr>
          <a:xfrm>
            <a:off x="390600" y="3968640"/>
            <a:ext cx="2530440" cy="6447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57880" y="3567240"/>
            <a:ext cx="1627200" cy="449280"/>
          </a:xfrm>
          <a:custGeom>
            <a:avLst/>
            <a:gdLst/>
            <a:ahLst/>
            <a:rect l="l" t="t" r="r" b="b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rgbClr val="b24476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64360" y="4016520"/>
            <a:ext cx="2530440" cy="6444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5800" y="4959360"/>
            <a:ext cx="1638360" cy="449280"/>
          </a:xfrm>
          <a:custGeom>
            <a:avLst/>
            <a:gdLst/>
            <a:ahLst/>
            <a:rect l="l" t="t" r="r" b="b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rgbClr val="939932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72280" y="5408640"/>
            <a:ext cx="2530440" cy="6444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960" y="4976640"/>
            <a:ext cx="1638360" cy="449280"/>
          </a:xfrm>
          <a:custGeom>
            <a:avLst/>
            <a:gdLst/>
            <a:ahLst/>
            <a:rect l="l" t="t" r="r" b="b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rgbClr val="ec9f14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1760" y="5425920"/>
            <a:ext cx="2530440" cy="6447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6560" y="3562200"/>
            <a:ext cx="14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440" y="501984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48600" y="36226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48600" y="50086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25960" y="287172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2280" y="4165560"/>
            <a:ext cx="247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5608800"/>
            <a:ext cx="247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70480" y="4206960"/>
            <a:ext cx="247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81640" y="5608800"/>
            <a:ext cx="247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 rot="18550800">
            <a:off x="3341880" y="2011320"/>
            <a:ext cx="1838160" cy="12096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443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Produts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 rot="2434800">
            <a:off x="4222800" y="2044440"/>
            <a:ext cx="1838160" cy="12096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443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Service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 rot="8011800">
            <a:off x="6173280" y="2740680"/>
            <a:ext cx="1468440" cy="8510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17100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Market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 rot="13376400">
            <a:off x="3827160" y="5037840"/>
            <a:ext cx="1844640" cy="10666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17100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Technology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60440" y="2971800"/>
            <a:ext cx="3470400" cy="76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60440" y="3765600"/>
            <a:ext cx="3470400" cy="76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60440" y="4565520"/>
            <a:ext cx="3470400" cy="76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308400">
            <a:off x="6649920" y="2467080"/>
            <a:ext cx="1590840" cy="1701720"/>
          </a:xfrm>
          <a:custGeom>
            <a:avLst/>
            <a:gdLst>
              <a:gd name="textAreaLeft" fmla="*/ 0 w 1590840"/>
              <a:gd name="textAreaRight" fmla="*/ 1591200 w 159084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3366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64200" y="1965240"/>
            <a:ext cx="1319400" cy="1319400"/>
          </a:xfrm>
          <a:prstGeom prst="ellipse">
            <a:avLst/>
          </a:prstGeom>
          <a:gradFill rotWithShape="0">
            <a:gsLst>
              <a:gs pos="0">
                <a:srgbClr val="9b680d"/>
              </a:gs>
              <a:gs pos="50000">
                <a:srgbClr val="ec9f14"/>
              </a:gs>
              <a:gs pos="100000">
                <a:srgbClr val="9b680d"/>
              </a:gs>
            </a:gsLst>
            <a:lin ang="1350000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21680" y="3778200"/>
            <a:ext cx="1320840" cy="1320840"/>
          </a:xfrm>
          <a:prstGeom prst="ellipse">
            <a:avLst/>
          </a:prstGeom>
          <a:gradFill rotWithShape="0">
            <a:gsLst>
              <a:gs pos="0">
                <a:srgbClr val="343611"/>
              </a:gs>
              <a:gs pos="50000">
                <a:srgbClr val="939932"/>
              </a:gs>
              <a:gs pos="100000">
                <a:srgbClr val="343611"/>
              </a:gs>
            </a:gsLst>
            <a:lin ang="1350000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7527600">
            <a:off x="5975640" y="3888000"/>
            <a:ext cx="1589040" cy="1701720"/>
          </a:xfrm>
          <a:custGeom>
            <a:avLst/>
            <a:gdLst>
              <a:gd name="textAreaLeft" fmla="*/ 0 w 1589040"/>
              <a:gd name="textAreaRight" fmla="*/ 1589400 w 158904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3366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5216000">
            <a:off x="5046480" y="2657520"/>
            <a:ext cx="1589040" cy="1703160"/>
          </a:xfrm>
          <a:custGeom>
            <a:avLst/>
            <a:gdLst>
              <a:gd name="textAreaLeft" fmla="*/ 0 w 1589040"/>
              <a:gd name="textAreaRight" fmla="*/ 1589400 w 1589040"/>
              <a:gd name="textAreaTop" fmla="*/ 0 h 1703160"/>
              <a:gd name="textAreaBottom" fmla="*/ 1703520 h 170316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3366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62600" y="3782880"/>
            <a:ext cx="1320840" cy="1319400"/>
          </a:xfrm>
          <a:prstGeom prst="ellipse">
            <a:avLst/>
          </a:prstGeom>
          <a:gradFill rotWithShape="0">
            <a:gsLst>
              <a:gs pos="0">
                <a:srgbClr val="3c2a34"/>
              </a:gs>
              <a:gs pos="50000">
                <a:srgbClr val="5c414f"/>
              </a:gs>
              <a:gs pos="100000">
                <a:srgbClr val="3c2a34"/>
              </a:gs>
            </a:gsLst>
            <a:lin ang="1350000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986080" y="2621520"/>
            <a:ext cx="1116720" cy="724320"/>
            <a:chOff x="5986080" y="2621520"/>
            <a:chExt cx="1116720" cy="724320"/>
          </a:xfrm>
        </p:grpSpPr>
        <p:grpSp>
          <p:nvGrpSpPr>
            <p:cNvPr id="199" name=""/>
            <p:cNvGrpSpPr/>
            <p:nvPr/>
          </p:nvGrpSpPr>
          <p:grpSpPr>
            <a:xfrm>
              <a:off x="5986080" y="2621520"/>
              <a:ext cx="1116720" cy="724320"/>
              <a:chOff x="5986080" y="2621520"/>
              <a:chExt cx="1116720" cy="72432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6105600" y="2840400"/>
                <a:ext cx="997200" cy="495000"/>
                <a:chOff x="6105600" y="2840400"/>
                <a:chExt cx="997200" cy="495000"/>
              </a:xfrm>
            </p:grpSpPr>
            <p:sp>
              <p:nvSpPr>
                <p:cNvPr id="201" name=""/>
                <p:cNvSpPr/>
                <p:nvPr/>
              </p:nvSpPr>
              <p:spPr>
                <a:xfrm flipH="1" flipV="1" rot="5374200">
                  <a:off x="6645240" y="277524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flipV="1" rot="6189600">
                  <a:off x="6524640" y="277092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 flipV="1" rot="6485400">
                  <a:off x="6457680" y="275184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flipV="1" rot="7017600">
                  <a:off x="6378120" y="272412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5986080" y="2621520"/>
                <a:ext cx="905760" cy="724320"/>
                <a:chOff x="5986080" y="2621520"/>
                <a:chExt cx="905760" cy="72432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flipV="1" rot="6727200">
                  <a:off x="6426720" y="2744280"/>
                  <a:ext cx="18612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flipV="1" rot="7542600">
                  <a:off x="6317280" y="2694600"/>
                  <a:ext cx="18612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flipV="1" rot="7838400">
                  <a:off x="6262200" y="2649960"/>
                  <a:ext cx="18612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flipV="1" rot="8370600">
                  <a:off x="6199560" y="2594880"/>
                  <a:ext cx="18612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0" name=""/>
            <p:cNvGrpSpPr/>
            <p:nvPr/>
          </p:nvGrpSpPr>
          <p:grpSpPr>
            <a:xfrm>
              <a:off x="6073920" y="2694240"/>
              <a:ext cx="915120" cy="593280"/>
              <a:chOff x="6073920" y="2694240"/>
              <a:chExt cx="915120" cy="59328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6171840" y="2873880"/>
                <a:ext cx="817200" cy="405000"/>
                <a:chOff x="6171840" y="2873880"/>
                <a:chExt cx="817200" cy="405000"/>
              </a:xfrm>
            </p:grpSpPr>
            <p:sp>
              <p:nvSpPr>
                <p:cNvPr id="212" name=""/>
                <p:cNvSpPr/>
                <p:nvPr/>
              </p:nvSpPr>
              <p:spPr>
                <a:xfrm flipH="1" flipV="1" rot="5374200">
                  <a:off x="6615000" y="282060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flipV="1" rot="6189600">
                  <a:off x="6516360" y="281664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 flipV="1" rot="6485400">
                  <a:off x="6460560" y="280116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 flipV="1" rot="7017600">
                  <a:off x="6395400" y="2778480"/>
                  <a:ext cx="151920" cy="59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073920" y="2694240"/>
                <a:ext cx="741960" cy="593280"/>
                <a:chOff x="6073920" y="2694240"/>
                <a:chExt cx="741960" cy="593280"/>
              </a:xfrm>
            </p:grpSpPr>
            <p:sp>
              <p:nvSpPr>
                <p:cNvPr id="217" name=""/>
                <p:cNvSpPr/>
                <p:nvPr/>
              </p:nvSpPr>
              <p:spPr>
                <a:xfrm flipH="1" flipV="1" rot="6727200">
                  <a:off x="6435000" y="279432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flipV="1" rot="7542600">
                  <a:off x="6345000" y="275364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flipV="1" rot="7838400">
                  <a:off x="6300720" y="271692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 flipV="1" rot="8370600">
                  <a:off x="6248160" y="267228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1" name=""/>
          <p:cNvGrpSpPr/>
          <p:nvPr/>
        </p:nvGrpSpPr>
        <p:grpSpPr>
          <a:xfrm>
            <a:off x="4891320" y="4442040"/>
            <a:ext cx="1117440" cy="725040"/>
            <a:chOff x="4891320" y="4442040"/>
            <a:chExt cx="1117440" cy="725040"/>
          </a:xfrm>
        </p:grpSpPr>
        <p:grpSp>
          <p:nvGrpSpPr>
            <p:cNvPr id="222" name=""/>
            <p:cNvGrpSpPr/>
            <p:nvPr/>
          </p:nvGrpSpPr>
          <p:grpSpPr>
            <a:xfrm>
              <a:off x="4891320" y="4442040"/>
              <a:ext cx="1117440" cy="725040"/>
              <a:chOff x="4891320" y="4442040"/>
              <a:chExt cx="1117440" cy="72504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5010120" y="4661280"/>
                <a:ext cx="998640" cy="495720"/>
                <a:chOff x="5010120" y="4661280"/>
                <a:chExt cx="998640" cy="495720"/>
              </a:xfrm>
            </p:grpSpPr>
            <p:sp>
              <p:nvSpPr>
                <p:cNvPr id="224" name=""/>
                <p:cNvSpPr/>
                <p:nvPr/>
              </p:nvSpPr>
              <p:spPr>
                <a:xfrm flipH="1" flipV="1" rot="5374200">
                  <a:off x="5550840" y="459576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flipV="1" rot="6189600">
                  <a:off x="5429880" y="459216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 flipV="1" rot="6485400">
                  <a:off x="5362560" y="457236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flipV="1" rot="7017600">
                  <a:off x="5283360" y="4544640"/>
                  <a:ext cx="18576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891320" y="4442040"/>
                <a:ext cx="906120" cy="725040"/>
                <a:chOff x="4891320" y="4442040"/>
                <a:chExt cx="906120" cy="725040"/>
              </a:xfrm>
            </p:grpSpPr>
            <p:sp>
              <p:nvSpPr>
                <p:cNvPr id="229" name=""/>
                <p:cNvSpPr/>
                <p:nvPr/>
              </p:nvSpPr>
              <p:spPr>
                <a:xfrm flipH="1" flipV="1" rot="6727200">
                  <a:off x="5331960" y="4564800"/>
                  <a:ext cx="18612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 flipV="1" rot="7542600">
                  <a:off x="5222160" y="4515120"/>
                  <a:ext cx="18612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 flipV="1" rot="7838400">
                  <a:off x="5168160" y="4470120"/>
                  <a:ext cx="18612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 flipV="1" rot="8370600">
                  <a:off x="5104440" y="4414680"/>
                  <a:ext cx="18612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4978800" y="4514400"/>
              <a:ext cx="915120" cy="594000"/>
              <a:chOff x="4978800" y="4514400"/>
              <a:chExt cx="915120" cy="59400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5077080" y="4694400"/>
                <a:ext cx="816840" cy="405360"/>
                <a:chOff x="5077080" y="4694400"/>
                <a:chExt cx="816840" cy="405360"/>
              </a:xfrm>
            </p:grpSpPr>
            <p:sp>
              <p:nvSpPr>
                <p:cNvPr id="235" name=""/>
                <p:cNvSpPr/>
                <p:nvPr/>
              </p:nvSpPr>
              <p:spPr>
                <a:xfrm flipH="1" flipV="1" rot="5374200">
                  <a:off x="5519160" y="464040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flipV="1" rot="6189600">
                  <a:off x="5420880" y="4636800"/>
                  <a:ext cx="15192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flipV="1" rot="6485400">
                  <a:off x="5365440" y="4620960"/>
                  <a:ext cx="15192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 rot="7017600">
                  <a:off x="5300640" y="4599000"/>
                  <a:ext cx="15192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4978800" y="4514400"/>
                <a:ext cx="742320" cy="594000"/>
                <a:chOff x="4978800" y="4514400"/>
                <a:chExt cx="742320" cy="5940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 flipV="1" rot="6727200">
                  <a:off x="5339520" y="461556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 rot="7542600">
                  <a:off x="5249160" y="457380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H="1" flipV="1" rot="7838400">
                  <a:off x="5205600" y="453816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flipV="1" rot="8370600">
                  <a:off x="5153760" y="449208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4" name=""/>
          <p:cNvGrpSpPr/>
          <p:nvPr/>
        </p:nvGrpSpPr>
        <p:grpSpPr>
          <a:xfrm>
            <a:off x="7264800" y="4440240"/>
            <a:ext cx="1117080" cy="724680"/>
            <a:chOff x="7264800" y="4440240"/>
            <a:chExt cx="1117080" cy="724680"/>
          </a:xfrm>
        </p:grpSpPr>
        <p:grpSp>
          <p:nvGrpSpPr>
            <p:cNvPr id="245" name=""/>
            <p:cNvGrpSpPr/>
            <p:nvPr/>
          </p:nvGrpSpPr>
          <p:grpSpPr>
            <a:xfrm>
              <a:off x="7264800" y="4440240"/>
              <a:ext cx="1117080" cy="724680"/>
              <a:chOff x="7264800" y="4440240"/>
              <a:chExt cx="1117080" cy="72468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7384680" y="4659120"/>
                <a:ext cx="997200" cy="494640"/>
                <a:chOff x="7384680" y="4659120"/>
                <a:chExt cx="997200" cy="494640"/>
              </a:xfrm>
            </p:grpSpPr>
            <p:sp>
              <p:nvSpPr>
                <p:cNvPr id="247" name=""/>
                <p:cNvSpPr/>
                <p:nvPr/>
              </p:nvSpPr>
              <p:spPr>
                <a:xfrm flipH="1" flipV="1" rot="5374200">
                  <a:off x="7924680" y="459396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 flipV="1" rot="6189600">
                  <a:off x="7803720" y="459000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 flipV="1" rot="6485400">
                  <a:off x="7736760" y="457020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 flipV="1" rot="7017600">
                  <a:off x="7657560" y="4543200"/>
                  <a:ext cx="18576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264800" y="4440240"/>
                <a:ext cx="906120" cy="724680"/>
                <a:chOff x="7264800" y="4440240"/>
                <a:chExt cx="906120" cy="724680"/>
              </a:xfrm>
            </p:grpSpPr>
            <p:sp>
              <p:nvSpPr>
                <p:cNvPr id="252" name=""/>
                <p:cNvSpPr/>
                <p:nvPr/>
              </p:nvSpPr>
              <p:spPr>
                <a:xfrm flipH="1" flipV="1" rot="6727200">
                  <a:off x="7705440" y="45630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flipV="1" rot="7542600">
                  <a:off x="7596720" y="451332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 flipV="1" rot="7838400">
                  <a:off x="7541640" y="4468320"/>
                  <a:ext cx="18684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flipV="1" rot="8370600">
                  <a:off x="7477920" y="44136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6" name=""/>
            <p:cNvGrpSpPr/>
            <p:nvPr/>
          </p:nvGrpSpPr>
          <p:grpSpPr>
            <a:xfrm>
              <a:off x="7353360" y="4513320"/>
              <a:ext cx="915120" cy="593280"/>
              <a:chOff x="7353360" y="4513320"/>
              <a:chExt cx="915120" cy="59328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7451280" y="4692960"/>
                <a:ext cx="817200" cy="405000"/>
                <a:chOff x="7451280" y="4692960"/>
                <a:chExt cx="817200" cy="405000"/>
              </a:xfrm>
            </p:grpSpPr>
            <p:sp>
              <p:nvSpPr>
                <p:cNvPr id="258" name=""/>
                <p:cNvSpPr/>
                <p:nvPr/>
              </p:nvSpPr>
              <p:spPr>
                <a:xfrm flipH="1" flipV="1" rot="5374200">
                  <a:off x="7894440" y="463968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 rot="6189600">
                  <a:off x="7795800" y="463572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 flipV="1" rot="6485400">
                  <a:off x="7740000" y="462024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 rot="7017600">
                  <a:off x="7674840" y="4597560"/>
                  <a:ext cx="151920" cy="59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7353360" y="4513320"/>
                <a:ext cx="741960" cy="593280"/>
                <a:chOff x="7353360" y="4513320"/>
                <a:chExt cx="741960" cy="593280"/>
              </a:xfrm>
            </p:grpSpPr>
            <p:sp>
              <p:nvSpPr>
                <p:cNvPr id="263" name=""/>
                <p:cNvSpPr/>
                <p:nvPr/>
              </p:nvSpPr>
              <p:spPr>
                <a:xfrm flipH="1" flipV="1" rot="6727200">
                  <a:off x="7714440" y="461340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 rot="7542600">
                  <a:off x="7624440" y="457272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 rot="7838400">
                  <a:off x="7580160" y="453600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 flipV="1" rot="8370600">
                  <a:off x="7527600" y="449136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7" name=""/>
          <p:cNvGrpSpPr/>
          <p:nvPr/>
        </p:nvGrpSpPr>
        <p:grpSpPr>
          <a:xfrm>
            <a:off x="6464520" y="1914840"/>
            <a:ext cx="1028880" cy="842400"/>
            <a:chOff x="6464520" y="1914840"/>
            <a:chExt cx="1028880" cy="842400"/>
          </a:xfrm>
        </p:grpSpPr>
        <p:grpSp>
          <p:nvGrpSpPr>
            <p:cNvPr id="268" name=""/>
            <p:cNvGrpSpPr/>
            <p:nvPr/>
          </p:nvGrpSpPr>
          <p:grpSpPr>
            <a:xfrm>
              <a:off x="6464520" y="1914840"/>
              <a:ext cx="1028880" cy="842400"/>
              <a:chOff x="6464520" y="1914840"/>
              <a:chExt cx="1028880" cy="84240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6464520" y="1914840"/>
                <a:ext cx="966240" cy="615240"/>
                <a:chOff x="6464520" y="1914840"/>
                <a:chExt cx="966240" cy="615240"/>
              </a:xfrm>
            </p:grpSpPr>
            <p:sp>
              <p:nvSpPr>
                <p:cNvPr id="270" name=""/>
                <p:cNvSpPr/>
                <p:nvPr/>
              </p:nvSpPr>
              <p:spPr>
                <a:xfrm flipH="1" flipV="1" rot="16891800">
                  <a:off x="6746040" y="176148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 rot="17707200">
                  <a:off x="6863400" y="178956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flipV="1" rot="18003000">
                  <a:off x="6924240" y="182340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 rot="18535200">
                  <a:off x="6996600" y="1866600"/>
                  <a:ext cx="18576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6693120" y="1919520"/>
                <a:ext cx="800280" cy="837720"/>
                <a:chOff x="6693120" y="1919520"/>
                <a:chExt cx="800280" cy="837720"/>
              </a:xfrm>
            </p:grpSpPr>
            <p:sp>
              <p:nvSpPr>
                <p:cNvPr id="275" name=""/>
                <p:cNvSpPr/>
                <p:nvPr/>
              </p:nvSpPr>
              <p:spPr>
                <a:xfrm flipH="1" flipV="1" rot="18244800">
                  <a:off x="6952680" y="183672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 flipV="1" rot="19060800">
                  <a:off x="7049160" y="19080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 flipV="1" rot="19356000">
                  <a:off x="7093080" y="1962000"/>
                  <a:ext cx="18684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 flipV="1" rot="19888200">
                  <a:off x="7144200" y="202968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9" name=""/>
            <p:cNvGrpSpPr/>
            <p:nvPr/>
          </p:nvGrpSpPr>
          <p:grpSpPr>
            <a:xfrm>
              <a:off x="6574680" y="1983240"/>
              <a:ext cx="842760" cy="689760"/>
              <a:chOff x="6574680" y="1983240"/>
              <a:chExt cx="842760" cy="68976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6574680" y="1983240"/>
                <a:ext cx="791640" cy="503280"/>
                <a:chOff x="6574680" y="1983240"/>
                <a:chExt cx="791640" cy="503280"/>
              </a:xfrm>
            </p:grpSpPr>
            <p:sp>
              <p:nvSpPr>
                <p:cNvPr id="281" name=""/>
                <p:cNvSpPr/>
                <p:nvPr/>
              </p:nvSpPr>
              <p:spPr>
                <a:xfrm flipH="1" flipV="1" rot="16891800">
                  <a:off x="6805440" y="185724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 flipV="1" rot="17707200">
                  <a:off x="6900840" y="188028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 flipV="1" rot="18003000">
                  <a:off x="6951960" y="1906920"/>
                  <a:ext cx="15192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 flipV="1" rot="18535200">
                  <a:off x="7011360" y="1942560"/>
                  <a:ext cx="151920" cy="59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762240" y="1986840"/>
                <a:ext cx="655200" cy="686160"/>
                <a:chOff x="6762240" y="1986840"/>
                <a:chExt cx="655200" cy="686160"/>
              </a:xfrm>
            </p:grpSpPr>
            <p:sp>
              <p:nvSpPr>
                <p:cNvPr id="286" name=""/>
                <p:cNvSpPr/>
                <p:nvPr/>
              </p:nvSpPr>
              <p:spPr>
                <a:xfrm flipH="1" flipV="1" rot="18244800">
                  <a:off x="6974640" y="191844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 rot="19060800">
                  <a:off x="7054920" y="197748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 flipV="1" rot="19356000">
                  <a:off x="7089840" y="202212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 flipV="1" rot="19888200">
                  <a:off x="7132320" y="207684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0" name=""/>
          <p:cNvGrpSpPr/>
          <p:nvPr/>
        </p:nvGrpSpPr>
        <p:grpSpPr>
          <a:xfrm>
            <a:off x="7759080" y="3713040"/>
            <a:ext cx="972000" cy="904320"/>
            <a:chOff x="7759080" y="3713040"/>
            <a:chExt cx="972000" cy="904320"/>
          </a:xfrm>
        </p:grpSpPr>
        <p:grpSp>
          <p:nvGrpSpPr>
            <p:cNvPr id="291" name=""/>
            <p:cNvGrpSpPr/>
            <p:nvPr/>
          </p:nvGrpSpPr>
          <p:grpSpPr>
            <a:xfrm>
              <a:off x="7759080" y="3713040"/>
              <a:ext cx="972000" cy="904320"/>
              <a:chOff x="7759080" y="3713040"/>
              <a:chExt cx="972000" cy="90432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7759080" y="3713040"/>
                <a:ext cx="938880" cy="677160"/>
                <a:chOff x="7759080" y="3713040"/>
                <a:chExt cx="938880" cy="677160"/>
              </a:xfrm>
            </p:grpSpPr>
            <p:sp>
              <p:nvSpPr>
                <p:cNvPr id="293" name=""/>
                <p:cNvSpPr/>
                <p:nvPr/>
              </p:nvSpPr>
              <p:spPr>
                <a:xfrm flipH="1" flipV="1" rot="17235600">
                  <a:off x="8040600" y="357444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 flipV="1" rot="18051600">
                  <a:off x="8155800" y="361512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 rot="18346800">
                  <a:off x="8212680" y="365436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 rot="18879000">
                  <a:off x="8280360" y="3704040"/>
                  <a:ext cx="18576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7994520" y="3730320"/>
                <a:ext cx="736560" cy="887040"/>
                <a:chOff x="7994520" y="3730320"/>
                <a:chExt cx="736560" cy="887040"/>
              </a:xfrm>
            </p:grpSpPr>
            <p:sp>
              <p:nvSpPr>
                <p:cNvPr id="298" name=""/>
                <p:cNvSpPr/>
                <p:nvPr/>
              </p:nvSpPr>
              <p:spPr>
                <a:xfrm flipH="1" flipV="1" rot="18588600">
                  <a:off x="8240040" y="3670200"/>
                  <a:ext cx="18612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 rot="19404600">
                  <a:off x="8329680" y="3750840"/>
                  <a:ext cx="18612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 flipV="1" rot="19699800">
                  <a:off x="8367120" y="3810240"/>
                  <a:ext cx="18612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 rot="20232000">
                  <a:off x="8410680" y="3881520"/>
                  <a:ext cx="18612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2" name=""/>
            <p:cNvGrpSpPr/>
            <p:nvPr/>
          </p:nvGrpSpPr>
          <p:grpSpPr>
            <a:xfrm>
              <a:off x="7867440" y="3788280"/>
              <a:ext cx="795600" cy="741600"/>
              <a:chOff x="7867440" y="3788280"/>
              <a:chExt cx="795600" cy="74160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7867440" y="3788280"/>
                <a:ext cx="767520" cy="554400"/>
                <a:chOff x="7867440" y="3788280"/>
                <a:chExt cx="767520" cy="554400"/>
              </a:xfrm>
            </p:grpSpPr>
            <p:sp>
              <p:nvSpPr>
                <p:cNvPr id="304" name=""/>
                <p:cNvSpPr/>
                <p:nvPr/>
              </p:nvSpPr>
              <p:spPr>
                <a:xfrm flipH="1" flipV="1" rot="17235600">
                  <a:off x="8098560" y="367452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 flipV="1" rot="18051600">
                  <a:off x="8190720" y="3708360"/>
                  <a:ext cx="15192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 flipV="1" rot="18346800">
                  <a:off x="8238960" y="3739680"/>
                  <a:ext cx="15192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flipV="1" rot="18879000">
                  <a:off x="8293320" y="3780720"/>
                  <a:ext cx="15192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8059320" y="3802680"/>
                <a:ext cx="603720" cy="727200"/>
                <a:chOff x="8059320" y="3802680"/>
                <a:chExt cx="603720" cy="727200"/>
              </a:xfrm>
            </p:grpSpPr>
            <p:sp>
              <p:nvSpPr>
                <p:cNvPr id="309" name=""/>
                <p:cNvSpPr/>
                <p:nvPr/>
              </p:nvSpPr>
              <p:spPr>
                <a:xfrm flipH="1" flipV="1" rot="18588600">
                  <a:off x="8260200" y="375336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 flipV="1" rot="19404600">
                  <a:off x="8334000" y="382068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 flipV="1" rot="19699800">
                  <a:off x="8365320" y="386784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 flipV="1" rot="20232000">
                  <a:off x="8400960" y="392760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3" name=""/>
          <p:cNvGrpSpPr/>
          <p:nvPr/>
        </p:nvGrpSpPr>
        <p:grpSpPr>
          <a:xfrm>
            <a:off x="5349240" y="3693600"/>
            <a:ext cx="1021320" cy="920160"/>
            <a:chOff x="5349240" y="3693600"/>
            <a:chExt cx="1021320" cy="920160"/>
          </a:xfrm>
        </p:grpSpPr>
        <p:grpSp>
          <p:nvGrpSpPr>
            <p:cNvPr id="314" name=""/>
            <p:cNvGrpSpPr/>
            <p:nvPr/>
          </p:nvGrpSpPr>
          <p:grpSpPr>
            <a:xfrm>
              <a:off x="5349240" y="3693600"/>
              <a:ext cx="982080" cy="892800"/>
              <a:chOff x="5349240" y="3693600"/>
              <a:chExt cx="982080" cy="8928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5349240" y="3693600"/>
                <a:ext cx="982080" cy="892800"/>
                <a:chOff x="5349240" y="3693600"/>
                <a:chExt cx="982080" cy="89280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5349240" y="3693600"/>
                  <a:ext cx="942840" cy="665280"/>
                  <a:chOff x="5349240" y="3693600"/>
                  <a:chExt cx="942840" cy="66528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flipH="1" flipV="1" rot="17172600">
                    <a:off x="5631120" y="3552120"/>
                    <a:ext cx="1846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 flipV="1" rot="17988600">
                    <a:off x="5745600" y="3590280"/>
                    <a:ext cx="18468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flipV="1" rot="18283800">
                    <a:off x="5803920" y="3629520"/>
                    <a:ext cx="18468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 flipV="1" rot="18816000">
                    <a:off x="5872680" y="3677040"/>
                    <a:ext cx="18468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5582160" y="3708360"/>
                  <a:ext cx="749160" cy="878040"/>
                  <a:chOff x="5582160" y="3708360"/>
                  <a:chExt cx="749160" cy="87804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flipH="1" flipV="1" rot="18525600">
                    <a:off x="5830560" y="3643920"/>
                    <a:ext cx="18576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H="1" flipV="1" rot="19341600">
                    <a:off x="5923080" y="3723480"/>
                    <a:ext cx="18540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flipH="1" flipV="1" rot="19636800">
                    <a:off x="5962680" y="3782160"/>
                    <a:ext cx="18540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flipV="1" rot="20169000">
                    <a:off x="6006600" y="385308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6" name=""/>
              <p:cNvGrpSpPr/>
              <p:nvPr/>
            </p:nvGrpSpPr>
            <p:grpSpPr>
              <a:xfrm>
                <a:off x="5457600" y="3767760"/>
                <a:ext cx="803880" cy="731160"/>
                <a:chOff x="5457600" y="3767760"/>
                <a:chExt cx="803880" cy="73116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5457600" y="3767760"/>
                  <a:ext cx="772920" cy="543960"/>
                  <a:chOff x="5457600" y="3767760"/>
                  <a:chExt cx="772920" cy="54396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flipH="1" flipV="1" rot="17172600">
                    <a:off x="5688720" y="365112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flipH="1" flipV="1" rot="17988600">
                    <a:off x="5782320" y="3683520"/>
                    <a:ext cx="15084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 flipV="1" rot="18283800">
                    <a:off x="5830200" y="3713040"/>
                    <a:ext cx="150840" cy="59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flipV="1" rot="18816000">
                    <a:off x="5886720" y="375372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5648400" y="3779280"/>
                  <a:ext cx="613080" cy="719640"/>
                  <a:chOff x="5648400" y="3779280"/>
                  <a:chExt cx="613080" cy="71964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flipV="1" rot="18525600">
                    <a:off x="5851800" y="3727080"/>
                    <a:ext cx="151560" cy="59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flipV="1" rot="19341600">
                    <a:off x="5927400" y="3791880"/>
                    <a:ext cx="15120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flipV="1" rot="19636800">
                    <a:off x="5959800" y="383940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H="1" flipV="1" rot="20169000">
                    <a:off x="5995800" y="389772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7" name=""/>
            <p:cNvGrpSpPr/>
            <p:nvPr/>
          </p:nvGrpSpPr>
          <p:grpSpPr>
            <a:xfrm>
              <a:off x="5388840" y="3720960"/>
              <a:ext cx="981720" cy="892800"/>
              <a:chOff x="5388840" y="3720960"/>
              <a:chExt cx="981720" cy="89280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5388840" y="3720960"/>
                <a:ext cx="981720" cy="892800"/>
                <a:chOff x="5388840" y="3720960"/>
                <a:chExt cx="981720" cy="89280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5388840" y="3720960"/>
                  <a:ext cx="942480" cy="664920"/>
                  <a:chOff x="5388840" y="3720960"/>
                  <a:chExt cx="942480" cy="6649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flipH="1" flipV="1" rot="17172600">
                    <a:off x="5670720" y="3579480"/>
                    <a:ext cx="1846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 flipV="1" rot="17988600">
                    <a:off x="5784840" y="3617640"/>
                    <a:ext cx="18468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flipH="1" flipV="1" rot="18283800">
                    <a:off x="5843160" y="3656880"/>
                    <a:ext cx="18468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flipV="1" rot="18816000">
                    <a:off x="5911920" y="3704040"/>
                    <a:ext cx="18468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5621760" y="3735720"/>
                  <a:ext cx="748800" cy="878040"/>
                  <a:chOff x="5621760" y="3735720"/>
                  <a:chExt cx="748800" cy="87804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flipV="1" rot="18525600">
                    <a:off x="5870160" y="3671280"/>
                    <a:ext cx="18576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flipV="1" rot="19341600">
                    <a:off x="5962320" y="3750480"/>
                    <a:ext cx="18540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flipV="1" rot="19636800">
                    <a:off x="6001920" y="3809160"/>
                    <a:ext cx="18540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 flipV="1" rot="20169000">
                    <a:off x="6045840" y="388044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" name=""/>
              <p:cNvGrpSpPr/>
              <p:nvPr/>
            </p:nvGrpSpPr>
            <p:grpSpPr>
              <a:xfrm>
                <a:off x="5496840" y="3795120"/>
                <a:ext cx="803880" cy="730800"/>
                <a:chOff x="5496840" y="3795120"/>
                <a:chExt cx="803880" cy="730800"/>
              </a:xfrm>
            </p:grpSpPr>
            <p:grpSp>
              <p:nvGrpSpPr>
                <p:cNvPr id="350" name=""/>
                <p:cNvGrpSpPr/>
                <p:nvPr/>
              </p:nvGrpSpPr>
              <p:grpSpPr>
                <a:xfrm>
                  <a:off x="5496840" y="3795120"/>
                  <a:ext cx="772920" cy="543960"/>
                  <a:chOff x="5496840" y="3795120"/>
                  <a:chExt cx="772920" cy="543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flipH="1" flipV="1" rot="17172600">
                    <a:off x="5727960" y="367848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 flipV="1" rot="17988600">
                    <a:off x="5821560" y="3710880"/>
                    <a:ext cx="15084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flipV="1" rot="18283800">
                    <a:off x="5869440" y="3740400"/>
                    <a:ext cx="150840" cy="59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H="1" flipV="1" rot="18816000">
                    <a:off x="5925960" y="378108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5687640" y="3806640"/>
                  <a:ext cx="613080" cy="719280"/>
                  <a:chOff x="5687640" y="3806640"/>
                  <a:chExt cx="613080" cy="7192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flipH="1" flipV="1" rot="18525600">
                    <a:off x="5891040" y="3754440"/>
                    <a:ext cx="151560" cy="59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H="1" flipV="1" rot="19341600">
                    <a:off x="5966640" y="3818880"/>
                    <a:ext cx="15120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 flipV="1" rot="19636800">
                    <a:off x="5999040" y="386676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flipV="1" rot="20169000">
                    <a:off x="6035040" y="392472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60" name=""/>
          <p:cNvSpPr/>
          <p:nvPr/>
        </p:nvSpPr>
        <p:spPr>
          <a:xfrm>
            <a:off x="423720" y="2971800"/>
            <a:ext cx="1170000" cy="766800"/>
          </a:xfrm>
          <a:prstGeom prst="rect">
            <a:avLst/>
          </a:prstGeom>
          <a:solidFill>
            <a:srgbClr val="ec9f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3720" y="3765600"/>
            <a:ext cx="1170000" cy="766800"/>
          </a:xfrm>
          <a:prstGeom prst="rect">
            <a:avLst/>
          </a:prstGeom>
          <a:solidFill>
            <a:srgbClr val="5c4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3720" y="4565520"/>
            <a:ext cx="1170000" cy="766800"/>
          </a:xfrm>
          <a:prstGeom prst="rect">
            <a:avLst/>
          </a:prstGeom>
          <a:solidFill>
            <a:srgbClr val="93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43600" y="3152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eality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0840" y="39816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dentity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7800" y="477216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reativity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73280" y="3089160"/>
            <a:ext cx="305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73280" y="3878280"/>
            <a:ext cx="305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73280" y="4687920"/>
            <a:ext cx="305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253560" y="24271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eality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109480" y="425592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dentity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86120" y="42372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reativity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0520" y="2395440"/>
            <a:ext cx="40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16040" y="194148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A title about conten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765440" y="2786040"/>
            <a:ext cx="2294640" cy="3431880"/>
            <a:chOff x="1765440" y="2786040"/>
            <a:chExt cx="2294640" cy="3431880"/>
          </a:xfrm>
        </p:grpSpPr>
        <p:grpSp>
          <p:nvGrpSpPr>
            <p:cNvPr id="375" name=""/>
            <p:cNvGrpSpPr/>
            <p:nvPr/>
          </p:nvGrpSpPr>
          <p:grpSpPr>
            <a:xfrm>
              <a:off x="1765440" y="4852800"/>
              <a:ext cx="2294640" cy="1365120"/>
              <a:chOff x="1765440" y="4852800"/>
              <a:chExt cx="2294640" cy="1365120"/>
            </a:xfrm>
          </p:grpSpPr>
          <p:sp>
            <p:nvSpPr>
              <p:cNvPr id="376" name=""/>
              <p:cNvSpPr/>
              <p:nvPr/>
            </p:nvSpPr>
            <p:spPr>
              <a:xfrm>
                <a:off x="1765440" y="5887080"/>
                <a:ext cx="2290680" cy="32076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3e9d4"/>
                  </a:gs>
                  <a:gs pos="100000">
                    <a:srgbClr val="c1cf9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769400" y="4852800"/>
                <a:ext cx="2290680" cy="136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2a1d24"/>
                  </a:gs>
                  <a:gs pos="50000">
                    <a:srgbClr val="5c414f">
                      <a:alpha val="50196"/>
                    </a:srgbClr>
                  </a:gs>
                  <a:gs pos="100000">
                    <a:srgbClr val="2a1d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1765440" y="3821400"/>
              <a:ext cx="2294640" cy="1365120"/>
              <a:chOff x="1765440" y="3821400"/>
              <a:chExt cx="2294640" cy="1365120"/>
            </a:xfrm>
          </p:grpSpPr>
          <p:sp>
            <p:nvSpPr>
              <p:cNvPr id="379" name=""/>
              <p:cNvSpPr/>
              <p:nvPr/>
            </p:nvSpPr>
            <p:spPr>
              <a:xfrm>
                <a:off x="1765440" y="4855680"/>
                <a:ext cx="2290680" cy="32076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3e9d4"/>
                  </a:gs>
                  <a:gs pos="100000">
                    <a:srgbClr val="c1cf9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69400" y="3821400"/>
                <a:ext cx="2290680" cy="136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434617"/>
                  </a:gs>
                  <a:gs pos="50000">
                    <a:srgbClr val="939932">
                      <a:alpha val="50196"/>
                    </a:srgbClr>
                  </a:gs>
                  <a:gs pos="100000">
                    <a:srgbClr val="43461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1765440" y="2786040"/>
              <a:ext cx="2294640" cy="1365120"/>
              <a:chOff x="1765440" y="2786040"/>
              <a:chExt cx="2294640" cy="1365120"/>
            </a:xfrm>
          </p:grpSpPr>
          <p:sp>
            <p:nvSpPr>
              <p:cNvPr id="382" name=""/>
              <p:cNvSpPr/>
              <p:nvPr/>
            </p:nvSpPr>
            <p:spPr>
              <a:xfrm>
                <a:off x="1765440" y="3820320"/>
                <a:ext cx="2290680" cy="32076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3e9d4"/>
                  </a:gs>
                  <a:gs pos="100000">
                    <a:srgbClr val="c1cf9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769400" y="2786040"/>
                <a:ext cx="2290680" cy="136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6c4909"/>
                  </a:gs>
                  <a:gs pos="50000">
                    <a:srgbClr val="ec9f14">
                      <a:alpha val="50196"/>
                    </a:srgbClr>
                  </a:gs>
                  <a:gs pos="100000">
                    <a:srgbClr val="6c490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"/>
          <p:cNvSpPr/>
          <p:nvPr/>
        </p:nvSpPr>
        <p:spPr>
          <a:xfrm>
            <a:off x="4334040" y="3090960"/>
            <a:ext cx="3354120" cy="911160"/>
          </a:xfrm>
          <a:prstGeom prst="roundRect">
            <a:avLst>
              <a:gd name="adj" fmla="val 11505"/>
            </a:avLst>
          </a:prstGeom>
          <a:solidFill>
            <a:srgbClr val="4d4d4d">
              <a:alpha val="5000"/>
            </a:srgbClr>
          </a:solidFill>
          <a:ln w="64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847880" y="3379680"/>
            <a:ext cx="2128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65600" y="3236760"/>
            <a:ext cx="2849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47880" y="4419720"/>
            <a:ext cx="2128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47880" y="5486400"/>
            <a:ext cx="2128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334040" y="4148280"/>
            <a:ext cx="3354120" cy="911160"/>
          </a:xfrm>
          <a:prstGeom prst="roundRect">
            <a:avLst>
              <a:gd name="adj" fmla="val 11505"/>
            </a:avLst>
          </a:prstGeom>
          <a:solidFill>
            <a:srgbClr val="4d4d4d">
              <a:alpha val="5000"/>
            </a:srgbClr>
          </a:solidFill>
          <a:ln w="64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65600" y="4294080"/>
            <a:ext cx="2849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334040" y="5214960"/>
            <a:ext cx="3354120" cy="911160"/>
          </a:xfrm>
          <a:prstGeom prst="roundRect">
            <a:avLst>
              <a:gd name="adj" fmla="val 11505"/>
            </a:avLst>
          </a:prstGeom>
          <a:solidFill>
            <a:srgbClr val="4d4d4d">
              <a:alpha val="5000"/>
            </a:srgbClr>
          </a:solidFill>
          <a:ln w="64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65600" y="5361120"/>
            <a:ext cx="2849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660680" y="1733400"/>
            <a:ext cx="591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ThemeGalle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       Contents mall developed by Guild Design Inc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3500000">
            <a:off x="4181040" y="3394800"/>
            <a:ext cx="298440" cy="298440"/>
          </a:xfrm>
          <a:prstGeom prst="rtTriangle">
            <a:avLst/>
          </a:prstGeom>
          <a:solidFill>
            <a:srgbClr val="ec9f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3500000">
            <a:off x="4181040" y="4475880"/>
            <a:ext cx="298440" cy="298440"/>
          </a:xfrm>
          <a:prstGeom prst="rtTriangle">
            <a:avLst/>
          </a:prstGeom>
          <a:solidFill>
            <a:srgbClr val="93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3500000">
            <a:off x="4181040" y="5542920"/>
            <a:ext cx="298440" cy="298440"/>
          </a:xfrm>
          <a:prstGeom prst="rtTriangle">
            <a:avLst/>
          </a:prstGeom>
          <a:solidFill>
            <a:srgbClr val="5c4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30320" y="1895400"/>
            <a:ext cx="3205080" cy="530280"/>
          </a:xfrm>
          <a:custGeom>
            <a:avLst/>
            <a:gdLst/>
            <a:ahLst/>
            <a:rect l="l" t="t" r="r" b="b"/>
            <a:pathLst>
              <a:path w="2019" h="291">
                <a:moveTo>
                  <a:pt x="26" y="121"/>
                </a:moveTo>
                <a:cubicBezTo>
                  <a:pt x="26" y="245"/>
                  <a:pt x="26" y="291"/>
                  <a:pt x="26" y="291"/>
                </a:cubicBezTo>
                <a:lnTo>
                  <a:pt x="2014" y="291"/>
                </a:lnTo>
                <a:lnTo>
                  <a:pt x="2014" y="114"/>
                </a:lnTo>
                <a:cubicBezTo>
                  <a:pt x="2009" y="76"/>
                  <a:pt x="2019" y="0"/>
                  <a:pt x="1868" y="13"/>
                </a:cubicBezTo>
                <a:cubicBezTo>
                  <a:pt x="1015" y="13"/>
                  <a:pt x="170" y="13"/>
                  <a:pt x="170" y="13"/>
                </a:cubicBezTo>
                <a:cubicBezTo>
                  <a:pt x="0" y="7"/>
                  <a:pt x="24" y="99"/>
                  <a:pt x="26" y="121"/>
                </a:cubicBezTo>
                <a:close/>
              </a:path>
            </a:pathLst>
          </a:custGeom>
          <a:solidFill>
            <a:srgbClr val="5c414f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0240" y="2583000"/>
            <a:ext cx="412776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1.Describe contents for a Chart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company’s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company’s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2.Describe contents for a Chart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company’s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company’s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245600" y="1963800"/>
            <a:ext cx="2774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4862520" y="1104840"/>
            <a:ext cx="3971880" cy="46324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  <a:ea typeface="宋体"/>
              </a:rPr>
              <a:t>Column Chart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974880" y="5000760"/>
            <a:ext cx="1411200" cy="555480"/>
          </a:xfrm>
          <a:prstGeom prst="cube">
            <a:avLst>
              <a:gd name="adj" fmla="val 1594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74880" y="4470480"/>
            <a:ext cx="1411200" cy="555480"/>
          </a:xfrm>
          <a:prstGeom prst="cube">
            <a:avLst>
              <a:gd name="adj" fmla="val 1594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74880" y="3940200"/>
            <a:ext cx="1411200" cy="555480"/>
          </a:xfrm>
          <a:prstGeom prst="cube">
            <a:avLst>
              <a:gd name="adj" fmla="val 1594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74880" y="3409920"/>
            <a:ext cx="1411200" cy="555480"/>
          </a:xfrm>
          <a:prstGeom prst="cube">
            <a:avLst>
              <a:gd name="adj" fmla="val 1594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74880" y="2870280"/>
            <a:ext cx="1411200" cy="555480"/>
          </a:xfrm>
          <a:prstGeom prst="cube">
            <a:avLst>
              <a:gd name="adj" fmla="val 1594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74880" y="2314440"/>
            <a:ext cx="1411200" cy="555840"/>
          </a:xfrm>
          <a:prstGeom prst="cube">
            <a:avLst>
              <a:gd name="adj" fmla="val 1594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11240" y="248760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1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93600" y="298944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2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993600" y="353232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3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93600" y="408456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4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93600" y="461808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5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93600" y="512280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6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384280" y="2317680"/>
          <a:ext cx="5692680" cy="3235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>
            <a:off x="2270160" y="557532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180200" y="5121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1434960"/>
            <a:ext cx="5838840" cy="501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b3553"/>
              </a:gs>
              <a:gs pos="100000">
                <a:srgbClr val="5f73b5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79760" y="1434960"/>
            <a:ext cx="24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392200" y="3541680"/>
            <a:ext cx="419400" cy="274680"/>
          </a:xfrm>
          <a:prstGeom prst="rect">
            <a:avLst/>
          </a:prstGeom>
          <a:gradFill rotWithShape="0">
            <a:gsLst>
              <a:gs pos="0">
                <a:srgbClr val="9c8c94"/>
              </a:gs>
              <a:gs pos="100000">
                <a:srgbClr val="5c414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392200" y="2438280"/>
            <a:ext cx="968400" cy="274680"/>
          </a:xfrm>
          <a:prstGeom prst="rect">
            <a:avLst/>
          </a:prstGeom>
          <a:gradFill rotWithShape="0">
            <a:gsLst>
              <a:gs pos="0">
                <a:srgbClr val="f2c471"/>
              </a:gs>
              <a:gs pos="100000">
                <a:srgbClr val="ec9f14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92200" y="2998800"/>
            <a:ext cx="849600" cy="274680"/>
          </a:xfrm>
          <a:prstGeom prst="rect">
            <a:avLst/>
          </a:prstGeom>
          <a:gradFill rotWithShape="0">
            <a:gsLst>
              <a:gs pos="0">
                <a:srgbClr val="bdc183"/>
              </a:gs>
              <a:gs pos="100000">
                <a:srgbClr val="939932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392200" y="4067280"/>
            <a:ext cx="1316160" cy="274680"/>
          </a:xfrm>
          <a:prstGeom prst="rect">
            <a:avLst/>
          </a:prstGeom>
          <a:gradFill rotWithShape="0">
            <a:gsLst>
              <a:gs pos="0">
                <a:srgbClr val="cf8eac"/>
              </a:gs>
              <a:gs pos="100000">
                <a:srgbClr val="b24476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392200" y="4610160"/>
            <a:ext cx="3573720" cy="274680"/>
          </a:xfrm>
          <a:prstGeom prst="rect">
            <a:avLst/>
          </a:prstGeom>
          <a:gradFill rotWithShape="0">
            <a:gsLst>
              <a:gs pos="0">
                <a:srgbClr val="a7ddcb"/>
              </a:gs>
              <a:gs pos="100000">
                <a:srgbClr val="6ec8aa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392200" y="5143680"/>
            <a:ext cx="4726080" cy="274320"/>
          </a:xfrm>
          <a:prstGeom prst="rect">
            <a:avLst/>
          </a:prstGeom>
          <a:gradFill rotWithShape="0">
            <a:gsLst>
              <a:gs pos="0">
                <a:srgbClr val="dba9d7"/>
              </a:gs>
              <a:gs pos="100000">
                <a:srgbClr val="c571b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428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90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884320" y="352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38680" y="4038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76800" y="45846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  <a:ea typeface="宋体"/>
              </a:rPr>
              <a:t>Bar Chart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1463760"/>
            <a:ext cx="6043680" cy="53942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218280" y="1515960"/>
            <a:ext cx="1187280" cy="876240"/>
            <a:chOff x="6218280" y="1515960"/>
            <a:chExt cx="1187280" cy="876240"/>
          </a:xfrm>
        </p:grpSpPr>
        <p:sp>
          <p:nvSpPr>
            <p:cNvPr id="434" name=""/>
            <p:cNvSpPr/>
            <p:nvPr/>
          </p:nvSpPr>
          <p:spPr>
            <a:xfrm>
              <a:off x="6218280" y="1515960"/>
              <a:ext cx="1187280" cy="876240"/>
            </a:xfrm>
            <a:prstGeom prst="blockArc">
              <a:avLst>
                <a:gd name="adj1" fmla="val 0"/>
                <a:gd name="adj2" fmla="val 10800000"/>
                <a:gd name="adj3" fmla="val 47065"/>
              </a:avLst>
            </a:prstGeom>
            <a:gradFill rotWithShape="0">
              <a:gsLst>
                <a:gs pos="0">
                  <a:srgbClr val="002346"/>
                </a:gs>
                <a:gs pos="50000">
                  <a:srgbClr val="001021"/>
                </a:gs>
                <a:gs pos="100000">
                  <a:srgbClr val="0023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18280" y="1869120"/>
              <a:ext cx="1187280" cy="183600"/>
            </a:xfrm>
            <a:prstGeom prst="ellipse">
              <a:avLst/>
            </a:prstGeom>
            <a:gradFill rotWithShape="0">
              <a:gsLst>
                <a:gs pos="0">
                  <a:srgbClr val="002346"/>
                </a:gs>
                <a:gs pos="100000">
                  <a:srgbClr val="425c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6426360" y="2054160"/>
            <a:ext cx="73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478560" y="2400480"/>
            <a:ext cx="668520" cy="1267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 flipH="1" rot="3125400">
            <a:off x="6306480" y="2160000"/>
            <a:ext cx="96840" cy="42840"/>
          </a:xfrm>
          <a:prstGeom prst="ellipse">
            <a:avLst/>
          </a:prstGeom>
          <a:gradFill rotWithShape="0">
            <a:gsLst>
              <a:gs pos="0">
                <a:srgbClr val="151e26"/>
              </a:gs>
              <a:gs pos="50000">
                <a:srgbClr val="6e99c0"/>
              </a:gs>
              <a:gs pos="100000">
                <a:srgbClr val="151e26"/>
              </a:gs>
            </a:gsLst>
            <a:lin ang="139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4718000">
            <a:off x="5594040" y="1707480"/>
            <a:ext cx="98280" cy="157788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f6e8a"/>
              </a:gs>
              <a:gs pos="50000">
                <a:srgbClr val="6e99c0"/>
              </a:gs>
              <a:gs pos="100000">
                <a:srgbClr val="4f6e8a"/>
              </a:gs>
            </a:gsLst>
            <a:lin ang="176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246480" y="1936800"/>
            <a:ext cx="1815840" cy="1452240"/>
            <a:chOff x="3246480" y="1936800"/>
            <a:chExt cx="1815840" cy="1452240"/>
          </a:xfrm>
        </p:grpSpPr>
        <p:sp>
          <p:nvSpPr>
            <p:cNvPr id="441" name=""/>
            <p:cNvSpPr/>
            <p:nvPr/>
          </p:nvSpPr>
          <p:spPr>
            <a:xfrm>
              <a:off x="3246480" y="1936800"/>
              <a:ext cx="1815840" cy="1452240"/>
            </a:xfrm>
            <a:prstGeom prst="blockArc">
              <a:avLst>
                <a:gd name="adj1" fmla="val 0"/>
                <a:gd name="adj2" fmla="val 10800000"/>
                <a:gd name="adj3" fmla="val 47065"/>
              </a:avLst>
            </a:prstGeom>
            <a:gradFill rotWithShape="0">
              <a:gsLst>
                <a:gs pos="0">
                  <a:srgbClr val="33689d"/>
                </a:gs>
                <a:gs pos="50000">
                  <a:srgbClr val="18314a"/>
                </a:gs>
                <a:gs pos="100000">
                  <a:srgbClr val="33689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46480" y="2522160"/>
              <a:ext cx="1815840" cy="304560"/>
            </a:xfrm>
            <a:prstGeom prst="ellipse">
              <a:avLst/>
            </a:prstGeom>
            <a:gradFill rotWithShape="0">
              <a:gsLst>
                <a:gs pos="0">
                  <a:srgbClr val="33689d"/>
                </a:gs>
                <a:gs pos="100000">
                  <a:srgbClr val="688f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591000" y="29005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649680" y="3441600"/>
            <a:ext cx="1012680" cy="2066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 rot="3124800">
            <a:off x="3430800" y="3086640"/>
            <a:ext cx="177840" cy="42840"/>
          </a:xfrm>
          <a:prstGeom prst="ellipse">
            <a:avLst/>
          </a:prstGeom>
          <a:gradFill rotWithShape="0">
            <a:gsLst>
              <a:gs pos="0">
                <a:srgbClr val="151e26"/>
              </a:gs>
              <a:gs pos="50000">
                <a:srgbClr val="6e99c0"/>
              </a:gs>
              <a:gs pos="100000">
                <a:srgbClr val="151e26"/>
              </a:gs>
            </a:gsLst>
            <a:lin ang="76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13004400">
            <a:off x="2639520" y="2840760"/>
            <a:ext cx="327240" cy="237996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f6e8a"/>
              </a:gs>
              <a:gs pos="50000">
                <a:srgbClr val="6e99c0"/>
              </a:gs>
              <a:gs pos="100000">
                <a:srgbClr val="4f6e8a"/>
              </a:gs>
            </a:gsLst>
            <a:lin ang="193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776160" y="3965400"/>
            <a:ext cx="2628720" cy="2092320"/>
            <a:chOff x="776160" y="3965400"/>
            <a:chExt cx="2628720" cy="2092320"/>
          </a:xfrm>
        </p:grpSpPr>
        <p:sp>
          <p:nvSpPr>
            <p:cNvPr id="448" name=""/>
            <p:cNvSpPr/>
            <p:nvPr/>
          </p:nvSpPr>
          <p:spPr>
            <a:xfrm>
              <a:off x="776160" y="3965400"/>
              <a:ext cx="2628720" cy="2092320"/>
            </a:xfrm>
            <a:prstGeom prst="blockArc">
              <a:avLst>
                <a:gd name="adj1" fmla="val 0"/>
                <a:gd name="adj2" fmla="val 10800000"/>
                <a:gd name="adj3" fmla="val 47065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00486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6160" y="4808520"/>
              <a:ext cx="2628720" cy="4384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75c7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1265400" y="536904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374920" y="414036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ebd9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325520" y="61452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6381720" y="2646360"/>
            <a:ext cx="2513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383160" y="2743200"/>
            <a:ext cx="0" cy="809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98480" y="2446200"/>
            <a:ext cx="0" cy="9064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2430360"/>
            <a:ext cx="2217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c414f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39932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638520" y="5079960"/>
            <a:ext cx="0" cy="7272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624120" y="5043600"/>
            <a:ext cx="33321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c414f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429560" y="3489120"/>
            <a:ext cx="1393920" cy="1633680"/>
            <a:chOff x="1429560" y="3489120"/>
            <a:chExt cx="1393920" cy="1633680"/>
          </a:xfrm>
        </p:grpSpPr>
        <p:sp>
          <p:nvSpPr>
            <p:cNvPr id="460" name=""/>
            <p:cNvSpPr/>
            <p:nvPr/>
          </p:nvSpPr>
          <p:spPr>
            <a:xfrm rot="291600">
              <a:off x="2015640" y="3502440"/>
              <a:ext cx="331920" cy="324000"/>
            </a:xfrm>
            <a:prstGeom prst="ellipse">
              <a:avLst/>
            </a:prstGeom>
            <a:solidFill>
              <a:srgbClr val="fee3a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291600">
              <a:off x="1491840" y="3547080"/>
              <a:ext cx="126936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ee3ac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767760" y="1776240"/>
            <a:ext cx="784080" cy="917640"/>
            <a:chOff x="3767760" y="1776240"/>
            <a:chExt cx="784080" cy="917640"/>
          </a:xfrm>
        </p:grpSpPr>
        <p:sp>
          <p:nvSpPr>
            <p:cNvPr id="463" name=""/>
            <p:cNvSpPr/>
            <p:nvPr/>
          </p:nvSpPr>
          <p:spPr>
            <a:xfrm rot="291600">
              <a:off x="4096800" y="1783800"/>
              <a:ext cx="186840" cy="1818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291600">
              <a:off x="3802320" y="18086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996840" y="41544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ebd9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618960" y="1482480"/>
            <a:ext cx="412560" cy="476640"/>
            <a:chOff x="6618960" y="1482480"/>
            <a:chExt cx="412560" cy="476640"/>
          </a:xfrm>
        </p:grpSpPr>
        <p:sp>
          <p:nvSpPr>
            <p:cNvPr id="467" name=""/>
            <p:cNvSpPr/>
            <p:nvPr/>
          </p:nvSpPr>
          <p:spPr>
            <a:xfrm rot="363600">
              <a:off x="6796800" y="1488240"/>
              <a:ext cx="96120" cy="93600"/>
            </a:xfrm>
            <a:prstGeom prst="ellipse">
              <a:avLst/>
            </a:prstGeom>
            <a:solidFill>
              <a:srgbClr val="cc99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363600">
              <a:off x="6640920" y="1500480"/>
              <a:ext cx="368280" cy="4402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cc99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436920" y="2097000"/>
            <a:ext cx="1463400" cy="379080"/>
            <a:chOff x="3436920" y="2097000"/>
            <a:chExt cx="1463400" cy="379080"/>
          </a:xfrm>
        </p:grpSpPr>
        <p:sp>
          <p:nvSpPr>
            <p:cNvPr id="470" name=""/>
            <p:cNvSpPr/>
            <p:nvPr/>
          </p:nvSpPr>
          <p:spPr>
            <a:xfrm flipH="1">
              <a:off x="4350240" y="20970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e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36920" y="21067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e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343560" y="1641600"/>
            <a:ext cx="979560" cy="204480"/>
            <a:chOff x="6343560" y="1641600"/>
            <a:chExt cx="979560" cy="204480"/>
          </a:xfrm>
        </p:grpSpPr>
        <p:sp>
          <p:nvSpPr>
            <p:cNvPr id="473" name=""/>
            <p:cNvSpPr/>
            <p:nvPr/>
          </p:nvSpPr>
          <p:spPr>
            <a:xfrm flipH="1">
              <a:off x="6955200" y="1641600"/>
              <a:ext cx="367920" cy="199800"/>
            </a:xfrm>
            <a:custGeom>
              <a:avLst/>
              <a:gdLst>
                <a:gd name="textAreaLeft" fmla="*/ 49320 w 367920"/>
                <a:gd name="textAreaRight" fmla="*/ 318600 w 36792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e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43560" y="1646640"/>
              <a:ext cx="367920" cy="199440"/>
            </a:xfrm>
            <a:custGeom>
              <a:avLst/>
              <a:gdLst>
                <a:gd name="textAreaLeft" fmla="*/ 49320 w 367920"/>
                <a:gd name="textAreaRight" fmla="*/ 318600 w 36792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e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6:58:57Z</dcterms:created>
  <dc:creator>微软用户</dc:creator>
  <dc:description/>
  <dc:language>en-US</dc:language>
  <cp:lastModifiedBy>lidan</cp:lastModifiedBy>
  <dcterms:modified xsi:type="dcterms:W3CDTF">2015-08-09T01:11:52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