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7.png" ContentType="image/png"/>
  <Override PartName="/ppt/media/image15.wmf" ContentType="image/x-wmf"/>
  <Override PartName="/ppt/media/image12.png" ContentType="image/png"/>
  <Override PartName="/ppt/media/image32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35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ECE-4E2E-4510-8A27-ED3287DA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D62-AF4E-46EF-8BF8-A5C190C9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53E-A5FC-430D-83BD-39DE6E1C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1C5-C0B0-4100-989A-329CB04C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A49-7619-4621-9A12-77DFE3FE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522-4159-4050-B1DF-3DAE34DF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CA1-5F39-4CC7-B7D8-3FCF1181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F55-AA66-4C90-BFD4-C6B493F0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05B-AA6A-4B77-89A5-B55BF4A2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CAE-05BF-45F1-ACEA-690BC9D1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DE5-B2B8-4F8A-BC94-BB44C7A0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F4B-6CCC-47D7-B9EF-5A2B8100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687F-18D6-49A0-B6E3-E9AC58AD6D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4.wmf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-01"/>
          <p:cNvPicPr/>
          <p:nvPr/>
        </p:nvPicPr>
        <p:blipFill>
          <a:blip r:embed="rId1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12-01"/>
          <p:cNvPicPr/>
          <p:nvPr/>
        </p:nvPicPr>
        <p:blipFill>
          <a:blip r:embed="rId2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3-01"/>
          <p:cNvPicPr/>
          <p:nvPr/>
        </p:nvPicPr>
        <p:blipFill>
          <a:blip r:embed="rId3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8"/>
          <p:cNvPicPr/>
          <p:nvPr/>
        </p:nvPicPr>
        <p:blipFill>
          <a:blip r:embed="rId4"/>
          <a:stretch/>
        </p:blipFill>
        <p:spPr>
          <a:xfrm>
            <a:off x="1776240" y="3341520"/>
            <a:ext cx="1749600" cy="271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"/>
          <p:cNvPicPr/>
          <p:nvPr/>
        </p:nvPicPr>
        <p:blipFill>
          <a:blip r:embed="rId5"/>
          <a:stretch/>
        </p:blipFill>
        <p:spPr>
          <a:xfrm>
            <a:off x="2820960" y="4497480"/>
            <a:ext cx="2529000" cy="17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"/>
          <p:cNvPicPr/>
          <p:nvPr/>
        </p:nvPicPr>
        <p:blipFill>
          <a:blip r:embed="rId6"/>
          <a:stretch/>
        </p:blipFill>
        <p:spPr>
          <a:xfrm>
            <a:off x="1452600" y="4313160"/>
            <a:ext cx="15048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3"/>
          <p:cNvPicPr/>
          <p:nvPr/>
        </p:nvPicPr>
        <p:blipFill>
          <a:blip r:embed="rId7"/>
          <a:stretch/>
        </p:blipFill>
        <p:spPr>
          <a:xfrm>
            <a:off x="623880" y="5483160"/>
            <a:ext cx="677880" cy="847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4"/>
          <p:cNvPicPr/>
          <p:nvPr/>
        </p:nvPicPr>
        <p:blipFill>
          <a:blip r:embed="rId8"/>
          <a:stretch/>
        </p:blipFill>
        <p:spPr>
          <a:xfrm>
            <a:off x="2995560" y="4405320"/>
            <a:ext cx="615960" cy="20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5"/>
          <p:cNvPicPr/>
          <p:nvPr/>
        </p:nvPicPr>
        <p:blipFill>
          <a:blip r:embed="rId9"/>
          <a:stretch/>
        </p:blipFill>
        <p:spPr>
          <a:xfrm>
            <a:off x="3643200" y="4299120"/>
            <a:ext cx="68904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6"/>
          <p:cNvPicPr/>
          <p:nvPr/>
        </p:nvPicPr>
        <p:blipFill>
          <a:blip r:embed="rId10"/>
          <a:stretch/>
        </p:blipFill>
        <p:spPr>
          <a:xfrm>
            <a:off x="4764240" y="3665520"/>
            <a:ext cx="506160" cy="90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7"/>
          <p:cNvPicPr/>
          <p:nvPr/>
        </p:nvPicPr>
        <p:blipFill>
          <a:blip r:embed="rId11"/>
          <a:stretch/>
        </p:blipFill>
        <p:spPr>
          <a:xfrm>
            <a:off x="4221000" y="2852640"/>
            <a:ext cx="5432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9"/>
          <p:cNvPicPr/>
          <p:nvPr/>
        </p:nvPicPr>
        <p:blipFill>
          <a:blip r:embed="rId12"/>
          <a:stretch/>
        </p:blipFill>
        <p:spPr>
          <a:xfrm>
            <a:off x="7088040" y="2549520"/>
            <a:ext cx="446256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10"/>
          <p:cNvPicPr/>
          <p:nvPr/>
        </p:nvPicPr>
        <p:blipFill>
          <a:blip r:embed="rId13"/>
          <a:stretch/>
        </p:blipFill>
        <p:spPr>
          <a:xfrm>
            <a:off x="9121680" y="5518080"/>
            <a:ext cx="2467080" cy="85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6438960" y="8380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办公  幸福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6480" y="1984320"/>
            <a:ext cx="60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工作效率绿色办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5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43200000">
                                      <p:cBhvr>
                                        <p:cTn id="5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3200000">
                                      <p:cBhvr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-9360" y="6121440"/>
            <a:ext cx="12225240" cy="736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58920" y="-23760"/>
            <a:ext cx="10277280" cy="413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1655640" y="3987720"/>
            <a:ext cx="1514520" cy="210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3606840" y="56260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4522680" y="5749920"/>
            <a:ext cx="876240" cy="3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880" y="4826160"/>
            <a:ext cx="71424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2065320" y="2505240"/>
            <a:ext cx="6955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9"/>
          <p:cNvGrpSpPr/>
          <p:nvPr/>
        </p:nvGrpSpPr>
        <p:grpSpPr>
          <a:xfrm>
            <a:off x="7527960" y="614520"/>
            <a:ext cx="3752640" cy="1085760"/>
            <a:chOff x="7527960" y="614520"/>
            <a:chExt cx="3752640" cy="1085760"/>
          </a:xfrm>
        </p:grpSpPr>
        <p:pic>
          <p:nvPicPr>
            <p:cNvPr id="65" name="Picture 10" descr=""/>
            <p:cNvPicPr/>
            <p:nvPr/>
          </p:nvPicPr>
          <p:blipFill>
            <a:blip r:embed="rId7"/>
            <a:stretch/>
          </p:blipFill>
          <p:spPr>
            <a:xfrm>
              <a:off x="7527960" y="614520"/>
              <a:ext cx="37526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1"/>
            <p:cNvSpPr/>
            <p:nvPr/>
          </p:nvSpPr>
          <p:spPr>
            <a:xfrm>
              <a:off x="7680960" y="79452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办公、幸福生活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2"/>
          <p:cNvGrpSpPr/>
          <p:nvPr/>
        </p:nvGrpSpPr>
        <p:grpSpPr>
          <a:xfrm>
            <a:off x="5727600" y="2205000"/>
            <a:ext cx="3753000" cy="1085760"/>
            <a:chOff x="5727600" y="2205000"/>
            <a:chExt cx="3753000" cy="1085760"/>
          </a:xfrm>
        </p:grpSpPr>
        <p:pic>
          <p:nvPicPr>
            <p:cNvPr id="68" name="Picture 13" descr=""/>
            <p:cNvPicPr/>
            <p:nvPr/>
          </p:nvPicPr>
          <p:blipFill>
            <a:blip r:embed="rId8"/>
            <a:stretch/>
          </p:blipFill>
          <p:spPr>
            <a:xfrm>
              <a:off x="5727600" y="220500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4"/>
            <p:cNvSpPr/>
            <p:nvPr/>
          </p:nvSpPr>
          <p:spPr>
            <a:xfrm>
              <a:off x="5951520" y="239076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工作决于心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3711600" y="3854520"/>
            <a:ext cx="3753000" cy="1085760"/>
            <a:chOff x="3711600" y="3854520"/>
            <a:chExt cx="3753000" cy="1085760"/>
          </a:xfrm>
        </p:grpSpPr>
        <p:pic>
          <p:nvPicPr>
            <p:cNvPr id="71" name="Picture 16" descr=""/>
            <p:cNvPicPr/>
            <p:nvPr/>
          </p:nvPicPr>
          <p:blipFill>
            <a:blip r:embed="rId9"/>
            <a:stretch/>
          </p:blipFill>
          <p:spPr>
            <a:xfrm>
              <a:off x="3711600" y="385452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7"/>
            <p:cNvSpPr/>
            <p:nvPr/>
          </p:nvSpPr>
          <p:spPr>
            <a:xfrm>
              <a:off x="3910320" y="4052520"/>
              <a:ext cx="34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样才能快乐的工作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1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01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401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9360" y="2886120"/>
            <a:ext cx="12199680" cy="1582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2279520" y="1197000"/>
            <a:ext cx="6229440" cy="1660320"/>
            <a:chOff x="2279520" y="1197000"/>
            <a:chExt cx="6229440" cy="1660320"/>
          </a:xfrm>
        </p:grpSpPr>
        <p:pic>
          <p:nvPicPr>
            <p:cNvPr id="75" name="Picture 4" descr=""/>
            <p:cNvPicPr/>
            <p:nvPr/>
          </p:nvPicPr>
          <p:blipFill>
            <a:blip r:embed="rId1"/>
            <a:stretch/>
          </p:blipFill>
          <p:spPr>
            <a:xfrm>
              <a:off x="2279520" y="1998360"/>
              <a:ext cx="4856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"/>
            <p:cNvPicPr/>
            <p:nvPr/>
          </p:nvPicPr>
          <p:blipFill>
            <a:blip r:embed="rId2"/>
            <a:stretch/>
          </p:blipFill>
          <p:spPr>
            <a:xfrm>
              <a:off x="3234960" y="2016360"/>
              <a:ext cx="771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4386240" y="1197000"/>
              <a:ext cx="12762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"/>
            <p:cNvPicPr/>
            <p:nvPr/>
          </p:nvPicPr>
          <p:blipFill>
            <a:blip r:embed="rId4"/>
            <a:stretch/>
          </p:blipFill>
          <p:spPr>
            <a:xfrm>
              <a:off x="5087520" y="2646360"/>
              <a:ext cx="5522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8" descr=""/>
            <p:cNvPicPr/>
            <p:nvPr/>
          </p:nvPicPr>
          <p:blipFill>
            <a:blip r:embed="rId5"/>
            <a:stretch/>
          </p:blipFill>
          <p:spPr>
            <a:xfrm>
              <a:off x="5843160" y="2264400"/>
              <a:ext cx="3524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9" descr=""/>
            <p:cNvPicPr/>
            <p:nvPr/>
          </p:nvPicPr>
          <p:blipFill>
            <a:blip r:embed="rId6"/>
            <a:stretch/>
          </p:blipFill>
          <p:spPr>
            <a:xfrm>
              <a:off x="6651000" y="1807200"/>
              <a:ext cx="102852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0" descr=""/>
            <p:cNvPicPr/>
            <p:nvPr/>
          </p:nvPicPr>
          <p:blipFill>
            <a:blip r:embed="rId7"/>
            <a:stretch/>
          </p:blipFill>
          <p:spPr>
            <a:xfrm>
              <a:off x="8147160" y="2552760"/>
              <a:ext cx="3618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11" descr=""/>
          <p:cNvPicPr/>
          <p:nvPr/>
        </p:nvPicPr>
        <p:blipFill>
          <a:blip r:embed="rId8"/>
          <a:stretch/>
        </p:blipFill>
        <p:spPr>
          <a:xfrm>
            <a:off x="8871120" y="1922400"/>
            <a:ext cx="6094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9"/>
          <a:stretch/>
        </p:blipFill>
        <p:spPr>
          <a:xfrm>
            <a:off x="7175520" y="128124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3533760" y="33894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-9360" y="-11160"/>
            <a:ext cx="12201480" cy="7304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-9360" y="6705720"/>
            <a:ext cx="1220148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816120" y="1511280"/>
            <a:ext cx="1039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尔基曾经说过：“工作快乐，人生便是天堂；工作痛苦，人生便是地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现实生活中，也许选择什么样的工作会身不由己，但是我们却可以通过改变心态来面对挑战。世界上没有不好的工作，让我们对工作产生不满的是不平衡的心态。因此，快乐工作的关键取决于心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遇到困惑时给自己三个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环境就适应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别人就改变自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C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事情就改变对事情的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正你自己的位置，端正你的态度，你的工作自然就会变得轻松容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225440" y="2060640"/>
            <a:ext cx="109666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-9360" y="-11160"/>
            <a:ext cx="12201480" cy="7304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-9360" y="6705720"/>
            <a:ext cx="1219968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5"/>
          <a:stretch/>
        </p:blipFill>
        <p:spPr>
          <a:xfrm>
            <a:off x="3587760" y="2637000"/>
            <a:ext cx="4886280" cy="1552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5CB-E206-453B-B553-F5669AD4F1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441680" y="2801880"/>
            <a:ext cx="3238560" cy="77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7:09:59Z</dcterms:created>
  <dc:creator>Administrator</dc:creator>
  <dc:description/>
  <dc:language>en-US</dc:language>
  <cp:lastModifiedBy>123</cp:lastModifiedBy>
  <dcterms:modified xsi:type="dcterms:W3CDTF">2015-08-09T01:10:20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