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873-93FA-4207-B561-E092493D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534-44E8-4A2A-96A2-7941B818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B32-2686-4D72-9C32-A9C3F7CF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318-B22B-4E53-8B83-6161020F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202-0714-48B5-88F5-0BA1ECBE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2BA-FD30-4101-B213-3D773495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754-BBA9-4D49-A0FB-438AC90F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2C5-2748-4E7E-922C-C9440B44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9C0-612D-4512-AD2F-9A87DFDF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90F-4167-46E3-8318-03CE4111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51F-F3BD-4BDE-BC82-A5FB36F3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034-A3B9-440A-BC6A-D0BC58AA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f271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9A0B-E935-4B1C-97F4-A899E416BCD8}" type="datetime">
              <a:rPr b="0" lang="zh-CN" sz="1400" spc="-1" strike="noStrike">
                <a:solidFill>
                  <a:srgbClr val="4f271c"/>
                </a:solidFill>
                <a:latin typeface="Arial"/>
              </a:rPr>
              <a:t>26/7/31</a:t>
            </a:fld>
            <a:r>
              <a:rPr b="0" lang="zh-CN" sz="1400" spc="-1" strike="noStrike">
                <a:solidFill>
                  <a:srgbClr val="4f271c"/>
                </a:solidFill>
                <a:latin typeface="Arial"/>
              </a:rPr>
              <a:t> </a:t>
            </a:r>
            <a:fld id="{E266BA8F-E159-4595-832E-D6181045E32E}" type="datetime10">
              <a:rPr b="0" lang="zh-CN" sz="1400" spc="-1" strike="noStrike">
                <a:solidFill>
                  <a:srgbClr val="4f271c"/>
                </a:solidFill>
                <a:latin typeface="Arial"/>
              </a:rPr>
              <a:t>16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F73A-BA35-4D42-B762-7586EC388E9F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7920" y="6053040"/>
            <a:ext cx="224964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2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4343400"/>
            <a:ext cx="6477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296c7d"/>
                </a:solidFill>
                <a:latin typeface="Tw Cen MT"/>
              </a:rPr>
              <a:t>Presentation Title</a:t>
            </a:r>
            <a:br>
              <a:rPr sz="3600"/>
            </a:br>
            <a:r>
              <a:rPr b="0" lang="en-US" sz="3600" spc="-1" strike="noStrike">
                <a:solidFill>
                  <a:srgbClr val="296c7d"/>
                </a:solidFill>
                <a:latin typeface="Tw Cen MT"/>
              </a:rPr>
              <a:t>Presentation Subtitle</a:t>
            </a:r>
            <a:endParaRPr b="0" lang="en-US" sz="36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Instructor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Cours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"/>
          <p:cNvSpPr/>
          <p:nvPr/>
        </p:nvSpPr>
        <p:spPr>
          <a:xfrm>
            <a:off x="2418840" y="4572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学术论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 your conclusions her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039-6BBB-468C-B868-450561FEEC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</a:rPr>
              <a:t>使用规范说明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w Cen MT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w Cen MT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w Cen MT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97C-F35A-41C5-9853-B65D2DDF33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sm_pencil.png"/>
          <p:cNvPicPr/>
          <p:nvPr/>
        </p:nvPicPr>
        <p:blipFill>
          <a:blip r:embed="rId2"/>
          <a:stretch/>
        </p:blipFill>
        <p:spPr>
          <a:xfrm>
            <a:off x="612720" y="1755720"/>
            <a:ext cx="1616040" cy="2146320"/>
          </a:xfrm>
          <a:prstGeom prst="rect">
            <a:avLst/>
          </a:prstGeom>
          <a:ln cap="sq" w="50760">
            <a:solidFill>
              <a:srgbClr val="feb80a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Questions/Discussions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estion 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estion Tw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estions Thre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7A8-8188-4B5B-8DA8-E6C5C40E61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Information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120" y="1752480"/>
            <a:ext cx="3886200" cy="4572000"/>
          </a:xfrm>
          <a:prstGeom prst="rect">
            <a:avLst/>
          </a:prstGeom>
          <a:noFill/>
          <a:ln w="19080">
            <a:solidFill>
              <a:srgbClr val="c58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a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c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chedu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-W-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ab Tues-Thu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ffi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h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mai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844520" y="1752480"/>
            <a:ext cx="3886200" cy="4572000"/>
          </a:xfrm>
          <a:prstGeom prst="rect">
            <a:avLst/>
          </a:prstGeom>
          <a:noFill/>
          <a:ln w="12600">
            <a:solidFill>
              <a:srgbClr val="c58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ook(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quired Tex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dition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teri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tem 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tem 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tem 3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CFA-7F21-4582-937A-CBEFAABA3D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Schedule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2720" y="1600200"/>
          <a:ext cx="8153280" cy="333684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371520"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  <a:ea typeface="Tw Cen MT"/>
                        </a:rPr>
                        <a:t>Clas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  <a:ea typeface="Tw Cen MT"/>
                        </a:rPr>
                        <a:t>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  <a:ea typeface="Tw Cen MT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  <a:ea typeface="Tw Cen MT"/>
                        </a:rPr>
                        <a:t>Assign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b80a"/>
                    </a:solidFill>
                  </a:tcPr>
                </a:tc>
              </a:tr>
              <a:tr h="369720"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dbe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Topi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dbe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Chap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dbe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dbe1"/>
                    </a:solidFill>
                  </a:tcPr>
                </a:tc>
              </a:tr>
              <a:tr h="371520"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Topi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Chap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dbe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Topi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dbe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Chap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dbe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dbe1"/>
                    </a:solidFill>
                  </a:tcPr>
                </a:tc>
              </a:tr>
              <a:tr h="371520"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1"/>
                    </a:solidFill>
                  </a:tcPr>
                </a:tc>
              </a:tr>
              <a:tr h="371160"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dbe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dbe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dbe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dbe1"/>
                    </a:solidFill>
                  </a:tcPr>
                </a:tc>
              </a:tr>
              <a:tr h="370080"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dbe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dbe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dbe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dbe1"/>
                    </a:solidFill>
                  </a:tcPr>
                </a:tc>
              </a:tr>
              <a:tr h="369720"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B895-142A-4A10-97AE-17D5ED8057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sm_pencil.png"/>
          <p:cNvPicPr/>
          <p:nvPr/>
        </p:nvPicPr>
        <p:blipFill>
          <a:blip r:embed="rId2"/>
          <a:stretch/>
        </p:blipFill>
        <p:spPr>
          <a:xfrm>
            <a:off x="612720" y="1755720"/>
            <a:ext cx="1616040" cy="2146320"/>
          </a:xfrm>
          <a:prstGeom prst="rect">
            <a:avLst/>
          </a:prstGeom>
          <a:ln cap="sq" w="50760">
            <a:solidFill>
              <a:srgbClr val="feb80a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w Cen MT"/>
              </a:rPr>
              <a:t>Introduction/Course Description</a:t>
            </a:r>
            <a:endParaRPr b="0" lang="en-US" sz="40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rodu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troductory no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troductory no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troductory no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A07-67D1-413B-AE40-E29F09334F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Objectives and Results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bjectiv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rse objective 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rse objective 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rse objective 3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pected resul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kills develop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kill 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kill 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2C4-03E9-4731-8F05-3100DE16DD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Vocabulary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rm 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finition 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finition B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rm Tw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fini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rm Thre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fini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1FE2-9BF8-41C1-8217-D7489F8823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Procedures/Lecture Slide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 procedure he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ep on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ep tw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419720" cy="4572000"/>
          </a:xfrm>
          <a:prstGeom prst="rect">
            <a:avLst/>
          </a:prstGeom>
          <a:ln w="50760">
            <a:solidFill>
              <a:srgbClr val="feb80a"/>
            </a:solidFill>
            <a:miter/>
          </a:ln>
        </p:spPr>
      </p:pic>
      <p:pic>
        <p:nvPicPr>
          <p:cNvPr id="66" name="Content Placeholder 4" descr="compassPencilRuler_bg.png"/>
          <p:cNvPicPr/>
          <p:nvPr/>
        </p:nvPicPr>
        <p:blipFill>
          <a:blip r:embed="rId3"/>
          <a:stretch/>
        </p:blipFill>
        <p:spPr>
          <a:xfrm>
            <a:off x="4572000" y="1600200"/>
            <a:ext cx="4419720" cy="4572000"/>
          </a:xfrm>
          <a:prstGeom prst="rect">
            <a:avLst/>
          </a:prstGeom>
          <a:ln w="50760">
            <a:solidFill>
              <a:srgbClr val="feb80a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E73-9765-49AD-BA1E-B2011D417A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Graphs/Charts 1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pic>
        <p:nvPicPr>
          <p:cNvPr id="68" name="Content Placeholder 3" descr=""/>
          <p:cNvPicPr/>
          <p:nvPr/>
        </p:nvPicPr>
        <p:blipFill>
          <a:blip r:embed="rId2"/>
          <a:stretch/>
        </p:blipFill>
        <p:spPr>
          <a:xfrm>
            <a:off x="612720" y="1600200"/>
            <a:ext cx="8153280" cy="4495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970-14B1-413C-A7E1-2C9BE643F7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Graphs/Charts 2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pic>
        <p:nvPicPr>
          <p:cNvPr id="71" name="Content Placeholder 3" descr=""/>
          <p:cNvPicPr/>
          <p:nvPr/>
        </p:nvPicPr>
        <p:blipFill>
          <a:blip r:embed="rId2"/>
          <a:stretch/>
        </p:blipFill>
        <p:spPr>
          <a:xfrm>
            <a:off x="612720" y="1600200"/>
            <a:ext cx="81532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A43-21F2-4EAC-8E3E-25702E3AB4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0:01:00Z</dcterms:created>
  <dc:creator>pc</dc:creator>
  <dc:description/>
  <dc:language>en-US</dc:language>
  <cp:lastModifiedBy/>
  <dcterms:modified xsi:type="dcterms:W3CDTF">2015-08-09T01:10:0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TemplateID">
    <vt:lpwstr>TC103524791033</vt:lpwstr>
  </property>
</Properties>
</file>