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AA6-2128-4225-BF65-48D520D2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09B1-FA1F-470B-8A57-357C326C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09A-E131-4A0C-BC71-F4587BC8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C30-584F-4B80-B05E-6831E9F8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6EE-4CFF-4D1A-915E-E18F051B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177D-B34D-4592-BE7C-C904B0CD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B28-E075-40B0-AA72-EEB8DB00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8087-3E2C-40ED-8820-4690C310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C44-26D3-40BE-880D-AF3405E3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21C-ECDA-4948-9B51-991607EA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9AC-F6B5-47E6-859E-16107A03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ED68-BC74-4C9B-B46B-B27C80F2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3C21-A776-4855-BCC9-B2632487043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C41D-55CE-4177-9AE8-37A255F3AC8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765000"/>
            <a:ext cx="90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樱桃插画年度工作总结汇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13F-E662-4A9D-856B-E391789669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358380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194076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071720" y="500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36960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394092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229788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286920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177120" y="6429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22660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15496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79808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465516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479808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15496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315504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329796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286920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583880" y="1500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369160" y="1643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101196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01264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494100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3369600" y="1571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444096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115488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165492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429804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179784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494100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/>
          <p:cNvSpPr/>
          <p:nvPr/>
        </p:nvSpPr>
        <p:spPr>
          <a:xfrm>
            <a:off x="3369600" y="4929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565560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115488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158364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501264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344088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PC</cp:lastModifiedBy>
  <dcterms:modified xsi:type="dcterms:W3CDTF">2015-08-09T01:10:29Z</dcterms:modified>
  <cp:revision>1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