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5F1-258E-4D63-9E39-EE0A3DE0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4F7-5DC8-412C-A57A-7A3B4344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E3E-8CF3-4BFE-AB83-12E3A59B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9A9-A166-4D75-B8E4-0F98BF21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083-7544-4CD5-A12A-7F03BD3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E99-1C3B-4011-B71F-D625DA0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512-5AF2-48E7-9006-65B258F7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591-FE1D-4218-94ED-F8F98DCF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5A5-6E12-4843-9887-C221E9F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2E1-4587-4631-87AB-EF1720E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E13-6EB8-49C5-B959-43F4B55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EBE-E714-40D3-B1FD-8DDC668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7F08-7DC0-4B29-BD78-6400D872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1268280"/>
            <a:ext cx="1482840" cy="15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564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政府工作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335772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09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工作回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11280" y="1844640"/>
            <a:ext cx="42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09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工作回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492280"/>
            <a:ext cx="6985080" cy="4365720"/>
          </a:xfrm>
          <a:prstGeom prst="roundRect">
            <a:avLst>
              <a:gd name="adj" fmla="val 5782"/>
            </a:avLst>
          </a:prstGeom>
          <a:gradFill rotWithShape="0">
            <a:gsLst>
              <a:gs pos="0">
                <a:srgbClr val="8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573360"/>
            <a:ext cx="655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旧区改造取得重大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旧小区综合整治成效显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物业管理得到加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360" y="2852640"/>
            <a:ext cx="633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全力实施旧区改造和旧小区综合整治，群众居住条件得到切实改善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2E1-C208-4EC6-9731-EE87842EE4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94284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981000"/>
            <a:ext cx="356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981000"/>
            <a:ext cx="36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19280" y="328464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2010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华文中宋"/>
              </a:rPr>
              <a:t>年主要工作安排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6:34:03Z</dcterms:created>
  <dc:creator>yanwei</dc:creator>
  <dc:description/>
  <dc:language>en-US</dc:language>
  <cp:lastModifiedBy>keke</cp:lastModifiedBy>
  <dcterms:modified xsi:type="dcterms:W3CDTF">2015-08-09T01:10:2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