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2B7-F3B0-4598-9AF5-6C63F63F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FC4-D60D-469B-958A-4A8E39C7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47F-80AB-4756-9DDE-933E109B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E76-43A0-4EE8-B4A4-673E3C0E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6FCC-01C1-450E-806C-115673A6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F9CD-3EF5-4FB5-B709-BE599DE0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5A67-CBE1-4018-A620-DD07E9DF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D19D-5C93-4460-A0B5-19DF6301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C614-9F2D-4C74-8473-33D60972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A2D1-EF0D-485B-B308-58F7E756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E3F6-8FDF-4F95-AA19-8C3A5E50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2AC8-8C68-4074-9378-37B0BA26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B165-3CF4-47CA-BB65-A750CA0D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43BA-8AF0-4370-BF59-0F8F0FE7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6E6E-68E7-4D4C-A224-261D475F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3A9A-1BEE-4D1D-B882-D0E0D1E8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4400-88E6-4840-A26D-1A077680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CE08-0FAD-4234-BF7B-08BD8DD6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913-C22D-4A18-87CC-BACE98F3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0E3-3284-4599-A5B1-64E9E329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1CC-2924-4801-9BC0-C0C15CAB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728-409C-422D-A48B-B13F18AB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70C0-49F1-49B2-AFB3-50CA5D76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B5D-01C6-4E22-AAB4-6FB4270E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9E45-AC86-4990-BD64-E54AFF09CB04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AA93-BAD6-4925-AF61-656CBD3D24D5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  <a:ea typeface="宋体"/>
              </a:rPr>
              <a:t>THANKSGIVING FALL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0560" y="91440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宋体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472120" y="1557360"/>
            <a:ext cx="45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橘黄背景感恩节幻灯片在线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YOUR TITLE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2205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ffff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0747-4244-42FD-8E14-CE58A95F1BA4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animfactory_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7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8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9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0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13" descr="thanksgiving_fall_qx"/>
          <p:cNvPicPr/>
          <p:nvPr/>
        </p:nvPicPr>
        <p:blipFill>
          <a:blip r:embed="rId4"/>
          <a:stretch/>
        </p:blipFill>
        <p:spPr>
          <a:xfrm>
            <a:off x="2494080" y="91440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5" name="Picture 214" descr="thanksgiving_fall_sld"/>
          <p:cNvPicPr/>
          <p:nvPr/>
        </p:nvPicPr>
        <p:blipFill>
          <a:blip r:embed="rId5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6" name="Picture 215" descr="thanksgiving_fall_prt"/>
          <p:cNvPicPr/>
          <p:nvPr/>
        </p:nvPicPr>
        <p:blipFill>
          <a:blip r:embed="rId6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7" name="Picture 216" descr="thanksgiving_fall_trs"/>
          <p:cNvPicPr/>
          <p:nvPr/>
        </p:nvPicPr>
        <p:blipFill>
          <a:blip r:embed="rId7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6:44:39Z</dcterms:created>
  <dc:creator>微软中国</dc:creator>
  <dc:description/>
  <dc:language>en-US</dc:language>
  <cp:lastModifiedBy>User</cp:lastModifiedBy>
  <dcterms:modified xsi:type="dcterms:W3CDTF">2015-08-09T01:10:30Z</dcterms:modified>
  <cp:revision>4</cp:revision>
  <dc:subject/>
  <dc:title>THANKSGIVING FAL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