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576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4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86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305720" y="836640"/>
            <a:ext cx="702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2960" indent="-9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秋节日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2960" indent="-912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1:55:00Z</dcterms:created>
  <dc:creator>pc</dc:creator>
  <dc:description/>
  <dc:language>en-US</dc:language>
  <cp:lastModifiedBy>Skyfree</cp:lastModifiedBy>
  <dcterms:modified xsi:type="dcterms:W3CDTF">2015-08-09T01:08:55Z</dcterms:modified>
  <cp:revision>3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