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AF2-E12D-4B9E-9739-302F45D1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B6F-99E3-40AC-99D0-2FE2E356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46F-951D-460C-A605-948FBE8C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F71-42D0-45CF-840B-4FFC2F1D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221-B388-4231-A4CB-0BE71779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989-6E88-42E0-91D1-C221BE63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139-E320-450D-9B19-015094B4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A62-7B7B-464B-B9B4-7A07E88F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F5A-A039-406B-8ED6-7E893912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242-9A24-489C-B817-DAF94F5B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F70-C8EE-41C2-8394-5FD9AB17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199-4DD3-4AA5-BAD2-90D44F0E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A058-E69D-437B-BE90-82EA795F1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2280" y="5105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植物人大战僵尸论文答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819520" y="685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答辩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E:\ppt模板\个人作品\画板\u=822334480,1144025855&amp;fm=51&amp;gp=0_副本.png"/>
          <p:cNvPicPr/>
          <p:nvPr/>
        </p:nvPicPr>
        <p:blipFill>
          <a:blip r:embed="rId2"/>
          <a:stretch/>
        </p:blipFill>
        <p:spPr>
          <a:xfrm>
            <a:off x="8107200" y="5867280"/>
            <a:ext cx="1036800" cy="990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E:\ppt模板\个人作品\画板\u=580042334,1374901034&amp;fm=51&amp;gp=0.png"/>
          <p:cNvPicPr/>
          <p:nvPr/>
        </p:nvPicPr>
        <p:blipFill>
          <a:blip r:embed="rId1"/>
          <a:stretch/>
        </p:blipFill>
        <p:spPr>
          <a:xfrm>
            <a:off x="7391520" y="5315040"/>
            <a:ext cx="1581120" cy="154296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37"/>
          <p:cNvGrpSpPr/>
          <p:nvPr/>
        </p:nvGrpSpPr>
        <p:grpSpPr>
          <a:xfrm>
            <a:off x="1676520" y="457200"/>
            <a:ext cx="6619680" cy="981000"/>
            <a:chOff x="1676520" y="457200"/>
            <a:chExt cx="6619680" cy="981000"/>
          </a:xfrm>
        </p:grpSpPr>
        <p:pic>
          <p:nvPicPr>
            <p:cNvPr id="47" name="Picture 7" descr="E:\ppt模板\个人作品\画板\u=2587183883,2322743348&amp;fm=0&amp;gp=0.png"/>
            <p:cNvPicPr/>
            <p:nvPr/>
          </p:nvPicPr>
          <p:blipFill>
            <a:blip r:embed="rId2"/>
            <a:stretch/>
          </p:blipFill>
          <p:spPr>
            <a:xfrm>
              <a:off x="7315200" y="457200"/>
              <a:ext cx="981000" cy="98100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</p:pic>
        <p:sp>
          <p:nvSpPr>
            <p:cNvPr id="48" name="圆角矩形 35"/>
            <p:cNvSpPr/>
            <p:nvPr/>
          </p:nvSpPr>
          <p:spPr>
            <a:xfrm>
              <a:off x="1676520" y="533160"/>
              <a:ext cx="548640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54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立题目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38"/>
          <p:cNvGrpSpPr/>
          <p:nvPr/>
        </p:nvGrpSpPr>
        <p:grpSpPr>
          <a:xfrm>
            <a:off x="1523880" y="3809880"/>
            <a:ext cx="6620040" cy="981360"/>
            <a:chOff x="1523880" y="3809880"/>
            <a:chExt cx="6620040" cy="981360"/>
          </a:xfrm>
        </p:grpSpPr>
        <p:pic>
          <p:nvPicPr>
            <p:cNvPr id="50" name="Picture 7" descr="E:\ppt模板\个人作品\画板\u=2587183883,2322743348&amp;fm=0&amp;gp=0.png"/>
            <p:cNvPicPr/>
            <p:nvPr/>
          </p:nvPicPr>
          <p:blipFill>
            <a:blip r:embed="rId3"/>
            <a:stretch/>
          </p:blipFill>
          <p:spPr>
            <a:xfrm>
              <a:off x="7162920" y="3809880"/>
              <a:ext cx="981000" cy="98136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</p:pic>
        <p:sp>
          <p:nvSpPr>
            <p:cNvPr id="51" name="圆角矩形 40"/>
            <p:cNvSpPr/>
            <p:nvPr/>
          </p:nvSpPr>
          <p:spPr>
            <a:xfrm>
              <a:off x="1523880" y="3885840"/>
              <a:ext cx="5486760" cy="76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54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研究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41"/>
          <p:cNvGrpSpPr/>
          <p:nvPr/>
        </p:nvGrpSpPr>
        <p:grpSpPr>
          <a:xfrm>
            <a:off x="609480" y="1981080"/>
            <a:ext cx="6553440" cy="981360"/>
            <a:chOff x="609480" y="1981080"/>
            <a:chExt cx="6553440" cy="981360"/>
          </a:xfrm>
        </p:grpSpPr>
        <p:pic>
          <p:nvPicPr>
            <p:cNvPr id="53" name="Picture 7" descr="E:\ppt模板\个人作品\画板\u=2587183883,2322743348&amp;fm=0&amp;gp=0.png"/>
            <p:cNvPicPr/>
            <p:nvPr/>
          </p:nvPicPr>
          <p:blipFill>
            <a:blip r:embed="rId4"/>
            <a:stretch/>
          </p:blipFill>
          <p:spPr>
            <a:xfrm>
              <a:off x="609480" y="1981080"/>
              <a:ext cx="981000" cy="98136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</p:pic>
        <p:sp>
          <p:nvSpPr>
            <p:cNvPr id="54" name="圆角矩形 43"/>
            <p:cNvSpPr/>
            <p:nvPr/>
          </p:nvSpPr>
          <p:spPr>
            <a:xfrm>
              <a:off x="1676160" y="2057040"/>
              <a:ext cx="5486760" cy="76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54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立题意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44"/>
          <p:cNvGrpSpPr/>
          <p:nvPr/>
        </p:nvGrpSpPr>
        <p:grpSpPr>
          <a:xfrm>
            <a:off x="533520" y="5486400"/>
            <a:ext cx="6553080" cy="981000"/>
            <a:chOff x="533520" y="5486400"/>
            <a:chExt cx="6553080" cy="981000"/>
          </a:xfrm>
        </p:grpSpPr>
        <p:pic>
          <p:nvPicPr>
            <p:cNvPr id="56" name="Picture 7" descr="E:\ppt模板\个人作品\画板\u=2587183883,2322743348&amp;fm=0&amp;gp=0.png"/>
            <p:cNvPicPr/>
            <p:nvPr/>
          </p:nvPicPr>
          <p:blipFill>
            <a:blip r:embed="rId5"/>
            <a:stretch/>
          </p:blipFill>
          <p:spPr>
            <a:xfrm>
              <a:off x="533520" y="5486400"/>
              <a:ext cx="981000" cy="98100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</p:pic>
        <p:sp>
          <p:nvSpPr>
            <p:cNvPr id="57" name="圆角矩形 46"/>
            <p:cNvSpPr/>
            <p:nvPr/>
          </p:nvSpPr>
          <p:spPr>
            <a:xfrm>
              <a:off x="1600200" y="5562360"/>
              <a:ext cx="548640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54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387440" y="304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30"/>
          <p:cNvGrpSpPr/>
          <p:nvPr/>
        </p:nvGrpSpPr>
        <p:grpSpPr>
          <a:xfrm>
            <a:off x="1371600" y="1066680"/>
            <a:ext cx="6873840" cy="5310360"/>
            <a:chOff x="1371600" y="1066680"/>
            <a:chExt cx="6873840" cy="5310360"/>
          </a:xfrm>
        </p:grpSpPr>
        <p:sp>
          <p:nvSpPr>
            <p:cNvPr id="61" name="剪去单角的矩形 27"/>
            <p:cNvSpPr/>
            <p:nvPr/>
          </p:nvSpPr>
          <p:spPr>
            <a:xfrm>
              <a:off x="1371600" y="1447560"/>
              <a:ext cx="6426360" cy="492948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" descr="caltrop.png"/>
            <p:cNvPicPr/>
            <p:nvPr/>
          </p:nvPicPr>
          <p:blipFill>
            <a:blip r:embed="rId2"/>
            <a:stretch/>
          </p:blipFill>
          <p:spPr>
            <a:xfrm>
              <a:off x="6553080" y="1066680"/>
              <a:ext cx="1692360" cy="129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1387440" y="304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2"/>
          <p:cNvGrpSpPr/>
          <p:nvPr/>
        </p:nvGrpSpPr>
        <p:grpSpPr>
          <a:xfrm>
            <a:off x="228600" y="1600200"/>
            <a:ext cx="7696080" cy="5257800"/>
            <a:chOff x="228600" y="1600200"/>
            <a:chExt cx="7696080" cy="5257800"/>
          </a:xfrm>
        </p:grpSpPr>
        <p:grpSp>
          <p:nvGrpSpPr>
            <p:cNvPr id="66" name="圆角矩形 8"/>
            <p:cNvGrpSpPr/>
            <p:nvPr/>
          </p:nvGrpSpPr>
          <p:grpSpPr>
            <a:xfrm>
              <a:off x="1151640" y="1600200"/>
              <a:ext cx="6773040" cy="4046400"/>
              <a:chOff x="1151640" y="1600200"/>
              <a:chExt cx="6773040" cy="4046400"/>
            </a:xfrm>
          </p:grpSpPr>
          <p:pic>
            <p:nvPicPr>
              <p:cNvPr id="67" name="圆角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1640" y="1600200"/>
                <a:ext cx="6773040" cy="404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1404000" y="1825560"/>
                <a:ext cx="6274080" cy="355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内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内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内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" name="Picture 2" descr="cactus.png"/>
            <p:cNvPicPr/>
            <p:nvPr/>
          </p:nvPicPr>
          <p:blipFill>
            <a:blip r:embed="rId3"/>
            <a:stretch/>
          </p:blipFill>
          <p:spPr>
            <a:xfrm>
              <a:off x="228600" y="4813560"/>
              <a:ext cx="1339200" cy="20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1066680" y="13716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18C-2E68-486E-BAA1-9F7096D3B9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387440" y="304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11"/>
          <p:cNvGrpSpPr/>
          <p:nvPr/>
        </p:nvGrpSpPr>
        <p:grpSpPr>
          <a:xfrm>
            <a:off x="1676520" y="1143000"/>
            <a:ext cx="6019560" cy="5029200"/>
            <a:chOff x="1676520" y="1143000"/>
            <a:chExt cx="6019560" cy="5029200"/>
          </a:xfrm>
        </p:grpSpPr>
        <p:grpSp>
          <p:nvGrpSpPr>
            <p:cNvPr id="77" name="单圆角矩形 14"/>
            <p:cNvGrpSpPr/>
            <p:nvPr/>
          </p:nvGrpSpPr>
          <p:grpSpPr>
            <a:xfrm>
              <a:off x="1676520" y="1656360"/>
              <a:ext cx="5690880" cy="4515840"/>
              <a:chOff x="1676520" y="1656360"/>
              <a:chExt cx="5690880" cy="4515840"/>
            </a:xfrm>
          </p:grpSpPr>
          <p:pic>
            <p:nvPicPr>
              <p:cNvPr id="78" name="单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1656360"/>
                <a:ext cx="5690880" cy="451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1952640" y="1908360"/>
                <a:ext cx="4994280" cy="418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" name="Picture 16" descr="E:\ppt模板\个人作品\画板\u=4237240034,3179319345&amp;fm=51&amp;gp=0_副本.png"/>
            <p:cNvPicPr/>
            <p:nvPr/>
          </p:nvPicPr>
          <p:blipFill>
            <a:blip r:embed="rId3"/>
            <a:stretch/>
          </p:blipFill>
          <p:spPr>
            <a:xfrm>
              <a:off x="6301440" y="1143000"/>
              <a:ext cx="1394640" cy="136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2:15:41Z</dcterms:created>
  <dc:creator/>
  <dc:description/>
  <dc:language>en-US</dc:language>
  <cp:lastModifiedBy>微软用户</cp:lastModifiedBy>
  <dcterms:modified xsi:type="dcterms:W3CDTF">2015-08-09T01:10:2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