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40"/>
      <c:rotY val="0"/>
      <c:rAngAx val="0"/>
      <c:perspective val="6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104283859800952"/>
          <c:y val="0.0954306797218675"/>
          <c:w val="0.864380499062455"/>
          <c:h val="0.77862920391656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erie 1</c:v>
                </c:pt>
              </c:strCache>
            </c:strRef>
          </c:tx>
          <c:spPr>
            <a:solidFill>
              <a:srgbClr val="78c5dd"/>
            </a:solidFill>
            <a:ln w="0">
              <a:noFill/>
            </a:ln>
          </c:spPr>
          <c:explosion val="0"/>
          <c:dPt>
            <c:idx val="0"/>
            <c:spPr>
              <a:gradFill>
                <a:gsLst>
                  <a:gs pos="0">
                    <a:srgbClr val="558ed5"/>
                  </a:gs>
                  <a:gs pos="100000">
                    <a:srgbClr val="376092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1"/>
            <c:spPr>
              <a:gradFill>
                <a:gsLst>
                  <a:gs pos="0">
                    <a:srgbClr val="8eb4e3"/>
                  </a:gs>
                  <a:gs pos="100000">
                    <a:srgbClr val="b7dee8"/>
                  </a:gs>
                </a:gsLst>
                <a:lin ang="2700000"/>
              </a:gradFill>
              <a:ln w="0">
                <a:noFill/>
              </a:ln>
            </c:spPr>
          </c:dPt>
          <c:dPt>
            <c:idx val="2"/>
            <c:spPr>
              <a:gradFill>
                <a:gsLst>
                  <a:gs pos="0">
                    <a:srgbClr val="808080"/>
                  </a:gs>
                  <a:gs pos="100000">
                    <a:srgbClr val="a6a6a6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3"/>
            <c:spPr>
              <a:gradFill>
                <a:gsLst>
                  <a:gs pos="0">
                    <a:srgbClr val="17375e"/>
                  </a:gs>
                  <a:gs pos="100000">
                    <a:srgbClr val="376092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4"/>
            <c:explosion val="10"/>
            <c:spPr>
              <a:gradFill>
                <a:gsLst>
                  <a:gs pos="0">
                    <a:srgbClr val="dbeef4"/>
                  </a:gs>
                  <a:gs pos="100000">
                    <a:srgbClr val="c6d9f1"/>
                  </a:gs>
                </a:gsLst>
                <a:lin ang="16200000"/>
              </a:gra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lang="da-DK" sz="1798" spc="-1" strike="noStrike">
                      <a:solidFill>
                        <a:srgbClr val="f2f2f2"/>
                      </a:solidFill>
                      <a:latin typeface="Calibri"/>
                    </a:defRPr>
                  </a:pPr>
                </a:p>
              </c:txPr>
              <c:dLblPos val="ctr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lang="da-DK" sz="1798" spc="-1" strike="noStrike">
                      <a:solidFill>
                        <a:srgbClr val="00405f"/>
                      </a:solidFill>
                      <a:latin typeface="Calibri"/>
                    </a:defRPr>
                  </a:pPr>
                </a:p>
              </c:txPr>
              <c:dLblPos val="ctr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lang="da-DK" sz="1798" spc="-1" strike="noStrike">
                      <a:solidFill>
                        <a:srgbClr val="f2f2f2"/>
                      </a:solidFill>
                      <a:latin typeface="Calibri"/>
                    </a:defRPr>
                  </a:pPr>
                </a:p>
              </c:txPr>
              <c:dLblPos val="ctr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lang="da-DK" sz="1798" spc="-1" strike="noStrike">
                      <a:solidFill>
                        <a:srgbClr val="f2f2f2"/>
                      </a:solidFill>
                      <a:latin typeface="Calibri"/>
                    </a:defRPr>
                  </a:pPr>
                </a:p>
              </c:txPr>
              <c:dLblPos val="ctr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4"/>
              <c:txPr>
                <a:bodyPr wrap="square"/>
                <a:lstStyle/>
                <a:p>
                  <a:pPr>
                    <a:defRPr b="0" lang="da-DK" sz="1798" spc="-1" strike="noStrike">
                      <a:solidFill>
                        <a:srgbClr val="00405f"/>
                      </a:solidFill>
                      <a:latin typeface="Calibri"/>
                    </a:defRPr>
                  </a:pPr>
                </a:p>
              </c:txPr>
              <c:dLblPos val="ctr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lang="da-DK" sz="1798" spc="-1" strike="noStrike">
                    <a:solidFill>
                      <a:srgbClr val="00405f"/>
                    </a:solidFill>
                    <a:latin typeface="Calibri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5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  <c:pt idx="4">
                  <c:v>Category 5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20</c:v>
                </c:pt>
                <c:pt idx="1">
                  <c:v>25</c:v>
                </c:pt>
                <c:pt idx="2">
                  <c:v>5</c:v>
                </c:pt>
                <c:pt idx="3">
                  <c:v>15</c:v>
                </c:pt>
                <c:pt idx="4">
                  <c:v>35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77091660304486"/>
          <c:y val="0.0743821014407872"/>
          <c:w val="0.926842412538735"/>
          <c:h val="0.826285580414666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416a9c"/>
            </a:solidFill>
            <a:ln w="9360">
              <a:solidFill>
                <a:srgbClr val="1f497d"/>
              </a:solidFill>
              <a:round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Jan</c:v>
                </c:pt>
                <c:pt idx="1">
                  <c:v>Feb</c:v>
                </c:pt>
                <c:pt idx="2">
                  <c:v>March</c:v>
                </c:pt>
                <c:pt idx="3">
                  <c:v>April</c:v>
                </c:pt>
                <c:pt idx="4">
                  <c:v>May</c:v>
                </c:pt>
                <c:pt idx="5">
                  <c:v>June</c:v>
                </c:pt>
                <c:pt idx="6">
                  <c:v>July</c:v>
                </c:pt>
                <c:pt idx="7">
                  <c:v>Aug</c:v>
                </c:pt>
                <c:pt idx="8">
                  <c:v>Sept</c:v>
                </c:pt>
                <c:pt idx="9">
                  <c:v>Oct</c:v>
                </c:pt>
                <c:pt idx="10">
                  <c:v>Nov</c:v>
                </c:pt>
                <c:pt idx="11">
                  <c:v>Dec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2"/>
                <c:pt idx="0">
                  <c:v>4.3</c:v>
                </c:pt>
                <c:pt idx="1">
                  <c:v>4</c:v>
                </c:pt>
                <c:pt idx="2">
                  <c:v>4.2</c:v>
                </c:pt>
                <c:pt idx="3">
                  <c:v>3</c:v>
                </c:pt>
                <c:pt idx="4">
                  <c:v>3.6</c:v>
                </c:pt>
                <c:pt idx="5">
                  <c:v>6</c:v>
                </c:pt>
                <c:pt idx="6">
                  <c:v>3</c:v>
                </c:pt>
                <c:pt idx="7">
                  <c:v>3</c:v>
                </c:pt>
                <c:pt idx="8">
                  <c:v>3</c:v>
                </c:pt>
                <c:pt idx="9">
                  <c:v>6</c:v>
                </c:pt>
                <c:pt idx="10">
                  <c:v>5.3</c:v>
                </c:pt>
                <c:pt idx="11">
                  <c:v>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4f81bd"/>
            </a:solidFill>
            <a:ln w="9360">
              <a:solidFill>
                <a:srgbClr val="365c89"/>
              </a:solidFill>
              <a:round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Jan</c:v>
                </c:pt>
                <c:pt idx="1">
                  <c:v>Feb</c:v>
                </c:pt>
                <c:pt idx="2">
                  <c:v>March</c:v>
                </c:pt>
                <c:pt idx="3">
                  <c:v>April</c:v>
                </c:pt>
                <c:pt idx="4">
                  <c:v>May</c:v>
                </c:pt>
                <c:pt idx="5">
                  <c:v>June</c:v>
                </c:pt>
                <c:pt idx="6">
                  <c:v>July</c:v>
                </c:pt>
                <c:pt idx="7">
                  <c:v>Aug</c:v>
                </c:pt>
                <c:pt idx="8">
                  <c:v>Sept</c:v>
                </c:pt>
                <c:pt idx="9">
                  <c:v>Oct</c:v>
                </c:pt>
                <c:pt idx="10">
                  <c:v>Nov</c:v>
                </c:pt>
                <c:pt idx="11">
                  <c:v>Dec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2"/>
                <c:pt idx="0">
                  <c:v>2.4</c:v>
                </c:pt>
                <c:pt idx="1">
                  <c:v>4.5</c:v>
                </c:pt>
                <c:pt idx="2">
                  <c:v>2</c:v>
                </c:pt>
                <c:pt idx="3">
                  <c:v>2.4</c:v>
                </c:pt>
                <c:pt idx="4">
                  <c:v>2</c:v>
                </c:pt>
                <c:pt idx="5">
                  <c:v>3.4</c:v>
                </c:pt>
                <c:pt idx="6">
                  <c:v>2.6</c:v>
                </c:pt>
                <c:pt idx="7">
                  <c:v>5.5</c:v>
                </c:pt>
                <c:pt idx="8">
                  <c:v>2</c:v>
                </c:pt>
                <c:pt idx="9">
                  <c:v>3</c:v>
                </c:pt>
                <c:pt idx="10">
                  <c:v>4</c:v>
                </c:pt>
                <c:pt idx="11">
                  <c:v>3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eries 3</c:v>
                </c:pt>
              </c:strCache>
            </c:strRef>
          </c:tx>
          <c:spPr>
            <a:solidFill>
              <a:srgbClr val="aabad7"/>
            </a:solidFill>
            <a:ln w="9360">
              <a:solidFill>
                <a:srgbClr val="365c89"/>
              </a:solidFill>
              <a:round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2"/>
                <c:pt idx="0">
                  <c:v>Jan</c:v>
                </c:pt>
                <c:pt idx="1">
                  <c:v>Feb</c:v>
                </c:pt>
                <c:pt idx="2">
                  <c:v>March</c:v>
                </c:pt>
                <c:pt idx="3">
                  <c:v>April</c:v>
                </c:pt>
                <c:pt idx="4">
                  <c:v>May</c:v>
                </c:pt>
                <c:pt idx="5">
                  <c:v>June</c:v>
                </c:pt>
                <c:pt idx="6">
                  <c:v>July</c:v>
                </c:pt>
                <c:pt idx="7">
                  <c:v>Aug</c:v>
                </c:pt>
                <c:pt idx="8">
                  <c:v>Sept</c:v>
                </c:pt>
                <c:pt idx="9">
                  <c:v>Oct</c:v>
                </c:pt>
                <c:pt idx="10">
                  <c:v>Nov</c:v>
                </c:pt>
                <c:pt idx="11">
                  <c:v>Dec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2"/>
                <c:pt idx="0">
                  <c:v>2</c:v>
                </c:pt>
                <c:pt idx="1">
                  <c:v>2</c:v>
                </c:pt>
                <c:pt idx="2">
                  <c:v>2.4</c:v>
                </c:pt>
                <c:pt idx="3">
                  <c:v>2.4</c:v>
                </c:pt>
                <c:pt idx="4">
                  <c:v>4</c:v>
                </c:pt>
                <c:pt idx="5">
                  <c:v>3</c:v>
                </c:pt>
                <c:pt idx="6">
                  <c:v>3.4</c:v>
                </c:pt>
                <c:pt idx="7">
                  <c:v>2</c:v>
                </c:pt>
                <c:pt idx="8">
                  <c:v>5</c:v>
                </c:pt>
                <c:pt idx="9">
                  <c:v>5</c:v>
                </c:pt>
                <c:pt idx="10">
                  <c:v>2.5</c:v>
                </c:pt>
                <c:pt idx="11">
                  <c:v>5</c:v>
                </c:pt>
              </c:numCache>
            </c:numRef>
          </c:val>
        </c:ser>
        <c:gapWidth val="132"/>
        <c:overlap val="0"/>
        <c:axId val="10033704"/>
        <c:axId val="32859148"/>
      </c:barChart>
      <c:catAx>
        <c:axId val="1003370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i="1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2859148"/>
        <c:crosses val="autoZero"/>
        <c:auto val="1"/>
        <c:lblAlgn val="ctr"/>
        <c:lblOffset val="100"/>
        <c:noMultiLvlLbl val="0"/>
      </c:catAx>
      <c:valAx>
        <c:axId val="32859148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0033704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DB4-5E03-4CA7-9212-78C54668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A3F-0DF5-4595-B3BD-FB011445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1A0-662D-4812-9637-4926E9CF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5C9-917F-4297-9448-3F3407B2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8D26-89C3-4417-BBDF-4B11E145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F139-D880-4FE4-A8D4-E1C4C660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D131-D7FA-4223-9181-E9DB80C8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0EC1-0A3E-41B6-845C-B95E7AA6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58F1-995F-4FED-B444-1C44AADA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D115-2DD3-4304-8E48-865334F2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6E37-1720-4B2B-8221-146AF7AF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708-4CFC-4396-A1B6-8E89C0F3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547A-52D0-4C67-883C-D6070E9E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AAA5-D773-431D-9FA0-8A947C73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4D25-538A-477A-BD8F-F74964F4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95E5-CEBB-491C-971B-00578E25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12A5-5793-4A68-A539-84CA195C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6B3-8239-4207-AC6F-48E7A50E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678-8464-4A62-938C-43E5BB29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A6AC-280C-433D-988C-840C3ABE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DF3A-0D0D-48BC-92C0-BFB5957A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8F4-66D5-46CC-BFDA-9A56B7E6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D23-850C-49D5-B7A3-8AA5A1CD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678-28F0-499B-A1F1-91A63EAF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lide Number Placeholder 5"/>
          <p:cNvSpPr/>
          <p:nvPr/>
        </p:nvSpPr>
        <p:spPr>
          <a:xfrm>
            <a:off x="33012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fld id="{21218113-A927-47DE-9D14-C6952B85C7F9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ＭＳ Ｐゴシック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782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1000">
                <a:srgbClr val="f2f2f2"/>
              </a:gs>
              <a:gs pos="100000">
                <a:srgbClr val="ffffff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3848040"/>
            <a:ext cx="9143640" cy="3007800"/>
          </a:xfrm>
          <a:prstGeom prst="rect">
            <a:avLst/>
          </a:prstGeom>
          <a:solidFill>
            <a:schemeClr val="bg1">
              <a:lumMod val="95000"/>
              <a:alpha val="49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cxnSp>
        <p:nvCxnSpPr>
          <p:cNvPr id="4" name="Straight Connector 11"/>
          <p:cNvCxnSpPr/>
          <p:nvPr/>
        </p:nvCxnSpPr>
        <p:spPr>
          <a:xfrm>
            <a:off x="-127440" y="3848040"/>
            <a:ext cx="9254160" cy="360"/>
          </a:xfrm>
          <a:prstGeom prst="straightConnector1">
            <a:avLst/>
          </a:prstGeom>
          <a:ln>
            <a:solidFill>
              <a:srgbClr val="f2f2f2"/>
            </a:solidFill>
            <a:round/>
          </a:ln>
        </p:spPr>
      </p:cxnSp>
      <p:sp>
        <p:nvSpPr>
          <p:cNvPr id="5" name="Slide Number Placeholder 3"/>
          <p:cNvSpPr/>
          <p:nvPr/>
        </p:nvSpPr>
        <p:spPr>
          <a:xfrm>
            <a:off x="6751800" y="634500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NAME OF PRES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AEF8A3-3EA6-4CD8-AE9F-6052AE77D58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33012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fld id="{0A328CD4-F14B-4675-A140-7265FC042CA4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ＭＳ Ｐゴシック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782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1000">
                <a:srgbClr val="f2f2f2"/>
              </a:gs>
              <a:gs pos="100000">
                <a:srgbClr val="ffffff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3848040"/>
            <a:ext cx="9143640" cy="3007800"/>
          </a:xfrm>
          <a:prstGeom prst="rect">
            <a:avLst/>
          </a:prstGeom>
          <a:solidFill>
            <a:schemeClr val="bg1">
              <a:lumMod val="95000"/>
              <a:alpha val="49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cxnSp>
        <p:nvCxnSpPr>
          <p:cNvPr id="51" name="Straight Connector 11"/>
          <p:cNvCxnSpPr/>
          <p:nvPr/>
        </p:nvCxnSpPr>
        <p:spPr>
          <a:xfrm>
            <a:off x="-127440" y="3848040"/>
            <a:ext cx="9254160" cy="360"/>
          </a:xfrm>
          <a:prstGeom prst="straightConnector1">
            <a:avLst/>
          </a:prstGeom>
          <a:ln>
            <a:solidFill>
              <a:srgbClr val="f2f2f2"/>
            </a:solidFill>
            <a:round/>
          </a:ln>
        </p:spPr>
      </p:cxnSp>
      <p:sp>
        <p:nvSpPr>
          <p:cNvPr id="52" name="Slide Number Placeholder 3"/>
          <p:cNvSpPr/>
          <p:nvPr/>
        </p:nvSpPr>
        <p:spPr>
          <a:xfrm>
            <a:off x="6751800" y="6345000"/>
            <a:ext cx="2133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NAME OF PRES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da-DK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8DEB92-490C-4BE4-80D1-446C39EFB37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ktangel 13"/>
          <p:cNvSpPr/>
          <p:nvPr/>
        </p:nvSpPr>
        <p:spPr>
          <a:xfrm rot="16200000">
            <a:off x="657720" y="6090840"/>
            <a:ext cx="279000" cy="8784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Rektangel 13"/>
          <p:cNvSpPr/>
          <p:nvPr/>
        </p:nvSpPr>
        <p:spPr>
          <a:xfrm rot="16200000">
            <a:off x="37800" y="6349680"/>
            <a:ext cx="279000" cy="36072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3327480" y="559800"/>
            <a:ext cx="24886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RODU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lace this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Connector 12"/>
          <p:cNvCxnSpPr/>
          <p:nvPr/>
        </p:nvCxnSpPr>
        <p:spPr>
          <a:xfrm>
            <a:off x="2963160" y="1073160"/>
            <a:ext cx="3302280" cy="360"/>
          </a:xfrm>
          <a:prstGeom prst="straightConnector1">
            <a:avLst/>
          </a:prstGeom>
          <a:ln w="127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sp>
        <p:nvSpPr>
          <p:cNvPr id="98" name="TextBox 13"/>
          <p:cNvSpPr/>
          <p:nvPr/>
        </p:nvSpPr>
        <p:spPr>
          <a:xfrm>
            <a:off x="7560" y="6392880"/>
            <a:ext cx="374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1"/>
          <p:cNvSpPr/>
          <p:nvPr/>
        </p:nvSpPr>
        <p:spPr>
          <a:xfrm>
            <a:off x="397080" y="6390360"/>
            <a:ext cx="81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"/>
          <p:cNvGrpSpPr/>
          <p:nvPr/>
        </p:nvGrpSpPr>
        <p:grpSpPr>
          <a:xfrm>
            <a:off x="990720" y="1534680"/>
            <a:ext cx="7101720" cy="3907080"/>
            <a:chOff x="990720" y="1534680"/>
            <a:chExt cx="7101720" cy="3907080"/>
          </a:xfrm>
        </p:grpSpPr>
        <p:sp>
          <p:nvSpPr>
            <p:cNvPr id="101" name="Rectangle 8"/>
            <p:cNvSpPr/>
            <p:nvPr/>
          </p:nvSpPr>
          <p:spPr>
            <a:xfrm>
              <a:off x="990720" y="1917000"/>
              <a:ext cx="3928320" cy="131400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02" name="Rectangle 9"/>
            <p:cNvSpPr/>
            <p:nvPr/>
          </p:nvSpPr>
          <p:spPr>
            <a:xfrm>
              <a:off x="990720" y="3096000"/>
              <a:ext cx="3928320" cy="131400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03" name="Rectangle 10"/>
            <p:cNvSpPr/>
            <p:nvPr/>
          </p:nvSpPr>
          <p:spPr>
            <a:xfrm>
              <a:off x="990720" y="4235040"/>
              <a:ext cx="3928320" cy="120672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4860000" y="1917000"/>
              <a:ext cx="3232440" cy="352476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05" name="Group 60"/>
            <p:cNvGrpSpPr/>
            <p:nvPr/>
          </p:nvGrpSpPr>
          <p:grpSpPr>
            <a:xfrm>
              <a:off x="4710240" y="2081520"/>
              <a:ext cx="3358440" cy="3128400"/>
              <a:chOff x="4710240" y="2081520"/>
              <a:chExt cx="3358440" cy="3128400"/>
            </a:xfrm>
          </p:grpSpPr>
          <p:sp>
            <p:nvSpPr>
              <p:cNvPr id="106" name="Rektangel 15"/>
              <p:cNvSpPr/>
              <p:nvPr/>
            </p:nvSpPr>
            <p:spPr>
              <a:xfrm>
                <a:off x="5020920" y="2081520"/>
                <a:ext cx="2899800" cy="3116520"/>
              </a:xfrm>
              <a:prstGeom prst="rect">
                <a:avLst/>
              </a:prstGeom>
              <a:solidFill>
                <a:srgbClr val="d9d9d9"/>
              </a:solidFill>
              <a:ln w="9525">
                <a:solidFill>
                  <a:srgbClr val="bfbfbf"/>
                </a:solidFill>
                <a:miter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nb-NO" sz="1800" spc="-1" strike="noStrike">
                  <a:solidFill>
                    <a:srgbClr val="ffffff"/>
                  </a:solidFill>
                  <a:latin typeface="Calibri"/>
                  <a:ea typeface="ＭＳ Ｐゴシック"/>
                </a:endParaRPr>
              </a:p>
            </p:txBody>
          </p:sp>
          <p:pic>
            <p:nvPicPr>
              <p:cNvPr id="107" name="Billede 25" descr="man1.emf"/>
              <p:cNvPicPr/>
              <p:nvPr/>
            </p:nvPicPr>
            <p:blipFill>
              <a:blip r:embed="rId1"/>
              <a:srcRect l="0" t="0" r="0" b="77082"/>
              <a:stretch/>
            </p:blipFill>
            <p:spPr>
              <a:xfrm>
                <a:off x="4710240" y="2510640"/>
                <a:ext cx="3358440" cy="2699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TextBox 14"/>
            <p:cNvSpPr/>
            <p:nvPr/>
          </p:nvSpPr>
          <p:spPr>
            <a:xfrm>
              <a:off x="1290600" y="340092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2"/>
            <p:cNvSpPr/>
            <p:nvPr/>
          </p:nvSpPr>
          <p:spPr>
            <a:xfrm rot="5400000">
              <a:off x="1163520" y="369252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10" name="TextBox 16"/>
            <p:cNvSpPr/>
            <p:nvPr/>
          </p:nvSpPr>
          <p:spPr>
            <a:xfrm>
              <a:off x="1042920" y="2126520"/>
              <a:ext cx="352872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NAM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COMPANY: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POSITION: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18"/>
            <p:cNvSpPr/>
            <p:nvPr/>
          </p:nvSpPr>
          <p:spPr>
            <a:xfrm>
              <a:off x="1290600" y="363420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 rot="5400000">
              <a:off x="1163520" y="391284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13" name="Freeform 12"/>
            <p:cNvSpPr/>
            <p:nvPr/>
          </p:nvSpPr>
          <p:spPr>
            <a:xfrm rot="5400000">
              <a:off x="3060000" y="369252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14" name="TextBox 28"/>
            <p:cNvSpPr/>
            <p:nvPr/>
          </p:nvSpPr>
          <p:spPr>
            <a:xfrm>
              <a:off x="3187440" y="363420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"/>
            <p:cNvSpPr/>
            <p:nvPr/>
          </p:nvSpPr>
          <p:spPr>
            <a:xfrm rot="5400000">
              <a:off x="3060000" y="391284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16" name="TextBox 32"/>
            <p:cNvSpPr/>
            <p:nvPr/>
          </p:nvSpPr>
          <p:spPr>
            <a:xfrm>
              <a:off x="3183120" y="340632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Straight Connector 34"/>
            <p:cNvCxnSpPr/>
            <p:nvPr/>
          </p:nvCxnSpPr>
          <p:spPr>
            <a:xfrm>
              <a:off x="1739880" y="2355120"/>
              <a:ext cx="292824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sysDot"/>
              <a:round/>
            </a:ln>
          </p:spPr>
        </p:cxnSp>
        <p:cxnSp>
          <p:nvCxnSpPr>
            <p:cNvPr id="118" name="Straight Connector 35"/>
            <p:cNvCxnSpPr/>
            <p:nvPr/>
          </p:nvCxnSpPr>
          <p:spPr>
            <a:xfrm>
              <a:off x="2050920" y="2767680"/>
              <a:ext cx="86184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sysDot"/>
              <a:round/>
            </a:ln>
          </p:spPr>
        </p:cxnSp>
        <p:cxnSp>
          <p:nvCxnSpPr>
            <p:cNvPr id="119" name="Straight Connector 41"/>
            <p:cNvCxnSpPr/>
            <p:nvPr/>
          </p:nvCxnSpPr>
          <p:spPr>
            <a:xfrm>
              <a:off x="3778200" y="2767680"/>
              <a:ext cx="889920" cy="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sysDot"/>
              <a:round/>
            </a:ln>
          </p:spPr>
        </p:cxnSp>
        <p:sp>
          <p:nvSpPr>
            <p:cNvPr id="120" name="TextBox 52"/>
            <p:cNvSpPr/>
            <p:nvPr/>
          </p:nvSpPr>
          <p:spPr>
            <a:xfrm>
              <a:off x="1290600" y="452880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 rot="5400000">
              <a:off x="1163520" y="482040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22" name="TextBox 54"/>
            <p:cNvSpPr/>
            <p:nvPr/>
          </p:nvSpPr>
          <p:spPr>
            <a:xfrm>
              <a:off x="1290600" y="476172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"/>
            <p:cNvSpPr/>
            <p:nvPr/>
          </p:nvSpPr>
          <p:spPr>
            <a:xfrm rot="5400000">
              <a:off x="1163520" y="504072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 rot="5400000">
              <a:off x="3060000" y="482040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25" name="TextBox 57"/>
            <p:cNvSpPr/>
            <p:nvPr/>
          </p:nvSpPr>
          <p:spPr>
            <a:xfrm>
              <a:off x="3187440" y="476172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 rot="5400000">
              <a:off x="3060000" y="504072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27" name="TextBox 59"/>
            <p:cNvSpPr/>
            <p:nvPr/>
          </p:nvSpPr>
          <p:spPr>
            <a:xfrm>
              <a:off x="3183120" y="453420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ound Same Side Corner Rectangle 44"/>
            <p:cNvSpPr/>
            <p:nvPr/>
          </p:nvSpPr>
          <p:spPr>
            <a:xfrm>
              <a:off x="990720" y="1534680"/>
              <a:ext cx="7101720" cy="381240"/>
            </a:xfrm>
            <a:prstGeom prst="round2SameRect">
              <a:avLst>
                <a:gd name="adj1" fmla="val 27778"/>
                <a:gd name="adj2" fmla="val 0"/>
              </a:avLst>
            </a:prstGeom>
            <a:gradFill rotWithShape="0">
              <a:gsLst>
                <a:gs pos="0">
                  <a:srgbClr val="17375e"/>
                </a:gs>
                <a:gs pos="100000">
                  <a:srgbClr val="376092"/>
                </a:gs>
              </a:gsLst>
              <a:lin ang="162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29" name="TextBox 46"/>
            <p:cNvSpPr/>
            <p:nvPr/>
          </p:nvSpPr>
          <p:spPr>
            <a:xfrm>
              <a:off x="4108680" y="1549800"/>
              <a:ext cx="1767600" cy="515880"/>
            </a:xfrm>
            <a:prstGeom prst="rect">
              <a:avLst/>
            </a:prstGeom>
            <a:noFill/>
            <a:ln w="0">
              <a:noFill/>
            </a:ln>
            <a:effectLst>
              <a:outerShdw algn="tl" blurRad="50760" dir="2700000" dist="37674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WELCOME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" name="Straight Connector 65"/>
            <p:cNvCxnSpPr/>
            <p:nvPr/>
          </p:nvCxnSpPr>
          <p:spPr>
            <a:xfrm flipH="1">
              <a:off x="2210400" y="1725480"/>
              <a:ext cx="1879920" cy="360"/>
            </a:xfrm>
            <a:prstGeom prst="straightConnector1">
              <a:avLst/>
            </a:prstGeom>
            <a:ln w="6350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31" name="Straight Connector 66"/>
            <p:cNvCxnSpPr/>
            <p:nvPr/>
          </p:nvCxnSpPr>
          <p:spPr>
            <a:xfrm flipH="1">
              <a:off x="5063760" y="1725480"/>
              <a:ext cx="1879920" cy="360"/>
            </a:xfrm>
            <a:prstGeom prst="straightConnector1">
              <a:avLst/>
            </a:prstGeom>
            <a:ln w="6350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32" name="TextBox 73"/>
            <p:cNvSpPr/>
            <p:nvPr/>
          </p:nvSpPr>
          <p:spPr>
            <a:xfrm>
              <a:off x="1093680" y="3189600"/>
              <a:ext cx="35287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WHO I AM: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74"/>
            <p:cNvSpPr/>
            <p:nvPr/>
          </p:nvSpPr>
          <p:spPr>
            <a:xfrm>
              <a:off x="1093680" y="4366800"/>
              <a:ext cx="3528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WHAT I WHANT WITH THIS PRESENTATION: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0"/>
          <p:cNvGrpSpPr/>
          <p:nvPr/>
        </p:nvGrpSpPr>
        <p:grpSpPr>
          <a:xfrm>
            <a:off x="6278040" y="3680280"/>
            <a:ext cx="1546200" cy="881640"/>
            <a:chOff x="6278040" y="3680280"/>
            <a:chExt cx="1546200" cy="881640"/>
          </a:xfrm>
        </p:grpSpPr>
        <p:sp>
          <p:nvSpPr>
            <p:cNvPr id="135" name="Rounded Rectangular Callout 3"/>
            <p:cNvSpPr/>
            <p:nvPr/>
          </p:nvSpPr>
          <p:spPr>
            <a:xfrm>
              <a:off x="6278040" y="3680280"/>
              <a:ext cx="1546200" cy="881640"/>
            </a:xfrm>
            <a:prstGeom prst="wedgeRoundRectCallout">
              <a:avLst>
                <a:gd name="adj1" fmla="val 31721"/>
                <a:gd name="adj2" fmla="val 66340"/>
                <a:gd name="adj3" fmla="val 16667"/>
              </a:avLst>
            </a:prstGeom>
            <a:gradFill rotWithShape="0">
              <a:gsLst>
                <a:gs pos="0">
                  <a:srgbClr val="ca0f1c"/>
                </a:gs>
                <a:gs pos="100000">
                  <a:srgbClr val="ff0000"/>
                </a:gs>
              </a:gsLst>
              <a:lin ang="162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5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36" name="TextBox 6"/>
            <p:cNvSpPr/>
            <p:nvPr/>
          </p:nvSpPr>
          <p:spPr>
            <a:xfrm>
              <a:off x="6302880" y="3812760"/>
              <a:ext cx="1485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f2f2f2"/>
                  </a:solidFill>
                  <a:latin typeface="Calibri"/>
                  <a:ea typeface="ＭＳ Ｐゴシック"/>
                </a:rPr>
                <a:t>Put in your own picture and rearrange the text so it fits your purpose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3"/>
          <p:cNvGrpSpPr/>
          <p:nvPr/>
        </p:nvGrpSpPr>
        <p:grpSpPr>
          <a:xfrm>
            <a:off x="7547760" y="3766320"/>
            <a:ext cx="823320" cy="2049840"/>
            <a:chOff x="7547760" y="3766320"/>
            <a:chExt cx="823320" cy="2049840"/>
          </a:xfrm>
        </p:grpSpPr>
        <p:grpSp>
          <p:nvGrpSpPr>
            <p:cNvPr id="138" name="Group 10"/>
            <p:cNvGrpSpPr/>
            <p:nvPr/>
          </p:nvGrpSpPr>
          <p:grpSpPr>
            <a:xfrm>
              <a:off x="7547760" y="4600080"/>
              <a:ext cx="662040" cy="1216080"/>
              <a:chOff x="7547760" y="4600080"/>
              <a:chExt cx="662040" cy="1216080"/>
            </a:xfrm>
          </p:grpSpPr>
          <p:sp>
            <p:nvSpPr>
              <p:cNvPr id="139" name="Ellipse 68"/>
              <p:cNvSpPr/>
              <p:nvPr/>
            </p:nvSpPr>
            <p:spPr>
              <a:xfrm rot="714000">
                <a:off x="7628760" y="5609160"/>
                <a:ext cx="501480" cy="15660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4901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  <a:ea typeface="ＭＳ Ｐゴシック"/>
                </a:endParaRPr>
              </a:p>
            </p:txBody>
          </p:sp>
          <p:pic>
            <p:nvPicPr>
              <p:cNvPr id="140" name="Picture 51" descr="5.png"/>
              <p:cNvPicPr/>
              <p:nvPr/>
            </p:nvPicPr>
            <p:blipFill>
              <a:blip r:embed="rId2"/>
              <a:stretch/>
            </p:blipFill>
            <p:spPr>
              <a:xfrm>
                <a:off x="7547760" y="4600080"/>
                <a:ext cx="662040" cy="1216080"/>
              </a:xfrm>
              <a:prstGeom prst="rect">
                <a:avLst/>
              </a:prstGeom>
              <a:ln w="0">
                <a:noFill/>
              </a:ln>
              <a:effectLst>
                <a:outerShdw blurRad="50760" dir="2700000" dist="37674" rotWithShape="0">
                  <a:srgbClr val="000000">
                    <a:alpha val="43000"/>
                  </a:srgbClr>
                </a:outerShdw>
              </a:effectLst>
            </p:spPr>
          </p:pic>
        </p:grpSp>
        <p:pic>
          <p:nvPicPr>
            <p:cNvPr id="141" name="Picture 11" descr="red.png"/>
            <p:cNvPicPr/>
            <p:nvPr/>
          </p:nvPicPr>
          <p:blipFill>
            <a:blip r:embed="rId3"/>
            <a:stretch/>
          </p:blipFill>
          <p:spPr>
            <a:xfrm>
              <a:off x="7583760" y="3766320"/>
              <a:ext cx="787320" cy="1279080"/>
            </a:xfrm>
            <a:prstGeom prst="rect">
              <a:avLst/>
            </a:prstGeom>
            <a:ln w="0">
              <a:noFill/>
            </a:ln>
            <a:effectLst>
              <a:outerShdw blurRad="50760" dir="2700000" dist="37674" rotWithShape="0">
                <a:srgbClr val="000000">
                  <a:alpha val="43000"/>
                </a:srgbClr>
              </a:outerShdw>
            </a:effectLst>
          </p:spPr>
        </p:pic>
      </p:grpSp>
      <p:sp>
        <p:nvSpPr>
          <p:cNvPr id="142" name="TextBox 17"/>
          <p:cNvSpPr/>
          <p:nvPr/>
        </p:nvSpPr>
        <p:spPr>
          <a:xfrm>
            <a:off x="1739880" y="59652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43" name="矩形 21"/>
          <p:cNvSpPr/>
          <p:nvPr/>
        </p:nvSpPr>
        <p:spPr>
          <a:xfrm>
            <a:off x="2536920" y="11160"/>
            <a:ext cx="4170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3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套经典商务图表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Box 3"/>
          <p:cNvSpPr/>
          <p:nvPr/>
        </p:nvSpPr>
        <p:spPr>
          <a:xfrm>
            <a:off x="3327480" y="559800"/>
            <a:ext cx="24886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lace this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Straight Connector 4"/>
          <p:cNvCxnSpPr/>
          <p:nvPr/>
        </p:nvCxnSpPr>
        <p:spPr>
          <a:xfrm>
            <a:off x="2963160" y="1073160"/>
            <a:ext cx="3302280" cy="360"/>
          </a:xfrm>
          <a:prstGeom prst="straightConnector1">
            <a:avLst/>
          </a:prstGeom>
          <a:ln w="127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sp>
        <p:nvSpPr>
          <p:cNvPr id="499" name="Rektangel 13"/>
          <p:cNvSpPr/>
          <p:nvPr/>
        </p:nvSpPr>
        <p:spPr>
          <a:xfrm rot="16200000">
            <a:off x="657720" y="6090840"/>
            <a:ext cx="279000" cy="8784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0" name="Rektangel 13"/>
          <p:cNvSpPr/>
          <p:nvPr/>
        </p:nvSpPr>
        <p:spPr>
          <a:xfrm rot="16200000">
            <a:off x="37800" y="6349680"/>
            <a:ext cx="279000" cy="36072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1" name="TextBox 84"/>
          <p:cNvSpPr/>
          <p:nvPr/>
        </p:nvSpPr>
        <p:spPr>
          <a:xfrm>
            <a:off x="7560" y="6392880"/>
            <a:ext cx="374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85"/>
          <p:cNvSpPr/>
          <p:nvPr/>
        </p:nvSpPr>
        <p:spPr>
          <a:xfrm>
            <a:off x="397080" y="6390360"/>
            <a:ext cx="81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urved Down Arrow 145"/>
          <p:cNvSpPr/>
          <p:nvPr/>
        </p:nvSpPr>
        <p:spPr>
          <a:xfrm rot="20521200">
            <a:off x="2493720" y="1895760"/>
            <a:ext cx="4502880" cy="1524240"/>
          </a:xfrm>
          <a:prstGeom prst="curvedDownArrow">
            <a:avLst>
              <a:gd name="adj1" fmla="val 13061"/>
              <a:gd name="adj2" fmla="val 31460"/>
              <a:gd name="adj3" fmla="val 26563"/>
            </a:avLst>
          </a:prstGeom>
          <a:solidFill>
            <a:schemeClr val="bg1">
              <a:lumMod val="75000"/>
            </a:schemeClr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grpSp>
        <p:nvGrpSpPr>
          <p:cNvPr id="504" name="Group 2"/>
          <p:cNvGrpSpPr/>
          <p:nvPr/>
        </p:nvGrpSpPr>
        <p:grpSpPr>
          <a:xfrm>
            <a:off x="319680" y="1581840"/>
            <a:ext cx="8602560" cy="4310640"/>
            <a:chOff x="319680" y="1581840"/>
            <a:chExt cx="8602560" cy="4310640"/>
          </a:xfrm>
        </p:grpSpPr>
        <p:grpSp>
          <p:nvGrpSpPr>
            <p:cNvPr id="505" name="Group 284"/>
            <p:cNvGrpSpPr/>
            <p:nvPr/>
          </p:nvGrpSpPr>
          <p:grpSpPr>
            <a:xfrm>
              <a:off x="319680" y="1612440"/>
              <a:ext cx="8317080" cy="4280040"/>
              <a:chOff x="319680" y="1612440"/>
              <a:chExt cx="8317080" cy="4280040"/>
            </a:xfrm>
          </p:grpSpPr>
          <p:sp>
            <p:nvSpPr>
              <p:cNvPr id="506" name="Freeform 285"/>
              <p:cNvSpPr/>
              <p:nvPr/>
            </p:nvSpPr>
            <p:spPr>
              <a:xfrm rot="21336000">
                <a:off x="8576280" y="4201920"/>
                <a:ext cx="53640" cy="522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7" h="36">
                    <a:moveTo>
                      <a:pt x="0" y="36"/>
                    </a:moveTo>
                    <a:lnTo>
                      <a:pt x="3" y="21"/>
                    </a:lnTo>
                    <a:lnTo>
                      <a:pt x="12" y="12"/>
                    </a:lnTo>
                    <a:lnTo>
                      <a:pt x="22" y="3"/>
                    </a:lnTo>
                    <a:lnTo>
                      <a:pt x="37" y="0"/>
                    </a:lnTo>
                    <a:lnTo>
                      <a:pt x="34" y="18"/>
                    </a:lnTo>
                    <a:lnTo>
                      <a:pt x="28" y="30"/>
                    </a:lnTo>
                    <a:lnTo>
                      <a:pt x="15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07" name="Freeform 286"/>
              <p:cNvSpPr/>
              <p:nvPr/>
            </p:nvSpPr>
            <p:spPr>
              <a:xfrm rot="21336000">
                <a:off x="8526240" y="4716720"/>
                <a:ext cx="103320" cy="1926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71" h="132">
                    <a:moveTo>
                      <a:pt x="25" y="132"/>
                    </a:moveTo>
                    <a:lnTo>
                      <a:pt x="25" y="113"/>
                    </a:lnTo>
                    <a:lnTo>
                      <a:pt x="22" y="101"/>
                    </a:lnTo>
                    <a:lnTo>
                      <a:pt x="19" y="98"/>
                    </a:lnTo>
                    <a:lnTo>
                      <a:pt x="13" y="95"/>
                    </a:lnTo>
                    <a:lnTo>
                      <a:pt x="0" y="92"/>
                    </a:lnTo>
                    <a:lnTo>
                      <a:pt x="7" y="80"/>
                    </a:lnTo>
                    <a:lnTo>
                      <a:pt x="10" y="70"/>
                    </a:lnTo>
                    <a:lnTo>
                      <a:pt x="10" y="61"/>
                    </a:lnTo>
                    <a:lnTo>
                      <a:pt x="10" y="52"/>
                    </a:lnTo>
                    <a:lnTo>
                      <a:pt x="4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9" y="15"/>
                    </a:lnTo>
                    <a:lnTo>
                      <a:pt x="28" y="37"/>
                    </a:lnTo>
                    <a:lnTo>
                      <a:pt x="34" y="46"/>
                    </a:lnTo>
                    <a:lnTo>
                      <a:pt x="44" y="52"/>
                    </a:lnTo>
                    <a:lnTo>
                      <a:pt x="56" y="58"/>
                    </a:lnTo>
                    <a:lnTo>
                      <a:pt x="71" y="55"/>
                    </a:lnTo>
                    <a:lnTo>
                      <a:pt x="65" y="83"/>
                    </a:lnTo>
                    <a:lnTo>
                      <a:pt x="56" y="104"/>
                    </a:lnTo>
                    <a:lnTo>
                      <a:pt x="44" y="120"/>
                    </a:lnTo>
                    <a:lnTo>
                      <a:pt x="25" y="132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08" name="Freeform 287"/>
              <p:cNvSpPr/>
              <p:nvPr/>
            </p:nvSpPr>
            <p:spPr>
              <a:xfrm rot="21336000">
                <a:off x="8376840" y="4885920"/>
                <a:ext cx="183600" cy="161640"/>
              </a:xfrm>
              <a:custGeom>
                <a:avLst/>
                <a:gdLst>
                  <a:gd name="textAreaLeft" fmla="*/ 0 w 183600"/>
                  <a:gd name="textAreaRight" fmla="*/ 183960 w 18360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126" h="111">
                    <a:moveTo>
                      <a:pt x="86" y="0"/>
                    </a:moveTo>
                    <a:lnTo>
                      <a:pt x="98" y="0"/>
                    </a:lnTo>
                    <a:lnTo>
                      <a:pt x="110" y="3"/>
                    </a:lnTo>
                    <a:lnTo>
                      <a:pt x="120" y="7"/>
                    </a:lnTo>
                    <a:lnTo>
                      <a:pt x="126" y="13"/>
                    </a:lnTo>
                    <a:lnTo>
                      <a:pt x="120" y="31"/>
                    </a:lnTo>
                    <a:lnTo>
                      <a:pt x="107" y="53"/>
                    </a:lnTo>
                    <a:lnTo>
                      <a:pt x="92" y="74"/>
                    </a:lnTo>
                    <a:lnTo>
                      <a:pt x="77" y="93"/>
                    </a:lnTo>
                    <a:lnTo>
                      <a:pt x="58" y="105"/>
                    </a:lnTo>
                    <a:lnTo>
                      <a:pt x="49" y="111"/>
                    </a:lnTo>
                    <a:lnTo>
                      <a:pt x="40" y="111"/>
                    </a:lnTo>
                    <a:lnTo>
                      <a:pt x="31" y="111"/>
                    </a:lnTo>
                    <a:lnTo>
                      <a:pt x="18" y="108"/>
                    </a:lnTo>
                    <a:lnTo>
                      <a:pt x="9" y="105"/>
                    </a:lnTo>
                    <a:lnTo>
                      <a:pt x="0" y="96"/>
                    </a:lnTo>
                    <a:lnTo>
                      <a:pt x="9" y="80"/>
                    </a:lnTo>
                    <a:lnTo>
                      <a:pt x="18" y="68"/>
                    </a:lnTo>
                    <a:lnTo>
                      <a:pt x="31" y="59"/>
                    </a:lnTo>
                    <a:lnTo>
                      <a:pt x="43" y="50"/>
                    </a:lnTo>
                    <a:lnTo>
                      <a:pt x="58" y="40"/>
                    </a:lnTo>
                    <a:lnTo>
                      <a:pt x="70" y="31"/>
                    </a:lnTo>
                    <a:lnTo>
                      <a:pt x="80" y="19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09" name="Freeform 288"/>
              <p:cNvSpPr/>
              <p:nvPr/>
            </p:nvSpPr>
            <p:spPr>
              <a:xfrm rot="21336000">
                <a:off x="8272440" y="4345920"/>
                <a:ext cx="71280" cy="5796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49" h="40">
                    <a:moveTo>
                      <a:pt x="0" y="12"/>
                    </a:moveTo>
                    <a:lnTo>
                      <a:pt x="6" y="3"/>
                    </a:lnTo>
                    <a:lnTo>
                      <a:pt x="15" y="0"/>
                    </a:lnTo>
                    <a:lnTo>
                      <a:pt x="24" y="3"/>
                    </a:lnTo>
                    <a:lnTo>
                      <a:pt x="31" y="6"/>
                    </a:lnTo>
                    <a:lnTo>
                      <a:pt x="40" y="12"/>
                    </a:lnTo>
                    <a:lnTo>
                      <a:pt x="46" y="18"/>
                    </a:lnTo>
                    <a:lnTo>
                      <a:pt x="49" y="27"/>
                    </a:lnTo>
                    <a:lnTo>
                      <a:pt x="49" y="40"/>
                    </a:lnTo>
                    <a:lnTo>
                      <a:pt x="37" y="40"/>
                    </a:lnTo>
                    <a:lnTo>
                      <a:pt x="31" y="40"/>
                    </a:lnTo>
                    <a:lnTo>
                      <a:pt x="24" y="36"/>
                    </a:lnTo>
                    <a:lnTo>
                      <a:pt x="21" y="30"/>
                    </a:lnTo>
                    <a:lnTo>
                      <a:pt x="12" y="18"/>
                    </a:lnTo>
                    <a:lnTo>
                      <a:pt x="6" y="1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10" name="Freeform 289"/>
              <p:cNvSpPr/>
              <p:nvPr/>
            </p:nvSpPr>
            <p:spPr>
              <a:xfrm rot="21336000">
                <a:off x="7109280" y="4128480"/>
                <a:ext cx="921240" cy="798480"/>
              </a:xfrm>
              <a:custGeom>
                <a:avLst/>
                <a:gdLst>
                  <a:gd name="textAreaLeft" fmla="*/ 0 w 921240"/>
                  <a:gd name="textAreaRight" fmla="*/ 921600 w 92124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631" h="547">
                    <a:moveTo>
                      <a:pt x="329" y="464"/>
                    </a:moveTo>
                    <a:lnTo>
                      <a:pt x="332" y="446"/>
                    </a:lnTo>
                    <a:lnTo>
                      <a:pt x="332" y="433"/>
                    </a:lnTo>
                    <a:lnTo>
                      <a:pt x="326" y="421"/>
                    </a:lnTo>
                    <a:lnTo>
                      <a:pt x="317" y="412"/>
                    </a:lnTo>
                    <a:lnTo>
                      <a:pt x="305" y="403"/>
                    </a:lnTo>
                    <a:lnTo>
                      <a:pt x="292" y="396"/>
                    </a:lnTo>
                    <a:lnTo>
                      <a:pt x="280" y="393"/>
                    </a:lnTo>
                    <a:lnTo>
                      <a:pt x="265" y="393"/>
                    </a:lnTo>
                    <a:lnTo>
                      <a:pt x="249" y="393"/>
                    </a:lnTo>
                    <a:lnTo>
                      <a:pt x="231" y="396"/>
                    </a:lnTo>
                    <a:lnTo>
                      <a:pt x="216" y="403"/>
                    </a:lnTo>
                    <a:lnTo>
                      <a:pt x="203" y="409"/>
                    </a:lnTo>
                    <a:lnTo>
                      <a:pt x="191" y="418"/>
                    </a:lnTo>
                    <a:lnTo>
                      <a:pt x="179" y="427"/>
                    </a:lnTo>
                    <a:lnTo>
                      <a:pt x="169" y="439"/>
                    </a:lnTo>
                    <a:lnTo>
                      <a:pt x="166" y="455"/>
                    </a:lnTo>
                    <a:lnTo>
                      <a:pt x="142" y="452"/>
                    </a:lnTo>
                    <a:lnTo>
                      <a:pt x="120" y="458"/>
                    </a:lnTo>
                    <a:lnTo>
                      <a:pt x="83" y="470"/>
                    </a:lnTo>
                    <a:lnTo>
                      <a:pt x="68" y="476"/>
                    </a:lnTo>
                    <a:lnTo>
                      <a:pt x="53" y="476"/>
                    </a:lnTo>
                    <a:lnTo>
                      <a:pt x="43" y="473"/>
                    </a:lnTo>
                    <a:lnTo>
                      <a:pt x="37" y="470"/>
                    </a:lnTo>
                    <a:lnTo>
                      <a:pt x="22" y="455"/>
                    </a:lnTo>
                    <a:lnTo>
                      <a:pt x="22" y="443"/>
                    </a:lnTo>
                    <a:lnTo>
                      <a:pt x="25" y="436"/>
                    </a:lnTo>
                    <a:lnTo>
                      <a:pt x="34" y="427"/>
                    </a:lnTo>
                    <a:lnTo>
                      <a:pt x="40" y="418"/>
                    </a:lnTo>
                    <a:lnTo>
                      <a:pt x="46" y="415"/>
                    </a:lnTo>
                    <a:lnTo>
                      <a:pt x="46" y="406"/>
                    </a:lnTo>
                    <a:lnTo>
                      <a:pt x="37" y="387"/>
                    </a:lnTo>
                    <a:lnTo>
                      <a:pt x="28" y="369"/>
                    </a:lnTo>
                    <a:lnTo>
                      <a:pt x="19" y="347"/>
                    </a:lnTo>
                    <a:lnTo>
                      <a:pt x="13" y="326"/>
                    </a:lnTo>
                    <a:lnTo>
                      <a:pt x="3" y="274"/>
                    </a:lnTo>
                    <a:lnTo>
                      <a:pt x="0" y="218"/>
                    </a:lnTo>
                    <a:lnTo>
                      <a:pt x="25" y="200"/>
                    </a:lnTo>
                    <a:lnTo>
                      <a:pt x="53" y="185"/>
                    </a:lnTo>
                    <a:lnTo>
                      <a:pt x="83" y="175"/>
                    </a:lnTo>
                    <a:lnTo>
                      <a:pt x="99" y="172"/>
                    </a:lnTo>
                    <a:lnTo>
                      <a:pt x="117" y="169"/>
                    </a:lnTo>
                    <a:lnTo>
                      <a:pt x="123" y="151"/>
                    </a:lnTo>
                    <a:lnTo>
                      <a:pt x="133" y="138"/>
                    </a:lnTo>
                    <a:lnTo>
                      <a:pt x="145" y="123"/>
                    </a:lnTo>
                    <a:lnTo>
                      <a:pt x="157" y="114"/>
                    </a:lnTo>
                    <a:lnTo>
                      <a:pt x="169" y="102"/>
                    </a:lnTo>
                    <a:lnTo>
                      <a:pt x="182" y="89"/>
                    </a:lnTo>
                    <a:lnTo>
                      <a:pt x="191" y="74"/>
                    </a:lnTo>
                    <a:lnTo>
                      <a:pt x="197" y="59"/>
                    </a:lnTo>
                    <a:lnTo>
                      <a:pt x="206" y="55"/>
                    </a:lnTo>
                    <a:lnTo>
                      <a:pt x="212" y="55"/>
                    </a:lnTo>
                    <a:lnTo>
                      <a:pt x="225" y="62"/>
                    </a:lnTo>
                    <a:lnTo>
                      <a:pt x="234" y="68"/>
                    </a:lnTo>
                    <a:lnTo>
                      <a:pt x="243" y="77"/>
                    </a:lnTo>
                    <a:lnTo>
                      <a:pt x="262" y="52"/>
                    </a:lnTo>
                    <a:lnTo>
                      <a:pt x="268" y="40"/>
                    </a:lnTo>
                    <a:lnTo>
                      <a:pt x="268" y="19"/>
                    </a:lnTo>
                    <a:lnTo>
                      <a:pt x="271" y="19"/>
                    </a:lnTo>
                    <a:lnTo>
                      <a:pt x="277" y="19"/>
                    </a:lnTo>
                    <a:lnTo>
                      <a:pt x="283" y="25"/>
                    </a:lnTo>
                    <a:lnTo>
                      <a:pt x="292" y="37"/>
                    </a:lnTo>
                    <a:lnTo>
                      <a:pt x="296" y="34"/>
                    </a:lnTo>
                    <a:lnTo>
                      <a:pt x="299" y="25"/>
                    </a:lnTo>
                    <a:lnTo>
                      <a:pt x="299" y="16"/>
                    </a:lnTo>
                    <a:lnTo>
                      <a:pt x="299" y="9"/>
                    </a:lnTo>
                    <a:lnTo>
                      <a:pt x="305" y="12"/>
                    </a:lnTo>
                    <a:lnTo>
                      <a:pt x="314" y="16"/>
                    </a:lnTo>
                    <a:lnTo>
                      <a:pt x="329" y="25"/>
                    </a:lnTo>
                    <a:lnTo>
                      <a:pt x="339" y="28"/>
                    </a:lnTo>
                    <a:lnTo>
                      <a:pt x="348" y="31"/>
                    </a:lnTo>
                    <a:lnTo>
                      <a:pt x="363" y="31"/>
                    </a:lnTo>
                    <a:lnTo>
                      <a:pt x="379" y="28"/>
                    </a:lnTo>
                    <a:lnTo>
                      <a:pt x="372" y="40"/>
                    </a:lnTo>
                    <a:lnTo>
                      <a:pt x="369" y="52"/>
                    </a:lnTo>
                    <a:lnTo>
                      <a:pt x="366" y="65"/>
                    </a:lnTo>
                    <a:lnTo>
                      <a:pt x="363" y="77"/>
                    </a:lnTo>
                    <a:lnTo>
                      <a:pt x="366" y="86"/>
                    </a:lnTo>
                    <a:lnTo>
                      <a:pt x="375" y="95"/>
                    </a:lnTo>
                    <a:lnTo>
                      <a:pt x="394" y="105"/>
                    </a:lnTo>
                    <a:lnTo>
                      <a:pt x="412" y="114"/>
                    </a:lnTo>
                    <a:lnTo>
                      <a:pt x="422" y="123"/>
                    </a:lnTo>
                    <a:lnTo>
                      <a:pt x="425" y="132"/>
                    </a:lnTo>
                    <a:lnTo>
                      <a:pt x="437" y="123"/>
                    </a:lnTo>
                    <a:lnTo>
                      <a:pt x="443" y="108"/>
                    </a:lnTo>
                    <a:lnTo>
                      <a:pt x="446" y="92"/>
                    </a:lnTo>
                    <a:lnTo>
                      <a:pt x="446" y="74"/>
                    </a:lnTo>
                    <a:lnTo>
                      <a:pt x="446" y="37"/>
                    </a:lnTo>
                    <a:lnTo>
                      <a:pt x="446" y="19"/>
                    </a:lnTo>
                    <a:lnTo>
                      <a:pt x="449" y="0"/>
                    </a:lnTo>
                    <a:lnTo>
                      <a:pt x="474" y="31"/>
                    </a:lnTo>
                    <a:lnTo>
                      <a:pt x="495" y="68"/>
                    </a:lnTo>
                    <a:lnTo>
                      <a:pt x="514" y="105"/>
                    </a:lnTo>
                    <a:lnTo>
                      <a:pt x="523" y="129"/>
                    </a:lnTo>
                    <a:lnTo>
                      <a:pt x="529" y="151"/>
                    </a:lnTo>
                    <a:lnTo>
                      <a:pt x="532" y="160"/>
                    </a:lnTo>
                    <a:lnTo>
                      <a:pt x="535" y="166"/>
                    </a:lnTo>
                    <a:lnTo>
                      <a:pt x="548" y="175"/>
                    </a:lnTo>
                    <a:lnTo>
                      <a:pt x="563" y="181"/>
                    </a:lnTo>
                    <a:lnTo>
                      <a:pt x="575" y="191"/>
                    </a:lnTo>
                    <a:lnTo>
                      <a:pt x="594" y="231"/>
                    </a:lnTo>
                    <a:lnTo>
                      <a:pt x="615" y="274"/>
                    </a:lnTo>
                    <a:lnTo>
                      <a:pt x="621" y="295"/>
                    </a:lnTo>
                    <a:lnTo>
                      <a:pt x="628" y="317"/>
                    </a:lnTo>
                    <a:lnTo>
                      <a:pt x="631" y="341"/>
                    </a:lnTo>
                    <a:lnTo>
                      <a:pt x="631" y="369"/>
                    </a:lnTo>
                    <a:lnTo>
                      <a:pt x="628" y="390"/>
                    </a:lnTo>
                    <a:lnTo>
                      <a:pt x="621" y="409"/>
                    </a:lnTo>
                    <a:lnTo>
                      <a:pt x="606" y="446"/>
                    </a:lnTo>
                    <a:lnTo>
                      <a:pt x="588" y="482"/>
                    </a:lnTo>
                    <a:lnTo>
                      <a:pt x="581" y="501"/>
                    </a:lnTo>
                    <a:lnTo>
                      <a:pt x="575" y="519"/>
                    </a:lnTo>
                    <a:lnTo>
                      <a:pt x="560" y="525"/>
                    </a:lnTo>
                    <a:lnTo>
                      <a:pt x="545" y="529"/>
                    </a:lnTo>
                    <a:lnTo>
                      <a:pt x="517" y="535"/>
                    </a:lnTo>
                    <a:lnTo>
                      <a:pt x="492" y="538"/>
                    </a:lnTo>
                    <a:lnTo>
                      <a:pt x="477" y="541"/>
                    </a:lnTo>
                    <a:lnTo>
                      <a:pt x="465" y="547"/>
                    </a:lnTo>
                    <a:lnTo>
                      <a:pt x="458" y="535"/>
                    </a:lnTo>
                    <a:lnTo>
                      <a:pt x="452" y="525"/>
                    </a:lnTo>
                    <a:lnTo>
                      <a:pt x="440" y="519"/>
                    </a:lnTo>
                    <a:lnTo>
                      <a:pt x="425" y="519"/>
                    </a:lnTo>
                    <a:lnTo>
                      <a:pt x="425" y="498"/>
                    </a:lnTo>
                    <a:lnTo>
                      <a:pt x="422" y="482"/>
                    </a:lnTo>
                    <a:lnTo>
                      <a:pt x="415" y="473"/>
                    </a:lnTo>
                    <a:lnTo>
                      <a:pt x="406" y="467"/>
                    </a:lnTo>
                    <a:lnTo>
                      <a:pt x="397" y="464"/>
                    </a:lnTo>
                    <a:lnTo>
                      <a:pt x="391" y="458"/>
                    </a:lnTo>
                    <a:lnTo>
                      <a:pt x="388" y="449"/>
                    </a:lnTo>
                    <a:lnTo>
                      <a:pt x="385" y="433"/>
                    </a:lnTo>
                    <a:lnTo>
                      <a:pt x="382" y="430"/>
                    </a:lnTo>
                    <a:lnTo>
                      <a:pt x="375" y="430"/>
                    </a:lnTo>
                    <a:lnTo>
                      <a:pt x="366" y="446"/>
                    </a:lnTo>
                    <a:lnTo>
                      <a:pt x="360" y="455"/>
                    </a:lnTo>
                    <a:lnTo>
                      <a:pt x="351" y="461"/>
                    </a:lnTo>
                    <a:lnTo>
                      <a:pt x="342" y="464"/>
                    </a:lnTo>
                    <a:lnTo>
                      <a:pt x="329" y="464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11" name="Freeform 290"/>
              <p:cNvSpPr/>
              <p:nvPr/>
            </p:nvSpPr>
            <p:spPr>
              <a:xfrm rot="21336000">
                <a:off x="7867440" y="4928760"/>
                <a:ext cx="94680" cy="856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65" h="59">
                    <a:moveTo>
                      <a:pt x="10" y="59"/>
                    </a:moveTo>
                    <a:lnTo>
                      <a:pt x="10" y="43"/>
                    </a:lnTo>
                    <a:lnTo>
                      <a:pt x="7" y="34"/>
                    </a:lnTo>
                    <a:lnTo>
                      <a:pt x="3" y="25"/>
                    </a:lnTo>
                    <a:lnTo>
                      <a:pt x="0" y="13"/>
                    </a:lnTo>
                    <a:lnTo>
                      <a:pt x="13" y="13"/>
                    </a:lnTo>
                    <a:lnTo>
                      <a:pt x="19" y="13"/>
                    </a:lnTo>
                    <a:lnTo>
                      <a:pt x="34" y="10"/>
                    </a:lnTo>
                    <a:lnTo>
                      <a:pt x="50" y="3"/>
                    </a:lnTo>
                    <a:lnTo>
                      <a:pt x="65" y="0"/>
                    </a:lnTo>
                    <a:lnTo>
                      <a:pt x="59" y="25"/>
                    </a:lnTo>
                    <a:lnTo>
                      <a:pt x="56" y="37"/>
                    </a:lnTo>
                    <a:lnTo>
                      <a:pt x="50" y="46"/>
                    </a:lnTo>
                    <a:lnTo>
                      <a:pt x="43" y="53"/>
                    </a:lnTo>
                    <a:lnTo>
                      <a:pt x="34" y="56"/>
                    </a:lnTo>
                    <a:lnTo>
                      <a:pt x="22" y="59"/>
                    </a:lnTo>
                    <a:lnTo>
                      <a:pt x="10" y="59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12" name="Freeform 291"/>
              <p:cNvSpPr/>
              <p:nvPr/>
            </p:nvSpPr>
            <p:spPr>
              <a:xfrm rot="21336000">
                <a:off x="7343280" y="2600640"/>
                <a:ext cx="390960" cy="367560"/>
              </a:xfrm>
              <a:custGeom>
                <a:avLst/>
                <a:gdLst>
                  <a:gd name="textAreaLeft" fmla="*/ 0 w 390960"/>
                  <a:gd name="textAreaRight" fmla="*/ 391320 w 390960"/>
                  <a:gd name="textAreaTop" fmla="*/ 0 h 367560"/>
                  <a:gd name="textAreaBottom" fmla="*/ 367920 h 367560"/>
                </a:gdLst>
                <a:ahLst/>
                <a:rect l="textAreaLeft" t="textAreaTop" r="textAreaRight" b="textAreaBottom"/>
                <a:pathLst>
                  <a:path w="268" h="252">
                    <a:moveTo>
                      <a:pt x="157" y="43"/>
                    </a:moveTo>
                    <a:lnTo>
                      <a:pt x="166" y="31"/>
                    </a:lnTo>
                    <a:lnTo>
                      <a:pt x="179" y="18"/>
                    </a:lnTo>
                    <a:lnTo>
                      <a:pt x="194" y="9"/>
                    </a:lnTo>
                    <a:lnTo>
                      <a:pt x="213" y="3"/>
                    </a:lnTo>
                    <a:lnTo>
                      <a:pt x="228" y="0"/>
                    </a:lnTo>
                    <a:lnTo>
                      <a:pt x="243" y="6"/>
                    </a:lnTo>
                    <a:lnTo>
                      <a:pt x="259" y="18"/>
                    </a:lnTo>
                    <a:lnTo>
                      <a:pt x="268" y="34"/>
                    </a:lnTo>
                    <a:lnTo>
                      <a:pt x="250" y="43"/>
                    </a:lnTo>
                    <a:lnTo>
                      <a:pt x="231" y="49"/>
                    </a:lnTo>
                    <a:lnTo>
                      <a:pt x="210" y="52"/>
                    </a:lnTo>
                    <a:lnTo>
                      <a:pt x="188" y="55"/>
                    </a:lnTo>
                    <a:lnTo>
                      <a:pt x="197" y="70"/>
                    </a:lnTo>
                    <a:lnTo>
                      <a:pt x="200" y="83"/>
                    </a:lnTo>
                    <a:lnTo>
                      <a:pt x="200" y="95"/>
                    </a:lnTo>
                    <a:lnTo>
                      <a:pt x="197" y="107"/>
                    </a:lnTo>
                    <a:lnTo>
                      <a:pt x="194" y="132"/>
                    </a:lnTo>
                    <a:lnTo>
                      <a:pt x="191" y="147"/>
                    </a:lnTo>
                    <a:lnTo>
                      <a:pt x="188" y="166"/>
                    </a:lnTo>
                    <a:lnTo>
                      <a:pt x="170" y="181"/>
                    </a:lnTo>
                    <a:lnTo>
                      <a:pt x="148" y="190"/>
                    </a:lnTo>
                    <a:lnTo>
                      <a:pt x="105" y="212"/>
                    </a:lnTo>
                    <a:lnTo>
                      <a:pt x="65" y="230"/>
                    </a:lnTo>
                    <a:lnTo>
                      <a:pt x="47" y="239"/>
                    </a:lnTo>
                    <a:lnTo>
                      <a:pt x="31" y="252"/>
                    </a:lnTo>
                    <a:lnTo>
                      <a:pt x="22" y="252"/>
                    </a:lnTo>
                    <a:lnTo>
                      <a:pt x="16" y="249"/>
                    </a:lnTo>
                    <a:lnTo>
                      <a:pt x="13" y="242"/>
                    </a:lnTo>
                    <a:lnTo>
                      <a:pt x="10" y="236"/>
                    </a:lnTo>
                    <a:lnTo>
                      <a:pt x="4" y="221"/>
                    </a:lnTo>
                    <a:lnTo>
                      <a:pt x="0" y="206"/>
                    </a:lnTo>
                    <a:lnTo>
                      <a:pt x="10" y="196"/>
                    </a:lnTo>
                    <a:lnTo>
                      <a:pt x="25" y="187"/>
                    </a:lnTo>
                    <a:lnTo>
                      <a:pt x="53" y="178"/>
                    </a:lnTo>
                    <a:lnTo>
                      <a:pt x="83" y="169"/>
                    </a:lnTo>
                    <a:lnTo>
                      <a:pt x="111" y="156"/>
                    </a:lnTo>
                    <a:lnTo>
                      <a:pt x="127" y="150"/>
                    </a:lnTo>
                    <a:lnTo>
                      <a:pt x="139" y="144"/>
                    </a:lnTo>
                    <a:lnTo>
                      <a:pt x="148" y="132"/>
                    </a:lnTo>
                    <a:lnTo>
                      <a:pt x="157" y="123"/>
                    </a:lnTo>
                    <a:lnTo>
                      <a:pt x="160" y="107"/>
                    </a:lnTo>
                    <a:lnTo>
                      <a:pt x="163" y="89"/>
                    </a:lnTo>
                    <a:lnTo>
                      <a:pt x="163" y="67"/>
                    </a:lnTo>
                    <a:lnTo>
                      <a:pt x="157" y="43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13" name="Freeform 292"/>
              <p:cNvSpPr/>
              <p:nvPr/>
            </p:nvSpPr>
            <p:spPr>
              <a:xfrm rot="21336000">
                <a:off x="7472520" y="3843720"/>
                <a:ext cx="449640" cy="285840"/>
              </a:xfrm>
              <a:custGeom>
                <a:avLst/>
                <a:gdLst>
                  <a:gd name="textAreaLeft" fmla="*/ 0 w 449640"/>
                  <a:gd name="textAreaRight" fmla="*/ 450000 w 44964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308" h="196">
                    <a:moveTo>
                      <a:pt x="22" y="64"/>
                    </a:moveTo>
                    <a:lnTo>
                      <a:pt x="28" y="49"/>
                    </a:lnTo>
                    <a:lnTo>
                      <a:pt x="28" y="37"/>
                    </a:lnTo>
                    <a:lnTo>
                      <a:pt x="28" y="31"/>
                    </a:lnTo>
                    <a:lnTo>
                      <a:pt x="22" y="24"/>
                    </a:lnTo>
                    <a:lnTo>
                      <a:pt x="9" y="15"/>
                    </a:lnTo>
                    <a:lnTo>
                      <a:pt x="3" y="9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98" y="6"/>
                    </a:lnTo>
                    <a:lnTo>
                      <a:pt x="123" y="12"/>
                    </a:lnTo>
                    <a:lnTo>
                      <a:pt x="145" y="21"/>
                    </a:lnTo>
                    <a:lnTo>
                      <a:pt x="169" y="31"/>
                    </a:lnTo>
                    <a:lnTo>
                      <a:pt x="191" y="40"/>
                    </a:lnTo>
                    <a:lnTo>
                      <a:pt x="209" y="55"/>
                    </a:lnTo>
                    <a:lnTo>
                      <a:pt x="231" y="70"/>
                    </a:lnTo>
                    <a:lnTo>
                      <a:pt x="246" y="86"/>
                    </a:lnTo>
                    <a:lnTo>
                      <a:pt x="261" y="104"/>
                    </a:lnTo>
                    <a:lnTo>
                      <a:pt x="277" y="126"/>
                    </a:lnTo>
                    <a:lnTo>
                      <a:pt x="289" y="147"/>
                    </a:lnTo>
                    <a:lnTo>
                      <a:pt x="298" y="172"/>
                    </a:lnTo>
                    <a:lnTo>
                      <a:pt x="308" y="196"/>
                    </a:lnTo>
                    <a:lnTo>
                      <a:pt x="292" y="196"/>
                    </a:lnTo>
                    <a:lnTo>
                      <a:pt x="280" y="190"/>
                    </a:lnTo>
                    <a:lnTo>
                      <a:pt x="268" y="181"/>
                    </a:lnTo>
                    <a:lnTo>
                      <a:pt x="258" y="172"/>
                    </a:lnTo>
                    <a:lnTo>
                      <a:pt x="243" y="150"/>
                    </a:lnTo>
                    <a:lnTo>
                      <a:pt x="228" y="132"/>
                    </a:lnTo>
                    <a:lnTo>
                      <a:pt x="218" y="132"/>
                    </a:lnTo>
                    <a:lnTo>
                      <a:pt x="209" y="135"/>
                    </a:lnTo>
                    <a:lnTo>
                      <a:pt x="203" y="141"/>
                    </a:lnTo>
                    <a:lnTo>
                      <a:pt x="200" y="150"/>
                    </a:lnTo>
                    <a:lnTo>
                      <a:pt x="194" y="169"/>
                    </a:lnTo>
                    <a:lnTo>
                      <a:pt x="188" y="175"/>
                    </a:lnTo>
                    <a:lnTo>
                      <a:pt x="181" y="178"/>
                    </a:lnTo>
                    <a:lnTo>
                      <a:pt x="169" y="172"/>
                    </a:lnTo>
                    <a:lnTo>
                      <a:pt x="160" y="166"/>
                    </a:lnTo>
                    <a:lnTo>
                      <a:pt x="145" y="150"/>
                    </a:lnTo>
                    <a:lnTo>
                      <a:pt x="135" y="144"/>
                    </a:lnTo>
                    <a:lnTo>
                      <a:pt x="129" y="141"/>
                    </a:lnTo>
                    <a:lnTo>
                      <a:pt x="120" y="138"/>
                    </a:lnTo>
                    <a:lnTo>
                      <a:pt x="108" y="141"/>
                    </a:lnTo>
                    <a:lnTo>
                      <a:pt x="114" y="132"/>
                    </a:lnTo>
                    <a:lnTo>
                      <a:pt x="117" y="126"/>
                    </a:lnTo>
                    <a:lnTo>
                      <a:pt x="123" y="123"/>
                    </a:lnTo>
                    <a:lnTo>
                      <a:pt x="132" y="123"/>
                    </a:lnTo>
                    <a:lnTo>
                      <a:pt x="126" y="107"/>
                    </a:lnTo>
                    <a:lnTo>
                      <a:pt x="114" y="95"/>
                    </a:lnTo>
                    <a:lnTo>
                      <a:pt x="102" y="86"/>
                    </a:lnTo>
                    <a:lnTo>
                      <a:pt x="89" y="80"/>
                    </a:lnTo>
                    <a:lnTo>
                      <a:pt x="74" y="74"/>
                    </a:lnTo>
                    <a:lnTo>
                      <a:pt x="58" y="67"/>
                    </a:lnTo>
                    <a:lnTo>
                      <a:pt x="22" y="64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14" name="Freeform 293"/>
              <p:cNvSpPr/>
              <p:nvPr/>
            </p:nvSpPr>
            <p:spPr>
              <a:xfrm rot="21336000">
                <a:off x="7379640" y="3780000"/>
                <a:ext cx="43560" cy="9900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30" h="68">
                    <a:moveTo>
                      <a:pt x="15" y="0"/>
                    </a:moveTo>
                    <a:lnTo>
                      <a:pt x="24" y="4"/>
                    </a:lnTo>
                    <a:lnTo>
                      <a:pt x="30" y="10"/>
                    </a:lnTo>
                    <a:lnTo>
                      <a:pt x="30" y="19"/>
                    </a:lnTo>
                    <a:lnTo>
                      <a:pt x="30" y="31"/>
                    </a:lnTo>
                    <a:lnTo>
                      <a:pt x="24" y="53"/>
                    </a:lnTo>
                    <a:lnTo>
                      <a:pt x="15" y="68"/>
                    </a:lnTo>
                    <a:lnTo>
                      <a:pt x="6" y="62"/>
                    </a:lnTo>
                    <a:lnTo>
                      <a:pt x="0" y="56"/>
                    </a:lnTo>
                    <a:lnTo>
                      <a:pt x="0" y="50"/>
                    </a:lnTo>
                    <a:lnTo>
                      <a:pt x="3" y="40"/>
                    </a:lnTo>
                    <a:lnTo>
                      <a:pt x="9" y="22"/>
                    </a:lnTo>
                    <a:lnTo>
                      <a:pt x="12" y="1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15" name="Freeform 294"/>
              <p:cNvSpPr/>
              <p:nvPr/>
            </p:nvSpPr>
            <p:spPr>
              <a:xfrm rot="21336000">
                <a:off x="7284600" y="3504240"/>
                <a:ext cx="47880" cy="493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0" y="34"/>
                    </a:moveTo>
                    <a:lnTo>
                      <a:pt x="3" y="21"/>
                    </a:lnTo>
                    <a:lnTo>
                      <a:pt x="6" y="12"/>
                    </a:lnTo>
                    <a:lnTo>
                      <a:pt x="12" y="3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3" y="18"/>
                    </a:lnTo>
                    <a:lnTo>
                      <a:pt x="3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16" name="Freeform 295"/>
              <p:cNvSpPr/>
              <p:nvPr/>
            </p:nvSpPr>
            <p:spPr>
              <a:xfrm rot="21336000">
                <a:off x="7318440" y="4067640"/>
                <a:ext cx="81360" cy="7560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56" h="52">
                    <a:moveTo>
                      <a:pt x="0" y="52"/>
                    </a:moveTo>
                    <a:lnTo>
                      <a:pt x="0" y="37"/>
                    </a:lnTo>
                    <a:lnTo>
                      <a:pt x="3" y="21"/>
                    </a:lnTo>
                    <a:lnTo>
                      <a:pt x="10" y="12"/>
                    </a:lnTo>
                    <a:lnTo>
                      <a:pt x="19" y="3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46" y="6"/>
                    </a:lnTo>
                    <a:lnTo>
                      <a:pt x="56" y="15"/>
                    </a:lnTo>
                    <a:lnTo>
                      <a:pt x="43" y="28"/>
                    </a:lnTo>
                    <a:lnTo>
                      <a:pt x="31" y="3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17" name="Freeform 296"/>
              <p:cNvSpPr/>
              <p:nvPr/>
            </p:nvSpPr>
            <p:spPr>
              <a:xfrm rot="21336000">
                <a:off x="7224840" y="3599640"/>
                <a:ext cx="131040" cy="9468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90" h="65">
                    <a:moveTo>
                      <a:pt x="47" y="16"/>
                    </a:moveTo>
                    <a:lnTo>
                      <a:pt x="56" y="7"/>
                    </a:lnTo>
                    <a:lnTo>
                      <a:pt x="62" y="4"/>
                    </a:lnTo>
                    <a:lnTo>
                      <a:pt x="71" y="0"/>
                    </a:lnTo>
                    <a:lnTo>
                      <a:pt x="77" y="4"/>
                    </a:lnTo>
                    <a:lnTo>
                      <a:pt x="83" y="10"/>
                    </a:lnTo>
                    <a:lnTo>
                      <a:pt x="86" y="22"/>
                    </a:lnTo>
                    <a:lnTo>
                      <a:pt x="90" y="37"/>
                    </a:lnTo>
                    <a:lnTo>
                      <a:pt x="86" y="56"/>
                    </a:lnTo>
                    <a:lnTo>
                      <a:pt x="80" y="56"/>
                    </a:lnTo>
                    <a:lnTo>
                      <a:pt x="77" y="56"/>
                    </a:lnTo>
                    <a:lnTo>
                      <a:pt x="74" y="59"/>
                    </a:lnTo>
                    <a:lnTo>
                      <a:pt x="71" y="65"/>
                    </a:lnTo>
                    <a:lnTo>
                      <a:pt x="50" y="59"/>
                    </a:lnTo>
                    <a:lnTo>
                      <a:pt x="34" y="53"/>
                    </a:lnTo>
                    <a:lnTo>
                      <a:pt x="19" y="43"/>
                    </a:lnTo>
                    <a:lnTo>
                      <a:pt x="0" y="37"/>
                    </a:lnTo>
                    <a:lnTo>
                      <a:pt x="3" y="28"/>
                    </a:lnTo>
                    <a:lnTo>
                      <a:pt x="7" y="22"/>
                    </a:lnTo>
                    <a:lnTo>
                      <a:pt x="13" y="16"/>
                    </a:lnTo>
                    <a:lnTo>
                      <a:pt x="19" y="10"/>
                    </a:lnTo>
                    <a:lnTo>
                      <a:pt x="25" y="10"/>
                    </a:lnTo>
                    <a:lnTo>
                      <a:pt x="34" y="10"/>
                    </a:lnTo>
                    <a:lnTo>
                      <a:pt x="40" y="10"/>
                    </a:lnTo>
                    <a:lnTo>
                      <a:pt x="47" y="16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18" name="Freeform 297"/>
              <p:cNvSpPr/>
              <p:nvPr/>
            </p:nvSpPr>
            <p:spPr>
              <a:xfrm rot="21336000">
                <a:off x="7229160" y="3544560"/>
                <a:ext cx="71280" cy="5652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49" h="39">
                    <a:moveTo>
                      <a:pt x="0" y="9"/>
                    </a:moveTo>
                    <a:lnTo>
                      <a:pt x="6" y="3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7" y="3"/>
                    </a:lnTo>
                    <a:lnTo>
                      <a:pt x="36" y="9"/>
                    </a:lnTo>
                    <a:lnTo>
                      <a:pt x="49" y="18"/>
                    </a:lnTo>
                    <a:lnTo>
                      <a:pt x="46" y="27"/>
                    </a:lnTo>
                    <a:lnTo>
                      <a:pt x="40" y="33"/>
                    </a:lnTo>
                    <a:lnTo>
                      <a:pt x="30" y="36"/>
                    </a:lnTo>
                    <a:lnTo>
                      <a:pt x="21" y="39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2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19" name="Freeform 298"/>
              <p:cNvSpPr/>
              <p:nvPr/>
            </p:nvSpPr>
            <p:spPr>
              <a:xfrm rot="21336000">
                <a:off x="7160760" y="3176640"/>
                <a:ext cx="53640" cy="7992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37" h="55">
                    <a:moveTo>
                      <a:pt x="37" y="0"/>
                    </a:moveTo>
                    <a:lnTo>
                      <a:pt x="34" y="18"/>
                    </a:lnTo>
                    <a:lnTo>
                      <a:pt x="28" y="30"/>
                    </a:lnTo>
                    <a:lnTo>
                      <a:pt x="18" y="43"/>
                    </a:lnTo>
                    <a:lnTo>
                      <a:pt x="12" y="55"/>
                    </a:lnTo>
                    <a:lnTo>
                      <a:pt x="3" y="52"/>
                    </a:lnTo>
                    <a:lnTo>
                      <a:pt x="0" y="43"/>
                    </a:lnTo>
                    <a:lnTo>
                      <a:pt x="0" y="33"/>
                    </a:lnTo>
                    <a:lnTo>
                      <a:pt x="0" y="21"/>
                    </a:lnTo>
                    <a:lnTo>
                      <a:pt x="6" y="12"/>
                    </a:lnTo>
                    <a:lnTo>
                      <a:pt x="15" y="3"/>
                    </a:lnTo>
                    <a:lnTo>
                      <a:pt x="24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20" name="Freeform 299"/>
              <p:cNvSpPr/>
              <p:nvPr/>
            </p:nvSpPr>
            <p:spPr>
              <a:xfrm rot="21336000">
                <a:off x="7217640" y="3817440"/>
                <a:ext cx="111960" cy="4500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77" h="31">
                    <a:moveTo>
                      <a:pt x="77" y="0"/>
                    </a:moveTo>
                    <a:lnTo>
                      <a:pt x="74" y="12"/>
                    </a:lnTo>
                    <a:lnTo>
                      <a:pt x="68" y="21"/>
                    </a:lnTo>
                    <a:lnTo>
                      <a:pt x="58" y="28"/>
                    </a:lnTo>
                    <a:lnTo>
                      <a:pt x="46" y="31"/>
                    </a:lnTo>
                    <a:lnTo>
                      <a:pt x="31" y="31"/>
                    </a:lnTo>
                    <a:lnTo>
                      <a:pt x="18" y="31"/>
                    </a:lnTo>
                    <a:lnTo>
                      <a:pt x="6" y="24"/>
                    </a:lnTo>
                    <a:lnTo>
                      <a:pt x="0" y="21"/>
                    </a:lnTo>
                    <a:lnTo>
                      <a:pt x="3" y="12"/>
                    </a:lnTo>
                    <a:lnTo>
                      <a:pt x="9" y="9"/>
                    </a:lnTo>
                    <a:lnTo>
                      <a:pt x="15" y="6"/>
                    </a:lnTo>
                    <a:lnTo>
                      <a:pt x="28" y="6"/>
                    </a:lnTo>
                    <a:lnTo>
                      <a:pt x="52" y="6"/>
                    </a:lnTo>
                    <a:lnTo>
                      <a:pt x="65" y="3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21" name="Freeform 300"/>
              <p:cNvSpPr/>
              <p:nvPr/>
            </p:nvSpPr>
            <p:spPr>
              <a:xfrm rot="21336000">
                <a:off x="7213680" y="4107960"/>
                <a:ext cx="39240" cy="4500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24" y="4"/>
                    </a:moveTo>
                    <a:lnTo>
                      <a:pt x="27" y="10"/>
                    </a:lnTo>
                    <a:lnTo>
                      <a:pt x="27" y="16"/>
                    </a:lnTo>
                    <a:lnTo>
                      <a:pt x="21" y="22"/>
                    </a:lnTo>
                    <a:lnTo>
                      <a:pt x="15" y="28"/>
                    </a:lnTo>
                    <a:lnTo>
                      <a:pt x="9" y="31"/>
                    </a:lnTo>
                    <a:lnTo>
                      <a:pt x="3" y="28"/>
                    </a:lnTo>
                    <a:lnTo>
                      <a:pt x="0" y="22"/>
                    </a:lnTo>
                    <a:lnTo>
                      <a:pt x="3" y="13"/>
                    </a:lnTo>
                    <a:lnTo>
                      <a:pt x="12" y="4"/>
                    </a:lnTo>
                    <a:lnTo>
                      <a:pt x="18" y="0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22" name="Freeform 301"/>
              <p:cNvSpPr/>
              <p:nvPr/>
            </p:nvSpPr>
            <p:spPr>
              <a:xfrm rot="21336000">
                <a:off x="7189200" y="3878640"/>
                <a:ext cx="116640" cy="13392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80" h="92">
                    <a:moveTo>
                      <a:pt x="80" y="92"/>
                    </a:moveTo>
                    <a:lnTo>
                      <a:pt x="62" y="89"/>
                    </a:lnTo>
                    <a:lnTo>
                      <a:pt x="50" y="80"/>
                    </a:lnTo>
                    <a:lnTo>
                      <a:pt x="43" y="64"/>
                    </a:lnTo>
                    <a:lnTo>
                      <a:pt x="40" y="46"/>
                    </a:lnTo>
                    <a:lnTo>
                      <a:pt x="31" y="52"/>
                    </a:lnTo>
                    <a:lnTo>
                      <a:pt x="25" y="61"/>
                    </a:lnTo>
                    <a:lnTo>
                      <a:pt x="16" y="67"/>
                    </a:lnTo>
                    <a:lnTo>
                      <a:pt x="10" y="67"/>
                    </a:lnTo>
                    <a:lnTo>
                      <a:pt x="0" y="64"/>
                    </a:lnTo>
                    <a:lnTo>
                      <a:pt x="0" y="46"/>
                    </a:lnTo>
                    <a:lnTo>
                      <a:pt x="7" y="34"/>
                    </a:lnTo>
                    <a:lnTo>
                      <a:pt x="10" y="18"/>
                    </a:lnTo>
                    <a:lnTo>
                      <a:pt x="10" y="0"/>
                    </a:lnTo>
                    <a:lnTo>
                      <a:pt x="50" y="0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68" y="18"/>
                    </a:lnTo>
                    <a:lnTo>
                      <a:pt x="62" y="27"/>
                    </a:lnTo>
                    <a:lnTo>
                      <a:pt x="62" y="34"/>
                    </a:lnTo>
                    <a:lnTo>
                      <a:pt x="65" y="43"/>
                    </a:lnTo>
                    <a:lnTo>
                      <a:pt x="74" y="61"/>
                    </a:lnTo>
                    <a:lnTo>
                      <a:pt x="77" y="77"/>
                    </a:lnTo>
                    <a:lnTo>
                      <a:pt x="80" y="92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23" name="Freeform 302"/>
              <p:cNvSpPr/>
              <p:nvPr/>
            </p:nvSpPr>
            <p:spPr>
              <a:xfrm rot="21336000">
                <a:off x="7165440" y="3339360"/>
                <a:ext cx="125280" cy="22032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86" h="151">
                    <a:moveTo>
                      <a:pt x="61" y="19"/>
                    </a:moveTo>
                    <a:lnTo>
                      <a:pt x="61" y="28"/>
                    </a:lnTo>
                    <a:lnTo>
                      <a:pt x="61" y="34"/>
                    </a:lnTo>
                    <a:lnTo>
                      <a:pt x="52" y="46"/>
                    </a:lnTo>
                    <a:lnTo>
                      <a:pt x="43" y="52"/>
                    </a:lnTo>
                    <a:lnTo>
                      <a:pt x="40" y="59"/>
                    </a:lnTo>
                    <a:lnTo>
                      <a:pt x="37" y="65"/>
                    </a:lnTo>
                    <a:lnTo>
                      <a:pt x="46" y="74"/>
                    </a:lnTo>
                    <a:lnTo>
                      <a:pt x="58" y="80"/>
                    </a:lnTo>
                    <a:lnTo>
                      <a:pt x="70" y="83"/>
                    </a:lnTo>
                    <a:lnTo>
                      <a:pt x="86" y="86"/>
                    </a:lnTo>
                    <a:lnTo>
                      <a:pt x="64" y="102"/>
                    </a:lnTo>
                    <a:lnTo>
                      <a:pt x="46" y="123"/>
                    </a:lnTo>
                    <a:lnTo>
                      <a:pt x="24" y="138"/>
                    </a:lnTo>
                    <a:lnTo>
                      <a:pt x="12" y="145"/>
                    </a:lnTo>
                    <a:lnTo>
                      <a:pt x="0" y="151"/>
                    </a:lnTo>
                    <a:lnTo>
                      <a:pt x="6" y="138"/>
                    </a:lnTo>
                    <a:lnTo>
                      <a:pt x="15" y="126"/>
                    </a:lnTo>
                    <a:lnTo>
                      <a:pt x="24" y="117"/>
                    </a:lnTo>
                    <a:lnTo>
                      <a:pt x="30" y="105"/>
                    </a:lnTo>
                    <a:lnTo>
                      <a:pt x="27" y="95"/>
                    </a:lnTo>
                    <a:lnTo>
                      <a:pt x="21" y="89"/>
                    </a:lnTo>
                    <a:lnTo>
                      <a:pt x="12" y="77"/>
                    </a:lnTo>
                    <a:lnTo>
                      <a:pt x="3" y="68"/>
                    </a:lnTo>
                    <a:lnTo>
                      <a:pt x="0" y="59"/>
                    </a:lnTo>
                    <a:lnTo>
                      <a:pt x="0" y="46"/>
                    </a:lnTo>
                    <a:lnTo>
                      <a:pt x="9" y="40"/>
                    </a:lnTo>
                    <a:lnTo>
                      <a:pt x="21" y="34"/>
                    </a:lnTo>
                    <a:lnTo>
                      <a:pt x="27" y="28"/>
                    </a:lnTo>
                    <a:lnTo>
                      <a:pt x="30" y="22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6"/>
                    </a:lnTo>
                    <a:lnTo>
                      <a:pt x="52" y="16"/>
                    </a:lnTo>
                    <a:lnTo>
                      <a:pt x="55" y="19"/>
                    </a:lnTo>
                    <a:lnTo>
                      <a:pt x="61" y="19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24" name="Freeform 303"/>
              <p:cNvSpPr/>
              <p:nvPr/>
            </p:nvSpPr>
            <p:spPr>
              <a:xfrm rot="21336000">
                <a:off x="6951960" y="3679560"/>
                <a:ext cx="242280" cy="304920"/>
              </a:xfrm>
              <a:custGeom>
                <a:avLst/>
                <a:gdLst>
                  <a:gd name="textAreaLeft" fmla="*/ 0 w 242280"/>
                  <a:gd name="textAreaRight" fmla="*/ 242640 w 24228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166" h="209">
                    <a:moveTo>
                      <a:pt x="156" y="105"/>
                    </a:moveTo>
                    <a:lnTo>
                      <a:pt x="144" y="129"/>
                    </a:lnTo>
                    <a:lnTo>
                      <a:pt x="132" y="154"/>
                    </a:lnTo>
                    <a:lnTo>
                      <a:pt x="123" y="179"/>
                    </a:lnTo>
                    <a:lnTo>
                      <a:pt x="120" y="194"/>
                    </a:lnTo>
                    <a:lnTo>
                      <a:pt x="116" y="209"/>
                    </a:lnTo>
                    <a:lnTo>
                      <a:pt x="92" y="209"/>
                    </a:lnTo>
                    <a:lnTo>
                      <a:pt x="70" y="203"/>
                    </a:lnTo>
                    <a:lnTo>
                      <a:pt x="49" y="194"/>
                    </a:lnTo>
                    <a:lnTo>
                      <a:pt x="33" y="185"/>
                    </a:lnTo>
                    <a:lnTo>
                      <a:pt x="18" y="169"/>
                    </a:lnTo>
                    <a:lnTo>
                      <a:pt x="9" y="148"/>
                    </a:lnTo>
                    <a:lnTo>
                      <a:pt x="3" y="126"/>
                    </a:lnTo>
                    <a:lnTo>
                      <a:pt x="0" y="96"/>
                    </a:lnTo>
                    <a:lnTo>
                      <a:pt x="15" y="96"/>
                    </a:lnTo>
                    <a:lnTo>
                      <a:pt x="30" y="90"/>
                    </a:lnTo>
                    <a:lnTo>
                      <a:pt x="49" y="80"/>
                    </a:lnTo>
                    <a:lnTo>
                      <a:pt x="64" y="68"/>
                    </a:lnTo>
                    <a:lnTo>
                      <a:pt x="83" y="56"/>
                    </a:lnTo>
                    <a:lnTo>
                      <a:pt x="95" y="40"/>
                    </a:lnTo>
                    <a:lnTo>
                      <a:pt x="107" y="22"/>
                    </a:lnTo>
                    <a:lnTo>
                      <a:pt x="116" y="4"/>
                    </a:lnTo>
                    <a:lnTo>
                      <a:pt x="129" y="0"/>
                    </a:lnTo>
                    <a:lnTo>
                      <a:pt x="135" y="4"/>
                    </a:lnTo>
                    <a:lnTo>
                      <a:pt x="138" y="10"/>
                    </a:lnTo>
                    <a:lnTo>
                      <a:pt x="141" y="16"/>
                    </a:lnTo>
                    <a:lnTo>
                      <a:pt x="144" y="25"/>
                    </a:lnTo>
                    <a:lnTo>
                      <a:pt x="147" y="31"/>
                    </a:lnTo>
                    <a:lnTo>
                      <a:pt x="153" y="34"/>
                    </a:lnTo>
                    <a:lnTo>
                      <a:pt x="166" y="31"/>
                    </a:lnTo>
                    <a:lnTo>
                      <a:pt x="150" y="50"/>
                    </a:lnTo>
                    <a:lnTo>
                      <a:pt x="144" y="65"/>
                    </a:lnTo>
                    <a:lnTo>
                      <a:pt x="147" y="83"/>
                    </a:lnTo>
                    <a:lnTo>
                      <a:pt x="156" y="105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25" name="Freeform 304"/>
              <p:cNvSpPr/>
              <p:nvPr/>
            </p:nvSpPr>
            <p:spPr>
              <a:xfrm rot="21336000">
                <a:off x="6643800" y="3740760"/>
                <a:ext cx="449640" cy="385200"/>
              </a:xfrm>
              <a:custGeom>
                <a:avLst/>
                <a:gdLst>
                  <a:gd name="textAreaLeft" fmla="*/ 0 w 449640"/>
                  <a:gd name="textAreaRight" fmla="*/ 450000 w 44964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308" h="264">
                    <a:moveTo>
                      <a:pt x="182" y="141"/>
                    </a:moveTo>
                    <a:lnTo>
                      <a:pt x="176" y="172"/>
                    </a:lnTo>
                    <a:lnTo>
                      <a:pt x="166" y="197"/>
                    </a:lnTo>
                    <a:lnTo>
                      <a:pt x="173" y="209"/>
                    </a:lnTo>
                    <a:lnTo>
                      <a:pt x="182" y="215"/>
                    </a:lnTo>
                    <a:lnTo>
                      <a:pt x="191" y="221"/>
                    </a:lnTo>
                    <a:lnTo>
                      <a:pt x="200" y="224"/>
                    </a:lnTo>
                    <a:lnTo>
                      <a:pt x="219" y="227"/>
                    </a:lnTo>
                    <a:lnTo>
                      <a:pt x="240" y="227"/>
                    </a:lnTo>
                    <a:lnTo>
                      <a:pt x="262" y="227"/>
                    </a:lnTo>
                    <a:lnTo>
                      <a:pt x="280" y="234"/>
                    </a:lnTo>
                    <a:lnTo>
                      <a:pt x="289" y="237"/>
                    </a:lnTo>
                    <a:lnTo>
                      <a:pt x="299" y="243"/>
                    </a:lnTo>
                    <a:lnTo>
                      <a:pt x="305" y="252"/>
                    </a:lnTo>
                    <a:lnTo>
                      <a:pt x="308" y="264"/>
                    </a:lnTo>
                    <a:lnTo>
                      <a:pt x="289" y="264"/>
                    </a:lnTo>
                    <a:lnTo>
                      <a:pt x="271" y="264"/>
                    </a:lnTo>
                    <a:lnTo>
                      <a:pt x="243" y="255"/>
                    </a:lnTo>
                    <a:lnTo>
                      <a:pt x="216" y="252"/>
                    </a:lnTo>
                    <a:lnTo>
                      <a:pt x="200" y="252"/>
                    </a:lnTo>
                    <a:lnTo>
                      <a:pt x="182" y="255"/>
                    </a:lnTo>
                    <a:lnTo>
                      <a:pt x="157" y="227"/>
                    </a:lnTo>
                    <a:lnTo>
                      <a:pt x="133" y="197"/>
                    </a:lnTo>
                    <a:lnTo>
                      <a:pt x="111" y="166"/>
                    </a:lnTo>
                    <a:lnTo>
                      <a:pt x="90" y="132"/>
                    </a:lnTo>
                    <a:lnTo>
                      <a:pt x="47" y="65"/>
                    </a:lnTo>
                    <a:lnTo>
                      <a:pt x="25" y="31"/>
                    </a:lnTo>
                    <a:lnTo>
                      <a:pt x="0" y="0"/>
                    </a:lnTo>
                    <a:lnTo>
                      <a:pt x="31" y="9"/>
                    </a:lnTo>
                    <a:lnTo>
                      <a:pt x="56" y="25"/>
                    </a:lnTo>
                    <a:lnTo>
                      <a:pt x="77" y="43"/>
                    </a:lnTo>
                    <a:lnTo>
                      <a:pt x="99" y="65"/>
                    </a:lnTo>
                    <a:lnTo>
                      <a:pt x="139" y="108"/>
                    </a:lnTo>
                    <a:lnTo>
                      <a:pt x="160" y="126"/>
                    </a:lnTo>
                    <a:lnTo>
                      <a:pt x="182" y="141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26" name="Freeform 305"/>
              <p:cNvSpPr/>
              <p:nvPr/>
            </p:nvSpPr>
            <p:spPr>
              <a:xfrm rot="21336000">
                <a:off x="6702120" y="3621960"/>
                <a:ext cx="147240" cy="2466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246600"/>
                  <a:gd name="textAreaBottom" fmla="*/ 246960 h 246600"/>
                </a:gdLst>
                <a:ahLst/>
                <a:rect l="textAreaLeft" t="textAreaTop" r="textAreaRight" b="textAreaBottom"/>
                <a:pathLst>
                  <a:path w="101" h="169">
                    <a:moveTo>
                      <a:pt x="0" y="0"/>
                    </a:moveTo>
                    <a:lnTo>
                      <a:pt x="18" y="12"/>
                    </a:lnTo>
                    <a:lnTo>
                      <a:pt x="37" y="28"/>
                    </a:lnTo>
                    <a:lnTo>
                      <a:pt x="52" y="46"/>
                    </a:lnTo>
                    <a:lnTo>
                      <a:pt x="64" y="68"/>
                    </a:lnTo>
                    <a:lnTo>
                      <a:pt x="76" y="92"/>
                    </a:lnTo>
                    <a:lnTo>
                      <a:pt x="86" y="117"/>
                    </a:lnTo>
                    <a:lnTo>
                      <a:pt x="101" y="169"/>
                    </a:lnTo>
                    <a:lnTo>
                      <a:pt x="89" y="169"/>
                    </a:lnTo>
                    <a:lnTo>
                      <a:pt x="80" y="166"/>
                    </a:lnTo>
                    <a:lnTo>
                      <a:pt x="70" y="160"/>
                    </a:lnTo>
                    <a:lnTo>
                      <a:pt x="61" y="151"/>
                    </a:lnTo>
                    <a:lnTo>
                      <a:pt x="49" y="132"/>
                    </a:lnTo>
                    <a:lnTo>
                      <a:pt x="40" y="111"/>
                    </a:lnTo>
                    <a:lnTo>
                      <a:pt x="24" y="68"/>
                    </a:lnTo>
                    <a:lnTo>
                      <a:pt x="12" y="46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27" name="Freeform 306"/>
              <p:cNvSpPr/>
              <p:nvPr/>
            </p:nvSpPr>
            <p:spPr>
              <a:xfrm rot="21336000">
                <a:off x="6272280" y="3671640"/>
                <a:ext cx="43560" cy="9900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30" h="68">
                    <a:moveTo>
                      <a:pt x="24" y="68"/>
                    </a:moveTo>
                    <a:lnTo>
                      <a:pt x="12" y="68"/>
                    </a:lnTo>
                    <a:lnTo>
                      <a:pt x="6" y="62"/>
                    </a:lnTo>
                    <a:lnTo>
                      <a:pt x="0" y="53"/>
                    </a:lnTo>
                    <a:lnTo>
                      <a:pt x="0" y="43"/>
                    </a:lnTo>
                    <a:lnTo>
                      <a:pt x="0" y="19"/>
                    </a:lnTo>
                    <a:lnTo>
                      <a:pt x="3" y="10"/>
                    </a:lnTo>
                    <a:lnTo>
                      <a:pt x="9" y="0"/>
                    </a:lnTo>
                    <a:lnTo>
                      <a:pt x="15" y="3"/>
                    </a:lnTo>
                    <a:lnTo>
                      <a:pt x="24" y="7"/>
                    </a:lnTo>
                    <a:lnTo>
                      <a:pt x="27" y="16"/>
                    </a:lnTo>
                    <a:lnTo>
                      <a:pt x="30" y="28"/>
                    </a:lnTo>
                    <a:lnTo>
                      <a:pt x="30" y="50"/>
                    </a:lnTo>
                    <a:lnTo>
                      <a:pt x="27" y="59"/>
                    </a:lnTo>
                    <a:lnTo>
                      <a:pt x="24" y="68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28" name="Freeform 307"/>
              <p:cNvSpPr/>
              <p:nvPr/>
            </p:nvSpPr>
            <p:spPr>
              <a:xfrm rot="21336000">
                <a:off x="5478120" y="1838520"/>
                <a:ext cx="402840" cy="20700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276" h="142">
                    <a:moveTo>
                      <a:pt x="95" y="132"/>
                    </a:moveTo>
                    <a:lnTo>
                      <a:pt x="83" y="142"/>
                    </a:lnTo>
                    <a:lnTo>
                      <a:pt x="70" y="142"/>
                    </a:lnTo>
                    <a:lnTo>
                      <a:pt x="58" y="142"/>
                    </a:lnTo>
                    <a:lnTo>
                      <a:pt x="46" y="136"/>
                    </a:lnTo>
                    <a:lnTo>
                      <a:pt x="21" y="123"/>
                    </a:lnTo>
                    <a:lnTo>
                      <a:pt x="12" y="117"/>
                    </a:lnTo>
                    <a:lnTo>
                      <a:pt x="0" y="114"/>
                    </a:lnTo>
                    <a:lnTo>
                      <a:pt x="12" y="99"/>
                    </a:lnTo>
                    <a:lnTo>
                      <a:pt x="24" y="83"/>
                    </a:lnTo>
                    <a:lnTo>
                      <a:pt x="37" y="71"/>
                    </a:lnTo>
                    <a:lnTo>
                      <a:pt x="52" y="62"/>
                    </a:lnTo>
                    <a:lnTo>
                      <a:pt x="86" y="43"/>
                    </a:lnTo>
                    <a:lnTo>
                      <a:pt x="123" y="34"/>
                    </a:lnTo>
                    <a:lnTo>
                      <a:pt x="160" y="25"/>
                    </a:lnTo>
                    <a:lnTo>
                      <a:pt x="199" y="16"/>
                    </a:lnTo>
                    <a:lnTo>
                      <a:pt x="236" y="10"/>
                    </a:lnTo>
                    <a:lnTo>
                      <a:pt x="276" y="0"/>
                    </a:lnTo>
                    <a:lnTo>
                      <a:pt x="276" y="16"/>
                    </a:lnTo>
                    <a:lnTo>
                      <a:pt x="273" y="28"/>
                    </a:lnTo>
                    <a:lnTo>
                      <a:pt x="264" y="34"/>
                    </a:lnTo>
                    <a:lnTo>
                      <a:pt x="255" y="40"/>
                    </a:lnTo>
                    <a:lnTo>
                      <a:pt x="243" y="46"/>
                    </a:lnTo>
                    <a:lnTo>
                      <a:pt x="227" y="50"/>
                    </a:lnTo>
                    <a:lnTo>
                      <a:pt x="196" y="53"/>
                    </a:lnTo>
                    <a:lnTo>
                      <a:pt x="163" y="53"/>
                    </a:lnTo>
                    <a:lnTo>
                      <a:pt x="129" y="59"/>
                    </a:lnTo>
                    <a:lnTo>
                      <a:pt x="116" y="62"/>
                    </a:lnTo>
                    <a:lnTo>
                      <a:pt x="104" y="68"/>
                    </a:lnTo>
                    <a:lnTo>
                      <a:pt x="92" y="77"/>
                    </a:lnTo>
                    <a:lnTo>
                      <a:pt x="86" y="86"/>
                    </a:lnTo>
                    <a:lnTo>
                      <a:pt x="86" y="96"/>
                    </a:lnTo>
                    <a:lnTo>
                      <a:pt x="89" y="105"/>
                    </a:lnTo>
                    <a:lnTo>
                      <a:pt x="95" y="114"/>
                    </a:lnTo>
                    <a:lnTo>
                      <a:pt x="98" y="117"/>
                    </a:lnTo>
                    <a:lnTo>
                      <a:pt x="101" y="120"/>
                    </a:lnTo>
                    <a:lnTo>
                      <a:pt x="98" y="126"/>
                    </a:lnTo>
                    <a:lnTo>
                      <a:pt x="95" y="132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29" name="Freeform 308"/>
              <p:cNvSpPr/>
              <p:nvPr/>
            </p:nvSpPr>
            <p:spPr>
              <a:xfrm rot="21336000">
                <a:off x="5499720" y="4322160"/>
                <a:ext cx="160200" cy="37224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110" h="255">
                    <a:moveTo>
                      <a:pt x="0" y="86"/>
                    </a:moveTo>
                    <a:lnTo>
                      <a:pt x="18" y="80"/>
                    </a:lnTo>
                    <a:lnTo>
                      <a:pt x="30" y="70"/>
                    </a:lnTo>
                    <a:lnTo>
                      <a:pt x="43" y="58"/>
                    </a:lnTo>
                    <a:lnTo>
                      <a:pt x="52" y="43"/>
                    </a:lnTo>
                    <a:lnTo>
                      <a:pt x="61" y="31"/>
                    </a:lnTo>
                    <a:lnTo>
                      <a:pt x="74" y="18"/>
                    </a:lnTo>
                    <a:lnTo>
                      <a:pt x="86" y="6"/>
                    </a:lnTo>
                    <a:lnTo>
                      <a:pt x="104" y="0"/>
                    </a:lnTo>
                    <a:lnTo>
                      <a:pt x="110" y="37"/>
                    </a:lnTo>
                    <a:lnTo>
                      <a:pt x="110" y="70"/>
                    </a:lnTo>
                    <a:lnTo>
                      <a:pt x="104" y="104"/>
                    </a:lnTo>
                    <a:lnTo>
                      <a:pt x="95" y="135"/>
                    </a:lnTo>
                    <a:lnTo>
                      <a:pt x="74" y="196"/>
                    </a:lnTo>
                    <a:lnTo>
                      <a:pt x="64" y="224"/>
                    </a:lnTo>
                    <a:lnTo>
                      <a:pt x="55" y="255"/>
                    </a:lnTo>
                    <a:lnTo>
                      <a:pt x="9" y="255"/>
                    </a:lnTo>
                    <a:lnTo>
                      <a:pt x="3" y="236"/>
                    </a:lnTo>
                    <a:lnTo>
                      <a:pt x="0" y="215"/>
                    </a:lnTo>
                    <a:lnTo>
                      <a:pt x="3" y="178"/>
                    </a:lnTo>
                    <a:lnTo>
                      <a:pt x="3" y="135"/>
                    </a:lnTo>
                    <a:lnTo>
                      <a:pt x="3" y="11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30" name="Freeform 309"/>
              <p:cNvSpPr/>
              <p:nvPr/>
            </p:nvSpPr>
            <p:spPr>
              <a:xfrm rot="21336000">
                <a:off x="4659840" y="2990160"/>
                <a:ext cx="84240" cy="622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58" h="43">
                    <a:moveTo>
                      <a:pt x="0" y="12"/>
                    </a:moveTo>
                    <a:lnTo>
                      <a:pt x="6" y="6"/>
                    </a:lnTo>
                    <a:lnTo>
                      <a:pt x="15" y="3"/>
                    </a:lnTo>
                    <a:lnTo>
                      <a:pt x="27" y="0"/>
                    </a:lnTo>
                    <a:lnTo>
                      <a:pt x="37" y="3"/>
                    </a:lnTo>
                    <a:lnTo>
                      <a:pt x="46" y="9"/>
                    </a:lnTo>
                    <a:lnTo>
                      <a:pt x="55" y="15"/>
                    </a:lnTo>
                    <a:lnTo>
                      <a:pt x="58" y="27"/>
                    </a:lnTo>
                    <a:lnTo>
                      <a:pt x="55" y="39"/>
                    </a:lnTo>
                    <a:lnTo>
                      <a:pt x="43" y="43"/>
                    </a:lnTo>
                    <a:lnTo>
                      <a:pt x="37" y="39"/>
                    </a:lnTo>
                    <a:lnTo>
                      <a:pt x="24" y="30"/>
                    </a:lnTo>
                    <a:lnTo>
                      <a:pt x="12" y="18"/>
                    </a:lnTo>
                    <a:lnTo>
                      <a:pt x="6" y="1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31" name="Freeform 310"/>
              <p:cNvSpPr/>
              <p:nvPr/>
            </p:nvSpPr>
            <p:spPr>
              <a:xfrm rot="21336000">
                <a:off x="4554720" y="2921760"/>
                <a:ext cx="45000" cy="6696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31" h="46">
                    <a:moveTo>
                      <a:pt x="12" y="0"/>
                    </a:moveTo>
                    <a:lnTo>
                      <a:pt x="22" y="3"/>
                    </a:lnTo>
                    <a:lnTo>
                      <a:pt x="28" y="10"/>
                    </a:lnTo>
                    <a:lnTo>
                      <a:pt x="31" y="19"/>
                    </a:lnTo>
                    <a:lnTo>
                      <a:pt x="31" y="25"/>
                    </a:lnTo>
                    <a:lnTo>
                      <a:pt x="28" y="34"/>
                    </a:lnTo>
                    <a:lnTo>
                      <a:pt x="25" y="40"/>
                    </a:lnTo>
                    <a:lnTo>
                      <a:pt x="15" y="43"/>
                    </a:lnTo>
                    <a:lnTo>
                      <a:pt x="3" y="46"/>
                    </a:lnTo>
                    <a:lnTo>
                      <a:pt x="0" y="31"/>
                    </a:lnTo>
                    <a:lnTo>
                      <a:pt x="0" y="1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32" name="Freeform 311"/>
              <p:cNvSpPr/>
              <p:nvPr/>
            </p:nvSpPr>
            <p:spPr>
              <a:xfrm rot="21336000">
                <a:off x="4430520" y="2964600"/>
                <a:ext cx="25920" cy="2160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lnTo>
                      <a:pt x="12" y="15"/>
                    </a:lnTo>
                    <a:lnTo>
                      <a:pt x="6" y="15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9" y="0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33" name="Freeform 312"/>
              <p:cNvSpPr/>
              <p:nvPr/>
            </p:nvSpPr>
            <p:spPr>
              <a:xfrm rot="21336000">
                <a:off x="3975480" y="1781640"/>
                <a:ext cx="4539600" cy="3105000"/>
              </a:xfrm>
              <a:custGeom>
                <a:avLst/>
                <a:gdLst>
                  <a:gd name="textAreaLeft" fmla="*/ 0 w 4539600"/>
                  <a:gd name="textAreaRight" fmla="*/ 4539960 w 4539600"/>
                  <a:gd name="textAreaTop" fmla="*/ 0 h 3105000"/>
                  <a:gd name="textAreaBottom" fmla="*/ 3105360 h 3105000"/>
                </a:gdLst>
                <a:ahLst/>
                <a:rect l="textAreaLeft" t="textAreaTop" r="textAreaRight" b="textAreaBottom"/>
                <a:pathLst>
                  <a:path w="3108" h="2126">
                    <a:moveTo>
                      <a:pt x="1500" y="191"/>
                    </a:moveTo>
                    <a:lnTo>
                      <a:pt x="1503" y="178"/>
                    </a:lnTo>
                    <a:lnTo>
                      <a:pt x="1503" y="169"/>
                    </a:lnTo>
                    <a:lnTo>
                      <a:pt x="1497" y="163"/>
                    </a:lnTo>
                    <a:lnTo>
                      <a:pt x="1488" y="160"/>
                    </a:lnTo>
                    <a:lnTo>
                      <a:pt x="1478" y="160"/>
                    </a:lnTo>
                    <a:lnTo>
                      <a:pt x="1472" y="160"/>
                    </a:lnTo>
                    <a:lnTo>
                      <a:pt x="1466" y="166"/>
                    </a:lnTo>
                    <a:lnTo>
                      <a:pt x="1460" y="172"/>
                    </a:lnTo>
                    <a:lnTo>
                      <a:pt x="1469" y="178"/>
                    </a:lnTo>
                    <a:lnTo>
                      <a:pt x="1478" y="184"/>
                    </a:lnTo>
                    <a:lnTo>
                      <a:pt x="1488" y="191"/>
                    </a:lnTo>
                    <a:lnTo>
                      <a:pt x="1494" y="191"/>
                    </a:lnTo>
                    <a:lnTo>
                      <a:pt x="1500" y="191"/>
                    </a:lnTo>
                    <a:lnTo>
                      <a:pt x="919" y="218"/>
                    </a:lnTo>
                    <a:lnTo>
                      <a:pt x="910" y="224"/>
                    </a:lnTo>
                    <a:lnTo>
                      <a:pt x="897" y="227"/>
                    </a:lnTo>
                    <a:lnTo>
                      <a:pt x="870" y="227"/>
                    </a:lnTo>
                    <a:lnTo>
                      <a:pt x="854" y="227"/>
                    </a:lnTo>
                    <a:lnTo>
                      <a:pt x="842" y="227"/>
                    </a:lnTo>
                    <a:lnTo>
                      <a:pt x="836" y="234"/>
                    </a:lnTo>
                    <a:lnTo>
                      <a:pt x="830" y="246"/>
                    </a:lnTo>
                    <a:lnTo>
                      <a:pt x="845" y="252"/>
                    </a:lnTo>
                    <a:lnTo>
                      <a:pt x="860" y="252"/>
                    </a:lnTo>
                    <a:lnTo>
                      <a:pt x="879" y="252"/>
                    </a:lnTo>
                    <a:lnTo>
                      <a:pt x="900" y="255"/>
                    </a:lnTo>
                    <a:lnTo>
                      <a:pt x="900" y="246"/>
                    </a:lnTo>
                    <a:lnTo>
                      <a:pt x="900" y="240"/>
                    </a:lnTo>
                    <a:lnTo>
                      <a:pt x="900" y="234"/>
                    </a:lnTo>
                    <a:lnTo>
                      <a:pt x="903" y="231"/>
                    </a:lnTo>
                    <a:lnTo>
                      <a:pt x="913" y="227"/>
                    </a:lnTo>
                    <a:lnTo>
                      <a:pt x="916" y="224"/>
                    </a:lnTo>
                    <a:lnTo>
                      <a:pt x="919" y="218"/>
                    </a:lnTo>
                    <a:lnTo>
                      <a:pt x="1500" y="191"/>
                    </a:lnTo>
                    <a:lnTo>
                      <a:pt x="799" y="633"/>
                    </a:lnTo>
                    <a:lnTo>
                      <a:pt x="793" y="621"/>
                    </a:lnTo>
                    <a:lnTo>
                      <a:pt x="787" y="611"/>
                    </a:lnTo>
                    <a:lnTo>
                      <a:pt x="780" y="605"/>
                    </a:lnTo>
                    <a:lnTo>
                      <a:pt x="774" y="602"/>
                    </a:lnTo>
                    <a:lnTo>
                      <a:pt x="765" y="602"/>
                    </a:lnTo>
                    <a:lnTo>
                      <a:pt x="759" y="602"/>
                    </a:lnTo>
                    <a:lnTo>
                      <a:pt x="744" y="611"/>
                    </a:lnTo>
                    <a:lnTo>
                      <a:pt x="731" y="627"/>
                    </a:lnTo>
                    <a:lnTo>
                      <a:pt x="719" y="648"/>
                    </a:lnTo>
                    <a:lnTo>
                      <a:pt x="713" y="673"/>
                    </a:lnTo>
                    <a:lnTo>
                      <a:pt x="713" y="701"/>
                    </a:lnTo>
                    <a:lnTo>
                      <a:pt x="725" y="694"/>
                    </a:lnTo>
                    <a:lnTo>
                      <a:pt x="737" y="688"/>
                    </a:lnTo>
                    <a:lnTo>
                      <a:pt x="765" y="682"/>
                    </a:lnTo>
                    <a:lnTo>
                      <a:pt x="793" y="682"/>
                    </a:lnTo>
                    <a:lnTo>
                      <a:pt x="820" y="685"/>
                    </a:lnTo>
                    <a:lnTo>
                      <a:pt x="876" y="694"/>
                    </a:lnTo>
                    <a:lnTo>
                      <a:pt x="900" y="694"/>
                    </a:lnTo>
                    <a:lnTo>
                      <a:pt x="925" y="691"/>
                    </a:lnTo>
                    <a:lnTo>
                      <a:pt x="925" y="679"/>
                    </a:lnTo>
                    <a:lnTo>
                      <a:pt x="922" y="673"/>
                    </a:lnTo>
                    <a:lnTo>
                      <a:pt x="913" y="658"/>
                    </a:lnTo>
                    <a:lnTo>
                      <a:pt x="897" y="648"/>
                    </a:lnTo>
                    <a:lnTo>
                      <a:pt x="885" y="639"/>
                    </a:lnTo>
                    <a:lnTo>
                      <a:pt x="870" y="630"/>
                    </a:lnTo>
                    <a:lnTo>
                      <a:pt x="857" y="621"/>
                    </a:lnTo>
                    <a:lnTo>
                      <a:pt x="854" y="618"/>
                    </a:lnTo>
                    <a:lnTo>
                      <a:pt x="851" y="611"/>
                    </a:lnTo>
                    <a:lnTo>
                      <a:pt x="851" y="605"/>
                    </a:lnTo>
                    <a:lnTo>
                      <a:pt x="854" y="596"/>
                    </a:lnTo>
                    <a:lnTo>
                      <a:pt x="845" y="596"/>
                    </a:lnTo>
                    <a:lnTo>
                      <a:pt x="836" y="602"/>
                    </a:lnTo>
                    <a:lnTo>
                      <a:pt x="827" y="615"/>
                    </a:lnTo>
                    <a:lnTo>
                      <a:pt x="817" y="630"/>
                    </a:lnTo>
                    <a:lnTo>
                      <a:pt x="808" y="633"/>
                    </a:lnTo>
                    <a:lnTo>
                      <a:pt x="799" y="633"/>
                    </a:lnTo>
                    <a:lnTo>
                      <a:pt x="1500" y="191"/>
                    </a:lnTo>
                    <a:lnTo>
                      <a:pt x="531" y="756"/>
                    </a:lnTo>
                    <a:lnTo>
                      <a:pt x="522" y="737"/>
                    </a:lnTo>
                    <a:lnTo>
                      <a:pt x="510" y="722"/>
                    </a:lnTo>
                    <a:lnTo>
                      <a:pt x="495" y="710"/>
                    </a:lnTo>
                    <a:lnTo>
                      <a:pt x="476" y="701"/>
                    </a:lnTo>
                    <a:lnTo>
                      <a:pt x="458" y="688"/>
                    </a:lnTo>
                    <a:lnTo>
                      <a:pt x="442" y="679"/>
                    </a:lnTo>
                    <a:lnTo>
                      <a:pt x="430" y="664"/>
                    </a:lnTo>
                    <a:lnTo>
                      <a:pt x="421" y="642"/>
                    </a:lnTo>
                    <a:lnTo>
                      <a:pt x="399" y="651"/>
                    </a:lnTo>
                    <a:lnTo>
                      <a:pt x="378" y="661"/>
                    </a:lnTo>
                    <a:lnTo>
                      <a:pt x="356" y="664"/>
                    </a:lnTo>
                    <a:lnTo>
                      <a:pt x="325" y="661"/>
                    </a:lnTo>
                    <a:lnTo>
                      <a:pt x="325" y="676"/>
                    </a:lnTo>
                    <a:lnTo>
                      <a:pt x="322" y="685"/>
                    </a:lnTo>
                    <a:lnTo>
                      <a:pt x="319" y="691"/>
                    </a:lnTo>
                    <a:lnTo>
                      <a:pt x="310" y="697"/>
                    </a:lnTo>
                    <a:lnTo>
                      <a:pt x="295" y="704"/>
                    </a:lnTo>
                    <a:lnTo>
                      <a:pt x="279" y="710"/>
                    </a:lnTo>
                    <a:lnTo>
                      <a:pt x="276" y="731"/>
                    </a:lnTo>
                    <a:lnTo>
                      <a:pt x="270" y="750"/>
                    </a:lnTo>
                    <a:lnTo>
                      <a:pt x="258" y="762"/>
                    </a:lnTo>
                    <a:lnTo>
                      <a:pt x="246" y="771"/>
                    </a:lnTo>
                    <a:lnTo>
                      <a:pt x="212" y="787"/>
                    </a:lnTo>
                    <a:lnTo>
                      <a:pt x="199" y="793"/>
                    </a:lnTo>
                    <a:lnTo>
                      <a:pt x="184" y="805"/>
                    </a:lnTo>
                    <a:lnTo>
                      <a:pt x="267" y="783"/>
                    </a:lnTo>
                    <a:lnTo>
                      <a:pt x="319" y="774"/>
                    </a:lnTo>
                    <a:lnTo>
                      <a:pt x="368" y="765"/>
                    </a:lnTo>
                    <a:lnTo>
                      <a:pt x="393" y="765"/>
                    </a:lnTo>
                    <a:lnTo>
                      <a:pt x="412" y="765"/>
                    </a:lnTo>
                    <a:lnTo>
                      <a:pt x="430" y="768"/>
                    </a:lnTo>
                    <a:lnTo>
                      <a:pt x="439" y="774"/>
                    </a:lnTo>
                    <a:lnTo>
                      <a:pt x="448" y="783"/>
                    </a:lnTo>
                    <a:lnTo>
                      <a:pt x="448" y="796"/>
                    </a:lnTo>
                    <a:lnTo>
                      <a:pt x="442" y="811"/>
                    </a:lnTo>
                    <a:lnTo>
                      <a:pt x="430" y="833"/>
                    </a:lnTo>
                    <a:lnTo>
                      <a:pt x="476" y="857"/>
                    </a:lnTo>
                    <a:lnTo>
                      <a:pt x="501" y="869"/>
                    </a:lnTo>
                    <a:lnTo>
                      <a:pt x="525" y="879"/>
                    </a:lnTo>
                    <a:lnTo>
                      <a:pt x="550" y="885"/>
                    </a:lnTo>
                    <a:lnTo>
                      <a:pt x="562" y="885"/>
                    </a:lnTo>
                    <a:lnTo>
                      <a:pt x="574" y="882"/>
                    </a:lnTo>
                    <a:lnTo>
                      <a:pt x="587" y="879"/>
                    </a:lnTo>
                    <a:lnTo>
                      <a:pt x="596" y="873"/>
                    </a:lnTo>
                    <a:lnTo>
                      <a:pt x="608" y="863"/>
                    </a:lnTo>
                    <a:lnTo>
                      <a:pt x="618" y="851"/>
                    </a:lnTo>
                    <a:lnTo>
                      <a:pt x="642" y="860"/>
                    </a:lnTo>
                    <a:lnTo>
                      <a:pt x="664" y="866"/>
                    </a:lnTo>
                    <a:lnTo>
                      <a:pt x="707" y="876"/>
                    </a:lnTo>
                    <a:lnTo>
                      <a:pt x="753" y="882"/>
                    </a:lnTo>
                    <a:lnTo>
                      <a:pt x="799" y="888"/>
                    </a:lnTo>
                    <a:lnTo>
                      <a:pt x="811" y="866"/>
                    </a:lnTo>
                    <a:lnTo>
                      <a:pt x="820" y="845"/>
                    </a:lnTo>
                    <a:lnTo>
                      <a:pt x="830" y="817"/>
                    </a:lnTo>
                    <a:lnTo>
                      <a:pt x="830" y="783"/>
                    </a:lnTo>
                    <a:lnTo>
                      <a:pt x="811" y="790"/>
                    </a:lnTo>
                    <a:lnTo>
                      <a:pt x="790" y="796"/>
                    </a:lnTo>
                    <a:lnTo>
                      <a:pt x="768" y="796"/>
                    </a:lnTo>
                    <a:lnTo>
                      <a:pt x="747" y="793"/>
                    </a:lnTo>
                    <a:lnTo>
                      <a:pt x="725" y="790"/>
                    </a:lnTo>
                    <a:lnTo>
                      <a:pt x="707" y="780"/>
                    </a:lnTo>
                    <a:lnTo>
                      <a:pt x="691" y="771"/>
                    </a:lnTo>
                    <a:lnTo>
                      <a:pt x="682" y="756"/>
                    </a:lnTo>
                    <a:lnTo>
                      <a:pt x="682" y="737"/>
                    </a:lnTo>
                    <a:lnTo>
                      <a:pt x="679" y="719"/>
                    </a:lnTo>
                    <a:lnTo>
                      <a:pt x="676" y="707"/>
                    </a:lnTo>
                    <a:lnTo>
                      <a:pt x="673" y="701"/>
                    </a:lnTo>
                    <a:lnTo>
                      <a:pt x="664" y="701"/>
                    </a:lnTo>
                    <a:lnTo>
                      <a:pt x="661" y="707"/>
                    </a:lnTo>
                    <a:lnTo>
                      <a:pt x="658" y="713"/>
                    </a:lnTo>
                    <a:lnTo>
                      <a:pt x="651" y="719"/>
                    </a:lnTo>
                    <a:lnTo>
                      <a:pt x="642" y="719"/>
                    </a:lnTo>
                    <a:lnTo>
                      <a:pt x="642" y="728"/>
                    </a:lnTo>
                    <a:lnTo>
                      <a:pt x="642" y="734"/>
                    </a:lnTo>
                    <a:lnTo>
                      <a:pt x="648" y="744"/>
                    </a:lnTo>
                    <a:lnTo>
                      <a:pt x="658" y="750"/>
                    </a:lnTo>
                    <a:lnTo>
                      <a:pt x="658" y="756"/>
                    </a:lnTo>
                    <a:lnTo>
                      <a:pt x="658" y="765"/>
                    </a:lnTo>
                    <a:lnTo>
                      <a:pt x="651" y="768"/>
                    </a:lnTo>
                    <a:lnTo>
                      <a:pt x="645" y="771"/>
                    </a:lnTo>
                    <a:lnTo>
                      <a:pt x="636" y="780"/>
                    </a:lnTo>
                    <a:lnTo>
                      <a:pt x="624" y="790"/>
                    </a:lnTo>
                    <a:lnTo>
                      <a:pt x="618" y="793"/>
                    </a:lnTo>
                    <a:lnTo>
                      <a:pt x="611" y="793"/>
                    </a:lnTo>
                    <a:lnTo>
                      <a:pt x="599" y="762"/>
                    </a:lnTo>
                    <a:lnTo>
                      <a:pt x="587" y="734"/>
                    </a:lnTo>
                    <a:lnTo>
                      <a:pt x="571" y="710"/>
                    </a:lnTo>
                    <a:lnTo>
                      <a:pt x="553" y="685"/>
                    </a:lnTo>
                    <a:lnTo>
                      <a:pt x="535" y="667"/>
                    </a:lnTo>
                    <a:lnTo>
                      <a:pt x="513" y="645"/>
                    </a:lnTo>
                    <a:lnTo>
                      <a:pt x="491" y="630"/>
                    </a:lnTo>
                    <a:lnTo>
                      <a:pt x="467" y="615"/>
                    </a:lnTo>
                    <a:lnTo>
                      <a:pt x="476" y="633"/>
                    </a:lnTo>
                    <a:lnTo>
                      <a:pt x="485" y="648"/>
                    </a:lnTo>
                    <a:lnTo>
                      <a:pt x="498" y="661"/>
                    </a:lnTo>
                    <a:lnTo>
                      <a:pt x="510" y="673"/>
                    </a:lnTo>
                    <a:lnTo>
                      <a:pt x="538" y="691"/>
                    </a:lnTo>
                    <a:lnTo>
                      <a:pt x="553" y="704"/>
                    </a:lnTo>
                    <a:lnTo>
                      <a:pt x="562" y="719"/>
                    </a:lnTo>
                    <a:lnTo>
                      <a:pt x="553" y="716"/>
                    </a:lnTo>
                    <a:lnTo>
                      <a:pt x="544" y="716"/>
                    </a:lnTo>
                    <a:lnTo>
                      <a:pt x="541" y="722"/>
                    </a:lnTo>
                    <a:lnTo>
                      <a:pt x="541" y="728"/>
                    </a:lnTo>
                    <a:lnTo>
                      <a:pt x="538" y="747"/>
                    </a:lnTo>
                    <a:lnTo>
                      <a:pt x="538" y="753"/>
                    </a:lnTo>
                    <a:lnTo>
                      <a:pt x="531" y="756"/>
                    </a:lnTo>
                    <a:lnTo>
                      <a:pt x="1500" y="191"/>
                    </a:lnTo>
                    <a:lnTo>
                      <a:pt x="1066" y="710"/>
                    </a:lnTo>
                    <a:lnTo>
                      <a:pt x="1063" y="716"/>
                    </a:lnTo>
                    <a:lnTo>
                      <a:pt x="1060" y="719"/>
                    </a:lnTo>
                    <a:lnTo>
                      <a:pt x="1045" y="725"/>
                    </a:lnTo>
                    <a:lnTo>
                      <a:pt x="1033" y="734"/>
                    </a:lnTo>
                    <a:lnTo>
                      <a:pt x="1030" y="737"/>
                    </a:lnTo>
                    <a:lnTo>
                      <a:pt x="1026" y="747"/>
                    </a:lnTo>
                    <a:lnTo>
                      <a:pt x="1036" y="756"/>
                    </a:lnTo>
                    <a:lnTo>
                      <a:pt x="1045" y="765"/>
                    </a:lnTo>
                    <a:lnTo>
                      <a:pt x="1057" y="774"/>
                    </a:lnTo>
                    <a:lnTo>
                      <a:pt x="1069" y="780"/>
                    </a:lnTo>
                    <a:lnTo>
                      <a:pt x="1082" y="783"/>
                    </a:lnTo>
                    <a:lnTo>
                      <a:pt x="1094" y="783"/>
                    </a:lnTo>
                    <a:lnTo>
                      <a:pt x="1109" y="780"/>
                    </a:lnTo>
                    <a:lnTo>
                      <a:pt x="1122" y="774"/>
                    </a:lnTo>
                    <a:lnTo>
                      <a:pt x="1119" y="747"/>
                    </a:lnTo>
                    <a:lnTo>
                      <a:pt x="1116" y="725"/>
                    </a:lnTo>
                    <a:lnTo>
                      <a:pt x="1109" y="707"/>
                    </a:lnTo>
                    <a:lnTo>
                      <a:pt x="1103" y="688"/>
                    </a:lnTo>
                    <a:lnTo>
                      <a:pt x="1085" y="658"/>
                    </a:lnTo>
                    <a:lnTo>
                      <a:pt x="1060" y="624"/>
                    </a:lnTo>
                    <a:lnTo>
                      <a:pt x="1066" y="618"/>
                    </a:lnTo>
                    <a:lnTo>
                      <a:pt x="1073" y="615"/>
                    </a:lnTo>
                    <a:lnTo>
                      <a:pt x="1094" y="615"/>
                    </a:lnTo>
                    <a:lnTo>
                      <a:pt x="1116" y="615"/>
                    </a:lnTo>
                    <a:lnTo>
                      <a:pt x="1125" y="611"/>
                    </a:lnTo>
                    <a:lnTo>
                      <a:pt x="1131" y="605"/>
                    </a:lnTo>
                    <a:lnTo>
                      <a:pt x="1119" y="590"/>
                    </a:lnTo>
                    <a:lnTo>
                      <a:pt x="1106" y="584"/>
                    </a:lnTo>
                    <a:lnTo>
                      <a:pt x="1091" y="581"/>
                    </a:lnTo>
                    <a:lnTo>
                      <a:pt x="1073" y="584"/>
                    </a:lnTo>
                    <a:lnTo>
                      <a:pt x="1039" y="596"/>
                    </a:lnTo>
                    <a:lnTo>
                      <a:pt x="1020" y="602"/>
                    </a:lnTo>
                    <a:lnTo>
                      <a:pt x="1005" y="605"/>
                    </a:lnTo>
                    <a:lnTo>
                      <a:pt x="1002" y="630"/>
                    </a:lnTo>
                    <a:lnTo>
                      <a:pt x="1008" y="645"/>
                    </a:lnTo>
                    <a:lnTo>
                      <a:pt x="1014" y="661"/>
                    </a:lnTo>
                    <a:lnTo>
                      <a:pt x="1026" y="670"/>
                    </a:lnTo>
                    <a:lnTo>
                      <a:pt x="1048" y="688"/>
                    </a:lnTo>
                    <a:lnTo>
                      <a:pt x="1060" y="697"/>
                    </a:lnTo>
                    <a:lnTo>
                      <a:pt x="1066" y="710"/>
                    </a:lnTo>
                    <a:lnTo>
                      <a:pt x="1500" y="191"/>
                    </a:lnTo>
                    <a:lnTo>
                      <a:pt x="1943" y="1106"/>
                    </a:lnTo>
                    <a:lnTo>
                      <a:pt x="1946" y="1121"/>
                    </a:lnTo>
                    <a:lnTo>
                      <a:pt x="1955" y="1137"/>
                    </a:lnTo>
                    <a:lnTo>
                      <a:pt x="1976" y="1158"/>
                    </a:lnTo>
                    <a:lnTo>
                      <a:pt x="1986" y="1171"/>
                    </a:lnTo>
                    <a:lnTo>
                      <a:pt x="1995" y="1180"/>
                    </a:lnTo>
                    <a:lnTo>
                      <a:pt x="2001" y="1195"/>
                    </a:lnTo>
                    <a:lnTo>
                      <a:pt x="2004" y="1210"/>
                    </a:lnTo>
                    <a:lnTo>
                      <a:pt x="2004" y="1229"/>
                    </a:lnTo>
                    <a:lnTo>
                      <a:pt x="2001" y="1247"/>
                    </a:lnTo>
                    <a:lnTo>
                      <a:pt x="1995" y="1260"/>
                    </a:lnTo>
                    <a:lnTo>
                      <a:pt x="1986" y="1269"/>
                    </a:lnTo>
                    <a:lnTo>
                      <a:pt x="1961" y="1287"/>
                    </a:lnTo>
                    <a:lnTo>
                      <a:pt x="1949" y="1300"/>
                    </a:lnTo>
                    <a:lnTo>
                      <a:pt x="1933" y="1312"/>
                    </a:lnTo>
                    <a:lnTo>
                      <a:pt x="1924" y="1306"/>
                    </a:lnTo>
                    <a:lnTo>
                      <a:pt x="1915" y="1296"/>
                    </a:lnTo>
                    <a:lnTo>
                      <a:pt x="1900" y="1272"/>
                    </a:lnTo>
                    <a:lnTo>
                      <a:pt x="1884" y="1247"/>
                    </a:lnTo>
                    <a:lnTo>
                      <a:pt x="1875" y="1235"/>
                    </a:lnTo>
                    <a:lnTo>
                      <a:pt x="1863" y="1229"/>
                    </a:lnTo>
                    <a:lnTo>
                      <a:pt x="1857" y="1229"/>
                    </a:lnTo>
                    <a:lnTo>
                      <a:pt x="1850" y="1235"/>
                    </a:lnTo>
                    <a:lnTo>
                      <a:pt x="1847" y="1253"/>
                    </a:lnTo>
                    <a:lnTo>
                      <a:pt x="1847" y="1272"/>
                    </a:lnTo>
                    <a:lnTo>
                      <a:pt x="1844" y="1278"/>
                    </a:lnTo>
                    <a:lnTo>
                      <a:pt x="1841" y="1284"/>
                    </a:lnTo>
                    <a:lnTo>
                      <a:pt x="1829" y="1275"/>
                    </a:lnTo>
                    <a:lnTo>
                      <a:pt x="1823" y="1266"/>
                    </a:lnTo>
                    <a:lnTo>
                      <a:pt x="1820" y="1250"/>
                    </a:lnTo>
                    <a:lnTo>
                      <a:pt x="1814" y="1235"/>
                    </a:lnTo>
                    <a:lnTo>
                      <a:pt x="1810" y="1198"/>
                    </a:lnTo>
                    <a:lnTo>
                      <a:pt x="1807" y="1161"/>
                    </a:lnTo>
                    <a:lnTo>
                      <a:pt x="1798" y="1161"/>
                    </a:lnTo>
                    <a:lnTo>
                      <a:pt x="1792" y="1161"/>
                    </a:lnTo>
                    <a:lnTo>
                      <a:pt x="1786" y="1167"/>
                    </a:lnTo>
                    <a:lnTo>
                      <a:pt x="1783" y="1174"/>
                    </a:lnTo>
                    <a:lnTo>
                      <a:pt x="1780" y="1183"/>
                    </a:lnTo>
                    <a:lnTo>
                      <a:pt x="1777" y="1189"/>
                    </a:lnTo>
                    <a:lnTo>
                      <a:pt x="1770" y="1192"/>
                    </a:lnTo>
                    <a:lnTo>
                      <a:pt x="1761" y="1189"/>
                    </a:lnTo>
                    <a:lnTo>
                      <a:pt x="1758" y="1167"/>
                    </a:lnTo>
                    <a:lnTo>
                      <a:pt x="1755" y="1149"/>
                    </a:lnTo>
                    <a:lnTo>
                      <a:pt x="1749" y="1131"/>
                    </a:lnTo>
                    <a:lnTo>
                      <a:pt x="1743" y="1112"/>
                    </a:lnTo>
                    <a:lnTo>
                      <a:pt x="1727" y="1081"/>
                    </a:lnTo>
                    <a:lnTo>
                      <a:pt x="1715" y="1048"/>
                    </a:lnTo>
                    <a:lnTo>
                      <a:pt x="1700" y="1051"/>
                    </a:lnTo>
                    <a:lnTo>
                      <a:pt x="1684" y="1054"/>
                    </a:lnTo>
                    <a:lnTo>
                      <a:pt x="1660" y="1066"/>
                    </a:lnTo>
                    <a:lnTo>
                      <a:pt x="1638" y="1081"/>
                    </a:lnTo>
                    <a:lnTo>
                      <a:pt x="1620" y="1100"/>
                    </a:lnTo>
                    <a:lnTo>
                      <a:pt x="1583" y="1140"/>
                    </a:lnTo>
                    <a:lnTo>
                      <a:pt x="1561" y="1158"/>
                    </a:lnTo>
                    <a:lnTo>
                      <a:pt x="1540" y="1171"/>
                    </a:lnTo>
                    <a:lnTo>
                      <a:pt x="1537" y="1226"/>
                    </a:lnTo>
                    <a:lnTo>
                      <a:pt x="1534" y="1250"/>
                    </a:lnTo>
                    <a:lnTo>
                      <a:pt x="1528" y="1275"/>
                    </a:lnTo>
                    <a:lnTo>
                      <a:pt x="1521" y="1296"/>
                    </a:lnTo>
                    <a:lnTo>
                      <a:pt x="1512" y="1315"/>
                    </a:lnTo>
                    <a:lnTo>
                      <a:pt x="1500" y="1330"/>
                    </a:lnTo>
                    <a:lnTo>
                      <a:pt x="1485" y="1343"/>
                    </a:lnTo>
                    <a:lnTo>
                      <a:pt x="1478" y="1306"/>
                    </a:lnTo>
                    <a:lnTo>
                      <a:pt x="1466" y="1275"/>
                    </a:lnTo>
                    <a:lnTo>
                      <a:pt x="1438" y="1214"/>
                    </a:lnTo>
                    <a:lnTo>
                      <a:pt x="1426" y="1183"/>
                    </a:lnTo>
                    <a:lnTo>
                      <a:pt x="1414" y="1149"/>
                    </a:lnTo>
                    <a:lnTo>
                      <a:pt x="1411" y="1115"/>
                    </a:lnTo>
                    <a:lnTo>
                      <a:pt x="1411" y="1097"/>
                    </a:lnTo>
                    <a:lnTo>
                      <a:pt x="1414" y="1078"/>
                    </a:lnTo>
                    <a:lnTo>
                      <a:pt x="1411" y="1072"/>
                    </a:lnTo>
                    <a:lnTo>
                      <a:pt x="1408" y="1069"/>
                    </a:lnTo>
                    <a:lnTo>
                      <a:pt x="1398" y="1075"/>
                    </a:lnTo>
                    <a:lnTo>
                      <a:pt x="1389" y="1084"/>
                    </a:lnTo>
                    <a:lnTo>
                      <a:pt x="1380" y="1088"/>
                    </a:lnTo>
                    <a:lnTo>
                      <a:pt x="1374" y="1088"/>
                    </a:lnTo>
                    <a:lnTo>
                      <a:pt x="1371" y="1069"/>
                    </a:lnTo>
                    <a:lnTo>
                      <a:pt x="1368" y="1054"/>
                    </a:lnTo>
                    <a:lnTo>
                      <a:pt x="1359" y="1041"/>
                    </a:lnTo>
                    <a:lnTo>
                      <a:pt x="1352" y="1029"/>
                    </a:lnTo>
                    <a:lnTo>
                      <a:pt x="1331" y="1011"/>
                    </a:lnTo>
                    <a:lnTo>
                      <a:pt x="1312" y="992"/>
                    </a:lnTo>
                    <a:lnTo>
                      <a:pt x="1297" y="1002"/>
                    </a:lnTo>
                    <a:lnTo>
                      <a:pt x="1275" y="1008"/>
                    </a:lnTo>
                    <a:lnTo>
                      <a:pt x="1254" y="1011"/>
                    </a:lnTo>
                    <a:lnTo>
                      <a:pt x="1229" y="1011"/>
                    </a:lnTo>
                    <a:lnTo>
                      <a:pt x="1208" y="1008"/>
                    </a:lnTo>
                    <a:lnTo>
                      <a:pt x="1189" y="998"/>
                    </a:lnTo>
                    <a:lnTo>
                      <a:pt x="1183" y="992"/>
                    </a:lnTo>
                    <a:lnTo>
                      <a:pt x="1177" y="983"/>
                    </a:lnTo>
                    <a:lnTo>
                      <a:pt x="1171" y="974"/>
                    </a:lnTo>
                    <a:lnTo>
                      <a:pt x="1171" y="965"/>
                    </a:lnTo>
                    <a:lnTo>
                      <a:pt x="1153" y="974"/>
                    </a:lnTo>
                    <a:lnTo>
                      <a:pt x="1134" y="977"/>
                    </a:lnTo>
                    <a:lnTo>
                      <a:pt x="1119" y="974"/>
                    </a:lnTo>
                    <a:lnTo>
                      <a:pt x="1103" y="965"/>
                    </a:lnTo>
                    <a:lnTo>
                      <a:pt x="1088" y="952"/>
                    </a:lnTo>
                    <a:lnTo>
                      <a:pt x="1076" y="937"/>
                    </a:lnTo>
                    <a:lnTo>
                      <a:pt x="1066" y="919"/>
                    </a:lnTo>
                    <a:lnTo>
                      <a:pt x="1060" y="897"/>
                    </a:lnTo>
                    <a:lnTo>
                      <a:pt x="1048" y="903"/>
                    </a:lnTo>
                    <a:lnTo>
                      <a:pt x="1042" y="906"/>
                    </a:lnTo>
                    <a:lnTo>
                      <a:pt x="1036" y="906"/>
                    </a:lnTo>
                    <a:lnTo>
                      <a:pt x="1039" y="928"/>
                    </a:lnTo>
                    <a:lnTo>
                      <a:pt x="1048" y="943"/>
                    </a:lnTo>
                    <a:lnTo>
                      <a:pt x="1054" y="959"/>
                    </a:lnTo>
                    <a:lnTo>
                      <a:pt x="1063" y="971"/>
                    </a:lnTo>
                    <a:lnTo>
                      <a:pt x="1085" y="998"/>
                    </a:lnTo>
                    <a:lnTo>
                      <a:pt x="1094" y="1014"/>
                    </a:lnTo>
                    <a:lnTo>
                      <a:pt x="1100" y="1029"/>
                    </a:lnTo>
                    <a:lnTo>
                      <a:pt x="1113" y="1020"/>
                    </a:lnTo>
                    <a:lnTo>
                      <a:pt x="1125" y="1011"/>
                    </a:lnTo>
                    <a:lnTo>
                      <a:pt x="1137" y="998"/>
                    </a:lnTo>
                    <a:lnTo>
                      <a:pt x="1143" y="992"/>
                    </a:lnTo>
                    <a:lnTo>
                      <a:pt x="1146" y="983"/>
                    </a:lnTo>
                    <a:lnTo>
                      <a:pt x="1153" y="992"/>
                    </a:lnTo>
                    <a:lnTo>
                      <a:pt x="1162" y="998"/>
                    </a:lnTo>
                    <a:lnTo>
                      <a:pt x="1180" y="1014"/>
                    </a:lnTo>
                    <a:lnTo>
                      <a:pt x="1199" y="1026"/>
                    </a:lnTo>
                    <a:lnTo>
                      <a:pt x="1217" y="1038"/>
                    </a:lnTo>
                    <a:lnTo>
                      <a:pt x="1211" y="1063"/>
                    </a:lnTo>
                    <a:lnTo>
                      <a:pt x="1202" y="1084"/>
                    </a:lnTo>
                    <a:lnTo>
                      <a:pt x="1189" y="1103"/>
                    </a:lnTo>
                    <a:lnTo>
                      <a:pt x="1177" y="1121"/>
                    </a:lnTo>
                    <a:lnTo>
                      <a:pt x="1165" y="1137"/>
                    </a:lnTo>
                    <a:lnTo>
                      <a:pt x="1149" y="1149"/>
                    </a:lnTo>
                    <a:lnTo>
                      <a:pt x="1116" y="1174"/>
                    </a:lnTo>
                    <a:lnTo>
                      <a:pt x="1079" y="1192"/>
                    </a:lnTo>
                    <a:lnTo>
                      <a:pt x="1039" y="1207"/>
                    </a:lnTo>
                    <a:lnTo>
                      <a:pt x="956" y="1238"/>
                    </a:lnTo>
                    <a:lnTo>
                      <a:pt x="950" y="1217"/>
                    </a:lnTo>
                    <a:lnTo>
                      <a:pt x="943" y="1195"/>
                    </a:lnTo>
                    <a:lnTo>
                      <a:pt x="931" y="1152"/>
                    </a:lnTo>
                    <a:lnTo>
                      <a:pt x="922" y="1131"/>
                    </a:lnTo>
                    <a:lnTo>
                      <a:pt x="913" y="1112"/>
                    </a:lnTo>
                    <a:lnTo>
                      <a:pt x="900" y="1097"/>
                    </a:lnTo>
                    <a:lnTo>
                      <a:pt x="885" y="1088"/>
                    </a:lnTo>
                    <a:lnTo>
                      <a:pt x="873" y="1045"/>
                    </a:lnTo>
                    <a:lnTo>
                      <a:pt x="860" y="1005"/>
                    </a:lnTo>
                    <a:lnTo>
                      <a:pt x="851" y="986"/>
                    </a:lnTo>
                    <a:lnTo>
                      <a:pt x="842" y="971"/>
                    </a:lnTo>
                    <a:lnTo>
                      <a:pt x="830" y="955"/>
                    </a:lnTo>
                    <a:lnTo>
                      <a:pt x="814" y="946"/>
                    </a:lnTo>
                    <a:lnTo>
                      <a:pt x="824" y="980"/>
                    </a:lnTo>
                    <a:lnTo>
                      <a:pt x="833" y="1020"/>
                    </a:lnTo>
                    <a:lnTo>
                      <a:pt x="848" y="1057"/>
                    </a:lnTo>
                    <a:lnTo>
                      <a:pt x="863" y="1097"/>
                    </a:lnTo>
                    <a:lnTo>
                      <a:pt x="882" y="1134"/>
                    </a:lnTo>
                    <a:lnTo>
                      <a:pt x="903" y="1171"/>
                    </a:lnTo>
                    <a:lnTo>
                      <a:pt x="925" y="1201"/>
                    </a:lnTo>
                    <a:lnTo>
                      <a:pt x="950" y="1229"/>
                    </a:lnTo>
                    <a:lnTo>
                      <a:pt x="950" y="1275"/>
                    </a:lnTo>
                    <a:lnTo>
                      <a:pt x="971" y="1275"/>
                    </a:lnTo>
                    <a:lnTo>
                      <a:pt x="986" y="1275"/>
                    </a:lnTo>
                    <a:lnTo>
                      <a:pt x="1002" y="1269"/>
                    </a:lnTo>
                    <a:lnTo>
                      <a:pt x="1017" y="1263"/>
                    </a:lnTo>
                    <a:lnTo>
                      <a:pt x="1045" y="1250"/>
                    </a:lnTo>
                    <a:lnTo>
                      <a:pt x="1063" y="1247"/>
                    </a:lnTo>
                    <a:lnTo>
                      <a:pt x="1082" y="1247"/>
                    </a:lnTo>
                    <a:lnTo>
                      <a:pt x="1079" y="1275"/>
                    </a:lnTo>
                    <a:lnTo>
                      <a:pt x="1069" y="1303"/>
                    </a:lnTo>
                    <a:lnTo>
                      <a:pt x="1063" y="1327"/>
                    </a:lnTo>
                    <a:lnTo>
                      <a:pt x="1051" y="1349"/>
                    </a:lnTo>
                    <a:lnTo>
                      <a:pt x="1026" y="1389"/>
                    </a:lnTo>
                    <a:lnTo>
                      <a:pt x="999" y="1425"/>
                    </a:lnTo>
                    <a:lnTo>
                      <a:pt x="937" y="1490"/>
                    </a:lnTo>
                    <a:lnTo>
                      <a:pt x="910" y="1527"/>
                    </a:lnTo>
                    <a:lnTo>
                      <a:pt x="885" y="1567"/>
                    </a:lnTo>
                    <a:lnTo>
                      <a:pt x="891" y="1597"/>
                    </a:lnTo>
                    <a:lnTo>
                      <a:pt x="894" y="1625"/>
                    </a:lnTo>
                    <a:lnTo>
                      <a:pt x="897" y="1637"/>
                    </a:lnTo>
                    <a:lnTo>
                      <a:pt x="900" y="1650"/>
                    </a:lnTo>
                    <a:lnTo>
                      <a:pt x="907" y="1656"/>
                    </a:lnTo>
                    <a:lnTo>
                      <a:pt x="919" y="1662"/>
                    </a:lnTo>
                    <a:lnTo>
                      <a:pt x="919" y="1699"/>
                    </a:lnTo>
                    <a:lnTo>
                      <a:pt x="913" y="1733"/>
                    </a:lnTo>
                    <a:lnTo>
                      <a:pt x="903" y="1757"/>
                    </a:lnTo>
                    <a:lnTo>
                      <a:pt x="891" y="1782"/>
                    </a:lnTo>
                    <a:lnTo>
                      <a:pt x="876" y="1800"/>
                    </a:lnTo>
                    <a:lnTo>
                      <a:pt x="860" y="1819"/>
                    </a:lnTo>
                    <a:lnTo>
                      <a:pt x="824" y="1849"/>
                    </a:lnTo>
                    <a:lnTo>
                      <a:pt x="827" y="1889"/>
                    </a:lnTo>
                    <a:lnTo>
                      <a:pt x="833" y="1905"/>
                    </a:lnTo>
                    <a:lnTo>
                      <a:pt x="839" y="1917"/>
                    </a:lnTo>
                    <a:lnTo>
                      <a:pt x="830" y="1932"/>
                    </a:lnTo>
                    <a:lnTo>
                      <a:pt x="820" y="1942"/>
                    </a:lnTo>
                    <a:lnTo>
                      <a:pt x="808" y="1951"/>
                    </a:lnTo>
                    <a:lnTo>
                      <a:pt x="793" y="1954"/>
                    </a:lnTo>
                    <a:lnTo>
                      <a:pt x="790" y="1978"/>
                    </a:lnTo>
                    <a:lnTo>
                      <a:pt x="784" y="2000"/>
                    </a:lnTo>
                    <a:lnTo>
                      <a:pt x="774" y="2021"/>
                    </a:lnTo>
                    <a:lnTo>
                      <a:pt x="765" y="2037"/>
                    </a:lnTo>
                    <a:lnTo>
                      <a:pt x="756" y="2055"/>
                    </a:lnTo>
                    <a:lnTo>
                      <a:pt x="741" y="2067"/>
                    </a:lnTo>
                    <a:lnTo>
                      <a:pt x="728" y="2083"/>
                    </a:lnTo>
                    <a:lnTo>
                      <a:pt x="713" y="2092"/>
                    </a:lnTo>
                    <a:lnTo>
                      <a:pt x="694" y="2101"/>
                    </a:lnTo>
                    <a:lnTo>
                      <a:pt x="676" y="2110"/>
                    </a:lnTo>
                    <a:lnTo>
                      <a:pt x="639" y="2120"/>
                    </a:lnTo>
                    <a:lnTo>
                      <a:pt x="602" y="2126"/>
                    </a:lnTo>
                    <a:lnTo>
                      <a:pt x="562" y="2126"/>
                    </a:lnTo>
                    <a:lnTo>
                      <a:pt x="553" y="2083"/>
                    </a:lnTo>
                    <a:lnTo>
                      <a:pt x="544" y="2046"/>
                    </a:lnTo>
                    <a:lnTo>
                      <a:pt x="538" y="2028"/>
                    </a:lnTo>
                    <a:lnTo>
                      <a:pt x="528" y="2009"/>
                    </a:lnTo>
                    <a:lnTo>
                      <a:pt x="519" y="1994"/>
                    </a:lnTo>
                    <a:lnTo>
                      <a:pt x="507" y="1981"/>
                    </a:lnTo>
                    <a:lnTo>
                      <a:pt x="507" y="1945"/>
                    </a:lnTo>
                    <a:lnTo>
                      <a:pt x="501" y="1911"/>
                    </a:lnTo>
                    <a:lnTo>
                      <a:pt x="491" y="1886"/>
                    </a:lnTo>
                    <a:lnTo>
                      <a:pt x="479" y="1862"/>
                    </a:lnTo>
                    <a:lnTo>
                      <a:pt x="467" y="1834"/>
                    </a:lnTo>
                    <a:lnTo>
                      <a:pt x="458" y="1809"/>
                    </a:lnTo>
                    <a:lnTo>
                      <a:pt x="452" y="1776"/>
                    </a:lnTo>
                    <a:lnTo>
                      <a:pt x="452" y="1739"/>
                    </a:lnTo>
                    <a:lnTo>
                      <a:pt x="470" y="1714"/>
                    </a:lnTo>
                    <a:lnTo>
                      <a:pt x="485" y="1690"/>
                    </a:lnTo>
                    <a:lnTo>
                      <a:pt x="473" y="1634"/>
                    </a:lnTo>
                    <a:lnTo>
                      <a:pt x="458" y="1579"/>
                    </a:lnTo>
                    <a:lnTo>
                      <a:pt x="448" y="1558"/>
                    </a:lnTo>
                    <a:lnTo>
                      <a:pt x="436" y="1536"/>
                    </a:lnTo>
                    <a:lnTo>
                      <a:pt x="421" y="1518"/>
                    </a:lnTo>
                    <a:lnTo>
                      <a:pt x="405" y="1502"/>
                    </a:lnTo>
                    <a:lnTo>
                      <a:pt x="408" y="1478"/>
                    </a:lnTo>
                    <a:lnTo>
                      <a:pt x="415" y="1450"/>
                    </a:lnTo>
                    <a:lnTo>
                      <a:pt x="421" y="1429"/>
                    </a:lnTo>
                    <a:lnTo>
                      <a:pt x="430" y="1407"/>
                    </a:lnTo>
                    <a:lnTo>
                      <a:pt x="424" y="1401"/>
                    </a:lnTo>
                    <a:lnTo>
                      <a:pt x="421" y="1395"/>
                    </a:lnTo>
                    <a:lnTo>
                      <a:pt x="415" y="1389"/>
                    </a:lnTo>
                    <a:lnTo>
                      <a:pt x="412" y="1379"/>
                    </a:lnTo>
                    <a:lnTo>
                      <a:pt x="405" y="1379"/>
                    </a:lnTo>
                    <a:lnTo>
                      <a:pt x="399" y="1382"/>
                    </a:lnTo>
                    <a:lnTo>
                      <a:pt x="387" y="1392"/>
                    </a:lnTo>
                    <a:lnTo>
                      <a:pt x="384" y="1398"/>
                    </a:lnTo>
                    <a:lnTo>
                      <a:pt x="378" y="1401"/>
                    </a:lnTo>
                    <a:lnTo>
                      <a:pt x="368" y="1401"/>
                    </a:lnTo>
                    <a:lnTo>
                      <a:pt x="356" y="1398"/>
                    </a:lnTo>
                    <a:lnTo>
                      <a:pt x="353" y="1389"/>
                    </a:lnTo>
                    <a:lnTo>
                      <a:pt x="350" y="1373"/>
                    </a:lnTo>
                    <a:lnTo>
                      <a:pt x="347" y="1361"/>
                    </a:lnTo>
                    <a:lnTo>
                      <a:pt x="341" y="1352"/>
                    </a:lnTo>
                    <a:lnTo>
                      <a:pt x="319" y="1352"/>
                    </a:lnTo>
                    <a:lnTo>
                      <a:pt x="298" y="1355"/>
                    </a:lnTo>
                    <a:lnTo>
                      <a:pt x="264" y="1370"/>
                    </a:lnTo>
                    <a:lnTo>
                      <a:pt x="246" y="1376"/>
                    </a:lnTo>
                    <a:lnTo>
                      <a:pt x="227" y="1382"/>
                    </a:lnTo>
                    <a:lnTo>
                      <a:pt x="202" y="1382"/>
                    </a:lnTo>
                    <a:lnTo>
                      <a:pt x="178" y="1379"/>
                    </a:lnTo>
                    <a:lnTo>
                      <a:pt x="169" y="1379"/>
                    </a:lnTo>
                    <a:lnTo>
                      <a:pt x="166" y="1379"/>
                    </a:lnTo>
                    <a:lnTo>
                      <a:pt x="162" y="1382"/>
                    </a:lnTo>
                    <a:lnTo>
                      <a:pt x="159" y="1389"/>
                    </a:lnTo>
                    <a:lnTo>
                      <a:pt x="156" y="1398"/>
                    </a:lnTo>
                    <a:lnTo>
                      <a:pt x="153" y="1407"/>
                    </a:lnTo>
                    <a:lnTo>
                      <a:pt x="129" y="1392"/>
                    </a:lnTo>
                    <a:lnTo>
                      <a:pt x="110" y="1376"/>
                    </a:lnTo>
                    <a:lnTo>
                      <a:pt x="95" y="1355"/>
                    </a:lnTo>
                    <a:lnTo>
                      <a:pt x="79" y="1330"/>
                    </a:lnTo>
                    <a:lnTo>
                      <a:pt x="64" y="1309"/>
                    </a:lnTo>
                    <a:lnTo>
                      <a:pt x="46" y="1287"/>
                    </a:lnTo>
                    <a:lnTo>
                      <a:pt x="27" y="1269"/>
                    </a:lnTo>
                    <a:lnTo>
                      <a:pt x="3" y="1257"/>
                    </a:lnTo>
                    <a:lnTo>
                      <a:pt x="0" y="1220"/>
                    </a:lnTo>
                    <a:lnTo>
                      <a:pt x="0" y="1192"/>
                    </a:lnTo>
                    <a:lnTo>
                      <a:pt x="0" y="1177"/>
                    </a:lnTo>
                    <a:lnTo>
                      <a:pt x="3" y="1164"/>
                    </a:lnTo>
                    <a:lnTo>
                      <a:pt x="9" y="1155"/>
                    </a:lnTo>
                    <a:lnTo>
                      <a:pt x="18" y="1143"/>
                    </a:lnTo>
                    <a:lnTo>
                      <a:pt x="12" y="1103"/>
                    </a:lnTo>
                    <a:lnTo>
                      <a:pt x="12" y="1066"/>
                    </a:lnTo>
                    <a:lnTo>
                      <a:pt x="15" y="1032"/>
                    </a:lnTo>
                    <a:lnTo>
                      <a:pt x="27" y="1002"/>
                    </a:lnTo>
                    <a:lnTo>
                      <a:pt x="43" y="977"/>
                    </a:lnTo>
                    <a:lnTo>
                      <a:pt x="64" y="952"/>
                    </a:lnTo>
                    <a:lnTo>
                      <a:pt x="86" y="934"/>
                    </a:lnTo>
                    <a:lnTo>
                      <a:pt x="113" y="916"/>
                    </a:lnTo>
                    <a:lnTo>
                      <a:pt x="113" y="894"/>
                    </a:lnTo>
                    <a:lnTo>
                      <a:pt x="116" y="876"/>
                    </a:lnTo>
                    <a:lnTo>
                      <a:pt x="123" y="857"/>
                    </a:lnTo>
                    <a:lnTo>
                      <a:pt x="129" y="845"/>
                    </a:lnTo>
                    <a:lnTo>
                      <a:pt x="138" y="836"/>
                    </a:lnTo>
                    <a:lnTo>
                      <a:pt x="150" y="826"/>
                    </a:lnTo>
                    <a:lnTo>
                      <a:pt x="178" y="814"/>
                    </a:lnTo>
                    <a:lnTo>
                      <a:pt x="175" y="799"/>
                    </a:lnTo>
                    <a:lnTo>
                      <a:pt x="169" y="787"/>
                    </a:lnTo>
                    <a:lnTo>
                      <a:pt x="162" y="780"/>
                    </a:lnTo>
                    <a:lnTo>
                      <a:pt x="150" y="777"/>
                    </a:lnTo>
                    <a:lnTo>
                      <a:pt x="129" y="768"/>
                    </a:lnTo>
                    <a:lnTo>
                      <a:pt x="119" y="765"/>
                    </a:lnTo>
                    <a:lnTo>
                      <a:pt x="113" y="756"/>
                    </a:lnTo>
                    <a:lnTo>
                      <a:pt x="119" y="728"/>
                    </a:lnTo>
                    <a:lnTo>
                      <a:pt x="119" y="697"/>
                    </a:lnTo>
                    <a:lnTo>
                      <a:pt x="123" y="667"/>
                    </a:lnTo>
                    <a:lnTo>
                      <a:pt x="126" y="654"/>
                    </a:lnTo>
                    <a:lnTo>
                      <a:pt x="129" y="642"/>
                    </a:lnTo>
                    <a:lnTo>
                      <a:pt x="153" y="642"/>
                    </a:lnTo>
                    <a:lnTo>
                      <a:pt x="181" y="642"/>
                    </a:lnTo>
                    <a:lnTo>
                      <a:pt x="206" y="645"/>
                    </a:lnTo>
                    <a:lnTo>
                      <a:pt x="215" y="648"/>
                    </a:lnTo>
                    <a:lnTo>
                      <a:pt x="224" y="651"/>
                    </a:lnTo>
                    <a:lnTo>
                      <a:pt x="233" y="645"/>
                    </a:lnTo>
                    <a:lnTo>
                      <a:pt x="239" y="639"/>
                    </a:lnTo>
                    <a:lnTo>
                      <a:pt x="246" y="630"/>
                    </a:lnTo>
                    <a:lnTo>
                      <a:pt x="249" y="615"/>
                    </a:lnTo>
                    <a:lnTo>
                      <a:pt x="246" y="602"/>
                    </a:lnTo>
                    <a:lnTo>
                      <a:pt x="242" y="593"/>
                    </a:lnTo>
                    <a:lnTo>
                      <a:pt x="236" y="587"/>
                    </a:lnTo>
                    <a:lnTo>
                      <a:pt x="227" y="581"/>
                    </a:lnTo>
                    <a:lnTo>
                      <a:pt x="209" y="575"/>
                    </a:lnTo>
                    <a:lnTo>
                      <a:pt x="199" y="572"/>
                    </a:lnTo>
                    <a:lnTo>
                      <a:pt x="193" y="568"/>
                    </a:lnTo>
                    <a:lnTo>
                      <a:pt x="199" y="556"/>
                    </a:lnTo>
                    <a:lnTo>
                      <a:pt x="212" y="550"/>
                    </a:lnTo>
                    <a:lnTo>
                      <a:pt x="227" y="544"/>
                    </a:lnTo>
                    <a:lnTo>
                      <a:pt x="239" y="541"/>
                    </a:lnTo>
                    <a:lnTo>
                      <a:pt x="270" y="535"/>
                    </a:lnTo>
                    <a:lnTo>
                      <a:pt x="282" y="529"/>
                    </a:lnTo>
                    <a:lnTo>
                      <a:pt x="295" y="519"/>
                    </a:lnTo>
                    <a:lnTo>
                      <a:pt x="282" y="519"/>
                    </a:lnTo>
                    <a:lnTo>
                      <a:pt x="267" y="519"/>
                    </a:lnTo>
                    <a:lnTo>
                      <a:pt x="236" y="522"/>
                    </a:lnTo>
                    <a:lnTo>
                      <a:pt x="218" y="522"/>
                    </a:lnTo>
                    <a:lnTo>
                      <a:pt x="206" y="519"/>
                    </a:lnTo>
                    <a:lnTo>
                      <a:pt x="193" y="513"/>
                    </a:lnTo>
                    <a:lnTo>
                      <a:pt x="187" y="507"/>
                    </a:lnTo>
                    <a:lnTo>
                      <a:pt x="184" y="501"/>
                    </a:lnTo>
                    <a:lnTo>
                      <a:pt x="187" y="486"/>
                    </a:lnTo>
                    <a:lnTo>
                      <a:pt x="193" y="473"/>
                    </a:lnTo>
                    <a:lnTo>
                      <a:pt x="202" y="467"/>
                    </a:lnTo>
                    <a:lnTo>
                      <a:pt x="215" y="464"/>
                    </a:lnTo>
                    <a:lnTo>
                      <a:pt x="215" y="455"/>
                    </a:lnTo>
                    <a:lnTo>
                      <a:pt x="212" y="452"/>
                    </a:lnTo>
                    <a:lnTo>
                      <a:pt x="209" y="449"/>
                    </a:lnTo>
                    <a:lnTo>
                      <a:pt x="202" y="449"/>
                    </a:lnTo>
                    <a:lnTo>
                      <a:pt x="190" y="446"/>
                    </a:lnTo>
                    <a:lnTo>
                      <a:pt x="187" y="442"/>
                    </a:lnTo>
                    <a:lnTo>
                      <a:pt x="184" y="436"/>
                    </a:lnTo>
                    <a:lnTo>
                      <a:pt x="175" y="467"/>
                    </a:lnTo>
                    <a:lnTo>
                      <a:pt x="169" y="479"/>
                    </a:lnTo>
                    <a:lnTo>
                      <a:pt x="162" y="489"/>
                    </a:lnTo>
                    <a:lnTo>
                      <a:pt x="153" y="498"/>
                    </a:lnTo>
                    <a:lnTo>
                      <a:pt x="141" y="507"/>
                    </a:lnTo>
                    <a:lnTo>
                      <a:pt x="129" y="510"/>
                    </a:lnTo>
                    <a:lnTo>
                      <a:pt x="113" y="510"/>
                    </a:lnTo>
                    <a:lnTo>
                      <a:pt x="107" y="504"/>
                    </a:lnTo>
                    <a:lnTo>
                      <a:pt x="107" y="498"/>
                    </a:lnTo>
                    <a:lnTo>
                      <a:pt x="110" y="486"/>
                    </a:lnTo>
                    <a:lnTo>
                      <a:pt x="113" y="473"/>
                    </a:lnTo>
                    <a:lnTo>
                      <a:pt x="110" y="467"/>
                    </a:lnTo>
                    <a:lnTo>
                      <a:pt x="104" y="464"/>
                    </a:lnTo>
                    <a:lnTo>
                      <a:pt x="116" y="449"/>
                    </a:lnTo>
                    <a:lnTo>
                      <a:pt x="126" y="436"/>
                    </a:lnTo>
                    <a:lnTo>
                      <a:pt x="141" y="430"/>
                    </a:lnTo>
                    <a:lnTo>
                      <a:pt x="159" y="427"/>
                    </a:lnTo>
                    <a:lnTo>
                      <a:pt x="166" y="424"/>
                    </a:lnTo>
                    <a:lnTo>
                      <a:pt x="166" y="418"/>
                    </a:lnTo>
                    <a:lnTo>
                      <a:pt x="159" y="412"/>
                    </a:lnTo>
                    <a:lnTo>
                      <a:pt x="156" y="406"/>
                    </a:lnTo>
                    <a:lnTo>
                      <a:pt x="150" y="396"/>
                    </a:lnTo>
                    <a:lnTo>
                      <a:pt x="150" y="390"/>
                    </a:lnTo>
                    <a:lnTo>
                      <a:pt x="153" y="378"/>
                    </a:lnTo>
                    <a:lnTo>
                      <a:pt x="169" y="369"/>
                    </a:lnTo>
                    <a:lnTo>
                      <a:pt x="184" y="366"/>
                    </a:lnTo>
                    <a:lnTo>
                      <a:pt x="196" y="366"/>
                    </a:lnTo>
                    <a:lnTo>
                      <a:pt x="209" y="366"/>
                    </a:lnTo>
                    <a:lnTo>
                      <a:pt x="218" y="372"/>
                    </a:lnTo>
                    <a:lnTo>
                      <a:pt x="227" y="381"/>
                    </a:lnTo>
                    <a:lnTo>
                      <a:pt x="242" y="399"/>
                    </a:lnTo>
                    <a:lnTo>
                      <a:pt x="258" y="427"/>
                    </a:lnTo>
                    <a:lnTo>
                      <a:pt x="270" y="455"/>
                    </a:lnTo>
                    <a:lnTo>
                      <a:pt x="285" y="479"/>
                    </a:lnTo>
                    <a:lnTo>
                      <a:pt x="304" y="501"/>
                    </a:lnTo>
                    <a:lnTo>
                      <a:pt x="316" y="498"/>
                    </a:lnTo>
                    <a:lnTo>
                      <a:pt x="329" y="492"/>
                    </a:lnTo>
                    <a:lnTo>
                      <a:pt x="350" y="470"/>
                    </a:lnTo>
                    <a:lnTo>
                      <a:pt x="362" y="461"/>
                    </a:lnTo>
                    <a:lnTo>
                      <a:pt x="372" y="458"/>
                    </a:lnTo>
                    <a:lnTo>
                      <a:pt x="384" y="458"/>
                    </a:lnTo>
                    <a:lnTo>
                      <a:pt x="396" y="464"/>
                    </a:lnTo>
                    <a:lnTo>
                      <a:pt x="399" y="461"/>
                    </a:lnTo>
                    <a:lnTo>
                      <a:pt x="402" y="455"/>
                    </a:lnTo>
                    <a:lnTo>
                      <a:pt x="399" y="436"/>
                    </a:lnTo>
                    <a:lnTo>
                      <a:pt x="396" y="415"/>
                    </a:lnTo>
                    <a:lnTo>
                      <a:pt x="399" y="406"/>
                    </a:lnTo>
                    <a:lnTo>
                      <a:pt x="405" y="396"/>
                    </a:lnTo>
                    <a:lnTo>
                      <a:pt x="430" y="396"/>
                    </a:lnTo>
                    <a:lnTo>
                      <a:pt x="439" y="396"/>
                    </a:lnTo>
                    <a:lnTo>
                      <a:pt x="442" y="399"/>
                    </a:lnTo>
                    <a:lnTo>
                      <a:pt x="442" y="406"/>
                    </a:lnTo>
                    <a:lnTo>
                      <a:pt x="439" y="415"/>
                    </a:lnTo>
                    <a:lnTo>
                      <a:pt x="436" y="430"/>
                    </a:lnTo>
                    <a:lnTo>
                      <a:pt x="439" y="439"/>
                    </a:lnTo>
                    <a:lnTo>
                      <a:pt x="445" y="446"/>
                    </a:lnTo>
                    <a:lnTo>
                      <a:pt x="464" y="449"/>
                    </a:lnTo>
                    <a:lnTo>
                      <a:pt x="482" y="452"/>
                    </a:lnTo>
                    <a:lnTo>
                      <a:pt x="501" y="449"/>
                    </a:lnTo>
                    <a:lnTo>
                      <a:pt x="516" y="442"/>
                    </a:lnTo>
                    <a:lnTo>
                      <a:pt x="531" y="439"/>
                    </a:lnTo>
                    <a:lnTo>
                      <a:pt x="544" y="439"/>
                    </a:lnTo>
                    <a:lnTo>
                      <a:pt x="562" y="439"/>
                    </a:lnTo>
                    <a:lnTo>
                      <a:pt x="578" y="446"/>
                    </a:lnTo>
                    <a:lnTo>
                      <a:pt x="587" y="430"/>
                    </a:lnTo>
                    <a:lnTo>
                      <a:pt x="593" y="412"/>
                    </a:lnTo>
                    <a:lnTo>
                      <a:pt x="599" y="393"/>
                    </a:lnTo>
                    <a:lnTo>
                      <a:pt x="611" y="378"/>
                    </a:lnTo>
                    <a:lnTo>
                      <a:pt x="618" y="381"/>
                    </a:lnTo>
                    <a:lnTo>
                      <a:pt x="627" y="384"/>
                    </a:lnTo>
                    <a:lnTo>
                      <a:pt x="633" y="387"/>
                    </a:lnTo>
                    <a:lnTo>
                      <a:pt x="642" y="387"/>
                    </a:lnTo>
                    <a:lnTo>
                      <a:pt x="645" y="384"/>
                    </a:lnTo>
                    <a:lnTo>
                      <a:pt x="645" y="378"/>
                    </a:lnTo>
                    <a:lnTo>
                      <a:pt x="639" y="372"/>
                    </a:lnTo>
                    <a:lnTo>
                      <a:pt x="633" y="369"/>
                    </a:lnTo>
                    <a:lnTo>
                      <a:pt x="654" y="360"/>
                    </a:lnTo>
                    <a:lnTo>
                      <a:pt x="676" y="353"/>
                    </a:lnTo>
                    <a:lnTo>
                      <a:pt x="701" y="350"/>
                    </a:lnTo>
                    <a:lnTo>
                      <a:pt x="728" y="350"/>
                    </a:lnTo>
                    <a:lnTo>
                      <a:pt x="719" y="338"/>
                    </a:lnTo>
                    <a:lnTo>
                      <a:pt x="710" y="332"/>
                    </a:lnTo>
                    <a:lnTo>
                      <a:pt x="694" y="329"/>
                    </a:lnTo>
                    <a:lnTo>
                      <a:pt x="679" y="332"/>
                    </a:lnTo>
                    <a:lnTo>
                      <a:pt x="645" y="338"/>
                    </a:lnTo>
                    <a:lnTo>
                      <a:pt x="630" y="341"/>
                    </a:lnTo>
                    <a:lnTo>
                      <a:pt x="618" y="341"/>
                    </a:lnTo>
                    <a:lnTo>
                      <a:pt x="614" y="329"/>
                    </a:lnTo>
                    <a:lnTo>
                      <a:pt x="608" y="317"/>
                    </a:lnTo>
                    <a:lnTo>
                      <a:pt x="602" y="304"/>
                    </a:lnTo>
                    <a:lnTo>
                      <a:pt x="602" y="286"/>
                    </a:lnTo>
                    <a:lnTo>
                      <a:pt x="636" y="264"/>
                    </a:lnTo>
                    <a:lnTo>
                      <a:pt x="651" y="252"/>
                    </a:lnTo>
                    <a:lnTo>
                      <a:pt x="664" y="237"/>
                    </a:lnTo>
                    <a:lnTo>
                      <a:pt x="654" y="234"/>
                    </a:lnTo>
                    <a:lnTo>
                      <a:pt x="648" y="231"/>
                    </a:lnTo>
                    <a:lnTo>
                      <a:pt x="639" y="234"/>
                    </a:lnTo>
                    <a:lnTo>
                      <a:pt x="633" y="234"/>
                    </a:lnTo>
                    <a:lnTo>
                      <a:pt x="621" y="246"/>
                    </a:lnTo>
                    <a:lnTo>
                      <a:pt x="608" y="261"/>
                    </a:lnTo>
                    <a:lnTo>
                      <a:pt x="596" y="277"/>
                    </a:lnTo>
                    <a:lnTo>
                      <a:pt x="581" y="289"/>
                    </a:lnTo>
                    <a:lnTo>
                      <a:pt x="565" y="301"/>
                    </a:lnTo>
                    <a:lnTo>
                      <a:pt x="556" y="301"/>
                    </a:lnTo>
                    <a:lnTo>
                      <a:pt x="547" y="304"/>
                    </a:lnTo>
                    <a:lnTo>
                      <a:pt x="544" y="313"/>
                    </a:lnTo>
                    <a:lnTo>
                      <a:pt x="547" y="320"/>
                    </a:lnTo>
                    <a:lnTo>
                      <a:pt x="550" y="320"/>
                    </a:lnTo>
                    <a:lnTo>
                      <a:pt x="556" y="323"/>
                    </a:lnTo>
                    <a:lnTo>
                      <a:pt x="565" y="323"/>
                    </a:lnTo>
                    <a:lnTo>
                      <a:pt x="571" y="326"/>
                    </a:lnTo>
                    <a:lnTo>
                      <a:pt x="571" y="332"/>
                    </a:lnTo>
                    <a:lnTo>
                      <a:pt x="553" y="372"/>
                    </a:lnTo>
                    <a:lnTo>
                      <a:pt x="544" y="387"/>
                    </a:lnTo>
                    <a:lnTo>
                      <a:pt x="531" y="403"/>
                    </a:lnTo>
                    <a:lnTo>
                      <a:pt x="516" y="415"/>
                    </a:lnTo>
                    <a:lnTo>
                      <a:pt x="501" y="424"/>
                    </a:lnTo>
                    <a:lnTo>
                      <a:pt x="479" y="427"/>
                    </a:lnTo>
                    <a:lnTo>
                      <a:pt x="452" y="427"/>
                    </a:lnTo>
                    <a:lnTo>
                      <a:pt x="455" y="406"/>
                    </a:lnTo>
                    <a:lnTo>
                      <a:pt x="448" y="393"/>
                    </a:lnTo>
                    <a:lnTo>
                      <a:pt x="445" y="378"/>
                    </a:lnTo>
                    <a:lnTo>
                      <a:pt x="445" y="360"/>
                    </a:lnTo>
                    <a:lnTo>
                      <a:pt x="430" y="372"/>
                    </a:lnTo>
                    <a:lnTo>
                      <a:pt x="418" y="384"/>
                    </a:lnTo>
                    <a:lnTo>
                      <a:pt x="408" y="387"/>
                    </a:lnTo>
                    <a:lnTo>
                      <a:pt x="399" y="390"/>
                    </a:lnTo>
                    <a:lnTo>
                      <a:pt x="387" y="390"/>
                    </a:lnTo>
                    <a:lnTo>
                      <a:pt x="375" y="387"/>
                    </a:lnTo>
                    <a:lnTo>
                      <a:pt x="365" y="372"/>
                    </a:lnTo>
                    <a:lnTo>
                      <a:pt x="356" y="350"/>
                    </a:lnTo>
                    <a:lnTo>
                      <a:pt x="353" y="329"/>
                    </a:lnTo>
                    <a:lnTo>
                      <a:pt x="350" y="304"/>
                    </a:lnTo>
                    <a:lnTo>
                      <a:pt x="368" y="295"/>
                    </a:lnTo>
                    <a:lnTo>
                      <a:pt x="384" y="286"/>
                    </a:lnTo>
                    <a:lnTo>
                      <a:pt x="415" y="264"/>
                    </a:lnTo>
                    <a:lnTo>
                      <a:pt x="479" y="212"/>
                    </a:lnTo>
                    <a:lnTo>
                      <a:pt x="510" y="184"/>
                    </a:lnTo>
                    <a:lnTo>
                      <a:pt x="544" y="163"/>
                    </a:lnTo>
                    <a:lnTo>
                      <a:pt x="562" y="151"/>
                    </a:lnTo>
                    <a:lnTo>
                      <a:pt x="584" y="145"/>
                    </a:lnTo>
                    <a:lnTo>
                      <a:pt x="605" y="138"/>
                    </a:lnTo>
                    <a:lnTo>
                      <a:pt x="627" y="132"/>
                    </a:lnTo>
                    <a:lnTo>
                      <a:pt x="664" y="132"/>
                    </a:lnTo>
                    <a:lnTo>
                      <a:pt x="701" y="135"/>
                    </a:lnTo>
                    <a:lnTo>
                      <a:pt x="737" y="141"/>
                    </a:lnTo>
                    <a:lnTo>
                      <a:pt x="774" y="151"/>
                    </a:lnTo>
                    <a:lnTo>
                      <a:pt x="848" y="172"/>
                    </a:lnTo>
                    <a:lnTo>
                      <a:pt x="885" y="181"/>
                    </a:lnTo>
                    <a:lnTo>
                      <a:pt x="925" y="191"/>
                    </a:lnTo>
                    <a:lnTo>
                      <a:pt x="931" y="197"/>
                    </a:lnTo>
                    <a:lnTo>
                      <a:pt x="931" y="203"/>
                    </a:lnTo>
                    <a:lnTo>
                      <a:pt x="925" y="218"/>
                    </a:lnTo>
                    <a:lnTo>
                      <a:pt x="934" y="212"/>
                    </a:lnTo>
                    <a:lnTo>
                      <a:pt x="947" y="209"/>
                    </a:lnTo>
                    <a:lnTo>
                      <a:pt x="953" y="209"/>
                    </a:lnTo>
                    <a:lnTo>
                      <a:pt x="956" y="212"/>
                    </a:lnTo>
                    <a:lnTo>
                      <a:pt x="959" y="218"/>
                    </a:lnTo>
                    <a:lnTo>
                      <a:pt x="956" y="227"/>
                    </a:lnTo>
                    <a:lnTo>
                      <a:pt x="962" y="221"/>
                    </a:lnTo>
                    <a:lnTo>
                      <a:pt x="965" y="215"/>
                    </a:lnTo>
                    <a:lnTo>
                      <a:pt x="962" y="200"/>
                    </a:lnTo>
                    <a:lnTo>
                      <a:pt x="959" y="184"/>
                    </a:lnTo>
                    <a:lnTo>
                      <a:pt x="959" y="178"/>
                    </a:lnTo>
                    <a:lnTo>
                      <a:pt x="965" y="172"/>
                    </a:lnTo>
                    <a:lnTo>
                      <a:pt x="1005" y="172"/>
                    </a:lnTo>
                    <a:lnTo>
                      <a:pt x="1005" y="181"/>
                    </a:lnTo>
                    <a:lnTo>
                      <a:pt x="1002" y="188"/>
                    </a:lnTo>
                    <a:lnTo>
                      <a:pt x="999" y="194"/>
                    </a:lnTo>
                    <a:lnTo>
                      <a:pt x="996" y="200"/>
                    </a:lnTo>
                    <a:lnTo>
                      <a:pt x="1017" y="197"/>
                    </a:lnTo>
                    <a:lnTo>
                      <a:pt x="1039" y="191"/>
                    </a:lnTo>
                    <a:lnTo>
                      <a:pt x="1088" y="178"/>
                    </a:lnTo>
                    <a:lnTo>
                      <a:pt x="1116" y="175"/>
                    </a:lnTo>
                    <a:lnTo>
                      <a:pt x="1140" y="172"/>
                    </a:lnTo>
                    <a:lnTo>
                      <a:pt x="1168" y="172"/>
                    </a:lnTo>
                    <a:lnTo>
                      <a:pt x="1192" y="181"/>
                    </a:lnTo>
                    <a:lnTo>
                      <a:pt x="1202" y="181"/>
                    </a:lnTo>
                    <a:lnTo>
                      <a:pt x="1208" y="178"/>
                    </a:lnTo>
                    <a:lnTo>
                      <a:pt x="1214" y="169"/>
                    </a:lnTo>
                    <a:lnTo>
                      <a:pt x="1223" y="160"/>
                    </a:lnTo>
                    <a:lnTo>
                      <a:pt x="1226" y="154"/>
                    </a:lnTo>
                    <a:lnTo>
                      <a:pt x="1232" y="154"/>
                    </a:lnTo>
                    <a:lnTo>
                      <a:pt x="1263" y="154"/>
                    </a:lnTo>
                    <a:lnTo>
                      <a:pt x="1291" y="160"/>
                    </a:lnTo>
                    <a:lnTo>
                      <a:pt x="1343" y="181"/>
                    </a:lnTo>
                    <a:lnTo>
                      <a:pt x="1349" y="175"/>
                    </a:lnTo>
                    <a:lnTo>
                      <a:pt x="1349" y="172"/>
                    </a:lnTo>
                    <a:lnTo>
                      <a:pt x="1346" y="166"/>
                    </a:lnTo>
                    <a:lnTo>
                      <a:pt x="1340" y="163"/>
                    </a:lnTo>
                    <a:lnTo>
                      <a:pt x="1328" y="154"/>
                    </a:lnTo>
                    <a:lnTo>
                      <a:pt x="1322" y="148"/>
                    </a:lnTo>
                    <a:lnTo>
                      <a:pt x="1319" y="141"/>
                    </a:lnTo>
                    <a:lnTo>
                      <a:pt x="1328" y="126"/>
                    </a:lnTo>
                    <a:lnTo>
                      <a:pt x="1337" y="111"/>
                    </a:lnTo>
                    <a:lnTo>
                      <a:pt x="1349" y="98"/>
                    </a:lnTo>
                    <a:lnTo>
                      <a:pt x="1365" y="86"/>
                    </a:lnTo>
                    <a:lnTo>
                      <a:pt x="1380" y="83"/>
                    </a:lnTo>
                    <a:lnTo>
                      <a:pt x="1392" y="83"/>
                    </a:lnTo>
                    <a:lnTo>
                      <a:pt x="1408" y="89"/>
                    </a:lnTo>
                    <a:lnTo>
                      <a:pt x="1423" y="105"/>
                    </a:lnTo>
                    <a:lnTo>
                      <a:pt x="1420" y="141"/>
                    </a:lnTo>
                    <a:lnTo>
                      <a:pt x="1417" y="175"/>
                    </a:lnTo>
                    <a:lnTo>
                      <a:pt x="1414" y="191"/>
                    </a:lnTo>
                    <a:lnTo>
                      <a:pt x="1411" y="203"/>
                    </a:lnTo>
                    <a:lnTo>
                      <a:pt x="1402" y="215"/>
                    </a:lnTo>
                    <a:lnTo>
                      <a:pt x="1389" y="227"/>
                    </a:lnTo>
                    <a:lnTo>
                      <a:pt x="1402" y="227"/>
                    </a:lnTo>
                    <a:lnTo>
                      <a:pt x="1408" y="224"/>
                    </a:lnTo>
                    <a:lnTo>
                      <a:pt x="1420" y="212"/>
                    </a:lnTo>
                    <a:lnTo>
                      <a:pt x="1432" y="200"/>
                    </a:lnTo>
                    <a:lnTo>
                      <a:pt x="1445" y="191"/>
                    </a:lnTo>
                    <a:lnTo>
                      <a:pt x="1438" y="166"/>
                    </a:lnTo>
                    <a:lnTo>
                      <a:pt x="1432" y="138"/>
                    </a:lnTo>
                    <a:lnTo>
                      <a:pt x="1432" y="126"/>
                    </a:lnTo>
                    <a:lnTo>
                      <a:pt x="1435" y="114"/>
                    </a:lnTo>
                    <a:lnTo>
                      <a:pt x="1438" y="105"/>
                    </a:lnTo>
                    <a:lnTo>
                      <a:pt x="1445" y="95"/>
                    </a:lnTo>
                    <a:lnTo>
                      <a:pt x="1454" y="95"/>
                    </a:lnTo>
                    <a:lnTo>
                      <a:pt x="1457" y="95"/>
                    </a:lnTo>
                    <a:lnTo>
                      <a:pt x="1460" y="98"/>
                    </a:lnTo>
                    <a:lnTo>
                      <a:pt x="1463" y="105"/>
                    </a:lnTo>
                    <a:lnTo>
                      <a:pt x="1460" y="132"/>
                    </a:lnTo>
                    <a:lnTo>
                      <a:pt x="1469" y="135"/>
                    </a:lnTo>
                    <a:lnTo>
                      <a:pt x="1475" y="132"/>
                    </a:lnTo>
                    <a:lnTo>
                      <a:pt x="1481" y="126"/>
                    </a:lnTo>
                    <a:lnTo>
                      <a:pt x="1481" y="120"/>
                    </a:lnTo>
                    <a:lnTo>
                      <a:pt x="1485" y="105"/>
                    </a:lnTo>
                    <a:lnTo>
                      <a:pt x="1488" y="98"/>
                    </a:lnTo>
                    <a:lnTo>
                      <a:pt x="1494" y="95"/>
                    </a:lnTo>
                    <a:lnTo>
                      <a:pt x="1521" y="102"/>
                    </a:lnTo>
                    <a:lnTo>
                      <a:pt x="1546" y="114"/>
                    </a:lnTo>
                    <a:lnTo>
                      <a:pt x="1555" y="120"/>
                    </a:lnTo>
                    <a:lnTo>
                      <a:pt x="1564" y="129"/>
                    </a:lnTo>
                    <a:lnTo>
                      <a:pt x="1574" y="141"/>
                    </a:lnTo>
                    <a:lnTo>
                      <a:pt x="1580" y="154"/>
                    </a:lnTo>
                    <a:lnTo>
                      <a:pt x="1586" y="141"/>
                    </a:lnTo>
                    <a:lnTo>
                      <a:pt x="1586" y="132"/>
                    </a:lnTo>
                    <a:lnTo>
                      <a:pt x="1580" y="123"/>
                    </a:lnTo>
                    <a:lnTo>
                      <a:pt x="1571" y="117"/>
                    </a:lnTo>
                    <a:lnTo>
                      <a:pt x="1549" y="108"/>
                    </a:lnTo>
                    <a:lnTo>
                      <a:pt x="1540" y="102"/>
                    </a:lnTo>
                    <a:lnTo>
                      <a:pt x="1534" y="95"/>
                    </a:lnTo>
                    <a:lnTo>
                      <a:pt x="1534" y="86"/>
                    </a:lnTo>
                    <a:lnTo>
                      <a:pt x="1540" y="80"/>
                    </a:lnTo>
                    <a:lnTo>
                      <a:pt x="1546" y="77"/>
                    </a:lnTo>
                    <a:lnTo>
                      <a:pt x="1555" y="77"/>
                    </a:lnTo>
                    <a:lnTo>
                      <a:pt x="1574" y="80"/>
                    </a:lnTo>
                    <a:lnTo>
                      <a:pt x="1589" y="86"/>
                    </a:lnTo>
                    <a:lnTo>
                      <a:pt x="1604" y="80"/>
                    </a:lnTo>
                    <a:lnTo>
                      <a:pt x="1620" y="71"/>
                    </a:lnTo>
                    <a:lnTo>
                      <a:pt x="1651" y="52"/>
                    </a:lnTo>
                    <a:lnTo>
                      <a:pt x="1669" y="46"/>
                    </a:lnTo>
                    <a:lnTo>
                      <a:pt x="1684" y="40"/>
                    </a:lnTo>
                    <a:lnTo>
                      <a:pt x="1703" y="40"/>
                    </a:lnTo>
                    <a:lnTo>
                      <a:pt x="1721" y="49"/>
                    </a:lnTo>
                    <a:lnTo>
                      <a:pt x="1734" y="40"/>
                    </a:lnTo>
                    <a:lnTo>
                      <a:pt x="1746" y="34"/>
                    </a:lnTo>
                    <a:lnTo>
                      <a:pt x="1758" y="31"/>
                    </a:lnTo>
                    <a:lnTo>
                      <a:pt x="1767" y="22"/>
                    </a:lnTo>
                    <a:lnTo>
                      <a:pt x="1786" y="28"/>
                    </a:lnTo>
                    <a:lnTo>
                      <a:pt x="1804" y="31"/>
                    </a:lnTo>
                    <a:lnTo>
                      <a:pt x="1820" y="34"/>
                    </a:lnTo>
                    <a:lnTo>
                      <a:pt x="1835" y="31"/>
                    </a:lnTo>
                    <a:lnTo>
                      <a:pt x="1850" y="25"/>
                    </a:lnTo>
                    <a:lnTo>
                      <a:pt x="1866" y="19"/>
                    </a:lnTo>
                    <a:lnTo>
                      <a:pt x="1897" y="0"/>
                    </a:lnTo>
                    <a:lnTo>
                      <a:pt x="1915" y="12"/>
                    </a:lnTo>
                    <a:lnTo>
                      <a:pt x="1933" y="19"/>
                    </a:lnTo>
                    <a:lnTo>
                      <a:pt x="1955" y="19"/>
                    </a:lnTo>
                    <a:lnTo>
                      <a:pt x="1976" y="22"/>
                    </a:lnTo>
                    <a:lnTo>
                      <a:pt x="2020" y="22"/>
                    </a:lnTo>
                    <a:lnTo>
                      <a:pt x="2044" y="25"/>
                    </a:lnTo>
                    <a:lnTo>
                      <a:pt x="2069" y="31"/>
                    </a:lnTo>
                    <a:lnTo>
                      <a:pt x="2069" y="40"/>
                    </a:lnTo>
                    <a:lnTo>
                      <a:pt x="2069" y="46"/>
                    </a:lnTo>
                    <a:lnTo>
                      <a:pt x="2066" y="59"/>
                    </a:lnTo>
                    <a:lnTo>
                      <a:pt x="2056" y="65"/>
                    </a:lnTo>
                    <a:lnTo>
                      <a:pt x="2053" y="77"/>
                    </a:lnTo>
                    <a:lnTo>
                      <a:pt x="2121" y="83"/>
                    </a:lnTo>
                    <a:lnTo>
                      <a:pt x="2179" y="86"/>
                    </a:lnTo>
                    <a:lnTo>
                      <a:pt x="2235" y="83"/>
                    </a:lnTo>
                    <a:lnTo>
                      <a:pt x="2305" y="77"/>
                    </a:lnTo>
                    <a:lnTo>
                      <a:pt x="2302" y="98"/>
                    </a:lnTo>
                    <a:lnTo>
                      <a:pt x="2309" y="111"/>
                    </a:lnTo>
                    <a:lnTo>
                      <a:pt x="2321" y="132"/>
                    </a:lnTo>
                    <a:lnTo>
                      <a:pt x="2330" y="126"/>
                    </a:lnTo>
                    <a:lnTo>
                      <a:pt x="2339" y="123"/>
                    </a:lnTo>
                    <a:lnTo>
                      <a:pt x="2358" y="120"/>
                    </a:lnTo>
                    <a:lnTo>
                      <a:pt x="2382" y="117"/>
                    </a:lnTo>
                    <a:lnTo>
                      <a:pt x="2407" y="117"/>
                    </a:lnTo>
                    <a:lnTo>
                      <a:pt x="2428" y="117"/>
                    </a:lnTo>
                    <a:lnTo>
                      <a:pt x="2450" y="111"/>
                    </a:lnTo>
                    <a:lnTo>
                      <a:pt x="2459" y="105"/>
                    </a:lnTo>
                    <a:lnTo>
                      <a:pt x="2465" y="98"/>
                    </a:lnTo>
                    <a:lnTo>
                      <a:pt x="2475" y="89"/>
                    </a:lnTo>
                    <a:lnTo>
                      <a:pt x="2478" y="77"/>
                    </a:lnTo>
                    <a:lnTo>
                      <a:pt x="2475" y="71"/>
                    </a:lnTo>
                    <a:lnTo>
                      <a:pt x="2471" y="65"/>
                    </a:lnTo>
                    <a:lnTo>
                      <a:pt x="2456" y="59"/>
                    </a:lnTo>
                    <a:lnTo>
                      <a:pt x="2441" y="59"/>
                    </a:lnTo>
                    <a:lnTo>
                      <a:pt x="2422" y="59"/>
                    </a:lnTo>
                    <a:lnTo>
                      <a:pt x="2428" y="49"/>
                    </a:lnTo>
                    <a:lnTo>
                      <a:pt x="2435" y="40"/>
                    </a:lnTo>
                    <a:lnTo>
                      <a:pt x="2441" y="37"/>
                    </a:lnTo>
                    <a:lnTo>
                      <a:pt x="2447" y="31"/>
                    </a:lnTo>
                    <a:lnTo>
                      <a:pt x="2462" y="28"/>
                    </a:lnTo>
                    <a:lnTo>
                      <a:pt x="2481" y="28"/>
                    </a:lnTo>
                    <a:lnTo>
                      <a:pt x="2502" y="34"/>
                    </a:lnTo>
                    <a:lnTo>
                      <a:pt x="2521" y="37"/>
                    </a:lnTo>
                    <a:lnTo>
                      <a:pt x="2558" y="49"/>
                    </a:lnTo>
                    <a:lnTo>
                      <a:pt x="2558" y="59"/>
                    </a:lnTo>
                    <a:lnTo>
                      <a:pt x="2555" y="62"/>
                    </a:lnTo>
                    <a:lnTo>
                      <a:pt x="2548" y="65"/>
                    </a:lnTo>
                    <a:lnTo>
                      <a:pt x="2539" y="65"/>
                    </a:lnTo>
                    <a:lnTo>
                      <a:pt x="2527" y="68"/>
                    </a:lnTo>
                    <a:lnTo>
                      <a:pt x="2521" y="71"/>
                    </a:lnTo>
                    <a:lnTo>
                      <a:pt x="2518" y="77"/>
                    </a:lnTo>
                    <a:lnTo>
                      <a:pt x="2533" y="86"/>
                    </a:lnTo>
                    <a:lnTo>
                      <a:pt x="2551" y="92"/>
                    </a:lnTo>
                    <a:lnTo>
                      <a:pt x="2594" y="98"/>
                    </a:lnTo>
                    <a:lnTo>
                      <a:pt x="2616" y="102"/>
                    </a:lnTo>
                    <a:lnTo>
                      <a:pt x="2634" y="108"/>
                    </a:lnTo>
                    <a:lnTo>
                      <a:pt x="2650" y="117"/>
                    </a:lnTo>
                    <a:lnTo>
                      <a:pt x="2656" y="126"/>
                    </a:lnTo>
                    <a:lnTo>
                      <a:pt x="2659" y="132"/>
                    </a:lnTo>
                    <a:lnTo>
                      <a:pt x="2674" y="129"/>
                    </a:lnTo>
                    <a:lnTo>
                      <a:pt x="2693" y="126"/>
                    </a:lnTo>
                    <a:lnTo>
                      <a:pt x="2714" y="123"/>
                    </a:lnTo>
                    <a:lnTo>
                      <a:pt x="2733" y="123"/>
                    </a:lnTo>
                    <a:lnTo>
                      <a:pt x="2754" y="126"/>
                    </a:lnTo>
                    <a:lnTo>
                      <a:pt x="2770" y="132"/>
                    </a:lnTo>
                    <a:lnTo>
                      <a:pt x="2785" y="141"/>
                    </a:lnTo>
                    <a:lnTo>
                      <a:pt x="2794" y="154"/>
                    </a:lnTo>
                    <a:lnTo>
                      <a:pt x="2813" y="154"/>
                    </a:lnTo>
                    <a:lnTo>
                      <a:pt x="2834" y="154"/>
                    </a:lnTo>
                    <a:lnTo>
                      <a:pt x="2877" y="151"/>
                    </a:lnTo>
                    <a:lnTo>
                      <a:pt x="2899" y="151"/>
                    </a:lnTo>
                    <a:lnTo>
                      <a:pt x="2917" y="154"/>
                    </a:lnTo>
                    <a:lnTo>
                      <a:pt x="2933" y="160"/>
                    </a:lnTo>
                    <a:lnTo>
                      <a:pt x="2945" y="172"/>
                    </a:lnTo>
                    <a:lnTo>
                      <a:pt x="2948" y="163"/>
                    </a:lnTo>
                    <a:lnTo>
                      <a:pt x="2957" y="157"/>
                    </a:lnTo>
                    <a:lnTo>
                      <a:pt x="2976" y="151"/>
                    </a:lnTo>
                    <a:lnTo>
                      <a:pt x="2997" y="145"/>
                    </a:lnTo>
                    <a:lnTo>
                      <a:pt x="3022" y="148"/>
                    </a:lnTo>
                    <a:lnTo>
                      <a:pt x="3046" y="151"/>
                    </a:lnTo>
                    <a:lnTo>
                      <a:pt x="3071" y="157"/>
                    </a:lnTo>
                    <a:lnTo>
                      <a:pt x="3093" y="163"/>
                    </a:lnTo>
                    <a:lnTo>
                      <a:pt x="3108" y="172"/>
                    </a:lnTo>
                    <a:lnTo>
                      <a:pt x="3105" y="184"/>
                    </a:lnTo>
                    <a:lnTo>
                      <a:pt x="3105" y="200"/>
                    </a:lnTo>
                    <a:lnTo>
                      <a:pt x="3105" y="224"/>
                    </a:lnTo>
                    <a:lnTo>
                      <a:pt x="3105" y="237"/>
                    </a:lnTo>
                    <a:lnTo>
                      <a:pt x="3102" y="246"/>
                    </a:lnTo>
                    <a:lnTo>
                      <a:pt x="3093" y="252"/>
                    </a:lnTo>
                    <a:lnTo>
                      <a:pt x="3077" y="255"/>
                    </a:lnTo>
                    <a:lnTo>
                      <a:pt x="3080" y="264"/>
                    </a:lnTo>
                    <a:lnTo>
                      <a:pt x="3083" y="267"/>
                    </a:lnTo>
                    <a:lnTo>
                      <a:pt x="3093" y="277"/>
                    </a:lnTo>
                    <a:lnTo>
                      <a:pt x="3099" y="286"/>
                    </a:lnTo>
                    <a:lnTo>
                      <a:pt x="3102" y="295"/>
                    </a:lnTo>
                    <a:lnTo>
                      <a:pt x="3102" y="304"/>
                    </a:lnTo>
                    <a:lnTo>
                      <a:pt x="3086" y="298"/>
                    </a:lnTo>
                    <a:lnTo>
                      <a:pt x="3071" y="298"/>
                    </a:lnTo>
                    <a:lnTo>
                      <a:pt x="3059" y="298"/>
                    </a:lnTo>
                    <a:lnTo>
                      <a:pt x="3043" y="301"/>
                    </a:lnTo>
                    <a:lnTo>
                      <a:pt x="3019" y="310"/>
                    </a:lnTo>
                    <a:lnTo>
                      <a:pt x="2991" y="320"/>
                    </a:lnTo>
                    <a:lnTo>
                      <a:pt x="2963" y="332"/>
                    </a:lnTo>
                    <a:lnTo>
                      <a:pt x="2936" y="341"/>
                    </a:lnTo>
                    <a:lnTo>
                      <a:pt x="2920" y="344"/>
                    </a:lnTo>
                    <a:lnTo>
                      <a:pt x="2902" y="344"/>
                    </a:lnTo>
                    <a:lnTo>
                      <a:pt x="2883" y="344"/>
                    </a:lnTo>
                    <a:lnTo>
                      <a:pt x="2865" y="341"/>
                    </a:lnTo>
                    <a:lnTo>
                      <a:pt x="2856" y="347"/>
                    </a:lnTo>
                    <a:lnTo>
                      <a:pt x="2850" y="353"/>
                    </a:lnTo>
                    <a:lnTo>
                      <a:pt x="2844" y="366"/>
                    </a:lnTo>
                    <a:lnTo>
                      <a:pt x="2840" y="378"/>
                    </a:lnTo>
                    <a:lnTo>
                      <a:pt x="2837" y="409"/>
                    </a:lnTo>
                    <a:lnTo>
                      <a:pt x="2834" y="436"/>
                    </a:lnTo>
                    <a:lnTo>
                      <a:pt x="2816" y="446"/>
                    </a:lnTo>
                    <a:lnTo>
                      <a:pt x="2800" y="455"/>
                    </a:lnTo>
                    <a:lnTo>
                      <a:pt x="2773" y="482"/>
                    </a:lnTo>
                    <a:lnTo>
                      <a:pt x="2748" y="510"/>
                    </a:lnTo>
                    <a:lnTo>
                      <a:pt x="2724" y="538"/>
                    </a:lnTo>
                    <a:lnTo>
                      <a:pt x="2724" y="516"/>
                    </a:lnTo>
                    <a:lnTo>
                      <a:pt x="2724" y="489"/>
                    </a:lnTo>
                    <a:lnTo>
                      <a:pt x="2724" y="458"/>
                    </a:lnTo>
                    <a:lnTo>
                      <a:pt x="2721" y="442"/>
                    </a:lnTo>
                    <a:lnTo>
                      <a:pt x="2714" y="427"/>
                    </a:lnTo>
                    <a:lnTo>
                      <a:pt x="2721" y="409"/>
                    </a:lnTo>
                    <a:lnTo>
                      <a:pt x="2730" y="393"/>
                    </a:lnTo>
                    <a:lnTo>
                      <a:pt x="2739" y="381"/>
                    </a:lnTo>
                    <a:lnTo>
                      <a:pt x="2751" y="372"/>
                    </a:lnTo>
                    <a:lnTo>
                      <a:pt x="2779" y="353"/>
                    </a:lnTo>
                    <a:lnTo>
                      <a:pt x="2810" y="341"/>
                    </a:lnTo>
                    <a:lnTo>
                      <a:pt x="2794" y="323"/>
                    </a:lnTo>
                    <a:lnTo>
                      <a:pt x="2779" y="304"/>
                    </a:lnTo>
                    <a:lnTo>
                      <a:pt x="2754" y="317"/>
                    </a:lnTo>
                    <a:lnTo>
                      <a:pt x="2733" y="335"/>
                    </a:lnTo>
                    <a:lnTo>
                      <a:pt x="2714" y="353"/>
                    </a:lnTo>
                    <a:lnTo>
                      <a:pt x="2693" y="369"/>
                    </a:lnTo>
                    <a:lnTo>
                      <a:pt x="2671" y="363"/>
                    </a:lnTo>
                    <a:lnTo>
                      <a:pt x="2653" y="360"/>
                    </a:lnTo>
                    <a:lnTo>
                      <a:pt x="2631" y="356"/>
                    </a:lnTo>
                    <a:lnTo>
                      <a:pt x="2613" y="356"/>
                    </a:lnTo>
                    <a:lnTo>
                      <a:pt x="2570" y="360"/>
                    </a:lnTo>
                    <a:lnTo>
                      <a:pt x="2518" y="360"/>
                    </a:lnTo>
                    <a:lnTo>
                      <a:pt x="2493" y="381"/>
                    </a:lnTo>
                    <a:lnTo>
                      <a:pt x="2468" y="403"/>
                    </a:lnTo>
                    <a:lnTo>
                      <a:pt x="2444" y="421"/>
                    </a:lnTo>
                    <a:lnTo>
                      <a:pt x="2432" y="430"/>
                    </a:lnTo>
                    <a:lnTo>
                      <a:pt x="2416" y="436"/>
                    </a:lnTo>
                    <a:lnTo>
                      <a:pt x="2438" y="446"/>
                    </a:lnTo>
                    <a:lnTo>
                      <a:pt x="2465" y="452"/>
                    </a:lnTo>
                    <a:lnTo>
                      <a:pt x="2493" y="455"/>
                    </a:lnTo>
                    <a:lnTo>
                      <a:pt x="2527" y="455"/>
                    </a:lnTo>
                    <a:lnTo>
                      <a:pt x="2536" y="495"/>
                    </a:lnTo>
                    <a:lnTo>
                      <a:pt x="2542" y="532"/>
                    </a:lnTo>
                    <a:lnTo>
                      <a:pt x="2542" y="550"/>
                    </a:lnTo>
                    <a:lnTo>
                      <a:pt x="2539" y="568"/>
                    </a:lnTo>
                    <a:lnTo>
                      <a:pt x="2533" y="587"/>
                    </a:lnTo>
                    <a:lnTo>
                      <a:pt x="2527" y="605"/>
                    </a:lnTo>
                    <a:lnTo>
                      <a:pt x="2515" y="602"/>
                    </a:lnTo>
                    <a:lnTo>
                      <a:pt x="2508" y="596"/>
                    </a:lnTo>
                    <a:lnTo>
                      <a:pt x="2505" y="584"/>
                    </a:lnTo>
                    <a:lnTo>
                      <a:pt x="2502" y="572"/>
                    </a:lnTo>
                    <a:lnTo>
                      <a:pt x="2502" y="541"/>
                    </a:lnTo>
                    <a:lnTo>
                      <a:pt x="2502" y="510"/>
                    </a:lnTo>
                    <a:lnTo>
                      <a:pt x="2493" y="538"/>
                    </a:lnTo>
                    <a:lnTo>
                      <a:pt x="2481" y="562"/>
                    </a:lnTo>
                    <a:lnTo>
                      <a:pt x="2468" y="584"/>
                    </a:lnTo>
                    <a:lnTo>
                      <a:pt x="2450" y="602"/>
                    </a:lnTo>
                    <a:lnTo>
                      <a:pt x="2416" y="636"/>
                    </a:lnTo>
                    <a:lnTo>
                      <a:pt x="2382" y="670"/>
                    </a:lnTo>
                    <a:lnTo>
                      <a:pt x="2367" y="664"/>
                    </a:lnTo>
                    <a:lnTo>
                      <a:pt x="2355" y="664"/>
                    </a:lnTo>
                    <a:lnTo>
                      <a:pt x="2342" y="670"/>
                    </a:lnTo>
                    <a:lnTo>
                      <a:pt x="2330" y="679"/>
                    </a:lnTo>
                    <a:lnTo>
                      <a:pt x="2312" y="701"/>
                    </a:lnTo>
                    <a:lnTo>
                      <a:pt x="2302" y="713"/>
                    </a:lnTo>
                    <a:lnTo>
                      <a:pt x="2290" y="719"/>
                    </a:lnTo>
                    <a:lnTo>
                      <a:pt x="2290" y="728"/>
                    </a:lnTo>
                    <a:lnTo>
                      <a:pt x="2293" y="737"/>
                    </a:lnTo>
                    <a:lnTo>
                      <a:pt x="2302" y="750"/>
                    </a:lnTo>
                    <a:lnTo>
                      <a:pt x="2309" y="765"/>
                    </a:lnTo>
                    <a:lnTo>
                      <a:pt x="2312" y="774"/>
                    </a:lnTo>
                    <a:lnTo>
                      <a:pt x="2312" y="783"/>
                    </a:lnTo>
                    <a:lnTo>
                      <a:pt x="2305" y="805"/>
                    </a:lnTo>
                    <a:lnTo>
                      <a:pt x="2302" y="814"/>
                    </a:lnTo>
                    <a:lnTo>
                      <a:pt x="2296" y="820"/>
                    </a:lnTo>
                    <a:lnTo>
                      <a:pt x="2290" y="826"/>
                    </a:lnTo>
                    <a:lnTo>
                      <a:pt x="2281" y="830"/>
                    </a:lnTo>
                    <a:lnTo>
                      <a:pt x="2269" y="833"/>
                    </a:lnTo>
                    <a:lnTo>
                      <a:pt x="2256" y="833"/>
                    </a:lnTo>
                    <a:lnTo>
                      <a:pt x="2253" y="826"/>
                    </a:lnTo>
                    <a:lnTo>
                      <a:pt x="2253" y="820"/>
                    </a:lnTo>
                    <a:lnTo>
                      <a:pt x="2253" y="808"/>
                    </a:lnTo>
                    <a:lnTo>
                      <a:pt x="2259" y="799"/>
                    </a:lnTo>
                    <a:lnTo>
                      <a:pt x="2265" y="783"/>
                    </a:lnTo>
                    <a:lnTo>
                      <a:pt x="2259" y="777"/>
                    </a:lnTo>
                    <a:lnTo>
                      <a:pt x="2253" y="771"/>
                    </a:lnTo>
                    <a:lnTo>
                      <a:pt x="2241" y="765"/>
                    </a:lnTo>
                    <a:lnTo>
                      <a:pt x="2235" y="762"/>
                    </a:lnTo>
                    <a:lnTo>
                      <a:pt x="2232" y="753"/>
                    </a:lnTo>
                    <a:lnTo>
                      <a:pt x="2232" y="740"/>
                    </a:lnTo>
                    <a:lnTo>
                      <a:pt x="2235" y="719"/>
                    </a:lnTo>
                    <a:lnTo>
                      <a:pt x="2226" y="719"/>
                    </a:lnTo>
                    <a:lnTo>
                      <a:pt x="2219" y="722"/>
                    </a:lnTo>
                    <a:lnTo>
                      <a:pt x="2210" y="728"/>
                    </a:lnTo>
                    <a:lnTo>
                      <a:pt x="2201" y="734"/>
                    </a:lnTo>
                    <a:lnTo>
                      <a:pt x="2195" y="737"/>
                    </a:lnTo>
                    <a:lnTo>
                      <a:pt x="2186" y="737"/>
                    </a:lnTo>
                    <a:lnTo>
                      <a:pt x="2182" y="728"/>
                    </a:lnTo>
                    <a:lnTo>
                      <a:pt x="2182" y="722"/>
                    </a:lnTo>
                    <a:lnTo>
                      <a:pt x="2186" y="713"/>
                    </a:lnTo>
                    <a:lnTo>
                      <a:pt x="2186" y="701"/>
                    </a:lnTo>
                    <a:lnTo>
                      <a:pt x="2161" y="719"/>
                    </a:lnTo>
                    <a:lnTo>
                      <a:pt x="2130" y="737"/>
                    </a:lnTo>
                    <a:lnTo>
                      <a:pt x="2133" y="750"/>
                    </a:lnTo>
                    <a:lnTo>
                      <a:pt x="2139" y="756"/>
                    </a:lnTo>
                    <a:lnTo>
                      <a:pt x="2149" y="762"/>
                    </a:lnTo>
                    <a:lnTo>
                      <a:pt x="2161" y="765"/>
                    </a:lnTo>
                    <a:lnTo>
                      <a:pt x="2182" y="768"/>
                    </a:lnTo>
                    <a:lnTo>
                      <a:pt x="2195" y="771"/>
                    </a:lnTo>
                    <a:lnTo>
                      <a:pt x="2204" y="774"/>
                    </a:lnTo>
                    <a:lnTo>
                      <a:pt x="2195" y="790"/>
                    </a:lnTo>
                    <a:lnTo>
                      <a:pt x="2186" y="799"/>
                    </a:lnTo>
                    <a:lnTo>
                      <a:pt x="2164" y="814"/>
                    </a:lnTo>
                    <a:lnTo>
                      <a:pt x="2176" y="842"/>
                    </a:lnTo>
                    <a:lnTo>
                      <a:pt x="2189" y="866"/>
                    </a:lnTo>
                    <a:lnTo>
                      <a:pt x="2192" y="882"/>
                    </a:lnTo>
                    <a:lnTo>
                      <a:pt x="2195" y="900"/>
                    </a:lnTo>
                    <a:lnTo>
                      <a:pt x="2198" y="922"/>
                    </a:lnTo>
                    <a:lnTo>
                      <a:pt x="2195" y="946"/>
                    </a:lnTo>
                    <a:lnTo>
                      <a:pt x="2173" y="965"/>
                    </a:lnTo>
                    <a:lnTo>
                      <a:pt x="2158" y="983"/>
                    </a:lnTo>
                    <a:lnTo>
                      <a:pt x="2139" y="1005"/>
                    </a:lnTo>
                    <a:lnTo>
                      <a:pt x="2121" y="1026"/>
                    </a:lnTo>
                    <a:lnTo>
                      <a:pt x="2099" y="1045"/>
                    </a:lnTo>
                    <a:lnTo>
                      <a:pt x="2078" y="1057"/>
                    </a:lnTo>
                    <a:lnTo>
                      <a:pt x="2063" y="1063"/>
                    </a:lnTo>
                    <a:lnTo>
                      <a:pt x="2047" y="1066"/>
                    </a:lnTo>
                    <a:lnTo>
                      <a:pt x="2032" y="1069"/>
                    </a:lnTo>
                    <a:lnTo>
                      <a:pt x="2013" y="1069"/>
                    </a:lnTo>
                    <a:lnTo>
                      <a:pt x="2016" y="1097"/>
                    </a:lnTo>
                    <a:lnTo>
                      <a:pt x="2016" y="1121"/>
                    </a:lnTo>
                    <a:lnTo>
                      <a:pt x="2013" y="1131"/>
                    </a:lnTo>
                    <a:lnTo>
                      <a:pt x="2007" y="1137"/>
                    </a:lnTo>
                    <a:lnTo>
                      <a:pt x="1995" y="1143"/>
                    </a:lnTo>
                    <a:lnTo>
                      <a:pt x="1983" y="1143"/>
                    </a:lnTo>
                    <a:lnTo>
                      <a:pt x="1976" y="1134"/>
                    </a:lnTo>
                    <a:lnTo>
                      <a:pt x="1973" y="1124"/>
                    </a:lnTo>
                    <a:lnTo>
                      <a:pt x="1973" y="1115"/>
                    </a:lnTo>
                    <a:lnTo>
                      <a:pt x="1976" y="1106"/>
                    </a:lnTo>
                    <a:lnTo>
                      <a:pt x="1986" y="1088"/>
                    </a:lnTo>
                    <a:lnTo>
                      <a:pt x="1989" y="1078"/>
                    </a:lnTo>
                    <a:lnTo>
                      <a:pt x="1989" y="1069"/>
                    </a:lnTo>
                    <a:lnTo>
                      <a:pt x="1983" y="1063"/>
                    </a:lnTo>
                    <a:lnTo>
                      <a:pt x="1976" y="1063"/>
                    </a:lnTo>
                    <a:lnTo>
                      <a:pt x="1970" y="1066"/>
                    </a:lnTo>
                    <a:lnTo>
                      <a:pt x="1964" y="1072"/>
                    </a:lnTo>
                    <a:lnTo>
                      <a:pt x="1952" y="1091"/>
                    </a:lnTo>
                    <a:lnTo>
                      <a:pt x="1943" y="1106"/>
                    </a:lnTo>
                    <a:lnTo>
                      <a:pt x="1500" y="191"/>
                    </a:lnTo>
                    <a:lnTo>
                      <a:pt x="808" y="1465"/>
                    </a:lnTo>
                    <a:lnTo>
                      <a:pt x="796" y="1462"/>
                    </a:lnTo>
                    <a:lnTo>
                      <a:pt x="790" y="1465"/>
                    </a:lnTo>
                    <a:lnTo>
                      <a:pt x="784" y="1468"/>
                    </a:lnTo>
                    <a:lnTo>
                      <a:pt x="780" y="1472"/>
                    </a:lnTo>
                    <a:lnTo>
                      <a:pt x="774" y="1490"/>
                    </a:lnTo>
                    <a:lnTo>
                      <a:pt x="774" y="1511"/>
                    </a:lnTo>
                    <a:lnTo>
                      <a:pt x="784" y="1511"/>
                    </a:lnTo>
                    <a:lnTo>
                      <a:pt x="790" y="1508"/>
                    </a:lnTo>
                    <a:lnTo>
                      <a:pt x="796" y="1502"/>
                    </a:lnTo>
                    <a:lnTo>
                      <a:pt x="799" y="1496"/>
                    </a:lnTo>
                    <a:lnTo>
                      <a:pt x="805" y="1481"/>
                    </a:lnTo>
                    <a:lnTo>
                      <a:pt x="808" y="1465"/>
                    </a:lnTo>
                    <a:lnTo>
                      <a:pt x="1500" y="191"/>
                    </a:lnTo>
                    <a:lnTo>
                      <a:pt x="793" y="323"/>
                    </a:lnTo>
                    <a:lnTo>
                      <a:pt x="784" y="323"/>
                    </a:lnTo>
                    <a:lnTo>
                      <a:pt x="774" y="317"/>
                    </a:lnTo>
                    <a:lnTo>
                      <a:pt x="768" y="313"/>
                    </a:lnTo>
                    <a:lnTo>
                      <a:pt x="759" y="313"/>
                    </a:lnTo>
                    <a:lnTo>
                      <a:pt x="762" y="323"/>
                    </a:lnTo>
                    <a:lnTo>
                      <a:pt x="765" y="329"/>
                    </a:lnTo>
                    <a:lnTo>
                      <a:pt x="768" y="335"/>
                    </a:lnTo>
                    <a:lnTo>
                      <a:pt x="774" y="338"/>
                    </a:lnTo>
                    <a:lnTo>
                      <a:pt x="780" y="338"/>
                    </a:lnTo>
                    <a:lnTo>
                      <a:pt x="787" y="335"/>
                    </a:lnTo>
                    <a:lnTo>
                      <a:pt x="790" y="332"/>
                    </a:lnTo>
                    <a:lnTo>
                      <a:pt x="793" y="323"/>
                    </a:lnTo>
                    <a:lnTo>
                      <a:pt x="1500" y="191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34" name="Freeform 313"/>
              <p:cNvSpPr/>
              <p:nvPr/>
            </p:nvSpPr>
            <p:spPr>
              <a:xfrm rot="21336000">
                <a:off x="3751200" y="2288880"/>
                <a:ext cx="218880" cy="8568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50" h="59">
                    <a:moveTo>
                      <a:pt x="9" y="43"/>
                    </a:moveTo>
                    <a:lnTo>
                      <a:pt x="6" y="34"/>
                    </a:lnTo>
                    <a:lnTo>
                      <a:pt x="3" y="25"/>
                    </a:lnTo>
                    <a:lnTo>
                      <a:pt x="0" y="19"/>
                    </a:lnTo>
                    <a:lnTo>
                      <a:pt x="0" y="6"/>
                    </a:lnTo>
                    <a:lnTo>
                      <a:pt x="36" y="3"/>
                    </a:lnTo>
                    <a:lnTo>
                      <a:pt x="80" y="0"/>
                    </a:lnTo>
                    <a:lnTo>
                      <a:pt x="98" y="0"/>
                    </a:lnTo>
                    <a:lnTo>
                      <a:pt x="119" y="3"/>
                    </a:lnTo>
                    <a:lnTo>
                      <a:pt x="135" y="6"/>
                    </a:lnTo>
                    <a:lnTo>
                      <a:pt x="150" y="16"/>
                    </a:lnTo>
                    <a:lnTo>
                      <a:pt x="138" y="37"/>
                    </a:lnTo>
                    <a:lnTo>
                      <a:pt x="126" y="49"/>
                    </a:lnTo>
                    <a:lnTo>
                      <a:pt x="107" y="56"/>
                    </a:lnTo>
                    <a:lnTo>
                      <a:pt x="89" y="59"/>
                    </a:lnTo>
                    <a:lnTo>
                      <a:pt x="70" y="59"/>
                    </a:lnTo>
                    <a:lnTo>
                      <a:pt x="49" y="56"/>
                    </a:lnTo>
                    <a:lnTo>
                      <a:pt x="9" y="43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35" name="Freeform 314"/>
              <p:cNvSpPr/>
              <p:nvPr/>
            </p:nvSpPr>
            <p:spPr>
              <a:xfrm rot="21336000">
                <a:off x="2626200" y="1688760"/>
                <a:ext cx="1266120" cy="833760"/>
              </a:xfrm>
              <a:custGeom>
                <a:avLst/>
                <a:gdLst>
                  <a:gd name="textAreaLeft" fmla="*/ 0 w 1266120"/>
                  <a:gd name="textAreaRight" fmla="*/ 1266480 w 1266120"/>
                  <a:gd name="textAreaTop" fmla="*/ 0 h 833760"/>
                  <a:gd name="textAreaBottom" fmla="*/ 834120 h 833760"/>
                </a:gdLst>
                <a:ahLst/>
                <a:rect l="textAreaLeft" t="textAreaTop" r="textAreaRight" b="textAreaBottom"/>
                <a:pathLst>
                  <a:path w="867" h="571">
                    <a:moveTo>
                      <a:pt x="686" y="344"/>
                    </a:moveTo>
                    <a:lnTo>
                      <a:pt x="680" y="350"/>
                    </a:lnTo>
                    <a:lnTo>
                      <a:pt x="680" y="356"/>
                    </a:lnTo>
                    <a:lnTo>
                      <a:pt x="683" y="359"/>
                    </a:lnTo>
                    <a:lnTo>
                      <a:pt x="686" y="366"/>
                    </a:lnTo>
                    <a:lnTo>
                      <a:pt x="701" y="375"/>
                    </a:lnTo>
                    <a:lnTo>
                      <a:pt x="710" y="384"/>
                    </a:lnTo>
                    <a:lnTo>
                      <a:pt x="692" y="396"/>
                    </a:lnTo>
                    <a:lnTo>
                      <a:pt x="670" y="402"/>
                    </a:lnTo>
                    <a:lnTo>
                      <a:pt x="621" y="415"/>
                    </a:lnTo>
                    <a:lnTo>
                      <a:pt x="600" y="421"/>
                    </a:lnTo>
                    <a:lnTo>
                      <a:pt x="578" y="430"/>
                    </a:lnTo>
                    <a:lnTo>
                      <a:pt x="560" y="442"/>
                    </a:lnTo>
                    <a:lnTo>
                      <a:pt x="551" y="448"/>
                    </a:lnTo>
                    <a:lnTo>
                      <a:pt x="544" y="458"/>
                    </a:lnTo>
                    <a:lnTo>
                      <a:pt x="529" y="455"/>
                    </a:lnTo>
                    <a:lnTo>
                      <a:pt x="517" y="452"/>
                    </a:lnTo>
                    <a:lnTo>
                      <a:pt x="508" y="455"/>
                    </a:lnTo>
                    <a:lnTo>
                      <a:pt x="495" y="458"/>
                    </a:lnTo>
                    <a:lnTo>
                      <a:pt x="489" y="461"/>
                    </a:lnTo>
                    <a:lnTo>
                      <a:pt x="480" y="470"/>
                    </a:lnTo>
                    <a:lnTo>
                      <a:pt x="468" y="488"/>
                    </a:lnTo>
                    <a:lnTo>
                      <a:pt x="443" y="531"/>
                    </a:lnTo>
                    <a:lnTo>
                      <a:pt x="431" y="553"/>
                    </a:lnTo>
                    <a:lnTo>
                      <a:pt x="418" y="571"/>
                    </a:lnTo>
                    <a:lnTo>
                      <a:pt x="406" y="571"/>
                    </a:lnTo>
                    <a:lnTo>
                      <a:pt x="400" y="565"/>
                    </a:lnTo>
                    <a:lnTo>
                      <a:pt x="394" y="556"/>
                    </a:lnTo>
                    <a:lnTo>
                      <a:pt x="394" y="544"/>
                    </a:lnTo>
                    <a:lnTo>
                      <a:pt x="385" y="547"/>
                    </a:lnTo>
                    <a:lnTo>
                      <a:pt x="375" y="547"/>
                    </a:lnTo>
                    <a:lnTo>
                      <a:pt x="366" y="547"/>
                    </a:lnTo>
                    <a:lnTo>
                      <a:pt x="357" y="544"/>
                    </a:lnTo>
                    <a:lnTo>
                      <a:pt x="341" y="531"/>
                    </a:lnTo>
                    <a:lnTo>
                      <a:pt x="326" y="516"/>
                    </a:lnTo>
                    <a:lnTo>
                      <a:pt x="302" y="479"/>
                    </a:lnTo>
                    <a:lnTo>
                      <a:pt x="289" y="464"/>
                    </a:lnTo>
                    <a:lnTo>
                      <a:pt x="277" y="448"/>
                    </a:lnTo>
                    <a:lnTo>
                      <a:pt x="277" y="424"/>
                    </a:lnTo>
                    <a:lnTo>
                      <a:pt x="277" y="415"/>
                    </a:lnTo>
                    <a:lnTo>
                      <a:pt x="280" y="412"/>
                    </a:lnTo>
                    <a:lnTo>
                      <a:pt x="283" y="412"/>
                    </a:lnTo>
                    <a:lnTo>
                      <a:pt x="283" y="409"/>
                    </a:lnTo>
                    <a:lnTo>
                      <a:pt x="280" y="405"/>
                    </a:lnTo>
                    <a:lnTo>
                      <a:pt x="271" y="402"/>
                    </a:lnTo>
                    <a:lnTo>
                      <a:pt x="265" y="399"/>
                    </a:lnTo>
                    <a:lnTo>
                      <a:pt x="262" y="396"/>
                    </a:lnTo>
                    <a:lnTo>
                      <a:pt x="262" y="393"/>
                    </a:lnTo>
                    <a:lnTo>
                      <a:pt x="258" y="381"/>
                    </a:lnTo>
                    <a:lnTo>
                      <a:pt x="262" y="372"/>
                    </a:lnTo>
                    <a:lnTo>
                      <a:pt x="262" y="362"/>
                    </a:lnTo>
                    <a:lnTo>
                      <a:pt x="268" y="359"/>
                    </a:lnTo>
                    <a:lnTo>
                      <a:pt x="274" y="356"/>
                    </a:lnTo>
                    <a:lnTo>
                      <a:pt x="280" y="353"/>
                    </a:lnTo>
                    <a:lnTo>
                      <a:pt x="298" y="353"/>
                    </a:lnTo>
                    <a:lnTo>
                      <a:pt x="292" y="341"/>
                    </a:lnTo>
                    <a:lnTo>
                      <a:pt x="286" y="338"/>
                    </a:lnTo>
                    <a:lnTo>
                      <a:pt x="280" y="341"/>
                    </a:lnTo>
                    <a:lnTo>
                      <a:pt x="271" y="347"/>
                    </a:lnTo>
                    <a:lnTo>
                      <a:pt x="265" y="353"/>
                    </a:lnTo>
                    <a:lnTo>
                      <a:pt x="258" y="359"/>
                    </a:lnTo>
                    <a:lnTo>
                      <a:pt x="252" y="359"/>
                    </a:lnTo>
                    <a:lnTo>
                      <a:pt x="243" y="353"/>
                    </a:lnTo>
                    <a:lnTo>
                      <a:pt x="243" y="307"/>
                    </a:lnTo>
                    <a:lnTo>
                      <a:pt x="231" y="295"/>
                    </a:lnTo>
                    <a:lnTo>
                      <a:pt x="219" y="283"/>
                    </a:lnTo>
                    <a:lnTo>
                      <a:pt x="203" y="276"/>
                    </a:lnTo>
                    <a:lnTo>
                      <a:pt x="188" y="270"/>
                    </a:lnTo>
                    <a:lnTo>
                      <a:pt x="154" y="264"/>
                    </a:lnTo>
                    <a:lnTo>
                      <a:pt x="120" y="261"/>
                    </a:lnTo>
                    <a:lnTo>
                      <a:pt x="86" y="261"/>
                    </a:lnTo>
                    <a:lnTo>
                      <a:pt x="56" y="258"/>
                    </a:lnTo>
                    <a:lnTo>
                      <a:pt x="40" y="255"/>
                    </a:lnTo>
                    <a:lnTo>
                      <a:pt x="25" y="249"/>
                    </a:lnTo>
                    <a:lnTo>
                      <a:pt x="13" y="243"/>
                    </a:lnTo>
                    <a:lnTo>
                      <a:pt x="0" y="230"/>
                    </a:lnTo>
                    <a:lnTo>
                      <a:pt x="34" y="215"/>
                    </a:lnTo>
                    <a:lnTo>
                      <a:pt x="71" y="197"/>
                    </a:lnTo>
                    <a:lnTo>
                      <a:pt x="86" y="187"/>
                    </a:lnTo>
                    <a:lnTo>
                      <a:pt x="99" y="175"/>
                    </a:lnTo>
                    <a:lnTo>
                      <a:pt x="111" y="157"/>
                    </a:lnTo>
                    <a:lnTo>
                      <a:pt x="117" y="138"/>
                    </a:lnTo>
                    <a:lnTo>
                      <a:pt x="129" y="138"/>
                    </a:lnTo>
                    <a:lnTo>
                      <a:pt x="142" y="138"/>
                    </a:lnTo>
                    <a:lnTo>
                      <a:pt x="148" y="135"/>
                    </a:lnTo>
                    <a:lnTo>
                      <a:pt x="157" y="129"/>
                    </a:lnTo>
                    <a:lnTo>
                      <a:pt x="166" y="117"/>
                    </a:lnTo>
                    <a:lnTo>
                      <a:pt x="172" y="98"/>
                    </a:lnTo>
                    <a:lnTo>
                      <a:pt x="185" y="95"/>
                    </a:lnTo>
                    <a:lnTo>
                      <a:pt x="200" y="95"/>
                    </a:lnTo>
                    <a:lnTo>
                      <a:pt x="225" y="95"/>
                    </a:lnTo>
                    <a:lnTo>
                      <a:pt x="268" y="104"/>
                    </a:lnTo>
                    <a:lnTo>
                      <a:pt x="289" y="104"/>
                    </a:lnTo>
                    <a:lnTo>
                      <a:pt x="295" y="101"/>
                    </a:lnTo>
                    <a:lnTo>
                      <a:pt x="305" y="98"/>
                    </a:lnTo>
                    <a:lnTo>
                      <a:pt x="311" y="92"/>
                    </a:lnTo>
                    <a:lnTo>
                      <a:pt x="317" y="83"/>
                    </a:lnTo>
                    <a:lnTo>
                      <a:pt x="320" y="68"/>
                    </a:lnTo>
                    <a:lnTo>
                      <a:pt x="323" y="52"/>
                    </a:lnTo>
                    <a:lnTo>
                      <a:pt x="326" y="49"/>
                    </a:lnTo>
                    <a:lnTo>
                      <a:pt x="332" y="52"/>
                    </a:lnTo>
                    <a:lnTo>
                      <a:pt x="338" y="58"/>
                    </a:lnTo>
                    <a:lnTo>
                      <a:pt x="348" y="71"/>
                    </a:lnTo>
                    <a:lnTo>
                      <a:pt x="354" y="71"/>
                    </a:lnTo>
                    <a:lnTo>
                      <a:pt x="357" y="65"/>
                    </a:lnTo>
                    <a:lnTo>
                      <a:pt x="360" y="55"/>
                    </a:lnTo>
                    <a:lnTo>
                      <a:pt x="363" y="46"/>
                    </a:lnTo>
                    <a:lnTo>
                      <a:pt x="366" y="40"/>
                    </a:lnTo>
                    <a:lnTo>
                      <a:pt x="369" y="34"/>
                    </a:lnTo>
                    <a:lnTo>
                      <a:pt x="388" y="25"/>
                    </a:lnTo>
                    <a:lnTo>
                      <a:pt x="415" y="15"/>
                    </a:lnTo>
                    <a:lnTo>
                      <a:pt x="452" y="9"/>
                    </a:lnTo>
                    <a:lnTo>
                      <a:pt x="492" y="3"/>
                    </a:lnTo>
                    <a:lnTo>
                      <a:pt x="532" y="0"/>
                    </a:lnTo>
                    <a:lnTo>
                      <a:pt x="572" y="0"/>
                    </a:lnTo>
                    <a:lnTo>
                      <a:pt x="606" y="6"/>
                    </a:lnTo>
                    <a:lnTo>
                      <a:pt x="618" y="9"/>
                    </a:lnTo>
                    <a:lnTo>
                      <a:pt x="631" y="15"/>
                    </a:lnTo>
                    <a:lnTo>
                      <a:pt x="627" y="25"/>
                    </a:lnTo>
                    <a:lnTo>
                      <a:pt x="624" y="28"/>
                    </a:lnTo>
                    <a:lnTo>
                      <a:pt x="621" y="34"/>
                    </a:lnTo>
                    <a:lnTo>
                      <a:pt x="640" y="28"/>
                    </a:lnTo>
                    <a:lnTo>
                      <a:pt x="661" y="25"/>
                    </a:lnTo>
                    <a:lnTo>
                      <a:pt x="710" y="25"/>
                    </a:lnTo>
                    <a:lnTo>
                      <a:pt x="720" y="55"/>
                    </a:lnTo>
                    <a:lnTo>
                      <a:pt x="729" y="83"/>
                    </a:lnTo>
                    <a:lnTo>
                      <a:pt x="741" y="108"/>
                    </a:lnTo>
                    <a:lnTo>
                      <a:pt x="747" y="120"/>
                    </a:lnTo>
                    <a:lnTo>
                      <a:pt x="757" y="129"/>
                    </a:lnTo>
                    <a:lnTo>
                      <a:pt x="772" y="126"/>
                    </a:lnTo>
                    <a:lnTo>
                      <a:pt x="787" y="117"/>
                    </a:lnTo>
                    <a:lnTo>
                      <a:pt x="815" y="98"/>
                    </a:lnTo>
                    <a:lnTo>
                      <a:pt x="827" y="92"/>
                    </a:lnTo>
                    <a:lnTo>
                      <a:pt x="840" y="89"/>
                    </a:lnTo>
                    <a:lnTo>
                      <a:pt x="846" y="92"/>
                    </a:lnTo>
                    <a:lnTo>
                      <a:pt x="852" y="95"/>
                    </a:lnTo>
                    <a:lnTo>
                      <a:pt x="867" y="111"/>
                    </a:lnTo>
                    <a:lnTo>
                      <a:pt x="858" y="126"/>
                    </a:lnTo>
                    <a:lnTo>
                      <a:pt x="849" y="141"/>
                    </a:lnTo>
                    <a:lnTo>
                      <a:pt x="833" y="151"/>
                    </a:lnTo>
                    <a:lnTo>
                      <a:pt x="821" y="160"/>
                    </a:lnTo>
                    <a:lnTo>
                      <a:pt x="806" y="172"/>
                    </a:lnTo>
                    <a:lnTo>
                      <a:pt x="793" y="181"/>
                    </a:lnTo>
                    <a:lnTo>
                      <a:pt x="781" y="197"/>
                    </a:lnTo>
                    <a:lnTo>
                      <a:pt x="772" y="212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75" y="230"/>
                    </a:lnTo>
                    <a:lnTo>
                      <a:pt x="778" y="233"/>
                    </a:lnTo>
                    <a:lnTo>
                      <a:pt x="787" y="237"/>
                    </a:lnTo>
                    <a:lnTo>
                      <a:pt x="797" y="243"/>
                    </a:lnTo>
                    <a:lnTo>
                      <a:pt x="790" y="249"/>
                    </a:lnTo>
                    <a:lnTo>
                      <a:pt x="787" y="255"/>
                    </a:lnTo>
                    <a:lnTo>
                      <a:pt x="781" y="276"/>
                    </a:lnTo>
                    <a:lnTo>
                      <a:pt x="778" y="298"/>
                    </a:lnTo>
                    <a:lnTo>
                      <a:pt x="772" y="316"/>
                    </a:lnTo>
                    <a:lnTo>
                      <a:pt x="726" y="316"/>
                    </a:lnTo>
                    <a:lnTo>
                      <a:pt x="726" y="338"/>
                    </a:lnTo>
                    <a:lnTo>
                      <a:pt x="732" y="353"/>
                    </a:lnTo>
                    <a:lnTo>
                      <a:pt x="732" y="369"/>
                    </a:lnTo>
                    <a:lnTo>
                      <a:pt x="729" y="375"/>
                    </a:lnTo>
                    <a:lnTo>
                      <a:pt x="726" y="384"/>
                    </a:lnTo>
                    <a:lnTo>
                      <a:pt x="717" y="384"/>
                    </a:lnTo>
                    <a:lnTo>
                      <a:pt x="710" y="381"/>
                    </a:lnTo>
                    <a:lnTo>
                      <a:pt x="704" y="375"/>
                    </a:lnTo>
                    <a:lnTo>
                      <a:pt x="701" y="369"/>
                    </a:lnTo>
                    <a:lnTo>
                      <a:pt x="695" y="356"/>
                    </a:lnTo>
                    <a:lnTo>
                      <a:pt x="692" y="350"/>
                    </a:lnTo>
                    <a:lnTo>
                      <a:pt x="686" y="344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36" name="Rectangle 315"/>
              <p:cNvSpPr/>
              <p:nvPr/>
            </p:nvSpPr>
            <p:spPr>
              <a:xfrm rot="21336000">
                <a:off x="2887560" y="3672000"/>
                <a:ext cx="30240" cy="40680"/>
              </a:xfrm>
              <a:prstGeom prst="rect">
                <a:avLst/>
              </a:pr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d-ID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37" name="Freeform 316"/>
              <p:cNvSpPr/>
              <p:nvPr/>
            </p:nvSpPr>
            <p:spPr>
              <a:xfrm rot="21336000">
                <a:off x="2724480" y="3650400"/>
                <a:ext cx="125280" cy="7128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86" h="49">
                    <a:moveTo>
                      <a:pt x="0" y="30"/>
                    </a:moveTo>
                    <a:lnTo>
                      <a:pt x="0" y="24"/>
                    </a:lnTo>
                    <a:lnTo>
                      <a:pt x="6" y="15"/>
                    </a:lnTo>
                    <a:lnTo>
                      <a:pt x="18" y="6"/>
                    </a:lnTo>
                    <a:lnTo>
                      <a:pt x="34" y="0"/>
                    </a:lnTo>
                    <a:lnTo>
                      <a:pt x="49" y="0"/>
                    </a:lnTo>
                    <a:lnTo>
                      <a:pt x="64" y="6"/>
                    </a:lnTo>
                    <a:lnTo>
                      <a:pt x="80" y="15"/>
                    </a:lnTo>
                    <a:lnTo>
                      <a:pt x="83" y="21"/>
                    </a:lnTo>
                    <a:lnTo>
                      <a:pt x="86" y="27"/>
                    </a:lnTo>
                    <a:lnTo>
                      <a:pt x="86" y="40"/>
                    </a:lnTo>
                    <a:lnTo>
                      <a:pt x="86" y="49"/>
                    </a:lnTo>
                    <a:lnTo>
                      <a:pt x="46" y="43"/>
                    </a:lnTo>
                    <a:lnTo>
                      <a:pt x="24" y="4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38" name="Freeform 317"/>
              <p:cNvSpPr/>
              <p:nvPr/>
            </p:nvSpPr>
            <p:spPr>
              <a:xfrm rot="21336000">
                <a:off x="2624040" y="3719880"/>
                <a:ext cx="45000" cy="392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31" h="27">
                    <a:moveTo>
                      <a:pt x="31" y="9"/>
                    </a:moveTo>
                    <a:lnTo>
                      <a:pt x="28" y="15"/>
                    </a:lnTo>
                    <a:lnTo>
                      <a:pt x="28" y="21"/>
                    </a:lnTo>
                    <a:lnTo>
                      <a:pt x="22" y="24"/>
                    </a:lnTo>
                    <a:lnTo>
                      <a:pt x="19" y="27"/>
                    </a:lnTo>
                    <a:lnTo>
                      <a:pt x="9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12" y="0"/>
                    </a:lnTo>
                    <a:lnTo>
                      <a:pt x="22" y="3"/>
                    </a:lnTo>
                    <a:lnTo>
                      <a:pt x="31" y="9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39" name="Freeform 318"/>
              <p:cNvSpPr/>
              <p:nvPr/>
            </p:nvSpPr>
            <p:spPr>
              <a:xfrm rot="21336000">
                <a:off x="2476080" y="3575160"/>
                <a:ext cx="218880" cy="8568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150" h="59">
                    <a:moveTo>
                      <a:pt x="150" y="56"/>
                    </a:moveTo>
                    <a:lnTo>
                      <a:pt x="141" y="59"/>
                    </a:lnTo>
                    <a:lnTo>
                      <a:pt x="132" y="59"/>
                    </a:lnTo>
                    <a:lnTo>
                      <a:pt x="117" y="59"/>
                    </a:lnTo>
                    <a:lnTo>
                      <a:pt x="101" y="49"/>
                    </a:lnTo>
                    <a:lnTo>
                      <a:pt x="86" y="40"/>
                    </a:lnTo>
                    <a:lnTo>
                      <a:pt x="67" y="31"/>
                    </a:lnTo>
                    <a:lnTo>
                      <a:pt x="49" y="22"/>
                    </a:lnTo>
                    <a:lnTo>
                      <a:pt x="24" y="22"/>
                    </a:lnTo>
                    <a:lnTo>
                      <a:pt x="12" y="22"/>
                    </a:lnTo>
                    <a:lnTo>
                      <a:pt x="0" y="25"/>
                    </a:lnTo>
                    <a:lnTo>
                      <a:pt x="9" y="16"/>
                    </a:lnTo>
                    <a:lnTo>
                      <a:pt x="15" y="9"/>
                    </a:lnTo>
                    <a:lnTo>
                      <a:pt x="24" y="3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74" y="9"/>
                    </a:lnTo>
                    <a:lnTo>
                      <a:pt x="95" y="19"/>
                    </a:lnTo>
                    <a:lnTo>
                      <a:pt x="114" y="31"/>
                    </a:lnTo>
                    <a:lnTo>
                      <a:pt x="150" y="56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40" name="Freeform 319"/>
              <p:cNvSpPr/>
              <p:nvPr/>
            </p:nvSpPr>
            <p:spPr>
              <a:xfrm rot="21336000">
                <a:off x="2608920" y="3528000"/>
                <a:ext cx="31680" cy="259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22" y="0"/>
                    </a:moveTo>
                    <a:lnTo>
                      <a:pt x="19" y="9"/>
                    </a:lnTo>
                    <a:lnTo>
                      <a:pt x="16" y="15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3"/>
                    </a:lnTo>
                    <a:lnTo>
                      <a:pt x="1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41" name="Freeform 320"/>
              <p:cNvSpPr/>
              <p:nvPr/>
            </p:nvSpPr>
            <p:spPr>
              <a:xfrm rot="21336000">
                <a:off x="2472120" y="2511720"/>
                <a:ext cx="27360" cy="27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0" y="12"/>
                    </a:moveTo>
                    <a:lnTo>
                      <a:pt x="6" y="3"/>
                    </a:lnTo>
                    <a:lnTo>
                      <a:pt x="12" y="0"/>
                    </a:lnTo>
                    <a:lnTo>
                      <a:pt x="19" y="3"/>
                    </a:lnTo>
                    <a:lnTo>
                      <a:pt x="19" y="9"/>
                    </a:lnTo>
                    <a:lnTo>
                      <a:pt x="19" y="16"/>
                    </a:lnTo>
                    <a:lnTo>
                      <a:pt x="16" y="19"/>
                    </a:lnTo>
                    <a:lnTo>
                      <a:pt x="9" y="1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42" name="Rectangle 321"/>
              <p:cNvSpPr/>
              <p:nvPr/>
            </p:nvSpPr>
            <p:spPr>
              <a:xfrm rot="21336000">
                <a:off x="2412000" y="2494440"/>
                <a:ext cx="23040" cy="25920"/>
              </a:xfrm>
              <a:prstGeom prst="rect">
                <a:avLst/>
              </a:pr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d-ID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43" name="Freeform 322"/>
              <p:cNvSpPr/>
              <p:nvPr/>
            </p:nvSpPr>
            <p:spPr>
              <a:xfrm rot="21336000">
                <a:off x="2098800" y="2170440"/>
                <a:ext cx="49320" cy="273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4" h="19">
                    <a:moveTo>
                      <a:pt x="31" y="0"/>
                    </a:moveTo>
                    <a:lnTo>
                      <a:pt x="34" y="10"/>
                    </a:lnTo>
                    <a:lnTo>
                      <a:pt x="31" y="16"/>
                    </a:lnTo>
                    <a:lnTo>
                      <a:pt x="28" y="19"/>
                    </a:lnTo>
                    <a:lnTo>
                      <a:pt x="25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44" name="Freeform 323"/>
              <p:cNvSpPr/>
              <p:nvPr/>
            </p:nvSpPr>
            <p:spPr>
              <a:xfrm rot="21336000">
                <a:off x="2102040" y="2204640"/>
                <a:ext cx="103320" cy="450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71" h="31">
                    <a:moveTo>
                      <a:pt x="0" y="31"/>
                    </a:moveTo>
                    <a:lnTo>
                      <a:pt x="7" y="18"/>
                    </a:lnTo>
                    <a:lnTo>
                      <a:pt x="13" y="9"/>
                    </a:lnTo>
                    <a:lnTo>
                      <a:pt x="22" y="3"/>
                    </a:lnTo>
                    <a:lnTo>
                      <a:pt x="31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62" y="6"/>
                    </a:lnTo>
                    <a:lnTo>
                      <a:pt x="71" y="12"/>
                    </a:lnTo>
                    <a:lnTo>
                      <a:pt x="68" y="21"/>
                    </a:lnTo>
                    <a:lnTo>
                      <a:pt x="62" y="28"/>
                    </a:lnTo>
                    <a:lnTo>
                      <a:pt x="56" y="31"/>
                    </a:lnTo>
                    <a:lnTo>
                      <a:pt x="43" y="31"/>
                    </a:lnTo>
                    <a:lnTo>
                      <a:pt x="22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45" name="Freeform 324"/>
              <p:cNvSpPr/>
              <p:nvPr/>
            </p:nvSpPr>
            <p:spPr>
              <a:xfrm rot="21336000">
                <a:off x="2060280" y="2075040"/>
                <a:ext cx="404280" cy="120960"/>
              </a:xfrm>
              <a:custGeom>
                <a:avLst/>
                <a:gdLst>
                  <a:gd name="textAreaLeft" fmla="*/ 0 w 404280"/>
                  <a:gd name="textAreaRight" fmla="*/ 404640 w 4042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277" h="83">
                    <a:moveTo>
                      <a:pt x="0" y="0"/>
                    </a:moveTo>
                    <a:lnTo>
                      <a:pt x="21" y="3"/>
                    </a:lnTo>
                    <a:lnTo>
                      <a:pt x="40" y="6"/>
                    </a:lnTo>
                    <a:lnTo>
                      <a:pt x="55" y="12"/>
                    </a:lnTo>
                    <a:lnTo>
                      <a:pt x="71" y="21"/>
                    </a:lnTo>
                    <a:lnTo>
                      <a:pt x="98" y="40"/>
                    </a:lnTo>
                    <a:lnTo>
                      <a:pt x="126" y="58"/>
                    </a:lnTo>
                    <a:lnTo>
                      <a:pt x="166" y="58"/>
                    </a:lnTo>
                    <a:lnTo>
                      <a:pt x="206" y="55"/>
                    </a:lnTo>
                    <a:lnTo>
                      <a:pt x="246" y="58"/>
                    </a:lnTo>
                    <a:lnTo>
                      <a:pt x="261" y="61"/>
                    </a:lnTo>
                    <a:lnTo>
                      <a:pt x="277" y="68"/>
                    </a:lnTo>
                    <a:lnTo>
                      <a:pt x="261" y="74"/>
                    </a:lnTo>
                    <a:lnTo>
                      <a:pt x="243" y="77"/>
                    </a:lnTo>
                    <a:lnTo>
                      <a:pt x="206" y="83"/>
                    </a:lnTo>
                    <a:lnTo>
                      <a:pt x="166" y="80"/>
                    </a:lnTo>
                    <a:lnTo>
                      <a:pt x="126" y="74"/>
                    </a:lnTo>
                    <a:lnTo>
                      <a:pt x="86" y="61"/>
                    </a:lnTo>
                    <a:lnTo>
                      <a:pt x="52" y="46"/>
                    </a:lnTo>
                    <a:lnTo>
                      <a:pt x="34" y="37"/>
                    </a:lnTo>
                    <a:lnTo>
                      <a:pt x="21" y="25"/>
                    </a:lnTo>
                    <a:lnTo>
                      <a:pt x="9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46" name="Freeform 325"/>
              <p:cNvSpPr/>
              <p:nvPr/>
            </p:nvSpPr>
            <p:spPr>
              <a:xfrm rot="21336000">
                <a:off x="1958040" y="2232720"/>
                <a:ext cx="125280" cy="7992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86" h="55">
                    <a:moveTo>
                      <a:pt x="0" y="0"/>
                    </a:moveTo>
                    <a:lnTo>
                      <a:pt x="86" y="0"/>
                    </a:lnTo>
                    <a:lnTo>
                      <a:pt x="86" y="22"/>
                    </a:lnTo>
                    <a:lnTo>
                      <a:pt x="83" y="34"/>
                    </a:lnTo>
                    <a:lnTo>
                      <a:pt x="71" y="55"/>
                    </a:lnTo>
                    <a:lnTo>
                      <a:pt x="61" y="49"/>
                    </a:lnTo>
                    <a:lnTo>
                      <a:pt x="52" y="43"/>
                    </a:lnTo>
                    <a:lnTo>
                      <a:pt x="28" y="34"/>
                    </a:lnTo>
                    <a:lnTo>
                      <a:pt x="18" y="31"/>
                    </a:lnTo>
                    <a:lnTo>
                      <a:pt x="9" y="22"/>
                    </a:lnTo>
                    <a:lnTo>
                      <a:pt x="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47" name="Freeform 326"/>
              <p:cNvSpPr/>
              <p:nvPr/>
            </p:nvSpPr>
            <p:spPr>
              <a:xfrm rot="21336000">
                <a:off x="1901520" y="2155320"/>
                <a:ext cx="153000" cy="66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105" h="46">
                    <a:moveTo>
                      <a:pt x="49" y="18"/>
                    </a:moveTo>
                    <a:lnTo>
                      <a:pt x="40" y="18"/>
                    </a:lnTo>
                    <a:lnTo>
                      <a:pt x="34" y="21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05" y="0"/>
                    </a:lnTo>
                    <a:lnTo>
                      <a:pt x="105" y="15"/>
                    </a:lnTo>
                    <a:lnTo>
                      <a:pt x="102" y="28"/>
                    </a:lnTo>
                    <a:lnTo>
                      <a:pt x="92" y="34"/>
                    </a:lnTo>
                    <a:lnTo>
                      <a:pt x="83" y="37"/>
                    </a:lnTo>
                    <a:lnTo>
                      <a:pt x="74" y="34"/>
                    </a:lnTo>
                    <a:lnTo>
                      <a:pt x="65" y="31"/>
                    </a:lnTo>
                    <a:lnTo>
                      <a:pt x="55" y="24"/>
                    </a:lnTo>
                    <a:lnTo>
                      <a:pt x="49" y="18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48" name="Freeform 327"/>
              <p:cNvSpPr/>
              <p:nvPr/>
            </p:nvSpPr>
            <p:spPr>
              <a:xfrm rot="21336000">
                <a:off x="1872720" y="2072520"/>
                <a:ext cx="151560" cy="5652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104" h="39">
                    <a:moveTo>
                      <a:pt x="0" y="0"/>
                    </a:moveTo>
                    <a:lnTo>
                      <a:pt x="34" y="0"/>
                    </a:lnTo>
                    <a:lnTo>
                      <a:pt x="64" y="0"/>
                    </a:lnTo>
                    <a:lnTo>
                      <a:pt x="77" y="3"/>
                    </a:lnTo>
                    <a:lnTo>
                      <a:pt x="89" y="9"/>
                    </a:lnTo>
                    <a:lnTo>
                      <a:pt x="98" y="15"/>
                    </a:lnTo>
                    <a:lnTo>
                      <a:pt x="104" y="27"/>
                    </a:lnTo>
                    <a:lnTo>
                      <a:pt x="101" y="33"/>
                    </a:lnTo>
                    <a:lnTo>
                      <a:pt x="98" y="36"/>
                    </a:lnTo>
                    <a:lnTo>
                      <a:pt x="86" y="39"/>
                    </a:lnTo>
                    <a:lnTo>
                      <a:pt x="70" y="39"/>
                    </a:lnTo>
                    <a:lnTo>
                      <a:pt x="52" y="36"/>
                    </a:lnTo>
                    <a:lnTo>
                      <a:pt x="34" y="33"/>
                    </a:lnTo>
                    <a:lnTo>
                      <a:pt x="18" y="24"/>
                    </a:lnTo>
                    <a:lnTo>
                      <a:pt x="6" y="12"/>
                    </a:lnTo>
                    <a:lnTo>
                      <a:pt x="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49" name="Freeform 328"/>
              <p:cNvSpPr/>
              <p:nvPr/>
            </p:nvSpPr>
            <p:spPr>
              <a:xfrm rot="21336000">
                <a:off x="1690200" y="2102760"/>
                <a:ext cx="79920" cy="5796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55" h="40">
                    <a:moveTo>
                      <a:pt x="0" y="40"/>
                    </a:moveTo>
                    <a:lnTo>
                      <a:pt x="3" y="27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34" y="3"/>
                    </a:lnTo>
                    <a:lnTo>
                      <a:pt x="55" y="0"/>
                    </a:lnTo>
                    <a:lnTo>
                      <a:pt x="55" y="40"/>
                    </a:lnTo>
                    <a:lnTo>
                      <a:pt x="40" y="34"/>
                    </a:lnTo>
                    <a:lnTo>
                      <a:pt x="27" y="30"/>
                    </a:lnTo>
                    <a:lnTo>
                      <a:pt x="15" y="34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50" name="Freeform 329"/>
              <p:cNvSpPr/>
              <p:nvPr/>
            </p:nvSpPr>
            <p:spPr>
              <a:xfrm rot="21336000">
                <a:off x="577440" y="2109240"/>
                <a:ext cx="3071520" cy="3670560"/>
              </a:xfrm>
              <a:custGeom>
                <a:avLst/>
                <a:gdLst>
                  <a:gd name="textAreaLeft" fmla="*/ 0 w 3071520"/>
                  <a:gd name="textAreaRight" fmla="*/ 3071880 w 3071520"/>
                  <a:gd name="textAreaTop" fmla="*/ 0 h 3670560"/>
                  <a:gd name="textAreaBottom" fmla="*/ 3670920 h 3670560"/>
                </a:gdLst>
                <a:ahLst/>
                <a:rect l="textAreaLeft" t="textAreaTop" r="textAreaRight" b="textAreaBottom"/>
                <a:pathLst>
                  <a:path w="2103" h="2513">
                    <a:moveTo>
                      <a:pt x="1285" y="688"/>
                    </a:moveTo>
                    <a:lnTo>
                      <a:pt x="1285" y="664"/>
                    </a:lnTo>
                    <a:lnTo>
                      <a:pt x="1291" y="639"/>
                    </a:lnTo>
                    <a:lnTo>
                      <a:pt x="1300" y="618"/>
                    </a:lnTo>
                    <a:lnTo>
                      <a:pt x="1313" y="602"/>
                    </a:lnTo>
                    <a:lnTo>
                      <a:pt x="1319" y="599"/>
                    </a:lnTo>
                    <a:lnTo>
                      <a:pt x="1325" y="596"/>
                    </a:lnTo>
                    <a:lnTo>
                      <a:pt x="1331" y="596"/>
                    </a:lnTo>
                    <a:lnTo>
                      <a:pt x="1337" y="599"/>
                    </a:lnTo>
                    <a:lnTo>
                      <a:pt x="1340" y="605"/>
                    </a:lnTo>
                    <a:lnTo>
                      <a:pt x="1343" y="618"/>
                    </a:lnTo>
                    <a:lnTo>
                      <a:pt x="1347" y="630"/>
                    </a:lnTo>
                    <a:lnTo>
                      <a:pt x="1347" y="648"/>
                    </a:lnTo>
                    <a:lnTo>
                      <a:pt x="1359" y="645"/>
                    </a:lnTo>
                    <a:lnTo>
                      <a:pt x="1365" y="639"/>
                    </a:lnTo>
                    <a:lnTo>
                      <a:pt x="1368" y="630"/>
                    </a:lnTo>
                    <a:lnTo>
                      <a:pt x="1368" y="621"/>
                    </a:lnTo>
                    <a:lnTo>
                      <a:pt x="1371" y="615"/>
                    </a:lnTo>
                    <a:lnTo>
                      <a:pt x="1371" y="605"/>
                    </a:lnTo>
                    <a:lnTo>
                      <a:pt x="1377" y="602"/>
                    </a:lnTo>
                    <a:lnTo>
                      <a:pt x="1387" y="602"/>
                    </a:lnTo>
                    <a:lnTo>
                      <a:pt x="1362" y="593"/>
                    </a:lnTo>
                    <a:lnTo>
                      <a:pt x="1331" y="587"/>
                    </a:lnTo>
                    <a:lnTo>
                      <a:pt x="1316" y="584"/>
                    </a:lnTo>
                    <a:lnTo>
                      <a:pt x="1304" y="584"/>
                    </a:lnTo>
                    <a:lnTo>
                      <a:pt x="1288" y="587"/>
                    </a:lnTo>
                    <a:lnTo>
                      <a:pt x="1276" y="593"/>
                    </a:lnTo>
                    <a:lnTo>
                      <a:pt x="1276" y="618"/>
                    </a:lnTo>
                    <a:lnTo>
                      <a:pt x="1276" y="645"/>
                    </a:lnTo>
                    <a:lnTo>
                      <a:pt x="1276" y="670"/>
                    </a:lnTo>
                    <a:lnTo>
                      <a:pt x="1279" y="679"/>
                    </a:lnTo>
                    <a:lnTo>
                      <a:pt x="1285" y="688"/>
                    </a:lnTo>
                    <a:lnTo>
                      <a:pt x="1316" y="565"/>
                    </a:lnTo>
                    <a:lnTo>
                      <a:pt x="1310" y="547"/>
                    </a:lnTo>
                    <a:lnTo>
                      <a:pt x="1297" y="538"/>
                    </a:lnTo>
                    <a:lnTo>
                      <a:pt x="1285" y="532"/>
                    </a:lnTo>
                    <a:lnTo>
                      <a:pt x="1270" y="532"/>
                    </a:lnTo>
                    <a:lnTo>
                      <a:pt x="1254" y="535"/>
                    </a:lnTo>
                    <a:lnTo>
                      <a:pt x="1242" y="541"/>
                    </a:lnTo>
                    <a:lnTo>
                      <a:pt x="1230" y="553"/>
                    </a:lnTo>
                    <a:lnTo>
                      <a:pt x="1221" y="565"/>
                    </a:lnTo>
                    <a:lnTo>
                      <a:pt x="1233" y="559"/>
                    </a:lnTo>
                    <a:lnTo>
                      <a:pt x="1245" y="559"/>
                    </a:lnTo>
                    <a:lnTo>
                      <a:pt x="1267" y="559"/>
                    </a:lnTo>
                    <a:lnTo>
                      <a:pt x="1288" y="562"/>
                    </a:lnTo>
                    <a:lnTo>
                      <a:pt x="1316" y="565"/>
                    </a:lnTo>
                    <a:lnTo>
                      <a:pt x="1285" y="688"/>
                    </a:lnTo>
                    <a:lnTo>
                      <a:pt x="1875" y="1462"/>
                    </a:lnTo>
                    <a:lnTo>
                      <a:pt x="1903" y="1481"/>
                    </a:lnTo>
                    <a:lnTo>
                      <a:pt x="1934" y="1493"/>
                    </a:lnTo>
                    <a:lnTo>
                      <a:pt x="1998" y="1518"/>
                    </a:lnTo>
                    <a:lnTo>
                      <a:pt x="2029" y="1530"/>
                    </a:lnTo>
                    <a:lnTo>
                      <a:pt x="2057" y="1548"/>
                    </a:lnTo>
                    <a:lnTo>
                      <a:pt x="2084" y="1567"/>
                    </a:lnTo>
                    <a:lnTo>
                      <a:pt x="2094" y="1579"/>
                    </a:lnTo>
                    <a:lnTo>
                      <a:pt x="2103" y="1594"/>
                    </a:lnTo>
                    <a:lnTo>
                      <a:pt x="2103" y="1619"/>
                    </a:lnTo>
                    <a:lnTo>
                      <a:pt x="2097" y="1641"/>
                    </a:lnTo>
                    <a:lnTo>
                      <a:pt x="2088" y="1659"/>
                    </a:lnTo>
                    <a:lnTo>
                      <a:pt x="2078" y="1674"/>
                    </a:lnTo>
                    <a:lnTo>
                      <a:pt x="2054" y="1705"/>
                    </a:lnTo>
                    <a:lnTo>
                      <a:pt x="2044" y="1717"/>
                    </a:lnTo>
                    <a:lnTo>
                      <a:pt x="2032" y="1736"/>
                    </a:lnTo>
                    <a:lnTo>
                      <a:pt x="2035" y="1760"/>
                    </a:lnTo>
                    <a:lnTo>
                      <a:pt x="2035" y="1782"/>
                    </a:lnTo>
                    <a:lnTo>
                      <a:pt x="2032" y="1803"/>
                    </a:lnTo>
                    <a:lnTo>
                      <a:pt x="2026" y="1825"/>
                    </a:lnTo>
                    <a:lnTo>
                      <a:pt x="2014" y="1862"/>
                    </a:lnTo>
                    <a:lnTo>
                      <a:pt x="1992" y="1905"/>
                    </a:lnTo>
                    <a:lnTo>
                      <a:pt x="1974" y="1905"/>
                    </a:lnTo>
                    <a:lnTo>
                      <a:pt x="1958" y="1908"/>
                    </a:lnTo>
                    <a:lnTo>
                      <a:pt x="1943" y="1911"/>
                    </a:lnTo>
                    <a:lnTo>
                      <a:pt x="1931" y="1917"/>
                    </a:lnTo>
                    <a:lnTo>
                      <a:pt x="1906" y="1935"/>
                    </a:lnTo>
                    <a:lnTo>
                      <a:pt x="1885" y="1951"/>
                    </a:lnTo>
                    <a:lnTo>
                      <a:pt x="1882" y="1966"/>
                    </a:lnTo>
                    <a:lnTo>
                      <a:pt x="1885" y="1975"/>
                    </a:lnTo>
                    <a:lnTo>
                      <a:pt x="1891" y="1985"/>
                    </a:lnTo>
                    <a:lnTo>
                      <a:pt x="1891" y="2000"/>
                    </a:lnTo>
                    <a:lnTo>
                      <a:pt x="1882" y="2006"/>
                    </a:lnTo>
                    <a:lnTo>
                      <a:pt x="1872" y="2012"/>
                    </a:lnTo>
                    <a:lnTo>
                      <a:pt x="1857" y="2031"/>
                    </a:lnTo>
                    <a:lnTo>
                      <a:pt x="1832" y="2077"/>
                    </a:lnTo>
                    <a:lnTo>
                      <a:pt x="1820" y="2098"/>
                    </a:lnTo>
                    <a:lnTo>
                      <a:pt x="1805" y="2117"/>
                    </a:lnTo>
                    <a:lnTo>
                      <a:pt x="1795" y="2123"/>
                    </a:lnTo>
                    <a:lnTo>
                      <a:pt x="1783" y="2126"/>
                    </a:lnTo>
                    <a:lnTo>
                      <a:pt x="1771" y="2129"/>
                    </a:lnTo>
                    <a:lnTo>
                      <a:pt x="1759" y="2132"/>
                    </a:lnTo>
                    <a:lnTo>
                      <a:pt x="1755" y="2147"/>
                    </a:lnTo>
                    <a:lnTo>
                      <a:pt x="1749" y="2166"/>
                    </a:lnTo>
                    <a:lnTo>
                      <a:pt x="1734" y="2206"/>
                    </a:lnTo>
                    <a:lnTo>
                      <a:pt x="1722" y="2206"/>
                    </a:lnTo>
                    <a:lnTo>
                      <a:pt x="1706" y="2206"/>
                    </a:lnTo>
                    <a:lnTo>
                      <a:pt x="1682" y="2206"/>
                    </a:lnTo>
                    <a:lnTo>
                      <a:pt x="1669" y="2209"/>
                    </a:lnTo>
                    <a:lnTo>
                      <a:pt x="1663" y="2215"/>
                    </a:lnTo>
                    <a:lnTo>
                      <a:pt x="1660" y="2227"/>
                    </a:lnTo>
                    <a:lnTo>
                      <a:pt x="1663" y="2246"/>
                    </a:lnTo>
                    <a:lnTo>
                      <a:pt x="1651" y="2246"/>
                    </a:lnTo>
                    <a:lnTo>
                      <a:pt x="1639" y="2243"/>
                    </a:lnTo>
                    <a:lnTo>
                      <a:pt x="1629" y="2240"/>
                    </a:lnTo>
                    <a:lnTo>
                      <a:pt x="1623" y="2233"/>
                    </a:lnTo>
                    <a:lnTo>
                      <a:pt x="1623" y="2249"/>
                    </a:lnTo>
                    <a:lnTo>
                      <a:pt x="1629" y="2258"/>
                    </a:lnTo>
                    <a:lnTo>
                      <a:pt x="1636" y="2261"/>
                    </a:lnTo>
                    <a:lnTo>
                      <a:pt x="1648" y="2264"/>
                    </a:lnTo>
                    <a:lnTo>
                      <a:pt x="1633" y="2286"/>
                    </a:lnTo>
                    <a:lnTo>
                      <a:pt x="1617" y="2304"/>
                    </a:lnTo>
                    <a:lnTo>
                      <a:pt x="1602" y="2322"/>
                    </a:lnTo>
                    <a:lnTo>
                      <a:pt x="1583" y="2338"/>
                    </a:lnTo>
                    <a:lnTo>
                      <a:pt x="1589" y="2344"/>
                    </a:lnTo>
                    <a:lnTo>
                      <a:pt x="1596" y="2347"/>
                    </a:lnTo>
                    <a:lnTo>
                      <a:pt x="1614" y="2347"/>
                    </a:lnTo>
                    <a:lnTo>
                      <a:pt x="1614" y="2365"/>
                    </a:lnTo>
                    <a:lnTo>
                      <a:pt x="1611" y="2378"/>
                    </a:lnTo>
                    <a:lnTo>
                      <a:pt x="1602" y="2390"/>
                    </a:lnTo>
                    <a:lnTo>
                      <a:pt x="1593" y="2399"/>
                    </a:lnTo>
                    <a:lnTo>
                      <a:pt x="1574" y="2415"/>
                    </a:lnTo>
                    <a:lnTo>
                      <a:pt x="1568" y="2421"/>
                    </a:lnTo>
                    <a:lnTo>
                      <a:pt x="1559" y="2433"/>
                    </a:lnTo>
                    <a:lnTo>
                      <a:pt x="1568" y="2458"/>
                    </a:lnTo>
                    <a:lnTo>
                      <a:pt x="1574" y="2467"/>
                    </a:lnTo>
                    <a:lnTo>
                      <a:pt x="1583" y="2476"/>
                    </a:lnTo>
                    <a:lnTo>
                      <a:pt x="1593" y="2482"/>
                    </a:lnTo>
                    <a:lnTo>
                      <a:pt x="1602" y="2488"/>
                    </a:lnTo>
                    <a:lnTo>
                      <a:pt x="1614" y="2491"/>
                    </a:lnTo>
                    <a:lnTo>
                      <a:pt x="1629" y="2488"/>
                    </a:lnTo>
                    <a:lnTo>
                      <a:pt x="1608" y="2504"/>
                    </a:lnTo>
                    <a:lnTo>
                      <a:pt x="1583" y="2513"/>
                    </a:lnTo>
                    <a:lnTo>
                      <a:pt x="1562" y="2513"/>
                    </a:lnTo>
                    <a:lnTo>
                      <a:pt x="1540" y="2510"/>
                    </a:lnTo>
                    <a:lnTo>
                      <a:pt x="1522" y="2504"/>
                    </a:lnTo>
                    <a:lnTo>
                      <a:pt x="1506" y="2491"/>
                    </a:lnTo>
                    <a:lnTo>
                      <a:pt x="1491" y="2473"/>
                    </a:lnTo>
                    <a:lnTo>
                      <a:pt x="1476" y="2455"/>
                    </a:lnTo>
                    <a:lnTo>
                      <a:pt x="1466" y="2433"/>
                    </a:lnTo>
                    <a:lnTo>
                      <a:pt x="1460" y="2412"/>
                    </a:lnTo>
                    <a:lnTo>
                      <a:pt x="1454" y="2390"/>
                    </a:lnTo>
                    <a:lnTo>
                      <a:pt x="1454" y="2365"/>
                    </a:lnTo>
                    <a:lnTo>
                      <a:pt x="1457" y="2341"/>
                    </a:lnTo>
                    <a:lnTo>
                      <a:pt x="1463" y="2319"/>
                    </a:lnTo>
                    <a:lnTo>
                      <a:pt x="1476" y="2301"/>
                    </a:lnTo>
                    <a:lnTo>
                      <a:pt x="1488" y="2283"/>
                    </a:lnTo>
                    <a:lnTo>
                      <a:pt x="1488" y="2249"/>
                    </a:lnTo>
                    <a:lnTo>
                      <a:pt x="1485" y="2221"/>
                    </a:lnTo>
                    <a:lnTo>
                      <a:pt x="1491" y="2163"/>
                    </a:lnTo>
                    <a:lnTo>
                      <a:pt x="1500" y="2107"/>
                    </a:lnTo>
                    <a:lnTo>
                      <a:pt x="1513" y="2052"/>
                    </a:lnTo>
                    <a:lnTo>
                      <a:pt x="1525" y="1997"/>
                    </a:lnTo>
                    <a:lnTo>
                      <a:pt x="1534" y="1942"/>
                    </a:lnTo>
                    <a:lnTo>
                      <a:pt x="1540" y="1883"/>
                    </a:lnTo>
                    <a:lnTo>
                      <a:pt x="1540" y="1853"/>
                    </a:lnTo>
                    <a:lnTo>
                      <a:pt x="1537" y="1819"/>
                    </a:lnTo>
                    <a:lnTo>
                      <a:pt x="1528" y="1806"/>
                    </a:lnTo>
                    <a:lnTo>
                      <a:pt x="1519" y="1794"/>
                    </a:lnTo>
                    <a:lnTo>
                      <a:pt x="1506" y="1785"/>
                    </a:lnTo>
                    <a:lnTo>
                      <a:pt x="1491" y="1779"/>
                    </a:lnTo>
                    <a:lnTo>
                      <a:pt x="1466" y="1763"/>
                    </a:lnTo>
                    <a:lnTo>
                      <a:pt x="1454" y="1754"/>
                    </a:lnTo>
                    <a:lnTo>
                      <a:pt x="1442" y="1745"/>
                    </a:lnTo>
                    <a:lnTo>
                      <a:pt x="1427" y="1696"/>
                    </a:lnTo>
                    <a:lnTo>
                      <a:pt x="1411" y="1650"/>
                    </a:lnTo>
                    <a:lnTo>
                      <a:pt x="1402" y="1628"/>
                    </a:lnTo>
                    <a:lnTo>
                      <a:pt x="1390" y="1607"/>
                    </a:lnTo>
                    <a:lnTo>
                      <a:pt x="1377" y="1588"/>
                    </a:lnTo>
                    <a:lnTo>
                      <a:pt x="1362" y="1573"/>
                    </a:lnTo>
                    <a:lnTo>
                      <a:pt x="1365" y="1561"/>
                    </a:lnTo>
                    <a:lnTo>
                      <a:pt x="1368" y="1548"/>
                    </a:lnTo>
                    <a:lnTo>
                      <a:pt x="1374" y="1527"/>
                    </a:lnTo>
                    <a:lnTo>
                      <a:pt x="1377" y="1518"/>
                    </a:lnTo>
                    <a:lnTo>
                      <a:pt x="1377" y="1508"/>
                    </a:lnTo>
                    <a:lnTo>
                      <a:pt x="1371" y="1499"/>
                    </a:lnTo>
                    <a:lnTo>
                      <a:pt x="1362" y="1490"/>
                    </a:lnTo>
                    <a:lnTo>
                      <a:pt x="1393" y="1453"/>
                    </a:lnTo>
                    <a:lnTo>
                      <a:pt x="1405" y="1432"/>
                    </a:lnTo>
                    <a:lnTo>
                      <a:pt x="1417" y="1410"/>
                    </a:lnTo>
                    <a:lnTo>
                      <a:pt x="1423" y="1386"/>
                    </a:lnTo>
                    <a:lnTo>
                      <a:pt x="1423" y="1361"/>
                    </a:lnTo>
                    <a:lnTo>
                      <a:pt x="1420" y="1349"/>
                    </a:lnTo>
                    <a:lnTo>
                      <a:pt x="1417" y="1336"/>
                    </a:lnTo>
                    <a:lnTo>
                      <a:pt x="1411" y="1321"/>
                    </a:lnTo>
                    <a:lnTo>
                      <a:pt x="1402" y="1309"/>
                    </a:lnTo>
                    <a:lnTo>
                      <a:pt x="1393" y="1309"/>
                    </a:lnTo>
                    <a:lnTo>
                      <a:pt x="1390" y="1312"/>
                    </a:lnTo>
                    <a:lnTo>
                      <a:pt x="1383" y="1324"/>
                    </a:lnTo>
                    <a:lnTo>
                      <a:pt x="1380" y="1333"/>
                    </a:lnTo>
                    <a:lnTo>
                      <a:pt x="1377" y="1336"/>
                    </a:lnTo>
                    <a:lnTo>
                      <a:pt x="1371" y="1340"/>
                    </a:lnTo>
                    <a:lnTo>
                      <a:pt x="1362" y="1340"/>
                    </a:lnTo>
                    <a:lnTo>
                      <a:pt x="1334" y="1315"/>
                    </a:lnTo>
                    <a:lnTo>
                      <a:pt x="1307" y="1290"/>
                    </a:lnTo>
                    <a:lnTo>
                      <a:pt x="1294" y="1278"/>
                    </a:lnTo>
                    <a:lnTo>
                      <a:pt x="1285" y="1263"/>
                    </a:lnTo>
                    <a:lnTo>
                      <a:pt x="1276" y="1244"/>
                    </a:lnTo>
                    <a:lnTo>
                      <a:pt x="1270" y="1226"/>
                    </a:lnTo>
                    <a:lnTo>
                      <a:pt x="1248" y="1226"/>
                    </a:lnTo>
                    <a:lnTo>
                      <a:pt x="1230" y="1223"/>
                    </a:lnTo>
                    <a:lnTo>
                      <a:pt x="1217" y="1217"/>
                    </a:lnTo>
                    <a:lnTo>
                      <a:pt x="1202" y="1211"/>
                    </a:lnTo>
                    <a:lnTo>
                      <a:pt x="1181" y="1189"/>
                    </a:lnTo>
                    <a:lnTo>
                      <a:pt x="1159" y="1168"/>
                    </a:lnTo>
                    <a:lnTo>
                      <a:pt x="1150" y="1168"/>
                    </a:lnTo>
                    <a:lnTo>
                      <a:pt x="1144" y="1171"/>
                    </a:lnTo>
                    <a:lnTo>
                      <a:pt x="1137" y="1177"/>
                    </a:lnTo>
                    <a:lnTo>
                      <a:pt x="1131" y="1186"/>
                    </a:lnTo>
                    <a:lnTo>
                      <a:pt x="1125" y="1189"/>
                    </a:lnTo>
                    <a:lnTo>
                      <a:pt x="1119" y="1186"/>
                    </a:lnTo>
                    <a:lnTo>
                      <a:pt x="1082" y="1164"/>
                    </a:lnTo>
                    <a:lnTo>
                      <a:pt x="1045" y="1140"/>
                    </a:lnTo>
                    <a:lnTo>
                      <a:pt x="1008" y="1112"/>
                    </a:lnTo>
                    <a:lnTo>
                      <a:pt x="993" y="1100"/>
                    </a:lnTo>
                    <a:lnTo>
                      <a:pt x="978" y="1085"/>
                    </a:lnTo>
                    <a:lnTo>
                      <a:pt x="968" y="1048"/>
                    </a:lnTo>
                    <a:lnTo>
                      <a:pt x="956" y="1020"/>
                    </a:lnTo>
                    <a:lnTo>
                      <a:pt x="938" y="995"/>
                    </a:lnTo>
                    <a:lnTo>
                      <a:pt x="919" y="974"/>
                    </a:lnTo>
                    <a:lnTo>
                      <a:pt x="882" y="928"/>
                    </a:lnTo>
                    <a:lnTo>
                      <a:pt x="864" y="903"/>
                    </a:lnTo>
                    <a:lnTo>
                      <a:pt x="852" y="876"/>
                    </a:lnTo>
                    <a:lnTo>
                      <a:pt x="852" y="894"/>
                    </a:lnTo>
                    <a:lnTo>
                      <a:pt x="861" y="913"/>
                    </a:lnTo>
                    <a:lnTo>
                      <a:pt x="870" y="934"/>
                    </a:lnTo>
                    <a:lnTo>
                      <a:pt x="882" y="952"/>
                    </a:lnTo>
                    <a:lnTo>
                      <a:pt x="910" y="992"/>
                    </a:lnTo>
                    <a:lnTo>
                      <a:pt x="922" y="1014"/>
                    </a:lnTo>
                    <a:lnTo>
                      <a:pt x="928" y="1035"/>
                    </a:lnTo>
                    <a:lnTo>
                      <a:pt x="922" y="1038"/>
                    </a:lnTo>
                    <a:lnTo>
                      <a:pt x="916" y="1038"/>
                    </a:lnTo>
                    <a:lnTo>
                      <a:pt x="904" y="1032"/>
                    </a:lnTo>
                    <a:lnTo>
                      <a:pt x="892" y="1020"/>
                    </a:lnTo>
                    <a:lnTo>
                      <a:pt x="882" y="1005"/>
                    </a:lnTo>
                    <a:lnTo>
                      <a:pt x="870" y="989"/>
                    </a:lnTo>
                    <a:lnTo>
                      <a:pt x="858" y="977"/>
                    </a:lnTo>
                    <a:lnTo>
                      <a:pt x="842" y="965"/>
                    </a:lnTo>
                    <a:lnTo>
                      <a:pt x="836" y="962"/>
                    </a:lnTo>
                    <a:lnTo>
                      <a:pt x="827" y="962"/>
                    </a:lnTo>
                    <a:lnTo>
                      <a:pt x="830" y="956"/>
                    </a:lnTo>
                    <a:lnTo>
                      <a:pt x="833" y="946"/>
                    </a:lnTo>
                    <a:lnTo>
                      <a:pt x="833" y="934"/>
                    </a:lnTo>
                    <a:lnTo>
                      <a:pt x="830" y="919"/>
                    </a:lnTo>
                    <a:lnTo>
                      <a:pt x="821" y="906"/>
                    </a:lnTo>
                    <a:lnTo>
                      <a:pt x="799" y="873"/>
                    </a:lnTo>
                    <a:lnTo>
                      <a:pt x="790" y="857"/>
                    </a:lnTo>
                    <a:lnTo>
                      <a:pt x="787" y="839"/>
                    </a:lnTo>
                    <a:lnTo>
                      <a:pt x="772" y="833"/>
                    </a:lnTo>
                    <a:lnTo>
                      <a:pt x="756" y="823"/>
                    </a:lnTo>
                    <a:lnTo>
                      <a:pt x="744" y="814"/>
                    </a:lnTo>
                    <a:lnTo>
                      <a:pt x="735" y="802"/>
                    </a:lnTo>
                    <a:lnTo>
                      <a:pt x="722" y="787"/>
                    </a:lnTo>
                    <a:lnTo>
                      <a:pt x="716" y="771"/>
                    </a:lnTo>
                    <a:lnTo>
                      <a:pt x="701" y="737"/>
                    </a:lnTo>
                    <a:lnTo>
                      <a:pt x="692" y="701"/>
                    </a:lnTo>
                    <a:lnTo>
                      <a:pt x="686" y="658"/>
                    </a:lnTo>
                    <a:lnTo>
                      <a:pt x="679" y="612"/>
                    </a:lnTo>
                    <a:lnTo>
                      <a:pt x="676" y="565"/>
                    </a:lnTo>
                    <a:lnTo>
                      <a:pt x="667" y="553"/>
                    </a:lnTo>
                    <a:lnTo>
                      <a:pt x="652" y="541"/>
                    </a:lnTo>
                    <a:lnTo>
                      <a:pt x="621" y="526"/>
                    </a:lnTo>
                    <a:lnTo>
                      <a:pt x="624" y="510"/>
                    </a:lnTo>
                    <a:lnTo>
                      <a:pt x="621" y="495"/>
                    </a:lnTo>
                    <a:lnTo>
                      <a:pt x="615" y="486"/>
                    </a:lnTo>
                    <a:lnTo>
                      <a:pt x="609" y="476"/>
                    </a:lnTo>
                    <a:lnTo>
                      <a:pt x="593" y="461"/>
                    </a:lnTo>
                    <a:lnTo>
                      <a:pt x="587" y="452"/>
                    </a:lnTo>
                    <a:lnTo>
                      <a:pt x="581" y="443"/>
                    </a:lnTo>
                    <a:lnTo>
                      <a:pt x="578" y="446"/>
                    </a:lnTo>
                    <a:lnTo>
                      <a:pt x="575" y="449"/>
                    </a:lnTo>
                    <a:lnTo>
                      <a:pt x="581" y="461"/>
                    </a:lnTo>
                    <a:lnTo>
                      <a:pt x="590" y="473"/>
                    </a:lnTo>
                    <a:lnTo>
                      <a:pt x="590" y="483"/>
                    </a:lnTo>
                    <a:lnTo>
                      <a:pt x="590" y="489"/>
                    </a:lnTo>
                    <a:lnTo>
                      <a:pt x="569" y="486"/>
                    </a:lnTo>
                    <a:lnTo>
                      <a:pt x="559" y="483"/>
                    </a:lnTo>
                    <a:lnTo>
                      <a:pt x="553" y="476"/>
                    </a:lnTo>
                    <a:lnTo>
                      <a:pt x="547" y="470"/>
                    </a:lnTo>
                    <a:lnTo>
                      <a:pt x="544" y="461"/>
                    </a:lnTo>
                    <a:lnTo>
                      <a:pt x="541" y="449"/>
                    </a:lnTo>
                    <a:lnTo>
                      <a:pt x="544" y="433"/>
                    </a:lnTo>
                    <a:lnTo>
                      <a:pt x="532" y="418"/>
                    </a:lnTo>
                    <a:lnTo>
                      <a:pt x="516" y="403"/>
                    </a:lnTo>
                    <a:lnTo>
                      <a:pt x="486" y="375"/>
                    </a:lnTo>
                    <a:lnTo>
                      <a:pt x="449" y="353"/>
                    </a:lnTo>
                    <a:lnTo>
                      <a:pt x="412" y="338"/>
                    </a:lnTo>
                    <a:lnTo>
                      <a:pt x="390" y="332"/>
                    </a:lnTo>
                    <a:lnTo>
                      <a:pt x="369" y="329"/>
                    </a:lnTo>
                    <a:lnTo>
                      <a:pt x="350" y="329"/>
                    </a:lnTo>
                    <a:lnTo>
                      <a:pt x="329" y="329"/>
                    </a:lnTo>
                    <a:lnTo>
                      <a:pt x="307" y="332"/>
                    </a:lnTo>
                    <a:lnTo>
                      <a:pt x="289" y="338"/>
                    </a:lnTo>
                    <a:lnTo>
                      <a:pt x="270" y="347"/>
                    </a:lnTo>
                    <a:lnTo>
                      <a:pt x="252" y="357"/>
                    </a:lnTo>
                    <a:lnTo>
                      <a:pt x="252" y="347"/>
                    </a:lnTo>
                    <a:lnTo>
                      <a:pt x="255" y="341"/>
                    </a:lnTo>
                    <a:lnTo>
                      <a:pt x="258" y="335"/>
                    </a:lnTo>
                    <a:lnTo>
                      <a:pt x="258" y="329"/>
                    </a:lnTo>
                    <a:lnTo>
                      <a:pt x="246" y="335"/>
                    </a:lnTo>
                    <a:lnTo>
                      <a:pt x="240" y="341"/>
                    </a:lnTo>
                    <a:lnTo>
                      <a:pt x="240" y="350"/>
                    </a:lnTo>
                    <a:lnTo>
                      <a:pt x="240" y="360"/>
                    </a:lnTo>
                    <a:lnTo>
                      <a:pt x="246" y="378"/>
                    </a:lnTo>
                    <a:lnTo>
                      <a:pt x="246" y="387"/>
                    </a:lnTo>
                    <a:lnTo>
                      <a:pt x="243" y="393"/>
                    </a:lnTo>
                    <a:lnTo>
                      <a:pt x="227" y="406"/>
                    </a:lnTo>
                    <a:lnTo>
                      <a:pt x="215" y="409"/>
                    </a:lnTo>
                    <a:lnTo>
                      <a:pt x="209" y="409"/>
                    </a:lnTo>
                    <a:lnTo>
                      <a:pt x="200" y="409"/>
                    </a:lnTo>
                    <a:lnTo>
                      <a:pt x="194" y="403"/>
                    </a:lnTo>
                    <a:lnTo>
                      <a:pt x="187" y="393"/>
                    </a:lnTo>
                    <a:lnTo>
                      <a:pt x="160" y="415"/>
                    </a:lnTo>
                    <a:lnTo>
                      <a:pt x="126" y="430"/>
                    </a:lnTo>
                    <a:lnTo>
                      <a:pt x="92" y="443"/>
                    </a:lnTo>
                    <a:lnTo>
                      <a:pt x="55" y="452"/>
                    </a:lnTo>
                    <a:lnTo>
                      <a:pt x="61" y="433"/>
                    </a:lnTo>
                    <a:lnTo>
                      <a:pt x="71" y="421"/>
                    </a:lnTo>
                    <a:lnTo>
                      <a:pt x="83" y="412"/>
                    </a:lnTo>
                    <a:lnTo>
                      <a:pt x="98" y="406"/>
                    </a:lnTo>
                    <a:lnTo>
                      <a:pt x="129" y="393"/>
                    </a:lnTo>
                    <a:lnTo>
                      <a:pt x="144" y="387"/>
                    </a:lnTo>
                    <a:lnTo>
                      <a:pt x="157" y="375"/>
                    </a:lnTo>
                    <a:lnTo>
                      <a:pt x="141" y="372"/>
                    </a:lnTo>
                    <a:lnTo>
                      <a:pt x="129" y="366"/>
                    </a:lnTo>
                    <a:lnTo>
                      <a:pt x="114" y="363"/>
                    </a:lnTo>
                    <a:lnTo>
                      <a:pt x="104" y="363"/>
                    </a:lnTo>
                    <a:lnTo>
                      <a:pt x="92" y="366"/>
                    </a:lnTo>
                    <a:lnTo>
                      <a:pt x="92" y="329"/>
                    </a:lnTo>
                    <a:lnTo>
                      <a:pt x="77" y="341"/>
                    </a:lnTo>
                    <a:lnTo>
                      <a:pt x="68" y="347"/>
                    </a:lnTo>
                    <a:lnTo>
                      <a:pt x="61" y="357"/>
                    </a:lnTo>
                    <a:lnTo>
                      <a:pt x="55" y="353"/>
                    </a:lnTo>
                    <a:lnTo>
                      <a:pt x="49" y="347"/>
                    </a:lnTo>
                    <a:lnTo>
                      <a:pt x="43" y="332"/>
                    </a:lnTo>
                    <a:lnTo>
                      <a:pt x="37" y="317"/>
                    </a:lnTo>
                    <a:lnTo>
                      <a:pt x="31" y="314"/>
                    </a:lnTo>
                    <a:lnTo>
                      <a:pt x="21" y="310"/>
                    </a:lnTo>
                    <a:lnTo>
                      <a:pt x="28" y="295"/>
                    </a:lnTo>
                    <a:lnTo>
                      <a:pt x="37" y="286"/>
                    </a:lnTo>
                    <a:lnTo>
                      <a:pt x="46" y="280"/>
                    </a:lnTo>
                    <a:lnTo>
                      <a:pt x="58" y="277"/>
                    </a:lnTo>
                    <a:lnTo>
                      <a:pt x="86" y="271"/>
                    </a:lnTo>
                    <a:lnTo>
                      <a:pt x="98" y="267"/>
                    </a:lnTo>
                    <a:lnTo>
                      <a:pt x="111" y="261"/>
                    </a:lnTo>
                    <a:lnTo>
                      <a:pt x="98" y="258"/>
                    </a:lnTo>
                    <a:lnTo>
                      <a:pt x="83" y="258"/>
                    </a:lnTo>
                    <a:lnTo>
                      <a:pt x="46" y="261"/>
                    </a:lnTo>
                    <a:lnTo>
                      <a:pt x="28" y="261"/>
                    </a:lnTo>
                    <a:lnTo>
                      <a:pt x="12" y="255"/>
                    </a:lnTo>
                    <a:lnTo>
                      <a:pt x="6" y="252"/>
                    </a:lnTo>
                    <a:lnTo>
                      <a:pt x="3" y="246"/>
                    </a:lnTo>
                    <a:lnTo>
                      <a:pt x="0" y="237"/>
                    </a:lnTo>
                    <a:lnTo>
                      <a:pt x="0" y="224"/>
                    </a:lnTo>
                    <a:lnTo>
                      <a:pt x="28" y="215"/>
                    </a:lnTo>
                    <a:lnTo>
                      <a:pt x="40" y="212"/>
                    </a:lnTo>
                    <a:lnTo>
                      <a:pt x="49" y="212"/>
                    </a:lnTo>
                    <a:lnTo>
                      <a:pt x="74" y="218"/>
                    </a:lnTo>
                    <a:lnTo>
                      <a:pt x="101" y="224"/>
                    </a:lnTo>
                    <a:lnTo>
                      <a:pt x="95" y="215"/>
                    </a:lnTo>
                    <a:lnTo>
                      <a:pt x="86" y="206"/>
                    </a:lnTo>
                    <a:lnTo>
                      <a:pt x="77" y="203"/>
                    </a:lnTo>
                    <a:lnTo>
                      <a:pt x="64" y="200"/>
                    </a:lnTo>
                    <a:lnTo>
                      <a:pt x="40" y="191"/>
                    </a:lnTo>
                    <a:lnTo>
                      <a:pt x="31" y="188"/>
                    </a:lnTo>
                    <a:lnTo>
                      <a:pt x="21" y="178"/>
                    </a:lnTo>
                    <a:lnTo>
                      <a:pt x="40" y="169"/>
                    </a:lnTo>
                    <a:lnTo>
                      <a:pt x="58" y="160"/>
                    </a:lnTo>
                    <a:lnTo>
                      <a:pt x="95" y="145"/>
                    </a:lnTo>
                    <a:lnTo>
                      <a:pt x="132" y="132"/>
                    </a:lnTo>
                    <a:lnTo>
                      <a:pt x="151" y="123"/>
                    </a:lnTo>
                    <a:lnTo>
                      <a:pt x="166" y="111"/>
                    </a:lnTo>
                    <a:lnTo>
                      <a:pt x="181" y="120"/>
                    </a:lnTo>
                    <a:lnTo>
                      <a:pt x="200" y="126"/>
                    </a:lnTo>
                    <a:lnTo>
                      <a:pt x="237" y="132"/>
                    </a:lnTo>
                    <a:lnTo>
                      <a:pt x="277" y="135"/>
                    </a:lnTo>
                    <a:lnTo>
                      <a:pt x="320" y="138"/>
                    </a:lnTo>
                    <a:lnTo>
                      <a:pt x="363" y="142"/>
                    </a:lnTo>
                    <a:lnTo>
                      <a:pt x="403" y="145"/>
                    </a:lnTo>
                    <a:lnTo>
                      <a:pt x="443" y="154"/>
                    </a:lnTo>
                    <a:lnTo>
                      <a:pt x="461" y="160"/>
                    </a:lnTo>
                    <a:lnTo>
                      <a:pt x="480" y="169"/>
                    </a:lnTo>
                    <a:lnTo>
                      <a:pt x="523" y="154"/>
                    </a:lnTo>
                    <a:lnTo>
                      <a:pt x="563" y="148"/>
                    </a:lnTo>
                    <a:lnTo>
                      <a:pt x="603" y="142"/>
                    </a:lnTo>
                    <a:lnTo>
                      <a:pt x="639" y="142"/>
                    </a:lnTo>
                    <a:lnTo>
                      <a:pt x="679" y="145"/>
                    </a:lnTo>
                    <a:lnTo>
                      <a:pt x="719" y="151"/>
                    </a:lnTo>
                    <a:lnTo>
                      <a:pt x="802" y="169"/>
                    </a:lnTo>
                    <a:lnTo>
                      <a:pt x="805" y="163"/>
                    </a:lnTo>
                    <a:lnTo>
                      <a:pt x="805" y="157"/>
                    </a:lnTo>
                    <a:lnTo>
                      <a:pt x="793" y="145"/>
                    </a:lnTo>
                    <a:lnTo>
                      <a:pt x="778" y="129"/>
                    </a:lnTo>
                    <a:lnTo>
                      <a:pt x="775" y="120"/>
                    </a:lnTo>
                    <a:lnTo>
                      <a:pt x="772" y="111"/>
                    </a:lnTo>
                    <a:lnTo>
                      <a:pt x="759" y="123"/>
                    </a:lnTo>
                    <a:lnTo>
                      <a:pt x="747" y="129"/>
                    </a:lnTo>
                    <a:lnTo>
                      <a:pt x="732" y="132"/>
                    </a:lnTo>
                    <a:lnTo>
                      <a:pt x="719" y="132"/>
                    </a:lnTo>
                    <a:lnTo>
                      <a:pt x="692" y="129"/>
                    </a:lnTo>
                    <a:lnTo>
                      <a:pt x="661" y="120"/>
                    </a:lnTo>
                    <a:lnTo>
                      <a:pt x="661" y="111"/>
                    </a:lnTo>
                    <a:lnTo>
                      <a:pt x="664" y="105"/>
                    </a:lnTo>
                    <a:lnTo>
                      <a:pt x="673" y="95"/>
                    </a:lnTo>
                    <a:lnTo>
                      <a:pt x="682" y="83"/>
                    </a:lnTo>
                    <a:lnTo>
                      <a:pt x="686" y="74"/>
                    </a:lnTo>
                    <a:lnTo>
                      <a:pt x="686" y="65"/>
                    </a:lnTo>
                    <a:lnTo>
                      <a:pt x="747" y="65"/>
                    </a:lnTo>
                    <a:lnTo>
                      <a:pt x="778" y="62"/>
                    </a:lnTo>
                    <a:lnTo>
                      <a:pt x="802" y="56"/>
                    </a:lnTo>
                    <a:lnTo>
                      <a:pt x="799" y="43"/>
                    </a:lnTo>
                    <a:lnTo>
                      <a:pt x="790" y="40"/>
                    </a:lnTo>
                    <a:lnTo>
                      <a:pt x="781" y="40"/>
                    </a:lnTo>
                    <a:lnTo>
                      <a:pt x="772" y="40"/>
                    </a:lnTo>
                    <a:lnTo>
                      <a:pt x="744" y="46"/>
                    </a:lnTo>
                    <a:lnTo>
                      <a:pt x="732" y="49"/>
                    </a:lnTo>
                    <a:lnTo>
                      <a:pt x="716" y="46"/>
                    </a:lnTo>
                    <a:lnTo>
                      <a:pt x="726" y="31"/>
                    </a:lnTo>
                    <a:lnTo>
                      <a:pt x="732" y="19"/>
                    </a:lnTo>
                    <a:lnTo>
                      <a:pt x="741" y="9"/>
                    </a:lnTo>
                    <a:lnTo>
                      <a:pt x="750" y="3"/>
                    </a:lnTo>
                    <a:lnTo>
                      <a:pt x="762" y="0"/>
                    </a:lnTo>
                    <a:lnTo>
                      <a:pt x="772" y="0"/>
                    </a:lnTo>
                    <a:lnTo>
                      <a:pt x="793" y="6"/>
                    </a:lnTo>
                    <a:lnTo>
                      <a:pt x="839" y="25"/>
                    </a:lnTo>
                    <a:lnTo>
                      <a:pt x="864" y="34"/>
                    </a:lnTo>
                    <a:lnTo>
                      <a:pt x="876" y="37"/>
                    </a:lnTo>
                    <a:lnTo>
                      <a:pt x="888" y="37"/>
                    </a:lnTo>
                    <a:lnTo>
                      <a:pt x="913" y="34"/>
                    </a:lnTo>
                    <a:lnTo>
                      <a:pt x="935" y="28"/>
                    </a:lnTo>
                    <a:lnTo>
                      <a:pt x="959" y="25"/>
                    </a:lnTo>
                    <a:lnTo>
                      <a:pt x="971" y="25"/>
                    </a:lnTo>
                    <a:lnTo>
                      <a:pt x="984" y="28"/>
                    </a:lnTo>
                    <a:lnTo>
                      <a:pt x="987" y="46"/>
                    </a:lnTo>
                    <a:lnTo>
                      <a:pt x="981" y="62"/>
                    </a:lnTo>
                    <a:lnTo>
                      <a:pt x="968" y="83"/>
                    </a:lnTo>
                    <a:lnTo>
                      <a:pt x="1008" y="83"/>
                    </a:lnTo>
                    <a:lnTo>
                      <a:pt x="1002" y="99"/>
                    </a:lnTo>
                    <a:lnTo>
                      <a:pt x="999" y="108"/>
                    </a:lnTo>
                    <a:lnTo>
                      <a:pt x="1005" y="117"/>
                    </a:lnTo>
                    <a:lnTo>
                      <a:pt x="1011" y="123"/>
                    </a:lnTo>
                    <a:lnTo>
                      <a:pt x="1036" y="132"/>
                    </a:lnTo>
                    <a:lnTo>
                      <a:pt x="1054" y="138"/>
                    </a:lnTo>
                    <a:lnTo>
                      <a:pt x="1054" y="154"/>
                    </a:lnTo>
                    <a:lnTo>
                      <a:pt x="1048" y="163"/>
                    </a:lnTo>
                    <a:lnTo>
                      <a:pt x="1042" y="169"/>
                    </a:lnTo>
                    <a:lnTo>
                      <a:pt x="1033" y="175"/>
                    </a:lnTo>
                    <a:lnTo>
                      <a:pt x="1011" y="178"/>
                    </a:lnTo>
                    <a:lnTo>
                      <a:pt x="984" y="178"/>
                    </a:lnTo>
                    <a:lnTo>
                      <a:pt x="1011" y="185"/>
                    </a:lnTo>
                    <a:lnTo>
                      <a:pt x="1045" y="191"/>
                    </a:lnTo>
                    <a:lnTo>
                      <a:pt x="1076" y="191"/>
                    </a:lnTo>
                    <a:lnTo>
                      <a:pt x="1091" y="191"/>
                    </a:lnTo>
                    <a:lnTo>
                      <a:pt x="1104" y="188"/>
                    </a:lnTo>
                    <a:lnTo>
                      <a:pt x="1104" y="178"/>
                    </a:lnTo>
                    <a:lnTo>
                      <a:pt x="1104" y="172"/>
                    </a:lnTo>
                    <a:lnTo>
                      <a:pt x="1101" y="169"/>
                    </a:lnTo>
                    <a:lnTo>
                      <a:pt x="1094" y="169"/>
                    </a:lnTo>
                    <a:lnTo>
                      <a:pt x="1091" y="166"/>
                    </a:lnTo>
                    <a:lnTo>
                      <a:pt x="1085" y="163"/>
                    </a:lnTo>
                    <a:lnTo>
                      <a:pt x="1085" y="160"/>
                    </a:lnTo>
                    <a:lnTo>
                      <a:pt x="1088" y="151"/>
                    </a:lnTo>
                    <a:lnTo>
                      <a:pt x="1125" y="151"/>
                    </a:lnTo>
                    <a:lnTo>
                      <a:pt x="1128" y="163"/>
                    </a:lnTo>
                    <a:lnTo>
                      <a:pt x="1131" y="172"/>
                    </a:lnTo>
                    <a:lnTo>
                      <a:pt x="1134" y="181"/>
                    </a:lnTo>
                    <a:lnTo>
                      <a:pt x="1134" y="197"/>
                    </a:lnTo>
                    <a:lnTo>
                      <a:pt x="1144" y="197"/>
                    </a:lnTo>
                    <a:lnTo>
                      <a:pt x="1153" y="194"/>
                    </a:lnTo>
                    <a:lnTo>
                      <a:pt x="1165" y="188"/>
                    </a:lnTo>
                    <a:lnTo>
                      <a:pt x="1165" y="175"/>
                    </a:lnTo>
                    <a:lnTo>
                      <a:pt x="1165" y="166"/>
                    </a:lnTo>
                    <a:lnTo>
                      <a:pt x="1159" y="151"/>
                    </a:lnTo>
                    <a:lnTo>
                      <a:pt x="1150" y="135"/>
                    </a:lnTo>
                    <a:lnTo>
                      <a:pt x="1150" y="123"/>
                    </a:lnTo>
                    <a:lnTo>
                      <a:pt x="1150" y="111"/>
                    </a:lnTo>
                    <a:lnTo>
                      <a:pt x="1168" y="114"/>
                    </a:lnTo>
                    <a:lnTo>
                      <a:pt x="1184" y="123"/>
                    </a:lnTo>
                    <a:lnTo>
                      <a:pt x="1199" y="132"/>
                    </a:lnTo>
                    <a:lnTo>
                      <a:pt x="1208" y="145"/>
                    </a:lnTo>
                    <a:lnTo>
                      <a:pt x="1221" y="157"/>
                    </a:lnTo>
                    <a:lnTo>
                      <a:pt x="1230" y="166"/>
                    </a:lnTo>
                    <a:lnTo>
                      <a:pt x="1245" y="169"/>
                    </a:lnTo>
                    <a:lnTo>
                      <a:pt x="1260" y="169"/>
                    </a:lnTo>
                    <a:lnTo>
                      <a:pt x="1260" y="181"/>
                    </a:lnTo>
                    <a:lnTo>
                      <a:pt x="1264" y="188"/>
                    </a:lnTo>
                    <a:lnTo>
                      <a:pt x="1267" y="191"/>
                    </a:lnTo>
                    <a:lnTo>
                      <a:pt x="1273" y="191"/>
                    </a:lnTo>
                    <a:lnTo>
                      <a:pt x="1285" y="178"/>
                    </a:lnTo>
                    <a:lnTo>
                      <a:pt x="1300" y="160"/>
                    </a:lnTo>
                    <a:lnTo>
                      <a:pt x="1288" y="154"/>
                    </a:lnTo>
                    <a:lnTo>
                      <a:pt x="1273" y="151"/>
                    </a:lnTo>
                    <a:lnTo>
                      <a:pt x="1245" y="145"/>
                    </a:lnTo>
                    <a:lnTo>
                      <a:pt x="1233" y="142"/>
                    </a:lnTo>
                    <a:lnTo>
                      <a:pt x="1224" y="132"/>
                    </a:lnTo>
                    <a:lnTo>
                      <a:pt x="1221" y="123"/>
                    </a:lnTo>
                    <a:lnTo>
                      <a:pt x="1217" y="117"/>
                    </a:lnTo>
                    <a:lnTo>
                      <a:pt x="1221" y="92"/>
                    </a:lnTo>
                    <a:lnTo>
                      <a:pt x="1230" y="92"/>
                    </a:lnTo>
                    <a:lnTo>
                      <a:pt x="1236" y="89"/>
                    </a:lnTo>
                    <a:lnTo>
                      <a:pt x="1251" y="80"/>
                    </a:lnTo>
                    <a:lnTo>
                      <a:pt x="1264" y="74"/>
                    </a:lnTo>
                    <a:lnTo>
                      <a:pt x="1273" y="71"/>
                    </a:lnTo>
                    <a:lnTo>
                      <a:pt x="1285" y="74"/>
                    </a:lnTo>
                    <a:lnTo>
                      <a:pt x="1288" y="77"/>
                    </a:lnTo>
                    <a:lnTo>
                      <a:pt x="1288" y="83"/>
                    </a:lnTo>
                    <a:lnTo>
                      <a:pt x="1291" y="95"/>
                    </a:lnTo>
                    <a:lnTo>
                      <a:pt x="1291" y="105"/>
                    </a:lnTo>
                    <a:lnTo>
                      <a:pt x="1294" y="111"/>
                    </a:lnTo>
                    <a:lnTo>
                      <a:pt x="1300" y="111"/>
                    </a:lnTo>
                    <a:lnTo>
                      <a:pt x="1304" y="108"/>
                    </a:lnTo>
                    <a:lnTo>
                      <a:pt x="1307" y="102"/>
                    </a:lnTo>
                    <a:lnTo>
                      <a:pt x="1307" y="83"/>
                    </a:lnTo>
                    <a:lnTo>
                      <a:pt x="1331" y="80"/>
                    </a:lnTo>
                    <a:lnTo>
                      <a:pt x="1350" y="77"/>
                    </a:lnTo>
                    <a:lnTo>
                      <a:pt x="1387" y="77"/>
                    </a:lnTo>
                    <a:lnTo>
                      <a:pt x="1417" y="83"/>
                    </a:lnTo>
                    <a:lnTo>
                      <a:pt x="1448" y="92"/>
                    </a:lnTo>
                    <a:lnTo>
                      <a:pt x="1506" y="117"/>
                    </a:lnTo>
                    <a:lnTo>
                      <a:pt x="1537" y="126"/>
                    </a:lnTo>
                    <a:lnTo>
                      <a:pt x="1577" y="129"/>
                    </a:lnTo>
                    <a:lnTo>
                      <a:pt x="1583" y="148"/>
                    </a:lnTo>
                    <a:lnTo>
                      <a:pt x="1589" y="163"/>
                    </a:lnTo>
                    <a:lnTo>
                      <a:pt x="1602" y="175"/>
                    </a:lnTo>
                    <a:lnTo>
                      <a:pt x="1617" y="185"/>
                    </a:lnTo>
                    <a:lnTo>
                      <a:pt x="1633" y="194"/>
                    </a:lnTo>
                    <a:lnTo>
                      <a:pt x="1648" y="197"/>
                    </a:lnTo>
                    <a:lnTo>
                      <a:pt x="1685" y="206"/>
                    </a:lnTo>
                    <a:lnTo>
                      <a:pt x="1682" y="228"/>
                    </a:lnTo>
                    <a:lnTo>
                      <a:pt x="1672" y="240"/>
                    </a:lnTo>
                    <a:lnTo>
                      <a:pt x="1660" y="246"/>
                    </a:lnTo>
                    <a:lnTo>
                      <a:pt x="1648" y="249"/>
                    </a:lnTo>
                    <a:lnTo>
                      <a:pt x="1633" y="246"/>
                    </a:lnTo>
                    <a:lnTo>
                      <a:pt x="1620" y="240"/>
                    </a:lnTo>
                    <a:lnTo>
                      <a:pt x="1593" y="224"/>
                    </a:lnTo>
                    <a:lnTo>
                      <a:pt x="1596" y="237"/>
                    </a:lnTo>
                    <a:lnTo>
                      <a:pt x="1602" y="243"/>
                    </a:lnTo>
                    <a:lnTo>
                      <a:pt x="1617" y="255"/>
                    </a:lnTo>
                    <a:lnTo>
                      <a:pt x="1629" y="271"/>
                    </a:lnTo>
                    <a:lnTo>
                      <a:pt x="1636" y="280"/>
                    </a:lnTo>
                    <a:lnTo>
                      <a:pt x="1639" y="292"/>
                    </a:lnTo>
                    <a:lnTo>
                      <a:pt x="1626" y="295"/>
                    </a:lnTo>
                    <a:lnTo>
                      <a:pt x="1611" y="298"/>
                    </a:lnTo>
                    <a:lnTo>
                      <a:pt x="1586" y="298"/>
                    </a:lnTo>
                    <a:lnTo>
                      <a:pt x="1559" y="292"/>
                    </a:lnTo>
                    <a:lnTo>
                      <a:pt x="1531" y="283"/>
                    </a:lnTo>
                    <a:lnTo>
                      <a:pt x="1500" y="274"/>
                    </a:lnTo>
                    <a:lnTo>
                      <a:pt x="1473" y="264"/>
                    </a:lnTo>
                    <a:lnTo>
                      <a:pt x="1442" y="261"/>
                    </a:lnTo>
                    <a:lnTo>
                      <a:pt x="1411" y="261"/>
                    </a:lnTo>
                    <a:lnTo>
                      <a:pt x="1411" y="252"/>
                    </a:lnTo>
                    <a:lnTo>
                      <a:pt x="1414" y="243"/>
                    </a:lnTo>
                    <a:lnTo>
                      <a:pt x="1420" y="237"/>
                    </a:lnTo>
                    <a:lnTo>
                      <a:pt x="1423" y="231"/>
                    </a:lnTo>
                    <a:lnTo>
                      <a:pt x="1436" y="224"/>
                    </a:lnTo>
                    <a:lnTo>
                      <a:pt x="1451" y="221"/>
                    </a:lnTo>
                    <a:lnTo>
                      <a:pt x="1463" y="221"/>
                    </a:lnTo>
                    <a:lnTo>
                      <a:pt x="1479" y="215"/>
                    </a:lnTo>
                    <a:lnTo>
                      <a:pt x="1488" y="206"/>
                    </a:lnTo>
                    <a:lnTo>
                      <a:pt x="1494" y="197"/>
                    </a:lnTo>
                    <a:lnTo>
                      <a:pt x="1497" y="188"/>
                    </a:lnTo>
                    <a:lnTo>
                      <a:pt x="1485" y="188"/>
                    </a:lnTo>
                    <a:lnTo>
                      <a:pt x="1479" y="191"/>
                    </a:lnTo>
                    <a:lnTo>
                      <a:pt x="1463" y="200"/>
                    </a:lnTo>
                    <a:lnTo>
                      <a:pt x="1457" y="203"/>
                    </a:lnTo>
                    <a:lnTo>
                      <a:pt x="1448" y="209"/>
                    </a:lnTo>
                    <a:lnTo>
                      <a:pt x="1439" y="209"/>
                    </a:lnTo>
                    <a:lnTo>
                      <a:pt x="1427" y="206"/>
                    </a:lnTo>
                    <a:lnTo>
                      <a:pt x="1439" y="191"/>
                    </a:lnTo>
                    <a:lnTo>
                      <a:pt x="1439" y="181"/>
                    </a:lnTo>
                    <a:lnTo>
                      <a:pt x="1439" y="175"/>
                    </a:lnTo>
                    <a:lnTo>
                      <a:pt x="1439" y="172"/>
                    </a:lnTo>
                    <a:lnTo>
                      <a:pt x="1433" y="166"/>
                    </a:lnTo>
                    <a:lnTo>
                      <a:pt x="1423" y="160"/>
                    </a:lnTo>
                    <a:lnTo>
                      <a:pt x="1408" y="157"/>
                    </a:lnTo>
                    <a:lnTo>
                      <a:pt x="1390" y="160"/>
                    </a:lnTo>
                    <a:lnTo>
                      <a:pt x="1371" y="163"/>
                    </a:lnTo>
                    <a:lnTo>
                      <a:pt x="1356" y="169"/>
                    </a:lnTo>
                    <a:lnTo>
                      <a:pt x="1356" y="175"/>
                    </a:lnTo>
                    <a:lnTo>
                      <a:pt x="1362" y="178"/>
                    </a:lnTo>
                    <a:lnTo>
                      <a:pt x="1371" y="181"/>
                    </a:lnTo>
                    <a:lnTo>
                      <a:pt x="1374" y="185"/>
                    </a:lnTo>
                    <a:lnTo>
                      <a:pt x="1377" y="191"/>
                    </a:lnTo>
                    <a:lnTo>
                      <a:pt x="1380" y="197"/>
                    </a:lnTo>
                    <a:lnTo>
                      <a:pt x="1377" y="206"/>
                    </a:lnTo>
                    <a:lnTo>
                      <a:pt x="1371" y="206"/>
                    </a:lnTo>
                    <a:lnTo>
                      <a:pt x="1365" y="209"/>
                    </a:lnTo>
                    <a:lnTo>
                      <a:pt x="1356" y="215"/>
                    </a:lnTo>
                    <a:lnTo>
                      <a:pt x="1347" y="221"/>
                    </a:lnTo>
                    <a:lnTo>
                      <a:pt x="1340" y="224"/>
                    </a:lnTo>
                    <a:lnTo>
                      <a:pt x="1331" y="224"/>
                    </a:lnTo>
                    <a:lnTo>
                      <a:pt x="1334" y="237"/>
                    </a:lnTo>
                    <a:lnTo>
                      <a:pt x="1343" y="243"/>
                    </a:lnTo>
                    <a:lnTo>
                      <a:pt x="1353" y="246"/>
                    </a:lnTo>
                    <a:lnTo>
                      <a:pt x="1362" y="249"/>
                    </a:lnTo>
                    <a:lnTo>
                      <a:pt x="1371" y="252"/>
                    </a:lnTo>
                    <a:lnTo>
                      <a:pt x="1380" y="258"/>
                    </a:lnTo>
                    <a:lnTo>
                      <a:pt x="1387" y="267"/>
                    </a:lnTo>
                    <a:lnTo>
                      <a:pt x="1387" y="283"/>
                    </a:lnTo>
                    <a:lnTo>
                      <a:pt x="1359" y="274"/>
                    </a:lnTo>
                    <a:lnTo>
                      <a:pt x="1334" y="271"/>
                    </a:lnTo>
                    <a:lnTo>
                      <a:pt x="1313" y="274"/>
                    </a:lnTo>
                    <a:lnTo>
                      <a:pt x="1285" y="283"/>
                    </a:lnTo>
                    <a:lnTo>
                      <a:pt x="1285" y="267"/>
                    </a:lnTo>
                    <a:lnTo>
                      <a:pt x="1288" y="261"/>
                    </a:lnTo>
                    <a:lnTo>
                      <a:pt x="1288" y="255"/>
                    </a:lnTo>
                    <a:lnTo>
                      <a:pt x="1285" y="243"/>
                    </a:lnTo>
                    <a:lnTo>
                      <a:pt x="1251" y="264"/>
                    </a:lnTo>
                    <a:lnTo>
                      <a:pt x="1214" y="283"/>
                    </a:lnTo>
                    <a:lnTo>
                      <a:pt x="1199" y="295"/>
                    </a:lnTo>
                    <a:lnTo>
                      <a:pt x="1184" y="307"/>
                    </a:lnTo>
                    <a:lnTo>
                      <a:pt x="1168" y="320"/>
                    </a:lnTo>
                    <a:lnTo>
                      <a:pt x="1159" y="338"/>
                    </a:lnTo>
                    <a:lnTo>
                      <a:pt x="1171" y="360"/>
                    </a:lnTo>
                    <a:lnTo>
                      <a:pt x="1193" y="375"/>
                    </a:lnTo>
                    <a:lnTo>
                      <a:pt x="1214" y="390"/>
                    </a:lnTo>
                    <a:lnTo>
                      <a:pt x="1242" y="400"/>
                    </a:lnTo>
                    <a:lnTo>
                      <a:pt x="1270" y="409"/>
                    </a:lnTo>
                    <a:lnTo>
                      <a:pt x="1297" y="412"/>
                    </a:lnTo>
                    <a:lnTo>
                      <a:pt x="1322" y="415"/>
                    </a:lnTo>
                    <a:lnTo>
                      <a:pt x="1347" y="415"/>
                    </a:lnTo>
                    <a:lnTo>
                      <a:pt x="1350" y="424"/>
                    </a:lnTo>
                    <a:lnTo>
                      <a:pt x="1356" y="436"/>
                    </a:lnTo>
                    <a:lnTo>
                      <a:pt x="1365" y="452"/>
                    </a:lnTo>
                    <a:lnTo>
                      <a:pt x="1377" y="467"/>
                    </a:lnTo>
                    <a:lnTo>
                      <a:pt x="1383" y="476"/>
                    </a:lnTo>
                    <a:lnTo>
                      <a:pt x="1387" y="489"/>
                    </a:lnTo>
                    <a:lnTo>
                      <a:pt x="1393" y="489"/>
                    </a:lnTo>
                    <a:lnTo>
                      <a:pt x="1399" y="486"/>
                    </a:lnTo>
                    <a:lnTo>
                      <a:pt x="1405" y="483"/>
                    </a:lnTo>
                    <a:lnTo>
                      <a:pt x="1411" y="479"/>
                    </a:lnTo>
                    <a:lnTo>
                      <a:pt x="1405" y="461"/>
                    </a:lnTo>
                    <a:lnTo>
                      <a:pt x="1399" y="446"/>
                    </a:lnTo>
                    <a:lnTo>
                      <a:pt x="1393" y="430"/>
                    </a:lnTo>
                    <a:lnTo>
                      <a:pt x="1387" y="415"/>
                    </a:lnTo>
                    <a:lnTo>
                      <a:pt x="1402" y="415"/>
                    </a:lnTo>
                    <a:lnTo>
                      <a:pt x="1411" y="418"/>
                    </a:lnTo>
                    <a:lnTo>
                      <a:pt x="1420" y="418"/>
                    </a:lnTo>
                    <a:lnTo>
                      <a:pt x="1433" y="415"/>
                    </a:lnTo>
                    <a:lnTo>
                      <a:pt x="1433" y="403"/>
                    </a:lnTo>
                    <a:lnTo>
                      <a:pt x="1433" y="390"/>
                    </a:lnTo>
                    <a:lnTo>
                      <a:pt x="1430" y="384"/>
                    </a:lnTo>
                    <a:lnTo>
                      <a:pt x="1423" y="378"/>
                    </a:lnTo>
                    <a:lnTo>
                      <a:pt x="1414" y="366"/>
                    </a:lnTo>
                    <a:lnTo>
                      <a:pt x="1402" y="357"/>
                    </a:lnTo>
                    <a:lnTo>
                      <a:pt x="1408" y="353"/>
                    </a:lnTo>
                    <a:lnTo>
                      <a:pt x="1414" y="347"/>
                    </a:lnTo>
                    <a:lnTo>
                      <a:pt x="1417" y="329"/>
                    </a:lnTo>
                    <a:lnTo>
                      <a:pt x="1420" y="307"/>
                    </a:lnTo>
                    <a:lnTo>
                      <a:pt x="1423" y="298"/>
                    </a:lnTo>
                    <a:lnTo>
                      <a:pt x="1427" y="292"/>
                    </a:lnTo>
                    <a:lnTo>
                      <a:pt x="1454" y="289"/>
                    </a:lnTo>
                    <a:lnTo>
                      <a:pt x="1479" y="292"/>
                    </a:lnTo>
                    <a:lnTo>
                      <a:pt x="1500" y="298"/>
                    </a:lnTo>
                    <a:lnTo>
                      <a:pt x="1522" y="304"/>
                    </a:lnTo>
                    <a:lnTo>
                      <a:pt x="1540" y="314"/>
                    </a:lnTo>
                    <a:lnTo>
                      <a:pt x="1556" y="329"/>
                    </a:lnTo>
                    <a:lnTo>
                      <a:pt x="1568" y="344"/>
                    </a:lnTo>
                    <a:lnTo>
                      <a:pt x="1577" y="366"/>
                    </a:lnTo>
                    <a:lnTo>
                      <a:pt x="1586" y="366"/>
                    </a:lnTo>
                    <a:lnTo>
                      <a:pt x="1593" y="363"/>
                    </a:lnTo>
                    <a:lnTo>
                      <a:pt x="1602" y="350"/>
                    </a:lnTo>
                    <a:lnTo>
                      <a:pt x="1611" y="338"/>
                    </a:lnTo>
                    <a:lnTo>
                      <a:pt x="1617" y="332"/>
                    </a:lnTo>
                    <a:lnTo>
                      <a:pt x="1623" y="329"/>
                    </a:lnTo>
                    <a:lnTo>
                      <a:pt x="1694" y="400"/>
                    </a:lnTo>
                    <a:lnTo>
                      <a:pt x="1731" y="433"/>
                    </a:lnTo>
                    <a:lnTo>
                      <a:pt x="1749" y="449"/>
                    </a:lnTo>
                    <a:lnTo>
                      <a:pt x="1774" y="461"/>
                    </a:lnTo>
                    <a:lnTo>
                      <a:pt x="1774" y="473"/>
                    </a:lnTo>
                    <a:lnTo>
                      <a:pt x="1774" y="479"/>
                    </a:lnTo>
                    <a:lnTo>
                      <a:pt x="1771" y="486"/>
                    </a:lnTo>
                    <a:lnTo>
                      <a:pt x="1768" y="492"/>
                    </a:lnTo>
                    <a:lnTo>
                      <a:pt x="1759" y="501"/>
                    </a:lnTo>
                    <a:lnTo>
                      <a:pt x="1759" y="507"/>
                    </a:lnTo>
                    <a:lnTo>
                      <a:pt x="1759" y="516"/>
                    </a:lnTo>
                    <a:lnTo>
                      <a:pt x="1777" y="526"/>
                    </a:lnTo>
                    <a:lnTo>
                      <a:pt x="1795" y="538"/>
                    </a:lnTo>
                    <a:lnTo>
                      <a:pt x="1805" y="544"/>
                    </a:lnTo>
                    <a:lnTo>
                      <a:pt x="1808" y="553"/>
                    </a:lnTo>
                    <a:lnTo>
                      <a:pt x="1811" y="565"/>
                    </a:lnTo>
                    <a:lnTo>
                      <a:pt x="1811" y="584"/>
                    </a:lnTo>
                    <a:lnTo>
                      <a:pt x="1789" y="578"/>
                    </a:lnTo>
                    <a:lnTo>
                      <a:pt x="1768" y="578"/>
                    </a:lnTo>
                    <a:lnTo>
                      <a:pt x="1743" y="575"/>
                    </a:lnTo>
                    <a:lnTo>
                      <a:pt x="1709" y="575"/>
                    </a:lnTo>
                    <a:lnTo>
                      <a:pt x="1716" y="553"/>
                    </a:lnTo>
                    <a:lnTo>
                      <a:pt x="1725" y="538"/>
                    </a:lnTo>
                    <a:lnTo>
                      <a:pt x="1734" y="526"/>
                    </a:lnTo>
                    <a:lnTo>
                      <a:pt x="1740" y="507"/>
                    </a:lnTo>
                    <a:lnTo>
                      <a:pt x="1734" y="507"/>
                    </a:lnTo>
                    <a:lnTo>
                      <a:pt x="1725" y="510"/>
                    </a:lnTo>
                    <a:lnTo>
                      <a:pt x="1700" y="522"/>
                    </a:lnTo>
                    <a:lnTo>
                      <a:pt x="1676" y="538"/>
                    </a:lnTo>
                    <a:lnTo>
                      <a:pt x="1654" y="556"/>
                    </a:lnTo>
                    <a:lnTo>
                      <a:pt x="1645" y="547"/>
                    </a:lnTo>
                    <a:lnTo>
                      <a:pt x="1639" y="538"/>
                    </a:lnTo>
                    <a:lnTo>
                      <a:pt x="1633" y="526"/>
                    </a:lnTo>
                    <a:lnTo>
                      <a:pt x="1623" y="516"/>
                    </a:lnTo>
                    <a:lnTo>
                      <a:pt x="1608" y="522"/>
                    </a:lnTo>
                    <a:lnTo>
                      <a:pt x="1593" y="529"/>
                    </a:lnTo>
                    <a:lnTo>
                      <a:pt x="1583" y="541"/>
                    </a:lnTo>
                    <a:lnTo>
                      <a:pt x="1577" y="556"/>
                    </a:lnTo>
                    <a:lnTo>
                      <a:pt x="1583" y="556"/>
                    </a:lnTo>
                    <a:lnTo>
                      <a:pt x="1589" y="553"/>
                    </a:lnTo>
                    <a:lnTo>
                      <a:pt x="1599" y="547"/>
                    </a:lnTo>
                    <a:lnTo>
                      <a:pt x="1608" y="538"/>
                    </a:lnTo>
                    <a:lnTo>
                      <a:pt x="1614" y="538"/>
                    </a:lnTo>
                    <a:lnTo>
                      <a:pt x="1623" y="535"/>
                    </a:lnTo>
                    <a:lnTo>
                      <a:pt x="1636" y="559"/>
                    </a:lnTo>
                    <a:lnTo>
                      <a:pt x="1639" y="565"/>
                    </a:lnTo>
                    <a:lnTo>
                      <a:pt x="1639" y="572"/>
                    </a:lnTo>
                    <a:lnTo>
                      <a:pt x="1636" y="578"/>
                    </a:lnTo>
                    <a:lnTo>
                      <a:pt x="1629" y="584"/>
                    </a:lnTo>
                    <a:lnTo>
                      <a:pt x="1639" y="584"/>
                    </a:lnTo>
                    <a:lnTo>
                      <a:pt x="1648" y="581"/>
                    </a:lnTo>
                    <a:lnTo>
                      <a:pt x="1657" y="578"/>
                    </a:lnTo>
                    <a:lnTo>
                      <a:pt x="1660" y="578"/>
                    </a:lnTo>
                    <a:lnTo>
                      <a:pt x="1663" y="581"/>
                    </a:lnTo>
                    <a:lnTo>
                      <a:pt x="1663" y="602"/>
                    </a:lnTo>
                    <a:lnTo>
                      <a:pt x="1669" y="602"/>
                    </a:lnTo>
                    <a:lnTo>
                      <a:pt x="1676" y="599"/>
                    </a:lnTo>
                    <a:lnTo>
                      <a:pt x="1685" y="590"/>
                    </a:lnTo>
                    <a:lnTo>
                      <a:pt x="1688" y="587"/>
                    </a:lnTo>
                    <a:lnTo>
                      <a:pt x="1691" y="584"/>
                    </a:lnTo>
                    <a:lnTo>
                      <a:pt x="1697" y="587"/>
                    </a:lnTo>
                    <a:lnTo>
                      <a:pt x="1703" y="593"/>
                    </a:lnTo>
                    <a:lnTo>
                      <a:pt x="1703" y="605"/>
                    </a:lnTo>
                    <a:lnTo>
                      <a:pt x="1706" y="608"/>
                    </a:lnTo>
                    <a:lnTo>
                      <a:pt x="1709" y="612"/>
                    </a:lnTo>
                    <a:lnTo>
                      <a:pt x="1700" y="621"/>
                    </a:lnTo>
                    <a:lnTo>
                      <a:pt x="1688" y="630"/>
                    </a:lnTo>
                    <a:lnTo>
                      <a:pt x="1657" y="639"/>
                    </a:lnTo>
                    <a:lnTo>
                      <a:pt x="1629" y="648"/>
                    </a:lnTo>
                    <a:lnTo>
                      <a:pt x="1599" y="658"/>
                    </a:lnTo>
                    <a:lnTo>
                      <a:pt x="1599" y="630"/>
                    </a:lnTo>
                    <a:lnTo>
                      <a:pt x="1568" y="639"/>
                    </a:lnTo>
                    <a:lnTo>
                      <a:pt x="1537" y="648"/>
                    </a:lnTo>
                    <a:lnTo>
                      <a:pt x="1534" y="664"/>
                    </a:lnTo>
                    <a:lnTo>
                      <a:pt x="1540" y="676"/>
                    </a:lnTo>
                    <a:lnTo>
                      <a:pt x="1543" y="682"/>
                    </a:lnTo>
                    <a:lnTo>
                      <a:pt x="1543" y="698"/>
                    </a:lnTo>
                    <a:lnTo>
                      <a:pt x="1531" y="691"/>
                    </a:lnTo>
                    <a:lnTo>
                      <a:pt x="1522" y="691"/>
                    </a:lnTo>
                    <a:lnTo>
                      <a:pt x="1513" y="691"/>
                    </a:lnTo>
                    <a:lnTo>
                      <a:pt x="1503" y="694"/>
                    </a:lnTo>
                    <a:lnTo>
                      <a:pt x="1497" y="701"/>
                    </a:lnTo>
                    <a:lnTo>
                      <a:pt x="1491" y="707"/>
                    </a:lnTo>
                    <a:lnTo>
                      <a:pt x="1482" y="725"/>
                    </a:lnTo>
                    <a:lnTo>
                      <a:pt x="1476" y="741"/>
                    </a:lnTo>
                    <a:lnTo>
                      <a:pt x="1466" y="753"/>
                    </a:lnTo>
                    <a:lnTo>
                      <a:pt x="1463" y="756"/>
                    </a:lnTo>
                    <a:lnTo>
                      <a:pt x="1457" y="759"/>
                    </a:lnTo>
                    <a:lnTo>
                      <a:pt x="1451" y="756"/>
                    </a:lnTo>
                    <a:lnTo>
                      <a:pt x="1442" y="753"/>
                    </a:lnTo>
                    <a:lnTo>
                      <a:pt x="1445" y="765"/>
                    </a:lnTo>
                    <a:lnTo>
                      <a:pt x="1451" y="774"/>
                    </a:lnTo>
                    <a:lnTo>
                      <a:pt x="1457" y="787"/>
                    </a:lnTo>
                    <a:lnTo>
                      <a:pt x="1457" y="802"/>
                    </a:lnTo>
                    <a:lnTo>
                      <a:pt x="1445" y="808"/>
                    </a:lnTo>
                    <a:lnTo>
                      <a:pt x="1433" y="817"/>
                    </a:lnTo>
                    <a:lnTo>
                      <a:pt x="1411" y="839"/>
                    </a:lnTo>
                    <a:lnTo>
                      <a:pt x="1387" y="860"/>
                    </a:lnTo>
                    <a:lnTo>
                      <a:pt x="1377" y="870"/>
                    </a:lnTo>
                    <a:lnTo>
                      <a:pt x="1362" y="876"/>
                    </a:lnTo>
                    <a:lnTo>
                      <a:pt x="1371" y="906"/>
                    </a:lnTo>
                    <a:lnTo>
                      <a:pt x="1380" y="937"/>
                    </a:lnTo>
                    <a:lnTo>
                      <a:pt x="1387" y="952"/>
                    </a:lnTo>
                    <a:lnTo>
                      <a:pt x="1387" y="968"/>
                    </a:lnTo>
                    <a:lnTo>
                      <a:pt x="1383" y="983"/>
                    </a:lnTo>
                    <a:lnTo>
                      <a:pt x="1377" y="999"/>
                    </a:lnTo>
                    <a:lnTo>
                      <a:pt x="1362" y="986"/>
                    </a:lnTo>
                    <a:lnTo>
                      <a:pt x="1347" y="968"/>
                    </a:lnTo>
                    <a:lnTo>
                      <a:pt x="1337" y="949"/>
                    </a:lnTo>
                    <a:lnTo>
                      <a:pt x="1331" y="922"/>
                    </a:lnTo>
                    <a:lnTo>
                      <a:pt x="1322" y="913"/>
                    </a:lnTo>
                    <a:lnTo>
                      <a:pt x="1310" y="906"/>
                    </a:lnTo>
                    <a:lnTo>
                      <a:pt x="1297" y="900"/>
                    </a:lnTo>
                    <a:lnTo>
                      <a:pt x="1282" y="900"/>
                    </a:lnTo>
                    <a:lnTo>
                      <a:pt x="1267" y="900"/>
                    </a:lnTo>
                    <a:lnTo>
                      <a:pt x="1254" y="906"/>
                    </a:lnTo>
                    <a:lnTo>
                      <a:pt x="1239" y="913"/>
                    </a:lnTo>
                    <a:lnTo>
                      <a:pt x="1230" y="922"/>
                    </a:lnTo>
                    <a:lnTo>
                      <a:pt x="1211" y="916"/>
                    </a:lnTo>
                    <a:lnTo>
                      <a:pt x="1193" y="913"/>
                    </a:lnTo>
                    <a:lnTo>
                      <a:pt x="1177" y="916"/>
                    </a:lnTo>
                    <a:lnTo>
                      <a:pt x="1165" y="922"/>
                    </a:lnTo>
                    <a:lnTo>
                      <a:pt x="1137" y="937"/>
                    </a:lnTo>
                    <a:lnTo>
                      <a:pt x="1110" y="952"/>
                    </a:lnTo>
                    <a:lnTo>
                      <a:pt x="1113" y="1002"/>
                    </a:lnTo>
                    <a:lnTo>
                      <a:pt x="1116" y="1051"/>
                    </a:lnTo>
                    <a:lnTo>
                      <a:pt x="1119" y="1075"/>
                    </a:lnTo>
                    <a:lnTo>
                      <a:pt x="1128" y="1094"/>
                    </a:lnTo>
                    <a:lnTo>
                      <a:pt x="1141" y="1109"/>
                    </a:lnTo>
                    <a:lnTo>
                      <a:pt x="1150" y="1115"/>
                    </a:lnTo>
                    <a:lnTo>
                      <a:pt x="1159" y="1121"/>
                    </a:lnTo>
                    <a:lnTo>
                      <a:pt x="1165" y="1121"/>
                    </a:lnTo>
                    <a:lnTo>
                      <a:pt x="1168" y="1121"/>
                    </a:lnTo>
                    <a:lnTo>
                      <a:pt x="1177" y="1115"/>
                    </a:lnTo>
                    <a:lnTo>
                      <a:pt x="1184" y="1109"/>
                    </a:lnTo>
                    <a:lnTo>
                      <a:pt x="1190" y="1109"/>
                    </a:lnTo>
                    <a:lnTo>
                      <a:pt x="1196" y="1112"/>
                    </a:lnTo>
                    <a:lnTo>
                      <a:pt x="1202" y="1109"/>
                    </a:lnTo>
                    <a:lnTo>
                      <a:pt x="1208" y="1106"/>
                    </a:lnTo>
                    <a:lnTo>
                      <a:pt x="1211" y="1097"/>
                    </a:lnTo>
                    <a:lnTo>
                      <a:pt x="1214" y="1081"/>
                    </a:lnTo>
                    <a:lnTo>
                      <a:pt x="1214" y="1066"/>
                    </a:lnTo>
                    <a:lnTo>
                      <a:pt x="1254" y="1063"/>
                    </a:lnTo>
                    <a:lnTo>
                      <a:pt x="1270" y="1066"/>
                    </a:lnTo>
                    <a:lnTo>
                      <a:pt x="1279" y="1069"/>
                    </a:lnTo>
                    <a:lnTo>
                      <a:pt x="1285" y="1075"/>
                    </a:lnTo>
                    <a:lnTo>
                      <a:pt x="1282" y="1085"/>
                    </a:lnTo>
                    <a:lnTo>
                      <a:pt x="1279" y="1097"/>
                    </a:lnTo>
                    <a:lnTo>
                      <a:pt x="1270" y="1112"/>
                    </a:lnTo>
                    <a:lnTo>
                      <a:pt x="1264" y="1121"/>
                    </a:lnTo>
                    <a:lnTo>
                      <a:pt x="1260" y="1131"/>
                    </a:lnTo>
                    <a:lnTo>
                      <a:pt x="1260" y="1143"/>
                    </a:lnTo>
                    <a:lnTo>
                      <a:pt x="1260" y="1158"/>
                    </a:lnTo>
                    <a:lnTo>
                      <a:pt x="1270" y="1168"/>
                    </a:lnTo>
                    <a:lnTo>
                      <a:pt x="1279" y="1171"/>
                    </a:lnTo>
                    <a:lnTo>
                      <a:pt x="1288" y="1171"/>
                    </a:lnTo>
                    <a:lnTo>
                      <a:pt x="1300" y="1168"/>
                    </a:lnTo>
                    <a:lnTo>
                      <a:pt x="1313" y="1164"/>
                    </a:lnTo>
                    <a:lnTo>
                      <a:pt x="1322" y="1164"/>
                    </a:lnTo>
                    <a:lnTo>
                      <a:pt x="1331" y="1171"/>
                    </a:lnTo>
                    <a:lnTo>
                      <a:pt x="1340" y="1186"/>
                    </a:lnTo>
                    <a:lnTo>
                      <a:pt x="1334" y="1220"/>
                    </a:lnTo>
                    <a:lnTo>
                      <a:pt x="1334" y="1250"/>
                    </a:lnTo>
                    <a:lnTo>
                      <a:pt x="1334" y="1263"/>
                    </a:lnTo>
                    <a:lnTo>
                      <a:pt x="1334" y="1278"/>
                    </a:lnTo>
                    <a:lnTo>
                      <a:pt x="1340" y="1290"/>
                    </a:lnTo>
                    <a:lnTo>
                      <a:pt x="1347" y="1300"/>
                    </a:lnTo>
                    <a:lnTo>
                      <a:pt x="1359" y="1300"/>
                    </a:lnTo>
                    <a:lnTo>
                      <a:pt x="1371" y="1293"/>
                    </a:lnTo>
                    <a:lnTo>
                      <a:pt x="1390" y="1287"/>
                    </a:lnTo>
                    <a:lnTo>
                      <a:pt x="1399" y="1284"/>
                    </a:lnTo>
                    <a:lnTo>
                      <a:pt x="1408" y="1284"/>
                    </a:lnTo>
                    <a:lnTo>
                      <a:pt x="1417" y="1290"/>
                    </a:lnTo>
                    <a:lnTo>
                      <a:pt x="1427" y="1300"/>
                    </a:lnTo>
                    <a:lnTo>
                      <a:pt x="1439" y="1293"/>
                    </a:lnTo>
                    <a:lnTo>
                      <a:pt x="1451" y="1284"/>
                    </a:lnTo>
                    <a:lnTo>
                      <a:pt x="1473" y="1263"/>
                    </a:lnTo>
                    <a:lnTo>
                      <a:pt x="1482" y="1250"/>
                    </a:lnTo>
                    <a:lnTo>
                      <a:pt x="1494" y="1241"/>
                    </a:lnTo>
                    <a:lnTo>
                      <a:pt x="1510" y="1235"/>
                    </a:lnTo>
                    <a:lnTo>
                      <a:pt x="1528" y="1235"/>
                    </a:lnTo>
                    <a:lnTo>
                      <a:pt x="1522" y="1254"/>
                    </a:lnTo>
                    <a:lnTo>
                      <a:pt x="1513" y="1272"/>
                    </a:lnTo>
                    <a:lnTo>
                      <a:pt x="1519" y="1278"/>
                    </a:lnTo>
                    <a:lnTo>
                      <a:pt x="1522" y="1278"/>
                    </a:lnTo>
                    <a:lnTo>
                      <a:pt x="1531" y="1263"/>
                    </a:lnTo>
                    <a:lnTo>
                      <a:pt x="1543" y="1247"/>
                    </a:lnTo>
                    <a:lnTo>
                      <a:pt x="1549" y="1244"/>
                    </a:lnTo>
                    <a:lnTo>
                      <a:pt x="1559" y="1244"/>
                    </a:lnTo>
                    <a:lnTo>
                      <a:pt x="1562" y="1254"/>
                    </a:lnTo>
                    <a:lnTo>
                      <a:pt x="1568" y="1260"/>
                    </a:lnTo>
                    <a:lnTo>
                      <a:pt x="1577" y="1263"/>
                    </a:lnTo>
                    <a:lnTo>
                      <a:pt x="1586" y="1263"/>
                    </a:lnTo>
                    <a:lnTo>
                      <a:pt x="1599" y="1263"/>
                    </a:lnTo>
                    <a:lnTo>
                      <a:pt x="1608" y="1266"/>
                    </a:lnTo>
                    <a:lnTo>
                      <a:pt x="1614" y="1272"/>
                    </a:lnTo>
                    <a:lnTo>
                      <a:pt x="1614" y="1281"/>
                    </a:lnTo>
                    <a:lnTo>
                      <a:pt x="1620" y="1269"/>
                    </a:lnTo>
                    <a:lnTo>
                      <a:pt x="1629" y="1263"/>
                    </a:lnTo>
                    <a:lnTo>
                      <a:pt x="1642" y="1263"/>
                    </a:lnTo>
                    <a:lnTo>
                      <a:pt x="1654" y="1266"/>
                    </a:lnTo>
                    <a:lnTo>
                      <a:pt x="1663" y="1269"/>
                    </a:lnTo>
                    <a:lnTo>
                      <a:pt x="1676" y="1269"/>
                    </a:lnTo>
                    <a:lnTo>
                      <a:pt x="1682" y="1266"/>
                    </a:lnTo>
                    <a:lnTo>
                      <a:pt x="1685" y="1254"/>
                    </a:lnTo>
                    <a:lnTo>
                      <a:pt x="1694" y="1257"/>
                    </a:lnTo>
                    <a:lnTo>
                      <a:pt x="1694" y="1263"/>
                    </a:lnTo>
                    <a:lnTo>
                      <a:pt x="1694" y="1269"/>
                    </a:lnTo>
                    <a:lnTo>
                      <a:pt x="1694" y="1275"/>
                    </a:lnTo>
                    <a:lnTo>
                      <a:pt x="1688" y="1287"/>
                    </a:lnTo>
                    <a:lnTo>
                      <a:pt x="1685" y="1293"/>
                    </a:lnTo>
                    <a:lnTo>
                      <a:pt x="1685" y="1300"/>
                    </a:lnTo>
                    <a:lnTo>
                      <a:pt x="1706" y="1312"/>
                    </a:lnTo>
                    <a:lnTo>
                      <a:pt x="1725" y="1324"/>
                    </a:lnTo>
                    <a:lnTo>
                      <a:pt x="1759" y="1358"/>
                    </a:lnTo>
                    <a:lnTo>
                      <a:pt x="1780" y="1355"/>
                    </a:lnTo>
                    <a:lnTo>
                      <a:pt x="1799" y="1358"/>
                    </a:lnTo>
                    <a:lnTo>
                      <a:pt x="1814" y="1367"/>
                    </a:lnTo>
                    <a:lnTo>
                      <a:pt x="1826" y="1379"/>
                    </a:lnTo>
                    <a:lnTo>
                      <a:pt x="1845" y="1410"/>
                    </a:lnTo>
                    <a:lnTo>
                      <a:pt x="1854" y="1422"/>
                    </a:lnTo>
                    <a:lnTo>
                      <a:pt x="1866" y="1432"/>
                    </a:lnTo>
                    <a:lnTo>
                      <a:pt x="1863" y="1450"/>
                    </a:lnTo>
                    <a:lnTo>
                      <a:pt x="1857" y="1462"/>
                    </a:lnTo>
                    <a:lnTo>
                      <a:pt x="1845" y="1469"/>
                    </a:lnTo>
                    <a:lnTo>
                      <a:pt x="1829" y="1472"/>
                    </a:lnTo>
                    <a:lnTo>
                      <a:pt x="1832" y="1478"/>
                    </a:lnTo>
                    <a:lnTo>
                      <a:pt x="1838" y="1481"/>
                    </a:lnTo>
                    <a:lnTo>
                      <a:pt x="1845" y="1481"/>
                    </a:lnTo>
                    <a:lnTo>
                      <a:pt x="1851" y="1475"/>
                    </a:lnTo>
                    <a:lnTo>
                      <a:pt x="1863" y="1465"/>
                    </a:lnTo>
                    <a:lnTo>
                      <a:pt x="1869" y="1459"/>
                    </a:lnTo>
                    <a:lnTo>
                      <a:pt x="1875" y="1462"/>
                    </a:lnTo>
                    <a:lnTo>
                      <a:pt x="1285" y="688"/>
                    </a:lnTo>
                    <a:lnTo>
                      <a:pt x="1442" y="630"/>
                    </a:lnTo>
                    <a:lnTo>
                      <a:pt x="1427" y="633"/>
                    </a:lnTo>
                    <a:lnTo>
                      <a:pt x="1411" y="636"/>
                    </a:lnTo>
                    <a:lnTo>
                      <a:pt x="1402" y="642"/>
                    </a:lnTo>
                    <a:lnTo>
                      <a:pt x="1390" y="648"/>
                    </a:lnTo>
                    <a:lnTo>
                      <a:pt x="1374" y="670"/>
                    </a:lnTo>
                    <a:lnTo>
                      <a:pt x="1356" y="688"/>
                    </a:lnTo>
                    <a:lnTo>
                      <a:pt x="1402" y="661"/>
                    </a:lnTo>
                    <a:lnTo>
                      <a:pt x="1420" y="645"/>
                    </a:lnTo>
                    <a:lnTo>
                      <a:pt x="1442" y="630"/>
                    </a:lnTo>
                    <a:lnTo>
                      <a:pt x="1285" y="688"/>
                    </a:lnTo>
                    <a:lnTo>
                      <a:pt x="1291" y="224"/>
                    </a:lnTo>
                    <a:lnTo>
                      <a:pt x="1297" y="224"/>
                    </a:lnTo>
                    <a:lnTo>
                      <a:pt x="1304" y="224"/>
                    </a:lnTo>
                    <a:lnTo>
                      <a:pt x="1313" y="231"/>
                    </a:lnTo>
                    <a:lnTo>
                      <a:pt x="1316" y="234"/>
                    </a:lnTo>
                    <a:lnTo>
                      <a:pt x="1319" y="237"/>
                    </a:lnTo>
                    <a:lnTo>
                      <a:pt x="1322" y="234"/>
                    </a:lnTo>
                    <a:lnTo>
                      <a:pt x="1322" y="224"/>
                    </a:lnTo>
                    <a:lnTo>
                      <a:pt x="1316" y="221"/>
                    </a:lnTo>
                    <a:lnTo>
                      <a:pt x="1307" y="215"/>
                    </a:lnTo>
                    <a:lnTo>
                      <a:pt x="1300" y="215"/>
                    </a:lnTo>
                    <a:lnTo>
                      <a:pt x="1297" y="215"/>
                    </a:lnTo>
                    <a:lnTo>
                      <a:pt x="1294" y="218"/>
                    </a:lnTo>
                    <a:lnTo>
                      <a:pt x="1291" y="224"/>
                    </a:lnTo>
                    <a:lnTo>
                      <a:pt x="1285" y="688"/>
                    </a:lnTo>
                    <a:lnTo>
                      <a:pt x="944" y="83"/>
                    </a:lnTo>
                    <a:lnTo>
                      <a:pt x="925" y="83"/>
                    </a:lnTo>
                    <a:lnTo>
                      <a:pt x="907" y="80"/>
                    </a:lnTo>
                    <a:lnTo>
                      <a:pt x="870" y="71"/>
                    </a:lnTo>
                    <a:lnTo>
                      <a:pt x="855" y="68"/>
                    </a:lnTo>
                    <a:lnTo>
                      <a:pt x="839" y="65"/>
                    </a:lnTo>
                    <a:lnTo>
                      <a:pt x="824" y="68"/>
                    </a:lnTo>
                    <a:lnTo>
                      <a:pt x="812" y="74"/>
                    </a:lnTo>
                    <a:lnTo>
                      <a:pt x="842" y="83"/>
                    </a:lnTo>
                    <a:lnTo>
                      <a:pt x="885" y="92"/>
                    </a:lnTo>
                    <a:lnTo>
                      <a:pt x="904" y="95"/>
                    </a:lnTo>
                    <a:lnTo>
                      <a:pt x="922" y="95"/>
                    </a:lnTo>
                    <a:lnTo>
                      <a:pt x="938" y="92"/>
                    </a:lnTo>
                    <a:lnTo>
                      <a:pt x="941" y="89"/>
                    </a:lnTo>
                    <a:lnTo>
                      <a:pt x="944" y="83"/>
                    </a:lnTo>
                    <a:lnTo>
                      <a:pt x="1285" y="688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51" name="Freeform 330"/>
              <p:cNvSpPr/>
              <p:nvPr/>
            </p:nvSpPr>
            <p:spPr>
              <a:xfrm rot="21336000">
                <a:off x="492480" y="2709360"/>
                <a:ext cx="31680" cy="4068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2" h="28">
                    <a:moveTo>
                      <a:pt x="22" y="9"/>
                    </a:moveTo>
                    <a:lnTo>
                      <a:pt x="22" y="28"/>
                    </a:lnTo>
                    <a:lnTo>
                      <a:pt x="9" y="28"/>
                    </a:lnTo>
                    <a:lnTo>
                      <a:pt x="3" y="24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52" name="Freeform 331"/>
              <p:cNvSpPr/>
              <p:nvPr/>
            </p:nvSpPr>
            <p:spPr>
              <a:xfrm rot="21336000">
                <a:off x="471240" y="2876760"/>
                <a:ext cx="66960" cy="6696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46"/>
                    </a:moveTo>
                    <a:lnTo>
                      <a:pt x="6" y="30"/>
                    </a:lnTo>
                    <a:lnTo>
                      <a:pt x="15" y="15"/>
                    </a:lnTo>
                    <a:lnTo>
                      <a:pt x="30" y="6"/>
                    </a:lnTo>
                    <a:lnTo>
                      <a:pt x="46" y="0"/>
                    </a:lnTo>
                    <a:lnTo>
                      <a:pt x="43" y="21"/>
                    </a:lnTo>
                    <a:lnTo>
                      <a:pt x="36" y="27"/>
                    </a:lnTo>
                    <a:lnTo>
                      <a:pt x="33" y="36"/>
                    </a:lnTo>
                    <a:lnTo>
                      <a:pt x="27" y="40"/>
                    </a:lnTo>
                    <a:lnTo>
                      <a:pt x="18" y="43"/>
                    </a:lnTo>
                    <a:lnTo>
                      <a:pt x="9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53" name="Freeform 332"/>
              <p:cNvSpPr/>
              <p:nvPr/>
            </p:nvSpPr>
            <p:spPr>
              <a:xfrm rot="21336000">
                <a:off x="320760" y="2936160"/>
                <a:ext cx="79920" cy="3168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5" h="22">
                    <a:moveTo>
                      <a:pt x="0" y="13"/>
                    </a:moveTo>
                    <a:lnTo>
                      <a:pt x="3" y="10"/>
                    </a:lnTo>
                    <a:lnTo>
                      <a:pt x="12" y="3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43" y="3"/>
                    </a:lnTo>
                    <a:lnTo>
                      <a:pt x="52" y="7"/>
                    </a:lnTo>
                    <a:lnTo>
                      <a:pt x="55" y="13"/>
                    </a:lnTo>
                    <a:lnTo>
                      <a:pt x="55" y="22"/>
                    </a:lnTo>
                    <a:lnTo>
                      <a:pt x="25" y="22"/>
                    </a:lnTo>
                    <a:lnTo>
                      <a:pt x="9" y="1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0">
                <a:noFill/>
              </a:ln>
              <a:scene3d>
                <a:camera prst="orthographicFront"/>
                <a:lightRig rig="threePt" dir="t"/>
              </a:scene3d>
              <a:sp3d extrusionH="266700">
                <a:extrusionClr>
                  <a:schemeClr val="tx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</p:grpSp>
        <p:sp>
          <p:nvSpPr>
            <p:cNvPr id="554" name="Freeform 95"/>
            <p:cNvSpPr/>
            <p:nvPr/>
          </p:nvSpPr>
          <p:spPr>
            <a:xfrm>
              <a:off x="3180600" y="4206240"/>
              <a:ext cx="229320" cy="350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82" h="278">
                  <a:moveTo>
                    <a:pt x="0" y="39"/>
                  </a:moveTo>
                  <a:lnTo>
                    <a:pt x="92" y="278"/>
                  </a:lnTo>
                  <a:lnTo>
                    <a:pt x="182" y="0"/>
                  </a:lnTo>
                  <a:lnTo>
                    <a:pt x="93" y="98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555" name="Freeform 113"/>
            <p:cNvSpPr/>
            <p:nvPr/>
          </p:nvSpPr>
          <p:spPr>
            <a:xfrm>
              <a:off x="5100480" y="2479320"/>
              <a:ext cx="229320" cy="350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82" h="278">
                  <a:moveTo>
                    <a:pt x="0" y="39"/>
                  </a:moveTo>
                  <a:lnTo>
                    <a:pt x="92" y="278"/>
                  </a:lnTo>
                  <a:lnTo>
                    <a:pt x="182" y="0"/>
                  </a:lnTo>
                  <a:lnTo>
                    <a:pt x="93" y="98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556" name="Freeform 114"/>
            <p:cNvSpPr/>
            <p:nvPr/>
          </p:nvSpPr>
          <p:spPr>
            <a:xfrm>
              <a:off x="6553800" y="3084840"/>
              <a:ext cx="229320" cy="350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82" h="278">
                  <a:moveTo>
                    <a:pt x="0" y="39"/>
                  </a:moveTo>
                  <a:lnTo>
                    <a:pt x="92" y="278"/>
                  </a:lnTo>
                  <a:lnTo>
                    <a:pt x="182" y="0"/>
                  </a:lnTo>
                  <a:lnTo>
                    <a:pt x="93" y="98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557" name="TextBox 61"/>
            <p:cNvSpPr/>
            <p:nvPr/>
          </p:nvSpPr>
          <p:spPr>
            <a:xfrm>
              <a:off x="615960" y="399636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8" name="Straight Connector 63"/>
            <p:cNvCxnSpPr/>
            <p:nvPr/>
          </p:nvCxnSpPr>
          <p:spPr>
            <a:xfrm flipV="1">
              <a:off x="685800" y="4395240"/>
              <a:ext cx="2610000" cy="219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sysDash"/>
              <a:round/>
              <a:headEnd len="med" type="diamond" w="med"/>
            </a:ln>
          </p:spPr>
        </p:cxnSp>
        <p:sp>
          <p:nvSpPr>
            <p:cNvPr id="559" name="TextBox 69"/>
            <p:cNvSpPr/>
            <p:nvPr/>
          </p:nvSpPr>
          <p:spPr>
            <a:xfrm>
              <a:off x="6883920" y="174672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0" name="Straight Connector 70"/>
            <p:cNvCxnSpPr/>
            <p:nvPr/>
          </p:nvCxnSpPr>
          <p:spPr>
            <a:xfrm flipV="1">
              <a:off x="5427000" y="2153520"/>
              <a:ext cx="2973600" cy="1404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sysDash"/>
              <a:round/>
              <a:tailEnd len="med" type="diamond" w="med"/>
            </a:ln>
          </p:spPr>
        </p:cxnSp>
        <p:sp>
          <p:nvSpPr>
            <p:cNvPr id="561" name="TextBox 71"/>
            <p:cNvSpPr/>
            <p:nvPr/>
          </p:nvSpPr>
          <p:spPr>
            <a:xfrm>
              <a:off x="7250040" y="363564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2" name="Straight Connector 72"/>
            <p:cNvCxnSpPr/>
            <p:nvPr/>
          </p:nvCxnSpPr>
          <p:spPr>
            <a:xfrm flipV="1">
              <a:off x="7107840" y="4042080"/>
              <a:ext cx="1684080" cy="1440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sysDash"/>
              <a:round/>
              <a:tailEnd len="med" type="diamond" w="med"/>
            </a:ln>
          </p:spPr>
        </p:cxnSp>
        <p:cxnSp>
          <p:nvCxnSpPr>
            <p:cNvPr id="563" name="Straight Connector 75"/>
            <p:cNvCxnSpPr/>
            <p:nvPr/>
          </p:nvCxnSpPr>
          <p:spPr>
            <a:xfrm flipH="1">
              <a:off x="5189760" y="2167200"/>
              <a:ext cx="237600" cy="46836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sysDash"/>
              <a:round/>
              <a:tailEnd len="med" type="diamond" w="med"/>
            </a:ln>
          </p:spPr>
        </p:cxnSp>
        <p:cxnSp>
          <p:nvCxnSpPr>
            <p:cNvPr id="564" name="Straight Connector 76"/>
            <p:cNvCxnSpPr/>
            <p:nvPr/>
          </p:nvCxnSpPr>
          <p:spPr>
            <a:xfrm flipH="1" flipV="1">
              <a:off x="6670080" y="3284640"/>
              <a:ext cx="438120" cy="76680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sysDash"/>
              <a:round/>
              <a:tailEnd len="med" type="diamond" w="med"/>
            </a:ln>
          </p:spPr>
        </p:cxnSp>
        <p:sp>
          <p:nvSpPr>
            <p:cNvPr id="565" name="Freeform 114"/>
            <p:cNvSpPr/>
            <p:nvPr/>
          </p:nvSpPr>
          <p:spPr>
            <a:xfrm>
              <a:off x="4768920" y="4396320"/>
              <a:ext cx="229320" cy="350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82" h="278">
                  <a:moveTo>
                    <a:pt x="0" y="39"/>
                  </a:moveTo>
                  <a:lnTo>
                    <a:pt x="92" y="278"/>
                  </a:lnTo>
                  <a:lnTo>
                    <a:pt x="182" y="0"/>
                  </a:lnTo>
                  <a:lnTo>
                    <a:pt x="93" y="98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566" name="TextBox 79"/>
            <p:cNvSpPr/>
            <p:nvPr/>
          </p:nvSpPr>
          <p:spPr>
            <a:xfrm>
              <a:off x="5465160" y="494712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7" name="Straight Connector 80"/>
            <p:cNvCxnSpPr/>
            <p:nvPr/>
          </p:nvCxnSpPr>
          <p:spPr>
            <a:xfrm flipV="1">
              <a:off x="5323320" y="5353920"/>
              <a:ext cx="1683720" cy="1404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sysDash"/>
              <a:round/>
              <a:tailEnd len="med" type="diamond" w="med"/>
            </a:ln>
          </p:spPr>
        </p:cxnSp>
        <p:cxnSp>
          <p:nvCxnSpPr>
            <p:cNvPr id="568" name="Straight Connector 81"/>
            <p:cNvCxnSpPr/>
            <p:nvPr/>
          </p:nvCxnSpPr>
          <p:spPr>
            <a:xfrm flipH="1" flipV="1">
              <a:off x="4885200" y="4596480"/>
              <a:ext cx="438480" cy="766440"/>
            </a:xfrm>
            <a:prstGeom prst="straightConnector1">
              <a:avLst/>
            </a:prstGeom>
            <a:ln w="12700">
              <a:solidFill>
                <a:srgbClr val="000000"/>
              </a:solidFill>
              <a:prstDash val="sysDash"/>
              <a:round/>
              <a:tailEnd len="med" type="diamond" w="med"/>
            </a:ln>
          </p:spPr>
        </p:cxnSp>
        <p:sp>
          <p:nvSpPr>
            <p:cNvPr id="569" name="Oval 142"/>
            <p:cNvSpPr/>
            <p:nvPr/>
          </p:nvSpPr>
          <p:spPr>
            <a:xfrm>
              <a:off x="6599520" y="2483640"/>
              <a:ext cx="658800" cy="658800"/>
            </a:xfrm>
            <a:prstGeom prst="ellipse">
              <a:avLst/>
            </a:prstGeom>
            <a:solidFill>
              <a:schemeClr val="bg1">
                <a:alpha val="39000"/>
              </a:schemeClr>
            </a:solidFill>
            <a:ln w="3175">
              <a:solidFill>
                <a:srgbClr val="d9d9d9"/>
              </a:solidFill>
              <a:round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  <a:scene3d>
              <a:camera prst="orthographicFront">
                <a:rot lat="19740000" lon="21540000" rev="21120000"/>
              </a:camera>
              <a:lightRig dir="t" rig="threePt"/>
            </a:scene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nb-NO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0" name="Oval 143"/>
            <p:cNvSpPr/>
            <p:nvPr/>
          </p:nvSpPr>
          <p:spPr>
            <a:xfrm>
              <a:off x="6697080" y="2584440"/>
              <a:ext cx="456480" cy="45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3175">
              <a:solidFill>
                <a:srgbClr val="ffffff"/>
              </a:solidFill>
              <a:round/>
            </a:ln>
            <a:scene3d>
              <a:camera prst="orthographicFront">
                <a:rot lat="19740000" lon="21540000" rev="21120000"/>
              </a:camera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nb-NO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571" name="Oval 144"/>
            <p:cNvSpPr/>
            <p:nvPr/>
          </p:nvSpPr>
          <p:spPr>
            <a:xfrm>
              <a:off x="6823440" y="2707560"/>
              <a:ext cx="210600" cy="210600"/>
            </a:xfrm>
            <a:prstGeom prst="ellipse">
              <a:avLst/>
            </a:prstGeom>
            <a:solidFill>
              <a:schemeClr val="tx2">
                <a:lumMod val="75000"/>
              </a:schemeClr>
            </a:solidFill>
            <a:ln w="3175">
              <a:solidFill>
                <a:srgbClr val="4f81bd">
                  <a:lumMod val="75000"/>
                </a:srgbClr>
              </a:solidFill>
              <a:round/>
            </a:ln>
            <a:scene3d>
              <a:camera prst="orthographicFront">
                <a:rot lat="19740000" lon="21540000" rev="21120000"/>
              </a:camera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nb-NO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572" name="Oval 147"/>
            <p:cNvSpPr/>
            <p:nvPr/>
          </p:nvSpPr>
          <p:spPr>
            <a:xfrm>
              <a:off x="2521800" y="3651120"/>
              <a:ext cx="658800" cy="658800"/>
            </a:xfrm>
            <a:prstGeom prst="ellipse">
              <a:avLst/>
            </a:prstGeom>
            <a:solidFill>
              <a:schemeClr val="bg1">
                <a:alpha val="39000"/>
              </a:schemeClr>
            </a:solidFill>
            <a:ln w="3175">
              <a:solidFill>
                <a:srgbClr val="d9d9d9"/>
              </a:solidFill>
              <a:round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  <a:scene3d>
              <a:camera prst="orthographicFront">
                <a:rot lat="19740000" lon="21540000" rev="21120000"/>
              </a:camera>
              <a:lightRig dir="t" rig="threePt"/>
            </a:scene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nb-NO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3" name="Oval 148"/>
            <p:cNvSpPr/>
            <p:nvPr/>
          </p:nvSpPr>
          <p:spPr>
            <a:xfrm>
              <a:off x="2619360" y="3751560"/>
              <a:ext cx="456480" cy="45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3175">
              <a:solidFill>
                <a:srgbClr val="ffffff"/>
              </a:solidFill>
              <a:round/>
            </a:ln>
            <a:scene3d>
              <a:camera prst="orthographicFront">
                <a:rot lat="19740000" lon="21540000" rev="21120000"/>
              </a:camera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nb-NO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574" name="Oval 149"/>
            <p:cNvSpPr/>
            <p:nvPr/>
          </p:nvSpPr>
          <p:spPr>
            <a:xfrm>
              <a:off x="2746080" y="3875040"/>
              <a:ext cx="210600" cy="210600"/>
            </a:xfrm>
            <a:prstGeom prst="ellipse">
              <a:avLst/>
            </a:prstGeom>
            <a:solidFill>
              <a:schemeClr val="tx2">
                <a:lumMod val="75000"/>
              </a:schemeClr>
            </a:solidFill>
            <a:ln w="3175">
              <a:solidFill>
                <a:srgbClr val="4f81bd">
                  <a:lumMod val="75000"/>
                </a:srgbClr>
              </a:solidFill>
              <a:round/>
            </a:ln>
            <a:scene3d>
              <a:camera prst="orthographicFront">
                <a:rot lat="19740000" lon="21540000" rev="21120000"/>
              </a:camera>
              <a:lightRig dir="t" rig="threePt"/>
            </a:scene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nb-NO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575" name="Freeform 5"/>
            <p:cNvSpPr/>
            <p:nvPr/>
          </p:nvSpPr>
          <p:spPr>
            <a:xfrm rot="4327200">
              <a:off x="4055760" y="1650240"/>
              <a:ext cx="644040" cy="68652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1145" h="844">
                  <a:moveTo>
                    <a:pt x="391" y="209"/>
                  </a:moveTo>
                  <a:lnTo>
                    <a:pt x="302" y="230"/>
                  </a:lnTo>
                  <a:lnTo>
                    <a:pt x="299" y="223"/>
                  </a:lnTo>
                  <a:lnTo>
                    <a:pt x="296" y="219"/>
                  </a:lnTo>
                  <a:lnTo>
                    <a:pt x="293" y="215"/>
                  </a:lnTo>
                  <a:lnTo>
                    <a:pt x="289" y="215"/>
                  </a:lnTo>
                  <a:lnTo>
                    <a:pt x="285" y="217"/>
                  </a:lnTo>
                  <a:lnTo>
                    <a:pt x="282" y="221"/>
                  </a:lnTo>
                  <a:lnTo>
                    <a:pt x="278" y="228"/>
                  </a:lnTo>
                  <a:lnTo>
                    <a:pt x="275" y="237"/>
                  </a:lnTo>
                  <a:lnTo>
                    <a:pt x="58" y="289"/>
                  </a:lnTo>
                  <a:lnTo>
                    <a:pt x="53" y="292"/>
                  </a:lnTo>
                  <a:lnTo>
                    <a:pt x="40" y="297"/>
                  </a:lnTo>
                  <a:lnTo>
                    <a:pt x="33" y="302"/>
                  </a:lnTo>
                  <a:lnTo>
                    <a:pt x="26" y="307"/>
                  </a:lnTo>
                  <a:lnTo>
                    <a:pt x="20" y="313"/>
                  </a:lnTo>
                  <a:lnTo>
                    <a:pt x="15" y="321"/>
                  </a:lnTo>
                  <a:lnTo>
                    <a:pt x="5" y="343"/>
                  </a:lnTo>
                  <a:lnTo>
                    <a:pt x="0" y="350"/>
                  </a:lnTo>
                  <a:lnTo>
                    <a:pt x="275" y="336"/>
                  </a:lnTo>
                  <a:lnTo>
                    <a:pt x="278" y="345"/>
                  </a:lnTo>
                  <a:lnTo>
                    <a:pt x="282" y="353"/>
                  </a:lnTo>
                  <a:lnTo>
                    <a:pt x="284" y="355"/>
                  </a:lnTo>
                  <a:lnTo>
                    <a:pt x="285" y="358"/>
                  </a:lnTo>
                  <a:lnTo>
                    <a:pt x="288" y="359"/>
                  </a:lnTo>
                  <a:lnTo>
                    <a:pt x="289" y="359"/>
                  </a:lnTo>
                  <a:lnTo>
                    <a:pt x="292" y="359"/>
                  </a:lnTo>
                  <a:lnTo>
                    <a:pt x="293" y="358"/>
                  </a:lnTo>
                  <a:lnTo>
                    <a:pt x="296" y="355"/>
                  </a:lnTo>
                  <a:lnTo>
                    <a:pt x="298" y="352"/>
                  </a:lnTo>
                  <a:lnTo>
                    <a:pt x="301" y="344"/>
                  </a:lnTo>
                  <a:lnTo>
                    <a:pt x="303" y="334"/>
                  </a:lnTo>
                  <a:lnTo>
                    <a:pt x="401" y="330"/>
                  </a:lnTo>
                  <a:lnTo>
                    <a:pt x="481" y="331"/>
                  </a:lnTo>
                  <a:lnTo>
                    <a:pt x="485" y="367"/>
                  </a:lnTo>
                  <a:lnTo>
                    <a:pt x="489" y="408"/>
                  </a:lnTo>
                  <a:lnTo>
                    <a:pt x="495" y="454"/>
                  </a:lnTo>
                  <a:lnTo>
                    <a:pt x="502" y="500"/>
                  </a:lnTo>
                  <a:lnTo>
                    <a:pt x="508" y="544"/>
                  </a:lnTo>
                  <a:lnTo>
                    <a:pt x="513" y="583"/>
                  </a:lnTo>
                  <a:lnTo>
                    <a:pt x="518" y="613"/>
                  </a:lnTo>
                  <a:lnTo>
                    <a:pt x="520" y="632"/>
                  </a:lnTo>
                  <a:lnTo>
                    <a:pt x="525" y="654"/>
                  </a:lnTo>
                  <a:lnTo>
                    <a:pt x="533" y="688"/>
                  </a:lnTo>
                  <a:lnTo>
                    <a:pt x="541" y="728"/>
                  </a:lnTo>
                  <a:lnTo>
                    <a:pt x="553" y="770"/>
                  </a:lnTo>
                  <a:lnTo>
                    <a:pt x="546" y="771"/>
                  </a:lnTo>
                  <a:lnTo>
                    <a:pt x="472" y="789"/>
                  </a:lnTo>
                  <a:lnTo>
                    <a:pt x="468" y="791"/>
                  </a:lnTo>
                  <a:lnTo>
                    <a:pt x="464" y="795"/>
                  </a:lnTo>
                  <a:lnTo>
                    <a:pt x="461" y="801"/>
                  </a:lnTo>
                  <a:lnTo>
                    <a:pt x="460" y="802"/>
                  </a:lnTo>
                  <a:lnTo>
                    <a:pt x="549" y="798"/>
                  </a:lnTo>
                  <a:lnTo>
                    <a:pt x="560" y="798"/>
                  </a:lnTo>
                  <a:lnTo>
                    <a:pt x="565" y="819"/>
                  </a:lnTo>
                  <a:lnTo>
                    <a:pt x="571" y="835"/>
                  </a:lnTo>
                  <a:lnTo>
                    <a:pt x="574" y="844"/>
                  </a:lnTo>
                  <a:lnTo>
                    <a:pt x="577" y="844"/>
                  </a:lnTo>
                  <a:lnTo>
                    <a:pt x="578" y="836"/>
                  </a:lnTo>
                  <a:lnTo>
                    <a:pt x="581" y="825"/>
                  </a:lnTo>
                  <a:lnTo>
                    <a:pt x="584" y="812"/>
                  </a:lnTo>
                  <a:lnTo>
                    <a:pt x="587" y="798"/>
                  </a:lnTo>
                  <a:lnTo>
                    <a:pt x="594" y="797"/>
                  </a:lnTo>
                  <a:lnTo>
                    <a:pt x="682" y="801"/>
                  </a:lnTo>
                  <a:lnTo>
                    <a:pt x="681" y="800"/>
                  </a:lnTo>
                  <a:lnTo>
                    <a:pt x="680" y="795"/>
                  </a:lnTo>
                  <a:lnTo>
                    <a:pt x="674" y="790"/>
                  </a:lnTo>
                  <a:lnTo>
                    <a:pt x="670" y="788"/>
                  </a:lnTo>
                  <a:lnTo>
                    <a:pt x="596" y="771"/>
                  </a:lnTo>
                  <a:lnTo>
                    <a:pt x="594" y="770"/>
                  </a:lnTo>
                  <a:lnTo>
                    <a:pt x="603" y="728"/>
                  </a:lnTo>
                  <a:lnTo>
                    <a:pt x="612" y="689"/>
                  </a:lnTo>
                  <a:lnTo>
                    <a:pt x="619" y="654"/>
                  </a:lnTo>
                  <a:lnTo>
                    <a:pt x="625" y="631"/>
                  </a:lnTo>
                  <a:lnTo>
                    <a:pt x="627" y="612"/>
                  </a:lnTo>
                  <a:lnTo>
                    <a:pt x="632" y="583"/>
                  </a:lnTo>
                  <a:lnTo>
                    <a:pt x="636" y="545"/>
                  </a:lnTo>
                  <a:lnTo>
                    <a:pt x="643" y="502"/>
                  </a:lnTo>
                  <a:lnTo>
                    <a:pt x="649" y="456"/>
                  </a:lnTo>
                  <a:lnTo>
                    <a:pt x="654" y="411"/>
                  </a:lnTo>
                  <a:lnTo>
                    <a:pt x="660" y="369"/>
                  </a:lnTo>
                  <a:lnTo>
                    <a:pt x="664" y="334"/>
                  </a:lnTo>
                  <a:lnTo>
                    <a:pt x="744" y="332"/>
                  </a:lnTo>
                  <a:lnTo>
                    <a:pt x="819" y="336"/>
                  </a:lnTo>
                  <a:lnTo>
                    <a:pt x="822" y="343"/>
                  </a:lnTo>
                  <a:lnTo>
                    <a:pt x="825" y="349"/>
                  </a:lnTo>
                  <a:lnTo>
                    <a:pt x="828" y="352"/>
                  </a:lnTo>
                  <a:lnTo>
                    <a:pt x="832" y="353"/>
                  </a:lnTo>
                  <a:lnTo>
                    <a:pt x="835" y="352"/>
                  </a:lnTo>
                  <a:lnTo>
                    <a:pt x="837" y="349"/>
                  </a:lnTo>
                  <a:lnTo>
                    <a:pt x="840" y="344"/>
                  </a:lnTo>
                  <a:lnTo>
                    <a:pt x="843" y="337"/>
                  </a:lnTo>
                  <a:lnTo>
                    <a:pt x="1145" y="352"/>
                  </a:lnTo>
                  <a:lnTo>
                    <a:pt x="1140" y="345"/>
                  </a:lnTo>
                  <a:lnTo>
                    <a:pt x="1130" y="323"/>
                  </a:lnTo>
                  <a:lnTo>
                    <a:pt x="1125" y="316"/>
                  </a:lnTo>
                  <a:lnTo>
                    <a:pt x="1119" y="309"/>
                  </a:lnTo>
                  <a:lnTo>
                    <a:pt x="1112" y="304"/>
                  </a:lnTo>
                  <a:lnTo>
                    <a:pt x="1105" y="299"/>
                  </a:lnTo>
                  <a:lnTo>
                    <a:pt x="1092" y="294"/>
                  </a:lnTo>
                  <a:lnTo>
                    <a:pt x="1087" y="292"/>
                  </a:lnTo>
                  <a:lnTo>
                    <a:pt x="846" y="233"/>
                  </a:lnTo>
                  <a:lnTo>
                    <a:pt x="843" y="223"/>
                  </a:lnTo>
                  <a:lnTo>
                    <a:pt x="839" y="215"/>
                  </a:lnTo>
                  <a:lnTo>
                    <a:pt x="837" y="213"/>
                  </a:lnTo>
                  <a:lnTo>
                    <a:pt x="836" y="211"/>
                  </a:lnTo>
                  <a:lnTo>
                    <a:pt x="833" y="210"/>
                  </a:lnTo>
                  <a:lnTo>
                    <a:pt x="832" y="209"/>
                  </a:lnTo>
                  <a:lnTo>
                    <a:pt x="828" y="210"/>
                  </a:lnTo>
                  <a:lnTo>
                    <a:pt x="825" y="213"/>
                  </a:lnTo>
                  <a:lnTo>
                    <a:pt x="822" y="219"/>
                  </a:lnTo>
                  <a:lnTo>
                    <a:pt x="819" y="227"/>
                  </a:lnTo>
                  <a:lnTo>
                    <a:pt x="754" y="211"/>
                  </a:lnTo>
                  <a:lnTo>
                    <a:pt x="668" y="187"/>
                  </a:lnTo>
                  <a:lnTo>
                    <a:pt x="667" y="161"/>
                  </a:lnTo>
                  <a:lnTo>
                    <a:pt x="664" y="136"/>
                  </a:lnTo>
                  <a:lnTo>
                    <a:pt x="660" y="112"/>
                  </a:lnTo>
                  <a:lnTo>
                    <a:pt x="654" y="94"/>
                  </a:lnTo>
                  <a:lnTo>
                    <a:pt x="647" y="81"/>
                  </a:lnTo>
                  <a:lnTo>
                    <a:pt x="639" y="69"/>
                  </a:lnTo>
                  <a:lnTo>
                    <a:pt x="637" y="55"/>
                  </a:lnTo>
                  <a:lnTo>
                    <a:pt x="633" y="42"/>
                  </a:lnTo>
                  <a:lnTo>
                    <a:pt x="627" y="31"/>
                  </a:lnTo>
                  <a:lnTo>
                    <a:pt x="619" y="21"/>
                  </a:lnTo>
                  <a:lnTo>
                    <a:pt x="609" y="12"/>
                  </a:lnTo>
                  <a:lnTo>
                    <a:pt x="598" y="6"/>
                  </a:lnTo>
                  <a:lnTo>
                    <a:pt x="592" y="4"/>
                  </a:lnTo>
                  <a:lnTo>
                    <a:pt x="587" y="2"/>
                  </a:lnTo>
                  <a:lnTo>
                    <a:pt x="580" y="0"/>
                  </a:lnTo>
                  <a:lnTo>
                    <a:pt x="574" y="0"/>
                  </a:lnTo>
                  <a:lnTo>
                    <a:pt x="567" y="0"/>
                  </a:lnTo>
                  <a:lnTo>
                    <a:pt x="561" y="2"/>
                  </a:lnTo>
                  <a:lnTo>
                    <a:pt x="556" y="3"/>
                  </a:lnTo>
                  <a:lnTo>
                    <a:pt x="550" y="5"/>
                  </a:lnTo>
                  <a:lnTo>
                    <a:pt x="539" y="12"/>
                  </a:lnTo>
                  <a:lnTo>
                    <a:pt x="529" y="19"/>
                  </a:lnTo>
                  <a:lnTo>
                    <a:pt x="522" y="28"/>
                  </a:lnTo>
                  <a:lnTo>
                    <a:pt x="515" y="40"/>
                  </a:lnTo>
                  <a:lnTo>
                    <a:pt x="510" y="52"/>
                  </a:lnTo>
                  <a:lnTo>
                    <a:pt x="508" y="65"/>
                  </a:lnTo>
                  <a:lnTo>
                    <a:pt x="503" y="72"/>
                  </a:lnTo>
                  <a:lnTo>
                    <a:pt x="498" y="79"/>
                  </a:lnTo>
                  <a:lnTo>
                    <a:pt x="494" y="87"/>
                  </a:lnTo>
                  <a:lnTo>
                    <a:pt x="491" y="94"/>
                  </a:lnTo>
                  <a:lnTo>
                    <a:pt x="485" y="112"/>
                  </a:lnTo>
                  <a:lnTo>
                    <a:pt x="481" y="135"/>
                  </a:lnTo>
                  <a:lnTo>
                    <a:pt x="478" y="159"/>
                  </a:lnTo>
                  <a:lnTo>
                    <a:pt x="477" y="185"/>
                  </a:lnTo>
                  <a:lnTo>
                    <a:pt x="391" y="209"/>
                  </a:lnTo>
                  <a:close/>
                </a:path>
              </a:pathLst>
            </a:custGeom>
            <a:gradFill rotWithShape="0">
              <a:gsLst>
                <a:gs pos="0">
                  <a:srgbClr val="17375e"/>
                </a:gs>
                <a:gs pos="100000">
                  <a:srgbClr val="376092"/>
                </a:gs>
              </a:gsLst>
              <a:lin ang="20526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</p:grpSp>
      <p:grpSp>
        <p:nvGrpSpPr>
          <p:cNvPr id="576" name="Group 1"/>
          <p:cNvGrpSpPr/>
          <p:nvPr/>
        </p:nvGrpSpPr>
        <p:grpSpPr>
          <a:xfrm>
            <a:off x="6788880" y="4125600"/>
            <a:ext cx="1546200" cy="881640"/>
            <a:chOff x="6788880" y="4125600"/>
            <a:chExt cx="1546200" cy="881640"/>
          </a:xfrm>
        </p:grpSpPr>
        <p:sp>
          <p:nvSpPr>
            <p:cNvPr id="577" name="Rounded Rectangular Callout 218"/>
            <p:cNvSpPr/>
            <p:nvPr/>
          </p:nvSpPr>
          <p:spPr>
            <a:xfrm>
              <a:off x="6788880" y="4125600"/>
              <a:ext cx="1546200" cy="881640"/>
            </a:xfrm>
            <a:prstGeom prst="wedgeRoundRectCallout">
              <a:avLst>
                <a:gd name="adj1" fmla="val 31721"/>
                <a:gd name="adj2" fmla="val 66340"/>
                <a:gd name="adj3" fmla="val 16667"/>
              </a:avLst>
            </a:prstGeom>
            <a:gradFill rotWithShape="0">
              <a:gsLst>
                <a:gs pos="0">
                  <a:srgbClr val="ca0f1c"/>
                </a:gs>
                <a:gs pos="100000">
                  <a:srgbClr val="ff0000"/>
                </a:gs>
              </a:gsLst>
              <a:lin ang="162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5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578" name="TextBox 219"/>
            <p:cNvSpPr/>
            <p:nvPr/>
          </p:nvSpPr>
          <p:spPr>
            <a:xfrm>
              <a:off x="6813720" y="4258080"/>
              <a:ext cx="1485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f2f2f2"/>
                  </a:solidFill>
                  <a:latin typeface="Calibri"/>
                  <a:ea typeface="ＭＳ Ｐゴシック"/>
                </a:rPr>
                <a:t>If your company is global use the map to show where you are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13"/>
          <p:cNvGrpSpPr/>
          <p:nvPr/>
        </p:nvGrpSpPr>
        <p:grpSpPr>
          <a:xfrm>
            <a:off x="7954200" y="4125960"/>
            <a:ext cx="823320" cy="2049840"/>
            <a:chOff x="7954200" y="4125960"/>
            <a:chExt cx="823320" cy="2049840"/>
          </a:xfrm>
        </p:grpSpPr>
        <p:grpSp>
          <p:nvGrpSpPr>
            <p:cNvPr id="580" name="Group 10"/>
            <p:cNvGrpSpPr/>
            <p:nvPr/>
          </p:nvGrpSpPr>
          <p:grpSpPr>
            <a:xfrm>
              <a:off x="7954200" y="4959720"/>
              <a:ext cx="662040" cy="1216080"/>
              <a:chOff x="7954200" y="4959720"/>
              <a:chExt cx="662040" cy="1216080"/>
            </a:xfrm>
          </p:grpSpPr>
          <p:sp>
            <p:nvSpPr>
              <p:cNvPr id="581" name="Ellipse 68"/>
              <p:cNvSpPr/>
              <p:nvPr/>
            </p:nvSpPr>
            <p:spPr>
              <a:xfrm rot="714000">
                <a:off x="8034840" y="5968800"/>
                <a:ext cx="501480" cy="15660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4901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  <a:ea typeface="ＭＳ Ｐゴシック"/>
                </a:endParaRPr>
              </a:p>
            </p:txBody>
          </p:sp>
          <p:pic>
            <p:nvPicPr>
              <p:cNvPr id="582" name="Picture 51" descr="5.png"/>
              <p:cNvPicPr/>
              <p:nvPr/>
            </p:nvPicPr>
            <p:blipFill>
              <a:blip r:embed="rId1"/>
              <a:stretch/>
            </p:blipFill>
            <p:spPr>
              <a:xfrm>
                <a:off x="7954200" y="4959720"/>
                <a:ext cx="662040" cy="1216080"/>
              </a:xfrm>
              <a:prstGeom prst="rect">
                <a:avLst/>
              </a:prstGeom>
              <a:ln w="0">
                <a:noFill/>
              </a:ln>
              <a:effectLst>
                <a:outerShdw blurRad="50760" dir="2700000" dist="37674" rotWithShape="0">
                  <a:srgbClr val="000000">
                    <a:alpha val="43000"/>
                  </a:srgbClr>
                </a:outerShdw>
              </a:effectLst>
            </p:spPr>
          </p:pic>
        </p:grpSp>
        <p:pic>
          <p:nvPicPr>
            <p:cNvPr id="583" name="Picture 11" descr="red.png"/>
            <p:cNvPicPr/>
            <p:nvPr/>
          </p:nvPicPr>
          <p:blipFill>
            <a:blip r:embed="rId2"/>
            <a:stretch/>
          </p:blipFill>
          <p:spPr>
            <a:xfrm>
              <a:off x="7990200" y="4125960"/>
              <a:ext cx="787320" cy="1279080"/>
            </a:xfrm>
            <a:prstGeom prst="rect">
              <a:avLst/>
            </a:prstGeom>
            <a:ln w="0">
              <a:noFill/>
            </a:ln>
            <a:effectLst>
              <a:outerShdw blurRad="50760" dir="2700000" dist="37674" rotWithShape="0">
                <a:srgbClr val="000000">
                  <a:alpha val="43000"/>
                </a:srgbClr>
              </a:outerShdw>
            </a:effectLst>
          </p:spPr>
        </p:pic>
      </p:grpSp>
      <p:sp>
        <p:nvSpPr>
          <p:cNvPr id="584" name="Text Box 6"/>
          <p:cNvSpPr/>
          <p:nvPr/>
        </p:nvSpPr>
        <p:spPr>
          <a:xfrm>
            <a:off x="1108440" y="63853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3"/>
          <p:cNvSpPr/>
          <p:nvPr/>
        </p:nvSpPr>
        <p:spPr>
          <a:xfrm>
            <a:off x="2884320" y="559800"/>
            <a:ext cx="34142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AMPLE FOR ON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lace this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Straight Connector 4"/>
          <p:cNvCxnSpPr/>
          <p:nvPr/>
        </p:nvCxnSpPr>
        <p:spPr>
          <a:xfrm>
            <a:off x="2963160" y="1073160"/>
            <a:ext cx="3302280" cy="360"/>
          </a:xfrm>
          <a:prstGeom prst="straightConnector1">
            <a:avLst/>
          </a:prstGeom>
          <a:ln w="127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grpSp>
        <p:nvGrpSpPr>
          <p:cNvPr id="587" name="Group 23"/>
          <p:cNvGrpSpPr/>
          <p:nvPr/>
        </p:nvGrpSpPr>
        <p:grpSpPr>
          <a:xfrm>
            <a:off x="2356200" y="1577160"/>
            <a:ext cx="4403880" cy="5119920"/>
            <a:chOff x="2356200" y="1577160"/>
            <a:chExt cx="4403880" cy="5119920"/>
          </a:xfrm>
        </p:grpSpPr>
        <p:sp>
          <p:nvSpPr>
            <p:cNvPr id="588" name="Freeform 45"/>
            <p:cNvSpPr/>
            <p:nvPr/>
          </p:nvSpPr>
          <p:spPr>
            <a:xfrm>
              <a:off x="2847600" y="4347000"/>
              <a:ext cx="1194120" cy="766080"/>
            </a:xfrm>
            <a:custGeom>
              <a:avLst/>
              <a:gdLst>
                <a:gd name="textAreaLeft" fmla="*/ 0 w 1194120"/>
                <a:gd name="textAreaRight" fmla="*/ 1194480 w 119412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243" h="166">
                  <a:moveTo>
                    <a:pt x="24" y="14"/>
                  </a:moveTo>
                  <a:lnTo>
                    <a:pt x="233" y="0"/>
                  </a:lnTo>
                  <a:lnTo>
                    <a:pt x="243" y="160"/>
                  </a:lnTo>
                  <a:lnTo>
                    <a:pt x="117" y="166"/>
                  </a:lnTo>
                  <a:lnTo>
                    <a:pt x="117" y="166"/>
                  </a:lnTo>
                  <a:lnTo>
                    <a:pt x="107" y="166"/>
                  </a:lnTo>
                  <a:lnTo>
                    <a:pt x="95" y="164"/>
                  </a:lnTo>
                  <a:lnTo>
                    <a:pt x="81" y="160"/>
                  </a:lnTo>
                  <a:lnTo>
                    <a:pt x="65" y="152"/>
                  </a:lnTo>
                  <a:lnTo>
                    <a:pt x="49" y="138"/>
                  </a:lnTo>
                  <a:lnTo>
                    <a:pt x="41" y="130"/>
                  </a:lnTo>
                  <a:lnTo>
                    <a:pt x="33" y="120"/>
                  </a:lnTo>
                  <a:lnTo>
                    <a:pt x="26" y="108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6" y="60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gradFill rotWithShape="0">
              <a:gsLst>
                <a:gs pos="50000">
                  <a:srgbClr val="17375e"/>
                </a:gs>
                <a:gs pos="100000">
                  <a:srgbClr val="376092"/>
                </a:gs>
              </a:gsLst>
              <a:lin ang="135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a-DK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589" name="Freeform 49"/>
            <p:cNvSpPr/>
            <p:nvPr/>
          </p:nvSpPr>
          <p:spPr>
            <a:xfrm>
              <a:off x="5692680" y="3190320"/>
              <a:ext cx="1050840" cy="1302480"/>
            </a:xfrm>
            <a:custGeom>
              <a:avLst/>
              <a:gdLst>
                <a:gd name="textAreaLeft" fmla="*/ 0 w 1050840"/>
                <a:gd name="textAreaRight" fmla="*/ 1051200 w 1050840"/>
                <a:gd name="textAreaTop" fmla="*/ 0 h 1302480"/>
                <a:gd name="textAreaBottom" fmla="*/ 1302840 h 1302480"/>
              </a:gdLst>
              <a:ahLst/>
              <a:rect l="textAreaLeft" t="textAreaTop" r="textAreaRight" b="textAreaBottom"/>
              <a:pathLst>
                <a:path w="214" h="282">
                  <a:moveTo>
                    <a:pt x="112" y="264"/>
                  </a:moveTo>
                  <a:lnTo>
                    <a:pt x="0" y="86"/>
                  </a:lnTo>
                  <a:lnTo>
                    <a:pt x="136" y="0"/>
                  </a:lnTo>
                  <a:lnTo>
                    <a:pt x="200" y="108"/>
                  </a:lnTo>
                  <a:lnTo>
                    <a:pt x="200" y="108"/>
                  </a:lnTo>
                  <a:lnTo>
                    <a:pt x="206" y="118"/>
                  </a:lnTo>
                  <a:lnTo>
                    <a:pt x="210" y="128"/>
                  </a:lnTo>
                  <a:lnTo>
                    <a:pt x="214" y="142"/>
                  </a:lnTo>
                  <a:lnTo>
                    <a:pt x="214" y="160"/>
                  </a:lnTo>
                  <a:lnTo>
                    <a:pt x="210" y="182"/>
                  </a:lnTo>
                  <a:lnTo>
                    <a:pt x="206" y="192"/>
                  </a:lnTo>
                  <a:lnTo>
                    <a:pt x="202" y="204"/>
                  </a:lnTo>
                  <a:lnTo>
                    <a:pt x="194" y="218"/>
                  </a:lnTo>
                  <a:lnTo>
                    <a:pt x="184" y="230"/>
                  </a:lnTo>
                  <a:lnTo>
                    <a:pt x="184" y="230"/>
                  </a:lnTo>
                  <a:lnTo>
                    <a:pt x="162" y="258"/>
                  </a:lnTo>
                  <a:lnTo>
                    <a:pt x="144" y="274"/>
                  </a:lnTo>
                  <a:lnTo>
                    <a:pt x="138" y="278"/>
                  </a:lnTo>
                  <a:lnTo>
                    <a:pt x="132" y="280"/>
                  </a:lnTo>
                  <a:lnTo>
                    <a:pt x="128" y="282"/>
                  </a:lnTo>
                  <a:lnTo>
                    <a:pt x="124" y="280"/>
                  </a:lnTo>
                  <a:lnTo>
                    <a:pt x="118" y="278"/>
                  </a:lnTo>
                  <a:lnTo>
                    <a:pt x="114" y="272"/>
                  </a:lnTo>
                  <a:lnTo>
                    <a:pt x="112" y="264"/>
                  </a:lnTo>
                  <a:lnTo>
                    <a:pt x="112" y="264"/>
                  </a:lnTo>
                  <a:close/>
                </a:path>
              </a:pathLst>
            </a:custGeom>
            <a:gradFill rotWithShape="0">
              <a:gsLst>
                <a:gs pos="50000">
                  <a:srgbClr val="17375e"/>
                </a:gs>
                <a:gs pos="100000">
                  <a:srgbClr val="376092"/>
                </a:gs>
              </a:gsLst>
              <a:lin ang="135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a-DK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590" name="Freeform 47"/>
            <p:cNvSpPr/>
            <p:nvPr/>
          </p:nvSpPr>
          <p:spPr>
            <a:xfrm>
              <a:off x="3390120" y="1651320"/>
              <a:ext cx="1222920" cy="1076400"/>
            </a:xfrm>
            <a:custGeom>
              <a:avLst/>
              <a:gdLst>
                <a:gd name="textAreaLeft" fmla="*/ 0 w 1222920"/>
                <a:gd name="textAreaRight" fmla="*/ 1223280 w 1222920"/>
                <a:gd name="textAreaTop" fmla="*/ 0 h 1076400"/>
                <a:gd name="textAreaBottom" fmla="*/ 1076760 h 1076400"/>
              </a:gdLst>
              <a:ahLst/>
              <a:rect l="textAreaLeft" t="textAreaTop" r="textAreaRight" b="textAreaBottom"/>
              <a:pathLst>
                <a:path w="249" h="233">
                  <a:moveTo>
                    <a:pt x="239" y="46"/>
                  </a:moveTo>
                  <a:lnTo>
                    <a:pt x="143" y="233"/>
                  </a:lnTo>
                  <a:lnTo>
                    <a:pt x="0" y="159"/>
                  </a:lnTo>
                  <a:lnTo>
                    <a:pt x="61" y="50"/>
                  </a:lnTo>
                  <a:lnTo>
                    <a:pt x="61" y="50"/>
                  </a:lnTo>
                  <a:lnTo>
                    <a:pt x="65" y="40"/>
                  </a:lnTo>
                  <a:lnTo>
                    <a:pt x="73" y="32"/>
                  </a:lnTo>
                  <a:lnTo>
                    <a:pt x="83" y="22"/>
                  </a:lnTo>
                  <a:lnTo>
                    <a:pt x="99" y="12"/>
                  </a:lnTo>
                  <a:lnTo>
                    <a:pt x="119" y="4"/>
                  </a:lnTo>
                  <a:lnTo>
                    <a:pt x="131" y="2"/>
                  </a:lnTo>
                  <a:lnTo>
                    <a:pt x="143" y="0"/>
                  </a:lnTo>
                  <a:lnTo>
                    <a:pt x="159" y="0"/>
                  </a:lnTo>
                  <a:lnTo>
                    <a:pt x="175" y="2"/>
                  </a:lnTo>
                  <a:lnTo>
                    <a:pt x="175" y="2"/>
                  </a:lnTo>
                  <a:lnTo>
                    <a:pt x="209" y="8"/>
                  </a:lnTo>
                  <a:lnTo>
                    <a:pt x="231" y="14"/>
                  </a:lnTo>
                  <a:lnTo>
                    <a:pt x="239" y="18"/>
                  </a:lnTo>
                  <a:lnTo>
                    <a:pt x="243" y="22"/>
                  </a:lnTo>
                  <a:lnTo>
                    <a:pt x="247" y="26"/>
                  </a:lnTo>
                  <a:lnTo>
                    <a:pt x="249" y="28"/>
                  </a:lnTo>
                  <a:lnTo>
                    <a:pt x="249" y="36"/>
                  </a:lnTo>
                  <a:lnTo>
                    <a:pt x="245" y="40"/>
                  </a:lnTo>
                  <a:lnTo>
                    <a:pt x="239" y="46"/>
                  </a:lnTo>
                  <a:lnTo>
                    <a:pt x="239" y="46"/>
                  </a:lnTo>
                  <a:close/>
                </a:path>
              </a:pathLst>
            </a:custGeom>
            <a:gradFill rotWithShape="0">
              <a:gsLst>
                <a:gs pos="50000">
                  <a:srgbClr val="17375e"/>
                </a:gs>
                <a:gs pos="100000">
                  <a:srgbClr val="376092"/>
                </a:gs>
              </a:gsLst>
              <a:lin ang="135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a-DK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grpSp>
          <p:nvGrpSpPr>
            <p:cNvPr id="591" name="Group 11"/>
            <p:cNvGrpSpPr/>
            <p:nvPr/>
          </p:nvGrpSpPr>
          <p:grpSpPr>
            <a:xfrm>
              <a:off x="3098520" y="2050560"/>
              <a:ext cx="3051360" cy="2933640"/>
              <a:chOff x="3098520" y="2050560"/>
              <a:chExt cx="3051360" cy="2933640"/>
            </a:xfrm>
          </p:grpSpPr>
          <p:sp>
            <p:nvSpPr>
              <p:cNvPr id="592" name="Oval 14"/>
              <p:cNvSpPr/>
              <p:nvPr/>
            </p:nvSpPr>
            <p:spPr>
              <a:xfrm>
                <a:off x="3098520" y="2112840"/>
                <a:ext cx="3051360" cy="2871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path path="circle">
                  <a:fillToRect l="50000" t="50000" r="50000" b="50000"/>
                </a:path>
              </a:gradFill>
              <a:ln w="9525">
                <a:solidFill>
                  <a:srgbClr val="ffffff">
                    <a:lumMod val="50000"/>
                  </a:srgbClr>
                </a:solidFill>
                <a:round/>
              </a:ln>
              <a:effectLst>
                <a:outerShdw blurRad="633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593" name="Freeform 10"/>
              <p:cNvSpPr/>
              <p:nvPr/>
            </p:nvSpPr>
            <p:spPr>
              <a:xfrm>
                <a:off x="3098520" y="2112840"/>
                <a:ext cx="3051360" cy="2832840"/>
              </a:xfrm>
              <a:custGeom>
                <a:avLst/>
                <a:gdLst>
                  <a:gd name="textAreaLeft" fmla="*/ 0 w 3051360"/>
                  <a:gd name="textAreaRight" fmla="*/ 3051720 w 3051360"/>
                  <a:gd name="textAreaTop" fmla="*/ 0 h 2832840"/>
                  <a:gd name="textAreaBottom" fmla="*/ 2833200 h 2832840"/>
                </a:gdLst>
                <a:ahLst/>
                <a:rect l="textAreaLeft" t="textAreaTop" r="textAreaRight" b="textAreaBottom"/>
                <a:pathLst>
                  <a:path w="446" h="440">
                    <a:moveTo>
                      <a:pt x="222" y="258"/>
                    </a:moveTo>
                    <a:lnTo>
                      <a:pt x="222" y="258"/>
                    </a:lnTo>
                    <a:lnTo>
                      <a:pt x="220" y="258"/>
                    </a:lnTo>
                    <a:lnTo>
                      <a:pt x="220" y="256"/>
                    </a:lnTo>
                    <a:lnTo>
                      <a:pt x="218" y="256"/>
                    </a:lnTo>
                    <a:lnTo>
                      <a:pt x="218" y="258"/>
                    </a:lnTo>
                    <a:lnTo>
                      <a:pt x="220" y="258"/>
                    </a:lnTo>
                    <a:lnTo>
                      <a:pt x="222" y="258"/>
                    </a:lnTo>
                    <a:close/>
                    <a:moveTo>
                      <a:pt x="260" y="60"/>
                    </a:moveTo>
                    <a:lnTo>
                      <a:pt x="262" y="60"/>
                    </a:lnTo>
                    <a:lnTo>
                      <a:pt x="262" y="58"/>
                    </a:lnTo>
                    <a:lnTo>
                      <a:pt x="258" y="58"/>
                    </a:lnTo>
                    <a:lnTo>
                      <a:pt x="260" y="60"/>
                    </a:lnTo>
                    <a:close/>
                    <a:moveTo>
                      <a:pt x="218" y="252"/>
                    </a:moveTo>
                    <a:lnTo>
                      <a:pt x="218" y="250"/>
                    </a:lnTo>
                    <a:lnTo>
                      <a:pt x="216" y="250"/>
                    </a:lnTo>
                    <a:lnTo>
                      <a:pt x="216" y="252"/>
                    </a:lnTo>
                    <a:lnTo>
                      <a:pt x="214" y="250"/>
                    </a:lnTo>
                    <a:lnTo>
                      <a:pt x="212" y="250"/>
                    </a:lnTo>
                    <a:lnTo>
                      <a:pt x="212" y="252"/>
                    </a:lnTo>
                    <a:lnTo>
                      <a:pt x="214" y="252"/>
                    </a:lnTo>
                    <a:lnTo>
                      <a:pt x="216" y="252"/>
                    </a:lnTo>
                    <a:lnTo>
                      <a:pt x="218" y="252"/>
                    </a:lnTo>
                    <a:close/>
                    <a:moveTo>
                      <a:pt x="146" y="162"/>
                    </a:moveTo>
                    <a:lnTo>
                      <a:pt x="144" y="162"/>
                    </a:lnTo>
                    <a:lnTo>
                      <a:pt x="146" y="164"/>
                    </a:lnTo>
                    <a:lnTo>
                      <a:pt x="146" y="166"/>
                    </a:lnTo>
                    <a:lnTo>
                      <a:pt x="146" y="168"/>
                    </a:lnTo>
                    <a:lnTo>
                      <a:pt x="146" y="170"/>
                    </a:lnTo>
                    <a:lnTo>
                      <a:pt x="146" y="172"/>
                    </a:lnTo>
                    <a:lnTo>
                      <a:pt x="150" y="172"/>
                    </a:lnTo>
                    <a:lnTo>
                      <a:pt x="148" y="170"/>
                    </a:lnTo>
                    <a:lnTo>
                      <a:pt x="148" y="168"/>
                    </a:lnTo>
                    <a:lnTo>
                      <a:pt x="148" y="166"/>
                    </a:lnTo>
                    <a:lnTo>
                      <a:pt x="150" y="164"/>
                    </a:lnTo>
                    <a:lnTo>
                      <a:pt x="150" y="162"/>
                    </a:lnTo>
                    <a:lnTo>
                      <a:pt x="152" y="160"/>
                    </a:lnTo>
                    <a:lnTo>
                      <a:pt x="154" y="158"/>
                    </a:lnTo>
                    <a:lnTo>
                      <a:pt x="156" y="160"/>
                    </a:lnTo>
                    <a:lnTo>
                      <a:pt x="156" y="162"/>
                    </a:lnTo>
                    <a:lnTo>
                      <a:pt x="156" y="164"/>
                    </a:lnTo>
                    <a:lnTo>
                      <a:pt x="156" y="160"/>
                    </a:lnTo>
                    <a:lnTo>
                      <a:pt x="156" y="156"/>
                    </a:lnTo>
                    <a:lnTo>
                      <a:pt x="154" y="150"/>
                    </a:lnTo>
                    <a:lnTo>
                      <a:pt x="154" y="146"/>
                    </a:lnTo>
                    <a:lnTo>
                      <a:pt x="156" y="148"/>
                    </a:lnTo>
                    <a:lnTo>
                      <a:pt x="156" y="144"/>
                    </a:lnTo>
                    <a:lnTo>
                      <a:pt x="152" y="142"/>
                    </a:lnTo>
                    <a:lnTo>
                      <a:pt x="150" y="140"/>
                    </a:lnTo>
                    <a:lnTo>
                      <a:pt x="146" y="140"/>
                    </a:lnTo>
                    <a:lnTo>
                      <a:pt x="148" y="144"/>
                    </a:lnTo>
                    <a:lnTo>
                      <a:pt x="148" y="148"/>
                    </a:lnTo>
                    <a:lnTo>
                      <a:pt x="150" y="150"/>
                    </a:lnTo>
                    <a:lnTo>
                      <a:pt x="148" y="156"/>
                    </a:lnTo>
                    <a:lnTo>
                      <a:pt x="146" y="162"/>
                    </a:lnTo>
                    <a:close/>
                    <a:moveTo>
                      <a:pt x="158" y="166"/>
                    </a:moveTo>
                    <a:lnTo>
                      <a:pt x="156" y="170"/>
                    </a:lnTo>
                    <a:lnTo>
                      <a:pt x="154" y="172"/>
                    </a:lnTo>
                    <a:lnTo>
                      <a:pt x="152" y="174"/>
                    </a:lnTo>
                    <a:lnTo>
                      <a:pt x="148" y="174"/>
                    </a:lnTo>
                    <a:lnTo>
                      <a:pt x="150" y="178"/>
                    </a:lnTo>
                    <a:lnTo>
                      <a:pt x="152" y="178"/>
                    </a:lnTo>
                    <a:lnTo>
                      <a:pt x="154" y="178"/>
                    </a:lnTo>
                    <a:lnTo>
                      <a:pt x="156" y="178"/>
                    </a:lnTo>
                    <a:lnTo>
                      <a:pt x="156" y="180"/>
                    </a:lnTo>
                    <a:lnTo>
                      <a:pt x="160" y="178"/>
                    </a:lnTo>
                    <a:lnTo>
                      <a:pt x="164" y="178"/>
                    </a:lnTo>
                    <a:lnTo>
                      <a:pt x="164" y="176"/>
                    </a:lnTo>
                    <a:lnTo>
                      <a:pt x="166" y="174"/>
                    </a:lnTo>
                    <a:lnTo>
                      <a:pt x="164" y="170"/>
                    </a:lnTo>
                    <a:lnTo>
                      <a:pt x="162" y="174"/>
                    </a:lnTo>
                    <a:lnTo>
                      <a:pt x="160" y="170"/>
                    </a:lnTo>
                    <a:lnTo>
                      <a:pt x="160" y="168"/>
                    </a:lnTo>
                    <a:lnTo>
                      <a:pt x="158" y="166"/>
                    </a:lnTo>
                    <a:close/>
                    <a:moveTo>
                      <a:pt x="124" y="198"/>
                    </a:moveTo>
                    <a:lnTo>
                      <a:pt x="122" y="198"/>
                    </a:lnTo>
                    <a:lnTo>
                      <a:pt x="120" y="196"/>
                    </a:lnTo>
                    <a:lnTo>
                      <a:pt x="114" y="200"/>
                    </a:lnTo>
                    <a:lnTo>
                      <a:pt x="108" y="202"/>
                    </a:lnTo>
                    <a:lnTo>
                      <a:pt x="106" y="200"/>
                    </a:lnTo>
                    <a:lnTo>
                      <a:pt x="104" y="202"/>
                    </a:lnTo>
                    <a:lnTo>
                      <a:pt x="100" y="202"/>
                    </a:lnTo>
                    <a:lnTo>
                      <a:pt x="106" y="204"/>
                    </a:lnTo>
                    <a:lnTo>
                      <a:pt x="108" y="208"/>
                    </a:lnTo>
                    <a:lnTo>
                      <a:pt x="104" y="214"/>
                    </a:lnTo>
                    <a:lnTo>
                      <a:pt x="106" y="218"/>
                    </a:lnTo>
                    <a:lnTo>
                      <a:pt x="112" y="212"/>
                    </a:lnTo>
                    <a:lnTo>
                      <a:pt x="116" y="208"/>
                    </a:lnTo>
                    <a:lnTo>
                      <a:pt x="124" y="208"/>
                    </a:lnTo>
                    <a:lnTo>
                      <a:pt x="126" y="204"/>
                    </a:lnTo>
                    <a:lnTo>
                      <a:pt x="130" y="208"/>
                    </a:lnTo>
                    <a:lnTo>
                      <a:pt x="136" y="208"/>
                    </a:lnTo>
                    <a:lnTo>
                      <a:pt x="138" y="204"/>
                    </a:lnTo>
                    <a:lnTo>
                      <a:pt x="142" y="202"/>
                    </a:lnTo>
                    <a:lnTo>
                      <a:pt x="140" y="200"/>
                    </a:lnTo>
                    <a:lnTo>
                      <a:pt x="144" y="200"/>
                    </a:lnTo>
                    <a:lnTo>
                      <a:pt x="144" y="198"/>
                    </a:lnTo>
                    <a:lnTo>
                      <a:pt x="146" y="196"/>
                    </a:lnTo>
                    <a:lnTo>
                      <a:pt x="148" y="192"/>
                    </a:lnTo>
                    <a:lnTo>
                      <a:pt x="150" y="188"/>
                    </a:lnTo>
                    <a:lnTo>
                      <a:pt x="150" y="184"/>
                    </a:lnTo>
                    <a:lnTo>
                      <a:pt x="148" y="184"/>
                    </a:lnTo>
                    <a:lnTo>
                      <a:pt x="150" y="182"/>
                    </a:lnTo>
                    <a:lnTo>
                      <a:pt x="148" y="180"/>
                    </a:lnTo>
                    <a:lnTo>
                      <a:pt x="146" y="176"/>
                    </a:lnTo>
                    <a:lnTo>
                      <a:pt x="144" y="176"/>
                    </a:lnTo>
                    <a:lnTo>
                      <a:pt x="144" y="178"/>
                    </a:lnTo>
                    <a:lnTo>
                      <a:pt x="144" y="182"/>
                    </a:lnTo>
                    <a:lnTo>
                      <a:pt x="142" y="186"/>
                    </a:lnTo>
                    <a:lnTo>
                      <a:pt x="138" y="188"/>
                    </a:lnTo>
                    <a:lnTo>
                      <a:pt x="138" y="192"/>
                    </a:lnTo>
                    <a:lnTo>
                      <a:pt x="136" y="192"/>
                    </a:lnTo>
                    <a:lnTo>
                      <a:pt x="132" y="196"/>
                    </a:lnTo>
                    <a:lnTo>
                      <a:pt x="130" y="194"/>
                    </a:lnTo>
                    <a:lnTo>
                      <a:pt x="130" y="198"/>
                    </a:lnTo>
                    <a:lnTo>
                      <a:pt x="130" y="200"/>
                    </a:lnTo>
                    <a:lnTo>
                      <a:pt x="126" y="198"/>
                    </a:lnTo>
                    <a:lnTo>
                      <a:pt x="124" y="198"/>
                    </a:lnTo>
                    <a:close/>
                    <a:moveTo>
                      <a:pt x="262" y="10"/>
                    </a:moveTo>
                    <a:lnTo>
                      <a:pt x="264" y="10"/>
                    </a:lnTo>
                    <a:lnTo>
                      <a:pt x="264" y="8"/>
                    </a:lnTo>
                    <a:lnTo>
                      <a:pt x="262" y="8"/>
                    </a:lnTo>
                    <a:lnTo>
                      <a:pt x="260" y="8"/>
                    </a:lnTo>
                    <a:lnTo>
                      <a:pt x="260" y="10"/>
                    </a:lnTo>
                    <a:lnTo>
                      <a:pt x="262" y="10"/>
                    </a:lnTo>
                    <a:close/>
                    <a:moveTo>
                      <a:pt x="234" y="262"/>
                    </a:moveTo>
                    <a:lnTo>
                      <a:pt x="234" y="262"/>
                    </a:lnTo>
                    <a:lnTo>
                      <a:pt x="234" y="260"/>
                    </a:lnTo>
                    <a:lnTo>
                      <a:pt x="232" y="260"/>
                    </a:lnTo>
                    <a:lnTo>
                      <a:pt x="230" y="260"/>
                    </a:lnTo>
                    <a:lnTo>
                      <a:pt x="228" y="260"/>
                    </a:lnTo>
                    <a:lnTo>
                      <a:pt x="226" y="260"/>
                    </a:lnTo>
                    <a:lnTo>
                      <a:pt x="226" y="262"/>
                    </a:lnTo>
                    <a:lnTo>
                      <a:pt x="228" y="262"/>
                    </a:lnTo>
                    <a:lnTo>
                      <a:pt x="230" y="262"/>
                    </a:lnTo>
                    <a:lnTo>
                      <a:pt x="232" y="264"/>
                    </a:lnTo>
                    <a:lnTo>
                      <a:pt x="234" y="264"/>
                    </a:lnTo>
                    <a:lnTo>
                      <a:pt x="234" y="262"/>
                    </a:lnTo>
                    <a:close/>
                    <a:moveTo>
                      <a:pt x="244" y="274"/>
                    </a:moveTo>
                    <a:lnTo>
                      <a:pt x="244" y="272"/>
                    </a:lnTo>
                    <a:lnTo>
                      <a:pt x="242" y="272"/>
                    </a:lnTo>
                    <a:lnTo>
                      <a:pt x="242" y="270"/>
                    </a:lnTo>
                    <a:lnTo>
                      <a:pt x="240" y="268"/>
                    </a:lnTo>
                    <a:lnTo>
                      <a:pt x="240" y="266"/>
                    </a:lnTo>
                    <a:lnTo>
                      <a:pt x="238" y="266"/>
                    </a:lnTo>
                    <a:lnTo>
                      <a:pt x="236" y="266"/>
                    </a:lnTo>
                    <a:lnTo>
                      <a:pt x="236" y="264"/>
                    </a:lnTo>
                    <a:lnTo>
                      <a:pt x="234" y="264"/>
                    </a:lnTo>
                    <a:lnTo>
                      <a:pt x="234" y="266"/>
                    </a:lnTo>
                    <a:lnTo>
                      <a:pt x="234" y="268"/>
                    </a:lnTo>
                    <a:lnTo>
                      <a:pt x="236" y="272"/>
                    </a:lnTo>
                    <a:lnTo>
                      <a:pt x="236" y="278"/>
                    </a:lnTo>
                    <a:lnTo>
                      <a:pt x="238" y="278"/>
                    </a:lnTo>
                    <a:lnTo>
                      <a:pt x="240" y="278"/>
                    </a:lnTo>
                    <a:lnTo>
                      <a:pt x="240" y="276"/>
                    </a:lnTo>
                    <a:lnTo>
                      <a:pt x="242" y="276"/>
                    </a:lnTo>
                    <a:lnTo>
                      <a:pt x="244" y="276"/>
                    </a:lnTo>
                    <a:lnTo>
                      <a:pt x="246" y="276"/>
                    </a:lnTo>
                    <a:lnTo>
                      <a:pt x="246" y="274"/>
                    </a:lnTo>
                    <a:lnTo>
                      <a:pt x="244" y="274"/>
                    </a:lnTo>
                    <a:close/>
                    <a:moveTo>
                      <a:pt x="342" y="70"/>
                    </a:moveTo>
                    <a:lnTo>
                      <a:pt x="344" y="70"/>
                    </a:lnTo>
                    <a:lnTo>
                      <a:pt x="344" y="66"/>
                    </a:lnTo>
                    <a:lnTo>
                      <a:pt x="342" y="66"/>
                    </a:lnTo>
                    <a:lnTo>
                      <a:pt x="338" y="66"/>
                    </a:lnTo>
                    <a:lnTo>
                      <a:pt x="340" y="68"/>
                    </a:lnTo>
                    <a:lnTo>
                      <a:pt x="342" y="70"/>
                    </a:lnTo>
                    <a:close/>
                    <a:moveTo>
                      <a:pt x="222" y="262"/>
                    </a:moveTo>
                    <a:lnTo>
                      <a:pt x="222" y="262"/>
                    </a:lnTo>
                    <a:lnTo>
                      <a:pt x="222" y="264"/>
                    </a:lnTo>
                    <a:lnTo>
                      <a:pt x="224" y="264"/>
                    </a:lnTo>
                    <a:lnTo>
                      <a:pt x="224" y="262"/>
                    </a:lnTo>
                    <a:lnTo>
                      <a:pt x="222" y="262"/>
                    </a:lnTo>
                    <a:close/>
                    <a:moveTo>
                      <a:pt x="434" y="172"/>
                    </a:moveTo>
                    <a:lnTo>
                      <a:pt x="434" y="172"/>
                    </a:lnTo>
                    <a:lnTo>
                      <a:pt x="432" y="174"/>
                    </a:lnTo>
                    <a:lnTo>
                      <a:pt x="430" y="176"/>
                    </a:lnTo>
                    <a:lnTo>
                      <a:pt x="430" y="178"/>
                    </a:lnTo>
                    <a:lnTo>
                      <a:pt x="428" y="180"/>
                    </a:lnTo>
                    <a:lnTo>
                      <a:pt x="430" y="182"/>
                    </a:lnTo>
                    <a:lnTo>
                      <a:pt x="432" y="184"/>
                    </a:lnTo>
                    <a:lnTo>
                      <a:pt x="434" y="182"/>
                    </a:lnTo>
                    <a:lnTo>
                      <a:pt x="434" y="180"/>
                    </a:lnTo>
                    <a:lnTo>
                      <a:pt x="434" y="178"/>
                    </a:lnTo>
                    <a:lnTo>
                      <a:pt x="434" y="176"/>
                    </a:lnTo>
                    <a:lnTo>
                      <a:pt x="436" y="176"/>
                    </a:lnTo>
                    <a:lnTo>
                      <a:pt x="438" y="176"/>
                    </a:lnTo>
                    <a:lnTo>
                      <a:pt x="440" y="176"/>
                    </a:lnTo>
                    <a:lnTo>
                      <a:pt x="438" y="174"/>
                    </a:lnTo>
                    <a:lnTo>
                      <a:pt x="438" y="172"/>
                    </a:lnTo>
                    <a:lnTo>
                      <a:pt x="436" y="172"/>
                    </a:lnTo>
                    <a:lnTo>
                      <a:pt x="434" y="172"/>
                    </a:lnTo>
                    <a:close/>
                    <a:moveTo>
                      <a:pt x="228" y="16"/>
                    </a:moveTo>
                    <a:lnTo>
                      <a:pt x="230" y="16"/>
                    </a:lnTo>
                    <a:lnTo>
                      <a:pt x="230" y="14"/>
                    </a:lnTo>
                    <a:lnTo>
                      <a:pt x="232" y="14"/>
                    </a:lnTo>
                    <a:lnTo>
                      <a:pt x="232" y="16"/>
                    </a:lnTo>
                    <a:lnTo>
                      <a:pt x="234" y="16"/>
                    </a:lnTo>
                    <a:lnTo>
                      <a:pt x="236" y="16"/>
                    </a:lnTo>
                    <a:lnTo>
                      <a:pt x="236" y="14"/>
                    </a:lnTo>
                    <a:lnTo>
                      <a:pt x="236" y="12"/>
                    </a:lnTo>
                    <a:lnTo>
                      <a:pt x="234" y="10"/>
                    </a:lnTo>
                    <a:lnTo>
                      <a:pt x="232" y="8"/>
                    </a:lnTo>
                    <a:lnTo>
                      <a:pt x="230" y="8"/>
                    </a:lnTo>
                    <a:lnTo>
                      <a:pt x="228" y="10"/>
                    </a:lnTo>
                    <a:lnTo>
                      <a:pt x="226" y="8"/>
                    </a:lnTo>
                    <a:lnTo>
                      <a:pt x="226" y="10"/>
                    </a:lnTo>
                    <a:lnTo>
                      <a:pt x="224" y="8"/>
                    </a:lnTo>
                    <a:lnTo>
                      <a:pt x="224" y="12"/>
                    </a:lnTo>
                    <a:lnTo>
                      <a:pt x="222" y="10"/>
                    </a:lnTo>
                    <a:lnTo>
                      <a:pt x="222" y="12"/>
                    </a:lnTo>
                    <a:lnTo>
                      <a:pt x="218" y="12"/>
                    </a:lnTo>
                    <a:lnTo>
                      <a:pt x="218" y="14"/>
                    </a:lnTo>
                    <a:lnTo>
                      <a:pt x="220" y="14"/>
                    </a:lnTo>
                    <a:lnTo>
                      <a:pt x="220" y="16"/>
                    </a:lnTo>
                    <a:lnTo>
                      <a:pt x="222" y="16"/>
                    </a:lnTo>
                    <a:lnTo>
                      <a:pt x="222" y="12"/>
                    </a:lnTo>
                    <a:lnTo>
                      <a:pt x="222" y="16"/>
                    </a:lnTo>
                    <a:lnTo>
                      <a:pt x="224" y="16"/>
                    </a:lnTo>
                    <a:lnTo>
                      <a:pt x="226" y="14"/>
                    </a:lnTo>
                    <a:lnTo>
                      <a:pt x="228" y="14"/>
                    </a:lnTo>
                    <a:lnTo>
                      <a:pt x="228" y="16"/>
                    </a:lnTo>
                    <a:close/>
                    <a:moveTo>
                      <a:pt x="204" y="18"/>
                    </a:moveTo>
                    <a:lnTo>
                      <a:pt x="206" y="18"/>
                    </a:lnTo>
                    <a:lnTo>
                      <a:pt x="208" y="22"/>
                    </a:lnTo>
                    <a:lnTo>
                      <a:pt x="208" y="20"/>
                    </a:lnTo>
                    <a:lnTo>
                      <a:pt x="208" y="16"/>
                    </a:lnTo>
                    <a:lnTo>
                      <a:pt x="212" y="16"/>
                    </a:lnTo>
                    <a:lnTo>
                      <a:pt x="210" y="14"/>
                    </a:lnTo>
                    <a:lnTo>
                      <a:pt x="212" y="14"/>
                    </a:lnTo>
                    <a:lnTo>
                      <a:pt x="210" y="12"/>
                    </a:lnTo>
                    <a:lnTo>
                      <a:pt x="208" y="14"/>
                    </a:lnTo>
                    <a:lnTo>
                      <a:pt x="206" y="14"/>
                    </a:lnTo>
                    <a:lnTo>
                      <a:pt x="206" y="16"/>
                    </a:lnTo>
                    <a:lnTo>
                      <a:pt x="204" y="16"/>
                    </a:lnTo>
                    <a:lnTo>
                      <a:pt x="202" y="16"/>
                    </a:lnTo>
                    <a:lnTo>
                      <a:pt x="200" y="18"/>
                    </a:lnTo>
                    <a:lnTo>
                      <a:pt x="200" y="20"/>
                    </a:lnTo>
                    <a:lnTo>
                      <a:pt x="202" y="20"/>
                    </a:lnTo>
                    <a:lnTo>
                      <a:pt x="204" y="22"/>
                    </a:lnTo>
                    <a:lnTo>
                      <a:pt x="202" y="18"/>
                    </a:lnTo>
                    <a:lnTo>
                      <a:pt x="204" y="18"/>
                    </a:lnTo>
                    <a:close/>
                    <a:moveTo>
                      <a:pt x="444" y="230"/>
                    </a:moveTo>
                    <a:lnTo>
                      <a:pt x="444" y="230"/>
                    </a:lnTo>
                    <a:lnTo>
                      <a:pt x="442" y="230"/>
                    </a:lnTo>
                    <a:lnTo>
                      <a:pt x="442" y="232"/>
                    </a:lnTo>
                    <a:lnTo>
                      <a:pt x="440" y="232"/>
                    </a:lnTo>
                    <a:lnTo>
                      <a:pt x="446" y="220"/>
                    </a:lnTo>
                    <a:lnTo>
                      <a:pt x="444" y="206"/>
                    </a:lnTo>
                    <a:lnTo>
                      <a:pt x="442" y="202"/>
                    </a:lnTo>
                    <a:lnTo>
                      <a:pt x="442" y="206"/>
                    </a:lnTo>
                    <a:lnTo>
                      <a:pt x="440" y="212"/>
                    </a:lnTo>
                    <a:lnTo>
                      <a:pt x="440" y="210"/>
                    </a:lnTo>
                    <a:lnTo>
                      <a:pt x="438" y="210"/>
                    </a:lnTo>
                    <a:lnTo>
                      <a:pt x="438" y="208"/>
                    </a:lnTo>
                    <a:lnTo>
                      <a:pt x="436" y="200"/>
                    </a:lnTo>
                    <a:lnTo>
                      <a:pt x="438" y="196"/>
                    </a:lnTo>
                    <a:lnTo>
                      <a:pt x="436" y="194"/>
                    </a:lnTo>
                    <a:lnTo>
                      <a:pt x="434" y="188"/>
                    </a:lnTo>
                    <a:lnTo>
                      <a:pt x="432" y="188"/>
                    </a:lnTo>
                    <a:lnTo>
                      <a:pt x="430" y="192"/>
                    </a:lnTo>
                    <a:lnTo>
                      <a:pt x="430" y="194"/>
                    </a:lnTo>
                    <a:lnTo>
                      <a:pt x="430" y="196"/>
                    </a:lnTo>
                    <a:lnTo>
                      <a:pt x="430" y="198"/>
                    </a:lnTo>
                    <a:lnTo>
                      <a:pt x="430" y="200"/>
                    </a:lnTo>
                    <a:lnTo>
                      <a:pt x="432" y="204"/>
                    </a:lnTo>
                    <a:lnTo>
                      <a:pt x="432" y="206"/>
                    </a:lnTo>
                    <a:lnTo>
                      <a:pt x="432" y="208"/>
                    </a:lnTo>
                    <a:lnTo>
                      <a:pt x="430" y="210"/>
                    </a:lnTo>
                    <a:lnTo>
                      <a:pt x="430" y="212"/>
                    </a:lnTo>
                    <a:lnTo>
                      <a:pt x="428" y="214"/>
                    </a:lnTo>
                    <a:lnTo>
                      <a:pt x="426" y="214"/>
                    </a:lnTo>
                    <a:lnTo>
                      <a:pt x="426" y="212"/>
                    </a:lnTo>
                    <a:lnTo>
                      <a:pt x="424" y="212"/>
                    </a:lnTo>
                    <a:lnTo>
                      <a:pt x="422" y="212"/>
                    </a:lnTo>
                    <a:lnTo>
                      <a:pt x="422" y="210"/>
                    </a:lnTo>
                    <a:lnTo>
                      <a:pt x="420" y="210"/>
                    </a:lnTo>
                    <a:lnTo>
                      <a:pt x="420" y="208"/>
                    </a:lnTo>
                    <a:lnTo>
                      <a:pt x="418" y="206"/>
                    </a:lnTo>
                    <a:lnTo>
                      <a:pt x="418" y="204"/>
                    </a:lnTo>
                    <a:lnTo>
                      <a:pt x="416" y="204"/>
                    </a:lnTo>
                    <a:lnTo>
                      <a:pt x="416" y="202"/>
                    </a:lnTo>
                    <a:lnTo>
                      <a:pt x="416" y="200"/>
                    </a:lnTo>
                    <a:lnTo>
                      <a:pt x="416" y="198"/>
                    </a:lnTo>
                    <a:lnTo>
                      <a:pt x="416" y="196"/>
                    </a:lnTo>
                    <a:lnTo>
                      <a:pt x="416" y="194"/>
                    </a:lnTo>
                    <a:lnTo>
                      <a:pt x="414" y="194"/>
                    </a:lnTo>
                    <a:lnTo>
                      <a:pt x="414" y="192"/>
                    </a:lnTo>
                    <a:lnTo>
                      <a:pt x="414" y="190"/>
                    </a:lnTo>
                    <a:lnTo>
                      <a:pt x="416" y="190"/>
                    </a:lnTo>
                    <a:lnTo>
                      <a:pt x="414" y="190"/>
                    </a:lnTo>
                    <a:lnTo>
                      <a:pt x="412" y="188"/>
                    </a:lnTo>
                    <a:lnTo>
                      <a:pt x="410" y="188"/>
                    </a:lnTo>
                    <a:lnTo>
                      <a:pt x="412" y="184"/>
                    </a:lnTo>
                    <a:lnTo>
                      <a:pt x="410" y="180"/>
                    </a:lnTo>
                    <a:lnTo>
                      <a:pt x="410" y="178"/>
                    </a:lnTo>
                    <a:lnTo>
                      <a:pt x="412" y="178"/>
                    </a:lnTo>
                    <a:lnTo>
                      <a:pt x="412" y="176"/>
                    </a:lnTo>
                    <a:lnTo>
                      <a:pt x="412" y="174"/>
                    </a:lnTo>
                    <a:lnTo>
                      <a:pt x="414" y="172"/>
                    </a:lnTo>
                    <a:lnTo>
                      <a:pt x="414" y="170"/>
                    </a:lnTo>
                    <a:lnTo>
                      <a:pt x="416" y="170"/>
                    </a:lnTo>
                    <a:lnTo>
                      <a:pt x="416" y="168"/>
                    </a:lnTo>
                    <a:lnTo>
                      <a:pt x="418" y="168"/>
                    </a:lnTo>
                    <a:lnTo>
                      <a:pt x="420" y="168"/>
                    </a:lnTo>
                    <a:lnTo>
                      <a:pt x="420" y="166"/>
                    </a:lnTo>
                    <a:lnTo>
                      <a:pt x="416" y="164"/>
                    </a:lnTo>
                    <a:lnTo>
                      <a:pt x="414" y="162"/>
                    </a:lnTo>
                    <a:lnTo>
                      <a:pt x="414" y="160"/>
                    </a:lnTo>
                    <a:lnTo>
                      <a:pt x="416" y="158"/>
                    </a:lnTo>
                    <a:lnTo>
                      <a:pt x="418" y="158"/>
                    </a:lnTo>
                    <a:lnTo>
                      <a:pt x="420" y="158"/>
                    </a:lnTo>
                    <a:lnTo>
                      <a:pt x="422" y="158"/>
                    </a:lnTo>
                    <a:lnTo>
                      <a:pt x="424" y="158"/>
                    </a:lnTo>
                    <a:lnTo>
                      <a:pt x="426" y="158"/>
                    </a:lnTo>
                    <a:lnTo>
                      <a:pt x="426" y="160"/>
                    </a:lnTo>
                    <a:lnTo>
                      <a:pt x="428" y="160"/>
                    </a:lnTo>
                    <a:lnTo>
                      <a:pt x="430" y="164"/>
                    </a:lnTo>
                    <a:lnTo>
                      <a:pt x="434" y="166"/>
                    </a:lnTo>
                    <a:lnTo>
                      <a:pt x="434" y="162"/>
                    </a:lnTo>
                    <a:lnTo>
                      <a:pt x="436" y="162"/>
                    </a:lnTo>
                    <a:lnTo>
                      <a:pt x="436" y="160"/>
                    </a:lnTo>
                    <a:lnTo>
                      <a:pt x="432" y="158"/>
                    </a:lnTo>
                    <a:lnTo>
                      <a:pt x="430" y="156"/>
                    </a:lnTo>
                    <a:lnTo>
                      <a:pt x="428" y="156"/>
                    </a:lnTo>
                    <a:lnTo>
                      <a:pt x="426" y="156"/>
                    </a:lnTo>
                    <a:lnTo>
                      <a:pt x="424" y="156"/>
                    </a:lnTo>
                    <a:lnTo>
                      <a:pt x="424" y="154"/>
                    </a:lnTo>
                    <a:lnTo>
                      <a:pt x="424" y="152"/>
                    </a:lnTo>
                    <a:lnTo>
                      <a:pt x="422" y="150"/>
                    </a:lnTo>
                    <a:lnTo>
                      <a:pt x="422" y="148"/>
                    </a:lnTo>
                    <a:lnTo>
                      <a:pt x="422" y="144"/>
                    </a:lnTo>
                    <a:lnTo>
                      <a:pt x="420" y="142"/>
                    </a:lnTo>
                    <a:lnTo>
                      <a:pt x="420" y="140"/>
                    </a:lnTo>
                    <a:lnTo>
                      <a:pt x="418" y="138"/>
                    </a:lnTo>
                    <a:lnTo>
                      <a:pt x="416" y="136"/>
                    </a:lnTo>
                    <a:lnTo>
                      <a:pt x="416" y="134"/>
                    </a:lnTo>
                    <a:lnTo>
                      <a:pt x="418" y="134"/>
                    </a:lnTo>
                    <a:lnTo>
                      <a:pt x="418" y="132"/>
                    </a:lnTo>
                    <a:lnTo>
                      <a:pt x="418" y="130"/>
                    </a:lnTo>
                    <a:lnTo>
                      <a:pt x="416" y="130"/>
                    </a:lnTo>
                    <a:lnTo>
                      <a:pt x="416" y="128"/>
                    </a:lnTo>
                    <a:lnTo>
                      <a:pt x="414" y="126"/>
                    </a:lnTo>
                    <a:lnTo>
                      <a:pt x="412" y="124"/>
                    </a:lnTo>
                    <a:lnTo>
                      <a:pt x="410" y="122"/>
                    </a:lnTo>
                    <a:lnTo>
                      <a:pt x="410" y="120"/>
                    </a:lnTo>
                    <a:lnTo>
                      <a:pt x="410" y="118"/>
                    </a:lnTo>
                    <a:lnTo>
                      <a:pt x="408" y="116"/>
                    </a:lnTo>
                    <a:lnTo>
                      <a:pt x="406" y="110"/>
                    </a:lnTo>
                    <a:lnTo>
                      <a:pt x="402" y="108"/>
                    </a:lnTo>
                    <a:lnTo>
                      <a:pt x="402" y="104"/>
                    </a:lnTo>
                    <a:lnTo>
                      <a:pt x="400" y="102"/>
                    </a:lnTo>
                    <a:lnTo>
                      <a:pt x="402" y="100"/>
                    </a:lnTo>
                    <a:lnTo>
                      <a:pt x="396" y="98"/>
                    </a:lnTo>
                    <a:lnTo>
                      <a:pt x="394" y="94"/>
                    </a:lnTo>
                    <a:lnTo>
                      <a:pt x="392" y="90"/>
                    </a:lnTo>
                    <a:lnTo>
                      <a:pt x="390" y="88"/>
                    </a:lnTo>
                    <a:lnTo>
                      <a:pt x="392" y="84"/>
                    </a:lnTo>
                    <a:lnTo>
                      <a:pt x="390" y="80"/>
                    </a:lnTo>
                    <a:lnTo>
                      <a:pt x="388" y="78"/>
                    </a:lnTo>
                    <a:lnTo>
                      <a:pt x="388" y="76"/>
                    </a:lnTo>
                    <a:lnTo>
                      <a:pt x="386" y="76"/>
                    </a:lnTo>
                    <a:lnTo>
                      <a:pt x="386" y="74"/>
                    </a:lnTo>
                    <a:lnTo>
                      <a:pt x="384" y="74"/>
                    </a:lnTo>
                    <a:lnTo>
                      <a:pt x="382" y="72"/>
                    </a:lnTo>
                    <a:lnTo>
                      <a:pt x="380" y="72"/>
                    </a:lnTo>
                    <a:lnTo>
                      <a:pt x="378" y="72"/>
                    </a:lnTo>
                    <a:lnTo>
                      <a:pt x="376" y="74"/>
                    </a:lnTo>
                    <a:lnTo>
                      <a:pt x="374" y="72"/>
                    </a:lnTo>
                    <a:lnTo>
                      <a:pt x="376" y="70"/>
                    </a:lnTo>
                    <a:lnTo>
                      <a:pt x="378" y="70"/>
                    </a:lnTo>
                    <a:lnTo>
                      <a:pt x="382" y="70"/>
                    </a:lnTo>
                    <a:lnTo>
                      <a:pt x="380" y="68"/>
                    </a:lnTo>
                    <a:lnTo>
                      <a:pt x="380" y="66"/>
                    </a:lnTo>
                    <a:lnTo>
                      <a:pt x="374" y="60"/>
                    </a:lnTo>
                    <a:lnTo>
                      <a:pt x="372" y="60"/>
                    </a:lnTo>
                    <a:lnTo>
                      <a:pt x="372" y="58"/>
                    </a:lnTo>
                    <a:lnTo>
                      <a:pt x="370" y="58"/>
                    </a:lnTo>
                    <a:lnTo>
                      <a:pt x="368" y="58"/>
                    </a:lnTo>
                    <a:lnTo>
                      <a:pt x="366" y="58"/>
                    </a:lnTo>
                    <a:lnTo>
                      <a:pt x="366" y="56"/>
                    </a:lnTo>
                    <a:lnTo>
                      <a:pt x="364" y="56"/>
                    </a:lnTo>
                    <a:lnTo>
                      <a:pt x="362" y="54"/>
                    </a:lnTo>
                    <a:lnTo>
                      <a:pt x="360" y="54"/>
                    </a:lnTo>
                    <a:lnTo>
                      <a:pt x="358" y="54"/>
                    </a:lnTo>
                    <a:lnTo>
                      <a:pt x="356" y="54"/>
                    </a:lnTo>
                    <a:lnTo>
                      <a:pt x="354" y="54"/>
                    </a:lnTo>
                    <a:lnTo>
                      <a:pt x="352" y="54"/>
                    </a:lnTo>
                    <a:lnTo>
                      <a:pt x="350" y="54"/>
                    </a:lnTo>
                    <a:lnTo>
                      <a:pt x="348" y="52"/>
                    </a:lnTo>
                    <a:lnTo>
                      <a:pt x="344" y="50"/>
                    </a:lnTo>
                    <a:lnTo>
                      <a:pt x="342" y="50"/>
                    </a:lnTo>
                    <a:lnTo>
                      <a:pt x="342" y="54"/>
                    </a:lnTo>
                    <a:lnTo>
                      <a:pt x="340" y="52"/>
                    </a:lnTo>
                    <a:lnTo>
                      <a:pt x="338" y="56"/>
                    </a:lnTo>
                    <a:lnTo>
                      <a:pt x="336" y="56"/>
                    </a:lnTo>
                    <a:lnTo>
                      <a:pt x="330" y="56"/>
                    </a:lnTo>
                    <a:lnTo>
                      <a:pt x="336" y="58"/>
                    </a:lnTo>
                    <a:lnTo>
                      <a:pt x="336" y="60"/>
                    </a:lnTo>
                    <a:lnTo>
                      <a:pt x="338" y="64"/>
                    </a:lnTo>
                    <a:lnTo>
                      <a:pt x="340" y="62"/>
                    </a:lnTo>
                    <a:lnTo>
                      <a:pt x="344" y="64"/>
                    </a:lnTo>
                    <a:lnTo>
                      <a:pt x="346" y="66"/>
                    </a:lnTo>
                    <a:lnTo>
                      <a:pt x="352" y="66"/>
                    </a:lnTo>
                    <a:lnTo>
                      <a:pt x="352" y="70"/>
                    </a:lnTo>
                    <a:lnTo>
                      <a:pt x="356" y="68"/>
                    </a:lnTo>
                    <a:lnTo>
                      <a:pt x="360" y="72"/>
                    </a:lnTo>
                    <a:lnTo>
                      <a:pt x="356" y="72"/>
                    </a:lnTo>
                    <a:lnTo>
                      <a:pt x="356" y="74"/>
                    </a:lnTo>
                    <a:lnTo>
                      <a:pt x="354" y="76"/>
                    </a:lnTo>
                    <a:lnTo>
                      <a:pt x="360" y="76"/>
                    </a:lnTo>
                    <a:lnTo>
                      <a:pt x="360" y="78"/>
                    </a:lnTo>
                    <a:lnTo>
                      <a:pt x="364" y="78"/>
                    </a:lnTo>
                    <a:lnTo>
                      <a:pt x="366" y="80"/>
                    </a:lnTo>
                    <a:lnTo>
                      <a:pt x="370" y="82"/>
                    </a:lnTo>
                    <a:lnTo>
                      <a:pt x="370" y="84"/>
                    </a:lnTo>
                    <a:lnTo>
                      <a:pt x="372" y="86"/>
                    </a:lnTo>
                    <a:lnTo>
                      <a:pt x="370" y="88"/>
                    </a:lnTo>
                    <a:lnTo>
                      <a:pt x="368" y="86"/>
                    </a:lnTo>
                    <a:lnTo>
                      <a:pt x="364" y="82"/>
                    </a:lnTo>
                    <a:lnTo>
                      <a:pt x="356" y="80"/>
                    </a:lnTo>
                    <a:lnTo>
                      <a:pt x="356" y="82"/>
                    </a:lnTo>
                    <a:lnTo>
                      <a:pt x="354" y="82"/>
                    </a:lnTo>
                    <a:lnTo>
                      <a:pt x="352" y="80"/>
                    </a:lnTo>
                    <a:lnTo>
                      <a:pt x="350" y="80"/>
                    </a:lnTo>
                    <a:lnTo>
                      <a:pt x="350" y="82"/>
                    </a:lnTo>
                    <a:lnTo>
                      <a:pt x="346" y="82"/>
                    </a:lnTo>
                    <a:lnTo>
                      <a:pt x="346" y="84"/>
                    </a:lnTo>
                    <a:lnTo>
                      <a:pt x="344" y="86"/>
                    </a:lnTo>
                    <a:lnTo>
                      <a:pt x="344" y="84"/>
                    </a:lnTo>
                    <a:lnTo>
                      <a:pt x="342" y="82"/>
                    </a:lnTo>
                    <a:lnTo>
                      <a:pt x="340" y="82"/>
                    </a:lnTo>
                    <a:lnTo>
                      <a:pt x="338" y="82"/>
                    </a:lnTo>
                    <a:lnTo>
                      <a:pt x="338" y="84"/>
                    </a:lnTo>
                    <a:lnTo>
                      <a:pt x="336" y="84"/>
                    </a:lnTo>
                    <a:lnTo>
                      <a:pt x="336" y="82"/>
                    </a:lnTo>
                    <a:lnTo>
                      <a:pt x="334" y="80"/>
                    </a:lnTo>
                    <a:lnTo>
                      <a:pt x="332" y="78"/>
                    </a:lnTo>
                    <a:lnTo>
                      <a:pt x="328" y="76"/>
                    </a:lnTo>
                    <a:lnTo>
                      <a:pt x="328" y="72"/>
                    </a:lnTo>
                    <a:lnTo>
                      <a:pt x="326" y="72"/>
                    </a:lnTo>
                    <a:lnTo>
                      <a:pt x="324" y="68"/>
                    </a:lnTo>
                    <a:lnTo>
                      <a:pt x="322" y="68"/>
                    </a:lnTo>
                    <a:lnTo>
                      <a:pt x="324" y="68"/>
                    </a:lnTo>
                    <a:lnTo>
                      <a:pt x="324" y="66"/>
                    </a:lnTo>
                    <a:lnTo>
                      <a:pt x="322" y="66"/>
                    </a:lnTo>
                    <a:lnTo>
                      <a:pt x="322" y="64"/>
                    </a:lnTo>
                    <a:lnTo>
                      <a:pt x="322" y="62"/>
                    </a:lnTo>
                    <a:lnTo>
                      <a:pt x="320" y="62"/>
                    </a:lnTo>
                    <a:lnTo>
                      <a:pt x="318" y="64"/>
                    </a:lnTo>
                    <a:lnTo>
                      <a:pt x="318" y="60"/>
                    </a:lnTo>
                    <a:lnTo>
                      <a:pt x="318" y="58"/>
                    </a:lnTo>
                    <a:lnTo>
                      <a:pt x="312" y="56"/>
                    </a:lnTo>
                    <a:lnTo>
                      <a:pt x="308" y="56"/>
                    </a:lnTo>
                    <a:lnTo>
                      <a:pt x="308" y="60"/>
                    </a:lnTo>
                    <a:lnTo>
                      <a:pt x="304" y="60"/>
                    </a:lnTo>
                    <a:lnTo>
                      <a:pt x="302" y="62"/>
                    </a:lnTo>
                    <a:lnTo>
                      <a:pt x="304" y="62"/>
                    </a:lnTo>
                    <a:lnTo>
                      <a:pt x="304" y="66"/>
                    </a:lnTo>
                    <a:lnTo>
                      <a:pt x="300" y="66"/>
                    </a:lnTo>
                    <a:lnTo>
                      <a:pt x="296" y="64"/>
                    </a:lnTo>
                    <a:lnTo>
                      <a:pt x="296" y="68"/>
                    </a:lnTo>
                    <a:lnTo>
                      <a:pt x="300" y="72"/>
                    </a:lnTo>
                    <a:lnTo>
                      <a:pt x="296" y="70"/>
                    </a:lnTo>
                    <a:lnTo>
                      <a:pt x="294" y="70"/>
                    </a:lnTo>
                    <a:lnTo>
                      <a:pt x="292" y="74"/>
                    </a:lnTo>
                    <a:lnTo>
                      <a:pt x="288" y="74"/>
                    </a:lnTo>
                    <a:lnTo>
                      <a:pt x="284" y="74"/>
                    </a:lnTo>
                    <a:lnTo>
                      <a:pt x="280" y="72"/>
                    </a:lnTo>
                    <a:lnTo>
                      <a:pt x="278" y="74"/>
                    </a:lnTo>
                    <a:lnTo>
                      <a:pt x="276" y="72"/>
                    </a:lnTo>
                    <a:lnTo>
                      <a:pt x="268" y="72"/>
                    </a:lnTo>
                    <a:lnTo>
                      <a:pt x="266" y="72"/>
                    </a:lnTo>
                    <a:lnTo>
                      <a:pt x="264" y="74"/>
                    </a:lnTo>
                    <a:lnTo>
                      <a:pt x="264" y="76"/>
                    </a:lnTo>
                    <a:lnTo>
                      <a:pt x="264" y="74"/>
                    </a:lnTo>
                    <a:lnTo>
                      <a:pt x="262" y="74"/>
                    </a:lnTo>
                    <a:lnTo>
                      <a:pt x="260" y="74"/>
                    </a:lnTo>
                    <a:lnTo>
                      <a:pt x="258" y="74"/>
                    </a:lnTo>
                    <a:lnTo>
                      <a:pt x="256" y="74"/>
                    </a:lnTo>
                    <a:lnTo>
                      <a:pt x="254" y="74"/>
                    </a:lnTo>
                    <a:lnTo>
                      <a:pt x="252" y="74"/>
                    </a:lnTo>
                    <a:lnTo>
                      <a:pt x="252" y="76"/>
                    </a:lnTo>
                    <a:lnTo>
                      <a:pt x="246" y="76"/>
                    </a:lnTo>
                    <a:lnTo>
                      <a:pt x="244" y="74"/>
                    </a:lnTo>
                    <a:lnTo>
                      <a:pt x="242" y="74"/>
                    </a:lnTo>
                    <a:lnTo>
                      <a:pt x="240" y="74"/>
                    </a:lnTo>
                    <a:lnTo>
                      <a:pt x="240" y="72"/>
                    </a:lnTo>
                    <a:lnTo>
                      <a:pt x="238" y="72"/>
                    </a:lnTo>
                    <a:lnTo>
                      <a:pt x="238" y="74"/>
                    </a:lnTo>
                    <a:lnTo>
                      <a:pt x="238" y="76"/>
                    </a:lnTo>
                    <a:lnTo>
                      <a:pt x="238" y="78"/>
                    </a:lnTo>
                    <a:lnTo>
                      <a:pt x="236" y="80"/>
                    </a:lnTo>
                    <a:lnTo>
                      <a:pt x="234" y="80"/>
                    </a:lnTo>
                    <a:lnTo>
                      <a:pt x="232" y="80"/>
                    </a:lnTo>
                    <a:lnTo>
                      <a:pt x="230" y="80"/>
                    </a:lnTo>
                    <a:lnTo>
                      <a:pt x="228" y="82"/>
                    </a:lnTo>
                    <a:lnTo>
                      <a:pt x="230" y="84"/>
                    </a:lnTo>
                    <a:lnTo>
                      <a:pt x="234" y="88"/>
                    </a:lnTo>
                    <a:lnTo>
                      <a:pt x="236" y="88"/>
                    </a:lnTo>
                    <a:lnTo>
                      <a:pt x="232" y="88"/>
                    </a:lnTo>
                    <a:lnTo>
                      <a:pt x="230" y="92"/>
                    </a:lnTo>
                    <a:lnTo>
                      <a:pt x="226" y="92"/>
                    </a:lnTo>
                    <a:lnTo>
                      <a:pt x="222" y="90"/>
                    </a:lnTo>
                    <a:lnTo>
                      <a:pt x="220" y="94"/>
                    </a:lnTo>
                    <a:lnTo>
                      <a:pt x="220" y="96"/>
                    </a:lnTo>
                    <a:lnTo>
                      <a:pt x="224" y="96"/>
                    </a:lnTo>
                    <a:lnTo>
                      <a:pt x="228" y="94"/>
                    </a:lnTo>
                    <a:lnTo>
                      <a:pt x="230" y="96"/>
                    </a:lnTo>
                    <a:lnTo>
                      <a:pt x="234" y="96"/>
                    </a:lnTo>
                    <a:lnTo>
                      <a:pt x="236" y="96"/>
                    </a:lnTo>
                    <a:lnTo>
                      <a:pt x="234" y="98"/>
                    </a:lnTo>
                    <a:lnTo>
                      <a:pt x="232" y="98"/>
                    </a:lnTo>
                    <a:lnTo>
                      <a:pt x="230" y="98"/>
                    </a:lnTo>
                    <a:lnTo>
                      <a:pt x="228" y="98"/>
                    </a:lnTo>
                    <a:lnTo>
                      <a:pt x="228" y="100"/>
                    </a:lnTo>
                    <a:lnTo>
                      <a:pt x="228" y="102"/>
                    </a:lnTo>
                    <a:lnTo>
                      <a:pt x="228" y="104"/>
                    </a:lnTo>
                    <a:lnTo>
                      <a:pt x="228" y="106"/>
                    </a:lnTo>
                    <a:lnTo>
                      <a:pt x="230" y="108"/>
                    </a:lnTo>
                    <a:lnTo>
                      <a:pt x="230" y="110"/>
                    </a:lnTo>
                    <a:lnTo>
                      <a:pt x="232" y="110"/>
                    </a:lnTo>
                    <a:lnTo>
                      <a:pt x="236" y="112"/>
                    </a:lnTo>
                    <a:lnTo>
                      <a:pt x="238" y="114"/>
                    </a:lnTo>
                    <a:lnTo>
                      <a:pt x="242" y="116"/>
                    </a:lnTo>
                    <a:lnTo>
                      <a:pt x="242" y="118"/>
                    </a:lnTo>
                    <a:lnTo>
                      <a:pt x="242" y="120"/>
                    </a:lnTo>
                    <a:lnTo>
                      <a:pt x="240" y="120"/>
                    </a:lnTo>
                    <a:lnTo>
                      <a:pt x="238" y="122"/>
                    </a:lnTo>
                    <a:lnTo>
                      <a:pt x="236" y="122"/>
                    </a:lnTo>
                    <a:lnTo>
                      <a:pt x="236" y="124"/>
                    </a:lnTo>
                    <a:lnTo>
                      <a:pt x="234" y="124"/>
                    </a:lnTo>
                    <a:lnTo>
                      <a:pt x="232" y="124"/>
                    </a:lnTo>
                    <a:lnTo>
                      <a:pt x="230" y="126"/>
                    </a:lnTo>
                    <a:lnTo>
                      <a:pt x="228" y="126"/>
                    </a:lnTo>
                    <a:lnTo>
                      <a:pt x="228" y="128"/>
                    </a:lnTo>
                    <a:lnTo>
                      <a:pt x="228" y="130"/>
                    </a:lnTo>
                    <a:lnTo>
                      <a:pt x="226" y="130"/>
                    </a:lnTo>
                    <a:lnTo>
                      <a:pt x="226" y="132"/>
                    </a:lnTo>
                    <a:lnTo>
                      <a:pt x="224" y="132"/>
                    </a:lnTo>
                    <a:lnTo>
                      <a:pt x="226" y="132"/>
                    </a:lnTo>
                    <a:lnTo>
                      <a:pt x="228" y="132"/>
                    </a:lnTo>
                    <a:lnTo>
                      <a:pt x="228" y="130"/>
                    </a:lnTo>
                    <a:lnTo>
                      <a:pt x="230" y="130"/>
                    </a:lnTo>
                    <a:lnTo>
                      <a:pt x="232" y="128"/>
                    </a:lnTo>
                    <a:lnTo>
                      <a:pt x="234" y="128"/>
                    </a:lnTo>
                    <a:lnTo>
                      <a:pt x="236" y="128"/>
                    </a:lnTo>
                    <a:lnTo>
                      <a:pt x="236" y="130"/>
                    </a:lnTo>
                    <a:lnTo>
                      <a:pt x="238" y="130"/>
                    </a:lnTo>
                    <a:lnTo>
                      <a:pt x="238" y="128"/>
                    </a:lnTo>
                    <a:lnTo>
                      <a:pt x="238" y="126"/>
                    </a:lnTo>
                    <a:lnTo>
                      <a:pt x="240" y="124"/>
                    </a:lnTo>
                    <a:lnTo>
                      <a:pt x="242" y="124"/>
                    </a:lnTo>
                    <a:lnTo>
                      <a:pt x="242" y="122"/>
                    </a:lnTo>
                    <a:lnTo>
                      <a:pt x="244" y="120"/>
                    </a:lnTo>
                    <a:lnTo>
                      <a:pt x="246" y="120"/>
                    </a:lnTo>
                    <a:lnTo>
                      <a:pt x="248" y="120"/>
                    </a:lnTo>
                    <a:lnTo>
                      <a:pt x="250" y="120"/>
                    </a:lnTo>
                    <a:lnTo>
                      <a:pt x="250" y="118"/>
                    </a:lnTo>
                    <a:lnTo>
                      <a:pt x="250" y="116"/>
                    </a:lnTo>
                    <a:lnTo>
                      <a:pt x="250" y="112"/>
                    </a:lnTo>
                    <a:lnTo>
                      <a:pt x="250" y="110"/>
                    </a:lnTo>
                    <a:lnTo>
                      <a:pt x="252" y="110"/>
                    </a:lnTo>
                    <a:lnTo>
                      <a:pt x="254" y="110"/>
                    </a:lnTo>
                    <a:lnTo>
                      <a:pt x="256" y="108"/>
                    </a:lnTo>
                    <a:lnTo>
                      <a:pt x="262" y="108"/>
                    </a:lnTo>
                    <a:lnTo>
                      <a:pt x="264" y="110"/>
                    </a:lnTo>
                    <a:lnTo>
                      <a:pt x="266" y="110"/>
                    </a:lnTo>
                    <a:lnTo>
                      <a:pt x="268" y="112"/>
                    </a:lnTo>
                    <a:lnTo>
                      <a:pt x="270" y="112"/>
                    </a:lnTo>
                    <a:lnTo>
                      <a:pt x="272" y="112"/>
                    </a:lnTo>
                    <a:lnTo>
                      <a:pt x="274" y="112"/>
                    </a:lnTo>
                    <a:lnTo>
                      <a:pt x="276" y="114"/>
                    </a:lnTo>
                    <a:lnTo>
                      <a:pt x="278" y="114"/>
                    </a:lnTo>
                    <a:lnTo>
                      <a:pt x="280" y="114"/>
                    </a:lnTo>
                    <a:lnTo>
                      <a:pt x="282" y="116"/>
                    </a:lnTo>
                    <a:lnTo>
                      <a:pt x="284" y="116"/>
                    </a:lnTo>
                    <a:lnTo>
                      <a:pt x="282" y="118"/>
                    </a:lnTo>
                    <a:lnTo>
                      <a:pt x="284" y="120"/>
                    </a:lnTo>
                    <a:lnTo>
                      <a:pt x="286" y="122"/>
                    </a:lnTo>
                    <a:lnTo>
                      <a:pt x="288" y="128"/>
                    </a:lnTo>
                    <a:lnTo>
                      <a:pt x="288" y="124"/>
                    </a:lnTo>
                    <a:lnTo>
                      <a:pt x="292" y="124"/>
                    </a:lnTo>
                    <a:lnTo>
                      <a:pt x="292" y="126"/>
                    </a:lnTo>
                    <a:lnTo>
                      <a:pt x="292" y="130"/>
                    </a:lnTo>
                    <a:lnTo>
                      <a:pt x="294" y="132"/>
                    </a:lnTo>
                    <a:lnTo>
                      <a:pt x="296" y="132"/>
                    </a:lnTo>
                    <a:lnTo>
                      <a:pt x="296" y="130"/>
                    </a:lnTo>
                    <a:lnTo>
                      <a:pt x="296" y="128"/>
                    </a:lnTo>
                    <a:lnTo>
                      <a:pt x="300" y="130"/>
                    </a:lnTo>
                    <a:lnTo>
                      <a:pt x="302" y="132"/>
                    </a:lnTo>
                    <a:lnTo>
                      <a:pt x="306" y="134"/>
                    </a:lnTo>
                    <a:lnTo>
                      <a:pt x="308" y="132"/>
                    </a:lnTo>
                    <a:lnTo>
                      <a:pt x="310" y="132"/>
                    </a:lnTo>
                    <a:lnTo>
                      <a:pt x="310" y="134"/>
                    </a:lnTo>
                    <a:lnTo>
                      <a:pt x="308" y="134"/>
                    </a:lnTo>
                    <a:lnTo>
                      <a:pt x="308" y="138"/>
                    </a:lnTo>
                    <a:lnTo>
                      <a:pt x="310" y="140"/>
                    </a:lnTo>
                    <a:lnTo>
                      <a:pt x="312" y="138"/>
                    </a:lnTo>
                    <a:lnTo>
                      <a:pt x="314" y="138"/>
                    </a:lnTo>
                    <a:lnTo>
                      <a:pt x="318" y="140"/>
                    </a:lnTo>
                    <a:lnTo>
                      <a:pt x="322" y="140"/>
                    </a:lnTo>
                    <a:lnTo>
                      <a:pt x="324" y="142"/>
                    </a:lnTo>
                    <a:lnTo>
                      <a:pt x="322" y="142"/>
                    </a:lnTo>
                    <a:lnTo>
                      <a:pt x="320" y="142"/>
                    </a:lnTo>
                    <a:lnTo>
                      <a:pt x="318" y="142"/>
                    </a:lnTo>
                    <a:lnTo>
                      <a:pt x="316" y="142"/>
                    </a:lnTo>
                    <a:lnTo>
                      <a:pt x="314" y="142"/>
                    </a:lnTo>
                    <a:lnTo>
                      <a:pt x="314" y="144"/>
                    </a:lnTo>
                    <a:lnTo>
                      <a:pt x="316" y="144"/>
                    </a:lnTo>
                    <a:lnTo>
                      <a:pt x="316" y="146"/>
                    </a:lnTo>
                    <a:lnTo>
                      <a:pt x="318" y="146"/>
                    </a:lnTo>
                    <a:lnTo>
                      <a:pt x="320" y="148"/>
                    </a:lnTo>
                    <a:lnTo>
                      <a:pt x="322" y="148"/>
                    </a:lnTo>
                    <a:lnTo>
                      <a:pt x="322" y="150"/>
                    </a:lnTo>
                    <a:lnTo>
                      <a:pt x="326" y="156"/>
                    </a:lnTo>
                    <a:lnTo>
                      <a:pt x="324" y="162"/>
                    </a:lnTo>
                    <a:lnTo>
                      <a:pt x="328" y="162"/>
                    </a:lnTo>
                    <a:lnTo>
                      <a:pt x="328" y="168"/>
                    </a:lnTo>
                    <a:lnTo>
                      <a:pt x="328" y="166"/>
                    </a:lnTo>
                    <a:lnTo>
                      <a:pt x="330" y="166"/>
                    </a:lnTo>
                    <a:lnTo>
                      <a:pt x="332" y="168"/>
                    </a:lnTo>
                    <a:lnTo>
                      <a:pt x="332" y="170"/>
                    </a:lnTo>
                    <a:lnTo>
                      <a:pt x="332" y="172"/>
                    </a:lnTo>
                    <a:lnTo>
                      <a:pt x="332" y="174"/>
                    </a:lnTo>
                    <a:lnTo>
                      <a:pt x="334" y="176"/>
                    </a:lnTo>
                    <a:lnTo>
                      <a:pt x="336" y="178"/>
                    </a:lnTo>
                    <a:lnTo>
                      <a:pt x="338" y="180"/>
                    </a:lnTo>
                    <a:lnTo>
                      <a:pt x="340" y="180"/>
                    </a:lnTo>
                    <a:lnTo>
                      <a:pt x="342" y="182"/>
                    </a:lnTo>
                    <a:lnTo>
                      <a:pt x="342" y="184"/>
                    </a:lnTo>
                    <a:lnTo>
                      <a:pt x="342" y="186"/>
                    </a:lnTo>
                    <a:lnTo>
                      <a:pt x="344" y="186"/>
                    </a:lnTo>
                    <a:lnTo>
                      <a:pt x="346" y="188"/>
                    </a:lnTo>
                    <a:lnTo>
                      <a:pt x="348" y="188"/>
                    </a:lnTo>
                    <a:lnTo>
                      <a:pt x="348" y="190"/>
                    </a:lnTo>
                    <a:lnTo>
                      <a:pt x="350" y="190"/>
                    </a:lnTo>
                    <a:lnTo>
                      <a:pt x="350" y="192"/>
                    </a:lnTo>
                    <a:lnTo>
                      <a:pt x="352" y="192"/>
                    </a:lnTo>
                    <a:lnTo>
                      <a:pt x="354" y="192"/>
                    </a:lnTo>
                    <a:lnTo>
                      <a:pt x="354" y="194"/>
                    </a:lnTo>
                    <a:lnTo>
                      <a:pt x="356" y="194"/>
                    </a:lnTo>
                    <a:lnTo>
                      <a:pt x="358" y="194"/>
                    </a:lnTo>
                    <a:lnTo>
                      <a:pt x="360" y="196"/>
                    </a:lnTo>
                    <a:lnTo>
                      <a:pt x="364" y="196"/>
                    </a:lnTo>
                    <a:lnTo>
                      <a:pt x="366" y="200"/>
                    </a:lnTo>
                    <a:lnTo>
                      <a:pt x="368" y="202"/>
                    </a:lnTo>
                    <a:lnTo>
                      <a:pt x="370" y="206"/>
                    </a:lnTo>
                    <a:lnTo>
                      <a:pt x="374" y="206"/>
                    </a:lnTo>
                    <a:lnTo>
                      <a:pt x="374" y="210"/>
                    </a:lnTo>
                    <a:lnTo>
                      <a:pt x="376" y="210"/>
                    </a:lnTo>
                    <a:lnTo>
                      <a:pt x="376" y="214"/>
                    </a:lnTo>
                    <a:lnTo>
                      <a:pt x="378" y="214"/>
                    </a:lnTo>
                    <a:lnTo>
                      <a:pt x="380" y="214"/>
                    </a:lnTo>
                    <a:lnTo>
                      <a:pt x="382" y="214"/>
                    </a:lnTo>
                    <a:lnTo>
                      <a:pt x="384" y="216"/>
                    </a:lnTo>
                    <a:lnTo>
                      <a:pt x="384" y="218"/>
                    </a:lnTo>
                    <a:lnTo>
                      <a:pt x="386" y="218"/>
                    </a:lnTo>
                    <a:lnTo>
                      <a:pt x="386" y="220"/>
                    </a:lnTo>
                    <a:lnTo>
                      <a:pt x="392" y="222"/>
                    </a:lnTo>
                    <a:lnTo>
                      <a:pt x="394" y="222"/>
                    </a:lnTo>
                    <a:lnTo>
                      <a:pt x="392" y="218"/>
                    </a:lnTo>
                    <a:lnTo>
                      <a:pt x="390" y="218"/>
                    </a:lnTo>
                    <a:lnTo>
                      <a:pt x="388" y="218"/>
                    </a:lnTo>
                    <a:lnTo>
                      <a:pt x="386" y="216"/>
                    </a:lnTo>
                    <a:lnTo>
                      <a:pt x="386" y="214"/>
                    </a:lnTo>
                    <a:lnTo>
                      <a:pt x="386" y="212"/>
                    </a:lnTo>
                    <a:lnTo>
                      <a:pt x="384" y="210"/>
                    </a:lnTo>
                    <a:lnTo>
                      <a:pt x="382" y="210"/>
                    </a:lnTo>
                    <a:lnTo>
                      <a:pt x="382" y="208"/>
                    </a:lnTo>
                    <a:lnTo>
                      <a:pt x="380" y="208"/>
                    </a:lnTo>
                    <a:lnTo>
                      <a:pt x="380" y="206"/>
                    </a:lnTo>
                    <a:lnTo>
                      <a:pt x="378" y="206"/>
                    </a:lnTo>
                    <a:lnTo>
                      <a:pt x="376" y="204"/>
                    </a:lnTo>
                    <a:lnTo>
                      <a:pt x="374" y="202"/>
                    </a:lnTo>
                    <a:lnTo>
                      <a:pt x="370" y="198"/>
                    </a:lnTo>
                    <a:lnTo>
                      <a:pt x="368" y="196"/>
                    </a:lnTo>
                    <a:lnTo>
                      <a:pt x="370" y="196"/>
                    </a:lnTo>
                    <a:lnTo>
                      <a:pt x="370" y="194"/>
                    </a:lnTo>
                    <a:lnTo>
                      <a:pt x="372" y="194"/>
                    </a:lnTo>
                    <a:lnTo>
                      <a:pt x="372" y="196"/>
                    </a:lnTo>
                    <a:lnTo>
                      <a:pt x="374" y="196"/>
                    </a:lnTo>
                    <a:lnTo>
                      <a:pt x="376" y="198"/>
                    </a:lnTo>
                    <a:lnTo>
                      <a:pt x="376" y="200"/>
                    </a:lnTo>
                    <a:lnTo>
                      <a:pt x="376" y="202"/>
                    </a:lnTo>
                    <a:lnTo>
                      <a:pt x="378" y="202"/>
                    </a:lnTo>
                    <a:lnTo>
                      <a:pt x="380" y="202"/>
                    </a:lnTo>
                    <a:lnTo>
                      <a:pt x="382" y="202"/>
                    </a:lnTo>
                    <a:lnTo>
                      <a:pt x="384" y="204"/>
                    </a:lnTo>
                    <a:lnTo>
                      <a:pt x="384" y="206"/>
                    </a:lnTo>
                    <a:lnTo>
                      <a:pt x="386" y="208"/>
                    </a:lnTo>
                    <a:lnTo>
                      <a:pt x="388" y="208"/>
                    </a:lnTo>
                    <a:lnTo>
                      <a:pt x="388" y="210"/>
                    </a:lnTo>
                    <a:lnTo>
                      <a:pt x="390" y="210"/>
                    </a:lnTo>
                    <a:lnTo>
                      <a:pt x="392" y="212"/>
                    </a:lnTo>
                    <a:lnTo>
                      <a:pt x="396" y="212"/>
                    </a:lnTo>
                    <a:lnTo>
                      <a:pt x="398" y="214"/>
                    </a:lnTo>
                    <a:lnTo>
                      <a:pt x="404" y="216"/>
                    </a:lnTo>
                    <a:lnTo>
                      <a:pt x="408" y="222"/>
                    </a:lnTo>
                    <a:lnTo>
                      <a:pt x="406" y="222"/>
                    </a:lnTo>
                    <a:lnTo>
                      <a:pt x="404" y="222"/>
                    </a:lnTo>
                    <a:lnTo>
                      <a:pt x="404" y="224"/>
                    </a:lnTo>
                    <a:lnTo>
                      <a:pt x="402" y="224"/>
                    </a:lnTo>
                    <a:lnTo>
                      <a:pt x="404" y="224"/>
                    </a:lnTo>
                    <a:lnTo>
                      <a:pt x="404" y="226"/>
                    </a:lnTo>
                    <a:lnTo>
                      <a:pt x="406" y="226"/>
                    </a:lnTo>
                    <a:lnTo>
                      <a:pt x="406" y="228"/>
                    </a:lnTo>
                    <a:lnTo>
                      <a:pt x="408" y="228"/>
                    </a:lnTo>
                    <a:lnTo>
                      <a:pt x="408" y="230"/>
                    </a:lnTo>
                    <a:lnTo>
                      <a:pt x="410" y="230"/>
                    </a:lnTo>
                    <a:lnTo>
                      <a:pt x="412" y="230"/>
                    </a:lnTo>
                    <a:lnTo>
                      <a:pt x="414" y="230"/>
                    </a:lnTo>
                    <a:lnTo>
                      <a:pt x="416" y="228"/>
                    </a:lnTo>
                    <a:lnTo>
                      <a:pt x="422" y="228"/>
                    </a:lnTo>
                    <a:lnTo>
                      <a:pt x="426" y="228"/>
                    </a:lnTo>
                    <a:lnTo>
                      <a:pt x="428" y="224"/>
                    </a:lnTo>
                    <a:lnTo>
                      <a:pt x="430" y="220"/>
                    </a:lnTo>
                    <a:lnTo>
                      <a:pt x="432" y="220"/>
                    </a:lnTo>
                    <a:lnTo>
                      <a:pt x="432" y="222"/>
                    </a:lnTo>
                    <a:lnTo>
                      <a:pt x="434" y="222"/>
                    </a:lnTo>
                    <a:lnTo>
                      <a:pt x="434" y="224"/>
                    </a:lnTo>
                    <a:lnTo>
                      <a:pt x="442" y="220"/>
                    </a:lnTo>
                    <a:lnTo>
                      <a:pt x="442" y="222"/>
                    </a:lnTo>
                    <a:lnTo>
                      <a:pt x="442" y="224"/>
                    </a:lnTo>
                    <a:lnTo>
                      <a:pt x="440" y="226"/>
                    </a:lnTo>
                    <a:lnTo>
                      <a:pt x="438" y="234"/>
                    </a:lnTo>
                    <a:lnTo>
                      <a:pt x="442" y="242"/>
                    </a:lnTo>
                    <a:lnTo>
                      <a:pt x="442" y="240"/>
                    </a:lnTo>
                    <a:lnTo>
                      <a:pt x="442" y="238"/>
                    </a:lnTo>
                    <a:lnTo>
                      <a:pt x="442" y="234"/>
                    </a:lnTo>
                    <a:lnTo>
                      <a:pt x="444" y="232"/>
                    </a:lnTo>
                    <a:lnTo>
                      <a:pt x="444" y="230"/>
                    </a:lnTo>
                    <a:close/>
                    <a:moveTo>
                      <a:pt x="270" y="62"/>
                    </a:moveTo>
                    <a:lnTo>
                      <a:pt x="272" y="64"/>
                    </a:lnTo>
                    <a:lnTo>
                      <a:pt x="276" y="64"/>
                    </a:lnTo>
                    <a:lnTo>
                      <a:pt x="278" y="68"/>
                    </a:lnTo>
                    <a:lnTo>
                      <a:pt x="280" y="62"/>
                    </a:lnTo>
                    <a:lnTo>
                      <a:pt x="282" y="68"/>
                    </a:lnTo>
                    <a:lnTo>
                      <a:pt x="284" y="66"/>
                    </a:lnTo>
                    <a:lnTo>
                      <a:pt x="288" y="68"/>
                    </a:lnTo>
                    <a:lnTo>
                      <a:pt x="292" y="68"/>
                    </a:lnTo>
                    <a:lnTo>
                      <a:pt x="294" y="66"/>
                    </a:lnTo>
                    <a:lnTo>
                      <a:pt x="298" y="64"/>
                    </a:lnTo>
                    <a:lnTo>
                      <a:pt x="294" y="62"/>
                    </a:lnTo>
                    <a:lnTo>
                      <a:pt x="292" y="58"/>
                    </a:lnTo>
                    <a:lnTo>
                      <a:pt x="286" y="58"/>
                    </a:lnTo>
                    <a:lnTo>
                      <a:pt x="286" y="56"/>
                    </a:lnTo>
                    <a:lnTo>
                      <a:pt x="282" y="54"/>
                    </a:lnTo>
                    <a:lnTo>
                      <a:pt x="280" y="54"/>
                    </a:lnTo>
                    <a:lnTo>
                      <a:pt x="278" y="56"/>
                    </a:lnTo>
                    <a:lnTo>
                      <a:pt x="278" y="60"/>
                    </a:lnTo>
                    <a:lnTo>
                      <a:pt x="276" y="60"/>
                    </a:lnTo>
                    <a:lnTo>
                      <a:pt x="272" y="60"/>
                    </a:lnTo>
                    <a:lnTo>
                      <a:pt x="270" y="62"/>
                    </a:lnTo>
                    <a:close/>
                    <a:moveTo>
                      <a:pt x="264" y="54"/>
                    </a:moveTo>
                    <a:lnTo>
                      <a:pt x="264" y="56"/>
                    </a:lnTo>
                    <a:lnTo>
                      <a:pt x="262" y="56"/>
                    </a:lnTo>
                    <a:lnTo>
                      <a:pt x="262" y="58"/>
                    </a:lnTo>
                    <a:lnTo>
                      <a:pt x="264" y="58"/>
                    </a:lnTo>
                    <a:lnTo>
                      <a:pt x="264" y="60"/>
                    </a:lnTo>
                    <a:lnTo>
                      <a:pt x="262" y="62"/>
                    </a:lnTo>
                    <a:lnTo>
                      <a:pt x="264" y="62"/>
                    </a:lnTo>
                    <a:lnTo>
                      <a:pt x="264" y="66"/>
                    </a:lnTo>
                    <a:lnTo>
                      <a:pt x="268" y="68"/>
                    </a:lnTo>
                    <a:lnTo>
                      <a:pt x="268" y="64"/>
                    </a:lnTo>
                    <a:lnTo>
                      <a:pt x="270" y="64"/>
                    </a:lnTo>
                    <a:lnTo>
                      <a:pt x="268" y="60"/>
                    </a:lnTo>
                    <a:lnTo>
                      <a:pt x="268" y="58"/>
                    </a:lnTo>
                    <a:lnTo>
                      <a:pt x="268" y="56"/>
                    </a:lnTo>
                    <a:lnTo>
                      <a:pt x="266" y="54"/>
                    </a:lnTo>
                    <a:lnTo>
                      <a:pt x="264" y="54"/>
                    </a:lnTo>
                    <a:close/>
                    <a:moveTo>
                      <a:pt x="288" y="52"/>
                    </a:moveTo>
                    <a:lnTo>
                      <a:pt x="294" y="50"/>
                    </a:lnTo>
                    <a:lnTo>
                      <a:pt x="294" y="54"/>
                    </a:lnTo>
                    <a:lnTo>
                      <a:pt x="298" y="50"/>
                    </a:lnTo>
                    <a:lnTo>
                      <a:pt x="302" y="56"/>
                    </a:lnTo>
                    <a:lnTo>
                      <a:pt x="306" y="54"/>
                    </a:lnTo>
                    <a:lnTo>
                      <a:pt x="306" y="48"/>
                    </a:lnTo>
                    <a:lnTo>
                      <a:pt x="308" y="46"/>
                    </a:lnTo>
                    <a:lnTo>
                      <a:pt x="314" y="46"/>
                    </a:lnTo>
                    <a:lnTo>
                      <a:pt x="318" y="48"/>
                    </a:lnTo>
                    <a:lnTo>
                      <a:pt x="320" y="42"/>
                    </a:lnTo>
                    <a:lnTo>
                      <a:pt x="324" y="44"/>
                    </a:lnTo>
                    <a:lnTo>
                      <a:pt x="322" y="40"/>
                    </a:lnTo>
                    <a:lnTo>
                      <a:pt x="320" y="40"/>
                    </a:lnTo>
                    <a:lnTo>
                      <a:pt x="314" y="40"/>
                    </a:lnTo>
                    <a:lnTo>
                      <a:pt x="308" y="38"/>
                    </a:lnTo>
                    <a:lnTo>
                      <a:pt x="304" y="40"/>
                    </a:lnTo>
                    <a:lnTo>
                      <a:pt x="300" y="42"/>
                    </a:lnTo>
                    <a:lnTo>
                      <a:pt x="294" y="42"/>
                    </a:lnTo>
                    <a:lnTo>
                      <a:pt x="290" y="46"/>
                    </a:lnTo>
                    <a:lnTo>
                      <a:pt x="288" y="46"/>
                    </a:lnTo>
                    <a:lnTo>
                      <a:pt x="288" y="50"/>
                    </a:lnTo>
                    <a:lnTo>
                      <a:pt x="288" y="52"/>
                    </a:lnTo>
                    <a:close/>
                    <a:moveTo>
                      <a:pt x="324" y="48"/>
                    </a:moveTo>
                    <a:lnTo>
                      <a:pt x="322" y="48"/>
                    </a:lnTo>
                    <a:lnTo>
                      <a:pt x="322" y="50"/>
                    </a:lnTo>
                    <a:lnTo>
                      <a:pt x="324" y="52"/>
                    </a:lnTo>
                    <a:lnTo>
                      <a:pt x="326" y="52"/>
                    </a:lnTo>
                    <a:lnTo>
                      <a:pt x="328" y="52"/>
                    </a:lnTo>
                    <a:lnTo>
                      <a:pt x="332" y="54"/>
                    </a:lnTo>
                    <a:lnTo>
                      <a:pt x="332" y="50"/>
                    </a:lnTo>
                    <a:lnTo>
                      <a:pt x="334" y="50"/>
                    </a:lnTo>
                    <a:lnTo>
                      <a:pt x="336" y="50"/>
                    </a:lnTo>
                    <a:lnTo>
                      <a:pt x="338" y="50"/>
                    </a:lnTo>
                    <a:lnTo>
                      <a:pt x="338" y="48"/>
                    </a:lnTo>
                    <a:lnTo>
                      <a:pt x="336" y="48"/>
                    </a:lnTo>
                    <a:lnTo>
                      <a:pt x="334" y="48"/>
                    </a:lnTo>
                    <a:lnTo>
                      <a:pt x="332" y="48"/>
                    </a:lnTo>
                    <a:lnTo>
                      <a:pt x="332" y="46"/>
                    </a:lnTo>
                    <a:lnTo>
                      <a:pt x="328" y="44"/>
                    </a:lnTo>
                    <a:lnTo>
                      <a:pt x="324" y="48"/>
                    </a:lnTo>
                    <a:close/>
                    <a:moveTo>
                      <a:pt x="264" y="50"/>
                    </a:moveTo>
                    <a:lnTo>
                      <a:pt x="264" y="50"/>
                    </a:lnTo>
                    <a:lnTo>
                      <a:pt x="264" y="48"/>
                    </a:lnTo>
                    <a:lnTo>
                      <a:pt x="262" y="48"/>
                    </a:lnTo>
                    <a:lnTo>
                      <a:pt x="262" y="46"/>
                    </a:lnTo>
                    <a:lnTo>
                      <a:pt x="260" y="48"/>
                    </a:lnTo>
                    <a:lnTo>
                      <a:pt x="260" y="50"/>
                    </a:lnTo>
                    <a:lnTo>
                      <a:pt x="260" y="52"/>
                    </a:lnTo>
                    <a:lnTo>
                      <a:pt x="262" y="52"/>
                    </a:lnTo>
                    <a:lnTo>
                      <a:pt x="262" y="54"/>
                    </a:lnTo>
                    <a:lnTo>
                      <a:pt x="264" y="54"/>
                    </a:lnTo>
                    <a:lnTo>
                      <a:pt x="264" y="52"/>
                    </a:lnTo>
                    <a:lnTo>
                      <a:pt x="266" y="52"/>
                    </a:lnTo>
                    <a:lnTo>
                      <a:pt x="264" y="50"/>
                    </a:lnTo>
                    <a:close/>
                    <a:moveTo>
                      <a:pt x="254" y="32"/>
                    </a:moveTo>
                    <a:lnTo>
                      <a:pt x="254" y="32"/>
                    </a:lnTo>
                    <a:lnTo>
                      <a:pt x="256" y="36"/>
                    </a:lnTo>
                    <a:lnTo>
                      <a:pt x="256" y="38"/>
                    </a:lnTo>
                    <a:lnTo>
                      <a:pt x="260" y="38"/>
                    </a:lnTo>
                    <a:lnTo>
                      <a:pt x="262" y="38"/>
                    </a:lnTo>
                    <a:lnTo>
                      <a:pt x="262" y="36"/>
                    </a:lnTo>
                    <a:lnTo>
                      <a:pt x="260" y="36"/>
                    </a:lnTo>
                    <a:lnTo>
                      <a:pt x="258" y="34"/>
                    </a:lnTo>
                    <a:lnTo>
                      <a:pt x="260" y="34"/>
                    </a:lnTo>
                    <a:lnTo>
                      <a:pt x="256" y="32"/>
                    </a:lnTo>
                    <a:lnTo>
                      <a:pt x="256" y="30"/>
                    </a:lnTo>
                    <a:lnTo>
                      <a:pt x="254" y="28"/>
                    </a:lnTo>
                    <a:lnTo>
                      <a:pt x="254" y="30"/>
                    </a:lnTo>
                    <a:lnTo>
                      <a:pt x="254" y="32"/>
                    </a:lnTo>
                    <a:close/>
                    <a:moveTo>
                      <a:pt x="272" y="54"/>
                    </a:moveTo>
                    <a:lnTo>
                      <a:pt x="274" y="56"/>
                    </a:lnTo>
                    <a:lnTo>
                      <a:pt x="268" y="50"/>
                    </a:lnTo>
                    <a:lnTo>
                      <a:pt x="268" y="52"/>
                    </a:lnTo>
                    <a:lnTo>
                      <a:pt x="268" y="54"/>
                    </a:lnTo>
                    <a:lnTo>
                      <a:pt x="272" y="54"/>
                    </a:lnTo>
                    <a:close/>
                    <a:moveTo>
                      <a:pt x="284" y="38"/>
                    </a:moveTo>
                    <a:lnTo>
                      <a:pt x="284" y="38"/>
                    </a:lnTo>
                    <a:lnTo>
                      <a:pt x="284" y="36"/>
                    </a:lnTo>
                    <a:lnTo>
                      <a:pt x="280" y="36"/>
                    </a:lnTo>
                    <a:lnTo>
                      <a:pt x="280" y="38"/>
                    </a:lnTo>
                    <a:lnTo>
                      <a:pt x="282" y="38"/>
                    </a:lnTo>
                    <a:lnTo>
                      <a:pt x="284" y="38"/>
                    </a:lnTo>
                    <a:close/>
                    <a:moveTo>
                      <a:pt x="260" y="30"/>
                    </a:moveTo>
                    <a:lnTo>
                      <a:pt x="258" y="30"/>
                    </a:lnTo>
                    <a:lnTo>
                      <a:pt x="258" y="32"/>
                    </a:lnTo>
                    <a:lnTo>
                      <a:pt x="260" y="32"/>
                    </a:lnTo>
                    <a:lnTo>
                      <a:pt x="260" y="30"/>
                    </a:lnTo>
                    <a:close/>
                    <a:moveTo>
                      <a:pt x="254" y="32"/>
                    </a:moveTo>
                    <a:lnTo>
                      <a:pt x="254" y="32"/>
                    </a:lnTo>
                    <a:lnTo>
                      <a:pt x="252" y="32"/>
                    </a:lnTo>
                    <a:lnTo>
                      <a:pt x="254" y="32"/>
                    </a:lnTo>
                    <a:close/>
                    <a:moveTo>
                      <a:pt x="298" y="32"/>
                    </a:moveTo>
                    <a:lnTo>
                      <a:pt x="300" y="32"/>
                    </a:lnTo>
                    <a:lnTo>
                      <a:pt x="296" y="32"/>
                    </a:lnTo>
                    <a:lnTo>
                      <a:pt x="298" y="32"/>
                    </a:lnTo>
                    <a:close/>
                    <a:moveTo>
                      <a:pt x="104" y="178"/>
                    </a:moveTo>
                    <a:lnTo>
                      <a:pt x="104" y="178"/>
                    </a:lnTo>
                    <a:close/>
                    <a:moveTo>
                      <a:pt x="200" y="96"/>
                    </a:moveTo>
                    <a:lnTo>
                      <a:pt x="202" y="92"/>
                    </a:lnTo>
                    <a:lnTo>
                      <a:pt x="202" y="90"/>
                    </a:lnTo>
                    <a:lnTo>
                      <a:pt x="206" y="88"/>
                    </a:lnTo>
                    <a:lnTo>
                      <a:pt x="204" y="94"/>
                    </a:lnTo>
                    <a:lnTo>
                      <a:pt x="210" y="94"/>
                    </a:lnTo>
                    <a:lnTo>
                      <a:pt x="214" y="98"/>
                    </a:lnTo>
                    <a:lnTo>
                      <a:pt x="214" y="94"/>
                    </a:lnTo>
                    <a:lnTo>
                      <a:pt x="216" y="94"/>
                    </a:lnTo>
                    <a:lnTo>
                      <a:pt x="214" y="92"/>
                    </a:lnTo>
                    <a:lnTo>
                      <a:pt x="210" y="92"/>
                    </a:lnTo>
                    <a:lnTo>
                      <a:pt x="212" y="90"/>
                    </a:lnTo>
                    <a:lnTo>
                      <a:pt x="210" y="88"/>
                    </a:lnTo>
                    <a:lnTo>
                      <a:pt x="206" y="88"/>
                    </a:lnTo>
                    <a:lnTo>
                      <a:pt x="210" y="86"/>
                    </a:lnTo>
                    <a:lnTo>
                      <a:pt x="208" y="82"/>
                    </a:lnTo>
                    <a:lnTo>
                      <a:pt x="204" y="82"/>
                    </a:lnTo>
                    <a:lnTo>
                      <a:pt x="204" y="80"/>
                    </a:lnTo>
                    <a:lnTo>
                      <a:pt x="198" y="80"/>
                    </a:lnTo>
                    <a:lnTo>
                      <a:pt x="196" y="78"/>
                    </a:lnTo>
                    <a:lnTo>
                      <a:pt x="196" y="80"/>
                    </a:lnTo>
                    <a:lnTo>
                      <a:pt x="194" y="80"/>
                    </a:lnTo>
                    <a:lnTo>
                      <a:pt x="192" y="80"/>
                    </a:lnTo>
                    <a:lnTo>
                      <a:pt x="188" y="80"/>
                    </a:lnTo>
                    <a:lnTo>
                      <a:pt x="188" y="76"/>
                    </a:lnTo>
                    <a:lnTo>
                      <a:pt x="184" y="76"/>
                    </a:lnTo>
                    <a:lnTo>
                      <a:pt x="182" y="76"/>
                    </a:lnTo>
                    <a:lnTo>
                      <a:pt x="182" y="74"/>
                    </a:lnTo>
                    <a:lnTo>
                      <a:pt x="184" y="72"/>
                    </a:lnTo>
                    <a:lnTo>
                      <a:pt x="186" y="72"/>
                    </a:lnTo>
                    <a:lnTo>
                      <a:pt x="188" y="70"/>
                    </a:lnTo>
                    <a:lnTo>
                      <a:pt x="186" y="68"/>
                    </a:lnTo>
                    <a:lnTo>
                      <a:pt x="184" y="68"/>
                    </a:lnTo>
                    <a:lnTo>
                      <a:pt x="182" y="68"/>
                    </a:lnTo>
                    <a:lnTo>
                      <a:pt x="180" y="68"/>
                    </a:lnTo>
                    <a:lnTo>
                      <a:pt x="180" y="66"/>
                    </a:lnTo>
                    <a:lnTo>
                      <a:pt x="178" y="64"/>
                    </a:lnTo>
                    <a:lnTo>
                      <a:pt x="180" y="64"/>
                    </a:lnTo>
                    <a:lnTo>
                      <a:pt x="180" y="62"/>
                    </a:lnTo>
                    <a:lnTo>
                      <a:pt x="176" y="62"/>
                    </a:lnTo>
                    <a:lnTo>
                      <a:pt x="180" y="58"/>
                    </a:lnTo>
                    <a:lnTo>
                      <a:pt x="180" y="56"/>
                    </a:lnTo>
                    <a:lnTo>
                      <a:pt x="178" y="56"/>
                    </a:lnTo>
                    <a:lnTo>
                      <a:pt x="178" y="52"/>
                    </a:lnTo>
                    <a:lnTo>
                      <a:pt x="180" y="52"/>
                    </a:lnTo>
                    <a:lnTo>
                      <a:pt x="176" y="50"/>
                    </a:lnTo>
                    <a:lnTo>
                      <a:pt x="176" y="54"/>
                    </a:lnTo>
                    <a:lnTo>
                      <a:pt x="176" y="56"/>
                    </a:lnTo>
                    <a:lnTo>
                      <a:pt x="174" y="60"/>
                    </a:lnTo>
                    <a:lnTo>
                      <a:pt x="172" y="60"/>
                    </a:lnTo>
                    <a:lnTo>
                      <a:pt x="170" y="60"/>
                    </a:lnTo>
                    <a:lnTo>
                      <a:pt x="168" y="60"/>
                    </a:lnTo>
                    <a:lnTo>
                      <a:pt x="170" y="58"/>
                    </a:lnTo>
                    <a:lnTo>
                      <a:pt x="168" y="56"/>
                    </a:lnTo>
                    <a:lnTo>
                      <a:pt x="164" y="56"/>
                    </a:lnTo>
                    <a:lnTo>
                      <a:pt x="166" y="54"/>
                    </a:lnTo>
                    <a:lnTo>
                      <a:pt x="170" y="50"/>
                    </a:lnTo>
                    <a:lnTo>
                      <a:pt x="170" y="48"/>
                    </a:lnTo>
                    <a:lnTo>
                      <a:pt x="174" y="48"/>
                    </a:lnTo>
                    <a:lnTo>
                      <a:pt x="168" y="48"/>
                    </a:lnTo>
                    <a:lnTo>
                      <a:pt x="170" y="46"/>
                    </a:lnTo>
                    <a:lnTo>
                      <a:pt x="170" y="44"/>
                    </a:lnTo>
                    <a:lnTo>
                      <a:pt x="172" y="40"/>
                    </a:lnTo>
                    <a:lnTo>
                      <a:pt x="170" y="40"/>
                    </a:lnTo>
                    <a:lnTo>
                      <a:pt x="168" y="40"/>
                    </a:lnTo>
                    <a:lnTo>
                      <a:pt x="166" y="40"/>
                    </a:lnTo>
                    <a:lnTo>
                      <a:pt x="166" y="38"/>
                    </a:lnTo>
                    <a:lnTo>
                      <a:pt x="168" y="38"/>
                    </a:lnTo>
                    <a:lnTo>
                      <a:pt x="170" y="38"/>
                    </a:lnTo>
                    <a:lnTo>
                      <a:pt x="172" y="38"/>
                    </a:lnTo>
                    <a:lnTo>
                      <a:pt x="174" y="38"/>
                    </a:lnTo>
                    <a:lnTo>
                      <a:pt x="178" y="40"/>
                    </a:lnTo>
                    <a:lnTo>
                      <a:pt x="180" y="42"/>
                    </a:lnTo>
                    <a:lnTo>
                      <a:pt x="180" y="38"/>
                    </a:lnTo>
                    <a:lnTo>
                      <a:pt x="182" y="36"/>
                    </a:lnTo>
                    <a:lnTo>
                      <a:pt x="186" y="36"/>
                    </a:lnTo>
                    <a:lnTo>
                      <a:pt x="188" y="34"/>
                    </a:lnTo>
                    <a:lnTo>
                      <a:pt x="190" y="32"/>
                    </a:lnTo>
                    <a:lnTo>
                      <a:pt x="194" y="34"/>
                    </a:lnTo>
                    <a:lnTo>
                      <a:pt x="194" y="32"/>
                    </a:lnTo>
                    <a:lnTo>
                      <a:pt x="196" y="32"/>
                    </a:lnTo>
                    <a:lnTo>
                      <a:pt x="198" y="32"/>
                    </a:lnTo>
                    <a:lnTo>
                      <a:pt x="200" y="30"/>
                    </a:lnTo>
                    <a:lnTo>
                      <a:pt x="202" y="30"/>
                    </a:lnTo>
                    <a:lnTo>
                      <a:pt x="200" y="26"/>
                    </a:lnTo>
                    <a:lnTo>
                      <a:pt x="198" y="28"/>
                    </a:lnTo>
                    <a:lnTo>
                      <a:pt x="192" y="30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6" y="32"/>
                    </a:lnTo>
                    <a:lnTo>
                      <a:pt x="184" y="32"/>
                    </a:lnTo>
                    <a:lnTo>
                      <a:pt x="182" y="32"/>
                    </a:lnTo>
                    <a:lnTo>
                      <a:pt x="182" y="30"/>
                    </a:lnTo>
                    <a:lnTo>
                      <a:pt x="182" y="28"/>
                    </a:lnTo>
                    <a:lnTo>
                      <a:pt x="180" y="26"/>
                    </a:lnTo>
                    <a:lnTo>
                      <a:pt x="178" y="26"/>
                    </a:lnTo>
                    <a:lnTo>
                      <a:pt x="174" y="26"/>
                    </a:lnTo>
                    <a:lnTo>
                      <a:pt x="170" y="24"/>
                    </a:lnTo>
                    <a:lnTo>
                      <a:pt x="168" y="26"/>
                    </a:lnTo>
                    <a:lnTo>
                      <a:pt x="166" y="28"/>
                    </a:lnTo>
                    <a:lnTo>
                      <a:pt x="164" y="30"/>
                    </a:lnTo>
                    <a:lnTo>
                      <a:pt x="162" y="28"/>
                    </a:lnTo>
                    <a:lnTo>
                      <a:pt x="162" y="26"/>
                    </a:lnTo>
                    <a:lnTo>
                      <a:pt x="160" y="24"/>
                    </a:lnTo>
                    <a:lnTo>
                      <a:pt x="162" y="22"/>
                    </a:lnTo>
                    <a:lnTo>
                      <a:pt x="164" y="20"/>
                    </a:lnTo>
                    <a:lnTo>
                      <a:pt x="166" y="18"/>
                    </a:lnTo>
                    <a:lnTo>
                      <a:pt x="168" y="18"/>
                    </a:lnTo>
                    <a:lnTo>
                      <a:pt x="168" y="20"/>
                    </a:lnTo>
                    <a:lnTo>
                      <a:pt x="170" y="22"/>
                    </a:lnTo>
                    <a:lnTo>
                      <a:pt x="172" y="24"/>
                    </a:lnTo>
                    <a:lnTo>
                      <a:pt x="172" y="20"/>
                    </a:lnTo>
                    <a:lnTo>
                      <a:pt x="174" y="22"/>
                    </a:lnTo>
                    <a:lnTo>
                      <a:pt x="172" y="18"/>
                    </a:lnTo>
                    <a:lnTo>
                      <a:pt x="174" y="18"/>
                    </a:lnTo>
                    <a:lnTo>
                      <a:pt x="178" y="18"/>
                    </a:lnTo>
                    <a:lnTo>
                      <a:pt x="178" y="16"/>
                    </a:lnTo>
                    <a:lnTo>
                      <a:pt x="180" y="16"/>
                    </a:lnTo>
                    <a:lnTo>
                      <a:pt x="184" y="18"/>
                    </a:lnTo>
                    <a:lnTo>
                      <a:pt x="184" y="16"/>
                    </a:lnTo>
                    <a:lnTo>
                      <a:pt x="184" y="14"/>
                    </a:lnTo>
                    <a:lnTo>
                      <a:pt x="188" y="12"/>
                    </a:lnTo>
                    <a:lnTo>
                      <a:pt x="190" y="14"/>
                    </a:lnTo>
                    <a:lnTo>
                      <a:pt x="192" y="14"/>
                    </a:lnTo>
                    <a:lnTo>
                      <a:pt x="196" y="14"/>
                    </a:lnTo>
                    <a:lnTo>
                      <a:pt x="194" y="18"/>
                    </a:lnTo>
                    <a:lnTo>
                      <a:pt x="196" y="20"/>
                    </a:lnTo>
                    <a:lnTo>
                      <a:pt x="198" y="22"/>
                    </a:lnTo>
                    <a:lnTo>
                      <a:pt x="200" y="22"/>
                    </a:lnTo>
                    <a:lnTo>
                      <a:pt x="198" y="18"/>
                    </a:lnTo>
                    <a:lnTo>
                      <a:pt x="200" y="16"/>
                    </a:lnTo>
                    <a:lnTo>
                      <a:pt x="202" y="14"/>
                    </a:lnTo>
                    <a:lnTo>
                      <a:pt x="200" y="14"/>
                    </a:lnTo>
                    <a:lnTo>
                      <a:pt x="202" y="12"/>
                    </a:lnTo>
                    <a:lnTo>
                      <a:pt x="200" y="12"/>
                    </a:lnTo>
                    <a:lnTo>
                      <a:pt x="198" y="10"/>
                    </a:lnTo>
                    <a:lnTo>
                      <a:pt x="200" y="8"/>
                    </a:lnTo>
                    <a:lnTo>
                      <a:pt x="202" y="6"/>
                    </a:lnTo>
                    <a:lnTo>
                      <a:pt x="206" y="8"/>
                    </a:lnTo>
                    <a:lnTo>
                      <a:pt x="208" y="8"/>
                    </a:lnTo>
                    <a:lnTo>
                      <a:pt x="210" y="6"/>
                    </a:lnTo>
                    <a:lnTo>
                      <a:pt x="212" y="8"/>
                    </a:lnTo>
                    <a:lnTo>
                      <a:pt x="216" y="8"/>
                    </a:lnTo>
                    <a:lnTo>
                      <a:pt x="218" y="6"/>
                    </a:lnTo>
                    <a:lnTo>
                      <a:pt x="220" y="8"/>
                    </a:lnTo>
                    <a:lnTo>
                      <a:pt x="224" y="8"/>
                    </a:lnTo>
                    <a:lnTo>
                      <a:pt x="226" y="6"/>
                    </a:lnTo>
                    <a:lnTo>
                      <a:pt x="230" y="8"/>
                    </a:lnTo>
                    <a:lnTo>
                      <a:pt x="228" y="4"/>
                    </a:lnTo>
                    <a:lnTo>
                      <a:pt x="230" y="6"/>
                    </a:lnTo>
                    <a:lnTo>
                      <a:pt x="234" y="4"/>
                    </a:lnTo>
                    <a:lnTo>
                      <a:pt x="234" y="2"/>
                    </a:lnTo>
                    <a:lnTo>
                      <a:pt x="236" y="2"/>
                    </a:lnTo>
                    <a:lnTo>
                      <a:pt x="222" y="0"/>
                    </a:lnTo>
                    <a:lnTo>
                      <a:pt x="200" y="2"/>
                    </a:lnTo>
                    <a:lnTo>
                      <a:pt x="180" y="6"/>
                    </a:lnTo>
                    <a:lnTo>
                      <a:pt x="158" y="10"/>
                    </a:lnTo>
                    <a:lnTo>
                      <a:pt x="138" y="18"/>
                    </a:lnTo>
                    <a:lnTo>
                      <a:pt x="120" y="26"/>
                    </a:lnTo>
                    <a:lnTo>
                      <a:pt x="102" y="36"/>
                    </a:lnTo>
                    <a:lnTo>
                      <a:pt x="86" y="48"/>
                    </a:lnTo>
                    <a:lnTo>
                      <a:pt x="70" y="62"/>
                    </a:lnTo>
                    <a:lnTo>
                      <a:pt x="72" y="62"/>
                    </a:lnTo>
                    <a:lnTo>
                      <a:pt x="70" y="68"/>
                    </a:lnTo>
                    <a:lnTo>
                      <a:pt x="68" y="66"/>
                    </a:lnTo>
                    <a:lnTo>
                      <a:pt x="68" y="68"/>
                    </a:lnTo>
                    <a:lnTo>
                      <a:pt x="66" y="68"/>
                    </a:lnTo>
                    <a:lnTo>
                      <a:pt x="64" y="70"/>
                    </a:lnTo>
                    <a:lnTo>
                      <a:pt x="60" y="74"/>
                    </a:lnTo>
                    <a:lnTo>
                      <a:pt x="56" y="78"/>
                    </a:lnTo>
                    <a:lnTo>
                      <a:pt x="56" y="76"/>
                    </a:lnTo>
                    <a:lnTo>
                      <a:pt x="44" y="90"/>
                    </a:lnTo>
                    <a:lnTo>
                      <a:pt x="34" y="106"/>
                    </a:lnTo>
                    <a:lnTo>
                      <a:pt x="24" y="122"/>
                    </a:lnTo>
                    <a:lnTo>
                      <a:pt x="18" y="138"/>
                    </a:lnTo>
                    <a:lnTo>
                      <a:pt x="10" y="156"/>
                    </a:lnTo>
                    <a:lnTo>
                      <a:pt x="6" y="174"/>
                    </a:lnTo>
                    <a:lnTo>
                      <a:pt x="2" y="192"/>
                    </a:lnTo>
                    <a:lnTo>
                      <a:pt x="0" y="212"/>
                    </a:lnTo>
                    <a:lnTo>
                      <a:pt x="2" y="210"/>
                    </a:lnTo>
                    <a:lnTo>
                      <a:pt x="4" y="206"/>
                    </a:lnTo>
                    <a:lnTo>
                      <a:pt x="2" y="200"/>
                    </a:lnTo>
                    <a:lnTo>
                      <a:pt x="4" y="198"/>
                    </a:lnTo>
                    <a:lnTo>
                      <a:pt x="6" y="200"/>
                    </a:lnTo>
                    <a:lnTo>
                      <a:pt x="6" y="198"/>
                    </a:lnTo>
                    <a:lnTo>
                      <a:pt x="6" y="196"/>
                    </a:lnTo>
                    <a:lnTo>
                      <a:pt x="6" y="194"/>
                    </a:lnTo>
                    <a:lnTo>
                      <a:pt x="4" y="188"/>
                    </a:lnTo>
                    <a:lnTo>
                      <a:pt x="4" y="186"/>
                    </a:lnTo>
                    <a:lnTo>
                      <a:pt x="6" y="184"/>
                    </a:lnTo>
                    <a:lnTo>
                      <a:pt x="6" y="186"/>
                    </a:lnTo>
                    <a:lnTo>
                      <a:pt x="12" y="186"/>
                    </a:lnTo>
                    <a:lnTo>
                      <a:pt x="14" y="182"/>
                    </a:lnTo>
                    <a:lnTo>
                      <a:pt x="14" y="180"/>
                    </a:lnTo>
                    <a:lnTo>
                      <a:pt x="12" y="178"/>
                    </a:lnTo>
                    <a:lnTo>
                      <a:pt x="16" y="176"/>
                    </a:lnTo>
                    <a:lnTo>
                      <a:pt x="14" y="178"/>
                    </a:lnTo>
                    <a:lnTo>
                      <a:pt x="16" y="180"/>
                    </a:lnTo>
                    <a:lnTo>
                      <a:pt x="18" y="178"/>
                    </a:lnTo>
                    <a:lnTo>
                      <a:pt x="20" y="176"/>
                    </a:lnTo>
                    <a:lnTo>
                      <a:pt x="22" y="174"/>
                    </a:lnTo>
                    <a:lnTo>
                      <a:pt x="22" y="168"/>
                    </a:lnTo>
                    <a:lnTo>
                      <a:pt x="24" y="168"/>
                    </a:lnTo>
                    <a:lnTo>
                      <a:pt x="22" y="170"/>
                    </a:lnTo>
                    <a:lnTo>
                      <a:pt x="22" y="172"/>
                    </a:lnTo>
                    <a:lnTo>
                      <a:pt x="22" y="174"/>
                    </a:lnTo>
                    <a:lnTo>
                      <a:pt x="22" y="178"/>
                    </a:lnTo>
                    <a:lnTo>
                      <a:pt x="20" y="182"/>
                    </a:lnTo>
                    <a:lnTo>
                      <a:pt x="22" y="184"/>
                    </a:lnTo>
                    <a:lnTo>
                      <a:pt x="20" y="184"/>
                    </a:lnTo>
                    <a:lnTo>
                      <a:pt x="22" y="188"/>
                    </a:lnTo>
                    <a:lnTo>
                      <a:pt x="20" y="194"/>
                    </a:lnTo>
                    <a:lnTo>
                      <a:pt x="18" y="200"/>
                    </a:lnTo>
                    <a:lnTo>
                      <a:pt x="18" y="202"/>
                    </a:lnTo>
                    <a:lnTo>
                      <a:pt x="18" y="204"/>
                    </a:lnTo>
                    <a:lnTo>
                      <a:pt x="18" y="206"/>
                    </a:lnTo>
                    <a:lnTo>
                      <a:pt x="16" y="208"/>
                    </a:lnTo>
                    <a:lnTo>
                      <a:pt x="14" y="210"/>
                    </a:lnTo>
                    <a:lnTo>
                      <a:pt x="12" y="212"/>
                    </a:lnTo>
                    <a:lnTo>
                      <a:pt x="12" y="214"/>
                    </a:lnTo>
                    <a:lnTo>
                      <a:pt x="10" y="216"/>
                    </a:lnTo>
                    <a:lnTo>
                      <a:pt x="12" y="216"/>
                    </a:lnTo>
                    <a:lnTo>
                      <a:pt x="12" y="218"/>
                    </a:lnTo>
                    <a:lnTo>
                      <a:pt x="12" y="222"/>
                    </a:lnTo>
                    <a:lnTo>
                      <a:pt x="10" y="224"/>
                    </a:lnTo>
                    <a:lnTo>
                      <a:pt x="8" y="226"/>
                    </a:lnTo>
                    <a:lnTo>
                      <a:pt x="10" y="230"/>
                    </a:lnTo>
                    <a:lnTo>
                      <a:pt x="10" y="234"/>
                    </a:lnTo>
                    <a:lnTo>
                      <a:pt x="8" y="240"/>
                    </a:lnTo>
                    <a:lnTo>
                      <a:pt x="12" y="248"/>
                    </a:lnTo>
                    <a:lnTo>
                      <a:pt x="10" y="252"/>
                    </a:lnTo>
                    <a:lnTo>
                      <a:pt x="10" y="260"/>
                    </a:lnTo>
                    <a:lnTo>
                      <a:pt x="12" y="264"/>
                    </a:lnTo>
                    <a:lnTo>
                      <a:pt x="14" y="270"/>
                    </a:lnTo>
                    <a:lnTo>
                      <a:pt x="14" y="278"/>
                    </a:lnTo>
                    <a:lnTo>
                      <a:pt x="16" y="282"/>
                    </a:lnTo>
                    <a:lnTo>
                      <a:pt x="18" y="282"/>
                    </a:lnTo>
                    <a:lnTo>
                      <a:pt x="16" y="286"/>
                    </a:lnTo>
                    <a:lnTo>
                      <a:pt x="20" y="288"/>
                    </a:lnTo>
                    <a:lnTo>
                      <a:pt x="18" y="292"/>
                    </a:lnTo>
                    <a:lnTo>
                      <a:pt x="22" y="294"/>
                    </a:lnTo>
                    <a:lnTo>
                      <a:pt x="22" y="298"/>
                    </a:lnTo>
                    <a:lnTo>
                      <a:pt x="24" y="302"/>
                    </a:lnTo>
                    <a:lnTo>
                      <a:pt x="26" y="306"/>
                    </a:lnTo>
                    <a:lnTo>
                      <a:pt x="26" y="308"/>
                    </a:lnTo>
                    <a:lnTo>
                      <a:pt x="26" y="310"/>
                    </a:lnTo>
                    <a:lnTo>
                      <a:pt x="28" y="312"/>
                    </a:lnTo>
                    <a:lnTo>
                      <a:pt x="30" y="316"/>
                    </a:lnTo>
                    <a:lnTo>
                      <a:pt x="34" y="318"/>
                    </a:lnTo>
                    <a:lnTo>
                      <a:pt x="34" y="320"/>
                    </a:lnTo>
                    <a:lnTo>
                      <a:pt x="38" y="322"/>
                    </a:lnTo>
                    <a:lnTo>
                      <a:pt x="40" y="326"/>
                    </a:lnTo>
                    <a:lnTo>
                      <a:pt x="42" y="326"/>
                    </a:lnTo>
                    <a:lnTo>
                      <a:pt x="44" y="330"/>
                    </a:lnTo>
                    <a:lnTo>
                      <a:pt x="46" y="330"/>
                    </a:lnTo>
                    <a:lnTo>
                      <a:pt x="48" y="332"/>
                    </a:lnTo>
                    <a:lnTo>
                      <a:pt x="50" y="334"/>
                    </a:lnTo>
                    <a:lnTo>
                      <a:pt x="54" y="336"/>
                    </a:lnTo>
                    <a:lnTo>
                      <a:pt x="56" y="340"/>
                    </a:lnTo>
                    <a:lnTo>
                      <a:pt x="60" y="340"/>
                    </a:lnTo>
                    <a:lnTo>
                      <a:pt x="62" y="344"/>
                    </a:lnTo>
                    <a:lnTo>
                      <a:pt x="62" y="346"/>
                    </a:lnTo>
                    <a:lnTo>
                      <a:pt x="64" y="346"/>
                    </a:lnTo>
                    <a:lnTo>
                      <a:pt x="64" y="344"/>
                    </a:lnTo>
                    <a:lnTo>
                      <a:pt x="66" y="344"/>
                    </a:lnTo>
                    <a:lnTo>
                      <a:pt x="68" y="344"/>
                    </a:lnTo>
                    <a:lnTo>
                      <a:pt x="70" y="344"/>
                    </a:lnTo>
                    <a:lnTo>
                      <a:pt x="72" y="344"/>
                    </a:lnTo>
                    <a:lnTo>
                      <a:pt x="68" y="342"/>
                    </a:lnTo>
                    <a:lnTo>
                      <a:pt x="66" y="342"/>
                    </a:lnTo>
                    <a:lnTo>
                      <a:pt x="62" y="340"/>
                    </a:lnTo>
                    <a:lnTo>
                      <a:pt x="60" y="338"/>
                    </a:lnTo>
                    <a:lnTo>
                      <a:pt x="56" y="338"/>
                    </a:lnTo>
                    <a:lnTo>
                      <a:pt x="54" y="334"/>
                    </a:lnTo>
                    <a:lnTo>
                      <a:pt x="48" y="330"/>
                    </a:lnTo>
                    <a:lnTo>
                      <a:pt x="46" y="330"/>
                    </a:lnTo>
                    <a:lnTo>
                      <a:pt x="46" y="326"/>
                    </a:lnTo>
                    <a:lnTo>
                      <a:pt x="44" y="326"/>
                    </a:lnTo>
                    <a:lnTo>
                      <a:pt x="42" y="326"/>
                    </a:lnTo>
                    <a:lnTo>
                      <a:pt x="40" y="324"/>
                    </a:lnTo>
                    <a:lnTo>
                      <a:pt x="40" y="322"/>
                    </a:lnTo>
                    <a:lnTo>
                      <a:pt x="40" y="320"/>
                    </a:lnTo>
                    <a:lnTo>
                      <a:pt x="38" y="320"/>
                    </a:lnTo>
                    <a:lnTo>
                      <a:pt x="36" y="320"/>
                    </a:lnTo>
                    <a:lnTo>
                      <a:pt x="36" y="318"/>
                    </a:lnTo>
                    <a:lnTo>
                      <a:pt x="34" y="318"/>
                    </a:lnTo>
                    <a:lnTo>
                      <a:pt x="34" y="316"/>
                    </a:lnTo>
                    <a:lnTo>
                      <a:pt x="34" y="314"/>
                    </a:lnTo>
                    <a:lnTo>
                      <a:pt x="32" y="312"/>
                    </a:lnTo>
                    <a:lnTo>
                      <a:pt x="30" y="310"/>
                    </a:lnTo>
                    <a:lnTo>
                      <a:pt x="28" y="306"/>
                    </a:lnTo>
                    <a:lnTo>
                      <a:pt x="28" y="304"/>
                    </a:lnTo>
                    <a:lnTo>
                      <a:pt x="30" y="302"/>
                    </a:lnTo>
                    <a:lnTo>
                      <a:pt x="30" y="300"/>
                    </a:lnTo>
                    <a:lnTo>
                      <a:pt x="30" y="298"/>
                    </a:lnTo>
                    <a:lnTo>
                      <a:pt x="28" y="298"/>
                    </a:lnTo>
                    <a:lnTo>
                      <a:pt x="26" y="294"/>
                    </a:lnTo>
                    <a:lnTo>
                      <a:pt x="24" y="292"/>
                    </a:lnTo>
                    <a:lnTo>
                      <a:pt x="24" y="288"/>
                    </a:lnTo>
                    <a:lnTo>
                      <a:pt x="24" y="286"/>
                    </a:lnTo>
                    <a:lnTo>
                      <a:pt x="22" y="280"/>
                    </a:lnTo>
                    <a:lnTo>
                      <a:pt x="24" y="276"/>
                    </a:lnTo>
                    <a:lnTo>
                      <a:pt x="22" y="274"/>
                    </a:lnTo>
                    <a:lnTo>
                      <a:pt x="22" y="270"/>
                    </a:lnTo>
                    <a:lnTo>
                      <a:pt x="22" y="264"/>
                    </a:lnTo>
                    <a:lnTo>
                      <a:pt x="20" y="260"/>
                    </a:lnTo>
                    <a:lnTo>
                      <a:pt x="22" y="256"/>
                    </a:lnTo>
                    <a:lnTo>
                      <a:pt x="20" y="252"/>
                    </a:lnTo>
                    <a:lnTo>
                      <a:pt x="20" y="248"/>
                    </a:lnTo>
                    <a:lnTo>
                      <a:pt x="18" y="244"/>
                    </a:lnTo>
                    <a:lnTo>
                      <a:pt x="18" y="242"/>
                    </a:lnTo>
                    <a:lnTo>
                      <a:pt x="18" y="240"/>
                    </a:lnTo>
                    <a:lnTo>
                      <a:pt x="18" y="238"/>
                    </a:lnTo>
                    <a:lnTo>
                      <a:pt x="18" y="234"/>
                    </a:lnTo>
                    <a:lnTo>
                      <a:pt x="18" y="232"/>
                    </a:lnTo>
                    <a:lnTo>
                      <a:pt x="22" y="232"/>
                    </a:lnTo>
                    <a:lnTo>
                      <a:pt x="24" y="234"/>
                    </a:lnTo>
                    <a:lnTo>
                      <a:pt x="24" y="238"/>
                    </a:lnTo>
                    <a:lnTo>
                      <a:pt x="22" y="240"/>
                    </a:lnTo>
                    <a:lnTo>
                      <a:pt x="24" y="242"/>
                    </a:lnTo>
                    <a:lnTo>
                      <a:pt x="26" y="244"/>
                    </a:lnTo>
                    <a:lnTo>
                      <a:pt x="24" y="246"/>
                    </a:lnTo>
                    <a:lnTo>
                      <a:pt x="24" y="248"/>
                    </a:lnTo>
                    <a:lnTo>
                      <a:pt x="24" y="252"/>
                    </a:lnTo>
                    <a:lnTo>
                      <a:pt x="24" y="254"/>
                    </a:lnTo>
                    <a:lnTo>
                      <a:pt x="26" y="256"/>
                    </a:lnTo>
                    <a:lnTo>
                      <a:pt x="28" y="256"/>
                    </a:lnTo>
                    <a:lnTo>
                      <a:pt x="30" y="252"/>
                    </a:lnTo>
                    <a:lnTo>
                      <a:pt x="36" y="252"/>
                    </a:lnTo>
                    <a:lnTo>
                      <a:pt x="34" y="246"/>
                    </a:lnTo>
                    <a:lnTo>
                      <a:pt x="36" y="246"/>
                    </a:lnTo>
                    <a:lnTo>
                      <a:pt x="38" y="240"/>
                    </a:lnTo>
                    <a:lnTo>
                      <a:pt x="34" y="238"/>
                    </a:lnTo>
                    <a:lnTo>
                      <a:pt x="36" y="232"/>
                    </a:lnTo>
                    <a:lnTo>
                      <a:pt x="34" y="230"/>
                    </a:lnTo>
                    <a:lnTo>
                      <a:pt x="34" y="224"/>
                    </a:lnTo>
                    <a:lnTo>
                      <a:pt x="34" y="218"/>
                    </a:lnTo>
                    <a:lnTo>
                      <a:pt x="36" y="218"/>
                    </a:lnTo>
                    <a:lnTo>
                      <a:pt x="36" y="214"/>
                    </a:lnTo>
                    <a:lnTo>
                      <a:pt x="40" y="212"/>
                    </a:lnTo>
                    <a:lnTo>
                      <a:pt x="42" y="216"/>
                    </a:lnTo>
                    <a:lnTo>
                      <a:pt x="44" y="218"/>
                    </a:lnTo>
                    <a:lnTo>
                      <a:pt x="42" y="224"/>
                    </a:lnTo>
                    <a:lnTo>
                      <a:pt x="40" y="226"/>
                    </a:lnTo>
                    <a:lnTo>
                      <a:pt x="38" y="226"/>
                    </a:lnTo>
                    <a:lnTo>
                      <a:pt x="40" y="226"/>
                    </a:lnTo>
                    <a:lnTo>
                      <a:pt x="40" y="230"/>
                    </a:lnTo>
                    <a:lnTo>
                      <a:pt x="42" y="230"/>
                    </a:lnTo>
                    <a:lnTo>
                      <a:pt x="44" y="226"/>
                    </a:lnTo>
                    <a:lnTo>
                      <a:pt x="46" y="226"/>
                    </a:lnTo>
                    <a:lnTo>
                      <a:pt x="46" y="220"/>
                    </a:lnTo>
                    <a:lnTo>
                      <a:pt x="50" y="220"/>
                    </a:lnTo>
                    <a:lnTo>
                      <a:pt x="52" y="218"/>
                    </a:lnTo>
                    <a:lnTo>
                      <a:pt x="54" y="220"/>
                    </a:lnTo>
                    <a:lnTo>
                      <a:pt x="58" y="222"/>
                    </a:lnTo>
                    <a:lnTo>
                      <a:pt x="64" y="222"/>
                    </a:lnTo>
                    <a:lnTo>
                      <a:pt x="72" y="218"/>
                    </a:lnTo>
                    <a:lnTo>
                      <a:pt x="74" y="216"/>
                    </a:lnTo>
                    <a:lnTo>
                      <a:pt x="76" y="212"/>
                    </a:lnTo>
                    <a:lnTo>
                      <a:pt x="82" y="212"/>
                    </a:lnTo>
                    <a:lnTo>
                      <a:pt x="84" y="206"/>
                    </a:lnTo>
                    <a:lnTo>
                      <a:pt x="84" y="204"/>
                    </a:lnTo>
                    <a:lnTo>
                      <a:pt x="82" y="202"/>
                    </a:lnTo>
                    <a:lnTo>
                      <a:pt x="84" y="202"/>
                    </a:lnTo>
                    <a:lnTo>
                      <a:pt x="84" y="200"/>
                    </a:lnTo>
                    <a:lnTo>
                      <a:pt x="82" y="196"/>
                    </a:lnTo>
                    <a:lnTo>
                      <a:pt x="84" y="196"/>
                    </a:lnTo>
                    <a:lnTo>
                      <a:pt x="86" y="196"/>
                    </a:lnTo>
                    <a:lnTo>
                      <a:pt x="88" y="196"/>
                    </a:lnTo>
                    <a:lnTo>
                      <a:pt x="88" y="194"/>
                    </a:lnTo>
                    <a:lnTo>
                      <a:pt x="86" y="194"/>
                    </a:lnTo>
                    <a:lnTo>
                      <a:pt x="86" y="190"/>
                    </a:lnTo>
                    <a:lnTo>
                      <a:pt x="84" y="190"/>
                    </a:lnTo>
                    <a:lnTo>
                      <a:pt x="86" y="188"/>
                    </a:lnTo>
                    <a:lnTo>
                      <a:pt x="88" y="186"/>
                    </a:lnTo>
                    <a:lnTo>
                      <a:pt x="86" y="186"/>
                    </a:lnTo>
                    <a:lnTo>
                      <a:pt x="86" y="184"/>
                    </a:lnTo>
                    <a:lnTo>
                      <a:pt x="84" y="184"/>
                    </a:lnTo>
                    <a:lnTo>
                      <a:pt x="84" y="182"/>
                    </a:lnTo>
                    <a:lnTo>
                      <a:pt x="88" y="182"/>
                    </a:lnTo>
                    <a:lnTo>
                      <a:pt x="88" y="180"/>
                    </a:lnTo>
                    <a:lnTo>
                      <a:pt x="90" y="178"/>
                    </a:lnTo>
                    <a:lnTo>
                      <a:pt x="92" y="178"/>
                    </a:lnTo>
                    <a:lnTo>
                      <a:pt x="94" y="178"/>
                    </a:lnTo>
                    <a:lnTo>
                      <a:pt x="96" y="178"/>
                    </a:lnTo>
                    <a:lnTo>
                      <a:pt x="96" y="176"/>
                    </a:lnTo>
                    <a:lnTo>
                      <a:pt x="92" y="174"/>
                    </a:lnTo>
                    <a:lnTo>
                      <a:pt x="90" y="174"/>
                    </a:lnTo>
                    <a:lnTo>
                      <a:pt x="88" y="172"/>
                    </a:lnTo>
                    <a:lnTo>
                      <a:pt x="88" y="168"/>
                    </a:lnTo>
                    <a:lnTo>
                      <a:pt x="88" y="166"/>
                    </a:lnTo>
                    <a:lnTo>
                      <a:pt x="88" y="164"/>
                    </a:lnTo>
                    <a:lnTo>
                      <a:pt x="90" y="164"/>
                    </a:lnTo>
                    <a:lnTo>
                      <a:pt x="94" y="166"/>
                    </a:lnTo>
                    <a:lnTo>
                      <a:pt x="96" y="164"/>
                    </a:lnTo>
                    <a:lnTo>
                      <a:pt x="98" y="162"/>
                    </a:lnTo>
                    <a:lnTo>
                      <a:pt x="100" y="160"/>
                    </a:lnTo>
                    <a:lnTo>
                      <a:pt x="102" y="160"/>
                    </a:lnTo>
                    <a:lnTo>
                      <a:pt x="104" y="160"/>
                    </a:lnTo>
                    <a:lnTo>
                      <a:pt x="104" y="162"/>
                    </a:lnTo>
                    <a:lnTo>
                      <a:pt x="102" y="164"/>
                    </a:lnTo>
                    <a:lnTo>
                      <a:pt x="98" y="166"/>
                    </a:lnTo>
                    <a:lnTo>
                      <a:pt x="96" y="172"/>
                    </a:lnTo>
                    <a:lnTo>
                      <a:pt x="98" y="170"/>
                    </a:lnTo>
                    <a:lnTo>
                      <a:pt x="102" y="168"/>
                    </a:lnTo>
                    <a:lnTo>
                      <a:pt x="108" y="170"/>
                    </a:lnTo>
                    <a:lnTo>
                      <a:pt x="110" y="172"/>
                    </a:lnTo>
                    <a:lnTo>
                      <a:pt x="108" y="172"/>
                    </a:lnTo>
                    <a:lnTo>
                      <a:pt x="108" y="174"/>
                    </a:lnTo>
                    <a:lnTo>
                      <a:pt x="106" y="176"/>
                    </a:lnTo>
                    <a:lnTo>
                      <a:pt x="104" y="178"/>
                    </a:lnTo>
                    <a:lnTo>
                      <a:pt x="106" y="178"/>
                    </a:lnTo>
                    <a:lnTo>
                      <a:pt x="108" y="178"/>
                    </a:lnTo>
                    <a:lnTo>
                      <a:pt x="108" y="182"/>
                    </a:lnTo>
                    <a:lnTo>
                      <a:pt x="106" y="186"/>
                    </a:lnTo>
                    <a:lnTo>
                      <a:pt x="104" y="188"/>
                    </a:lnTo>
                    <a:lnTo>
                      <a:pt x="102" y="190"/>
                    </a:lnTo>
                    <a:lnTo>
                      <a:pt x="102" y="192"/>
                    </a:lnTo>
                    <a:lnTo>
                      <a:pt x="104" y="192"/>
                    </a:lnTo>
                    <a:lnTo>
                      <a:pt x="106" y="192"/>
                    </a:lnTo>
                    <a:lnTo>
                      <a:pt x="108" y="192"/>
                    </a:lnTo>
                    <a:lnTo>
                      <a:pt x="108" y="194"/>
                    </a:lnTo>
                    <a:lnTo>
                      <a:pt x="110" y="194"/>
                    </a:lnTo>
                    <a:lnTo>
                      <a:pt x="110" y="196"/>
                    </a:lnTo>
                    <a:lnTo>
                      <a:pt x="112" y="194"/>
                    </a:lnTo>
                    <a:lnTo>
                      <a:pt x="112" y="192"/>
                    </a:lnTo>
                    <a:lnTo>
                      <a:pt x="112" y="190"/>
                    </a:lnTo>
                    <a:lnTo>
                      <a:pt x="112" y="188"/>
                    </a:lnTo>
                    <a:lnTo>
                      <a:pt x="114" y="188"/>
                    </a:lnTo>
                    <a:lnTo>
                      <a:pt x="114" y="186"/>
                    </a:lnTo>
                    <a:lnTo>
                      <a:pt x="112" y="184"/>
                    </a:lnTo>
                    <a:lnTo>
                      <a:pt x="112" y="182"/>
                    </a:lnTo>
                    <a:lnTo>
                      <a:pt x="116" y="180"/>
                    </a:lnTo>
                    <a:lnTo>
                      <a:pt x="114" y="176"/>
                    </a:lnTo>
                    <a:lnTo>
                      <a:pt x="112" y="176"/>
                    </a:lnTo>
                    <a:lnTo>
                      <a:pt x="114" y="172"/>
                    </a:lnTo>
                    <a:lnTo>
                      <a:pt x="114" y="166"/>
                    </a:lnTo>
                    <a:lnTo>
                      <a:pt x="118" y="166"/>
                    </a:lnTo>
                    <a:lnTo>
                      <a:pt x="120" y="164"/>
                    </a:lnTo>
                    <a:lnTo>
                      <a:pt x="122" y="168"/>
                    </a:lnTo>
                    <a:lnTo>
                      <a:pt x="126" y="168"/>
                    </a:lnTo>
                    <a:lnTo>
                      <a:pt x="130" y="166"/>
                    </a:lnTo>
                    <a:lnTo>
                      <a:pt x="134" y="164"/>
                    </a:lnTo>
                    <a:lnTo>
                      <a:pt x="140" y="160"/>
                    </a:lnTo>
                    <a:lnTo>
                      <a:pt x="142" y="156"/>
                    </a:lnTo>
                    <a:lnTo>
                      <a:pt x="142" y="154"/>
                    </a:lnTo>
                    <a:lnTo>
                      <a:pt x="144" y="154"/>
                    </a:lnTo>
                    <a:lnTo>
                      <a:pt x="144" y="152"/>
                    </a:lnTo>
                    <a:lnTo>
                      <a:pt x="146" y="152"/>
                    </a:lnTo>
                    <a:lnTo>
                      <a:pt x="146" y="150"/>
                    </a:lnTo>
                    <a:lnTo>
                      <a:pt x="146" y="148"/>
                    </a:lnTo>
                    <a:lnTo>
                      <a:pt x="144" y="148"/>
                    </a:lnTo>
                    <a:lnTo>
                      <a:pt x="146" y="144"/>
                    </a:lnTo>
                    <a:lnTo>
                      <a:pt x="144" y="146"/>
                    </a:lnTo>
                    <a:lnTo>
                      <a:pt x="144" y="144"/>
                    </a:lnTo>
                    <a:lnTo>
                      <a:pt x="144" y="142"/>
                    </a:lnTo>
                    <a:lnTo>
                      <a:pt x="142" y="142"/>
                    </a:lnTo>
                    <a:lnTo>
                      <a:pt x="138" y="142"/>
                    </a:lnTo>
                    <a:lnTo>
                      <a:pt x="136" y="142"/>
                    </a:lnTo>
                    <a:lnTo>
                      <a:pt x="134" y="144"/>
                    </a:lnTo>
                    <a:lnTo>
                      <a:pt x="132" y="148"/>
                    </a:lnTo>
                    <a:lnTo>
                      <a:pt x="126" y="146"/>
                    </a:lnTo>
                    <a:lnTo>
                      <a:pt x="124" y="144"/>
                    </a:lnTo>
                    <a:lnTo>
                      <a:pt x="130" y="146"/>
                    </a:lnTo>
                    <a:lnTo>
                      <a:pt x="134" y="142"/>
                    </a:lnTo>
                    <a:lnTo>
                      <a:pt x="136" y="140"/>
                    </a:lnTo>
                    <a:lnTo>
                      <a:pt x="142" y="140"/>
                    </a:lnTo>
                    <a:lnTo>
                      <a:pt x="144" y="136"/>
                    </a:lnTo>
                    <a:lnTo>
                      <a:pt x="144" y="134"/>
                    </a:lnTo>
                    <a:lnTo>
                      <a:pt x="146" y="132"/>
                    </a:lnTo>
                    <a:lnTo>
                      <a:pt x="144" y="130"/>
                    </a:lnTo>
                    <a:lnTo>
                      <a:pt x="144" y="128"/>
                    </a:lnTo>
                    <a:lnTo>
                      <a:pt x="144" y="126"/>
                    </a:lnTo>
                    <a:lnTo>
                      <a:pt x="142" y="126"/>
                    </a:lnTo>
                    <a:lnTo>
                      <a:pt x="144" y="124"/>
                    </a:lnTo>
                    <a:lnTo>
                      <a:pt x="146" y="124"/>
                    </a:lnTo>
                    <a:lnTo>
                      <a:pt x="148" y="124"/>
                    </a:lnTo>
                    <a:lnTo>
                      <a:pt x="150" y="124"/>
                    </a:lnTo>
                    <a:lnTo>
                      <a:pt x="152" y="122"/>
                    </a:lnTo>
                    <a:lnTo>
                      <a:pt x="152" y="120"/>
                    </a:lnTo>
                    <a:lnTo>
                      <a:pt x="154" y="120"/>
                    </a:lnTo>
                    <a:lnTo>
                      <a:pt x="156" y="118"/>
                    </a:lnTo>
                    <a:lnTo>
                      <a:pt x="160" y="116"/>
                    </a:lnTo>
                    <a:lnTo>
                      <a:pt x="162" y="116"/>
                    </a:lnTo>
                    <a:lnTo>
                      <a:pt x="164" y="116"/>
                    </a:lnTo>
                    <a:lnTo>
                      <a:pt x="166" y="116"/>
                    </a:lnTo>
                    <a:lnTo>
                      <a:pt x="170" y="120"/>
                    </a:lnTo>
                    <a:lnTo>
                      <a:pt x="172" y="116"/>
                    </a:lnTo>
                    <a:lnTo>
                      <a:pt x="174" y="112"/>
                    </a:lnTo>
                    <a:lnTo>
                      <a:pt x="176" y="112"/>
                    </a:lnTo>
                    <a:lnTo>
                      <a:pt x="180" y="114"/>
                    </a:lnTo>
                    <a:lnTo>
                      <a:pt x="184" y="112"/>
                    </a:lnTo>
                    <a:lnTo>
                      <a:pt x="184" y="116"/>
                    </a:lnTo>
                    <a:lnTo>
                      <a:pt x="176" y="120"/>
                    </a:lnTo>
                    <a:lnTo>
                      <a:pt x="172" y="124"/>
                    </a:lnTo>
                    <a:lnTo>
                      <a:pt x="172" y="126"/>
                    </a:lnTo>
                    <a:lnTo>
                      <a:pt x="172" y="128"/>
                    </a:lnTo>
                    <a:lnTo>
                      <a:pt x="172" y="130"/>
                    </a:lnTo>
                    <a:lnTo>
                      <a:pt x="170" y="130"/>
                    </a:lnTo>
                    <a:lnTo>
                      <a:pt x="170" y="132"/>
                    </a:lnTo>
                    <a:lnTo>
                      <a:pt x="170" y="134"/>
                    </a:lnTo>
                    <a:lnTo>
                      <a:pt x="172" y="134"/>
                    </a:lnTo>
                    <a:lnTo>
                      <a:pt x="172" y="136"/>
                    </a:lnTo>
                    <a:lnTo>
                      <a:pt x="172" y="140"/>
                    </a:lnTo>
                    <a:lnTo>
                      <a:pt x="172" y="142"/>
                    </a:lnTo>
                    <a:lnTo>
                      <a:pt x="168" y="146"/>
                    </a:lnTo>
                    <a:lnTo>
                      <a:pt x="168" y="148"/>
                    </a:lnTo>
                    <a:lnTo>
                      <a:pt x="168" y="152"/>
                    </a:lnTo>
                    <a:lnTo>
                      <a:pt x="168" y="150"/>
                    </a:lnTo>
                    <a:lnTo>
                      <a:pt x="170" y="150"/>
                    </a:lnTo>
                    <a:lnTo>
                      <a:pt x="170" y="148"/>
                    </a:lnTo>
                    <a:lnTo>
                      <a:pt x="170" y="146"/>
                    </a:lnTo>
                    <a:lnTo>
                      <a:pt x="172" y="146"/>
                    </a:lnTo>
                    <a:lnTo>
                      <a:pt x="172" y="144"/>
                    </a:lnTo>
                    <a:lnTo>
                      <a:pt x="174" y="144"/>
                    </a:lnTo>
                    <a:lnTo>
                      <a:pt x="174" y="142"/>
                    </a:lnTo>
                    <a:lnTo>
                      <a:pt x="176" y="142"/>
                    </a:lnTo>
                    <a:lnTo>
                      <a:pt x="178" y="142"/>
                    </a:lnTo>
                    <a:lnTo>
                      <a:pt x="178" y="136"/>
                    </a:lnTo>
                    <a:lnTo>
                      <a:pt x="182" y="134"/>
                    </a:lnTo>
                    <a:lnTo>
                      <a:pt x="184" y="132"/>
                    </a:lnTo>
                    <a:lnTo>
                      <a:pt x="184" y="134"/>
                    </a:lnTo>
                    <a:lnTo>
                      <a:pt x="186" y="134"/>
                    </a:lnTo>
                    <a:lnTo>
                      <a:pt x="188" y="134"/>
                    </a:lnTo>
                    <a:lnTo>
                      <a:pt x="188" y="132"/>
                    </a:lnTo>
                    <a:lnTo>
                      <a:pt x="188" y="130"/>
                    </a:lnTo>
                    <a:lnTo>
                      <a:pt x="188" y="128"/>
                    </a:lnTo>
                    <a:lnTo>
                      <a:pt x="188" y="126"/>
                    </a:lnTo>
                    <a:lnTo>
                      <a:pt x="192" y="126"/>
                    </a:lnTo>
                    <a:lnTo>
                      <a:pt x="188" y="122"/>
                    </a:lnTo>
                    <a:lnTo>
                      <a:pt x="192" y="118"/>
                    </a:lnTo>
                    <a:lnTo>
                      <a:pt x="192" y="114"/>
                    </a:lnTo>
                    <a:lnTo>
                      <a:pt x="194" y="112"/>
                    </a:lnTo>
                    <a:lnTo>
                      <a:pt x="194" y="110"/>
                    </a:lnTo>
                    <a:lnTo>
                      <a:pt x="190" y="106"/>
                    </a:lnTo>
                    <a:lnTo>
                      <a:pt x="188" y="102"/>
                    </a:lnTo>
                    <a:lnTo>
                      <a:pt x="192" y="100"/>
                    </a:lnTo>
                    <a:lnTo>
                      <a:pt x="194" y="100"/>
                    </a:lnTo>
                    <a:lnTo>
                      <a:pt x="196" y="100"/>
                    </a:lnTo>
                    <a:lnTo>
                      <a:pt x="196" y="104"/>
                    </a:lnTo>
                    <a:lnTo>
                      <a:pt x="198" y="104"/>
                    </a:lnTo>
                    <a:lnTo>
                      <a:pt x="200" y="102"/>
                    </a:lnTo>
                    <a:lnTo>
                      <a:pt x="198" y="98"/>
                    </a:lnTo>
                    <a:lnTo>
                      <a:pt x="194" y="96"/>
                    </a:lnTo>
                    <a:lnTo>
                      <a:pt x="196" y="92"/>
                    </a:lnTo>
                    <a:lnTo>
                      <a:pt x="200" y="96"/>
                    </a:lnTo>
                    <a:close/>
                    <a:moveTo>
                      <a:pt x="78" y="222"/>
                    </a:moveTo>
                    <a:lnTo>
                      <a:pt x="76" y="222"/>
                    </a:lnTo>
                    <a:lnTo>
                      <a:pt x="74" y="222"/>
                    </a:lnTo>
                    <a:lnTo>
                      <a:pt x="72" y="224"/>
                    </a:lnTo>
                    <a:lnTo>
                      <a:pt x="72" y="226"/>
                    </a:lnTo>
                    <a:lnTo>
                      <a:pt x="70" y="228"/>
                    </a:lnTo>
                    <a:lnTo>
                      <a:pt x="70" y="230"/>
                    </a:lnTo>
                    <a:lnTo>
                      <a:pt x="70" y="232"/>
                    </a:lnTo>
                    <a:lnTo>
                      <a:pt x="72" y="232"/>
                    </a:lnTo>
                    <a:lnTo>
                      <a:pt x="74" y="230"/>
                    </a:lnTo>
                    <a:lnTo>
                      <a:pt x="74" y="228"/>
                    </a:lnTo>
                    <a:lnTo>
                      <a:pt x="76" y="228"/>
                    </a:lnTo>
                    <a:lnTo>
                      <a:pt x="78" y="228"/>
                    </a:lnTo>
                    <a:lnTo>
                      <a:pt x="80" y="228"/>
                    </a:lnTo>
                    <a:lnTo>
                      <a:pt x="80" y="226"/>
                    </a:lnTo>
                    <a:lnTo>
                      <a:pt x="78" y="224"/>
                    </a:lnTo>
                    <a:lnTo>
                      <a:pt x="78" y="222"/>
                    </a:lnTo>
                    <a:close/>
                    <a:moveTo>
                      <a:pt x="68" y="246"/>
                    </a:moveTo>
                    <a:lnTo>
                      <a:pt x="68" y="246"/>
                    </a:lnTo>
                    <a:lnTo>
                      <a:pt x="66" y="248"/>
                    </a:lnTo>
                    <a:lnTo>
                      <a:pt x="66" y="250"/>
                    </a:lnTo>
                    <a:lnTo>
                      <a:pt x="66" y="252"/>
                    </a:lnTo>
                    <a:lnTo>
                      <a:pt x="64" y="252"/>
                    </a:lnTo>
                    <a:lnTo>
                      <a:pt x="64" y="254"/>
                    </a:lnTo>
                    <a:lnTo>
                      <a:pt x="64" y="256"/>
                    </a:lnTo>
                    <a:lnTo>
                      <a:pt x="64" y="258"/>
                    </a:lnTo>
                    <a:lnTo>
                      <a:pt x="66" y="258"/>
                    </a:lnTo>
                    <a:lnTo>
                      <a:pt x="68" y="258"/>
                    </a:lnTo>
                    <a:lnTo>
                      <a:pt x="70" y="258"/>
                    </a:lnTo>
                    <a:lnTo>
                      <a:pt x="70" y="256"/>
                    </a:lnTo>
                    <a:lnTo>
                      <a:pt x="70" y="254"/>
                    </a:lnTo>
                    <a:lnTo>
                      <a:pt x="68" y="252"/>
                    </a:lnTo>
                    <a:lnTo>
                      <a:pt x="72" y="252"/>
                    </a:lnTo>
                    <a:lnTo>
                      <a:pt x="76" y="248"/>
                    </a:lnTo>
                    <a:lnTo>
                      <a:pt x="74" y="246"/>
                    </a:lnTo>
                    <a:lnTo>
                      <a:pt x="72" y="244"/>
                    </a:lnTo>
                    <a:lnTo>
                      <a:pt x="70" y="242"/>
                    </a:lnTo>
                    <a:lnTo>
                      <a:pt x="68" y="246"/>
                    </a:lnTo>
                    <a:close/>
                    <a:moveTo>
                      <a:pt x="52" y="280"/>
                    </a:moveTo>
                    <a:lnTo>
                      <a:pt x="54" y="278"/>
                    </a:lnTo>
                    <a:lnTo>
                      <a:pt x="56" y="278"/>
                    </a:lnTo>
                    <a:lnTo>
                      <a:pt x="58" y="274"/>
                    </a:lnTo>
                    <a:lnTo>
                      <a:pt x="62" y="274"/>
                    </a:lnTo>
                    <a:lnTo>
                      <a:pt x="60" y="268"/>
                    </a:lnTo>
                    <a:lnTo>
                      <a:pt x="58" y="270"/>
                    </a:lnTo>
                    <a:lnTo>
                      <a:pt x="54" y="272"/>
                    </a:lnTo>
                    <a:lnTo>
                      <a:pt x="52" y="274"/>
                    </a:lnTo>
                    <a:lnTo>
                      <a:pt x="52" y="276"/>
                    </a:lnTo>
                    <a:lnTo>
                      <a:pt x="52" y="278"/>
                    </a:lnTo>
                    <a:lnTo>
                      <a:pt x="52" y="280"/>
                    </a:lnTo>
                    <a:close/>
                    <a:moveTo>
                      <a:pt x="56" y="306"/>
                    </a:moveTo>
                    <a:lnTo>
                      <a:pt x="56" y="304"/>
                    </a:lnTo>
                    <a:lnTo>
                      <a:pt x="56" y="300"/>
                    </a:lnTo>
                    <a:lnTo>
                      <a:pt x="52" y="298"/>
                    </a:lnTo>
                    <a:lnTo>
                      <a:pt x="56" y="296"/>
                    </a:lnTo>
                    <a:lnTo>
                      <a:pt x="54" y="292"/>
                    </a:lnTo>
                    <a:lnTo>
                      <a:pt x="58" y="292"/>
                    </a:lnTo>
                    <a:lnTo>
                      <a:pt x="58" y="288"/>
                    </a:lnTo>
                    <a:lnTo>
                      <a:pt x="54" y="288"/>
                    </a:lnTo>
                    <a:lnTo>
                      <a:pt x="52" y="282"/>
                    </a:lnTo>
                    <a:lnTo>
                      <a:pt x="48" y="282"/>
                    </a:lnTo>
                    <a:lnTo>
                      <a:pt x="46" y="286"/>
                    </a:lnTo>
                    <a:lnTo>
                      <a:pt x="44" y="286"/>
                    </a:lnTo>
                    <a:lnTo>
                      <a:pt x="42" y="288"/>
                    </a:lnTo>
                    <a:lnTo>
                      <a:pt x="40" y="288"/>
                    </a:lnTo>
                    <a:lnTo>
                      <a:pt x="38" y="286"/>
                    </a:lnTo>
                    <a:lnTo>
                      <a:pt x="36" y="286"/>
                    </a:lnTo>
                    <a:lnTo>
                      <a:pt x="34" y="288"/>
                    </a:lnTo>
                    <a:lnTo>
                      <a:pt x="32" y="288"/>
                    </a:lnTo>
                    <a:lnTo>
                      <a:pt x="32" y="290"/>
                    </a:lnTo>
                    <a:lnTo>
                      <a:pt x="34" y="290"/>
                    </a:lnTo>
                    <a:lnTo>
                      <a:pt x="34" y="292"/>
                    </a:lnTo>
                    <a:lnTo>
                      <a:pt x="32" y="294"/>
                    </a:lnTo>
                    <a:lnTo>
                      <a:pt x="32" y="296"/>
                    </a:lnTo>
                    <a:lnTo>
                      <a:pt x="34" y="302"/>
                    </a:lnTo>
                    <a:lnTo>
                      <a:pt x="38" y="306"/>
                    </a:lnTo>
                    <a:lnTo>
                      <a:pt x="38" y="308"/>
                    </a:lnTo>
                    <a:lnTo>
                      <a:pt x="36" y="308"/>
                    </a:lnTo>
                    <a:lnTo>
                      <a:pt x="38" y="310"/>
                    </a:lnTo>
                    <a:lnTo>
                      <a:pt x="40" y="312"/>
                    </a:lnTo>
                    <a:lnTo>
                      <a:pt x="44" y="312"/>
                    </a:lnTo>
                    <a:lnTo>
                      <a:pt x="46" y="312"/>
                    </a:lnTo>
                    <a:lnTo>
                      <a:pt x="46" y="314"/>
                    </a:lnTo>
                    <a:lnTo>
                      <a:pt x="48" y="314"/>
                    </a:lnTo>
                    <a:lnTo>
                      <a:pt x="48" y="316"/>
                    </a:lnTo>
                    <a:lnTo>
                      <a:pt x="48" y="318"/>
                    </a:lnTo>
                    <a:lnTo>
                      <a:pt x="50" y="318"/>
                    </a:lnTo>
                    <a:lnTo>
                      <a:pt x="50" y="316"/>
                    </a:lnTo>
                    <a:lnTo>
                      <a:pt x="52" y="316"/>
                    </a:lnTo>
                    <a:lnTo>
                      <a:pt x="52" y="314"/>
                    </a:lnTo>
                    <a:lnTo>
                      <a:pt x="52" y="312"/>
                    </a:lnTo>
                    <a:lnTo>
                      <a:pt x="52" y="310"/>
                    </a:lnTo>
                    <a:lnTo>
                      <a:pt x="52" y="308"/>
                    </a:lnTo>
                    <a:lnTo>
                      <a:pt x="56" y="306"/>
                    </a:lnTo>
                    <a:close/>
                    <a:moveTo>
                      <a:pt x="68" y="334"/>
                    </a:moveTo>
                    <a:lnTo>
                      <a:pt x="68" y="334"/>
                    </a:lnTo>
                    <a:lnTo>
                      <a:pt x="70" y="334"/>
                    </a:lnTo>
                    <a:lnTo>
                      <a:pt x="72" y="334"/>
                    </a:lnTo>
                    <a:lnTo>
                      <a:pt x="70" y="330"/>
                    </a:lnTo>
                    <a:lnTo>
                      <a:pt x="72" y="328"/>
                    </a:lnTo>
                    <a:lnTo>
                      <a:pt x="72" y="326"/>
                    </a:lnTo>
                    <a:lnTo>
                      <a:pt x="70" y="326"/>
                    </a:lnTo>
                    <a:lnTo>
                      <a:pt x="68" y="326"/>
                    </a:lnTo>
                    <a:lnTo>
                      <a:pt x="68" y="324"/>
                    </a:lnTo>
                    <a:lnTo>
                      <a:pt x="66" y="324"/>
                    </a:lnTo>
                    <a:lnTo>
                      <a:pt x="64" y="324"/>
                    </a:lnTo>
                    <a:lnTo>
                      <a:pt x="64" y="326"/>
                    </a:lnTo>
                    <a:lnTo>
                      <a:pt x="64" y="324"/>
                    </a:lnTo>
                    <a:lnTo>
                      <a:pt x="64" y="322"/>
                    </a:lnTo>
                    <a:lnTo>
                      <a:pt x="60" y="320"/>
                    </a:lnTo>
                    <a:lnTo>
                      <a:pt x="68" y="320"/>
                    </a:lnTo>
                    <a:lnTo>
                      <a:pt x="70" y="316"/>
                    </a:lnTo>
                    <a:lnTo>
                      <a:pt x="68" y="316"/>
                    </a:lnTo>
                    <a:lnTo>
                      <a:pt x="66" y="316"/>
                    </a:lnTo>
                    <a:lnTo>
                      <a:pt x="68" y="316"/>
                    </a:lnTo>
                    <a:lnTo>
                      <a:pt x="68" y="314"/>
                    </a:lnTo>
                    <a:lnTo>
                      <a:pt x="74" y="314"/>
                    </a:lnTo>
                    <a:lnTo>
                      <a:pt x="72" y="312"/>
                    </a:lnTo>
                    <a:lnTo>
                      <a:pt x="68" y="310"/>
                    </a:lnTo>
                    <a:lnTo>
                      <a:pt x="62" y="306"/>
                    </a:lnTo>
                    <a:lnTo>
                      <a:pt x="60" y="308"/>
                    </a:lnTo>
                    <a:lnTo>
                      <a:pt x="58" y="310"/>
                    </a:lnTo>
                    <a:lnTo>
                      <a:pt x="58" y="316"/>
                    </a:lnTo>
                    <a:lnTo>
                      <a:pt x="56" y="324"/>
                    </a:lnTo>
                    <a:lnTo>
                      <a:pt x="60" y="326"/>
                    </a:lnTo>
                    <a:lnTo>
                      <a:pt x="60" y="330"/>
                    </a:lnTo>
                    <a:lnTo>
                      <a:pt x="62" y="332"/>
                    </a:lnTo>
                    <a:lnTo>
                      <a:pt x="62" y="328"/>
                    </a:lnTo>
                    <a:lnTo>
                      <a:pt x="68" y="330"/>
                    </a:lnTo>
                    <a:lnTo>
                      <a:pt x="68" y="332"/>
                    </a:lnTo>
                    <a:lnTo>
                      <a:pt x="68" y="334"/>
                    </a:lnTo>
                    <a:close/>
                    <a:moveTo>
                      <a:pt x="72" y="352"/>
                    </a:moveTo>
                    <a:lnTo>
                      <a:pt x="74" y="352"/>
                    </a:lnTo>
                    <a:lnTo>
                      <a:pt x="74" y="354"/>
                    </a:lnTo>
                    <a:lnTo>
                      <a:pt x="76" y="354"/>
                    </a:lnTo>
                    <a:lnTo>
                      <a:pt x="78" y="354"/>
                    </a:lnTo>
                    <a:lnTo>
                      <a:pt x="80" y="354"/>
                    </a:lnTo>
                    <a:lnTo>
                      <a:pt x="80" y="352"/>
                    </a:lnTo>
                    <a:lnTo>
                      <a:pt x="82" y="352"/>
                    </a:lnTo>
                    <a:lnTo>
                      <a:pt x="86" y="350"/>
                    </a:lnTo>
                    <a:lnTo>
                      <a:pt x="80" y="346"/>
                    </a:lnTo>
                    <a:lnTo>
                      <a:pt x="76" y="344"/>
                    </a:lnTo>
                    <a:lnTo>
                      <a:pt x="72" y="344"/>
                    </a:lnTo>
                    <a:lnTo>
                      <a:pt x="74" y="348"/>
                    </a:lnTo>
                    <a:lnTo>
                      <a:pt x="72" y="352"/>
                    </a:lnTo>
                    <a:close/>
                    <a:moveTo>
                      <a:pt x="82" y="320"/>
                    </a:moveTo>
                    <a:lnTo>
                      <a:pt x="82" y="316"/>
                    </a:lnTo>
                    <a:lnTo>
                      <a:pt x="80" y="320"/>
                    </a:lnTo>
                    <a:lnTo>
                      <a:pt x="80" y="326"/>
                    </a:lnTo>
                    <a:lnTo>
                      <a:pt x="78" y="324"/>
                    </a:lnTo>
                    <a:lnTo>
                      <a:pt x="76" y="324"/>
                    </a:lnTo>
                    <a:lnTo>
                      <a:pt x="74" y="324"/>
                    </a:lnTo>
                    <a:lnTo>
                      <a:pt x="72" y="324"/>
                    </a:lnTo>
                    <a:lnTo>
                      <a:pt x="72" y="326"/>
                    </a:lnTo>
                    <a:lnTo>
                      <a:pt x="74" y="326"/>
                    </a:lnTo>
                    <a:lnTo>
                      <a:pt x="74" y="328"/>
                    </a:lnTo>
                    <a:lnTo>
                      <a:pt x="78" y="328"/>
                    </a:lnTo>
                    <a:lnTo>
                      <a:pt x="82" y="328"/>
                    </a:lnTo>
                    <a:lnTo>
                      <a:pt x="86" y="330"/>
                    </a:lnTo>
                    <a:lnTo>
                      <a:pt x="86" y="326"/>
                    </a:lnTo>
                    <a:lnTo>
                      <a:pt x="86" y="322"/>
                    </a:lnTo>
                    <a:lnTo>
                      <a:pt x="82" y="320"/>
                    </a:lnTo>
                    <a:close/>
                    <a:moveTo>
                      <a:pt x="174" y="362"/>
                    </a:moveTo>
                    <a:lnTo>
                      <a:pt x="176" y="362"/>
                    </a:lnTo>
                    <a:lnTo>
                      <a:pt x="178" y="362"/>
                    </a:lnTo>
                    <a:lnTo>
                      <a:pt x="176" y="362"/>
                    </a:lnTo>
                    <a:lnTo>
                      <a:pt x="176" y="360"/>
                    </a:lnTo>
                    <a:lnTo>
                      <a:pt x="174" y="360"/>
                    </a:lnTo>
                    <a:lnTo>
                      <a:pt x="172" y="358"/>
                    </a:lnTo>
                    <a:lnTo>
                      <a:pt x="170" y="356"/>
                    </a:lnTo>
                    <a:lnTo>
                      <a:pt x="168" y="354"/>
                    </a:lnTo>
                    <a:lnTo>
                      <a:pt x="166" y="356"/>
                    </a:lnTo>
                    <a:lnTo>
                      <a:pt x="170" y="358"/>
                    </a:lnTo>
                    <a:lnTo>
                      <a:pt x="172" y="360"/>
                    </a:lnTo>
                    <a:lnTo>
                      <a:pt x="170" y="360"/>
                    </a:lnTo>
                    <a:lnTo>
                      <a:pt x="168" y="364"/>
                    </a:lnTo>
                    <a:lnTo>
                      <a:pt x="164" y="364"/>
                    </a:lnTo>
                    <a:lnTo>
                      <a:pt x="160" y="364"/>
                    </a:lnTo>
                    <a:lnTo>
                      <a:pt x="156" y="364"/>
                    </a:lnTo>
                    <a:lnTo>
                      <a:pt x="156" y="366"/>
                    </a:lnTo>
                    <a:lnTo>
                      <a:pt x="154" y="366"/>
                    </a:lnTo>
                    <a:lnTo>
                      <a:pt x="152" y="366"/>
                    </a:lnTo>
                    <a:lnTo>
                      <a:pt x="152" y="364"/>
                    </a:lnTo>
                    <a:lnTo>
                      <a:pt x="150" y="364"/>
                    </a:lnTo>
                    <a:lnTo>
                      <a:pt x="150" y="362"/>
                    </a:lnTo>
                    <a:lnTo>
                      <a:pt x="150" y="360"/>
                    </a:lnTo>
                    <a:lnTo>
                      <a:pt x="148" y="360"/>
                    </a:lnTo>
                    <a:lnTo>
                      <a:pt x="146" y="360"/>
                    </a:lnTo>
                    <a:lnTo>
                      <a:pt x="146" y="358"/>
                    </a:lnTo>
                    <a:lnTo>
                      <a:pt x="146" y="356"/>
                    </a:lnTo>
                    <a:lnTo>
                      <a:pt x="146" y="354"/>
                    </a:lnTo>
                    <a:lnTo>
                      <a:pt x="144" y="354"/>
                    </a:lnTo>
                    <a:lnTo>
                      <a:pt x="142" y="354"/>
                    </a:lnTo>
                    <a:lnTo>
                      <a:pt x="140" y="354"/>
                    </a:lnTo>
                    <a:lnTo>
                      <a:pt x="138" y="352"/>
                    </a:lnTo>
                    <a:lnTo>
                      <a:pt x="136" y="350"/>
                    </a:lnTo>
                    <a:lnTo>
                      <a:pt x="130" y="348"/>
                    </a:lnTo>
                    <a:lnTo>
                      <a:pt x="124" y="344"/>
                    </a:lnTo>
                    <a:lnTo>
                      <a:pt x="120" y="342"/>
                    </a:lnTo>
                    <a:lnTo>
                      <a:pt x="120" y="340"/>
                    </a:lnTo>
                    <a:lnTo>
                      <a:pt x="112" y="338"/>
                    </a:lnTo>
                    <a:lnTo>
                      <a:pt x="110" y="338"/>
                    </a:lnTo>
                    <a:lnTo>
                      <a:pt x="110" y="336"/>
                    </a:lnTo>
                    <a:lnTo>
                      <a:pt x="110" y="334"/>
                    </a:lnTo>
                    <a:lnTo>
                      <a:pt x="108" y="334"/>
                    </a:lnTo>
                    <a:lnTo>
                      <a:pt x="108" y="336"/>
                    </a:lnTo>
                    <a:lnTo>
                      <a:pt x="108" y="340"/>
                    </a:lnTo>
                    <a:lnTo>
                      <a:pt x="110" y="342"/>
                    </a:lnTo>
                    <a:lnTo>
                      <a:pt x="108" y="344"/>
                    </a:lnTo>
                    <a:lnTo>
                      <a:pt x="108" y="346"/>
                    </a:lnTo>
                    <a:lnTo>
                      <a:pt x="110" y="350"/>
                    </a:lnTo>
                    <a:lnTo>
                      <a:pt x="112" y="350"/>
                    </a:lnTo>
                    <a:lnTo>
                      <a:pt x="114" y="350"/>
                    </a:lnTo>
                    <a:lnTo>
                      <a:pt x="116" y="350"/>
                    </a:lnTo>
                    <a:lnTo>
                      <a:pt x="118" y="350"/>
                    </a:lnTo>
                    <a:lnTo>
                      <a:pt x="118" y="352"/>
                    </a:lnTo>
                    <a:lnTo>
                      <a:pt x="118" y="354"/>
                    </a:lnTo>
                    <a:lnTo>
                      <a:pt x="118" y="356"/>
                    </a:lnTo>
                    <a:lnTo>
                      <a:pt x="120" y="358"/>
                    </a:lnTo>
                    <a:lnTo>
                      <a:pt x="122" y="358"/>
                    </a:lnTo>
                    <a:lnTo>
                      <a:pt x="122" y="360"/>
                    </a:lnTo>
                    <a:lnTo>
                      <a:pt x="122" y="362"/>
                    </a:lnTo>
                    <a:lnTo>
                      <a:pt x="120" y="362"/>
                    </a:lnTo>
                    <a:lnTo>
                      <a:pt x="120" y="364"/>
                    </a:lnTo>
                    <a:lnTo>
                      <a:pt x="122" y="364"/>
                    </a:lnTo>
                    <a:lnTo>
                      <a:pt x="124" y="364"/>
                    </a:lnTo>
                    <a:lnTo>
                      <a:pt x="130" y="370"/>
                    </a:lnTo>
                    <a:lnTo>
                      <a:pt x="136" y="370"/>
                    </a:lnTo>
                    <a:lnTo>
                      <a:pt x="138" y="370"/>
                    </a:lnTo>
                    <a:lnTo>
                      <a:pt x="138" y="368"/>
                    </a:lnTo>
                    <a:lnTo>
                      <a:pt x="136" y="368"/>
                    </a:lnTo>
                    <a:lnTo>
                      <a:pt x="134" y="366"/>
                    </a:lnTo>
                    <a:lnTo>
                      <a:pt x="132" y="366"/>
                    </a:lnTo>
                    <a:lnTo>
                      <a:pt x="132" y="364"/>
                    </a:lnTo>
                    <a:lnTo>
                      <a:pt x="138" y="364"/>
                    </a:lnTo>
                    <a:lnTo>
                      <a:pt x="146" y="368"/>
                    </a:lnTo>
                    <a:lnTo>
                      <a:pt x="148" y="372"/>
                    </a:lnTo>
                    <a:lnTo>
                      <a:pt x="154" y="376"/>
                    </a:lnTo>
                    <a:lnTo>
                      <a:pt x="160" y="378"/>
                    </a:lnTo>
                    <a:lnTo>
                      <a:pt x="168" y="382"/>
                    </a:lnTo>
                    <a:lnTo>
                      <a:pt x="166" y="380"/>
                    </a:lnTo>
                    <a:lnTo>
                      <a:pt x="170" y="380"/>
                    </a:lnTo>
                    <a:lnTo>
                      <a:pt x="170" y="378"/>
                    </a:lnTo>
                    <a:lnTo>
                      <a:pt x="170" y="376"/>
                    </a:lnTo>
                    <a:lnTo>
                      <a:pt x="168" y="376"/>
                    </a:lnTo>
                    <a:lnTo>
                      <a:pt x="166" y="376"/>
                    </a:lnTo>
                    <a:lnTo>
                      <a:pt x="164" y="374"/>
                    </a:lnTo>
                    <a:lnTo>
                      <a:pt x="162" y="374"/>
                    </a:lnTo>
                    <a:lnTo>
                      <a:pt x="160" y="374"/>
                    </a:lnTo>
                    <a:lnTo>
                      <a:pt x="158" y="374"/>
                    </a:lnTo>
                    <a:lnTo>
                      <a:pt x="158" y="372"/>
                    </a:lnTo>
                    <a:lnTo>
                      <a:pt x="156" y="370"/>
                    </a:lnTo>
                    <a:lnTo>
                      <a:pt x="154" y="368"/>
                    </a:lnTo>
                    <a:lnTo>
                      <a:pt x="156" y="364"/>
                    </a:lnTo>
                    <a:lnTo>
                      <a:pt x="162" y="364"/>
                    </a:lnTo>
                    <a:lnTo>
                      <a:pt x="166" y="366"/>
                    </a:lnTo>
                    <a:lnTo>
                      <a:pt x="168" y="366"/>
                    </a:lnTo>
                    <a:lnTo>
                      <a:pt x="168" y="364"/>
                    </a:lnTo>
                    <a:lnTo>
                      <a:pt x="170" y="364"/>
                    </a:lnTo>
                    <a:lnTo>
                      <a:pt x="172" y="362"/>
                    </a:lnTo>
                    <a:lnTo>
                      <a:pt x="174" y="362"/>
                    </a:lnTo>
                    <a:close/>
                    <a:moveTo>
                      <a:pt x="182" y="426"/>
                    </a:moveTo>
                    <a:lnTo>
                      <a:pt x="182" y="424"/>
                    </a:lnTo>
                    <a:lnTo>
                      <a:pt x="180" y="424"/>
                    </a:lnTo>
                    <a:lnTo>
                      <a:pt x="180" y="422"/>
                    </a:lnTo>
                    <a:lnTo>
                      <a:pt x="182" y="420"/>
                    </a:lnTo>
                    <a:lnTo>
                      <a:pt x="176" y="416"/>
                    </a:lnTo>
                    <a:lnTo>
                      <a:pt x="170" y="410"/>
                    </a:lnTo>
                    <a:lnTo>
                      <a:pt x="162" y="404"/>
                    </a:lnTo>
                    <a:lnTo>
                      <a:pt x="156" y="404"/>
                    </a:lnTo>
                    <a:lnTo>
                      <a:pt x="154" y="400"/>
                    </a:lnTo>
                    <a:lnTo>
                      <a:pt x="152" y="394"/>
                    </a:lnTo>
                    <a:lnTo>
                      <a:pt x="148" y="390"/>
                    </a:lnTo>
                    <a:lnTo>
                      <a:pt x="142" y="382"/>
                    </a:lnTo>
                    <a:lnTo>
                      <a:pt x="138" y="380"/>
                    </a:lnTo>
                    <a:lnTo>
                      <a:pt x="138" y="378"/>
                    </a:lnTo>
                    <a:lnTo>
                      <a:pt x="138" y="376"/>
                    </a:lnTo>
                    <a:lnTo>
                      <a:pt x="136" y="376"/>
                    </a:lnTo>
                    <a:lnTo>
                      <a:pt x="134" y="376"/>
                    </a:lnTo>
                    <a:lnTo>
                      <a:pt x="134" y="378"/>
                    </a:lnTo>
                    <a:lnTo>
                      <a:pt x="134" y="384"/>
                    </a:lnTo>
                    <a:lnTo>
                      <a:pt x="136" y="388"/>
                    </a:lnTo>
                    <a:lnTo>
                      <a:pt x="134" y="390"/>
                    </a:lnTo>
                    <a:lnTo>
                      <a:pt x="134" y="392"/>
                    </a:lnTo>
                    <a:lnTo>
                      <a:pt x="132" y="392"/>
                    </a:lnTo>
                    <a:lnTo>
                      <a:pt x="130" y="392"/>
                    </a:lnTo>
                    <a:lnTo>
                      <a:pt x="128" y="392"/>
                    </a:lnTo>
                    <a:lnTo>
                      <a:pt x="126" y="392"/>
                    </a:lnTo>
                    <a:lnTo>
                      <a:pt x="126" y="390"/>
                    </a:lnTo>
                    <a:lnTo>
                      <a:pt x="124" y="388"/>
                    </a:lnTo>
                    <a:lnTo>
                      <a:pt x="122" y="386"/>
                    </a:lnTo>
                    <a:lnTo>
                      <a:pt x="120" y="388"/>
                    </a:lnTo>
                    <a:lnTo>
                      <a:pt x="114" y="380"/>
                    </a:lnTo>
                    <a:lnTo>
                      <a:pt x="112" y="378"/>
                    </a:lnTo>
                    <a:lnTo>
                      <a:pt x="114" y="376"/>
                    </a:lnTo>
                    <a:lnTo>
                      <a:pt x="118" y="376"/>
                    </a:lnTo>
                    <a:lnTo>
                      <a:pt x="118" y="374"/>
                    </a:lnTo>
                    <a:lnTo>
                      <a:pt x="118" y="372"/>
                    </a:lnTo>
                    <a:lnTo>
                      <a:pt x="116" y="372"/>
                    </a:lnTo>
                    <a:lnTo>
                      <a:pt x="114" y="372"/>
                    </a:lnTo>
                    <a:lnTo>
                      <a:pt x="112" y="372"/>
                    </a:lnTo>
                    <a:lnTo>
                      <a:pt x="110" y="372"/>
                    </a:lnTo>
                    <a:lnTo>
                      <a:pt x="110" y="374"/>
                    </a:lnTo>
                    <a:lnTo>
                      <a:pt x="106" y="370"/>
                    </a:lnTo>
                    <a:lnTo>
                      <a:pt x="104" y="364"/>
                    </a:lnTo>
                    <a:lnTo>
                      <a:pt x="98" y="362"/>
                    </a:lnTo>
                    <a:lnTo>
                      <a:pt x="94" y="364"/>
                    </a:lnTo>
                    <a:lnTo>
                      <a:pt x="98" y="366"/>
                    </a:lnTo>
                    <a:lnTo>
                      <a:pt x="100" y="368"/>
                    </a:lnTo>
                    <a:lnTo>
                      <a:pt x="98" y="370"/>
                    </a:lnTo>
                    <a:lnTo>
                      <a:pt x="94" y="368"/>
                    </a:lnTo>
                    <a:lnTo>
                      <a:pt x="94" y="370"/>
                    </a:lnTo>
                    <a:lnTo>
                      <a:pt x="96" y="374"/>
                    </a:lnTo>
                    <a:lnTo>
                      <a:pt x="94" y="376"/>
                    </a:lnTo>
                    <a:lnTo>
                      <a:pt x="92" y="372"/>
                    </a:lnTo>
                    <a:lnTo>
                      <a:pt x="88" y="368"/>
                    </a:lnTo>
                    <a:lnTo>
                      <a:pt x="86" y="368"/>
                    </a:lnTo>
                    <a:lnTo>
                      <a:pt x="86" y="366"/>
                    </a:lnTo>
                    <a:lnTo>
                      <a:pt x="84" y="366"/>
                    </a:lnTo>
                    <a:lnTo>
                      <a:pt x="82" y="366"/>
                    </a:lnTo>
                    <a:lnTo>
                      <a:pt x="82" y="368"/>
                    </a:lnTo>
                    <a:lnTo>
                      <a:pt x="80" y="370"/>
                    </a:lnTo>
                    <a:lnTo>
                      <a:pt x="78" y="370"/>
                    </a:lnTo>
                    <a:lnTo>
                      <a:pt x="76" y="370"/>
                    </a:lnTo>
                    <a:lnTo>
                      <a:pt x="72" y="374"/>
                    </a:lnTo>
                    <a:lnTo>
                      <a:pt x="68" y="370"/>
                    </a:lnTo>
                    <a:lnTo>
                      <a:pt x="64" y="372"/>
                    </a:lnTo>
                    <a:lnTo>
                      <a:pt x="62" y="370"/>
                    </a:lnTo>
                    <a:lnTo>
                      <a:pt x="58" y="368"/>
                    </a:lnTo>
                    <a:lnTo>
                      <a:pt x="58" y="370"/>
                    </a:lnTo>
                    <a:lnTo>
                      <a:pt x="60" y="370"/>
                    </a:lnTo>
                    <a:lnTo>
                      <a:pt x="60" y="372"/>
                    </a:lnTo>
                    <a:lnTo>
                      <a:pt x="62" y="374"/>
                    </a:lnTo>
                    <a:lnTo>
                      <a:pt x="62" y="376"/>
                    </a:lnTo>
                    <a:lnTo>
                      <a:pt x="66" y="382"/>
                    </a:lnTo>
                    <a:lnTo>
                      <a:pt x="84" y="398"/>
                    </a:lnTo>
                    <a:lnTo>
                      <a:pt x="104" y="412"/>
                    </a:lnTo>
                    <a:lnTo>
                      <a:pt x="106" y="412"/>
                    </a:lnTo>
                    <a:lnTo>
                      <a:pt x="106" y="410"/>
                    </a:lnTo>
                    <a:lnTo>
                      <a:pt x="112" y="414"/>
                    </a:lnTo>
                    <a:lnTo>
                      <a:pt x="120" y="414"/>
                    </a:lnTo>
                    <a:lnTo>
                      <a:pt x="124" y="420"/>
                    </a:lnTo>
                    <a:lnTo>
                      <a:pt x="132" y="424"/>
                    </a:lnTo>
                    <a:lnTo>
                      <a:pt x="138" y="426"/>
                    </a:lnTo>
                    <a:lnTo>
                      <a:pt x="142" y="430"/>
                    </a:lnTo>
                    <a:lnTo>
                      <a:pt x="148" y="432"/>
                    </a:lnTo>
                    <a:lnTo>
                      <a:pt x="148" y="434"/>
                    </a:lnTo>
                    <a:lnTo>
                      <a:pt x="154" y="434"/>
                    </a:lnTo>
                    <a:lnTo>
                      <a:pt x="156" y="434"/>
                    </a:lnTo>
                    <a:lnTo>
                      <a:pt x="160" y="436"/>
                    </a:lnTo>
                    <a:lnTo>
                      <a:pt x="176" y="440"/>
                    </a:lnTo>
                    <a:lnTo>
                      <a:pt x="176" y="438"/>
                    </a:lnTo>
                    <a:lnTo>
                      <a:pt x="174" y="438"/>
                    </a:lnTo>
                    <a:lnTo>
                      <a:pt x="172" y="436"/>
                    </a:lnTo>
                    <a:lnTo>
                      <a:pt x="174" y="436"/>
                    </a:lnTo>
                    <a:lnTo>
                      <a:pt x="174" y="438"/>
                    </a:lnTo>
                    <a:lnTo>
                      <a:pt x="176" y="438"/>
                    </a:lnTo>
                    <a:lnTo>
                      <a:pt x="178" y="436"/>
                    </a:lnTo>
                    <a:lnTo>
                      <a:pt x="180" y="434"/>
                    </a:lnTo>
                    <a:lnTo>
                      <a:pt x="182" y="432"/>
                    </a:lnTo>
                    <a:lnTo>
                      <a:pt x="184" y="430"/>
                    </a:lnTo>
                    <a:lnTo>
                      <a:pt x="186" y="428"/>
                    </a:lnTo>
                    <a:lnTo>
                      <a:pt x="184" y="426"/>
                    </a:lnTo>
                    <a:lnTo>
                      <a:pt x="182" y="426"/>
                    </a:lnTo>
                    <a:close/>
                    <a:moveTo>
                      <a:pt x="202" y="138"/>
                    </a:moveTo>
                    <a:lnTo>
                      <a:pt x="202" y="138"/>
                    </a:lnTo>
                    <a:lnTo>
                      <a:pt x="202" y="140"/>
                    </a:lnTo>
                    <a:lnTo>
                      <a:pt x="204" y="140"/>
                    </a:lnTo>
                    <a:lnTo>
                      <a:pt x="206" y="140"/>
                    </a:lnTo>
                    <a:lnTo>
                      <a:pt x="206" y="138"/>
                    </a:lnTo>
                    <a:lnTo>
                      <a:pt x="204" y="138"/>
                    </a:lnTo>
                    <a:lnTo>
                      <a:pt x="202" y="138"/>
                    </a:lnTo>
                    <a:close/>
                    <a:moveTo>
                      <a:pt x="208" y="140"/>
                    </a:moveTo>
                    <a:lnTo>
                      <a:pt x="208" y="140"/>
                    </a:lnTo>
                    <a:lnTo>
                      <a:pt x="210" y="140"/>
                    </a:lnTo>
                    <a:lnTo>
                      <a:pt x="208" y="140"/>
                    </a:lnTo>
                    <a:close/>
                    <a:moveTo>
                      <a:pt x="192" y="128"/>
                    </a:moveTo>
                    <a:lnTo>
                      <a:pt x="192" y="128"/>
                    </a:lnTo>
                    <a:lnTo>
                      <a:pt x="192" y="130"/>
                    </a:lnTo>
                    <a:lnTo>
                      <a:pt x="194" y="130"/>
                    </a:lnTo>
                    <a:lnTo>
                      <a:pt x="194" y="128"/>
                    </a:lnTo>
                    <a:lnTo>
                      <a:pt x="192" y="128"/>
                    </a:lnTo>
                    <a:close/>
                    <a:moveTo>
                      <a:pt x="214" y="140"/>
                    </a:moveTo>
                    <a:lnTo>
                      <a:pt x="214" y="140"/>
                    </a:lnTo>
                    <a:close/>
                    <a:moveTo>
                      <a:pt x="218" y="136"/>
                    </a:moveTo>
                    <a:lnTo>
                      <a:pt x="216" y="136"/>
                    </a:lnTo>
                    <a:lnTo>
                      <a:pt x="216" y="138"/>
                    </a:lnTo>
                    <a:lnTo>
                      <a:pt x="218" y="138"/>
                    </a:lnTo>
                    <a:lnTo>
                      <a:pt x="220" y="138"/>
                    </a:lnTo>
                    <a:lnTo>
                      <a:pt x="220" y="136"/>
                    </a:lnTo>
                    <a:lnTo>
                      <a:pt x="218" y="136"/>
                    </a:lnTo>
                    <a:close/>
                    <a:moveTo>
                      <a:pt x="98" y="326"/>
                    </a:moveTo>
                    <a:lnTo>
                      <a:pt x="96" y="324"/>
                    </a:lnTo>
                    <a:lnTo>
                      <a:pt x="94" y="326"/>
                    </a:lnTo>
                    <a:lnTo>
                      <a:pt x="96" y="328"/>
                    </a:lnTo>
                    <a:lnTo>
                      <a:pt x="94" y="330"/>
                    </a:lnTo>
                    <a:lnTo>
                      <a:pt x="96" y="332"/>
                    </a:lnTo>
                    <a:lnTo>
                      <a:pt x="98" y="334"/>
                    </a:lnTo>
                    <a:lnTo>
                      <a:pt x="96" y="338"/>
                    </a:lnTo>
                    <a:lnTo>
                      <a:pt x="98" y="338"/>
                    </a:lnTo>
                    <a:lnTo>
                      <a:pt x="98" y="336"/>
                    </a:lnTo>
                    <a:lnTo>
                      <a:pt x="98" y="334"/>
                    </a:lnTo>
                    <a:lnTo>
                      <a:pt x="100" y="334"/>
                    </a:lnTo>
                    <a:lnTo>
                      <a:pt x="100" y="336"/>
                    </a:lnTo>
                    <a:lnTo>
                      <a:pt x="100" y="338"/>
                    </a:lnTo>
                    <a:lnTo>
                      <a:pt x="102" y="336"/>
                    </a:lnTo>
                    <a:lnTo>
                      <a:pt x="102" y="338"/>
                    </a:lnTo>
                    <a:lnTo>
                      <a:pt x="104" y="338"/>
                    </a:lnTo>
                    <a:lnTo>
                      <a:pt x="106" y="338"/>
                    </a:lnTo>
                    <a:lnTo>
                      <a:pt x="104" y="336"/>
                    </a:lnTo>
                    <a:lnTo>
                      <a:pt x="104" y="334"/>
                    </a:lnTo>
                    <a:lnTo>
                      <a:pt x="104" y="332"/>
                    </a:lnTo>
                    <a:lnTo>
                      <a:pt x="104" y="330"/>
                    </a:lnTo>
                    <a:lnTo>
                      <a:pt x="102" y="328"/>
                    </a:lnTo>
                    <a:lnTo>
                      <a:pt x="98" y="330"/>
                    </a:lnTo>
                    <a:lnTo>
                      <a:pt x="98" y="328"/>
                    </a:lnTo>
                    <a:lnTo>
                      <a:pt x="98" y="326"/>
                    </a:lnTo>
                    <a:close/>
                    <a:moveTo>
                      <a:pt x="96" y="338"/>
                    </a:moveTo>
                    <a:lnTo>
                      <a:pt x="96" y="338"/>
                    </a:lnTo>
                    <a:close/>
                    <a:moveTo>
                      <a:pt x="80" y="286"/>
                    </a:moveTo>
                    <a:lnTo>
                      <a:pt x="80" y="284"/>
                    </a:lnTo>
                    <a:lnTo>
                      <a:pt x="78" y="284"/>
                    </a:lnTo>
                    <a:lnTo>
                      <a:pt x="76" y="284"/>
                    </a:lnTo>
                    <a:lnTo>
                      <a:pt x="76" y="286"/>
                    </a:lnTo>
                    <a:lnTo>
                      <a:pt x="74" y="286"/>
                    </a:lnTo>
                    <a:lnTo>
                      <a:pt x="72" y="286"/>
                    </a:lnTo>
                    <a:lnTo>
                      <a:pt x="70" y="288"/>
                    </a:lnTo>
                    <a:lnTo>
                      <a:pt x="68" y="288"/>
                    </a:lnTo>
                    <a:lnTo>
                      <a:pt x="66" y="290"/>
                    </a:lnTo>
                    <a:lnTo>
                      <a:pt x="66" y="292"/>
                    </a:lnTo>
                    <a:lnTo>
                      <a:pt x="68" y="294"/>
                    </a:lnTo>
                    <a:lnTo>
                      <a:pt x="70" y="292"/>
                    </a:lnTo>
                    <a:lnTo>
                      <a:pt x="72" y="292"/>
                    </a:lnTo>
                    <a:lnTo>
                      <a:pt x="70" y="296"/>
                    </a:lnTo>
                    <a:lnTo>
                      <a:pt x="72" y="296"/>
                    </a:lnTo>
                    <a:lnTo>
                      <a:pt x="74" y="296"/>
                    </a:lnTo>
                    <a:lnTo>
                      <a:pt x="74" y="298"/>
                    </a:lnTo>
                    <a:lnTo>
                      <a:pt x="72" y="300"/>
                    </a:lnTo>
                    <a:lnTo>
                      <a:pt x="72" y="302"/>
                    </a:lnTo>
                    <a:lnTo>
                      <a:pt x="74" y="300"/>
                    </a:lnTo>
                    <a:lnTo>
                      <a:pt x="76" y="300"/>
                    </a:lnTo>
                    <a:lnTo>
                      <a:pt x="82" y="298"/>
                    </a:lnTo>
                    <a:lnTo>
                      <a:pt x="82" y="296"/>
                    </a:lnTo>
                    <a:lnTo>
                      <a:pt x="82" y="294"/>
                    </a:lnTo>
                    <a:lnTo>
                      <a:pt x="84" y="292"/>
                    </a:lnTo>
                    <a:lnTo>
                      <a:pt x="84" y="290"/>
                    </a:lnTo>
                    <a:lnTo>
                      <a:pt x="82" y="290"/>
                    </a:lnTo>
                    <a:lnTo>
                      <a:pt x="80" y="288"/>
                    </a:lnTo>
                    <a:lnTo>
                      <a:pt x="80" y="286"/>
                    </a:lnTo>
                    <a:close/>
                    <a:moveTo>
                      <a:pt x="166" y="170"/>
                    </a:moveTo>
                    <a:lnTo>
                      <a:pt x="166" y="170"/>
                    </a:lnTo>
                    <a:lnTo>
                      <a:pt x="166" y="164"/>
                    </a:lnTo>
                    <a:lnTo>
                      <a:pt x="164" y="164"/>
                    </a:lnTo>
                    <a:lnTo>
                      <a:pt x="164" y="168"/>
                    </a:lnTo>
                    <a:lnTo>
                      <a:pt x="164" y="170"/>
                    </a:lnTo>
                    <a:lnTo>
                      <a:pt x="166" y="170"/>
                    </a:lnTo>
                    <a:close/>
                    <a:moveTo>
                      <a:pt x="222" y="98"/>
                    </a:moveTo>
                    <a:lnTo>
                      <a:pt x="222" y="98"/>
                    </a:lnTo>
                    <a:lnTo>
                      <a:pt x="220" y="98"/>
                    </a:lnTo>
                    <a:lnTo>
                      <a:pt x="222" y="98"/>
                    </a:lnTo>
                    <a:close/>
                    <a:moveTo>
                      <a:pt x="226" y="86"/>
                    </a:moveTo>
                    <a:lnTo>
                      <a:pt x="226" y="88"/>
                    </a:lnTo>
                    <a:lnTo>
                      <a:pt x="228" y="88"/>
                    </a:lnTo>
                    <a:lnTo>
                      <a:pt x="228" y="86"/>
                    </a:lnTo>
                    <a:lnTo>
                      <a:pt x="226" y="86"/>
                    </a:lnTo>
                    <a:close/>
                    <a:moveTo>
                      <a:pt x="212" y="82"/>
                    </a:moveTo>
                    <a:lnTo>
                      <a:pt x="212" y="82"/>
                    </a:lnTo>
                    <a:lnTo>
                      <a:pt x="214" y="82"/>
                    </a:lnTo>
                    <a:lnTo>
                      <a:pt x="214" y="80"/>
                    </a:lnTo>
                    <a:lnTo>
                      <a:pt x="208" y="80"/>
                    </a:lnTo>
                    <a:lnTo>
                      <a:pt x="208" y="82"/>
                    </a:lnTo>
                    <a:lnTo>
                      <a:pt x="212" y="82"/>
                    </a:lnTo>
                    <a:close/>
                    <a:moveTo>
                      <a:pt x="230" y="264"/>
                    </a:moveTo>
                    <a:lnTo>
                      <a:pt x="228" y="264"/>
                    </a:lnTo>
                    <a:lnTo>
                      <a:pt x="228" y="266"/>
                    </a:lnTo>
                    <a:lnTo>
                      <a:pt x="230" y="266"/>
                    </a:lnTo>
                    <a:lnTo>
                      <a:pt x="230" y="2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74000">
                    <a:srgbClr val="000000"/>
                  </a:gs>
                  <a:gs pos="100000">
                    <a:srgbClr val="000000"/>
                  </a:gs>
                </a:gsLst>
                <a:path path="circle">
                  <a:fillToRect l="50000" t="50000" r="50000" b="50000"/>
                </a:path>
              </a:gradFill>
              <a:ln w="9525">
                <a:noFill/>
              </a:ln>
              <a:effectLst>
                <a:outerShdw algn="tl" blurRad="50760" dir="2700000" dist="12218" rotWithShape="0">
                  <a:srgbClr val="000000">
                    <a:alpha val="4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Calibri"/>
                  <a:ea typeface="ＭＳ Ｐゴシック"/>
                </a:endParaRPr>
              </a:p>
            </p:txBody>
          </p:sp>
          <p:sp>
            <p:nvSpPr>
              <p:cNvPr id="594" name="Ellipse 45"/>
              <p:cNvSpPr/>
              <p:nvPr/>
            </p:nvSpPr>
            <p:spPr>
              <a:xfrm flipH="1" rot="21374400">
                <a:off x="3366360" y="2130120"/>
                <a:ext cx="2498040" cy="1922760"/>
              </a:xfrm>
              <a:prstGeom prst="ellipse">
                <a:avLst/>
              </a:prstGeom>
              <a:gradFill rotWithShape="0">
                <a:gsLst>
                  <a:gs pos="0">
                    <a:srgbClr val="fffcf9">
                      <a:alpha val="7725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172000"/>
              </a:gradFill>
              <a:ln w="9525">
                <a:noFill/>
              </a:ln>
              <a:effectLst>
                <a:softEdge rad="5076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 u="sng">
                  <a:solidFill>
                    <a:srgbClr val="ffffff"/>
                  </a:solidFill>
                  <a:uFillTx/>
                  <a:latin typeface="Calibri"/>
                  <a:ea typeface="ＭＳ Ｐゴシック"/>
                </a:endParaRPr>
              </a:p>
            </p:txBody>
          </p:sp>
        </p:grpSp>
        <p:sp>
          <p:nvSpPr>
            <p:cNvPr id="595" name="Oval 10"/>
            <p:cNvSpPr/>
            <p:nvPr/>
          </p:nvSpPr>
          <p:spPr>
            <a:xfrm flipH="1">
              <a:off x="2488320" y="5378760"/>
              <a:ext cx="4271400" cy="1318320"/>
            </a:xfrm>
            <a:prstGeom prst="ellipse">
              <a:avLst/>
            </a:prstGeom>
            <a:gradFill rotWithShape="0">
              <a:gsLst>
                <a:gs pos="0">
                  <a:srgbClr val="0d0d0d">
                    <a:alpha val="28235"/>
                  </a:srgbClr>
                </a:gs>
                <a:gs pos="100000">
                  <a:srgbClr val="9bc1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blurRad="63360" dir="5400000" dist="23040" rotWithShape="0">
                <a:srgbClr val="000000">
                  <a:alpha val="2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596" name="Freeform 46"/>
            <p:cNvSpPr/>
            <p:nvPr/>
          </p:nvSpPr>
          <p:spPr>
            <a:xfrm>
              <a:off x="2356200" y="3221640"/>
              <a:ext cx="1341360" cy="1762920"/>
            </a:xfrm>
            <a:custGeom>
              <a:avLst/>
              <a:gdLst>
                <a:gd name="textAreaLeft" fmla="*/ 0 w 1341360"/>
                <a:gd name="textAreaRight" fmla="*/ 1341720 w 1341360"/>
                <a:gd name="textAreaTop" fmla="*/ 0 h 1762920"/>
                <a:gd name="textAreaBottom" fmla="*/ 1763280 h 1762920"/>
              </a:gdLst>
              <a:ahLst/>
              <a:rect l="textAreaLeft" t="textAreaTop" r="textAreaRight" b="textAreaBottom"/>
              <a:pathLst>
                <a:path w="273" h="382">
                  <a:moveTo>
                    <a:pt x="52" y="50"/>
                  </a:moveTo>
                  <a:lnTo>
                    <a:pt x="0" y="16"/>
                  </a:lnTo>
                  <a:lnTo>
                    <a:pt x="175" y="0"/>
                  </a:lnTo>
                  <a:lnTo>
                    <a:pt x="273" y="152"/>
                  </a:lnTo>
                  <a:lnTo>
                    <a:pt x="215" y="128"/>
                  </a:lnTo>
                  <a:lnTo>
                    <a:pt x="147" y="256"/>
                  </a:lnTo>
                  <a:lnTo>
                    <a:pt x="147" y="256"/>
                  </a:lnTo>
                  <a:lnTo>
                    <a:pt x="141" y="268"/>
                  </a:lnTo>
                  <a:lnTo>
                    <a:pt x="135" y="282"/>
                  </a:lnTo>
                  <a:lnTo>
                    <a:pt x="131" y="298"/>
                  </a:lnTo>
                  <a:lnTo>
                    <a:pt x="129" y="318"/>
                  </a:lnTo>
                  <a:lnTo>
                    <a:pt x="129" y="338"/>
                  </a:lnTo>
                  <a:lnTo>
                    <a:pt x="131" y="350"/>
                  </a:lnTo>
                  <a:lnTo>
                    <a:pt x="135" y="360"/>
                  </a:lnTo>
                  <a:lnTo>
                    <a:pt x="139" y="372"/>
                  </a:lnTo>
                  <a:lnTo>
                    <a:pt x="147" y="382"/>
                  </a:lnTo>
                  <a:lnTo>
                    <a:pt x="147" y="382"/>
                  </a:lnTo>
                  <a:lnTo>
                    <a:pt x="82" y="294"/>
                  </a:lnTo>
                  <a:lnTo>
                    <a:pt x="38" y="230"/>
                  </a:lnTo>
                  <a:lnTo>
                    <a:pt x="14" y="198"/>
                  </a:lnTo>
                  <a:lnTo>
                    <a:pt x="14" y="198"/>
                  </a:lnTo>
                  <a:lnTo>
                    <a:pt x="12" y="186"/>
                  </a:lnTo>
                  <a:lnTo>
                    <a:pt x="10" y="168"/>
                  </a:lnTo>
                  <a:lnTo>
                    <a:pt x="10" y="156"/>
                  </a:lnTo>
                  <a:lnTo>
                    <a:pt x="12" y="144"/>
                  </a:lnTo>
                  <a:lnTo>
                    <a:pt x="16" y="130"/>
                  </a:lnTo>
                  <a:lnTo>
                    <a:pt x="22" y="116"/>
                  </a:lnTo>
                  <a:lnTo>
                    <a:pt x="22" y="116"/>
                  </a:lnTo>
                  <a:lnTo>
                    <a:pt x="44" y="68"/>
                  </a:lnTo>
                  <a:lnTo>
                    <a:pt x="52" y="50"/>
                  </a:lnTo>
                  <a:lnTo>
                    <a:pt x="52" y="50"/>
                  </a:lnTo>
                  <a:close/>
                </a:path>
              </a:pathLst>
            </a:custGeom>
            <a:gradFill rotWithShape="0">
              <a:gsLst>
                <a:gs pos="0">
                  <a:srgbClr val="95b3d7"/>
                </a:gs>
                <a:gs pos="100000">
                  <a:srgbClr val="376092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a-DK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597" name="Freeform 48"/>
            <p:cNvSpPr/>
            <p:nvPr/>
          </p:nvSpPr>
          <p:spPr>
            <a:xfrm>
              <a:off x="3996360" y="1577160"/>
              <a:ext cx="1915560" cy="1131120"/>
            </a:xfrm>
            <a:custGeom>
              <a:avLst/>
              <a:gdLst>
                <a:gd name="textAreaLeft" fmla="*/ 0 w 1915560"/>
                <a:gd name="textAreaRight" fmla="*/ 1915920 w 1915560"/>
                <a:gd name="textAreaTop" fmla="*/ 0 h 1131120"/>
                <a:gd name="textAreaBottom" fmla="*/ 1131480 h 1131120"/>
              </a:gdLst>
              <a:ahLst/>
              <a:rect l="textAreaLeft" t="textAreaTop" r="textAreaRight" b="textAreaBottom"/>
              <a:pathLst>
                <a:path w="390" h="245">
                  <a:moveTo>
                    <a:pt x="332" y="107"/>
                  </a:moveTo>
                  <a:lnTo>
                    <a:pt x="390" y="79"/>
                  </a:lnTo>
                  <a:lnTo>
                    <a:pt x="312" y="239"/>
                  </a:lnTo>
                  <a:lnTo>
                    <a:pt x="130" y="245"/>
                  </a:lnTo>
                  <a:lnTo>
                    <a:pt x="182" y="207"/>
                  </a:lnTo>
                  <a:lnTo>
                    <a:pt x="108" y="83"/>
                  </a:lnTo>
                  <a:lnTo>
                    <a:pt x="108" y="83"/>
                  </a:lnTo>
                  <a:lnTo>
                    <a:pt x="100" y="73"/>
                  </a:lnTo>
                  <a:lnTo>
                    <a:pt x="92" y="62"/>
                  </a:lnTo>
                  <a:lnTo>
                    <a:pt x="80" y="48"/>
                  </a:lnTo>
                  <a:lnTo>
                    <a:pt x="64" y="36"/>
                  </a:lnTo>
                  <a:lnTo>
                    <a:pt x="46" y="26"/>
                  </a:lnTo>
                  <a:lnTo>
                    <a:pt x="36" y="22"/>
                  </a:lnTo>
                  <a:lnTo>
                    <a:pt x="24" y="20"/>
                  </a:lnTo>
                  <a:lnTo>
                    <a:pt x="12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110" y="8"/>
                  </a:lnTo>
                  <a:lnTo>
                    <a:pt x="186" y="2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36" y="2"/>
                  </a:lnTo>
                  <a:lnTo>
                    <a:pt x="254" y="10"/>
                  </a:lnTo>
                  <a:lnTo>
                    <a:pt x="264" y="18"/>
                  </a:lnTo>
                  <a:lnTo>
                    <a:pt x="274" y="26"/>
                  </a:lnTo>
                  <a:lnTo>
                    <a:pt x="284" y="36"/>
                  </a:lnTo>
                  <a:lnTo>
                    <a:pt x="292" y="48"/>
                  </a:lnTo>
                  <a:lnTo>
                    <a:pt x="292" y="48"/>
                  </a:lnTo>
                  <a:lnTo>
                    <a:pt x="322" y="91"/>
                  </a:lnTo>
                  <a:lnTo>
                    <a:pt x="332" y="107"/>
                  </a:lnTo>
                  <a:lnTo>
                    <a:pt x="332" y="107"/>
                  </a:lnTo>
                  <a:close/>
                </a:path>
              </a:pathLst>
            </a:custGeom>
            <a:gradFill rotWithShape="0">
              <a:gsLst>
                <a:gs pos="0">
                  <a:srgbClr val="95b3d7"/>
                </a:gs>
                <a:gs pos="100000">
                  <a:srgbClr val="376092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a-DK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598" name="Freeform 50"/>
            <p:cNvSpPr/>
            <p:nvPr/>
          </p:nvSpPr>
          <p:spPr>
            <a:xfrm>
              <a:off x="5014440" y="4030920"/>
              <a:ext cx="1708200" cy="1417680"/>
            </a:xfrm>
            <a:custGeom>
              <a:avLst/>
              <a:gdLst>
                <a:gd name="textAreaLeft" fmla="*/ 0 w 1708200"/>
                <a:gd name="textAreaRight" fmla="*/ 1708560 w 1708200"/>
                <a:gd name="textAreaTop" fmla="*/ 0 h 1417680"/>
                <a:gd name="textAreaBottom" fmla="*/ 1418040 h 1417680"/>
              </a:gdLst>
              <a:ahLst/>
              <a:rect l="textAreaLeft" t="textAreaTop" r="textAreaRight" b="textAreaBottom"/>
              <a:pathLst>
                <a:path w="348" h="307">
                  <a:moveTo>
                    <a:pt x="102" y="244"/>
                  </a:moveTo>
                  <a:lnTo>
                    <a:pt x="98" y="307"/>
                  </a:lnTo>
                  <a:lnTo>
                    <a:pt x="0" y="160"/>
                  </a:lnTo>
                  <a:lnTo>
                    <a:pt x="86" y="0"/>
                  </a:lnTo>
                  <a:lnTo>
                    <a:pt x="92" y="64"/>
                  </a:lnTo>
                  <a:lnTo>
                    <a:pt x="238" y="62"/>
                  </a:lnTo>
                  <a:lnTo>
                    <a:pt x="238" y="62"/>
                  </a:lnTo>
                  <a:lnTo>
                    <a:pt x="250" y="62"/>
                  </a:lnTo>
                  <a:lnTo>
                    <a:pt x="266" y="60"/>
                  </a:lnTo>
                  <a:lnTo>
                    <a:pt x="282" y="56"/>
                  </a:lnTo>
                  <a:lnTo>
                    <a:pt x="300" y="48"/>
                  </a:lnTo>
                  <a:lnTo>
                    <a:pt x="320" y="38"/>
                  </a:lnTo>
                  <a:lnTo>
                    <a:pt x="328" y="30"/>
                  </a:lnTo>
                  <a:lnTo>
                    <a:pt x="336" y="22"/>
                  </a:lnTo>
                  <a:lnTo>
                    <a:pt x="342" y="14"/>
                  </a:lnTo>
                  <a:lnTo>
                    <a:pt x="348" y="2"/>
                  </a:lnTo>
                  <a:lnTo>
                    <a:pt x="348" y="2"/>
                  </a:lnTo>
                  <a:lnTo>
                    <a:pt x="302" y="102"/>
                  </a:lnTo>
                  <a:lnTo>
                    <a:pt x="268" y="172"/>
                  </a:lnTo>
                  <a:lnTo>
                    <a:pt x="250" y="206"/>
                  </a:lnTo>
                  <a:lnTo>
                    <a:pt x="250" y="206"/>
                  </a:lnTo>
                  <a:lnTo>
                    <a:pt x="242" y="214"/>
                  </a:lnTo>
                  <a:lnTo>
                    <a:pt x="226" y="226"/>
                  </a:lnTo>
                  <a:lnTo>
                    <a:pt x="216" y="230"/>
                  </a:lnTo>
                  <a:lnTo>
                    <a:pt x="204" y="234"/>
                  </a:lnTo>
                  <a:lnTo>
                    <a:pt x="190" y="238"/>
                  </a:lnTo>
                  <a:lnTo>
                    <a:pt x="174" y="240"/>
                  </a:lnTo>
                  <a:lnTo>
                    <a:pt x="174" y="240"/>
                  </a:lnTo>
                  <a:lnTo>
                    <a:pt x="122" y="242"/>
                  </a:lnTo>
                  <a:lnTo>
                    <a:pt x="102" y="244"/>
                  </a:lnTo>
                  <a:lnTo>
                    <a:pt x="102" y="244"/>
                  </a:lnTo>
                  <a:close/>
                </a:path>
              </a:pathLst>
            </a:custGeom>
            <a:gradFill rotWithShape="0">
              <a:gsLst>
                <a:gs pos="0">
                  <a:srgbClr val="95b3d7"/>
                </a:gs>
                <a:gs pos="100000">
                  <a:srgbClr val="376092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da-DK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</p:grpSp>
      <p:sp>
        <p:nvSpPr>
          <p:cNvPr id="599" name="TextBox 17"/>
          <p:cNvSpPr/>
          <p:nvPr/>
        </p:nvSpPr>
        <p:spPr>
          <a:xfrm>
            <a:off x="6587640" y="2208960"/>
            <a:ext cx="16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rem Ipsum </a:t>
            </a:r>
            <a:r>
              <a:rPr b="0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lace te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0" name="Straight Connector 18"/>
          <p:cNvCxnSpPr/>
          <p:nvPr/>
        </p:nvCxnSpPr>
        <p:spPr>
          <a:xfrm flipV="1">
            <a:off x="5130720" y="2615760"/>
            <a:ext cx="2973600" cy="14040"/>
          </a:xfrm>
          <a:prstGeom prst="straightConnector1">
            <a:avLst/>
          </a:prstGeom>
          <a:ln w="12700">
            <a:solidFill>
              <a:srgbClr val="000000"/>
            </a:solidFill>
            <a:prstDash val="sysDash"/>
            <a:round/>
            <a:headEnd len="med" type="triangle" w="med"/>
            <a:tailEnd len="med" type="diamond" w="med"/>
          </a:ln>
        </p:spPr>
      </p:cxnSp>
      <p:sp>
        <p:nvSpPr>
          <p:cNvPr id="601" name="TextBox 19"/>
          <p:cNvSpPr/>
          <p:nvPr/>
        </p:nvSpPr>
        <p:spPr>
          <a:xfrm>
            <a:off x="6748560" y="4161960"/>
            <a:ext cx="16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rem Ipsum</a:t>
            </a:r>
            <a:r>
              <a:rPr b="0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replace te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2" name="Straight Connector 20"/>
          <p:cNvCxnSpPr/>
          <p:nvPr/>
        </p:nvCxnSpPr>
        <p:spPr>
          <a:xfrm flipV="1">
            <a:off x="5291640" y="4568400"/>
            <a:ext cx="2973600" cy="14040"/>
          </a:xfrm>
          <a:prstGeom prst="straightConnector1">
            <a:avLst/>
          </a:prstGeom>
          <a:ln w="12700">
            <a:solidFill>
              <a:srgbClr val="000000"/>
            </a:solidFill>
            <a:prstDash val="sysDash"/>
            <a:round/>
            <a:headEnd len="med" type="triangle" w="med"/>
            <a:tailEnd len="med" type="diamond" w="med"/>
          </a:ln>
        </p:spPr>
      </p:cxnSp>
      <p:sp>
        <p:nvSpPr>
          <p:cNvPr id="603" name="TextBox 21"/>
          <p:cNvSpPr/>
          <p:nvPr/>
        </p:nvSpPr>
        <p:spPr>
          <a:xfrm>
            <a:off x="691920" y="3242880"/>
            <a:ext cx="16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rem Ipsum</a:t>
            </a:r>
            <a:r>
              <a:rPr b="0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replace te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Straight Connector 22"/>
          <p:cNvCxnSpPr/>
          <p:nvPr/>
        </p:nvCxnSpPr>
        <p:spPr>
          <a:xfrm flipV="1">
            <a:off x="761760" y="3641760"/>
            <a:ext cx="2610360" cy="21960"/>
          </a:xfrm>
          <a:prstGeom prst="straightConnector1">
            <a:avLst/>
          </a:prstGeom>
          <a:ln w="12700">
            <a:solidFill>
              <a:srgbClr val="000000"/>
            </a:solidFill>
            <a:prstDash val="sysDash"/>
            <a:round/>
            <a:headEnd len="med" type="diamond" w="med"/>
            <a:tailEnd len="med" type="triangle" w="med"/>
          </a:ln>
        </p:spPr>
      </p:cxnSp>
      <p:sp>
        <p:nvSpPr>
          <p:cNvPr id="605" name="Rektangel 13"/>
          <p:cNvSpPr/>
          <p:nvPr/>
        </p:nvSpPr>
        <p:spPr>
          <a:xfrm rot="16200000">
            <a:off x="657720" y="6090840"/>
            <a:ext cx="279000" cy="8784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6" name="Rektangel 13"/>
          <p:cNvSpPr/>
          <p:nvPr/>
        </p:nvSpPr>
        <p:spPr>
          <a:xfrm rot="16200000">
            <a:off x="37800" y="6349680"/>
            <a:ext cx="279000" cy="36072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7" name="TextBox 26"/>
          <p:cNvSpPr/>
          <p:nvPr/>
        </p:nvSpPr>
        <p:spPr>
          <a:xfrm>
            <a:off x="7560" y="6392880"/>
            <a:ext cx="374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27"/>
          <p:cNvSpPr/>
          <p:nvPr/>
        </p:nvSpPr>
        <p:spPr>
          <a:xfrm>
            <a:off x="397080" y="6390360"/>
            <a:ext cx="81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Straight Connector 39"/>
          <p:cNvCxnSpPr/>
          <p:nvPr/>
        </p:nvCxnSpPr>
        <p:spPr>
          <a:xfrm>
            <a:off x="761760" y="2208960"/>
            <a:ext cx="2097360" cy="360"/>
          </a:xfrm>
          <a:prstGeom prst="straightConnector1">
            <a:avLst/>
          </a:prstGeom>
          <a:ln w="12700">
            <a:solidFill>
              <a:srgbClr val="000000"/>
            </a:solidFill>
            <a:prstDash val="sysDash"/>
            <a:round/>
            <a:headEnd len="med" type="diamond" w="med"/>
          </a:ln>
        </p:spPr>
      </p:cxnSp>
      <p:cxnSp>
        <p:nvCxnSpPr>
          <p:cNvPr id="610" name="Straight Connector 38"/>
          <p:cNvCxnSpPr/>
          <p:nvPr/>
        </p:nvCxnSpPr>
        <p:spPr>
          <a:xfrm>
            <a:off x="2858760" y="2208960"/>
            <a:ext cx="1823400" cy="1601280"/>
          </a:xfrm>
          <a:prstGeom prst="straightConnector1">
            <a:avLst/>
          </a:prstGeom>
          <a:ln w="12700">
            <a:solidFill>
              <a:srgbClr val="000000"/>
            </a:solidFill>
            <a:prstDash val="sysDash"/>
            <a:round/>
          </a:ln>
        </p:spPr>
      </p:cxnSp>
      <p:sp>
        <p:nvSpPr>
          <p:cNvPr id="611" name="Freeform 95"/>
          <p:cNvSpPr/>
          <p:nvPr/>
        </p:nvSpPr>
        <p:spPr>
          <a:xfrm>
            <a:off x="4603680" y="3655080"/>
            <a:ext cx="156240" cy="210240"/>
          </a:xfrm>
          <a:custGeom>
            <a:avLst/>
            <a:gdLst>
              <a:gd name="textAreaLeft" fmla="*/ 0 w 156240"/>
              <a:gd name="textAreaRight" fmla="*/ 156600 w 156240"/>
              <a:gd name="textAreaTop" fmla="*/ 0 h 210240"/>
              <a:gd name="textAreaBottom" fmla="*/ 210600 h 210240"/>
            </a:gdLst>
            <a:ahLst/>
            <a:rect l="textAreaLeft" t="textAreaTop" r="textAreaRight" b="textAreaBottom"/>
            <a:pathLst>
              <a:path w="182" h="278">
                <a:moveTo>
                  <a:pt x="0" y="39"/>
                </a:moveTo>
                <a:lnTo>
                  <a:pt x="92" y="278"/>
                </a:lnTo>
                <a:lnTo>
                  <a:pt x="182" y="0"/>
                </a:lnTo>
                <a:lnTo>
                  <a:pt x="93" y="98"/>
                </a:lnTo>
                <a:lnTo>
                  <a:pt x="0" y="39"/>
                </a:lnTo>
                <a:close/>
              </a:path>
            </a:pathLst>
          </a:custGeom>
          <a:solidFill>
            <a:schemeClr val="tx2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12" name="TextBox 44"/>
          <p:cNvSpPr/>
          <p:nvPr/>
        </p:nvSpPr>
        <p:spPr>
          <a:xfrm>
            <a:off x="725760" y="1788480"/>
            <a:ext cx="16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rem Ipsum</a:t>
            </a:r>
            <a:r>
              <a:rPr b="0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replace te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ounded Rectangular Callout 117"/>
          <p:cNvSpPr/>
          <p:nvPr/>
        </p:nvSpPr>
        <p:spPr>
          <a:xfrm>
            <a:off x="6801480" y="4045320"/>
            <a:ext cx="1546200" cy="881640"/>
          </a:xfrm>
          <a:prstGeom prst="wedgeRoundRectCallout">
            <a:avLst>
              <a:gd name="adj1" fmla="val 31721"/>
              <a:gd name="adj2" fmla="val 66340"/>
              <a:gd name="adj3" fmla="val 16667"/>
            </a:avLst>
          </a:prstGeom>
          <a:gradFill rotWithShape="0">
            <a:gsLst>
              <a:gs pos="0">
                <a:srgbClr val="26628d"/>
              </a:gs>
              <a:gs pos="100000">
                <a:srgbClr val="3ba0e5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57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sp>
        <p:nvSpPr>
          <p:cNvPr id="614" name="TextBox 118"/>
          <p:cNvSpPr/>
          <p:nvPr/>
        </p:nvSpPr>
        <p:spPr>
          <a:xfrm>
            <a:off x="6826680" y="4177800"/>
            <a:ext cx="1485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f2f2f2"/>
                </a:solidFill>
                <a:latin typeface="Calibri"/>
                <a:ea typeface="ＭＳ Ｐゴシック"/>
              </a:rPr>
              <a:t>If you have one main object place it in the center for attention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568"/>
          <p:cNvGrpSpPr/>
          <p:nvPr/>
        </p:nvGrpSpPr>
        <p:grpSpPr>
          <a:xfrm>
            <a:off x="7615440" y="4620960"/>
            <a:ext cx="1288800" cy="1515600"/>
            <a:chOff x="7615440" y="4620960"/>
            <a:chExt cx="1288800" cy="1515600"/>
          </a:xfrm>
        </p:grpSpPr>
        <p:sp>
          <p:nvSpPr>
            <p:cNvPr id="616" name="Oval 66"/>
            <p:cNvSpPr/>
            <p:nvPr/>
          </p:nvSpPr>
          <p:spPr>
            <a:xfrm>
              <a:off x="7920000" y="5882400"/>
              <a:ext cx="716040" cy="232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a4c1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pic>
          <p:nvPicPr>
            <p:cNvPr id="617" name="Picture 4" descr="H:\SLIDESHOP\3D man\rev1\3\2.png"/>
            <p:cNvPicPr/>
            <p:nvPr/>
          </p:nvPicPr>
          <p:blipFill>
            <a:blip r:embed="rId1"/>
            <a:stretch/>
          </p:blipFill>
          <p:spPr>
            <a:xfrm>
              <a:off x="7824600" y="4907880"/>
              <a:ext cx="855360" cy="1228680"/>
            </a:xfrm>
            <a:prstGeom prst="rect">
              <a:avLst/>
            </a:prstGeom>
            <a:ln w="0">
              <a:noFill/>
            </a:ln>
            <a:effectLst>
              <a:outerShdw blurRad="50760" dir="2700000" dist="37674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618" name="Picture 5" descr="H:\SLIDESHOP\3D man\rev1\3\red.png"/>
            <p:cNvPicPr/>
            <p:nvPr/>
          </p:nvPicPr>
          <p:blipFill>
            <a:blip r:embed="rId2"/>
            <a:stretch/>
          </p:blipFill>
          <p:spPr>
            <a:xfrm>
              <a:off x="7615440" y="4620960"/>
              <a:ext cx="1288800" cy="1091160"/>
            </a:xfrm>
            <a:prstGeom prst="rect">
              <a:avLst/>
            </a:prstGeom>
            <a:ln w="0">
              <a:noFill/>
            </a:ln>
            <a:effectLst>
              <a:outerShdw blurRad="50760" dir="2700000" dist="37674" rotWithShape="0">
                <a:srgbClr val="000000">
                  <a:alpha val="43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56"/>
          <p:cNvSpPr/>
          <p:nvPr/>
        </p:nvSpPr>
        <p:spPr>
          <a:xfrm>
            <a:off x="718560" y="2277720"/>
            <a:ext cx="2683440" cy="2277000"/>
          </a:xfrm>
          <a:prstGeom prst="rect">
            <a:avLst/>
          </a:prstGeom>
          <a:solidFill>
            <a:schemeClr val="bg1"/>
          </a:solidFill>
          <a:ln w="6350">
            <a:solidFill>
              <a:srgbClr val="ffffff">
                <a:lumMod val="8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sp>
        <p:nvSpPr>
          <p:cNvPr id="620" name="TextBox 3"/>
          <p:cNvSpPr/>
          <p:nvPr/>
        </p:nvSpPr>
        <p:spPr>
          <a:xfrm>
            <a:off x="3327480" y="559800"/>
            <a:ext cx="24886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YRA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lace this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Straight Connector 4"/>
          <p:cNvCxnSpPr/>
          <p:nvPr/>
        </p:nvCxnSpPr>
        <p:spPr>
          <a:xfrm>
            <a:off x="2963160" y="1073160"/>
            <a:ext cx="3302280" cy="360"/>
          </a:xfrm>
          <a:prstGeom prst="straightConnector1">
            <a:avLst/>
          </a:prstGeom>
          <a:ln w="127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grpSp>
        <p:nvGrpSpPr>
          <p:cNvPr id="622" name="Group 1"/>
          <p:cNvGrpSpPr/>
          <p:nvPr/>
        </p:nvGrpSpPr>
        <p:grpSpPr>
          <a:xfrm>
            <a:off x="2595240" y="1503360"/>
            <a:ext cx="6201720" cy="4087800"/>
            <a:chOff x="2595240" y="1503360"/>
            <a:chExt cx="6201720" cy="4087800"/>
          </a:xfrm>
        </p:grpSpPr>
        <p:cxnSp>
          <p:nvCxnSpPr>
            <p:cNvPr id="623" name="Straight Connector 57"/>
            <p:cNvCxnSpPr/>
            <p:nvPr/>
          </p:nvCxnSpPr>
          <p:spPr>
            <a:xfrm>
              <a:off x="6854400" y="3359880"/>
              <a:ext cx="360" cy="360"/>
            </a:xfrm>
            <a:prstGeom prst="straightConnector1">
              <a:avLst/>
            </a:prstGeom>
            <a:ln w="6350">
              <a:solidFill>
                <a:srgbClr val="ffffff">
                  <a:lumMod val="85000"/>
                </a:srgbClr>
              </a:solidFill>
              <a:round/>
            </a:ln>
          </p:spPr>
        </p:cxnSp>
        <p:grpSp>
          <p:nvGrpSpPr>
            <p:cNvPr id="624" name="Group 54"/>
            <p:cNvGrpSpPr/>
            <p:nvPr/>
          </p:nvGrpSpPr>
          <p:grpSpPr>
            <a:xfrm>
              <a:off x="3578400" y="1503360"/>
              <a:ext cx="2193480" cy="2030040"/>
              <a:chOff x="3578400" y="1503360"/>
              <a:chExt cx="2193480" cy="2030040"/>
            </a:xfrm>
          </p:grpSpPr>
          <p:sp>
            <p:nvSpPr>
              <p:cNvPr id="625" name="Freeform 71"/>
              <p:cNvSpPr/>
              <p:nvPr/>
            </p:nvSpPr>
            <p:spPr>
              <a:xfrm rot="376800">
                <a:off x="3673080" y="1583640"/>
                <a:ext cx="1569600" cy="1819440"/>
              </a:xfrm>
              <a:custGeom>
                <a:avLst/>
                <a:gdLst>
                  <a:gd name="textAreaLeft" fmla="*/ 0 w 1569600"/>
                  <a:gd name="textAreaRight" fmla="*/ 1569960 w 1569600"/>
                  <a:gd name="textAreaTop" fmla="*/ 0 h 1819440"/>
                  <a:gd name="textAreaBottom" fmla="*/ 1819800 h 1819440"/>
                </a:gdLst>
                <a:ahLst/>
                <a:rect l="textAreaLeft" t="textAreaTop" r="textAreaRight" b="textAreaBottom"/>
                <a:pathLst>
                  <a:path w="1378" h="1194">
                    <a:moveTo>
                      <a:pt x="0" y="1194"/>
                    </a:moveTo>
                    <a:lnTo>
                      <a:pt x="638" y="1194"/>
                    </a:lnTo>
                    <a:lnTo>
                      <a:pt x="638" y="1194"/>
                    </a:lnTo>
                    <a:lnTo>
                      <a:pt x="638" y="1184"/>
                    </a:lnTo>
                    <a:lnTo>
                      <a:pt x="638" y="1138"/>
                    </a:lnTo>
                    <a:lnTo>
                      <a:pt x="638" y="1138"/>
                    </a:lnTo>
                    <a:lnTo>
                      <a:pt x="636" y="1128"/>
                    </a:lnTo>
                    <a:lnTo>
                      <a:pt x="632" y="1122"/>
                    </a:lnTo>
                    <a:lnTo>
                      <a:pt x="632" y="1122"/>
                    </a:lnTo>
                    <a:lnTo>
                      <a:pt x="624" y="1114"/>
                    </a:lnTo>
                    <a:lnTo>
                      <a:pt x="608" y="1094"/>
                    </a:lnTo>
                    <a:lnTo>
                      <a:pt x="600" y="1080"/>
                    </a:lnTo>
                    <a:lnTo>
                      <a:pt x="592" y="1066"/>
                    </a:lnTo>
                    <a:lnTo>
                      <a:pt x="586" y="1052"/>
                    </a:lnTo>
                    <a:lnTo>
                      <a:pt x="584" y="1036"/>
                    </a:lnTo>
                    <a:lnTo>
                      <a:pt x="584" y="1036"/>
                    </a:lnTo>
                    <a:lnTo>
                      <a:pt x="586" y="1014"/>
                    </a:lnTo>
                    <a:lnTo>
                      <a:pt x="590" y="992"/>
                    </a:lnTo>
                    <a:lnTo>
                      <a:pt x="598" y="972"/>
                    </a:lnTo>
                    <a:lnTo>
                      <a:pt x="608" y="954"/>
                    </a:lnTo>
                    <a:lnTo>
                      <a:pt x="616" y="944"/>
                    </a:lnTo>
                    <a:lnTo>
                      <a:pt x="622" y="936"/>
                    </a:lnTo>
                    <a:lnTo>
                      <a:pt x="632" y="930"/>
                    </a:lnTo>
                    <a:lnTo>
                      <a:pt x="640" y="924"/>
                    </a:lnTo>
                    <a:lnTo>
                      <a:pt x="652" y="918"/>
                    </a:lnTo>
                    <a:lnTo>
                      <a:pt x="662" y="914"/>
                    </a:lnTo>
                    <a:lnTo>
                      <a:pt x="676" y="912"/>
                    </a:lnTo>
                    <a:lnTo>
                      <a:pt x="688" y="910"/>
                    </a:lnTo>
                    <a:lnTo>
                      <a:pt x="688" y="910"/>
                    </a:lnTo>
                    <a:lnTo>
                      <a:pt x="700" y="910"/>
                    </a:lnTo>
                    <a:lnTo>
                      <a:pt x="710" y="912"/>
                    </a:lnTo>
                    <a:lnTo>
                      <a:pt x="720" y="916"/>
                    </a:lnTo>
                    <a:lnTo>
                      <a:pt x="730" y="920"/>
                    </a:lnTo>
                    <a:lnTo>
                      <a:pt x="740" y="926"/>
                    </a:lnTo>
                    <a:lnTo>
                      <a:pt x="748" y="934"/>
                    </a:lnTo>
                    <a:lnTo>
                      <a:pt x="764" y="950"/>
                    </a:lnTo>
                    <a:lnTo>
                      <a:pt x="776" y="970"/>
                    </a:lnTo>
                    <a:lnTo>
                      <a:pt x="786" y="992"/>
                    </a:lnTo>
                    <a:lnTo>
                      <a:pt x="794" y="1014"/>
                    </a:lnTo>
                    <a:lnTo>
                      <a:pt x="796" y="1036"/>
                    </a:lnTo>
                    <a:lnTo>
                      <a:pt x="796" y="1036"/>
                    </a:lnTo>
                    <a:lnTo>
                      <a:pt x="794" y="1052"/>
                    </a:lnTo>
                    <a:lnTo>
                      <a:pt x="788" y="1066"/>
                    </a:lnTo>
                    <a:lnTo>
                      <a:pt x="780" y="1080"/>
                    </a:lnTo>
                    <a:lnTo>
                      <a:pt x="772" y="1094"/>
                    </a:lnTo>
                    <a:lnTo>
                      <a:pt x="756" y="1114"/>
                    </a:lnTo>
                    <a:lnTo>
                      <a:pt x="748" y="1122"/>
                    </a:lnTo>
                    <a:lnTo>
                      <a:pt x="748" y="1122"/>
                    </a:lnTo>
                    <a:lnTo>
                      <a:pt x="744" y="1128"/>
                    </a:lnTo>
                    <a:lnTo>
                      <a:pt x="742" y="1138"/>
                    </a:lnTo>
                    <a:lnTo>
                      <a:pt x="742" y="1184"/>
                    </a:lnTo>
                    <a:lnTo>
                      <a:pt x="742" y="1184"/>
                    </a:lnTo>
                    <a:lnTo>
                      <a:pt x="742" y="1194"/>
                    </a:lnTo>
                    <a:lnTo>
                      <a:pt x="1378" y="1194"/>
                    </a:lnTo>
                    <a:lnTo>
                      <a:pt x="690" y="0"/>
                    </a:lnTo>
                    <a:lnTo>
                      <a:pt x="0" y="1194"/>
                    </a:lnTo>
                    <a:lnTo>
                      <a:pt x="0" y="1194"/>
                    </a:lnTo>
                    <a:lnTo>
                      <a:pt x="0" y="1194"/>
                    </a:lnTo>
                    <a:lnTo>
                      <a:pt x="0" y="1194"/>
                    </a:lnTo>
                    <a:close/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19050">
                <a:solidFill>
                  <a:srgbClr val="1f497d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d0d0d"/>
                  </a:solidFill>
                  <a:latin typeface="Calibri"/>
                </a:endParaRPr>
              </a:p>
            </p:txBody>
          </p:sp>
          <p:sp>
            <p:nvSpPr>
              <p:cNvPr id="626" name="Freeform 72"/>
              <p:cNvSpPr/>
              <p:nvPr/>
            </p:nvSpPr>
            <p:spPr>
              <a:xfrm rot="376800">
                <a:off x="4448880" y="1649160"/>
                <a:ext cx="1226520" cy="1822680"/>
              </a:xfrm>
              <a:custGeom>
                <a:avLst/>
                <a:gdLst>
                  <a:gd name="textAreaLeft" fmla="*/ 0 w 1226520"/>
                  <a:gd name="textAreaRight" fmla="*/ 1226880 w 1226520"/>
                  <a:gd name="textAreaTop" fmla="*/ 0 h 1822680"/>
                  <a:gd name="textAreaBottom" fmla="*/ 1823040 h 1822680"/>
                </a:gdLst>
                <a:ahLst/>
                <a:rect l="textAreaLeft" t="textAreaTop" r="textAreaRight" b="textAreaBottom"/>
                <a:pathLst>
                  <a:path w="1076" h="1196">
                    <a:moveTo>
                      <a:pt x="694" y="1196"/>
                    </a:moveTo>
                    <a:lnTo>
                      <a:pt x="870" y="1108"/>
                    </a:lnTo>
                    <a:lnTo>
                      <a:pt x="870" y="1108"/>
                    </a:lnTo>
                    <a:lnTo>
                      <a:pt x="864" y="1098"/>
                    </a:lnTo>
                    <a:lnTo>
                      <a:pt x="828" y="1056"/>
                    </a:lnTo>
                    <a:lnTo>
                      <a:pt x="828" y="1056"/>
                    </a:lnTo>
                    <a:lnTo>
                      <a:pt x="814" y="1040"/>
                    </a:lnTo>
                    <a:lnTo>
                      <a:pt x="814" y="1040"/>
                    </a:lnTo>
                    <a:lnTo>
                      <a:pt x="788" y="1018"/>
                    </a:lnTo>
                    <a:lnTo>
                      <a:pt x="762" y="996"/>
                    </a:lnTo>
                    <a:lnTo>
                      <a:pt x="738" y="970"/>
                    </a:lnTo>
                    <a:lnTo>
                      <a:pt x="738" y="970"/>
                    </a:lnTo>
                    <a:lnTo>
                      <a:pt x="708" y="928"/>
                    </a:lnTo>
                    <a:lnTo>
                      <a:pt x="694" y="908"/>
                    </a:lnTo>
                    <a:lnTo>
                      <a:pt x="684" y="890"/>
                    </a:lnTo>
                    <a:lnTo>
                      <a:pt x="676" y="872"/>
                    </a:lnTo>
                    <a:lnTo>
                      <a:pt x="670" y="858"/>
                    </a:lnTo>
                    <a:lnTo>
                      <a:pt x="670" y="846"/>
                    </a:lnTo>
                    <a:lnTo>
                      <a:pt x="672" y="842"/>
                    </a:lnTo>
                    <a:lnTo>
                      <a:pt x="674" y="838"/>
                    </a:lnTo>
                    <a:lnTo>
                      <a:pt x="674" y="838"/>
                    </a:lnTo>
                    <a:lnTo>
                      <a:pt x="678" y="838"/>
                    </a:lnTo>
                    <a:lnTo>
                      <a:pt x="682" y="838"/>
                    </a:lnTo>
                    <a:lnTo>
                      <a:pt x="694" y="842"/>
                    </a:lnTo>
                    <a:lnTo>
                      <a:pt x="708" y="852"/>
                    </a:lnTo>
                    <a:lnTo>
                      <a:pt x="724" y="866"/>
                    </a:lnTo>
                    <a:lnTo>
                      <a:pt x="742" y="882"/>
                    </a:lnTo>
                    <a:lnTo>
                      <a:pt x="762" y="900"/>
                    </a:lnTo>
                    <a:lnTo>
                      <a:pt x="780" y="920"/>
                    </a:lnTo>
                    <a:lnTo>
                      <a:pt x="798" y="940"/>
                    </a:lnTo>
                    <a:lnTo>
                      <a:pt x="798" y="940"/>
                    </a:lnTo>
                    <a:lnTo>
                      <a:pt x="818" y="968"/>
                    </a:lnTo>
                    <a:lnTo>
                      <a:pt x="832" y="996"/>
                    </a:lnTo>
                    <a:lnTo>
                      <a:pt x="846" y="1024"/>
                    </a:lnTo>
                    <a:lnTo>
                      <a:pt x="846" y="1024"/>
                    </a:lnTo>
                    <a:lnTo>
                      <a:pt x="858" y="1040"/>
                    </a:lnTo>
                    <a:lnTo>
                      <a:pt x="892" y="1084"/>
                    </a:lnTo>
                    <a:lnTo>
                      <a:pt x="892" y="1084"/>
                    </a:lnTo>
                    <a:lnTo>
                      <a:pt x="898" y="1092"/>
                    </a:lnTo>
                    <a:lnTo>
                      <a:pt x="1076" y="1002"/>
                    </a:lnTo>
                    <a:lnTo>
                      <a:pt x="0" y="0"/>
                    </a:lnTo>
                    <a:lnTo>
                      <a:pt x="694" y="1196"/>
                    </a:lnTo>
                    <a:lnTo>
                      <a:pt x="694" y="1196"/>
                    </a:lnTo>
                    <a:lnTo>
                      <a:pt x="694" y="1196"/>
                    </a:lnTo>
                    <a:lnTo>
                      <a:pt x="694" y="1196"/>
                    </a:lnTo>
                    <a:close/>
                  </a:path>
                </a:pathLst>
              </a:custGeom>
              <a:solidFill>
                <a:schemeClr val="tx2">
                  <a:lumMod val="75000"/>
                </a:schemeClr>
              </a:solidFill>
              <a:ln w="19050">
                <a:solidFill>
                  <a:srgbClr val="1f497d">
                    <a:lumMod val="7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d0d0d"/>
                  </a:solidFill>
                  <a:latin typeface="Calibri"/>
                </a:endParaRPr>
              </a:p>
            </p:txBody>
          </p:sp>
        </p:grpSp>
        <p:grpSp>
          <p:nvGrpSpPr>
            <p:cNvPr id="627" name="Group 55"/>
            <p:cNvGrpSpPr/>
            <p:nvPr/>
          </p:nvGrpSpPr>
          <p:grpSpPr>
            <a:xfrm>
              <a:off x="2595240" y="2882520"/>
              <a:ext cx="4234680" cy="2551680"/>
              <a:chOff x="2595240" y="2882520"/>
              <a:chExt cx="4234680" cy="2551680"/>
            </a:xfrm>
          </p:grpSpPr>
          <p:sp>
            <p:nvSpPr>
              <p:cNvPr id="628" name="Freeform 63"/>
              <p:cNvSpPr/>
              <p:nvPr/>
            </p:nvSpPr>
            <p:spPr>
              <a:xfrm rot="376800">
                <a:off x="2689920" y="3313440"/>
                <a:ext cx="1572480" cy="1819440"/>
              </a:xfrm>
              <a:custGeom>
                <a:avLst/>
                <a:gdLst>
                  <a:gd name="textAreaLeft" fmla="*/ 0 w 1572480"/>
                  <a:gd name="textAreaRight" fmla="*/ 1572840 w 1572480"/>
                  <a:gd name="textAreaTop" fmla="*/ 0 h 1819440"/>
                  <a:gd name="textAreaBottom" fmla="*/ 1819800 h 1819440"/>
                </a:gdLst>
                <a:ahLst/>
                <a:rect l="textAreaLeft" t="textAreaTop" r="textAreaRight" b="textAreaBottom"/>
                <a:pathLst>
                  <a:path w="1378" h="1194">
                    <a:moveTo>
                      <a:pt x="1046" y="634"/>
                    </a:moveTo>
                    <a:lnTo>
                      <a:pt x="1006" y="658"/>
                    </a:lnTo>
                    <a:lnTo>
                      <a:pt x="1006" y="658"/>
                    </a:lnTo>
                    <a:lnTo>
                      <a:pt x="1000" y="664"/>
                    </a:lnTo>
                    <a:lnTo>
                      <a:pt x="996" y="672"/>
                    </a:lnTo>
                    <a:lnTo>
                      <a:pt x="996" y="672"/>
                    </a:lnTo>
                    <a:lnTo>
                      <a:pt x="992" y="684"/>
                    </a:lnTo>
                    <a:lnTo>
                      <a:pt x="984" y="706"/>
                    </a:lnTo>
                    <a:lnTo>
                      <a:pt x="976" y="720"/>
                    </a:lnTo>
                    <a:lnTo>
                      <a:pt x="968" y="734"/>
                    </a:lnTo>
                    <a:lnTo>
                      <a:pt x="958" y="746"/>
                    </a:lnTo>
                    <a:lnTo>
                      <a:pt x="946" y="756"/>
                    </a:lnTo>
                    <a:lnTo>
                      <a:pt x="946" y="756"/>
                    </a:lnTo>
                    <a:lnTo>
                      <a:pt x="926" y="766"/>
                    </a:lnTo>
                    <a:lnTo>
                      <a:pt x="902" y="772"/>
                    </a:lnTo>
                    <a:lnTo>
                      <a:pt x="880" y="774"/>
                    </a:lnTo>
                    <a:lnTo>
                      <a:pt x="856" y="772"/>
                    </a:lnTo>
                    <a:lnTo>
                      <a:pt x="832" y="766"/>
                    </a:lnTo>
                    <a:lnTo>
                      <a:pt x="822" y="762"/>
                    </a:lnTo>
                    <a:lnTo>
                      <a:pt x="812" y="758"/>
                    </a:lnTo>
                    <a:lnTo>
                      <a:pt x="804" y="752"/>
                    </a:lnTo>
                    <a:lnTo>
                      <a:pt x="796" y="744"/>
                    </a:lnTo>
                    <a:lnTo>
                      <a:pt x="788" y="736"/>
                    </a:lnTo>
                    <a:lnTo>
                      <a:pt x="782" y="728"/>
                    </a:lnTo>
                    <a:lnTo>
                      <a:pt x="782" y="728"/>
                    </a:lnTo>
                    <a:lnTo>
                      <a:pt x="778" y="714"/>
                    </a:lnTo>
                    <a:lnTo>
                      <a:pt x="774" y="702"/>
                    </a:lnTo>
                    <a:lnTo>
                      <a:pt x="770" y="690"/>
                    </a:lnTo>
                    <a:lnTo>
                      <a:pt x="770" y="680"/>
                    </a:lnTo>
                    <a:lnTo>
                      <a:pt x="770" y="668"/>
                    </a:lnTo>
                    <a:lnTo>
                      <a:pt x="772" y="658"/>
                    </a:lnTo>
                    <a:lnTo>
                      <a:pt x="776" y="646"/>
                    </a:lnTo>
                    <a:lnTo>
                      <a:pt x="780" y="636"/>
                    </a:lnTo>
                    <a:lnTo>
                      <a:pt x="790" y="618"/>
                    </a:lnTo>
                    <a:lnTo>
                      <a:pt x="804" y="600"/>
                    </a:lnTo>
                    <a:lnTo>
                      <a:pt x="822" y="586"/>
                    </a:lnTo>
                    <a:lnTo>
                      <a:pt x="840" y="574"/>
                    </a:lnTo>
                    <a:lnTo>
                      <a:pt x="840" y="574"/>
                    </a:lnTo>
                    <a:lnTo>
                      <a:pt x="854" y="568"/>
                    </a:lnTo>
                    <a:lnTo>
                      <a:pt x="870" y="566"/>
                    </a:lnTo>
                    <a:lnTo>
                      <a:pt x="886" y="564"/>
                    </a:lnTo>
                    <a:lnTo>
                      <a:pt x="900" y="566"/>
                    </a:lnTo>
                    <a:lnTo>
                      <a:pt x="926" y="570"/>
                    </a:lnTo>
                    <a:lnTo>
                      <a:pt x="936" y="572"/>
                    </a:lnTo>
                    <a:lnTo>
                      <a:pt x="936" y="572"/>
                    </a:lnTo>
                    <a:lnTo>
                      <a:pt x="946" y="572"/>
                    </a:lnTo>
                    <a:lnTo>
                      <a:pt x="954" y="570"/>
                    </a:lnTo>
                    <a:lnTo>
                      <a:pt x="994" y="546"/>
                    </a:lnTo>
                    <a:lnTo>
                      <a:pt x="994" y="546"/>
                    </a:lnTo>
                    <a:lnTo>
                      <a:pt x="1002" y="542"/>
                    </a:lnTo>
                    <a:lnTo>
                      <a:pt x="688" y="0"/>
                    </a:lnTo>
                    <a:lnTo>
                      <a:pt x="0" y="1194"/>
                    </a:lnTo>
                    <a:lnTo>
                      <a:pt x="1378" y="1194"/>
                    </a:lnTo>
                    <a:lnTo>
                      <a:pt x="1052" y="630"/>
                    </a:lnTo>
                    <a:lnTo>
                      <a:pt x="1052" y="630"/>
                    </a:lnTo>
                    <a:lnTo>
                      <a:pt x="1046" y="634"/>
                    </a:lnTo>
                    <a:lnTo>
                      <a:pt x="1046" y="6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6572000"/>
              </a:gradFill>
              <a:ln w="3175">
                <a:solidFill>
                  <a:srgbClr val="ffffff">
                    <a:lumMod val="8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d0d0d"/>
                  </a:solidFill>
                  <a:latin typeface="Calibri"/>
                </a:endParaRPr>
              </a:p>
            </p:txBody>
          </p:sp>
          <p:sp>
            <p:nvSpPr>
              <p:cNvPr id="629" name="Rectangle 64"/>
              <p:cNvSpPr/>
              <p:nvPr/>
            </p:nvSpPr>
            <p:spPr>
              <a:xfrm rot="376800">
                <a:off x="4164480" y="5214960"/>
                <a:ext cx="720" cy="1080"/>
              </a:xfrm>
              <a:prstGeom prst="rect">
                <a:avLst/>
              </a:prstGeom>
              <a:solidFill>
                <a:srgbClr val="ffffff"/>
              </a:solidFill>
              <a:ln w="8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630" name="Rectangle 65"/>
              <p:cNvSpPr/>
              <p:nvPr/>
            </p:nvSpPr>
            <p:spPr>
              <a:xfrm rot="376800">
                <a:off x="4164480" y="5214960"/>
                <a:ext cx="720" cy="1080"/>
              </a:xfrm>
              <a:prstGeom prst="rect">
                <a:avLst/>
              </a:prstGeom>
              <a:solidFill>
                <a:srgbClr val="ffffff"/>
              </a:solidFill>
              <a:ln w="8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631" name="Rectangle 66"/>
              <p:cNvSpPr/>
              <p:nvPr/>
            </p:nvSpPr>
            <p:spPr>
              <a:xfrm rot="376800">
                <a:off x="3581280" y="3319920"/>
                <a:ext cx="720" cy="1080"/>
              </a:xfrm>
              <a:prstGeom prst="rect">
                <a:avLst/>
              </a:prstGeom>
              <a:solidFill>
                <a:srgbClr val="c151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632" name="Rectangle 67"/>
              <p:cNvSpPr/>
              <p:nvPr/>
            </p:nvSpPr>
            <p:spPr>
              <a:xfrm rot="376800">
                <a:off x="3581280" y="3319920"/>
                <a:ext cx="720" cy="1080"/>
              </a:xfrm>
              <a:prstGeom prst="rect">
                <a:avLst/>
              </a:prstGeom>
              <a:solidFill>
                <a:srgbClr val="c151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633" name="Rectangle 68"/>
              <p:cNvSpPr/>
              <p:nvPr/>
            </p:nvSpPr>
            <p:spPr>
              <a:xfrm rot="376800">
                <a:off x="3581280" y="3319920"/>
                <a:ext cx="720" cy="1080"/>
              </a:xfrm>
              <a:prstGeom prst="rect">
                <a:avLst/>
              </a:prstGeom>
              <a:solidFill>
                <a:srgbClr val="c151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634" name="Freeform 69"/>
              <p:cNvSpPr/>
              <p:nvPr/>
            </p:nvSpPr>
            <p:spPr>
              <a:xfrm rot="376800">
                <a:off x="3500640" y="2961720"/>
                <a:ext cx="1572480" cy="2252520"/>
              </a:xfrm>
              <a:custGeom>
                <a:avLst/>
                <a:gdLst>
                  <a:gd name="textAreaLeft" fmla="*/ 0 w 1572480"/>
                  <a:gd name="textAreaRight" fmla="*/ 1572840 w 1572480"/>
                  <a:gd name="textAreaTop" fmla="*/ 0 h 2252520"/>
                  <a:gd name="textAreaBottom" fmla="*/ 2252880 h 2252520"/>
                </a:gdLst>
                <a:ahLst/>
                <a:rect l="textAreaLeft" t="textAreaTop" r="textAreaRight" b="textAreaBottom"/>
                <a:pathLst>
                  <a:path w="1378" h="1478">
                    <a:moveTo>
                      <a:pt x="1226" y="860"/>
                    </a:moveTo>
                    <a:lnTo>
                      <a:pt x="1226" y="860"/>
                    </a:lnTo>
                    <a:lnTo>
                      <a:pt x="1212" y="854"/>
                    </a:lnTo>
                    <a:lnTo>
                      <a:pt x="1196" y="850"/>
                    </a:lnTo>
                    <a:lnTo>
                      <a:pt x="1180" y="850"/>
                    </a:lnTo>
                    <a:lnTo>
                      <a:pt x="1166" y="850"/>
                    </a:lnTo>
                    <a:lnTo>
                      <a:pt x="1140" y="854"/>
                    </a:lnTo>
                    <a:lnTo>
                      <a:pt x="1130" y="858"/>
                    </a:lnTo>
                    <a:lnTo>
                      <a:pt x="1130" y="858"/>
                    </a:lnTo>
                    <a:lnTo>
                      <a:pt x="1120" y="858"/>
                    </a:lnTo>
                    <a:lnTo>
                      <a:pt x="1112" y="856"/>
                    </a:lnTo>
                    <a:lnTo>
                      <a:pt x="1072" y="832"/>
                    </a:lnTo>
                    <a:lnTo>
                      <a:pt x="1072" y="832"/>
                    </a:lnTo>
                    <a:lnTo>
                      <a:pt x="1066" y="828"/>
                    </a:lnTo>
                    <a:lnTo>
                      <a:pt x="1378" y="284"/>
                    </a:lnTo>
                    <a:lnTo>
                      <a:pt x="1378" y="284"/>
                    </a:lnTo>
                    <a:lnTo>
                      <a:pt x="1378" y="284"/>
                    </a:lnTo>
                    <a:lnTo>
                      <a:pt x="742" y="284"/>
                    </a:lnTo>
                    <a:lnTo>
                      <a:pt x="742" y="284"/>
                    </a:lnTo>
                    <a:lnTo>
                      <a:pt x="742" y="274"/>
                    </a:lnTo>
                    <a:lnTo>
                      <a:pt x="742" y="228"/>
                    </a:lnTo>
                    <a:lnTo>
                      <a:pt x="742" y="228"/>
                    </a:lnTo>
                    <a:lnTo>
                      <a:pt x="744" y="218"/>
                    </a:lnTo>
                    <a:lnTo>
                      <a:pt x="748" y="212"/>
                    </a:lnTo>
                    <a:lnTo>
                      <a:pt x="748" y="212"/>
                    </a:lnTo>
                    <a:lnTo>
                      <a:pt x="756" y="204"/>
                    </a:lnTo>
                    <a:lnTo>
                      <a:pt x="772" y="184"/>
                    </a:lnTo>
                    <a:lnTo>
                      <a:pt x="780" y="170"/>
                    </a:lnTo>
                    <a:lnTo>
                      <a:pt x="788" y="156"/>
                    </a:lnTo>
                    <a:lnTo>
                      <a:pt x="794" y="142"/>
                    </a:lnTo>
                    <a:lnTo>
                      <a:pt x="796" y="126"/>
                    </a:lnTo>
                    <a:lnTo>
                      <a:pt x="796" y="126"/>
                    </a:lnTo>
                    <a:lnTo>
                      <a:pt x="794" y="104"/>
                    </a:lnTo>
                    <a:lnTo>
                      <a:pt x="786" y="82"/>
                    </a:lnTo>
                    <a:lnTo>
                      <a:pt x="776" y="60"/>
                    </a:lnTo>
                    <a:lnTo>
                      <a:pt x="764" y="40"/>
                    </a:lnTo>
                    <a:lnTo>
                      <a:pt x="748" y="24"/>
                    </a:lnTo>
                    <a:lnTo>
                      <a:pt x="740" y="16"/>
                    </a:lnTo>
                    <a:lnTo>
                      <a:pt x="730" y="10"/>
                    </a:lnTo>
                    <a:lnTo>
                      <a:pt x="720" y="6"/>
                    </a:lnTo>
                    <a:lnTo>
                      <a:pt x="710" y="2"/>
                    </a:lnTo>
                    <a:lnTo>
                      <a:pt x="700" y="0"/>
                    </a:lnTo>
                    <a:lnTo>
                      <a:pt x="688" y="0"/>
                    </a:lnTo>
                    <a:lnTo>
                      <a:pt x="688" y="0"/>
                    </a:lnTo>
                    <a:lnTo>
                      <a:pt x="676" y="2"/>
                    </a:lnTo>
                    <a:lnTo>
                      <a:pt x="662" y="4"/>
                    </a:lnTo>
                    <a:lnTo>
                      <a:pt x="652" y="8"/>
                    </a:lnTo>
                    <a:lnTo>
                      <a:pt x="640" y="14"/>
                    </a:lnTo>
                    <a:lnTo>
                      <a:pt x="632" y="20"/>
                    </a:lnTo>
                    <a:lnTo>
                      <a:pt x="622" y="26"/>
                    </a:lnTo>
                    <a:lnTo>
                      <a:pt x="616" y="34"/>
                    </a:lnTo>
                    <a:lnTo>
                      <a:pt x="608" y="44"/>
                    </a:lnTo>
                    <a:lnTo>
                      <a:pt x="598" y="62"/>
                    </a:lnTo>
                    <a:lnTo>
                      <a:pt x="590" y="82"/>
                    </a:lnTo>
                    <a:lnTo>
                      <a:pt x="586" y="104"/>
                    </a:lnTo>
                    <a:lnTo>
                      <a:pt x="584" y="126"/>
                    </a:lnTo>
                    <a:lnTo>
                      <a:pt x="584" y="126"/>
                    </a:lnTo>
                    <a:lnTo>
                      <a:pt x="586" y="142"/>
                    </a:lnTo>
                    <a:lnTo>
                      <a:pt x="592" y="156"/>
                    </a:lnTo>
                    <a:lnTo>
                      <a:pt x="600" y="170"/>
                    </a:lnTo>
                    <a:lnTo>
                      <a:pt x="608" y="184"/>
                    </a:lnTo>
                    <a:lnTo>
                      <a:pt x="624" y="204"/>
                    </a:lnTo>
                    <a:lnTo>
                      <a:pt x="632" y="212"/>
                    </a:lnTo>
                    <a:lnTo>
                      <a:pt x="632" y="212"/>
                    </a:lnTo>
                    <a:lnTo>
                      <a:pt x="636" y="218"/>
                    </a:lnTo>
                    <a:lnTo>
                      <a:pt x="638" y="228"/>
                    </a:lnTo>
                    <a:lnTo>
                      <a:pt x="638" y="274"/>
                    </a:lnTo>
                    <a:lnTo>
                      <a:pt x="638" y="274"/>
                    </a:lnTo>
                    <a:lnTo>
                      <a:pt x="638" y="284"/>
                    </a:lnTo>
                    <a:lnTo>
                      <a:pt x="0" y="284"/>
                    </a:lnTo>
                    <a:lnTo>
                      <a:pt x="0" y="284"/>
                    </a:lnTo>
                    <a:lnTo>
                      <a:pt x="0" y="284"/>
                    </a:lnTo>
                    <a:lnTo>
                      <a:pt x="0" y="284"/>
                    </a:lnTo>
                    <a:lnTo>
                      <a:pt x="314" y="826"/>
                    </a:lnTo>
                    <a:lnTo>
                      <a:pt x="314" y="826"/>
                    </a:lnTo>
                    <a:lnTo>
                      <a:pt x="306" y="830"/>
                    </a:lnTo>
                    <a:lnTo>
                      <a:pt x="266" y="854"/>
                    </a:lnTo>
                    <a:lnTo>
                      <a:pt x="266" y="854"/>
                    </a:lnTo>
                    <a:lnTo>
                      <a:pt x="258" y="856"/>
                    </a:lnTo>
                    <a:lnTo>
                      <a:pt x="248" y="856"/>
                    </a:lnTo>
                    <a:lnTo>
                      <a:pt x="248" y="856"/>
                    </a:lnTo>
                    <a:lnTo>
                      <a:pt x="238" y="854"/>
                    </a:lnTo>
                    <a:lnTo>
                      <a:pt x="212" y="850"/>
                    </a:lnTo>
                    <a:lnTo>
                      <a:pt x="198" y="848"/>
                    </a:lnTo>
                    <a:lnTo>
                      <a:pt x="182" y="850"/>
                    </a:lnTo>
                    <a:lnTo>
                      <a:pt x="166" y="852"/>
                    </a:lnTo>
                    <a:lnTo>
                      <a:pt x="152" y="858"/>
                    </a:lnTo>
                    <a:lnTo>
                      <a:pt x="152" y="858"/>
                    </a:lnTo>
                    <a:lnTo>
                      <a:pt x="134" y="870"/>
                    </a:lnTo>
                    <a:lnTo>
                      <a:pt x="116" y="884"/>
                    </a:lnTo>
                    <a:lnTo>
                      <a:pt x="102" y="902"/>
                    </a:lnTo>
                    <a:lnTo>
                      <a:pt x="92" y="920"/>
                    </a:lnTo>
                    <a:lnTo>
                      <a:pt x="88" y="930"/>
                    </a:lnTo>
                    <a:lnTo>
                      <a:pt x="84" y="942"/>
                    </a:lnTo>
                    <a:lnTo>
                      <a:pt x="82" y="952"/>
                    </a:lnTo>
                    <a:lnTo>
                      <a:pt x="82" y="964"/>
                    </a:lnTo>
                    <a:lnTo>
                      <a:pt x="82" y="974"/>
                    </a:lnTo>
                    <a:lnTo>
                      <a:pt x="86" y="986"/>
                    </a:lnTo>
                    <a:lnTo>
                      <a:pt x="90" y="998"/>
                    </a:lnTo>
                    <a:lnTo>
                      <a:pt x="94" y="1012"/>
                    </a:lnTo>
                    <a:lnTo>
                      <a:pt x="94" y="1012"/>
                    </a:lnTo>
                    <a:lnTo>
                      <a:pt x="100" y="1020"/>
                    </a:lnTo>
                    <a:lnTo>
                      <a:pt x="108" y="1028"/>
                    </a:lnTo>
                    <a:lnTo>
                      <a:pt x="116" y="1036"/>
                    </a:lnTo>
                    <a:lnTo>
                      <a:pt x="124" y="1042"/>
                    </a:lnTo>
                    <a:lnTo>
                      <a:pt x="134" y="1046"/>
                    </a:lnTo>
                    <a:lnTo>
                      <a:pt x="144" y="1050"/>
                    </a:lnTo>
                    <a:lnTo>
                      <a:pt x="168" y="1056"/>
                    </a:lnTo>
                    <a:lnTo>
                      <a:pt x="192" y="1058"/>
                    </a:lnTo>
                    <a:lnTo>
                      <a:pt x="214" y="1056"/>
                    </a:lnTo>
                    <a:lnTo>
                      <a:pt x="238" y="1050"/>
                    </a:lnTo>
                    <a:lnTo>
                      <a:pt x="258" y="1040"/>
                    </a:lnTo>
                    <a:lnTo>
                      <a:pt x="258" y="1040"/>
                    </a:lnTo>
                    <a:lnTo>
                      <a:pt x="270" y="1030"/>
                    </a:lnTo>
                    <a:lnTo>
                      <a:pt x="280" y="1018"/>
                    </a:lnTo>
                    <a:lnTo>
                      <a:pt x="288" y="1004"/>
                    </a:lnTo>
                    <a:lnTo>
                      <a:pt x="296" y="990"/>
                    </a:lnTo>
                    <a:lnTo>
                      <a:pt x="304" y="968"/>
                    </a:lnTo>
                    <a:lnTo>
                      <a:pt x="308" y="956"/>
                    </a:lnTo>
                    <a:lnTo>
                      <a:pt x="308" y="956"/>
                    </a:lnTo>
                    <a:lnTo>
                      <a:pt x="312" y="948"/>
                    </a:lnTo>
                    <a:lnTo>
                      <a:pt x="318" y="942"/>
                    </a:lnTo>
                    <a:lnTo>
                      <a:pt x="358" y="918"/>
                    </a:lnTo>
                    <a:lnTo>
                      <a:pt x="358" y="918"/>
                    </a:lnTo>
                    <a:lnTo>
                      <a:pt x="364" y="914"/>
                    </a:lnTo>
                    <a:lnTo>
                      <a:pt x="690" y="1478"/>
                    </a:lnTo>
                    <a:lnTo>
                      <a:pt x="690" y="1478"/>
                    </a:lnTo>
                    <a:lnTo>
                      <a:pt x="690" y="1478"/>
                    </a:lnTo>
                    <a:lnTo>
                      <a:pt x="690" y="1478"/>
                    </a:lnTo>
                    <a:lnTo>
                      <a:pt x="690" y="1478"/>
                    </a:lnTo>
                    <a:lnTo>
                      <a:pt x="1014" y="916"/>
                    </a:lnTo>
                    <a:lnTo>
                      <a:pt x="1014" y="916"/>
                    </a:lnTo>
                    <a:lnTo>
                      <a:pt x="1020" y="920"/>
                    </a:lnTo>
                    <a:lnTo>
                      <a:pt x="1060" y="944"/>
                    </a:lnTo>
                    <a:lnTo>
                      <a:pt x="1060" y="944"/>
                    </a:lnTo>
                    <a:lnTo>
                      <a:pt x="1066" y="950"/>
                    </a:lnTo>
                    <a:lnTo>
                      <a:pt x="1070" y="958"/>
                    </a:lnTo>
                    <a:lnTo>
                      <a:pt x="1070" y="958"/>
                    </a:lnTo>
                    <a:lnTo>
                      <a:pt x="1074" y="968"/>
                    </a:lnTo>
                    <a:lnTo>
                      <a:pt x="1082" y="992"/>
                    </a:lnTo>
                    <a:lnTo>
                      <a:pt x="1090" y="1006"/>
                    </a:lnTo>
                    <a:lnTo>
                      <a:pt x="1098" y="1020"/>
                    </a:lnTo>
                    <a:lnTo>
                      <a:pt x="1108" y="1032"/>
                    </a:lnTo>
                    <a:lnTo>
                      <a:pt x="1120" y="1042"/>
                    </a:lnTo>
                    <a:lnTo>
                      <a:pt x="1120" y="1042"/>
                    </a:lnTo>
                    <a:lnTo>
                      <a:pt x="1140" y="1050"/>
                    </a:lnTo>
                    <a:lnTo>
                      <a:pt x="1164" y="1056"/>
                    </a:lnTo>
                    <a:lnTo>
                      <a:pt x="1186" y="1058"/>
                    </a:lnTo>
                    <a:lnTo>
                      <a:pt x="1210" y="1058"/>
                    </a:lnTo>
                    <a:lnTo>
                      <a:pt x="1234" y="1052"/>
                    </a:lnTo>
                    <a:lnTo>
                      <a:pt x="1244" y="1048"/>
                    </a:lnTo>
                    <a:lnTo>
                      <a:pt x="1254" y="1044"/>
                    </a:lnTo>
                    <a:lnTo>
                      <a:pt x="1262" y="1038"/>
                    </a:lnTo>
                    <a:lnTo>
                      <a:pt x="1270" y="1030"/>
                    </a:lnTo>
                    <a:lnTo>
                      <a:pt x="1278" y="1022"/>
                    </a:lnTo>
                    <a:lnTo>
                      <a:pt x="1284" y="1012"/>
                    </a:lnTo>
                    <a:lnTo>
                      <a:pt x="1284" y="1012"/>
                    </a:lnTo>
                    <a:lnTo>
                      <a:pt x="1288" y="1000"/>
                    </a:lnTo>
                    <a:lnTo>
                      <a:pt x="1292" y="988"/>
                    </a:lnTo>
                    <a:lnTo>
                      <a:pt x="1296" y="976"/>
                    </a:lnTo>
                    <a:lnTo>
                      <a:pt x="1296" y="964"/>
                    </a:lnTo>
                    <a:lnTo>
                      <a:pt x="1296" y="954"/>
                    </a:lnTo>
                    <a:lnTo>
                      <a:pt x="1294" y="942"/>
                    </a:lnTo>
                    <a:lnTo>
                      <a:pt x="1290" y="932"/>
                    </a:lnTo>
                    <a:lnTo>
                      <a:pt x="1286" y="922"/>
                    </a:lnTo>
                    <a:lnTo>
                      <a:pt x="1276" y="904"/>
                    </a:lnTo>
                    <a:lnTo>
                      <a:pt x="1262" y="886"/>
                    </a:lnTo>
                    <a:lnTo>
                      <a:pt x="1244" y="872"/>
                    </a:lnTo>
                    <a:lnTo>
                      <a:pt x="1226" y="860"/>
                    </a:lnTo>
                    <a:lnTo>
                      <a:pt x="1226" y="8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6572000"/>
              </a:gradFill>
              <a:ln w="3175">
                <a:solidFill>
                  <a:srgbClr val="ffffff">
                    <a:lumMod val="8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d0d0d"/>
                  </a:solidFill>
                  <a:latin typeface="Calibri"/>
                </a:endParaRPr>
              </a:p>
            </p:txBody>
          </p:sp>
          <p:sp>
            <p:nvSpPr>
              <p:cNvPr id="635" name="Rectangle 70"/>
              <p:cNvSpPr/>
              <p:nvPr/>
            </p:nvSpPr>
            <p:spPr>
              <a:xfrm rot="376800">
                <a:off x="4164480" y="5214960"/>
                <a:ext cx="720" cy="1080"/>
              </a:xfrm>
              <a:prstGeom prst="rect">
                <a:avLst/>
              </a:prstGeom>
              <a:solidFill>
                <a:srgbClr val="c151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grpSp>
            <p:nvGrpSpPr>
              <p:cNvPr id="636" name="Gruppe 55"/>
              <p:cNvGrpSpPr/>
              <p:nvPr/>
            </p:nvGrpSpPr>
            <p:grpSpPr>
              <a:xfrm>
                <a:off x="4157640" y="3405600"/>
                <a:ext cx="2199600" cy="2028600"/>
                <a:chOff x="4157640" y="3405600"/>
                <a:chExt cx="2199600" cy="2028600"/>
              </a:xfrm>
            </p:grpSpPr>
            <p:sp>
              <p:nvSpPr>
                <p:cNvPr id="637" name="Freeform 73"/>
                <p:cNvSpPr/>
                <p:nvPr/>
              </p:nvSpPr>
              <p:spPr>
                <a:xfrm rot="376800">
                  <a:off x="4252320" y="3485880"/>
                  <a:ext cx="1571040" cy="1819440"/>
                </a:xfrm>
                <a:custGeom>
                  <a:avLst/>
                  <a:gdLst>
                    <a:gd name="textAreaLeft" fmla="*/ 0 w 1571040"/>
                    <a:gd name="textAreaRight" fmla="*/ 1571400 w 1571040"/>
                    <a:gd name="textAreaTop" fmla="*/ 0 h 1819440"/>
                    <a:gd name="textAreaBottom" fmla="*/ 1819800 h 1819440"/>
                  </a:gdLst>
                  <a:ahLst/>
                  <a:rect l="textAreaLeft" t="textAreaTop" r="textAreaRight" b="textAreaBottom"/>
                  <a:pathLst>
                    <a:path w="1378" h="1194">
                      <a:moveTo>
                        <a:pt x="376" y="544"/>
                      </a:moveTo>
                      <a:lnTo>
                        <a:pt x="376" y="544"/>
                      </a:lnTo>
                      <a:lnTo>
                        <a:pt x="382" y="548"/>
                      </a:lnTo>
                      <a:lnTo>
                        <a:pt x="422" y="572"/>
                      </a:lnTo>
                      <a:lnTo>
                        <a:pt x="422" y="572"/>
                      </a:lnTo>
                      <a:lnTo>
                        <a:pt x="430" y="574"/>
                      </a:lnTo>
                      <a:lnTo>
                        <a:pt x="440" y="574"/>
                      </a:lnTo>
                      <a:lnTo>
                        <a:pt x="440" y="574"/>
                      </a:lnTo>
                      <a:lnTo>
                        <a:pt x="450" y="570"/>
                      </a:lnTo>
                      <a:lnTo>
                        <a:pt x="476" y="566"/>
                      </a:lnTo>
                      <a:lnTo>
                        <a:pt x="490" y="566"/>
                      </a:lnTo>
                      <a:lnTo>
                        <a:pt x="506" y="566"/>
                      </a:lnTo>
                      <a:lnTo>
                        <a:pt x="522" y="570"/>
                      </a:lnTo>
                      <a:lnTo>
                        <a:pt x="536" y="576"/>
                      </a:lnTo>
                      <a:lnTo>
                        <a:pt x="536" y="576"/>
                      </a:lnTo>
                      <a:lnTo>
                        <a:pt x="554" y="588"/>
                      </a:lnTo>
                      <a:lnTo>
                        <a:pt x="572" y="602"/>
                      </a:lnTo>
                      <a:lnTo>
                        <a:pt x="586" y="620"/>
                      </a:lnTo>
                      <a:lnTo>
                        <a:pt x="596" y="638"/>
                      </a:lnTo>
                      <a:lnTo>
                        <a:pt x="600" y="648"/>
                      </a:lnTo>
                      <a:lnTo>
                        <a:pt x="604" y="658"/>
                      </a:lnTo>
                      <a:lnTo>
                        <a:pt x="606" y="670"/>
                      </a:lnTo>
                      <a:lnTo>
                        <a:pt x="606" y="680"/>
                      </a:lnTo>
                      <a:lnTo>
                        <a:pt x="606" y="692"/>
                      </a:lnTo>
                      <a:lnTo>
                        <a:pt x="602" y="704"/>
                      </a:lnTo>
                      <a:lnTo>
                        <a:pt x="598" y="716"/>
                      </a:lnTo>
                      <a:lnTo>
                        <a:pt x="594" y="728"/>
                      </a:lnTo>
                      <a:lnTo>
                        <a:pt x="594" y="728"/>
                      </a:lnTo>
                      <a:lnTo>
                        <a:pt x="588" y="738"/>
                      </a:lnTo>
                      <a:lnTo>
                        <a:pt x="580" y="746"/>
                      </a:lnTo>
                      <a:lnTo>
                        <a:pt x="572" y="754"/>
                      </a:lnTo>
                      <a:lnTo>
                        <a:pt x="564" y="760"/>
                      </a:lnTo>
                      <a:lnTo>
                        <a:pt x="554" y="764"/>
                      </a:lnTo>
                      <a:lnTo>
                        <a:pt x="544" y="768"/>
                      </a:lnTo>
                      <a:lnTo>
                        <a:pt x="520" y="774"/>
                      </a:lnTo>
                      <a:lnTo>
                        <a:pt x="496" y="774"/>
                      </a:lnTo>
                      <a:lnTo>
                        <a:pt x="474" y="772"/>
                      </a:lnTo>
                      <a:lnTo>
                        <a:pt x="450" y="766"/>
                      </a:lnTo>
                      <a:lnTo>
                        <a:pt x="430" y="758"/>
                      </a:lnTo>
                      <a:lnTo>
                        <a:pt x="430" y="758"/>
                      </a:lnTo>
                      <a:lnTo>
                        <a:pt x="418" y="748"/>
                      </a:lnTo>
                      <a:lnTo>
                        <a:pt x="408" y="736"/>
                      </a:lnTo>
                      <a:lnTo>
                        <a:pt x="400" y="722"/>
                      </a:lnTo>
                      <a:lnTo>
                        <a:pt x="392" y="708"/>
                      </a:lnTo>
                      <a:lnTo>
                        <a:pt x="384" y="684"/>
                      </a:lnTo>
                      <a:lnTo>
                        <a:pt x="380" y="674"/>
                      </a:lnTo>
                      <a:lnTo>
                        <a:pt x="380" y="674"/>
                      </a:lnTo>
                      <a:lnTo>
                        <a:pt x="376" y="666"/>
                      </a:lnTo>
                      <a:lnTo>
                        <a:pt x="370" y="660"/>
                      </a:lnTo>
                      <a:lnTo>
                        <a:pt x="330" y="636"/>
                      </a:lnTo>
                      <a:lnTo>
                        <a:pt x="330" y="636"/>
                      </a:lnTo>
                      <a:lnTo>
                        <a:pt x="324" y="632"/>
                      </a:lnTo>
                      <a:lnTo>
                        <a:pt x="0" y="1194"/>
                      </a:lnTo>
                      <a:lnTo>
                        <a:pt x="0" y="1194"/>
                      </a:lnTo>
                      <a:lnTo>
                        <a:pt x="1378" y="1194"/>
                      </a:lnTo>
                      <a:lnTo>
                        <a:pt x="688" y="0"/>
                      </a:lnTo>
                      <a:lnTo>
                        <a:pt x="688" y="0"/>
                      </a:lnTo>
                      <a:lnTo>
                        <a:pt x="688" y="0"/>
                      </a:lnTo>
                      <a:lnTo>
                        <a:pt x="37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d9d9"/>
                    </a:gs>
                  </a:gsLst>
                  <a:lin ang="16200000"/>
                </a:gradFill>
                <a:ln w="3175">
                  <a:solidFill>
                    <a:srgbClr val="ffffff">
                      <a:lumMod val="8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0d0d0d"/>
                    </a:solidFill>
                    <a:latin typeface="Calibri"/>
                  </a:endParaRPr>
                </a:p>
              </p:txBody>
            </p:sp>
            <p:sp>
              <p:nvSpPr>
                <p:cNvPr id="638" name="Freeform 74"/>
                <p:cNvSpPr/>
                <p:nvPr/>
              </p:nvSpPr>
              <p:spPr>
                <a:xfrm rot="376800">
                  <a:off x="5035680" y="3546720"/>
                  <a:ext cx="1225080" cy="1825560"/>
                </a:xfrm>
                <a:custGeom>
                  <a:avLst/>
                  <a:gdLst>
                    <a:gd name="textAreaLeft" fmla="*/ 0 w 1225080"/>
                    <a:gd name="textAreaRight" fmla="*/ 1225440 w 1225080"/>
                    <a:gd name="textAreaTop" fmla="*/ 0 h 1825560"/>
                    <a:gd name="textAreaBottom" fmla="*/ 1825920 h 1825560"/>
                  </a:gdLst>
                  <a:ahLst/>
                  <a:rect l="textAreaLeft" t="textAreaTop" r="textAreaRight" b="textAreaBottom"/>
                  <a:pathLst>
                    <a:path w="1074" h="1198">
                      <a:moveTo>
                        <a:pt x="568" y="536"/>
                      </a:moveTo>
                      <a:lnTo>
                        <a:pt x="574" y="562"/>
                      </a:lnTo>
                      <a:lnTo>
                        <a:pt x="574" y="562"/>
                      </a:lnTo>
                      <a:lnTo>
                        <a:pt x="578" y="570"/>
                      </a:lnTo>
                      <a:lnTo>
                        <a:pt x="582" y="578"/>
                      </a:lnTo>
                      <a:lnTo>
                        <a:pt x="582" y="578"/>
                      </a:lnTo>
                      <a:lnTo>
                        <a:pt x="604" y="610"/>
                      </a:lnTo>
                      <a:lnTo>
                        <a:pt x="620" y="638"/>
                      </a:lnTo>
                      <a:lnTo>
                        <a:pt x="626" y="650"/>
                      </a:lnTo>
                      <a:lnTo>
                        <a:pt x="630" y="660"/>
                      </a:lnTo>
                      <a:lnTo>
                        <a:pt x="630" y="660"/>
                      </a:lnTo>
                      <a:lnTo>
                        <a:pt x="632" y="672"/>
                      </a:lnTo>
                      <a:lnTo>
                        <a:pt x="630" y="680"/>
                      </a:lnTo>
                      <a:lnTo>
                        <a:pt x="624" y="686"/>
                      </a:lnTo>
                      <a:lnTo>
                        <a:pt x="618" y="688"/>
                      </a:lnTo>
                      <a:lnTo>
                        <a:pt x="608" y="686"/>
                      </a:lnTo>
                      <a:lnTo>
                        <a:pt x="594" y="682"/>
                      </a:lnTo>
                      <a:lnTo>
                        <a:pt x="580" y="672"/>
                      </a:lnTo>
                      <a:lnTo>
                        <a:pt x="564" y="658"/>
                      </a:lnTo>
                      <a:lnTo>
                        <a:pt x="564" y="658"/>
                      </a:lnTo>
                      <a:lnTo>
                        <a:pt x="544" y="636"/>
                      </a:lnTo>
                      <a:lnTo>
                        <a:pt x="524" y="614"/>
                      </a:lnTo>
                      <a:lnTo>
                        <a:pt x="510" y="594"/>
                      </a:lnTo>
                      <a:lnTo>
                        <a:pt x="496" y="574"/>
                      </a:lnTo>
                      <a:lnTo>
                        <a:pt x="486" y="556"/>
                      </a:lnTo>
                      <a:lnTo>
                        <a:pt x="476" y="538"/>
                      </a:lnTo>
                      <a:lnTo>
                        <a:pt x="470" y="522"/>
                      </a:lnTo>
                      <a:lnTo>
                        <a:pt x="466" y="508"/>
                      </a:lnTo>
                      <a:lnTo>
                        <a:pt x="466" y="508"/>
                      </a:lnTo>
                      <a:lnTo>
                        <a:pt x="466" y="500"/>
                      </a:lnTo>
                      <a:lnTo>
                        <a:pt x="468" y="496"/>
                      </a:lnTo>
                      <a:lnTo>
                        <a:pt x="472" y="494"/>
                      </a:lnTo>
                      <a:lnTo>
                        <a:pt x="476" y="492"/>
                      </a:lnTo>
                      <a:lnTo>
                        <a:pt x="486" y="492"/>
                      </a:lnTo>
                      <a:lnTo>
                        <a:pt x="492" y="492"/>
                      </a:lnTo>
                      <a:lnTo>
                        <a:pt x="492" y="492"/>
                      </a:lnTo>
                      <a:lnTo>
                        <a:pt x="494" y="492"/>
                      </a:lnTo>
                      <a:lnTo>
                        <a:pt x="494" y="488"/>
                      </a:lnTo>
                      <a:lnTo>
                        <a:pt x="488" y="460"/>
                      </a:lnTo>
                      <a:lnTo>
                        <a:pt x="488" y="460"/>
                      </a:lnTo>
                      <a:lnTo>
                        <a:pt x="488" y="456"/>
                      </a:lnTo>
                      <a:lnTo>
                        <a:pt x="0" y="0"/>
                      </a:lnTo>
                      <a:lnTo>
                        <a:pt x="692" y="1198"/>
                      </a:lnTo>
                      <a:lnTo>
                        <a:pt x="1074" y="1004"/>
                      </a:lnTo>
                      <a:lnTo>
                        <a:pt x="568" y="530"/>
                      </a:lnTo>
                      <a:lnTo>
                        <a:pt x="568" y="530"/>
                      </a:lnTo>
                      <a:lnTo>
                        <a:pt x="568" y="536"/>
                      </a:lnTo>
                      <a:lnTo>
                        <a:pt x="568" y="53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9d9d9"/>
                    </a:gs>
                    <a:gs pos="100000">
                      <a:srgbClr val="bfbfbf"/>
                    </a:gs>
                  </a:gsLst>
                  <a:lin ang="5400000"/>
                </a:gradFill>
                <a:ln w="3175">
                  <a:solidFill>
                    <a:srgbClr val="ffffff">
                      <a:lumMod val="6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0d0d0d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9" name="Rectangle 75"/>
              <p:cNvSpPr/>
              <p:nvPr/>
            </p:nvSpPr>
            <p:spPr>
              <a:xfrm rot="376800">
                <a:off x="6203520" y="5151240"/>
                <a:ext cx="720" cy="1080"/>
              </a:xfrm>
              <a:prstGeom prst="rect">
                <a:avLst/>
              </a:prstGeom>
              <a:solidFill>
                <a:srgbClr val="ffffff"/>
              </a:solidFill>
              <a:ln w="8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640" name="Freeform 76"/>
              <p:cNvSpPr/>
              <p:nvPr/>
            </p:nvSpPr>
            <p:spPr>
              <a:xfrm rot="376800">
                <a:off x="5508360" y="3303000"/>
                <a:ext cx="1225080" cy="1825560"/>
              </a:xfrm>
              <a:custGeom>
                <a:avLst/>
                <a:gdLst>
                  <a:gd name="textAreaLeft" fmla="*/ 0 w 1225080"/>
                  <a:gd name="textAreaRight" fmla="*/ 1225440 w 1225080"/>
                  <a:gd name="textAreaTop" fmla="*/ 0 h 1825560"/>
                  <a:gd name="textAreaBottom" fmla="*/ 1825920 h 1825560"/>
                </a:gdLst>
                <a:ahLst/>
                <a:rect l="textAreaLeft" t="textAreaTop" r="textAreaRight" b="textAreaBottom"/>
                <a:pathLst>
                  <a:path w="1074" h="1198">
                    <a:moveTo>
                      <a:pt x="316" y="546"/>
                    </a:moveTo>
                    <a:lnTo>
                      <a:pt x="316" y="546"/>
                    </a:lnTo>
                    <a:lnTo>
                      <a:pt x="320" y="548"/>
                    </a:lnTo>
                    <a:lnTo>
                      <a:pt x="348" y="564"/>
                    </a:lnTo>
                    <a:lnTo>
                      <a:pt x="348" y="564"/>
                    </a:lnTo>
                    <a:lnTo>
                      <a:pt x="352" y="566"/>
                    </a:lnTo>
                    <a:lnTo>
                      <a:pt x="356" y="564"/>
                    </a:lnTo>
                    <a:lnTo>
                      <a:pt x="356" y="564"/>
                    </a:lnTo>
                    <a:lnTo>
                      <a:pt x="356" y="560"/>
                    </a:lnTo>
                    <a:lnTo>
                      <a:pt x="360" y="552"/>
                    </a:lnTo>
                    <a:lnTo>
                      <a:pt x="364" y="550"/>
                    </a:lnTo>
                    <a:lnTo>
                      <a:pt x="368" y="548"/>
                    </a:lnTo>
                    <a:lnTo>
                      <a:pt x="376" y="548"/>
                    </a:lnTo>
                    <a:lnTo>
                      <a:pt x="384" y="552"/>
                    </a:lnTo>
                    <a:lnTo>
                      <a:pt x="384" y="552"/>
                    </a:lnTo>
                    <a:lnTo>
                      <a:pt x="398" y="560"/>
                    </a:lnTo>
                    <a:lnTo>
                      <a:pt x="412" y="572"/>
                    </a:lnTo>
                    <a:lnTo>
                      <a:pt x="430" y="586"/>
                    </a:lnTo>
                    <a:lnTo>
                      <a:pt x="446" y="602"/>
                    </a:lnTo>
                    <a:lnTo>
                      <a:pt x="464" y="620"/>
                    </a:lnTo>
                    <a:lnTo>
                      <a:pt x="480" y="640"/>
                    </a:lnTo>
                    <a:lnTo>
                      <a:pt x="498" y="662"/>
                    </a:lnTo>
                    <a:lnTo>
                      <a:pt x="512" y="686"/>
                    </a:lnTo>
                    <a:lnTo>
                      <a:pt x="512" y="686"/>
                    </a:lnTo>
                    <a:lnTo>
                      <a:pt x="522" y="704"/>
                    </a:lnTo>
                    <a:lnTo>
                      <a:pt x="526" y="718"/>
                    </a:lnTo>
                    <a:lnTo>
                      <a:pt x="528" y="728"/>
                    </a:lnTo>
                    <a:lnTo>
                      <a:pt x="526" y="736"/>
                    </a:lnTo>
                    <a:lnTo>
                      <a:pt x="520" y="742"/>
                    </a:lnTo>
                    <a:lnTo>
                      <a:pt x="512" y="742"/>
                    </a:lnTo>
                    <a:lnTo>
                      <a:pt x="502" y="740"/>
                    </a:lnTo>
                    <a:lnTo>
                      <a:pt x="488" y="734"/>
                    </a:lnTo>
                    <a:lnTo>
                      <a:pt x="488" y="734"/>
                    </a:lnTo>
                    <a:lnTo>
                      <a:pt x="478" y="728"/>
                    </a:lnTo>
                    <a:lnTo>
                      <a:pt x="466" y="718"/>
                    </a:lnTo>
                    <a:lnTo>
                      <a:pt x="442" y="694"/>
                    </a:lnTo>
                    <a:lnTo>
                      <a:pt x="414" y="666"/>
                    </a:lnTo>
                    <a:lnTo>
                      <a:pt x="414" y="666"/>
                    </a:lnTo>
                    <a:lnTo>
                      <a:pt x="400" y="654"/>
                    </a:lnTo>
                    <a:lnTo>
                      <a:pt x="372" y="638"/>
                    </a:lnTo>
                    <a:lnTo>
                      <a:pt x="372" y="638"/>
                    </a:lnTo>
                    <a:lnTo>
                      <a:pt x="366" y="634"/>
                    </a:lnTo>
                    <a:lnTo>
                      <a:pt x="692" y="1198"/>
                    </a:lnTo>
                    <a:lnTo>
                      <a:pt x="692" y="1198"/>
                    </a:lnTo>
                    <a:lnTo>
                      <a:pt x="1074" y="100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16" y="5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d9d9"/>
                  </a:gs>
                  <a:gs pos="100000">
                    <a:srgbClr val="bfbfbf"/>
                  </a:gs>
                </a:gsLst>
                <a:lin ang="5772000"/>
              </a:gradFill>
              <a:ln w="3175"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d0d0d"/>
                  </a:solidFill>
                  <a:latin typeface="Calibri"/>
                </a:endParaRPr>
              </a:p>
            </p:txBody>
          </p:sp>
          <p:sp>
            <p:nvSpPr>
              <p:cNvPr id="641" name="Rectangle 77"/>
              <p:cNvSpPr/>
              <p:nvPr/>
            </p:nvSpPr>
            <p:spPr>
              <a:xfrm rot="376800">
                <a:off x="6203520" y="5151240"/>
                <a:ext cx="720" cy="1080"/>
              </a:xfrm>
              <a:prstGeom prst="rect">
                <a:avLst/>
              </a:prstGeom>
              <a:solidFill>
                <a:srgbClr val="ffffff"/>
              </a:solidFill>
              <a:ln w="8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642" name="Rectangle 78"/>
              <p:cNvSpPr/>
              <p:nvPr/>
            </p:nvSpPr>
            <p:spPr>
              <a:xfrm rot="376800">
                <a:off x="5152680" y="3495960"/>
                <a:ext cx="720" cy="1080"/>
              </a:xfrm>
              <a:prstGeom prst="rect">
                <a:avLst/>
              </a:prstGeom>
              <a:solidFill>
                <a:srgbClr val="c151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643" name="Rectangle 79"/>
              <p:cNvSpPr/>
              <p:nvPr/>
            </p:nvSpPr>
            <p:spPr>
              <a:xfrm rot="376800">
                <a:off x="5152680" y="3495960"/>
                <a:ext cx="720" cy="1080"/>
              </a:xfrm>
              <a:prstGeom prst="rect">
                <a:avLst/>
              </a:prstGeom>
              <a:solidFill>
                <a:srgbClr val="c151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644" name="Rectangle 80"/>
              <p:cNvSpPr/>
              <p:nvPr/>
            </p:nvSpPr>
            <p:spPr>
              <a:xfrm rot="376800">
                <a:off x="5152680" y="3495960"/>
                <a:ext cx="720" cy="1080"/>
              </a:xfrm>
              <a:prstGeom prst="rect">
                <a:avLst/>
              </a:prstGeom>
              <a:solidFill>
                <a:srgbClr val="c151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645" name="Freeform 81"/>
              <p:cNvSpPr/>
              <p:nvPr/>
            </p:nvSpPr>
            <p:spPr>
              <a:xfrm rot="376800">
                <a:off x="5061600" y="3010320"/>
                <a:ext cx="1252440" cy="2075760"/>
              </a:xfrm>
              <a:custGeom>
                <a:avLst/>
                <a:gdLst>
                  <a:gd name="textAreaLeft" fmla="*/ 0 w 1252440"/>
                  <a:gd name="textAreaRight" fmla="*/ 1252800 w 1252440"/>
                  <a:gd name="textAreaTop" fmla="*/ 0 h 2075760"/>
                  <a:gd name="textAreaBottom" fmla="*/ 2076120 h 2075760"/>
                </a:gdLst>
                <a:ahLst/>
                <a:rect l="textAreaLeft" t="textAreaTop" r="textAreaRight" b="textAreaBottom"/>
                <a:pathLst>
                  <a:path w="1098" h="1362">
                    <a:moveTo>
                      <a:pt x="790" y="716"/>
                    </a:moveTo>
                    <a:lnTo>
                      <a:pt x="790" y="716"/>
                    </a:lnTo>
                    <a:lnTo>
                      <a:pt x="782" y="712"/>
                    </a:lnTo>
                    <a:lnTo>
                      <a:pt x="774" y="712"/>
                    </a:lnTo>
                    <a:lnTo>
                      <a:pt x="770" y="714"/>
                    </a:lnTo>
                    <a:lnTo>
                      <a:pt x="766" y="716"/>
                    </a:lnTo>
                    <a:lnTo>
                      <a:pt x="762" y="724"/>
                    </a:lnTo>
                    <a:lnTo>
                      <a:pt x="762" y="728"/>
                    </a:lnTo>
                    <a:lnTo>
                      <a:pt x="762" y="728"/>
                    </a:lnTo>
                    <a:lnTo>
                      <a:pt x="758" y="730"/>
                    </a:lnTo>
                    <a:lnTo>
                      <a:pt x="754" y="728"/>
                    </a:lnTo>
                    <a:lnTo>
                      <a:pt x="726" y="712"/>
                    </a:lnTo>
                    <a:lnTo>
                      <a:pt x="726" y="712"/>
                    </a:lnTo>
                    <a:lnTo>
                      <a:pt x="722" y="710"/>
                    </a:lnTo>
                    <a:lnTo>
                      <a:pt x="406" y="164"/>
                    </a:lnTo>
                    <a:lnTo>
                      <a:pt x="406" y="164"/>
                    </a:lnTo>
                    <a:lnTo>
                      <a:pt x="406" y="164"/>
                    </a:lnTo>
                    <a:lnTo>
                      <a:pt x="228" y="254"/>
                    </a:lnTo>
                    <a:lnTo>
                      <a:pt x="228" y="254"/>
                    </a:lnTo>
                    <a:lnTo>
                      <a:pt x="222" y="246"/>
                    </a:lnTo>
                    <a:lnTo>
                      <a:pt x="188" y="202"/>
                    </a:lnTo>
                    <a:lnTo>
                      <a:pt x="188" y="202"/>
                    </a:lnTo>
                    <a:lnTo>
                      <a:pt x="176" y="186"/>
                    </a:lnTo>
                    <a:lnTo>
                      <a:pt x="176" y="186"/>
                    </a:lnTo>
                    <a:lnTo>
                      <a:pt x="162" y="158"/>
                    </a:lnTo>
                    <a:lnTo>
                      <a:pt x="148" y="130"/>
                    </a:lnTo>
                    <a:lnTo>
                      <a:pt x="128" y="102"/>
                    </a:lnTo>
                    <a:lnTo>
                      <a:pt x="128" y="102"/>
                    </a:lnTo>
                    <a:lnTo>
                      <a:pt x="110" y="82"/>
                    </a:lnTo>
                    <a:lnTo>
                      <a:pt x="92" y="62"/>
                    </a:lnTo>
                    <a:lnTo>
                      <a:pt x="72" y="44"/>
                    </a:lnTo>
                    <a:lnTo>
                      <a:pt x="54" y="28"/>
                    </a:lnTo>
                    <a:lnTo>
                      <a:pt x="38" y="14"/>
                    </a:lnTo>
                    <a:lnTo>
                      <a:pt x="24" y="4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20"/>
                    </a:lnTo>
                    <a:lnTo>
                      <a:pt x="6" y="34"/>
                    </a:lnTo>
                    <a:lnTo>
                      <a:pt x="14" y="52"/>
                    </a:lnTo>
                    <a:lnTo>
                      <a:pt x="24" y="70"/>
                    </a:lnTo>
                    <a:lnTo>
                      <a:pt x="38" y="90"/>
                    </a:lnTo>
                    <a:lnTo>
                      <a:pt x="68" y="132"/>
                    </a:lnTo>
                    <a:lnTo>
                      <a:pt x="68" y="132"/>
                    </a:lnTo>
                    <a:lnTo>
                      <a:pt x="92" y="158"/>
                    </a:lnTo>
                    <a:lnTo>
                      <a:pt x="118" y="180"/>
                    </a:lnTo>
                    <a:lnTo>
                      <a:pt x="144" y="202"/>
                    </a:lnTo>
                    <a:lnTo>
                      <a:pt x="144" y="202"/>
                    </a:lnTo>
                    <a:lnTo>
                      <a:pt x="158" y="218"/>
                    </a:lnTo>
                    <a:lnTo>
                      <a:pt x="194" y="260"/>
                    </a:lnTo>
                    <a:lnTo>
                      <a:pt x="194" y="260"/>
                    </a:lnTo>
                    <a:lnTo>
                      <a:pt x="200" y="270"/>
                    </a:lnTo>
                    <a:lnTo>
                      <a:pt x="24" y="358"/>
                    </a:lnTo>
                    <a:lnTo>
                      <a:pt x="24" y="358"/>
                    </a:lnTo>
                    <a:lnTo>
                      <a:pt x="24" y="358"/>
                    </a:lnTo>
                    <a:lnTo>
                      <a:pt x="24" y="358"/>
                    </a:lnTo>
                    <a:lnTo>
                      <a:pt x="512" y="814"/>
                    </a:lnTo>
                    <a:lnTo>
                      <a:pt x="512" y="814"/>
                    </a:lnTo>
                    <a:lnTo>
                      <a:pt x="512" y="818"/>
                    </a:lnTo>
                    <a:lnTo>
                      <a:pt x="518" y="846"/>
                    </a:lnTo>
                    <a:lnTo>
                      <a:pt x="518" y="846"/>
                    </a:lnTo>
                    <a:lnTo>
                      <a:pt x="518" y="850"/>
                    </a:lnTo>
                    <a:lnTo>
                      <a:pt x="516" y="850"/>
                    </a:lnTo>
                    <a:lnTo>
                      <a:pt x="516" y="850"/>
                    </a:lnTo>
                    <a:lnTo>
                      <a:pt x="510" y="850"/>
                    </a:lnTo>
                    <a:lnTo>
                      <a:pt x="500" y="850"/>
                    </a:lnTo>
                    <a:lnTo>
                      <a:pt x="496" y="852"/>
                    </a:lnTo>
                    <a:lnTo>
                      <a:pt x="492" y="854"/>
                    </a:lnTo>
                    <a:lnTo>
                      <a:pt x="490" y="858"/>
                    </a:lnTo>
                    <a:lnTo>
                      <a:pt x="490" y="866"/>
                    </a:lnTo>
                    <a:lnTo>
                      <a:pt x="490" y="866"/>
                    </a:lnTo>
                    <a:lnTo>
                      <a:pt x="494" y="880"/>
                    </a:lnTo>
                    <a:lnTo>
                      <a:pt x="500" y="896"/>
                    </a:lnTo>
                    <a:lnTo>
                      <a:pt x="510" y="914"/>
                    </a:lnTo>
                    <a:lnTo>
                      <a:pt x="520" y="932"/>
                    </a:lnTo>
                    <a:lnTo>
                      <a:pt x="534" y="952"/>
                    </a:lnTo>
                    <a:lnTo>
                      <a:pt x="548" y="972"/>
                    </a:lnTo>
                    <a:lnTo>
                      <a:pt x="568" y="994"/>
                    </a:lnTo>
                    <a:lnTo>
                      <a:pt x="588" y="1016"/>
                    </a:lnTo>
                    <a:lnTo>
                      <a:pt x="588" y="1016"/>
                    </a:lnTo>
                    <a:lnTo>
                      <a:pt x="604" y="1030"/>
                    </a:lnTo>
                    <a:lnTo>
                      <a:pt x="618" y="1040"/>
                    </a:lnTo>
                    <a:lnTo>
                      <a:pt x="632" y="1044"/>
                    </a:lnTo>
                    <a:lnTo>
                      <a:pt x="642" y="1046"/>
                    </a:lnTo>
                    <a:lnTo>
                      <a:pt x="648" y="1044"/>
                    </a:lnTo>
                    <a:lnTo>
                      <a:pt x="654" y="1038"/>
                    </a:lnTo>
                    <a:lnTo>
                      <a:pt x="656" y="1030"/>
                    </a:lnTo>
                    <a:lnTo>
                      <a:pt x="654" y="1018"/>
                    </a:lnTo>
                    <a:lnTo>
                      <a:pt x="654" y="1018"/>
                    </a:lnTo>
                    <a:lnTo>
                      <a:pt x="650" y="1008"/>
                    </a:lnTo>
                    <a:lnTo>
                      <a:pt x="644" y="996"/>
                    </a:lnTo>
                    <a:lnTo>
                      <a:pt x="628" y="968"/>
                    </a:lnTo>
                    <a:lnTo>
                      <a:pt x="606" y="936"/>
                    </a:lnTo>
                    <a:lnTo>
                      <a:pt x="606" y="936"/>
                    </a:lnTo>
                    <a:lnTo>
                      <a:pt x="602" y="928"/>
                    </a:lnTo>
                    <a:lnTo>
                      <a:pt x="598" y="920"/>
                    </a:lnTo>
                    <a:lnTo>
                      <a:pt x="592" y="894"/>
                    </a:lnTo>
                    <a:lnTo>
                      <a:pt x="592" y="894"/>
                    </a:lnTo>
                    <a:lnTo>
                      <a:pt x="592" y="888"/>
                    </a:lnTo>
                    <a:lnTo>
                      <a:pt x="1098" y="1362"/>
                    </a:lnTo>
                    <a:lnTo>
                      <a:pt x="1098" y="1362"/>
                    </a:lnTo>
                    <a:lnTo>
                      <a:pt x="1098" y="1362"/>
                    </a:lnTo>
                    <a:lnTo>
                      <a:pt x="1098" y="1362"/>
                    </a:lnTo>
                    <a:lnTo>
                      <a:pt x="1098" y="1362"/>
                    </a:lnTo>
                    <a:lnTo>
                      <a:pt x="772" y="798"/>
                    </a:lnTo>
                    <a:lnTo>
                      <a:pt x="772" y="798"/>
                    </a:lnTo>
                    <a:lnTo>
                      <a:pt x="778" y="802"/>
                    </a:lnTo>
                    <a:lnTo>
                      <a:pt x="806" y="818"/>
                    </a:lnTo>
                    <a:lnTo>
                      <a:pt x="806" y="818"/>
                    </a:lnTo>
                    <a:lnTo>
                      <a:pt x="820" y="830"/>
                    </a:lnTo>
                    <a:lnTo>
                      <a:pt x="820" y="830"/>
                    </a:lnTo>
                    <a:lnTo>
                      <a:pt x="848" y="858"/>
                    </a:lnTo>
                    <a:lnTo>
                      <a:pt x="872" y="882"/>
                    </a:lnTo>
                    <a:lnTo>
                      <a:pt x="884" y="892"/>
                    </a:lnTo>
                    <a:lnTo>
                      <a:pt x="894" y="898"/>
                    </a:lnTo>
                    <a:lnTo>
                      <a:pt x="894" y="898"/>
                    </a:lnTo>
                    <a:lnTo>
                      <a:pt x="908" y="904"/>
                    </a:lnTo>
                    <a:lnTo>
                      <a:pt x="918" y="906"/>
                    </a:lnTo>
                    <a:lnTo>
                      <a:pt x="926" y="906"/>
                    </a:lnTo>
                    <a:lnTo>
                      <a:pt x="932" y="900"/>
                    </a:lnTo>
                    <a:lnTo>
                      <a:pt x="934" y="892"/>
                    </a:lnTo>
                    <a:lnTo>
                      <a:pt x="932" y="882"/>
                    </a:lnTo>
                    <a:lnTo>
                      <a:pt x="928" y="868"/>
                    </a:lnTo>
                    <a:lnTo>
                      <a:pt x="918" y="850"/>
                    </a:lnTo>
                    <a:lnTo>
                      <a:pt x="918" y="850"/>
                    </a:lnTo>
                    <a:lnTo>
                      <a:pt x="904" y="826"/>
                    </a:lnTo>
                    <a:lnTo>
                      <a:pt x="886" y="804"/>
                    </a:lnTo>
                    <a:lnTo>
                      <a:pt x="870" y="784"/>
                    </a:lnTo>
                    <a:lnTo>
                      <a:pt x="852" y="766"/>
                    </a:lnTo>
                    <a:lnTo>
                      <a:pt x="836" y="750"/>
                    </a:lnTo>
                    <a:lnTo>
                      <a:pt x="818" y="736"/>
                    </a:lnTo>
                    <a:lnTo>
                      <a:pt x="804" y="724"/>
                    </a:lnTo>
                    <a:lnTo>
                      <a:pt x="790" y="716"/>
                    </a:lnTo>
                    <a:lnTo>
                      <a:pt x="790" y="7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d9d9"/>
                  </a:gs>
                  <a:gs pos="100000">
                    <a:srgbClr val="bfbfbf"/>
                  </a:gs>
                </a:gsLst>
                <a:lin ang="5772000"/>
              </a:gradFill>
              <a:ln w="3175"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d0d0d"/>
                  </a:solidFill>
                  <a:latin typeface="Calibri"/>
                </a:endParaRPr>
              </a:p>
            </p:txBody>
          </p:sp>
          <p:sp>
            <p:nvSpPr>
              <p:cNvPr id="646" name="Rectangle 82"/>
              <p:cNvSpPr/>
              <p:nvPr/>
            </p:nvSpPr>
            <p:spPr>
              <a:xfrm rot="376800">
                <a:off x="6203520" y="5151240"/>
                <a:ext cx="720" cy="1080"/>
              </a:xfrm>
              <a:prstGeom prst="rect">
                <a:avLst/>
              </a:prstGeom>
              <a:solidFill>
                <a:srgbClr val="c151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</p:grpSp>
        <p:grpSp>
          <p:nvGrpSpPr>
            <p:cNvPr id="647" name="Gruppe 33"/>
            <p:cNvGrpSpPr/>
            <p:nvPr/>
          </p:nvGrpSpPr>
          <p:grpSpPr>
            <a:xfrm>
              <a:off x="2603160" y="4908600"/>
              <a:ext cx="6193800" cy="682560"/>
              <a:chOff x="2603160" y="4908600"/>
              <a:chExt cx="6193800" cy="682560"/>
            </a:xfrm>
          </p:grpSpPr>
          <p:sp>
            <p:nvSpPr>
              <p:cNvPr id="648" name="Kombinationstegning 35"/>
              <p:cNvSpPr/>
              <p:nvPr/>
            </p:nvSpPr>
            <p:spPr>
              <a:xfrm>
                <a:off x="5712480" y="4908600"/>
                <a:ext cx="3084480" cy="682560"/>
              </a:xfrm>
              <a:custGeom>
                <a:avLst/>
                <a:gdLst>
                  <a:gd name="textAreaLeft" fmla="*/ 0 w 3084480"/>
                  <a:gd name="textAreaRight" fmla="*/ 3084840 w 3084480"/>
                  <a:gd name="textAreaTop" fmla="*/ 0 h 682560"/>
                  <a:gd name="textAreaBottom" fmla="*/ 682920 h 682560"/>
                </a:gdLst>
                <a:ahLst/>
                <a:rect l="textAreaLeft" t="textAreaTop" r="textAreaRight" b="textAreaBottom"/>
                <a:pathLst>
                  <a:path w="3213100" h="711200">
                    <a:moveTo>
                      <a:pt x="0" y="508000"/>
                    </a:moveTo>
                    <a:lnTo>
                      <a:pt x="3213100" y="711200"/>
                    </a:lnTo>
                    <a:lnTo>
                      <a:pt x="952500" y="0"/>
                    </a:lnTo>
                    <a:lnTo>
                      <a:pt x="0" y="508000"/>
                    </a:lnTo>
                    <a:close/>
                  </a:path>
                </a:pathLst>
              </a:custGeom>
              <a:gradFill rotWithShape="0">
                <a:gsLst>
                  <a:gs pos="24000">
                    <a:srgbClr val="000000">
                      <a:alpha val="5137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49" name="Kombinationstegning 40"/>
              <p:cNvSpPr/>
              <p:nvPr/>
            </p:nvSpPr>
            <p:spPr>
              <a:xfrm>
                <a:off x="2603160" y="5030640"/>
                <a:ext cx="3121200" cy="402120"/>
              </a:xfrm>
              <a:custGeom>
                <a:avLst/>
                <a:gdLst>
                  <a:gd name="textAreaLeft" fmla="*/ 0 w 3121200"/>
                  <a:gd name="textAreaRight" fmla="*/ 3121560 w 312120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3251200" h="419100">
                    <a:moveTo>
                      <a:pt x="0" y="0"/>
                    </a:moveTo>
                    <a:lnTo>
                      <a:pt x="3238500" y="368300"/>
                    </a:lnTo>
                    <a:lnTo>
                      <a:pt x="3251200" y="419100"/>
                    </a:lnTo>
                    <a:lnTo>
                      <a:pt x="0" y="5080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24000">
                    <a:srgbClr val="000000">
                      <a:alpha val="51372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650" name="TextBox 61"/>
          <p:cNvSpPr/>
          <p:nvPr/>
        </p:nvSpPr>
        <p:spPr>
          <a:xfrm>
            <a:off x="1215720" y="2718360"/>
            <a:ext cx="16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rem Ipsum</a:t>
            </a:r>
            <a:r>
              <a:rPr b="0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replace te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2"/>
          <p:cNvSpPr/>
          <p:nvPr/>
        </p:nvSpPr>
        <p:spPr>
          <a:xfrm rot="5400000">
            <a:off x="1088280" y="3009960"/>
            <a:ext cx="94680" cy="51840"/>
          </a:xfrm>
          <a:custGeom>
            <a:avLst/>
            <a:gdLst>
              <a:gd name="textAreaLeft" fmla="*/ 0 w 94680"/>
              <a:gd name="textAreaRight" fmla="*/ 95040 w 9468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252" h="126">
                <a:moveTo>
                  <a:pt x="252" y="126"/>
                </a:moveTo>
                <a:lnTo>
                  <a:pt x="126" y="0"/>
                </a:lnTo>
                <a:lnTo>
                  <a:pt x="0" y="126"/>
                </a:lnTo>
                <a:lnTo>
                  <a:pt x="252" y="12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52" name="TextBox 63"/>
          <p:cNvSpPr/>
          <p:nvPr/>
        </p:nvSpPr>
        <p:spPr>
          <a:xfrm>
            <a:off x="1018800" y="2542320"/>
            <a:ext cx="1764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REPLACE TEXT:</a:t>
            </a:r>
            <a:r>
              <a:rPr b="1" lang="en-US" sz="14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	</a:t>
            </a:r>
            <a:r>
              <a:rPr b="1" lang="en-US" sz="14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64"/>
          <p:cNvSpPr/>
          <p:nvPr/>
        </p:nvSpPr>
        <p:spPr>
          <a:xfrm>
            <a:off x="1215720" y="2951280"/>
            <a:ext cx="16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rem Ipsum</a:t>
            </a:r>
            <a:r>
              <a:rPr b="0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replace te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2"/>
          <p:cNvSpPr/>
          <p:nvPr/>
        </p:nvSpPr>
        <p:spPr>
          <a:xfrm rot="5400000">
            <a:off x="1088280" y="3230280"/>
            <a:ext cx="94680" cy="51840"/>
          </a:xfrm>
          <a:custGeom>
            <a:avLst/>
            <a:gdLst>
              <a:gd name="textAreaLeft" fmla="*/ 0 w 94680"/>
              <a:gd name="textAreaRight" fmla="*/ 95040 w 9468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252" h="126">
                <a:moveTo>
                  <a:pt x="252" y="126"/>
                </a:moveTo>
                <a:lnTo>
                  <a:pt x="126" y="0"/>
                </a:lnTo>
                <a:lnTo>
                  <a:pt x="0" y="126"/>
                </a:lnTo>
                <a:lnTo>
                  <a:pt x="252" y="12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55" name="TextBox 66"/>
          <p:cNvSpPr/>
          <p:nvPr/>
        </p:nvSpPr>
        <p:spPr>
          <a:xfrm>
            <a:off x="1215720" y="3155760"/>
            <a:ext cx="16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rem Ipsum</a:t>
            </a:r>
            <a:r>
              <a:rPr b="0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replace te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12"/>
          <p:cNvSpPr/>
          <p:nvPr/>
        </p:nvSpPr>
        <p:spPr>
          <a:xfrm rot="5400000">
            <a:off x="1088280" y="3447360"/>
            <a:ext cx="94680" cy="51840"/>
          </a:xfrm>
          <a:custGeom>
            <a:avLst/>
            <a:gdLst>
              <a:gd name="textAreaLeft" fmla="*/ 0 w 94680"/>
              <a:gd name="textAreaRight" fmla="*/ 95040 w 9468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252" h="126">
                <a:moveTo>
                  <a:pt x="252" y="126"/>
                </a:moveTo>
                <a:lnTo>
                  <a:pt x="126" y="0"/>
                </a:lnTo>
                <a:lnTo>
                  <a:pt x="0" y="126"/>
                </a:lnTo>
                <a:lnTo>
                  <a:pt x="252" y="12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57" name="TextBox 68"/>
          <p:cNvSpPr/>
          <p:nvPr/>
        </p:nvSpPr>
        <p:spPr>
          <a:xfrm>
            <a:off x="1215720" y="3389040"/>
            <a:ext cx="16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rem Ipsum</a:t>
            </a:r>
            <a:r>
              <a:rPr b="0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replace te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2"/>
          <p:cNvSpPr/>
          <p:nvPr/>
        </p:nvSpPr>
        <p:spPr>
          <a:xfrm rot="5400000">
            <a:off x="1088280" y="3667680"/>
            <a:ext cx="94680" cy="51840"/>
          </a:xfrm>
          <a:custGeom>
            <a:avLst/>
            <a:gdLst>
              <a:gd name="textAreaLeft" fmla="*/ 0 w 94680"/>
              <a:gd name="textAreaRight" fmla="*/ 95040 w 9468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252" h="126">
                <a:moveTo>
                  <a:pt x="252" y="126"/>
                </a:moveTo>
                <a:lnTo>
                  <a:pt x="126" y="0"/>
                </a:lnTo>
                <a:lnTo>
                  <a:pt x="0" y="126"/>
                </a:lnTo>
                <a:lnTo>
                  <a:pt x="252" y="12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59" name="Freeform 12"/>
          <p:cNvSpPr/>
          <p:nvPr/>
        </p:nvSpPr>
        <p:spPr>
          <a:xfrm rot="5400000">
            <a:off x="1088280" y="3873960"/>
            <a:ext cx="94680" cy="51840"/>
          </a:xfrm>
          <a:custGeom>
            <a:avLst/>
            <a:gdLst>
              <a:gd name="textAreaLeft" fmla="*/ 0 w 94680"/>
              <a:gd name="textAreaRight" fmla="*/ 95040 w 9468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252" h="126">
                <a:moveTo>
                  <a:pt x="252" y="126"/>
                </a:moveTo>
                <a:lnTo>
                  <a:pt x="126" y="0"/>
                </a:lnTo>
                <a:lnTo>
                  <a:pt x="0" y="126"/>
                </a:lnTo>
                <a:lnTo>
                  <a:pt x="252" y="12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660" name="TextBox 81"/>
          <p:cNvSpPr/>
          <p:nvPr/>
        </p:nvSpPr>
        <p:spPr>
          <a:xfrm>
            <a:off x="1215720" y="3593520"/>
            <a:ext cx="16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rem Ipsum</a:t>
            </a:r>
            <a:r>
              <a:rPr b="0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replace te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ktangel 13"/>
          <p:cNvSpPr/>
          <p:nvPr/>
        </p:nvSpPr>
        <p:spPr>
          <a:xfrm rot="16200000">
            <a:off x="657720" y="6090840"/>
            <a:ext cx="279000" cy="8784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2" name="Rektangel 13"/>
          <p:cNvSpPr/>
          <p:nvPr/>
        </p:nvSpPr>
        <p:spPr>
          <a:xfrm rot="16200000">
            <a:off x="37800" y="6349680"/>
            <a:ext cx="279000" cy="36072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3" name="TextBox 84"/>
          <p:cNvSpPr/>
          <p:nvPr/>
        </p:nvSpPr>
        <p:spPr>
          <a:xfrm>
            <a:off x="7560" y="6392880"/>
            <a:ext cx="374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85"/>
          <p:cNvSpPr/>
          <p:nvPr/>
        </p:nvSpPr>
        <p:spPr>
          <a:xfrm>
            <a:off x="397080" y="6390360"/>
            <a:ext cx="81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2"/>
          <p:cNvGrpSpPr/>
          <p:nvPr/>
        </p:nvGrpSpPr>
        <p:grpSpPr>
          <a:xfrm>
            <a:off x="6777000" y="3663000"/>
            <a:ext cx="1546200" cy="881640"/>
            <a:chOff x="6777000" y="3663000"/>
            <a:chExt cx="1546200" cy="881640"/>
          </a:xfrm>
        </p:grpSpPr>
        <p:sp>
          <p:nvSpPr>
            <p:cNvPr id="666" name="Rounded Rectangular Callout 149"/>
            <p:cNvSpPr/>
            <p:nvPr/>
          </p:nvSpPr>
          <p:spPr>
            <a:xfrm>
              <a:off x="6777000" y="3663000"/>
              <a:ext cx="1546200" cy="881640"/>
            </a:xfrm>
            <a:prstGeom prst="wedgeRoundRectCallout">
              <a:avLst>
                <a:gd name="adj1" fmla="val 31721"/>
                <a:gd name="adj2" fmla="val 66340"/>
                <a:gd name="adj3" fmla="val 16667"/>
              </a:avLst>
            </a:prstGeom>
            <a:gradFill rotWithShape="0">
              <a:gsLst>
                <a:gs pos="0">
                  <a:srgbClr val="507b0e"/>
                </a:gs>
                <a:gs pos="100000">
                  <a:srgbClr val="84c916"/>
                </a:gs>
              </a:gsLst>
              <a:lin ang="162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5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667" name="TextBox 150"/>
            <p:cNvSpPr/>
            <p:nvPr/>
          </p:nvSpPr>
          <p:spPr>
            <a:xfrm>
              <a:off x="6826680" y="3809520"/>
              <a:ext cx="1485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f2f2f2"/>
                  </a:solidFill>
                  <a:latin typeface="Calibri"/>
                  <a:ea typeface="ＭＳ Ｐゴシック"/>
                </a:rPr>
                <a:t>The pyramid can be used to show a hierarchy in a company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86"/>
          <p:cNvGrpSpPr/>
          <p:nvPr/>
        </p:nvGrpSpPr>
        <p:grpSpPr>
          <a:xfrm>
            <a:off x="7665120" y="4548600"/>
            <a:ext cx="879840" cy="1574640"/>
            <a:chOff x="7665120" y="4548600"/>
            <a:chExt cx="879840" cy="1574640"/>
          </a:xfrm>
        </p:grpSpPr>
        <p:grpSp>
          <p:nvGrpSpPr>
            <p:cNvPr id="669" name="Group 25"/>
            <p:cNvGrpSpPr/>
            <p:nvPr/>
          </p:nvGrpSpPr>
          <p:grpSpPr>
            <a:xfrm>
              <a:off x="7781760" y="4604760"/>
              <a:ext cx="763200" cy="1265760"/>
              <a:chOff x="7781760" y="4604760"/>
              <a:chExt cx="763200" cy="1265760"/>
            </a:xfrm>
          </p:grpSpPr>
          <p:sp>
            <p:nvSpPr>
              <p:cNvPr id="670" name="Ellipse 68"/>
              <p:cNvSpPr/>
              <p:nvPr/>
            </p:nvSpPr>
            <p:spPr>
              <a:xfrm>
                <a:off x="7832520" y="5736240"/>
                <a:ext cx="237240" cy="7092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4901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  <a:ea typeface="ＭＳ Ｐゴシック"/>
                </a:endParaRPr>
              </a:p>
            </p:txBody>
          </p:sp>
          <p:pic>
            <p:nvPicPr>
              <p:cNvPr id="671" name="Picture 41" descr="BL.png"/>
              <p:cNvPicPr/>
              <p:nvPr/>
            </p:nvPicPr>
            <p:blipFill>
              <a:blip r:embed="rId1"/>
              <a:stretch/>
            </p:blipFill>
            <p:spPr>
              <a:xfrm>
                <a:off x="7781760" y="4604760"/>
                <a:ext cx="763200" cy="1265760"/>
              </a:xfrm>
              <a:prstGeom prst="rect">
                <a:avLst/>
              </a:prstGeom>
              <a:ln w="0">
                <a:noFill/>
              </a:ln>
              <a:effectLst>
                <a:outerShdw blurRad="50760" dir="2700000" dist="25455" rotWithShape="0">
                  <a:srgbClr val="000000">
                    <a:alpha val="43000"/>
                  </a:srgbClr>
                </a:outerShdw>
              </a:effectLst>
            </p:spPr>
          </p:pic>
        </p:grpSp>
        <p:grpSp>
          <p:nvGrpSpPr>
            <p:cNvPr id="672" name="Group 54"/>
            <p:cNvGrpSpPr/>
            <p:nvPr/>
          </p:nvGrpSpPr>
          <p:grpSpPr>
            <a:xfrm>
              <a:off x="7665120" y="4548600"/>
              <a:ext cx="729000" cy="1574640"/>
              <a:chOff x="7665120" y="4548600"/>
              <a:chExt cx="729000" cy="1574640"/>
            </a:xfrm>
          </p:grpSpPr>
          <p:grpSp>
            <p:nvGrpSpPr>
              <p:cNvPr id="673" name="Group 19"/>
              <p:cNvGrpSpPr/>
              <p:nvPr/>
            </p:nvGrpSpPr>
            <p:grpSpPr>
              <a:xfrm>
                <a:off x="7665120" y="5892480"/>
                <a:ext cx="613080" cy="187200"/>
                <a:chOff x="7665120" y="5892480"/>
                <a:chExt cx="613080" cy="187200"/>
              </a:xfrm>
            </p:grpSpPr>
            <p:sp>
              <p:nvSpPr>
                <p:cNvPr id="674" name="Ellipse 68"/>
                <p:cNvSpPr/>
                <p:nvPr/>
              </p:nvSpPr>
              <p:spPr>
                <a:xfrm>
                  <a:off x="7665120" y="5892480"/>
                  <a:ext cx="404640" cy="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>
                        <a:alpha val="4901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ffffff"/>
                    </a:solidFill>
                    <a:latin typeface="Calibri"/>
                    <a:ea typeface="ＭＳ Ｐゴシック"/>
                  </a:endParaRPr>
                </a:p>
              </p:txBody>
            </p:sp>
            <p:sp>
              <p:nvSpPr>
                <p:cNvPr id="675" name="Ellipse 68"/>
                <p:cNvSpPr/>
                <p:nvPr/>
              </p:nvSpPr>
              <p:spPr>
                <a:xfrm>
                  <a:off x="8029440" y="5892480"/>
                  <a:ext cx="248760" cy="187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>
                        <a:alpha val="4901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ffffff"/>
                    </a:solidFill>
                    <a:latin typeface="Calibri"/>
                    <a:ea typeface="ＭＳ Ｐゴシック"/>
                  </a:endParaRPr>
                </a:p>
              </p:txBody>
            </p:sp>
          </p:grpSp>
          <p:pic>
            <p:nvPicPr>
              <p:cNvPr id="676" name="Picture 48" descr="2.png"/>
              <p:cNvPicPr/>
              <p:nvPr/>
            </p:nvPicPr>
            <p:blipFill>
              <a:blip r:embed="rId2"/>
              <a:stretch/>
            </p:blipFill>
            <p:spPr>
              <a:xfrm>
                <a:off x="7745400" y="4548600"/>
                <a:ext cx="648720" cy="1574640"/>
              </a:xfrm>
              <a:prstGeom prst="rect">
                <a:avLst/>
              </a:prstGeom>
              <a:ln w="0">
                <a:noFill/>
              </a:ln>
              <a:effectLst>
                <a:outerShdw blurRad="50760" dir="2700000" dist="37674" rotWithShape="0">
                  <a:srgbClr val="000000">
                    <a:alpha val="43000"/>
                  </a:srgbClr>
                </a:outerShdw>
              </a:effectLst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9"/>
          <p:cNvSpPr/>
          <p:nvPr/>
        </p:nvSpPr>
        <p:spPr>
          <a:xfrm>
            <a:off x="720360" y="1905120"/>
            <a:ext cx="7695720" cy="3536640"/>
          </a:xfrm>
          <a:prstGeom prst="rect">
            <a:avLst/>
          </a:prstGeom>
          <a:solidFill>
            <a:schemeClr val="bg1"/>
          </a:solidFill>
          <a:ln w="6350">
            <a:solidFill>
              <a:srgbClr val="ffffff">
                <a:lumMod val="8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sp>
        <p:nvSpPr>
          <p:cNvPr id="678" name="TextBox 3"/>
          <p:cNvSpPr/>
          <p:nvPr/>
        </p:nvSpPr>
        <p:spPr>
          <a:xfrm>
            <a:off x="3327480" y="559800"/>
            <a:ext cx="24886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RODU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lace this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9" name="Straight Connector 4"/>
          <p:cNvCxnSpPr/>
          <p:nvPr/>
        </p:nvCxnSpPr>
        <p:spPr>
          <a:xfrm>
            <a:off x="2963160" y="1073160"/>
            <a:ext cx="3302280" cy="360"/>
          </a:xfrm>
          <a:prstGeom prst="straightConnector1">
            <a:avLst/>
          </a:prstGeom>
          <a:ln w="127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sp>
        <p:nvSpPr>
          <p:cNvPr id="680" name="Rektangel 13"/>
          <p:cNvSpPr/>
          <p:nvPr/>
        </p:nvSpPr>
        <p:spPr>
          <a:xfrm rot="16200000">
            <a:off x="657720" y="6090840"/>
            <a:ext cx="279000" cy="8784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1" name="Rektangel 13"/>
          <p:cNvSpPr/>
          <p:nvPr/>
        </p:nvSpPr>
        <p:spPr>
          <a:xfrm rot="16200000">
            <a:off x="37800" y="6349680"/>
            <a:ext cx="279000" cy="36072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2" name="TextBox 7"/>
          <p:cNvSpPr/>
          <p:nvPr/>
        </p:nvSpPr>
        <p:spPr>
          <a:xfrm>
            <a:off x="7560" y="6392880"/>
            <a:ext cx="374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8"/>
          <p:cNvSpPr/>
          <p:nvPr/>
        </p:nvSpPr>
        <p:spPr>
          <a:xfrm>
            <a:off x="397080" y="6390360"/>
            <a:ext cx="81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ound Same Side Corner Rectangle 25"/>
          <p:cNvSpPr/>
          <p:nvPr/>
        </p:nvSpPr>
        <p:spPr>
          <a:xfrm>
            <a:off x="720360" y="1534680"/>
            <a:ext cx="7695720" cy="381240"/>
          </a:xfrm>
          <a:prstGeom prst="round2SameRect">
            <a:avLst>
              <a:gd name="adj1" fmla="val 27778"/>
              <a:gd name="adj2" fmla="val 0"/>
            </a:avLst>
          </a:prstGeom>
          <a:gradFill rotWithShape="0">
            <a:gsLst>
              <a:gs pos="0">
                <a:srgbClr val="17375e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cxnSp>
        <p:nvCxnSpPr>
          <p:cNvPr id="685" name="Straight Connector 27"/>
          <p:cNvCxnSpPr/>
          <p:nvPr/>
        </p:nvCxnSpPr>
        <p:spPr>
          <a:xfrm flipH="1">
            <a:off x="1276920" y="1725480"/>
            <a:ext cx="1879920" cy="360"/>
          </a:xfrm>
          <a:prstGeom prst="straightConnector1">
            <a:avLst/>
          </a:prstGeom>
          <a:ln w="6350"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686" name="Straight Connector 28"/>
          <p:cNvCxnSpPr/>
          <p:nvPr/>
        </p:nvCxnSpPr>
        <p:spPr>
          <a:xfrm flipH="1">
            <a:off x="5946480" y="1725480"/>
            <a:ext cx="1879920" cy="360"/>
          </a:xfrm>
          <a:prstGeom prst="straightConnector1">
            <a:avLst/>
          </a:prstGeom>
          <a:ln w="6350"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687" name="TextBox 17"/>
          <p:cNvSpPr/>
          <p:nvPr/>
        </p:nvSpPr>
        <p:spPr>
          <a:xfrm>
            <a:off x="3188520" y="1552680"/>
            <a:ext cx="2759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ANK YOU FOR YOUR ATT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ktangel 15"/>
          <p:cNvSpPr/>
          <p:nvPr/>
        </p:nvSpPr>
        <p:spPr>
          <a:xfrm>
            <a:off x="720360" y="1924920"/>
            <a:ext cx="7695720" cy="3525480"/>
          </a:xfrm>
          <a:prstGeom prst="rect">
            <a:avLst/>
          </a:prstGeom>
          <a:solidFill>
            <a:srgbClr val="d9d9d9"/>
          </a:solidFill>
          <a:ln w="9525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grpSp>
        <p:nvGrpSpPr>
          <p:cNvPr id="689" name="Group 284"/>
          <p:cNvGrpSpPr/>
          <p:nvPr/>
        </p:nvGrpSpPr>
        <p:grpSpPr>
          <a:xfrm>
            <a:off x="1198440" y="2021760"/>
            <a:ext cx="6624720" cy="3234960"/>
            <a:chOff x="1198440" y="2021760"/>
            <a:chExt cx="6624720" cy="3234960"/>
          </a:xfrm>
        </p:grpSpPr>
        <p:sp>
          <p:nvSpPr>
            <p:cNvPr id="690" name="Freeform 285"/>
            <p:cNvSpPr/>
            <p:nvPr/>
          </p:nvSpPr>
          <p:spPr>
            <a:xfrm>
              <a:off x="7779960" y="4382280"/>
              <a:ext cx="43200" cy="4212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7" h="36">
                  <a:moveTo>
                    <a:pt x="0" y="36"/>
                  </a:moveTo>
                  <a:lnTo>
                    <a:pt x="3" y="21"/>
                  </a:lnTo>
                  <a:lnTo>
                    <a:pt x="12" y="12"/>
                  </a:lnTo>
                  <a:lnTo>
                    <a:pt x="22" y="3"/>
                  </a:lnTo>
                  <a:lnTo>
                    <a:pt x="37" y="0"/>
                  </a:lnTo>
                  <a:lnTo>
                    <a:pt x="34" y="18"/>
                  </a:lnTo>
                  <a:lnTo>
                    <a:pt x="28" y="30"/>
                  </a:lnTo>
                  <a:lnTo>
                    <a:pt x="15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691" name="Freeform 286"/>
            <p:cNvSpPr/>
            <p:nvPr/>
          </p:nvSpPr>
          <p:spPr>
            <a:xfrm>
              <a:off x="7703280" y="4796280"/>
              <a:ext cx="83520" cy="1555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1" h="132">
                  <a:moveTo>
                    <a:pt x="25" y="132"/>
                  </a:moveTo>
                  <a:lnTo>
                    <a:pt x="25" y="113"/>
                  </a:lnTo>
                  <a:lnTo>
                    <a:pt x="22" y="101"/>
                  </a:lnTo>
                  <a:lnTo>
                    <a:pt x="19" y="98"/>
                  </a:lnTo>
                  <a:lnTo>
                    <a:pt x="13" y="95"/>
                  </a:lnTo>
                  <a:lnTo>
                    <a:pt x="0" y="92"/>
                  </a:lnTo>
                  <a:lnTo>
                    <a:pt x="7" y="80"/>
                  </a:lnTo>
                  <a:lnTo>
                    <a:pt x="10" y="70"/>
                  </a:lnTo>
                  <a:lnTo>
                    <a:pt x="10" y="61"/>
                  </a:lnTo>
                  <a:lnTo>
                    <a:pt x="10" y="52"/>
                  </a:lnTo>
                  <a:lnTo>
                    <a:pt x="4" y="3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0" y="6"/>
                  </a:lnTo>
                  <a:lnTo>
                    <a:pt x="19" y="15"/>
                  </a:lnTo>
                  <a:lnTo>
                    <a:pt x="28" y="37"/>
                  </a:lnTo>
                  <a:lnTo>
                    <a:pt x="34" y="46"/>
                  </a:lnTo>
                  <a:lnTo>
                    <a:pt x="44" y="52"/>
                  </a:lnTo>
                  <a:lnTo>
                    <a:pt x="56" y="58"/>
                  </a:lnTo>
                  <a:lnTo>
                    <a:pt x="71" y="55"/>
                  </a:lnTo>
                  <a:lnTo>
                    <a:pt x="65" y="83"/>
                  </a:lnTo>
                  <a:lnTo>
                    <a:pt x="56" y="104"/>
                  </a:lnTo>
                  <a:lnTo>
                    <a:pt x="44" y="120"/>
                  </a:lnTo>
                  <a:lnTo>
                    <a:pt x="25" y="132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692" name="Freeform 287"/>
            <p:cNvSpPr/>
            <p:nvPr/>
          </p:nvSpPr>
          <p:spPr>
            <a:xfrm>
              <a:off x="7572960" y="4926240"/>
              <a:ext cx="148680" cy="13068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26" h="111">
                  <a:moveTo>
                    <a:pt x="86" y="0"/>
                  </a:moveTo>
                  <a:lnTo>
                    <a:pt x="98" y="0"/>
                  </a:lnTo>
                  <a:lnTo>
                    <a:pt x="110" y="3"/>
                  </a:lnTo>
                  <a:lnTo>
                    <a:pt x="120" y="7"/>
                  </a:lnTo>
                  <a:lnTo>
                    <a:pt x="126" y="13"/>
                  </a:lnTo>
                  <a:lnTo>
                    <a:pt x="120" y="31"/>
                  </a:lnTo>
                  <a:lnTo>
                    <a:pt x="107" y="53"/>
                  </a:lnTo>
                  <a:lnTo>
                    <a:pt x="92" y="74"/>
                  </a:lnTo>
                  <a:lnTo>
                    <a:pt x="77" y="93"/>
                  </a:lnTo>
                  <a:lnTo>
                    <a:pt x="58" y="105"/>
                  </a:lnTo>
                  <a:lnTo>
                    <a:pt x="49" y="111"/>
                  </a:lnTo>
                  <a:lnTo>
                    <a:pt x="40" y="111"/>
                  </a:lnTo>
                  <a:lnTo>
                    <a:pt x="31" y="111"/>
                  </a:lnTo>
                  <a:lnTo>
                    <a:pt x="18" y="108"/>
                  </a:lnTo>
                  <a:lnTo>
                    <a:pt x="9" y="105"/>
                  </a:lnTo>
                  <a:lnTo>
                    <a:pt x="0" y="96"/>
                  </a:lnTo>
                  <a:lnTo>
                    <a:pt x="9" y="80"/>
                  </a:lnTo>
                  <a:lnTo>
                    <a:pt x="18" y="68"/>
                  </a:lnTo>
                  <a:lnTo>
                    <a:pt x="31" y="59"/>
                  </a:lnTo>
                  <a:lnTo>
                    <a:pt x="43" y="50"/>
                  </a:lnTo>
                  <a:lnTo>
                    <a:pt x="58" y="40"/>
                  </a:lnTo>
                  <a:lnTo>
                    <a:pt x="70" y="31"/>
                  </a:lnTo>
                  <a:lnTo>
                    <a:pt x="80" y="19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693" name="Freeform 288"/>
            <p:cNvSpPr/>
            <p:nvPr/>
          </p:nvSpPr>
          <p:spPr>
            <a:xfrm>
              <a:off x="7525800" y="4480560"/>
              <a:ext cx="57600" cy="468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49" h="40">
                  <a:moveTo>
                    <a:pt x="0" y="12"/>
                  </a:moveTo>
                  <a:lnTo>
                    <a:pt x="6" y="3"/>
                  </a:lnTo>
                  <a:lnTo>
                    <a:pt x="15" y="0"/>
                  </a:lnTo>
                  <a:lnTo>
                    <a:pt x="24" y="3"/>
                  </a:lnTo>
                  <a:lnTo>
                    <a:pt x="31" y="6"/>
                  </a:lnTo>
                  <a:lnTo>
                    <a:pt x="40" y="12"/>
                  </a:lnTo>
                  <a:lnTo>
                    <a:pt x="46" y="18"/>
                  </a:lnTo>
                  <a:lnTo>
                    <a:pt x="49" y="27"/>
                  </a:lnTo>
                  <a:lnTo>
                    <a:pt x="49" y="40"/>
                  </a:lnTo>
                  <a:lnTo>
                    <a:pt x="37" y="40"/>
                  </a:lnTo>
                  <a:lnTo>
                    <a:pt x="31" y="40"/>
                  </a:lnTo>
                  <a:lnTo>
                    <a:pt x="24" y="36"/>
                  </a:lnTo>
                  <a:lnTo>
                    <a:pt x="21" y="30"/>
                  </a:lnTo>
                  <a:lnTo>
                    <a:pt x="12" y="18"/>
                  </a:lnTo>
                  <a:lnTo>
                    <a:pt x="6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694" name="Freeform 289"/>
            <p:cNvSpPr/>
            <p:nvPr/>
          </p:nvSpPr>
          <p:spPr>
            <a:xfrm>
              <a:off x="6576480" y="4258440"/>
              <a:ext cx="745560" cy="646200"/>
            </a:xfrm>
            <a:custGeom>
              <a:avLst/>
              <a:gdLst>
                <a:gd name="textAreaLeft" fmla="*/ 0 w 745560"/>
                <a:gd name="textAreaRight" fmla="*/ 745920 w 74556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631" h="547">
                  <a:moveTo>
                    <a:pt x="329" y="464"/>
                  </a:moveTo>
                  <a:lnTo>
                    <a:pt x="332" y="446"/>
                  </a:lnTo>
                  <a:lnTo>
                    <a:pt x="332" y="433"/>
                  </a:lnTo>
                  <a:lnTo>
                    <a:pt x="326" y="421"/>
                  </a:lnTo>
                  <a:lnTo>
                    <a:pt x="317" y="412"/>
                  </a:lnTo>
                  <a:lnTo>
                    <a:pt x="305" y="403"/>
                  </a:lnTo>
                  <a:lnTo>
                    <a:pt x="292" y="396"/>
                  </a:lnTo>
                  <a:lnTo>
                    <a:pt x="280" y="393"/>
                  </a:lnTo>
                  <a:lnTo>
                    <a:pt x="265" y="393"/>
                  </a:lnTo>
                  <a:lnTo>
                    <a:pt x="249" y="393"/>
                  </a:lnTo>
                  <a:lnTo>
                    <a:pt x="231" y="396"/>
                  </a:lnTo>
                  <a:lnTo>
                    <a:pt x="216" y="403"/>
                  </a:lnTo>
                  <a:lnTo>
                    <a:pt x="203" y="409"/>
                  </a:lnTo>
                  <a:lnTo>
                    <a:pt x="191" y="418"/>
                  </a:lnTo>
                  <a:lnTo>
                    <a:pt x="179" y="427"/>
                  </a:lnTo>
                  <a:lnTo>
                    <a:pt x="169" y="439"/>
                  </a:lnTo>
                  <a:lnTo>
                    <a:pt x="166" y="455"/>
                  </a:lnTo>
                  <a:lnTo>
                    <a:pt x="142" y="452"/>
                  </a:lnTo>
                  <a:lnTo>
                    <a:pt x="120" y="458"/>
                  </a:lnTo>
                  <a:lnTo>
                    <a:pt x="83" y="470"/>
                  </a:lnTo>
                  <a:lnTo>
                    <a:pt x="68" y="476"/>
                  </a:lnTo>
                  <a:lnTo>
                    <a:pt x="53" y="476"/>
                  </a:lnTo>
                  <a:lnTo>
                    <a:pt x="43" y="473"/>
                  </a:lnTo>
                  <a:lnTo>
                    <a:pt x="37" y="470"/>
                  </a:lnTo>
                  <a:lnTo>
                    <a:pt x="22" y="455"/>
                  </a:lnTo>
                  <a:lnTo>
                    <a:pt x="22" y="443"/>
                  </a:lnTo>
                  <a:lnTo>
                    <a:pt x="25" y="436"/>
                  </a:lnTo>
                  <a:lnTo>
                    <a:pt x="34" y="427"/>
                  </a:lnTo>
                  <a:lnTo>
                    <a:pt x="40" y="418"/>
                  </a:lnTo>
                  <a:lnTo>
                    <a:pt x="46" y="415"/>
                  </a:lnTo>
                  <a:lnTo>
                    <a:pt x="46" y="406"/>
                  </a:lnTo>
                  <a:lnTo>
                    <a:pt x="37" y="387"/>
                  </a:lnTo>
                  <a:lnTo>
                    <a:pt x="28" y="369"/>
                  </a:lnTo>
                  <a:lnTo>
                    <a:pt x="19" y="347"/>
                  </a:lnTo>
                  <a:lnTo>
                    <a:pt x="13" y="326"/>
                  </a:lnTo>
                  <a:lnTo>
                    <a:pt x="3" y="274"/>
                  </a:lnTo>
                  <a:lnTo>
                    <a:pt x="0" y="218"/>
                  </a:lnTo>
                  <a:lnTo>
                    <a:pt x="25" y="200"/>
                  </a:lnTo>
                  <a:lnTo>
                    <a:pt x="53" y="185"/>
                  </a:lnTo>
                  <a:lnTo>
                    <a:pt x="83" y="175"/>
                  </a:lnTo>
                  <a:lnTo>
                    <a:pt x="99" y="172"/>
                  </a:lnTo>
                  <a:lnTo>
                    <a:pt x="117" y="169"/>
                  </a:lnTo>
                  <a:lnTo>
                    <a:pt x="123" y="151"/>
                  </a:lnTo>
                  <a:lnTo>
                    <a:pt x="133" y="138"/>
                  </a:lnTo>
                  <a:lnTo>
                    <a:pt x="145" y="123"/>
                  </a:lnTo>
                  <a:lnTo>
                    <a:pt x="157" y="114"/>
                  </a:lnTo>
                  <a:lnTo>
                    <a:pt x="169" y="102"/>
                  </a:lnTo>
                  <a:lnTo>
                    <a:pt x="182" y="89"/>
                  </a:lnTo>
                  <a:lnTo>
                    <a:pt x="191" y="74"/>
                  </a:lnTo>
                  <a:lnTo>
                    <a:pt x="197" y="59"/>
                  </a:lnTo>
                  <a:lnTo>
                    <a:pt x="206" y="55"/>
                  </a:lnTo>
                  <a:lnTo>
                    <a:pt x="212" y="55"/>
                  </a:lnTo>
                  <a:lnTo>
                    <a:pt x="225" y="62"/>
                  </a:lnTo>
                  <a:lnTo>
                    <a:pt x="234" y="68"/>
                  </a:lnTo>
                  <a:lnTo>
                    <a:pt x="243" y="77"/>
                  </a:lnTo>
                  <a:lnTo>
                    <a:pt x="262" y="52"/>
                  </a:lnTo>
                  <a:lnTo>
                    <a:pt x="268" y="40"/>
                  </a:lnTo>
                  <a:lnTo>
                    <a:pt x="268" y="19"/>
                  </a:lnTo>
                  <a:lnTo>
                    <a:pt x="271" y="19"/>
                  </a:lnTo>
                  <a:lnTo>
                    <a:pt x="277" y="19"/>
                  </a:lnTo>
                  <a:lnTo>
                    <a:pt x="283" y="25"/>
                  </a:lnTo>
                  <a:lnTo>
                    <a:pt x="292" y="37"/>
                  </a:lnTo>
                  <a:lnTo>
                    <a:pt x="296" y="34"/>
                  </a:lnTo>
                  <a:lnTo>
                    <a:pt x="299" y="25"/>
                  </a:lnTo>
                  <a:lnTo>
                    <a:pt x="299" y="16"/>
                  </a:lnTo>
                  <a:lnTo>
                    <a:pt x="299" y="9"/>
                  </a:lnTo>
                  <a:lnTo>
                    <a:pt x="305" y="12"/>
                  </a:lnTo>
                  <a:lnTo>
                    <a:pt x="314" y="16"/>
                  </a:lnTo>
                  <a:lnTo>
                    <a:pt x="329" y="25"/>
                  </a:lnTo>
                  <a:lnTo>
                    <a:pt x="339" y="28"/>
                  </a:lnTo>
                  <a:lnTo>
                    <a:pt x="348" y="31"/>
                  </a:lnTo>
                  <a:lnTo>
                    <a:pt x="363" y="31"/>
                  </a:lnTo>
                  <a:lnTo>
                    <a:pt x="379" y="28"/>
                  </a:lnTo>
                  <a:lnTo>
                    <a:pt x="372" y="40"/>
                  </a:lnTo>
                  <a:lnTo>
                    <a:pt x="369" y="52"/>
                  </a:lnTo>
                  <a:lnTo>
                    <a:pt x="366" y="65"/>
                  </a:lnTo>
                  <a:lnTo>
                    <a:pt x="363" y="77"/>
                  </a:lnTo>
                  <a:lnTo>
                    <a:pt x="366" y="86"/>
                  </a:lnTo>
                  <a:lnTo>
                    <a:pt x="375" y="95"/>
                  </a:lnTo>
                  <a:lnTo>
                    <a:pt x="394" y="105"/>
                  </a:lnTo>
                  <a:lnTo>
                    <a:pt x="412" y="114"/>
                  </a:lnTo>
                  <a:lnTo>
                    <a:pt x="422" y="123"/>
                  </a:lnTo>
                  <a:lnTo>
                    <a:pt x="425" y="132"/>
                  </a:lnTo>
                  <a:lnTo>
                    <a:pt x="437" y="123"/>
                  </a:lnTo>
                  <a:lnTo>
                    <a:pt x="443" y="108"/>
                  </a:lnTo>
                  <a:lnTo>
                    <a:pt x="446" y="92"/>
                  </a:lnTo>
                  <a:lnTo>
                    <a:pt x="446" y="74"/>
                  </a:lnTo>
                  <a:lnTo>
                    <a:pt x="446" y="37"/>
                  </a:lnTo>
                  <a:lnTo>
                    <a:pt x="446" y="19"/>
                  </a:lnTo>
                  <a:lnTo>
                    <a:pt x="449" y="0"/>
                  </a:lnTo>
                  <a:lnTo>
                    <a:pt x="474" y="31"/>
                  </a:lnTo>
                  <a:lnTo>
                    <a:pt x="495" y="68"/>
                  </a:lnTo>
                  <a:lnTo>
                    <a:pt x="514" y="105"/>
                  </a:lnTo>
                  <a:lnTo>
                    <a:pt x="523" y="129"/>
                  </a:lnTo>
                  <a:lnTo>
                    <a:pt x="529" y="151"/>
                  </a:lnTo>
                  <a:lnTo>
                    <a:pt x="532" y="160"/>
                  </a:lnTo>
                  <a:lnTo>
                    <a:pt x="535" y="166"/>
                  </a:lnTo>
                  <a:lnTo>
                    <a:pt x="548" y="175"/>
                  </a:lnTo>
                  <a:lnTo>
                    <a:pt x="563" y="181"/>
                  </a:lnTo>
                  <a:lnTo>
                    <a:pt x="575" y="191"/>
                  </a:lnTo>
                  <a:lnTo>
                    <a:pt x="594" y="231"/>
                  </a:lnTo>
                  <a:lnTo>
                    <a:pt x="615" y="274"/>
                  </a:lnTo>
                  <a:lnTo>
                    <a:pt x="621" y="295"/>
                  </a:lnTo>
                  <a:lnTo>
                    <a:pt x="628" y="317"/>
                  </a:lnTo>
                  <a:lnTo>
                    <a:pt x="631" y="341"/>
                  </a:lnTo>
                  <a:lnTo>
                    <a:pt x="631" y="369"/>
                  </a:lnTo>
                  <a:lnTo>
                    <a:pt x="628" y="390"/>
                  </a:lnTo>
                  <a:lnTo>
                    <a:pt x="621" y="409"/>
                  </a:lnTo>
                  <a:lnTo>
                    <a:pt x="606" y="446"/>
                  </a:lnTo>
                  <a:lnTo>
                    <a:pt x="588" y="482"/>
                  </a:lnTo>
                  <a:lnTo>
                    <a:pt x="581" y="501"/>
                  </a:lnTo>
                  <a:lnTo>
                    <a:pt x="575" y="519"/>
                  </a:lnTo>
                  <a:lnTo>
                    <a:pt x="560" y="525"/>
                  </a:lnTo>
                  <a:lnTo>
                    <a:pt x="545" y="529"/>
                  </a:lnTo>
                  <a:lnTo>
                    <a:pt x="517" y="535"/>
                  </a:lnTo>
                  <a:lnTo>
                    <a:pt x="492" y="538"/>
                  </a:lnTo>
                  <a:lnTo>
                    <a:pt x="477" y="541"/>
                  </a:lnTo>
                  <a:lnTo>
                    <a:pt x="465" y="547"/>
                  </a:lnTo>
                  <a:lnTo>
                    <a:pt x="458" y="535"/>
                  </a:lnTo>
                  <a:lnTo>
                    <a:pt x="452" y="525"/>
                  </a:lnTo>
                  <a:lnTo>
                    <a:pt x="440" y="519"/>
                  </a:lnTo>
                  <a:lnTo>
                    <a:pt x="425" y="519"/>
                  </a:lnTo>
                  <a:lnTo>
                    <a:pt x="425" y="498"/>
                  </a:lnTo>
                  <a:lnTo>
                    <a:pt x="422" y="482"/>
                  </a:lnTo>
                  <a:lnTo>
                    <a:pt x="415" y="473"/>
                  </a:lnTo>
                  <a:lnTo>
                    <a:pt x="406" y="467"/>
                  </a:lnTo>
                  <a:lnTo>
                    <a:pt x="397" y="464"/>
                  </a:lnTo>
                  <a:lnTo>
                    <a:pt x="391" y="458"/>
                  </a:lnTo>
                  <a:lnTo>
                    <a:pt x="388" y="449"/>
                  </a:lnTo>
                  <a:lnTo>
                    <a:pt x="385" y="433"/>
                  </a:lnTo>
                  <a:lnTo>
                    <a:pt x="382" y="430"/>
                  </a:lnTo>
                  <a:lnTo>
                    <a:pt x="375" y="430"/>
                  </a:lnTo>
                  <a:lnTo>
                    <a:pt x="366" y="446"/>
                  </a:lnTo>
                  <a:lnTo>
                    <a:pt x="360" y="455"/>
                  </a:lnTo>
                  <a:lnTo>
                    <a:pt x="351" y="461"/>
                  </a:lnTo>
                  <a:lnTo>
                    <a:pt x="342" y="464"/>
                  </a:lnTo>
                  <a:lnTo>
                    <a:pt x="329" y="464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695" name="Freeform 290"/>
            <p:cNvSpPr/>
            <p:nvPr/>
          </p:nvSpPr>
          <p:spPr>
            <a:xfrm>
              <a:off x="7161840" y="4926240"/>
              <a:ext cx="76320" cy="694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65" h="59">
                  <a:moveTo>
                    <a:pt x="10" y="59"/>
                  </a:moveTo>
                  <a:lnTo>
                    <a:pt x="10" y="43"/>
                  </a:lnTo>
                  <a:lnTo>
                    <a:pt x="7" y="34"/>
                  </a:lnTo>
                  <a:lnTo>
                    <a:pt x="3" y="25"/>
                  </a:lnTo>
                  <a:lnTo>
                    <a:pt x="0" y="13"/>
                  </a:lnTo>
                  <a:lnTo>
                    <a:pt x="13" y="13"/>
                  </a:lnTo>
                  <a:lnTo>
                    <a:pt x="19" y="13"/>
                  </a:lnTo>
                  <a:lnTo>
                    <a:pt x="34" y="10"/>
                  </a:lnTo>
                  <a:lnTo>
                    <a:pt x="50" y="3"/>
                  </a:lnTo>
                  <a:lnTo>
                    <a:pt x="65" y="0"/>
                  </a:lnTo>
                  <a:lnTo>
                    <a:pt x="59" y="25"/>
                  </a:lnTo>
                  <a:lnTo>
                    <a:pt x="56" y="37"/>
                  </a:lnTo>
                  <a:lnTo>
                    <a:pt x="50" y="46"/>
                  </a:lnTo>
                  <a:lnTo>
                    <a:pt x="43" y="53"/>
                  </a:lnTo>
                  <a:lnTo>
                    <a:pt x="34" y="56"/>
                  </a:lnTo>
                  <a:lnTo>
                    <a:pt x="22" y="59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696" name="Freeform 291"/>
            <p:cNvSpPr/>
            <p:nvPr/>
          </p:nvSpPr>
          <p:spPr>
            <a:xfrm>
              <a:off x="6874560" y="3024360"/>
              <a:ext cx="316440" cy="29736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268" h="252">
                  <a:moveTo>
                    <a:pt x="157" y="43"/>
                  </a:moveTo>
                  <a:lnTo>
                    <a:pt x="166" y="31"/>
                  </a:lnTo>
                  <a:lnTo>
                    <a:pt x="179" y="18"/>
                  </a:lnTo>
                  <a:lnTo>
                    <a:pt x="194" y="9"/>
                  </a:lnTo>
                  <a:lnTo>
                    <a:pt x="213" y="3"/>
                  </a:lnTo>
                  <a:lnTo>
                    <a:pt x="228" y="0"/>
                  </a:lnTo>
                  <a:lnTo>
                    <a:pt x="243" y="6"/>
                  </a:lnTo>
                  <a:lnTo>
                    <a:pt x="259" y="18"/>
                  </a:lnTo>
                  <a:lnTo>
                    <a:pt x="268" y="34"/>
                  </a:lnTo>
                  <a:lnTo>
                    <a:pt x="250" y="43"/>
                  </a:lnTo>
                  <a:lnTo>
                    <a:pt x="231" y="49"/>
                  </a:lnTo>
                  <a:lnTo>
                    <a:pt x="210" y="52"/>
                  </a:lnTo>
                  <a:lnTo>
                    <a:pt x="188" y="55"/>
                  </a:lnTo>
                  <a:lnTo>
                    <a:pt x="197" y="70"/>
                  </a:lnTo>
                  <a:lnTo>
                    <a:pt x="200" y="83"/>
                  </a:lnTo>
                  <a:lnTo>
                    <a:pt x="200" y="95"/>
                  </a:lnTo>
                  <a:lnTo>
                    <a:pt x="197" y="107"/>
                  </a:lnTo>
                  <a:lnTo>
                    <a:pt x="194" y="132"/>
                  </a:lnTo>
                  <a:lnTo>
                    <a:pt x="191" y="147"/>
                  </a:lnTo>
                  <a:lnTo>
                    <a:pt x="188" y="166"/>
                  </a:lnTo>
                  <a:lnTo>
                    <a:pt x="170" y="181"/>
                  </a:lnTo>
                  <a:lnTo>
                    <a:pt x="148" y="190"/>
                  </a:lnTo>
                  <a:lnTo>
                    <a:pt x="105" y="212"/>
                  </a:lnTo>
                  <a:lnTo>
                    <a:pt x="65" y="230"/>
                  </a:lnTo>
                  <a:lnTo>
                    <a:pt x="47" y="239"/>
                  </a:lnTo>
                  <a:lnTo>
                    <a:pt x="31" y="252"/>
                  </a:lnTo>
                  <a:lnTo>
                    <a:pt x="22" y="252"/>
                  </a:lnTo>
                  <a:lnTo>
                    <a:pt x="16" y="249"/>
                  </a:lnTo>
                  <a:lnTo>
                    <a:pt x="13" y="242"/>
                  </a:lnTo>
                  <a:lnTo>
                    <a:pt x="10" y="236"/>
                  </a:lnTo>
                  <a:lnTo>
                    <a:pt x="4" y="221"/>
                  </a:lnTo>
                  <a:lnTo>
                    <a:pt x="0" y="206"/>
                  </a:lnTo>
                  <a:lnTo>
                    <a:pt x="10" y="196"/>
                  </a:lnTo>
                  <a:lnTo>
                    <a:pt x="25" y="187"/>
                  </a:lnTo>
                  <a:lnTo>
                    <a:pt x="53" y="178"/>
                  </a:lnTo>
                  <a:lnTo>
                    <a:pt x="83" y="169"/>
                  </a:lnTo>
                  <a:lnTo>
                    <a:pt x="111" y="156"/>
                  </a:lnTo>
                  <a:lnTo>
                    <a:pt x="127" y="150"/>
                  </a:lnTo>
                  <a:lnTo>
                    <a:pt x="139" y="144"/>
                  </a:lnTo>
                  <a:lnTo>
                    <a:pt x="148" y="132"/>
                  </a:lnTo>
                  <a:lnTo>
                    <a:pt x="157" y="123"/>
                  </a:lnTo>
                  <a:lnTo>
                    <a:pt x="160" y="107"/>
                  </a:lnTo>
                  <a:lnTo>
                    <a:pt x="163" y="89"/>
                  </a:lnTo>
                  <a:lnTo>
                    <a:pt x="163" y="67"/>
                  </a:lnTo>
                  <a:lnTo>
                    <a:pt x="157" y="43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697" name="Freeform 292"/>
            <p:cNvSpPr/>
            <p:nvPr/>
          </p:nvSpPr>
          <p:spPr>
            <a:xfrm>
              <a:off x="6904080" y="4037400"/>
              <a:ext cx="363600" cy="23148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308" h="196">
                  <a:moveTo>
                    <a:pt x="22" y="64"/>
                  </a:moveTo>
                  <a:lnTo>
                    <a:pt x="28" y="49"/>
                  </a:lnTo>
                  <a:lnTo>
                    <a:pt x="28" y="37"/>
                  </a:lnTo>
                  <a:lnTo>
                    <a:pt x="28" y="31"/>
                  </a:lnTo>
                  <a:lnTo>
                    <a:pt x="22" y="24"/>
                  </a:lnTo>
                  <a:lnTo>
                    <a:pt x="9" y="15"/>
                  </a:lnTo>
                  <a:lnTo>
                    <a:pt x="3" y="9"/>
                  </a:lnTo>
                  <a:lnTo>
                    <a:pt x="0" y="0"/>
                  </a:lnTo>
                  <a:lnTo>
                    <a:pt x="49" y="0"/>
                  </a:lnTo>
                  <a:lnTo>
                    <a:pt x="98" y="6"/>
                  </a:lnTo>
                  <a:lnTo>
                    <a:pt x="123" y="12"/>
                  </a:lnTo>
                  <a:lnTo>
                    <a:pt x="145" y="21"/>
                  </a:lnTo>
                  <a:lnTo>
                    <a:pt x="169" y="31"/>
                  </a:lnTo>
                  <a:lnTo>
                    <a:pt x="191" y="40"/>
                  </a:lnTo>
                  <a:lnTo>
                    <a:pt x="209" y="55"/>
                  </a:lnTo>
                  <a:lnTo>
                    <a:pt x="231" y="70"/>
                  </a:lnTo>
                  <a:lnTo>
                    <a:pt x="246" y="86"/>
                  </a:lnTo>
                  <a:lnTo>
                    <a:pt x="261" y="104"/>
                  </a:lnTo>
                  <a:lnTo>
                    <a:pt x="277" y="126"/>
                  </a:lnTo>
                  <a:lnTo>
                    <a:pt x="289" y="147"/>
                  </a:lnTo>
                  <a:lnTo>
                    <a:pt x="298" y="172"/>
                  </a:lnTo>
                  <a:lnTo>
                    <a:pt x="308" y="196"/>
                  </a:lnTo>
                  <a:lnTo>
                    <a:pt x="292" y="196"/>
                  </a:lnTo>
                  <a:lnTo>
                    <a:pt x="280" y="190"/>
                  </a:lnTo>
                  <a:lnTo>
                    <a:pt x="268" y="181"/>
                  </a:lnTo>
                  <a:lnTo>
                    <a:pt x="258" y="172"/>
                  </a:lnTo>
                  <a:lnTo>
                    <a:pt x="243" y="150"/>
                  </a:lnTo>
                  <a:lnTo>
                    <a:pt x="228" y="132"/>
                  </a:lnTo>
                  <a:lnTo>
                    <a:pt x="218" y="132"/>
                  </a:lnTo>
                  <a:lnTo>
                    <a:pt x="209" y="135"/>
                  </a:lnTo>
                  <a:lnTo>
                    <a:pt x="203" y="141"/>
                  </a:lnTo>
                  <a:lnTo>
                    <a:pt x="200" y="150"/>
                  </a:lnTo>
                  <a:lnTo>
                    <a:pt x="194" y="169"/>
                  </a:lnTo>
                  <a:lnTo>
                    <a:pt x="188" y="175"/>
                  </a:lnTo>
                  <a:lnTo>
                    <a:pt x="181" y="178"/>
                  </a:lnTo>
                  <a:lnTo>
                    <a:pt x="169" y="172"/>
                  </a:lnTo>
                  <a:lnTo>
                    <a:pt x="160" y="166"/>
                  </a:lnTo>
                  <a:lnTo>
                    <a:pt x="145" y="150"/>
                  </a:lnTo>
                  <a:lnTo>
                    <a:pt x="135" y="144"/>
                  </a:lnTo>
                  <a:lnTo>
                    <a:pt x="129" y="141"/>
                  </a:lnTo>
                  <a:lnTo>
                    <a:pt x="120" y="138"/>
                  </a:lnTo>
                  <a:lnTo>
                    <a:pt x="108" y="141"/>
                  </a:lnTo>
                  <a:lnTo>
                    <a:pt x="114" y="132"/>
                  </a:lnTo>
                  <a:lnTo>
                    <a:pt x="117" y="126"/>
                  </a:lnTo>
                  <a:lnTo>
                    <a:pt x="123" y="123"/>
                  </a:lnTo>
                  <a:lnTo>
                    <a:pt x="132" y="123"/>
                  </a:lnTo>
                  <a:lnTo>
                    <a:pt x="126" y="107"/>
                  </a:lnTo>
                  <a:lnTo>
                    <a:pt x="114" y="95"/>
                  </a:lnTo>
                  <a:lnTo>
                    <a:pt x="102" y="86"/>
                  </a:lnTo>
                  <a:lnTo>
                    <a:pt x="89" y="80"/>
                  </a:lnTo>
                  <a:lnTo>
                    <a:pt x="74" y="74"/>
                  </a:lnTo>
                  <a:lnTo>
                    <a:pt x="58" y="67"/>
                  </a:lnTo>
                  <a:lnTo>
                    <a:pt x="22" y="64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698" name="Freeform 293"/>
            <p:cNvSpPr/>
            <p:nvPr/>
          </p:nvSpPr>
          <p:spPr>
            <a:xfrm>
              <a:off x="6838920" y="3967560"/>
              <a:ext cx="35280" cy="7992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0" h="68">
                  <a:moveTo>
                    <a:pt x="15" y="0"/>
                  </a:moveTo>
                  <a:lnTo>
                    <a:pt x="24" y="4"/>
                  </a:lnTo>
                  <a:lnTo>
                    <a:pt x="30" y="10"/>
                  </a:lnTo>
                  <a:lnTo>
                    <a:pt x="30" y="19"/>
                  </a:lnTo>
                  <a:lnTo>
                    <a:pt x="30" y="31"/>
                  </a:lnTo>
                  <a:lnTo>
                    <a:pt x="24" y="53"/>
                  </a:lnTo>
                  <a:lnTo>
                    <a:pt x="15" y="68"/>
                  </a:lnTo>
                  <a:lnTo>
                    <a:pt x="6" y="62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3" y="40"/>
                  </a:lnTo>
                  <a:lnTo>
                    <a:pt x="9" y="22"/>
                  </a:lnTo>
                  <a:lnTo>
                    <a:pt x="12" y="1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699" name="Freeform 294"/>
            <p:cNvSpPr/>
            <p:nvPr/>
          </p:nvSpPr>
          <p:spPr>
            <a:xfrm>
              <a:off x="6780960" y="3739320"/>
              <a:ext cx="38520" cy="399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3" h="34">
                  <a:moveTo>
                    <a:pt x="0" y="34"/>
                  </a:moveTo>
                  <a:lnTo>
                    <a:pt x="3" y="21"/>
                  </a:lnTo>
                  <a:lnTo>
                    <a:pt x="6" y="12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6"/>
                  </a:lnTo>
                  <a:lnTo>
                    <a:pt x="33" y="18"/>
                  </a:lnTo>
                  <a:lnTo>
                    <a:pt x="3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00" name="Freeform 295"/>
            <p:cNvSpPr/>
            <p:nvPr/>
          </p:nvSpPr>
          <p:spPr>
            <a:xfrm>
              <a:off x="6773040" y="4196880"/>
              <a:ext cx="65880" cy="6120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56" h="52">
                  <a:moveTo>
                    <a:pt x="0" y="52"/>
                  </a:moveTo>
                  <a:lnTo>
                    <a:pt x="0" y="37"/>
                  </a:lnTo>
                  <a:lnTo>
                    <a:pt x="3" y="21"/>
                  </a:lnTo>
                  <a:lnTo>
                    <a:pt x="10" y="12"/>
                  </a:lnTo>
                  <a:lnTo>
                    <a:pt x="19" y="3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46" y="6"/>
                  </a:lnTo>
                  <a:lnTo>
                    <a:pt x="56" y="15"/>
                  </a:lnTo>
                  <a:lnTo>
                    <a:pt x="43" y="28"/>
                  </a:lnTo>
                  <a:lnTo>
                    <a:pt x="31" y="37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01" name="Freeform 296"/>
            <p:cNvSpPr/>
            <p:nvPr/>
          </p:nvSpPr>
          <p:spPr>
            <a:xfrm>
              <a:off x="6725520" y="3814920"/>
              <a:ext cx="106200" cy="763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0" h="65">
                  <a:moveTo>
                    <a:pt x="47" y="16"/>
                  </a:moveTo>
                  <a:lnTo>
                    <a:pt x="56" y="7"/>
                  </a:lnTo>
                  <a:lnTo>
                    <a:pt x="62" y="4"/>
                  </a:lnTo>
                  <a:lnTo>
                    <a:pt x="71" y="0"/>
                  </a:lnTo>
                  <a:lnTo>
                    <a:pt x="77" y="4"/>
                  </a:lnTo>
                  <a:lnTo>
                    <a:pt x="83" y="10"/>
                  </a:lnTo>
                  <a:lnTo>
                    <a:pt x="86" y="22"/>
                  </a:lnTo>
                  <a:lnTo>
                    <a:pt x="90" y="37"/>
                  </a:lnTo>
                  <a:lnTo>
                    <a:pt x="86" y="56"/>
                  </a:lnTo>
                  <a:lnTo>
                    <a:pt x="80" y="56"/>
                  </a:lnTo>
                  <a:lnTo>
                    <a:pt x="77" y="56"/>
                  </a:lnTo>
                  <a:lnTo>
                    <a:pt x="74" y="59"/>
                  </a:lnTo>
                  <a:lnTo>
                    <a:pt x="71" y="65"/>
                  </a:lnTo>
                  <a:lnTo>
                    <a:pt x="50" y="59"/>
                  </a:lnTo>
                  <a:lnTo>
                    <a:pt x="34" y="53"/>
                  </a:lnTo>
                  <a:lnTo>
                    <a:pt x="19" y="43"/>
                  </a:lnTo>
                  <a:lnTo>
                    <a:pt x="0" y="37"/>
                  </a:lnTo>
                  <a:lnTo>
                    <a:pt x="3" y="28"/>
                  </a:lnTo>
                  <a:lnTo>
                    <a:pt x="7" y="22"/>
                  </a:lnTo>
                  <a:lnTo>
                    <a:pt x="13" y="16"/>
                  </a:lnTo>
                  <a:lnTo>
                    <a:pt x="19" y="10"/>
                  </a:lnTo>
                  <a:lnTo>
                    <a:pt x="25" y="10"/>
                  </a:lnTo>
                  <a:lnTo>
                    <a:pt x="34" y="10"/>
                  </a:lnTo>
                  <a:lnTo>
                    <a:pt x="40" y="10"/>
                  </a:lnTo>
                  <a:lnTo>
                    <a:pt x="47" y="16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02" name="Freeform 297"/>
            <p:cNvSpPr/>
            <p:nvPr/>
          </p:nvSpPr>
          <p:spPr>
            <a:xfrm>
              <a:off x="6733800" y="3768840"/>
              <a:ext cx="57600" cy="4572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49" h="39">
                  <a:moveTo>
                    <a:pt x="0" y="9"/>
                  </a:moveTo>
                  <a:lnTo>
                    <a:pt x="6" y="3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7" y="3"/>
                  </a:lnTo>
                  <a:lnTo>
                    <a:pt x="36" y="9"/>
                  </a:lnTo>
                  <a:lnTo>
                    <a:pt x="49" y="18"/>
                  </a:lnTo>
                  <a:lnTo>
                    <a:pt x="46" y="27"/>
                  </a:lnTo>
                  <a:lnTo>
                    <a:pt x="40" y="33"/>
                  </a:lnTo>
                  <a:lnTo>
                    <a:pt x="30" y="36"/>
                  </a:lnTo>
                  <a:lnTo>
                    <a:pt x="21" y="39"/>
                  </a:lnTo>
                  <a:lnTo>
                    <a:pt x="12" y="36"/>
                  </a:lnTo>
                  <a:lnTo>
                    <a:pt x="6" y="30"/>
                  </a:lnTo>
                  <a:lnTo>
                    <a:pt x="0" y="2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03" name="Freeform 298"/>
            <p:cNvSpPr/>
            <p:nvPr/>
          </p:nvSpPr>
          <p:spPr>
            <a:xfrm>
              <a:off x="6700680" y="3467520"/>
              <a:ext cx="43200" cy="648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7" h="55">
                  <a:moveTo>
                    <a:pt x="37" y="0"/>
                  </a:moveTo>
                  <a:lnTo>
                    <a:pt x="34" y="18"/>
                  </a:lnTo>
                  <a:lnTo>
                    <a:pt x="28" y="30"/>
                  </a:lnTo>
                  <a:lnTo>
                    <a:pt x="18" y="43"/>
                  </a:lnTo>
                  <a:lnTo>
                    <a:pt x="12" y="55"/>
                  </a:lnTo>
                  <a:lnTo>
                    <a:pt x="3" y="52"/>
                  </a:lnTo>
                  <a:lnTo>
                    <a:pt x="0" y="4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6" y="12"/>
                  </a:lnTo>
                  <a:lnTo>
                    <a:pt x="15" y="3"/>
                  </a:lnTo>
                  <a:lnTo>
                    <a:pt x="2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04" name="Freeform 299"/>
            <p:cNvSpPr/>
            <p:nvPr/>
          </p:nvSpPr>
          <p:spPr>
            <a:xfrm>
              <a:off x="6707880" y="3989880"/>
              <a:ext cx="90720" cy="363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7" h="31">
                  <a:moveTo>
                    <a:pt x="77" y="0"/>
                  </a:moveTo>
                  <a:lnTo>
                    <a:pt x="74" y="12"/>
                  </a:lnTo>
                  <a:lnTo>
                    <a:pt x="68" y="21"/>
                  </a:lnTo>
                  <a:lnTo>
                    <a:pt x="58" y="28"/>
                  </a:lnTo>
                  <a:lnTo>
                    <a:pt x="46" y="31"/>
                  </a:lnTo>
                  <a:lnTo>
                    <a:pt x="31" y="31"/>
                  </a:lnTo>
                  <a:lnTo>
                    <a:pt x="18" y="31"/>
                  </a:lnTo>
                  <a:lnTo>
                    <a:pt x="6" y="24"/>
                  </a:lnTo>
                  <a:lnTo>
                    <a:pt x="0" y="21"/>
                  </a:lnTo>
                  <a:lnTo>
                    <a:pt x="3" y="12"/>
                  </a:lnTo>
                  <a:lnTo>
                    <a:pt x="9" y="9"/>
                  </a:lnTo>
                  <a:lnTo>
                    <a:pt x="15" y="6"/>
                  </a:lnTo>
                  <a:lnTo>
                    <a:pt x="28" y="6"/>
                  </a:lnTo>
                  <a:lnTo>
                    <a:pt x="52" y="6"/>
                  </a:lnTo>
                  <a:lnTo>
                    <a:pt x="65" y="3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05" name="Freeform 300"/>
            <p:cNvSpPr/>
            <p:nvPr/>
          </p:nvSpPr>
          <p:spPr>
            <a:xfrm>
              <a:off x="6686640" y="4221720"/>
              <a:ext cx="31680" cy="36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7" h="31">
                  <a:moveTo>
                    <a:pt x="24" y="4"/>
                  </a:moveTo>
                  <a:lnTo>
                    <a:pt x="27" y="10"/>
                  </a:lnTo>
                  <a:lnTo>
                    <a:pt x="27" y="16"/>
                  </a:lnTo>
                  <a:lnTo>
                    <a:pt x="21" y="22"/>
                  </a:lnTo>
                  <a:lnTo>
                    <a:pt x="15" y="28"/>
                  </a:lnTo>
                  <a:lnTo>
                    <a:pt x="9" y="31"/>
                  </a:lnTo>
                  <a:lnTo>
                    <a:pt x="3" y="28"/>
                  </a:lnTo>
                  <a:lnTo>
                    <a:pt x="0" y="22"/>
                  </a:lnTo>
                  <a:lnTo>
                    <a:pt x="3" y="13"/>
                  </a:lnTo>
                  <a:lnTo>
                    <a:pt x="12" y="4"/>
                  </a:lnTo>
                  <a:lnTo>
                    <a:pt x="18" y="0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06" name="Freeform 301"/>
            <p:cNvSpPr/>
            <p:nvPr/>
          </p:nvSpPr>
          <p:spPr>
            <a:xfrm>
              <a:off x="6678360" y="4037400"/>
              <a:ext cx="94320" cy="108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0" h="92">
                  <a:moveTo>
                    <a:pt x="80" y="92"/>
                  </a:moveTo>
                  <a:lnTo>
                    <a:pt x="62" y="89"/>
                  </a:lnTo>
                  <a:lnTo>
                    <a:pt x="50" y="80"/>
                  </a:lnTo>
                  <a:lnTo>
                    <a:pt x="43" y="64"/>
                  </a:lnTo>
                  <a:lnTo>
                    <a:pt x="40" y="46"/>
                  </a:lnTo>
                  <a:lnTo>
                    <a:pt x="31" y="52"/>
                  </a:lnTo>
                  <a:lnTo>
                    <a:pt x="25" y="61"/>
                  </a:lnTo>
                  <a:lnTo>
                    <a:pt x="16" y="67"/>
                  </a:lnTo>
                  <a:lnTo>
                    <a:pt x="10" y="67"/>
                  </a:lnTo>
                  <a:lnTo>
                    <a:pt x="0" y="64"/>
                  </a:lnTo>
                  <a:lnTo>
                    <a:pt x="0" y="46"/>
                  </a:lnTo>
                  <a:lnTo>
                    <a:pt x="7" y="34"/>
                  </a:lnTo>
                  <a:lnTo>
                    <a:pt x="10" y="18"/>
                  </a:lnTo>
                  <a:lnTo>
                    <a:pt x="10" y="0"/>
                  </a:lnTo>
                  <a:lnTo>
                    <a:pt x="50" y="0"/>
                  </a:lnTo>
                  <a:lnTo>
                    <a:pt x="65" y="0"/>
                  </a:lnTo>
                  <a:lnTo>
                    <a:pt x="74" y="3"/>
                  </a:lnTo>
                  <a:lnTo>
                    <a:pt x="80" y="9"/>
                  </a:lnTo>
                  <a:lnTo>
                    <a:pt x="68" y="18"/>
                  </a:lnTo>
                  <a:lnTo>
                    <a:pt x="62" y="27"/>
                  </a:lnTo>
                  <a:lnTo>
                    <a:pt x="62" y="34"/>
                  </a:lnTo>
                  <a:lnTo>
                    <a:pt x="65" y="43"/>
                  </a:lnTo>
                  <a:lnTo>
                    <a:pt x="74" y="61"/>
                  </a:lnTo>
                  <a:lnTo>
                    <a:pt x="77" y="77"/>
                  </a:lnTo>
                  <a:lnTo>
                    <a:pt x="80" y="92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07" name="Freeform 302"/>
            <p:cNvSpPr/>
            <p:nvPr/>
          </p:nvSpPr>
          <p:spPr>
            <a:xfrm>
              <a:off x="6690240" y="3601080"/>
              <a:ext cx="101160" cy="1782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86" h="151">
                  <a:moveTo>
                    <a:pt x="61" y="19"/>
                  </a:moveTo>
                  <a:lnTo>
                    <a:pt x="61" y="28"/>
                  </a:lnTo>
                  <a:lnTo>
                    <a:pt x="61" y="34"/>
                  </a:lnTo>
                  <a:lnTo>
                    <a:pt x="52" y="46"/>
                  </a:lnTo>
                  <a:lnTo>
                    <a:pt x="43" y="52"/>
                  </a:lnTo>
                  <a:lnTo>
                    <a:pt x="40" y="59"/>
                  </a:lnTo>
                  <a:lnTo>
                    <a:pt x="37" y="65"/>
                  </a:lnTo>
                  <a:lnTo>
                    <a:pt x="46" y="74"/>
                  </a:lnTo>
                  <a:lnTo>
                    <a:pt x="58" y="80"/>
                  </a:lnTo>
                  <a:lnTo>
                    <a:pt x="70" y="83"/>
                  </a:lnTo>
                  <a:lnTo>
                    <a:pt x="86" y="86"/>
                  </a:lnTo>
                  <a:lnTo>
                    <a:pt x="64" y="102"/>
                  </a:lnTo>
                  <a:lnTo>
                    <a:pt x="46" y="123"/>
                  </a:lnTo>
                  <a:lnTo>
                    <a:pt x="24" y="138"/>
                  </a:lnTo>
                  <a:lnTo>
                    <a:pt x="12" y="145"/>
                  </a:lnTo>
                  <a:lnTo>
                    <a:pt x="0" y="151"/>
                  </a:lnTo>
                  <a:lnTo>
                    <a:pt x="6" y="138"/>
                  </a:lnTo>
                  <a:lnTo>
                    <a:pt x="15" y="126"/>
                  </a:lnTo>
                  <a:lnTo>
                    <a:pt x="24" y="117"/>
                  </a:lnTo>
                  <a:lnTo>
                    <a:pt x="30" y="105"/>
                  </a:lnTo>
                  <a:lnTo>
                    <a:pt x="27" y="95"/>
                  </a:lnTo>
                  <a:lnTo>
                    <a:pt x="21" y="89"/>
                  </a:lnTo>
                  <a:lnTo>
                    <a:pt x="12" y="77"/>
                  </a:lnTo>
                  <a:lnTo>
                    <a:pt x="3" y="68"/>
                  </a:lnTo>
                  <a:lnTo>
                    <a:pt x="0" y="59"/>
                  </a:lnTo>
                  <a:lnTo>
                    <a:pt x="0" y="46"/>
                  </a:lnTo>
                  <a:lnTo>
                    <a:pt x="9" y="40"/>
                  </a:lnTo>
                  <a:lnTo>
                    <a:pt x="21" y="34"/>
                  </a:lnTo>
                  <a:lnTo>
                    <a:pt x="27" y="28"/>
                  </a:lnTo>
                  <a:lnTo>
                    <a:pt x="30" y="22"/>
                  </a:lnTo>
                  <a:lnTo>
                    <a:pt x="30" y="12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9" y="6"/>
                  </a:lnTo>
                  <a:lnTo>
                    <a:pt x="52" y="16"/>
                  </a:lnTo>
                  <a:lnTo>
                    <a:pt x="55" y="19"/>
                  </a:lnTo>
                  <a:lnTo>
                    <a:pt x="61" y="19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08" name="Freeform 303"/>
            <p:cNvSpPr/>
            <p:nvPr/>
          </p:nvSpPr>
          <p:spPr>
            <a:xfrm>
              <a:off x="6494040" y="3866040"/>
              <a:ext cx="195840" cy="24660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166" h="209">
                  <a:moveTo>
                    <a:pt x="156" y="105"/>
                  </a:moveTo>
                  <a:lnTo>
                    <a:pt x="144" y="129"/>
                  </a:lnTo>
                  <a:lnTo>
                    <a:pt x="132" y="154"/>
                  </a:lnTo>
                  <a:lnTo>
                    <a:pt x="123" y="179"/>
                  </a:lnTo>
                  <a:lnTo>
                    <a:pt x="120" y="194"/>
                  </a:lnTo>
                  <a:lnTo>
                    <a:pt x="116" y="209"/>
                  </a:lnTo>
                  <a:lnTo>
                    <a:pt x="92" y="209"/>
                  </a:lnTo>
                  <a:lnTo>
                    <a:pt x="70" y="203"/>
                  </a:lnTo>
                  <a:lnTo>
                    <a:pt x="49" y="194"/>
                  </a:lnTo>
                  <a:lnTo>
                    <a:pt x="33" y="185"/>
                  </a:lnTo>
                  <a:lnTo>
                    <a:pt x="18" y="169"/>
                  </a:lnTo>
                  <a:lnTo>
                    <a:pt x="9" y="148"/>
                  </a:lnTo>
                  <a:lnTo>
                    <a:pt x="3" y="126"/>
                  </a:lnTo>
                  <a:lnTo>
                    <a:pt x="0" y="96"/>
                  </a:lnTo>
                  <a:lnTo>
                    <a:pt x="15" y="96"/>
                  </a:lnTo>
                  <a:lnTo>
                    <a:pt x="30" y="90"/>
                  </a:lnTo>
                  <a:lnTo>
                    <a:pt x="49" y="80"/>
                  </a:lnTo>
                  <a:lnTo>
                    <a:pt x="64" y="68"/>
                  </a:lnTo>
                  <a:lnTo>
                    <a:pt x="83" y="56"/>
                  </a:lnTo>
                  <a:lnTo>
                    <a:pt x="95" y="40"/>
                  </a:lnTo>
                  <a:lnTo>
                    <a:pt x="107" y="22"/>
                  </a:lnTo>
                  <a:lnTo>
                    <a:pt x="116" y="4"/>
                  </a:lnTo>
                  <a:lnTo>
                    <a:pt x="129" y="0"/>
                  </a:lnTo>
                  <a:lnTo>
                    <a:pt x="135" y="4"/>
                  </a:lnTo>
                  <a:lnTo>
                    <a:pt x="138" y="10"/>
                  </a:lnTo>
                  <a:lnTo>
                    <a:pt x="141" y="16"/>
                  </a:lnTo>
                  <a:lnTo>
                    <a:pt x="144" y="25"/>
                  </a:lnTo>
                  <a:lnTo>
                    <a:pt x="147" y="31"/>
                  </a:lnTo>
                  <a:lnTo>
                    <a:pt x="153" y="34"/>
                  </a:lnTo>
                  <a:lnTo>
                    <a:pt x="166" y="31"/>
                  </a:lnTo>
                  <a:lnTo>
                    <a:pt x="150" y="50"/>
                  </a:lnTo>
                  <a:lnTo>
                    <a:pt x="144" y="65"/>
                  </a:lnTo>
                  <a:lnTo>
                    <a:pt x="147" y="83"/>
                  </a:lnTo>
                  <a:lnTo>
                    <a:pt x="156" y="105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09" name="Freeform 304"/>
            <p:cNvSpPr/>
            <p:nvPr/>
          </p:nvSpPr>
          <p:spPr>
            <a:xfrm>
              <a:off x="6238440" y="3902400"/>
              <a:ext cx="363600" cy="31176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308" h="264">
                  <a:moveTo>
                    <a:pt x="182" y="141"/>
                  </a:moveTo>
                  <a:lnTo>
                    <a:pt x="176" y="172"/>
                  </a:lnTo>
                  <a:lnTo>
                    <a:pt x="166" y="197"/>
                  </a:lnTo>
                  <a:lnTo>
                    <a:pt x="173" y="209"/>
                  </a:lnTo>
                  <a:lnTo>
                    <a:pt x="182" y="215"/>
                  </a:lnTo>
                  <a:lnTo>
                    <a:pt x="191" y="221"/>
                  </a:lnTo>
                  <a:lnTo>
                    <a:pt x="200" y="224"/>
                  </a:lnTo>
                  <a:lnTo>
                    <a:pt x="219" y="227"/>
                  </a:lnTo>
                  <a:lnTo>
                    <a:pt x="240" y="227"/>
                  </a:lnTo>
                  <a:lnTo>
                    <a:pt x="262" y="227"/>
                  </a:lnTo>
                  <a:lnTo>
                    <a:pt x="280" y="234"/>
                  </a:lnTo>
                  <a:lnTo>
                    <a:pt x="289" y="237"/>
                  </a:lnTo>
                  <a:lnTo>
                    <a:pt x="299" y="243"/>
                  </a:lnTo>
                  <a:lnTo>
                    <a:pt x="305" y="252"/>
                  </a:lnTo>
                  <a:lnTo>
                    <a:pt x="308" y="264"/>
                  </a:lnTo>
                  <a:lnTo>
                    <a:pt x="289" y="264"/>
                  </a:lnTo>
                  <a:lnTo>
                    <a:pt x="271" y="264"/>
                  </a:lnTo>
                  <a:lnTo>
                    <a:pt x="243" y="255"/>
                  </a:lnTo>
                  <a:lnTo>
                    <a:pt x="216" y="252"/>
                  </a:lnTo>
                  <a:lnTo>
                    <a:pt x="200" y="252"/>
                  </a:lnTo>
                  <a:lnTo>
                    <a:pt x="182" y="255"/>
                  </a:lnTo>
                  <a:lnTo>
                    <a:pt x="157" y="227"/>
                  </a:lnTo>
                  <a:lnTo>
                    <a:pt x="133" y="197"/>
                  </a:lnTo>
                  <a:lnTo>
                    <a:pt x="111" y="166"/>
                  </a:lnTo>
                  <a:lnTo>
                    <a:pt x="90" y="132"/>
                  </a:lnTo>
                  <a:lnTo>
                    <a:pt x="47" y="65"/>
                  </a:lnTo>
                  <a:lnTo>
                    <a:pt x="25" y="31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6" y="25"/>
                  </a:lnTo>
                  <a:lnTo>
                    <a:pt x="77" y="43"/>
                  </a:lnTo>
                  <a:lnTo>
                    <a:pt x="99" y="65"/>
                  </a:lnTo>
                  <a:lnTo>
                    <a:pt x="139" y="108"/>
                  </a:lnTo>
                  <a:lnTo>
                    <a:pt x="160" y="126"/>
                  </a:lnTo>
                  <a:lnTo>
                    <a:pt x="182" y="141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10" name="Freeform 305"/>
            <p:cNvSpPr/>
            <p:nvPr/>
          </p:nvSpPr>
          <p:spPr>
            <a:xfrm>
              <a:off x="6297840" y="3800880"/>
              <a:ext cx="119160" cy="1994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101" h="169">
                  <a:moveTo>
                    <a:pt x="0" y="0"/>
                  </a:moveTo>
                  <a:lnTo>
                    <a:pt x="18" y="12"/>
                  </a:lnTo>
                  <a:lnTo>
                    <a:pt x="37" y="28"/>
                  </a:lnTo>
                  <a:lnTo>
                    <a:pt x="52" y="46"/>
                  </a:lnTo>
                  <a:lnTo>
                    <a:pt x="64" y="68"/>
                  </a:lnTo>
                  <a:lnTo>
                    <a:pt x="76" y="92"/>
                  </a:lnTo>
                  <a:lnTo>
                    <a:pt x="86" y="117"/>
                  </a:lnTo>
                  <a:lnTo>
                    <a:pt x="101" y="169"/>
                  </a:lnTo>
                  <a:lnTo>
                    <a:pt x="89" y="169"/>
                  </a:lnTo>
                  <a:lnTo>
                    <a:pt x="80" y="166"/>
                  </a:lnTo>
                  <a:lnTo>
                    <a:pt x="70" y="160"/>
                  </a:lnTo>
                  <a:lnTo>
                    <a:pt x="61" y="151"/>
                  </a:lnTo>
                  <a:lnTo>
                    <a:pt x="49" y="132"/>
                  </a:lnTo>
                  <a:lnTo>
                    <a:pt x="40" y="111"/>
                  </a:lnTo>
                  <a:lnTo>
                    <a:pt x="24" y="68"/>
                  </a:lnTo>
                  <a:lnTo>
                    <a:pt x="12" y="46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11" name="Freeform 306"/>
            <p:cNvSpPr/>
            <p:nvPr/>
          </p:nvSpPr>
          <p:spPr>
            <a:xfrm>
              <a:off x="5952600" y="3811680"/>
              <a:ext cx="35280" cy="7992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0" h="68">
                  <a:moveTo>
                    <a:pt x="24" y="68"/>
                  </a:moveTo>
                  <a:lnTo>
                    <a:pt x="12" y="68"/>
                  </a:lnTo>
                  <a:lnTo>
                    <a:pt x="6" y="62"/>
                  </a:lnTo>
                  <a:lnTo>
                    <a:pt x="0" y="53"/>
                  </a:lnTo>
                  <a:lnTo>
                    <a:pt x="0" y="43"/>
                  </a:lnTo>
                  <a:lnTo>
                    <a:pt x="0" y="19"/>
                  </a:lnTo>
                  <a:lnTo>
                    <a:pt x="3" y="10"/>
                  </a:lnTo>
                  <a:lnTo>
                    <a:pt x="9" y="0"/>
                  </a:lnTo>
                  <a:lnTo>
                    <a:pt x="15" y="3"/>
                  </a:lnTo>
                  <a:lnTo>
                    <a:pt x="24" y="7"/>
                  </a:lnTo>
                  <a:lnTo>
                    <a:pt x="27" y="16"/>
                  </a:lnTo>
                  <a:lnTo>
                    <a:pt x="30" y="28"/>
                  </a:lnTo>
                  <a:lnTo>
                    <a:pt x="30" y="50"/>
                  </a:lnTo>
                  <a:lnTo>
                    <a:pt x="27" y="59"/>
                  </a:lnTo>
                  <a:lnTo>
                    <a:pt x="24" y="68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12" name="Freeform 307"/>
            <p:cNvSpPr/>
            <p:nvPr/>
          </p:nvSpPr>
          <p:spPr>
            <a:xfrm>
              <a:off x="5421600" y="2293920"/>
              <a:ext cx="325800" cy="167400"/>
            </a:xfrm>
            <a:custGeom>
              <a:avLst/>
              <a:gdLst>
                <a:gd name="textAreaLeft" fmla="*/ 0 w 325800"/>
                <a:gd name="textAreaRight" fmla="*/ 326160 w 3258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76" h="142">
                  <a:moveTo>
                    <a:pt x="95" y="132"/>
                  </a:moveTo>
                  <a:lnTo>
                    <a:pt x="83" y="142"/>
                  </a:lnTo>
                  <a:lnTo>
                    <a:pt x="70" y="142"/>
                  </a:lnTo>
                  <a:lnTo>
                    <a:pt x="58" y="142"/>
                  </a:lnTo>
                  <a:lnTo>
                    <a:pt x="46" y="136"/>
                  </a:lnTo>
                  <a:lnTo>
                    <a:pt x="21" y="123"/>
                  </a:lnTo>
                  <a:lnTo>
                    <a:pt x="12" y="117"/>
                  </a:lnTo>
                  <a:lnTo>
                    <a:pt x="0" y="114"/>
                  </a:lnTo>
                  <a:lnTo>
                    <a:pt x="12" y="99"/>
                  </a:lnTo>
                  <a:lnTo>
                    <a:pt x="24" y="83"/>
                  </a:lnTo>
                  <a:lnTo>
                    <a:pt x="37" y="71"/>
                  </a:lnTo>
                  <a:lnTo>
                    <a:pt x="52" y="62"/>
                  </a:lnTo>
                  <a:lnTo>
                    <a:pt x="86" y="43"/>
                  </a:lnTo>
                  <a:lnTo>
                    <a:pt x="123" y="34"/>
                  </a:lnTo>
                  <a:lnTo>
                    <a:pt x="160" y="25"/>
                  </a:lnTo>
                  <a:lnTo>
                    <a:pt x="199" y="16"/>
                  </a:lnTo>
                  <a:lnTo>
                    <a:pt x="236" y="10"/>
                  </a:lnTo>
                  <a:lnTo>
                    <a:pt x="276" y="0"/>
                  </a:lnTo>
                  <a:lnTo>
                    <a:pt x="276" y="16"/>
                  </a:lnTo>
                  <a:lnTo>
                    <a:pt x="273" y="28"/>
                  </a:lnTo>
                  <a:lnTo>
                    <a:pt x="264" y="34"/>
                  </a:lnTo>
                  <a:lnTo>
                    <a:pt x="255" y="40"/>
                  </a:lnTo>
                  <a:lnTo>
                    <a:pt x="243" y="46"/>
                  </a:lnTo>
                  <a:lnTo>
                    <a:pt x="227" y="50"/>
                  </a:lnTo>
                  <a:lnTo>
                    <a:pt x="196" y="53"/>
                  </a:lnTo>
                  <a:lnTo>
                    <a:pt x="163" y="53"/>
                  </a:lnTo>
                  <a:lnTo>
                    <a:pt x="129" y="59"/>
                  </a:lnTo>
                  <a:lnTo>
                    <a:pt x="116" y="62"/>
                  </a:lnTo>
                  <a:lnTo>
                    <a:pt x="104" y="68"/>
                  </a:lnTo>
                  <a:lnTo>
                    <a:pt x="92" y="77"/>
                  </a:lnTo>
                  <a:lnTo>
                    <a:pt x="86" y="86"/>
                  </a:lnTo>
                  <a:lnTo>
                    <a:pt x="86" y="96"/>
                  </a:lnTo>
                  <a:lnTo>
                    <a:pt x="89" y="105"/>
                  </a:lnTo>
                  <a:lnTo>
                    <a:pt x="95" y="114"/>
                  </a:lnTo>
                  <a:lnTo>
                    <a:pt x="98" y="117"/>
                  </a:lnTo>
                  <a:lnTo>
                    <a:pt x="101" y="120"/>
                  </a:lnTo>
                  <a:lnTo>
                    <a:pt x="98" y="126"/>
                  </a:lnTo>
                  <a:lnTo>
                    <a:pt x="95" y="132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13" name="Freeform 308"/>
            <p:cNvSpPr/>
            <p:nvPr/>
          </p:nvSpPr>
          <p:spPr>
            <a:xfrm>
              <a:off x="5279760" y="4291560"/>
              <a:ext cx="129600" cy="3009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110" h="255">
                  <a:moveTo>
                    <a:pt x="0" y="86"/>
                  </a:moveTo>
                  <a:lnTo>
                    <a:pt x="18" y="80"/>
                  </a:lnTo>
                  <a:lnTo>
                    <a:pt x="30" y="70"/>
                  </a:lnTo>
                  <a:lnTo>
                    <a:pt x="43" y="58"/>
                  </a:lnTo>
                  <a:lnTo>
                    <a:pt x="52" y="43"/>
                  </a:lnTo>
                  <a:lnTo>
                    <a:pt x="61" y="31"/>
                  </a:lnTo>
                  <a:lnTo>
                    <a:pt x="74" y="18"/>
                  </a:lnTo>
                  <a:lnTo>
                    <a:pt x="86" y="6"/>
                  </a:lnTo>
                  <a:lnTo>
                    <a:pt x="104" y="0"/>
                  </a:lnTo>
                  <a:lnTo>
                    <a:pt x="110" y="37"/>
                  </a:lnTo>
                  <a:lnTo>
                    <a:pt x="110" y="70"/>
                  </a:lnTo>
                  <a:lnTo>
                    <a:pt x="104" y="104"/>
                  </a:lnTo>
                  <a:lnTo>
                    <a:pt x="95" y="135"/>
                  </a:lnTo>
                  <a:lnTo>
                    <a:pt x="74" y="196"/>
                  </a:lnTo>
                  <a:lnTo>
                    <a:pt x="64" y="224"/>
                  </a:lnTo>
                  <a:lnTo>
                    <a:pt x="55" y="255"/>
                  </a:lnTo>
                  <a:lnTo>
                    <a:pt x="9" y="255"/>
                  </a:lnTo>
                  <a:lnTo>
                    <a:pt x="3" y="236"/>
                  </a:lnTo>
                  <a:lnTo>
                    <a:pt x="0" y="215"/>
                  </a:lnTo>
                  <a:lnTo>
                    <a:pt x="3" y="178"/>
                  </a:lnTo>
                  <a:lnTo>
                    <a:pt x="3" y="135"/>
                  </a:lnTo>
                  <a:lnTo>
                    <a:pt x="3" y="113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14" name="Freeform 309"/>
            <p:cNvSpPr/>
            <p:nvPr/>
          </p:nvSpPr>
          <p:spPr>
            <a:xfrm>
              <a:off x="4694760" y="3162600"/>
              <a:ext cx="68040" cy="504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58" h="43">
                  <a:moveTo>
                    <a:pt x="0" y="12"/>
                  </a:moveTo>
                  <a:lnTo>
                    <a:pt x="6" y="6"/>
                  </a:lnTo>
                  <a:lnTo>
                    <a:pt x="15" y="3"/>
                  </a:lnTo>
                  <a:lnTo>
                    <a:pt x="27" y="0"/>
                  </a:lnTo>
                  <a:lnTo>
                    <a:pt x="37" y="3"/>
                  </a:lnTo>
                  <a:lnTo>
                    <a:pt x="46" y="9"/>
                  </a:lnTo>
                  <a:lnTo>
                    <a:pt x="55" y="15"/>
                  </a:lnTo>
                  <a:lnTo>
                    <a:pt x="58" y="27"/>
                  </a:lnTo>
                  <a:lnTo>
                    <a:pt x="55" y="39"/>
                  </a:lnTo>
                  <a:lnTo>
                    <a:pt x="43" y="43"/>
                  </a:lnTo>
                  <a:lnTo>
                    <a:pt x="37" y="39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15" name="Freeform 310"/>
            <p:cNvSpPr/>
            <p:nvPr/>
          </p:nvSpPr>
          <p:spPr>
            <a:xfrm>
              <a:off x="4614480" y="3099960"/>
              <a:ext cx="36360" cy="540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1" h="46">
                  <a:moveTo>
                    <a:pt x="12" y="0"/>
                  </a:moveTo>
                  <a:lnTo>
                    <a:pt x="22" y="3"/>
                  </a:lnTo>
                  <a:lnTo>
                    <a:pt x="28" y="10"/>
                  </a:lnTo>
                  <a:lnTo>
                    <a:pt x="31" y="19"/>
                  </a:lnTo>
                  <a:lnTo>
                    <a:pt x="31" y="25"/>
                  </a:lnTo>
                  <a:lnTo>
                    <a:pt x="28" y="34"/>
                  </a:lnTo>
                  <a:lnTo>
                    <a:pt x="25" y="40"/>
                  </a:lnTo>
                  <a:lnTo>
                    <a:pt x="15" y="43"/>
                  </a:lnTo>
                  <a:lnTo>
                    <a:pt x="3" y="46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16" name="Freeform 311"/>
            <p:cNvSpPr/>
            <p:nvPr/>
          </p:nvSpPr>
          <p:spPr>
            <a:xfrm>
              <a:off x="4512600" y="312588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8" h="15">
                  <a:moveTo>
                    <a:pt x="18" y="6"/>
                  </a:moveTo>
                  <a:lnTo>
                    <a:pt x="12" y="15"/>
                  </a:lnTo>
                  <a:lnTo>
                    <a:pt x="6" y="15"/>
                  </a:lnTo>
                  <a:lnTo>
                    <a:pt x="3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3" y="0"/>
                  </a:lnTo>
                  <a:lnTo>
                    <a:pt x="9" y="0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17" name="Freeform 312"/>
            <p:cNvSpPr/>
            <p:nvPr/>
          </p:nvSpPr>
          <p:spPr>
            <a:xfrm>
              <a:off x="4149720" y="2283120"/>
              <a:ext cx="3673440" cy="2512800"/>
            </a:xfrm>
            <a:custGeom>
              <a:avLst/>
              <a:gdLst>
                <a:gd name="textAreaLeft" fmla="*/ 0 w 3673440"/>
                <a:gd name="textAreaRight" fmla="*/ 3673800 w 3673440"/>
                <a:gd name="textAreaTop" fmla="*/ 0 h 2512800"/>
                <a:gd name="textAreaBottom" fmla="*/ 2513160 h 2512800"/>
              </a:gdLst>
              <a:ahLst/>
              <a:rect l="textAreaLeft" t="textAreaTop" r="textAreaRight" b="textAreaBottom"/>
              <a:pathLst>
                <a:path w="3108" h="2126">
                  <a:moveTo>
                    <a:pt x="1500" y="191"/>
                  </a:moveTo>
                  <a:lnTo>
                    <a:pt x="1503" y="178"/>
                  </a:lnTo>
                  <a:lnTo>
                    <a:pt x="1503" y="169"/>
                  </a:lnTo>
                  <a:lnTo>
                    <a:pt x="1497" y="163"/>
                  </a:lnTo>
                  <a:lnTo>
                    <a:pt x="1488" y="160"/>
                  </a:lnTo>
                  <a:lnTo>
                    <a:pt x="1478" y="160"/>
                  </a:lnTo>
                  <a:lnTo>
                    <a:pt x="1472" y="160"/>
                  </a:lnTo>
                  <a:lnTo>
                    <a:pt x="1466" y="166"/>
                  </a:lnTo>
                  <a:lnTo>
                    <a:pt x="1460" y="172"/>
                  </a:lnTo>
                  <a:lnTo>
                    <a:pt x="1469" y="178"/>
                  </a:lnTo>
                  <a:lnTo>
                    <a:pt x="1478" y="184"/>
                  </a:lnTo>
                  <a:lnTo>
                    <a:pt x="1488" y="191"/>
                  </a:lnTo>
                  <a:lnTo>
                    <a:pt x="1494" y="191"/>
                  </a:lnTo>
                  <a:lnTo>
                    <a:pt x="1500" y="191"/>
                  </a:lnTo>
                  <a:lnTo>
                    <a:pt x="919" y="218"/>
                  </a:lnTo>
                  <a:lnTo>
                    <a:pt x="910" y="224"/>
                  </a:lnTo>
                  <a:lnTo>
                    <a:pt x="897" y="227"/>
                  </a:lnTo>
                  <a:lnTo>
                    <a:pt x="870" y="227"/>
                  </a:lnTo>
                  <a:lnTo>
                    <a:pt x="854" y="227"/>
                  </a:lnTo>
                  <a:lnTo>
                    <a:pt x="842" y="227"/>
                  </a:lnTo>
                  <a:lnTo>
                    <a:pt x="836" y="234"/>
                  </a:lnTo>
                  <a:lnTo>
                    <a:pt x="830" y="246"/>
                  </a:lnTo>
                  <a:lnTo>
                    <a:pt x="845" y="252"/>
                  </a:lnTo>
                  <a:lnTo>
                    <a:pt x="860" y="252"/>
                  </a:lnTo>
                  <a:lnTo>
                    <a:pt x="879" y="252"/>
                  </a:lnTo>
                  <a:lnTo>
                    <a:pt x="900" y="255"/>
                  </a:lnTo>
                  <a:lnTo>
                    <a:pt x="900" y="246"/>
                  </a:lnTo>
                  <a:lnTo>
                    <a:pt x="900" y="240"/>
                  </a:lnTo>
                  <a:lnTo>
                    <a:pt x="900" y="234"/>
                  </a:lnTo>
                  <a:lnTo>
                    <a:pt x="903" y="231"/>
                  </a:lnTo>
                  <a:lnTo>
                    <a:pt x="913" y="227"/>
                  </a:lnTo>
                  <a:lnTo>
                    <a:pt x="916" y="224"/>
                  </a:lnTo>
                  <a:lnTo>
                    <a:pt x="919" y="218"/>
                  </a:lnTo>
                  <a:lnTo>
                    <a:pt x="1500" y="191"/>
                  </a:lnTo>
                  <a:lnTo>
                    <a:pt x="799" y="633"/>
                  </a:lnTo>
                  <a:lnTo>
                    <a:pt x="793" y="621"/>
                  </a:lnTo>
                  <a:lnTo>
                    <a:pt x="787" y="611"/>
                  </a:lnTo>
                  <a:lnTo>
                    <a:pt x="780" y="605"/>
                  </a:lnTo>
                  <a:lnTo>
                    <a:pt x="774" y="602"/>
                  </a:lnTo>
                  <a:lnTo>
                    <a:pt x="765" y="602"/>
                  </a:lnTo>
                  <a:lnTo>
                    <a:pt x="759" y="602"/>
                  </a:lnTo>
                  <a:lnTo>
                    <a:pt x="744" y="611"/>
                  </a:lnTo>
                  <a:lnTo>
                    <a:pt x="731" y="627"/>
                  </a:lnTo>
                  <a:lnTo>
                    <a:pt x="719" y="648"/>
                  </a:lnTo>
                  <a:lnTo>
                    <a:pt x="713" y="673"/>
                  </a:lnTo>
                  <a:lnTo>
                    <a:pt x="713" y="701"/>
                  </a:lnTo>
                  <a:lnTo>
                    <a:pt x="725" y="694"/>
                  </a:lnTo>
                  <a:lnTo>
                    <a:pt x="737" y="688"/>
                  </a:lnTo>
                  <a:lnTo>
                    <a:pt x="765" y="682"/>
                  </a:lnTo>
                  <a:lnTo>
                    <a:pt x="793" y="682"/>
                  </a:lnTo>
                  <a:lnTo>
                    <a:pt x="820" y="685"/>
                  </a:lnTo>
                  <a:lnTo>
                    <a:pt x="876" y="694"/>
                  </a:lnTo>
                  <a:lnTo>
                    <a:pt x="900" y="694"/>
                  </a:lnTo>
                  <a:lnTo>
                    <a:pt x="925" y="691"/>
                  </a:lnTo>
                  <a:lnTo>
                    <a:pt x="925" y="679"/>
                  </a:lnTo>
                  <a:lnTo>
                    <a:pt x="922" y="673"/>
                  </a:lnTo>
                  <a:lnTo>
                    <a:pt x="913" y="658"/>
                  </a:lnTo>
                  <a:lnTo>
                    <a:pt x="897" y="648"/>
                  </a:lnTo>
                  <a:lnTo>
                    <a:pt x="885" y="639"/>
                  </a:lnTo>
                  <a:lnTo>
                    <a:pt x="870" y="630"/>
                  </a:lnTo>
                  <a:lnTo>
                    <a:pt x="857" y="621"/>
                  </a:lnTo>
                  <a:lnTo>
                    <a:pt x="854" y="618"/>
                  </a:lnTo>
                  <a:lnTo>
                    <a:pt x="851" y="611"/>
                  </a:lnTo>
                  <a:lnTo>
                    <a:pt x="851" y="605"/>
                  </a:lnTo>
                  <a:lnTo>
                    <a:pt x="854" y="596"/>
                  </a:lnTo>
                  <a:lnTo>
                    <a:pt x="845" y="596"/>
                  </a:lnTo>
                  <a:lnTo>
                    <a:pt x="836" y="602"/>
                  </a:lnTo>
                  <a:lnTo>
                    <a:pt x="827" y="615"/>
                  </a:lnTo>
                  <a:lnTo>
                    <a:pt x="817" y="630"/>
                  </a:lnTo>
                  <a:lnTo>
                    <a:pt x="808" y="633"/>
                  </a:lnTo>
                  <a:lnTo>
                    <a:pt x="799" y="633"/>
                  </a:lnTo>
                  <a:lnTo>
                    <a:pt x="1500" y="191"/>
                  </a:lnTo>
                  <a:lnTo>
                    <a:pt x="531" y="756"/>
                  </a:lnTo>
                  <a:lnTo>
                    <a:pt x="522" y="737"/>
                  </a:lnTo>
                  <a:lnTo>
                    <a:pt x="510" y="722"/>
                  </a:lnTo>
                  <a:lnTo>
                    <a:pt x="495" y="710"/>
                  </a:lnTo>
                  <a:lnTo>
                    <a:pt x="476" y="701"/>
                  </a:lnTo>
                  <a:lnTo>
                    <a:pt x="458" y="688"/>
                  </a:lnTo>
                  <a:lnTo>
                    <a:pt x="442" y="679"/>
                  </a:lnTo>
                  <a:lnTo>
                    <a:pt x="430" y="664"/>
                  </a:lnTo>
                  <a:lnTo>
                    <a:pt x="421" y="642"/>
                  </a:lnTo>
                  <a:lnTo>
                    <a:pt x="399" y="651"/>
                  </a:lnTo>
                  <a:lnTo>
                    <a:pt x="378" y="661"/>
                  </a:lnTo>
                  <a:lnTo>
                    <a:pt x="356" y="664"/>
                  </a:lnTo>
                  <a:lnTo>
                    <a:pt x="325" y="661"/>
                  </a:lnTo>
                  <a:lnTo>
                    <a:pt x="325" y="676"/>
                  </a:lnTo>
                  <a:lnTo>
                    <a:pt x="322" y="685"/>
                  </a:lnTo>
                  <a:lnTo>
                    <a:pt x="319" y="691"/>
                  </a:lnTo>
                  <a:lnTo>
                    <a:pt x="310" y="697"/>
                  </a:lnTo>
                  <a:lnTo>
                    <a:pt x="295" y="704"/>
                  </a:lnTo>
                  <a:lnTo>
                    <a:pt x="279" y="710"/>
                  </a:lnTo>
                  <a:lnTo>
                    <a:pt x="276" y="731"/>
                  </a:lnTo>
                  <a:lnTo>
                    <a:pt x="270" y="750"/>
                  </a:lnTo>
                  <a:lnTo>
                    <a:pt x="258" y="762"/>
                  </a:lnTo>
                  <a:lnTo>
                    <a:pt x="246" y="771"/>
                  </a:lnTo>
                  <a:lnTo>
                    <a:pt x="212" y="787"/>
                  </a:lnTo>
                  <a:lnTo>
                    <a:pt x="199" y="793"/>
                  </a:lnTo>
                  <a:lnTo>
                    <a:pt x="184" y="805"/>
                  </a:lnTo>
                  <a:lnTo>
                    <a:pt x="267" y="783"/>
                  </a:lnTo>
                  <a:lnTo>
                    <a:pt x="319" y="774"/>
                  </a:lnTo>
                  <a:lnTo>
                    <a:pt x="368" y="765"/>
                  </a:lnTo>
                  <a:lnTo>
                    <a:pt x="393" y="765"/>
                  </a:lnTo>
                  <a:lnTo>
                    <a:pt x="412" y="765"/>
                  </a:lnTo>
                  <a:lnTo>
                    <a:pt x="430" y="768"/>
                  </a:lnTo>
                  <a:lnTo>
                    <a:pt x="439" y="774"/>
                  </a:lnTo>
                  <a:lnTo>
                    <a:pt x="448" y="783"/>
                  </a:lnTo>
                  <a:lnTo>
                    <a:pt x="448" y="796"/>
                  </a:lnTo>
                  <a:lnTo>
                    <a:pt x="442" y="811"/>
                  </a:lnTo>
                  <a:lnTo>
                    <a:pt x="430" y="833"/>
                  </a:lnTo>
                  <a:lnTo>
                    <a:pt x="476" y="857"/>
                  </a:lnTo>
                  <a:lnTo>
                    <a:pt x="501" y="869"/>
                  </a:lnTo>
                  <a:lnTo>
                    <a:pt x="525" y="879"/>
                  </a:lnTo>
                  <a:lnTo>
                    <a:pt x="550" y="885"/>
                  </a:lnTo>
                  <a:lnTo>
                    <a:pt x="562" y="885"/>
                  </a:lnTo>
                  <a:lnTo>
                    <a:pt x="574" y="882"/>
                  </a:lnTo>
                  <a:lnTo>
                    <a:pt x="587" y="879"/>
                  </a:lnTo>
                  <a:lnTo>
                    <a:pt x="596" y="873"/>
                  </a:lnTo>
                  <a:lnTo>
                    <a:pt x="608" y="863"/>
                  </a:lnTo>
                  <a:lnTo>
                    <a:pt x="618" y="851"/>
                  </a:lnTo>
                  <a:lnTo>
                    <a:pt x="642" y="860"/>
                  </a:lnTo>
                  <a:lnTo>
                    <a:pt x="664" y="866"/>
                  </a:lnTo>
                  <a:lnTo>
                    <a:pt x="707" y="876"/>
                  </a:lnTo>
                  <a:lnTo>
                    <a:pt x="753" y="882"/>
                  </a:lnTo>
                  <a:lnTo>
                    <a:pt x="799" y="888"/>
                  </a:lnTo>
                  <a:lnTo>
                    <a:pt x="811" y="866"/>
                  </a:lnTo>
                  <a:lnTo>
                    <a:pt x="820" y="845"/>
                  </a:lnTo>
                  <a:lnTo>
                    <a:pt x="830" y="817"/>
                  </a:lnTo>
                  <a:lnTo>
                    <a:pt x="830" y="783"/>
                  </a:lnTo>
                  <a:lnTo>
                    <a:pt x="811" y="790"/>
                  </a:lnTo>
                  <a:lnTo>
                    <a:pt x="790" y="796"/>
                  </a:lnTo>
                  <a:lnTo>
                    <a:pt x="768" y="796"/>
                  </a:lnTo>
                  <a:lnTo>
                    <a:pt x="747" y="793"/>
                  </a:lnTo>
                  <a:lnTo>
                    <a:pt x="725" y="790"/>
                  </a:lnTo>
                  <a:lnTo>
                    <a:pt x="707" y="780"/>
                  </a:lnTo>
                  <a:lnTo>
                    <a:pt x="691" y="771"/>
                  </a:lnTo>
                  <a:lnTo>
                    <a:pt x="682" y="756"/>
                  </a:lnTo>
                  <a:lnTo>
                    <a:pt x="682" y="737"/>
                  </a:lnTo>
                  <a:lnTo>
                    <a:pt x="679" y="719"/>
                  </a:lnTo>
                  <a:lnTo>
                    <a:pt x="676" y="707"/>
                  </a:lnTo>
                  <a:lnTo>
                    <a:pt x="673" y="701"/>
                  </a:lnTo>
                  <a:lnTo>
                    <a:pt x="664" y="701"/>
                  </a:lnTo>
                  <a:lnTo>
                    <a:pt x="661" y="707"/>
                  </a:lnTo>
                  <a:lnTo>
                    <a:pt x="658" y="713"/>
                  </a:lnTo>
                  <a:lnTo>
                    <a:pt x="651" y="719"/>
                  </a:lnTo>
                  <a:lnTo>
                    <a:pt x="642" y="719"/>
                  </a:lnTo>
                  <a:lnTo>
                    <a:pt x="642" y="728"/>
                  </a:lnTo>
                  <a:lnTo>
                    <a:pt x="642" y="734"/>
                  </a:lnTo>
                  <a:lnTo>
                    <a:pt x="648" y="744"/>
                  </a:lnTo>
                  <a:lnTo>
                    <a:pt x="658" y="750"/>
                  </a:lnTo>
                  <a:lnTo>
                    <a:pt x="658" y="756"/>
                  </a:lnTo>
                  <a:lnTo>
                    <a:pt x="658" y="765"/>
                  </a:lnTo>
                  <a:lnTo>
                    <a:pt x="651" y="768"/>
                  </a:lnTo>
                  <a:lnTo>
                    <a:pt x="645" y="771"/>
                  </a:lnTo>
                  <a:lnTo>
                    <a:pt x="636" y="780"/>
                  </a:lnTo>
                  <a:lnTo>
                    <a:pt x="624" y="790"/>
                  </a:lnTo>
                  <a:lnTo>
                    <a:pt x="618" y="793"/>
                  </a:lnTo>
                  <a:lnTo>
                    <a:pt x="611" y="793"/>
                  </a:lnTo>
                  <a:lnTo>
                    <a:pt x="599" y="762"/>
                  </a:lnTo>
                  <a:lnTo>
                    <a:pt x="587" y="734"/>
                  </a:lnTo>
                  <a:lnTo>
                    <a:pt x="571" y="710"/>
                  </a:lnTo>
                  <a:lnTo>
                    <a:pt x="553" y="685"/>
                  </a:lnTo>
                  <a:lnTo>
                    <a:pt x="535" y="667"/>
                  </a:lnTo>
                  <a:lnTo>
                    <a:pt x="513" y="645"/>
                  </a:lnTo>
                  <a:lnTo>
                    <a:pt x="491" y="630"/>
                  </a:lnTo>
                  <a:lnTo>
                    <a:pt x="467" y="615"/>
                  </a:lnTo>
                  <a:lnTo>
                    <a:pt x="476" y="633"/>
                  </a:lnTo>
                  <a:lnTo>
                    <a:pt x="485" y="648"/>
                  </a:lnTo>
                  <a:lnTo>
                    <a:pt x="498" y="661"/>
                  </a:lnTo>
                  <a:lnTo>
                    <a:pt x="510" y="673"/>
                  </a:lnTo>
                  <a:lnTo>
                    <a:pt x="538" y="691"/>
                  </a:lnTo>
                  <a:lnTo>
                    <a:pt x="553" y="704"/>
                  </a:lnTo>
                  <a:lnTo>
                    <a:pt x="562" y="719"/>
                  </a:lnTo>
                  <a:lnTo>
                    <a:pt x="553" y="716"/>
                  </a:lnTo>
                  <a:lnTo>
                    <a:pt x="544" y="716"/>
                  </a:lnTo>
                  <a:lnTo>
                    <a:pt x="541" y="722"/>
                  </a:lnTo>
                  <a:lnTo>
                    <a:pt x="541" y="728"/>
                  </a:lnTo>
                  <a:lnTo>
                    <a:pt x="538" y="747"/>
                  </a:lnTo>
                  <a:lnTo>
                    <a:pt x="538" y="753"/>
                  </a:lnTo>
                  <a:lnTo>
                    <a:pt x="531" y="756"/>
                  </a:lnTo>
                  <a:lnTo>
                    <a:pt x="1500" y="191"/>
                  </a:lnTo>
                  <a:lnTo>
                    <a:pt x="1066" y="710"/>
                  </a:lnTo>
                  <a:lnTo>
                    <a:pt x="1063" y="716"/>
                  </a:lnTo>
                  <a:lnTo>
                    <a:pt x="1060" y="719"/>
                  </a:lnTo>
                  <a:lnTo>
                    <a:pt x="1045" y="725"/>
                  </a:lnTo>
                  <a:lnTo>
                    <a:pt x="1033" y="734"/>
                  </a:lnTo>
                  <a:lnTo>
                    <a:pt x="1030" y="737"/>
                  </a:lnTo>
                  <a:lnTo>
                    <a:pt x="1026" y="747"/>
                  </a:lnTo>
                  <a:lnTo>
                    <a:pt x="1036" y="756"/>
                  </a:lnTo>
                  <a:lnTo>
                    <a:pt x="1045" y="765"/>
                  </a:lnTo>
                  <a:lnTo>
                    <a:pt x="1057" y="774"/>
                  </a:lnTo>
                  <a:lnTo>
                    <a:pt x="1069" y="780"/>
                  </a:lnTo>
                  <a:lnTo>
                    <a:pt x="1082" y="783"/>
                  </a:lnTo>
                  <a:lnTo>
                    <a:pt x="1094" y="783"/>
                  </a:lnTo>
                  <a:lnTo>
                    <a:pt x="1109" y="780"/>
                  </a:lnTo>
                  <a:lnTo>
                    <a:pt x="1122" y="774"/>
                  </a:lnTo>
                  <a:lnTo>
                    <a:pt x="1119" y="747"/>
                  </a:lnTo>
                  <a:lnTo>
                    <a:pt x="1116" y="725"/>
                  </a:lnTo>
                  <a:lnTo>
                    <a:pt x="1109" y="707"/>
                  </a:lnTo>
                  <a:lnTo>
                    <a:pt x="1103" y="688"/>
                  </a:lnTo>
                  <a:lnTo>
                    <a:pt x="1085" y="658"/>
                  </a:lnTo>
                  <a:lnTo>
                    <a:pt x="1060" y="624"/>
                  </a:lnTo>
                  <a:lnTo>
                    <a:pt x="1066" y="618"/>
                  </a:lnTo>
                  <a:lnTo>
                    <a:pt x="1073" y="615"/>
                  </a:lnTo>
                  <a:lnTo>
                    <a:pt x="1094" y="615"/>
                  </a:lnTo>
                  <a:lnTo>
                    <a:pt x="1116" y="615"/>
                  </a:lnTo>
                  <a:lnTo>
                    <a:pt x="1125" y="611"/>
                  </a:lnTo>
                  <a:lnTo>
                    <a:pt x="1131" y="605"/>
                  </a:lnTo>
                  <a:lnTo>
                    <a:pt x="1119" y="590"/>
                  </a:lnTo>
                  <a:lnTo>
                    <a:pt x="1106" y="584"/>
                  </a:lnTo>
                  <a:lnTo>
                    <a:pt x="1091" y="581"/>
                  </a:lnTo>
                  <a:lnTo>
                    <a:pt x="1073" y="584"/>
                  </a:lnTo>
                  <a:lnTo>
                    <a:pt x="1039" y="596"/>
                  </a:lnTo>
                  <a:lnTo>
                    <a:pt x="1020" y="602"/>
                  </a:lnTo>
                  <a:lnTo>
                    <a:pt x="1005" y="605"/>
                  </a:lnTo>
                  <a:lnTo>
                    <a:pt x="1002" y="630"/>
                  </a:lnTo>
                  <a:lnTo>
                    <a:pt x="1008" y="645"/>
                  </a:lnTo>
                  <a:lnTo>
                    <a:pt x="1014" y="661"/>
                  </a:lnTo>
                  <a:lnTo>
                    <a:pt x="1026" y="670"/>
                  </a:lnTo>
                  <a:lnTo>
                    <a:pt x="1048" y="688"/>
                  </a:lnTo>
                  <a:lnTo>
                    <a:pt x="1060" y="697"/>
                  </a:lnTo>
                  <a:lnTo>
                    <a:pt x="1066" y="710"/>
                  </a:lnTo>
                  <a:lnTo>
                    <a:pt x="1500" y="191"/>
                  </a:lnTo>
                  <a:lnTo>
                    <a:pt x="1943" y="1106"/>
                  </a:lnTo>
                  <a:lnTo>
                    <a:pt x="1946" y="1121"/>
                  </a:lnTo>
                  <a:lnTo>
                    <a:pt x="1955" y="1137"/>
                  </a:lnTo>
                  <a:lnTo>
                    <a:pt x="1976" y="1158"/>
                  </a:lnTo>
                  <a:lnTo>
                    <a:pt x="1986" y="1171"/>
                  </a:lnTo>
                  <a:lnTo>
                    <a:pt x="1995" y="1180"/>
                  </a:lnTo>
                  <a:lnTo>
                    <a:pt x="2001" y="1195"/>
                  </a:lnTo>
                  <a:lnTo>
                    <a:pt x="2004" y="1210"/>
                  </a:lnTo>
                  <a:lnTo>
                    <a:pt x="2004" y="1229"/>
                  </a:lnTo>
                  <a:lnTo>
                    <a:pt x="2001" y="1247"/>
                  </a:lnTo>
                  <a:lnTo>
                    <a:pt x="1995" y="1260"/>
                  </a:lnTo>
                  <a:lnTo>
                    <a:pt x="1986" y="1269"/>
                  </a:lnTo>
                  <a:lnTo>
                    <a:pt x="1961" y="1287"/>
                  </a:lnTo>
                  <a:lnTo>
                    <a:pt x="1949" y="1300"/>
                  </a:lnTo>
                  <a:lnTo>
                    <a:pt x="1933" y="1312"/>
                  </a:lnTo>
                  <a:lnTo>
                    <a:pt x="1924" y="1306"/>
                  </a:lnTo>
                  <a:lnTo>
                    <a:pt x="1915" y="1296"/>
                  </a:lnTo>
                  <a:lnTo>
                    <a:pt x="1900" y="1272"/>
                  </a:lnTo>
                  <a:lnTo>
                    <a:pt x="1884" y="1247"/>
                  </a:lnTo>
                  <a:lnTo>
                    <a:pt x="1875" y="1235"/>
                  </a:lnTo>
                  <a:lnTo>
                    <a:pt x="1863" y="1229"/>
                  </a:lnTo>
                  <a:lnTo>
                    <a:pt x="1857" y="1229"/>
                  </a:lnTo>
                  <a:lnTo>
                    <a:pt x="1850" y="1235"/>
                  </a:lnTo>
                  <a:lnTo>
                    <a:pt x="1847" y="1253"/>
                  </a:lnTo>
                  <a:lnTo>
                    <a:pt x="1847" y="1272"/>
                  </a:lnTo>
                  <a:lnTo>
                    <a:pt x="1844" y="1278"/>
                  </a:lnTo>
                  <a:lnTo>
                    <a:pt x="1841" y="1284"/>
                  </a:lnTo>
                  <a:lnTo>
                    <a:pt x="1829" y="1275"/>
                  </a:lnTo>
                  <a:lnTo>
                    <a:pt x="1823" y="1266"/>
                  </a:lnTo>
                  <a:lnTo>
                    <a:pt x="1820" y="1250"/>
                  </a:lnTo>
                  <a:lnTo>
                    <a:pt x="1814" y="1235"/>
                  </a:lnTo>
                  <a:lnTo>
                    <a:pt x="1810" y="1198"/>
                  </a:lnTo>
                  <a:lnTo>
                    <a:pt x="1807" y="1161"/>
                  </a:lnTo>
                  <a:lnTo>
                    <a:pt x="1798" y="1161"/>
                  </a:lnTo>
                  <a:lnTo>
                    <a:pt x="1792" y="1161"/>
                  </a:lnTo>
                  <a:lnTo>
                    <a:pt x="1786" y="1167"/>
                  </a:lnTo>
                  <a:lnTo>
                    <a:pt x="1783" y="1174"/>
                  </a:lnTo>
                  <a:lnTo>
                    <a:pt x="1780" y="1183"/>
                  </a:lnTo>
                  <a:lnTo>
                    <a:pt x="1777" y="1189"/>
                  </a:lnTo>
                  <a:lnTo>
                    <a:pt x="1770" y="1192"/>
                  </a:lnTo>
                  <a:lnTo>
                    <a:pt x="1761" y="1189"/>
                  </a:lnTo>
                  <a:lnTo>
                    <a:pt x="1758" y="1167"/>
                  </a:lnTo>
                  <a:lnTo>
                    <a:pt x="1755" y="1149"/>
                  </a:lnTo>
                  <a:lnTo>
                    <a:pt x="1749" y="1131"/>
                  </a:lnTo>
                  <a:lnTo>
                    <a:pt x="1743" y="1112"/>
                  </a:lnTo>
                  <a:lnTo>
                    <a:pt x="1727" y="1081"/>
                  </a:lnTo>
                  <a:lnTo>
                    <a:pt x="1715" y="1048"/>
                  </a:lnTo>
                  <a:lnTo>
                    <a:pt x="1700" y="1051"/>
                  </a:lnTo>
                  <a:lnTo>
                    <a:pt x="1684" y="1054"/>
                  </a:lnTo>
                  <a:lnTo>
                    <a:pt x="1660" y="1066"/>
                  </a:lnTo>
                  <a:lnTo>
                    <a:pt x="1638" y="1081"/>
                  </a:lnTo>
                  <a:lnTo>
                    <a:pt x="1620" y="1100"/>
                  </a:lnTo>
                  <a:lnTo>
                    <a:pt x="1583" y="1140"/>
                  </a:lnTo>
                  <a:lnTo>
                    <a:pt x="1561" y="1158"/>
                  </a:lnTo>
                  <a:lnTo>
                    <a:pt x="1540" y="1171"/>
                  </a:lnTo>
                  <a:lnTo>
                    <a:pt x="1537" y="1226"/>
                  </a:lnTo>
                  <a:lnTo>
                    <a:pt x="1534" y="1250"/>
                  </a:lnTo>
                  <a:lnTo>
                    <a:pt x="1528" y="1275"/>
                  </a:lnTo>
                  <a:lnTo>
                    <a:pt x="1521" y="1296"/>
                  </a:lnTo>
                  <a:lnTo>
                    <a:pt x="1512" y="1315"/>
                  </a:lnTo>
                  <a:lnTo>
                    <a:pt x="1500" y="1330"/>
                  </a:lnTo>
                  <a:lnTo>
                    <a:pt x="1485" y="1343"/>
                  </a:lnTo>
                  <a:lnTo>
                    <a:pt x="1478" y="1306"/>
                  </a:lnTo>
                  <a:lnTo>
                    <a:pt x="1466" y="1275"/>
                  </a:lnTo>
                  <a:lnTo>
                    <a:pt x="1438" y="1214"/>
                  </a:lnTo>
                  <a:lnTo>
                    <a:pt x="1426" y="1183"/>
                  </a:lnTo>
                  <a:lnTo>
                    <a:pt x="1414" y="1149"/>
                  </a:lnTo>
                  <a:lnTo>
                    <a:pt x="1411" y="1115"/>
                  </a:lnTo>
                  <a:lnTo>
                    <a:pt x="1411" y="1097"/>
                  </a:lnTo>
                  <a:lnTo>
                    <a:pt x="1414" y="1078"/>
                  </a:lnTo>
                  <a:lnTo>
                    <a:pt x="1411" y="1072"/>
                  </a:lnTo>
                  <a:lnTo>
                    <a:pt x="1408" y="1069"/>
                  </a:lnTo>
                  <a:lnTo>
                    <a:pt x="1398" y="1075"/>
                  </a:lnTo>
                  <a:lnTo>
                    <a:pt x="1389" y="1084"/>
                  </a:lnTo>
                  <a:lnTo>
                    <a:pt x="1380" y="1088"/>
                  </a:lnTo>
                  <a:lnTo>
                    <a:pt x="1374" y="1088"/>
                  </a:lnTo>
                  <a:lnTo>
                    <a:pt x="1371" y="1069"/>
                  </a:lnTo>
                  <a:lnTo>
                    <a:pt x="1368" y="1054"/>
                  </a:lnTo>
                  <a:lnTo>
                    <a:pt x="1359" y="1041"/>
                  </a:lnTo>
                  <a:lnTo>
                    <a:pt x="1352" y="1029"/>
                  </a:lnTo>
                  <a:lnTo>
                    <a:pt x="1331" y="1011"/>
                  </a:lnTo>
                  <a:lnTo>
                    <a:pt x="1312" y="992"/>
                  </a:lnTo>
                  <a:lnTo>
                    <a:pt x="1297" y="1002"/>
                  </a:lnTo>
                  <a:lnTo>
                    <a:pt x="1275" y="1008"/>
                  </a:lnTo>
                  <a:lnTo>
                    <a:pt x="1254" y="1011"/>
                  </a:lnTo>
                  <a:lnTo>
                    <a:pt x="1229" y="1011"/>
                  </a:lnTo>
                  <a:lnTo>
                    <a:pt x="1208" y="1008"/>
                  </a:lnTo>
                  <a:lnTo>
                    <a:pt x="1189" y="998"/>
                  </a:lnTo>
                  <a:lnTo>
                    <a:pt x="1183" y="992"/>
                  </a:lnTo>
                  <a:lnTo>
                    <a:pt x="1177" y="983"/>
                  </a:lnTo>
                  <a:lnTo>
                    <a:pt x="1171" y="974"/>
                  </a:lnTo>
                  <a:lnTo>
                    <a:pt x="1171" y="965"/>
                  </a:lnTo>
                  <a:lnTo>
                    <a:pt x="1153" y="974"/>
                  </a:lnTo>
                  <a:lnTo>
                    <a:pt x="1134" y="977"/>
                  </a:lnTo>
                  <a:lnTo>
                    <a:pt x="1119" y="974"/>
                  </a:lnTo>
                  <a:lnTo>
                    <a:pt x="1103" y="965"/>
                  </a:lnTo>
                  <a:lnTo>
                    <a:pt x="1088" y="952"/>
                  </a:lnTo>
                  <a:lnTo>
                    <a:pt x="1076" y="937"/>
                  </a:lnTo>
                  <a:lnTo>
                    <a:pt x="1066" y="919"/>
                  </a:lnTo>
                  <a:lnTo>
                    <a:pt x="1060" y="897"/>
                  </a:lnTo>
                  <a:lnTo>
                    <a:pt x="1048" y="903"/>
                  </a:lnTo>
                  <a:lnTo>
                    <a:pt x="1042" y="906"/>
                  </a:lnTo>
                  <a:lnTo>
                    <a:pt x="1036" y="906"/>
                  </a:lnTo>
                  <a:lnTo>
                    <a:pt x="1039" y="928"/>
                  </a:lnTo>
                  <a:lnTo>
                    <a:pt x="1048" y="943"/>
                  </a:lnTo>
                  <a:lnTo>
                    <a:pt x="1054" y="959"/>
                  </a:lnTo>
                  <a:lnTo>
                    <a:pt x="1063" y="971"/>
                  </a:lnTo>
                  <a:lnTo>
                    <a:pt x="1085" y="998"/>
                  </a:lnTo>
                  <a:lnTo>
                    <a:pt x="1094" y="1014"/>
                  </a:lnTo>
                  <a:lnTo>
                    <a:pt x="1100" y="1029"/>
                  </a:lnTo>
                  <a:lnTo>
                    <a:pt x="1113" y="1020"/>
                  </a:lnTo>
                  <a:lnTo>
                    <a:pt x="1125" y="1011"/>
                  </a:lnTo>
                  <a:lnTo>
                    <a:pt x="1137" y="998"/>
                  </a:lnTo>
                  <a:lnTo>
                    <a:pt x="1143" y="992"/>
                  </a:lnTo>
                  <a:lnTo>
                    <a:pt x="1146" y="983"/>
                  </a:lnTo>
                  <a:lnTo>
                    <a:pt x="1153" y="992"/>
                  </a:lnTo>
                  <a:lnTo>
                    <a:pt x="1162" y="998"/>
                  </a:lnTo>
                  <a:lnTo>
                    <a:pt x="1180" y="1014"/>
                  </a:lnTo>
                  <a:lnTo>
                    <a:pt x="1199" y="1026"/>
                  </a:lnTo>
                  <a:lnTo>
                    <a:pt x="1217" y="1038"/>
                  </a:lnTo>
                  <a:lnTo>
                    <a:pt x="1211" y="1063"/>
                  </a:lnTo>
                  <a:lnTo>
                    <a:pt x="1202" y="1084"/>
                  </a:lnTo>
                  <a:lnTo>
                    <a:pt x="1189" y="1103"/>
                  </a:lnTo>
                  <a:lnTo>
                    <a:pt x="1177" y="1121"/>
                  </a:lnTo>
                  <a:lnTo>
                    <a:pt x="1165" y="1137"/>
                  </a:lnTo>
                  <a:lnTo>
                    <a:pt x="1149" y="1149"/>
                  </a:lnTo>
                  <a:lnTo>
                    <a:pt x="1116" y="1174"/>
                  </a:lnTo>
                  <a:lnTo>
                    <a:pt x="1079" y="1192"/>
                  </a:lnTo>
                  <a:lnTo>
                    <a:pt x="1039" y="1207"/>
                  </a:lnTo>
                  <a:lnTo>
                    <a:pt x="956" y="1238"/>
                  </a:lnTo>
                  <a:lnTo>
                    <a:pt x="950" y="1217"/>
                  </a:lnTo>
                  <a:lnTo>
                    <a:pt x="943" y="1195"/>
                  </a:lnTo>
                  <a:lnTo>
                    <a:pt x="931" y="1152"/>
                  </a:lnTo>
                  <a:lnTo>
                    <a:pt x="922" y="1131"/>
                  </a:lnTo>
                  <a:lnTo>
                    <a:pt x="913" y="1112"/>
                  </a:lnTo>
                  <a:lnTo>
                    <a:pt x="900" y="1097"/>
                  </a:lnTo>
                  <a:lnTo>
                    <a:pt x="885" y="1088"/>
                  </a:lnTo>
                  <a:lnTo>
                    <a:pt x="873" y="1045"/>
                  </a:lnTo>
                  <a:lnTo>
                    <a:pt x="860" y="1005"/>
                  </a:lnTo>
                  <a:lnTo>
                    <a:pt x="851" y="986"/>
                  </a:lnTo>
                  <a:lnTo>
                    <a:pt x="842" y="971"/>
                  </a:lnTo>
                  <a:lnTo>
                    <a:pt x="830" y="955"/>
                  </a:lnTo>
                  <a:lnTo>
                    <a:pt x="814" y="946"/>
                  </a:lnTo>
                  <a:lnTo>
                    <a:pt x="824" y="980"/>
                  </a:lnTo>
                  <a:lnTo>
                    <a:pt x="833" y="1020"/>
                  </a:lnTo>
                  <a:lnTo>
                    <a:pt x="848" y="1057"/>
                  </a:lnTo>
                  <a:lnTo>
                    <a:pt x="863" y="1097"/>
                  </a:lnTo>
                  <a:lnTo>
                    <a:pt x="882" y="1134"/>
                  </a:lnTo>
                  <a:lnTo>
                    <a:pt x="903" y="1171"/>
                  </a:lnTo>
                  <a:lnTo>
                    <a:pt x="925" y="1201"/>
                  </a:lnTo>
                  <a:lnTo>
                    <a:pt x="950" y="1229"/>
                  </a:lnTo>
                  <a:lnTo>
                    <a:pt x="950" y="1275"/>
                  </a:lnTo>
                  <a:lnTo>
                    <a:pt x="971" y="1275"/>
                  </a:lnTo>
                  <a:lnTo>
                    <a:pt x="986" y="1275"/>
                  </a:lnTo>
                  <a:lnTo>
                    <a:pt x="1002" y="1269"/>
                  </a:lnTo>
                  <a:lnTo>
                    <a:pt x="1017" y="1263"/>
                  </a:lnTo>
                  <a:lnTo>
                    <a:pt x="1045" y="1250"/>
                  </a:lnTo>
                  <a:lnTo>
                    <a:pt x="1063" y="1247"/>
                  </a:lnTo>
                  <a:lnTo>
                    <a:pt x="1082" y="1247"/>
                  </a:lnTo>
                  <a:lnTo>
                    <a:pt x="1079" y="1275"/>
                  </a:lnTo>
                  <a:lnTo>
                    <a:pt x="1069" y="1303"/>
                  </a:lnTo>
                  <a:lnTo>
                    <a:pt x="1063" y="1327"/>
                  </a:lnTo>
                  <a:lnTo>
                    <a:pt x="1051" y="1349"/>
                  </a:lnTo>
                  <a:lnTo>
                    <a:pt x="1026" y="1389"/>
                  </a:lnTo>
                  <a:lnTo>
                    <a:pt x="999" y="1425"/>
                  </a:lnTo>
                  <a:lnTo>
                    <a:pt x="937" y="1490"/>
                  </a:lnTo>
                  <a:lnTo>
                    <a:pt x="910" y="1527"/>
                  </a:lnTo>
                  <a:lnTo>
                    <a:pt x="885" y="1567"/>
                  </a:lnTo>
                  <a:lnTo>
                    <a:pt x="891" y="1597"/>
                  </a:lnTo>
                  <a:lnTo>
                    <a:pt x="894" y="1625"/>
                  </a:lnTo>
                  <a:lnTo>
                    <a:pt x="897" y="1637"/>
                  </a:lnTo>
                  <a:lnTo>
                    <a:pt x="900" y="1650"/>
                  </a:lnTo>
                  <a:lnTo>
                    <a:pt x="907" y="1656"/>
                  </a:lnTo>
                  <a:lnTo>
                    <a:pt x="919" y="1662"/>
                  </a:lnTo>
                  <a:lnTo>
                    <a:pt x="919" y="1699"/>
                  </a:lnTo>
                  <a:lnTo>
                    <a:pt x="913" y="1733"/>
                  </a:lnTo>
                  <a:lnTo>
                    <a:pt x="903" y="1757"/>
                  </a:lnTo>
                  <a:lnTo>
                    <a:pt x="891" y="1782"/>
                  </a:lnTo>
                  <a:lnTo>
                    <a:pt x="876" y="1800"/>
                  </a:lnTo>
                  <a:lnTo>
                    <a:pt x="860" y="1819"/>
                  </a:lnTo>
                  <a:lnTo>
                    <a:pt x="824" y="1849"/>
                  </a:lnTo>
                  <a:lnTo>
                    <a:pt x="827" y="1889"/>
                  </a:lnTo>
                  <a:lnTo>
                    <a:pt x="833" y="1905"/>
                  </a:lnTo>
                  <a:lnTo>
                    <a:pt x="839" y="1917"/>
                  </a:lnTo>
                  <a:lnTo>
                    <a:pt x="830" y="1932"/>
                  </a:lnTo>
                  <a:lnTo>
                    <a:pt x="820" y="1942"/>
                  </a:lnTo>
                  <a:lnTo>
                    <a:pt x="808" y="1951"/>
                  </a:lnTo>
                  <a:lnTo>
                    <a:pt x="793" y="1954"/>
                  </a:lnTo>
                  <a:lnTo>
                    <a:pt x="790" y="1978"/>
                  </a:lnTo>
                  <a:lnTo>
                    <a:pt x="784" y="2000"/>
                  </a:lnTo>
                  <a:lnTo>
                    <a:pt x="774" y="2021"/>
                  </a:lnTo>
                  <a:lnTo>
                    <a:pt x="765" y="2037"/>
                  </a:lnTo>
                  <a:lnTo>
                    <a:pt x="756" y="2055"/>
                  </a:lnTo>
                  <a:lnTo>
                    <a:pt x="741" y="2067"/>
                  </a:lnTo>
                  <a:lnTo>
                    <a:pt x="728" y="2083"/>
                  </a:lnTo>
                  <a:lnTo>
                    <a:pt x="713" y="2092"/>
                  </a:lnTo>
                  <a:lnTo>
                    <a:pt x="694" y="2101"/>
                  </a:lnTo>
                  <a:lnTo>
                    <a:pt x="676" y="2110"/>
                  </a:lnTo>
                  <a:lnTo>
                    <a:pt x="639" y="2120"/>
                  </a:lnTo>
                  <a:lnTo>
                    <a:pt x="602" y="2126"/>
                  </a:lnTo>
                  <a:lnTo>
                    <a:pt x="562" y="2126"/>
                  </a:lnTo>
                  <a:lnTo>
                    <a:pt x="553" y="2083"/>
                  </a:lnTo>
                  <a:lnTo>
                    <a:pt x="544" y="2046"/>
                  </a:lnTo>
                  <a:lnTo>
                    <a:pt x="538" y="2028"/>
                  </a:lnTo>
                  <a:lnTo>
                    <a:pt x="528" y="2009"/>
                  </a:lnTo>
                  <a:lnTo>
                    <a:pt x="519" y="1994"/>
                  </a:lnTo>
                  <a:lnTo>
                    <a:pt x="507" y="1981"/>
                  </a:lnTo>
                  <a:lnTo>
                    <a:pt x="507" y="1945"/>
                  </a:lnTo>
                  <a:lnTo>
                    <a:pt x="501" y="1911"/>
                  </a:lnTo>
                  <a:lnTo>
                    <a:pt x="491" y="1886"/>
                  </a:lnTo>
                  <a:lnTo>
                    <a:pt x="479" y="1862"/>
                  </a:lnTo>
                  <a:lnTo>
                    <a:pt x="467" y="1834"/>
                  </a:lnTo>
                  <a:lnTo>
                    <a:pt x="458" y="1809"/>
                  </a:lnTo>
                  <a:lnTo>
                    <a:pt x="452" y="1776"/>
                  </a:lnTo>
                  <a:lnTo>
                    <a:pt x="452" y="1739"/>
                  </a:lnTo>
                  <a:lnTo>
                    <a:pt x="470" y="1714"/>
                  </a:lnTo>
                  <a:lnTo>
                    <a:pt x="485" y="1690"/>
                  </a:lnTo>
                  <a:lnTo>
                    <a:pt x="473" y="1634"/>
                  </a:lnTo>
                  <a:lnTo>
                    <a:pt x="458" y="1579"/>
                  </a:lnTo>
                  <a:lnTo>
                    <a:pt x="448" y="1558"/>
                  </a:lnTo>
                  <a:lnTo>
                    <a:pt x="436" y="1536"/>
                  </a:lnTo>
                  <a:lnTo>
                    <a:pt x="421" y="1518"/>
                  </a:lnTo>
                  <a:lnTo>
                    <a:pt x="405" y="1502"/>
                  </a:lnTo>
                  <a:lnTo>
                    <a:pt x="408" y="1478"/>
                  </a:lnTo>
                  <a:lnTo>
                    <a:pt x="415" y="1450"/>
                  </a:lnTo>
                  <a:lnTo>
                    <a:pt x="421" y="1429"/>
                  </a:lnTo>
                  <a:lnTo>
                    <a:pt x="430" y="1407"/>
                  </a:lnTo>
                  <a:lnTo>
                    <a:pt x="424" y="1401"/>
                  </a:lnTo>
                  <a:lnTo>
                    <a:pt x="421" y="1395"/>
                  </a:lnTo>
                  <a:lnTo>
                    <a:pt x="415" y="1389"/>
                  </a:lnTo>
                  <a:lnTo>
                    <a:pt x="412" y="1379"/>
                  </a:lnTo>
                  <a:lnTo>
                    <a:pt x="405" y="1379"/>
                  </a:lnTo>
                  <a:lnTo>
                    <a:pt x="399" y="1382"/>
                  </a:lnTo>
                  <a:lnTo>
                    <a:pt x="387" y="1392"/>
                  </a:lnTo>
                  <a:lnTo>
                    <a:pt x="384" y="1398"/>
                  </a:lnTo>
                  <a:lnTo>
                    <a:pt x="378" y="1401"/>
                  </a:lnTo>
                  <a:lnTo>
                    <a:pt x="368" y="1401"/>
                  </a:lnTo>
                  <a:lnTo>
                    <a:pt x="356" y="1398"/>
                  </a:lnTo>
                  <a:lnTo>
                    <a:pt x="353" y="1389"/>
                  </a:lnTo>
                  <a:lnTo>
                    <a:pt x="350" y="1373"/>
                  </a:lnTo>
                  <a:lnTo>
                    <a:pt x="347" y="1361"/>
                  </a:lnTo>
                  <a:lnTo>
                    <a:pt x="341" y="1352"/>
                  </a:lnTo>
                  <a:lnTo>
                    <a:pt x="319" y="1352"/>
                  </a:lnTo>
                  <a:lnTo>
                    <a:pt x="298" y="1355"/>
                  </a:lnTo>
                  <a:lnTo>
                    <a:pt x="264" y="1370"/>
                  </a:lnTo>
                  <a:lnTo>
                    <a:pt x="246" y="1376"/>
                  </a:lnTo>
                  <a:lnTo>
                    <a:pt x="227" y="1382"/>
                  </a:lnTo>
                  <a:lnTo>
                    <a:pt x="202" y="1382"/>
                  </a:lnTo>
                  <a:lnTo>
                    <a:pt x="178" y="1379"/>
                  </a:lnTo>
                  <a:lnTo>
                    <a:pt x="169" y="1379"/>
                  </a:lnTo>
                  <a:lnTo>
                    <a:pt x="166" y="1379"/>
                  </a:lnTo>
                  <a:lnTo>
                    <a:pt x="162" y="1382"/>
                  </a:lnTo>
                  <a:lnTo>
                    <a:pt x="159" y="1389"/>
                  </a:lnTo>
                  <a:lnTo>
                    <a:pt x="156" y="1398"/>
                  </a:lnTo>
                  <a:lnTo>
                    <a:pt x="153" y="1407"/>
                  </a:lnTo>
                  <a:lnTo>
                    <a:pt x="129" y="1392"/>
                  </a:lnTo>
                  <a:lnTo>
                    <a:pt x="110" y="1376"/>
                  </a:lnTo>
                  <a:lnTo>
                    <a:pt x="95" y="1355"/>
                  </a:lnTo>
                  <a:lnTo>
                    <a:pt x="79" y="1330"/>
                  </a:lnTo>
                  <a:lnTo>
                    <a:pt x="64" y="1309"/>
                  </a:lnTo>
                  <a:lnTo>
                    <a:pt x="46" y="1287"/>
                  </a:lnTo>
                  <a:lnTo>
                    <a:pt x="27" y="1269"/>
                  </a:lnTo>
                  <a:lnTo>
                    <a:pt x="3" y="1257"/>
                  </a:lnTo>
                  <a:lnTo>
                    <a:pt x="0" y="1220"/>
                  </a:lnTo>
                  <a:lnTo>
                    <a:pt x="0" y="1192"/>
                  </a:lnTo>
                  <a:lnTo>
                    <a:pt x="0" y="1177"/>
                  </a:lnTo>
                  <a:lnTo>
                    <a:pt x="3" y="1164"/>
                  </a:lnTo>
                  <a:lnTo>
                    <a:pt x="9" y="1155"/>
                  </a:lnTo>
                  <a:lnTo>
                    <a:pt x="18" y="1143"/>
                  </a:lnTo>
                  <a:lnTo>
                    <a:pt x="12" y="1103"/>
                  </a:lnTo>
                  <a:lnTo>
                    <a:pt x="12" y="1066"/>
                  </a:lnTo>
                  <a:lnTo>
                    <a:pt x="15" y="1032"/>
                  </a:lnTo>
                  <a:lnTo>
                    <a:pt x="27" y="1002"/>
                  </a:lnTo>
                  <a:lnTo>
                    <a:pt x="43" y="977"/>
                  </a:lnTo>
                  <a:lnTo>
                    <a:pt x="64" y="952"/>
                  </a:lnTo>
                  <a:lnTo>
                    <a:pt x="86" y="934"/>
                  </a:lnTo>
                  <a:lnTo>
                    <a:pt x="113" y="916"/>
                  </a:lnTo>
                  <a:lnTo>
                    <a:pt x="113" y="894"/>
                  </a:lnTo>
                  <a:lnTo>
                    <a:pt x="116" y="876"/>
                  </a:lnTo>
                  <a:lnTo>
                    <a:pt x="123" y="857"/>
                  </a:lnTo>
                  <a:lnTo>
                    <a:pt x="129" y="845"/>
                  </a:lnTo>
                  <a:lnTo>
                    <a:pt x="138" y="836"/>
                  </a:lnTo>
                  <a:lnTo>
                    <a:pt x="150" y="826"/>
                  </a:lnTo>
                  <a:lnTo>
                    <a:pt x="178" y="814"/>
                  </a:lnTo>
                  <a:lnTo>
                    <a:pt x="175" y="799"/>
                  </a:lnTo>
                  <a:lnTo>
                    <a:pt x="169" y="787"/>
                  </a:lnTo>
                  <a:lnTo>
                    <a:pt x="162" y="780"/>
                  </a:lnTo>
                  <a:lnTo>
                    <a:pt x="150" y="777"/>
                  </a:lnTo>
                  <a:lnTo>
                    <a:pt x="129" y="768"/>
                  </a:lnTo>
                  <a:lnTo>
                    <a:pt x="119" y="765"/>
                  </a:lnTo>
                  <a:lnTo>
                    <a:pt x="113" y="756"/>
                  </a:lnTo>
                  <a:lnTo>
                    <a:pt x="119" y="728"/>
                  </a:lnTo>
                  <a:lnTo>
                    <a:pt x="119" y="697"/>
                  </a:lnTo>
                  <a:lnTo>
                    <a:pt x="123" y="667"/>
                  </a:lnTo>
                  <a:lnTo>
                    <a:pt x="126" y="654"/>
                  </a:lnTo>
                  <a:lnTo>
                    <a:pt x="129" y="642"/>
                  </a:lnTo>
                  <a:lnTo>
                    <a:pt x="153" y="642"/>
                  </a:lnTo>
                  <a:lnTo>
                    <a:pt x="181" y="642"/>
                  </a:lnTo>
                  <a:lnTo>
                    <a:pt x="206" y="645"/>
                  </a:lnTo>
                  <a:lnTo>
                    <a:pt x="215" y="648"/>
                  </a:lnTo>
                  <a:lnTo>
                    <a:pt x="224" y="651"/>
                  </a:lnTo>
                  <a:lnTo>
                    <a:pt x="233" y="645"/>
                  </a:lnTo>
                  <a:lnTo>
                    <a:pt x="239" y="639"/>
                  </a:lnTo>
                  <a:lnTo>
                    <a:pt x="246" y="630"/>
                  </a:lnTo>
                  <a:lnTo>
                    <a:pt x="249" y="615"/>
                  </a:lnTo>
                  <a:lnTo>
                    <a:pt x="246" y="602"/>
                  </a:lnTo>
                  <a:lnTo>
                    <a:pt x="242" y="593"/>
                  </a:lnTo>
                  <a:lnTo>
                    <a:pt x="236" y="587"/>
                  </a:lnTo>
                  <a:lnTo>
                    <a:pt x="227" y="581"/>
                  </a:lnTo>
                  <a:lnTo>
                    <a:pt x="209" y="575"/>
                  </a:lnTo>
                  <a:lnTo>
                    <a:pt x="199" y="572"/>
                  </a:lnTo>
                  <a:lnTo>
                    <a:pt x="193" y="568"/>
                  </a:lnTo>
                  <a:lnTo>
                    <a:pt x="199" y="556"/>
                  </a:lnTo>
                  <a:lnTo>
                    <a:pt x="212" y="550"/>
                  </a:lnTo>
                  <a:lnTo>
                    <a:pt x="227" y="544"/>
                  </a:lnTo>
                  <a:lnTo>
                    <a:pt x="239" y="541"/>
                  </a:lnTo>
                  <a:lnTo>
                    <a:pt x="270" y="535"/>
                  </a:lnTo>
                  <a:lnTo>
                    <a:pt x="282" y="529"/>
                  </a:lnTo>
                  <a:lnTo>
                    <a:pt x="295" y="519"/>
                  </a:lnTo>
                  <a:lnTo>
                    <a:pt x="282" y="519"/>
                  </a:lnTo>
                  <a:lnTo>
                    <a:pt x="267" y="519"/>
                  </a:lnTo>
                  <a:lnTo>
                    <a:pt x="236" y="522"/>
                  </a:lnTo>
                  <a:lnTo>
                    <a:pt x="218" y="522"/>
                  </a:lnTo>
                  <a:lnTo>
                    <a:pt x="206" y="519"/>
                  </a:lnTo>
                  <a:lnTo>
                    <a:pt x="193" y="513"/>
                  </a:lnTo>
                  <a:lnTo>
                    <a:pt x="187" y="507"/>
                  </a:lnTo>
                  <a:lnTo>
                    <a:pt x="184" y="501"/>
                  </a:lnTo>
                  <a:lnTo>
                    <a:pt x="187" y="486"/>
                  </a:lnTo>
                  <a:lnTo>
                    <a:pt x="193" y="473"/>
                  </a:lnTo>
                  <a:lnTo>
                    <a:pt x="202" y="467"/>
                  </a:lnTo>
                  <a:lnTo>
                    <a:pt x="215" y="464"/>
                  </a:lnTo>
                  <a:lnTo>
                    <a:pt x="215" y="455"/>
                  </a:lnTo>
                  <a:lnTo>
                    <a:pt x="212" y="452"/>
                  </a:lnTo>
                  <a:lnTo>
                    <a:pt x="209" y="449"/>
                  </a:lnTo>
                  <a:lnTo>
                    <a:pt x="202" y="449"/>
                  </a:lnTo>
                  <a:lnTo>
                    <a:pt x="190" y="446"/>
                  </a:lnTo>
                  <a:lnTo>
                    <a:pt x="187" y="442"/>
                  </a:lnTo>
                  <a:lnTo>
                    <a:pt x="184" y="436"/>
                  </a:lnTo>
                  <a:lnTo>
                    <a:pt x="175" y="467"/>
                  </a:lnTo>
                  <a:lnTo>
                    <a:pt x="169" y="479"/>
                  </a:lnTo>
                  <a:lnTo>
                    <a:pt x="162" y="489"/>
                  </a:lnTo>
                  <a:lnTo>
                    <a:pt x="153" y="498"/>
                  </a:lnTo>
                  <a:lnTo>
                    <a:pt x="141" y="507"/>
                  </a:lnTo>
                  <a:lnTo>
                    <a:pt x="129" y="510"/>
                  </a:lnTo>
                  <a:lnTo>
                    <a:pt x="113" y="510"/>
                  </a:lnTo>
                  <a:lnTo>
                    <a:pt x="107" y="504"/>
                  </a:lnTo>
                  <a:lnTo>
                    <a:pt x="107" y="498"/>
                  </a:lnTo>
                  <a:lnTo>
                    <a:pt x="110" y="486"/>
                  </a:lnTo>
                  <a:lnTo>
                    <a:pt x="113" y="473"/>
                  </a:lnTo>
                  <a:lnTo>
                    <a:pt x="110" y="467"/>
                  </a:lnTo>
                  <a:lnTo>
                    <a:pt x="104" y="464"/>
                  </a:lnTo>
                  <a:lnTo>
                    <a:pt x="116" y="449"/>
                  </a:lnTo>
                  <a:lnTo>
                    <a:pt x="126" y="436"/>
                  </a:lnTo>
                  <a:lnTo>
                    <a:pt x="141" y="430"/>
                  </a:lnTo>
                  <a:lnTo>
                    <a:pt x="159" y="427"/>
                  </a:lnTo>
                  <a:lnTo>
                    <a:pt x="166" y="424"/>
                  </a:lnTo>
                  <a:lnTo>
                    <a:pt x="166" y="418"/>
                  </a:lnTo>
                  <a:lnTo>
                    <a:pt x="159" y="412"/>
                  </a:lnTo>
                  <a:lnTo>
                    <a:pt x="156" y="406"/>
                  </a:lnTo>
                  <a:lnTo>
                    <a:pt x="150" y="396"/>
                  </a:lnTo>
                  <a:lnTo>
                    <a:pt x="150" y="390"/>
                  </a:lnTo>
                  <a:lnTo>
                    <a:pt x="153" y="378"/>
                  </a:lnTo>
                  <a:lnTo>
                    <a:pt x="169" y="369"/>
                  </a:lnTo>
                  <a:lnTo>
                    <a:pt x="184" y="366"/>
                  </a:lnTo>
                  <a:lnTo>
                    <a:pt x="196" y="366"/>
                  </a:lnTo>
                  <a:lnTo>
                    <a:pt x="209" y="366"/>
                  </a:lnTo>
                  <a:lnTo>
                    <a:pt x="218" y="372"/>
                  </a:lnTo>
                  <a:lnTo>
                    <a:pt x="227" y="381"/>
                  </a:lnTo>
                  <a:lnTo>
                    <a:pt x="242" y="399"/>
                  </a:lnTo>
                  <a:lnTo>
                    <a:pt x="258" y="427"/>
                  </a:lnTo>
                  <a:lnTo>
                    <a:pt x="270" y="455"/>
                  </a:lnTo>
                  <a:lnTo>
                    <a:pt x="285" y="479"/>
                  </a:lnTo>
                  <a:lnTo>
                    <a:pt x="304" y="501"/>
                  </a:lnTo>
                  <a:lnTo>
                    <a:pt x="316" y="498"/>
                  </a:lnTo>
                  <a:lnTo>
                    <a:pt x="329" y="492"/>
                  </a:lnTo>
                  <a:lnTo>
                    <a:pt x="350" y="470"/>
                  </a:lnTo>
                  <a:lnTo>
                    <a:pt x="362" y="461"/>
                  </a:lnTo>
                  <a:lnTo>
                    <a:pt x="372" y="458"/>
                  </a:lnTo>
                  <a:lnTo>
                    <a:pt x="384" y="458"/>
                  </a:lnTo>
                  <a:lnTo>
                    <a:pt x="396" y="464"/>
                  </a:lnTo>
                  <a:lnTo>
                    <a:pt x="399" y="461"/>
                  </a:lnTo>
                  <a:lnTo>
                    <a:pt x="402" y="455"/>
                  </a:lnTo>
                  <a:lnTo>
                    <a:pt x="399" y="436"/>
                  </a:lnTo>
                  <a:lnTo>
                    <a:pt x="396" y="415"/>
                  </a:lnTo>
                  <a:lnTo>
                    <a:pt x="399" y="406"/>
                  </a:lnTo>
                  <a:lnTo>
                    <a:pt x="405" y="396"/>
                  </a:lnTo>
                  <a:lnTo>
                    <a:pt x="430" y="396"/>
                  </a:lnTo>
                  <a:lnTo>
                    <a:pt x="439" y="396"/>
                  </a:lnTo>
                  <a:lnTo>
                    <a:pt x="442" y="399"/>
                  </a:lnTo>
                  <a:lnTo>
                    <a:pt x="442" y="406"/>
                  </a:lnTo>
                  <a:lnTo>
                    <a:pt x="439" y="415"/>
                  </a:lnTo>
                  <a:lnTo>
                    <a:pt x="436" y="430"/>
                  </a:lnTo>
                  <a:lnTo>
                    <a:pt x="439" y="439"/>
                  </a:lnTo>
                  <a:lnTo>
                    <a:pt x="445" y="446"/>
                  </a:lnTo>
                  <a:lnTo>
                    <a:pt x="464" y="449"/>
                  </a:lnTo>
                  <a:lnTo>
                    <a:pt x="482" y="452"/>
                  </a:lnTo>
                  <a:lnTo>
                    <a:pt x="501" y="449"/>
                  </a:lnTo>
                  <a:lnTo>
                    <a:pt x="516" y="442"/>
                  </a:lnTo>
                  <a:lnTo>
                    <a:pt x="531" y="439"/>
                  </a:lnTo>
                  <a:lnTo>
                    <a:pt x="544" y="439"/>
                  </a:lnTo>
                  <a:lnTo>
                    <a:pt x="562" y="439"/>
                  </a:lnTo>
                  <a:lnTo>
                    <a:pt x="578" y="446"/>
                  </a:lnTo>
                  <a:lnTo>
                    <a:pt x="587" y="430"/>
                  </a:lnTo>
                  <a:lnTo>
                    <a:pt x="593" y="412"/>
                  </a:lnTo>
                  <a:lnTo>
                    <a:pt x="599" y="393"/>
                  </a:lnTo>
                  <a:lnTo>
                    <a:pt x="611" y="378"/>
                  </a:lnTo>
                  <a:lnTo>
                    <a:pt x="618" y="381"/>
                  </a:lnTo>
                  <a:lnTo>
                    <a:pt x="627" y="384"/>
                  </a:lnTo>
                  <a:lnTo>
                    <a:pt x="633" y="387"/>
                  </a:lnTo>
                  <a:lnTo>
                    <a:pt x="642" y="387"/>
                  </a:lnTo>
                  <a:lnTo>
                    <a:pt x="645" y="384"/>
                  </a:lnTo>
                  <a:lnTo>
                    <a:pt x="645" y="378"/>
                  </a:lnTo>
                  <a:lnTo>
                    <a:pt x="639" y="372"/>
                  </a:lnTo>
                  <a:lnTo>
                    <a:pt x="633" y="369"/>
                  </a:lnTo>
                  <a:lnTo>
                    <a:pt x="654" y="360"/>
                  </a:lnTo>
                  <a:lnTo>
                    <a:pt x="676" y="353"/>
                  </a:lnTo>
                  <a:lnTo>
                    <a:pt x="701" y="350"/>
                  </a:lnTo>
                  <a:lnTo>
                    <a:pt x="728" y="350"/>
                  </a:lnTo>
                  <a:lnTo>
                    <a:pt x="719" y="338"/>
                  </a:lnTo>
                  <a:lnTo>
                    <a:pt x="710" y="332"/>
                  </a:lnTo>
                  <a:lnTo>
                    <a:pt x="694" y="329"/>
                  </a:lnTo>
                  <a:lnTo>
                    <a:pt x="679" y="332"/>
                  </a:lnTo>
                  <a:lnTo>
                    <a:pt x="645" y="338"/>
                  </a:lnTo>
                  <a:lnTo>
                    <a:pt x="630" y="341"/>
                  </a:lnTo>
                  <a:lnTo>
                    <a:pt x="618" y="341"/>
                  </a:lnTo>
                  <a:lnTo>
                    <a:pt x="614" y="329"/>
                  </a:lnTo>
                  <a:lnTo>
                    <a:pt x="608" y="317"/>
                  </a:lnTo>
                  <a:lnTo>
                    <a:pt x="602" y="304"/>
                  </a:lnTo>
                  <a:lnTo>
                    <a:pt x="602" y="286"/>
                  </a:lnTo>
                  <a:lnTo>
                    <a:pt x="636" y="264"/>
                  </a:lnTo>
                  <a:lnTo>
                    <a:pt x="651" y="252"/>
                  </a:lnTo>
                  <a:lnTo>
                    <a:pt x="664" y="237"/>
                  </a:lnTo>
                  <a:lnTo>
                    <a:pt x="654" y="234"/>
                  </a:lnTo>
                  <a:lnTo>
                    <a:pt x="648" y="231"/>
                  </a:lnTo>
                  <a:lnTo>
                    <a:pt x="639" y="234"/>
                  </a:lnTo>
                  <a:lnTo>
                    <a:pt x="633" y="234"/>
                  </a:lnTo>
                  <a:lnTo>
                    <a:pt x="621" y="246"/>
                  </a:lnTo>
                  <a:lnTo>
                    <a:pt x="608" y="261"/>
                  </a:lnTo>
                  <a:lnTo>
                    <a:pt x="596" y="277"/>
                  </a:lnTo>
                  <a:lnTo>
                    <a:pt x="581" y="289"/>
                  </a:lnTo>
                  <a:lnTo>
                    <a:pt x="565" y="301"/>
                  </a:lnTo>
                  <a:lnTo>
                    <a:pt x="556" y="301"/>
                  </a:lnTo>
                  <a:lnTo>
                    <a:pt x="547" y="304"/>
                  </a:lnTo>
                  <a:lnTo>
                    <a:pt x="544" y="313"/>
                  </a:lnTo>
                  <a:lnTo>
                    <a:pt x="547" y="320"/>
                  </a:lnTo>
                  <a:lnTo>
                    <a:pt x="550" y="320"/>
                  </a:lnTo>
                  <a:lnTo>
                    <a:pt x="556" y="323"/>
                  </a:lnTo>
                  <a:lnTo>
                    <a:pt x="565" y="323"/>
                  </a:lnTo>
                  <a:lnTo>
                    <a:pt x="571" y="326"/>
                  </a:lnTo>
                  <a:lnTo>
                    <a:pt x="571" y="332"/>
                  </a:lnTo>
                  <a:lnTo>
                    <a:pt x="553" y="372"/>
                  </a:lnTo>
                  <a:lnTo>
                    <a:pt x="544" y="387"/>
                  </a:lnTo>
                  <a:lnTo>
                    <a:pt x="531" y="403"/>
                  </a:lnTo>
                  <a:lnTo>
                    <a:pt x="516" y="415"/>
                  </a:lnTo>
                  <a:lnTo>
                    <a:pt x="501" y="424"/>
                  </a:lnTo>
                  <a:lnTo>
                    <a:pt x="479" y="427"/>
                  </a:lnTo>
                  <a:lnTo>
                    <a:pt x="452" y="427"/>
                  </a:lnTo>
                  <a:lnTo>
                    <a:pt x="455" y="406"/>
                  </a:lnTo>
                  <a:lnTo>
                    <a:pt x="448" y="393"/>
                  </a:lnTo>
                  <a:lnTo>
                    <a:pt x="445" y="378"/>
                  </a:lnTo>
                  <a:lnTo>
                    <a:pt x="445" y="360"/>
                  </a:lnTo>
                  <a:lnTo>
                    <a:pt x="430" y="372"/>
                  </a:lnTo>
                  <a:lnTo>
                    <a:pt x="418" y="384"/>
                  </a:lnTo>
                  <a:lnTo>
                    <a:pt x="408" y="387"/>
                  </a:lnTo>
                  <a:lnTo>
                    <a:pt x="399" y="390"/>
                  </a:lnTo>
                  <a:lnTo>
                    <a:pt x="387" y="390"/>
                  </a:lnTo>
                  <a:lnTo>
                    <a:pt x="375" y="387"/>
                  </a:lnTo>
                  <a:lnTo>
                    <a:pt x="365" y="372"/>
                  </a:lnTo>
                  <a:lnTo>
                    <a:pt x="356" y="350"/>
                  </a:lnTo>
                  <a:lnTo>
                    <a:pt x="353" y="329"/>
                  </a:lnTo>
                  <a:lnTo>
                    <a:pt x="350" y="304"/>
                  </a:lnTo>
                  <a:lnTo>
                    <a:pt x="368" y="295"/>
                  </a:lnTo>
                  <a:lnTo>
                    <a:pt x="384" y="286"/>
                  </a:lnTo>
                  <a:lnTo>
                    <a:pt x="415" y="264"/>
                  </a:lnTo>
                  <a:lnTo>
                    <a:pt x="479" y="212"/>
                  </a:lnTo>
                  <a:lnTo>
                    <a:pt x="510" y="184"/>
                  </a:lnTo>
                  <a:lnTo>
                    <a:pt x="544" y="163"/>
                  </a:lnTo>
                  <a:lnTo>
                    <a:pt x="562" y="151"/>
                  </a:lnTo>
                  <a:lnTo>
                    <a:pt x="584" y="145"/>
                  </a:lnTo>
                  <a:lnTo>
                    <a:pt x="605" y="138"/>
                  </a:lnTo>
                  <a:lnTo>
                    <a:pt x="627" y="132"/>
                  </a:lnTo>
                  <a:lnTo>
                    <a:pt x="664" y="132"/>
                  </a:lnTo>
                  <a:lnTo>
                    <a:pt x="701" y="135"/>
                  </a:lnTo>
                  <a:lnTo>
                    <a:pt x="737" y="141"/>
                  </a:lnTo>
                  <a:lnTo>
                    <a:pt x="774" y="151"/>
                  </a:lnTo>
                  <a:lnTo>
                    <a:pt x="848" y="172"/>
                  </a:lnTo>
                  <a:lnTo>
                    <a:pt x="885" y="181"/>
                  </a:lnTo>
                  <a:lnTo>
                    <a:pt x="925" y="191"/>
                  </a:lnTo>
                  <a:lnTo>
                    <a:pt x="931" y="197"/>
                  </a:lnTo>
                  <a:lnTo>
                    <a:pt x="931" y="203"/>
                  </a:lnTo>
                  <a:lnTo>
                    <a:pt x="925" y="218"/>
                  </a:lnTo>
                  <a:lnTo>
                    <a:pt x="934" y="212"/>
                  </a:lnTo>
                  <a:lnTo>
                    <a:pt x="947" y="209"/>
                  </a:lnTo>
                  <a:lnTo>
                    <a:pt x="953" y="209"/>
                  </a:lnTo>
                  <a:lnTo>
                    <a:pt x="956" y="212"/>
                  </a:lnTo>
                  <a:lnTo>
                    <a:pt x="959" y="218"/>
                  </a:lnTo>
                  <a:lnTo>
                    <a:pt x="956" y="227"/>
                  </a:lnTo>
                  <a:lnTo>
                    <a:pt x="962" y="221"/>
                  </a:lnTo>
                  <a:lnTo>
                    <a:pt x="965" y="215"/>
                  </a:lnTo>
                  <a:lnTo>
                    <a:pt x="962" y="200"/>
                  </a:lnTo>
                  <a:lnTo>
                    <a:pt x="959" y="184"/>
                  </a:lnTo>
                  <a:lnTo>
                    <a:pt x="959" y="178"/>
                  </a:lnTo>
                  <a:lnTo>
                    <a:pt x="965" y="172"/>
                  </a:lnTo>
                  <a:lnTo>
                    <a:pt x="1005" y="172"/>
                  </a:lnTo>
                  <a:lnTo>
                    <a:pt x="1005" y="181"/>
                  </a:lnTo>
                  <a:lnTo>
                    <a:pt x="1002" y="188"/>
                  </a:lnTo>
                  <a:lnTo>
                    <a:pt x="999" y="194"/>
                  </a:lnTo>
                  <a:lnTo>
                    <a:pt x="996" y="200"/>
                  </a:lnTo>
                  <a:lnTo>
                    <a:pt x="1017" y="197"/>
                  </a:lnTo>
                  <a:lnTo>
                    <a:pt x="1039" y="191"/>
                  </a:lnTo>
                  <a:lnTo>
                    <a:pt x="1088" y="178"/>
                  </a:lnTo>
                  <a:lnTo>
                    <a:pt x="1116" y="175"/>
                  </a:lnTo>
                  <a:lnTo>
                    <a:pt x="1140" y="172"/>
                  </a:lnTo>
                  <a:lnTo>
                    <a:pt x="1168" y="172"/>
                  </a:lnTo>
                  <a:lnTo>
                    <a:pt x="1192" y="181"/>
                  </a:lnTo>
                  <a:lnTo>
                    <a:pt x="1202" y="181"/>
                  </a:lnTo>
                  <a:lnTo>
                    <a:pt x="1208" y="178"/>
                  </a:lnTo>
                  <a:lnTo>
                    <a:pt x="1214" y="169"/>
                  </a:lnTo>
                  <a:lnTo>
                    <a:pt x="1223" y="160"/>
                  </a:lnTo>
                  <a:lnTo>
                    <a:pt x="1226" y="154"/>
                  </a:lnTo>
                  <a:lnTo>
                    <a:pt x="1232" y="154"/>
                  </a:lnTo>
                  <a:lnTo>
                    <a:pt x="1263" y="154"/>
                  </a:lnTo>
                  <a:lnTo>
                    <a:pt x="1291" y="160"/>
                  </a:lnTo>
                  <a:lnTo>
                    <a:pt x="1343" y="181"/>
                  </a:lnTo>
                  <a:lnTo>
                    <a:pt x="1349" y="175"/>
                  </a:lnTo>
                  <a:lnTo>
                    <a:pt x="1349" y="172"/>
                  </a:lnTo>
                  <a:lnTo>
                    <a:pt x="1346" y="166"/>
                  </a:lnTo>
                  <a:lnTo>
                    <a:pt x="1340" y="163"/>
                  </a:lnTo>
                  <a:lnTo>
                    <a:pt x="1328" y="154"/>
                  </a:lnTo>
                  <a:lnTo>
                    <a:pt x="1322" y="148"/>
                  </a:lnTo>
                  <a:lnTo>
                    <a:pt x="1319" y="141"/>
                  </a:lnTo>
                  <a:lnTo>
                    <a:pt x="1328" y="126"/>
                  </a:lnTo>
                  <a:lnTo>
                    <a:pt x="1337" y="111"/>
                  </a:lnTo>
                  <a:lnTo>
                    <a:pt x="1349" y="98"/>
                  </a:lnTo>
                  <a:lnTo>
                    <a:pt x="1365" y="86"/>
                  </a:lnTo>
                  <a:lnTo>
                    <a:pt x="1380" y="83"/>
                  </a:lnTo>
                  <a:lnTo>
                    <a:pt x="1392" y="83"/>
                  </a:lnTo>
                  <a:lnTo>
                    <a:pt x="1408" y="89"/>
                  </a:lnTo>
                  <a:lnTo>
                    <a:pt x="1423" y="105"/>
                  </a:lnTo>
                  <a:lnTo>
                    <a:pt x="1420" y="141"/>
                  </a:lnTo>
                  <a:lnTo>
                    <a:pt x="1417" y="175"/>
                  </a:lnTo>
                  <a:lnTo>
                    <a:pt x="1414" y="191"/>
                  </a:lnTo>
                  <a:lnTo>
                    <a:pt x="1411" y="203"/>
                  </a:lnTo>
                  <a:lnTo>
                    <a:pt x="1402" y="215"/>
                  </a:lnTo>
                  <a:lnTo>
                    <a:pt x="1389" y="227"/>
                  </a:lnTo>
                  <a:lnTo>
                    <a:pt x="1402" y="227"/>
                  </a:lnTo>
                  <a:lnTo>
                    <a:pt x="1408" y="224"/>
                  </a:lnTo>
                  <a:lnTo>
                    <a:pt x="1420" y="212"/>
                  </a:lnTo>
                  <a:lnTo>
                    <a:pt x="1432" y="200"/>
                  </a:lnTo>
                  <a:lnTo>
                    <a:pt x="1445" y="191"/>
                  </a:lnTo>
                  <a:lnTo>
                    <a:pt x="1438" y="166"/>
                  </a:lnTo>
                  <a:lnTo>
                    <a:pt x="1432" y="138"/>
                  </a:lnTo>
                  <a:lnTo>
                    <a:pt x="1432" y="126"/>
                  </a:lnTo>
                  <a:lnTo>
                    <a:pt x="1435" y="114"/>
                  </a:lnTo>
                  <a:lnTo>
                    <a:pt x="1438" y="105"/>
                  </a:lnTo>
                  <a:lnTo>
                    <a:pt x="1445" y="95"/>
                  </a:lnTo>
                  <a:lnTo>
                    <a:pt x="1454" y="95"/>
                  </a:lnTo>
                  <a:lnTo>
                    <a:pt x="1457" y="95"/>
                  </a:lnTo>
                  <a:lnTo>
                    <a:pt x="1460" y="98"/>
                  </a:lnTo>
                  <a:lnTo>
                    <a:pt x="1463" y="105"/>
                  </a:lnTo>
                  <a:lnTo>
                    <a:pt x="1460" y="132"/>
                  </a:lnTo>
                  <a:lnTo>
                    <a:pt x="1469" y="135"/>
                  </a:lnTo>
                  <a:lnTo>
                    <a:pt x="1475" y="132"/>
                  </a:lnTo>
                  <a:lnTo>
                    <a:pt x="1481" y="126"/>
                  </a:lnTo>
                  <a:lnTo>
                    <a:pt x="1481" y="120"/>
                  </a:lnTo>
                  <a:lnTo>
                    <a:pt x="1485" y="105"/>
                  </a:lnTo>
                  <a:lnTo>
                    <a:pt x="1488" y="98"/>
                  </a:lnTo>
                  <a:lnTo>
                    <a:pt x="1494" y="95"/>
                  </a:lnTo>
                  <a:lnTo>
                    <a:pt x="1521" y="102"/>
                  </a:lnTo>
                  <a:lnTo>
                    <a:pt x="1546" y="114"/>
                  </a:lnTo>
                  <a:lnTo>
                    <a:pt x="1555" y="120"/>
                  </a:lnTo>
                  <a:lnTo>
                    <a:pt x="1564" y="129"/>
                  </a:lnTo>
                  <a:lnTo>
                    <a:pt x="1574" y="141"/>
                  </a:lnTo>
                  <a:lnTo>
                    <a:pt x="1580" y="154"/>
                  </a:lnTo>
                  <a:lnTo>
                    <a:pt x="1586" y="141"/>
                  </a:lnTo>
                  <a:lnTo>
                    <a:pt x="1586" y="132"/>
                  </a:lnTo>
                  <a:lnTo>
                    <a:pt x="1580" y="123"/>
                  </a:lnTo>
                  <a:lnTo>
                    <a:pt x="1571" y="117"/>
                  </a:lnTo>
                  <a:lnTo>
                    <a:pt x="1549" y="108"/>
                  </a:lnTo>
                  <a:lnTo>
                    <a:pt x="1540" y="102"/>
                  </a:lnTo>
                  <a:lnTo>
                    <a:pt x="1534" y="95"/>
                  </a:lnTo>
                  <a:lnTo>
                    <a:pt x="1534" y="86"/>
                  </a:lnTo>
                  <a:lnTo>
                    <a:pt x="1540" y="80"/>
                  </a:lnTo>
                  <a:lnTo>
                    <a:pt x="1546" y="77"/>
                  </a:lnTo>
                  <a:lnTo>
                    <a:pt x="1555" y="77"/>
                  </a:lnTo>
                  <a:lnTo>
                    <a:pt x="1574" y="80"/>
                  </a:lnTo>
                  <a:lnTo>
                    <a:pt x="1589" y="86"/>
                  </a:lnTo>
                  <a:lnTo>
                    <a:pt x="1604" y="80"/>
                  </a:lnTo>
                  <a:lnTo>
                    <a:pt x="1620" y="71"/>
                  </a:lnTo>
                  <a:lnTo>
                    <a:pt x="1651" y="52"/>
                  </a:lnTo>
                  <a:lnTo>
                    <a:pt x="1669" y="46"/>
                  </a:lnTo>
                  <a:lnTo>
                    <a:pt x="1684" y="40"/>
                  </a:lnTo>
                  <a:lnTo>
                    <a:pt x="1703" y="40"/>
                  </a:lnTo>
                  <a:lnTo>
                    <a:pt x="1721" y="49"/>
                  </a:lnTo>
                  <a:lnTo>
                    <a:pt x="1734" y="40"/>
                  </a:lnTo>
                  <a:lnTo>
                    <a:pt x="1746" y="34"/>
                  </a:lnTo>
                  <a:lnTo>
                    <a:pt x="1758" y="31"/>
                  </a:lnTo>
                  <a:lnTo>
                    <a:pt x="1767" y="22"/>
                  </a:lnTo>
                  <a:lnTo>
                    <a:pt x="1786" y="28"/>
                  </a:lnTo>
                  <a:lnTo>
                    <a:pt x="1804" y="31"/>
                  </a:lnTo>
                  <a:lnTo>
                    <a:pt x="1820" y="34"/>
                  </a:lnTo>
                  <a:lnTo>
                    <a:pt x="1835" y="31"/>
                  </a:lnTo>
                  <a:lnTo>
                    <a:pt x="1850" y="25"/>
                  </a:lnTo>
                  <a:lnTo>
                    <a:pt x="1866" y="19"/>
                  </a:lnTo>
                  <a:lnTo>
                    <a:pt x="1897" y="0"/>
                  </a:lnTo>
                  <a:lnTo>
                    <a:pt x="1915" y="12"/>
                  </a:lnTo>
                  <a:lnTo>
                    <a:pt x="1933" y="19"/>
                  </a:lnTo>
                  <a:lnTo>
                    <a:pt x="1955" y="19"/>
                  </a:lnTo>
                  <a:lnTo>
                    <a:pt x="1976" y="22"/>
                  </a:lnTo>
                  <a:lnTo>
                    <a:pt x="2020" y="22"/>
                  </a:lnTo>
                  <a:lnTo>
                    <a:pt x="2044" y="25"/>
                  </a:lnTo>
                  <a:lnTo>
                    <a:pt x="2069" y="31"/>
                  </a:lnTo>
                  <a:lnTo>
                    <a:pt x="2069" y="40"/>
                  </a:lnTo>
                  <a:lnTo>
                    <a:pt x="2069" y="46"/>
                  </a:lnTo>
                  <a:lnTo>
                    <a:pt x="2066" y="59"/>
                  </a:lnTo>
                  <a:lnTo>
                    <a:pt x="2056" y="65"/>
                  </a:lnTo>
                  <a:lnTo>
                    <a:pt x="2053" y="77"/>
                  </a:lnTo>
                  <a:lnTo>
                    <a:pt x="2121" y="83"/>
                  </a:lnTo>
                  <a:lnTo>
                    <a:pt x="2179" y="86"/>
                  </a:lnTo>
                  <a:lnTo>
                    <a:pt x="2235" y="83"/>
                  </a:lnTo>
                  <a:lnTo>
                    <a:pt x="2305" y="77"/>
                  </a:lnTo>
                  <a:lnTo>
                    <a:pt x="2302" y="98"/>
                  </a:lnTo>
                  <a:lnTo>
                    <a:pt x="2309" y="111"/>
                  </a:lnTo>
                  <a:lnTo>
                    <a:pt x="2321" y="132"/>
                  </a:lnTo>
                  <a:lnTo>
                    <a:pt x="2330" y="126"/>
                  </a:lnTo>
                  <a:lnTo>
                    <a:pt x="2339" y="123"/>
                  </a:lnTo>
                  <a:lnTo>
                    <a:pt x="2358" y="120"/>
                  </a:lnTo>
                  <a:lnTo>
                    <a:pt x="2382" y="117"/>
                  </a:lnTo>
                  <a:lnTo>
                    <a:pt x="2407" y="117"/>
                  </a:lnTo>
                  <a:lnTo>
                    <a:pt x="2428" y="117"/>
                  </a:lnTo>
                  <a:lnTo>
                    <a:pt x="2450" y="111"/>
                  </a:lnTo>
                  <a:lnTo>
                    <a:pt x="2459" y="105"/>
                  </a:lnTo>
                  <a:lnTo>
                    <a:pt x="2465" y="98"/>
                  </a:lnTo>
                  <a:lnTo>
                    <a:pt x="2475" y="89"/>
                  </a:lnTo>
                  <a:lnTo>
                    <a:pt x="2478" y="77"/>
                  </a:lnTo>
                  <a:lnTo>
                    <a:pt x="2475" y="71"/>
                  </a:lnTo>
                  <a:lnTo>
                    <a:pt x="2471" y="65"/>
                  </a:lnTo>
                  <a:lnTo>
                    <a:pt x="2456" y="59"/>
                  </a:lnTo>
                  <a:lnTo>
                    <a:pt x="2441" y="59"/>
                  </a:lnTo>
                  <a:lnTo>
                    <a:pt x="2422" y="59"/>
                  </a:lnTo>
                  <a:lnTo>
                    <a:pt x="2428" y="49"/>
                  </a:lnTo>
                  <a:lnTo>
                    <a:pt x="2435" y="40"/>
                  </a:lnTo>
                  <a:lnTo>
                    <a:pt x="2441" y="37"/>
                  </a:lnTo>
                  <a:lnTo>
                    <a:pt x="2447" y="31"/>
                  </a:lnTo>
                  <a:lnTo>
                    <a:pt x="2462" y="28"/>
                  </a:lnTo>
                  <a:lnTo>
                    <a:pt x="2481" y="28"/>
                  </a:lnTo>
                  <a:lnTo>
                    <a:pt x="2502" y="34"/>
                  </a:lnTo>
                  <a:lnTo>
                    <a:pt x="2521" y="37"/>
                  </a:lnTo>
                  <a:lnTo>
                    <a:pt x="2558" y="49"/>
                  </a:lnTo>
                  <a:lnTo>
                    <a:pt x="2558" y="59"/>
                  </a:lnTo>
                  <a:lnTo>
                    <a:pt x="2555" y="62"/>
                  </a:lnTo>
                  <a:lnTo>
                    <a:pt x="2548" y="65"/>
                  </a:lnTo>
                  <a:lnTo>
                    <a:pt x="2539" y="65"/>
                  </a:lnTo>
                  <a:lnTo>
                    <a:pt x="2527" y="68"/>
                  </a:lnTo>
                  <a:lnTo>
                    <a:pt x="2521" y="71"/>
                  </a:lnTo>
                  <a:lnTo>
                    <a:pt x="2518" y="77"/>
                  </a:lnTo>
                  <a:lnTo>
                    <a:pt x="2533" y="86"/>
                  </a:lnTo>
                  <a:lnTo>
                    <a:pt x="2551" y="92"/>
                  </a:lnTo>
                  <a:lnTo>
                    <a:pt x="2594" y="98"/>
                  </a:lnTo>
                  <a:lnTo>
                    <a:pt x="2616" y="102"/>
                  </a:lnTo>
                  <a:lnTo>
                    <a:pt x="2634" y="108"/>
                  </a:lnTo>
                  <a:lnTo>
                    <a:pt x="2650" y="117"/>
                  </a:lnTo>
                  <a:lnTo>
                    <a:pt x="2656" y="126"/>
                  </a:lnTo>
                  <a:lnTo>
                    <a:pt x="2659" y="132"/>
                  </a:lnTo>
                  <a:lnTo>
                    <a:pt x="2674" y="129"/>
                  </a:lnTo>
                  <a:lnTo>
                    <a:pt x="2693" y="126"/>
                  </a:lnTo>
                  <a:lnTo>
                    <a:pt x="2714" y="123"/>
                  </a:lnTo>
                  <a:lnTo>
                    <a:pt x="2733" y="123"/>
                  </a:lnTo>
                  <a:lnTo>
                    <a:pt x="2754" y="126"/>
                  </a:lnTo>
                  <a:lnTo>
                    <a:pt x="2770" y="132"/>
                  </a:lnTo>
                  <a:lnTo>
                    <a:pt x="2785" y="141"/>
                  </a:lnTo>
                  <a:lnTo>
                    <a:pt x="2794" y="154"/>
                  </a:lnTo>
                  <a:lnTo>
                    <a:pt x="2813" y="154"/>
                  </a:lnTo>
                  <a:lnTo>
                    <a:pt x="2834" y="154"/>
                  </a:lnTo>
                  <a:lnTo>
                    <a:pt x="2877" y="151"/>
                  </a:lnTo>
                  <a:lnTo>
                    <a:pt x="2899" y="151"/>
                  </a:lnTo>
                  <a:lnTo>
                    <a:pt x="2917" y="154"/>
                  </a:lnTo>
                  <a:lnTo>
                    <a:pt x="2933" y="160"/>
                  </a:lnTo>
                  <a:lnTo>
                    <a:pt x="2945" y="172"/>
                  </a:lnTo>
                  <a:lnTo>
                    <a:pt x="2948" y="163"/>
                  </a:lnTo>
                  <a:lnTo>
                    <a:pt x="2957" y="157"/>
                  </a:lnTo>
                  <a:lnTo>
                    <a:pt x="2976" y="151"/>
                  </a:lnTo>
                  <a:lnTo>
                    <a:pt x="2997" y="145"/>
                  </a:lnTo>
                  <a:lnTo>
                    <a:pt x="3022" y="148"/>
                  </a:lnTo>
                  <a:lnTo>
                    <a:pt x="3046" y="151"/>
                  </a:lnTo>
                  <a:lnTo>
                    <a:pt x="3071" y="157"/>
                  </a:lnTo>
                  <a:lnTo>
                    <a:pt x="3093" y="163"/>
                  </a:lnTo>
                  <a:lnTo>
                    <a:pt x="3108" y="172"/>
                  </a:lnTo>
                  <a:lnTo>
                    <a:pt x="3105" y="184"/>
                  </a:lnTo>
                  <a:lnTo>
                    <a:pt x="3105" y="200"/>
                  </a:lnTo>
                  <a:lnTo>
                    <a:pt x="3105" y="224"/>
                  </a:lnTo>
                  <a:lnTo>
                    <a:pt x="3105" y="237"/>
                  </a:lnTo>
                  <a:lnTo>
                    <a:pt x="3102" y="246"/>
                  </a:lnTo>
                  <a:lnTo>
                    <a:pt x="3093" y="252"/>
                  </a:lnTo>
                  <a:lnTo>
                    <a:pt x="3077" y="255"/>
                  </a:lnTo>
                  <a:lnTo>
                    <a:pt x="3080" y="264"/>
                  </a:lnTo>
                  <a:lnTo>
                    <a:pt x="3083" y="267"/>
                  </a:lnTo>
                  <a:lnTo>
                    <a:pt x="3093" y="277"/>
                  </a:lnTo>
                  <a:lnTo>
                    <a:pt x="3099" y="286"/>
                  </a:lnTo>
                  <a:lnTo>
                    <a:pt x="3102" y="295"/>
                  </a:lnTo>
                  <a:lnTo>
                    <a:pt x="3102" y="304"/>
                  </a:lnTo>
                  <a:lnTo>
                    <a:pt x="3086" y="298"/>
                  </a:lnTo>
                  <a:lnTo>
                    <a:pt x="3071" y="298"/>
                  </a:lnTo>
                  <a:lnTo>
                    <a:pt x="3059" y="298"/>
                  </a:lnTo>
                  <a:lnTo>
                    <a:pt x="3043" y="301"/>
                  </a:lnTo>
                  <a:lnTo>
                    <a:pt x="3019" y="310"/>
                  </a:lnTo>
                  <a:lnTo>
                    <a:pt x="2991" y="320"/>
                  </a:lnTo>
                  <a:lnTo>
                    <a:pt x="2963" y="332"/>
                  </a:lnTo>
                  <a:lnTo>
                    <a:pt x="2936" y="341"/>
                  </a:lnTo>
                  <a:lnTo>
                    <a:pt x="2920" y="344"/>
                  </a:lnTo>
                  <a:lnTo>
                    <a:pt x="2902" y="344"/>
                  </a:lnTo>
                  <a:lnTo>
                    <a:pt x="2883" y="344"/>
                  </a:lnTo>
                  <a:lnTo>
                    <a:pt x="2865" y="341"/>
                  </a:lnTo>
                  <a:lnTo>
                    <a:pt x="2856" y="347"/>
                  </a:lnTo>
                  <a:lnTo>
                    <a:pt x="2850" y="353"/>
                  </a:lnTo>
                  <a:lnTo>
                    <a:pt x="2844" y="366"/>
                  </a:lnTo>
                  <a:lnTo>
                    <a:pt x="2840" y="378"/>
                  </a:lnTo>
                  <a:lnTo>
                    <a:pt x="2837" y="409"/>
                  </a:lnTo>
                  <a:lnTo>
                    <a:pt x="2834" y="436"/>
                  </a:lnTo>
                  <a:lnTo>
                    <a:pt x="2816" y="446"/>
                  </a:lnTo>
                  <a:lnTo>
                    <a:pt x="2800" y="455"/>
                  </a:lnTo>
                  <a:lnTo>
                    <a:pt x="2773" y="482"/>
                  </a:lnTo>
                  <a:lnTo>
                    <a:pt x="2748" y="510"/>
                  </a:lnTo>
                  <a:lnTo>
                    <a:pt x="2724" y="538"/>
                  </a:lnTo>
                  <a:lnTo>
                    <a:pt x="2724" y="516"/>
                  </a:lnTo>
                  <a:lnTo>
                    <a:pt x="2724" y="489"/>
                  </a:lnTo>
                  <a:lnTo>
                    <a:pt x="2724" y="458"/>
                  </a:lnTo>
                  <a:lnTo>
                    <a:pt x="2721" y="442"/>
                  </a:lnTo>
                  <a:lnTo>
                    <a:pt x="2714" y="427"/>
                  </a:lnTo>
                  <a:lnTo>
                    <a:pt x="2721" y="409"/>
                  </a:lnTo>
                  <a:lnTo>
                    <a:pt x="2730" y="393"/>
                  </a:lnTo>
                  <a:lnTo>
                    <a:pt x="2739" y="381"/>
                  </a:lnTo>
                  <a:lnTo>
                    <a:pt x="2751" y="372"/>
                  </a:lnTo>
                  <a:lnTo>
                    <a:pt x="2779" y="353"/>
                  </a:lnTo>
                  <a:lnTo>
                    <a:pt x="2810" y="341"/>
                  </a:lnTo>
                  <a:lnTo>
                    <a:pt x="2794" y="323"/>
                  </a:lnTo>
                  <a:lnTo>
                    <a:pt x="2779" y="304"/>
                  </a:lnTo>
                  <a:lnTo>
                    <a:pt x="2754" y="317"/>
                  </a:lnTo>
                  <a:lnTo>
                    <a:pt x="2733" y="335"/>
                  </a:lnTo>
                  <a:lnTo>
                    <a:pt x="2714" y="353"/>
                  </a:lnTo>
                  <a:lnTo>
                    <a:pt x="2693" y="369"/>
                  </a:lnTo>
                  <a:lnTo>
                    <a:pt x="2671" y="363"/>
                  </a:lnTo>
                  <a:lnTo>
                    <a:pt x="2653" y="360"/>
                  </a:lnTo>
                  <a:lnTo>
                    <a:pt x="2631" y="356"/>
                  </a:lnTo>
                  <a:lnTo>
                    <a:pt x="2613" y="356"/>
                  </a:lnTo>
                  <a:lnTo>
                    <a:pt x="2570" y="360"/>
                  </a:lnTo>
                  <a:lnTo>
                    <a:pt x="2518" y="360"/>
                  </a:lnTo>
                  <a:lnTo>
                    <a:pt x="2493" y="381"/>
                  </a:lnTo>
                  <a:lnTo>
                    <a:pt x="2468" y="403"/>
                  </a:lnTo>
                  <a:lnTo>
                    <a:pt x="2444" y="421"/>
                  </a:lnTo>
                  <a:lnTo>
                    <a:pt x="2432" y="430"/>
                  </a:lnTo>
                  <a:lnTo>
                    <a:pt x="2416" y="436"/>
                  </a:lnTo>
                  <a:lnTo>
                    <a:pt x="2438" y="446"/>
                  </a:lnTo>
                  <a:lnTo>
                    <a:pt x="2465" y="452"/>
                  </a:lnTo>
                  <a:lnTo>
                    <a:pt x="2493" y="455"/>
                  </a:lnTo>
                  <a:lnTo>
                    <a:pt x="2527" y="455"/>
                  </a:lnTo>
                  <a:lnTo>
                    <a:pt x="2536" y="495"/>
                  </a:lnTo>
                  <a:lnTo>
                    <a:pt x="2542" y="532"/>
                  </a:lnTo>
                  <a:lnTo>
                    <a:pt x="2542" y="550"/>
                  </a:lnTo>
                  <a:lnTo>
                    <a:pt x="2539" y="568"/>
                  </a:lnTo>
                  <a:lnTo>
                    <a:pt x="2533" y="587"/>
                  </a:lnTo>
                  <a:lnTo>
                    <a:pt x="2527" y="605"/>
                  </a:lnTo>
                  <a:lnTo>
                    <a:pt x="2515" y="602"/>
                  </a:lnTo>
                  <a:lnTo>
                    <a:pt x="2508" y="596"/>
                  </a:lnTo>
                  <a:lnTo>
                    <a:pt x="2505" y="584"/>
                  </a:lnTo>
                  <a:lnTo>
                    <a:pt x="2502" y="572"/>
                  </a:lnTo>
                  <a:lnTo>
                    <a:pt x="2502" y="541"/>
                  </a:lnTo>
                  <a:lnTo>
                    <a:pt x="2502" y="510"/>
                  </a:lnTo>
                  <a:lnTo>
                    <a:pt x="2493" y="538"/>
                  </a:lnTo>
                  <a:lnTo>
                    <a:pt x="2481" y="562"/>
                  </a:lnTo>
                  <a:lnTo>
                    <a:pt x="2468" y="584"/>
                  </a:lnTo>
                  <a:lnTo>
                    <a:pt x="2450" y="602"/>
                  </a:lnTo>
                  <a:lnTo>
                    <a:pt x="2416" y="636"/>
                  </a:lnTo>
                  <a:lnTo>
                    <a:pt x="2382" y="670"/>
                  </a:lnTo>
                  <a:lnTo>
                    <a:pt x="2367" y="664"/>
                  </a:lnTo>
                  <a:lnTo>
                    <a:pt x="2355" y="664"/>
                  </a:lnTo>
                  <a:lnTo>
                    <a:pt x="2342" y="670"/>
                  </a:lnTo>
                  <a:lnTo>
                    <a:pt x="2330" y="679"/>
                  </a:lnTo>
                  <a:lnTo>
                    <a:pt x="2312" y="701"/>
                  </a:lnTo>
                  <a:lnTo>
                    <a:pt x="2302" y="713"/>
                  </a:lnTo>
                  <a:lnTo>
                    <a:pt x="2290" y="719"/>
                  </a:lnTo>
                  <a:lnTo>
                    <a:pt x="2290" y="728"/>
                  </a:lnTo>
                  <a:lnTo>
                    <a:pt x="2293" y="737"/>
                  </a:lnTo>
                  <a:lnTo>
                    <a:pt x="2302" y="750"/>
                  </a:lnTo>
                  <a:lnTo>
                    <a:pt x="2309" y="765"/>
                  </a:lnTo>
                  <a:lnTo>
                    <a:pt x="2312" y="774"/>
                  </a:lnTo>
                  <a:lnTo>
                    <a:pt x="2312" y="783"/>
                  </a:lnTo>
                  <a:lnTo>
                    <a:pt x="2305" y="805"/>
                  </a:lnTo>
                  <a:lnTo>
                    <a:pt x="2302" y="814"/>
                  </a:lnTo>
                  <a:lnTo>
                    <a:pt x="2296" y="820"/>
                  </a:lnTo>
                  <a:lnTo>
                    <a:pt x="2290" y="826"/>
                  </a:lnTo>
                  <a:lnTo>
                    <a:pt x="2281" y="830"/>
                  </a:lnTo>
                  <a:lnTo>
                    <a:pt x="2269" y="833"/>
                  </a:lnTo>
                  <a:lnTo>
                    <a:pt x="2256" y="833"/>
                  </a:lnTo>
                  <a:lnTo>
                    <a:pt x="2253" y="826"/>
                  </a:lnTo>
                  <a:lnTo>
                    <a:pt x="2253" y="820"/>
                  </a:lnTo>
                  <a:lnTo>
                    <a:pt x="2253" y="808"/>
                  </a:lnTo>
                  <a:lnTo>
                    <a:pt x="2259" y="799"/>
                  </a:lnTo>
                  <a:lnTo>
                    <a:pt x="2265" y="783"/>
                  </a:lnTo>
                  <a:lnTo>
                    <a:pt x="2259" y="777"/>
                  </a:lnTo>
                  <a:lnTo>
                    <a:pt x="2253" y="771"/>
                  </a:lnTo>
                  <a:lnTo>
                    <a:pt x="2241" y="765"/>
                  </a:lnTo>
                  <a:lnTo>
                    <a:pt x="2235" y="762"/>
                  </a:lnTo>
                  <a:lnTo>
                    <a:pt x="2232" y="753"/>
                  </a:lnTo>
                  <a:lnTo>
                    <a:pt x="2232" y="740"/>
                  </a:lnTo>
                  <a:lnTo>
                    <a:pt x="2235" y="719"/>
                  </a:lnTo>
                  <a:lnTo>
                    <a:pt x="2226" y="719"/>
                  </a:lnTo>
                  <a:lnTo>
                    <a:pt x="2219" y="722"/>
                  </a:lnTo>
                  <a:lnTo>
                    <a:pt x="2210" y="728"/>
                  </a:lnTo>
                  <a:lnTo>
                    <a:pt x="2201" y="734"/>
                  </a:lnTo>
                  <a:lnTo>
                    <a:pt x="2195" y="737"/>
                  </a:lnTo>
                  <a:lnTo>
                    <a:pt x="2186" y="737"/>
                  </a:lnTo>
                  <a:lnTo>
                    <a:pt x="2182" y="728"/>
                  </a:lnTo>
                  <a:lnTo>
                    <a:pt x="2182" y="722"/>
                  </a:lnTo>
                  <a:lnTo>
                    <a:pt x="2186" y="713"/>
                  </a:lnTo>
                  <a:lnTo>
                    <a:pt x="2186" y="701"/>
                  </a:lnTo>
                  <a:lnTo>
                    <a:pt x="2161" y="719"/>
                  </a:lnTo>
                  <a:lnTo>
                    <a:pt x="2130" y="737"/>
                  </a:lnTo>
                  <a:lnTo>
                    <a:pt x="2133" y="750"/>
                  </a:lnTo>
                  <a:lnTo>
                    <a:pt x="2139" y="756"/>
                  </a:lnTo>
                  <a:lnTo>
                    <a:pt x="2149" y="762"/>
                  </a:lnTo>
                  <a:lnTo>
                    <a:pt x="2161" y="765"/>
                  </a:lnTo>
                  <a:lnTo>
                    <a:pt x="2182" y="768"/>
                  </a:lnTo>
                  <a:lnTo>
                    <a:pt x="2195" y="771"/>
                  </a:lnTo>
                  <a:lnTo>
                    <a:pt x="2204" y="774"/>
                  </a:lnTo>
                  <a:lnTo>
                    <a:pt x="2195" y="790"/>
                  </a:lnTo>
                  <a:lnTo>
                    <a:pt x="2186" y="799"/>
                  </a:lnTo>
                  <a:lnTo>
                    <a:pt x="2164" y="814"/>
                  </a:lnTo>
                  <a:lnTo>
                    <a:pt x="2176" y="842"/>
                  </a:lnTo>
                  <a:lnTo>
                    <a:pt x="2189" y="866"/>
                  </a:lnTo>
                  <a:lnTo>
                    <a:pt x="2192" y="882"/>
                  </a:lnTo>
                  <a:lnTo>
                    <a:pt x="2195" y="900"/>
                  </a:lnTo>
                  <a:lnTo>
                    <a:pt x="2198" y="922"/>
                  </a:lnTo>
                  <a:lnTo>
                    <a:pt x="2195" y="946"/>
                  </a:lnTo>
                  <a:lnTo>
                    <a:pt x="2173" y="965"/>
                  </a:lnTo>
                  <a:lnTo>
                    <a:pt x="2158" y="983"/>
                  </a:lnTo>
                  <a:lnTo>
                    <a:pt x="2139" y="1005"/>
                  </a:lnTo>
                  <a:lnTo>
                    <a:pt x="2121" y="1026"/>
                  </a:lnTo>
                  <a:lnTo>
                    <a:pt x="2099" y="1045"/>
                  </a:lnTo>
                  <a:lnTo>
                    <a:pt x="2078" y="1057"/>
                  </a:lnTo>
                  <a:lnTo>
                    <a:pt x="2063" y="1063"/>
                  </a:lnTo>
                  <a:lnTo>
                    <a:pt x="2047" y="1066"/>
                  </a:lnTo>
                  <a:lnTo>
                    <a:pt x="2032" y="1069"/>
                  </a:lnTo>
                  <a:lnTo>
                    <a:pt x="2013" y="1069"/>
                  </a:lnTo>
                  <a:lnTo>
                    <a:pt x="2016" y="1097"/>
                  </a:lnTo>
                  <a:lnTo>
                    <a:pt x="2016" y="1121"/>
                  </a:lnTo>
                  <a:lnTo>
                    <a:pt x="2013" y="1131"/>
                  </a:lnTo>
                  <a:lnTo>
                    <a:pt x="2007" y="1137"/>
                  </a:lnTo>
                  <a:lnTo>
                    <a:pt x="1995" y="1143"/>
                  </a:lnTo>
                  <a:lnTo>
                    <a:pt x="1983" y="1143"/>
                  </a:lnTo>
                  <a:lnTo>
                    <a:pt x="1976" y="1134"/>
                  </a:lnTo>
                  <a:lnTo>
                    <a:pt x="1973" y="1124"/>
                  </a:lnTo>
                  <a:lnTo>
                    <a:pt x="1973" y="1115"/>
                  </a:lnTo>
                  <a:lnTo>
                    <a:pt x="1976" y="1106"/>
                  </a:lnTo>
                  <a:lnTo>
                    <a:pt x="1986" y="1088"/>
                  </a:lnTo>
                  <a:lnTo>
                    <a:pt x="1989" y="1078"/>
                  </a:lnTo>
                  <a:lnTo>
                    <a:pt x="1989" y="1069"/>
                  </a:lnTo>
                  <a:lnTo>
                    <a:pt x="1983" y="1063"/>
                  </a:lnTo>
                  <a:lnTo>
                    <a:pt x="1976" y="1063"/>
                  </a:lnTo>
                  <a:lnTo>
                    <a:pt x="1970" y="1066"/>
                  </a:lnTo>
                  <a:lnTo>
                    <a:pt x="1964" y="1072"/>
                  </a:lnTo>
                  <a:lnTo>
                    <a:pt x="1952" y="1091"/>
                  </a:lnTo>
                  <a:lnTo>
                    <a:pt x="1943" y="1106"/>
                  </a:lnTo>
                  <a:lnTo>
                    <a:pt x="1500" y="191"/>
                  </a:lnTo>
                  <a:lnTo>
                    <a:pt x="808" y="1465"/>
                  </a:lnTo>
                  <a:lnTo>
                    <a:pt x="796" y="1462"/>
                  </a:lnTo>
                  <a:lnTo>
                    <a:pt x="790" y="1465"/>
                  </a:lnTo>
                  <a:lnTo>
                    <a:pt x="784" y="1468"/>
                  </a:lnTo>
                  <a:lnTo>
                    <a:pt x="780" y="1472"/>
                  </a:lnTo>
                  <a:lnTo>
                    <a:pt x="774" y="1490"/>
                  </a:lnTo>
                  <a:lnTo>
                    <a:pt x="774" y="1511"/>
                  </a:lnTo>
                  <a:lnTo>
                    <a:pt x="784" y="1511"/>
                  </a:lnTo>
                  <a:lnTo>
                    <a:pt x="790" y="1508"/>
                  </a:lnTo>
                  <a:lnTo>
                    <a:pt x="796" y="1502"/>
                  </a:lnTo>
                  <a:lnTo>
                    <a:pt x="799" y="1496"/>
                  </a:lnTo>
                  <a:lnTo>
                    <a:pt x="805" y="1481"/>
                  </a:lnTo>
                  <a:lnTo>
                    <a:pt x="808" y="1465"/>
                  </a:lnTo>
                  <a:lnTo>
                    <a:pt x="1500" y="191"/>
                  </a:lnTo>
                  <a:lnTo>
                    <a:pt x="793" y="323"/>
                  </a:lnTo>
                  <a:lnTo>
                    <a:pt x="784" y="323"/>
                  </a:lnTo>
                  <a:lnTo>
                    <a:pt x="774" y="317"/>
                  </a:lnTo>
                  <a:lnTo>
                    <a:pt x="768" y="313"/>
                  </a:lnTo>
                  <a:lnTo>
                    <a:pt x="759" y="313"/>
                  </a:lnTo>
                  <a:lnTo>
                    <a:pt x="762" y="323"/>
                  </a:lnTo>
                  <a:lnTo>
                    <a:pt x="765" y="329"/>
                  </a:lnTo>
                  <a:lnTo>
                    <a:pt x="768" y="335"/>
                  </a:lnTo>
                  <a:lnTo>
                    <a:pt x="774" y="338"/>
                  </a:lnTo>
                  <a:lnTo>
                    <a:pt x="780" y="338"/>
                  </a:lnTo>
                  <a:lnTo>
                    <a:pt x="787" y="335"/>
                  </a:lnTo>
                  <a:lnTo>
                    <a:pt x="790" y="332"/>
                  </a:lnTo>
                  <a:lnTo>
                    <a:pt x="793" y="323"/>
                  </a:lnTo>
                  <a:lnTo>
                    <a:pt x="1500" y="191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18" name="Freeform 313"/>
            <p:cNvSpPr/>
            <p:nvPr/>
          </p:nvSpPr>
          <p:spPr>
            <a:xfrm>
              <a:off x="4004640" y="2544480"/>
              <a:ext cx="177120" cy="6948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50" h="59">
                  <a:moveTo>
                    <a:pt x="9" y="43"/>
                  </a:moveTo>
                  <a:lnTo>
                    <a:pt x="6" y="34"/>
                  </a:lnTo>
                  <a:lnTo>
                    <a:pt x="3" y="25"/>
                  </a:lnTo>
                  <a:lnTo>
                    <a:pt x="0" y="19"/>
                  </a:lnTo>
                  <a:lnTo>
                    <a:pt x="0" y="6"/>
                  </a:lnTo>
                  <a:lnTo>
                    <a:pt x="36" y="3"/>
                  </a:lnTo>
                  <a:lnTo>
                    <a:pt x="80" y="0"/>
                  </a:lnTo>
                  <a:lnTo>
                    <a:pt x="98" y="0"/>
                  </a:lnTo>
                  <a:lnTo>
                    <a:pt x="119" y="3"/>
                  </a:lnTo>
                  <a:lnTo>
                    <a:pt x="135" y="6"/>
                  </a:lnTo>
                  <a:lnTo>
                    <a:pt x="150" y="16"/>
                  </a:lnTo>
                  <a:lnTo>
                    <a:pt x="138" y="37"/>
                  </a:lnTo>
                  <a:lnTo>
                    <a:pt x="126" y="49"/>
                  </a:lnTo>
                  <a:lnTo>
                    <a:pt x="107" y="56"/>
                  </a:lnTo>
                  <a:lnTo>
                    <a:pt x="89" y="59"/>
                  </a:lnTo>
                  <a:lnTo>
                    <a:pt x="70" y="59"/>
                  </a:lnTo>
                  <a:lnTo>
                    <a:pt x="49" y="56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19" name="Freeform 314"/>
            <p:cNvSpPr/>
            <p:nvPr/>
          </p:nvSpPr>
          <p:spPr>
            <a:xfrm>
              <a:off x="3109680" y="2021760"/>
              <a:ext cx="1024560" cy="674640"/>
            </a:xfrm>
            <a:custGeom>
              <a:avLst/>
              <a:gdLst>
                <a:gd name="textAreaLeft" fmla="*/ 0 w 1024560"/>
                <a:gd name="textAreaRight" fmla="*/ 1024920 w 10245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67" h="571">
                  <a:moveTo>
                    <a:pt x="686" y="344"/>
                  </a:moveTo>
                  <a:lnTo>
                    <a:pt x="680" y="350"/>
                  </a:lnTo>
                  <a:lnTo>
                    <a:pt x="680" y="356"/>
                  </a:lnTo>
                  <a:lnTo>
                    <a:pt x="683" y="359"/>
                  </a:lnTo>
                  <a:lnTo>
                    <a:pt x="686" y="366"/>
                  </a:lnTo>
                  <a:lnTo>
                    <a:pt x="701" y="375"/>
                  </a:lnTo>
                  <a:lnTo>
                    <a:pt x="710" y="384"/>
                  </a:lnTo>
                  <a:lnTo>
                    <a:pt x="692" y="396"/>
                  </a:lnTo>
                  <a:lnTo>
                    <a:pt x="670" y="402"/>
                  </a:lnTo>
                  <a:lnTo>
                    <a:pt x="621" y="415"/>
                  </a:lnTo>
                  <a:lnTo>
                    <a:pt x="600" y="421"/>
                  </a:lnTo>
                  <a:lnTo>
                    <a:pt x="578" y="430"/>
                  </a:lnTo>
                  <a:lnTo>
                    <a:pt x="560" y="442"/>
                  </a:lnTo>
                  <a:lnTo>
                    <a:pt x="551" y="448"/>
                  </a:lnTo>
                  <a:lnTo>
                    <a:pt x="544" y="458"/>
                  </a:lnTo>
                  <a:lnTo>
                    <a:pt x="529" y="455"/>
                  </a:lnTo>
                  <a:lnTo>
                    <a:pt x="517" y="452"/>
                  </a:lnTo>
                  <a:lnTo>
                    <a:pt x="508" y="455"/>
                  </a:lnTo>
                  <a:lnTo>
                    <a:pt x="495" y="458"/>
                  </a:lnTo>
                  <a:lnTo>
                    <a:pt x="489" y="461"/>
                  </a:lnTo>
                  <a:lnTo>
                    <a:pt x="480" y="470"/>
                  </a:lnTo>
                  <a:lnTo>
                    <a:pt x="468" y="488"/>
                  </a:lnTo>
                  <a:lnTo>
                    <a:pt x="443" y="531"/>
                  </a:lnTo>
                  <a:lnTo>
                    <a:pt x="431" y="553"/>
                  </a:lnTo>
                  <a:lnTo>
                    <a:pt x="418" y="571"/>
                  </a:lnTo>
                  <a:lnTo>
                    <a:pt x="406" y="571"/>
                  </a:lnTo>
                  <a:lnTo>
                    <a:pt x="400" y="565"/>
                  </a:lnTo>
                  <a:lnTo>
                    <a:pt x="394" y="556"/>
                  </a:lnTo>
                  <a:lnTo>
                    <a:pt x="394" y="544"/>
                  </a:lnTo>
                  <a:lnTo>
                    <a:pt x="385" y="547"/>
                  </a:lnTo>
                  <a:lnTo>
                    <a:pt x="375" y="547"/>
                  </a:lnTo>
                  <a:lnTo>
                    <a:pt x="366" y="547"/>
                  </a:lnTo>
                  <a:lnTo>
                    <a:pt x="357" y="544"/>
                  </a:lnTo>
                  <a:lnTo>
                    <a:pt x="341" y="531"/>
                  </a:lnTo>
                  <a:lnTo>
                    <a:pt x="326" y="516"/>
                  </a:lnTo>
                  <a:lnTo>
                    <a:pt x="302" y="479"/>
                  </a:lnTo>
                  <a:lnTo>
                    <a:pt x="289" y="464"/>
                  </a:lnTo>
                  <a:lnTo>
                    <a:pt x="277" y="448"/>
                  </a:lnTo>
                  <a:lnTo>
                    <a:pt x="277" y="424"/>
                  </a:lnTo>
                  <a:lnTo>
                    <a:pt x="277" y="415"/>
                  </a:lnTo>
                  <a:lnTo>
                    <a:pt x="280" y="412"/>
                  </a:lnTo>
                  <a:lnTo>
                    <a:pt x="283" y="412"/>
                  </a:lnTo>
                  <a:lnTo>
                    <a:pt x="283" y="409"/>
                  </a:lnTo>
                  <a:lnTo>
                    <a:pt x="280" y="405"/>
                  </a:lnTo>
                  <a:lnTo>
                    <a:pt x="271" y="402"/>
                  </a:lnTo>
                  <a:lnTo>
                    <a:pt x="265" y="399"/>
                  </a:lnTo>
                  <a:lnTo>
                    <a:pt x="262" y="396"/>
                  </a:lnTo>
                  <a:lnTo>
                    <a:pt x="262" y="393"/>
                  </a:lnTo>
                  <a:lnTo>
                    <a:pt x="258" y="381"/>
                  </a:lnTo>
                  <a:lnTo>
                    <a:pt x="262" y="372"/>
                  </a:lnTo>
                  <a:lnTo>
                    <a:pt x="262" y="362"/>
                  </a:lnTo>
                  <a:lnTo>
                    <a:pt x="268" y="359"/>
                  </a:lnTo>
                  <a:lnTo>
                    <a:pt x="274" y="356"/>
                  </a:lnTo>
                  <a:lnTo>
                    <a:pt x="280" y="353"/>
                  </a:lnTo>
                  <a:lnTo>
                    <a:pt x="298" y="353"/>
                  </a:lnTo>
                  <a:lnTo>
                    <a:pt x="292" y="341"/>
                  </a:lnTo>
                  <a:lnTo>
                    <a:pt x="286" y="338"/>
                  </a:lnTo>
                  <a:lnTo>
                    <a:pt x="280" y="341"/>
                  </a:lnTo>
                  <a:lnTo>
                    <a:pt x="271" y="347"/>
                  </a:lnTo>
                  <a:lnTo>
                    <a:pt x="265" y="353"/>
                  </a:lnTo>
                  <a:lnTo>
                    <a:pt x="258" y="359"/>
                  </a:lnTo>
                  <a:lnTo>
                    <a:pt x="252" y="359"/>
                  </a:lnTo>
                  <a:lnTo>
                    <a:pt x="243" y="353"/>
                  </a:lnTo>
                  <a:lnTo>
                    <a:pt x="243" y="307"/>
                  </a:lnTo>
                  <a:lnTo>
                    <a:pt x="231" y="295"/>
                  </a:lnTo>
                  <a:lnTo>
                    <a:pt x="219" y="283"/>
                  </a:lnTo>
                  <a:lnTo>
                    <a:pt x="203" y="276"/>
                  </a:lnTo>
                  <a:lnTo>
                    <a:pt x="188" y="270"/>
                  </a:lnTo>
                  <a:lnTo>
                    <a:pt x="154" y="264"/>
                  </a:lnTo>
                  <a:lnTo>
                    <a:pt x="120" y="261"/>
                  </a:lnTo>
                  <a:lnTo>
                    <a:pt x="86" y="261"/>
                  </a:lnTo>
                  <a:lnTo>
                    <a:pt x="56" y="258"/>
                  </a:lnTo>
                  <a:lnTo>
                    <a:pt x="40" y="255"/>
                  </a:lnTo>
                  <a:lnTo>
                    <a:pt x="25" y="249"/>
                  </a:lnTo>
                  <a:lnTo>
                    <a:pt x="13" y="243"/>
                  </a:lnTo>
                  <a:lnTo>
                    <a:pt x="0" y="230"/>
                  </a:lnTo>
                  <a:lnTo>
                    <a:pt x="34" y="215"/>
                  </a:lnTo>
                  <a:lnTo>
                    <a:pt x="71" y="197"/>
                  </a:lnTo>
                  <a:lnTo>
                    <a:pt x="86" y="187"/>
                  </a:lnTo>
                  <a:lnTo>
                    <a:pt x="99" y="175"/>
                  </a:lnTo>
                  <a:lnTo>
                    <a:pt x="111" y="157"/>
                  </a:lnTo>
                  <a:lnTo>
                    <a:pt x="117" y="138"/>
                  </a:lnTo>
                  <a:lnTo>
                    <a:pt x="129" y="138"/>
                  </a:lnTo>
                  <a:lnTo>
                    <a:pt x="142" y="138"/>
                  </a:lnTo>
                  <a:lnTo>
                    <a:pt x="148" y="135"/>
                  </a:lnTo>
                  <a:lnTo>
                    <a:pt x="157" y="129"/>
                  </a:lnTo>
                  <a:lnTo>
                    <a:pt x="166" y="117"/>
                  </a:lnTo>
                  <a:lnTo>
                    <a:pt x="172" y="98"/>
                  </a:lnTo>
                  <a:lnTo>
                    <a:pt x="185" y="95"/>
                  </a:lnTo>
                  <a:lnTo>
                    <a:pt x="200" y="95"/>
                  </a:lnTo>
                  <a:lnTo>
                    <a:pt x="225" y="95"/>
                  </a:lnTo>
                  <a:lnTo>
                    <a:pt x="268" y="104"/>
                  </a:lnTo>
                  <a:lnTo>
                    <a:pt x="289" y="104"/>
                  </a:lnTo>
                  <a:lnTo>
                    <a:pt x="295" y="101"/>
                  </a:lnTo>
                  <a:lnTo>
                    <a:pt x="305" y="98"/>
                  </a:lnTo>
                  <a:lnTo>
                    <a:pt x="311" y="92"/>
                  </a:lnTo>
                  <a:lnTo>
                    <a:pt x="317" y="83"/>
                  </a:lnTo>
                  <a:lnTo>
                    <a:pt x="320" y="68"/>
                  </a:lnTo>
                  <a:lnTo>
                    <a:pt x="323" y="52"/>
                  </a:lnTo>
                  <a:lnTo>
                    <a:pt x="326" y="49"/>
                  </a:lnTo>
                  <a:lnTo>
                    <a:pt x="332" y="52"/>
                  </a:lnTo>
                  <a:lnTo>
                    <a:pt x="338" y="58"/>
                  </a:lnTo>
                  <a:lnTo>
                    <a:pt x="348" y="71"/>
                  </a:lnTo>
                  <a:lnTo>
                    <a:pt x="354" y="71"/>
                  </a:lnTo>
                  <a:lnTo>
                    <a:pt x="357" y="65"/>
                  </a:lnTo>
                  <a:lnTo>
                    <a:pt x="360" y="55"/>
                  </a:lnTo>
                  <a:lnTo>
                    <a:pt x="363" y="46"/>
                  </a:lnTo>
                  <a:lnTo>
                    <a:pt x="366" y="40"/>
                  </a:lnTo>
                  <a:lnTo>
                    <a:pt x="369" y="34"/>
                  </a:lnTo>
                  <a:lnTo>
                    <a:pt x="388" y="25"/>
                  </a:lnTo>
                  <a:lnTo>
                    <a:pt x="415" y="15"/>
                  </a:lnTo>
                  <a:lnTo>
                    <a:pt x="452" y="9"/>
                  </a:lnTo>
                  <a:lnTo>
                    <a:pt x="492" y="3"/>
                  </a:lnTo>
                  <a:lnTo>
                    <a:pt x="532" y="0"/>
                  </a:lnTo>
                  <a:lnTo>
                    <a:pt x="572" y="0"/>
                  </a:lnTo>
                  <a:lnTo>
                    <a:pt x="606" y="6"/>
                  </a:lnTo>
                  <a:lnTo>
                    <a:pt x="618" y="9"/>
                  </a:lnTo>
                  <a:lnTo>
                    <a:pt x="631" y="15"/>
                  </a:lnTo>
                  <a:lnTo>
                    <a:pt x="627" y="25"/>
                  </a:lnTo>
                  <a:lnTo>
                    <a:pt x="624" y="28"/>
                  </a:lnTo>
                  <a:lnTo>
                    <a:pt x="621" y="34"/>
                  </a:lnTo>
                  <a:lnTo>
                    <a:pt x="640" y="28"/>
                  </a:lnTo>
                  <a:lnTo>
                    <a:pt x="661" y="25"/>
                  </a:lnTo>
                  <a:lnTo>
                    <a:pt x="710" y="25"/>
                  </a:lnTo>
                  <a:lnTo>
                    <a:pt x="720" y="55"/>
                  </a:lnTo>
                  <a:lnTo>
                    <a:pt x="729" y="83"/>
                  </a:lnTo>
                  <a:lnTo>
                    <a:pt x="741" y="108"/>
                  </a:lnTo>
                  <a:lnTo>
                    <a:pt x="747" y="120"/>
                  </a:lnTo>
                  <a:lnTo>
                    <a:pt x="757" y="129"/>
                  </a:lnTo>
                  <a:lnTo>
                    <a:pt x="772" y="126"/>
                  </a:lnTo>
                  <a:lnTo>
                    <a:pt x="787" y="117"/>
                  </a:lnTo>
                  <a:lnTo>
                    <a:pt x="815" y="98"/>
                  </a:lnTo>
                  <a:lnTo>
                    <a:pt x="827" y="92"/>
                  </a:lnTo>
                  <a:lnTo>
                    <a:pt x="840" y="89"/>
                  </a:lnTo>
                  <a:lnTo>
                    <a:pt x="846" y="92"/>
                  </a:lnTo>
                  <a:lnTo>
                    <a:pt x="852" y="95"/>
                  </a:lnTo>
                  <a:lnTo>
                    <a:pt x="867" y="111"/>
                  </a:lnTo>
                  <a:lnTo>
                    <a:pt x="858" y="126"/>
                  </a:lnTo>
                  <a:lnTo>
                    <a:pt x="849" y="141"/>
                  </a:lnTo>
                  <a:lnTo>
                    <a:pt x="833" y="151"/>
                  </a:lnTo>
                  <a:lnTo>
                    <a:pt x="821" y="160"/>
                  </a:lnTo>
                  <a:lnTo>
                    <a:pt x="806" y="172"/>
                  </a:lnTo>
                  <a:lnTo>
                    <a:pt x="793" y="181"/>
                  </a:lnTo>
                  <a:lnTo>
                    <a:pt x="781" y="197"/>
                  </a:lnTo>
                  <a:lnTo>
                    <a:pt x="772" y="212"/>
                  </a:lnTo>
                  <a:lnTo>
                    <a:pt x="772" y="221"/>
                  </a:lnTo>
                  <a:lnTo>
                    <a:pt x="772" y="227"/>
                  </a:lnTo>
                  <a:lnTo>
                    <a:pt x="775" y="230"/>
                  </a:lnTo>
                  <a:lnTo>
                    <a:pt x="778" y="233"/>
                  </a:lnTo>
                  <a:lnTo>
                    <a:pt x="787" y="237"/>
                  </a:lnTo>
                  <a:lnTo>
                    <a:pt x="797" y="243"/>
                  </a:lnTo>
                  <a:lnTo>
                    <a:pt x="790" y="249"/>
                  </a:lnTo>
                  <a:lnTo>
                    <a:pt x="787" y="255"/>
                  </a:lnTo>
                  <a:lnTo>
                    <a:pt x="781" y="276"/>
                  </a:lnTo>
                  <a:lnTo>
                    <a:pt x="778" y="298"/>
                  </a:lnTo>
                  <a:lnTo>
                    <a:pt x="772" y="316"/>
                  </a:lnTo>
                  <a:lnTo>
                    <a:pt x="726" y="316"/>
                  </a:lnTo>
                  <a:lnTo>
                    <a:pt x="726" y="338"/>
                  </a:lnTo>
                  <a:lnTo>
                    <a:pt x="732" y="353"/>
                  </a:lnTo>
                  <a:lnTo>
                    <a:pt x="732" y="369"/>
                  </a:lnTo>
                  <a:lnTo>
                    <a:pt x="729" y="375"/>
                  </a:lnTo>
                  <a:lnTo>
                    <a:pt x="726" y="384"/>
                  </a:lnTo>
                  <a:lnTo>
                    <a:pt x="717" y="384"/>
                  </a:lnTo>
                  <a:lnTo>
                    <a:pt x="710" y="381"/>
                  </a:lnTo>
                  <a:lnTo>
                    <a:pt x="704" y="375"/>
                  </a:lnTo>
                  <a:lnTo>
                    <a:pt x="701" y="369"/>
                  </a:lnTo>
                  <a:lnTo>
                    <a:pt x="695" y="356"/>
                  </a:lnTo>
                  <a:lnTo>
                    <a:pt x="692" y="350"/>
                  </a:lnTo>
                  <a:lnTo>
                    <a:pt x="686" y="344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20" name="Rectangle 315"/>
            <p:cNvSpPr/>
            <p:nvPr/>
          </p:nvSpPr>
          <p:spPr>
            <a:xfrm>
              <a:off x="3223080" y="3601080"/>
              <a:ext cx="24480" cy="32760"/>
            </a:xfrm>
            <a:prstGeom prst="rect">
              <a:avLst/>
            </a:pr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21" name="Freeform 316"/>
            <p:cNvSpPr/>
            <p:nvPr/>
          </p:nvSpPr>
          <p:spPr>
            <a:xfrm>
              <a:off x="3092040" y="3576240"/>
              <a:ext cx="101160" cy="576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86" h="49">
                  <a:moveTo>
                    <a:pt x="0" y="30"/>
                  </a:moveTo>
                  <a:lnTo>
                    <a:pt x="0" y="24"/>
                  </a:lnTo>
                  <a:lnTo>
                    <a:pt x="6" y="15"/>
                  </a:lnTo>
                  <a:lnTo>
                    <a:pt x="18" y="6"/>
                  </a:lnTo>
                  <a:lnTo>
                    <a:pt x="34" y="0"/>
                  </a:lnTo>
                  <a:lnTo>
                    <a:pt x="49" y="0"/>
                  </a:lnTo>
                  <a:lnTo>
                    <a:pt x="64" y="6"/>
                  </a:lnTo>
                  <a:lnTo>
                    <a:pt x="80" y="15"/>
                  </a:lnTo>
                  <a:lnTo>
                    <a:pt x="83" y="21"/>
                  </a:lnTo>
                  <a:lnTo>
                    <a:pt x="86" y="27"/>
                  </a:lnTo>
                  <a:lnTo>
                    <a:pt x="86" y="40"/>
                  </a:lnTo>
                  <a:lnTo>
                    <a:pt x="86" y="49"/>
                  </a:lnTo>
                  <a:lnTo>
                    <a:pt x="46" y="43"/>
                  </a:lnTo>
                  <a:lnTo>
                    <a:pt x="24" y="4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22" name="Freeform 317"/>
            <p:cNvSpPr/>
            <p:nvPr/>
          </p:nvSpPr>
          <p:spPr>
            <a:xfrm>
              <a:off x="3008160" y="3623400"/>
              <a:ext cx="36360" cy="316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1" h="27">
                  <a:moveTo>
                    <a:pt x="31" y="9"/>
                  </a:moveTo>
                  <a:lnTo>
                    <a:pt x="28" y="15"/>
                  </a:lnTo>
                  <a:lnTo>
                    <a:pt x="28" y="21"/>
                  </a:lnTo>
                  <a:lnTo>
                    <a:pt x="22" y="24"/>
                  </a:lnTo>
                  <a:lnTo>
                    <a:pt x="19" y="27"/>
                  </a:lnTo>
                  <a:lnTo>
                    <a:pt x="9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" y="6"/>
                  </a:lnTo>
                  <a:lnTo>
                    <a:pt x="6" y="3"/>
                  </a:lnTo>
                  <a:lnTo>
                    <a:pt x="12" y="0"/>
                  </a:lnTo>
                  <a:lnTo>
                    <a:pt x="22" y="3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23" name="Freeform 318"/>
            <p:cNvSpPr/>
            <p:nvPr/>
          </p:nvSpPr>
          <p:spPr>
            <a:xfrm>
              <a:off x="2895840" y="3503160"/>
              <a:ext cx="177120" cy="6948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50" h="59">
                  <a:moveTo>
                    <a:pt x="150" y="56"/>
                  </a:moveTo>
                  <a:lnTo>
                    <a:pt x="141" y="59"/>
                  </a:lnTo>
                  <a:lnTo>
                    <a:pt x="132" y="59"/>
                  </a:lnTo>
                  <a:lnTo>
                    <a:pt x="117" y="59"/>
                  </a:lnTo>
                  <a:lnTo>
                    <a:pt x="101" y="49"/>
                  </a:lnTo>
                  <a:lnTo>
                    <a:pt x="86" y="40"/>
                  </a:lnTo>
                  <a:lnTo>
                    <a:pt x="67" y="31"/>
                  </a:lnTo>
                  <a:lnTo>
                    <a:pt x="49" y="22"/>
                  </a:lnTo>
                  <a:lnTo>
                    <a:pt x="24" y="22"/>
                  </a:lnTo>
                  <a:lnTo>
                    <a:pt x="12" y="22"/>
                  </a:lnTo>
                  <a:lnTo>
                    <a:pt x="0" y="25"/>
                  </a:lnTo>
                  <a:lnTo>
                    <a:pt x="9" y="16"/>
                  </a:lnTo>
                  <a:lnTo>
                    <a:pt x="15" y="9"/>
                  </a:lnTo>
                  <a:lnTo>
                    <a:pt x="24" y="3"/>
                  </a:lnTo>
                  <a:lnTo>
                    <a:pt x="34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74" y="9"/>
                  </a:lnTo>
                  <a:lnTo>
                    <a:pt x="95" y="19"/>
                  </a:lnTo>
                  <a:lnTo>
                    <a:pt x="114" y="31"/>
                  </a:lnTo>
                  <a:lnTo>
                    <a:pt x="150" y="56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24" name="Freeform 319"/>
            <p:cNvSpPr/>
            <p:nvPr/>
          </p:nvSpPr>
          <p:spPr>
            <a:xfrm>
              <a:off x="3008160" y="3467520"/>
              <a:ext cx="25560" cy="208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22" h="18">
                  <a:moveTo>
                    <a:pt x="22" y="0"/>
                  </a:moveTo>
                  <a:lnTo>
                    <a:pt x="19" y="9"/>
                  </a:lnTo>
                  <a:lnTo>
                    <a:pt x="16" y="15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6"/>
                  </a:lnTo>
                  <a:lnTo>
                    <a:pt x="6" y="3"/>
                  </a:lnTo>
                  <a:lnTo>
                    <a:pt x="1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25" name="Freeform 320"/>
            <p:cNvSpPr/>
            <p:nvPr/>
          </p:nvSpPr>
          <p:spPr>
            <a:xfrm>
              <a:off x="2960640" y="2638800"/>
              <a:ext cx="21960" cy="21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9" h="19">
                  <a:moveTo>
                    <a:pt x="0" y="12"/>
                  </a:moveTo>
                  <a:lnTo>
                    <a:pt x="6" y="3"/>
                  </a:lnTo>
                  <a:lnTo>
                    <a:pt x="12" y="0"/>
                  </a:lnTo>
                  <a:lnTo>
                    <a:pt x="19" y="3"/>
                  </a:lnTo>
                  <a:lnTo>
                    <a:pt x="19" y="9"/>
                  </a:lnTo>
                  <a:lnTo>
                    <a:pt x="19" y="16"/>
                  </a:lnTo>
                  <a:lnTo>
                    <a:pt x="16" y="19"/>
                  </a:lnTo>
                  <a:lnTo>
                    <a:pt x="9" y="1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26" name="Rectangle 321"/>
            <p:cNvSpPr/>
            <p:nvPr/>
          </p:nvSpPr>
          <p:spPr>
            <a:xfrm>
              <a:off x="2913480" y="2621160"/>
              <a:ext cx="18720" cy="20880"/>
            </a:xfrm>
            <a:prstGeom prst="rect">
              <a:avLst/>
            </a:pr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lnSpc>
                  <a:spcPct val="100000"/>
                </a:lnSpc>
              </a:pPr>
              <a:endParaRPr b="0" lang="id-ID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27" name="Freeform 322"/>
            <p:cNvSpPr/>
            <p:nvPr/>
          </p:nvSpPr>
          <p:spPr>
            <a:xfrm>
              <a:off x="2680560" y="2341080"/>
              <a:ext cx="39960" cy="219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19">
                  <a:moveTo>
                    <a:pt x="31" y="0"/>
                  </a:moveTo>
                  <a:lnTo>
                    <a:pt x="34" y="10"/>
                  </a:lnTo>
                  <a:lnTo>
                    <a:pt x="31" y="16"/>
                  </a:lnTo>
                  <a:lnTo>
                    <a:pt x="28" y="19"/>
                  </a:lnTo>
                  <a:lnTo>
                    <a:pt x="25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28" name="Freeform 323"/>
            <p:cNvSpPr/>
            <p:nvPr/>
          </p:nvSpPr>
          <p:spPr>
            <a:xfrm>
              <a:off x="2680560" y="2370600"/>
              <a:ext cx="83520" cy="3636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1" h="31">
                  <a:moveTo>
                    <a:pt x="0" y="31"/>
                  </a:moveTo>
                  <a:lnTo>
                    <a:pt x="7" y="18"/>
                  </a:lnTo>
                  <a:lnTo>
                    <a:pt x="13" y="9"/>
                  </a:lnTo>
                  <a:lnTo>
                    <a:pt x="22" y="3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2" y="6"/>
                  </a:lnTo>
                  <a:lnTo>
                    <a:pt x="71" y="12"/>
                  </a:lnTo>
                  <a:lnTo>
                    <a:pt x="68" y="21"/>
                  </a:lnTo>
                  <a:lnTo>
                    <a:pt x="62" y="28"/>
                  </a:lnTo>
                  <a:lnTo>
                    <a:pt x="56" y="31"/>
                  </a:lnTo>
                  <a:lnTo>
                    <a:pt x="43" y="31"/>
                  </a:lnTo>
                  <a:lnTo>
                    <a:pt x="22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29" name="Freeform 324"/>
            <p:cNvSpPr/>
            <p:nvPr/>
          </p:nvSpPr>
          <p:spPr>
            <a:xfrm>
              <a:off x="2652120" y="2272320"/>
              <a:ext cx="327240" cy="979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77" h="83">
                  <a:moveTo>
                    <a:pt x="0" y="0"/>
                  </a:moveTo>
                  <a:lnTo>
                    <a:pt x="21" y="3"/>
                  </a:lnTo>
                  <a:lnTo>
                    <a:pt x="40" y="6"/>
                  </a:lnTo>
                  <a:lnTo>
                    <a:pt x="55" y="12"/>
                  </a:lnTo>
                  <a:lnTo>
                    <a:pt x="71" y="21"/>
                  </a:lnTo>
                  <a:lnTo>
                    <a:pt x="98" y="40"/>
                  </a:lnTo>
                  <a:lnTo>
                    <a:pt x="126" y="58"/>
                  </a:lnTo>
                  <a:lnTo>
                    <a:pt x="166" y="58"/>
                  </a:lnTo>
                  <a:lnTo>
                    <a:pt x="206" y="55"/>
                  </a:lnTo>
                  <a:lnTo>
                    <a:pt x="246" y="58"/>
                  </a:lnTo>
                  <a:lnTo>
                    <a:pt x="261" y="61"/>
                  </a:lnTo>
                  <a:lnTo>
                    <a:pt x="277" y="68"/>
                  </a:lnTo>
                  <a:lnTo>
                    <a:pt x="261" y="74"/>
                  </a:lnTo>
                  <a:lnTo>
                    <a:pt x="243" y="77"/>
                  </a:lnTo>
                  <a:lnTo>
                    <a:pt x="206" y="83"/>
                  </a:lnTo>
                  <a:lnTo>
                    <a:pt x="166" y="80"/>
                  </a:lnTo>
                  <a:lnTo>
                    <a:pt x="126" y="74"/>
                  </a:lnTo>
                  <a:lnTo>
                    <a:pt x="86" y="61"/>
                  </a:lnTo>
                  <a:lnTo>
                    <a:pt x="52" y="46"/>
                  </a:lnTo>
                  <a:lnTo>
                    <a:pt x="34" y="37"/>
                  </a:lnTo>
                  <a:lnTo>
                    <a:pt x="21" y="25"/>
                  </a:lnTo>
                  <a:lnTo>
                    <a:pt x="9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30" name="Freeform 325"/>
            <p:cNvSpPr/>
            <p:nvPr/>
          </p:nvSpPr>
          <p:spPr>
            <a:xfrm>
              <a:off x="2561040" y="2384640"/>
              <a:ext cx="101160" cy="648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6" h="55">
                  <a:moveTo>
                    <a:pt x="0" y="0"/>
                  </a:moveTo>
                  <a:lnTo>
                    <a:pt x="86" y="0"/>
                  </a:lnTo>
                  <a:lnTo>
                    <a:pt x="86" y="22"/>
                  </a:lnTo>
                  <a:lnTo>
                    <a:pt x="83" y="34"/>
                  </a:lnTo>
                  <a:lnTo>
                    <a:pt x="71" y="55"/>
                  </a:lnTo>
                  <a:lnTo>
                    <a:pt x="61" y="49"/>
                  </a:lnTo>
                  <a:lnTo>
                    <a:pt x="52" y="43"/>
                  </a:lnTo>
                  <a:lnTo>
                    <a:pt x="28" y="34"/>
                  </a:lnTo>
                  <a:lnTo>
                    <a:pt x="18" y="31"/>
                  </a:lnTo>
                  <a:lnTo>
                    <a:pt x="9" y="22"/>
                  </a:lnTo>
                  <a:lnTo>
                    <a:pt x="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31" name="Freeform 326"/>
            <p:cNvSpPr/>
            <p:nvPr/>
          </p:nvSpPr>
          <p:spPr>
            <a:xfrm>
              <a:off x="2521080" y="2319840"/>
              <a:ext cx="123840" cy="54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5" h="46">
                  <a:moveTo>
                    <a:pt x="49" y="18"/>
                  </a:moveTo>
                  <a:lnTo>
                    <a:pt x="40" y="18"/>
                  </a:lnTo>
                  <a:lnTo>
                    <a:pt x="34" y="21"/>
                  </a:lnTo>
                  <a:lnTo>
                    <a:pt x="25" y="31"/>
                  </a:lnTo>
                  <a:lnTo>
                    <a:pt x="16" y="43"/>
                  </a:lnTo>
                  <a:lnTo>
                    <a:pt x="9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105" y="15"/>
                  </a:lnTo>
                  <a:lnTo>
                    <a:pt x="102" y="28"/>
                  </a:lnTo>
                  <a:lnTo>
                    <a:pt x="92" y="34"/>
                  </a:lnTo>
                  <a:lnTo>
                    <a:pt x="83" y="37"/>
                  </a:lnTo>
                  <a:lnTo>
                    <a:pt x="74" y="34"/>
                  </a:lnTo>
                  <a:lnTo>
                    <a:pt x="65" y="31"/>
                  </a:lnTo>
                  <a:lnTo>
                    <a:pt x="55" y="24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32" name="Freeform 327"/>
            <p:cNvSpPr/>
            <p:nvPr/>
          </p:nvSpPr>
          <p:spPr>
            <a:xfrm>
              <a:off x="2503440" y="2251080"/>
              <a:ext cx="122400" cy="457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04" h="39">
                  <a:moveTo>
                    <a:pt x="0" y="0"/>
                  </a:moveTo>
                  <a:lnTo>
                    <a:pt x="34" y="0"/>
                  </a:lnTo>
                  <a:lnTo>
                    <a:pt x="64" y="0"/>
                  </a:lnTo>
                  <a:lnTo>
                    <a:pt x="77" y="3"/>
                  </a:lnTo>
                  <a:lnTo>
                    <a:pt x="89" y="9"/>
                  </a:lnTo>
                  <a:lnTo>
                    <a:pt x="98" y="15"/>
                  </a:lnTo>
                  <a:lnTo>
                    <a:pt x="104" y="27"/>
                  </a:lnTo>
                  <a:lnTo>
                    <a:pt x="101" y="33"/>
                  </a:lnTo>
                  <a:lnTo>
                    <a:pt x="98" y="36"/>
                  </a:lnTo>
                  <a:lnTo>
                    <a:pt x="86" y="39"/>
                  </a:lnTo>
                  <a:lnTo>
                    <a:pt x="70" y="39"/>
                  </a:lnTo>
                  <a:lnTo>
                    <a:pt x="52" y="36"/>
                  </a:lnTo>
                  <a:lnTo>
                    <a:pt x="34" y="33"/>
                  </a:lnTo>
                  <a:lnTo>
                    <a:pt x="18" y="24"/>
                  </a:lnTo>
                  <a:lnTo>
                    <a:pt x="6" y="12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33" name="Freeform 328"/>
            <p:cNvSpPr/>
            <p:nvPr/>
          </p:nvSpPr>
          <p:spPr>
            <a:xfrm>
              <a:off x="2354400" y="2261880"/>
              <a:ext cx="64800" cy="468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55" h="40">
                  <a:moveTo>
                    <a:pt x="0" y="40"/>
                  </a:moveTo>
                  <a:lnTo>
                    <a:pt x="3" y="27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8" y="6"/>
                  </a:lnTo>
                  <a:lnTo>
                    <a:pt x="34" y="3"/>
                  </a:lnTo>
                  <a:lnTo>
                    <a:pt x="55" y="0"/>
                  </a:lnTo>
                  <a:lnTo>
                    <a:pt x="55" y="40"/>
                  </a:lnTo>
                  <a:lnTo>
                    <a:pt x="40" y="34"/>
                  </a:lnTo>
                  <a:lnTo>
                    <a:pt x="27" y="30"/>
                  </a:lnTo>
                  <a:lnTo>
                    <a:pt x="15" y="3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34" name="Freeform 329"/>
            <p:cNvSpPr/>
            <p:nvPr/>
          </p:nvSpPr>
          <p:spPr>
            <a:xfrm>
              <a:off x="1340280" y="2286720"/>
              <a:ext cx="2485440" cy="2970000"/>
            </a:xfrm>
            <a:custGeom>
              <a:avLst/>
              <a:gdLst>
                <a:gd name="textAreaLeft" fmla="*/ 0 w 2485440"/>
                <a:gd name="textAreaRight" fmla="*/ 2485800 w 2485440"/>
                <a:gd name="textAreaTop" fmla="*/ 0 h 2970000"/>
                <a:gd name="textAreaBottom" fmla="*/ 2970360 h 2970000"/>
              </a:gdLst>
              <a:ahLst/>
              <a:rect l="textAreaLeft" t="textAreaTop" r="textAreaRight" b="textAreaBottom"/>
              <a:pathLst>
                <a:path w="2103" h="2513">
                  <a:moveTo>
                    <a:pt x="1285" y="688"/>
                  </a:moveTo>
                  <a:lnTo>
                    <a:pt x="1285" y="664"/>
                  </a:lnTo>
                  <a:lnTo>
                    <a:pt x="1291" y="639"/>
                  </a:lnTo>
                  <a:lnTo>
                    <a:pt x="1300" y="618"/>
                  </a:lnTo>
                  <a:lnTo>
                    <a:pt x="1313" y="602"/>
                  </a:lnTo>
                  <a:lnTo>
                    <a:pt x="1319" y="599"/>
                  </a:lnTo>
                  <a:lnTo>
                    <a:pt x="1325" y="596"/>
                  </a:lnTo>
                  <a:lnTo>
                    <a:pt x="1331" y="596"/>
                  </a:lnTo>
                  <a:lnTo>
                    <a:pt x="1337" y="599"/>
                  </a:lnTo>
                  <a:lnTo>
                    <a:pt x="1340" y="605"/>
                  </a:lnTo>
                  <a:lnTo>
                    <a:pt x="1343" y="618"/>
                  </a:lnTo>
                  <a:lnTo>
                    <a:pt x="1347" y="630"/>
                  </a:lnTo>
                  <a:lnTo>
                    <a:pt x="1347" y="648"/>
                  </a:lnTo>
                  <a:lnTo>
                    <a:pt x="1359" y="645"/>
                  </a:lnTo>
                  <a:lnTo>
                    <a:pt x="1365" y="639"/>
                  </a:lnTo>
                  <a:lnTo>
                    <a:pt x="1368" y="630"/>
                  </a:lnTo>
                  <a:lnTo>
                    <a:pt x="1368" y="621"/>
                  </a:lnTo>
                  <a:lnTo>
                    <a:pt x="1371" y="615"/>
                  </a:lnTo>
                  <a:lnTo>
                    <a:pt x="1371" y="605"/>
                  </a:lnTo>
                  <a:lnTo>
                    <a:pt x="1377" y="602"/>
                  </a:lnTo>
                  <a:lnTo>
                    <a:pt x="1387" y="602"/>
                  </a:lnTo>
                  <a:lnTo>
                    <a:pt x="1362" y="593"/>
                  </a:lnTo>
                  <a:lnTo>
                    <a:pt x="1331" y="587"/>
                  </a:lnTo>
                  <a:lnTo>
                    <a:pt x="1316" y="584"/>
                  </a:lnTo>
                  <a:lnTo>
                    <a:pt x="1304" y="584"/>
                  </a:lnTo>
                  <a:lnTo>
                    <a:pt x="1288" y="587"/>
                  </a:lnTo>
                  <a:lnTo>
                    <a:pt x="1276" y="593"/>
                  </a:lnTo>
                  <a:lnTo>
                    <a:pt x="1276" y="618"/>
                  </a:lnTo>
                  <a:lnTo>
                    <a:pt x="1276" y="645"/>
                  </a:lnTo>
                  <a:lnTo>
                    <a:pt x="1276" y="670"/>
                  </a:lnTo>
                  <a:lnTo>
                    <a:pt x="1279" y="679"/>
                  </a:lnTo>
                  <a:lnTo>
                    <a:pt x="1285" y="688"/>
                  </a:lnTo>
                  <a:lnTo>
                    <a:pt x="1316" y="565"/>
                  </a:lnTo>
                  <a:lnTo>
                    <a:pt x="1310" y="547"/>
                  </a:lnTo>
                  <a:lnTo>
                    <a:pt x="1297" y="538"/>
                  </a:lnTo>
                  <a:lnTo>
                    <a:pt x="1285" y="532"/>
                  </a:lnTo>
                  <a:lnTo>
                    <a:pt x="1270" y="532"/>
                  </a:lnTo>
                  <a:lnTo>
                    <a:pt x="1254" y="535"/>
                  </a:lnTo>
                  <a:lnTo>
                    <a:pt x="1242" y="541"/>
                  </a:lnTo>
                  <a:lnTo>
                    <a:pt x="1230" y="553"/>
                  </a:lnTo>
                  <a:lnTo>
                    <a:pt x="1221" y="565"/>
                  </a:lnTo>
                  <a:lnTo>
                    <a:pt x="1233" y="559"/>
                  </a:lnTo>
                  <a:lnTo>
                    <a:pt x="1245" y="559"/>
                  </a:lnTo>
                  <a:lnTo>
                    <a:pt x="1267" y="559"/>
                  </a:lnTo>
                  <a:lnTo>
                    <a:pt x="1288" y="562"/>
                  </a:lnTo>
                  <a:lnTo>
                    <a:pt x="1316" y="565"/>
                  </a:lnTo>
                  <a:lnTo>
                    <a:pt x="1285" y="688"/>
                  </a:lnTo>
                  <a:lnTo>
                    <a:pt x="1875" y="1462"/>
                  </a:lnTo>
                  <a:lnTo>
                    <a:pt x="1903" y="1481"/>
                  </a:lnTo>
                  <a:lnTo>
                    <a:pt x="1934" y="1493"/>
                  </a:lnTo>
                  <a:lnTo>
                    <a:pt x="1998" y="1518"/>
                  </a:lnTo>
                  <a:lnTo>
                    <a:pt x="2029" y="1530"/>
                  </a:lnTo>
                  <a:lnTo>
                    <a:pt x="2057" y="1548"/>
                  </a:lnTo>
                  <a:lnTo>
                    <a:pt x="2084" y="1567"/>
                  </a:lnTo>
                  <a:lnTo>
                    <a:pt x="2094" y="1579"/>
                  </a:lnTo>
                  <a:lnTo>
                    <a:pt x="2103" y="1594"/>
                  </a:lnTo>
                  <a:lnTo>
                    <a:pt x="2103" y="1619"/>
                  </a:lnTo>
                  <a:lnTo>
                    <a:pt x="2097" y="1641"/>
                  </a:lnTo>
                  <a:lnTo>
                    <a:pt x="2088" y="1659"/>
                  </a:lnTo>
                  <a:lnTo>
                    <a:pt x="2078" y="1674"/>
                  </a:lnTo>
                  <a:lnTo>
                    <a:pt x="2054" y="1705"/>
                  </a:lnTo>
                  <a:lnTo>
                    <a:pt x="2044" y="1717"/>
                  </a:lnTo>
                  <a:lnTo>
                    <a:pt x="2032" y="1736"/>
                  </a:lnTo>
                  <a:lnTo>
                    <a:pt x="2035" y="1760"/>
                  </a:lnTo>
                  <a:lnTo>
                    <a:pt x="2035" y="1782"/>
                  </a:lnTo>
                  <a:lnTo>
                    <a:pt x="2032" y="1803"/>
                  </a:lnTo>
                  <a:lnTo>
                    <a:pt x="2026" y="1825"/>
                  </a:lnTo>
                  <a:lnTo>
                    <a:pt x="2014" y="1862"/>
                  </a:lnTo>
                  <a:lnTo>
                    <a:pt x="1992" y="1905"/>
                  </a:lnTo>
                  <a:lnTo>
                    <a:pt x="1974" y="1905"/>
                  </a:lnTo>
                  <a:lnTo>
                    <a:pt x="1958" y="1908"/>
                  </a:lnTo>
                  <a:lnTo>
                    <a:pt x="1943" y="1911"/>
                  </a:lnTo>
                  <a:lnTo>
                    <a:pt x="1931" y="1917"/>
                  </a:lnTo>
                  <a:lnTo>
                    <a:pt x="1906" y="1935"/>
                  </a:lnTo>
                  <a:lnTo>
                    <a:pt x="1885" y="1951"/>
                  </a:lnTo>
                  <a:lnTo>
                    <a:pt x="1882" y="1966"/>
                  </a:lnTo>
                  <a:lnTo>
                    <a:pt x="1885" y="1975"/>
                  </a:lnTo>
                  <a:lnTo>
                    <a:pt x="1891" y="1985"/>
                  </a:lnTo>
                  <a:lnTo>
                    <a:pt x="1891" y="2000"/>
                  </a:lnTo>
                  <a:lnTo>
                    <a:pt x="1882" y="2006"/>
                  </a:lnTo>
                  <a:lnTo>
                    <a:pt x="1872" y="2012"/>
                  </a:lnTo>
                  <a:lnTo>
                    <a:pt x="1857" y="2031"/>
                  </a:lnTo>
                  <a:lnTo>
                    <a:pt x="1832" y="2077"/>
                  </a:lnTo>
                  <a:lnTo>
                    <a:pt x="1820" y="2098"/>
                  </a:lnTo>
                  <a:lnTo>
                    <a:pt x="1805" y="2117"/>
                  </a:lnTo>
                  <a:lnTo>
                    <a:pt x="1795" y="2123"/>
                  </a:lnTo>
                  <a:lnTo>
                    <a:pt x="1783" y="2126"/>
                  </a:lnTo>
                  <a:lnTo>
                    <a:pt x="1771" y="2129"/>
                  </a:lnTo>
                  <a:lnTo>
                    <a:pt x="1759" y="2132"/>
                  </a:lnTo>
                  <a:lnTo>
                    <a:pt x="1755" y="2147"/>
                  </a:lnTo>
                  <a:lnTo>
                    <a:pt x="1749" y="2166"/>
                  </a:lnTo>
                  <a:lnTo>
                    <a:pt x="1734" y="2206"/>
                  </a:lnTo>
                  <a:lnTo>
                    <a:pt x="1722" y="2206"/>
                  </a:lnTo>
                  <a:lnTo>
                    <a:pt x="1706" y="2206"/>
                  </a:lnTo>
                  <a:lnTo>
                    <a:pt x="1682" y="2206"/>
                  </a:lnTo>
                  <a:lnTo>
                    <a:pt x="1669" y="2209"/>
                  </a:lnTo>
                  <a:lnTo>
                    <a:pt x="1663" y="2215"/>
                  </a:lnTo>
                  <a:lnTo>
                    <a:pt x="1660" y="2227"/>
                  </a:lnTo>
                  <a:lnTo>
                    <a:pt x="1663" y="2246"/>
                  </a:lnTo>
                  <a:lnTo>
                    <a:pt x="1651" y="2246"/>
                  </a:lnTo>
                  <a:lnTo>
                    <a:pt x="1639" y="2243"/>
                  </a:lnTo>
                  <a:lnTo>
                    <a:pt x="1629" y="2240"/>
                  </a:lnTo>
                  <a:lnTo>
                    <a:pt x="1623" y="2233"/>
                  </a:lnTo>
                  <a:lnTo>
                    <a:pt x="1623" y="2249"/>
                  </a:lnTo>
                  <a:lnTo>
                    <a:pt x="1629" y="2258"/>
                  </a:lnTo>
                  <a:lnTo>
                    <a:pt x="1636" y="2261"/>
                  </a:lnTo>
                  <a:lnTo>
                    <a:pt x="1648" y="2264"/>
                  </a:lnTo>
                  <a:lnTo>
                    <a:pt x="1633" y="2286"/>
                  </a:lnTo>
                  <a:lnTo>
                    <a:pt x="1617" y="2304"/>
                  </a:lnTo>
                  <a:lnTo>
                    <a:pt x="1602" y="2322"/>
                  </a:lnTo>
                  <a:lnTo>
                    <a:pt x="1583" y="2338"/>
                  </a:lnTo>
                  <a:lnTo>
                    <a:pt x="1589" y="2344"/>
                  </a:lnTo>
                  <a:lnTo>
                    <a:pt x="1596" y="2347"/>
                  </a:lnTo>
                  <a:lnTo>
                    <a:pt x="1614" y="2347"/>
                  </a:lnTo>
                  <a:lnTo>
                    <a:pt x="1614" y="2365"/>
                  </a:lnTo>
                  <a:lnTo>
                    <a:pt x="1611" y="2378"/>
                  </a:lnTo>
                  <a:lnTo>
                    <a:pt x="1602" y="2390"/>
                  </a:lnTo>
                  <a:lnTo>
                    <a:pt x="1593" y="2399"/>
                  </a:lnTo>
                  <a:lnTo>
                    <a:pt x="1574" y="2415"/>
                  </a:lnTo>
                  <a:lnTo>
                    <a:pt x="1568" y="2421"/>
                  </a:lnTo>
                  <a:lnTo>
                    <a:pt x="1559" y="2433"/>
                  </a:lnTo>
                  <a:lnTo>
                    <a:pt x="1568" y="2458"/>
                  </a:lnTo>
                  <a:lnTo>
                    <a:pt x="1574" y="2467"/>
                  </a:lnTo>
                  <a:lnTo>
                    <a:pt x="1583" y="2476"/>
                  </a:lnTo>
                  <a:lnTo>
                    <a:pt x="1593" y="2482"/>
                  </a:lnTo>
                  <a:lnTo>
                    <a:pt x="1602" y="2488"/>
                  </a:lnTo>
                  <a:lnTo>
                    <a:pt x="1614" y="2491"/>
                  </a:lnTo>
                  <a:lnTo>
                    <a:pt x="1629" y="2488"/>
                  </a:lnTo>
                  <a:lnTo>
                    <a:pt x="1608" y="2504"/>
                  </a:lnTo>
                  <a:lnTo>
                    <a:pt x="1583" y="2513"/>
                  </a:lnTo>
                  <a:lnTo>
                    <a:pt x="1562" y="2513"/>
                  </a:lnTo>
                  <a:lnTo>
                    <a:pt x="1540" y="2510"/>
                  </a:lnTo>
                  <a:lnTo>
                    <a:pt x="1522" y="2504"/>
                  </a:lnTo>
                  <a:lnTo>
                    <a:pt x="1506" y="2491"/>
                  </a:lnTo>
                  <a:lnTo>
                    <a:pt x="1491" y="2473"/>
                  </a:lnTo>
                  <a:lnTo>
                    <a:pt x="1476" y="2455"/>
                  </a:lnTo>
                  <a:lnTo>
                    <a:pt x="1466" y="2433"/>
                  </a:lnTo>
                  <a:lnTo>
                    <a:pt x="1460" y="2412"/>
                  </a:lnTo>
                  <a:lnTo>
                    <a:pt x="1454" y="2390"/>
                  </a:lnTo>
                  <a:lnTo>
                    <a:pt x="1454" y="2365"/>
                  </a:lnTo>
                  <a:lnTo>
                    <a:pt x="1457" y="2341"/>
                  </a:lnTo>
                  <a:lnTo>
                    <a:pt x="1463" y="2319"/>
                  </a:lnTo>
                  <a:lnTo>
                    <a:pt x="1476" y="2301"/>
                  </a:lnTo>
                  <a:lnTo>
                    <a:pt x="1488" y="2283"/>
                  </a:lnTo>
                  <a:lnTo>
                    <a:pt x="1488" y="2249"/>
                  </a:lnTo>
                  <a:lnTo>
                    <a:pt x="1485" y="2221"/>
                  </a:lnTo>
                  <a:lnTo>
                    <a:pt x="1491" y="2163"/>
                  </a:lnTo>
                  <a:lnTo>
                    <a:pt x="1500" y="2107"/>
                  </a:lnTo>
                  <a:lnTo>
                    <a:pt x="1513" y="2052"/>
                  </a:lnTo>
                  <a:lnTo>
                    <a:pt x="1525" y="1997"/>
                  </a:lnTo>
                  <a:lnTo>
                    <a:pt x="1534" y="1942"/>
                  </a:lnTo>
                  <a:lnTo>
                    <a:pt x="1540" y="1883"/>
                  </a:lnTo>
                  <a:lnTo>
                    <a:pt x="1540" y="1853"/>
                  </a:lnTo>
                  <a:lnTo>
                    <a:pt x="1537" y="1819"/>
                  </a:lnTo>
                  <a:lnTo>
                    <a:pt x="1528" y="1806"/>
                  </a:lnTo>
                  <a:lnTo>
                    <a:pt x="1519" y="1794"/>
                  </a:lnTo>
                  <a:lnTo>
                    <a:pt x="1506" y="1785"/>
                  </a:lnTo>
                  <a:lnTo>
                    <a:pt x="1491" y="1779"/>
                  </a:lnTo>
                  <a:lnTo>
                    <a:pt x="1466" y="1763"/>
                  </a:lnTo>
                  <a:lnTo>
                    <a:pt x="1454" y="1754"/>
                  </a:lnTo>
                  <a:lnTo>
                    <a:pt x="1442" y="1745"/>
                  </a:lnTo>
                  <a:lnTo>
                    <a:pt x="1427" y="1696"/>
                  </a:lnTo>
                  <a:lnTo>
                    <a:pt x="1411" y="1650"/>
                  </a:lnTo>
                  <a:lnTo>
                    <a:pt x="1402" y="1628"/>
                  </a:lnTo>
                  <a:lnTo>
                    <a:pt x="1390" y="1607"/>
                  </a:lnTo>
                  <a:lnTo>
                    <a:pt x="1377" y="1588"/>
                  </a:lnTo>
                  <a:lnTo>
                    <a:pt x="1362" y="1573"/>
                  </a:lnTo>
                  <a:lnTo>
                    <a:pt x="1365" y="1561"/>
                  </a:lnTo>
                  <a:lnTo>
                    <a:pt x="1368" y="1548"/>
                  </a:lnTo>
                  <a:lnTo>
                    <a:pt x="1374" y="1527"/>
                  </a:lnTo>
                  <a:lnTo>
                    <a:pt x="1377" y="1518"/>
                  </a:lnTo>
                  <a:lnTo>
                    <a:pt x="1377" y="1508"/>
                  </a:lnTo>
                  <a:lnTo>
                    <a:pt x="1371" y="1499"/>
                  </a:lnTo>
                  <a:lnTo>
                    <a:pt x="1362" y="1490"/>
                  </a:lnTo>
                  <a:lnTo>
                    <a:pt x="1393" y="1453"/>
                  </a:lnTo>
                  <a:lnTo>
                    <a:pt x="1405" y="1432"/>
                  </a:lnTo>
                  <a:lnTo>
                    <a:pt x="1417" y="1410"/>
                  </a:lnTo>
                  <a:lnTo>
                    <a:pt x="1423" y="1386"/>
                  </a:lnTo>
                  <a:lnTo>
                    <a:pt x="1423" y="1361"/>
                  </a:lnTo>
                  <a:lnTo>
                    <a:pt x="1420" y="1349"/>
                  </a:lnTo>
                  <a:lnTo>
                    <a:pt x="1417" y="1336"/>
                  </a:lnTo>
                  <a:lnTo>
                    <a:pt x="1411" y="1321"/>
                  </a:lnTo>
                  <a:lnTo>
                    <a:pt x="1402" y="1309"/>
                  </a:lnTo>
                  <a:lnTo>
                    <a:pt x="1393" y="1309"/>
                  </a:lnTo>
                  <a:lnTo>
                    <a:pt x="1390" y="1312"/>
                  </a:lnTo>
                  <a:lnTo>
                    <a:pt x="1383" y="1324"/>
                  </a:lnTo>
                  <a:lnTo>
                    <a:pt x="1380" y="1333"/>
                  </a:lnTo>
                  <a:lnTo>
                    <a:pt x="1377" y="1336"/>
                  </a:lnTo>
                  <a:lnTo>
                    <a:pt x="1371" y="1340"/>
                  </a:lnTo>
                  <a:lnTo>
                    <a:pt x="1362" y="1340"/>
                  </a:lnTo>
                  <a:lnTo>
                    <a:pt x="1334" y="1315"/>
                  </a:lnTo>
                  <a:lnTo>
                    <a:pt x="1307" y="1290"/>
                  </a:lnTo>
                  <a:lnTo>
                    <a:pt x="1294" y="1278"/>
                  </a:lnTo>
                  <a:lnTo>
                    <a:pt x="1285" y="1263"/>
                  </a:lnTo>
                  <a:lnTo>
                    <a:pt x="1276" y="1244"/>
                  </a:lnTo>
                  <a:lnTo>
                    <a:pt x="1270" y="1226"/>
                  </a:lnTo>
                  <a:lnTo>
                    <a:pt x="1248" y="1226"/>
                  </a:lnTo>
                  <a:lnTo>
                    <a:pt x="1230" y="1223"/>
                  </a:lnTo>
                  <a:lnTo>
                    <a:pt x="1217" y="1217"/>
                  </a:lnTo>
                  <a:lnTo>
                    <a:pt x="1202" y="1211"/>
                  </a:lnTo>
                  <a:lnTo>
                    <a:pt x="1181" y="1189"/>
                  </a:lnTo>
                  <a:lnTo>
                    <a:pt x="1159" y="1168"/>
                  </a:lnTo>
                  <a:lnTo>
                    <a:pt x="1150" y="1168"/>
                  </a:lnTo>
                  <a:lnTo>
                    <a:pt x="1144" y="1171"/>
                  </a:lnTo>
                  <a:lnTo>
                    <a:pt x="1137" y="1177"/>
                  </a:lnTo>
                  <a:lnTo>
                    <a:pt x="1131" y="1186"/>
                  </a:lnTo>
                  <a:lnTo>
                    <a:pt x="1125" y="1189"/>
                  </a:lnTo>
                  <a:lnTo>
                    <a:pt x="1119" y="1186"/>
                  </a:lnTo>
                  <a:lnTo>
                    <a:pt x="1082" y="1164"/>
                  </a:lnTo>
                  <a:lnTo>
                    <a:pt x="1045" y="1140"/>
                  </a:lnTo>
                  <a:lnTo>
                    <a:pt x="1008" y="1112"/>
                  </a:lnTo>
                  <a:lnTo>
                    <a:pt x="993" y="1100"/>
                  </a:lnTo>
                  <a:lnTo>
                    <a:pt x="978" y="1085"/>
                  </a:lnTo>
                  <a:lnTo>
                    <a:pt x="968" y="1048"/>
                  </a:lnTo>
                  <a:lnTo>
                    <a:pt x="956" y="1020"/>
                  </a:lnTo>
                  <a:lnTo>
                    <a:pt x="938" y="995"/>
                  </a:lnTo>
                  <a:lnTo>
                    <a:pt x="919" y="974"/>
                  </a:lnTo>
                  <a:lnTo>
                    <a:pt x="882" y="928"/>
                  </a:lnTo>
                  <a:lnTo>
                    <a:pt x="864" y="903"/>
                  </a:lnTo>
                  <a:lnTo>
                    <a:pt x="852" y="876"/>
                  </a:lnTo>
                  <a:lnTo>
                    <a:pt x="852" y="894"/>
                  </a:lnTo>
                  <a:lnTo>
                    <a:pt x="861" y="913"/>
                  </a:lnTo>
                  <a:lnTo>
                    <a:pt x="870" y="934"/>
                  </a:lnTo>
                  <a:lnTo>
                    <a:pt x="882" y="952"/>
                  </a:lnTo>
                  <a:lnTo>
                    <a:pt x="910" y="992"/>
                  </a:lnTo>
                  <a:lnTo>
                    <a:pt x="922" y="1014"/>
                  </a:lnTo>
                  <a:lnTo>
                    <a:pt x="928" y="1035"/>
                  </a:lnTo>
                  <a:lnTo>
                    <a:pt x="922" y="1038"/>
                  </a:lnTo>
                  <a:lnTo>
                    <a:pt x="916" y="1038"/>
                  </a:lnTo>
                  <a:lnTo>
                    <a:pt x="904" y="1032"/>
                  </a:lnTo>
                  <a:lnTo>
                    <a:pt x="892" y="1020"/>
                  </a:lnTo>
                  <a:lnTo>
                    <a:pt x="882" y="1005"/>
                  </a:lnTo>
                  <a:lnTo>
                    <a:pt x="870" y="989"/>
                  </a:lnTo>
                  <a:lnTo>
                    <a:pt x="858" y="977"/>
                  </a:lnTo>
                  <a:lnTo>
                    <a:pt x="842" y="965"/>
                  </a:lnTo>
                  <a:lnTo>
                    <a:pt x="836" y="962"/>
                  </a:lnTo>
                  <a:lnTo>
                    <a:pt x="827" y="962"/>
                  </a:lnTo>
                  <a:lnTo>
                    <a:pt x="830" y="956"/>
                  </a:lnTo>
                  <a:lnTo>
                    <a:pt x="833" y="946"/>
                  </a:lnTo>
                  <a:lnTo>
                    <a:pt x="833" y="934"/>
                  </a:lnTo>
                  <a:lnTo>
                    <a:pt x="830" y="919"/>
                  </a:lnTo>
                  <a:lnTo>
                    <a:pt x="821" y="906"/>
                  </a:lnTo>
                  <a:lnTo>
                    <a:pt x="799" y="873"/>
                  </a:lnTo>
                  <a:lnTo>
                    <a:pt x="790" y="857"/>
                  </a:lnTo>
                  <a:lnTo>
                    <a:pt x="787" y="839"/>
                  </a:lnTo>
                  <a:lnTo>
                    <a:pt x="772" y="833"/>
                  </a:lnTo>
                  <a:lnTo>
                    <a:pt x="756" y="823"/>
                  </a:lnTo>
                  <a:lnTo>
                    <a:pt x="744" y="814"/>
                  </a:lnTo>
                  <a:lnTo>
                    <a:pt x="735" y="802"/>
                  </a:lnTo>
                  <a:lnTo>
                    <a:pt x="722" y="787"/>
                  </a:lnTo>
                  <a:lnTo>
                    <a:pt x="716" y="771"/>
                  </a:lnTo>
                  <a:lnTo>
                    <a:pt x="701" y="737"/>
                  </a:lnTo>
                  <a:lnTo>
                    <a:pt x="692" y="701"/>
                  </a:lnTo>
                  <a:lnTo>
                    <a:pt x="686" y="658"/>
                  </a:lnTo>
                  <a:lnTo>
                    <a:pt x="679" y="612"/>
                  </a:lnTo>
                  <a:lnTo>
                    <a:pt x="676" y="565"/>
                  </a:lnTo>
                  <a:lnTo>
                    <a:pt x="667" y="553"/>
                  </a:lnTo>
                  <a:lnTo>
                    <a:pt x="652" y="541"/>
                  </a:lnTo>
                  <a:lnTo>
                    <a:pt x="621" y="526"/>
                  </a:lnTo>
                  <a:lnTo>
                    <a:pt x="624" y="510"/>
                  </a:lnTo>
                  <a:lnTo>
                    <a:pt x="621" y="495"/>
                  </a:lnTo>
                  <a:lnTo>
                    <a:pt x="615" y="486"/>
                  </a:lnTo>
                  <a:lnTo>
                    <a:pt x="609" y="476"/>
                  </a:lnTo>
                  <a:lnTo>
                    <a:pt x="593" y="461"/>
                  </a:lnTo>
                  <a:lnTo>
                    <a:pt x="587" y="452"/>
                  </a:lnTo>
                  <a:lnTo>
                    <a:pt x="581" y="443"/>
                  </a:lnTo>
                  <a:lnTo>
                    <a:pt x="578" y="446"/>
                  </a:lnTo>
                  <a:lnTo>
                    <a:pt x="575" y="449"/>
                  </a:lnTo>
                  <a:lnTo>
                    <a:pt x="581" y="461"/>
                  </a:lnTo>
                  <a:lnTo>
                    <a:pt x="590" y="473"/>
                  </a:lnTo>
                  <a:lnTo>
                    <a:pt x="590" y="483"/>
                  </a:lnTo>
                  <a:lnTo>
                    <a:pt x="590" y="489"/>
                  </a:lnTo>
                  <a:lnTo>
                    <a:pt x="569" y="486"/>
                  </a:lnTo>
                  <a:lnTo>
                    <a:pt x="559" y="483"/>
                  </a:lnTo>
                  <a:lnTo>
                    <a:pt x="553" y="476"/>
                  </a:lnTo>
                  <a:lnTo>
                    <a:pt x="547" y="470"/>
                  </a:lnTo>
                  <a:lnTo>
                    <a:pt x="544" y="461"/>
                  </a:lnTo>
                  <a:lnTo>
                    <a:pt x="541" y="449"/>
                  </a:lnTo>
                  <a:lnTo>
                    <a:pt x="544" y="433"/>
                  </a:lnTo>
                  <a:lnTo>
                    <a:pt x="532" y="418"/>
                  </a:lnTo>
                  <a:lnTo>
                    <a:pt x="516" y="403"/>
                  </a:lnTo>
                  <a:lnTo>
                    <a:pt x="486" y="375"/>
                  </a:lnTo>
                  <a:lnTo>
                    <a:pt x="449" y="353"/>
                  </a:lnTo>
                  <a:lnTo>
                    <a:pt x="412" y="338"/>
                  </a:lnTo>
                  <a:lnTo>
                    <a:pt x="390" y="332"/>
                  </a:lnTo>
                  <a:lnTo>
                    <a:pt x="369" y="329"/>
                  </a:lnTo>
                  <a:lnTo>
                    <a:pt x="350" y="329"/>
                  </a:lnTo>
                  <a:lnTo>
                    <a:pt x="329" y="329"/>
                  </a:lnTo>
                  <a:lnTo>
                    <a:pt x="307" y="332"/>
                  </a:lnTo>
                  <a:lnTo>
                    <a:pt x="289" y="338"/>
                  </a:lnTo>
                  <a:lnTo>
                    <a:pt x="270" y="347"/>
                  </a:lnTo>
                  <a:lnTo>
                    <a:pt x="252" y="357"/>
                  </a:lnTo>
                  <a:lnTo>
                    <a:pt x="252" y="347"/>
                  </a:lnTo>
                  <a:lnTo>
                    <a:pt x="255" y="341"/>
                  </a:lnTo>
                  <a:lnTo>
                    <a:pt x="258" y="335"/>
                  </a:lnTo>
                  <a:lnTo>
                    <a:pt x="258" y="329"/>
                  </a:lnTo>
                  <a:lnTo>
                    <a:pt x="246" y="335"/>
                  </a:lnTo>
                  <a:lnTo>
                    <a:pt x="240" y="341"/>
                  </a:lnTo>
                  <a:lnTo>
                    <a:pt x="240" y="350"/>
                  </a:lnTo>
                  <a:lnTo>
                    <a:pt x="240" y="360"/>
                  </a:lnTo>
                  <a:lnTo>
                    <a:pt x="246" y="378"/>
                  </a:lnTo>
                  <a:lnTo>
                    <a:pt x="246" y="387"/>
                  </a:lnTo>
                  <a:lnTo>
                    <a:pt x="243" y="393"/>
                  </a:lnTo>
                  <a:lnTo>
                    <a:pt x="227" y="406"/>
                  </a:lnTo>
                  <a:lnTo>
                    <a:pt x="215" y="409"/>
                  </a:lnTo>
                  <a:lnTo>
                    <a:pt x="209" y="409"/>
                  </a:lnTo>
                  <a:lnTo>
                    <a:pt x="200" y="409"/>
                  </a:lnTo>
                  <a:lnTo>
                    <a:pt x="194" y="403"/>
                  </a:lnTo>
                  <a:lnTo>
                    <a:pt x="187" y="393"/>
                  </a:lnTo>
                  <a:lnTo>
                    <a:pt x="160" y="415"/>
                  </a:lnTo>
                  <a:lnTo>
                    <a:pt x="126" y="430"/>
                  </a:lnTo>
                  <a:lnTo>
                    <a:pt x="92" y="443"/>
                  </a:lnTo>
                  <a:lnTo>
                    <a:pt x="55" y="452"/>
                  </a:lnTo>
                  <a:lnTo>
                    <a:pt x="61" y="433"/>
                  </a:lnTo>
                  <a:lnTo>
                    <a:pt x="71" y="421"/>
                  </a:lnTo>
                  <a:lnTo>
                    <a:pt x="83" y="412"/>
                  </a:lnTo>
                  <a:lnTo>
                    <a:pt x="98" y="406"/>
                  </a:lnTo>
                  <a:lnTo>
                    <a:pt x="129" y="393"/>
                  </a:lnTo>
                  <a:lnTo>
                    <a:pt x="144" y="387"/>
                  </a:lnTo>
                  <a:lnTo>
                    <a:pt x="157" y="375"/>
                  </a:lnTo>
                  <a:lnTo>
                    <a:pt x="141" y="372"/>
                  </a:lnTo>
                  <a:lnTo>
                    <a:pt x="129" y="366"/>
                  </a:lnTo>
                  <a:lnTo>
                    <a:pt x="114" y="363"/>
                  </a:lnTo>
                  <a:lnTo>
                    <a:pt x="104" y="363"/>
                  </a:lnTo>
                  <a:lnTo>
                    <a:pt x="92" y="366"/>
                  </a:lnTo>
                  <a:lnTo>
                    <a:pt x="92" y="329"/>
                  </a:lnTo>
                  <a:lnTo>
                    <a:pt x="77" y="341"/>
                  </a:lnTo>
                  <a:lnTo>
                    <a:pt x="68" y="347"/>
                  </a:lnTo>
                  <a:lnTo>
                    <a:pt x="61" y="357"/>
                  </a:lnTo>
                  <a:lnTo>
                    <a:pt x="55" y="353"/>
                  </a:lnTo>
                  <a:lnTo>
                    <a:pt x="49" y="347"/>
                  </a:lnTo>
                  <a:lnTo>
                    <a:pt x="43" y="332"/>
                  </a:lnTo>
                  <a:lnTo>
                    <a:pt x="37" y="317"/>
                  </a:lnTo>
                  <a:lnTo>
                    <a:pt x="31" y="314"/>
                  </a:lnTo>
                  <a:lnTo>
                    <a:pt x="21" y="310"/>
                  </a:lnTo>
                  <a:lnTo>
                    <a:pt x="28" y="295"/>
                  </a:lnTo>
                  <a:lnTo>
                    <a:pt x="37" y="286"/>
                  </a:lnTo>
                  <a:lnTo>
                    <a:pt x="46" y="280"/>
                  </a:lnTo>
                  <a:lnTo>
                    <a:pt x="58" y="277"/>
                  </a:lnTo>
                  <a:lnTo>
                    <a:pt x="86" y="271"/>
                  </a:lnTo>
                  <a:lnTo>
                    <a:pt x="98" y="267"/>
                  </a:lnTo>
                  <a:lnTo>
                    <a:pt x="111" y="261"/>
                  </a:lnTo>
                  <a:lnTo>
                    <a:pt x="98" y="258"/>
                  </a:lnTo>
                  <a:lnTo>
                    <a:pt x="83" y="258"/>
                  </a:lnTo>
                  <a:lnTo>
                    <a:pt x="46" y="261"/>
                  </a:lnTo>
                  <a:lnTo>
                    <a:pt x="28" y="261"/>
                  </a:lnTo>
                  <a:lnTo>
                    <a:pt x="12" y="255"/>
                  </a:lnTo>
                  <a:lnTo>
                    <a:pt x="6" y="252"/>
                  </a:lnTo>
                  <a:lnTo>
                    <a:pt x="3" y="246"/>
                  </a:lnTo>
                  <a:lnTo>
                    <a:pt x="0" y="237"/>
                  </a:lnTo>
                  <a:lnTo>
                    <a:pt x="0" y="224"/>
                  </a:lnTo>
                  <a:lnTo>
                    <a:pt x="28" y="215"/>
                  </a:lnTo>
                  <a:lnTo>
                    <a:pt x="40" y="212"/>
                  </a:lnTo>
                  <a:lnTo>
                    <a:pt x="49" y="212"/>
                  </a:lnTo>
                  <a:lnTo>
                    <a:pt x="74" y="218"/>
                  </a:lnTo>
                  <a:lnTo>
                    <a:pt x="101" y="224"/>
                  </a:lnTo>
                  <a:lnTo>
                    <a:pt x="95" y="215"/>
                  </a:lnTo>
                  <a:lnTo>
                    <a:pt x="86" y="206"/>
                  </a:lnTo>
                  <a:lnTo>
                    <a:pt x="77" y="203"/>
                  </a:lnTo>
                  <a:lnTo>
                    <a:pt x="64" y="200"/>
                  </a:lnTo>
                  <a:lnTo>
                    <a:pt x="40" y="191"/>
                  </a:lnTo>
                  <a:lnTo>
                    <a:pt x="31" y="188"/>
                  </a:lnTo>
                  <a:lnTo>
                    <a:pt x="21" y="178"/>
                  </a:lnTo>
                  <a:lnTo>
                    <a:pt x="40" y="169"/>
                  </a:lnTo>
                  <a:lnTo>
                    <a:pt x="58" y="160"/>
                  </a:lnTo>
                  <a:lnTo>
                    <a:pt x="95" y="145"/>
                  </a:lnTo>
                  <a:lnTo>
                    <a:pt x="132" y="132"/>
                  </a:lnTo>
                  <a:lnTo>
                    <a:pt x="151" y="123"/>
                  </a:lnTo>
                  <a:lnTo>
                    <a:pt x="166" y="111"/>
                  </a:lnTo>
                  <a:lnTo>
                    <a:pt x="181" y="120"/>
                  </a:lnTo>
                  <a:lnTo>
                    <a:pt x="200" y="126"/>
                  </a:lnTo>
                  <a:lnTo>
                    <a:pt x="237" y="132"/>
                  </a:lnTo>
                  <a:lnTo>
                    <a:pt x="277" y="135"/>
                  </a:lnTo>
                  <a:lnTo>
                    <a:pt x="320" y="138"/>
                  </a:lnTo>
                  <a:lnTo>
                    <a:pt x="363" y="142"/>
                  </a:lnTo>
                  <a:lnTo>
                    <a:pt x="403" y="145"/>
                  </a:lnTo>
                  <a:lnTo>
                    <a:pt x="443" y="154"/>
                  </a:lnTo>
                  <a:lnTo>
                    <a:pt x="461" y="160"/>
                  </a:lnTo>
                  <a:lnTo>
                    <a:pt x="480" y="169"/>
                  </a:lnTo>
                  <a:lnTo>
                    <a:pt x="523" y="154"/>
                  </a:lnTo>
                  <a:lnTo>
                    <a:pt x="563" y="148"/>
                  </a:lnTo>
                  <a:lnTo>
                    <a:pt x="603" y="142"/>
                  </a:lnTo>
                  <a:lnTo>
                    <a:pt x="639" y="142"/>
                  </a:lnTo>
                  <a:lnTo>
                    <a:pt x="679" y="145"/>
                  </a:lnTo>
                  <a:lnTo>
                    <a:pt x="719" y="151"/>
                  </a:lnTo>
                  <a:lnTo>
                    <a:pt x="802" y="169"/>
                  </a:lnTo>
                  <a:lnTo>
                    <a:pt x="805" y="163"/>
                  </a:lnTo>
                  <a:lnTo>
                    <a:pt x="805" y="157"/>
                  </a:lnTo>
                  <a:lnTo>
                    <a:pt x="793" y="145"/>
                  </a:lnTo>
                  <a:lnTo>
                    <a:pt x="778" y="129"/>
                  </a:lnTo>
                  <a:lnTo>
                    <a:pt x="775" y="120"/>
                  </a:lnTo>
                  <a:lnTo>
                    <a:pt x="772" y="111"/>
                  </a:lnTo>
                  <a:lnTo>
                    <a:pt x="759" y="123"/>
                  </a:lnTo>
                  <a:lnTo>
                    <a:pt x="747" y="129"/>
                  </a:lnTo>
                  <a:lnTo>
                    <a:pt x="732" y="132"/>
                  </a:lnTo>
                  <a:lnTo>
                    <a:pt x="719" y="132"/>
                  </a:lnTo>
                  <a:lnTo>
                    <a:pt x="692" y="129"/>
                  </a:lnTo>
                  <a:lnTo>
                    <a:pt x="661" y="120"/>
                  </a:lnTo>
                  <a:lnTo>
                    <a:pt x="661" y="111"/>
                  </a:lnTo>
                  <a:lnTo>
                    <a:pt x="664" y="105"/>
                  </a:lnTo>
                  <a:lnTo>
                    <a:pt x="673" y="95"/>
                  </a:lnTo>
                  <a:lnTo>
                    <a:pt x="682" y="83"/>
                  </a:lnTo>
                  <a:lnTo>
                    <a:pt x="686" y="74"/>
                  </a:lnTo>
                  <a:lnTo>
                    <a:pt x="686" y="65"/>
                  </a:lnTo>
                  <a:lnTo>
                    <a:pt x="747" y="65"/>
                  </a:lnTo>
                  <a:lnTo>
                    <a:pt x="778" y="62"/>
                  </a:lnTo>
                  <a:lnTo>
                    <a:pt x="802" y="56"/>
                  </a:lnTo>
                  <a:lnTo>
                    <a:pt x="799" y="43"/>
                  </a:lnTo>
                  <a:lnTo>
                    <a:pt x="790" y="40"/>
                  </a:lnTo>
                  <a:lnTo>
                    <a:pt x="781" y="40"/>
                  </a:lnTo>
                  <a:lnTo>
                    <a:pt x="772" y="40"/>
                  </a:lnTo>
                  <a:lnTo>
                    <a:pt x="744" y="46"/>
                  </a:lnTo>
                  <a:lnTo>
                    <a:pt x="732" y="49"/>
                  </a:lnTo>
                  <a:lnTo>
                    <a:pt x="716" y="46"/>
                  </a:lnTo>
                  <a:lnTo>
                    <a:pt x="726" y="31"/>
                  </a:lnTo>
                  <a:lnTo>
                    <a:pt x="732" y="19"/>
                  </a:lnTo>
                  <a:lnTo>
                    <a:pt x="741" y="9"/>
                  </a:lnTo>
                  <a:lnTo>
                    <a:pt x="750" y="3"/>
                  </a:lnTo>
                  <a:lnTo>
                    <a:pt x="762" y="0"/>
                  </a:lnTo>
                  <a:lnTo>
                    <a:pt x="772" y="0"/>
                  </a:lnTo>
                  <a:lnTo>
                    <a:pt x="793" y="6"/>
                  </a:lnTo>
                  <a:lnTo>
                    <a:pt x="839" y="25"/>
                  </a:lnTo>
                  <a:lnTo>
                    <a:pt x="864" y="34"/>
                  </a:lnTo>
                  <a:lnTo>
                    <a:pt x="876" y="37"/>
                  </a:lnTo>
                  <a:lnTo>
                    <a:pt x="888" y="37"/>
                  </a:lnTo>
                  <a:lnTo>
                    <a:pt x="913" y="34"/>
                  </a:lnTo>
                  <a:lnTo>
                    <a:pt x="935" y="28"/>
                  </a:lnTo>
                  <a:lnTo>
                    <a:pt x="959" y="25"/>
                  </a:lnTo>
                  <a:lnTo>
                    <a:pt x="971" y="25"/>
                  </a:lnTo>
                  <a:lnTo>
                    <a:pt x="984" y="28"/>
                  </a:lnTo>
                  <a:lnTo>
                    <a:pt x="987" y="46"/>
                  </a:lnTo>
                  <a:lnTo>
                    <a:pt x="981" y="62"/>
                  </a:lnTo>
                  <a:lnTo>
                    <a:pt x="968" y="83"/>
                  </a:lnTo>
                  <a:lnTo>
                    <a:pt x="1008" y="83"/>
                  </a:lnTo>
                  <a:lnTo>
                    <a:pt x="1002" y="99"/>
                  </a:lnTo>
                  <a:lnTo>
                    <a:pt x="999" y="108"/>
                  </a:lnTo>
                  <a:lnTo>
                    <a:pt x="1005" y="117"/>
                  </a:lnTo>
                  <a:lnTo>
                    <a:pt x="1011" y="123"/>
                  </a:lnTo>
                  <a:lnTo>
                    <a:pt x="1036" y="132"/>
                  </a:lnTo>
                  <a:lnTo>
                    <a:pt x="1054" y="138"/>
                  </a:lnTo>
                  <a:lnTo>
                    <a:pt x="1054" y="154"/>
                  </a:lnTo>
                  <a:lnTo>
                    <a:pt x="1048" y="163"/>
                  </a:lnTo>
                  <a:lnTo>
                    <a:pt x="1042" y="169"/>
                  </a:lnTo>
                  <a:lnTo>
                    <a:pt x="1033" y="175"/>
                  </a:lnTo>
                  <a:lnTo>
                    <a:pt x="1011" y="178"/>
                  </a:lnTo>
                  <a:lnTo>
                    <a:pt x="984" y="178"/>
                  </a:lnTo>
                  <a:lnTo>
                    <a:pt x="1011" y="185"/>
                  </a:lnTo>
                  <a:lnTo>
                    <a:pt x="1045" y="191"/>
                  </a:lnTo>
                  <a:lnTo>
                    <a:pt x="1076" y="191"/>
                  </a:lnTo>
                  <a:lnTo>
                    <a:pt x="1091" y="191"/>
                  </a:lnTo>
                  <a:lnTo>
                    <a:pt x="1104" y="188"/>
                  </a:lnTo>
                  <a:lnTo>
                    <a:pt x="1104" y="178"/>
                  </a:lnTo>
                  <a:lnTo>
                    <a:pt x="1104" y="172"/>
                  </a:lnTo>
                  <a:lnTo>
                    <a:pt x="1101" y="169"/>
                  </a:lnTo>
                  <a:lnTo>
                    <a:pt x="1094" y="169"/>
                  </a:lnTo>
                  <a:lnTo>
                    <a:pt x="1091" y="166"/>
                  </a:lnTo>
                  <a:lnTo>
                    <a:pt x="1085" y="163"/>
                  </a:lnTo>
                  <a:lnTo>
                    <a:pt x="1085" y="160"/>
                  </a:lnTo>
                  <a:lnTo>
                    <a:pt x="1088" y="151"/>
                  </a:lnTo>
                  <a:lnTo>
                    <a:pt x="1125" y="151"/>
                  </a:lnTo>
                  <a:lnTo>
                    <a:pt x="1128" y="163"/>
                  </a:lnTo>
                  <a:lnTo>
                    <a:pt x="1131" y="172"/>
                  </a:lnTo>
                  <a:lnTo>
                    <a:pt x="1134" y="181"/>
                  </a:lnTo>
                  <a:lnTo>
                    <a:pt x="1134" y="197"/>
                  </a:lnTo>
                  <a:lnTo>
                    <a:pt x="1144" y="197"/>
                  </a:lnTo>
                  <a:lnTo>
                    <a:pt x="1153" y="194"/>
                  </a:lnTo>
                  <a:lnTo>
                    <a:pt x="1165" y="188"/>
                  </a:lnTo>
                  <a:lnTo>
                    <a:pt x="1165" y="175"/>
                  </a:lnTo>
                  <a:lnTo>
                    <a:pt x="1165" y="166"/>
                  </a:lnTo>
                  <a:lnTo>
                    <a:pt x="1159" y="151"/>
                  </a:lnTo>
                  <a:lnTo>
                    <a:pt x="1150" y="135"/>
                  </a:lnTo>
                  <a:lnTo>
                    <a:pt x="1150" y="123"/>
                  </a:lnTo>
                  <a:lnTo>
                    <a:pt x="1150" y="111"/>
                  </a:lnTo>
                  <a:lnTo>
                    <a:pt x="1168" y="114"/>
                  </a:lnTo>
                  <a:lnTo>
                    <a:pt x="1184" y="123"/>
                  </a:lnTo>
                  <a:lnTo>
                    <a:pt x="1199" y="132"/>
                  </a:lnTo>
                  <a:lnTo>
                    <a:pt x="1208" y="145"/>
                  </a:lnTo>
                  <a:lnTo>
                    <a:pt x="1221" y="157"/>
                  </a:lnTo>
                  <a:lnTo>
                    <a:pt x="1230" y="166"/>
                  </a:lnTo>
                  <a:lnTo>
                    <a:pt x="1245" y="169"/>
                  </a:lnTo>
                  <a:lnTo>
                    <a:pt x="1260" y="169"/>
                  </a:lnTo>
                  <a:lnTo>
                    <a:pt x="1260" y="181"/>
                  </a:lnTo>
                  <a:lnTo>
                    <a:pt x="1264" y="188"/>
                  </a:lnTo>
                  <a:lnTo>
                    <a:pt x="1267" y="191"/>
                  </a:lnTo>
                  <a:lnTo>
                    <a:pt x="1273" y="191"/>
                  </a:lnTo>
                  <a:lnTo>
                    <a:pt x="1285" y="178"/>
                  </a:lnTo>
                  <a:lnTo>
                    <a:pt x="1300" y="160"/>
                  </a:lnTo>
                  <a:lnTo>
                    <a:pt x="1288" y="154"/>
                  </a:lnTo>
                  <a:lnTo>
                    <a:pt x="1273" y="151"/>
                  </a:lnTo>
                  <a:lnTo>
                    <a:pt x="1245" y="145"/>
                  </a:lnTo>
                  <a:lnTo>
                    <a:pt x="1233" y="142"/>
                  </a:lnTo>
                  <a:lnTo>
                    <a:pt x="1224" y="132"/>
                  </a:lnTo>
                  <a:lnTo>
                    <a:pt x="1221" y="123"/>
                  </a:lnTo>
                  <a:lnTo>
                    <a:pt x="1217" y="117"/>
                  </a:lnTo>
                  <a:lnTo>
                    <a:pt x="1221" y="92"/>
                  </a:lnTo>
                  <a:lnTo>
                    <a:pt x="1230" y="92"/>
                  </a:lnTo>
                  <a:lnTo>
                    <a:pt x="1236" y="89"/>
                  </a:lnTo>
                  <a:lnTo>
                    <a:pt x="1251" y="80"/>
                  </a:lnTo>
                  <a:lnTo>
                    <a:pt x="1264" y="74"/>
                  </a:lnTo>
                  <a:lnTo>
                    <a:pt x="1273" y="71"/>
                  </a:lnTo>
                  <a:lnTo>
                    <a:pt x="1285" y="74"/>
                  </a:lnTo>
                  <a:lnTo>
                    <a:pt x="1288" y="77"/>
                  </a:lnTo>
                  <a:lnTo>
                    <a:pt x="1288" y="83"/>
                  </a:lnTo>
                  <a:lnTo>
                    <a:pt x="1291" y="95"/>
                  </a:lnTo>
                  <a:lnTo>
                    <a:pt x="1291" y="105"/>
                  </a:lnTo>
                  <a:lnTo>
                    <a:pt x="1294" y="111"/>
                  </a:lnTo>
                  <a:lnTo>
                    <a:pt x="1300" y="111"/>
                  </a:lnTo>
                  <a:lnTo>
                    <a:pt x="1304" y="108"/>
                  </a:lnTo>
                  <a:lnTo>
                    <a:pt x="1307" y="102"/>
                  </a:lnTo>
                  <a:lnTo>
                    <a:pt x="1307" y="83"/>
                  </a:lnTo>
                  <a:lnTo>
                    <a:pt x="1331" y="80"/>
                  </a:lnTo>
                  <a:lnTo>
                    <a:pt x="1350" y="77"/>
                  </a:lnTo>
                  <a:lnTo>
                    <a:pt x="1387" y="77"/>
                  </a:lnTo>
                  <a:lnTo>
                    <a:pt x="1417" y="83"/>
                  </a:lnTo>
                  <a:lnTo>
                    <a:pt x="1448" y="92"/>
                  </a:lnTo>
                  <a:lnTo>
                    <a:pt x="1506" y="117"/>
                  </a:lnTo>
                  <a:lnTo>
                    <a:pt x="1537" y="126"/>
                  </a:lnTo>
                  <a:lnTo>
                    <a:pt x="1577" y="129"/>
                  </a:lnTo>
                  <a:lnTo>
                    <a:pt x="1583" y="148"/>
                  </a:lnTo>
                  <a:lnTo>
                    <a:pt x="1589" y="163"/>
                  </a:lnTo>
                  <a:lnTo>
                    <a:pt x="1602" y="175"/>
                  </a:lnTo>
                  <a:lnTo>
                    <a:pt x="1617" y="185"/>
                  </a:lnTo>
                  <a:lnTo>
                    <a:pt x="1633" y="194"/>
                  </a:lnTo>
                  <a:lnTo>
                    <a:pt x="1648" y="197"/>
                  </a:lnTo>
                  <a:lnTo>
                    <a:pt x="1685" y="206"/>
                  </a:lnTo>
                  <a:lnTo>
                    <a:pt x="1682" y="228"/>
                  </a:lnTo>
                  <a:lnTo>
                    <a:pt x="1672" y="240"/>
                  </a:lnTo>
                  <a:lnTo>
                    <a:pt x="1660" y="246"/>
                  </a:lnTo>
                  <a:lnTo>
                    <a:pt x="1648" y="249"/>
                  </a:lnTo>
                  <a:lnTo>
                    <a:pt x="1633" y="246"/>
                  </a:lnTo>
                  <a:lnTo>
                    <a:pt x="1620" y="240"/>
                  </a:lnTo>
                  <a:lnTo>
                    <a:pt x="1593" y="224"/>
                  </a:lnTo>
                  <a:lnTo>
                    <a:pt x="1596" y="237"/>
                  </a:lnTo>
                  <a:lnTo>
                    <a:pt x="1602" y="243"/>
                  </a:lnTo>
                  <a:lnTo>
                    <a:pt x="1617" y="255"/>
                  </a:lnTo>
                  <a:lnTo>
                    <a:pt x="1629" y="271"/>
                  </a:lnTo>
                  <a:lnTo>
                    <a:pt x="1636" y="280"/>
                  </a:lnTo>
                  <a:lnTo>
                    <a:pt x="1639" y="292"/>
                  </a:lnTo>
                  <a:lnTo>
                    <a:pt x="1626" y="295"/>
                  </a:lnTo>
                  <a:lnTo>
                    <a:pt x="1611" y="298"/>
                  </a:lnTo>
                  <a:lnTo>
                    <a:pt x="1586" y="298"/>
                  </a:lnTo>
                  <a:lnTo>
                    <a:pt x="1559" y="292"/>
                  </a:lnTo>
                  <a:lnTo>
                    <a:pt x="1531" y="283"/>
                  </a:lnTo>
                  <a:lnTo>
                    <a:pt x="1500" y="274"/>
                  </a:lnTo>
                  <a:lnTo>
                    <a:pt x="1473" y="264"/>
                  </a:lnTo>
                  <a:lnTo>
                    <a:pt x="1442" y="261"/>
                  </a:lnTo>
                  <a:lnTo>
                    <a:pt x="1411" y="261"/>
                  </a:lnTo>
                  <a:lnTo>
                    <a:pt x="1411" y="252"/>
                  </a:lnTo>
                  <a:lnTo>
                    <a:pt x="1414" y="243"/>
                  </a:lnTo>
                  <a:lnTo>
                    <a:pt x="1420" y="237"/>
                  </a:lnTo>
                  <a:lnTo>
                    <a:pt x="1423" y="231"/>
                  </a:lnTo>
                  <a:lnTo>
                    <a:pt x="1436" y="224"/>
                  </a:lnTo>
                  <a:lnTo>
                    <a:pt x="1451" y="221"/>
                  </a:lnTo>
                  <a:lnTo>
                    <a:pt x="1463" y="221"/>
                  </a:lnTo>
                  <a:lnTo>
                    <a:pt x="1479" y="215"/>
                  </a:lnTo>
                  <a:lnTo>
                    <a:pt x="1488" y="206"/>
                  </a:lnTo>
                  <a:lnTo>
                    <a:pt x="1494" y="197"/>
                  </a:lnTo>
                  <a:lnTo>
                    <a:pt x="1497" y="188"/>
                  </a:lnTo>
                  <a:lnTo>
                    <a:pt x="1485" y="188"/>
                  </a:lnTo>
                  <a:lnTo>
                    <a:pt x="1479" y="191"/>
                  </a:lnTo>
                  <a:lnTo>
                    <a:pt x="1463" y="200"/>
                  </a:lnTo>
                  <a:lnTo>
                    <a:pt x="1457" y="203"/>
                  </a:lnTo>
                  <a:lnTo>
                    <a:pt x="1448" y="209"/>
                  </a:lnTo>
                  <a:lnTo>
                    <a:pt x="1439" y="209"/>
                  </a:lnTo>
                  <a:lnTo>
                    <a:pt x="1427" y="206"/>
                  </a:lnTo>
                  <a:lnTo>
                    <a:pt x="1439" y="191"/>
                  </a:lnTo>
                  <a:lnTo>
                    <a:pt x="1439" y="181"/>
                  </a:lnTo>
                  <a:lnTo>
                    <a:pt x="1439" y="175"/>
                  </a:lnTo>
                  <a:lnTo>
                    <a:pt x="1439" y="172"/>
                  </a:lnTo>
                  <a:lnTo>
                    <a:pt x="1433" y="166"/>
                  </a:lnTo>
                  <a:lnTo>
                    <a:pt x="1423" y="160"/>
                  </a:lnTo>
                  <a:lnTo>
                    <a:pt x="1408" y="157"/>
                  </a:lnTo>
                  <a:lnTo>
                    <a:pt x="1390" y="160"/>
                  </a:lnTo>
                  <a:lnTo>
                    <a:pt x="1371" y="163"/>
                  </a:lnTo>
                  <a:lnTo>
                    <a:pt x="1356" y="169"/>
                  </a:lnTo>
                  <a:lnTo>
                    <a:pt x="1356" y="175"/>
                  </a:lnTo>
                  <a:lnTo>
                    <a:pt x="1362" y="178"/>
                  </a:lnTo>
                  <a:lnTo>
                    <a:pt x="1371" y="181"/>
                  </a:lnTo>
                  <a:lnTo>
                    <a:pt x="1374" y="185"/>
                  </a:lnTo>
                  <a:lnTo>
                    <a:pt x="1377" y="191"/>
                  </a:lnTo>
                  <a:lnTo>
                    <a:pt x="1380" y="197"/>
                  </a:lnTo>
                  <a:lnTo>
                    <a:pt x="1377" y="206"/>
                  </a:lnTo>
                  <a:lnTo>
                    <a:pt x="1371" y="206"/>
                  </a:lnTo>
                  <a:lnTo>
                    <a:pt x="1365" y="209"/>
                  </a:lnTo>
                  <a:lnTo>
                    <a:pt x="1356" y="215"/>
                  </a:lnTo>
                  <a:lnTo>
                    <a:pt x="1347" y="221"/>
                  </a:lnTo>
                  <a:lnTo>
                    <a:pt x="1340" y="224"/>
                  </a:lnTo>
                  <a:lnTo>
                    <a:pt x="1331" y="224"/>
                  </a:lnTo>
                  <a:lnTo>
                    <a:pt x="1334" y="237"/>
                  </a:lnTo>
                  <a:lnTo>
                    <a:pt x="1343" y="243"/>
                  </a:lnTo>
                  <a:lnTo>
                    <a:pt x="1353" y="246"/>
                  </a:lnTo>
                  <a:lnTo>
                    <a:pt x="1362" y="249"/>
                  </a:lnTo>
                  <a:lnTo>
                    <a:pt x="1371" y="252"/>
                  </a:lnTo>
                  <a:lnTo>
                    <a:pt x="1380" y="258"/>
                  </a:lnTo>
                  <a:lnTo>
                    <a:pt x="1387" y="267"/>
                  </a:lnTo>
                  <a:lnTo>
                    <a:pt x="1387" y="283"/>
                  </a:lnTo>
                  <a:lnTo>
                    <a:pt x="1359" y="274"/>
                  </a:lnTo>
                  <a:lnTo>
                    <a:pt x="1334" y="271"/>
                  </a:lnTo>
                  <a:lnTo>
                    <a:pt x="1313" y="274"/>
                  </a:lnTo>
                  <a:lnTo>
                    <a:pt x="1285" y="283"/>
                  </a:lnTo>
                  <a:lnTo>
                    <a:pt x="1285" y="267"/>
                  </a:lnTo>
                  <a:lnTo>
                    <a:pt x="1288" y="261"/>
                  </a:lnTo>
                  <a:lnTo>
                    <a:pt x="1288" y="255"/>
                  </a:lnTo>
                  <a:lnTo>
                    <a:pt x="1285" y="243"/>
                  </a:lnTo>
                  <a:lnTo>
                    <a:pt x="1251" y="264"/>
                  </a:lnTo>
                  <a:lnTo>
                    <a:pt x="1214" y="283"/>
                  </a:lnTo>
                  <a:lnTo>
                    <a:pt x="1199" y="295"/>
                  </a:lnTo>
                  <a:lnTo>
                    <a:pt x="1184" y="307"/>
                  </a:lnTo>
                  <a:lnTo>
                    <a:pt x="1168" y="320"/>
                  </a:lnTo>
                  <a:lnTo>
                    <a:pt x="1159" y="338"/>
                  </a:lnTo>
                  <a:lnTo>
                    <a:pt x="1171" y="360"/>
                  </a:lnTo>
                  <a:lnTo>
                    <a:pt x="1193" y="375"/>
                  </a:lnTo>
                  <a:lnTo>
                    <a:pt x="1214" y="390"/>
                  </a:lnTo>
                  <a:lnTo>
                    <a:pt x="1242" y="400"/>
                  </a:lnTo>
                  <a:lnTo>
                    <a:pt x="1270" y="409"/>
                  </a:lnTo>
                  <a:lnTo>
                    <a:pt x="1297" y="412"/>
                  </a:lnTo>
                  <a:lnTo>
                    <a:pt x="1322" y="415"/>
                  </a:lnTo>
                  <a:lnTo>
                    <a:pt x="1347" y="415"/>
                  </a:lnTo>
                  <a:lnTo>
                    <a:pt x="1350" y="424"/>
                  </a:lnTo>
                  <a:lnTo>
                    <a:pt x="1356" y="436"/>
                  </a:lnTo>
                  <a:lnTo>
                    <a:pt x="1365" y="452"/>
                  </a:lnTo>
                  <a:lnTo>
                    <a:pt x="1377" y="467"/>
                  </a:lnTo>
                  <a:lnTo>
                    <a:pt x="1383" y="476"/>
                  </a:lnTo>
                  <a:lnTo>
                    <a:pt x="1387" y="489"/>
                  </a:lnTo>
                  <a:lnTo>
                    <a:pt x="1393" y="489"/>
                  </a:lnTo>
                  <a:lnTo>
                    <a:pt x="1399" y="486"/>
                  </a:lnTo>
                  <a:lnTo>
                    <a:pt x="1405" y="483"/>
                  </a:lnTo>
                  <a:lnTo>
                    <a:pt x="1411" y="479"/>
                  </a:lnTo>
                  <a:lnTo>
                    <a:pt x="1405" y="461"/>
                  </a:lnTo>
                  <a:lnTo>
                    <a:pt x="1399" y="446"/>
                  </a:lnTo>
                  <a:lnTo>
                    <a:pt x="1393" y="430"/>
                  </a:lnTo>
                  <a:lnTo>
                    <a:pt x="1387" y="415"/>
                  </a:lnTo>
                  <a:lnTo>
                    <a:pt x="1402" y="415"/>
                  </a:lnTo>
                  <a:lnTo>
                    <a:pt x="1411" y="418"/>
                  </a:lnTo>
                  <a:lnTo>
                    <a:pt x="1420" y="418"/>
                  </a:lnTo>
                  <a:lnTo>
                    <a:pt x="1433" y="415"/>
                  </a:lnTo>
                  <a:lnTo>
                    <a:pt x="1433" y="403"/>
                  </a:lnTo>
                  <a:lnTo>
                    <a:pt x="1433" y="390"/>
                  </a:lnTo>
                  <a:lnTo>
                    <a:pt x="1430" y="384"/>
                  </a:lnTo>
                  <a:lnTo>
                    <a:pt x="1423" y="378"/>
                  </a:lnTo>
                  <a:lnTo>
                    <a:pt x="1414" y="366"/>
                  </a:lnTo>
                  <a:lnTo>
                    <a:pt x="1402" y="357"/>
                  </a:lnTo>
                  <a:lnTo>
                    <a:pt x="1408" y="353"/>
                  </a:lnTo>
                  <a:lnTo>
                    <a:pt x="1414" y="347"/>
                  </a:lnTo>
                  <a:lnTo>
                    <a:pt x="1417" y="329"/>
                  </a:lnTo>
                  <a:lnTo>
                    <a:pt x="1420" y="307"/>
                  </a:lnTo>
                  <a:lnTo>
                    <a:pt x="1423" y="298"/>
                  </a:lnTo>
                  <a:lnTo>
                    <a:pt x="1427" y="292"/>
                  </a:lnTo>
                  <a:lnTo>
                    <a:pt x="1454" y="289"/>
                  </a:lnTo>
                  <a:lnTo>
                    <a:pt x="1479" y="292"/>
                  </a:lnTo>
                  <a:lnTo>
                    <a:pt x="1500" y="298"/>
                  </a:lnTo>
                  <a:lnTo>
                    <a:pt x="1522" y="304"/>
                  </a:lnTo>
                  <a:lnTo>
                    <a:pt x="1540" y="314"/>
                  </a:lnTo>
                  <a:lnTo>
                    <a:pt x="1556" y="329"/>
                  </a:lnTo>
                  <a:lnTo>
                    <a:pt x="1568" y="344"/>
                  </a:lnTo>
                  <a:lnTo>
                    <a:pt x="1577" y="366"/>
                  </a:lnTo>
                  <a:lnTo>
                    <a:pt x="1586" y="366"/>
                  </a:lnTo>
                  <a:lnTo>
                    <a:pt x="1593" y="363"/>
                  </a:lnTo>
                  <a:lnTo>
                    <a:pt x="1602" y="350"/>
                  </a:lnTo>
                  <a:lnTo>
                    <a:pt x="1611" y="338"/>
                  </a:lnTo>
                  <a:lnTo>
                    <a:pt x="1617" y="332"/>
                  </a:lnTo>
                  <a:lnTo>
                    <a:pt x="1623" y="329"/>
                  </a:lnTo>
                  <a:lnTo>
                    <a:pt x="1694" y="400"/>
                  </a:lnTo>
                  <a:lnTo>
                    <a:pt x="1731" y="433"/>
                  </a:lnTo>
                  <a:lnTo>
                    <a:pt x="1749" y="449"/>
                  </a:lnTo>
                  <a:lnTo>
                    <a:pt x="1774" y="461"/>
                  </a:lnTo>
                  <a:lnTo>
                    <a:pt x="1774" y="473"/>
                  </a:lnTo>
                  <a:lnTo>
                    <a:pt x="1774" y="479"/>
                  </a:lnTo>
                  <a:lnTo>
                    <a:pt x="1771" y="486"/>
                  </a:lnTo>
                  <a:lnTo>
                    <a:pt x="1768" y="492"/>
                  </a:lnTo>
                  <a:lnTo>
                    <a:pt x="1759" y="501"/>
                  </a:lnTo>
                  <a:lnTo>
                    <a:pt x="1759" y="507"/>
                  </a:lnTo>
                  <a:lnTo>
                    <a:pt x="1759" y="516"/>
                  </a:lnTo>
                  <a:lnTo>
                    <a:pt x="1777" y="526"/>
                  </a:lnTo>
                  <a:lnTo>
                    <a:pt x="1795" y="538"/>
                  </a:lnTo>
                  <a:lnTo>
                    <a:pt x="1805" y="544"/>
                  </a:lnTo>
                  <a:lnTo>
                    <a:pt x="1808" y="553"/>
                  </a:lnTo>
                  <a:lnTo>
                    <a:pt x="1811" y="565"/>
                  </a:lnTo>
                  <a:lnTo>
                    <a:pt x="1811" y="584"/>
                  </a:lnTo>
                  <a:lnTo>
                    <a:pt x="1789" y="578"/>
                  </a:lnTo>
                  <a:lnTo>
                    <a:pt x="1768" y="578"/>
                  </a:lnTo>
                  <a:lnTo>
                    <a:pt x="1743" y="575"/>
                  </a:lnTo>
                  <a:lnTo>
                    <a:pt x="1709" y="575"/>
                  </a:lnTo>
                  <a:lnTo>
                    <a:pt x="1716" y="553"/>
                  </a:lnTo>
                  <a:lnTo>
                    <a:pt x="1725" y="538"/>
                  </a:lnTo>
                  <a:lnTo>
                    <a:pt x="1734" y="526"/>
                  </a:lnTo>
                  <a:lnTo>
                    <a:pt x="1740" y="507"/>
                  </a:lnTo>
                  <a:lnTo>
                    <a:pt x="1734" y="507"/>
                  </a:lnTo>
                  <a:lnTo>
                    <a:pt x="1725" y="510"/>
                  </a:lnTo>
                  <a:lnTo>
                    <a:pt x="1700" y="522"/>
                  </a:lnTo>
                  <a:lnTo>
                    <a:pt x="1676" y="538"/>
                  </a:lnTo>
                  <a:lnTo>
                    <a:pt x="1654" y="556"/>
                  </a:lnTo>
                  <a:lnTo>
                    <a:pt x="1645" y="547"/>
                  </a:lnTo>
                  <a:lnTo>
                    <a:pt x="1639" y="538"/>
                  </a:lnTo>
                  <a:lnTo>
                    <a:pt x="1633" y="526"/>
                  </a:lnTo>
                  <a:lnTo>
                    <a:pt x="1623" y="516"/>
                  </a:lnTo>
                  <a:lnTo>
                    <a:pt x="1608" y="522"/>
                  </a:lnTo>
                  <a:lnTo>
                    <a:pt x="1593" y="529"/>
                  </a:lnTo>
                  <a:lnTo>
                    <a:pt x="1583" y="541"/>
                  </a:lnTo>
                  <a:lnTo>
                    <a:pt x="1577" y="556"/>
                  </a:lnTo>
                  <a:lnTo>
                    <a:pt x="1583" y="556"/>
                  </a:lnTo>
                  <a:lnTo>
                    <a:pt x="1589" y="553"/>
                  </a:lnTo>
                  <a:lnTo>
                    <a:pt x="1599" y="547"/>
                  </a:lnTo>
                  <a:lnTo>
                    <a:pt x="1608" y="538"/>
                  </a:lnTo>
                  <a:lnTo>
                    <a:pt x="1614" y="538"/>
                  </a:lnTo>
                  <a:lnTo>
                    <a:pt x="1623" y="535"/>
                  </a:lnTo>
                  <a:lnTo>
                    <a:pt x="1636" y="559"/>
                  </a:lnTo>
                  <a:lnTo>
                    <a:pt x="1639" y="565"/>
                  </a:lnTo>
                  <a:lnTo>
                    <a:pt x="1639" y="572"/>
                  </a:lnTo>
                  <a:lnTo>
                    <a:pt x="1636" y="578"/>
                  </a:lnTo>
                  <a:lnTo>
                    <a:pt x="1629" y="584"/>
                  </a:lnTo>
                  <a:lnTo>
                    <a:pt x="1639" y="584"/>
                  </a:lnTo>
                  <a:lnTo>
                    <a:pt x="1648" y="581"/>
                  </a:lnTo>
                  <a:lnTo>
                    <a:pt x="1657" y="578"/>
                  </a:lnTo>
                  <a:lnTo>
                    <a:pt x="1660" y="578"/>
                  </a:lnTo>
                  <a:lnTo>
                    <a:pt x="1663" y="581"/>
                  </a:lnTo>
                  <a:lnTo>
                    <a:pt x="1663" y="602"/>
                  </a:lnTo>
                  <a:lnTo>
                    <a:pt x="1669" y="602"/>
                  </a:lnTo>
                  <a:lnTo>
                    <a:pt x="1676" y="599"/>
                  </a:lnTo>
                  <a:lnTo>
                    <a:pt x="1685" y="590"/>
                  </a:lnTo>
                  <a:lnTo>
                    <a:pt x="1688" y="587"/>
                  </a:lnTo>
                  <a:lnTo>
                    <a:pt x="1691" y="584"/>
                  </a:lnTo>
                  <a:lnTo>
                    <a:pt x="1697" y="587"/>
                  </a:lnTo>
                  <a:lnTo>
                    <a:pt x="1703" y="593"/>
                  </a:lnTo>
                  <a:lnTo>
                    <a:pt x="1703" y="605"/>
                  </a:lnTo>
                  <a:lnTo>
                    <a:pt x="1706" y="608"/>
                  </a:lnTo>
                  <a:lnTo>
                    <a:pt x="1709" y="612"/>
                  </a:lnTo>
                  <a:lnTo>
                    <a:pt x="1700" y="621"/>
                  </a:lnTo>
                  <a:lnTo>
                    <a:pt x="1688" y="630"/>
                  </a:lnTo>
                  <a:lnTo>
                    <a:pt x="1657" y="639"/>
                  </a:lnTo>
                  <a:lnTo>
                    <a:pt x="1629" y="648"/>
                  </a:lnTo>
                  <a:lnTo>
                    <a:pt x="1599" y="658"/>
                  </a:lnTo>
                  <a:lnTo>
                    <a:pt x="1599" y="630"/>
                  </a:lnTo>
                  <a:lnTo>
                    <a:pt x="1568" y="639"/>
                  </a:lnTo>
                  <a:lnTo>
                    <a:pt x="1537" y="648"/>
                  </a:lnTo>
                  <a:lnTo>
                    <a:pt x="1534" y="664"/>
                  </a:lnTo>
                  <a:lnTo>
                    <a:pt x="1540" y="676"/>
                  </a:lnTo>
                  <a:lnTo>
                    <a:pt x="1543" y="682"/>
                  </a:lnTo>
                  <a:lnTo>
                    <a:pt x="1543" y="698"/>
                  </a:lnTo>
                  <a:lnTo>
                    <a:pt x="1531" y="691"/>
                  </a:lnTo>
                  <a:lnTo>
                    <a:pt x="1522" y="691"/>
                  </a:lnTo>
                  <a:lnTo>
                    <a:pt x="1513" y="691"/>
                  </a:lnTo>
                  <a:lnTo>
                    <a:pt x="1503" y="694"/>
                  </a:lnTo>
                  <a:lnTo>
                    <a:pt x="1497" y="701"/>
                  </a:lnTo>
                  <a:lnTo>
                    <a:pt x="1491" y="707"/>
                  </a:lnTo>
                  <a:lnTo>
                    <a:pt x="1482" y="725"/>
                  </a:lnTo>
                  <a:lnTo>
                    <a:pt x="1476" y="741"/>
                  </a:lnTo>
                  <a:lnTo>
                    <a:pt x="1466" y="753"/>
                  </a:lnTo>
                  <a:lnTo>
                    <a:pt x="1463" y="756"/>
                  </a:lnTo>
                  <a:lnTo>
                    <a:pt x="1457" y="759"/>
                  </a:lnTo>
                  <a:lnTo>
                    <a:pt x="1451" y="756"/>
                  </a:lnTo>
                  <a:lnTo>
                    <a:pt x="1442" y="753"/>
                  </a:lnTo>
                  <a:lnTo>
                    <a:pt x="1445" y="765"/>
                  </a:lnTo>
                  <a:lnTo>
                    <a:pt x="1451" y="774"/>
                  </a:lnTo>
                  <a:lnTo>
                    <a:pt x="1457" y="787"/>
                  </a:lnTo>
                  <a:lnTo>
                    <a:pt x="1457" y="802"/>
                  </a:lnTo>
                  <a:lnTo>
                    <a:pt x="1445" y="808"/>
                  </a:lnTo>
                  <a:lnTo>
                    <a:pt x="1433" y="817"/>
                  </a:lnTo>
                  <a:lnTo>
                    <a:pt x="1411" y="839"/>
                  </a:lnTo>
                  <a:lnTo>
                    <a:pt x="1387" y="860"/>
                  </a:lnTo>
                  <a:lnTo>
                    <a:pt x="1377" y="870"/>
                  </a:lnTo>
                  <a:lnTo>
                    <a:pt x="1362" y="876"/>
                  </a:lnTo>
                  <a:lnTo>
                    <a:pt x="1371" y="906"/>
                  </a:lnTo>
                  <a:lnTo>
                    <a:pt x="1380" y="937"/>
                  </a:lnTo>
                  <a:lnTo>
                    <a:pt x="1387" y="952"/>
                  </a:lnTo>
                  <a:lnTo>
                    <a:pt x="1387" y="968"/>
                  </a:lnTo>
                  <a:lnTo>
                    <a:pt x="1383" y="983"/>
                  </a:lnTo>
                  <a:lnTo>
                    <a:pt x="1377" y="999"/>
                  </a:lnTo>
                  <a:lnTo>
                    <a:pt x="1362" y="986"/>
                  </a:lnTo>
                  <a:lnTo>
                    <a:pt x="1347" y="968"/>
                  </a:lnTo>
                  <a:lnTo>
                    <a:pt x="1337" y="949"/>
                  </a:lnTo>
                  <a:lnTo>
                    <a:pt x="1331" y="922"/>
                  </a:lnTo>
                  <a:lnTo>
                    <a:pt x="1322" y="913"/>
                  </a:lnTo>
                  <a:lnTo>
                    <a:pt x="1310" y="906"/>
                  </a:lnTo>
                  <a:lnTo>
                    <a:pt x="1297" y="900"/>
                  </a:lnTo>
                  <a:lnTo>
                    <a:pt x="1282" y="900"/>
                  </a:lnTo>
                  <a:lnTo>
                    <a:pt x="1267" y="900"/>
                  </a:lnTo>
                  <a:lnTo>
                    <a:pt x="1254" y="906"/>
                  </a:lnTo>
                  <a:lnTo>
                    <a:pt x="1239" y="913"/>
                  </a:lnTo>
                  <a:lnTo>
                    <a:pt x="1230" y="922"/>
                  </a:lnTo>
                  <a:lnTo>
                    <a:pt x="1211" y="916"/>
                  </a:lnTo>
                  <a:lnTo>
                    <a:pt x="1193" y="913"/>
                  </a:lnTo>
                  <a:lnTo>
                    <a:pt x="1177" y="916"/>
                  </a:lnTo>
                  <a:lnTo>
                    <a:pt x="1165" y="922"/>
                  </a:lnTo>
                  <a:lnTo>
                    <a:pt x="1137" y="937"/>
                  </a:lnTo>
                  <a:lnTo>
                    <a:pt x="1110" y="952"/>
                  </a:lnTo>
                  <a:lnTo>
                    <a:pt x="1113" y="1002"/>
                  </a:lnTo>
                  <a:lnTo>
                    <a:pt x="1116" y="1051"/>
                  </a:lnTo>
                  <a:lnTo>
                    <a:pt x="1119" y="1075"/>
                  </a:lnTo>
                  <a:lnTo>
                    <a:pt x="1128" y="1094"/>
                  </a:lnTo>
                  <a:lnTo>
                    <a:pt x="1141" y="1109"/>
                  </a:lnTo>
                  <a:lnTo>
                    <a:pt x="1150" y="1115"/>
                  </a:lnTo>
                  <a:lnTo>
                    <a:pt x="1159" y="1121"/>
                  </a:lnTo>
                  <a:lnTo>
                    <a:pt x="1165" y="1121"/>
                  </a:lnTo>
                  <a:lnTo>
                    <a:pt x="1168" y="1121"/>
                  </a:lnTo>
                  <a:lnTo>
                    <a:pt x="1177" y="1115"/>
                  </a:lnTo>
                  <a:lnTo>
                    <a:pt x="1184" y="1109"/>
                  </a:lnTo>
                  <a:lnTo>
                    <a:pt x="1190" y="1109"/>
                  </a:lnTo>
                  <a:lnTo>
                    <a:pt x="1196" y="1112"/>
                  </a:lnTo>
                  <a:lnTo>
                    <a:pt x="1202" y="1109"/>
                  </a:lnTo>
                  <a:lnTo>
                    <a:pt x="1208" y="1106"/>
                  </a:lnTo>
                  <a:lnTo>
                    <a:pt x="1211" y="1097"/>
                  </a:lnTo>
                  <a:lnTo>
                    <a:pt x="1214" y="1081"/>
                  </a:lnTo>
                  <a:lnTo>
                    <a:pt x="1214" y="1066"/>
                  </a:lnTo>
                  <a:lnTo>
                    <a:pt x="1254" y="1063"/>
                  </a:lnTo>
                  <a:lnTo>
                    <a:pt x="1270" y="1066"/>
                  </a:lnTo>
                  <a:lnTo>
                    <a:pt x="1279" y="1069"/>
                  </a:lnTo>
                  <a:lnTo>
                    <a:pt x="1285" y="1075"/>
                  </a:lnTo>
                  <a:lnTo>
                    <a:pt x="1282" y="1085"/>
                  </a:lnTo>
                  <a:lnTo>
                    <a:pt x="1279" y="1097"/>
                  </a:lnTo>
                  <a:lnTo>
                    <a:pt x="1270" y="1112"/>
                  </a:lnTo>
                  <a:lnTo>
                    <a:pt x="1264" y="1121"/>
                  </a:lnTo>
                  <a:lnTo>
                    <a:pt x="1260" y="1131"/>
                  </a:lnTo>
                  <a:lnTo>
                    <a:pt x="1260" y="1143"/>
                  </a:lnTo>
                  <a:lnTo>
                    <a:pt x="1260" y="1158"/>
                  </a:lnTo>
                  <a:lnTo>
                    <a:pt x="1270" y="1168"/>
                  </a:lnTo>
                  <a:lnTo>
                    <a:pt x="1279" y="1171"/>
                  </a:lnTo>
                  <a:lnTo>
                    <a:pt x="1288" y="1171"/>
                  </a:lnTo>
                  <a:lnTo>
                    <a:pt x="1300" y="1168"/>
                  </a:lnTo>
                  <a:lnTo>
                    <a:pt x="1313" y="1164"/>
                  </a:lnTo>
                  <a:lnTo>
                    <a:pt x="1322" y="1164"/>
                  </a:lnTo>
                  <a:lnTo>
                    <a:pt x="1331" y="1171"/>
                  </a:lnTo>
                  <a:lnTo>
                    <a:pt x="1340" y="1186"/>
                  </a:lnTo>
                  <a:lnTo>
                    <a:pt x="1334" y="1220"/>
                  </a:lnTo>
                  <a:lnTo>
                    <a:pt x="1334" y="1250"/>
                  </a:lnTo>
                  <a:lnTo>
                    <a:pt x="1334" y="1263"/>
                  </a:lnTo>
                  <a:lnTo>
                    <a:pt x="1334" y="1278"/>
                  </a:lnTo>
                  <a:lnTo>
                    <a:pt x="1340" y="1290"/>
                  </a:lnTo>
                  <a:lnTo>
                    <a:pt x="1347" y="1300"/>
                  </a:lnTo>
                  <a:lnTo>
                    <a:pt x="1359" y="1300"/>
                  </a:lnTo>
                  <a:lnTo>
                    <a:pt x="1371" y="1293"/>
                  </a:lnTo>
                  <a:lnTo>
                    <a:pt x="1390" y="1287"/>
                  </a:lnTo>
                  <a:lnTo>
                    <a:pt x="1399" y="1284"/>
                  </a:lnTo>
                  <a:lnTo>
                    <a:pt x="1408" y="1284"/>
                  </a:lnTo>
                  <a:lnTo>
                    <a:pt x="1417" y="1290"/>
                  </a:lnTo>
                  <a:lnTo>
                    <a:pt x="1427" y="1300"/>
                  </a:lnTo>
                  <a:lnTo>
                    <a:pt x="1439" y="1293"/>
                  </a:lnTo>
                  <a:lnTo>
                    <a:pt x="1451" y="1284"/>
                  </a:lnTo>
                  <a:lnTo>
                    <a:pt x="1473" y="1263"/>
                  </a:lnTo>
                  <a:lnTo>
                    <a:pt x="1482" y="1250"/>
                  </a:lnTo>
                  <a:lnTo>
                    <a:pt x="1494" y="1241"/>
                  </a:lnTo>
                  <a:lnTo>
                    <a:pt x="1510" y="1235"/>
                  </a:lnTo>
                  <a:lnTo>
                    <a:pt x="1528" y="1235"/>
                  </a:lnTo>
                  <a:lnTo>
                    <a:pt x="1522" y="1254"/>
                  </a:lnTo>
                  <a:lnTo>
                    <a:pt x="1513" y="1272"/>
                  </a:lnTo>
                  <a:lnTo>
                    <a:pt x="1519" y="1278"/>
                  </a:lnTo>
                  <a:lnTo>
                    <a:pt x="1522" y="1278"/>
                  </a:lnTo>
                  <a:lnTo>
                    <a:pt x="1531" y="1263"/>
                  </a:lnTo>
                  <a:lnTo>
                    <a:pt x="1543" y="1247"/>
                  </a:lnTo>
                  <a:lnTo>
                    <a:pt x="1549" y="1244"/>
                  </a:lnTo>
                  <a:lnTo>
                    <a:pt x="1559" y="1244"/>
                  </a:lnTo>
                  <a:lnTo>
                    <a:pt x="1562" y="1254"/>
                  </a:lnTo>
                  <a:lnTo>
                    <a:pt x="1568" y="1260"/>
                  </a:lnTo>
                  <a:lnTo>
                    <a:pt x="1577" y="1263"/>
                  </a:lnTo>
                  <a:lnTo>
                    <a:pt x="1586" y="1263"/>
                  </a:lnTo>
                  <a:lnTo>
                    <a:pt x="1599" y="1263"/>
                  </a:lnTo>
                  <a:lnTo>
                    <a:pt x="1608" y="1266"/>
                  </a:lnTo>
                  <a:lnTo>
                    <a:pt x="1614" y="1272"/>
                  </a:lnTo>
                  <a:lnTo>
                    <a:pt x="1614" y="1281"/>
                  </a:lnTo>
                  <a:lnTo>
                    <a:pt x="1620" y="1269"/>
                  </a:lnTo>
                  <a:lnTo>
                    <a:pt x="1629" y="1263"/>
                  </a:lnTo>
                  <a:lnTo>
                    <a:pt x="1642" y="1263"/>
                  </a:lnTo>
                  <a:lnTo>
                    <a:pt x="1654" y="1266"/>
                  </a:lnTo>
                  <a:lnTo>
                    <a:pt x="1663" y="1269"/>
                  </a:lnTo>
                  <a:lnTo>
                    <a:pt x="1676" y="1269"/>
                  </a:lnTo>
                  <a:lnTo>
                    <a:pt x="1682" y="1266"/>
                  </a:lnTo>
                  <a:lnTo>
                    <a:pt x="1685" y="1254"/>
                  </a:lnTo>
                  <a:lnTo>
                    <a:pt x="1694" y="1257"/>
                  </a:lnTo>
                  <a:lnTo>
                    <a:pt x="1694" y="1263"/>
                  </a:lnTo>
                  <a:lnTo>
                    <a:pt x="1694" y="1269"/>
                  </a:lnTo>
                  <a:lnTo>
                    <a:pt x="1694" y="1275"/>
                  </a:lnTo>
                  <a:lnTo>
                    <a:pt x="1688" y="1287"/>
                  </a:lnTo>
                  <a:lnTo>
                    <a:pt x="1685" y="1293"/>
                  </a:lnTo>
                  <a:lnTo>
                    <a:pt x="1685" y="1300"/>
                  </a:lnTo>
                  <a:lnTo>
                    <a:pt x="1706" y="1312"/>
                  </a:lnTo>
                  <a:lnTo>
                    <a:pt x="1725" y="1324"/>
                  </a:lnTo>
                  <a:lnTo>
                    <a:pt x="1759" y="1358"/>
                  </a:lnTo>
                  <a:lnTo>
                    <a:pt x="1780" y="1355"/>
                  </a:lnTo>
                  <a:lnTo>
                    <a:pt x="1799" y="1358"/>
                  </a:lnTo>
                  <a:lnTo>
                    <a:pt x="1814" y="1367"/>
                  </a:lnTo>
                  <a:lnTo>
                    <a:pt x="1826" y="1379"/>
                  </a:lnTo>
                  <a:lnTo>
                    <a:pt x="1845" y="1410"/>
                  </a:lnTo>
                  <a:lnTo>
                    <a:pt x="1854" y="1422"/>
                  </a:lnTo>
                  <a:lnTo>
                    <a:pt x="1866" y="1432"/>
                  </a:lnTo>
                  <a:lnTo>
                    <a:pt x="1863" y="1450"/>
                  </a:lnTo>
                  <a:lnTo>
                    <a:pt x="1857" y="1462"/>
                  </a:lnTo>
                  <a:lnTo>
                    <a:pt x="1845" y="1469"/>
                  </a:lnTo>
                  <a:lnTo>
                    <a:pt x="1829" y="1472"/>
                  </a:lnTo>
                  <a:lnTo>
                    <a:pt x="1832" y="1478"/>
                  </a:lnTo>
                  <a:lnTo>
                    <a:pt x="1838" y="1481"/>
                  </a:lnTo>
                  <a:lnTo>
                    <a:pt x="1845" y="1481"/>
                  </a:lnTo>
                  <a:lnTo>
                    <a:pt x="1851" y="1475"/>
                  </a:lnTo>
                  <a:lnTo>
                    <a:pt x="1863" y="1465"/>
                  </a:lnTo>
                  <a:lnTo>
                    <a:pt x="1869" y="1459"/>
                  </a:lnTo>
                  <a:lnTo>
                    <a:pt x="1875" y="1462"/>
                  </a:lnTo>
                  <a:lnTo>
                    <a:pt x="1285" y="688"/>
                  </a:lnTo>
                  <a:lnTo>
                    <a:pt x="1442" y="630"/>
                  </a:lnTo>
                  <a:lnTo>
                    <a:pt x="1427" y="633"/>
                  </a:lnTo>
                  <a:lnTo>
                    <a:pt x="1411" y="636"/>
                  </a:lnTo>
                  <a:lnTo>
                    <a:pt x="1402" y="642"/>
                  </a:lnTo>
                  <a:lnTo>
                    <a:pt x="1390" y="648"/>
                  </a:lnTo>
                  <a:lnTo>
                    <a:pt x="1374" y="670"/>
                  </a:lnTo>
                  <a:lnTo>
                    <a:pt x="1356" y="688"/>
                  </a:lnTo>
                  <a:lnTo>
                    <a:pt x="1402" y="661"/>
                  </a:lnTo>
                  <a:lnTo>
                    <a:pt x="1420" y="645"/>
                  </a:lnTo>
                  <a:lnTo>
                    <a:pt x="1442" y="630"/>
                  </a:lnTo>
                  <a:lnTo>
                    <a:pt x="1285" y="688"/>
                  </a:lnTo>
                  <a:lnTo>
                    <a:pt x="1291" y="224"/>
                  </a:lnTo>
                  <a:lnTo>
                    <a:pt x="1297" y="224"/>
                  </a:lnTo>
                  <a:lnTo>
                    <a:pt x="1304" y="224"/>
                  </a:lnTo>
                  <a:lnTo>
                    <a:pt x="1313" y="231"/>
                  </a:lnTo>
                  <a:lnTo>
                    <a:pt x="1316" y="234"/>
                  </a:lnTo>
                  <a:lnTo>
                    <a:pt x="1319" y="237"/>
                  </a:lnTo>
                  <a:lnTo>
                    <a:pt x="1322" y="234"/>
                  </a:lnTo>
                  <a:lnTo>
                    <a:pt x="1322" y="224"/>
                  </a:lnTo>
                  <a:lnTo>
                    <a:pt x="1316" y="221"/>
                  </a:lnTo>
                  <a:lnTo>
                    <a:pt x="1307" y="215"/>
                  </a:lnTo>
                  <a:lnTo>
                    <a:pt x="1300" y="215"/>
                  </a:lnTo>
                  <a:lnTo>
                    <a:pt x="1297" y="215"/>
                  </a:lnTo>
                  <a:lnTo>
                    <a:pt x="1294" y="218"/>
                  </a:lnTo>
                  <a:lnTo>
                    <a:pt x="1291" y="224"/>
                  </a:lnTo>
                  <a:lnTo>
                    <a:pt x="1285" y="688"/>
                  </a:lnTo>
                  <a:lnTo>
                    <a:pt x="944" y="83"/>
                  </a:lnTo>
                  <a:lnTo>
                    <a:pt x="925" y="83"/>
                  </a:lnTo>
                  <a:lnTo>
                    <a:pt x="907" y="80"/>
                  </a:lnTo>
                  <a:lnTo>
                    <a:pt x="870" y="71"/>
                  </a:lnTo>
                  <a:lnTo>
                    <a:pt x="855" y="68"/>
                  </a:lnTo>
                  <a:lnTo>
                    <a:pt x="839" y="65"/>
                  </a:lnTo>
                  <a:lnTo>
                    <a:pt x="824" y="68"/>
                  </a:lnTo>
                  <a:lnTo>
                    <a:pt x="812" y="74"/>
                  </a:lnTo>
                  <a:lnTo>
                    <a:pt x="842" y="83"/>
                  </a:lnTo>
                  <a:lnTo>
                    <a:pt x="885" y="92"/>
                  </a:lnTo>
                  <a:lnTo>
                    <a:pt x="904" y="95"/>
                  </a:lnTo>
                  <a:lnTo>
                    <a:pt x="922" y="95"/>
                  </a:lnTo>
                  <a:lnTo>
                    <a:pt x="938" y="92"/>
                  </a:lnTo>
                  <a:lnTo>
                    <a:pt x="941" y="89"/>
                  </a:lnTo>
                  <a:lnTo>
                    <a:pt x="944" y="83"/>
                  </a:lnTo>
                  <a:lnTo>
                    <a:pt x="1285" y="688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35" name="Freeform 330"/>
            <p:cNvSpPr/>
            <p:nvPr/>
          </p:nvSpPr>
          <p:spPr>
            <a:xfrm>
              <a:off x="1350720" y="2675520"/>
              <a:ext cx="25560" cy="32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22" h="28">
                  <a:moveTo>
                    <a:pt x="22" y="9"/>
                  </a:moveTo>
                  <a:lnTo>
                    <a:pt x="22" y="28"/>
                  </a:lnTo>
                  <a:lnTo>
                    <a:pt x="9" y="28"/>
                  </a:lnTo>
                  <a:lnTo>
                    <a:pt x="3" y="24"/>
                  </a:lnTo>
                  <a:lnTo>
                    <a:pt x="0" y="18"/>
                  </a:lnTo>
                  <a:lnTo>
                    <a:pt x="0" y="9"/>
                  </a:lnTo>
                  <a:lnTo>
                    <a:pt x="6" y="3"/>
                  </a:lnTo>
                  <a:lnTo>
                    <a:pt x="9" y="0"/>
                  </a:lnTo>
                  <a:lnTo>
                    <a:pt x="16" y="0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36" name="Freeform 331"/>
            <p:cNvSpPr/>
            <p:nvPr/>
          </p:nvSpPr>
          <p:spPr>
            <a:xfrm>
              <a:off x="1322280" y="2810160"/>
              <a:ext cx="54000" cy="5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6" h="46">
                  <a:moveTo>
                    <a:pt x="0" y="46"/>
                  </a:moveTo>
                  <a:lnTo>
                    <a:pt x="6" y="30"/>
                  </a:lnTo>
                  <a:lnTo>
                    <a:pt x="15" y="15"/>
                  </a:lnTo>
                  <a:lnTo>
                    <a:pt x="30" y="6"/>
                  </a:lnTo>
                  <a:lnTo>
                    <a:pt x="46" y="0"/>
                  </a:lnTo>
                  <a:lnTo>
                    <a:pt x="43" y="21"/>
                  </a:lnTo>
                  <a:lnTo>
                    <a:pt x="36" y="27"/>
                  </a:lnTo>
                  <a:lnTo>
                    <a:pt x="33" y="36"/>
                  </a:lnTo>
                  <a:lnTo>
                    <a:pt x="27" y="40"/>
                  </a:lnTo>
                  <a:lnTo>
                    <a:pt x="18" y="43"/>
                  </a:lnTo>
                  <a:lnTo>
                    <a:pt x="9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737" name="Freeform 332"/>
            <p:cNvSpPr/>
            <p:nvPr/>
          </p:nvSpPr>
          <p:spPr>
            <a:xfrm>
              <a:off x="1198440" y="2849400"/>
              <a:ext cx="64800" cy="255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55" h="22">
                  <a:moveTo>
                    <a:pt x="0" y="13"/>
                  </a:moveTo>
                  <a:lnTo>
                    <a:pt x="3" y="10"/>
                  </a:lnTo>
                  <a:lnTo>
                    <a:pt x="12" y="3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2" y="7"/>
                  </a:lnTo>
                  <a:lnTo>
                    <a:pt x="55" y="13"/>
                  </a:lnTo>
                  <a:lnTo>
                    <a:pt x="55" y="22"/>
                  </a:lnTo>
                  <a:lnTo>
                    <a:pt x="25" y="22"/>
                  </a:lnTo>
                  <a:lnTo>
                    <a:pt x="9" y="1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chemeClr val="bg1">
                <a:lumMod val="75000"/>
                <a:alpha val="7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</p:grpSp>
      <p:grpSp>
        <p:nvGrpSpPr>
          <p:cNvPr id="738" name="Group 10"/>
          <p:cNvGrpSpPr/>
          <p:nvPr/>
        </p:nvGrpSpPr>
        <p:grpSpPr>
          <a:xfrm>
            <a:off x="3934800" y="2343240"/>
            <a:ext cx="1329120" cy="2274840"/>
            <a:chOff x="3934800" y="2343240"/>
            <a:chExt cx="1329120" cy="2274840"/>
          </a:xfrm>
        </p:grpSpPr>
        <p:grpSp>
          <p:nvGrpSpPr>
            <p:cNvPr id="739" name="Group 84"/>
            <p:cNvGrpSpPr/>
            <p:nvPr/>
          </p:nvGrpSpPr>
          <p:grpSpPr>
            <a:xfrm>
              <a:off x="4041360" y="2343240"/>
              <a:ext cx="1222560" cy="2255040"/>
              <a:chOff x="4041360" y="2343240"/>
              <a:chExt cx="1222560" cy="2255040"/>
            </a:xfrm>
          </p:grpSpPr>
          <p:sp>
            <p:nvSpPr>
              <p:cNvPr id="740" name="Freeform 207"/>
              <p:cNvSpPr/>
              <p:nvPr/>
            </p:nvSpPr>
            <p:spPr>
              <a:xfrm>
                <a:off x="5175360" y="2979720"/>
                <a:ext cx="26280" cy="2628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3" y="0"/>
                    </a:moveTo>
                    <a:lnTo>
                      <a:pt x="13" y="0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19" y="13"/>
                    </a:lnTo>
                    <a:lnTo>
                      <a:pt x="19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Freeform 212"/>
              <p:cNvSpPr/>
              <p:nvPr/>
            </p:nvSpPr>
            <p:spPr>
              <a:xfrm>
                <a:off x="5069520" y="313020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1" h="13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19" y="13"/>
                    </a:lnTo>
                    <a:lnTo>
                      <a:pt x="32" y="13"/>
                    </a:lnTo>
                    <a:lnTo>
                      <a:pt x="51" y="13"/>
                    </a:lnTo>
                    <a:lnTo>
                      <a:pt x="51" y="6"/>
                    </a:lnTo>
                    <a:lnTo>
                      <a:pt x="44" y="0"/>
                    </a:lnTo>
                    <a:lnTo>
                      <a:pt x="25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Freeform 214"/>
              <p:cNvSpPr/>
              <p:nvPr/>
            </p:nvSpPr>
            <p:spPr>
              <a:xfrm>
                <a:off x="5077800" y="3156840"/>
                <a:ext cx="62280" cy="262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45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26" y="13"/>
                    </a:lnTo>
                    <a:lnTo>
                      <a:pt x="45" y="13"/>
                    </a:lnTo>
                    <a:lnTo>
                      <a:pt x="38" y="0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Freeform 216"/>
              <p:cNvSpPr/>
              <p:nvPr/>
            </p:nvSpPr>
            <p:spPr>
              <a:xfrm>
                <a:off x="5069520" y="3183120"/>
                <a:ext cx="52560" cy="176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38" h="13">
                    <a:moveTo>
                      <a:pt x="38" y="13"/>
                    </a:moveTo>
                    <a:lnTo>
                      <a:pt x="38" y="13"/>
                    </a:lnTo>
                    <a:lnTo>
                      <a:pt x="38" y="7"/>
                    </a:lnTo>
                    <a:lnTo>
                      <a:pt x="32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19" y="13"/>
                    </a:lnTo>
                    <a:lnTo>
                      <a:pt x="32" y="7"/>
                    </a:lnTo>
                    <a:lnTo>
                      <a:pt x="38" y="13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Freeform 219"/>
              <p:cNvSpPr/>
              <p:nvPr/>
            </p:nvSpPr>
            <p:spPr>
              <a:xfrm>
                <a:off x="5077800" y="2979720"/>
                <a:ext cx="44280" cy="26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32" h="19">
                    <a:moveTo>
                      <a:pt x="32" y="19"/>
                    </a:moveTo>
                    <a:lnTo>
                      <a:pt x="32" y="19"/>
                    </a:lnTo>
                    <a:lnTo>
                      <a:pt x="32" y="6"/>
                    </a:lnTo>
                    <a:lnTo>
                      <a:pt x="26" y="0"/>
                    </a:lnTo>
                    <a:lnTo>
                      <a:pt x="19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7" y="19"/>
                    </a:lnTo>
                    <a:lnTo>
                      <a:pt x="13" y="19"/>
                    </a:lnTo>
                    <a:lnTo>
                      <a:pt x="32" y="19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Freeform 220"/>
              <p:cNvSpPr/>
              <p:nvPr/>
            </p:nvSpPr>
            <p:spPr>
              <a:xfrm>
                <a:off x="5175360" y="2979720"/>
                <a:ext cx="26280" cy="2628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3" y="0"/>
                    </a:moveTo>
                    <a:lnTo>
                      <a:pt x="13" y="0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19" y="13"/>
                    </a:lnTo>
                    <a:lnTo>
                      <a:pt x="19" y="6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Freeform 226"/>
              <p:cNvSpPr/>
              <p:nvPr/>
            </p:nvSpPr>
            <p:spPr>
              <a:xfrm>
                <a:off x="5069520" y="313020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1" h="13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19" y="13"/>
                    </a:lnTo>
                    <a:lnTo>
                      <a:pt x="32" y="13"/>
                    </a:lnTo>
                    <a:lnTo>
                      <a:pt x="51" y="13"/>
                    </a:lnTo>
                    <a:lnTo>
                      <a:pt x="51" y="6"/>
                    </a:lnTo>
                    <a:lnTo>
                      <a:pt x="44" y="0"/>
                    </a:lnTo>
                    <a:lnTo>
                      <a:pt x="25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Freeform 228"/>
              <p:cNvSpPr/>
              <p:nvPr/>
            </p:nvSpPr>
            <p:spPr>
              <a:xfrm>
                <a:off x="5077800" y="3156840"/>
                <a:ext cx="62280" cy="262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45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26" y="13"/>
                    </a:lnTo>
                    <a:lnTo>
                      <a:pt x="45" y="13"/>
                    </a:lnTo>
                    <a:lnTo>
                      <a:pt x="38" y="0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Freeform 231"/>
              <p:cNvSpPr/>
              <p:nvPr/>
            </p:nvSpPr>
            <p:spPr>
              <a:xfrm>
                <a:off x="5077800" y="3262680"/>
                <a:ext cx="44280" cy="2628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32" h="19">
                    <a:moveTo>
                      <a:pt x="32" y="19"/>
                    </a:moveTo>
                    <a:lnTo>
                      <a:pt x="32" y="19"/>
                    </a:lnTo>
                    <a:lnTo>
                      <a:pt x="32" y="7"/>
                    </a:lnTo>
                    <a:lnTo>
                      <a:pt x="26" y="0"/>
                    </a:lnTo>
                    <a:lnTo>
                      <a:pt x="19" y="7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7" y="19"/>
                    </a:lnTo>
                    <a:lnTo>
                      <a:pt x="13" y="19"/>
                    </a:lnTo>
                    <a:lnTo>
                      <a:pt x="32" y="19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Freeform 234"/>
              <p:cNvSpPr/>
              <p:nvPr/>
            </p:nvSpPr>
            <p:spPr>
              <a:xfrm>
                <a:off x="5069520" y="333360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1" h="13">
                    <a:moveTo>
                      <a:pt x="51" y="0"/>
                    </a:moveTo>
                    <a:lnTo>
                      <a:pt x="51" y="0"/>
                    </a:lnTo>
                    <a:lnTo>
                      <a:pt x="25" y="0"/>
                    </a:lnTo>
                    <a:lnTo>
                      <a:pt x="13" y="0"/>
                    </a:lnTo>
                    <a:lnTo>
                      <a:pt x="0" y="13"/>
                    </a:lnTo>
                    <a:lnTo>
                      <a:pt x="32" y="13"/>
                    </a:lnTo>
                    <a:lnTo>
                      <a:pt x="44" y="6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Freeform 236"/>
              <p:cNvSpPr/>
              <p:nvPr/>
            </p:nvSpPr>
            <p:spPr>
              <a:xfrm>
                <a:off x="5069520" y="3360240"/>
                <a:ext cx="52560" cy="176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38" h="13">
                    <a:moveTo>
                      <a:pt x="6" y="13"/>
                    </a:moveTo>
                    <a:lnTo>
                      <a:pt x="6" y="13"/>
                    </a:lnTo>
                    <a:lnTo>
                      <a:pt x="19" y="13"/>
                    </a:lnTo>
                    <a:lnTo>
                      <a:pt x="38" y="13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3" y="7"/>
                    </a:lnTo>
                    <a:lnTo>
                      <a:pt x="0" y="7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Freeform 238"/>
              <p:cNvSpPr/>
              <p:nvPr/>
            </p:nvSpPr>
            <p:spPr>
              <a:xfrm>
                <a:off x="5069520" y="3298680"/>
                <a:ext cx="52560" cy="2628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38" h="19">
                    <a:moveTo>
                      <a:pt x="32" y="0"/>
                    </a:moveTo>
                    <a:lnTo>
                      <a:pt x="32" y="0"/>
                    </a:lnTo>
                    <a:lnTo>
                      <a:pt x="32" y="6"/>
                    </a:lnTo>
                    <a:lnTo>
                      <a:pt x="19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9"/>
                    </a:lnTo>
                    <a:lnTo>
                      <a:pt x="32" y="19"/>
                    </a:lnTo>
                    <a:lnTo>
                      <a:pt x="38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Freeform 241"/>
              <p:cNvSpPr/>
              <p:nvPr/>
            </p:nvSpPr>
            <p:spPr>
              <a:xfrm>
                <a:off x="5069520" y="333360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1" h="13">
                    <a:moveTo>
                      <a:pt x="51" y="0"/>
                    </a:moveTo>
                    <a:lnTo>
                      <a:pt x="51" y="0"/>
                    </a:lnTo>
                    <a:lnTo>
                      <a:pt x="25" y="0"/>
                    </a:lnTo>
                    <a:lnTo>
                      <a:pt x="13" y="0"/>
                    </a:lnTo>
                    <a:lnTo>
                      <a:pt x="0" y="13"/>
                    </a:lnTo>
                    <a:lnTo>
                      <a:pt x="32" y="13"/>
                    </a:lnTo>
                    <a:lnTo>
                      <a:pt x="44" y="6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Freeform 243"/>
              <p:cNvSpPr/>
              <p:nvPr/>
            </p:nvSpPr>
            <p:spPr>
              <a:xfrm>
                <a:off x="5069520" y="3360240"/>
                <a:ext cx="52560" cy="176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38" h="13">
                    <a:moveTo>
                      <a:pt x="6" y="13"/>
                    </a:moveTo>
                    <a:lnTo>
                      <a:pt x="6" y="13"/>
                    </a:lnTo>
                    <a:lnTo>
                      <a:pt x="19" y="13"/>
                    </a:lnTo>
                    <a:lnTo>
                      <a:pt x="38" y="13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3" y="7"/>
                    </a:lnTo>
                    <a:lnTo>
                      <a:pt x="0" y="7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Freeform 245"/>
              <p:cNvSpPr/>
              <p:nvPr/>
            </p:nvSpPr>
            <p:spPr>
              <a:xfrm>
                <a:off x="5069520" y="3298680"/>
                <a:ext cx="52560" cy="2628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38" h="19">
                    <a:moveTo>
                      <a:pt x="32" y="0"/>
                    </a:moveTo>
                    <a:lnTo>
                      <a:pt x="32" y="0"/>
                    </a:lnTo>
                    <a:lnTo>
                      <a:pt x="32" y="6"/>
                    </a:lnTo>
                    <a:lnTo>
                      <a:pt x="19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9"/>
                    </a:lnTo>
                    <a:lnTo>
                      <a:pt x="32" y="19"/>
                    </a:lnTo>
                    <a:lnTo>
                      <a:pt x="38" y="1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Freeform 281"/>
              <p:cNvSpPr/>
              <p:nvPr/>
            </p:nvSpPr>
            <p:spPr>
              <a:xfrm>
                <a:off x="4334400" y="234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Freeform 282"/>
              <p:cNvSpPr/>
              <p:nvPr/>
            </p:nvSpPr>
            <p:spPr>
              <a:xfrm>
                <a:off x="4334400" y="23961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Freeform 283"/>
              <p:cNvSpPr/>
              <p:nvPr/>
            </p:nvSpPr>
            <p:spPr>
              <a:xfrm>
                <a:off x="4334400" y="239616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Rectangle 284"/>
              <p:cNvSpPr/>
              <p:nvPr/>
            </p:nvSpPr>
            <p:spPr>
              <a:xfrm>
                <a:off x="4334400" y="240444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Freeform 285"/>
              <p:cNvSpPr/>
              <p:nvPr/>
            </p:nvSpPr>
            <p:spPr>
              <a:xfrm>
                <a:off x="4316400" y="24141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Freeform 286"/>
              <p:cNvSpPr/>
              <p:nvPr/>
            </p:nvSpPr>
            <p:spPr>
              <a:xfrm>
                <a:off x="4334400" y="241416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Freeform 287"/>
              <p:cNvSpPr/>
              <p:nvPr/>
            </p:nvSpPr>
            <p:spPr>
              <a:xfrm>
                <a:off x="4350960" y="24307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Rectangle 290"/>
              <p:cNvSpPr/>
              <p:nvPr/>
            </p:nvSpPr>
            <p:spPr>
              <a:xfrm>
                <a:off x="4350960" y="267876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Freeform 291"/>
              <p:cNvSpPr/>
              <p:nvPr/>
            </p:nvSpPr>
            <p:spPr>
              <a:xfrm>
                <a:off x="4361040" y="2678760"/>
                <a:ext cx="1080" cy="93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588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Rectangle 292"/>
              <p:cNvSpPr/>
              <p:nvPr/>
            </p:nvSpPr>
            <p:spPr>
              <a:xfrm>
                <a:off x="4254840" y="268848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Rectangle 293"/>
              <p:cNvSpPr/>
              <p:nvPr/>
            </p:nvSpPr>
            <p:spPr>
              <a:xfrm>
                <a:off x="4361040" y="268848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Freeform 294"/>
              <p:cNvSpPr/>
              <p:nvPr/>
            </p:nvSpPr>
            <p:spPr>
              <a:xfrm>
                <a:off x="4350960" y="2688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Freeform 295"/>
              <p:cNvSpPr/>
              <p:nvPr/>
            </p:nvSpPr>
            <p:spPr>
              <a:xfrm>
                <a:off x="4350960" y="2688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Rectangle 296"/>
              <p:cNvSpPr/>
              <p:nvPr/>
            </p:nvSpPr>
            <p:spPr>
              <a:xfrm>
                <a:off x="4361040" y="275004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Freeform 297"/>
              <p:cNvSpPr/>
              <p:nvPr/>
            </p:nvSpPr>
            <p:spPr>
              <a:xfrm>
                <a:off x="4342680" y="2750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Rectangle 298"/>
              <p:cNvSpPr/>
              <p:nvPr/>
            </p:nvSpPr>
            <p:spPr>
              <a:xfrm>
                <a:off x="4369320" y="275004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Freeform 299"/>
              <p:cNvSpPr/>
              <p:nvPr/>
            </p:nvSpPr>
            <p:spPr>
              <a:xfrm>
                <a:off x="4379040" y="275004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Rectangle 300"/>
              <p:cNvSpPr/>
              <p:nvPr/>
            </p:nvSpPr>
            <p:spPr>
              <a:xfrm>
                <a:off x="4405680" y="275004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Freeform 301"/>
              <p:cNvSpPr/>
              <p:nvPr/>
            </p:nvSpPr>
            <p:spPr>
              <a:xfrm>
                <a:off x="4298040" y="2750040"/>
                <a:ext cx="1080" cy="262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588" h="19">
                    <a:moveTo>
                      <a:pt x="0" y="19"/>
                    </a:moveTo>
                    <a:lnTo>
                      <a:pt x="0" y="19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302"/>
              <p:cNvSpPr/>
              <p:nvPr/>
            </p:nvSpPr>
            <p:spPr>
              <a:xfrm>
                <a:off x="4395600" y="275004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303"/>
              <p:cNvSpPr/>
              <p:nvPr/>
            </p:nvSpPr>
            <p:spPr>
              <a:xfrm>
                <a:off x="4298040" y="2758320"/>
                <a:ext cx="1080" cy="176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588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Rectangle 304"/>
              <p:cNvSpPr/>
              <p:nvPr/>
            </p:nvSpPr>
            <p:spPr>
              <a:xfrm>
                <a:off x="4361040" y="275832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305"/>
              <p:cNvSpPr/>
              <p:nvPr/>
            </p:nvSpPr>
            <p:spPr>
              <a:xfrm>
                <a:off x="4289760" y="2758320"/>
                <a:ext cx="1080" cy="262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588" h="19">
                    <a:moveTo>
                      <a:pt x="0" y="19"/>
                    </a:moveTo>
                    <a:lnTo>
                      <a:pt x="0" y="19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306"/>
              <p:cNvSpPr/>
              <p:nvPr/>
            </p:nvSpPr>
            <p:spPr>
              <a:xfrm>
                <a:off x="4281480" y="2758320"/>
                <a:ext cx="7920" cy="262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6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6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Rectangle 307"/>
              <p:cNvSpPr/>
              <p:nvPr/>
            </p:nvSpPr>
            <p:spPr>
              <a:xfrm>
                <a:off x="4350960" y="276804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Rectangle 308"/>
              <p:cNvSpPr/>
              <p:nvPr/>
            </p:nvSpPr>
            <p:spPr>
              <a:xfrm>
                <a:off x="4350960" y="276804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309"/>
              <p:cNvSpPr/>
              <p:nvPr/>
            </p:nvSpPr>
            <p:spPr>
              <a:xfrm>
                <a:off x="4271760" y="277632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310"/>
              <p:cNvSpPr/>
              <p:nvPr/>
            </p:nvSpPr>
            <p:spPr>
              <a:xfrm>
                <a:off x="4271760" y="2784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311"/>
              <p:cNvSpPr/>
              <p:nvPr/>
            </p:nvSpPr>
            <p:spPr>
              <a:xfrm>
                <a:off x="4271760" y="278460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Freeform 312"/>
              <p:cNvSpPr/>
              <p:nvPr/>
            </p:nvSpPr>
            <p:spPr>
              <a:xfrm>
                <a:off x="4298040" y="2784600"/>
                <a:ext cx="1080" cy="176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588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Freeform 313"/>
              <p:cNvSpPr/>
              <p:nvPr/>
            </p:nvSpPr>
            <p:spPr>
              <a:xfrm>
                <a:off x="4298040" y="2784600"/>
                <a:ext cx="1080" cy="262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588" h="19">
                    <a:moveTo>
                      <a:pt x="0" y="19"/>
                    </a:moveTo>
                    <a:lnTo>
                      <a:pt x="0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Freeform 314"/>
              <p:cNvSpPr/>
              <p:nvPr/>
            </p:nvSpPr>
            <p:spPr>
              <a:xfrm>
                <a:off x="4289760" y="2794320"/>
                <a:ext cx="1080" cy="162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588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Freeform 315"/>
              <p:cNvSpPr/>
              <p:nvPr/>
            </p:nvSpPr>
            <p:spPr>
              <a:xfrm>
                <a:off x="4281480" y="2794320"/>
                <a:ext cx="7920" cy="162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12"/>
                    </a:moveTo>
                    <a:lnTo>
                      <a:pt x="6" y="12"/>
                    </a:lnTo>
                    <a:lnTo>
                      <a:pt x="0" y="0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Freeform 316"/>
              <p:cNvSpPr/>
              <p:nvPr/>
            </p:nvSpPr>
            <p:spPr>
              <a:xfrm>
                <a:off x="4350960" y="2794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317"/>
              <p:cNvSpPr/>
              <p:nvPr/>
            </p:nvSpPr>
            <p:spPr>
              <a:xfrm>
                <a:off x="4281480" y="2794320"/>
                <a:ext cx="1080" cy="262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588" h="19">
                    <a:moveTo>
                      <a:pt x="0" y="19"/>
                    </a:moveTo>
                    <a:lnTo>
                      <a:pt x="0" y="1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Freeform 318"/>
              <p:cNvSpPr/>
              <p:nvPr/>
            </p:nvSpPr>
            <p:spPr>
              <a:xfrm>
                <a:off x="4271760" y="2802960"/>
                <a:ext cx="1080" cy="176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588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Freeform 319"/>
              <p:cNvSpPr/>
              <p:nvPr/>
            </p:nvSpPr>
            <p:spPr>
              <a:xfrm>
                <a:off x="4361040" y="2811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320"/>
              <p:cNvSpPr/>
              <p:nvPr/>
            </p:nvSpPr>
            <p:spPr>
              <a:xfrm>
                <a:off x="4422240" y="2811240"/>
                <a:ext cx="1080" cy="176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588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322"/>
              <p:cNvSpPr/>
              <p:nvPr/>
            </p:nvSpPr>
            <p:spPr>
              <a:xfrm>
                <a:off x="4361040" y="2820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Rectangle 323"/>
              <p:cNvSpPr/>
              <p:nvPr/>
            </p:nvSpPr>
            <p:spPr>
              <a:xfrm>
                <a:off x="4350960" y="282096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324"/>
              <p:cNvSpPr/>
              <p:nvPr/>
            </p:nvSpPr>
            <p:spPr>
              <a:xfrm>
                <a:off x="4254840" y="2820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325"/>
              <p:cNvSpPr/>
              <p:nvPr/>
            </p:nvSpPr>
            <p:spPr>
              <a:xfrm>
                <a:off x="4298040" y="2820960"/>
                <a:ext cx="1080" cy="176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588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Rectangle 326"/>
              <p:cNvSpPr/>
              <p:nvPr/>
            </p:nvSpPr>
            <p:spPr>
              <a:xfrm>
                <a:off x="4254840" y="282096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Freeform 327"/>
              <p:cNvSpPr/>
              <p:nvPr/>
            </p:nvSpPr>
            <p:spPr>
              <a:xfrm>
                <a:off x="4298040" y="282924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Rectangle 328"/>
              <p:cNvSpPr/>
              <p:nvPr/>
            </p:nvSpPr>
            <p:spPr>
              <a:xfrm>
                <a:off x="4245120" y="282924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Freeform 329"/>
              <p:cNvSpPr/>
              <p:nvPr/>
            </p:nvSpPr>
            <p:spPr>
              <a:xfrm>
                <a:off x="4289760" y="2829240"/>
                <a:ext cx="1080" cy="93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58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330"/>
              <p:cNvSpPr/>
              <p:nvPr/>
            </p:nvSpPr>
            <p:spPr>
              <a:xfrm>
                <a:off x="4281480" y="2829240"/>
                <a:ext cx="7920" cy="176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6" h="13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6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Freeform 331"/>
              <p:cNvSpPr/>
              <p:nvPr/>
            </p:nvSpPr>
            <p:spPr>
              <a:xfrm>
                <a:off x="4350960" y="282924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Rectangle 332"/>
              <p:cNvSpPr/>
              <p:nvPr/>
            </p:nvSpPr>
            <p:spPr>
              <a:xfrm>
                <a:off x="4350960" y="282924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Rectangle 333"/>
              <p:cNvSpPr/>
              <p:nvPr/>
            </p:nvSpPr>
            <p:spPr>
              <a:xfrm>
                <a:off x="4466880" y="282924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Freeform 334"/>
              <p:cNvSpPr/>
              <p:nvPr/>
            </p:nvSpPr>
            <p:spPr>
              <a:xfrm>
                <a:off x="4422240" y="283896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Rectangle 335"/>
              <p:cNvSpPr/>
              <p:nvPr/>
            </p:nvSpPr>
            <p:spPr>
              <a:xfrm>
                <a:off x="4350960" y="283896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Freeform 336"/>
              <p:cNvSpPr/>
              <p:nvPr/>
            </p:nvSpPr>
            <p:spPr>
              <a:xfrm>
                <a:off x="4422240" y="283896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Freeform 337"/>
              <p:cNvSpPr/>
              <p:nvPr/>
            </p:nvSpPr>
            <p:spPr>
              <a:xfrm>
                <a:off x="4350960" y="2838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Freeform 338"/>
              <p:cNvSpPr/>
              <p:nvPr/>
            </p:nvSpPr>
            <p:spPr>
              <a:xfrm>
                <a:off x="4350960" y="283896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Rectangle 339"/>
              <p:cNvSpPr/>
              <p:nvPr/>
            </p:nvSpPr>
            <p:spPr>
              <a:xfrm>
                <a:off x="4298040" y="284724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Freeform 340"/>
              <p:cNvSpPr/>
              <p:nvPr/>
            </p:nvSpPr>
            <p:spPr>
              <a:xfrm>
                <a:off x="4298040" y="2847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Freeform 341"/>
              <p:cNvSpPr/>
              <p:nvPr/>
            </p:nvSpPr>
            <p:spPr>
              <a:xfrm>
                <a:off x="4298040" y="284724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Rectangle 342"/>
              <p:cNvSpPr/>
              <p:nvPr/>
            </p:nvSpPr>
            <p:spPr>
              <a:xfrm>
                <a:off x="4289760" y="284724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Freeform 343"/>
              <p:cNvSpPr/>
              <p:nvPr/>
            </p:nvSpPr>
            <p:spPr>
              <a:xfrm>
                <a:off x="4289760" y="2847240"/>
                <a:ext cx="1080" cy="176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588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Freeform 344"/>
              <p:cNvSpPr/>
              <p:nvPr/>
            </p:nvSpPr>
            <p:spPr>
              <a:xfrm>
                <a:off x="4350960" y="284724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Freeform 345"/>
              <p:cNvSpPr/>
              <p:nvPr/>
            </p:nvSpPr>
            <p:spPr>
              <a:xfrm>
                <a:off x="4281480" y="2847240"/>
                <a:ext cx="7920" cy="176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6" h="13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Freeform 346"/>
              <p:cNvSpPr/>
              <p:nvPr/>
            </p:nvSpPr>
            <p:spPr>
              <a:xfrm>
                <a:off x="4298040" y="284724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Freeform 347"/>
              <p:cNvSpPr/>
              <p:nvPr/>
            </p:nvSpPr>
            <p:spPr>
              <a:xfrm>
                <a:off x="4245120" y="2855880"/>
                <a:ext cx="9360" cy="93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Rectangle 348"/>
              <p:cNvSpPr/>
              <p:nvPr/>
            </p:nvSpPr>
            <p:spPr>
              <a:xfrm>
                <a:off x="4350960" y="285588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Freeform 349"/>
              <p:cNvSpPr/>
              <p:nvPr/>
            </p:nvSpPr>
            <p:spPr>
              <a:xfrm>
                <a:off x="4350960" y="28558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Freeform 350"/>
              <p:cNvSpPr/>
              <p:nvPr/>
            </p:nvSpPr>
            <p:spPr>
              <a:xfrm>
                <a:off x="4422240" y="28558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Freeform 351"/>
              <p:cNvSpPr/>
              <p:nvPr/>
            </p:nvSpPr>
            <p:spPr>
              <a:xfrm>
                <a:off x="4298040" y="2865600"/>
                <a:ext cx="9360" cy="162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7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Freeform 352"/>
              <p:cNvSpPr/>
              <p:nvPr/>
            </p:nvSpPr>
            <p:spPr>
              <a:xfrm>
                <a:off x="4422240" y="286560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Freeform 353"/>
              <p:cNvSpPr/>
              <p:nvPr/>
            </p:nvSpPr>
            <p:spPr>
              <a:xfrm>
                <a:off x="4422240" y="286560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Freeform 354"/>
              <p:cNvSpPr/>
              <p:nvPr/>
            </p:nvSpPr>
            <p:spPr>
              <a:xfrm>
                <a:off x="4289760" y="287388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Freeform 355"/>
              <p:cNvSpPr/>
              <p:nvPr/>
            </p:nvSpPr>
            <p:spPr>
              <a:xfrm>
                <a:off x="4298040" y="287388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Freeform 356"/>
              <p:cNvSpPr/>
              <p:nvPr/>
            </p:nvSpPr>
            <p:spPr>
              <a:xfrm>
                <a:off x="4281480" y="2873880"/>
                <a:ext cx="7920" cy="7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Freeform 357"/>
              <p:cNvSpPr/>
              <p:nvPr/>
            </p:nvSpPr>
            <p:spPr>
              <a:xfrm>
                <a:off x="4281480" y="2873880"/>
                <a:ext cx="1080" cy="176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588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9" name="Freeform 358"/>
              <p:cNvSpPr/>
              <p:nvPr/>
            </p:nvSpPr>
            <p:spPr>
              <a:xfrm>
                <a:off x="4271760" y="2873880"/>
                <a:ext cx="1080" cy="1764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588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Rectangle 359"/>
              <p:cNvSpPr/>
              <p:nvPr/>
            </p:nvSpPr>
            <p:spPr>
              <a:xfrm>
                <a:off x="4422240" y="288216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Freeform 360"/>
              <p:cNvSpPr/>
              <p:nvPr/>
            </p:nvSpPr>
            <p:spPr>
              <a:xfrm>
                <a:off x="4422240" y="2882160"/>
                <a:ext cx="1080" cy="93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58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2" name="Freeform 361"/>
              <p:cNvSpPr/>
              <p:nvPr/>
            </p:nvSpPr>
            <p:spPr>
              <a:xfrm>
                <a:off x="4422240" y="289188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Freeform 362"/>
              <p:cNvSpPr/>
              <p:nvPr/>
            </p:nvSpPr>
            <p:spPr>
              <a:xfrm>
                <a:off x="4289760" y="2891880"/>
                <a:ext cx="1080" cy="162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588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Rectangle 363"/>
              <p:cNvSpPr/>
              <p:nvPr/>
            </p:nvSpPr>
            <p:spPr>
              <a:xfrm>
                <a:off x="4281480" y="289188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Freeform 364"/>
              <p:cNvSpPr/>
              <p:nvPr/>
            </p:nvSpPr>
            <p:spPr>
              <a:xfrm>
                <a:off x="4289760" y="2891880"/>
                <a:ext cx="1080" cy="1620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1588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Freeform 365"/>
              <p:cNvSpPr/>
              <p:nvPr/>
            </p:nvSpPr>
            <p:spPr>
              <a:xfrm>
                <a:off x="4245120" y="289188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Freeform 366"/>
              <p:cNvSpPr/>
              <p:nvPr/>
            </p:nvSpPr>
            <p:spPr>
              <a:xfrm>
                <a:off x="4298040" y="289188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Freeform 367"/>
              <p:cNvSpPr/>
              <p:nvPr/>
            </p:nvSpPr>
            <p:spPr>
              <a:xfrm>
                <a:off x="4298040" y="2891880"/>
                <a:ext cx="9360" cy="792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Freeform 368"/>
              <p:cNvSpPr/>
              <p:nvPr/>
            </p:nvSpPr>
            <p:spPr>
              <a:xfrm>
                <a:off x="4271760" y="290052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Freeform 369"/>
              <p:cNvSpPr/>
              <p:nvPr/>
            </p:nvSpPr>
            <p:spPr>
              <a:xfrm>
                <a:off x="4281480" y="290052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Freeform 370"/>
              <p:cNvSpPr/>
              <p:nvPr/>
            </p:nvSpPr>
            <p:spPr>
              <a:xfrm>
                <a:off x="4422240" y="2900520"/>
                <a:ext cx="1080" cy="79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588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Oval 371"/>
              <p:cNvSpPr/>
              <p:nvPr/>
            </p:nvSpPr>
            <p:spPr>
              <a:xfrm>
                <a:off x="4254840" y="2900520"/>
                <a:ext cx="1080" cy="7920"/>
              </a:xfrm>
              <a:prstGeom prst="ellipse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372"/>
              <p:cNvSpPr/>
              <p:nvPr/>
            </p:nvSpPr>
            <p:spPr>
              <a:xfrm>
                <a:off x="4422240" y="29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88" h="1588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Rectangle 373"/>
              <p:cNvSpPr/>
              <p:nvPr/>
            </p:nvSpPr>
            <p:spPr>
              <a:xfrm>
                <a:off x="4307760" y="2908800"/>
                <a:ext cx="1080" cy="10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Freeform 380"/>
              <p:cNvSpPr/>
              <p:nvPr/>
            </p:nvSpPr>
            <p:spPr>
              <a:xfrm>
                <a:off x="4892400" y="2670480"/>
                <a:ext cx="229680" cy="290880"/>
              </a:xfrm>
              <a:custGeom>
                <a:avLst/>
                <a:gdLst>
                  <a:gd name="textAreaLeft" fmla="*/ 0 w 229680"/>
                  <a:gd name="textAreaRight" fmla="*/ 230040 w 229680"/>
                  <a:gd name="textAreaTop" fmla="*/ 0 h 290880"/>
                  <a:gd name="textAreaBottom" fmla="*/ 291240 h 290880"/>
                </a:gdLst>
                <a:ahLst/>
                <a:rect l="textAreaLeft" t="textAreaTop" r="textAreaRight" b="textAreaBottom"/>
                <a:pathLst>
                  <a:path w="165" h="209">
                    <a:moveTo>
                      <a:pt x="89" y="6"/>
                    </a:moveTo>
                    <a:lnTo>
                      <a:pt x="89" y="6"/>
                    </a:lnTo>
                    <a:lnTo>
                      <a:pt x="63" y="0"/>
                    </a:lnTo>
                    <a:lnTo>
                      <a:pt x="57" y="6"/>
                    </a:lnTo>
                    <a:lnTo>
                      <a:pt x="51" y="13"/>
                    </a:lnTo>
                    <a:lnTo>
                      <a:pt x="32" y="38"/>
                    </a:lnTo>
                    <a:lnTo>
                      <a:pt x="25" y="70"/>
                    </a:lnTo>
                    <a:lnTo>
                      <a:pt x="25" y="101"/>
                    </a:lnTo>
                    <a:lnTo>
                      <a:pt x="19" y="133"/>
                    </a:lnTo>
                    <a:lnTo>
                      <a:pt x="6" y="159"/>
                    </a:lnTo>
                    <a:lnTo>
                      <a:pt x="0" y="178"/>
                    </a:lnTo>
                    <a:lnTo>
                      <a:pt x="6" y="197"/>
                    </a:lnTo>
                    <a:lnTo>
                      <a:pt x="25" y="209"/>
                    </a:lnTo>
                    <a:lnTo>
                      <a:pt x="38" y="209"/>
                    </a:lnTo>
                    <a:lnTo>
                      <a:pt x="51" y="203"/>
                    </a:lnTo>
                    <a:lnTo>
                      <a:pt x="101" y="203"/>
                    </a:lnTo>
                    <a:lnTo>
                      <a:pt x="152" y="203"/>
                    </a:lnTo>
                    <a:lnTo>
                      <a:pt x="165" y="197"/>
                    </a:lnTo>
                    <a:lnTo>
                      <a:pt x="165" y="178"/>
                    </a:lnTo>
                    <a:lnTo>
                      <a:pt x="159" y="159"/>
                    </a:lnTo>
                    <a:lnTo>
                      <a:pt x="152" y="140"/>
                    </a:lnTo>
                    <a:lnTo>
                      <a:pt x="146" y="127"/>
                    </a:lnTo>
                    <a:lnTo>
                      <a:pt x="140" y="108"/>
                    </a:lnTo>
                    <a:lnTo>
                      <a:pt x="140" y="76"/>
                    </a:lnTo>
                    <a:lnTo>
                      <a:pt x="133" y="38"/>
                    </a:lnTo>
                    <a:lnTo>
                      <a:pt x="133" y="25"/>
                    </a:lnTo>
                    <a:lnTo>
                      <a:pt x="127" y="13"/>
                    </a:lnTo>
                    <a:lnTo>
                      <a:pt x="108" y="6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89" y="6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Freeform 381"/>
              <p:cNvSpPr/>
              <p:nvPr/>
            </p:nvSpPr>
            <p:spPr>
              <a:xfrm>
                <a:off x="4041360" y="2590920"/>
                <a:ext cx="1222560" cy="2007360"/>
              </a:xfrm>
              <a:custGeom>
                <a:avLst/>
                <a:gdLst>
                  <a:gd name="textAreaLeft" fmla="*/ 0 w 1222560"/>
                  <a:gd name="textAreaRight" fmla="*/ 1222920 w 1222560"/>
                  <a:gd name="textAreaTop" fmla="*/ 0 h 2007360"/>
                  <a:gd name="textAreaBottom" fmla="*/ 2007720 h 2007360"/>
                </a:gdLst>
                <a:ahLst/>
                <a:rect l="textAreaLeft" t="textAreaTop" r="textAreaRight" b="textAreaBottom"/>
                <a:pathLst>
                  <a:path w="877" h="1441">
                    <a:moveTo>
                      <a:pt x="57" y="279"/>
                    </a:moveTo>
                    <a:lnTo>
                      <a:pt x="127" y="247"/>
                    </a:lnTo>
                    <a:lnTo>
                      <a:pt x="134" y="222"/>
                    </a:lnTo>
                    <a:lnTo>
                      <a:pt x="121" y="216"/>
                    </a:lnTo>
                    <a:lnTo>
                      <a:pt x="108" y="184"/>
                    </a:lnTo>
                    <a:lnTo>
                      <a:pt x="102" y="133"/>
                    </a:lnTo>
                    <a:lnTo>
                      <a:pt x="102" y="101"/>
                    </a:lnTo>
                    <a:lnTo>
                      <a:pt x="108" y="89"/>
                    </a:lnTo>
                    <a:lnTo>
                      <a:pt x="121" y="70"/>
                    </a:lnTo>
                    <a:lnTo>
                      <a:pt x="134" y="63"/>
                    </a:lnTo>
                    <a:lnTo>
                      <a:pt x="153" y="57"/>
                    </a:lnTo>
                    <a:lnTo>
                      <a:pt x="172" y="70"/>
                    </a:lnTo>
                    <a:lnTo>
                      <a:pt x="197" y="89"/>
                    </a:lnTo>
                    <a:lnTo>
                      <a:pt x="203" y="101"/>
                    </a:lnTo>
                    <a:lnTo>
                      <a:pt x="210" y="127"/>
                    </a:lnTo>
                    <a:lnTo>
                      <a:pt x="216" y="127"/>
                    </a:lnTo>
                    <a:lnTo>
                      <a:pt x="216" y="133"/>
                    </a:lnTo>
                    <a:lnTo>
                      <a:pt x="216" y="146"/>
                    </a:lnTo>
                    <a:lnTo>
                      <a:pt x="216" y="165"/>
                    </a:lnTo>
                    <a:lnTo>
                      <a:pt x="216" y="171"/>
                    </a:lnTo>
                    <a:lnTo>
                      <a:pt x="210" y="165"/>
                    </a:lnTo>
                    <a:lnTo>
                      <a:pt x="210" y="197"/>
                    </a:lnTo>
                    <a:lnTo>
                      <a:pt x="216" y="216"/>
                    </a:lnTo>
                    <a:lnTo>
                      <a:pt x="222" y="228"/>
                    </a:lnTo>
                    <a:lnTo>
                      <a:pt x="248" y="247"/>
                    </a:lnTo>
                    <a:lnTo>
                      <a:pt x="292" y="266"/>
                    </a:lnTo>
                    <a:lnTo>
                      <a:pt x="343" y="235"/>
                    </a:lnTo>
                    <a:lnTo>
                      <a:pt x="381" y="216"/>
                    </a:lnTo>
                    <a:lnTo>
                      <a:pt x="419" y="209"/>
                    </a:lnTo>
                    <a:lnTo>
                      <a:pt x="426" y="190"/>
                    </a:lnTo>
                    <a:lnTo>
                      <a:pt x="432" y="184"/>
                    </a:lnTo>
                    <a:lnTo>
                      <a:pt x="432" y="133"/>
                    </a:lnTo>
                    <a:lnTo>
                      <a:pt x="426" y="114"/>
                    </a:lnTo>
                    <a:lnTo>
                      <a:pt x="419" y="95"/>
                    </a:lnTo>
                    <a:lnTo>
                      <a:pt x="426" y="89"/>
                    </a:lnTo>
                    <a:lnTo>
                      <a:pt x="432" y="89"/>
                    </a:lnTo>
                    <a:lnTo>
                      <a:pt x="438" y="57"/>
                    </a:lnTo>
                    <a:lnTo>
                      <a:pt x="445" y="31"/>
                    </a:lnTo>
                    <a:lnTo>
                      <a:pt x="451" y="19"/>
                    </a:lnTo>
                    <a:lnTo>
                      <a:pt x="464" y="12"/>
                    </a:lnTo>
                    <a:lnTo>
                      <a:pt x="470" y="12"/>
                    </a:lnTo>
                    <a:lnTo>
                      <a:pt x="489" y="6"/>
                    </a:lnTo>
                    <a:lnTo>
                      <a:pt x="508" y="0"/>
                    </a:lnTo>
                    <a:lnTo>
                      <a:pt x="521" y="6"/>
                    </a:lnTo>
                    <a:lnTo>
                      <a:pt x="534" y="12"/>
                    </a:lnTo>
                    <a:lnTo>
                      <a:pt x="546" y="25"/>
                    </a:lnTo>
                    <a:lnTo>
                      <a:pt x="559" y="44"/>
                    </a:lnTo>
                    <a:lnTo>
                      <a:pt x="559" y="57"/>
                    </a:lnTo>
                    <a:lnTo>
                      <a:pt x="559" y="70"/>
                    </a:lnTo>
                    <a:lnTo>
                      <a:pt x="559" y="108"/>
                    </a:lnTo>
                    <a:lnTo>
                      <a:pt x="559" y="127"/>
                    </a:lnTo>
                    <a:lnTo>
                      <a:pt x="553" y="146"/>
                    </a:lnTo>
                    <a:lnTo>
                      <a:pt x="546" y="152"/>
                    </a:lnTo>
                    <a:lnTo>
                      <a:pt x="527" y="190"/>
                    </a:lnTo>
                    <a:lnTo>
                      <a:pt x="521" y="222"/>
                    </a:lnTo>
                    <a:lnTo>
                      <a:pt x="527" y="241"/>
                    </a:lnTo>
                    <a:lnTo>
                      <a:pt x="584" y="260"/>
                    </a:lnTo>
                    <a:lnTo>
                      <a:pt x="635" y="254"/>
                    </a:lnTo>
                    <a:lnTo>
                      <a:pt x="661" y="222"/>
                    </a:lnTo>
                    <a:lnTo>
                      <a:pt x="661" y="209"/>
                    </a:lnTo>
                    <a:lnTo>
                      <a:pt x="654" y="203"/>
                    </a:lnTo>
                    <a:lnTo>
                      <a:pt x="642" y="209"/>
                    </a:lnTo>
                    <a:lnTo>
                      <a:pt x="648" y="190"/>
                    </a:lnTo>
                    <a:lnTo>
                      <a:pt x="648" y="178"/>
                    </a:lnTo>
                    <a:lnTo>
                      <a:pt x="642" y="165"/>
                    </a:lnTo>
                    <a:lnTo>
                      <a:pt x="642" y="152"/>
                    </a:lnTo>
                    <a:lnTo>
                      <a:pt x="642" y="133"/>
                    </a:lnTo>
                    <a:lnTo>
                      <a:pt x="642" y="108"/>
                    </a:lnTo>
                    <a:lnTo>
                      <a:pt x="661" y="76"/>
                    </a:lnTo>
                    <a:lnTo>
                      <a:pt x="667" y="63"/>
                    </a:lnTo>
                    <a:lnTo>
                      <a:pt x="686" y="63"/>
                    </a:lnTo>
                    <a:lnTo>
                      <a:pt x="699" y="63"/>
                    </a:lnTo>
                    <a:lnTo>
                      <a:pt x="724" y="70"/>
                    </a:lnTo>
                    <a:lnTo>
                      <a:pt x="743" y="101"/>
                    </a:lnTo>
                    <a:lnTo>
                      <a:pt x="743" y="133"/>
                    </a:lnTo>
                    <a:lnTo>
                      <a:pt x="743" y="146"/>
                    </a:lnTo>
                    <a:lnTo>
                      <a:pt x="743" y="158"/>
                    </a:lnTo>
                    <a:lnTo>
                      <a:pt x="737" y="171"/>
                    </a:lnTo>
                    <a:lnTo>
                      <a:pt x="737" y="197"/>
                    </a:lnTo>
                    <a:lnTo>
                      <a:pt x="731" y="197"/>
                    </a:lnTo>
                    <a:lnTo>
                      <a:pt x="724" y="197"/>
                    </a:lnTo>
                    <a:lnTo>
                      <a:pt x="724" y="209"/>
                    </a:lnTo>
                    <a:lnTo>
                      <a:pt x="731" y="216"/>
                    </a:lnTo>
                    <a:lnTo>
                      <a:pt x="756" y="235"/>
                    </a:lnTo>
                    <a:lnTo>
                      <a:pt x="800" y="235"/>
                    </a:lnTo>
                    <a:lnTo>
                      <a:pt x="819" y="247"/>
                    </a:lnTo>
                    <a:lnTo>
                      <a:pt x="832" y="260"/>
                    </a:lnTo>
                    <a:lnTo>
                      <a:pt x="832" y="273"/>
                    </a:lnTo>
                    <a:lnTo>
                      <a:pt x="832" y="279"/>
                    </a:lnTo>
                    <a:lnTo>
                      <a:pt x="832" y="292"/>
                    </a:lnTo>
                    <a:lnTo>
                      <a:pt x="819" y="324"/>
                    </a:lnTo>
                    <a:lnTo>
                      <a:pt x="813" y="368"/>
                    </a:lnTo>
                    <a:lnTo>
                      <a:pt x="800" y="406"/>
                    </a:lnTo>
                    <a:lnTo>
                      <a:pt x="788" y="444"/>
                    </a:lnTo>
                    <a:lnTo>
                      <a:pt x="826" y="597"/>
                    </a:lnTo>
                    <a:lnTo>
                      <a:pt x="794" y="609"/>
                    </a:lnTo>
                    <a:lnTo>
                      <a:pt x="807" y="889"/>
                    </a:lnTo>
                    <a:lnTo>
                      <a:pt x="807" y="895"/>
                    </a:lnTo>
                    <a:lnTo>
                      <a:pt x="807" y="901"/>
                    </a:lnTo>
                    <a:lnTo>
                      <a:pt x="807" y="914"/>
                    </a:lnTo>
                    <a:lnTo>
                      <a:pt x="800" y="940"/>
                    </a:lnTo>
                    <a:lnTo>
                      <a:pt x="800" y="959"/>
                    </a:lnTo>
                    <a:lnTo>
                      <a:pt x="800" y="1009"/>
                    </a:lnTo>
                    <a:lnTo>
                      <a:pt x="794" y="1048"/>
                    </a:lnTo>
                    <a:lnTo>
                      <a:pt x="800" y="1111"/>
                    </a:lnTo>
                    <a:lnTo>
                      <a:pt x="807" y="1187"/>
                    </a:lnTo>
                    <a:lnTo>
                      <a:pt x="826" y="1206"/>
                    </a:lnTo>
                    <a:lnTo>
                      <a:pt x="851" y="1225"/>
                    </a:lnTo>
                    <a:lnTo>
                      <a:pt x="870" y="1238"/>
                    </a:lnTo>
                    <a:lnTo>
                      <a:pt x="877" y="1251"/>
                    </a:lnTo>
                    <a:lnTo>
                      <a:pt x="794" y="1238"/>
                    </a:lnTo>
                    <a:lnTo>
                      <a:pt x="788" y="1238"/>
                    </a:lnTo>
                    <a:lnTo>
                      <a:pt x="781" y="1232"/>
                    </a:lnTo>
                    <a:lnTo>
                      <a:pt x="775" y="1219"/>
                    </a:lnTo>
                    <a:lnTo>
                      <a:pt x="762" y="1200"/>
                    </a:lnTo>
                    <a:lnTo>
                      <a:pt x="743" y="1187"/>
                    </a:lnTo>
                    <a:lnTo>
                      <a:pt x="737" y="1213"/>
                    </a:lnTo>
                    <a:lnTo>
                      <a:pt x="731" y="1213"/>
                    </a:lnTo>
                    <a:lnTo>
                      <a:pt x="731" y="1181"/>
                    </a:lnTo>
                    <a:lnTo>
                      <a:pt x="724" y="1175"/>
                    </a:lnTo>
                    <a:lnTo>
                      <a:pt x="724" y="1117"/>
                    </a:lnTo>
                    <a:lnTo>
                      <a:pt x="731" y="1073"/>
                    </a:lnTo>
                    <a:lnTo>
                      <a:pt x="731" y="990"/>
                    </a:lnTo>
                    <a:lnTo>
                      <a:pt x="731" y="971"/>
                    </a:lnTo>
                    <a:lnTo>
                      <a:pt x="731" y="952"/>
                    </a:lnTo>
                    <a:lnTo>
                      <a:pt x="718" y="921"/>
                    </a:lnTo>
                    <a:lnTo>
                      <a:pt x="718" y="876"/>
                    </a:lnTo>
                    <a:lnTo>
                      <a:pt x="711" y="800"/>
                    </a:lnTo>
                    <a:lnTo>
                      <a:pt x="692" y="724"/>
                    </a:lnTo>
                    <a:lnTo>
                      <a:pt x="673" y="673"/>
                    </a:lnTo>
                    <a:lnTo>
                      <a:pt x="667" y="679"/>
                    </a:lnTo>
                    <a:lnTo>
                      <a:pt x="667" y="705"/>
                    </a:lnTo>
                    <a:lnTo>
                      <a:pt x="667" y="774"/>
                    </a:lnTo>
                    <a:lnTo>
                      <a:pt x="667" y="844"/>
                    </a:lnTo>
                    <a:lnTo>
                      <a:pt x="667" y="870"/>
                    </a:lnTo>
                    <a:lnTo>
                      <a:pt x="673" y="889"/>
                    </a:lnTo>
                    <a:lnTo>
                      <a:pt x="673" y="914"/>
                    </a:lnTo>
                    <a:lnTo>
                      <a:pt x="680" y="952"/>
                    </a:lnTo>
                    <a:lnTo>
                      <a:pt x="686" y="990"/>
                    </a:lnTo>
                    <a:lnTo>
                      <a:pt x="699" y="1028"/>
                    </a:lnTo>
                    <a:lnTo>
                      <a:pt x="705" y="1060"/>
                    </a:lnTo>
                    <a:lnTo>
                      <a:pt x="718" y="1098"/>
                    </a:lnTo>
                    <a:lnTo>
                      <a:pt x="718" y="1143"/>
                    </a:lnTo>
                    <a:lnTo>
                      <a:pt x="711" y="1143"/>
                    </a:lnTo>
                    <a:lnTo>
                      <a:pt x="705" y="1168"/>
                    </a:lnTo>
                    <a:lnTo>
                      <a:pt x="699" y="1175"/>
                    </a:lnTo>
                    <a:lnTo>
                      <a:pt x="692" y="1149"/>
                    </a:lnTo>
                    <a:lnTo>
                      <a:pt x="686" y="1175"/>
                    </a:lnTo>
                    <a:lnTo>
                      <a:pt x="680" y="1181"/>
                    </a:lnTo>
                    <a:lnTo>
                      <a:pt x="673" y="1194"/>
                    </a:lnTo>
                    <a:lnTo>
                      <a:pt x="661" y="1200"/>
                    </a:lnTo>
                    <a:lnTo>
                      <a:pt x="610" y="1213"/>
                    </a:lnTo>
                    <a:lnTo>
                      <a:pt x="604" y="1200"/>
                    </a:lnTo>
                    <a:lnTo>
                      <a:pt x="623" y="1181"/>
                    </a:lnTo>
                    <a:lnTo>
                      <a:pt x="629" y="1162"/>
                    </a:lnTo>
                    <a:lnTo>
                      <a:pt x="642" y="1149"/>
                    </a:lnTo>
                    <a:lnTo>
                      <a:pt x="648" y="1124"/>
                    </a:lnTo>
                    <a:lnTo>
                      <a:pt x="635" y="1086"/>
                    </a:lnTo>
                    <a:lnTo>
                      <a:pt x="629" y="1048"/>
                    </a:lnTo>
                    <a:lnTo>
                      <a:pt x="616" y="1003"/>
                    </a:lnTo>
                    <a:lnTo>
                      <a:pt x="610" y="952"/>
                    </a:lnTo>
                    <a:lnTo>
                      <a:pt x="604" y="908"/>
                    </a:lnTo>
                    <a:lnTo>
                      <a:pt x="597" y="844"/>
                    </a:lnTo>
                    <a:lnTo>
                      <a:pt x="578" y="959"/>
                    </a:lnTo>
                    <a:lnTo>
                      <a:pt x="572" y="1022"/>
                    </a:lnTo>
                    <a:lnTo>
                      <a:pt x="572" y="1124"/>
                    </a:lnTo>
                    <a:lnTo>
                      <a:pt x="546" y="1200"/>
                    </a:lnTo>
                    <a:lnTo>
                      <a:pt x="559" y="1244"/>
                    </a:lnTo>
                    <a:lnTo>
                      <a:pt x="578" y="1263"/>
                    </a:lnTo>
                    <a:lnTo>
                      <a:pt x="578" y="1308"/>
                    </a:lnTo>
                    <a:lnTo>
                      <a:pt x="540" y="1314"/>
                    </a:lnTo>
                    <a:lnTo>
                      <a:pt x="515" y="1289"/>
                    </a:lnTo>
                    <a:lnTo>
                      <a:pt x="508" y="1282"/>
                    </a:lnTo>
                    <a:lnTo>
                      <a:pt x="502" y="1276"/>
                    </a:lnTo>
                    <a:lnTo>
                      <a:pt x="502" y="1257"/>
                    </a:lnTo>
                    <a:lnTo>
                      <a:pt x="496" y="1238"/>
                    </a:lnTo>
                    <a:lnTo>
                      <a:pt x="477" y="1225"/>
                    </a:lnTo>
                    <a:lnTo>
                      <a:pt x="477" y="1206"/>
                    </a:lnTo>
                    <a:lnTo>
                      <a:pt x="483" y="1181"/>
                    </a:lnTo>
                    <a:lnTo>
                      <a:pt x="483" y="1143"/>
                    </a:lnTo>
                    <a:lnTo>
                      <a:pt x="483" y="1117"/>
                    </a:lnTo>
                    <a:lnTo>
                      <a:pt x="496" y="1079"/>
                    </a:lnTo>
                    <a:lnTo>
                      <a:pt x="496" y="1022"/>
                    </a:lnTo>
                    <a:lnTo>
                      <a:pt x="496" y="952"/>
                    </a:lnTo>
                    <a:lnTo>
                      <a:pt x="489" y="895"/>
                    </a:lnTo>
                    <a:lnTo>
                      <a:pt x="489" y="844"/>
                    </a:lnTo>
                    <a:lnTo>
                      <a:pt x="483" y="819"/>
                    </a:lnTo>
                    <a:lnTo>
                      <a:pt x="483" y="806"/>
                    </a:lnTo>
                    <a:lnTo>
                      <a:pt x="477" y="819"/>
                    </a:lnTo>
                    <a:lnTo>
                      <a:pt x="457" y="889"/>
                    </a:lnTo>
                    <a:lnTo>
                      <a:pt x="451" y="927"/>
                    </a:lnTo>
                    <a:lnTo>
                      <a:pt x="451" y="933"/>
                    </a:lnTo>
                    <a:lnTo>
                      <a:pt x="451" y="1003"/>
                    </a:lnTo>
                    <a:lnTo>
                      <a:pt x="451" y="1086"/>
                    </a:lnTo>
                    <a:lnTo>
                      <a:pt x="451" y="1155"/>
                    </a:lnTo>
                    <a:lnTo>
                      <a:pt x="445" y="1238"/>
                    </a:lnTo>
                    <a:lnTo>
                      <a:pt x="438" y="1270"/>
                    </a:lnTo>
                    <a:lnTo>
                      <a:pt x="432" y="1282"/>
                    </a:lnTo>
                    <a:lnTo>
                      <a:pt x="426" y="1289"/>
                    </a:lnTo>
                    <a:lnTo>
                      <a:pt x="432" y="1295"/>
                    </a:lnTo>
                    <a:lnTo>
                      <a:pt x="432" y="1314"/>
                    </a:lnTo>
                    <a:lnTo>
                      <a:pt x="432" y="1321"/>
                    </a:lnTo>
                    <a:lnTo>
                      <a:pt x="432" y="1327"/>
                    </a:lnTo>
                    <a:lnTo>
                      <a:pt x="419" y="1352"/>
                    </a:lnTo>
                    <a:lnTo>
                      <a:pt x="407" y="1352"/>
                    </a:lnTo>
                    <a:lnTo>
                      <a:pt x="407" y="1378"/>
                    </a:lnTo>
                    <a:lnTo>
                      <a:pt x="407" y="1390"/>
                    </a:lnTo>
                    <a:lnTo>
                      <a:pt x="400" y="1403"/>
                    </a:lnTo>
                    <a:lnTo>
                      <a:pt x="394" y="1416"/>
                    </a:lnTo>
                    <a:lnTo>
                      <a:pt x="375" y="1435"/>
                    </a:lnTo>
                    <a:lnTo>
                      <a:pt x="369" y="1441"/>
                    </a:lnTo>
                    <a:lnTo>
                      <a:pt x="324" y="1435"/>
                    </a:lnTo>
                    <a:lnTo>
                      <a:pt x="324" y="1390"/>
                    </a:lnTo>
                    <a:lnTo>
                      <a:pt x="330" y="1378"/>
                    </a:lnTo>
                    <a:lnTo>
                      <a:pt x="349" y="1327"/>
                    </a:lnTo>
                    <a:lnTo>
                      <a:pt x="356" y="1308"/>
                    </a:lnTo>
                    <a:lnTo>
                      <a:pt x="349" y="1270"/>
                    </a:lnTo>
                    <a:lnTo>
                      <a:pt x="349" y="1213"/>
                    </a:lnTo>
                    <a:lnTo>
                      <a:pt x="343" y="1143"/>
                    </a:lnTo>
                    <a:lnTo>
                      <a:pt x="349" y="1079"/>
                    </a:lnTo>
                    <a:lnTo>
                      <a:pt x="349" y="1016"/>
                    </a:lnTo>
                    <a:lnTo>
                      <a:pt x="356" y="946"/>
                    </a:lnTo>
                    <a:lnTo>
                      <a:pt x="349" y="908"/>
                    </a:lnTo>
                    <a:lnTo>
                      <a:pt x="349" y="863"/>
                    </a:lnTo>
                    <a:lnTo>
                      <a:pt x="349" y="781"/>
                    </a:lnTo>
                    <a:lnTo>
                      <a:pt x="356" y="736"/>
                    </a:lnTo>
                    <a:lnTo>
                      <a:pt x="362" y="698"/>
                    </a:lnTo>
                    <a:lnTo>
                      <a:pt x="362" y="692"/>
                    </a:lnTo>
                    <a:lnTo>
                      <a:pt x="356" y="686"/>
                    </a:lnTo>
                    <a:lnTo>
                      <a:pt x="343" y="686"/>
                    </a:lnTo>
                    <a:lnTo>
                      <a:pt x="337" y="679"/>
                    </a:lnTo>
                    <a:lnTo>
                      <a:pt x="330" y="667"/>
                    </a:lnTo>
                    <a:lnTo>
                      <a:pt x="305" y="698"/>
                    </a:lnTo>
                    <a:lnTo>
                      <a:pt x="299" y="698"/>
                    </a:lnTo>
                    <a:lnTo>
                      <a:pt x="299" y="717"/>
                    </a:lnTo>
                    <a:lnTo>
                      <a:pt x="292" y="743"/>
                    </a:lnTo>
                    <a:lnTo>
                      <a:pt x="292" y="876"/>
                    </a:lnTo>
                    <a:lnTo>
                      <a:pt x="305" y="914"/>
                    </a:lnTo>
                    <a:lnTo>
                      <a:pt x="311" y="952"/>
                    </a:lnTo>
                    <a:lnTo>
                      <a:pt x="311" y="997"/>
                    </a:lnTo>
                    <a:lnTo>
                      <a:pt x="324" y="1048"/>
                    </a:lnTo>
                    <a:lnTo>
                      <a:pt x="330" y="1092"/>
                    </a:lnTo>
                    <a:lnTo>
                      <a:pt x="337" y="1149"/>
                    </a:lnTo>
                    <a:lnTo>
                      <a:pt x="330" y="1162"/>
                    </a:lnTo>
                    <a:lnTo>
                      <a:pt x="337" y="1181"/>
                    </a:lnTo>
                    <a:lnTo>
                      <a:pt x="324" y="1206"/>
                    </a:lnTo>
                    <a:lnTo>
                      <a:pt x="324" y="1276"/>
                    </a:lnTo>
                    <a:lnTo>
                      <a:pt x="324" y="1282"/>
                    </a:lnTo>
                    <a:lnTo>
                      <a:pt x="318" y="1295"/>
                    </a:lnTo>
                    <a:lnTo>
                      <a:pt x="305" y="1302"/>
                    </a:lnTo>
                    <a:lnTo>
                      <a:pt x="280" y="1308"/>
                    </a:lnTo>
                    <a:lnTo>
                      <a:pt x="267" y="1308"/>
                    </a:lnTo>
                    <a:lnTo>
                      <a:pt x="254" y="1302"/>
                    </a:lnTo>
                    <a:lnTo>
                      <a:pt x="248" y="1282"/>
                    </a:lnTo>
                    <a:lnTo>
                      <a:pt x="254" y="1257"/>
                    </a:lnTo>
                    <a:lnTo>
                      <a:pt x="261" y="1238"/>
                    </a:lnTo>
                    <a:lnTo>
                      <a:pt x="267" y="1213"/>
                    </a:lnTo>
                    <a:lnTo>
                      <a:pt x="254" y="1187"/>
                    </a:lnTo>
                    <a:lnTo>
                      <a:pt x="261" y="1168"/>
                    </a:lnTo>
                    <a:lnTo>
                      <a:pt x="242" y="1130"/>
                    </a:lnTo>
                    <a:lnTo>
                      <a:pt x="222" y="1041"/>
                    </a:lnTo>
                    <a:lnTo>
                      <a:pt x="203" y="940"/>
                    </a:lnTo>
                    <a:lnTo>
                      <a:pt x="191" y="876"/>
                    </a:lnTo>
                    <a:lnTo>
                      <a:pt x="184" y="825"/>
                    </a:lnTo>
                    <a:lnTo>
                      <a:pt x="172" y="838"/>
                    </a:lnTo>
                    <a:lnTo>
                      <a:pt x="172" y="882"/>
                    </a:lnTo>
                    <a:lnTo>
                      <a:pt x="172" y="908"/>
                    </a:lnTo>
                    <a:lnTo>
                      <a:pt x="178" y="933"/>
                    </a:lnTo>
                    <a:lnTo>
                      <a:pt x="178" y="959"/>
                    </a:lnTo>
                    <a:lnTo>
                      <a:pt x="184" y="997"/>
                    </a:lnTo>
                    <a:lnTo>
                      <a:pt x="184" y="1054"/>
                    </a:lnTo>
                    <a:lnTo>
                      <a:pt x="191" y="1098"/>
                    </a:lnTo>
                    <a:lnTo>
                      <a:pt x="197" y="1111"/>
                    </a:lnTo>
                    <a:lnTo>
                      <a:pt x="203" y="1136"/>
                    </a:lnTo>
                    <a:lnTo>
                      <a:pt x="191" y="1155"/>
                    </a:lnTo>
                    <a:lnTo>
                      <a:pt x="191" y="1194"/>
                    </a:lnTo>
                    <a:lnTo>
                      <a:pt x="172" y="1206"/>
                    </a:lnTo>
                    <a:lnTo>
                      <a:pt x="165" y="1200"/>
                    </a:lnTo>
                    <a:lnTo>
                      <a:pt x="146" y="1225"/>
                    </a:lnTo>
                    <a:lnTo>
                      <a:pt x="140" y="1238"/>
                    </a:lnTo>
                    <a:lnTo>
                      <a:pt x="134" y="1244"/>
                    </a:lnTo>
                    <a:lnTo>
                      <a:pt x="121" y="1251"/>
                    </a:lnTo>
                    <a:lnTo>
                      <a:pt x="102" y="1251"/>
                    </a:lnTo>
                    <a:lnTo>
                      <a:pt x="76" y="1238"/>
                    </a:lnTo>
                    <a:lnTo>
                      <a:pt x="70" y="1225"/>
                    </a:lnTo>
                    <a:lnTo>
                      <a:pt x="89" y="1206"/>
                    </a:lnTo>
                    <a:lnTo>
                      <a:pt x="108" y="1181"/>
                    </a:lnTo>
                    <a:lnTo>
                      <a:pt x="121" y="1162"/>
                    </a:lnTo>
                    <a:lnTo>
                      <a:pt x="121" y="1136"/>
                    </a:lnTo>
                    <a:lnTo>
                      <a:pt x="102" y="1124"/>
                    </a:lnTo>
                    <a:lnTo>
                      <a:pt x="102" y="1111"/>
                    </a:lnTo>
                    <a:lnTo>
                      <a:pt x="95" y="1060"/>
                    </a:lnTo>
                    <a:lnTo>
                      <a:pt x="89" y="1022"/>
                    </a:lnTo>
                    <a:lnTo>
                      <a:pt x="83" y="965"/>
                    </a:lnTo>
                    <a:lnTo>
                      <a:pt x="64" y="889"/>
                    </a:lnTo>
                    <a:lnTo>
                      <a:pt x="51" y="819"/>
                    </a:lnTo>
                    <a:lnTo>
                      <a:pt x="38" y="749"/>
                    </a:lnTo>
                    <a:lnTo>
                      <a:pt x="32" y="730"/>
                    </a:lnTo>
                    <a:lnTo>
                      <a:pt x="7" y="692"/>
                    </a:lnTo>
                    <a:lnTo>
                      <a:pt x="0" y="654"/>
                    </a:lnTo>
                    <a:lnTo>
                      <a:pt x="7" y="597"/>
                    </a:lnTo>
                    <a:lnTo>
                      <a:pt x="7" y="520"/>
                    </a:lnTo>
                    <a:lnTo>
                      <a:pt x="19" y="470"/>
                    </a:lnTo>
                    <a:lnTo>
                      <a:pt x="26" y="406"/>
                    </a:lnTo>
                    <a:lnTo>
                      <a:pt x="32" y="336"/>
                    </a:lnTo>
                    <a:lnTo>
                      <a:pt x="38" y="298"/>
                    </a:lnTo>
                    <a:lnTo>
                      <a:pt x="38" y="292"/>
                    </a:lnTo>
                    <a:lnTo>
                      <a:pt x="57" y="279"/>
                    </a:lnTo>
                    <a:close/>
                  </a:path>
                </a:pathLst>
              </a:cu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7" name="Freeform 382"/>
            <p:cNvSpPr/>
            <p:nvPr/>
          </p:nvSpPr>
          <p:spPr>
            <a:xfrm>
              <a:off x="4165560" y="2895120"/>
              <a:ext cx="185040" cy="50400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133" h="362">
                  <a:moveTo>
                    <a:pt x="127" y="0"/>
                  </a:moveTo>
                  <a:lnTo>
                    <a:pt x="133" y="12"/>
                  </a:lnTo>
                  <a:lnTo>
                    <a:pt x="102" y="165"/>
                  </a:lnTo>
                  <a:lnTo>
                    <a:pt x="83" y="279"/>
                  </a:lnTo>
                  <a:lnTo>
                    <a:pt x="83" y="330"/>
                  </a:lnTo>
                  <a:lnTo>
                    <a:pt x="89" y="355"/>
                  </a:lnTo>
                  <a:lnTo>
                    <a:pt x="57" y="362"/>
                  </a:lnTo>
                  <a:lnTo>
                    <a:pt x="25" y="362"/>
                  </a:lnTo>
                  <a:lnTo>
                    <a:pt x="0" y="355"/>
                  </a:lnTo>
                  <a:lnTo>
                    <a:pt x="6" y="304"/>
                  </a:lnTo>
                  <a:lnTo>
                    <a:pt x="13" y="298"/>
                  </a:lnTo>
                  <a:lnTo>
                    <a:pt x="38" y="317"/>
                  </a:lnTo>
                  <a:lnTo>
                    <a:pt x="76" y="292"/>
                  </a:lnTo>
                  <a:lnTo>
                    <a:pt x="76" y="228"/>
                  </a:lnTo>
                  <a:lnTo>
                    <a:pt x="83" y="165"/>
                  </a:lnTo>
                  <a:lnTo>
                    <a:pt x="76" y="108"/>
                  </a:lnTo>
                  <a:lnTo>
                    <a:pt x="76" y="63"/>
                  </a:lnTo>
                  <a:lnTo>
                    <a:pt x="83" y="44"/>
                  </a:lnTo>
                  <a:lnTo>
                    <a:pt x="57" y="44"/>
                  </a:lnTo>
                  <a:lnTo>
                    <a:pt x="45" y="57"/>
                  </a:lnTo>
                  <a:lnTo>
                    <a:pt x="57" y="69"/>
                  </a:lnTo>
                  <a:lnTo>
                    <a:pt x="45" y="146"/>
                  </a:lnTo>
                  <a:lnTo>
                    <a:pt x="25" y="216"/>
                  </a:lnTo>
                  <a:lnTo>
                    <a:pt x="32" y="165"/>
                  </a:lnTo>
                  <a:lnTo>
                    <a:pt x="32" y="101"/>
                  </a:lnTo>
                  <a:lnTo>
                    <a:pt x="38" y="63"/>
                  </a:lnTo>
                  <a:lnTo>
                    <a:pt x="38" y="31"/>
                  </a:lnTo>
                  <a:lnTo>
                    <a:pt x="45" y="25"/>
                  </a:lnTo>
                  <a:lnTo>
                    <a:pt x="64" y="38"/>
                  </a:lnTo>
                  <a:lnTo>
                    <a:pt x="76" y="38"/>
                  </a:lnTo>
                  <a:lnTo>
                    <a:pt x="102" y="19"/>
                  </a:lnTo>
                  <a:lnTo>
                    <a:pt x="121" y="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848" name="Freeform 383"/>
            <p:cNvSpPr/>
            <p:nvPr/>
          </p:nvSpPr>
          <p:spPr>
            <a:xfrm>
              <a:off x="4678920" y="2930040"/>
              <a:ext cx="115560" cy="414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83" h="298">
                  <a:moveTo>
                    <a:pt x="13" y="0"/>
                  </a:moveTo>
                  <a:lnTo>
                    <a:pt x="32" y="6"/>
                  </a:lnTo>
                  <a:lnTo>
                    <a:pt x="45" y="25"/>
                  </a:lnTo>
                  <a:lnTo>
                    <a:pt x="39" y="44"/>
                  </a:lnTo>
                  <a:lnTo>
                    <a:pt x="64" y="95"/>
                  </a:lnTo>
                  <a:lnTo>
                    <a:pt x="64" y="114"/>
                  </a:lnTo>
                  <a:lnTo>
                    <a:pt x="70" y="146"/>
                  </a:lnTo>
                  <a:lnTo>
                    <a:pt x="83" y="241"/>
                  </a:lnTo>
                  <a:lnTo>
                    <a:pt x="83" y="267"/>
                  </a:lnTo>
                  <a:lnTo>
                    <a:pt x="58" y="298"/>
                  </a:lnTo>
                  <a:lnTo>
                    <a:pt x="20" y="273"/>
                  </a:lnTo>
                  <a:lnTo>
                    <a:pt x="7" y="133"/>
                  </a:lnTo>
                  <a:lnTo>
                    <a:pt x="7" y="70"/>
                  </a:lnTo>
                  <a:lnTo>
                    <a:pt x="20" y="38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gradFill rotWithShape="0">
              <a:gsLst>
                <a:gs pos="0">
                  <a:srgbClr val="17375e"/>
                </a:gs>
                <a:gs pos="100000">
                  <a:srgbClr val="376092"/>
                </a:gs>
              </a:gsLst>
              <a:lin ang="162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849" name="Freeform 384"/>
            <p:cNvSpPr/>
            <p:nvPr/>
          </p:nvSpPr>
          <p:spPr>
            <a:xfrm>
              <a:off x="4945320" y="2903400"/>
              <a:ext cx="115560" cy="1584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83" h="114">
                  <a:moveTo>
                    <a:pt x="25" y="114"/>
                  </a:moveTo>
                  <a:lnTo>
                    <a:pt x="19" y="114"/>
                  </a:lnTo>
                  <a:lnTo>
                    <a:pt x="13" y="76"/>
                  </a:lnTo>
                  <a:lnTo>
                    <a:pt x="0" y="57"/>
                  </a:lnTo>
                  <a:lnTo>
                    <a:pt x="6" y="32"/>
                  </a:lnTo>
                  <a:lnTo>
                    <a:pt x="13" y="13"/>
                  </a:lnTo>
                  <a:lnTo>
                    <a:pt x="25" y="32"/>
                  </a:lnTo>
                  <a:lnTo>
                    <a:pt x="44" y="32"/>
                  </a:lnTo>
                  <a:lnTo>
                    <a:pt x="70" y="19"/>
                  </a:lnTo>
                  <a:lnTo>
                    <a:pt x="83" y="0"/>
                  </a:lnTo>
                  <a:lnTo>
                    <a:pt x="83" y="32"/>
                  </a:lnTo>
                  <a:lnTo>
                    <a:pt x="57" y="57"/>
                  </a:lnTo>
                  <a:lnTo>
                    <a:pt x="44" y="76"/>
                  </a:lnTo>
                  <a:lnTo>
                    <a:pt x="25" y="114"/>
                  </a:lnTo>
                  <a:close/>
                </a:path>
              </a:pathLst>
            </a:custGeom>
            <a:solidFill>
              <a:schemeClr val="tx2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850" name="Oval 88"/>
            <p:cNvSpPr/>
            <p:nvPr/>
          </p:nvSpPr>
          <p:spPr>
            <a:xfrm>
              <a:off x="4039200" y="4330080"/>
              <a:ext cx="1063440" cy="288000"/>
            </a:xfrm>
            <a:prstGeom prst="ellipse">
              <a:avLst/>
            </a:prstGeom>
            <a:gradFill rotWithShape="0">
              <a:gsLst>
                <a:gs pos="0">
                  <a:srgbClr val="0d0d0d">
                    <a:alpha val="45098"/>
                  </a:srgbClr>
                </a:gs>
                <a:gs pos="100000">
                  <a:srgbClr val="a4c1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851" name="Oval 89"/>
            <p:cNvSpPr/>
            <p:nvPr/>
          </p:nvSpPr>
          <p:spPr>
            <a:xfrm>
              <a:off x="3934800" y="4186080"/>
              <a:ext cx="1063440" cy="288000"/>
            </a:xfrm>
            <a:prstGeom prst="ellipse">
              <a:avLst/>
            </a:prstGeom>
            <a:gradFill rotWithShape="0">
              <a:gsLst>
                <a:gs pos="0">
                  <a:srgbClr val="0d0d0d">
                    <a:alpha val="45098"/>
                  </a:srgbClr>
                </a:gs>
                <a:gs pos="100000">
                  <a:srgbClr val="a4c1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</p:grpSp>
      <p:sp>
        <p:nvSpPr>
          <p:cNvPr id="852" name="TextBox 33"/>
          <p:cNvSpPr/>
          <p:nvPr/>
        </p:nvSpPr>
        <p:spPr>
          <a:xfrm>
            <a:off x="3337560" y="4451040"/>
            <a:ext cx="2819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Market-Regular"/>
                <a:ea typeface="ＭＳ Ｐゴシック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Group 1"/>
          <p:cNvGrpSpPr/>
          <p:nvPr/>
        </p:nvGrpSpPr>
        <p:grpSpPr>
          <a:xfrm>
            <a:off x="6801480" y="4045320"/>
            <a:ext cx="1546200" cy="881640"/>
            <a:chOff x="6801480" y="4045320"/>
            <a:chExt cx="1546200" cy="881640"/>
          </a:xfrm>
        </p:grpSpPr>
        <p:sp>
          <p:nvSpPr>
            <p:cNvPr id="854" name="Rounded Rectangular Callout 273"/>
            <p:cNvSpPr/>
            <p:nvPr/>
          </p:nvSpPr>
          <p:spPr>
            <a:xfrm>
              <a:off x="6801480" y="4045320"/>
              <a:ext cx="1546200" cy="881640"/>
            </a:xfrm>
            <a:prstGeom prst="wedgeRoundRectCallout">
              <a:avLst>
                <a:gd name="adj1" fmla="val 31721"/>
                <a:gd name="adj2" fmla="val 66340"/>
                <a:gd name="adj3" fmla="val 16667"/>
              </a:avLst>
            </a:prstGeom>
            <a:gradFill rotWithShape="0">
              <a:gsLst>
                <a:gs pos="0">
                  <a:srgbClr val="26628d"/>
                </a:gs>
                <a:gs pos="100000">
                  <a:srgbClr val="3ba0e5"/>
                </a:gs>
              </a:gsLst>
              <a:lin ang="162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5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855" name="TextBox 274"/>
            <p:cNvSpPr/>
            <p:nvPr/>
          </p:nvSpPr>
          <p:spPr>
            <a:xfrm>
              <a:off x="6826680" y="4177800"/>
              <a:ext cx="1485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f2f2f2"/>
                  </a:solidFill>
                  <a:latin typeface="Calibri"/>
                  <a:ea typeface="ＭＳ Ｐゴシック"/>
                </a:rPr>
                <a:t>Say thank you to your audience and ask if they have any questions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568"/>
          <p:cNvGrpSpPr/>
          <p:nvPr/>
        </p:nvGrpSpPr>
        <p:grpSpPr>
          <a:xfrm>
            <a:off x="7695000" y="4618440"/>
            <a:ext cx="1288800" cy="1515600"/>
            <a:chOff x="7695000" y="4618440"/>
            <a:chExt cx="1288800" cy="1515600"/>
          </a:xfrm>
        </p:grpSpPr>
        <p:sp>
          <p:nvSpPr>
            <p:cNvPr id="857" name="Oval 214"/>
            <p:cNvSpPr/>
            <p:nvPr/>
          </p:nvSpPr>
          <p:spPr>
            <a:xfrm>
              <a:off x="7999560" y="5879880"/>
              <a:ext cx="716040" cy="232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a4c1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pic>
          <p:nvPicPr>
            <p:cNvPr id="858" name="Picture 4" descr="H:\SLIDESHOP\3D man\rev1\3\2.png"/>
            <p:cNvPicPr/>
            <p:nvPr/>
          </p:nvPicPr>
          <p:blipFill>
            <a:blip r:embed="rId1"/>
            <a:stretch/>
          </p:blipFill>
          <p:spPr>
            <a:xfrm>
              <a:off x="7904160" y="4905360"/>
              <a:ext cx="855360" cy="1228680"/>
            </a:xfrm>
            <a:prstGeom prst="rect">
              <a:avLst/>
            </a:prstGeom>
            <a:ln w="0">
              <a:noFill/>
            </a:ln>
            <a:effectLst>
              <a:outerShdw blurRad="50760" dir="2700000" dist="37674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859" name="Picture 5" descr="H:\SLIDESHOP\3D man\rev1\3\red.png"/>
            <p:cNvPicPr/>
            <p:nvPr/>
          </p:nvPicPr>
          <p:blipFill>
            <a:blip r:embed="rId2"/>
            <a:stretch/>
          </p:blipFill>
          <p:spPr>
            <a:xfrm>
              <a:off x="7695000" y="4618440"/>
              <a:ext cx="1288800" cy="1091160"/>
            </a:xfrm>
            <a:prstGeom prst="rect">
              <a:avLst/>
            </a:prstGeom>
            <a:ln w="0">
              <a:noFill/>
            </a:ln>
            <a:effectLst>
              <a:outerShdw blurRad="50760" dir="2700000" dist="37674" rotWithShape="0">
                <a:srgbClr val="000000">
                  <a:alpha val="43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ＭＳ Ｐゴシック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ＭＳ Ｐゴシック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ＭＳ Ｐゴシック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ＭＳ Ｐゴシック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ＭＳ Ｐゴシック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ＭＳ Ｐゴシック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ＭＳ Ｐゴシック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ＭＳ Ｐゴシック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"/>
          <p:cNvSpPr/>
          <p:nvPr/>
        </p:nvSpPr>
        <p:spPr>
          <a:xfrm>
            <a:off x="2997360" y="559800"/>
            <a:ext cx="31662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OUR COMPANY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lace this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Connector 4"/>
          <p:cNvCxnSpPr/>
          <p:nvPr/>
        </p:nvCxnSpPr>
        <p:spPr>
          <a:xfrm>
            <a:off x="2963160" y="1073160"/>
            <a:ext cx="3302280" cy="360"/>
          </a:xfrm>
          <a:prstGeom prst="straightConnector1">
            <a:avLst/>
          </a:prstGeom>
          <a:ln w="127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sp>
        <p:nvSpPr>
          <p:cNvPr id="147" name="TextBox 8"/>
          <p:cNvSpPr/>
          <p:nvPr/>
        </p:nvSpPr>
        <p:spPr>
          <a:xfrm>
            <a:off x="-544680" y="1906200"/>
            <a:ext cx="3528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OUR MAIN FORCES</a:t>
            </a:r>
            <a:r>
              <a:rPr b="1" lang="en-US" sz="14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	</a:t>
            </a:r>
            <a:r>
              <a:rPr b="1" lang="en-US" sz="14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ktangel 13"/>
          <p:cNvSpPr/>
          <p:nvPr/>
        </p:nvSpPr>
        <p:spPr>
          <a:xfrm rot="16200000">
            <a:off x="657720" y="6090840"/>
            <a:ext cx="279000" cy="8784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Rektangel 13"/>
          <p:cNvSpPr/>
          <p:nvPr/>
        </p:nvSpPr>
        <p:spPr>
          <a:xfrm rot="16200000">
            <a:off x="37800" y="6349680"/>
            <a:ext cx="279000" cy="36072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TextBox 19"/>
          <p:cNvSpPr/>
          <p:nvPr/>
        </p:nvSpPr>
        <p:spPr>
          <a:xfrm>
            <a:off x="7560" y="6392880"/>
            <a:ext cx="374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397080" y="6390360"/>
            <a:ext cx="81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304920" y="1534680"/>
            <a:ext cx="8517600" cy="3926520"/>
            <a:chOff x="304920" y="1534680"/>
            <a:chExt cx="8517600" cy="3926520"/>
          </a:xfrm>
        </p:grpSpPr>
        <p:sp>
          <p:nvSpPr>
            <p:cNvPr id="153" name="Rectangle 65"/>
            <p:cNvSpPr/>
            <p:nvPr/>
          </p:nvSpPr>
          <p:spPr>
            <a:xfrm>
              <a:off x="308880" y="1920240"/>
              <a:ext cx="5866920" cy="27288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54" name="Rectangle 60"/>
            <p:cNvSpPr/>
            <p:nvPr/>
          </p:nvSpPr>
          <p:spPr>
            <a:xfrm>
              <a:off x="306360" y="2193480"/>
              <a:ext cx="5866920" cy="66384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55" name="Right Arrow 61"/>
            <p:cNvSpPr/>
            <p:nvPr/>
          </p:nvSpPr>
          <p:spPr>
            <a:xfrm rot="10800000">
              <a:off x="3132720" y="2369880"/>
              <a:ext cx="340200" cy="322200"/>
            </a:xfrm>
            <a:prstGeom prst="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17375e"/>
                </a:gs>
                <a:gs pos="100000">
                  <a:srgbClr val="376092"/>
                </a:gs>
              </a:gsLst>
              <a:lin ang="54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23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 rot="5400000">
              <a:off x="530280" y="236916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57" name="TextBox 63"/>
            <p:cNvSpPr/>
            <p:nvPr/>
          </p:nvSpPr>
          <p:spPr>
            <a:xfrm>
              <a:off x="657720" y="231084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4"/>
            <p:cNvSpPr/>
            <p:nvPr/>
          </p:nvSpPr>
          <p:spPr>
            <a:xfrm rot="5400000">
              <a:off x="530280" y="258984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304920" y="4159800"/>
              <a:ext cx="5866920" cy="63720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60" name="Rectangle 55"/>
            <p:cNvSpPr/>
            <p:nvPr/>
          </p:nvSpPr>
          <p:spPr>
            <a:xfrm>
              <a:off x="304920" y="4797360"/>
              <a:ext cx="5866920" cy="66384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306360" y="2857680"/>
              <a:ext cx="5866920" cy="63720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306360" y="3495240"/>
              <a:ext cx="5866920" cy="66384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63" name="Right Arrow 58"/>
            <p:cNvSpPr/>
            <p:nvPr/>
          </p:nvSpPr>
          <p:spPr>
            <a:xfrm rot="10800000">
              <a:off x="3132720" y="4317840"/>
              <a:ext cx="340200" cy="322200"/>
            </a:xfrm>
            <a:prstGeom prst="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17375e"/>
                </a:gs>
                <a:gs pos="100000">
                  <a:srgbClr val="376092"/>
                </a:gs>
              </a:gsLst>
              <a:lin ang="54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23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64" name="Right Arrow 57"/>
            <p:cNvSpPr/>
            <p:nvPr/>
          </p:nvSpPr>
          <p:spPr>
            <a:xfrm rot="10800000">
              <a:off x="3132720" y="3671640"/>
              <a:ext cx="340200" cy="322200"/>
            </a:xfrm>
            <a:prstGeom prst="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17375e"/>
                </a:gs>
                <a:gs pos="100000">
                  <a:srgbClr val="376092"/>
                </a:gs>
              </a:gsLst>
              <a:lin ang="54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23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65" name="Right Arrow 56"/>
            <p:cNvSpPr/>
            <p:nvPr/>
          </p:nvSpPr>
          <p:spPr>
            <a:xfrm rot="10800000">
              <a:off x="3132720" y="3029760"/>
              <a:ext cx="340200" cy="322200"/>
            </a:xfrm>
            <a:prstGeom prst="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17375e"/>
                </a:gs>
                <a:gs pos="100000">
                  <a:srgbClr val="376092"/>
                </a:gs>
              </a:gsLst>
              <a:lin ang="54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23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66" name="Right Arrow 59"/>
            <p:cNvSpPr/>
            <p:nvPr/>
          </p:nvSpPr>
          <p:spPr>
            <a:xfrm rot="10800000">
              <a:off x="3132720" y="4974840"/>
              <a:ext cx="340200" cy="322200"/>
            </a:xfrm>
            <a:prstGeom prst="righ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17375e"/>
                </a:gs>
                <a:gs pos="100000">
                  <a:srgbClr val="376092"/>
                </a:gs>
              </a:gsLst>
              <a:lin ang="54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23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3261240" y="1920240"/>
              <a:ext cx="5561280" cy="354024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pic>
          <p:nvPicPr>
            <p:cNvPr id="168" name="Billede 22" descr="dreamstime_Mind map.jpg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3470040" y="2060280"/>
              <a:ext cx="5145840" cy="319680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12000"/>
                </a:srgbClr>
              </a:outerShdw>
            </a:effectLst>
          </p:spPr>
        </p:pic>
        <p:sp>
          <p:nvSpPr>
            <p:cNvPr id="169" name="TextBox 9"/>
            <p:cNvSpPr/>
            <p:nvPr/>
          </p:nvSpPr>
          <p:spPr>
            <a:xfrm>
              <a:off x="657720" y="276624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 rot="5400000">
              <a:off x="530280" y="302616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71" name="TextBox 11"/>
            <p:cNvSpPr/>
            <p:nvPr/>
          </p:nvSpPr>
          <p:spPr>
            <a:xfrm>
              <a:off x="657720" y="296748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 rot="5400000">
              <a:off x="530280" y="324648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73" name="TextBox 39"/>
            <p:cNvSpPr/>
            <p:nvPr/>
          </p:nvSpPr>
          <p:spPr>
            <a:xfrm>
              <a:off x="657720" y="337932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2"/>
            <p:cNvSpPr/>
            <p:nvPr/>
          </p:nvSpPr>
          <p:spPr>
            <a:xfrm rot="5400000">
              <a:off x="530280" y="367092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75" name="TextBox 41"/>
            <p:cNvSpPr/>
            <p:nvPr/>
          </p:nvSpPr>
          <p:spPr>
            <a:xfrm>
              <a:off x="657720" y="361260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2"/>
            <p:cNvSpPr/>
            <p:nvPr/>
          </p:nvSpPr>
          <p:spPr>
            <a:xfrm rot="5400000">
              <a:off x="530280" y="389160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77" name="TextBox 43"/>
            <p:cNvSpPr/>
            <p:nvPr/>
          </p:nvSpPr>
          <p:spPr>
            <a:xfrm>
              <a:off x="657720" y="403956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2"/>
            <p:cNvSpPr/>
            <p:nvPr/>
          </p:nvSpPr>
          <p:spPr>
            <a:xfrm rot="5400000">
              <a:off x="530280" y="433116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79" name="TextBox 45"/>
            <p:cNvSpPr/>
            <p:nvPr/>
          </p:nvSpPr>
          <p:spPr>
            <a:xfrm>
              <a:off x="657720" y="427284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6"/>
            <p:cNvSpPr/>
            <p:nvPr/>
          </p:nvSpPr>
          <p:spPr>
            <a:xfrm rot="5400000">
              <a:off x="530280" y="455148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81" name="TextBox 47"/>
            <p:cNvSpPr/>
            <p:nvPr/>
          </p:nvSpPr>
          <p:spPr>
            <a:xfrm>
              <a:off x="657720" y="466884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2"/>
            <p:cNvSpPr/>
            <p:nvPr/>
          </p:nvSpPr>
          <p:spPr>
            <a:xfrm rot="5400000">
              <a:off x="530280" y="496044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83" name="TextBox 49"/>
            <p:cNvSpPr/>
            <p:nvPr/>
          </p:nvSpPr>
          <p:spPr>
            <a:xfrm>
              <a:off x="657720" y="490212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0"/>
            <p:cNvSpPr/>
            <p:nvPr/>
          </p:nvSpPr>
          <p:spPr>
            <a:xfrm rot="5400000">
              <a:off x="530280" y="518076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85" name="TextBox 66"/>
            <p:cNvSpPr/>
            <p:nvPr/>
          </p:nvSpPr>
          <p:spPr>
            <a:xfrm>
              <a:off x="651240" y="208944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ound Same Side Corner Rectangle 71"/>
            <p:cNvSpPr/>
            <p:nvPr/>
          </p:nvSpPr>
          <p:spPr>
            <a:xfrm>
              <a:off x="304920" y="1534680"/>
              <a:ext cx="8517600" cy="381240"/>
            </a:xfrm>
            <a:prstGeom prst="round2SameRect">
              <a:avLst>
                <a:gd name="adj1" fmla="val 27778"/>
                <a:gd name="adj2" fmla="val 0"/>
              </a:avLst>
            </a:prstGeom>
            <a:gradFill rotWithShape="0">
              <a:gsLst>
                <a:gs pos="0">
                  <a:srgbClr val="17375e"/>
                </a:gs>
                <a:gs pos="100000">
                  <a:srgbClr val="376092"/>
                </a:gs>
              </a:gsLst>
              <a:lin ang="162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87" name="TextBox 75"/>
            <p:cNvSpPr/>
            <p:nvPr/>
          </p:nvSpPr>
          <p:spPr>
            <a:xfrm>
              <a:off x="3994560" y="1549800"/>
              <a:ext cx="1767600" cy="729000"/>
            </a:xfrm>
            <a:prstGeom prst="rect">
              <a:avLst/>
            </a:prstGeom>
            <a:noFill/>
            <a:ln w="0">
              <a:noFill/>
            </a:ln>
            <a:effectLst>
              <a:outerShdw algn="tl" blurRad="50760" dir="2700000" dist="37674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REPLACE TEXT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8" name="Straight Connector 76"/>
            <p:cNvCxnSpPr/>
            <p:nvPr/>
          </p:nvCxnSpPr>
          <p:spPr>
            <a:xfrm flipH="1">
              <a:off x="2096280" y="1725480"/>
              <a:ext cx="1879920" cy="360"/>
            </a:xfrm>
            <a:prstGeom prst="straightConnector1">
              <a:avLst/>
            </a:prstGeom>
            <a:ln w="6350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89" name="Straight Connector 77"/>
            <p:cNvCxnSpPr/>
            <p:nvPr/>
          </p:nvCxnSpPr>
          <p:spPr>
            <a:xfrm flipH="1">
              <a:off x="5254200" y="1725480"/>
              <a:ext cx="1879920" cy="360"/>
            </a:xfrm>
            <a:prstGeom prst="straightConnector1">
              <a:avLst/>
            </a:prstGeom>
            <a:ln w="6350"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190" name="Group 2"/>
          <p:cNvGrpSpPr/>
          <p:nvPr/>
        </p:nvGrpSpPr>
        <p:grpSpPr>
          <a:xfrm>
            <a:off x="6854760" y="3743640"/>
            <a:ext cx="1546200" cy="881640"/>
            <a:chOff x="6854760" y="3743640"/>
            <a:chExt cx="1546200" cy="881640"/>
          </a:xfrm>
        </p:grpSpPr>
        <p:sp>
          <p:nvSpPr>
            <p:cNvPr id="191" name="Rounded Rectangular Callout 145"/>
            <p:cNvSpPr/>
            <p:nvPr/>
          </p:nvSpPr>
          <p:spPr>
            <a:xfrm>
              <a:off x="6854760" y="3743640"/>
              <a:ext cx="1546200" cy="881640"/>
            </a:xfrm>
            <a:prstGeom prst="wedgeRoundRectCallout">
              <a:avLst>
                <a:gd name="adj1" fmla="val 31721"/>
                <a:gd name="adj2" fmla="val 66340"/>
                <a:gd name="adj3" fmla="val 16667"/>
              </a:avLst>
            </a:prstGeom>
            <a:gradFill rotWithShape="0">
              <a:gsLst>
                <a:gs pos="0">
                  <a:srgbClr val="26628d"/>
                </a:gs>
                <a:gs pos="100000">
                  <a:srgbClr val="3ba0e5"/>
                </a:gs>
              </a:gsLst>
              <a:lin ang="162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5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192" name="TextBox 146"/>
            <p:cNvSpPr/>
            <p:nvPr/>
          </p:nvSpPr>
          <p:spPr>
            <a:xfrm>
              <a:off x="6879960" y="3875760"/>
              <a:ext cx="1485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f2f2f2"/>
                  </a:solidFill>
                  <a:latin typeface="Calibri"/>
                  <a:ea typeface="ＭＳ Ｐゴシック"/>
                </a:rPr>
                <a:t>Put in a picture and set up some bullets about the company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568"/>
          <p:cNvGrpSpPr/>
          <p:nvPr/>
        </p:nvGrpSpPr>
        <p:grpSpPr>
          <a:xfrm>
            <a:off x="7668000" y="4401720"/>
            <a:ext cx="1288800" cy="1515600"/>
            <a:chOff x="7668000" y="4401720"/>
            <a:chExt cx="1288800" cy="1515600"/>
          </a:xfrm>
        </p:grpSpPr>
        <p:sp>
          <p:nvSpPr>
            <p:cNvPr id="194" name="Oval 85"/>
            <p:cNvSpPr/>
            <p:nvPr/>
          </p:nvSpPr>
          <p:spPr>
            <a:xfrm>
              <a:off x="7972560" y="5663160"/>
              <a:ext cx="716040" cy="232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a4c1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pic>
          <p:nvPicPr>
            <p:cNvPr id="195" name="Picture 4" descr="H:\SLIDESHOP\3D man\rev1\3\2.png"/>
            <p:cNvPicPr/>
            <p:nvPr/>
          </p:nvPicPr>
          <p:blipFill>
            <a:blip r:embed="rId2"/>
            <a:stretch/>
          </p:blipFill>
          <p:spPr>
            <a:xfrm>
              <a:off x="7877160" y="4688640"/>
              <a:ext cx="855360" cy="1228680"/>
            </a:xfrm>
            <a:prstGeom prst="rect">
              <a:avLst/>
            </a:prstGeom>
            <a:ln w="0">
              <a:noFill/>
            </a:ln>
            <a:effectLst>
              <a:outerShdw blurRad="50760" dir="2700000" dist="37674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196" name="Picture 5" descr="H:\SLIDESHOP\3D man\rev1\3\red.png"/>
            <p:cNvPicPr/>
            <p:nvPr/>
          </p:nvPicPr>
          <p:blipFill>
            <a:blip r:embed="rId3"/>
            <a:stretch/>
          </p:blipFill>
          <p:spPr>
            <a:xfrm>
              <a:off x="7668000" y="4401720"/>
              <a:ext cx="1288800" cy="1091160"/>
            </a:xfrm>
            <a:prstGeom prst="rect">
              <a:avLst/>
            </a:prstGeom>
            <a:ln w="0">
              <a:noFill/>
            </a:ln>
            <a:effectLst>
              <a:outerShdw blurRad="50760" dir="2700000" dist="37674" rotWithShape="0">
                <a:srgbClr val="000000">
                  <a:alpha val="43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76"/>
          <p:cNvSpPr/>
          <p:nvPr/>
        </p:nvSpPr>
        <p:spPr>
          <a:xfrm>
            <a:off x="2997360" y="559800"/>
            <a:ext cx="31662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lace this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Connector 77"/>
          <p:cNvCxnSpPr/>
          <p:nvPr/>
        </p:nvCxnSpPr>
        <p:spPr>
          <a:xfrm>
            <a:off x="2963160" y="1073160"/>
            <a:ext cx="3302280" cy="360"/>
          </a:xfrm>
          <a:prstGeom prst="straightConnector1">
            <a:avLst/>
          </a:prstGeom>
          <a:ln w="127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sp>
        <p:nvSpPr>
          <p:cNvPr id="199" name="Rektangel 13"/>
          <p:cNvSpPr/>
          <p:nvPr/>
        </p:nvSpPr>
        <p:spPr>
          <a:xfrm rot="16200000">
            <a:off x="657720" y="6090840"/>
            <a:ext cx="279000" cy="8784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Rektangel 13"/>
          <p:cNvSpPr/>
          <p:nvPr/>
        </p:nvSpPr>
        <p:spPr>
          <a:xfrm rot="16200000">
            <a:off x="37800" y="6349680"/>
            <a:ext cx="279000" cy="36072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TextBox 80"/>
          <p:cNvSpPr/>
          <p:nvPr/>
        </p:nvSpPr>
        <p:spPr>
          <a:xfrm>
            <a:off x="7560" y="6392880"/>
            <a:ext cx="374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81"/>
          <p:cNvSpPr/>
          <p:nvPr/>
        </p:nvSpPr>
        <p:spPr>
          <a:xfrm>
            <a:off x="397080" y="6390360"/>
            <a:ext cx="81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1228320" y="1534680"/>
            <a:ext cx="7627680" cy="4231440"/>
            <a:chOff x="1228320" y="1534680"/>
            <a:chExt cx="7627680" cy="4231440"/>
          </a:xfrm>
        </p:grpSpPr>
        <p:sp>
          <p:nvSpPr>
            <p:cNvPr id="204" name="Oval 149"/>
            <p:cNvSpPr/>
            <p:nvPr/>
          </p:nvSpPr>
          <p:spPr>
            <a:xfrm flipH="1">
              <a:off x="7409520" y="5293800"/>
              <a:ext cx="1446120" cy="472320"/>
            </a:xfrm>
            <a:prstGeom prst="ellipse">
              <a:avLst/>
            </a:prstGeom>
            <a:gradFill rotWithShape="0">
              <a:gsLst>
                <a:gs pos="0">
                  <a:srgbClr val="0d0d0d">
                    <a:alpha val="28235"/>
                  </a:srgbClr>
                </a:gs>
                <a:gs pos="100000">
                  <a:srgbClr val="9bc1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blurRad="63360" dir="5400000" dist="23040" rotWithShape="0">
                <a:srgbClr val="000000">
                  <a:alpha val="2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205" name="Rectangle 3"/>
            <p:cNvSpPr/>
            <p:nvPr/>
          </p:nvSpPr>
          <p:spPr>
            <a:xfrm>
              <a:off x="1228320" y="1896840"/>
              <a:ext cx="6793920" cy="59544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206" name="Rectangle 4"/>
            <p:cNvSpPr/>
            <p:nvPr/>
          </p:nvSpPr>
          <p:spPr>
            <a:xfrm>
              <a:off x="1236960" y="2477880"/>
              <a:ext cx="6793920" cy="59544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207" name="Rectangle 5"/>
            <p:cNvSpPr/>
            <p:nvPr/>
          </p:nvSpPr>
          <p:spPr>
            <a:xfrm>
              <a:off x="1228320" y="3058920"/>
              <a:ext cx="6793920" cy="595440"/>
            </a:xfrm>
            <a:prstGeom prst="rect">
              <a:avLst/>
            </a:prstGeom>
            <a:gradFill rotWithShape="0">
              <a:gsLst>
                <a:gs pos="0">
                  <a:srgbClr val="17375e"/>
                </a:gs>
                <a:gs pos="100000">
                  <a:srgbClr val="376092"/>
                </a:gs>
              </a:gsLst>
              <a:lin ang="16200000"/>
            </a:gra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1228320" y="3654720"/>
              <a:ext cx="6793920" cy="59544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1228320" y="4250520"/>
              <a:ext cx="6793920" cy="59544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1228320" y="4846320"/>
              <a:ext cx="6793920" cy="59544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cxnSp>
          <p:nvCxnSpPr>
            <p:cNvPr id="211" name="Straight Connector 9"/>
            <p:cNvCxnSpPr/>
            <p:nvPr/>
          </p:nvCxnSpPr>
          <p:spPr>
            <a:xfrm>
              <a:off x="1983960" y="1898640"/>
              <a:ext cx="13320" cy="3543480"/>
            </a:xfrm>
            <a:prstGeom prst="straightConnector1">
              <a:avLst/>
            </a:prstGeom>
            <a:ln w="6350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212" name="Rectangle 154"/>
            <p:cNvSpPr/>
            <p:nvPr/>
          </p:nvSpPr>
          <p:spPr>
            <a:xfrm>
              <a:off x="1231560" y="4853520"/>
              <a:ext cx="755640" cy="587880"/>
            </a:xfrm>
            <a:prstGeom prst="rect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213" name="Right Arrow 61"/>
            <p:cNvSpPr/>
            <p:nvPr/>
          </p:nvSpPr>
          <p:spPr>
            <a:xfrm>
              <a:off x="1990800" y="3239640"/>
              <a:ext cx="222120" cy="249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blurRad="39960" dir="16200000" dist="23040" rotWithShape="0">
                <a:srgbClr val="000000">
                  <a:alpha val="1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1228320" y="1916280"/>
              <a:ext cx="755640" cy="561240"/>
            </a:xfrm>
            <a:prstGeom prst="rect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215" name="Rectangle 153"/>
            <p:cNvSpPr/>
            <p:nvPr/>
          </p:nvSpPr>
          <p:spPr>
            <a:xfrm>
              <a:off x="1233360" y="4254480"/>
              <a:ext cx="755640" cy="595440"/>
            </a:xfrm>
            <a:prstGeom prst="rect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216" name="Rectangle 151"/>
            <p:cNvSpPr/>
            <p:nvPr/>
          </p:nvSpPr>
          <p:spPr>
            <a:xfrm>
              <a:off x="1228320" y="2480040"/>
              <a:ext cx="755640" cy="578520"/>
            </a:xfrm>
            <a:prstGeom prst="rect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217" name="Rectangle 152"/>
            <p:cNvSpPr/>
            <p:nvPr/>
          </p:nvSpPr>
          <p:spPr>
            <a:xfrm>
              <a:off x="1231560" y="3654720"/>
              <a:ext cx="755640" cy="595440"/>
            </a:xfrm>
            <a:prstGeom prst="rect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218" name="TextBox 36"/>
            <p:cNvSpPr/>
            <p:nvPr/>
          </p:nvSpPr>
          <p:spPr>
            <a:xfrm>
              <a:off x="1442520" y="2671920"/>
              <a:ext cx="5558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02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37"/>
            <p:cNvSpPr/>
            <p:nvPr/>
          </p:nvSpPr>
          <p:spPr>
            <a:xfrm>
              <a:off x="1434600" y="3226320"/>
              <a:ext cx="5558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03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47"/>
            <p:cNvSpPr/>
            <p:nvPr/>
          </p:nvSpPr>
          <p:spPr>
            <a:xfrm>
              <a:off x="1441080" y="3843000"/>
              <a:ext cx="5558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04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48"/>
            <p:cNvSpPr/>
            <p:nvPr/>
          </p:nvSpPr>
          <p:spPr>
            <a:xfrm>
              <a:off x="1450800" y="4416120"/>
              <a:ext cx="5558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05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49"/>
            <p:cNvSpPr/>
            <p:nvPr/>
          </p:nvSpPr>
          <p:spPr>
            <a:xfrm>
              <a:off x="1449360" y="5014800"/>
              <a:ext cx="5558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06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35"/>
            <p:cNvSpPr/>
            <p:nvPr/>
          </p:nvSpPr>
          <p:spPr>
            <a:xfrm>
              <a:off x="1441440" y="2063520"/>
              <a:ext cx="5558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01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57"/>
            <p:cNvSpPr/>
            <p:nvPr/>
          </p:nvSpPr>
          <p:spPr>
            <a:xfrm>
              <a:off x="2693160" y="2028960"/>
              <a:ext cx="1191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GENDA NR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60"/>
            <p:cNvSpPr/>
            <p:nvPr/>
          </p:nvSpPr>
          <p:spPr>
            <a:xfrm>
              <a:off x="2693160" y="2625480"/>
              <a:ext cx="1191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GENDA NR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62"/>
            <p:cNvSpPr/>
            <p:nvPr/>
          </p:nvSpPr>
          <p:spPr>
            <a:xfrm>
              <a:off x="2615040" y="3193920"/>
              <a:ext cx="1191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AGENDA NR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64"/>
            <p:cNvSpPr/>
            <p:nvPr/>
          </p:nvSpPr>
          <p:spPr>
            <a:xfrm>
              <a:off x="2693160" y="3797640"/>
              <a:ext cx="1191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GENDA NR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66"/>
            <p:cNvSpPr/>
            <p:nvPr/>
          </p:nvSpPr>
          <p:spPr>
            <a:xfrm>
              <a:off x="2693160" y="4386960"/>
              <a:ext cx="1191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GENDA NR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68"/>
            <p:cNvSpPr/>
            <p:nvPr/>
          </p:nvSpPr>
          <p:spPr>
            <a:xfrm>
              <a:off x="2693160" y="4988880"/>
              <a:ext cx="1191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GENDA NR 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0" name="Straight Connector 69"/>
            <p:cNvCxnSpPr/>
            <p:nvPr/>
          </p:nvCxnSpPr>
          <p:spPr>
            <a:xfrm>
              <a:off x="5905800" y="1882800"/>
              <a:ext cx="12960" cy="3543480"/>
            </a:xfrm>
            <a:prstGeom prst="straightConnector1">
              <a:avLst/>
            </a:prstGeom>
            <a:ln w="6350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231" name="TextBox 70"/>
            <p:cNvSpPr/>
            <p:nvPr/>
          </p:nvSpPr>
          <p:spPr>
            <a:xfrm>
              <a:off x="6222600" y="2064240"/>
              <a:ext cx="1509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RESENTE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71"/>
            <p:cNvSpPr/>
            <p:nvPr/>
          </p:nvSpPr>
          <p:spPr>
            <a:xfrm>
              <a:off x="6222600" y="2633400"/>
              <a:ext cx="1509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RESENTE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72"/>
            <p:cNvSpPr/>
            <p:nvPr/>
          </p:nvSpPr>
          <p:spPr>
            <a:xfrm>
              <a:off x="6222600" y="3200040"/>
              <a:ext cx="1509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PRESENTE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73"/>
            <p:cNvSpPr/>
            <p:nvPr/>
          </p:nvSpPr>
          <p:spPr>
            <a:xfrm>
              <a:off x="6222600" y="3818520"/>
              <a:ext cx="1509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RESENTE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74"/>
            <p:cNvSpPr/>
            <p:nvPr/>
          </p:nvSpPr>
          <p:spPr>
            <a:xfrm>
              <a:off x="6222600" y="4393440"/>
              <a:ext cx="1509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RESENTE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75"/>
            <p:cNvSpPr/>
            <p:nvPr/>
          </p:nvSpPr>
          <p:spPr>
            <a:xfrm>
              <a:off x="6222600" y="5007600"/>
              <a:ext cx="1509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RESENTER 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ound Same Side Corner Rectangle 88"/>
            <p:cNvSpPr/>
            <p:nvPr/>
          </p:nvSpPr>
          <p:spPr>
            <a:xfrm>
              <a:off x="1228320" y="1534680"/>
              <a:ext cx="6793920" cy="381240"/>
            </a:xfrm>
            <a:prstGeom prst="round2SameRect">
              <a:avLst>
                <a:gd name="adj1" fmla="val 27778"/>
                <a:gd name="adj2" fmla="val 0"/>
              </a:avLst>
            </a:prstGeom>
            <a:gradFill rotWithShape="0">
              <a:gsLst>
                <a:gs pos="0">
                  <a:srgbClr val="17375e"/>
                </a:gs>
                <a:gs pos="100000">
                  <a:srgbClr val="376092"/>
                </a:gs>
              </a:gsLst>
              <a:lin ang="162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238" name="TextBox 92"/>
            <p:cNvSpPr/>
            <p:nvPr/>
          </p:nvSpPr>
          <p:spPr>
            <a:xfrm>
              <a:off x="3994560" y="1549800"/>
              <a:ext cx="1767600" cy="729000"/>
            </a:xfrm>
            <a:prstGeom prst="rect">
              <a:avLst/>
            </a:prstGeom>
            <a:noFill/>
            <a:ln w="0">
              <a:noFill/>
            </a:ln>
            <a:effectLst>
              <a:outerShdw algn="tl" blurRad="50760" dir="2700000" dist="37674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REPLACE TEXT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" name="Straight Connector 93"/>
            <p:cNvCxnSpPr/>
            <p:nvPr/>
          </p:nvCxnSpPr>
          <p:spPr>
            <a:xfrm flipH="1">
              <a:off x="2096280" y="1725480"/>
              <a:ext cx="1879920" cy="360"/>
            </a:xfrm>
            <a:prstGeom prst="straightConnector1">
              <a:avLst/>
            </a:prstGeom>
            <a:ln w="6350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240" name="Straight Connector 94"/>
            <p:cNvCxnSpPr/>
            <p:nvPr/>
          </p:nvCxnSpPr>
          <p:spPr>
            <a:xfrm flipH="1">
              <a:off x="5254200" y="1725480"/>
              <a:ext cx="1879920" cy="360"/>
            </a:xfrm>
            <a:prstGeom prst="straightConnector1">
              <a:avLst/>
            </a:prstGeom>
            <a:ln w="6350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241" name="Freeform 12"/>
            <p:cNvSpPr/>
            <p:nvPr/>
          </p:nvSpPr>
          <p:spPr>
            <a:xfrm>
              <a:off x="1503360" y="2381400"/>
              <a:ext cx="175320" cy="961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blurRad="39960" dir="16200000" dist="23040" rotWithShape="0">
                <a:srgbClr val="000000">
                  <a:alpha val="1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242" name="Freeform 12"/>
            <p:cNvSpPr/>
            <p:nvPr/>
          </p:nvSpPr>
          <p:spPr>
            <a:xfrm>
              <a:off x="1503360" y="2961720"/>
              <a:ext cx="175320" cy="961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blurRad="39960" dir="16200000" dist="23040" rotWithShape="0">
                <a:srgbClr val="000000">
                  <a:alpha val="1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504080" y="4155480"/>
              <a:ext cx="175320" cy="961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blurRad="39960" dir="16200000" dist="23040" rotWithShape="0">
                <a:srgbClr val="000000">
                  <a:alpha val="1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1504080" y="4757400"/>
              <a:ext cx="175320" cy="961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blurRad="39960" dir="16200000" dist="23040" rotWithShape="0">
                <a:srgbClr val="000000">
                  <a:alpha val="1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1503360" y="5352120"/>
              <a:ext cx="175320" cy="9612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blurRad="39960" dir="16200000" dist="23040" rotWithShape="0">
                <a:srgbClr val="000000">
                  <a:alpha val="1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pic>
          <p:nvPicPr>
            <p:cNvPr id="246" name="Picture 2" descr="layer1.png"/>
            <p:cNvPicPr/>
            <p:nvPr/>
          </p:nvPicPr>
          <p:blipFill>
            <a:blip r:embed="rId1"/>
            <a:srcRect l="0" t="20173" r="0" b="0"/>
            <a:stretch/>
          </p:blipFill>
          <p:spPr>
            <a:xfrm>
              <a:off x="7395840" y="2997360"/>
              <a:ext cx="1220040" cy="258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Group 10"/>
          <p:cNvGrpSpPr/>
          <p:nvPr/>
        </p:nvGrpSpPr>
        <p:grpSpPr>
          <a:xfrm>
            <a:off x="60480" y="3470760"/>
            <a:ext cx="1546200" cy="881640"/>
            <a:chOff x="60480" y="3470760"/>
            <a:chExt cx="1546200" cy="881640"/>
          </a:xfrm>
        </p:grpSpPr>
        <p:sp>
          <p:nvSpPr>
            <p:cNvPr id="248" name="Rounded Rectangular Callout 160"/>
            <p:cNvSpPr/>
            <p:nvPr/>
          </p:nvSpPr>
          <p:spPr>
            <a:xfrm>
              <a:off x="60480" y="3470760"/>
              <a:ext cx="1546200" cy="881640"/>
            </a:xfrm>
            <a:prstGeom prst="wedgeRoundRectCallout">
              <a:avLst>
                <a:gd name="adj1" fmla="val 31721"/>
                <a:gd name="adj2" fmla="val 66340"/>
                <a:gd name="adj3" fmla="val 16667"/>
              </a:avLst>
            </a:prstGeom>
            <a:gradFill rotWithShape="0">
              <a:gsLst>
                <a:gs pos="0">
                  <a:srgbClr val="507b0e"/>
                </a:gs>
                <a:gs pos="100000">
                  <a:srgbClr val="84c916"/>
                </a:gs>
              </a:gsLst>
              <a:lin ang="162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5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249" name="TextBox 161"/>
            <p:cNvSpPr/>
            <p:nvPr/>
          </p:nvSpPr>
          <p:spPr>
            <a:xfrm>
              <a:off x="85680" y="3603240"/>
              <a:ext cx="1485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f2f2f2"/>
                  </a:solidFill>
                  <a:latin typeface="Calibri"/>
                  <a:ea typeface="ＭＳ Ｐゴシック"/>
                </a:rPr>
                <a:t>Arrange your agenda her for the viewers to get a better overlook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721440" y="4335120"/>
            <a:ext cx="879840" cy="1574640"/>
            <a:chOff x="721440" y="4335120"/>
            <a:chExt cx="879840" cy="1574640"/>
          </a:xfrm>
        </p:grpSpPr>
        <p:grpSp>
          <p:nvGrpSpPr>
            <p:cNvPr id="251" name="Group 25"/>
            <p:cNvGrpSpPr/>
            <p:nvPr/>
          </p:nvGrpSpPr>
          <p:grpSpPr>
            <a:xfrm>
              <a:off x="838080" y="4391640"/>
              <a:ext cx="763200" cy="1265760"/>
              <a:chOff x="838080" y="4391640"/>
              <a:chExt cx="763200" cy="1265760"/>
            </a:xfrm>
          </p:grpSpPr>
          <p:sp>
            <p:nvSpPr>
              <p:cNvPr id="252" name="Ellipse 68"/>
              <p:cNvSpPr/>
              <p:nvPr/>
            </p:nvSpPr>
            <p:spPr>
              <a:xfrm>
                <a:off x="888840" y="5522760"/>
                <a:ext cx="237240" cy="7092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4901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  <a:ea typeface="ＭＳ Ｐゴシック"/>
                </a:endParaRPr>
              </a:p>
            </p:txBody>
          </p:sp>
          <p:pic>
            <p:nvPicPr>
              <p:cNvPr id="253" name="Picture 41" descr="BL.png"/>
              <p:cNvPicPr/>
              <p:nvPr/>
            </p:nvPicPr>
            <p:blipFill>
              <a:blip r:embed="rId2"/>
              <a:stretch/>
            </p:blipFill>
            <p:spPr>
              <a:xfrm>
                <a:off x="838080" y="4391640"/>
                <a:ext cx="763200" cy="1265760"/>
              </a:xfrm>
              <a:prstGeom prst="rect">
                <a:avLst/>
              </a:prstGeom>
              <a:ln w="0">
                <a:noFill/>
              </a:ln>
              <a:effectLst>
                <a:outerShdw blurRad="50760" dir="2700000" dist="25455" rotWithShape="0">
                  <a:srgbClr val="000000">
                    <a:alpha val="43000"/>
                  </a:srgbClr>
                </a:outerShdw>
              </a:effectLst>
            </p:spPr>
          </p:pic>
        </p:grpSp>
        <p:grpSp>
          <p:nvGrpSpPr>
            <p:cNvPr id="254" name="Group 54"/>
            <p:cNvGrpSpPr/>
            <p:nvPr/>
          </p:nvGrpSpPr>
          <p:grpSpPr>
            <a:xfrm>
              <a:off x="721440" y="4335120"/>
              <a:ext cx="729000" cy="1574640"/>
              <a:chOff x="721440" y="4335120"/>
              <a:chExt cx="729000" cy="1574640"/>
            </a:xfrm>
          </p:grpSpPr>
          <p:grpSp>
            <p:nvGrpSpPr>
              <p:cNvPr id="255" name="Group 19"/>
              <p:cNvGrpSpPr/>
              <p:nvPr/>
            </p:nvGrpSpPr>
            <p:grpSpPr>
              <a:xfrm>
                <a:off x="721440" y="5679360"/>
                <a:ext cx="613080" cy="187200"/>
                <a:chOff x="721440" y="5679360"/>
                <a:chExt cx="613080" cy="187200"/>
              </a:xfrm>
            </p:grpSpPr>
            <p:sp>
              <p:nvSpPr>
                <p:cNvPr id="256" name="Ellipse 68"/>
                <p:cNvSpPr/>
                <p:nvPr/>
              </p:nvSpPr>
              <p:spPr>
                <a:xfrm>
                  <a:off x="721440" y="5679360"/>
                  <a:ext cx="404640" cy="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>
                        <a:alpha val="4901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ffffff"/>
                    </a:solidFill>
                    <a:latin typeface="Calibri"/>
                    <a:ea typeface="ＭＳ Ｐゴシック"/>
                  </a:endParaRPr>
                </a:p>
              </p:txBody>
            </p:sp>
            <p:sp>
              <p:nvSpPr>
                <p:cNvPr id="257" name="Ellipse 68"/>
                <p:cNvSpPr/>
                <p:nvPr/>
              </p:nvSpPr>
              <p:spPr>
                <a:xfrm>
                  <a:off x="1085760" y="5679360"/>
                  <a:ext cx="248760" cy="187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>
                        <a:alpha val="4901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ffffff"/>
                    </a:solidFill>
                    <a:latin typeface="Calibri"/>
                    <a:ea typeface="ＭＳ Ｐゴシック"/>
                  </a:endParaRPr>
                </a:p>
              </p:txBody>
            </p:sp>
          </p:grpSp>
          <p:pic>
            <p:nvPicPr>
              <p:cNvPr id="258" name="Picture 48" descr="2.png"/>
              <p:cNvPicPr/>
              <p:nvPr/>
            </p:nvPicPr>
            <p:blipFill>
              <a:blip r:embed="rId3"/>
              <a:stretch/>
            </p:blipFill>
            <p:spPr>
              <a:xfrm>
                <a:off x="801720" y="4335120"/>
                <a:ext cx="648720" cy="1574640"/>
              </a:xfrm>
              <a:prstGeom prst="rect">
                <a:avLst/>
              </a:prstGeom>
              <a:ln w="0">
                <a:noFill/>
              </a:ln>
              <a:effectLst>
                <a:outerShdw blurRad="50760" dir="2700000" dist="37674" rotWithShape="0">
                  <a:srgbClr val="000000">
                    <a:alpha val="43000"/>
                  </a:srgbClr>
                </a:outerShdw>
              </a:effectLst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4"/>
          <p:cNvSpPr/>
          <p:nvPr/>
        </p:nvSpPr>
        <p:spPr>
          <a:xfrm>
            <a:off x="2997360" y="559800"/>
            <a:ext cx="31662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lace this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Straight Connector 5"/>
          <p:cNvCxnSpPr/>
          <p:nvPr/>
        </p:nvCxnSpPr>
        <p:spPr>
          <a:xfrm>
            <a:off x="2963160" y="1073160"/>
            <a:ext cx="3302280" cy="360"/>
          </a:xfrm>
          <a:prstGeom prst="straightConnector1">
            <a:avLst/>
          </a:prstGeom>
          <a:ln w="127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sp>
        <p:nvSpPr>
          <p:cNvPr id="261" name="Rektangel 13"/>
          <p:cNvSpPr/>
          <p:nvPr/>
        </p:nvSpPr>
        <p:spPr>
          <a:xfrm rot="16200000">
            <a:off x="657720" y="6090840"/>
            <a:ext cx="279000" cy="8784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Rektangel 13"/>
          <p:cNvSpPr/>
          <p:nvPr/>
        </p:nvSpPr>
        <p:spPr>
          <a:xfrm rot="16200000">
            <a:off x="37800" y="6349680"/>
            <a:ext cx="279000" cy="36072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TextBox 33"/>
          <p:cNvSpPr/>
          <p:nvPr/>
        </p:nvSpPr>
        <p:spPr>
          <a:xfrm>
            <a:off x="7560" y="6392880"/>
            <a:ext cx="374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4"/>
          <p:cNvSpPr/>
          <p:nvPr/>
        </p:nvSpPr>
        <p:spPr>
          <a:xfrm>
            <a:off x="397080" y="6390360"/>
            <a:ext cx="81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1"/>
          <p:cNvGrpSpPr/>
          <p:nvPr/>
        </p:nvGrpSpPr>
        <p:grpSpPr>
          <a:xfrm>
            <a:off x="720360" y="1534680"/>
            <a:ext cx="7703640" cy="3981960"/>
            <a:chOff x="720360" y="1534680"/>
            <a:chExt cx="7703640" cy="3981960"/>
          </a:xfrm>
        </p:grpSpPr>
        <p:sp>
          <p:nvSpPr>
            <p:cNvPr id="266" name="TextBox 23"/>
            <p:cNvSpPr/>
            <p:nvPr/>
          </p:nvSpPr>
          <p:spPr>
            <a:xfrm>
              <a:off x="4101120" y="5213880"/>
              <a:ext cx="8499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John Do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"/>
            <p:cNvSpPr/>
            <p:nvPr/>
          </p:nvSpPr>
          <p:spPr>
            <a:xfrm>
              <a:off x="728280" y="1917720"/>
              <a:ext cx="7695720" cy="285732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grpSp>
          <p:nvGrpSpPr>
            <p:cNvPr id="268" name="Group 284"/>
            <p:cNvGrpSpPr/>
            <p:nvPr/>
          </p:nvGrpSpPr>
          <p:grpSpPr>
            <a:xfrm>
              <a:off x="2963520" y="2133720"/>
              <a:ext cx="4808520" cy="2347920"/>
              <a:chOff x="2963520" y="2133720"/>
              <a:chExt cx="4808520" cy="2347920"/>
            </a:xfrm>
          </p:grpSpPr>
          <p:sp>
            <p:nvSpPr>
              <p:cNvPr id="269" name="Freeform 285"/>
              <p:cNvSpPr/>
              <p:nvPr/>
            </p:nvSpPr>
            <p:spPr>
              <a:xfrm>
                <a:off x="7740720" y="3846960"/>
                <a:ext cx="31320" cy="306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7" h="36">
                    <a:moveTo>
                      <a:pt x="0" y="36"/>
                    </a:moveTo>
                    <a:lnTo>
                      <a:pt x="3" y="21"/>
                    </a:lnTo>
                    <a:lnTo>
                      <a:pt x="12" y="12"/>
                    </a:lnTo>
                    <a:lnTo>
                      <a:pt x="22" y="3"/>
                    </a:lnTo>
                    <a:lnTo>
                      <a:pt x="37" y="0"/>
                    </a:lnTo>
                    <a:lnTo>
                      <a:pt x="34" y="18"/>
                    </a:lnTo>
                    <a:lnTo>
                      <a:pt x="28" y="30"/>
                    </a:lnTo>
                    <a:lnTo>
                      <a:pt x="15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70" name="Freeform 286"/>
              <p:cNvSpPr/>
              <p:nvPr/>
            </p:nvSpPr>
            <p:spPr>
              <a:xfrm>
                <a:off x="7684920" y="4147200"/>
                <a:ext cx="60480" cy="1130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71" h="132">
                    <a:moveTo>
                      <a:pt x="25" y="132"/>
                    </a:moveTo>
                    <a:lnTo>
                      <a:pt x="25" y="113"/>
                    </a:lnTo>
                    <a:lnTo>
                      <a:pt x="22" y="101"/>
                    </a:lnTo>
                    <a:lnTo>
                      <a:pt x="19" y="98"/>
                    </a:lnTo>
                    <a:lnTo>
                      <a:pt x="13" y="95"/>
                    </a:lnTo>
                    <a:lnTo>
                      <a:pt x="0" y="92"/>
                    </a:lnTo>
                    <a:lnTo>
                      <a:pt x="7" y="80"/>
                    </a:lnTo>
                    <a:lnTo>
                      <a:pt x="10" y="70"/>
                    </a:lnTo>
                    <a:lnTo>
                      <a:pt x="10" y="61"/>
                    </a:lnTo>
                    <a:lnTo>
                      <a:pt x="10" y="52"/>
                    </a:lnTo>
                    <a:lnTo>
                      <a:pt x="4" y="31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0" y="6"/>
                    </a:lnTo>
                    <a:lnTo>
                      <a:pt x="19" y="15"/>
                    </a:lnTo>
                    <a:lnTo>
                      <a:pt x="28" y="37"/>
                    </a:lnTo>
                    <a:lnTo>
                      <a:pt x="34" y="46"/>
                    </a:lnTo>
                    <a:lnTo>
                      <a:pt x="44" y="52"/>
                    </a:lnTo>
                    <a:lnTo>
                      <a:pt x="56" y="58"/>
                    </a:lnTo>
                    <a:lnTo>
                      <a:pt x="71" y="55"/>
                    </a:lnTo>
                    <a:lnTo>
                      <a:pt x="65" y="83"/>
                    </a:lnTo>
                    <a:lnTo>
                      <a:pt x="56" y="104"/>
                    </a:lnTo>
                    <a:lnTo>
                      <a:pt x="44" y="120"/>
                    </a:lnTo>
                    <a:lnTo>
                      <a:pt x="25" y="132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71" name="Freeform 287"/>
              <p:cNvSpPr/>
              <p:nvPr/>
            </p:nvSpPr>
            <p:spPr>
              <a:xfrm>
                <a:off x="7590600" y="4241520"/>
                <a:ext cx="107640" cy="9504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26" h="111">
                    <a:moveTo>
                      <a:pt x="86" y="0"/>
                    </a:moveTo>
                    <a:lnTo>
                      <a:pt x="98" y="0"/>
                    </a:lnTo>
                    <a:lnTo>
                      <a:pt x="110" y="3"/>
                    </a:lnTo>
                    <a:lnTo>
                      <a:pt x="120" y="7"/>
                    </a:lnTo>
                    <a:lnTo>
                      <a:pt x="126" y="13"/>
                    </a:lnTo>
                    <a:lnTo>
                      <a:pt x="120" y="31"/>
                    </a:lnTo>
                    <a:lnTo>
                      <a:pt x="107" y="53"/>
                    </a:lnTo>
                    <a:lnTo>
                      <a:pt x="92" y="74"/>
                    </a:lnTo>
                    <a:lnTo>
                      <a:pt x="77" y="93"/>
                    </a:lnTo>
                    <a:lnTo>
                      <a:pt x="58" y="105"/>
                    </a:lnTo>
                    <a:lnTo>
                      <a:pt x="49" y="111"/>
                    </a:lnTo>
                    <a:lnTo>
                      <a:pt x="40" y="111"/>
                    </a:lnTo>
                    <a:lnTo>
                      <a:pt x="31" y="111"/>
                    </a:lnTo>
                    <a:lnTo>
                      <a:pt x="18" y="108"/>
                    </a:lnTo>
                    <a:lnTo>
                      <a:pt x="9" y="105"/>
                    </a:lnTo>
                    <a:lnTo>
                      <a:pt x="0" y="96"/>
                    </a:lnTo>
                    <a:lnTo>
                      <a:pt x="9" y="80"/>
                    </a:lnTo>
                    <a:lnTo>
                      <a:pt x="18" y="68"/>
                    </a:lnTo>
                    <a:lnTo>
                      <a:pt x="31" y="59"/>
                    </a:lnTo>
                    <a:lnTo>
                      <a:pt x="43" y="50"/>
                    </a:lnTo>
                    <a:lnTo>
                      <a:pt x="58" y="40"/>
                    </a:lnTo>
                    <a:lnTo>
                      <a:pt x="70" y="31"/>
                    </a:lnTo>
                    <a:lnTo>
                      <a:pt x="80" y="19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72" name="Freeform 288"/>
              <p:cNvSpPr/>
              <p:nvPr/>
            </p:nvSpPr>
            <p:spPr>
              <a:xfrm>
                <a:off x="7556040" y="3918240"/>
                <a:ext cx="41760" cy="338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49" h="40">
                    <a:moveTo>
                      <a:pt x="0" y="12"/>
                    </a:moveTo>
                    <a:lnTo>
                      <a:pt x="6" y="3"/>
                    </a:lnTo>
                    <a:lnTo>
                      <a:pt x="15" y="0"/>
                    </a:lnTo>
                    <a:lnTo>
                      <a:pt x="24" y="3"/>
                    </a:lnTo>
                    <a:lnTo>
                      <a:pt x="31" y="6"/>
                    </a:lnTo>
                    <a:lnTo>
                      <a:pt x="40" y="12"/>
                    </a:lnTo>
                    <a:lnTo>
                      <a:pt x="46" y="18"/>
                    </a:lnTo>
                    <a:lnTo>
                      <a:pt x="49" y="27"/>
                    </a:lnTo>
                    <a:lnTo>
                      <a:pt x="49" y="40"/>
                    </a:lnTo>
                    <a:lnTo>
                      <a:pt x="37" y="40"/>
                    </a:lnTo>
                    <a:lnTo>
                      <a:pt x="31" y="40"/>
                    </a:lnTo>
                    <a:lnTo>
                      <a:pt x="24" y="36"/>
                    </a:lnTo>
                    <a:lnTo>
                      <a:pt x="21" y="30"/>
                    </a:lnTo>
                    <a:lnTo>
                      <a:pt x="12" y="18"/>
                    </a:lnTo>
                    <a:lnTo>
                      <a:pt x="6" y="1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73" name="Freeform 289"/>
              <p:cNvSpPr/>
              <p:nvPr/>
            </p:nvSpPr>
            <p:spPr>
              <a:xfrm>
                <a:off x="6867360" y="3756960"/>
                <a:ext cx="541080" cy="46908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469080"/>
                  <a:gd name="textAreaBottom" fmla="*/ 469440 h 469080"/>
                </a:gdLst>
                <a:ahLst/>
                <a:rect l="textAreaLeft" t="textAreaTop" r="textAreaRight" b="textAreaBottom"/>
                <a:pathLst>
                  <a:path w="631" h="547">
                    <a:moveTo>
                      <a:pt x="329" y="464"/>
                    </a:moveTo>
                    <a:lnTo>
                      <a:pt x="332" y="446"/>
                    </a:lnTo>
                    <a:lnTo>
                      <a:pt x="332" y="433"/>
                    </a:lnTo>
                    <a:lnTo>
                      <a:pt x="326" y="421"/>
                    </a:lnTo>
                    <a:lnTo>
                      <a:pt x="317" y="412"/>
                    </a:lnTo>
                    <a:lnTo>
                      <a:pt x="305" y="403"/>
                    </a:lnTo>
                    <a:lnTo>
                      <a:pt x="292" y="396"/>
                    </a:lnTo>
                    <a:lnTo>
                      <a:pt x="280" y="393"/>
                    </a:lnTo>
                    <a:lnTo>
                      <a:pt x="265" y="393"/>
                    </a:lnTo>
                    <a:lnTo>
                      <a:pt x="249" y="393"/>
                    </a:lnTo>
                    <a:lnTo>
                      <a:pt x="231" y="396"/>
                    </a:lnTo>
                    <a:lnTo>
                      <a:pt x="216" y="403"/>
                    </a:lnTo>
                    <a:lnTo>
                      <a:pt x="203" y="409"/>
                    </a:lnTo>
                    <a:lnTo>
                      <a:pt x="191" y="418"/>
                    </a:lnTo>
                    <a:lnTo>
                      <a:pt x="179" y="427"/>
                    </a:lnTo>
                    <a:lnTo>
                      <a:pt x="169" y="439"/>
                    </a:lnTo>
                    <a:lnTo>
                      <a:pt x="166" y="455"/>
                    </a:lnTo>
                    <a:lnTo>
                      <a:pt x="142" y="452"/>
                    </a:lnTo>
                    <a:lnTo>
                      <a:pt x="120" y="458"/>
                    </a:lnTo>
                    <a:lnTo>
                      <a:pt x="83" y="470"/>
                    </a:lnTo>
                    <a:lnTo>
                      <a:pt x="68" y="476"/>
                    </a:lnTo>
                    <a:lnTo>
                      <a:pt x="53" y="476"/>
                    </a:lnTo>
                    <a:lnTo>
                      <a:pt x="43" y="473"/>
                    </a:lnTo>
                    <a:lnTo>
                      <a:pt x="37" y="470"/>
                    </a:lnTo>
                    <a:lnTo>
                      <a:pt x="22" y="455"/>
                    </a:lnTo>
                    <a:lnTo>
                      <a:pt x="22" y="443"/>
                    </a:lnTo>
                    <a:lnTo>
                      <a:pt x="25" y="436"/>
                    </a:lnTo>
                    <a:lnTo>
                      <a:pt x="34" y="427"/>
                    </a:lnTo>
                    <a:lnTo>
                      <a:pt x="40" y="418"/>
                    </a:lnTo>
                    <a:lnTo>
                      <a:pt x="46" y="415"/>
                    </a:lnTo>
                    <a:lnTo>
                      <a:pt x="46" y="406"/>
                    </a:lnTo>
                    <a:lnTo>
                      <a:pt x="37" y="387"/>
                    </a:lnTo>
                    <a:lnTo>
                      <a:pt x="28" y="369"/>
                    </a:lnTo>
                    <a:lnTo>
                      <a:pt x="19" y="347"/>
                    </a:lnTo>
                    <a:lnTo>
                      <a:pt x="13" y="326"/>
                    </a:lnTo>
                    <a:lnTo>
                      <a:pt x="3" y="274"/>
                    </a:lnTo>
                    <a:lnTo>
                      <a:pt x="0" y="218"/>
                    </a:lnTo>
                    <a:lnTo>
                      <a:pt x="25" y="200"/>
                    </a:lnTo>
                    <a:lnTo>
                      <a:pt x="53" y="185"/>
                    </a:lnTo>
                    <a:lnTo>
                      <a:pt x="83" y="175"/>
                    </a:lnTo>
                    <a:lnTo>
                      <a:pt x="99" y="172"/>
                    </a:lnTo>
                    <a:lnTo>
                      <a:pt x="117" y="169"/>
                    </a:lnTo>
                    <a:lnTo>
                      <a:pt x="123" y="151"/>
                    </a:lnTo>
                    <a:lnTo>
                      <a:pt x="133" y="138"/>
                    </a:lnTo>
                    <a:lnTo>
                      <a:pt x="145" y="123"/>
                    </a:lnTo>
                    <a:lnTo>
                      <a:pt x="157" y="114"/>
                    </a:lnTo>
                    <a:lnTo>
                      <a:pt x="169" y="102"/>
                    </a:lnTo>
                    <a:lnTo>
                      <a:pt x="182" y="89"/>
                    </a:lnTo>
                    <a:lnTo>
                      <a:pt x="191" y="74"/>
                    </a:lnTo>
                    <a:lnTo>
                      <a:pt x="197" y="59"/>
                    </a:lnTo>
                    <a:lnTo>
                      <a:pt x="206" y="55"/>
                    </a:lnTo>
                    <a:lnTo>
                      <a:pt x="212" y="55"/>
                    </a:lnTo>
                    <a:lnTo>
                      <a:pt x="225" y="62"/>
                    </a:lnTo>
                    <a:lnTo>
                      <a:pt x="234" y="68"/>
                    </a:lnTo>
                    <a:lnTo>
                      <a:pt x="243" y="77"/>
                    </a:lnTo>
                    <a:lnTo>
                      <a:pt x="262" y="52"/>
                    </a:lnTo>
                    <a:lnTo>
                      <a:pt x="268" y="40"/>
                    </a:lnTo>
                    <a:lnTo>
                      <a:pt x="268" y="19"/>
                    </a:lnTo>
                    <a:lnTo>
                      <a:pt x="271" y="19"/>
                    </a:lnTo>
                    <a:lnTo>
                      <a:pt x="277" y="19"/>
                    </a:lnTo>
                    <a:lnTo>
                      <a:pt x="283" y="25"/>
                    </a:lnTo>
                    <a:lnTo>
                      <a:pt x="292" y="37"/>
                    </a:lnTo>
                    <a:lnTo>
                      <a:pt x="296" y="34"/>
                    </a:lnTo>
                    <a:lnTo>
                      <a:pt x="299" y="25"/>
                    </a:lnTo>
                    <a:lnTo>
                      <a:pt x="299" y="16"/>
                    </a:lnTo>
                    <a:lnTo>
                      <a:pt x="299" y="9"/>
                    </a:lnTo>
                    <a:lnTo>
                      <a:pt x="305" y="12"/>
                    </a:lnTo>
                    <a:lnTo>
                      <a:pt x="314" y="16"/>
                    </a:lnTo>
                    <a:lnTo>
                      <a:pt x="329" y="25"/>
                    </a:lnTo>
                    <a:lnTo>
                      <a:pt x="339" y="28"/>
                    </a:lnTo>
                    <a:lnTo>
                      <a:pt x="348" y="31"/>
                    </a:lnTo>
                    <a:lnTo>
                      <a:pt x="363" y="31"/>
                    </a:lnTo>
                    <a:lnTo>
                      <a:pt x="379" y="28"/>
                    </a:lnTo>
                    <a:lnTo>
                      <a:pt x="372" y="40"/>
                    </a:lnTo>
                    <a:lnTo>
                      <a:pt x="369" y="52"/>
                    </a:lnTo>
                    <a:lnTo>
                      <a:pt x="366" y="65"/>
                    </a:lnTo>
                    <a:lnTo>
                      <a:pt x="363" y="77"/>
                    </a:lnTo>
                    <a:lnTo>
                      <a:pt x="366" y="86"/>
                    </a:lnTo>
                    <a:lnTo>
                      <a:pt x="375" y="95"/>
                    </a:lnTo>
                    <a:lnTo>
                      <a:pt x="394" y="105"/>
                    </a:lnTo>
                    <a:lnTo>
                      <a:pt x="412" y="114"/>
                    </a:lnTo>
                    <a:lnTo>
                      <a:pt x="422" y="123"/>
                    </a:lnTo>
                    <a:lnTo>
                      <a:pt x="425" y="132"/>
                    </a:lnTo>
                    <a:lnTo>
                      <a:pt x="437" y="123"/>
                    </a:lnTo>
                    <a:lnTo>
                      <a:pt x="443" y="108"/>
                    </a:lnTo>
                    <a:lnTo>
                      <a:pt x="446" y="92"/>
                    </a:lnTo>
                    <a:lnTo>
                      <a:pt x="446" y="74"/>
                    </a:lnTo>
                    <a:lnTo>
                      <a:pt x="446" y="37"/>
                    </a:lnTo>
                    <a:lnTo>
                      <a:pt x="446" y="19"/>
                    </a:lnTo>
                    <a:lnTo>
                      <a:pt x="449" y="0"/>
                    </a:lnTo>
                    <a:lnTo>
                      <a:pt x="474" y="31"/>
                    </a:lnTo>
                    <a:lnTo>
                      <a:pt x="495" y="68"/>
                    </a:lnTo>
                    <a:lnTo>
                      <a:pt x="514" y="105"/>
                    </a:lnTo>
                    <a:lnTo>
                      <a:pt x="523" y="129"/>
                    </a:lnTo>
                    <a:lnTo>
                      <a:pt x="529" y="151"/>
                    </a:lnTo>
                    <a:lnTo>
                      <a:pt x="532" y="160"/>
                    </a:lnTo>
                    <a:lnTo>
                      <a:pt x="535" y="166"/>
                    </a:lnTo>
                    <a:lnTo>
                      <a:pt x="548" y="175"/>
                    </a:lnTo>
                    <a:lnTo>
                      <a:pt x="563" y="181"/>
                    </a:lnTo>
                    <a:lnTo>
                      <a:pt x="575" y="191"/>
                    </a:lnTo>
                    <a:lnTo>
                      <a:pt x="594" y="231"/>
                    </a:lnTo>
                    <a:lnTo>
                      <a:pt x="615" y="274"/>
                    </a:lnTo>
                    <a:lnTo>
                      <a:pt x="621" y="295"/>
                    </a:lnTo>
                    <a:lnTo>
                      <a:pt x="628" y="317"/>
                    </a:lnTo>
                    <a:lnTo>
                      <a:pt x="631" y="341"/>
                    </a:lnTo>
                    <a:lnTo>
                      <a:pt x="631" y="369"/>
                    </a:lnTo>
                    <a:lnTo>
                      <a:pt x="628" y="390"/>
                    </a:lnTo>
                    <a:lnTo>
                      <a:pt x="621" y="409"/>
                    </a:lnTo>
                    <a:lnTo>
                      <a:pt x="606" y="446"/>
                    </a:lnTo>
                    <a:lnTo>
                      <a:pt x="588" y="482"/>
                    </a:lnTo>
                    <a:lnTo>
                      <a:pt x="581" y="501"/>
                    </a:lnTo>
                    <a:lnTo>
                      <a:pt x="575" y="519"/>
                    </a:lnTo>
                    <a:lnTo>
                      <a:pt x="560" y="525"/>
                    </a:lnTo>
                    <a:lnTo>
                      <a:pt x="545" y="529"/>
                    </a:lnTo>
                    <a:lnTo>
                      <a:pt x="517" y="535"/>
                    </a:lnTo>
                    <a:lnTo>
                      <a:pt x="492" y="538"/>
                    </a:lnTo>
                    <a:lnTo>
                      <a:pt x="477" y="541"/>
                    </a:lnTo>
                    <a:lnTo>
                      <a:pt x="465" y="547"/>
                    </a:lnTo>
                    <a:lnTo>
                      <a:pt x="458" y="535"/>
                    </a:lnTo>
                    <a:lnTo>
                      <a:pt x="452" y="525"/>
                    </a:lnTo>
                    <a:lnTo>
                      <a:pt x="440" y="519"/>
                    </a:lnTo>
                    <a:lnTo>
                      <a:pt x="425" y="519"/>
                    </a:lnTo>
                    <a:lnTo>
                      <a:pt x="425" y="498"/>
                    </a:lnTo>
                    <a:lnTo>
                      <a:pt x="422" y="482"/>
                    </a:lnTo>
                    <a:lnTo>
                      <a:pt x="415" y="473"/>
                    </a:lnTo>
                    <a:lnTo>
                      <a:pt x="406" y="467"/>
                    </a:lnTo>
                    <a:lnTo>
                      <a:pt x="397" y="464"/>
                    </a:lnTo>
                    <a:lnTo>
                      <a:pt x="391" y="458"/>
                    </a:lnTo>
                    <a:lnTo>
                      <a:pt x="388" y="449"/>
                    </a:lnTo>
                    <a:lnTo>
                      <a:pt x="385" y="433"/>
                    </a:lnTo>
                    <a:lnTo>
                      <a:pt x="382" y="430"/>
                    </a:lnTo>
                    <a:lnTo>
                      <a:pt x="375" y="430"/>
                    </a:lnTo>
                    <a:lnTo>
                      <a:pt x="366" y="446"/>
                    </a:lnTo>
                    <a:lnTo>
                      <a:pt x="360" y="455"/>
                    </a:lnTo>
                    <a:lnTo>
                      <a:pt x="351" y="461"/>
                    </a:lnTo>
                    <a:lnTo>
                      <a:pt x="342" y="464"/>
                    </a:lnTo>
                    <a:lnTo>
                      <a:pt x="329" y="464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74" name="Freeform 290"/>
              <p:cNvSpPr/>
              <p:nvPr/>
            </p:nvSpPr>
            <p:spPr>
              <a:xfrm>
                <a:off x="7291800" y="4241520"/>
                <a:ext cx="55440" cy="504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5" h="59">
                    <a:moveTo>
                      <a:pt x="10" y="59"/>
                    </a:moveTo>
                    <a:lnTo>
                      <a:pt x="10" y="43"/>
                    </a:lnTo>
                    <a:lnTo>
                      <a:pt x="7" y="34"/>
                    </a:lnTo>
                    <a:lnTo>
                      <a:pt x="3" y="25"/>
                    </a:lnTo>
                    <a:lnTo>
                      <a:pt x="0" y="13"/>
                    </a:lnTo>
                    <a:lnTo>
                      <a:pt x="13" y="13"/>
                    </a:lnTo>
                    <a:lnTo>
                      <a:pt x="19" y="13"/>
                    </a:lnTo>
                    <a:lnTo>
                      <a:pt x="34" y="10"/>
                    </a:lnTo>
                    <a:lnTo>
                      <a:pt x="50" y="3"/>
                    </a:lnTo>
                    <a:lnTo>
                      <a:pt x="65" y="0"/>
                    </a:lnTo>
                    <a:lnTo>
                      <a:pt x="59" y="25"/>
                    </a:lnTo>
                    <a:lnTo>
                      <a:pt x="56" y="37"/>
                    </a:lnTo>
                    <a:lnTo>
                      <a:pt x="50" y="46"/>
                    </a:lnTo>
                    <a:lnTo>
                      <a:pt x="43" y="53"/>
                    </a:lnTo>
                    <a:lnTo>
                      <a:pt x="34" y="56"/>
                    </a:lnTo>
                    <a:lnTo>
                      <a:pt x="22" y="59"/>
                    </a:lnTo>
                    <a:lnTo>
                      <a:pt x="10" y="59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75" name="Freeform 291"/>
              <p:cNvSpPr/>
              <p:nvPr/>
            </p:nvSpPr>
            <p:spPr>
              <a:xfrm>
                <a:off x="7083360" y="2861280"/>
                <a:ext cx="229680" cy="216000"/>
              </a:xfrm>
              <a:custGeom>
                <a:avLst/>
                <a:gdLst>
                  <a:gd name="textAreaLeft" fmla="*/ 0 w 229680"/>
                  <a:gd name="textAreaRight" fmla="*/ 230040 w 22968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268" h="252">
                    <a:moveTo>
                      <a:pt x="157" y="43"/>
                    </a:moveTo>
                    <a:lnTo>
                      <a:pt x="166" y="31"/>
                    </a:lnTo>
                    <a:lnTo>
                      <a:pt x="179" y="18"/>
                    </a:lnTo>
                    <a:lnTo>
                      <a:pt x="194" y="9"/>
                    </a:lnTo>
                    <a:lnTo>
                      <a:pt x="213" y="3"/>
                    </a:lnTo>
                    <a:lnTo>
                      <a:pt x="228" y="0"/>
                    </a:lnTo>
                    <a:lnTo>
                      <a:pt x="243" y="6"/>
                    </a:lnTo>
                    <a:lnTo>
                      <a:pt x="259" y="18"/>
                    </a:lnTo>
                    <a:lnTo>
                      <a:pt x="268" y="34"/>
                    </a:lnTo>
                    <a:lnTo>
                      <a:pt x="250" y="43"/>
                    </a:lnTo>
                    <a:lnTo>
                      <a:pt x="231" y="49"/>
                    </a:lnTo>
                    <a:lnTo>
                      <a:pt x="210" y="52"/>
                    </a:lnTo>
                    <a:lnTo>
                      <a:pt x="188" y="55"/>
                    </a:lnTo>
                    <a:lnTo>
                      <a:pt x="197" y="70"/>
                    </a:lnTo>
                    <a:lnTo>
                      <a:pt x="200" y="83"/>
                    </a:lnTo>
                    <a:lnTo>
                      <a:pt x="200" y="95"/>
                    </a:lnTo>
                    <a:lnTo>
                      <a:pt x="197" y="107"/>
                    </a:lnTo>
                    <a:lnTo>
                      <a:pt x="194" y="132"/>
                    </a:lnTo>
                    <a:lnTo>
                      <a:pt x="191" y="147"/>
                    </a:lnTo>
                    <a:lnTo>
                      <a:pt x="188" y="166"/>
                    </a:lnTo>
                    <a:lnTo>
                      <a:pt x="170" y="181"/>
                    </a:lnTo>
                    <a:lnTo>
                      <a:pt x="148" y="190"/>
                    </a:lnTo>
                    <a:lnTo>
                      <a:pt x="105" y="212"/>
                    </a:lnTo>
                    <a:lnTo>
                      <a:pt x="65" y="230"/>
                    </a:lnTo>
                    <a:lnTo>
                      <a:pt x="47" y="239"/>
                    </a:lnTo>
                    <a:lnTo>
                      <a:pt x="31" y="252"/>
                    </a:lnTo>
                    <a:lnTo>
                      <a:pt x="22" y="252"/>
                    </a:lnTo>
                    <a:lnTo>
                      <a:pt x="16" y="249"/>
                    </a:lnTo>
                    <a:lnTo>
                      <a:pt x="13" y="242"/>
                    </a:lnTo>
                    <a:lnTo>
                      <a:pt x="10" y="236"/>
                    </a:lnTo>
                    <a:lnTo>
                      <a:pt x="4" y="221"/>
                    </a:lnTo>
                    <a:lnTo>
                      <a:pt x="0" y="206"/>
                    </a:lnTo>
                    <a:lnTo>
                      <a:pt x="10" y="196"/>
                    </a:lnTo>
                    <a:lnTo>
                      <a:pt x="25" y="187"/>
                    </a:lnTo>
                    <a:lnTo>
                      <a:pt x="53" y="178"/>
                    </a:lnTo>
                    <a:lnTo>
                      <a:pt x="83" y="169"/>
                    </a:lnTo>
                    <a:lnTo>
                      <a:pt x="111" y="156"/>
                    </a:lnTo>
                    <a:lnTo>
                      <a:pt x="127" y="150"/>
                    </a:lnTo>
                    <a:lnTo>
                      <a:pt x="139" y="144"/>
                    </a:lnTo>
                    <a:lnTo>
                      <a:pt x="148" y="132"/>
                    </a:lnTo>
                    <a:lnTo>
                      <a:pt x="157" y="123"/>
                    </a:lnTo>
                    <a:lnTo>
                      <a:pt x="160" y="107"/>
                    </a:lnTo>
                    <a:lnTo>
                      <a:pt x="163" y="89"/>
                    </a:lnTo>
                    <a:lnTo>
                      <a:pt x="163" y="67"/>
                    </a:lnTo>
                    <a:lnTo>
                      <a:pt x="157" y="43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76" name="Freeform 292"/>
              <p:cNvSpPr/>
              <p:nvPr/>
            </p:nvSpPr>
            <p:spPr>
              <a:xfrm>
                <a:off x="7104960" y="3596400"/>
                <a:ext cx="263880" cy="16776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308" h="196">
                    <a:moveTo>
                      <a:pt x="22" y="64"/>
                    </a:moveTo>
                    <a:lnTo>
                      <a:pt x="28" y="49"/>
                    </a:lnTo>
                    <a:lnTo>
                      <a:pt x="28" y="37"/>
                    </a:lnTo>
                    <a:lnTo>
                      <a:pt x="28" y="31"/>
                    </a:lnTo>
                    <a:lnTo>
                      <a:pt x="22" y="24"/>
                    </a:lnTo>
                    <a:lnTo>
                      <a:pt x="9" y="15"/>
                    </a:lnTo>
                    <a:lnTo>
                      <a:pt x="3" y="9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98" y="6"/>
                    </a:lnTo>
                    <a:lnTo>
                      <a:pt x="123" y="12"/>
                    </a:lnTo>
                    <a:lnTo>
                      <a:pt x="145" y="21"/>
                    </a:lnTo>
                    <a:lnTo>
                      <a:pt x="169" y="31"/>
                    </a:lnTo>
                    <a:lnTo>
                      <a:pt x="191" y="40"/>
                    </a:lnTo>
                    <a:lnTo>
                      <a:pt x="209" y="55"/>
                    </a:lnTo>
                    <a:lnTo>
                      <a:pt x="231" y="70"/>
                    </a:lnTo>
                    <a:lnTo>
                      <a:pt x="246" y="86"/>
                    </a:lnTo>
                    <a:lnTo>
                      <a:pt x="261" y="104"/>
                    </a:lnTo>
                    <a:lnTo>
                      <a:pt x="277" y="126"/>
                    </a:lnTo>
                    <a:lnTo>
                      <a:pt x="289" y="147"/>
                    </a:lnTo>
                    <a:lnTo>
                      <a:pt x="298" y="172"/>
                    </a:lnTo>
                    <a:lnTo>
                      <a:pt x="308" y="196"/>
                    </a:lnTo>
                    <a:lnTo>
                      <a:pt x="292" y="196"/>
                    </a:lnTo>
                    <a:lnTo>
                      <a:pt x="280" y="190"/>
                    </a:lnTo>
                    <a:lnTo>
                      <a:pt x="268" y="181"/>
                    </a:lnTo>
                    <a:lnTo>
                      <a:pt x="258" y="172"/>
                    </a:lnTo>
                    <a:lnTo>
                      <a:pt x="243" y="150"/>
                    </a:lnTo>
                    <a:lnTo>
                      <a:pt x="228" y="132"/>
                    </a:lnTo>
                    <a:lnTo>
                      <a:pt x="218" y="132"/>
                    </a:lnTo>
                    <a:lnTo>
                      <a:pt x="209" y="135"/>
                    </a:lnTo>
                    <a:lnTo>
                      <a:pt x="203" y="141"/>
                    </a:lnTo>
                    <a:lnTo>
                      <a:pt x="200" y="150"/>
                    </a:lnTo>
                    <a:lnTo>
                      <a:pt x="194" y="169"/>
                    </a:lnTo>
                    <a:lnTo>
                      <a:pt x="188" y="175"/>
                    </a:lnTo>
                    <a:lnTo>
                      <a:pt x="181" y="178"/>
                    </a:lnTo>
                    <a:lnTo>
                      <a:pt x="169" y="172"/>
                    </a:lnTo>
                    <a:lnTo>
                      <a:pt x="160" y="166"/>
                    </a:lnTo>
                    <a:lnTo>
                      <a:pt x="145" y="150"/>
                    </a:lnTo>
                    <a:lnTo>
                      <a:pt x="135" y="144"/>
                    </a:lnTo>
                    <a:lnTo>
                      <a:pt x="129" y="141"/>
                    </a:lnTo>
                    <a:lnTo>
                      <a:pt x="120" y="138"/>
                    </a:lnTo>
                    <a:lnTo>
                      <a:pt x="108" y="141"/>
                    </a:lnTo>
                    <a:lnTo>
                      <a:pt x="114" y="132"/>
                    </a:lnTo>
                    <a:lnTo>
                      <a:pt x="117" y="126"/>
                    </a:lnTo>
                    <a:lnTo>
                      <a:pt x="123" y="123"/>
                    </a:lnTo>
                    <a:lnTo>
                      <a:pt x="132" y="123"/>
                    </a:lnTo>
                    <a:lnTo>
                      <a:pt x="126" y="107"/>
                    </a:lnTo>
                    <a:lnTo>
                      <a:pt x="114" y="95"/>
                    </a:lnTo>
                    <a:lnTo>
                      <a:pt x="102" y="86"/>
                    </a:lnTo>
                    <a:lnTo>
                      <a:pt x="89" y="80"/>
                    </a:lnTo>
                    <a:lnTo>
                      <a:pt x="74" y="74"/>
                    </a:lnTo>
                    <a:lnTo>
                      <a:pt x="58" y="67"/>
                    </a:lnTo>
                    <a:lnTo>
                      <a:pt x="22" y="64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77" name="Freeform 293"/>
              <p:cNvSpPr/>
              <p:nvPr/>
            </p:nvSpPr>
            <p:spPr>
              <a:xfrm>
                <a:off x="7057800" y="3546000"/>
                <a:ext cx="25200" cy="579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30" h="68">
                    <a:moveTo>
                      <a:pt x="15" y="0"/>
                    </a:moveTo>
                    <a:lnTo>
                      <a:pt x="24" y="4"/>
                    </a:lnTo>
                    <a:lnTo>
                      <a:pt x="30" y="10"/>
                    </a:lnTo>
                    <a:lnTo>
                      <a:pt x="30" y="19"/>
                    </a:lnTo>
                    <a:lnTo>
                      <a:pt x="30" y="31"/>
                    </a:lnTo>
                    <a:lnTo>
                      <a:pt x="24" y="53"/>
                    </a:lnTo>
                    <a:lnTo>
                      <a:pt x="15" y="68"/>
                    </a:lnTo>
                    <a:lnTo>
                      <a:pt x="6" y="62"/>
                    </a:lnTo>
                    <a:lnTo>
                      <a:pt x="0" y="56"/>
                    </a:lnTo>
                    <a:lnTo>
                      <a:pt x="0" y="50"/>
                    </a:lnTo>
                    <a:lnTo>
                      <a:pt x="3" y="40"/>
                    </a:lnTo>
                    <a:lnTo>
                      <a:pt x="9" y="22"/>
                    </a:lnTo>
                    <a:lnTo>
                      <a:pt x="12" y="1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78" name="Freeform 294"/>
              <p:cNvSpPr/>
              <p:nvPr/>
            </p:nvSpPr>
            <p:spPr>
              <a:xfrm>
                <a:off x="7015680" y="3380400"/>
                <a:ext cx="28080" cy="288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34">
                    <a:moveTo>
                      <a:pt x="0" y="34"/>
                    </a:moveTo>
                    <a:lnTo>
                      <a:pt x="3" y="21"/>
                    </a:lnTo>
                    <a:lnTo>
                      <a:pt x="6" y="12"/>
                    </a:lnTo>
                    <a:lnTo>
                      <a:pt x="12" y="3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3" y="18"/>
                    </a:lnTo>
                    <a:lnTo>
                      <a:pt x="3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79" name="Freeform 295"/>
              <p:cNvSpPr/>
              <p:nvPr/>
            </p:nvSpPr>
            <p:spPr>
              <a:xfrm>
                <a:off x="7009560" y="3712320"/>
                <a:ext cx="47520" cy="4428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6" h="52">
                    <a:moveTo>
                      <a:pt x="0" y="52"/>
                    </a:moveTo>
                    <a:lnTo>
                      <a:pt x="0" y="37"/>
                    </a:lnTo>
                    <a:lnTo>
                      <a:pt x="3" y="21"/>
                    </a:lnTo>
                    <a:lnTo>
                      <a:pt x="10" y="12"/>
                    </a:lnTo>
                    <a:lnTo>
                      <a:pt x="19" y="3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46" y="6"/>
                    </a:lnTo>
                    <a:lnTo>
                      <a:pt x="56" y="15"/>
                    </a:lnTo>
                    <a:lnTo>
                      <a:pt x="43" y="28"/>
                    </a:lnTo>
                    <a:lnTo>
                      <a:pt x="31" y="37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80" name="Freeform 296"/>
              <p:cNvSpPr/>
              <p:nvPr/>
            </p:nvSpPr>
            <p:spPr>
              <a:xfrm>
                <a:off x="6975360" y="3435120"/>
                <a:ext cx="76680" cy="5544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90" h="65">
                    <a:moveTo>
                      <a:pt x="47" y="16"/>
                    </a:moveTo>
                    <a:lnTo>
                      <a:pt x="56" y="7"/>
                    </a:lnTo>
                    <a:lnTo>
                      <a:pt x="62" y="4"/>
                    </a:lnTo>
                    <a:lnTo>
                      <a:pt x="71" y="0"/>
                    </a:lnTo>
                    <a:lnTo>
                      <a:pt x="77" y="4"/>
                    </a:lnTo>
                    <a:lnTo>
                      <a:pt x="83" y="10"/>
                    </a:lnTo>
                    <a:lnTo>
                      <a:pt x="86" y="22"/>
                    </a:lnTo>
                    <a:lnTo>
                      <a:pt x="90" y="37"/>
                    </a:lnTo>
                    <a:lnTo>
                      <a:pt x="86" y="56"/>
                    </a:lnTo>
                    <a:lnTo>
                      <a:pt x="80" y="56"/>
                    </a:lnTo>
                    <a:lnTo>
                      <a:pt x="77" y="56"/>
                    </a:lnTo>
                    <a:lnTo>
                      <a:pt x="74" y="59"/>
                    </a:lnTo>
                    <a:lnTo>
                      <a:pt x="71" y="65"/>
                    </a:lnTo>
                    <a:lnTo>
                      <a:pt x="50" y="59"/>
                    </a:lnTo>
                    <a:lnTo>
                      <a:pt x="34" y="53"/>
                    </a:lnTo>
                    <a:lnTo>
                      <a:pt x="19" y="43"/>
                    </a:lnTo>
                    <a:lnTo>
                      <a:pt x="0" y="37"/>
                    </a:lnTo>
                    <a:lnTo>
                      <a:pt x="3" y="28"/>
                    </a:lnTo>
                    <a:lnTo>
                      <a:pt x="7" y="22"/>
                    </a:lnTo>
                    <a:lnTo>
                      <a:pt x="13" y="16"/>
                    </a:lnTo>
                    <a:lnTo>
                      <a:pt x="19" y="10"/>
                    </a:lnTo>
                    <a:lnTo>
                      <a:pt x="25" y="10"/>
                    </a:lnTo>
                    <a:lnTo>
                      <a:pt x="34" y="10"/>
                    </a:lnTo>
                    <a:lnTo>
                      <a:pt x="40" y="10"/>
                    </a:lnTo>
                    <a:lnTo>
                      <a:pt x="47" y="16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81" name="Freeform 297"/>
              <p:cNvSpPr/>
              <p:nvPr/>
            </p:nvSpPr>
            <p:spPr>
              <a:xfrm>
                <a:off x="6981480" y="3401640"/>
                <a:ext cx="41760" cy="331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9" h="39">
                    <a:moveTo>
                      <a:pt x="0" y="9"/>
                    </a:moveTo>
                    <a:lnTo>
                      <a:pt x="6" y="3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7" y="3"/>
                    </a:lnTo>
                    <a:lnTo>
                      <a:pt x="36" y="9"/>
                    </a:lnTo>
                    <a:lnTo>
                      <a:pt x="49" y="18"/>
                    </a:lnTo>
                    <a:lnTo>
                      <a:pt x="46" y="27"/>
                    </a:lnTo>
                    <a:lnTo>
                      <a:pt x="40" y="33"/>
                    </a:lnTo>
                    <a:lnTo>
                      <a:pt x="30" y="36"/>
                    </a:lnTo>
                    <a:lnTo>
                      <a:pt x="21" y="39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2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82" name="Freeform 298"/>
              <p:cNvSpPr/>
              <p:nvPr/>
            </p:nvSpPr>
            <p:spPr>
              <a:xfrm>
                <a:off x="6957360" y="3182760"/>
                <a:ext cx="31320" cy="468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7" h="55">
                    <a:moveTo>
                      <a:pt x="37" y="0"/>
                    </a:moveTo>
                    <a:lnTo>
                      <a:pt x="34" y="18"/>
                    </a:lnTo>
                    <a:lnTo>
                      <a:pt x="28" y="30"/>
                    </a:lnTo>
                    <a:lnTo>
                      <a:pt x="18" y="43"/>
                    </a:lnTo>
                    <a:lnTo>
                      <a:pt x="12" y="55"/>
                    </a:lnTo>
                    <a:lnTo>
                      <a:pt x="3" y="52"/>
                    </a:lnTo>
                    <a:lnTo>
                      <a:pt x="0" y="43"/>
                    </a:lnTo>
                    <a:lnTo>
                      <a:pt x="0" y="33"/>
                    </a:lnTo>
                    <a:lnTo>
                      <a:pt x="0" y="21"/>
                    </a:lnTo>
                    <a:lnTo>
                      <a:pt x="6" y="12"/>
                    </a:lnTo>
                    <a:lnTo>
                      <a:pt x="15" y="3"/>
                    </a:lnTo>
                    <a:lnTo>
                      <a:pt x="24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83" name="Freeform 299"/>
              <p:cNvSpPr/>
              <p:nvPr/>
            </p:nvSpPr>
            <p:spPr>
              <a:xfrm>
                <a:off x="6962400" y="3562200"/>
                <a:ext cx="65880" cy="26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77" h="31">
                    <a:moveTo>
                      <a:pt x="77" y="0"/>
                    </a:moveTo>
                    <a:lnTo>
                      <a:pt x="74" y="12"/>
                    </a:lnTo>
                    <a:lnTo>
                      <a:pt x="68" y="21"/>
                    </a:lnTo>
                    <a:lnTo>
                      <a:pt x="58" y="28"/>
                    </a:lnTo>
                    <a:lnTo>
                      <a:pt x="46" y="31"/>
                    </a:lnTo>
                    <a:lnTo>
                      <a:pt x="31" y="31"/>
                    </a:lnTo>
                    <a:lnTo>
                      <a:pt x="18" y="31"/>
                    </a:lnTo>
                    <a:lnTo>
                      <a:pt x="6" y="24"/>
                    </a:lnTo>
                    <a:lnTo>
                      <a:pt x="0" y="21"/>
                    </a:lnTo>
                    <a:lnTo>
                      <a:pt x="3" y="12"/>
                    </a:lnTo>
                    <a:lnTo>
                      <a:pt x="9" y="9"/>
                    </a:lnTo>
                    <a:lnTo>
                      <a:pt x="15" y="6"/>
                    </a:lnTo>
                    <a:lnTo>
                      <a:pt x="28" y="6"/>
                    </a:lnTo>
                    <a:lnTo>
                      <a:pt x="52" y="6"/>
                    </a:lnTo>
                    <a:lnTo>
                      <a:pt x="65" y="3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84" name="Freeform 300"/>
              <p:cNvSpPr/>
              <p:nvPr/>
            </p:nvSpPr>
            <p:spPr>
              <a:xfrm>
                <a:off x="6946920" y="3730320"/>
                <a:ext cx="22680" cy="262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27" h="31">
                    <a:moveTo>
                      <a:pt x="24" y="4"/>
                    </a:moveTo>
                    <a:lnTo>
                      <a:pt x="27" y="10"/>
                    </a:lnTo>
                    <a:lnTo>
                      <a:pt x="27" y="16"/>
                    </a:lnTo>
                    <a:lnTo>
                      <a:pt x="21" y="22"/>
                    </a:lnTo>
                    <a:lnTo>
                      <a:pt x="15" y="28"/>
                    </a:lnTo>
                    <a:lnTo>
                      <a:pt x="9" y="31"/>
                    </a:lnTo>
                    <a:lnTo>
                      <a:pt x="3" y="28"/>
                    </a:lnTo>
                    <a:lnTo>
                      <a:pt x="0" y="22"/>
                    </a:lnTo>
                    <a:lnTo>
                      <a:pt x="3" y="13"/>
                    </a:lnTo>
                    <a:lnTo>
                      <a:pt x="12" y="4"/>
                    </a:lnTo>
                    <a:lnTo>
                      <a:pt x="18" y="0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85" name="Freeform 301"/>
              <p:cNvSpPr/>
              <p:nvPr/>
            </p:nvSpPr>
            <p:spPr>
              <a:xfrm>
                <a:off x="6941160" y="3596400"/>
                <a:ext cx="68400" cy="784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78480"/>
                  <a:gd name="textAreaBottom" fmla="*/ 78840 h 78480"/>
                </a:gdLst>
                <a:ahLst/>
                <a:rect l="textAreaLeft" t="textAreaTop" r="textAreaRight" b="textAreaBottom"/>
                <a:pathLst>
                  <a:path w="80" h="92">
                    <a:moveTo>
                      <a:pt x="80" y="92"/>
                    </a:moveTo>
                    <a:lnTo>
                      <a:pt x="62" y="89"/>
                    </a:lnTo>
                    <a:lnTo>
                      <a:pt x="50" y="80"/>
                    </a:lnTo>
                    <a:lnTo>
                      <a:pt x="43" y="64"/>
                    </a:lnTo>
                    <a:lnTo>
                      <a:pt x="40" y="46"/>
                    </a:lnTo>
                    <a:lnTo>
                      <a:pt x="31" y="52"/>
                    </a:lnTo>
                    <a:lnTo>
                      <a:pt x="25" y="61"/>
                    </a:lnTo>
                    <a:lnTo>
                      <a:pt x="16" y="67"/>
                    </a:lnTo>
                    <a:lnTo>
                      <a:pt x="10" y="67"/>
                    </a:lnTo>
                    <a:lnTo>
                      <a:pt x="0" y="64"/>
                    </a:lnTo>
                    <a:lnTo>
                      <a:pt x="0" y="46"/>
                    </a:lnTo>
                    <a:lnTo>
                      <a:pt x="7" y="34"/>
                    </a:lnTo>
                    <a:lnTo>
                      <a:pt x="10" y="18"/>
                    </a:lnTo>
                    <a:lnTo>
                      <a:pt x="10" y="0"/>
                    </a:lnTo>
                    <a:lnTo>
                      <a:pt x="50" y="0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0" y="9"/>
                    </a:lnTo>
                    <a:lnTo>
                      <a:pt x="68" y="18"/>
                    </a:lnTo>
                    <a:lnTo>
                      <a:pt x="62" y="27"/>
                    </a:lnTo>
                    <a:lnTo>
                      <a:pt x="62" y="34"/>
                    </a:lnTo>
                    <a:lnTo>
                      <a:pt x="65" y="43"/>
                    </a:lnTo>
                    <a:lnTo>
                      <a:pt x="74" y="61"/>
                    </a:lnTo>
                    <a:lnTo>
                      <a:pt x="77" y="77"/>
                    </a:lnTo>
                    <a:lnTo>
                      <a:pt x="80" y="92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86" name="Freeform 302"/>
              <p:cNvSpPr/>
              <p:nvPr/>
            </p:nvSpPr>
            <p:spPr>
              <a:xfrm>
                <a:off x="6949440" y="3279960"/>
                <a:ext cx="73440" cy="12924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86" h="151">
                    <a:moveTo>
                      <a:pt x="61" y="19"/>
                    </a:moveTo>
                    <a:lnTo>
                      <a:pt x="61" y="28"/>
                    </a:lnTo>
                    <a:lnTo>
                      <a:pt x="61" y="34"/>
                    </a:lnTo>
                    <a:lnTo>
                      <a:pt x="52" y="46"/>
                    </a:lnTo>
                    <a:lnTo>
                      <a:pt x="43" y="52"/>
                    </a:lnTo>
                    <a:lnTo>
                      <a:pt x="40" y="59"/>
                    </a:lnTo>
                    <a:lnTo>
                      <a:pt x="37" y="65"/>
                    </a:lnTo>
                    <a:lnTo>
                      <a:pt x="46" y="74"/>
                    </a:lnTo>
                    <a:lnTo>
                      <a:pt x="58" y="80"/>
                    </a:lnTo>
                    <a:lnTo>
                      <a:pt x="70" y="83"/>
                    </a:lnTo>
                    <a:lnTo>
                      <a:pt x="86" y="86"/>
                    </a:lnTo>
                    <a:lnTo>
                      <a:pt x="64" y="102"/>
                    </a:lnTo>
                    <a:lnTo>
                      <a:pt x="46" y="123"/>
                    </a:lnTo>
                    <a:lnTo>
                      <a:pt x="24" y="138"/>
                    </a:lnTo>
                    <a:lnTo>
                      <a:pt x="12" y="145"/>
                    </a:lnTo>
                    <a:lnTo>
                      <a:pt x="0" y="151"/>
                    </a:lnTo>
                    <a:lnTo>
                      <a:pt x="6" y="138"/>
                    </a:lnTo>
                    <a:lnTo>
                      <a:pt x="15" y="126"/>
                    </a:lnTo>
                    <a:lnTo>
                      <a:pt x="24" y="117"/>
                    </a:lnTo>
                    <a:lnTo>
                      <a:pt x="30" y="105"/>
                    </a:lnTo>
                    <a:lnTo>
                      <a:pt x="27" y="95"/>
                    </a:lnTo>
                    <a:lnTo>
                      <a:pt x="21" y="89"/>
                    </a:lnTo>
                    <a:lnTo>
                      <a:pt x="12" y="77"/>
                    </a:lnTo>
                    <a:lnTo>
                      <a:pt x="3" y="68"/>
                    </a:lnTo>
                    <a:lnTo>
                      <a:pt x="0" y="59"/>
                    </a:lnTo>
                    <a:lnTo>
                      <a:pt x="0" y="46"/>
                    </a:lnTo>
                    <a:lnTo>
                      <a:pt x="9" y="40"/>
                    </a:lnTo>
                    <a:lnTo>
                      <a:pt x="21" y="34"/>
                    </a:lnTo>
                    <a:lnTo>
                      <a:pt x="27" y="28"/>
                    </a:lnTo>
                    <a:lnTo>
                      <a:pt x="30" y="22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9" y="6"/>
                    </a:lnTo>
                    <a:lnTo>
                      <a:pt x="52" y="16"/>
                    </a:lnTo>
                    <a:lnTo>
                      <a:pt x="55" y="19"/>
                    </a:lnTo>
                    <a:lnTo>
                      <a:pt x="61" y="19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87" name="Freeform 303"/>
              <p:cNvSpPr/>
              <p:nvPr/>
            </p:nvSpPr>
            <p:spPr>
              <a:xfrm>
                <a:off x="6807240" y="3472200"/>
                <a:ext cx="142200" cy="178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166" h="209">
                    <a:moveTo>
                      <a:pt x="156" y="105"/>
                    </a:moveTo>
                    <a:lnTo>
                      <a:pt x="144" y="129"/>
                    </a:lnTo>
                    <a:lnTo>
                      <a:pt x="132" y="154"/>
                    </a:lnTo>
                    <a:lnTo>
                      <a:pt x="123" y="179"/>
                    </a:lnTo>
                    <a:lnTo>
                      <a:pt x="120" y="194"/>
                    </a:lnTo>
                    <a:lnTo>
                      <a:pt x="116" y="209"/>
                    </a:lnTo>
                    <a:lnTo>
                      <a:pt x="92" y="209"/>
                    </a:lnTo>
                    <a:lnTo>
                      <a:pt x="70" y="203"/>
                    </a:lnTo>
                    <a:lnTo>
                      <a:pt x="49" y="194"/>
                    </a:lnTo>
                    <a:lnTo>
                      <a:pt x="33" y="185"/>
                    </a:lnTo>
                    <a:lnTo>
                      <a:pt x="18" y="169"/>
                    </a:lnTo>
                    <a:lnTo>
                      <a:pt x="9" y="148"/>
                    </a:lnTo>
                    <a:lnTo>
                      <a:pt x="3" y="126"/>
                    </a:lnTo>
                    <a:lnTo>
                      <a:pt x="0" y="96"/>
                    </a:lnTo>
                    <a:lnTo>
                      <a:pt x="15" y="96"/>
                    </a:lnTo>
                    <a:lnTo>
                      <a:pt x="30" y="90"/>
                    </a:lnTo>
                    <a:lnTo>
                      <a:pt x="49" y="80"/>
                    </a:lnTo>
                    <a:lnTo>
                      <a:pt x="64" y="68"/>
                    </a:lnTo>
                    <a:lnTo>
                      <a:pt x="83" y="56"/>
                    </a:lnTo>
                    <a:lnTo>
                      <a:pt x="95" y="40"/>
                    </a:lnTo>
                    <a:lnTo>
                      <a:pt x="107" y="22"/>
                    </a:lnTo>
                    <a:lnTo>
                      <a:pt x="116" y="4"/>
                    </a:lnTo>
                    <a:lnTo>
                      <a:pt x="129" y="0"/>
                    </a:lnTo>
                    <a:lnTo>
                      <a:pt x="135" y="4"/>
                    </a:lnTo>
                    <a:lnTo>
                      <a:pt x="138" y="10"/>
                    </a:lnTo>
                    <a:lnTo>
                      <a:pt x="141" y="16"/>
                    </a:lnTo>
                    <a:lnTo>
                      <a:pt x="144" y="25"/>
                    </a:lnTo>
                    <a:lnTo>
                      <a:pt x="147" y="31"/>
                    </a:lnTo>
                    <a:lnTo>
                      <a:pt x="153" y="34"/>
                    </a:lnTo>
                    <a:lnTo>
                      <a:pt x="166" y="31"/>
                    </a:lnTo>
                    <a:lnTo>
                      <a:pt x="150" y="50"/>
                    </a:lnTo>
                    <a:lnTo>
                      <a:pt x="144" y="65"/>
                    </a:lnTo>
                    <a:lnTo>
                      <a:pt x="147" y="83"/>
                    </a:lnTo>
                    <a:lnTo>
                      <a:pt x="156" y="105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88" name="Freeform 304"/>
              <p:cNvSpPr/>
              <p:nvPr/>
            </p:nvSpPr>
            <p:spPr>
              <a:xfrm>
                <a:off x="6621840" y="3498840"/>
                <a:ext cx="263880" cy="22608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226080"/>
                  <a:gd name="textAreaBottom" fmla="*/ 226440 h 226080"/>
                </a:gdLst>
                <a:ahLst/>
                <a:rect l="textAreaLeft" t="textAreaTop" r="textAreaRight" b="textAreaBottom"/>
                <a:pathLst>
                  <a:path w="308" h="264">
                    <a:moveTo>
                      <a:pt x="182" y="141"/>
                    </a:moveTo>
                    <a:lnTo>
                      <a:pt x="176" y="172"/>
                    </a:lnTo>
                    <a:lnTo>
                      <a:pt x="166" y="197"/>
                    </a:lnTo>
                    <a:lnTo>
                      <a:pt x="173" y="209"/>
                    </a:lnTo>
                    <a:lnTo>
                      <a:pt x="182" y="215"/>
                    </a:lnTo>
                    <a:lnTo>
                      <a:pt x="191" y="221"/>
                    </a:lnTo>
                    <a:lnTo>
                      <a:pt x="200" y="224"/>
                    </a:lnTo>
                    <a:lnTo>
                      <a:pt x="219" y="227"/>
                    </a:lnTo>
                    <a:lnTo>
                      <a:pt x="240" y="227"/>
                    </a:lnTo>
                    <a:lnTo>
                      <a:pt x="262" y="227"/>
                    </a:lnTo>
                    <a:lnTo>
                      <a:pt x="280" y="234"/>
                    </a:lnTo>
                    <a:lnTo>
                      <a:pt x="289" y="237"/>
                    </a:lnTo>
                    <a:lnTo>
                      <a:pt x="299" y="243"/>
                    </a:lnTo>
                    <a:lnTo>
                      <a:pt x="305" y="252"/>
                    </a:lnTo>
                    <a:lnTo>
                      <a:pt x="308" y="264"/>
                    </a:lnTo>
                    <a:lnTo>
                      <a:pt x="289" y="264"/>
                    </a:lnTo>
                    <a:lnTo>
                      <a:pt x="271" y="264"/>
                    </a:lnTo>
                    <a:lnTo>
                      <a:pt x="243" y="255"/>
                    </a:lnTo>
                    <a:lnTo>
                      <a:pt x="216" y="252"/>
                    </a:lnTo>
                    <a:lnTo>
                      <a:pt x="200" y="252"/>
                    </a:lnTo>
                    <a:lnTo>
                      <a:pt x="182" y="255"/>
                    </a:lnTo>
                    <a:lnTo>
                      <a:pt x="157" y="227"/>
                    </a:lnTo>
                    <a:lnTo>
                      <a:pt x="133" y="197"/>
                    </a:lnTo>
                    <a:lnTo>
                      <a:pt x="111" y="166"/>
                    </a:lnTo>
                    <a:lnTo>
                      <a:pt x="90" y="132"/>
                    </a:lnTo>
                    <a:lnTo>
                      <a:pt x="47" y="65"/>
                    </a:lnTo>
                    <a:lnTo>
                      <a:pt x="25" y="31"/>
                    </a:lnTo>
                    <a:lnTo>
                      <a:pt x="0" y="0"/>
                    </a:lnTo>
                    <a:lnTo>
                      <a:pt x="31" y="9"/>
                    </a:lnTo>
                    <a:lnTo>
                      <a:pt x="56" y="25"/>
                    </a:lnTo>
                    <a:lnTo>
                      <a:pt x="77" y="43"/>
                    </a:lnTo>
                    <a:lnTo>
                      <a:pt x="99" y="65"/>
                    </a:lnTo>
                    <a:lnTo>
                      <a:pt x="139" y="108"/>
                    </a:lnTo>
                    <a:lnTo>
                      <a:pt x="160" y="126"/>
                    </a:lnTo>
                    <a:lnTo>
                      <a:pt x="182" y="141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89" name="Freeform 305"/>
              <p:cNvSpPr/>
              <p:nvPr/>
            </p:nvSpPr>
            <p:spPr>
              <a:xfrm>
                <a:off x="6664680" y="3425040"/>
                <a:ext cx="86400" cy="14472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01" h="169">
                    <a:moveTo>
                      <a:pt x="0" y="0"/>
                    </a:moveTo>
                    <a:lnTo>
                      <a:pt x="18" y="12"/>
                    </a:lnTo>
                    <a:lnTo>
                      <a:pt x="37" y="28"/>
                    </a:lnTo>
                    <a:lnTo>
                      <a:pt x="52" y="46"/>
                    </a:lnTo>
                    <a:lnTo>
                      <a:pt x="64" y="68"/>
                    </a:lnTo>
                    <a:lnTo>
                      <a:pt x="76" y="92"/>
                    </a:lnTo>
                    <a:lnTo>
                      <a:pt x="86" y="117"/>
                    </a:lnTo>
                    <a:lnTo>
                      <a:pt x="101" y="169"/>
                    </a:lnTo>
                    <a:lnTo>
                      <a:pt x="89" y="169"/>
                    </a:lnTo>
                    <a:lnTo>
                      <a:pt x="80" y="166"/>
                    </a:lnTo>
                    <a:lnTo>
                      <a:pt x="70" y="160"/>
                    </a:lnTo>
                    <a:lnTo>
                      <a:pt x="61" y="151"/>
                    </a:lnTo>
                    <a:lnTo>
                      <a:pt x="49" y="132"/>
                    </a:lnTo>
                    <a:lnTo>
                      <a:pt x="40" y="111"/>
                    </a:lnTo>
                    <a:lnTo>
                      <a:pt x="24" y="68"/>
                    </a:lnTo>
                    <a:lnTo>
                      <a:pt x="12" y="46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90" name="Freeform 306"/>
              <p:cNvSpPr/>
              <p:nvPr/>
            </p:nvSpPr>
            <p:spPr>
              <a:xfrm>
                <a:off x="6414120" y="3432600"/>
                <a:ext cx="25200" cy="579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30" h="68">
                    <a:moveTo>
                      <a:pt x="24" y="68"/>
                    </a:moveTo>
                    <a:lnTo>
                      <a:pt x="12" y="68"/>
                    </a:lnTo>
                    <a:lnTo>
                      <a:pt x="6" y="62"/>
                    </a:lnTo>
                    <a:lnTo>
                      <a:pt x="0" y="53"/>
                    </a:lnTo>
                    <a:lnTo>
                      <a:pt x="0" y="43"/>
                    </a:lnTo>
                    <a:lnTo>
                      <a:pt x="0" y="19"/>
                    </a:lnTo>
                    <a:lnTo>
                      <a:pt x="3" y="10"/>
                    </a:lnTo>
                    <a:lnTo>
                      <a:pt x="9" y="0"/>
                    </a:lnTo>
                    <a:lnTo>
                      <a:pt x="15" y="3"/>
                    </a:lnTo>
                    <a:lnTo>
                      <a:pt x="24" y="7"/>
                    </a:lnTo>
                    <a:lnTo>
                      <a:pt x="27" y="16"/>
                    </a:lnTo>
                    <a:lnTo>
                      <a:pt x="30" y="28"/>
                    </a:lnTo>
                    <a:lnTo>
                      <a:pt x="30" y="50"/>
                    </a:lnTo>
                    <a:lnTo>
                      <a:pt x="27" y="59"/>
                    </a:lnTo>
                    <a:lnTo>
                      <a:pt x="24" y="68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91" name="Freeform 307"/>
              <p:cNvSpPr/>
              <p:nvPr/>
            </p:nvSpPr>
            <p:spPr>
              <a:xfrm>
                <a:off x="6028920" y="2331000"/>
                <a:ext cx="236520" cy="1213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121320"/>
                  <a:gd name="textAreaBottom" fmla="*/ 121680 h 121320"/>
                </a:gdLst>
                <a:ahLst/>
                <a:rect l="textAreaLeft" t="textAreaTop" r="textAreaRight" b="textAreaBottom"/>
                <a:pathLst>
                  <a:path w="276" h="142">
                    <a:moveTo>
                      <a:pt x="95" y="132"/>
                    </a:moveTo>
                    <a:lnTo>
                      <a:pt x="83" y="142"/>
                    </a:lnTo>
                    <a:lnTo>
                      <a:pt x="70" y="142"/>
                    </a:lnTo>
                    <a:lnTo>
                      <a:pt x="58" y="142"/>
                    </a:lnTo>
                    <a:lnTo>
                      <a:pt x="46" y="136"/>
                    </a:lnTo>
                    <a:lnTo>
                      <a:pt x="21" y="123"/>
                    </a:lnTo>
                    <a:lnTo>
                      <a:pt x="12" y="117"/>
                    </a:lnTo>
                    <a:lnTo>
                      <a:pt x="0" y="114"/>
                    </a:lnTo>
                    <a:lnTo>
                      <a:pt x="12" y="99"/>
                    </a:lnTo>
                    <a:lnTo>
                      <a:pt x="24" y="83"/>
                    </a:lnTo>
                    <a:lnTo>
                      <a:pt x="37" y="71"/>
                    </a:lnTo>
                    <a:lnTo>
                      <a:pt x="52" y="62"/>
                    </a:lnTo>
                    <a:lnTo>
                      <a:pt x="86" y="43"/>
                    </a:lnTo>
                    <a:lnTo>
                      <a:pt x="123" y="34"/>
                    </a:lnTo>
                    <a:lnTo>
                      <a:pt x="160" y="25"/>
                    </a:lnTo>
                    <a:lnTo>
                      <a:pt x="199" y="16"/>
                    </a:lnTo>
                    <a:lnTo>
                      <a:pt x="236" y="10"/>
                    </a:lnTo>
                    <a:lnTo>
                      <a:pt x="276" y="0"/>
                    </a:lnTo>
                    <a:lnTo>
                      <a:pt x="276" y="16"/>
                    </a:lnTo>
                    <a:lnTo>
                      <a:pt x="273" y="28"/>
                    </a:lnTo>
                    <a:lnTo>
                      <a:pt x="264" y="34"/>
                    </a:lnTo>
                    <a:lnTo>
                      <a:pt x="255" y="40"/>
                    </a:lnTo>
                    <a:lnTo>
                      <a:pt x="243" y="46"/>
                    </a:lnTo>
                    <a:lnTo>
                      <a:pt x="227" y="50"/>
                    </a:lnTo>
                    <a:lnTo>
                      <a:pt x="196" y="53"/>
                    </a:lnTo>
                    <a:lnTo>
                      <a:pt x="163" y="53"/>
                    </a:lnTo>
                    <a:lnTo>
                      <a:pt x="129" y="59"/>
                    </a:lnTo>
                    <a:lnTo>
                      <a:pt x="116" y="62"/>
                    </a:lnTo>
                    <a:lnTo>
                      <a:pt x="104" y="68"/>
                    </a:lnTo>
                    <a:lnTo>
                      <a:pt x="92" y="77"/>
                    </a:lnTo>
                    <a:lnTo>
                      <a:pt x="86" y="86"/>
                    </a:lnTo>
                    <a:lnTo>
                      <a:pt x="86" y="96"/>
                    </a:lnTo>
                    <a:lnTo>
                      <a:pt x="89" y="105"/>
                    </a:lnTo>
                    <a:lnTo>
                      <a:pt x="95" y="114"/>
                    </a:lnTo>
                    <a:lnTo>
                      <a:pt x="98" y="117"/>
                    </a:lnTo>
                    <a:lnTo>
                      <a:pt x="101" y="120"/>
                    </a:lnTo>
                    <a:lnTo>
                      <a:pt x="98" y="126"/>
                    </a:lnTo>
                    <a:lnTo>
                      <a:pt x="95" y="132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92" name="Freeform 308"/>
              <p:cNvSpPr/>
              <p:nvPr/>
            </p:nvSpPr>
            <p:spPr>
              <a:xfrm>
                <a:off x="5925960" y="3781080"/>
                <a:ext cx="93960" cy="2185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110" h="255">
                    <a:moveTo>
                      <a:pt x="0" y="86"/>
                    </a:moveTo>
                    <a:lnTo>
                      <a:pt x="18" y="80"/>
                    </a:lnTo>
                    <a:lnTo>
                      <a:pt x="30" y="70"/>
                    </a:lnTo>
                    <a:lnTo>
                      <a:pt x="43" y="58"/>
                    </a:lnTo>
                    <a:lnTo>
                      <a:pt x="52" y="43"/>
                    </a:lnTo>
                    <a:lnTo>
                      <a:pt x="61" y="31"/>
                    </a:lnTo>
                    <a:lnTo>
                      <a:pt x="74" y="18"/>
                    </a:lnTo>
                    <a:lnTo>
                      <a:pt x="86" y="6"/>
                    </a:lnTo>
                    <a:lnTo>
                      <a:pt x="104" y="0"/>
                    </a:lnTo>
                    <a:lnTo>
                      <a:pt x="110" y="37"/>
                    </a:lnTo>
                    <a:lnTo>
                      <a:pt x="110" y="70"/>
                    </a:lnTo>
                    <a:lnTo>
                      <a:pt x="104" y="104"/>
                    </a:lnTo>
                    <a:lnTo>
                      <a:pt x="95" y="135"/>
                    </a:lnTo>
                    <a:lnTo>
                      <a:pt x="74" y="196"/>
                    </a:lnTo>
                    <a:lnTo>
                      <a:pt x="64" y="224"/>
                    </a:lnTo>
                    <a:lnTo>
                      <a:pt x="55" y="255"/>
                    </a:lnTo>
                    <a:lnTo>
                      <a:pt x="9" y="255"/>
                    </a:lnTo>
                    <a:lnTo>
                      <a:pt x="3" y="236"/>
                    </a:lnTo>
                    <a:lnTo>
                      <a:pt x="0" y="215"/>
                    </a:lnTo>
                    <a:lnTo>
                      <a:pt x="3" y="178"/>
                    </a:lnTo>
                    <a:lnTo>
                      <a:pt x="3" y="135"/>
                    </a:lnTo>
                    <a:lnTo>
                      <a:pt x="3" y="113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93" name="Freeform 309"/>
              <p:cNvSpPr/>
              <p:nvPr/>
            </p:nvSpPr>
            <p:spPr>
              <a:xfrm>
                <a:off x="5501160" y="2961720"/>
                <a:ext cx="49320" cy="363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58" h="43">
                    <a:moveTo>
                      <a:pt x="0" y="12"/>
                    </a:moveTo>
                    <a:lnTo>
                      <a:pt x="6" y="6"/>
                    </a:lnTo>
                    <a:lnTo>
                      <a:pt x="15" y="3"/>
                    </a:lnTo>
                    <a:lnTo>
                      <a:pt x="27" y="0"/>
                    </a:lnTo>
                    <a:lnTo>
                      <a:pt x="37" y="3"/>
                    </a:lnTo>
                    <a:lnTo>
                      <a:pt x="46" y="9"/>
                    </a:lnTo>
                    <a:lnTo>
                      <a:pt x="55" y="15"/>
                    </a:lnTo>
                    <a:lnTo>
                      <a:pt x="58" y="27"/>
                    </a:lnTo>
                    <a:lnTo>
                      <a:pt x="55" y="39"/>
                    </a:lnTo>
                    <a:lnTo>
                      <a:pt x="43" y="43"/>
                    </a:lnTo>
                    <a:lnTo>
                      <a:pt x="37" y="39"/>
                    </a:lnTo>
                    <a:lnTo>
                      <a:pt x="24" y="30"/>
                    </a:lnTo>
                    <a:lnTo>
                      <a:pt x="12" y="18"/>
                    </a:lnTo>
                    <a:lnTo>
                      <a:pt x="6" y="1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94" name="Freeform 310"/>
              <p:cNvSpPr/>
              <p:nvPr/>
            </p:nvSpPr>
            <p:spPr>
              <a:xfrm>
                <a:off x="5442840" y="2916000"/>
                <a:ext cx="26280" cy="3924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31" h="46">
                    <a:moveTo>
                      <a:pt x="12" y="0"/>
                    </a:moveTo>
                    <a:lnTo>
                      <a:pt x="22" y="3"/>
                    </a:lnTo>
                    <a:lnTo>
                      <a:pt x="28" y="10"/>
                    </a:lnTo>
                    <a:lnTo>
                      <a:pt x="31" y="19"/>
                    </a:lnTo>
                    <a:lnTo>
                      <a:pt x="31" y="25"/>
                    </a:lnTo>
                    <a:lnTo>
                      <a:pt x="28" y="34"/>
                    </a:lnTo>
                    <a:lnTo>
                      <a:pt x="25" y="40"/>
                    </a:lnTo>
                    <a:lnTo>
                      <a:pt x="15" y="43"/>
                    </a:lnTo>
                    <a:lnTo>
                      <a:pt x="3" y="46"/>
                    </a:lnTo>
                    <a:lnTo>
                      <a:pt x="0" y="31"/>
                    </a:lnTo>
                    <a:lnTo>
                      <a:pt x="0" y="1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95" name="Freeform 311"/>
              <p:cNvSpPr/>
              <p:nvPr/>
            </p:nvSpPr>
            <p:spPr>
              <a:xfrm>
                <a:off x="5369040" y="2935080"/>
                <a:ext cx="15120" cy="126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8" y="6"/>
                    </a:moveTo>
                    <a:lnTo>
                      <a:pt x="12" y="15"/>
                    </a:lnTo>
                    <a:lnTo>
                      <a:pt x="6" y="15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9" y="0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96" name="Freeform 312"/>
              <p:cNvSpPr/>
              <p:nvPr/>
            </p:nvSpPr>
            <p:spPr>
              <a:xfrm>
                <a:off x="5105880" y="2323080"/>
                <a:ext cx="2666160" cy="1823760"/>
              </a:xfrm>
              <a:custGeom>
                <a:avLst/>
                <a:gdLst>
                  <a:gd name="textAreaLeft" fmla="*/ 0 w 2666160"/>
                  <a:gd name="textAreaRight" fmla="*/ 2666520 w 26661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3108" h="2126">
                    <a:moveTo>
                      <a:pt x="1500" y="191"/>
                    </a:moveTo>
                    <a:lnTo>
                      <a:pt x="1503" y="178"/>
                    </a:lnTo>
                    <a:lnTo>
                      <a:pt x="1503" y="169"/>
                    </a:lnTo>
                    <a:lnTo>
                      <a:pt x="1497" y="163"/>
                    </a:lnTo>
                    <a:lnTo>
                      <a:pt x="1488" y="160"/>
                    </a:lnTo>
                    <a:lnTo>
                      <a:pt x="1478" y="160"/>
                    </a:lnTo>
                    <a:lnTo>
                      <a:pt x="1472" y="160"/>
                    </a:lnTo>
                    <a:lnTo>
                      <a:pt x="1466" y="166"/>
                    </a:lnTo>
                    <a:lnTo>
                      <a:pt x="1460" y="172"/>
                    </a:lnTo>
                    <a:lnTo>
                      <a:pt x="1469" y="178"/>
                    </a:lnTo>
                    <a:lnTo>
                      <a:pt x="1478" y="184"/>
                    </a:lnTo>
                    <a:lnTo>
                      <a:pt x="1488" y="191"/>
                    </a:lnTo>
                    <a:lnTo>
                      <a:pt x="1494" y="191"/>
                    </a:lnTo>
                    <a:lnTo>
                      <a:pt x="1500" y="191"/>
                    </a:lnTo>
                    <a:lnTo>
                      <a:pt x="919" y="218"/>
                    </a:lnTo>
                    <a:lnTo>
                      <a:pt x="910" y="224"/>
                    </a:lnTo>
                    <a:lnTo>
                      <a:pt x="897" y="227"/>
                    </a:lnTo>
                    <a:lnTo>
                      <a:pt x="870" y="227"/>
                    </a:lnTo>
                    <a:lnTo>
                      <a:pt x="854" y="227"/>
                    </a:lnTo>
                    <a:lnTo>
                      <a:pt x="842" y="227"/>
                    </a:lnTo>
                    <a:lnTo>
                      <a:pt x="836" y="234"/>
                    </a:lnTo>
                    <a:lnTo>
                      <a:pt x="830" y="246"/>
                    </a:lnTo>
                    <a:lnTo>
                      <a:pt x="845" y="252"/>
                    </a:lnTo>
                    <a:lnTo>
                      <a:pt x="860" y="252"/>
                    </a:lnTo>
                    <a:lnTo>
                      <a:pt x="879" y="252"/>
                    </a:lnTo>
                    <a:lnTo>
                      <a:pt x="900" y="255"/>
                    </a:lnTo>
                    <a:lnTo>
                      <a:pt x="900" y="246"/>
                    </a:lnTo>
                    <a:lnTo>
                      <a:pt x="900" y="240"/>
                    </a:lnTo>
                    <a:lnTo>
                      <a:pt x="900" y="234"/>
                    </a:lnTo>
                    <a:lnTo>
                      <a:pt x="903" y="231"/>
                    </a:lnTo>
                    <a:lnTo>
                      <a:pt x="913" y="227"/>
                    </a:lnTo>
                    <a:lnTo>
                      <a:pt x="916" y="224"/>
                    </a:lnTo>
                    <a:lnTo>
                      <a:pt x="919" y="218"/>
                    </a:lnTo>
                    <a:lnTo>
                      <a:pt x="1500" y="191"/>
                    </a:lnTo>
                    <a:lnTo>
                      <a:pt x="799" y="633"/>
                    </a:lnTo>
                    <a:lnTo>
                      <a:pt x="793" y="621"/>
                    </a:lnTo>
                    <a:lnTo>
                      <a:pt x="787" y="611"/>
                    </a:lnTo>
                    <a:lnTo>
                      <a:pt x="780" y="605"/>
                    </a:lnTo>
                    <a:lnTo>
                      <a:pt x="774" y="602"/>
                    </a:lnTo>
                    <a:lnTo>
                      <a:pt x="765" y="602"/>
                    </a:lnTo>
                    <a:lnTo>
                      <a:pt x="759" y="602"/>
                    </a:lnTo>
                    <a:lnTo>
                      <a:pt x="744" y="611"/>
                    </a:lnTo>
                    <a:lnTo>
                      <a:pt x="731" y="627"/>
                    </a:lnTo>
                    <a:lnTo>
                      <a:pt x="719" y="648"/>
                    </a:lnTo>
                    <a:lnTo>
                      <a:pt x="713" y="673"/>
                    </a:lnTo>
                    <a:lnTo>
                      <a:pt x="713" y="701"/>
                    </a:lnTo>
                    <a:lnTo>
                      <a:pt x="725" y="694"/>
                    </a:lnTo>
                    <a:lnTo>
                      <a:pt x="737" y="688"/>
                    </a:lnTo>
                    <a:lnTo>
                      <a:pt x="765" y="682"/>
                    </a:lnTo>
                    <a:lnTo>
                      <a:pt x="793" y="682"/>
                    </a:lnTo>
                    <a:lnTo>
                      <a:pt x="820" y="685"/>
                    </a:lnTo>
                    <a:lnTo>
                      <a:pt x="876" y="694"/>
                    </a:lnTo>
                    <a:lnTo>
                      <a:pt x="900" y="694"/>
                    </a:lnTo>
                    <a:lnTo>
                      <a:pt x="925" y="691"/>
                    </a:lnTo>
                    <a:lnTo>
                      <a:pt x="925" y="679"/>
                    </a:lnTo>
                    <a:lnTo>
                      <a:pt x="922" y="673"/>
                    </a:lnTo>
                    <a:lnTo>
                      <a:pt x="913" y="658"/>
                    </a:lnTo>
                    <a:lnTo>
                      <a:pt x="897" y="648"/>
                    </a:lnTo>
                    <a:lnTo>
                      <a:pt x="885" y="639"/>
                    </a:lnTo>
                    <a:lnTo>
                      <a:pt x="870" y="630"/>
                    </a:lnTo>
                    <a:lnTo>
                      <a:pt x="857" y="621"/>
                    </a:lnTo>
                    <a:lnTo>
                      <a:pt x="854" y="618"/>
                    </a:lnTo>
                    <a:lnTo>
                      <a:pt x="851" y="611"/>
                    </a:lnTo>
                    <a:lnTo>
                      <a:pt x="851" y="605"/>
                    </a:lnTo>
                    <a:lnTo>
                      <a:pt x="854" y="596"/>
                    </a:lnTo>
                    <a:lnTo>
                      <a:pt x="845" y="596"/>
                    </a:lnTo>
                    <a:lnTo>
                      <a:pt x="836" y="602"/>
                    </a:lnTo>
                    <a:lnTo>
                      <a:pt x="827" y="615"/>
                    </a:lnTo>
                    <a:lnTo>
                      <a:pt x="817" y="630"/>
                    </a:lnTo>
                    <a:lnTo>
                      <a:pt x="808" y="633"/>
                    </a:lnTo>
                    <a:lnTo>
                      <a:pt x="799" y="633"/>
                    </a:lnTo>
                    <a:lnTo>
                      <a:pt x="1500" y="191"/>
                    </a:lnTo>
                    <a:lnTo>
                      <a:pt x="531" y="756"/>
                    </a:lnTo>
                    <a:lnTo>
                      <a:pt x="522" y="737"/>
                    </a:lnTo>
                    <a:lnTo>
                      <a:pt x="510" y="722"/>
                    </a:lnTo>
                    <a:lnTo>
                      <a:pt x="495" y="710"/>
                    </a:lnTo>
                    <a:lnTo>
                      <a:pt x="476" y="701"/>
                    </a:lnTo>
                    <a:lnTo>
                      <a:pt x="458" y="688"/>
                    </a:lnTo>
                    <a:lnTo>
                      <a:pt x="442" y="679"/>
                    </a:lnTo>
                    <a:lnTo>
                      <a:pt x="430" y="664"/>
                    </a:lnTo>
                    <a:lnTo>
                      <a:pt x="421" y="642"/>
                    </a:lnTo>
                    <a:lnTo>
                      <a:pt x="399" y="651"/>
                    </a:lnTo>
                    <a:lnTo>
                      <a:pt x="378" y="661"/>
                    </a:lnTo>
                    <a:lnTo>
                      <a:pt x="356" y="664"/>
                    </a:lnTo>
                    <a:lnTo>
                      <a:pt x="325" y="661"/>
                    </a:lnTo>
                    <a:lnTo>
                      <a:pt x="325" y="676"/>
                    </a:lnTo>
                    <a:lnTo>
                      <a:pt x="322" y="685"/>
                    </a:lnTo>
                    <a:lnTo>
                      <a:pt x="319" y="691"/>
                    </a:lnTo>
                    <a:lnTo>
                      <a:pt x="310" y="697"/>
                    </a:lnTo>
                    <a:lnTo>
                      <a:pt x="295" y="704"/>
                    </a:lnTo>
                    <a:lnTo>
                      <a:pt x="279" y="710"/>
                    </a:lnTo>
                    <a:lnTo>
                      <a:pt x="276" y="731"/>
                    </a:lnTo>
                    <a:lnTo>
                      <a:pt x="270" y="750"/>
                    </a:lnTo>
                    <a:lnTo>
                      <a:pt x="258" y="762"/>
                    </a:lnTo>
                    <a:lnTo>
                      <a:pt x="246" y="771"/>
                    </a:lnTo>
                    <a:lnTo>
                      <a:pt x="212" y="787"/>
                    </a:lnTo>
                    <a:lnTo>
                      <a:pt x="199" y="793"/>
                    </a:lnTo>
                    <a:lnTo>
                      <a:pt x="184" y="805"/>
                    </a:lnTo>
                    <a:lnTo>
                      <a:pt x="267" y="783"/>
                    </a:lnTo>
                    <a:lnTo>
                      <a:pt x="319" y="774"/>
                    </a:lnTo>
                    <a:lnTo>
                      <a:pt x="368" y="765"/>
                    </a:lnTo>
                    <a:lnTo>
                      <a:pt x="393" y="765"/>
                    </a:lnTo>
                    <a:lnTo>
                      <a:pt x="412" y="765"/>
                    </a:lnTo>
                    <a:lnTo>
                      <a:pt x="430" y="768"/>
                    </a:lnTo>
                    <a:lnTo>
                      <a:pt x="439" y="774"/>
                    </a:lnTo>
                    <a:lnTo>
                      <a:pt x="448" y="783"/>
                    </a:lnTo>
                    <a:lnTo>
                      <a:pt x="448" y="796"/>
                    </a:lnTo>
                    <a:lnTo>
                      <a:pt x="442" y="811"/>
                    </a:lnTo>
                    <a:lnTo>
                      <a:pt x="430" y="833"/>
                    </a:lnTo>
                    <a:lnTo>
                      <a:pt x="476" y="857"/>
                    </a:lnTo>
                    <a:lnTo>
                      <a:pt x="501" y="869"/>
                    </a:lnTo>
                    <a:lnTo>
                      <a:pt x="525" y="879"/>
                    </a:lnTo>
                    <a:lnTo>
                      <a:pt x="550" y="885"/>
                    </a:lnTo>
                    <a:lnTo>
                      <a:pt x="562" y="885"/>
                    </a:lnTo>
                    <a:lnTo>
                      <a:pt x="574" y="882"/>
                    </a:lnTo>
                    <a:lnTo>
                      <a:pt x="587" y="879"/>
                    </a:lnTo>
                    <a:lnTo>
                      <a:pt x="596" y="873"/>
                    </a:lnTo>
                    <a:lnTo>
                      <a:pt x="608" y="863"/>
                    </a:lnTo>
                    <a:lnTo>
                      <a:pt x="618" y="851"/>
                    </a:lnTo>
                    <a:lnTo>
                      <a:pt x="642" y="860"/>
                    </a:lnTo>
                    <a:lnTo>
                      <a:pt x="664" y="866"/>
                    </a:lnTo>
                    <a:lnTo>
                      <a:pt x="707" y="876"/>
                    </a:lnTo>
                    <a:lnTo>
                      <a:pt x="753" y="882"/>
                    </a:lnTo>
                    <a:lnTo>
                      <a:pt x="799" y="888"/>
                    </a:lnTo>
                    <a:lnTo>
                      <a:pt x="811" y="866"/>
                    </a:lnTo>
                    <a:lnTo>
                      <a:pt x="820" y="845"/>
                    </a:lnTo>
                    <a:lnTo>
                      <a:pt x="830" y="817"/>
                    </a:lnTo>
                    <a:lnTo>
                      <a:pt x="830" y="783"/>
                    </a:lnTo>
                    <a:lnTo>
                      <a:pt x="811" y="790"/>
                    </a:lnTo>
                    <a:lnTo>
                      <a:pt x="790" y="796"/>
                    </a:lnTo>
                    <a:lnTo>
                      <a:pt x="768" y="796"/>
                    </a:lnTo>
                    <a:lnTo>
                      <a:pt x="747" y="793"/>
                    </a:lnTo>
                    <a:lnTo>
                      <a:pt x="725" y="790"/>
                    </a:lnTo>
                    <a:lnTo>
                      <a:pt x="707" y="780"/>
                    </a:lnTo>
                    <a:lnTo>
                      <a:pt x="691" y="771"/>
                    </a:lnTo>
                    <a:lnTo>
                      <a:pt x="682" y="756"/>
                    </a:lnTo>
                    <a:lnTo>
                      <a:pt x="682" y="737"/>
                    </a:lnTo>
                    <a:lnTo>
                      <a:pt x="679" y="719"/>
                    </a:lnTo>
                    <a:lnTo>
                      <a:pt x="676" y="707"/>
                    </a:lnTo>
                    <a:lnTo>
                      <a:pt x="673" y="701"/>
                    </a:lnTo>
                    <a:lnTo>
                      <a:pt x="664" y="701"/>
                    </a:lnTo>
                    <a:lnTo>
                      <a:pt x="661" y="707"/>
                    </a:lnTo>
                    <a:lnTo>
                      <a:pt x="658" y="713"/>
                    </a:lnTo>
                    <a:lnTo>
                      <a:pt x="651" y="719"/>
                    </a:lnTo>
                    <a:lnTo>
                      <a:pt x="642" y="719"/>
                    </a:lnTo>
                    <a:lnTo>
                      <a:pt x="642" y="728"/>
                    </a:lnTo>
                    <a:lnTo>
                      <a:pt x="642" y="734"/>
                    </a:lnTo>
                    <a:lnTo>
                      <a:pt x="648" y="744"/>
                    </a:lnTo>
                    <a:lnTo>
                      <a:pt x="658" y="750"/>
                    </a:lnTo>
                    <a:lnTo>
                      <a:pt x="658" y="756"/>
                    </a:lnTo>
                    <a:lnTo>
                      <a:pt x="658" y="765"/>
                    </a:lnTo>
                    <a:lnTo>
                      <a:pt x="651" y="768"/>
                    </a:lnTo>
                    <a:lnTo>
                      <a:pt x="645" y="771"/>
                    </a:lnTo>
                    <a:lnTo>
                      <a:pt x="636" y="780"/>
                    </a:lnTo>
                    <a:lnTo>
                      <a:pt x="624" y="790"/>
                    </a:lnTo>
                    <a:lnTo>
                      <a:pt x="618" y="793"/>
                    </a:lnTo>
                    <a:lnTo>
                      <a:pt x="611" y="793"/>
                    </a:lnTo>
                    <a:lnTo>
                      <a:pt x="599" y="762"/>
                    </a:lnTo>
                    <a:lnTo>
                      <a:pt x="587" y="734"/>
                    </a:lnTo>
                    <a:lnTo>
                      <a:pt x="571" y="710"/>
                    </a:lnTo>
                    <a:lnTo>
                      <a:pt x="553" y="685"/>
                    </a:lnTo>
                    <a:lnTo>
                      <a:pt x="535" y="667"/>
                    </a:lnTo>
                    <a:lnTo>
                      <a:pt x="513" y="645"/>
                    </a:lnTo>
                    <a:lnTo>
                      <a:pt x="491" y="630"/>
                    </a:lnTo>
                    <a:lnTo>
                      <a:pt x="467" y="615"/>
                    </a:lnTo>
                    <a:lnTo>
                      <a:pt x="476" y="633"/>
                    </a:lnTo>
                    <a:lnTo>
                      <a:pt x="485" y="648"/>
                    </a:lnTo>
                    <a:lnTo>
                      <a:pt x="498" y="661"/>
                    </a:lnTo>
                    <a:lnTo>
                      <a:pt x="510" y="673"/>
                    </a:lnTo>
                    <a:lnTo>
                      <a:pt x="538" y="691"/>
                    </a:lnTo>
                    <a:lnTo>
                      <a:pt x="553" y="704"/>
                    </a:lnTo>
                    <a:lnTo>
                      <a:pt x="562" y="719"/>
                    </a:lnTo>
                    <a:lnTo>
                      <a:pt x="553" y="716"/>
                    </a:lnTo>
                    <a:lnTo>
                      <a:pt x="544" y="716"/>
                    </a:lnTo>
                    <a:lnTo>
                      <a:pt x="541" y="722"/>
                    </a:lnTo>
                    <a:lnTo>
                      <a:pt x="541" y="728"/>
                    </a:lnTo>
                    <a:lnTo>
                      <a:pt x="538" y="747"/>
                    </a:lnTo>
                    <a:lnTo>
                      <a:pt x="538" y="753"/>
                    </a:lnTo>
                    <a:lnTo>
                      <a:pt x="531" y="756"/>
                    </a:lnTo>
                    <a:lnTo>
                      <a:pt x="1500" y="191"/>
                    </a:lnTo>
                    <a:lnTo>
                      <a:pt x="1066" y="710"/>
                    </a:lnTo>
                    <a:lnTo>
                      <a:pt x="1063" y="716"/>
                    </a:lnTo>
                    <a:lnTo>
                      <a:pt x="1060" y="719"/>
                    </a:lnTo>
                    <a:lnTo>
                      <a:pt x="1045" y="725"/>
                    </a:lnTo>
                    <a:lnTo>
                      <a:pt x="1033" y="734"/>
                    </a:lnTo>
                    <a:lnTo>
                      <a:pt x="1030" y="737"/>
                    </a:lnTo>
                    <a:lnTo>
                      <a:pt x="1026" y="747"/>
                    </a:lnTo>
                    <a:lnTo>
                      <a:pt x="1036" y="756"/>
                    </a:lnTo>
                    <a:lnTo>
                      <a:pt x="1045" y="765"/>
                    </a:lnTo>
                    <a:lnTo>
                      <a:pt x="1057" y="774"/>
                    </a:lnTo>
                    <a:lnTo>
                      <a:pt x="1069" y="780"/>
                    </a:lnTo>
                    <a:lnTo>
                      <a:pt x="1082" y="783"/>
                    </a:lnTo>
                    <a:lnTo>
                      <a:pt x="1094" y="783"/>
                    </a:lnTo>
                    <a:lnTo>
                      <a:pt x="1109" y="780"/>
                    </a:lnTo>
                    <a:lnTo>
                      <a:pt x="1122" y="774"/>
                    </a:lnTo>
                    <a:lnTo>
                      <a:pt x="1119" y="747"/>
                    </a:lnTo>
                    <a:lnTo>
                      <a:pt x="1116" y="725"/>
                    </a:lnTo>
                    <a:lnTo>
                      <a:pt x="1109" y="707"/>
                    </a:lnTo>
                    <a:lnTo>
                      <a:pt x="1103" y="688"/>
                    </a:lnTo>
                    <a:lnTo>
                      <a:pt x="1085" y="658"/>
                    </a:lnTo>
                    <a:lnTo>
                      <a:pt x="1060" y="624"/>
                    </a:lnTo>
                    <a:lnTo>
                      <a:pt x="1066" y="618"/>
                    </a:lnTo>
                    <a:lnTo>
                      <a:pt x="1073" y="615"/>
                    </a:lnTo>
                    <a:lnTo>
                      <a:pt x="1094" y="615"/>
                    </a:lnTo>
                    <a:lnTo>
                      <a:pt x="1116" y="615"/>
                    </a:lnTo>
                    <a:lnTo>
                      <a:pt x="1125" y="611"/>
                    </a:lnTo>
                    <a:lnTo>
                      <a:pt x="1131" y="605"/>
                    </a:lnTo>
                    <a:lnTo>
                      <a:pt x="1119" y="590"/>
                    </a:lnTo>
                    <a:lnTo>
                      <a:pt x="1106" y="584"/>
                    </a:lnTo>
                    <a:lnTo>
                      <a:pt x="1091" y="581"/>
                    </a:lnTo>
                    <a:lnTo>
                      <a:pt x="1073" y="584"/>
                    </a:lnTo>
                    <a:lnTo>
                      <a:pt x="1039" y="596"/>
                    </a:lnTo>
                    <a:lnTo>
                      <a:pt x="1020" y="602"/>
                    </a:lnTo>
                    <a:lnTo>
                      <a:pt x="1005" y="605"/>
                    </a:lnTo>
                    <a:lnTo>
                      <a:pt x="1002" y="630"/>
                    </a:lnTo>
                    <a:lnTo>
                      <a:pt x="1008" y="645"/>
                    </a:lnTo>
                    <a:lnTo>
                      <a:pt x="1014" y="661"/>
                    </a:lnTo>
                    <a:lnTo>
                      <a:pt x="1026" y="670"/>
                    </a:lnTo>
                    <a:lnTo>
                      <a:pt x="1048" y="688"/>
                    </a:lnTo>
                    <a:lnTo>
                      <a:pt x="1060" y="697"/>
                    </a:lnTo>
                    <a:lnTo>
                      <a:pt x="1066" y="710"/>
                    </a:lnTo>
                    <a:lnTo>
                      <a:pt x="1500" y="191"/>
                    </a:lnTo>
                    <a:lnTo>
                      <a:pt x="1943" y="1106"/>
                    </a:lnTo>
                    <a:lnTo>
                      <a:pt x="1946" y="1121"/>
                    </a:lnTo>
                    <a:lnTo>
                      <a:pt x="1955" y="1137"/>
                    </a:lnTo>
                    <a:lnTo>
                      <a:pt x="1976" y="1158"/>
                    </a:lnTo>
                    <a:lnTo>
                      <a:pt x="1986" y="1171"/>
                    </a:lnTo>
                    <a:lnTo>
                      <a:pt x="1995" y="1180"/>
                    </a:lnTo>
                    <a:lnTo>
                      <a:pt x="2001" y="1195"/>
                    </a:lnTo>
                    <a:lnTo>
                      <a:pt x="2004" y="1210"/>
                    </a:lnTo>
                    <a:lnTo>
                      <a:pt x="2004" y="1229"/>
                    </a:lnTo>
                    <a:lnTo>
                      <a:pt x="2001" y="1247"/>
                    </a:lnTo>
                    <a:lnTo>
                      <a:pt x="1995" y="1260"/>
                    </a:lnTo>
                    <a:lnTo>
                      <a:pt x="1986" y="1269"/>
                    </a:lnTo>
                    <a:lnTo>
                      <a:pt x="1961" y="1287"/>
                    </a:lnTo>
                    <a:lnTo>
                      <a:pt x="1949" y="1300"/>
                    </a:lnTo>
                    <a:lnTo>
                      <a:pt x="1933" y="1312"/>
                    </a:lnTo>
                    <a:lnTo>
                      <a:pt x="1924" y="1306"/>
                    </a:lnTo>
                    <a:lnTo>
                      <a:pt x="1915" y="1296"/>
                    </a:lnTo>
                    <a:lnTo>
                      <a:pt x="1900" y="1272"/>
                    </a:lnTo>
                    <a:lnTo>
                      <a:pt x="1884" y="1247"/>
                    </a:lnTo>
                    <a:lnTo>
                      <a:pt x="1875" y="1235"/>
                    </a:lnTo>
                    <a:lnTo>
                      <a:pt x="1863" y="1229"/>
                    </a:lnTo>
                    <a:lnTo>
                      <a:pt x="1857" y="1229"/>
                    </a:lnTo>
                    <a:lnTo>
                      <a:pt x="1850" y="1235"/>
                    </a:lnTo>
                    <a:lnTo>
                      <a:pt x="1847" y="1253"/>
                    </a:lnTo>
                    <a:lnTo>
                      <a:pt x="1847" y="1272"/>
                    </a:lnTo>
                    <a:lnTo>
                      <a:pt x="1844" y="1278"/>
                    </a:lnTo>
                    <a:lnTo>
                      <a:pt x="1841" y="1284"/>
                    </a:lnTo>
                    <a:lnTo>
                      <a:pt x="1829" y="1275"/>
                    </a:lnTo>
                    <a:lnTo>
                      <a:pt x="1823" y="1266"/>
                    </a:lnTo>
                    <a:lnTo>
                      <a:pt x="1820" y="1250"/>
                    </a:lnTo>
                    <a:lnTo>
                      <a:pt x="1814" y="1235"/>
                    </a:lnTo>
                    <a:lnTo>
                      <a:pt x="1810" y="1198"/>
                    </a:lnTo>
                    <a:lnTo>
                      <a:pt x="1807" y="1161"/>
                    </a:lnTo>
                    <a:lnTo>
                      <a:pt x="1798" y="1161"/>
                    </a:lnTo>
                    <a:lnTo>
                      <a:pt x="1792" y="1161"/>
                    </a:lnTo>
                    <a:lnTo>
                      <a:pt x="1786" y="1167"/>
                    </a:lnTo>
                    <a:lnTo>
                      <a:pt x="1783" y="1174"/>
                    </a:lnTo>
                    <a:lnTo>
                      <a:pt x="1780" y="1183"/>
                    </a:lnTo>
                    <a:lnTo>
                      <a:pt x="1777" y="1189"/>
                    </a:lnTo>
                    <a:lnTo>
                      <a:pt x="1770" y="1192"/>
                    </a:lnTo>
                    <a:lnTo>
                      <a:pt x="1761" y="1189"/>
                    </a:lnTo>
                    <a:lnTo>
                      <a:pt x="1758" y="1167"/>
                    </a:lnTo>
                    <a:lnTo>
                      <a:pt x="1755" y="1149"/>
                    </a:lnTo>
                    <a:lnTo>
                      <a:pt x="1749" y="1131"/>
                    </a:lnTo>
                    <a:lnTo>
                      <a:pt x="1743" y="1112"/>
                    </a:lnTo>
                    <a:lnTo>
                      <a:pt x="1727" y="1081"/>
                    </a:lnTo>
                    <a:lnTo>
                      <a:pt x="1715" y="1048"/>
                    </a:lnTo>
                    <a:lnTo>
                      <a:pt x="1700" y="1051"/>
                    </a:lnTo>
                    <a:lnTo>
                      <a:pt x="1684" y="1054"/>
                    </a:lnTo>
                    <a:lnTo>
                      <a:pt x="1660" y="1066"/>
                    </a:lnTo>
                    <a:lnTo>
                      <a:pt x="1638" y="1081"/>
                    </a:lnTo>
                    <a:lnTo>
                      <a:pt x="1620" y="1100"/>
                    </a:lnTo>
                    <a:lnTo>
                      <a:pt x="1583" y="1140"/>
                    </a:lnTo>
                    <a:lnTo>
                      <a:pt x="1561" y="1158"/>
                    </a:lnTo>
                    <a:lnTo>
                      <a:pt x="1540" y="1171"/>
                    </a:lnTo>
                    <a:lnTo>
                      <a:pt x="1537" y="1226"/>
                    </a:lnTo>
                    <a:lnTo>
                      <a:pt x="1534" y="1250"/>
                    </a:lnTo>
                    <a:lnTo>
                      <a:pt x="1528" y="1275"/>
                    </a:lnTo>
                    <a:lnTo>
                      <a:pt x="1521" y="1296"/>
                    </a:lnTo>
                    <a:lnTo>
                      <a:pt x="1512" y="1315"/>
                    </a:lnTo>
                    <a:lnTo>
                      <a:pt x="1500" y="1330"/>
                    </a:lnTo>
                    <a:lnTo>
                      <a:pt x="1485" y="1343"/>
                    </a:lnTo>
                    <a:lnTo>
                      <a:pt x="1478" y="1306"/>
                    </a:lnTo>
                    <a:lnTo>
                      <a:pt x="1466" y="1275"/>
                    </a:lnTo>
                    <a:lnTo>
                      <a:pt x="1438" y="1214"/>
                    </a:lnTo>
                    <a:lnTo>
                      <a:pt x="1426" y="1183"/>
                    </a:lnTo>
                    <a:lnTo>
                      <a:pt x="1414" y="1149"/>
                    </a:lnTo>
                    <a:lnTo>
                      <a:pt x="1411" y="1115"/>
                    </a:lnTo>
                    <a:lnTo>
                      <a:pt x="1411" y="1097"/>
                    </a:lnTo>
                    <a:lnTo>
                      <a:pt x="1414" y="1078"/>
                    </a:lnTo>
                    <a:lnTo>
                      <a:pt x="1411" y="1072"/>
                    </a:lnTo>
                    <a:lnTo>
                      <a:pt x="1408" y="1069"/>
                    </a:lnTo>
                    <a:lnTo>
                      <a:pt x="1398" y="1075"/>
                    </a:lnTo>
                    <a:lnTo>
                      <a:pt x="1389" y="1084"/>
                    </a:lnTo>
                    <a:lnTo>
                      <a:pt x="1380" y="1088"/>
                    </a:lnTo>
                    <a:lnTo>
                      <a:pt x="1374" y="1088"/>
                    </a:lnTo>
                    <a:lnTo>
                      <a:pt x="1371" y="1069"/>
                    </a:lnTo>
                    <a:lnTo>
                      <a:pt x="1368" y="1054"/>
                    </a:lnTo>
                    <a:lnTo>
                      <a:pt x="1359" y="1041"/>
                    </a:lnTo>
                    <a:lnTo>
                      <a:pt x="1352" y="1029"/>
                    </a:lnTo>
                    <a:lnTo>
                      <a:pt x="1331" y="1011"/>
                    </a:lnTo>
                    <a:lnTo>
                      <a:pt x="1312" y="992"/>
                    </a:lnTo>
                    <a:lnTo>
                      <a:pt x="1297" y="1002"/>
                    </a:lnTo>
                    <a:lnTo>
                      <a:pt x="1275" y="1008"/>
                    </a:lnTo>
                    <a:lnTo>
                      <a:pt x="1254" y="1011"/>
                    </a:lnTo>
                    <a:lnTo>
                      <a:pt x="1229" y="1011"/>
                    </a:lnTo>
                    <a:lnTo>
                      <a:pt x="1208" y="1008"/>
                    </a:lnTo>
                    <a:lnTo>
                      <a:pt x="1189" y="998"/>
                    </a:lnTo>
                    <a:lnTo>
                      <a:pt x="1183" y="992"/>
                    </a:lnTo>
                    <a:lnTo>
                      <a:pt x="1177" y="983"/>
                    </a:lnTo>
                    <a:lnTo>
                      <a:pt x="1171" y="974"/>
                    </a:lnTo>
                    <a:lnTo>
                      <a:pt x="1171" y="965"/>
                    </a:lnTo>
                    <a:lnTo>
                      <a:pt x="1153" y="974"/>
                    </a:lnTo>
                    <a:lnTo>
                      <a:pt x="1134" y="977"/>
                    </a:lnTo>
                    <a:lnTo>
                      <a:pt x="1119" y="974"/>
                    </a:lnTo>
                    <a:lnTo>
                      <a:pt x="1103" y="965"/>
                    </a:lnTo>
                    <a:lnTo>
                      <a:pt x="1088" y="952"/>
                    </a:lnTo>
                    <a:lnTo>
                      <a:pt x="1076" y="937"/>
                    </a:lnTo>
                    <a:lnTo>
                      <a:pt x="1066" y="919"/>
                    </a:lnTo>
                    <a:lnTo>
                      <a:pt x="1060" y="897"/>
                    </a:lnTo>
                    <a:lnTo>
                      <a:pt x="1048" y="903"/>
                    </a:lnTo>
                    <a:lnTo>
                      <a:pt x="1042" y="906"/>
                    </a:lnTo>
                    <a:lnTo>
                      <a:pt x="1036" y="906"/>
                    </a:lnTo>
                    <a:lnTo>
                      <a:pt x="1039" y="928"/>
                    </a:lnTo>
                    <a:lnTo>
                      <a:pt x="1048" y="943"/>
                    </a:lnTo>
                    <a:lnTo>
                      <a:pt x="1054" y="959"/>
                    </a:lnTo>
                    <a:lnTo>
                      <a:pt x="1063" y="971"/>
                    </a:lnTo>
                    <a:lnTo>
                      <a:pt x="1085" y="998"/>
                    </a:lnTo>
                    <a:lnTo>
                      <a:pt x="1094" y="1014"/>
                    </a:lnTo>
                    <a:lnTo>
                      <a:pt x="1100" y="1029"/>
                    </a:lnTo>
                    <a:lnTo>
                      <a:pt x="1113" y="1020"/>
                    </a:lnTo>
                    <a:lnTo>
                      <a:pt x="1125" y="1011"/>
                    </a:lnTo>
                    <a:lnTo>
                      <a:pt x="1137" y="998"/>
                    </a:lnTo>
                    <a:lnTo>
                      <a:pt x="1143" y="992"/>
                    </a:lnTo>
                    <a:lnTo>
                      <a:pt x="1146" y="983"/>
                    </a:lnTo>
                    <a:lnTo>
                      <a:pt x="1153" y="992"/>
                    </a:lnTo>
                    <a:lnTo>
                      <a:pt x="1162" y="998"/>
                    </a:lnTo>
                    <a:lnTo>
                      <a:pt x="1180" y="1014"/>
                    </a:lnTo>
                    <a:lnTo>
                      <a:pt x="1199" y="1026"/>
                    </a:lnTo>
                    <a:lnTo>
                      <a:pt x="1217" y="1038"/>
                    </a:lnTo>
                    <a:lnTo>
                      <a:pt x="1211" y="1063"/>
                    </a:lnTo>
                    <a:lnTo>
                      <a:pt x="1202" y="1084"/>
                    </a:lnTo>
                    <a:lnTo>
                      <a:pt x="1189" y="1103"/>
                    </a:lnTo>
                    <a:lnTo>
                      <a:pt x="1177" y="1121"/>
                    </a:lnTo>
                    <a:lnTo>
                      <a:pt x="1165" y="1137"/>
                    </a:lnTo>
                    <a:lnTo>
                      <a:pt x="1149" y="1149"/>
                    </a:lnTo>
                    <a:lnTo>
                      <a:pt x="1116" y="1174"/>
                    </a:lnTo>
                    <a:lnTo>
                      <a:pt x="1079" y="1192"/>
                    </a:lnTo>
                    <a:lnTo>
                      <a:pt x="1039" y="1207"/>
                    </a:lnTo>
                    <a:lnTo>
                      <a:pt x="956" y="1238"/>
                    </a:lnTo>
                    <a:lnTo>
                      <a:pt x="950" y="1217"/>
                    </a:lnTo>
                    <a:lnTo>
                      <a:pt x="943" y="1195"/>
                    </a:lnTo>
                    <a:lnTo>
                      <a:pt x="931" y="1152"/>
                    </a:lnTo>
                    <a:lnTo>
                      <a:pt x="922" y="1131"/>
                    </a:lnTo>
                    <a:lnTo>
                      <a:pt x="913" y="1112"/>
                    </a:lnTo>
                    <a:lnTo>
                      <a:pt x="900" y="1097"/>
                    </a:lnTo>
                    <a:lnTo>
                      <a:pt x="885" y="1088"/>
                    </a:lnTo>
                    <a:lnTo>
                      <a:pt x="873" y="1045"/>
                    </a:lnTo>
                    <a:lnTo>
                      <a:pt x="860" y="1005"/>
                    </a:lnTo>
                    <a:lnTo>
                      <a:pt x="851" y="986"/>
                    </a:lnTo>
                    <a:lnTo>
                      <a:pt x="842" y="971"/>
                    </a:lnTo>
                    <a:lnTo>
                      <a:pt x="830" y="955"/>
                    </a:lnTo>
                    <a:lnTo>
                      <a:pt x="814" y="946"/>
                    </a:lnTo>
                    <a:lnTo>
                      <a:pt x="824" y="980"/>
                    </a:lnTo>
                    <a:lnTo>
                      <a:pt x="833" y="1020"/>
                    </a:lnTo>
                    <a:lnTo>
                      <a:pt x="848" y="1057"/>
                    </a:lnTo>
                    <a:lnTo>
                      <a:pt x="863" y="1097"/>
                    </a:lnTo>
                    <a:lnTo>
                      <a:pt x="882" y="1134"/>
                    </a:lnTo>
                    <a:lnTo>
                      <a:pt x="903" y="1171"/>
                    </a:lnTo>
                    <a:lnTo>
                      <a:pt x="925" y="1201"/>
                    </a:lnTo>
                    <a:lnTo>
                      <a:pt x="950" y="1229"/>
                    </a:lnTo>
                    <a:lnTo>
                      <a:pt x="950" y="1275"/>
                    </a:lnTo>
                    <a:lnTo>
                      <a:pt x="971" y="1275"/>
                    </a:lnTo>
                    <a:lnTo>
                      <a:pt x="986" y="1275"/>
                    </a:lnTo>
                    <a:lnTo>
                      <a:pt x="1002" y="1269"/>
                    </a:lnTo>
                    <a:lnTo>
                      <a:pt x="1017" y="1263"/>
                    </a:lnTo>
                    <a:lnTo>
                      <a:pt x="1045" y="1250"/>
                    </a:lnTo>
                    <a:lnTo>
                      <a:pt x="1063" y="1247"/>
                    </a:lnTo>
                    <a:lnTo>
                      <a:pt x="1082" y="1247"/>
                    </a:lnTo>
                    <a:lnTo>
                      <a:pt x="1079" y="1275"/>
                    </a:lnTo>
                    <a:lnTo>
                      <a:pt x="1069" y="1303"/>
                    </a:lnTo>
                    <a:lnTo>
                      <a:pt x="1063" y="1327"/>
                    </a:lnTo>
                    <a:lnTo>
                      <a:pt x="1051" y="1349"/>
                    </a:lnTo>
                    <a:lnTo>
                      <a:pt x="1026" y="1389"/>
                    </a:lnTo>
                    <a:lnTo>
                      <a:pt x="999" y="1425"/>
                    </a:lnTo>
                    <a:lnTo>
                      <a:pt x="937" y="1490"/>
                    </a:lnTo>
                    <a:lnTo>
                      <a:pt x="910" y="1527"/>
                    </a:lnTo>
                    <a:lnTo>
                      <a:pt x="885" y="1567"/>
                    </a:lnTo>
                    <a:lnTo>
                      <a:pt x="891" y="1597"/>
                    </a:lnTo>
                    <a:lnTo>
                      <a:pt x="894" y="1625"/>
                    </a:lnTo>
                    <a:lnTo>
                      <a:pt x="897" y="1637"/>
                    </a:lnTo>
                    <a:lnTo>
                      <a:pt x="900" y="1650"/>
                    </a:lnTo>
                    <a:lnTo>
                      <a:pt x="907" y="1656"/>
                    </a:lnTo>
                    <a:lnTo>
                      <a:pt x="919" y="1662"/>
                    </a:lnTo>
                    <a:lnTo>
                      <a:pt x="919" y="1699"/>
                    </a:lnTo>
                    <a:lnTo>
                      <a:pt x="913" y="1733"/>
                    </a:lnTo>
                    <a:lnTo>
                      <a:pt x="903" y="1757"/>
                    </a:lnTo>
                    <a:lnTo>
                      <a:pt x="891" y="1782"/>
                    </a:lnTo>
                    <a:lnTo>
                      <a:pt x="876" y="1800"/>
                    </a:lnTo>
                    <a:lnTo>
                      <a:pt x="860" y="1819"/>
                    </a:lnTo>
                    <a:lnTo>
                      <a:pt x="824" y="1849"/>
                    </a:lnTo>
                    <a:lnTo>
                      <a:pt x="827" y="1889"/>
                    </a:lnTo>
                    <a:lnTo>
                      <a:pt x="833" y="1905"/>
                    </a:lnTo>
                    <a:lnTo>
                      <a:pt x="839" y="1917"/>
                    </a:lnTo>
                    <a:lnTo>
                      <a:pt x="830" y="1932"/>
                    </a:lnTo>
                    <a:lnTo>
                      <a:pt x="820" y="1942"/>
                    </a:lnTo>
                    <a:lnTo>
                      <a:pt x="808" y="1951"/>
                    </a:lnTo>
                    <a:lnTo>
                      <a:pt x="793" y="1954"/>
                    </a:lnTo>
                    <a:lnTo>
                      <a:pt x="790" y="1978"/>
                    </a:lnTo>
                    <a:lnTo>
                      <a:pt x="784" y="2000"/>
                    </a:lnTo>
                    <a:lnTo>
                      <a:pt x="774" y="2021"/>
                    </a:lnTo>
                    <a:lnTo>
                      <a:pt x="765" y="2037"/>
                    </a:lnTo>
                    <a:lnTo>
                      <a:pt x="756" y="2055"/>
                    </a:lnTo>
                    <a:lnTo>
                      <a:pt x="741" y="2067"/>
                    </a:lnTo>
                    <a:lnTo>
                      <a:pt x="728" y="2083"/>
                    </a:lnTo>
                    <a:lnTo>
                      <a:pt x="713" y="2092"/>
                    </a:lnTo>
                    <a:lnTo>
                      <a:pt x="694" y="2101"/>
                    </a:lnTo>
                    <a:lnTo>
                      <a:pt x="676" y="2110"/>
                    </a:lnTo>
                    <a:lnTo>
                      <a:pt x="639" y="2120"/>
                    </a:lnTo>
                    <a:lnTo>
                      <a:pt x="602" y="2126"/>
                    </a:lnTo>
                    <a:lnTo>
                      <a:pt x="562" y="2126"/>
                    </a:lnTo>
                    <a:lnTo>
                      <a:pt x="553" y="2083"/>
                    </a:lnTo>
                    <a:lnTo>
                      <a:pt x="544" y="2046"/>
                    </a:lnTo>
                    <a:lnTo>
                      <a:pt x="538" y="2028"/>
                    </a:lnTo>
                    <a:lnTo>
                      <a:pt x="528" y="2009"/>
                    </a:lnTo>
                    <a:lnTo>
                      <a:pt x="519" y="1994"/>
                    </a:lnTo>
                    <a:lnTo>
                      <a:pt x="507" y="1981"/>
                    </a:lnTo>
                    <a:lnTo>
                      <a:pt x="507" y="1945"/>
                    </a:lnTo>
                    <a:lnTo>
                      <a:pt x="501" y="1911"/>
                    </a:lnTo>
                    <a:lnTo>
                      <a:pt x="491" y="1886"/>
                    </a:lnTo>
                    <a:lnTo>
                      <a:pt x="479" y="1862"/>
                    </a:lnTo>
                    <a:lnTo>
                      <a:pt x="467" y="1834"/>
                    </a:lnTo>
                    <a:lnTo>
                      <a:pt x="458" y="1809"/>
                    </a:lnTo>
                    <a:lnTo>
                      <a:pt x="452" y="1776"/>
                    </a:lnTo>
                    <a:lnTo>
                      <a:pt x="452" y="1739"/>
                    </a:lnTo>
                    <a:lnTo>
                      <a:pt x="470" y="1714"/>
                    </a:lnTo>
                    <a:lnTo>
                      <a:pt x="485" y="1690"/>
                    </a:lnTo>
                    <a:lnTo>
                      <a:pt x="473" y="1634"/>
                    </a:lnTo>
                    <a:lnTo>
                      <a:pt x="458" y="1579"/>
                    </a:lnTo>
                    <a:lnTo>
                      <a:pt x="448" y="1558"/>
                    </a:lnTo>
                    <a:lnTo>
                      <a:pt x="436" y="1536"/>
                    </a:lnTo>
                    <a:lnTo>
                      <a:pt x="421" y="1518"/>
                    </a:lnTo>
                    <a:lnTo>
                      <a:pt x="405" y="1502"/>
                    </a:lnTo>
                    <a:lnTo>
                      <a:pt x="408" y="1478"/>
                    </a:lnTo>
                    <a:lnTo>
                      <a:pt x="415" y="1450"/>
                    </a:lnTo>
                    <a:lnTo>
                      <a:pt x="421" y="1429"/>
                    </a:lnTo>
                    <a:lnTo>
                      <a:pt x="430" y="1407"/>
                    </a:lnTo>
                    <a:lnTo>
                      <a:pt x="424" y="1401"/>
                    </a:lnTo>
                    <a:lnTo>
                      <a:pt x="421" y="1395"/>
                    </a:lnTo>
                    <a:lnTo>
                      <a:pt x="415" y="1389"/>
                    </a:lnTo>
                    <a:lnTo>
                      <a:pt x="412" y="1379"/>
                    </a:lnTo>
                    <a:lnTo>
                      <a:pt x="405" y="1379"/>
                    </a:lnTo>
                    <a:lnTo>
                      <a:pt x="399" y="1382"/>
                    </a:lnTo>
                    <a:lnTo>
                      <a:pt x="387" y="1392"/>
                    </a:lnTo>
                    <a:lnTo>
                      <a:pt x="384" y="1398"/>
                    </a:lnTo>
                    <a:lnTo>
                      <a:pt x="378" y="1401"/>
                    </a:lnTo>
                    <a:lnTo>
                      <a:pt x="368" y="1401"/>
                    </a:lnTo>
                    <a:lnTo>
                      <a:pt x="356" y="1398"/>
                    </a:lnTo>
                    <a:lnTo>
                      <a:pt x="353" y="1389"/>
                    </a:lnTo>
                    <a:lnTo>
                      <a:pt x="350" y="1373"/>
                    </a:lnTo>
                    <a:lnTo>
                      <a:pt x="347" y="1361"/>
                    </a:lnTo>
                    <a:lnTo>
                      <a:pt x="341" y="1352"/>
                    </a:lnTo>
                    <a:lnTo>
                      <a:pt x="319" y="1352"/>
                    </a:lnTo>
                    <a:lnTo>
                      <a:pt x="298" y="1355"/>
                    </a:lnTo>
                    <a:lnTo>
                      <a:pt x="264" y="1370"/>
                    </a:lnTo>
                    <a:lnTo>
                      <a:pt x="246" y="1376"/>
                    </a:lnTo>
                    <a:lnTo>
                      <a:pt x="227" y="1382"/>
                    </a:lnTo>
                    <a:lnTo>
                      <a:pt x="202" y="1382"/>
                    </a:lnTo>
                    <a:lnTo>
                      <a:pt x="178" y="1379"/>
                    </a:lnTo>
                    <a:lnTo>
                      <a:pt x="169" y="1379"/>
                    </a:lnTo>
                    <a:lnTo>
                      <a:pt x="166" y="1379"/>
                    </a:lnTo>
                    <a:lnTo>
                      <a:pt x="162" y="1382"/>
                    </a:lnTo>
                    <a:lnTo>
                      <a:pt x="159" y="1389"/>
                    </a:lnTo>
                    <a:lnTo>
                      <a:pt x="156" y="1398"/>
                    </a:lnTo>
                    <a:lnTo>
                      <a:pt x="153" y="1407"/>
                    </a:lnTo>
                    <a:lnTo>
                      <a:pt x="129" y="1392"/>
                    </a:lnTo>
                    <a:lnTo>
                      <a:pt x="110" y="1376"/>
                    </a:lnTo>
                    <a:lnTo>
                      <a:pt x="95" y="1355"/>
                    </a:lnTo>
                    <a:lnTo>
                      <a:pt x="79" y="1330"/>
                    </a:lnTo>
                    <a:lnTo>
                      <a:pt x="64" y="1309"/>
                    </a:lnTo>
                    <a:lnTo>
                      <a:pt x="46" y="1287"/>
                    </a:lnTo>
                    <a:lnTo>
                      <a:pt x="27" y="1269"/>
                    </a:lnTo>
                    <a:lnTo>
                      <a:pt x="3" y="1257"/>
                    </a:lnTo>
                    <a:lnTo>
                      <a:pt x="0" y="1220"/>
                    </a:lnTo>
                    <a:lnTo>
                      <a:pt x="0" y="1192"/>
                    </a:lnTo>
                    <a:lnTo>
                      <a:pt x="0" y="1177"/>
                    </a:lnTo>
                    <a:lnTo>
                      <a:pt x="3" y="1164"/>
                    </a:lnTo>
                    <a:lnTo>
                      <a:pt x="9" y="1155"/>
                    </a:lnTo>
                    <a:lnTo>
                      <a:pt x="18" y="1143"/>
                    </a:lnTo>
                    <a:lnTo>
                      <a:pt x="12" y="1103"/>
                    </a:lnTo>
                    <a:lnTo>
                      <a:pt x="12" y="1066"/>
                    </a:lnTo>
                    <a:lnTo>
                      <a:pt x="15" y="1032"/>
                    </a:lnTo>
                    <a:lnTo>
                      <a:pt x="27" y="1002"/>
                    </a:lnTo>
                    <a:lnTo>
                      <a:pt x="43" y="977"/>
                    </a:lnTo>
                    <a:lnTo>
                      <a:pt x="64" y="952"/>
                    </a:lnTo>
                    <a:lnTo>
                      <a:pt x="86" y="934"/>
                    </a:lnTo>
                    <a:lnTo>
                      <a:pt x="113" y="916"/>
                    </a:lnTo>
                    <a:lnTo>
                      <a:pt x="113" y="894"/>
                    </a:lnTo>
                    <a:lnTo>
                      <a:pt x="116" y="876"/>
                    </a:lnTo>
                    <a:lnTo>
                      <a:pt x="123" y="857"/>
                    </a:lnTo>
                    <a:lnTo>
                      <a:pt x="129" y="845"/>
                    </a:lnTo>
                    <a:lnTo>
                      <a:pt x="138" y="836"/>
                    </a:lnTo>
                    <a:lnTo>
                      <a:pt x="150" y="826"/>
                    </a:lnTo>
                    <a:lnTo>
                      <a:pt x="178" y="814"/>
                    </a:lnTo>
                    <a:lnTo>
                      <a:pt x="175" y="799"/>
                    </a:lnTo>
                    <a:lnTo>
                      <a:pt x="169" y="787"/>
                    </a:lnTo>
                    <a:lnTo>
                      <a:pt x="162" y="780"/>
                    </a:lnTo>
                    <a:lnTo>
                      <a:pt x="150" y="777"/>
                    </a:lnTo>
                    <a:lnTo>
                      <a:pt x="129" y="768"/>
                    </a:lnTo>
                    <a:lnTo>
                      <a:pt x="119" y="765"/>
                    </a:lnTo>
                    <a:lnTo>
                      <a:pt x="113" y="756"/>
                    </a:lnTo>
                    <a:lnTo>
                      <a:pt x="119" y="728"/>
                    </a:lnTo>
                    <a:lnTo>
                      <a:pt x="119" y="697"/>
                    </a:lnTo>
                    <a:lnTo>
                      <a:pt x="123" y="667"/>
                    </a:lnTo>
                    <a:lnTo>
                      <a:pt x="126" y="654"/>
                    </a:lnTo>
                    <a:lnTo>
                      <a:pt x="129" y="642"/>
                    </a:lnTo>
                    <a:lnTo>
                      <a:pt x="153" y="642"/>
                    </a:lnTo>
                    <a:lnTo>
                      <a:pt x="181" y="642"/>
                    </a:lnTo>
                    <a:lnTo>
                      <a:pt x="206" y="645"/>
                    </a:lnTo>
                    <a:lnTo>
                      <a:pt x="215" y="648"/>
                    </a:lnTo>
                    <a:lnTo>
                      <a:pt x="224" y="651"/>
                    </a:lnTo>
                    <a:lnTo>
                      <a:pt x="233" y="645"/>
                    </a:lnTo>
                    <a:lnTo>
                      <a:pt x="239" y="639"/>
                    </a:lnTo>
                    <a:lnTo>
                      <a:pt x="246" y="630"/>
                    </a:lnTo>
                    <a:lnTo>
                      <a:pt x="249" y="615"/>
                    </a:lnTo>
                    <a:lnTo>
                      <a:pt x="246" y="602"/>
                    </a:lnTo>
                    <a:lnTo>
                      <a:pt x="242" y="593"/>
                    </a:lnTo>
                    <a:lnTo>
                      <a:pt x="236" y="587"/>
                    </a:lnTo>
                    <a:lnTo>
                      <a:pt x="227" y="581"/>
                    </a:lnTo>
                    <a:lnTo>
                      <a:pt x="209" y="575"/>
                    </a:lnTo>
                    <a:lnTo>
                      <a:pt x="199" y="572"/>
                    </a:lnTo>
                    <a:lnTo>
                      <a:pt x="193" y="568"/>
                    </a:lnTo>
                    <a:lnTo>
                      <a:pt x="199" y="556"/>
                    </a:lnTo>
                    <a:lnTo>
                      <a:pt x="212" y="550"/>
                    </a:lnTo>
                    <a:lnTo>
                      <a:pt x="227" y="544"/>
                    </a:lnTo>
                    <a:lnTo>
                      <a:pt x="239" y="541"/>
                    </a:lnTo>
                    <a:lnTo>
                      <a:pt x="270" y="535"/>
                    </a:lnTo>
                    <a:lnTo>
                      <a:pt x="282" y="529"/>
                    </a:lnTo>
                    <a:lnTo>
                      <a:pt x="295" y="519"/>
                    </a:lnTo>
                    <a:lnTo>
                      <a:pt x="282" y="519"/>
                    </a:lnTo>
                    <a:lnTo>
                      <a:pt x="267" y="519"/>
                    </a:lnTo>
                    <a:lnTo>
                      <a:pt x="236" y="522"/>
                    </a:lnTo>
                    <a:lnTo>
                      <a:pt x="218" y="522"/>
                    </a:lnTo>
                    <a:lnTo>
                      <a:pt x="206" y="519"/>
                    </a:lnTo>
                    <a:lnTo>
                      <a:pt x="193" y="513"/>
                    </a:lnTo>
                    <a:lnTo>
                      <a:pt x="187" y="507"/>
                    </a:lnTo>
                    <a:lnTo>
                      <a:pt x="184" y="501"/>
                    </a:lnTo>
                    <a:lnTo>
                      <a:pt x="187" y="486"/>
                    </a:lnTo>
                    <a:lnTo>
                      <a:pt x="193" y="473"/>
                    </a:lnTo>
                    <a:lnTo>
                      <a:pt x="202" y="467"/>
                    </a:lnTo>
                    <a:lnTo>
                      <a:pt x="215" y="464"/>
                    </a:lnTo>
                    <a:lnTo>
                      <a:pt x="215" y="455"/>
                    </a:lnTo>
                    <a:lnTo>
                      <a:pt x="212" y="452"/>
                    </a:lnTo>
                    <a:lnTo>
                      <a:pt x="209" y="449"/>
                    </a:lnTo>
                    <a:lnTo>
                      <a:pt x="202" y="449"/>
                    </a:lnTo>
                    <a:lnTo>
                      <a:pt x="190" y="446"/>
                    </a:lnTo>
                    <a:lnTo>
                      <a:pt x="187" y="442"/>
                    </a:lnTo>
                    <a:lnTo>
                      <a:pt x="184" y="436"/>
                    </a:lnTo>
                    <a:lnTo>
                      <a:pt x="175" y="467"/>
                    </a:lnTo>
                    <a:lnTo>
                      <a:pt x="169" y="479"/>
                    </a:lnTo>
                    <a:lnTo>
                      <a:pt x="162" y="489"/>
                    </a:lnTo>
                    <a:lnTo>
                      <a:pt x="153" y="498"/>
                    </a:lnTo>
                    <a:lnTo>
                      <a:pt x="141" y="507"/>
                    </a:lnTo>
                    <a:lnTo>
                      <a:pt x="129" y="510"/>
                    </a:lnTo>
                    <a:lnTo>
                      <a:pt x="113" y="510"/>
                    </a:lnTo>
                    <a:lnTo>
                      <a:pt x="107" y="504"/>
                    </a:lnTo>
                    <a:lnTo>
                      <a:pt x="107" y="498"/>
                    </a:lnTo>
                    <a:lnTo>
                      <a:pt x="110" y="486"/>
                    </a:lnTo>
                    <a:lnTo>
                      <a:pt x="113" y="473"/>
                    </a:lnTo>
                    <a:lnTo>
                      <a:pt x="110" y="467"/>
                    </a:lnTo>
                    <a:lnTo>
                      <a:pt x="104" y="464"/>
                    </a:lnTo>
                    <a:lnTo>
                      <a:pt x="116" y="449"/>
                    </a:lnTo>
                    <a:lnTo>
                      <a:pt x="126" y="436"/>
                    </a:lnTo>
                    <a:lnTo>
                      <a:pt x="141" y="430"/>
                    </a:lnTo>
                    <a:lnTo>
                      <a:pt x="159" y="427"/>
                    </a:lnTo>
                    <a:lnTo>
                      <a:pt x="166" y="424"/>
                    </a:lnTo>
                    <a:lnTo>
                      <a:pt x="166" y="418"/>
                    </a:lnTo>
                    <a:lnTo>
                      <a:pt x="159" y="412"/>
                    </a:lnTo>
                    <a:lnTo>
                      <a:pt x="156" y="406"/>
                    </a:lnTo>
                    <a:lnTo>
                      <a:pt x="150" y="396"/>
                    </a:lnTo>
                    <a:lnTo>
                      <a:pt x="150" y="390"/>
                    </a:lnTo>
                    <a:lnTo>
                      <a:pt x="153" y="378"/>
                    </a:lnTo>
                    <a:lnTo>
                      <a:pt x="169" y="369"/>
                    </a:lnTo>
                    <a:lnTo>
                      <a:pt x="184" y="366"/>
                    </a:lnTo>
                    <a:lnTo>
                      <a:pt x="196" y="366"/>
                    </a:lnTo>
                    <a:lnTo>
                      <a:pt x="209" y="366"/>
                    </a:lnTo>
                    <a:lnTo>
                      <a:pt x="218" y="372"/>
                    </a:lnTo>
                    <a:lnTo>
                      <a:pt x="227" y="381"/>
                    </a:lnTo>
                    <a:lnTo>
                      <a:pt x="242" y="399"/>
                    </a:lnTo>
                    <a:lnTo>
                      <a:pt x="258" y="427"/>
                    </a:lnTo>
                    <a:lnTo>
                      <a:pt x="270" y="455"/>
                    </a:lnTo>
                    <a:lnTo>
                      <a:pt x="285" y="479"/>
                    </a:lnTo>
                    <a:lnTo>
                      <a:pt x="304" y="501"/>
                    </a:lnTo>
                    <a:lnTo>
                      <a:pt x="316" y="498"/>
                    </a:lnTo>
                    <a:lnTo>
                      <a:pt x="329" y="492"/>
                    </a:lnTo>
                    <a:lnTo>
                      <a:pt x="350" y="470"/>
                    </a:lnTo>
                    <a:lnTo>
                      <a:pt x="362" y="461"/>
                    </a:lnTo>
                    <a:lnTo>
                      <a:pt x="372" y="458"/>
                    </a:lnTo>
                    <a:lnTo>
                      <a:pt x="384" y="458"/>
                    </a:lnTo>
                    <a:lnTo>
                      <a:pt x="396" y="464"/>
                    </a:lnTo>
                    <a:lnTo>
                      <a:pt x="399" y="461"/>
                    </a:lnTo>
                    <a:lnTo>
                      <a:pt x="402" y="455"/>
                    </a:lnTo>
                    <a:lnTo>
                      <a:pt x="399" y="436"/>
                    </a:lnTo>
                    <a:lnTo>
                      <a:pt x="396" y="415"/>
                    </a:lnTo>
                    <a:lnTo>
                      <a:pt x="399" y="406"/>
                    </a:lnTo>
                    <a:lnTo>
                      <a:pt x="405" y="396"/>
                    </a:lnTo>
                    <a:lnTo>
                      <a:pt x="430" y="396"/>
                    </a:lnTo>
                    <a:lnTo>
                      <a:pt x="439" y="396"/>
                    </a:lnTo>
                    <a:lnTo>
                      <a:pt x="442" y="399"/>
                    </a:lnTo>
                    <a:lnTo>
                      <a:pt x="442" y="406"/>
                    </a:lnTo>
                    <a:lnTo>
                      <a:pt x="439" y="415"/>
                    </a:lnTo>
                    <a:lnTo>
                      <a:pt x="436" y="430"/>
                    </a:lnTo>
                    <a:lnTo>
                      <a:pt x="439" y="439"/>
                    </a:lnTo>
                    <a:lnTo>
                      <a:pt x="445" y="446"/>
                    </a:lnTo>
                    <a:lnTo>
                      <a:pt x="464" y="449"/>
                    </a:lnTo>
                    <a:lnTo>
                      <a:pt x="482" y="452"/>
                    </a:lnTo>
                    <a:lnTo>
                      <a:pt x="501" y="449"/>
                    </a:lnTo>
                    <a:lnTo>
                      <a:pt x="516" y="442"/>
                    </a:lnTo>
                    <a:lnTo>
                      <a:pt x="531" y="439"/>
                    </a:lnTo>
                    <a:lnTo>
                      <a:pt x="544" y="439"/>
                    </a:lnTo>
                    <a:lnTo>
                      <a:pt x="562" y="439"/>
                    </a:lnTo>
                    <a:lnTo>
                      <a:pt x="578" y="446"/>
                    </a:lnTo>
                    <a:lnTo>
                      <a:pt x="587" y="430"/>
                    </a:lnTo>
                    <a:lnTo>
                      <a:pt x="593" y="412"/>
                    </a:lnTo>
                    <a:lnTo>
                      <a:pt x="599" y="393"/>
                    </a:lnTo>
                    <a:lnTo>
                      <a:pt x="611" y="378"/>
                    </a:lnTo>
                    <a:lnTo>
                      <a:pt x="618" y="381"/>
                    </a:lnTo>
                    <a:lnTo>
                      <a:pt x="627" y="384"/>
                    </a:lnTo>
                    <a:lnTo>
                      <a:pt x="633" y="387"/>
                    </a:lnTo>
                    <a:lnTo>
                      <a:pt x="642" y="387"/>
                    </a:lnTo>
                    <a:lnTo>
                      <a:pt x="645" y="384"/>
                    </a:lnTo>
                    <a:lnTo>
                      <a:pt x="645" y="378"/>
                    </a:lnTo>
                    <a:lnTo>
                      <a:pt x="639" y="372"/>
                    </a:lnTo>
                    <a:lnTo>
                      <a:pt x="633" y="369"/>
                    </a:lnTo>
                    <a:lnTo>
                      <a:pt x="654" y="360"/>
                    </a:lnTo>
                    <a:lnTo>
                      <a:pt x="676" y="353"/>
                    </a:lnTo>
                    <a:lnTo>
                      <a:pt x="701" y="350"/>
                    </a:lnTo>
                    <a:lnTo>
                      <a:pt x="728" y="350"/>
                    </a:lnTo>
                    <a:lnTo>
                      <a:pt x="719" y="338"/>
                    </a:lnTo>
                    <a:lnTo>
                      <a:pt x="710" y="332"/>
                    </a:lnTo>
                    <a:lnTo>
                      <a:pt x="694" y="329"/>
                    </a:lnTo>
                    <a:lnTo>
                      <a:pt x="679" y="332"/>
                    </a:lnTo>
                    <a:lnTo>
                      <a:pt x="645" y="338"/>
                    </a:lnTo>
                    <a:lnTo>
                      <a:pt x="630" y="341"/>
                    </a:lnTo>
                    <a:lnTo>
                      <a:pt x="618" y="341"/>
                    </a:lnTo>
                    <a:lnTo>
                      <a:pt x="614" y="329"/>
                    </a:lnTo>
                    <a:lnTo>
                      <a:pt x="608" y="317"/>
                    </a:lnTo>
                    <a:lnTo>
                      <a:pt x="602" y="304"/>
                    </a:lnTo>
                    <a:lnTo>
                      <a:pt x="602" y="286"/>
                    </a:lnTo>
                    <a:lnTo>
                      <a:pt x="636" y="264"/>
                    </a:lnTo>
                    <a:lnTo>
                      <a:pt x="651" y="252"/>
                    </a:lnTo>
                    <a:lnTo>
                      <a:pt x="664" y="237"/>
                    </a:lnTo>
                    <a:lnTo>
                      <a:pt x="654" y="234"/>
                    </a:lnTo>
                    <a:lnTo>
                      <a:pt x="648" y="231"/>
                    </a:lnTo>
                    <a:lnTo>
                      <a:pt x="639" y="234"/>
                    </a:lnTo>
                    <a:lnTo>
                      <a:pt x="633" y="234"/>
                    </a:lnTo>
                    <a:lnTo>
                      <a:pt x="621" y="246"/>
                    </a:lnTo>
                    <a:lnTo>
                      <a:pt x="608" y="261"/>
                    </a:lnTo>
                    <a:lnTo>
                      <a:pt x="596" y="277"/>
                    </a:lnTo>
                    <a:lnTo>
                      <a:pt x="581" y="289"/>
                    </a:lnTo>
                    <a:lnTo>
                      <a:pt x="565" y="301"/>
                    </a:lnTo>
                    <a:lnTo>
                      <a:pt x="556" y="301"/>
                    </a:lnTo>
                    <a:lnTo>
                      <a:pt x="547" y="304"/>
                    </a:lnTo>
                    <a:lnTo>
                      <a:pt x="544" y="313"/>
                    </a:lnTo>
                    <a:lnTo>
                      <a:pt x="547" y="320"/>
                    </a:lnTo>
                    <a:lnTo>
                      <a:pt x="550" y="320"/>
                    </a:lnTo>
                    <a:lnTo>
                      <a:pt x="556" y="323"/>
                    </a:lnTo>
                    <a:lnTo>
                      <a:pt x="565" y="323"/>
                    </a:lnTo>
                    <a:lnTo>
                      <a:pt x="571" y="326"/>
                    </a:lnTo>
                    <a:lnTo>
                      <a:pt x="571" y="332"/>
                    </a:lnTo>
                    <a:lnTo>
                      <a:pt x="553" y="372"/>
                    </a:lnTo>
                    <a:lnTo>
                      <a:pt x="544" y="387"/>
                    </a:lnTo>
                    <a:lnTo>
                      <a:pt x="531" y="403"/>
                    </a:lnTo>
                    <a:lnTo>
                      <a:pt x="516" y="415"/>
                    </a:lnTo>
                    <a:lnTo>
                      <a:pt x="501" y="424"/>
                    </a:lnTo>
                    <a:lnTo>
                      <a:pt x="479" y="427"/>
                    </a:lnTo>
                    <a:lnTo>
                      <a:pt x="452" y="427"/>
                    </a:lnTo>
                    <a:lnTo>
                      <a:pt x="455" y="406"/>
                    </a:lnTo>
                    <a:lnTo>
                      <a:pt x="448" y="393"/>
                    </a:lnTo>
                    <a:lnTo>
                      <a:pt x="445" y="378"/>
                    </a:lnTo>
                    <a:lnTo>
                      <a:pt x="445" y="360"/>
                    </a:lnTo>
                    <a:lnTo>
                      <a:pt x="430" y="372"/>
                    </a:lnTo>
                    <a:lnTo>
                      <a:pt x="418" y="384"/>
                    </a:lnTo>
                    <a:lnTo>
                      <a:pt x="408" y="387"/>
                    </a:lnTo>
                    <a:lnTo>
                      <a:pt x="399" y="390"/>
                    </a:lnTo>
                    <a:lnTo>
                      <a:pt x="387" y="390"/>
                    </a:lnTo>
                    <a:lnTo>
                      <a:pt x="375" y="387"/>
                    </a:lnTo>
                    <a:lnTo>
                      <a:pt x="365" y="372"/>
                    </a:lnTo>
                    <a:lnTo>
                      <a:pt x="356" y="350"/>
                    </a:lnTo>
                    <a:lnTo>
                      <a:pt x="353" y="329"/>
                    </a:lnTo>
                    <a:lnTo>
                      <a:pt x="350" y="304"/>
                    </a:lnTo>
                    <a:lnTo>
                      <a:pt x="368" y="295"/>
                    </a:lnTo>
                    <a:lnTo>
                      <a:pt x="384" y="286"/>
                    </a:lnTo>
                    <a:lnTo>
                      <a:pt x="415" y="264"/>
                    </a:lnTo>
                    <a:lnTo>
                      <a:pt x="479" y="212"/>
                    </a:lnTo>
                    <a:lnTo>
                      <a:pt x="510" y="184"/>
                    </a:lnTo>
                    <a:lnTo>
                      <a:pt x="544" y="163"/>
                    </a:lnTo>
                    <a:lnTo>
                      <a:pt x="562" y="151"/>
                    </a:lnTo>
                    <a:lnTo>
                      <a:pt x="584" y="145"/>
                    </a:lnTo>
                    <a:lnTo>
                      <a:pt x="605" y="138"/>
                    </a:lnTo>
                    <a:lnTo>
                      <a:pt x="627" y="132"/>
                    </a:lnTo>
                    <a:lnTo>
                      <a:pt x="664" y="132"/>
                    </a:lnTo>
                    <a:lnTo>
                      <a:pt x="701" y="135"/>
                    </a:lnTo>
                    <a:lnTo>
                      <a:pt x="737" y="141"/>
                    </a:lnTo>
                    <a:lnTo>
                      <a:pt x="774" y="151"/>
                    </a:lnTo>
                    <a:lnTo>
                      <a:pt x="848" y="172"/>
                    </a:lnTo>
                    <a:lnTo>
                      <a:pt x="885" y="181"/>
                    </a:lnTo>
                    <a:lnTo>
                      <a:pt x="925" y="191"/>
                    </a:lnTo>
                    <a:lnTo>
                      <a:pt x="931" y="197"/>
                    </a:lnTo>
                    <a:lnTo>
                      <a:pt x="931" y="203"/>
                    </a:lnTo>
                    <a:lnTo>
                      <a:pt x="925" y="218"/>
                    </a:lnTo>
                    <a:lnTo>
                      <a:pt x="934" y="212"/>
                    </a:lnTo>
                    <a:lnTo>
                      <a:pt x="947" y="209"/>
                    </a:lnTo>
                    <a:lnTo>
                      <a:pt x="953" y="209"/>
                    </a:lnTo>
                    <a:lnTo>
                      <a:pt x="956" y="212"/>
                    </a:lnTo>
                    <a:lnTo>
                      <a:pt x="959" y="218"/>
                    </a:lnTo>
                    <a:lnTo>
                      <a:pt x="956" y="227"/>
                    </a:lnTo>
                    <a:lnTo>
                      <a:pt x="962" y="221"/>
                    </a:lnTo>
                    <a:lnTo>
                      <a:pt x="965" y="215"/>
                    </a:lnTo>
                    <a:lnTo>
                      <a:pt x="962" y="200"/>
                    </a:lnTo>
                    <a:lnTo>
                      <a:pt x="959" y="184"/>
                    </a:lnTo>
                    <a:lnTo>
                      <a:pt x="959" y="178"/>
                    </a:lnTo>
                    <a:lnTo>
                      <a:pt x="965" y="172"/>
                    </a:lnTo>
                    <a:lnTo>
                      <a:pt x="1005" y="172"/>
                    </a:lnTo>
                    <a:lnTo>
                      <a:pt x="1005" y="181"/>
                    </a:lnTo>
                    <a:lnTo>
                      <a:pt x="1002" y="188"/>
                    </a:lnTo>
                    <a:lnTo>
                      <a:pt x="999" y="194"/>
                    </a:lnTo>
                    <a:lnTo>
                      <a:pt x="996" y="200"/>
                    </a:lnTo>
                    <a:lnTo>
                      <a:pt x="1017" y="197"/>
                    </a:lnTo>
                    <a:lnTo>
                      <a:pt x="1039" y="191"/>
                    </a:lnTo>
                    <a:lnTo>
                      <a:pt x="1088" y="178"/>
                    </a:lnTo>
                    <a:lnTo>
                      <a:pt x="1116" y="175"/>
                    </a:lnTo>
                    <a:lnTo>
                      <a:pt x="1140" y="172"/>
                    </a:lnTo>
                    <a:lnTo>
                      <a:pt x="1168" y="172"/>
                    </a:lnTo>
                    <a:lnTo>
                      <a:pt x="1192" y="181"/>
                    </a:lnTo>
                    <a:lnTo>
                      <a:pt x="1202" y="181"/>
                    </a:lnTo>
                    <a:lnTo>
                      <a:pt x="1208" y="178"/>
                    </a:lnTo>
                    <a:lnTo>
                      <a:pt x="1214" y="169"/>
                    </a:lnTo>
                    <a:lnTo>
                      <a:pt x="1223" y="160"/>
                    </a:lnTo>
                    <a:lnTo>
                      <a:pt x="1226" y="154"/>
                    </a:lnTo>
                    <a:lnTo>
                      <a:pt x="1232" y="154"/>
                    </a:lnTo>
                    <a:lnTo>
                      <a:pt x="1263" y="154"/>
                    </a:lnTo>
                    <a:lnTo>
                      <a:pt x="1291" y="160"/>
                    </a:lnTo>
                    <a:lnTo>
                      <a:pt x="1343" y="181"/>
                    </a:lnTo>
                    <a:lnTo>
                      <a:pt x="1349" y="175"/>
                    </a:lnTo>
                    <a:lnTo>
                      <a:pt x="1349" y="172"/>
                    </a:lnTo>
                    <a:lnTo>
                      <a:pt x="1346" y="166"/>
                    </a:lnTo>
                    <a:lnTo>
                      <a:pt x="1340" y="163"/>
                    </a:lnTo>
                    <a:lnTo>
                      <a:pt x="1328" y="154"/>
                    </a:lnTo>
                    <a:lnTo>
                      <a:pt x="1322" y="148"/>
                    </a:lnTo>
                    <a:lnTo>
                      <a:pt x="1319" y="141"/>
                    </a:lnTo>
                    <a:lnTo>
                      <a:pt x="1328" y="126"/>
                    </a:lnTo>
                    <a:lnTo>
                      <a:pt x="1337" y="111"/>
                    </a:lnTo>
                    <a:lnTo>
                      <a:pt x="1349" y="98"/>
                    </a:lnTo>
                    <a:lnTo>
                      <a:pt x="1365" y="86"/>
                    </a:lnTo>
                    <a:lnTo>
                      <a:pt x="1380" y="83"/>
                    </a:lnTo>
                    <a:lnTo>
                      <a:pt x="1392" y="83"/>
                    </a:lnTo>
                    <a:lnTo>
                      <a:pt x="1408" y="89"/>
                    </a:lnTo>
                    <a:lnTo>
                      <a:pt x="1423" y="105"/>
                    </a:lnTo>
                    <a:lnTo>
                      <a:pt x="1420" y="141"/>
                    </a:lnTo>
                    <a:lnTo>
                      <a:pt x="1417" y="175"/>
                    </a:lnTo>
                    <a:lnTo>
                      <a:pt x="1414" y="191"/>
                    </a:lnTo>
                    <a:lnTo>
                      <a:pt x="1411" y="203"/>
                    </a:lnTo>
                    <a:lnTo>
                      <a:pt x="1402" y="215"/>
                    </a:lnTo>
                    <a:lnTo>
                      <a:pt x="1389" y="227"/>
                    </a:lnTo>
                    <a:lnTo>
                      <a:pt x="1402" y="227"/>
                    </a:lnTo>
                    <a:lnTo>
                      <a:pt x="1408" y="224"/>
                    </a:lnTo>
                    <a:lnTo>
                      <a:pt x="1420" y="212"/>
                    </a:lnTo>
                    <a:lnTo>
                      <a:pt x="1432" y="200"/>
                    </a:lnTo>
                    <a:lnTo>
                      <a:pt x="1445" y="191"/>
                    </a:lnTo>
                    <a:lnTo>
                      <a:pt x="1438" y="166"/>
                    </a:lnTo>
                    <a:lnTo>
                      <a:pt x="1432" y="138"/>
                    </a:lnTo>
                    <a:lnTo>
                      <a:pt x="1432" y="126"/>
                    </a:lnTo>
                    <a:lnTo>
                      <a:pt x="1435" y="114"/>
                    </a:lnTo>
                    <a:lnTo>
                      <a:pt x="1438" y="105"/>
                    </a:lnTo>
                    <a:lnTo>
                      <a:pt x="1445" y="95"/>
                    </a:lnTo>
                    <a:lnTo>
                      <a:pt x="1454" y="95"/>
                    </a:lnTo>
                    <a:lnTo>
                      <a:pt x="1457" y="95"/>
                    </a:lnTo>
                    <a:lnTo>
                      <a:pt x="1460" y="98"/>
                    </a:lnTo>
                    <a:lnTo>
                      <a:pt x="1463" y="105"/>
                    </a:lnTo>
                    <a:lnTo>
                      <a:pt x="1460" y="132"/>
                    </a:lnTo>
                    <a:lnTo>
                      <a:pt x="1469" y="135"/>
                    </a:lnTo>
                    <a:lnTo>
                      <a:pt x="1475" y="132"/>
                    </a:lnTo>
                    <a:lnTo>
                      <a:pt x="1481" y="126"/>
                    </a:lnTo>
                    <a:lnTo>
                      <a:pt x="1481" y="120"/>
                    </a:lnTo>
                    <a:lnTo>
                      <a:pt x="1485" y="105"/>
                    </a:lnTo>
                    <a:lnTo>
                      <a:pt x="1488" y="98"/>
                    </a:lnTo>
                    <a:lnTo>
                      <a:pt x="1494" y="95"/>
                    </a:lnTo>
                    <a:lnTo>
                      <a:pt x="1521" y="102"/>
                    </a:lnTo>
                    <a:lnTo>
                      <a:pt x="1546" y="114"/>
                    </a:lnTo>
                    <a:lnTo>
                      <a:pt x="1555" y="120"/>
                    </a:lnTo>
                    <a:lnTo>
                      <a:pt x="1564" y="129"/>
                    </a:lnTo>
                    <a:lnTo>
                      <a:pt x="1574" y="141"/>
                    </a:lnTo>
                    <a:lnTo>
                      <a:pt x="1580" y="154"/>
                    </a:lnTo>
                    <a:lnTo>
                      <a:pt x="1586" y="141"/>
                    </a:lnTo>
                    <a:lnTo>
                      <a:pt x="1586" y="132"/>
                    </a:lnTo>
                    <a:lnTo>
                      <a:pt x="1580" y="123"/>
                    </a:lnTo>
                    <a:lnTo>
                      <a:pt x="1571" y="117"/>
                    </a:lnTo>
                    <a:lnTo>
                      <a:pt x="1549" y="108"/>
                    </a:lnTo>
                    <a:lnTo>
                      <a:pt x="1540" y="102"/>
                    </a:lnTo>
                    <a:lnTo>
                      <a:pt x="1534" y="95"/>
                    </a:lnTo>
                    <a:lnTo>
                      <a:pt x="1534" y="86"/>
                    </a:lnTo>
                    <a:lnTo>
                      <a:pt x="1540" y="80"/>
                    </a:lnTo>
                    <a:lnTo>
                      <a:pt x="1546" y="77"/>
                    </a:lnTo>
                    <a:lnTo>
                      <a:pt x="1555" y="77"/>
                    </a:lnTo>
                    <a:lnTo>
                      <a:pt x="1574" y="80"/>
                    </a:lnTo>
                    <a:lnTo>
                      <a:pt x="1589" y="86"/>
                    </a:lnTo>
                    <a:lnTo>
                      <a:pt x="1604" y="80"/>
                    </a:lnTo>
                    <a:lnTo>
                      <a:pt x="1620" y="71"/>
                    </a:lnTo>
                    <a:lnTo>
                      <a:pt x="1651" y="52"/>
                    </a:lnTo>
                    <a:lnTo>
                      <a:pt x="1669" y="46"/>
                    </a:lnTo>
                    <a:lnTo>
                      <a:pt x="1684" y="40"/>
                    </a:lnTo>
                    <a:lnTo>
                      <a:pt x="1703" y="40"/>
                    </a:lnTo>
                    <a:lnTo>
                      <a:pt x="1721" y="49"/>
                    </a:lnTo>
                    <a:lnTo>
                      <a:pt x="1734" y="40"/>
                    </a:lnTo>
                    <a:lnTo>
                      <a:pt x="1746" y="34"/>
                    </a:lnTo>
                    <a:lnTo>
                      <a:pt x="1758" y="31"/>
                    </a:lnTo>
                    <a:lnTo>
                      <a:pt x="1767" y="22"/>
                    </a:lnTo>
                    <a:lnTo>
                      <a:pt x="1786" y="28"/>
                    </a:lnTo>
                    <a:lnTo>
                      <a:pt x="1804" y="31"/>
                    </a:lnTo>
                    <a:lnTo>
                      <a:pt x="1820" y="34"/>
                    </a:lnTo>
                    <a:lnTo>
                      <a:pt x="1835" y="31"/>
                    </a:lnTo>
                    <a:lnTo>
                      <a:pt x="1850" y="25"/>
                    </a:lnTo>
                    <a:lnTo>
                      <a:pt x="1866" y="19"/>
                    </a:lnTo>
                    <a:lnTo>
                      <a:pt x="1897" y="0"/>
                    </a:lnTo>
                    <a:lnTo>
                      <a:pt x="1915" y="12"/>
                    </a:lnTo>
                    <a:lnTo>
                      <a:pt x="1933" y="19"/>
                    </a:lnTo>
                    <a:lnTo>
                      <a:pt x="1955" y="19"/>
                    </a:lnTo>
                    <a:lnTo>
                      <a:pt x="1976" y="22"/>
                    </a:lnTo>
                    <a:lnTo>
                      <a:pt x="2020" y="22"/>
                    </a:lnTo>
                    <a:lnTo>
                      <a:pt x="2044" y="25"/>
                    </a:lnTo>
                    <a:lnTo>
                      <a:pt x="2069" y="31"/>
                    </a:lnTo>
                    <a:lnTo>
                      <a:pt x="2069" y="40"/>
                    </a:lnTo>
                    <a:lnTo>
                      <a:pt x="2069" y="46"/>
                    </a:lnTo>
                    <a:lnTo>
                      <a:pt x="2066" y="59"/>
                    </a:lnTo>
                    <a:lnTo>
                      <a:pt x="2056" y="65"/>
                    </a:lnTo>
                    <a:lnTo>
                      <a:pt x="2053" y="77"/>
                    </a:lnTo>
                    <a:lnTo>
                      <a:pt x="2121" y="83"/>
                    </a:lnTo>
                    <a:lnTo>
                      <a:pt x="2179" y="86"/>
                    </a:lnTo>
                    <a:lnTo>
                      <a:pt x="2235" y="83"/>
                    </a:lnTo>
                    <a:lnTo>
                      <a:pt x="2305" y="77"/>
                    </a:lnTo>
                    <a:lnTo>
                      <a:pt x="2302" y="98"/>
                    </a:lnTo>
                    <a:lnTo>
                      <a:pt x="2309" y="111"/>
                    </a:lnTo>
                    <a:lnTo>
                      <a:pt x="2321" y="132"/>
                    </a:lnTo>
                    <a:lnTo>
                      <a:pt x="2330" y="126"/>
                    </a:lnTo>
                    <a:lnTo>
                      <a:pt x="2339" y="123"/>
                    </a:lnTo>
                    <a:lnTo>
                      <a:pt x="2358" y="120"/>
                    </a:lnTo>
                    <a:lnTo>
                      <a:pt x="2382" y="117"/>
                    </a:lnTo>
                    <a:lnTo>
                      <a:pt x="2407" y="117"/>
                    </a:lnTo>
                    <a:lnTo>
                      <a:pt x="2428" y="117"/>
                    </a:lnTo>
                    <a:lnTo>
                      <a:pt x="2450" y="111"/>
                    </a:lnTo>
                    <a:lnTo>
                      <a:pt x="2459" y="105"/>
                    </a:lnTo>
                    <a:lnTo>
                      <a:pt x="2465" y="98"/>
                    </a:lnTo>
                    <a:lnTo>
                      <a:pt x="2475" y="89"/>
                    </a:lnTo>
                    <a:lnTo>
                      <a:pt x="2478" y="77"/>
                    </a:lnTo>
                    <a:lnTo>
                      <a:pt x="2475" y="71"/>
                    </a:lnTo>
                    <a:lnTo>
                      <a:pt x="2471" y="65"/>
                    </a:lnTo>
                    <a:lnTo>
                      <a:pt x="2456" y="59"/>
                    </a:lnTo>
                    <a:lnTo>
                      <a:pt x="2441" y="59"/>
                    </a:lnTo>
                    <a:lnTo>
                      <a:pt x="2422" y="59"/>
                    </a:lnTo>
                    <a:lnTo>
                      <a:pt x="2428" y="49"/>
                    </a:lnTo>
                    <a:lnTo>
                      <a:pt x="2435" y="40"/>
                    </a:lnTo>
                    <a:lnTo>
                      <a:pt x="2441" y="37"/>
                    </a:lnTo>
                    <a:lnTo>
                      <a:pt x="2447" y="31"/>
                    </a:lnTo>
                    <a:lnTo>
                      <a:pt x="2462" y="28"/>
                    </a:lnTo>
                    <a:lnTo>
                      <a:pt x="2481" y="28"/>
                    </a:lnTo>
                    <a:lnTo>
                      <a:pt x="2502" y="34"/>
                    </a:lnTo>
                    <a:lnTo>
                      <a:pt x="2521" y="37"/>
                    </a:lnTo>
                    <a:lnTo>
                      <a:pt x="2558" y="49"/>
                    </a:lnTo>
                    <a:lnTo>
                      <a:pt x="2558" y="59"/>
                    </a:lnTo>
                    <a:lnTo>
                      <a:pt x="2555" y="62"/>
                    </a:lnTo>
                    <a:lnTo>
                      <a:pt x="2548" y="65"/>
                    </a:lnTo>
                    <a:lnTo>
                      <a:pt x="2539" y="65"/>
                    </a:lnTo>
                    <a:lnTo>
                      <a:pt x="2527" y="68"/>
                    </a:lnTo>
                    <a:lnTo>
                      <a:pt x="2521" y="71"/>
                    </a:lnTo>
                    <a:lnTo>
                      <a:pt x="2518" y="77"/>
                    </a:lnTo>
                    <a:lnTo>
                      <a:pt x="2533" y="86"/>
                    </a:lnTo>
                    <a:lnTo>
                      <a:pt x="2551" y="92"/>
                    </a:lnTo>
                    <a:lnTo>
                      <a:pt x="2594" y="98"/>
                    </a:lnTo>
                    <a:lnTo>
                      <a:pt x="2616" y="102"/>
                    </a:lnTo>
                    <a:lnTo>
                      <a:pt x="2634" y="108"/>
                    </a:lnTo>
                    <a:lnTo>
                      <a:pt x="2650" y="117"/>
                    </a:lnTo>
                    <a:lnTo>
                      <a:pt x="2656" y="126"/>
                    </a:lnTo>
                    <a:lnTo>
                      <a:pt x="2659" y="132"/>
                    </a:lnTo>
                    <a:lnTo>
                      <a:pt x="2674" y="129"/>
                    </a:lnTo>
                    <a:lnTo>
                      <a:pt x="2693" y="126"/>
                    </a:lnTo>
                    <a:lnTo>
                      <a:pt x="2714" y="123"/>
                    </a:lnTo>
                    <a:lnTo>
                      <a:pt x="2733" y="123"/>
                    </a:lnTo>
                    <a:lnTo>
                      <a:pt x="2754" y="126"/>
                    </a:lnTo>
                    <a:lnTo>
                      <a:pt x="2770" y="132"/>
                    </a:lnTo>
                    <a:lnTo>
                      <a:pt x="2785" y="141"/>
                    </a:lnTo>
                    <a:lnTo>
                      <a:pt x="2794" y="154"/>
                    </a:lnTo>
                    <a:lnTo>
                      <a:pt x="2813" y="154"/>
                    </a:lnTo>
                    <a:lnTo>
                      <a:pt x="2834" y="154"/>
                    </a:lnTo>
                    <a:lnTo>
                      <a:pt x="2877" y="151"/>
                    </a:lnTo>
                    <a:lnTo>
                      <a:pt x="2899" y="151"/>
                    </a:lnTo>
                    <a:lnTo>
                      <a:pt x="2917" y="154"/>
                    </a:lnTo>
                    <a:lnTo>
                      <a:pt x="2933" y="160"/>
                    </a:lnTo>
                    <a:lnTo>
                      <a:pt x="2945" y="172"/>
                    </a:lnTo>
                    <a:lnTo>
                      <a:pt x="2948" y="163"/>
                    </a:lnTo>
                    <a:lnTo>
                      <a:pt x="2957" y="157"/>
                    </a:lnTo>
                    <a:lnTo>
                      <a:pt x="2976" y="151"/>
                    </a:lnTo>
                    <a:lnTo>
                      <a:pt x="2997" y="145"/>
                    </a:lnTo>
                    <a:lnTo>
                      <a:pt x="3022" y="148"/>
                    </a:lnTo>
                    <a:lnTo>
                      <a:pt x="3046" y="151"/>
                    </a:lnTo>
                    <a:lnTo>
                      <a:pt x="3071" y="157"/>
                    </a:lnTo>
                    <a:lnTo>
                      <a:pt x="3093" y="163"/>
                    </a:lnTo>
                    <a:lnTo>
                      <a:pt x="3108" y="172"/>
                    </a:lnTo>
                    <a:lnTo>
                      <a:pt x="3105" y="184"/>
                    </a:lnTo>
                    <a:lnTo>
                      <a:pt x="3105" y="200"/>
                    </a:lnTo>
                    <a:lnTo>
                      <a:pt x="3105" y="224"/>
                    </a:lnTo>
                    <a:lnTo>
                      <a:pt x="3105" y="237"/>
                    </a:lnTo>
                    <a:lnTo>
                      <a:pt x="3102" y="246"/>
                    </a:lnTo>
                    <a:lnTo>
                      <a:pt x="3093" y="252"/>
                    </a:lnTo>
                    <a:lnTo>
                      <a:pt x="3077" y="255"/>
                    </a:lnTo>
                    <a:lnTo>
                      <a:pt x="3080" y="264"/>
                    </a:lnTo>
                    <a:lnTo>
                      <a:pt x="3083" y="267"/>
                    </a:lnTo>
                    <a:lnTo>
                      <a:pt x="3093" y="277"/>
                    </a:lnTo>
                    <a:lnTo>
                      <a:pt x="3099" y="286"/>
                    </a:lnTo>
                    <a:lnTo>
                      <a:pt x="3102" y="295"/>
                    </a:lnTo>
                    <a:lnTo>
                      <a:pt x="3102" y="304"/>
                    </a:lnTo>
                    <a:lnTo>
                      <a:pt x="3086" y="298"/>
                    </a:lnTo>
                    <a:lnTo>
                      <a:pt x="3071" y="298"/>
                    </a:lnTo>
                    <a:lnTo>
                      <a:pt x="3059" y="298"/>
                    </a:lnTo>
                    <a:lnTo>
                      <a:pt x="3043" y="301"/>
                    </a:lnTo>
                    <a:lnTo>
                      <a:pt x="3019" y="310"/>
                    </a:lnTo>
                    <a:lnTo>
                      <a:pt x="2991" y="320"/>
                    </a:lnTo>
                    <a:lnTo>
                      <a:pt x="2963" y="332"/>
                    </a:lnTo>
                    <a:lnTo>
                      <a:pt x="2936" y="341"/>
                    </a:lnTo>
                    <a:lnTo>
                      <a:pt x="2920" y="344"/>
                    </a:lnTo>
                    <a:lnTo>
                      <a:pt x="2902" y="344"/>
                    </a:lnTo>
                    <a:lnTo>
                      <a:pt x="2883" y="344"/>
                    </a:lnTo>
                    <a:lnTo>
                      <a:pt x="2865" y="341"/>
                    </a:lnTo>
                    <a:lnTo>
                      <a:pt x="2856" y="347"/>
                    </a:lnTo>
                    <a:lnTo>
                      <a:pt x="2850" y="353"/>
                    </a:lnTo>
                    <a:lnTo>
                      <a:pt x="2844" y="366"/>
                    </a:lnTo>
                    <a:lnTo>
                      <a:pt x="2840" y="378"/>
                    </a:lnTo>
                    <a:lnTo>
                      <a:pt x="2837" y="409"/>
                    </a:lnTo>
                    <a:lnTo>
                      <a:pt x="2834" y="436"/>
                    </a:lnTo>
                    <a:lnTo>
                      <a:pt x="2816" y="446"/>
                    </a:lnTo>
                    <a:lnTo>
                      <a:pt x="2800" y="455"/>
                    </a:lnTo>
                    <a:lnTo>
                      <a:pt x="2773" y="482"/>
                    </a:lnTo>
                    <a:lnTo>
                      <a:pt x="2748" y="510"/>
                    </a:lnTo>
                    <a:lnTo>
                      <a:pt x="2724" y="538"/>
                    </a:lnTo>
                    <a:lnTo>
                      <a:pt x="2724" y="516"/>
                    </a:lnTo>
                    <a:lnTo>
                      <a:pt x="2724" y="489"/>
                    </a:lnTo>
                    <a:lnTo>
                      <a:pt x="2724" y="458"/>
                    </a:lnTo>
                    <a:lnTo>
                      <a:pt x="2721" y="442"/>
                    </a:lnTo>
                    <a:lnTo>
                      <a:pt x="2714" y="427"/>
                    </a:lnTo>
                    <a:lnTo>
                      <a:pt x="2721" y="409"/>
                    </a:lnTo>
                    <a:lnTo>
                      <a:pt x="2730" y="393"/>
                    </a:lnTo>
                    <a:lnTo>
                      <a:pt x="2739" y="381"/>
                    </a:lnTo>
                    <a:lnTo>
                      <a:pt x="2751" y="372"/>
                    </a:lnTo>
                    <a:lnTo>
                      <a:pt x="2779" y="353"/>
                    </a:lnTo>
                    <a:lnTo>
                      <a:pt x="2810" y="341"/>
                    </a:lnTo>
                    <a:lnTo>
                      <a:pt x="2794" y="323"/>
                    </a:lnTo>
                    <a:lnTo>
                      <a:pt x="2779" y="304"/>
                    </a:lnTo>
                    <a:lnTo>
                      <a:pt x="2754" y="317"/>
                    </a:lnTo>
                    <a:lnTo>
                      <a:pt x="2733" y="335"/>
                    </a:lnTo>
                    <a:lnTo>
                      <a:pt x="2714" y="353"/>
                    </a:lnTo>
                    <a:lnTo>
                      <a:pt x="2693" y="369"/>
                    </a:lnTo>
                    <a:lnTo>
                      <a:pt x="2671" y="363"/>
                    </a:lnTo>
                    <a:lnTo>
                      <a:pt x="2653" y="360"/>
                    </a:lnTo>
                    <a:lnTo>
                      <a:pt x="2631" y="356"/>
                    </a:lnTo>
                    <a:lnTo>
                      <a:pt x="2613" y="356"/>
                    </a:lnTo>
                    <a:lnTo>
                      <a:pt x="2570" y="360"/>
                    </a:lnTo>
                    <a:lnTo>
                      <a:pt x="2518" y="360"/>
                    </a:lnTo>
                    <a:lnTo>
                      <a:pt x="2493" y="381"/>
                    </a:lnTo>
                    <a:lnTo>
                      <a:pt x="2468" y="403"/>
                    </a:lnTo>
                    <a:lnTo>
                      <a:pt x="2444" y="421"/>
                    </a:lnTo>
                    <a:lnTo>
                      <a:pt x="2432" y="430"/>
                    </a:lnTo>
                    <a:lnTo>
                      <a:pt x="2416" y="436"/>
                    </a:lnTo>
                    <a:lnTo>
                      <a:pt x="2438" y="446"/>
                    </a:lnTo>
                    <a:lnTo>
                      <a:pt x="2465" y="452"/>
                    </a:lnTo>
                    <a:lnTo>
                      <a:pt x="2493" y="455"/>
                    </a:lnTo>
                    <a:lnTo>
                      <a:pt x="2527" y="455"/>
                    </a:lnTo>
                    <a:lnTo>
                      <a:pt x="2536" y="495"/>
                    </a:lnTo>
                    <a:lnTo>
                      <a:pt x="2542" y="532"/>
                    </a:lnTo>
                    <a:lnTo>
                      <a:pt x="2542" y="550"/>
                    </a:lnTo>
                    <a:lnTo>
                      <a:pt x="2539" y="568"/>
                    </a:lnTo>
                    <a:lnTo>
                      <a:pt x="2533" y="587"/>
                    </a:lnTo>
                    <a:lnTo>
                      <a:pt x="2527" y="605"/>
                    </a:lnTo>
                    <a:lnTo>
                      <a:pt x="2515" y="602"/>
                    </a:lnTo>
                    <a:lnTo>
                      <a:pt x="2508" y="596"/>
                    </a:lnTo>
                    <a:lnTo>
                      <a:pt x="2505" y="584"/>
                    </a:lnTo>
                    <a:lnTo>
                      <a:pt x="2502" y="572"/>
                    </a:lnTo>
                    <a:lnTo>
                      <a:pt x="2502" y="541"/>
                    </a:lnTo>
                    <a:lnTo>
                      <a:pt x="2502" y="510"/>
                    </a:lnTo>
                    <a:lnTo>
                      <a:pt x="2493" y="538"/>
                    </a:lnTo>
                    <a:lnTo>
                      <a:pt x="2481" y="562"/>
                    </a:lnTo>
                    <a:lnTo>
                      <a:pt x="2468" y="584"/>
                    </a:lnTo>
                    <a:lnTo>
                      <a:pt x="2450" y="602"/>
                    </a:lnTo>
                    <a:lnTo>
                      <a:pt x="2416" y="636"/>
                    </a:lnTo>
                    <a:lnTo>
                      <a:pt x="2382" y="670"/>
                    </a:lnTo>
                    <a:lnTo>
                      <a:pt x="2367" y="664"/>
                    </a:lnTo>
                    <a:lnTo>
                      <a:pt x="2355" y="664"/>
                    </a:lnTo>
                    <a:lnTo>
                      <a:pt x="2342" y="670"/>
                    </a:lnTo>
                    <a:lnTo>
                      <a:pt x="2330" y="679"/>
                    </a:lnTo>
                    <a:lnTo>
                      <a:pt x="2312" y="701"/>
                    </a:lnTo>
                    <a:lnTo>
                      <a:pt x="2302" y="713"/>
                    </a:lnTo>
                    <a:lnTo>
                      <a:pt x="2290" y="719"/>
                    </a:lnTo>
                    <a:lnTo>
                      <a:pt x="2290" y="728"/>
                    </a:lnTo>
                    <a:lnTo>
                      <a:pt x="2293" y="737"/>
                    </a:lnTo>
                    <a:lnTo>
                      <a:pt x="2302" y="750"/>
                    </a:lnTo>
                    <a:lnTo>
                      <a:pt x="2309" y="765"/>
                    </a:lnTo>
                    <a:lnTo>
                      <a:pt x="2312" y="774"/>
                    </a:lnTo>
                    <a:lnTo>
                      <a:pt x="2312" y="783"/>
                    </a:lnTo>
                    <a:lnTo>
                      <a:pt x="2305" y="805"/>
                    </a:lnTo>
                    <a:lnTo>
                      <a:pt x="2302" y="814"/>
                    </a:lnTo>
                    <a:lnTo>
                      <a:pt x="2296" y="820"/>
                    </a:lnTo>
                    <a:lnTo>
                      <a:pt x="2290" y="826"/>
                    </a:lnTo>
                    <a:lnTo>
                      <a:pt x="2281" y="830"/>
                    </a:lnTo>
                    <a:lnTo>
                      <a:pt x="2269" y="833"/>
                    </a:lnTo>
                    <a:lnTo>
                      <a:pt x="2256" y="833"/>
                    </a:lnTo>
                    <a:lnTo>
                      <a:pt x="2253" y="826"/>
                    </a:lnTo>
                    <a:lnTo>
                      <a:pt x="2253" y="820"/>
                    </a:lnTo>
                    <a:lnTo>
                      <a:pt x="2253" y="808"/>
                    </a:lnTo>
                    <a:lnTo>
                      <a:pt x="2259" y="799"/>
                    </a:lnTo>
                    <a:lnTo>
                      <a:pt x="2265" y="783"/>
                    </a:lnTo>
                    <a:lnTo>
                      <a:pt x="2259" y="777"/>
                    </a:lnTo>
                    <a:lnTo>
                      <a:pt x="2253" y="771"/>
                    </a:lnTo>
                    <a:lnTo>
                      <a:pt x="2241" y="765"/>
                    </a:lnTo>
                    <a:lnTo>
                      <a:pt x="2235" y="762"/>
                    </a:lnTo>
                    <a:lnTo>
                      <a:pt x="2232" y="753"/>
                    </a:lnTo>
                    <a:lnTo>
                      <a:pt x="2232" y="740"/>
                    </a:lnTo>
                    <a:lnTo>
                      <a:pt x="2235" y="719"/>
                    </a:lnTo>
                    <a:lnTo>
                      <a:pt x="2226" y="719"/>
                    </a:lnTo>
                    <a:lnTo>
                      <a:pt x="2219" y="722"/>
                    </a:lnTo>
                    <a:lnTo>
                      <a:pt x="2210" y="728"/>
                    </a:lnTo>
                    <a:lnTo>
                      <a:pt x="2201" y="734"/>
                    </a:lnTo>
                    <a:lnTo>
                      <a:pt x="2195" y="737"/>
                    </a:lnTo>
                    <a:lnTo>
                      <a:pt x="2186" y="737"/>
                    </a:lnTo>
                    <a:lnTo>
                      <a:pt x="2182" y="728"/>
                    </a:lnTo>
                    <a:lnTo>
                      <a:pt x="2182" y="722"/>
                    </a:lnTo>
                    <a:lnTo>
                      <a:pt x="2186" y="713"/>
                    </a:lnTo>
                    <a:lnTo>
                      <a:pt x="2186" y="701"/>
                    </a:lnTo>
                    <a:lnTo>
                      <a:pt x="2161" y="719"/>
                    </a:lnTo>
                    <a:lnTo>
                      <a:pt x="2130" y="737"/>
                    </a:lnTo>
                    <a:lnTo>
                      <a:pt x="2133" y="750"/>
                    </a:lnTo>
                    <a:lnTo>
                      <a:pt x="2139" y="756"/>
                    </a:lnTo>
                    <a:lnTo>
                      <a:pt x="2149" y="762"/>
                    </a:lnTo>
                    <a:lnTo>
                      <a:pt x="2161" y="765"/>
                    </a:lnTo>
                    <a:lnTo>
                      <a:pt x="2182" y="768"/>
                    </a:lnTo>
                    <a:lnTo>
                      <a:pt x="2195" y="771"/>
                    </a:lnTo>
                    <a:lnTo>
                      <a:pt x="2204" y="774"/>
                    </a:lnTo>
                    <a:lnTo>
                      <a:pt x="2195" y="790"/>
                    </a:lnTo>
                    <a:lnTo>
                      <a:pt x="2186" y="799"/>
                    </a:lnTo>
                    <a:lnTo>
                      <a:pt x="2164" y="814"/>
                    </a:lnTo>
                    <a:lnTo>
                      <a:pt x="2176" y="842"/>
                    </a:lnTo>
                    <a:lnTo>
                      <a:pt x="2189" y="866"/>
                    </a:lnTo>
                    <a:lnTo>
                      <a:pt x="2192" y="882"/>
                    </a:lnTo>
                    <a:lnTo>
                      <a:pt x="2195" y="900"/>
                    </a:lnTo>
                    <a:lnTo>
                      <a:pt x="2198" y="922"/>
                    </a:lnTo>
                    <a:lnTo>
                      <a:pt x="2195" y="946"/>
                    </a:lnTo>
                    <a:lnTo>
                      <a:pt x="2173" y="965"/>
                    </a:lnTo>
                    <a:lnTo>
                      <a:pt x="2158" y="983"/>
                    </a:lnTo>
                    <a:lnTo>
                      <a:pt x="2139" y="1005"/>
                    </a:lnTo>
                    <a:lnTo>
                      <a:pt x="2121" y="1026"/>
                    </a:lnTo>
                    <a:lnTo>
                      <a:pt x="2099" y="1045"/>
                    </a:lnTo>
                    <a:lnTo>
                      <a:pt x="2078" y="1057"/>
                    </a:lnTo>
                    <a:lnTo>
                      <a:pt x="2063" y="1063"/>
                    </a:lnTo>
                    <a:lnTo>
                      <a:pt x="2047" y="1066"/>
                    </a:lnTo>
                    <a:lnTo>
                      <a:pt x="2032" y="1069"/>
                    </a:lnTo>
                    <a:lnTo>
                      <a:pt x="2013" y="1069"/>
                    </a:lnTo>
                    <a:lnTo>
                      <a:pt x="2016" y="1097"/>
                    </a:lnTo>
                    <a:lnTo>
                      <a:pt x="2016" y="1121"/>
                    </a:lnTo>
                    <a:lnTo>
                      <a:pt x="2013" y="1131"/>
                    </a:lnTo>
                    <a:lnTo>
                      <a:pt x="2007" y="1137"/>
                    </a:lnTo>
                    <a:lnTo>
                      <a:pt x="1995" y="1143"/>
                    </a:lnTo>
                    <a:lnTo>
                      <a:pt x="1983" y="1143"/>
                    </a:lnTo>
                    <a:lnTo>
                      <a:pt x="1976" y="1134"/>
                    </a:lnTo>
                    <a:lnTo>
                      <a:pt x="1973" y="1124"/>
                    </a:lnTo>
                    <a:lnTo>
                      <a:pt x="1973" y="1115"/>
                    </a:lnTo>
                    <a:lnTo>
                      <a:pt x="1976" y="1106"/>
                    </a:lnTo>
                    <a:lnTo>
                      <a:pt x="1986" y="1088"/>
                    </a:lnTo>
                    <a:lnTo>
                      <a:pt x="1989" y="1078"/>
                    </a:lnTo>
                    <a:lnTo>
                      <a:pt x="1989" y="1069"/>
                    </a:lnTo>
                    <a:lnTo>
                      <a:pt x="1983" y="1063"/>
                    </a:lnTo>
                    <a:lnTo>
                      <a:pt x="1976" y="1063"/>
                    </a:lnTo>
                    <a:lnTo>
                      <a:pt x="1970" y="1066"/>
                    </a:lnTo>
                    <a:lnTo>
                      <a:pt x="1964" y="1072"/>
                    </a:lnTo>
                    <a:lnTo>
                      <a:pt x="1952" y="1091"/>
                    </a:lnTo>
                    <a:lnTo>
                      <a:pt x="1943" y="1106"/>
                    </a:lnTo>
                    <a:lnTo>
                      <a:pt x="1500" y="191"/>
                    </a:lnTo>
                    <a:lnTo>
                      <a:pt x="808" y="1465"/>
                    </a:lnTo>
                    <a:lnTo>
                      <a:pt x="796" y="1462"/>
                    </a:lnTo>
                    <a:lnTo>
                      <a:pt x="790" y="1465"/>
                    </a:lnTo>
                    <a:lnTo>
                      <a:pt x="784" y="1468"/>
                    </a:lnTo>
                    <a:lnTo>
                      <a:pt x="780" y="1472"/>
                    </a:lnTo>
                    <a:lnTo>
                      <a:pt x="774" y="1490"/>
                    </a:lnTo>
                    <a:lnTo>
                      <a:pt x="774" y="1511"/>
                    </a:lnTo>
                    <a:lnTo>
                      <a:pt x="784" y="1511"/>
                    </a:lnTo>
                    <a:lnTo>
                      <a:pt x="790" y="1508"/>
                    </a:lnTo>
                    <a:lnTo>
                      <a:pt x="796" y="1502"/>
                    </a:lnTo>
                    <a:lnTo>
                      <a:pt x="799" y="1496"/>
                    </a:lnTo>
                    <a:lnTo>
                      <a:pt x="805" y="1481"/>
                    </a:lnTo>
                    <a:lnTo>
                      <a:pt x="808" y="1465"/>
                    </a:lnTo>
                    <a:lnTo>
                      <a:pt x="1500" y="191"/>
                    </a:lnTo>
                    <a:lnTo>
                      <a:pt x="793" y="323"/>
                    </a:lnTo>
                    <a:lnTo>
                      <a:pt x="784" y="323"/>
                    </a:lnTo>
                    <a:lnTo>
                      <a:pt x="774" y="317"/>
                    </a:lnTo>
                    <a:lnTo>
                      <a:pt x="768" y="313"/>
                    </a:lnTo>
                    <a:lnTo>
                      <a:pt x="759" y="313"/>
                    </a:lnTo>
                    <a:lnTo>
                      <a:pt x="762" y="323"/>
                    </a:lnTo>
                    <a:lnTo>
                      <a:pt x="765" y="329"/>
                    </a:lnTo>
                    <a:lnTo>
                      <a:pt x="768" y="335"/>
                    </a:lnTo>
                    <a:lnTo>
                      <a:pt x="774" y="338"/>
                    </a:lnTo>
                    <a:lnTo>
                      <a:pt x="780" y="338"/>
                    </a:lnTo>
                    <a:lnTo>
                      <a:pt x="787" y="335"/>
                    </a:lnTo>
                    <a:lnTo>
                      <a:pt x="790" y="332"/>
                    </a:lnTo>
                    <a:lnTo>
                      <a:pt x="793" y="323"/>
                    </a:lnTo>
                    <a:lnTo>
                      <a:pt x="1500" y="191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97" name="Freeform 313"/>
              <p:cNvSpPr/>
              <p:nvPr/>
            </p:nvSpPr>
            <p:spPr>
              <a:xfrm>
                <a:off x="5000040" y="2512800"/>
                <a:ext cx="128160" cy="504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50" h="59">
                    <a:moveTo>
                      <a:pt x="9" y="43"/>
                    </a:moveTo>
                    <a:lnTo>
                      <a:pt x="6" y="34"/>
                    </a:lnTo>
                    <a:lnTo>
                      <a:pt x="3" y="25"/>
                    </a:lnTo>
                    <a:lnTo>
                      <a:pt x="0" y="19"/>
                    </a:lnTo>
                    <a:lnTo>
                      <a:pt x="0" y="6"/>
                    </a:lnTo>
                    <a:lnTo>
                      <a:pt x="36" y="3"/>
                    </a:lnTo>
                    <a:lnTo>
                      <a:pt x="80" y="0"/>
                    </a:lnTo>
                    <a:lnTo>
                      <a:pt x="98" y="0"/>
                    </a:lnTo>
                    <a:lnTo>
                      <a:pt x="119" y="3"/>
                    </a:lnTo>
                    <a:lnTo>
                      <a:pt x="135" y="6"/>
                    </a:lnTo>
                    <a:lnTo>
                      <a:pt x="150" y="16"/>
                    </a:lnTo>
                    <a:lnTo>
                      <a:pt x="138" y="37"/>
                    </a:lnTo>
                    <a:lnTo>
                      <a:pt x="126" y="49"/>
                    </a:lnTo>
                    <a:lnTo>
                      <a:pt x="107" y="56"/>
                    </a:lnTo>
                    <a:lnTo>
                      <a:pt x="89" y="59"/>
                    </a:lnTo>
                    <a:lnTo>
                      <a:pt x="70" y="59"/>
                    </a:lnTo>
                    <a:lnTo>
                      <a:pt x="49" y="56"/>
                    </a:lnTo>
                    <a:lnTo>
                      <a:pt x="9" y="43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98" name="Freeform 314"/>
              <p:cNvSpPr/>
              <p:nvPr/>
            </p:nvSpPr>
            <p:spPr>
              <a:xfrm>
                <a:off x="4350600" y="2133720"/>
                <a:ext cx="743400" cy="489600"/>
              </a:xfrm>
              <a:custGeom>
                <a:avLst/>
                <a:gdLst>
                  <a:gd name="textAreaLeft" fmla="*/ 0 w 743400"/>
                  <a:gd name="textAreaRight" fmla="*/ 743760 w 743400"/>
                  <a:gd name="textAreaTop" fmla="*/ 0 h 489600"/>
                  <a:gd name="textAreaBottom" fmla="*/ 489960 h 489600"/>
                </a:gdLst>
                <a:ahLst/>
                <a:rect l="textAreaLeft" t="textAreaTop" r="textAreaRight" b="textAreaBottom"/>
                <a:pathLst>
                  <a:path w="867" h="571">
                    <a:moveTo>
                      <a:pt x="686" y="344"/>
                    </a:moveTo>
                    <a:lnTo>
                      <a:pt x="680" y="350"/>
                    </a:lnTo>
                    <a:lnTo>
                      <a:pt x="680" y="356"/>
                    </a:lnTo>
                    <a:lnTo>
                      <a:pt x="683" y="359"/>
                    </a:lnTo>
                    <a:lnTo>
                      <a:pt x="686" y="366"/>
                    </a:lnTo>
                    <a:lnTo>
                      <a:pt x="701" y="375"/>
                    </a:lnTo>
                    <a:lnTo>
                      <a:pt x="710" y="384"/>
                    </a:lnTo>
                    <a:lnTo>
                      <a:pt x="692" y="396"/>
                    </a:lnTo>
                    <a:lnTo>
                      <a:pt x="670" y="402"/>
                    </a:lnTo>
                    <a:lnTo>
                      <a:pt x="621" y="415"/>
                    </a:lnTo>
                    <a:lnTo>
                      <a:pt x="600" y="421"/>
                    </a:lnTo>
                    <a:lnTo>
                      <a:pt x="578" y="430"/>
                    </a:lnTo>
                    <a:lnTo>
                      <a:pt x="560" y="442"/>
                    </a:lnTo>
                    <a:lnTo>
                      <a:pt x="551" y="448"/>
                    </a:lnTo>
                    <a:lnTo>
                      <a:pt x="544" y="458"/>
                    </a:lnTo>
                    <a:lnTo>
                      <a:pt x="529" y="455"/>
                    </a:lnTo>
                    <a:lnTo>
                      <a:pt x="517" y="452"/>
                    </a:lnTo>
                    <a:lnTo>
                      <a:pt x="508" y="455"/>
                    </a:lnTo>
                    <a:lnTo>
                      <a:pt x="495" y="458"/>
                    </a:lnTo>
                    <a:lnTo>
                      <a:pt x="489" y="461"/>
                    </a:lnTo>
                    <a:lnTo>
                      <a:pt x="480" y="470"/>
                    </a:lnTo>
                    <a:lnTo>
                      <a:pt x="468" y="488"/>
                    </a:lnTo>
                    <a:lnTo>
                      <a:pt x="443" y="531"/>
                    </a:lnTo>
                    <a:lnTo>
                      <a:pt x="431" y="553"/>
                    </a:lnTo>
                    <a:lnTo>
                      <a:pt x="418" y="571"/>
                    </a:lnTo>
                    <a:lnTo>
                      <a:pt x="406" y="571"/>
                    </a:lnTo>
                    <a:lnTo>
                      <a:pt x="400" y="565"/>
                    </a:lnTo>
                    <a:lnTo>
                      <a:pt x="394" y="556"/>
                    </a:lnTo>
                    <a:lnTo>
                      <a:pt x="394" y="544"/>
                    </a:lnTo>
                    <a:lnTo>
                      <a:pt x="385" y="547"/>
                    </a:lnTo>
                    <a:lnTo>
                      <a:pt x="375" y="547"/>
                    </a:lnTo>
                    <a:lnTo>
                      <a:pt x="366" y="547"/>
                    </a:lnTo>
                    <a:lnTo>
                      <a:pt x="357" y="544"/>
                    </a:lnTo>
                    <a:lnTo>
                      <a:pt x="341" y="531"/>
                    </a:lnTo>
                    <a:lnTo>
                      <a:pt x="326" y="516"/>
                    </a:lnTo>
                    <a:lnTo>
                      <a:pt x="302" y="479"/>
                    </a:lnTo>
                    <a:lnTo>
                      <a:pt x="289" y="464"/>
                    </a:lnTo>
                    <a:lnTo>
                      <a:pt x="277" y="448"/>
                    </a:lnTo>
                    <a:lnTo>
                      <a:pt x="277" y="424"/>
                    </a:lnTo>
                    <a:lnTo>
                      <a:pt x="277" y="415"/>
                    </a:lnTo>
                    <a:lnTo>
                      <a:pt x="280" y="412"/>
                    </a:lnTo>
                    <a:lnTo>
                      <a:pt x="283" y="412"/>
                    </a:lnTo>
                    <a:lnTo>
                      <a:pt x="283" y="409"/>
                    </a:lnTo>
                    <a:lnTo>
                      <a:pt x="280" y="405"/>
                    </a:lnTo>
                    <a:lnTo>
                      <a:pt x="271" y="402"/>
                    </a:lnTo>
                    <a:lnTo>
                      <a:pt x="265" y="399"/>
                    </a:lnTo>
                    <a:lnTo>
                      <a:pt x="262" y="396"/>
                    </a:lnTo>
                    <a:lnTo>
                      <a:pt x="262" y="393"/>
                    </a:lnTo>
                    <a:lnTo>
                      <a:pt x="258" y="381"/>
                    </a:lnTo>
                    <a:lnTo>
                      <a:pt x="262" y="372"/>
                    </a:lnTo>
                    <a:lnTo>
                      <a:pt x="262" y="362"/>
                    </a:lnTo>
                    <a:lnTo>
                      <a:pt x="268" y="359"/>
                    </a:lnTo>
                    <a:lnTo>
                      <a:pt x="274" y="356"/>
                    </a:lnTo>
                    <a:lnTo>
                      <a:pt x="280" y="353"/>
                    </a:lnTo>
                    <a:lnTo>
                      <a:pt x="298" y="353"/>
                    </a:lnTo>
                    <a:lnTo>
                      <a:pt x="292" y="341"/>
                    </a:lnTo>
                    <a:lnTo>
                      <a:pt x="286" y="338"/>
                    </a:lnTo>
                    <a:lnTo>
                      <a:pt x="280" y="341"/>
                    </a:lnTo>
                    <a:lnTo>
                      <a:pt x="271" y="347"/>
                    </a:lnTo>
                    <a:lnTo>
                      <a:pt x="265" y="353"/>
                    </a:lnTo>
                    <a:lnTo>
                      <a:pt x="258" y="359"/>
                    </a:lnTo>
                    <a:lnTo>
                      <a:pt x="252" y="359"/>
                    </a:lnTo>
                    <a:lnTo>
                      <a:pt x="243" y="353"/>
                    </a:lnTo>
                    <a:lnTo>
                      <a:pt x="243" y="307"/>
                    </a:lnTo>
                    <a:lnTo>
                      <a:pt x="231" y="295"/>
                    </a:lnTo>
                    <a:lnTo>
                      <a:pt x="219" y="283"/>
                    </a:lnTo>
                    <a:lnTo>
                      <a:pt x="203" y="276"/>
                    </a:lnTo>
                    <a:lnTo>
                      <a:pt x="188" y="270"/>
                    </a:lnTo>
                    <a:lnTo>
                      <a:pt x="154" y="264"/>
                    </a:lnTo>
                    <a:lnTo>
                      <a:pt x="120" y="261"/>
                    </a:lnTo>
                    <a:lnTo>
                      <a:pt x="86" y="261"/>
                    </a:lnTo>
                    <a:lnTo>
                      <a:pt x="56" y="258"/>
                    </a:lnTo>
                    <a:lnTo>
                      <a:pt x="40" y="255"/>
                    </a:lnTo>
                    <a:lnTo>
                      <a:pt x="25" y="249"/>
                    </a:lnTo>
                    <a:lnTo>
                      <a:pt x="13" y="243"/>
                    </a:lnTo>
                    <a:lnTo>
                      <a:pt x="0" y="230"/>
                    </a:lnTo>
                    <a:lnTo>
                      <a:pt x="34" y="215"/>
                    </a:lnTo>
                    <a:lnTo>
                      <a:pt x="71" y="197"/>
                    </a:lnTo>
                    <a:lnTo>
                      <a:pt x="86" y="187"/>
                    </a:lnTo>
                    <a:lnTo>
                      <a:pt x="99" y="175"/>
                    </a:lnTo>
                    <a:lnTo>
                      <a:pt x="111" y="157"/>
                    </a:lnTo>
                    <a:lnTo>
                      <a:pt x="117" y="138"/>
                    </a:lnTo>
                    <a:lnTo>
                      <a:pt x="129" y="138"/>
                    </a:lnTo>
                    <a:lnTo>
                      <a:pt x="142" y="138"/>
                    </a:lnTo>
                    <a:lnTo>
                      <a:pt x="148" y="135"/>
                    </a:lnTo>
                    <a:lnTo>
                      <a:pt x="157" y="129"/>
                    </a:lnTo>
                    <a:lnTo>
                      <a:pt x="166" y="117"/>
                    </a:lnTo>
                    <a:lnTo>
                      <a:pt x="172" y="98"/>
                    </a:lnTo>
                    <a:lnTo>
                      <a:pt x="185" y="95"/>
                    </a:lnTo>
                    <a:lnTo>
                      <a:pt x="200" y="95"/>
                    </a:lnTo>
                    <a:lnTo>
                      <a:pt x="225" y="95"/>
                    </a:lnTo>
                    <a:lnTo>
                      <a:pt x="268" y="104"/>
                    </a:lnTo>
                    <a:lnTo>
                      <a:pt x="289" y="104"/>
                    </a:lnTo>
                    <a:lnTo>
                      <a:pt x="295" y="101"/>
                    </a:lnTo>
                    <a:lnTo>
                      <a:pt x="305" y="98"/>
                    </a:lnTo>
                    <a:lnTo>
                      <a:pt x="311" y="92"/>
                    </a:lnTo>
                    <a:lnTo>
                      <a:pt x="317" y="83"/>
                    </a:lnTo>
                    <a:lnTo>
                      <a:pt x="320" y="68"/>
                    </a:lnTo>
                    <a:lnTo>
                      <a:pt x="323" y="52"/>
                    </a:lnTo>
                    <a:lnTo>
                      <a:pt x="326" y="49"/>
                    </a:lnTo>
                    <a:lnTo>
                      <a:pt x="332" y="52"/>
                    </a:lnTo>
                    <a:lnTo>
                      <a:pt x="338" y="58"/>
                    </a:lnTo>
                    <a:lnTo>
                      <a:pt x="348" y="71"/>
                    </a:lnTo>
                    <a:lnTo>
                      <a:pt x="354" y="71"/>
                    </a:lnTo>
                    <a:lnTo>
                      <a:pt x="357" y="65"/>
                    </a:lnTo>
                    <a:lnTo>
                      <a:pt x="360" y="55"/>
                    </a:lnTo>
                    <a:lnTo>
                      <a:pt x="363" y="46"/>
                    </a:lnTo>
                    <a:lnTo>
                      <a:pt x="366" y="40"/>
                    </a:lnTo>
                    <a:lnTo>
                      <a:pt x="369" y="34"/>
                    </a:lnTo>
                    <a:lnTo>
                      <a:pt x="388" y="25"/>
                    </a:lnTo>
                    <a:lnTo>
                      <a:pt x="415" y="15"/>
                    </a:lnTo>
                    <a:lnTo>
                      <a:pt x="452" y="9"/>
                    </a:lnTo>
                    <a:lnTo>
                      <a:pt x="492" y="3"/>
                    </a:lnTo>
                    <a:lnTo>
                      <a:pt x="532" y="0"/>
                    </a:lnTo>
                    <a:lnTo>
                      <a:pt x="572" y="0"/>
                    </a:lnTo>
                    <a:lnTo>
                      <a:pt x="606" y="6"/>
                    </a:lnTo>
                    <a:lnTo>
                      <a:pt x="618" y="9"/>
                    </a:lnTo>
                    <a:lnTo>
                      <a:pt x="631" y="15"/>
                    </a:lnTo>
                    <a:lnTo>
                      <a:pt x="627" y="25"/>
                    </a:lnTo>
                    <a:lnTo>
                      <a:pt x="624" y="28"/>
                    </a:lnTo>
                    <a:lnTo>
                      <a:pt x="621" y="34"/>
                    </a:lnTo>
                    <a:lnTo>
                      <a:pt x="640" y="28"/>
                    </a:lnTo>
                    <a:lnTo>
                      <a:pt x="661" y="25"/>
                    </a:lnTo>
                    <a:lnTo>
                      <a:pt x="710" y="25"/>
                    </a:lnTo>
                    <a:lnTo>
                      <a:pt x="720" y="55"/>
                    </a:lnTo>
                    <a:lnTo>
                      <a:pt x="729" y="83"/>
                    </a:lnTo>
                    <a:lnTo>
                      <a:pt x="741" y="108"/>
                    </a:lnTo>
                    <a:lnTo>
                      <a:pt x="747" y="120"/>
                    </a:lnTo>
                    <a:lnTo>
                      <a:pt x="757" y="129"/>
                    </a:lnTo>
                    <a:lnTo>
                      <a:pt x="772" y="126"/>
                    </a:lnTo>
                    <a:lnTo>
                      <a:pt x="787" y="117"/>
                    </a:lnTo>
                    <a:lnTo>
                      <a:pt x="815" y="98"/>
                    </a:lnTo>
                    <a:lnTo>
                      <a:pt x="827" y="92"/>
                    </a:lnTo>
                    <a:lnTo>
                      <a:pt x="840" y="89"/>
                    </a:lnTo>
                    <a:lnTo>
                      <a:pt x="846" y="92"/>
                    </a:lnTo>
                    <a:lnTo>
                      <a:pt x="852" y="95"/>
                    </a:lnTo>
                    <a:lnTo>
                      <a:pt x="867" y="111"/>
                    </a:lnTo>
                    <a:lnTo>
                      <a:pt x="858" y="126"/>
                    </a:lnTo>
                    <a:lnTo>
                      <a:pt x="849" y="141"/>
                    </a:lnTo>
                    <a:lnTo>
                      <a:pt x="833" y="151"/>
                    </a:lnTo>
                    <a:lnTo>
                      <a:pt x="821" y="160"/>
                    </a:lnTo>
                    <a:lnTo>
                      <a:pt x="806" y="172"/>
                    </a:lnTo>
                    <a:lnTo>
                      <a:pt x="793" y="181"/>
                    </a:lnTo>
                    <a:lnTo>
                      <a:pt x="781" y="197"/>
                    </a:lnTo>
                    <a:lnTo>
                      <a:pt x="772" y="212"/>
                    </a:lnTo>
                    <a:lnTo>
                      <a:pt x="772" y="221"/>
                    </a:lnTo>
                    <a:lnTo>
                      <a:pt x="772" y="227"/>
                    </a:lnTo>
                    <a:lnTo>
                      <a:pt x="775" y="230"/>
                    </a:lnTo>
                    <a:lnTo>
                      <a:pt x="778" y="233"/>
                    </a:lnTo>
                    <a:lnTo>
                      <a:pt x="787" y="237"/>
                    </a:lnTo>
                    <a:lnTo>
                      <a:pt x="797" y="243"/>
                    </a:lnTo>
                    <a:lnTo>
                      <a:pt x="790" y="249"/>
                    </a:lnTo>
                    <a:lnTo>
                      <a:pt x="787" y="255"/>
                    </a:lnTo>
                    <a:lnTo>
                      <a:pt x="781" y="276"/>
                    </a:lnTo>
                    <a:lnTo>
                      <a:pt x="778" y="298"/>
                    </a:lnTo>
                    <a:lnTo>
                      <a:pt x="772" y="316"/>
                    </a:lnTo>
                    <a:lnTo>
                      <a:pt x="726" y="316"/>
                    </a:lnTo>
                    <a:lnTo>
                      <a:pt x="726" y="338"/>
                    </a:lnTo>
                    <a:lnTo>
                      <a:pt x="732" y="353"/>
                    </a:lnTo>
                    <a:lnTo>
                      <a:pt x="732" y="369"/>
                    </a:lnTo>
                    <a:lnTo>
                      <a:pt x="729" y="375"/>
                    </a:lnTo>
                    <a:lnTo>
                      <a:pt x="726" y="384"/>
                    </a:lnTo>
                    <a:lnTo>
                      <a:pt x="717" y="384"/>
                    </a:lnTo>
                    <a:lnTo>
                      <a:pt x="710" y="381"/>
                    </a:lnTo>
                    <a:lnTo>
                      <a:pt x="704" y="375"/>
                    </a:lnTo>
                    <a:lnTo>
                      <a:pt x="701" y="369"/>
                    </a:lnTo>
                    <a:lnTo>
                      <a:pt x="695" y="356"/>
                    </a:lnTo>
                    <a:lnTo>
                      <a:pt x="692" y="350"/>
                    </a:lnTo>
                    <a:lnTo>
                      <a:pt x="686" y="344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299" name="Rectangle 315"/>
              <p:cNvSpPr/>
              <p:nvPr/>
            </p:nvSpPr>
            <p:spPr>
              <a:xfrm>
                <a:off x="4433040" y="3279960"/>
                <a:ext cx="17640" cy="23760"/>
              </a:xfrm>
              <a:prstGeom prst="rect">
                <a:avLst/>
              </a:pr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d-ID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300" name="Freeform 316"/>
              <p:cNvSpPr/>
              <p:nvPr/>
            </p:nvSpPr>
            <p:spPr>
              <a:xfrm>
                <a:off x="4338000" y="3261960"/>
                <a:ext cx="73440" cy="4176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86" h="49">
                    <a:moveTo>
                      <a:pt x="0" y="30"/>
                    </a:moveTo>
                    <a:lnTo>
                      <a:pt x="0" y="24"/>
                    </a:lnTo>
                    <a:lnTo>
                      <a:pt x="6" y="15"/>
                    </a:lnTo>
                    <a:lnTo>
                      <a:pt x="18" y="6"/>
                    </a:lnTo>
                    <a:lnTo>
                      <a:pt x="34" y="0"/>
                    </a:lnTo>
                    <a:lnTo>
                      <a:pt x="49" y="0"/>
                    </a:lnTo>
                    <a:lnTo>
                      <a:pt x="64" y="6"/>
                    </a:lnTo>
                    <a:lnTo>
                      <a:pt x="80" y="15"/>
                    </a:lnTo>
                    <a:lnTo>
                      <a:pt x="83" y="21"/>
                    </a:lnTo>
                    <a:lnTo>
                      <a:pt x="86" y="27"/>
                    </a:lnTo>
                    <a:lnTo>
                      <a:pt x="86" y="40"/>
                    </a:lnTo>
                    <a:lnTo>
                      <a:pt x="86" y="49"/>
                    </a:lnTo>
                    <a:lnTo>
                      <a:pt x="46" y="43"/>
                    </a:lnTo>
                    <a:lnTo>
                      <a:pt x="24" y="4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301" name="Freeform 317"/>
              <p:cNvSpPr/>
              <p:nvPr/>
            </p:nvSpPr>
            <p:spPr>
              <a:xfrm>
                <a:off x="4276800" y="3296160"/>
                <a:ext cx="26280" cy="2268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31" h="27">
                    <a:moveTo>
                      <a:pt x="31" y="9"/>
                    </a:moveTo>
                    <a:lnTo>
                      <a:pt x="28" y="15"/>
                    </a:lnTo>
                    <a:lnTo>
                      <a:pt x="28" y="21"/>
                    </a:lnTo>
                    <a:lnTo>
                      <a:pt x="22" y="24"/>
                    </a:lnTo>
                    <a:lnTo>
                      <a:pt x="19" y="27"/>
                    </a:lnTo>
                    <a:lnTo>
                      <a:pt x="9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12" y="0"/>
                    </a:lnTo>
                    <a:lnTo>
                      <a:pt x="22" y="3"/>
                    </a:lnTo>
                    <a:lnTo>
                      <a:pt x="31" y="9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302" name="Freeform 318"/>
              <p:cNvSpPr/>
              <p:nvPr/>
            </p:nvSpPr>
            <p:spPr>
              <a:xfrm>
                <a:off x="4195440" y="3208680"/>
                <a:ext cx="128160" cy="504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50" h="59">
                    <a:moveTo>
                      <a:pt x="150" y="56"/>
                    </a:moveTo>
                    <a:lnTo>
                      <a:pt x="141" y="59"/>
                    </a:lnTo>
                    <a:lnTo>
                      <a:pt x="132" y="59"/>
                    </a:lnTo>
                    <a:lnTo>
                      <a:pt x="117" y="59"/>
                    </a:lnTo>
                    <a:lnTo>
                      <a:pt x="101" y="49"/>
                    </a:lnTo>
                    <a:lnTo>
                      <a:pt x="86" y="40"/>
                    </a:lnTo>
                    <a:lnTo>
                      <a:pt x="67" y="31"/>
                    </a:lnTo>
                    <a:lnTo>
                      <a:pt x="49" y="22"/>
                    </a:lnTo>
                    <a:lnTo>
                      <a:pt x="24" y="22"/>
                    </a:lnTo>
                    <a:lnTo>
                      <a:pt x="12" y="22"/>
                    </a:lnTo>
                    <a:lnTo>
                      <a:pt x="0" y="25"/>
                    </a:lnTo>
                    <a:lnTo>
                      <a:pt x="9" y="16"/>
                    </a:lnTo>
                    <a:lnTo>
                      <a:pt x="15" y="9"/>
                    </a:lnTo>
                    <a:lnTo>
                      <a:pt x="24" y="3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5" y="0"/>
                    </a:lnTo>
                    <a:lnTo>
                      <a:pt x="74" y="9"/>
                    </a:lnTo>
                    <a:lnTo>
                      <a:pt x="95" y="19"/>
                    </a:lnTo>
                    <a:lnTo>
                      <a:pt x="114" y="31"/>
                    </a:lnTo>
                    <a:lnTo>
                      <a:pt x="150" y="56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303" name="Freeform 319"/>
              <p:cNvSpPr/>
              <p:nvPr/>
            </p:nvSpPr>
            <p:spPr>
              <a:xfrm>
                <a:off x="4276800" y="3182760"/>
                <a:ext cx="18360" cy="151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22" y="0"/>
                    </a:moveTo>
                    <a:lnTo>
                      <a:pt x="19" y="9"/>
                    </a:lnTo>
                    <a:lnTo>
                      <a:pt x="16" y="15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3"/>
                    </a:lnTo>
                    <a:lnTo>
                      <a:pt x="1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304" name="Freeform 320"/>
              <p:cNvSpPr/>
              <p:nvPr/>
            </p:nvSpPr>
            <p:spPr>
              <a:xfrm>
                <a:off x="4242600" y="2581560"/>
                <a:ext cx="15840" cy="1584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0" y="12"/>
                    </a:moveTo>
                    <a:lnTo>
                      <a:pt x="6" y="3"/>
                    </a:lnTo>
                    <a:lnTo>
                      <a:pt x="12" y="0"/>
                    </a:lnTo>
                    <a:lnTo>
                      <a:pt x="19" y="3"/>
                    </a:lnTo>
                    <a:lnTo>
                      <a:pt x="19" y="9"/>
                    </a:lnTo>
                    <a:lnTo>
                      <a:pt x="19" y="16"/>
                    </a:lnTo>
                    <a:lnTo>
                      <a:pt x="16" y="19"/>
                    </a:lnTo>
                    <a:lnTo>
                      <a:pt x="9" y="1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305" name="Rectangle 321"/>
              <p:cNvSpPr/>
              <p:nvPr/>
            </p:nvSpPr>
            <p:spPr>
              <a:xfrm>
                <a:off x="4208400" y="2568600"/>
                <a:ext cx="13320" cy="15120"/>
              </a:xfrm>
              <a:prstGeom prst="rect">
                <a:avLst/>
              </a:pr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d-ID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306" name="Freeform 322"/>
              <p:cNvSpPr/>
              <p:nvPr/>
            </p:nvSpPr>
            <p:spPr>
              <a:xfrm>
                <a:off x="4039200" y="2365200"/>
                <a:ext cx="28800" cy="15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34" h="19">
                    <a:moveTo>
                      <a:pt x="31" y="0"/>
                    </a:moveTo>
                    <a:lnTo>
                      <a:pt x="34" y="10"/>
                    </a:lnTo>
                    <a:lnTo>
                      <a:pt x="31" y="16"/>
                    </a:lnTo>
                    <a:lnTo>
                      <a:pt x="28" y="19"/>
                    </a:lnTo>
                    <a:lnTo>
                      <a:pt x="25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307" name="Freeform 323"/>
              <p:cNvSpPr/>
              <p:nvPr/>
            </p:nvSpPr>
            <p:spPr>
              <a:xfrm>
                <a:off x="4039200" y="2386800"/>
                <a:ext cx="60480" cy="262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71" h="31">
                    <a:moveTo>
                      <a:pt x="0" y="31"/>
                    </a:moveTo>
                    <a:lnTo>
                      <a:pt x="7" y="18"/>
                    </a:lnTo>
                    <a:lnTo>
                      <a:pt x="13" y="9"/>
                    </a:lnTo>
                    <a:lnTo>
                      <a:pt x="22" y="3"/>
                    </a:lnTo>
                    <a:lnTo>
                      <a:pt x="31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62" y="6"/>
                    </a:lnTo>
                    <a:lnTo>
                      <a:pt x="71" y="12"/>
                    </a:lnTo>
                    <a:lnTo>
                      <a:pt x="68" y="21"/>
                    </a:lnTo>
                    <a:lnTo>
                      <a:pt x="62" y="28"/>
                    </a:lnTo>
                    <a:lnTo>
                      <a:pt x="56" y="31"/>
                    </a:lnTo>
                    <a:lnTo>
                      <a:pt x="43" y="31"/>
                    </a:lnTo>
                    <a:lnTo>
                      <a:pt x="22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308" name="Freeform 324"/>
              <p:cNvSpPr/>
              <p:nvPr/>
            </p:nvSpPr>
            <p:spPr>
              <a:xfrm>
                <a:off x="4018680" y="2315520"/>
                <a:ext cx="237240" cy="70920"/>
              </a:xfrm>
              <a:custGeom>
                <a:avLst/>
                <a:gdLst>
                  <a:gd name="textAreaLeft" fmla="*/ 0 w 237240"/>
                  <a:gd name="textAreaRight" fmla="*/ 237600 w 23724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77" h="83">
                    <a:moveTo>
                      <a:pt x="0" y="0"/>
                    </a:moveTo>
                    <a:lnTo>
                      <a:pt x="21" y="3"/>
                    </a:lnTo>
                    <a:lnTo>
                      <a:pt x="40" y="6"/>
                    </a:lnTo>
                    <a:lnTo>
                      <a:pt x="55" y="12"/>
                    </a:lnTo>
                    <a:lnTo>
                      <a:pt x="71" y="21"/>
                    </a:lnTo>
                    <a:lnTo>
                      <a:pt x="98" y="40"/>
                    </a:lnTo>
                    <a:lnTo>
                      <a:pt x="126" y="58"/>
                    </a:lnTo>
                    <a:lnTo>
                      <a:pt x="166" y="58"/>
                    </a:lnTo>
                    <a:lnTo>
                      <a:pt x="206" y="55"/>
                    </a:lnTo>
                    <a:lnTo>
                      <a:pt x="246" y="58"/>
                    </a:lnTo>
                    <a:lnTo>
                      <a:pt x="261" y="61"/>
                    </a:lnTo>
                    <a:lnTo>
                      <a:pt x="277" y="68"/>
                    </a:lnTo>
                    <a:lnTo>
                      <a:pt x="261" y="74"/>
                    </a:lnTo>
                    <a:lnTo>
                      <a:pt x="243" y="77"/>
                    </a:lnTo>
                    <a:lnTo>
                      <a:pt x="206" y="83"/>
                    </a:lnTo>
                    <a:lnTo>
                      <a:pt x="166" y="80"/>
                    </a:lnTo>
                    <a:lnTo>
                      <a:pt x="126" y="74"/>
                    </a:lnTo>
                    <a:lnTo>
                      <a:pt x="86" y="61"/>
                    </a:lnTo>
                    <a:lnTo>
                      <a:pt x="52" y="46"/>
                    </a:lnTo>
                    <a:lnTo>
                      <a:pt x="34" y="37"/>
                    </a:lnTo>
                    <a:lnTo>
                      <a:pt x="21" y="25"/>
                    </a:lnTo>
                    <a:lnTo>
                      <a:pt x="9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309" name="Freeform 325"/>
              <p:cNvSpPr/>
              <p:nvPr/>
            </p:nvSpPr>
            <p:spPr>
              <a:xfrm>
                <a:off x="3952440" y="2396880"/>
                <a:ext cx="73440" cy="4680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86" h="55">
                    <a:moveTo>
                      <a:pt x="0" y="0"/>
                    </a:moveTo>
                    <a:lnTo>
                      <a:pt x="86" y="0"/>
                    </a:lnTo>
                    <a:lnTo>
                      <a:pt x="86" y="22"/>
                    </a:lnTo>
                    <a:lnTo>
                      <a:pt x="83" y="34"/>
                    </a:lnTo>
                    <a:lnTo>
                      <a:pt x="71" y="55"/>
                    </a:lnTo>
                    <a:lnTo>
                      <a:pt x="61" y="49"/>
                    </a:lnTo>
                    <a:lnTo>
                      <a:pt x="52" y="43"/>
                    </a:lnTo>
                    <a:lnTo>
                      <a:pt x="28" y="34"/>
                    </a:lnTo>
                    <a:lnTo>
                      <a:pt x="18" y="31"/>
                    </a:lnTo>
                    <a:lnTo>
                      <a:pt x="9" y="22"/>
                    </a:lnTo>
                    <a:lnTo>
                      <a:pt x="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310" name="Freeform 326"/>
              <p:cNvSpPr/>
              <p:nvPr/>
            </p:nvSpPr>
            <p:spPr>
              <a:xfrm>
                <a:off x="3923280" y="2349720"/>
                <a:ext cx="89640" cy="3924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05" h="46">
                    <a:moveTo>
                      <a:pt x="49" y="18"/>
                    </a:moveTo>
                    <a:lnTo>
                      <a:pt x="40" y="18"/>
                    </a:lnTo>
                    <a:lnTo>
                      <a:pt x="34" y="21"/>
                    </a:lnTo>
                    <a:lnTo>
                      <a:pt x="25" y="31"/>
                    </a:lnTo>
                    <a:lnTo>
                      <a:pt x="16" y="43"/>
                    </a:lnTo>
                    <a:lnTo>
                      <a:pt x="9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05" y="0"/>
                    </a:lnTo>
                    <a:lnTo>
                      <a:pt x="105" y="15"/>
                    </a:lnTo>
                    <a:lnTo>
                      <a:pt x="102" y="28"/>
                    </a:lnTo>
                    <a:lnTo>
                      <a:pt x="92" y="34"/>
                    </a:lnTo>
                    <a:lnTo>
                      <a:pt x="83" y="37"/>
                    </a:lnTo>
                    <a:lnTo>
                      <a:pt x="74" y="34"/>
                    </a:lnTo>
                    <a:lnTo>
                      <a:pt x="65" y="31"/>
                    </a:lnTo>
                    <a:lnTo>
                      <a:pt x="55" y="24"/>
                    </a:lnTo>
                    <a:lnTo>
                      <a:pt x="49" y="18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311" name="Freeform 327"/>
              <p:cNvSpPr/>
              <p:nvPr/>
            </p:nvSpPr>
            <p:spPr>
              <a:xfrm>
                <a:off x="3910680" y="2300040"/>
                <a:ext cx="88920" cy="331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04" h="39">
                    <a:moveTo>
                      <a:pt x="0" y="0"/>
                    </a:moveTo>
                    <a:lnTo>
                      <a:pt x="34" y="0"/>
                    </a:lnTo>
                    <a:lnTo>
                      <a:pt x="64" y="0"/>
                    </a:lnTo>
                    <a:lnTo>
                      <a:pt x="77" y="3"/>
                    </a:lnTo>
                    <a:lnTo>
                      <a:pt x="89" y="9"/>
                    </a:lnTo>
                    <a:lnTo>
                      <a:pt x="98" y="15"/>
                    </a:lnTo>
                    <a:lnTo>
                      <a:pt x="104" y="27"/>
                    </a:lnTo>
                    <a:lnTo>
                      <a:pt x="101" y="33"/>
                    </a:lnTo>
                    <a:lnTo>
                      <a:pt x="98" y="36"/>
                    </a:lnTo>
                    <a:lnTo>
                      <a:pt x="86" y="39"/>
                    </a:lnTo>
                    <a:lnTo>
                      <a:pt x="70" y="39"/>
                    </a:lnTo>
                    <a:lnTo>
                      <a:pt x="52" y="36"/>
                    </a:lnTo>
                    <a:lnTo>
                      <a:pt x="34" y="33"/>
                    </a:lnTo>
                    <a:lnTo>
                      <a:pt x="18" y="24"/>
                    </a:lnTo>
                    <a:lnTo>
                      <a:pt x="6" y="12"/>
                    </a:lnTo>
                    <a:lnTo>
                      <a:pt x="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312" name="Freeform 328"/>
              <p:cNvSpPr/>
              <p:nvPr/>
            </p:nvSpPr>
            <p:spPr>
              <a:xfrm>
                <a:off x="3802320" y="2307600"/>
                <a:ext cx="46800" cy="3384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5" h="40">
                    <a:moveTo>
                      <a:pt x="0" y="40"/>
                    </a:moveTo>
                    <a:lnTo>
                      <a:pt x="3" y="27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34" y="3"/>
                    </a:lnTo>
                    <a:lnTo>
                      <a:pt x="55" y="0"/>
                    </a:lnTo>
                    <a:lnTo>
                      <a:pt x="55" y="40"/>
                    </a:lnTo>
                    <a:lnTo>
                      <a:pt x="40" y="34"/>
                    </a:lnTo>
                    <a:lnTo>
                      <a:pt x="27" y="30"/>
                    </a:lnTo>
                    <a:lnTo>
                      <a:pt x="15" y="34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313" name="Freeform 329"/>
              <p:cNvSpPr/>
              <p:nvPr/>
            </p:nvSpPr>
            <p:spPr>
              <a:xfrm>
                <a:off x="3066120" y="2325960"/>
                <a:ext cx="1803960" cy="2155680"/>
              </a:xfrm>
              <a:custGeom>
                <a:avLst/>
                <a:gdLst>
                  <a:gd name="textAreaLeft" fmla="*/ 0 w 1803960"/>
                  <a:gd name="textAreaRight" fmla="*/ 1804320 w 1803960"/>
                  <a:gd name="textAreaTop" fmla="*/ 0 h 2155680"/>
                  <a:gd name="textAreaBottom" fmla="*/ 2156040 h 2155680"/>
                </a:gdLst>
                <a:ahLst/>
                <a:rect l="textAreaLeft" t="textAreaTop" r="textAreaRight" b="textAreaBottom"/>
                <a:pathLst>
                  <a:path w="2103" h="2513">
                    <a:moveTo>
                      <a:pt x="1285" y="688"/>
                    </a:moveTo>
                    <a:lnTo>
                      <a:pt x="1285" y="664"/>
                    </a:lnTo>
                    <a:lnTo>
                      <a:pt x="1291" y="639"/>
                    </a:lnTo>
                    <a:lnTo>
                      <a:pt x="1300" y="618"/>
                    </a:lnTo>
                    <a:lnTo>
                      <a:pt x="1313" y="602"/>
                    </a:lnTo>
                    <a:lnTo>
                      <a:pt x="1319" y="599"/>
                    </a:lnTo>
                    <a:lnTo>
                      <a:pt x="1325" y="596"/>
                    </a:lnTo>
                    <a:lnTo>
                      <a:pt x="1331" y="596"/>
                    </a:lnTo>
                    <a:lnTo>
                      <a:pt x="1337" y="599"/>
                    </a:lnTo>
                    <a:lnTo>
                      <a:pt x="1340" y="605"/>
                    </a:lnTo>
                    <a:lnTo>
                      <a:pt x="1343" y="618"/>
                    </a:lnTo>
                    <a:lnTo>
                      <a:pt x="1347" y="630"/>
                    </a:lnTo>
                    <a:lnTo>
                      <a:pt x="1347" y="648"/>
                    </a:lnTo>
                    <a:lnTo>
                      <a:pt x="1359" y="645"/>
                    </a:lnTo>
                    <a:lnTo>
                      <a:pt x="1365" y="639"/>
                    </a:lnTo>
                    <a:lnTo>
                      <a:pt x="1368" y="630"/>
                    </a:lnTo>
                    <a:lnTo>
                      <a:pt x="1368" y="621"/>
                    </a:lnTo>
                    <a:lnTo>
                      <a:pt x="1371" y="615"/>
                    </a:lnTo>
                    <a:lnTo>
                      <a:pt x="1371" y="605"/>
                    </a:lnTo>
                    <a:lnTo>
                      <a:pt x="1377" y="602"/>
                    </a:lnTo>
                    <a:lnTo>
                      <a:pt x="1387" y="602"/>
                    </a:lnTo>
                    <a:lnTo>
                      <a:pt x="1362" y="593"/>
                    </a:lnTo>
                    <a:lnTo>
                      <a:pt x="1331" y="587"/>
                    </a:lnTo>
                    <a:lnTo>
                      <a:pt x="1316" y="584"/>
                    </a:lnTo>
                    <a:lnTo>
                      <a:pt x="1304" y="584"/>
                    </a:lnTo>
                    <a:lnTo>
                      <a:pt x="1288" y="587"/>
                    </a:lnTo>
                    <a:lnTo>
                      <a:pt x="1276" y="593"/>
                    </a:lnTo>
                    <a:lnTo>
                      <a:pt x="1276" y="618"/>
                    </a:lnTo>
                    <a:lnTo>
                      <a:pt x="1276" y="645"/>
                    </a:lnTo>
                    <a:lnTo>
                      <a:pt x="1276" y="670"/>
                    </a:lnTo>
                    <a:lnTo>
                      <a:pt x="1279" y="679"/>
                    </a:lnTo>
                    <a:lnTo>
                      <a:pt x="1285" y="688"/>
                    </a:lnTo>
                    <a:lnTo>
                      <a:pt x="1316" y="565"/>
                    </a:lnTo>
                    <a:lnTo>
                      <a:pt x="1310" y="547"/>
                    </a:lnTo>
                    <a:lnTo>
                      <a:pt x="1297" y="538"/>
                    </a:lnTo>
                    <a:lnTo>
                      <a:pt x="1285" y="532"/>
                    </a:lnTo>
                    <a:lnTo>
                      <a:pt x="1270" y="532"/>
                    </a:lnTo>
                    <a:lnTo>
                      <a:pt x="1254" y="535"/>
                    </a:lnTo>
                    <a:lnTo>
                      <a:pt x="1242" y="541"/>
                    </a:lnTo>
                    <a:lnTo>
                      <a:pt x="1230" y="553"/>
                    </a:lnTo>
                    <a:lnTo>
                      <a:pt x="1221" y="565"/>
                    </a:lnTo>
                    <a:lnTo>
                      <a:pt x="1233" y="559"/>
                    </a:lnTo>
                    <a:lnTo>
                      <a:pt x="1245" y="559"/>
                    </a:lnTo>
                    <a:lnTo>
                      <a:pt x="1267" y="559"/>
                    </a:lnTo>
                    <a:lnTo>
                      <a:pt x="1288" y="562"/>
                    </a:lnTo>
                    <a:lnTo>
                      <a:pt x="1316" y="565"/>
                    </a:lnTo>
                    <a:lnTo>
                      <a:pt x="1285" y="688"/>
                    </a:lnTo>
                    <a:lnTo>
                      <a:pt x="1875" y="1462"/>
                    </a:lnTo>
                    <a:lnTo>
                      <a:pt x="1903" y="1481"/>
                    </a:lnTo>
                    <a:lnTo>
                      <a:pt x="1934" y="1493"/>
                    </a:lnTo>
                    <a:lnTo>
                      <a:pt x="1998" y="1518"/>
                    </a:lnTo>
                    <a:lnTo>
                      <a:pt x="2029" y="1530"/>
                    </a:lnTo>
                    <a:lnTo>
                      <a:pt x="2057" y="1548"/>
                    </a:lnTo>
                    <a:lnTo>
                      <a:pt x="2084" y="1567"/>
                    </a:lnTo>
                    <a:lnTo>
                      <a:pt x="2094" y="1579"/>
                    </a:lnTo>
                    <a:lnTo>
                      <a:pt x="2103" y="1594"/>
                    </a:lnTo>
                    <a:lnTo>
                      <a:pt x="2103" y="1619"/>
                    </a:lnTo>
                    <a:lnTo>
                      <a:pt x="2097" y="1641"/>
                    </a:lnTo>
                    <a:lnTo>
                      <a:pt x="2088" y="1659"/>
                    </a:lnTo>
                    <a:lnTo>
                      <a:pt x="2078" y="1674"/>
                    </a:lnTo>
                    <a:lnTo>
                      <a:pt x="2054" y="1705"/>
                    </a:lnTo>
                    <a:lnTo>
                      <a:pt x="2044" y="1717"/>
                    </a:lnTo>
                    <a:lnTo>
                      <a:pt x="2032" y="1736"/>
                    </a:lnTo>
                    <a:lnTo>
                      <a:pt x="2035" y="1760"/>
                    </a:lnTo>
                    <a:lnTo>
                      <a:pt x="2035" y="1782"/>
                    </a:lnTo>
                    <a:lnTo>
                      <a:pt x="2032" y="1803"/>
                    </a:lnTo>
                    <a:lnTo>
                      <a:pt x="2026" y="1825"/>
                    </a:lnTo>
                    <a:lnTo>
                      <a:pt x="2014" y="1862"/>
                    </a:lnTo>
                    <a:lnTo>
                      <a:pt x="1992" y="1905"/>
                    </a:lnTo>
                    <a:lnTo>
                      <a:pt x="1974" y="1905"/>
                    </a:lnTo>
                    <a:lnTo>
                      <a:pt x="1958" y="1908"/>
                    </a:lnTo>
                    <a:lnTo>
                      <a:pt x="1943" y="1911"/>
                    </a:lnTo>
                    <a:lnTo>
                      <a:pt x="1931" y="1917"/>
                    </a:lnTo>
                    <a:lnTo>
                      <a:pt x="1906" y="1935"/>
                    </a:lnTo>
                    <a:lnTo>
                      <a:pt x="1885" y="1951"/>
                    </a:lnTo>
                    <a:lnTo>
                      <a:pt x="1882" y="1966"/>
                    </a:lnTo>
                    <a:lnTo>
                      <a:pt x="1885" y="1975"/>
                    </a:lnTo>
                    <a:lnTo>
                      <a:pt x="1891" y="1985"/>
                    </a:lnTo>
                    <a:lnTo>
                      <a:pt x="1891" y="2000"/>
                    </a:lnTo>
                    <a:lnTo>
                      <a:pt x="1882" y="2006"/>
                    </a:lnTo>
                    <a:lnTo>
                      <a:pt x="1872" y="2012"/>
                    </a:lnTo>
                    <a:lnTo>
                      <a:pt x="1857" y="2031"/>
                    </a:lnTo>
                    <a:lnTo>
                      <a:pt x="1832" y="2077"/>
                    </a:lnTo>
                    <a:lnTo>
                      <a:pt x="1820" y="2098"/>
                    </a:lnTo>
                    <a:lnTo>
                      <a:pt x="1805" y="2117"/>
                    </a:lnTo>
                    <a:lnTo>
                      <a:pt x="1795" y="2123"/>
                    </a:lnTo>
                    <a:lnTo>
                      <a:pt x="1783" y="2126"/>
                    </a:lnTo>
                    <a:lnTo>
                      <a:pt x="1771" y="2129"/>
                    </a:lnTo>
                    <a:lnTo>
                      <a:pt x="1759" y="2132"/>
                    </a:lnTo>
                    <a:lnTo>
                      <a:pt x="1755" y="2147"/>
                    </a:lnTo>
                    <a:lnTo>
                      <a:pt x="1749" y="2166"/>
                    </a:lnTo>
                    <a:lnTo>
                      <a:pt x="1734" y="2206"/>
                    </a:lnTo>
                    <a:lnTo>
                      <a:pt x="1722" y="2206"/>
                    </a:lnTo>
                    <a:lnTo>
                      <a:pt x="1706" y="2206"/>
                    </a:lnTo>
                    <a:lnTo>
                      <a:pt x="1682" y="2206"/>
                    </a:lnTo>
                    <a:lnTo>
                      <a:pt x="1669" y="2209"/>
                    </a:lnTo>
                    <a:lnTo>
                      <a:pt x="1663" y="2215"/>
                    </a:lnTo>
                    <a:lnTo>
                      <a:pt x="1660" y="2227"/>
                    </a:lnTo>
                    <a:lnTo>
                      <a:pt x="1663" y="2246"/>
                    </a:lnTo>
                    <a:lnTo>
                      <a:pt x="1651" y="2246"/>
                    </a:lnTo>
                    <a:lnTo>
                      <a:pt x="1639" y="2243"/>
                    </a:lnTo>
                    <a:lnTo>
                      <a:pt x="1629" y="2240"/>
                    </a:lnTo>
                    <a:lnTo>
                      <a:pt x="1623" y="2233"/>
                    </a:lnTo>
                    <a:lnTo>
                      <a:pt x="1623" y="2249"/>
                    </a:lnTo>
                    <a:lnTo>
                      <a:pt x="1629" y="2258"/>
                    </a:lnTo>
                    <a:lnTo>
                      <a:pt x="1636" y="2261"/>
                    </a:lnTo>
                    <a:lnTo>
                      <a:pt x="1648" y="2264"/>
                    </a:lnTo>
                    <a:lnTo>
                      <a:pt x="1633" y="2286"/>
                    </a:lnTo>
                    <a:lnTo>
                      <a:pt x="1617" y="2304"/>
                    </a:lnTo>
                    <a:lnTo>
                      <a:pt x="1602" y="2322"/>
                    </a:lnTo>
                    <a:lnTo>
                      <a:pt x="1583" y="2338"/>
                    </a:lnTo>
                    <a:lnTo>
                      <a:pt x="1589" y="2344"/>
                    </a:lnTo>
                    <a:lnTo>
                      <a:pt x="1596" y="2347"/>
                    </a:lnTo>
                    <a:lnTo>
                      <a:pt x="1614" y="2347"/>
                    </a:lnTo>
                    <a:lnTo>
                      <a:pt x="1614" y="2365"/>
                    </a:lnTo>
                    <a:lnTo>
                      <a:pt x="1611" y="2378"/>
                    </a:lnTo>
                    <a:lnTo>
                      <a:pt x="1602" y="2390"/>
                    </a:lnTo>
                    <a:lnTo>
                      <a:pt x="1593" y="2399"/>
                    </a:lnTo>
                    <a:lnTo>
                      <a:pt x="1574" y="2415"/>
                    </a:lnTo>
                    <a:lnTo>
                      <a:pt x="1568" y="2421"/>
                    </a:lnTo>
                    <a:lnTo>
                      <a:pt x="1559" y="2433"/>
                    </a:lnTo>
                    <a:lnTo>
                      <a:pt x="1568" y="2458"/>
                    </a:lnTo>
                    <a:lnTo>
                      <a:pt x="1574" y="2467"/>
                    </a:lnTo>
                    <a:lnTo>
                      <a:pt x="1583" y="2476"/>
                    </a:lnTo>
                    <a:lnTo>
                      <a:pt x="1593" y="2482"/>
                    </a:lnTo>
                    <a:lnTo>
                      <a:pt x="1602" y="2488"/>
                    </a:lnTo>
                    <a:lnTo>
                      <a:pt x="1614" y="2491"/>
                    </a:lnTo>
                    <a:lnTo>
                      <a:pt x="1629" y="2488"/>
                    </a:lnTo>
                    <a:lnTo>
                      <a:pt x="1608" y="2504"/>
                    </a:lnTo>
                    <a:lnTo>
                      <a:pt x="1583" y="2513"/>
                    </a:lnTo>
                    <a:lnTo>
                      <a:pt x="1562" y="2513"/>
                    </a:lnTo>
                    <a:lnTo>
                      <a:pt x="1540" y="2510"/>
                    </a:lnTo>
                    <a:lnTo>
                      <a:pt x="1522" y="2504"/>
                    </a:lnTo>
                    <a:lnTo>
                      <a:pt x="1506" y="2491"/>
                    </a:lnTo>
                    <a:lnTo>
                      <a:pt x="1491" y="2473"/>
                    </a:lnTo>
                    <a:lnTo>
                      <a:pt x="1476" y="2455"/>
                    </a:lnTo>
                    <a:lnTo>
                      <a:pt x="1466" y="2433"/>
                    </a:lnTo>
                    <a:lnTo>
                      <a:pt x="1460" y="2412"/>
                    </a:lnTo>
                    <a:lnTo>
                      <a:pt x="1454" y="2390"/>
                    </a:lnTo>
                    <a:lnTo>
                      <a:pt x="1454" y="2365"/>
                    </a:lnTo>
                    <a:lnTo>
                      <a:pt x="1457" y="2341"/>
                    </a:lnTo>
                    <a:lnTo>
                      <a:pt x="1463" y="2319"/>
                    </a:lnTo>
                    <a:lnTo>
                      <a:pt x="1476" y="2301"/>
                    </a:lnTo>
                    <a:lnTo>
                      <a:pt x="1488" y="2283"/>
                    </a:lnTo>
                    <a:lnTo>
                      <a:pt x="1488" y="2249"/>
                    </a:lnTo>
                    <a:lnTo>
                      <a:pt x="1485" y="2221"/>
                    </a:lnTo>
                    <a:lnTo>
                      <a:pt x="1491" y="2163"/>
                    </a:lnTo>
                    <a:lnTo>
                      <a:pt x="1500" y="2107"/>
                    </a:lnTo>
                    <a:lnTo>
                      <a:pt x="1513" y="2052"/>
                    </a:lnTo>
                    <a:lnTo>
                      <a:pt x="1525" y="1997"/>
                    </a:lnTo>
                    <a:lnTo>
                      <a:pt x="1534" y="1942"/>
                    </a:lnTo>
                    <a:lnTo>
                      <a:pt x="1540" y="1883"/>
                    </a:lnTo>
                    <a:lnTo>
                      <a:pt x="1540" y="1853"/>
                    </a:lnTo>
                    <a:lnTo>
                      <a:pt x="1537" y="1819"/>
                    </a:lnTo>
                    <a:lnTo>
                      <a:pt x="1528" y="1806"/>
                    </a:lnTo>
                    <a:lnTo>
                      <a:pt x="1519" y="1794"/>
                    </a:lnTo>
                    <a:lnTo>
                      <a:pt x="1506" y="1785"/>
                    </a:lnTo>
                    <a:lnTo>
                      <a:pt x="1491" y="1779"/>
                    </a:lnTo>
                    <a:lnTo>
                      <a:pt x="1466" y="1763"/>
                    </a:lnTo>
                    <a:lnTo>
                      <a:pt x="1454" y="1754"/>
                    </a:lnTo>
                    <a:lnTo>
                      <a:pt x="1442" y="1745"/>
                    </a:lnTo>
                    <a:lnTo>
                      <a:pt x="1427" y="1696"/>
                    </a:lnTo>
                    <a:lnTo>
                      <a:pt x="1411" y="1650"/>
                    </a:lnTo>
                    <a:lnTo>
                      <a:pt x="1402" y="1628"/>
                    </a:lnTo>
                    <a:lnTo>
                      <a:pt x="1390" y="1607"/>
                    </a:lnTo>
                    <a:lnTo>
                      <a:pt x="1377" y="1588"/>
                    </a:lnTo>
                    <a:lnTo>
                      <a:pt x="1362" y="1573"/>
                    </a:lnTo>
                    <a:lnTo>
                      <a:pt x="1365" y="1561"/>
                    </a:lnTo>
                    <a:lnTo>
                      <a:pt x="1368" y="1548"/>
                    </a:lnTo>
                    <a:lnTo>
                      <a:pt x="1374" y="1527"/>
                    </a:lnTo>
                    <a:lnTo>
                      <a:pt x="1377" y="1518"/>
                    </a:lnTo>
                    <a:lnTo>
                      <a:pt x="1377" y="1508"/>
                    </a:lnTo>
                    <a:lnTo>
                      <a:pt x="1371" y="1499"/>
                    </a:lnTo>
                    <a:lnTo>
                      <a:pt x="1362" y="1490"/>
                    </a:lnTo>
                    <a:lnTo>
                      <a:pt x="1393" y="1453"/>
                    </a:lnTo>
                    <a:lnTo>
                      <a:pt x="1405" y="1432"/>
                    </a:lnTo>
                    <a:lnTo>
                      <a:pt x="1417" y="1410"/>
                    </a:lnTo>
                    <a:lnTo>
                      <a:pt x="1423" y="1386"/>
                    </a:lnTo>
                    <a:lnTo>
                      <a:pt x="1423" y="1361"/>
                    </a:lnTo>
                    <a:lnTo>
                      <a:pt x="1420" y="1349"/>
                    </a:lnTo>
                    <a:lnTo>
                      <a:pt x="1417" y="1336"/>
                    </a:lnTo>
                    <a:lnTo>
                      <a:pt x="1411" y="1321"/>
                    </a:lnTo>
                    <a:lnTo>
                      <a:pt x="1402" y="1309"/>
                    </a:lnTo>
                    <a:lnTo>
                      <a:pt x="1393" y="1309"/>
                    </a:lnTo>
                    <a:lnTo>
                      <a:pt x="1390" y="1312"/>
                    </a:lnTo>
                    <a:lnTo>
                      <a:pt x="1383" y="1324"/>
                    </a:lnTo>
                    <a:lnTo>
                      <a:pt x="1380" y="1333"/>
                    </a:lnTo>
                    <a:lnTo>
                      <a:pt x="1377" y="1336"/>
                    </a:lnTo>
                    <a:lnTo>
                      <a:pt x="1371" y="1340"/>
                    </a:lnTo>
                    <a:lnTo>
                      <a:pt x="1362" y="1340"/>
                    </a:lnTo>
                    <a:lnTo>
                      <a:pt x="1334" y="1315"/>
                    </a:lnTo>
                    <a:lnTo>
                      <a:pt x="1307" y="1290"/>
                    </a:lnTo>
                    <a:lnTo>
                      <a:pt x="1294" y="1278"/>
                    </a:lnTo>
                    <a:lnTo>
                      <a:pt x="1285" y="1263"/>
                    </a:lnTo>
                    <a:lnTo>
                      <a:pt x="1276" y="1244"/>
                    </a:lnTo>
                    <a:lnTo>
                      <a:pt x="1270" y="1226"/>
                    </a:lnTo>
                    <a:lnTo>
                      <a:pt x="1248" y="1226"/>
                    </a:lnTo>
                    <a:lnTo>
                      <a:pt x="1230" y="1223"/>
                    </a:lnTo>
                    <a:lnTo>
                      <a:pt x="1217" y="1217"/>
                    </a:lnTo>
                    <a:lnTo>
                      <a:pt x="1202" y="1211"/>
                    </a:lnTo>
                    <a:lnTo>
                      <a:pt x="1181" y="1189"/>
                    </a:lnTo>
                    <a:lnTo>
                      <a:pt x="1159" y="1168"/>
                    </a:lnTo>
                    <a:lnTo>
                      <a:pt x="1150" y="1168"/>
                    </a:lnTo>
                    <a:lnTo>
                      <a:pt x="1144" y="1171"/>
                    </a:lnTo>
                    <a:lnTo>
                      <a:pt x="1137" y="1177"/>
                    </a:lnTo>
                    <a:lnTo>
                      <a:pt x="1131" y="1186"/>
                    </a:lnTo>
                    <a:lnTo>
                      <a:pt x="1125" y="1189"/>
                    </a:lnTo>
                    <a:lnTo>
                      <a:pt x="1119" y="1186"/>
                    </a:lnTo>
                    <a:lnTo>
                      <a:pt x="1082" y="1164"/>
                    </a:lnTo>
                    <a:lnTo>
                      <a:pt x="1045" y="1140"/>
                    </a:lnTo>
                    <a:lnTo>
                      <a:pt x="1008" y="1112"/>
                    </a:lnTo>
                    <a:lnTo>
                      <a:pt x="993" y="1100"/>
                    </a:lnTo>
                    <a:lnTo>
                      <a:pt x="978" y="1085"/>
                    </a:lnTo>
                    <a:lnTo>
                      <a:pt x="968" y="1048"/>
                    </a:lnTo>
                    <a:lnTo>
                      <a:pt x="956" y="1020"/>
                    </a:lnTo>
                    <a:lnTo>
                      <a:pt x="938" y="995"/>
                    </a:lnTo>
                    <a:lnTo>
                      <a:pt x="919" y="974"/>
                    </a:lnTo>
                    <a:lnTo>
                      <a:pt x="882" y="928"/>
                    </a:lnTo>
                    <a:lnTo>
                      <a:pt x="864" y="903"/>
                    </a:lnTo>
                    <a:lnTo>
                      <a:pt x="852" y="876"/>
                    </a:lnTo>
                    <a:lnTo>
                      <a:pt x="852" y="894"/>
                    </a:lnTo>
                    <a:lnTo>
                      <a:pt x="861" y="913"/>
                    </a:lnTo>
                    <a:lnTo>
                      <a:pt x="870" y="934"/>
                    </a:lnTo>
                    <a:lnTo>
                      <a:pt x="882" y="952"/>
                    </a:lnTo>
                    <a:lnTo>
                      <a:pt x="910" y="992"/>
                    </a:lnTo>
                    <a:lnTo>
                      <a:pt x="922" y="1014"/>
                    </a:lnTo>
                    <a:lnTo>
                      <a:pt x="928" y="1035"/>
                    </a:lnTo>
                    <a:lnTo>
                      <a:pt x="922" y="1038"/>
                    </a:lnTo>
                    <a:lnTo>
                      <a:pt x="916" y="1038"/>
                    </a:lnTo>
                    <a:lnTo>
                      <a:pt x="904" y="1032"/>
                    </a:lnTo>
                    <a:lnTo>
                      <a:pt x="892" y="1020"/>
                    </a:lnTo>
                    <a:lnTo>
                      <a:pt x="882" y="1005"/>
                    </a:lnTo>
                    <a:lnTo>
                      <a:pt x="870" y="989"/>
                    </a:lnTo>
                    <a:lnTo>
                      <a:pt x="858" y="977"/>
                    </a:lnTo>
                    <a:lnTo>
                      <a:pt x="842" y="965"/>
                    </a:lnTo>
                    <a:lnTo>
                      <a:pt x="836" y="962"/>
                    </a:lnTo>
                    <a:lnTo>
                      <a:pt x="827" y="962"/>
                    </a:lnTo>
                    <a:lnTo>
                      <a:pt x="830" y="956"/>
                    </a:lnTo>
                    <a:lnTo>
                      <a:pt x="833" y="946"/>
                    </a:lnTo>
                    <a:lnTo>
                      <a:pt x="833" y="934"/>
                    </a:lnTo>
                    <a:lnTo>
                      <a:pt x="830" y="919"/>
                    </a:lnTo>
                    <a:lnTo>
                      <a:pt x="821" y="906"/>
                    </a:lnTo>
                    <a:lnTo>
                      <a:pt x="799" y="873"/>
                    </a:lnTo>
                    <a:lnTo>
                      <a:pt x="790" y="857"/>
                    </a:lnTo>
                    <a:lnTo>
                      <a:pt x="787" y="839"/>
                    </a:lnTo>
                    <a:lnTo>
                      <a:pt x="772" y="833"/>
                    </a:lnTo>
                    <a:lnTo>
                      <a:pt x="756" y="823"/>
                    </a:lnTo>
                    <a:lnTo>
                      <a:pt x="744" y="814"/>
                    </a:lnTo>
                    <a:lnTo>
                      <a:pt x="735" y="802"/>
                    </a:lnTo>
                    <a:lnTo>
                      <a:pt x="722" y="787"/>
                    </a:lnTo>
                    <a:lnTo>
                      <a:pt x="716" y="771"/>
                    </a:lnTo>
                    <a:lnTo>
                      <a:pt x="701" y="737"/>
                    </a:lnTo>
                    <a:lnTo>
                      <a:pt x="692" y="701"/>
                    </a:lnTo>
                    <a:lnTo>
                      <a:pt x="686" y="658"/>
                    </a:lnTo>
                    <a:lnTo>
                      <a:pt x="679" y="612"/>
                    </a:lnTo>
                    <a:lnTo>
                      <a:pt x="676" y="565"/>
                    </a:lnTo>
                    <a:lnTo>
                      <a:pt x="667" y="553"/>
                    </a:lnTo>
                    <a:lnTo>
                      <a:pt x="652" y="541"/>
                    </a:lnTo>
                    <a:lnTo>
                      <a:pt x="621" y="526"/>
                    </a:lnTo>
                    <a:lnTo>
                      <a:pt x="624" y="510"/>
                    </a:lnTo>
                    <a:lnTo>
                      <a:pt x="621" y="495"/>
                    </a:lnTo>
                    <a:lnTo>
                      <a:pt x="615" y="486"/>
                    </a:lnTo>
                    <a:lnTo>
                      <a:pt x="609" y="476"/>
                    </a:lnTo>
                    <a:lnTo>
                      <a:pt x="593" y="461"/>
                    </a:lnTo>
                    <a:lnTo>
                      <a:pt x="587" y="452"/>
                    </a:lnTo>
                    <a:lnTo>
                      <a:pt x="581" y="443"/>
                    </a:lnTo>
                    <a:lnTo>
                      <a:pt x="578" y="446"/>
                    </a:lnTo>
                    <a:lnTo>
                      <a:pt x="575" y="449"/>
                    </a:lnTo>
                    <a:lnTo>
                      <a:pt x="581" y="461"/>
                    </a:lnTo>
                    <a:lnTo>
                      <a:pt x="590" y="473"/>
                    </a:lnTo>
                    <a:lnTo>
                      <a:pt x="590" y="483"/>
                    </a:lnTo>
                    <a:lnTo>
                      <a:pt x="590" y="489"/>
                    </a:lnTo>
                    <a:lnTo>
                      <a:pt x="569" y="486"/>
                    </a:lnTo>
                    <a:lnTo>
                      <a:pt x="559" y="483"/>
                    </a:lnTo>
                    <a:lnTo>
                      <a:pt x="553" y="476"/>
                    </a:lnTo>
                    <a:lnTo>
                      <a:pt x="547" y="470"/>
                    </a:lnTo>
                    <a:lnTo>
                      <a:pt x="544" y="461"/>
                    </a:lnTo>
                    <a:lnTo>
                      <a:pt x="541" y="449"/>
                    </a:lnTo>
                    <a:lnTo>
                      <a:pt x="544" y="433"/>
                    </a:lnTo>
                    <a:lnTo>
                      <a:pt x="532" y="418"/>
                    </a:lnTo>
                    <a:lnTo>
                      <a:pt x="516" y="403"/>
                    </a:lnTo>
                    <a:lnTo>
                      <a:pt x="486" y="375"/>
                    </a:lnTo>
                    <a:lnTo>
                      <a:pt x="449" y="353"/>
                    </a:lnTo>
                    <a:lnTo>
                      <a:pt x="412" y="338"/>
                    </a:lnTo>
                    <a:lnTo>
                      <a:pt x="390" y="332"/>
                    </a:lnTo>
                    <a:lnTo>
                      <a:pt x="369" y="329"/>
                    </a:lnTo>
                    <a:lnTo>
                      <a:pt x="350" y="329"/>
                    </a:lnTo>
                    <a:lnTo>
                      <a:pt x="329" y="329"/>
                    </a:lnTo>
                    <a:lnTo>
                      <a:pt x="307" y="332"/>
                    </a:lnTo>
                    <a:lnTo>
                      <a:pt x="289" y="338"/>
                    </a:lnTo>
                    <a:lnTo>
                      <a:pt x="270" y="347"/>
                    </a:lnTo>
                    <a:lnTo>
                      <a:pt x="252" y="357"/>
                    </a:lnTo>
                    <a:lnTo>
                      <a:pt x="252" y="347"/>
                    </a:lnTo>
                    <a:lnTo>
                      <a:pt x="255" y="341"/>
                    </a:lnTo>
                    <a:lnTo>
                      <a:pt x="258" y="335"/>
                    </a:lnTo>
                    <a:lnTo>
                      <a:pt x="258" y="329"/>
                    </a:lnTo>
                    <a:lnTo>
                      <a:pt x="246" y="335"/>
                    </a:lnTo>
                    <a:lnTo>
                      <a:pt x="240" y="341"/>
                    </a:lnTo>
                    <a:lnTo>
                      <a:pt x="240" y="350"/>
                    </a:lnTo>
                    <a:lnTo>
                      <a:pt x="240" y="360"/>
                    </a:lnTo>
                    <a:lnTo>
                      <a:pt x="246" y="378"/>
                    </a:lnTo>
                    <a:lnTo>
                      <a:pt x="246" y="387"/>
                    </a:lnTo>
                    <a:lnTo>
                      <a:pt x="243" y="393"/>
                    </a:lnTo>
                    <a:lnTo>
                      <a:pt x="227" y="406"/>
                    </a:lnTo>
                    <a:lnTo>
                      <a:pt x="215" y="409"/>
                    </a:lnTo>
                    <a:lnTo>
                      <a:pt x="209" y="409"/>
                    </a:lnTo>
                    <a:lnTo>
                      <a:pt x="200" y="409"/>
                    </a:lnTo>
                    <a:lnTo>
                      <a:pt x="194" y="403"/>
                    </a:lnTo>
                    <a:lnTo>
                      <a:pt x="187" y="393"/>
                    </a:lnTo>
                    <a:lnTo>
                      <a:pt x="160" y="415"/>
                    </a:lnTo>
                    <a:lnTo>
                      <a:pt x="126" y="430"/>
                    </a:lnTo>
                    <a:lnTo>
                      <a:pt x="92" y="443"/>
                    </a:lnTo>
                    <a:lnTo>
                      <a:pt x="55" y="452"/>
                    </a:lnTo>
                    <a:lnTo>
                      <a:pt x="61" y="433"/>
                    </a:lnTo>
                    <a:lnTo>
                      <a:pt x="71" y="421"/>
                    </a:lnTo>
                    <a:lnTo>
                      <a:pt x="83" y="412"/>
                    </a:lnTo>
                    <a:lnTo>
                      <a:pt x="98" y="406"/>
                    </a:lnTo>
                    <a:lnTo>
                      <a:pt x="129" y="393"/>
                    </a:lnTo>
                    <a:lnTo>
                      <a:pt x="144" y="387"/>
                    </a:lnTo>
                    <a:lnTo>
                      <a:pt x="157" y="375"/>
                    </a:lnTo>
                    <a:lnTo>
                      <a:pt x="141" y="372"/>
                    </a:lnTo>
                    <a:lnTo>
                      <a:pt x="129" y="366"/>
                    </a:lnTo>
                    <a:lnTo>
                      <a:pt x="114" y="363"/>
                    </a:lnTo>
                    <a:lnTo>
                      <a:pt x="104" y="363"/>
                    </a:lnTo>
                    <a:lnTo>
                      <a:pt x="92" y="366"/>
                    </a:lnTo>
                    <a:lnTo>
                      <a:pt x="92" y="329"/>
                    </a:lnTo>
                    <a:lnTo>
                      <a:pt x="77" y="341"/>
                    </a:lnTo>
                    <a:lnTo>
                      <a:pt x="68" y="347"/>
                    </a:lnTo>
                    <a:lnTo>
                      <a:pt x="61" y="357"/>
                    </a:lnTo>
                    <a:lnTo>
                      <a:pt x="55" y="353"/>
                    </a:lnTo>
                    <a:lnTo>
                      <a:pt x="49" y="347"/>
                    </a:lnTo>
                    <a:lnTo>
                      <a:pt x="43" y="332"/>
                    </a:lnTo>
                    <a:lnTo>
                      <a:pt x="37" y="317"/>
                    </a:lnTo>
                    <a:lnTo>
                      <a:pt x="31" y="314"/>
                    </a:lnTo>
                    <a:lnTo>
                      <a:pt x="21" y="310"/>
                    </a:lnTo>
                    <a:lnTo>
                      <a:pt x="28" y="295"/>
                    </a:lnTo>
                    <a:lnTo>
                      <a:pt x="37" y="286"/>
                    </a:lnTo>
                    <a:lnTo>
                      <a:pt x="46" y="280"/>
                    </a:lnTo>
                    <a:lnTo>
                      <a:pt x="58" y="277"/>
                    </a:lnTo>
                    <a:lnTo>
                      <a:pt x="86" y="271"/>
                    </a:lnTo>
                    <a:lnTo>
                      <a:pt x="98" y="267"/>
                    </a:lnTo>
                    <a:lnTo>
                      <a:pt x="111" y="261"/>
                    </a:lnTo>
                    <a:lnTo>
                      <a:pt x="98" y="258"/>
                    </a:lnTo>
                    <a:lnTo>
                      <a:pt x="83" y="258"/>
                    </a:lnTo>
                    <a:lnTo>
                      <a:pt x="46" y="261"/>
                    </a:lnTo>
                    <a:lnTo>
                      <a:pt x="28" y="261"/>
                    </a:lnTo>
                    <a:lnTo>
                      <a:pt x="12" y="255"/>
                    </a:lnTo>
                    <a:lnTo>
                      <a:pt x="6" y="252"/>
                    </a:lnTo>
                    <a:lnTo>
                      <a:pt x="3" y="246"/>
                    </a:lnTo>
                    <a:lnTo>
                      <a:pt x="0" y="237"/>
                    </a:lnTo>
                    <a:lnTo>
                      <a:pt x="0" y="224"/>
                    </a:lnTo>
                    <a:lnTo>
                      <a:pt x="28" y="215"/>
                    </a:lnTo>
                    <a:lnTo>
                      <a:pt x="40" y="212"/>
                    </a:lnTo>
                    <a:lnTo>
                      <a:pt x="49" y="212"/>
                    </a:lnTo>
                    <a:lnTo>
                      <a:pt x="74" y="218"/>
                    </a:lnTo>
                    <a:lnTo>
                      <a:pt x="101" y="224"/>
                    </a:lnTo>
                    <a:lnTo>
                      <a:pt x="95" y="215"/>
                    </a:lnTo>
                    <a:lnTo>
                      <a:pt x="86" y="206"/>
                    </a:lnTo>
                    <a:lnTo>
                      <a:pt x="77" y="203"/>
                    </a:lnTo>
                    <a:lnTo>
                      <a:pt x="64" y="200"/>
                    </a:lnTo>
                    <a:lnTo>
                      <a:pt x="40" y="191"/>
                    </a:lnTo>
                    <a:lnTo>
                      <a:pt x="31" y="188"/>
                    </a:lnTo>
                    <a:lnTo>
                      <a:pt x="21" y="178"/>
                    </a:lnTo>
                    <a:lnTo>
                      <a:pt x="40" y="169"/>
                    </a:lnTo>
                    <a:lnTo>
                      <a:pt x="58" y="160"/>
                    </a:lnTo>
                    <a:lnTo>
                      <a:pt x="95" y="145"/>
                    </a:lnTo>
                    <a:lnTo>
                      <a:pt x="132" y="132"/>
                    </a:lnTo>
                    <a:lnTo>
                      <a:pt x="151" y="123"/>
                    </a:lnTo>
                    <a:lnTo>
                      <a:pt x="166" y="111"/>
                    </a:lnTo>
                    <a:lnTo>
                      <a:pt x="181" y="120"/>
                    </a:lnTo>
                    <a:lnTo>
                      <a:pt x="200" y="126"/>
                    </a:lnTo>
                    <a:lnTo>
                      <a:pt x="237" y="132"/>
                    </a:lnTo>
                    <a:lnTo>
                      <a:pt x="277" y="135"/>
                    </a:lnTo>
                    <a:lnTo>
                      <a:pt x="320" y="138"/>
                    </a:lnTo>
                    <a:lnTo>
                      <a:pt x="363" y="142"/>
                    </a:lnTo>
                    <a:lnTo>
                      <a:pt x="403" y="145"/>
                    </a:lnTo>
                    <a:lnTo>
                      <a:pt x="443" y="154"/>
                    </a:lnTo>
                    <a:lnTo>
                      <a:pt x="461" y="160"/>
                    </a:lnTo>
                    <a:lnTo>
                      <a:pt x="480" y="169"/>
                    </a:lnTo>
                    <a:lnTo>
                      <a:pt x="523" y="154"/>
                    </a:lnTo>
                    <a:lnTo>
                      <a:pt x="563" y="148"/>
                    </a:lnTo>
                    <a:lnTo>
                      <a:pt x="603" y="142"/>
                    </a:lnTo>
                    <a:lnTo>
                      <a:pt x="639" y="142"/>
                    </a:lnTo>
                    <a:lnTo>
                      <a:pt x="679" y="145"/>
                    </a:lnTo>
                    <a:lnTo>
                      <a:pt x="719" y="151"/>
                    </a:lnTo>
                    <a:lnTo>
                      <a:pt x="802" y="169"/>
                    </a:lnTo>
                    <a:lnTo>
                      <a:pt x="805" y="163"/>
                    </a:lnTo>
                    <a:lnTo>
                      <a:pt x="805" y="157"/>
                    </a:lnTo>
                    <a:lnTo>
                      <a:pt x="793" y="145"/>
                    </a:lnTo>
                    <a:lnTo>
                      <a:pt x="778" y="129"/>
                    </a:lnTo>
                    <a:lnTo>
                      <a:pt x="775" y="120"/>
                    </a:lnTo>
                    <a:lnTo>
                      <a:pt x="772" y="111"/>
                    </a:lnTo>
                    <a:lnTo>
                      <a:pt x="759" y="123"/>
                    </a:lnTo>
                    <a:lnTo>
                      <a:pt x="747" y="129"/>
                    </a:lnTo>
                    <a:lnTo>
                      <a:pt x="732" y="132"/>
                    </a:lnTo>
                    <a:lnTo>
                      <a:pt x="719" y="132"/>
                    </a:lnTo>
                    <a:lnTo>
                      <a:pt x="692" y="129"/>
                    </a:lnTo>
                    <a:lnTo>
                      <a:pt x="661" y="120"/>
                    </a:lnTo>
                    <a:lnTo>
                      <a:pt x="661" y="111"/>
                    </a:lnTo>
                    <a:lnTo>
                      <a:pt x="664" y="105"/>
                    </a:lnTo>
                    <a:lnTo>
                      <a:pt x="673" y="95"/>
                    </a:lnTo>
                    <a:lnTo>
                      <a:pt x="682" y="83"/>
                    </a:lnTo>
                    <a:lnTo>
                      <a:pt x="686" y="74"/>
                    </a:lnTo>
                    <a:lnTo>
                      <a:pt x="686" y="65"/>
                    </a:lnTo>
                    <a:lnTo>
                      <a:pt x="747" y="65"/>
                    </a:lnTo>
                    <a:lnTo>
                      <a:pt x="778" y="62"/>
                    </a:lnTo>
                    <a:lnTo>
                      <a:pt x="802" y="56"/>
                    </a:lnTo>
                    <a:lnTo>
                      <a:pt x="799" y="43"/>
                    </a:lnTo>
                    <a:lnTo>
                      <a:pt x="790" y="40"/>
                    </a:lnTo>
                    <a:lnTo>
                      <a:pt x="781" y="40"/>
                    </a:lnTo>
                    <a:lnTo>
                      <a:pt x="772" y="40"/>
                    </a:lnTo>
                    <a:lnTo>
                      <a:pt x="744" y="46"/>
                    </a:lnTo>
                    <a:lnTo>
                      <a:pt x="732" y="49"/>
                    </a:lnTo>
                    <a:lnTo>
                      <a:pt x="716" y="46"/>
                    </a:lnTo>
                    <a:lnTo>
                      <a:pt x="726" y="31"/>
                    </a:lnTo>
                    <a:lnTo>
                      <a:pt x="732" y="19"/>
                    </a:lnTo>
                    <a:lnTo>
                      <a:pt x="741" y="9"/>
                    </a:lnTo>
                    <a:lnTo>
                      <a:pt x="750" y="3"/>
                    </a:lnTo>
                    <a:lnTo>
                      <a:pt x="762" y="0"/>
                    </a:lnTo>
                    <a:lnTo>
                      <a:pt x="772" y="0"/>
                    </a:lnTo>
                    <a:lnTo>
                      <a:pt x="793" y="6"/>
                    </a:lnTo>
                    <a:lnTo>
                      <a:pt x="839" y="25"/>
                    </a:lnTo>
                    <a:lnTo>
                      <a:pt x="864" y="34"/>
                    </a:lnTo>
                    <a:lnTo>
                      <a:pt x="876" y="37"/>
                    </a:lnTo>
                    <a:lnTo>
                      <a:pt x="888" y="37"/>
                    </a:lnTo>
                    <a:lnTo>
                      <a:pt x="913" y="34"/>
                    </a:lnTo>
                    <a:lnTo>
                      <a:pt x="935" y="28"/>
                    </a:lnTo>
                    <a:lnTo>
                      <a:pt x="959" y="25"/>
                    </a:lnTo>
                    <a:lnTo>
                      <a:pt x="971" y="25"/>
                    </a:lnTo>
                    <a:lnTo>
                      <a:pt x="984" y="28"/>
                    </a:lnTo>
                    <a:lnTo>
                      <a:pt x="987" y="46"/>
                    </a:lnTo>
                    <a:lnTo>
                      <a:pt x="981" y="62"/>
                    </a:lnTo>
                    <a:lnTo>
                      <a:pt x="968" y="83"/>
                    </a:lnTo>
                    <a:lnTo>
                      <a:pt x="1008" y="83"/>
                    </a:lnTo>
                    <a:lnTo>
                      <a:pt x="1002" y="99"/>
                    </a:lnTo>
                    <a:lnTo>
                      <a:pt x="999" y="108"/>
                    </a:lnTo>
                    <a:lnTo>
                      <a:pt x="1005" y="117"/>
                    </a:lnTo>
                    <a:lnTo>
                      <a:pt x="1011" y="123"/>
                    </a:lnTo>
                    <a:lnTo>
                      <a:pt x="1036" y="132"/>
                    </a:lnTo>
                    <a:lnTo>
                      <a:pt x="1054" y="138"/>
                    </a:lnTo>
                    <a:lnTo>
                      <a:pt x="1054" y="154"/>
                    </a:lnTo>
                    <a:lnTo>
                      <a:pt x="1048" y="163"/>
                    </a:lnTo>
                    <a:lnTo>
                      <a:pt x="1042" y="169"/>
                    </a:lnTo>
                    <a:lnTo>
                      <a:pt x="1033" y="175"/>
                    </a:lnTo>
                    <a:lnTo>
                      <a:pt x="1011" y="178"/>
                    </a:lnTo>
                    <a:lnTo>
                      <a:pt x="984" y="178"/>
                    </a:lnTo>
                    <a:lnTo>
                      <a:pt x="1011" y="185"/>
                    </a:lnTo>
                    <a:lnTo>
                      <a:pt x="1045" y="191"/>
                    </a:lnTo>
                    <a:lnTo>
                      <a:pt x="1076" y="191"/>
                    </a:lnTo>
                    <a:lnTo>
                      <a:pt x="1091" y="191"/>
                    </a:lnTo>
                    <a:lnTo>
                      <a:pt x="1104" y="188"/>
                    </a:lnTo>
                    <a:lnTo>
                      <a:pt x="1104" y="178"/>
                    </a:lnTo>
                    <a:lnTo>
                      <a:pt x="1104" y="172"/>
                    </a:lnTo>
                    <a:lnTo>
                      <a:pt x="1101" y="169"/>
                    </a:lnTo>
                    <a:lnTo>
                      <a:pt x="1094" y="169"/>
                    </a:lnTo>
                    <a:lnTo>
                      <a:pt x="1091" y="166"/>
                    </a:lnTo>
                    <a:lnTo>
                      <a:pt x="1085" y="163"/>
                    </a:lnTo>
                    <a:lnTo>
                      <a:pt x="1085" y="160"/>
                    </a:lnTo>
                    <a:lnTo>
                      <a:pt x="1088" y="151"/>
                    </a:lnTo>
                    <a:lnTo>
                      <a:pt x="1125" y="151"/>
                    </a:lnTo>
                    <a:lnTo>
                      <a:pt x="1128" y="163"/>
                    </a:lnTo>
                    <a:lnTo>
                      <a:pt x="1131" y="172"/>
                    </a:lnTo>
                    <a:lnTo>
                      <a:pt x="1134" y="181"/>
                    </a:lnTo>
                    <a:lnTo>
                      <a:pt x="1134" y="197"/>
                    </a:lnTo>
                    <a:lnTo>
                      <a:pt x="1144" y="197"/>
                    </a:lnTo>
                    <a:lnTo>
                      <a:pt x="1153" y="194"/>
                    </a:lnTo>
                    <a:lnTo>
                      <a:pt x="1165" y="188"/>
                    </a:lnTo>
                    <a:lnTo>
                      <a:pt x="1165" y="175"/>
                    </a:lnTo>
                    <a:lnTo>
                      <a:pt x="1165" y="166"/>
                    </a:lnTo>
                    <a:lnTo>
                      <a:pt x="1159" y="151"/>
                    </a:lnTo>
                    <a:lnTo>
                      <a:pt x="1150" y="135"/>
                    </a:lnTo>
                    <a:lnTo>
                      <a:pt x="1150" y="123"/>
                    </a:lnTo>
                    <a:lnTo>
                      <a:pt x="1150" y="111"/>
                    </a:lnTo>
                    <a:lnTo>
                      <a:pt x="1168" y="114"/>
                    </a:lnTo>
                    <a:lnTo>
                      <a:pt x="1184" y="123"/>
                    </a:lnTo>
                    <a:lnTo>
                      <a:pt x="1199" y="132"/>
                    </a:lnTo>
                    <a:lnTo>
                      <a:pt x="1208" y="145"/>
                    </a:lnTo>
                    <a:lnTo>
                      <a:pt x="1221" y="157"/>
                    </a:lnTo>
                    <a:lnTo>
                      <a:pt x="1230" y="166"/>
                    </a:lnTo>
                    <a:lnTo>
                      <a:pt x="1245" y="169"/>
                    </a:lnTo>
                    <a:lnTo>
                      <a:pt x="1260" y="169"/>
                    </a:lnTo>
                    <a:lnTo>
                      <a:pt x="1260" y="181"/>
                    </a:lnTo>
                    <a:lnTo>
                      <a:pt x="1264" y="188"/>
                    </a:lnTo>
                    <a:lnTo>
                      <a:pt x="1267" y="191"/>
                    </a:lnTo>
                    <a:lnTo>
                      <a:pt x="1273" y="191"/>
                    </a:lnTo>
                    <a:lnTo>
                      <a:pt x="1285" y="178"/>
                    </a:lnTo>
                    <a:lnTo>
                      <a:pt x="1300" y="160"/>
                    </a:lnTo>
                    <a:lnTo>
                      <a:pt x="1288" y="154"/>
                    </a:lnTo>
                    <a:lnTo>
                      <a:pt x="1273" y="151"/>
                    </a:lnTo>
                    <a:lnTo>
                      <a:pt x="1245" y="145"/>
                    </a:lnTo>
                    <a:lnTo>
                      <a:pt x="1233" y="142"/>
                    </a:lnTo>
                    <a:lnTo>
                      <a:pt x="1224" y="132"/>
                    </a:lnTo>
                    <a:lnTo>
                      <a:pt x="1221" y="123"/>
                    </a:lnTo>
                    <a:lnTo>
                      <a:pt x="1217" y="117"/>
                    </a:lnTo>
                    <a:lnTo>
                      <a:pt x="1221" y="92"/>
                    </a:lnTo>
                    <a:lnTo>
                      <a:pt x="1230" y="92"/>
                    </a:lnTo>
                    <a:lnTo>
                      <a:pt x="1236" y="89"/>
                    </a:lnTo>
                    <a:lnTo>
                      <a:pt x="1251" y="80"/>
                    </a:lnTo>
                    <a:lnTo>
                      <a:pt x="1264" y="74"/>
                    </a:lnTo>
                    <a:lnTo>
                      <a:pt x="1273" y="71"/>
                    </a:lnTo>
                    <a:lnTo>
                      <a:pt x="1285" y="74"/>
                    </a:lnTo>
                    <a:lnTo>
                      <a:pt x="1288" y="77"/>
                    </a:lnTo>
                    <a:lnTo>
                      <a:pt x="1288" y="83"/>
                    </a:lnTo>
                    <a:lnTo>
                      <a:pt x="1291" y="95"/>
                    </a:lnTo>
                    <a:lnTo>
                      <a:pt x="1291" y="105"/>
                    </a:lnTo>
                    <a:lnTo>
                      <a:pt x="1294" y="111"/>
                    </a:lnTo>
                    <a:lnTo>
                      <a:pt x="1300" y="111"/>
                    </a:lnTo>
                    <a:lnTo>
                      <a:pt x="1304" y="108"/>
                    </a:lnTo>
                    <a:lnTo>
                      <a:pt x="1307" y="102"/>
                    </a:lnTo>
                    <a:lnTo>
                      <a:pt x="1307" y="83"/>
                    </a:lnTo>
                    <a:lnTo>
                      <a:pt x="1331" y="80"/>
                    </a:lnTo>
                    <a:lnTo>
                      <a:pt x="1350" y="77"/>
                    </a:lnTo>
                    <a:lnTo>
                      <a:pt x="1387" y="77"/>
                    </a:lnTo>
                    <a:lnTo>
                      <a:pt x="1417" y="83"/>
                    </a:lnTo>
                    <a:lnTo>
                      <a:pt x="1448" y="92"/>
                    </a:lnTo>
                    <a:lnTo>
                      <a:pt x="1506" y="117"/>
                    </a:lnTo>
                    <a:lnTo>
                      <a:pt x="1537" y="126"/>
                    </a:lnTo>
                    <a:lnTo>
                      <a:pt x="1577" y="129"/>
                    </a:lnTo>
                    <a:lnTo>
                      <a:pt x="1583" y="148"/>
                    </a:lnTo>
                    <a:lnTo>
                      <a:pt x="1589" y="163"/>
                    </a:lnTo>
                    <a:lnTo>
                      <a:pt x="1602" y="175"/>
                    </a:lnTo>
                    <a:lnTo>
                      <a:pt x="1617" y="185"/>
                    </a:lnTo>
                    <a:lnTo>
                      <a:pt x="1633" y="194"/>
                    </a:lnTo>
                    <a:lnTo>
                      <a:pt x="1648" y="197"/>
                    </a:lnTo>
                    <a:lnTo>
                      <a:pt x="1685" y="206"/>
                    </a:lnTo>
                    <a:lnTo>
                      <a:pt x="1682" y="228"/>
                    </a:lnTo>
                    <a:lnTo>
                      <a:pt x="1672" y="240"/>
                    </a:lnTo>
                    <a:lnTo>
                      <a:pt x="1660" y="246"/>
                    </a:lnTo>
                    <a:lnTo>
                      <a:pt x="1648" y="249"/>
                    </a:lnTo>
                    <a:lnTo>
                      <a:pt x="1633" y="246"/>
                    </a:lnTo>
                    <a:lnTo>
                      <a:pt x="1620" y="240"/>
                    </a:lnTo>
                    <a:lnTo>
                      <a:pt x="1593" y="224"/>
                    </a:lnTo>
                    <a:lnTo>
                      <a:pt x="1596" y="237"/>
                    </a:lnTo>
                    <a:lnTo>
                      <a:pt x="1602" y="243"/>
                    </a:lnTo>
                    <a:lnTo>
                      <a:pt x="1617" y="255"/>
                    </a:lnTo>
                    <a:lnTo>
                      <a:pt x="1629" y="271"/>
                    </a:lnTo>
                    <a:lnTo>
                      <a:pt x="1636" y="280"/>
                    </a:lnTo>
                    <a:lnTo>
                      <a:pt x="1639" y="292"/>
                    </a:lnTo>
                    <a:lnTo>
                      <a:pt x="1626" y="295"/>
                    </a:lnTo>
                    <a:lnTo>
                      <a:pt x="1611" y="298"/>
                    </a:lnTo>
                    <a:lnTo>
                      <a:pt x="1586" y="298"/>
                    </a:lnTo>
                    <a:lnTo>
                      <a:pt x="1559" y="292"/>
                    </a:lnTo>
                    <a:lnTo>
                      <a:pt x="1531" y="283"/>
                    </a:lnTo>
                    <a:lnTo>
                      <a:pt x="1500" y="274"/>
                    </a:lnTo>
                    <a:lnTo>
                      <a:pt x="1473" y="264"/>
                    </a:lnTo>
                    <a:lnTo>
                      <a:pt x="1442" y="261"/>
                    </a:lnTo>
                    <a:lnTo>
                      <a:pt x="1411" y="261"/>
                    </a:lnTo>
                    <a:lnTo>
                      <a:pt x="1411" y="252"/>
                    </a:lnTo>
                    <a:lnTo>
                      <a:pt x="1414" y="243"/>
                    </a:lnTo>
                    <a:lnTo>
                      <a:pt x="1420" y="237"/>
                    </a:lnTo>
                    <a:lnTo>
                      <a:pt x="1423" y="231"/>
                    </a:lnTo>
                    <a:lnTo>
                      <a:pt x="1436" y="224"/>
                    </a:lnTo>
                    <a:lnTo>
                      <a:pt x="1451" y="221"/>
                    </a:lnTo>
                    <a:lnTo>
                      <a:pt x="1463" y="221"/>
                    </a:lnTo>
                    <a:lnTo>
                      <a:pt x="1479" y="215"/>
                    </a:lnTo>
                    <a:lnTo>
                      <a:pt x="1488" y="206"/>
                    </a:lnTo>
                    <a:lnTo>
                      <a:pt x="1494" y="197"/>
                    </a:lnTo>
                    <a:lnTo>
                      <a:pt x="1497" y="188"/>
                    </a:lnTo>
                    <a:lnTo>
                      <a:pt x="1485" y="188"/>
                    </a:lnTo>
                    <a:lnTo>
                      <a:pt x="1479" y="191"/>
                    </a:lnTo>
                    <a:lnTo>
                      <a:pt x="1463" y="200"/>
                    </a:lnTo>
                    <a:lnTo>
                      <a:pt x="1457" y="203"/>
                    </a:lnTo>
                    <a:lnTo>
                      <a:pt x="1448" y="209"/>
                    </a:lnTo>
                    <a:lnTo>
                      <a:pt x="1439" y="209"/>
                    </a:lnTo>
                    <a:lnTo>
                      <a:pt x="1427" y="206"/>
                    </a:lnTo>
                    <a:lnTo>
                      <a:pt x="1439" y="191"/>
                    </a:lnTo>
                    <a:lnTo>
                      <a:pt x="1439" y="181"/>
                    </a:lnTo>
                    <a:lnTo>
                      <a:pt x="1439" y="175"/>
                    </a:lnTo>
                    <a:lnTo>
                      <a:pt x="1439" y="172"/>
                    </a:lnTo>
                    <a:lnTo>
                      <a:pt x="1433" y="166"/>
                    </a:lnTo>
                    <a:lnTo>
                      <a:pt x="1423" y="160"/>
                    </a:lnTo>
                    <a:lnTo>
                      <a:pt x="1408" y="157"/>
                    </a:lnTo>
                    <a:lnTo>
                      <a:pt x="1390" y="160"/>
                    </a:lnTo>
                    <a:lnTo>
                      <a:pt x="1371" y="163"/>
                    </a:lnTo>
                    <a:lnTo>
                      <a:pt x="1356" y="169"/>
                    </a:lnTo>
                    <a:lnTo>
                      <a:pt x="1356" y="175"/>
                    </a:lnTo>
                    <a:lnTo>
                      <a:pt x="1362" y="178"/>
                    </a:lnTo>
                    <a:lnTo>
                      <a:pt x="1371" y="181"/>
                    </a:lnTo>
                    <a:lnTo>
                      <a:pt x="1374" y="185"/>
                    </a:lnTo>
                    <a:lnTo>
                      <a:pt x="1377" y="191"/>
                    </a:lnTo>
                    <a:lnTo>
                      <a:pt x="1380" y="197"/>
                    </a:lnTo>
                    <a:lnTo>
                      <a:pt x="1377" y="206"/>
                    </a:lnTo>
                    <a:lnTo>
                      <a:pt x="1371" y="206"/>
                    </a:lnTo>
                    <a:lnTo>
                      <a:pt x="1365" y="209"/>
                    </a:lnTo>
                    <a:lnTo>
                      <a:pt x="1356" y="215"/>
                    </a:lnTo>
                    <a:lnTo>
                      <a:pt x="1347" y="221"/>
                    </a:lnTo>
                    <a:lnTo>
                      <a:pt x="1340" y="224"/>
                    </a:lnTo>
                    <a:lnTo>
                      <a:pt x="1331" y="224"/>
                    </a:lnTo>
                    <a:lnTo>
                      <a:pt x="1334" y="237"/>
                    </a:lnTo>
                    <a:lnTo>
                      <a:pt x="1343" y="243"/>
                    </a:lnTo>
                    <a:lnTo>
                      <a:pt x="1353" y="246"/>
                    </a:lnTo>
                    <a:lnTo>
                      <a:pt x="1362" y="249"/>
                    </a:lnTo>
                    <a:lnTo>
                      <a:pt x="1371" y="252"/>
                    </a:lnTo>
                    <a:lnTo>
                      <a:pt x="1380" y="258"/>
                    </a:lnTo>
                    <a:lnTo>
                      <a:pt x="1387" y="267"/>
                    </a:lnTo>
                    <a:lnTo>
                      <a:pt x="1387" y="283"/>
                    </a:lnTo>
                    <a:lnTo>
                      <a:pt x="1359" y="274"/>
                    </a:lnTo>
                    <a:lnTo>
                      <a:pt x="1334" y="271"/>
                    </a:lnTo>
                    <a:lnTo>
                      <a:pt x="1313" y="274"/>
                    </a:lnTo>
                    <a:lnTo>
                      <a:pt x="1285" y="283"/>
                    </a:lnTo>
                    <a:lnTo>
                      <a:pt x="1285" y="267"/>
                    </a:lnTo>
                    <a:lnTo>
                      <a:pt x="1288" y="261"/>
                    </a:lnTo>
                    <a:lnTo>
                      <a:pt x="1288" y="255"/>
                    </a:lnTo>
                    <a:lnTo>
                      <a:pt x="1285" y="243"/>
                    </a:lnTo>
                    <a:lnTo>
                      <a:pt x="1251" y="264"/>
                    </a:lnTo>
                    <a:lnTo>
                      <a:pt x="1214" y="283"/>
                    </a:lnTo>
                    <a:lnTo>
                      <a:pt x="1199" y="295"/>
                    </a:lnTo>
                    <a:lnTo>
                      <a:pt x="1184" y="307"/>
                    </a:lnTo>
                    <a:lnTo>
                      <a:pt x="1168" y="320"/>
                    </a:lnTo>
                    <a:lnTo>
                      <a:pt x="1159" y="338"/>
                    </a:lnTo>
                    <a:lnTo>
                      <a:pt x="1171" y="360"/>
                    </a:lnTo>
                    <a:lnTo>
                      <a:pt x="1193" y="375"/>
                    </a:lnTo>
                    <a:lnTo>
                      <a:pt x="1214" y="390"/>
                    </a:lnTo>
                    <a:lnTo>
                      <a:pt x="1242" y="400"/>
                    </a:lnTo>
                    <a:lnTo>
                      <a:pt x="1270" y="409"/>
                    </a:lnTo>
                    <a:lnTo>
                      <a:pt x="1297" y="412"/>
                    </a:lnTo>
                    <a:lnTo>
                      <a:pt x="1322" y="415"/>
                    </a:lnTo>
                    <a:lnTo>
                      <a:pt x="1347" y="415"/>
                    </a:lnTo>
                    <a:lnTo>
                      <a:pt x="1350" y="424"/>
                    </a:lnTo>
                    <a:lnTo>
                      <a:pt x="1356" y="436"/>
                    </a:lnTo>
                    <a:lnTo>
                      <a:pt x="1365" y="452"/>
                    </a:lnTo>
                    <a:lnTo>
                      <a:pt x="1377" y="467"/>
                    </a:lnTo>
                    <a:lnTo>
                      <a:pt x="1383" y="476"/>
                    </a:lnTo>
                    <a:lnTo>
                      <a:pt x="1387" y="489"/>
                    </a:lnTo>
                    <a:lnTo>
                      <a:pt x="1393" y="489"/>
                    </a:lnTo>
                    <a:lnTo>
                      <a:pt x="1399" y="486"/>
                    </a:lnTo>
                    <a:lnTo>
                      <a:pt x="1405" y="483"/>
                    </a:lnTo>
                    <a:lnTo>
                      <a:pt x="1411" y="479"/>
                    </a:lnTo>
                    <a:lnTo>
                      <a:pt x="1405" y="461"/>
                    </a:lnTo>
                    <a:lnTo>
                      <a:pt x="1399" y="446"/>
                    </a:lnTo>
                    <a:lnTo>
                      <a:pt x="1393" y="430"/>
                    </a:lnTo>
                    <a:lnTo>
                      <a:pt x="1387" y="415"/>
                    </a:lnTo>
                    <a:lnTo>
                      <a:pt x="1402" y="415"/>
                    </a:lnTo>
                    <a:lnTo>
                      <a:pt x="1411" y="418"/>
                    </a:lnTo>
                    <a:lnTo>
                      <a:pt x="1420" y="418"/>
                    </a:lnTo>
                    <a:lnTo>
                      <a:pt x="1433" y="415"/>
                    </a:lnTo>
                    <a:lnTo>
                      <a:pt x="1433" y="403"/>
                    </a:lnTo>
                    <a:lnTo>
                      <a:pt x="1433" y="390"/>
                    </a:lnTo>
                    <a:lnTo>
                      <a:pt x="1430" y="384"/>
                    </a:lnTo>
                    <a:lnTo>
                      <a:pt x="1423" y="378"/>
                    </a:lnTo>
                    <a:lnTo>
                      <a:pt x="1414" y="366"/>
                    </a:lnTo>
                    <a:lnTo>
                      <a:pt x="1402" y="357"/>
                    </a:lnTo>
                    <a:lnTo>
                      <a:pt x="1408" y="353"/>
                    </a:lnTo>
                    <a:lnTo>
                      <a:pt x="1414" y="347"/>
                    </a:lnTo>
                    <a:lnTo>
                      <a:pt x="1417" y="329"/>
                    </a:lnTo>
                    <a:lnTo>
                      <a:pt x="1420" y="307"/>
                    </a:lnTo>
                    <a:lnTo>
                      <a:pt x="1423" y="298"/>
                    </a:lnTo>
                    <a:lnTo>
                      <a:pt x="1427" y="292"/>
                    </a:lnTo>
                    <a:lnTo>
                      <a:pt x="1454" y="289"/>
                    </a:lnTo>
                    <a:lnTo>
                      <a:pt x="1479" y="292"/>
                    </a:lnTo>
                    <a:lnTo>
                      <a:pt x="1500" y="298"/>
                    </a:lnTo>
                    <a:lnTo>
                      <a:pt x="1522" y="304"/>
                    </a:lnTo>
                    <a:lnTo>
                      <a:pt x="1540" y="314"/>
                    </a:lnTo>
                    <a:lnTo>
                      <a:pt x="1556" y="329"/>
                    </a:lnTo>
                    <a:lnTo>
                      <a:pt x="1568" y="344"/>
                    </a:lnTo>
                    <a:lnTo>
                      <a:pt x="1577" y="366"/>
                    </a:lnTo>
                    <a:lnTo>
                      <a:pt x="1586" y="366"/>
                    </a:lnTo>
                    <a:lnTo>
                      <a:pt x="1593" y="363"/>
                    </a:lnTo>
                    <a:lnTo>
                      <a:pt x="1602" y="350"/>
                    </a:lnTo>
                    <a:lnTo>
                      <a:pt x="1611" y="338"/>
                    </a:lnTo>
                    <a:lnTo>
                      <a:pt x="1617" y="332"/>
                    </a:lnTo>
                    <a:lnTo>
                      <a:pt x="1623" y="329"/>
                    </a:lnTo>
                    <a:lnTo>
                      <a:pt x="1694" y="400"/>
                    </a:lnTo>
                    <a:lnTo>
                      <a:pt x="1731" y="433"/>
                    </a:lnTo>
                    <a:lnTo>
                      <a:pt x="1749" y="449"/>
                    </a:lnTo>
                    <a:lnTo>
                      <a:pt x="1774" y="461"/>
                    </a:lnTo>
                    <a:lnTo>
                      <a:pt x="1774" y="473"/>
                    </a:lnTo>
                    <a:lnTo>
                      <a:pt x="1774" y="479"/>
                    </a:lnTo>
                    <a:lnTo>
                      <a:pt x="1771" y="486"/>
                    </a:lnTo>
                    <a:lnTo>
                      <a:pt x="1768" y="492"/>
                    </a:lnTo>
                    <a:lnTo>
                      <a:pt x="1759" y="501"/>
                    </a:lnTo>
                    <a:lnTo>
                      <a:pt x="1759" y="507"/>
                    </a:lnTo>
                    <a:lnTo>
                      <a:pt x="1759" y="516"/>
                    </a:lnTo>
                    <a:lnTo>
                      <a:pt x="1777" y="526"/>
                    </a:lnTo>
                    <a:lnTo>
                      <a:pt x="1795" y="538"/>
                    </a:lnTo>
                    <a:lnTo>
                      <a:pt x="1805" y="544"/>
                    </a:lnTo>
                    <a:lnTo>
                      <a:pt x="1808" y="553"/>
                    </a:lnTo>
                    <a:lnTo>
                      <a:pt x="1811" y="565"/>
                    </a:lnTo>
                    <a:lnTo>
                      <a:pt x="1811" y="584"/>
                    </a:lnTo>
                    <a:lnTo>
                      <a:pt x="1789" y="578"/>
                    </a:lnTo>
                    <a:lnTo>
                      <a:pt x="1768" y="578"/>
                    </a:lnTo>
                    <a:lnTo>
                      <a:pt x="1743" y="575"/>
                    </a:lnTo>
                    <a:lnTo>
                      <a:pt x="1709" y="575"/>
                    </a:lnTo>
                    <a:lnTo>
                      <a:pt x="1716" y="553"/>
                    </a:lnTo>
                    <a:lnTo>
                      <a:pt x="1725" y="538"/>
                    </a:lnTo>
                    <a:lnTo>
                      <a:pt x="1734" y="526"/>
                    </a:lnTo>
                    <a:lnTo>
                      <a:pt x="1740" y="507"/>
                    </a:lnTo>
                    <a:lnTo>
                      <a:pt x="1734" y="507"/>
                    </a:lnTo>
                    <a:lnTo>
                      <a:pt x="1725" y="510"/>
                    </a:lnTo>
                    <a:lnTo>
                      <a:pt x="1700" y="522"/>
                    </a:lnTo>
                    <a:lnTo>
                      <a:pt x="1676" y="538"/>
                    </a:lnTo>
                    <a:lnTo>
                      <a:pt x="1654" y="556"/>
                    </a:lnTo>
                    <a:lnTo>
                      <a:pt x="1645" y="547"/>
                    </a:lnTo>
                    <a:lnTo>
                      <a:pt x="1639" y="538"/>
                    </a:lnTo>
                    <a:lnTo>
                      <a:pt x="1633" y="526"/>
                    </a:lnTo>
                    <a:lnTo>
                      <a:pt x="1623" y="516"/>
                    </a:lnTo>
                    <a:lnTo>
                      <a:pt x="1608" y="522"/>
                    </a:lnTo>
                    <a:lnTo>
                      <a:pt x="1593" y="529"/>
                    </a:lnTo>
                    <a:lnTo>
                      <a:pt x="1583" y="541"/>
                    </a:lnTo>
                    <a:lnTo>
                      <a:pt x="1577" y="556"/>
                    </a:lnTo>
                    <a:lnTo>
                      <a:pt x="1583" y="556"/>
                    </a:lnTo>
                    <a:lnTo>
                      <a:pt x="1589" y="553"/>
                    </a:lnTo>
                    <a:lnTo>
                      <a:pt x="1599" y="547"/>
                    </a:lnTo>
                    <a:lnTo>
                      <a:pt x="1608" y="538"/>
                    </a:lnTo>
                    <a:lnTo>
                      <a:pt x="1614" y="538"/>
                    </a:lnTo>
                    <a:lnTo>
                      <a:pt x="1623" y="535"/>
                    </a:lnTo>
                    <a:lnTo>
                      <a:pt x="1636" y="559"/>
                    </a:lnTo>
                    <a:lnTo>
                      <a:pt x="1639" y="565"/>
                    </a:lnTo>
                    <a:lnTo>
                      <a:pt x="1639" y="572"/>
                    </a:lnTo>
                    <a:lnTo>
                      <a:pt x="1636" y="578"/>
                    </a:lnTo>
                    <a:lnTo>
                      <a:pt x="1629" y="584"/>
                    </a:lnTo>
                    <a:lnTo>
                      <a:pt x="1639" y="584"/>
                    </a:lnTo>
                    <a:lnTo>
                      <a:pt x="1648" y="581"/>
                    </a:lnTo>
                    <a:lnTo>
                      <a:pt x="1657" y="578"/>
                    </a:lnTo>
                    <a:lnTo>
                      <a:pt x="1660" y="578"/>
                    </a:lnTo>
                    <a:lnTo>
                      <a:pt x="1663" y="581"/>
                    </a:lnTo>
                    <a:lnTo>
                      <a:pt x="1663" y="602"/>
                    </a:lnTo>
                    <a:lnTo>
                      <a:pt x="1669" y="602"/>
                    </a:lnTo>
                    <a:lnTo>
                      <a:pt x="1676" y="599"/>
                    </a:lnTo>
                    <a:lnTo>
                      <a:pt x="1685" y="590"/>
                    </a:lnTo>
                    <a:lnTo>
                      <a:pt x="1688" y="587"/>
                    </a:lnTo>
                    <a:lnTo>
                      <a:pt x="1691" y="584"/>
                    </a:lnTo>
                    <a:lnTo>
                      <a:pt x="1697" y="587"/>
                    </a:lnTo>
                    <a:lnTo>
                      <a:pt x="1703" y="593"/>
                    </a:lnTo>
                    <a:lnTo>
                      <a:pt x="1703" y="605"/>
                    </a:lnTo>
                    <a:lnTo>
                      <a:pt x="1706" y="608"/>
                    </a:lnTo>
                    <a:lnTo>
                      <a:pt x="1709" y="612"/>
                    </a:lnTo>
                    <a:lnTo>
                      <a:pt x="1700" y="621"/>
                    </a:lnTo>
                    <a:lnTo>
                      <a:pt x="1688" y="630"/>
                    </a:lnTo>
                    <a:lnTo>
                      <a:pt x="1657" y="639"/>
                    </a:lnTo>
                    <a:lnTo>
                      <a:pt x="1629" y="648"/>
                    </a:lnTo>
                    <a:lnTo>
                      <a:pt x="1599" y="658"/>
                    </a:lnTo>
                    <a:lnTo>
                      <a:pt x="1599" y="630"/>
                    </a:lnTo>
                    <a:lnTo>
                      <a:pt x="1568" y="639"/>
                    </a:lnTo>
                    <a:lnTo>
                      <a:pt x="1537" y="648"/>
                    </a:lnTo>
                    <a:lnTo>
                      <a:pt x="1534" y="664"/>
                    </a:lnTo>
                    <a:lnTo>
                      <a:pt x="1540" y="676"/>
                    </a:lnTo>
                    <a:lnTo>
                      <a:pt x="1543" y="682"/>
                    </a:lnTo>
                    <a:lnTo>
                      <a:pt x="1543" y="698"/>
                    </a:lnTo>
                    <a:lnTo>
                      <a:pt x="1531" y="691"/>
                    </a:lnTo>
                    <a:lnTo>
                      <a:pt x="1522" y="691"/>
                    </a:lnTo>
                    <a:lnTo>
                      <a:pt x="1513" y="691"/>
                    </a:lnTo>
                    <a:lnTo>
                      <a:pt x="1503" y="694"/>
                    </a:lnTo>
                    <a:lnTo>
                      <a:pt x="1497" y="701"/>
                    </a:lnTo>
                    <a:lnTo>
                      <a:pt x="1491" y="707"/>
                    </a:lnTo>
                    <a:lnTo>
                      <a:pt x="1482" y="725"/>
                    </a:lnTo>
                    <a:lnTo>
                      <a:pt x="1476" y="741"/>
                    </a:lnTo>
                    <a:lnTo>
                      <a:pt x="1466" y="753"/>
                    </a:lnTo>
                    <a:lnTo>
                      <a:pt x="1463" y="756"/>
                    </a:lnTo>
                    <a:lnTo>
                      <a:pt x="1457" y="759"/>
                    </a:lnTo>
                    <a:lnTo>
                      <a:pt x="1451" y="756"/>
                    </a:lnTo>
                    <a:lnTo>
                      <a:pt x="1442" y="753"/>
                    </a:lnTo>
                    <a:lnTo>
                      <a:pt x="1445" y="765"/>
                    </a:lnTo>
                    <a:lnTo>
                      <a:pt x="1451" y="774"/>
                    </a:lnTo>
                    <a:lnTo>
                      <a:pt x="1457" y="787"/>
                    </a:lnTo>
                    <a:lnTo>
                      <a:pt x="1457" y="802"/>
                    </a:lnTo>
                    <a:lnTo>
                      <a:pt x="1445" y="808"/>
                    </a:lnTo>
                    <a:lnTo>
                      <a:pt x="1433" y="817"/>
                    </a:lnTo>
                    <a:lnTo>
                      <a:pt x="1411" y="839"/>
                    </a:lnTo>
                    <a:lnTo>
                      <a:pt x="1387" y="860"/>
                    </a:lnTo>
                    <a:lnTo>
                      <a:pt x="1377" y="870"/>
                    </a:lnTo>
                    <a:lnTo>
                      <a:pt x="1362" y="876"/>
                    </a:lnTo>
                    <a:lnTo>
                      <a:pt x="1371" y="906"/>
                    </a:lnTo>
                    <a:lnTo>
                      <a:pt x="1380" y="937"/>
                    </a:lnTo>
                    <a:lnTo>
                      <a:pt x="1387" y="952"/>
                    </a:lnTo>
                    <a:lnTo>
                      <a:pt x="1387" y="968"/>
                    </a:lnTo>
                    <a:lnTo>
                      <a:pt x="1383" y="983"/>
                    </a:lnTo>
                    <a:lnTo>
                      <a:pt x="1377" y="999"/>
                    </a:lnTo>
                    <a:lnTo>
                      <a:pt x="1362" y="986"/>
                    </a:lnTo>
                    <a:lnTo>
                      <a:pt x="1347" y="968"/>
                    </a:lnTo>
                    <a:lnTo>
                      <a:pt x="1337" y="949"/>
                    </a:lnTo>
                    <a:lnTo>
                      <a:pt x="1331" y="922"/>
                    </a:lnTo>
                    <a:lnTo>
                      <a:pt x="1322" y="913"/>
                    </a:lnTo>
                    <a:lnTo>
                      <a:pt x="1310" y="906"/>
                    </a:lnTo>
                    <a:lnTo>
                      <a:pt x="1297" y="900"/>
                    </a:lnTo>
                    <a:lnTo>
                      <a:pt x="1282" y="900"/>
                    </a:lnTo>
                    <a:lnTo>
                      <a:pt x="1267" y="900"/>
                    </a:lnTo>
                    <a:lnTo>
                      <a:pt x="1254" y="906"/>
                    </a:lnTo>
                    <a:lnTo>
                      <a:pt x="1239" y="913"/>
                    </a:lnTo>
                    <a:lnTo>
                      <a:pt x="1230" y="922"/>
                    </a:lnTo>
                    <a:lnTo>
                      <a:pt x="1211" y="916"/>
                    </a:lnTo>
                    <a:lnTo>
                      <a:pt x="1193" y="913"/>
                    </a:lnTo>
                    <a:lnTo>
                      <a:pt x="1177" y="916"/>
                    </a:lnTo>
                    <a:lnTo>
                      <a:pt x="1165" y="922"/>
                    </a:lnTo>
                    <a:lnTo>
                      <a:pt x="1137" y="937"/>
                    </a:lnTo>
                    <a:lnTo>
                      <a:pt x="1110" y="952"/>
                    </a:lnTo>
                    <a:lnTo>
                      <a:pt x="1113" y="1002"/>
                    </a:lnTo>
                    <a:lnTo>
                      <a:pt x="1116" y="1051"/>
                    </a:lnTo>
                    <a:lnTo>
                      <a:pt x="1119" y="1075"/>
                    </a:lnTo>
                    <a:lnTo>
                      <a:pt x="1128" y="1094"/>
                    </a:lnTo>
                    <a:lnTo>
                      <a:pt x="1141" y="1109"/>
                    </a:lnTo>
                    <a:lnTo>
                      <a:pt x="1150" y="1115"/>
                    </a:lnTo>
                    <a:lnTo>
                      <a:pt x="1159" y="1121"/>
                    </a:lnTo>
                    <a:lnTo>
                      <a:pt x="1165" y="1121"/>
                    </a:lnTo>
                    <a:lnTo>
                      <a:pt x="1168" y="1121"/>
                    </a:lnTo>
                    <a:lnTo>
                      <a:pt x="1177" y="1115"/>
                    </a:lnTo>
                    <a:lnTo>
                      <a:pt x="1184" y="1109"/>
                    </a:lnTo>
                    <a:lnTo>
                      <a:pt x="1190" y="1109"/>
                    </a:lnTo>
                    <a:lnTo>
                      <a:pt x="1196" y="1112"/>
                    </a:lnTo>
                    <a:lnTo>
                      <a:pt x="1202" y="1109"/>
                    </a:lnTo>
                    <a:lnTo>
                      <a:pt x="1208" y="1106"/>
                    </a:lnTo>
                    <a:lnTo>
                      <a:pt x="1211" y="1097"/>
                    </a:lnTo>
                    <a:lnTo>
                      <a:pt x="1214" y="1081"/>
                    </a:lnTo>
                    <a:lnTo>
                      <a:pt x="1214" y="1066"/>
                    </a:lnTo>
                    <a:lnTo>
                      <a:pt x="1254" y="1063"/>
                    </a:lnTo>
                    <a:lnTo>
                      <a:pt x="1270" y="1066"/>
                    </a:lnTo>
                    <a:lnTo>
                      <a:pt x="1279" y="1069"/>
                    </a:lnTo>
                    <a:lnTo>
                      <a:pt x="1285" y="1075"/>
                    </a:lnTo>
                    <a:lnTo>
                      <a:pt x="1282" y="1085"/>
                    </a:lnTo>
                    <a:lnTo>
                      <a:pt x="1279" y="1097"/>
                    </a:lnTo>
                    <a:lnTo>
                      <a:pt x="1270" y="1112"/>
                    </a:lnTo>
                    <a:lnTo>
                      <a:pt x="1264" y="1121"/>
                    </a:lnTo>
                    <a:lnTo>
                      <a:pt x="1260" y="1131"/>
                    </a:lnTo>
                    <a:lnTo>
                      <a:pt x="1260" y="1143"/>
                    </a:lnTo>
                    <a:lnTo>
                      <a:pt x="1260" y="1158"/>
                    </a:lnTo>
                    <a:lnTo>
                      <a:pt x="1270" y="1168"/>
                    </a:lnTo>
                    <a:lnTo>
                      <a:pt x="1279" y="1171"/>
                    </a:lnTo>
                    <a:lnTo>
                      <a:pt x="1288" y="1171"/>
                    </a:lnTo>
                    <a:lnTo>
                      <a:pt x="1300" y="1168"/>
                    </a:lnTo>
                    <a:lnTo>
                      <a:pt x="1313" y="1164"/>
                    </a:lnTo>
                    <a:lnTo>
                      <a:pt x="1322" y="1164"/>
                    </a:lnTo>
                    <a:lnTo>
                      <a:pt x="1331" y="1171"/>
                    </a:lnTo>
                    <a:lnTo>
                      <a:pt x="1340" y="1186"/>
                    </a:lnTo>
                    <a:lnTo>
                      <a:pt x="1334" y="1220"/>
                    </a:lnTo>
                    <a:lnTo>
                      <a:pt x="1334" y="1250"/>
                    </a:lnTo>
                    <a:lnTo>
                      <a:pt x="1334" y="1263"/>
                    </a:lnTo>
                    <a:lnTo>
                      <a:pt x="1334" y="1278"/>
                    </a:lnTo>
                    <a:lnTo>
                      <a:pt x="1340" y="1290"/>
                    </a:lnTo>
                    <a:lnTo>
                      <a:pt x="1347" y="1300"/>
                    </a:lnTo>
                    <a:lnTo>
                      <a:pt x="1359" y="1300"/>
                    </a:lnTo>
                    <a:lnTo>
                      <a:pt x="1371" y="1293"/>
                    </a:lnTo>
                    <a:lnTo>
                      <a:pt x="1390" y="1287"/>
                    </a:lnTo>
                    <a:lnTo>
                      <a:pt x="1399" y="1284"/>
                    </a:lnTo>
                    <a:lnTo>
                      <a:pt x="1408" y="1284"/>
                    </a:lnTo>
                    <a:lnTo>
                      <a:pt x="1417" y="1290"/>
                    </a:lnTo>
                    <a:lnTo>
                      <a:pt x="1427" y="1300"/>
                    </a:lnTo>
                    <a:lnTo>
                      <a:pt x="1439" y="1293"/>
                    </a:lnTo>
                    <a:lnTo>
                      <a:pt x="1451" y="1284"/>
                    </a:lnTo>
                    <a:lnTo>
                      <a:pt x="1473" y="1263"/>
                    </a:lnTo>
                    <a:lnTo>
                      <a:pt x="1482" y="1250"/>
                    </a:lnTo>
                    <a:lnTo>
                      <a:pt x="1494" y="1241"/>
                    </a:lnTo>
                    <a:lnTo>
                      <a:pt x="1510" y="1235"/>
                    </a:lnTo>
                    <a:lnTo>
                      <a:pt x="1528" y="1235"/>
                    </a:lnTo>
                    <a:lnTo>
                      <a:pt x="1522" y="1254"/>
                    </a:lnTo>
                    <a:lnTo>
                      <a:pt x="1513" y="1272"/>
                    </a:lnTo>
                    <a:lnTo>
                      <a:pt x="1519" y="1278"/>
                    </a:lnTo>
                    <a:lnTo>
                      <a:pt x="1522" y="1278"/>
                    </a:lnTo>
                    <a:lnTo>
                      <a:pt x="1531" y="1263"/>
                    </a:lnTo>
                    <a:lnTo>
                      <a:pt x="1543" y="1247"/>
                    </a:lnTo>
                    <a:lnTo>
                      <a:pt x="1549" y="1244"/>
                    </a:lnTo>
                    <a:lnTo>
                      <a:pt x="1559" y="1244"/>
                    </a:lnTo>
                    <a:lnTo>
                      <a:pt x="1562" y="1254"/>
                    </a:lnTo>
                    <a:lnTo>
                      <a:pt x="1568" y="1260"/>
                    </a:lnTo>
                    <a:lnTo>
                      <a:pt x="1577" y="1263"/>
                    </a:lnTo>
                    <a:lnTo>
                      <a:pt x="1586" y="1263"/>
                    </a:lnTo>
                    <a:lnTo>
                      <a:pt x="1599" y="1263"/>
                    </a:lnTo>
                    <a:lnTo>
                      <a:pt x="1608" y="1266"/>
                    </a:lnTo>
                    <a:lnTo>
                      <a:pt x="1614" y="1272"/>
                    </a:lnTo>
                    <a:lnTo>
                      <a:pt x="1614" y="1281"/>
                    </a:lnTo>
                    <a:lnTo>
                      <a:pt x="1620" y="1269"/>
                    </a:lnTo>
                    <a:lnTo>
                      <a:pt x="1629" y="1263"/>
                    </a:lnTo>
                    <a:lnTo>
                      <a:pt x="1642" y="1263"/>
                    </a:lnTo>
                    <a:lnTo>
                      <a:pt x="1654" y="1266"/>
                    </a:lnTo>
                    <a:lnTo>
                      <a:pt x="1663" y="1269"/>
                    </a:lnTo>
                    <a:lnTo>
                      <a:pt x="1676" y="1269"/>
                    </a:lnTo>
                    <a:lnTo>
                      <a:pt x="1682" y="1266"/>
                    </a:lnTo>
                    <a:lnTo>
                      <a:pt x="1685" y="1254"/>
                    </a:lnTo>
                    <a:lnTo>
                      <a:pt x="1694" y="1257"/>
                    </a:lnTo>
                    <a:lnTo>
                      <a:pt x="1694" y="1263"/>
                    </a:lnTo>
                    <a:lnTo>
                      <a:pt x="1694" y="1269"/>
                    </a:lnTo>
                    <a:lnTo>
                      <a:pt x="1694" y="1275"/>
                    </a:lnTo>
                    <a:lnTo>
                      <a:pt x="1688" y="1287"/>
                    </a:lnTo>
                    <a:lnTo>
                      <a:pt x="1685" y="1293"/>
                    </a:lnTo>
                    <a:lnTo>
                      <a:pt x="1685" y="1300"/>
                    </a:lnTo>
                    <a:lnTo>
                      <a:pt x="1706" y="1312"/>
                    </a:lnTo>
                    <a:lnTo>
                      <a:pt x="1725" y="1324"/>
                    </a:lnTo>
                    <a:lnTo>
                      <a:pt x="1759" y="1358"/>
                    </a:lnTo>
                    <a:lnTo>
                      <a:pt x="1780" y="1355"/>
                    </a:lnTo>
                    <a:lnTo>
                      <a:pt x="1799" y="1358"/>
                    </a:lnTo>
                    <a:lnTo>
                      <a:pt x="1814" y="1367"/>
                    </a:lnTo>
                    <a:lnTo>
                      <a:pt x="1826" y="1379"/>
                    </a:lnTo>
                    <a:lnTo>
                      <a:pt x="1845" y="1410"/>
                    </a:lnTo>
                    <a:lnTo>
                      <a:pt x="1854" y="1422"/>
                    </a:lnTo>
                    <a:lnTo>
                      <a:pt x="1866" y="1432"/>
                    </a:lnTo>
                    <a:lnTo>
                      <a:pt x="1863" y="1450"/>
                    </a:lnTo>
                    <a:lnTo>
                      <a:pt x="1857" y="1462"/>
                    </a:lnTo>
                    <a:lnTo>
                      <a:pt x="1845" y="1469"/>
                    </a:lnTo>
                    <a:lnTo>
                      <a:pt x="1829" y="1472"/>
                    </a:lnTo>
                    <a:lnTo>
                      <a:pt x="1832" y="1478"/>
                    </a:lnTo>
                    <a:lnTo>
                      <a:pt x="1838" y="1481"/>
                    </a:lnTo>
                    <a:lnTo>
                      <a:pt x="1845" y="1481"/>
                    </a:lnTo>
                    <a:lnTo>
                      <a:pt x="1851" y="1475"/>
                    </a:lnTo>
                    <a:lnTo>
                      <a:pt x="1863" y="1465"/>
                    </a:lnTo>
                    <a:lnTo>
                      <a:pt x="1869" y="1459"/>
                    </a:lnTo>
                    <a:lnTo>
                      <a:pt x="1875" y="1462"/>
                    </a:lnTo>
                    <a:lnTo>
                      <a:pt x="1285" y="688"/>
                    </a:lnTo>
                    <a:lnTo>
                      <a:pt x="1442" y="630"/>
                    </a:lnTo>
                    <a:lnTo>
                      <a:pt x="1427" y="633"/>
                    </a:lnTo>
                    <a:lnTo>
                      <a:pt x="1411" y="636"/>
                    </a:lnTo>
                    <a:lnTo>
                      <a:pt x="1402" y="642"/>
                    </a:lnTo>
                    <a:lnTo>
                      <a:pt x="1390" y="648"/>
                    </a:lnTo>
                    <a:lnTo>
                      <a:pt x="1374" y="670"/>
                    </a:lnTo>
                    <a:lnTo>
                      <a:pt x="1356" y="688"/>
                    </a:lnTo>
                    <a:lnTo>
                      <a:pt x="1402" y="661"/>
                    </a:lnTo>
                    <a:lnTo>
                      <a:pt x="1420" y="645"/>
                    </a:lnTo>
                    <a:lnTo>
                      <a:pt x="1442" y="630"/>
                    </a:lnTo>
                    <a:lnTo>
                      <a:pt x="1285" y="688"/>
                    </a:lnTo>
                    <a:lnTo>
                      <a:pt x="1291" y="224"/>
                    </a:lnTo>
                    <a:lnTo>
                      <a:pt x="1297" y="224"/>
                    </a:lnTo>
                    <a:lnTo>
                      <a:pt x="1304" y="224"/>
                    </a:lnTo>
                    <a:lnTo>
                      <a:pt x="1313" y="231"/>
                    </a:lnTo>
                    <a:lnTo>
                      <a:pt x="1316" y="234"/>
                    </a:lnTo>
                    <a:lnTo>
                      <a:pt x="1319" y="237"/>
                    </a:lnTo>
                    <a:lnTo>
                      <a:pt x="1322" y="234"/>
                    </a:lnTo>
                    <a:lnTo>
                      <a:pt x="1322" y="224"/>
                    </a:lnTo>
                    <a:lnTo>
                      <a:pt x="1316" y="221"/>
                    </a:lnTo>
                    <a:lnTo>
                      <a:pt x="1307" y="215"/>
                    </a:lnTo>
                    <a:lnTo>
                      <a:pt x="1300" y="215"/>
                    </a:lnTo>
                    <a:lnTo>
                      <a:pt x="1297" y="215"/>
                    </a:lnTo>
                    <a:lnTo>
                      <a:pt x="1294" y="218"/>
                    </a:lnTo>
                    <a:lnTo>
                      <a:pt x="1291" y="224"/>
                    </a:lnTo>
                    <a:lnTo>
                      <a:pt x="1285" y="688"/>
                    </a:lnTo>
                    <a:lnTo>
                      <a:pt x="944" y="83"/>
                    </a:lnTo>
                    <a:lnTo>
                      <a:pt x="925" y="83"/>
                    </a:lnTo>
                    <a:lnTo>
                      <a:pt x="907" y="80"/>
                    </a:lnTo>
                    <a:lnTo>
                      <a:pt x="870" y="71"/>
                    </a:lnTo>
                    <a:lnTo>
                      <a:pt x="855" y="68"/>
                    </a:lnTo>
                    <a:lnTo>
                      <a:pt x="839" y="65"/>
                    </a:lnTo>
                    <a:lnTo>
                      <a:pt x="824" y="68"/>
                    </a:lnTo>
                    <a:lnTo>
                      <a:pt x="812" y="74"/>
                    </a:lnTo>
                    <a:lnTo>
                      <a:pt x="842" y="83"/>
                    </a:lnTo>
                    <a:lnTo>
                      <a:pt x="885" y="92"/>
                    </a:lnTo>
                    <a:lnTo>
                      <a:pt x="904" y="95"/>
                    </a:lnTo>
                    <a:lnTo>
                      <a:pt x="922" y="95"/>
                    </a:lnTo>
                    <a:lnTo>
                      <a:pt x="938" y="92"/>
                    </a:lnTo>
                    <a:lnTo>
                      <a:pt x="941" y="89"/>
                    </a:lnTo>
                    <a:lnTo>
                      <a:pt x="944" y="83"/>
                    </a:lnTo>
                    <a:lnTo>
                      <a:pt x="1285" y="688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314" name="Freeform 330"/>
              <p:cNvSpPr/>
              <p:nvPr/>
            </p:nvSpPr>
            <p:spPr>
              <a:xfrm>
                <a:off x="3074040" y="2608200"/>
                <a:ext cx="18360" cy="237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22" h="28">
                    <a:moveTo>
                      <a:pt x="22" y="9"/>
                    </a:moveTo>
                    <a:lnTo>
                      <a:pt x="22" y="28"/>
                    </a:lnTo>
                    <a:lnTo>
                      <a:pt x="9" y="28"/>
                    </a:lnTo>
                    <a:lnTo>
                      <a:pt x="3" y="24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6" y="3"/>
                    </a:lnTo>
                    <a:lnTo>
                      <a:pt x="9" y="0"/>
                    </a:lnTo>
                    <a:lnTo>
                      <a:pt x="16" y="0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315" name="Freeform 331"/>
              <p:cNvSpPr/>
              <p:nvPr/>
            </p:nvSpPr>
            <p:spPr>
              <a:xfrm>
                <a:off x="3053520" y="270576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6" h="46">
                    <a:moveTo>
                      <a:pt x="0" y="46"/>
                    </a:moveTo>
                    <a:lnTo>
                      <a:pt x="6" y="30"/>
                    </a:lnTo>
                    <a:lnTo>
                      <a:pt x="15" y="15"/>
                    </a:lnTo>
                    <a:lnTo>
                      <a:pt x="30" y="6"/>
                    </a:lnTo>
                    <a:lnTo>
                      <a:pt x="46" y="0"/>
                    </a:lnTo>
                    <a:lnTo>
                      <a:pt x="43" y="21"/>
                    </a:lnTo>
                    <a:lnTo>
                      <a:pt x="36" y="27"/>
                    </a:lnTo>
                    <a:lnTo>
                      <a:pt x="33" y="36"/>
                    </a:lnTo>
                    <a:lnTo>
                      <a:pt x="27" y="40"/>
                    </a:lnTo>
                    <a:lnTo>
                      <a:pt x="18" y="43"/>
                    </a:lnTo>
                    <a:lnTo>
                      <a:pt x="9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  <p:sp>
            <p:nvSpPr>
              <p:cNvPr id="316" name="Freeform 332"/>
              <p:cNvSpPr/>
              <p:nvPr/>
            </p:nvSpPr>
            <p:spPr>
              <a:xfrm>
                <a:off x="2963520" y="2734200"/>
                <a:ext cx="46800" cy="183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55" h="22">
                    <a:moveTo>
                      <a:pt x="0" y="13"/>
                    </a:moveTo>
                    <a:lnTo>
                      <a:pt x="3" y="10"/>
                    </a:lnTo>
                    <a:lnTo>
                      <a:pt x="12" y="3"/>
                    </a:lnTo>
                    <a:lnTo>
                      <a:pt x="22" y="0"/>
                    </a:lnTo>
                    <a:lnTo>
                      <a:pt x="34" y="0"/>
                    </a:lnTo>
                    <a:lnTo>
                      <a:pt x="43" y="3"/>
                    </a:lnTo>
                    <a:lnTo>
                      <a:pt x="52" y="7"/>
                    </a:lnTo>
                    <a:lnTo>
                      <a:pt x="55" y="13"/>
                    </a:lnTo>
                    <a:lnTo>
                      <a:pt x="55" y="22"/>
                    </a:lnTo>
                    <a:lnTo>
                      <a:pt x="25" y="22"/>
                    </a:lnTo>
                    <a:lnTo>
                      <a:pt x="9" y="1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chemeClr val="bg1">
                  <a:lumMod val="85000"/>
                  <a:alpha val="4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ＭＳ Ｐゴシック"/>
                </a:endParaRPr>
              </a:p>
            </p:txBody>
          </p:sp>
        </p:grpSp>
        <p:sp>
          <p:nvSpPr>
            <p:cNvPr id="317" name="Rectangle 51"/>
            <p:cNvSpPr/>
            <p:nvPr/>
          </p:nvSpPr>
          <p:spPr>
            <a:xfrm>
              <a:off x="730080" y="3145320"/>
              <a:ext cx="2162160" cy="63720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318" name="Rectangle 50"/>
            <p:cNvSpPr/>
            <p:nvPr/>
          </p:nvSpPr>
          <p:spPr>
            <a:xfrm>
              <a:off x="730080" y="2565720"/>
              <a:ext cx="2162160" cy="57924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319" name="Rectangle 52"/>
            <p:cNvSpPr/>
            <p:nvPr/>
          </p:nvSpPr>
          <p:spPr>
            <a:xfrm>
              <a:off x="730080" y="3758400"/>
              <a:ext cx="2162160" cy="57924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320" name="TextBox 6"/>
            <p:cNvSpPr/>
            <p:nvPr/>
          </p:nvSpPr>
          <p:spPr>
            <a:xfrm>
              <a:off x="1069200" y="242100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"/>
            <p:cNvSpPr/>
            <p:nvPr/>
          </p:nvSpPr>
          <p:spPr>
            <a:xfrm rot="5400000">
              <a:off x="942120" y="271260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76092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322" name="TextBox 8"/>
            <p:cNvSpPr/>
            <p:nvPr/>
          </p:nvSpPr>
          <p:spPr>
            <a:xfrm>
              <a:off x="873720" y="2105640"/>
              <a:ext cx="17676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REPLACE TEXT HERE: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9"/>
            <p:cNvSpPr/>
            <p:nvPr/>
          </p:nvSpPr>
          <p:spPr>
            <a:xfrm>
              <a:off x="1069200" y="265428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"/>
            <p:cNvSpPr/>
            <p:nvPr/>
          </p:nvSpPr>
          <p:spPr>
            <a:xfrm rot="5400000">
              <a:off x="942120" y="293292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76092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325" name="Freeform 12"/>
            <p:cNvSpPr/>
            <p:nvPr/>
          </p:nvSpPr>
          <p:spPr>
            <a:xfrm rot="5400000">
              <a:off x="946080" y="393156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76092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326" name="TextBox 12"/>
            <p:cNvSpPr/>
            <p:nvPr/>
          </p:nvSpPr>
          <p:spPr>
            <a:xfrm>
              <a:off x="1073520" y="387324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"/>
            <p:cNvSpPr/>
            <p:nvPr/>
          </p:nvSpPr>
          <p:spPr>
            <a:xfrm rot="5400000">
              <a:off x="946080" y="415224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76092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328" name="TextBox 14"/>
            <p:cNvSpPr/>
            <p:nvPr/>
          </p:nvSpPr>
          <p:spPr>
            <a:xfrm>
              <a:off x="1069200" y="364536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15"/>
            <p:cNvSpPr/>
            <p:nvPr/>
          </p:nvSpPr>
          <p:spPr>
            <a:xfrm>
              <a:off x="1069200" y="303948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 rot="5400000">
              <a:off x="942120" y="333108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76092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331" name="TextBox 17"/>
            <p:cNvSpPr/>
            <p:nvPr/>
          </p:nvSpPr>
          <p:spPr>
            <a:xfrm>
              <a:off x="1069200" y="3272760"/>
              <a:ext cx="1672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5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replace tex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 rot="5400000">
              <a:off x="942120" y="355176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chemeClr val="accent1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76092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333" name="TextBox 22"/>
            <p:cNvSpPr/>
            <p:nvPr/>
          </p:nvSpPr>
          <p:spPr>
            <a:xfrm>
              <a:off x="3134160" y="2574000"/>
              <a:ext cx="251280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1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s simply dummy text of the printing and typesetting industry. Lorem Ipsum has been the industry's standard dummy text ever since the 1500s, when an unknown printer took a galley of type and scrambled it to mak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only five centuries, but also the leap into electronic typesetting.Remaining essentially unchanged. It w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24"/>
            <p:cNvSpPr/>
            <p:nvPr/>
          </p:nvSpPr>
          <p:spPr>
            <a:xfrm>
              <a:off x="3700800" y="4846320"/>
              <a:ext cx="16974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000000"/>
                  </a:solidFill>
                  <a:latin typeface="BlackJackRegular"/>
                  <a:ea typeface="ＭＳ Ｐゴシック"/>
                </a:rPr>
                <a:t>John Do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Straight Connector 25"/>
            <p:cNvCxnSpPr/>
            <p:nvPr/>
          </p:nvCxnSpPr>
          <p:spPr>
            <a:xfrm flipH="1">
              <a:off x="5324760" y="5159520"/>
              <a:ext cx="1879920" cy="360"/>
            </a:xfrm>
            <a:prstGeom prst="straightConnector1">
              <a:avLst/>
            </a:prstGeom>
            <a:ln w="6350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336" name="Straight Connector 27"/>
            <p:cNvCxnSpPr/>
            <p:nvPr/>
          </p:nvCxnSpPr>
          <p:spPr>
            <a:xfrm flipH="1">
              <a:off x="1886400" y="5159520"/>
              <a:ext cx="1879920" cy="360"/>
            </a:xfrm>
            <a:prstGeom prst="straightConnector1">
              <a:avLst/>
            </a:prstGeom>
            <a:ln w="6350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37" name="TextBox 30"/>
            <p:cNvSpPr/>
            <p:nvPr/>
          </p:nvSpPr>
          <p:spPr>
            <a:xfrm>
              <a:off x="5692680" y="2574360"/>
              <a:ext cx="257868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only five centuries, but also the leap into electronic typesetting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maining essentially unchanged. It was popularised in the 1960s with the release of Letraset sheets containing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only five centuries, but also the leap into electronic typesetting.Remaining essentially unchange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Straight Connector 42"/>
            <p:cNvCxnSpPr/>
            <p:nvPr/>
          </p:nvCxnSpPr>
          <p:spPr>
            <a:xfrm flipV="1">
              <a:off x="2892600" y="2105280"/>
              <a:ext cx="360" cy="2485800"/>
            </a:xfrm>
            <a:prstGeom prst="straightConnector1">
              <a:avLst/>
            </a:prstGeom>
            <a:ln w="6350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39" name="Freeform 12"/>
            <p:cNvSpPr/>
            <p:nvPr/>
          </p:nvSpPr>
          <p:spPr>
            <a:xfrm rot="5400000">
              <a:off x="2871720" y="224856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6350"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76092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340" name="TextBox 44"/>
            <p:cNvSpPr/>
            <p:nvPr/>
          </p:nvSpPr>
          <p:spPr>
            <a:xfrm>
              <a:off x="3134160" y="2105640"/>
              <a:ext cx="176760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REPLACE TEXT HERE: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2"/>
            <p:cNvSpPr/>
            <p:nvPr/>
          </p:nvSpPr>
          <p:spPr>
            <a:xfrm rot="5400000">
              <a:off x="703800" y="2248560"/>
              <a:ext cx="94680" cy="518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  <a:lnTo>
                    <a:pt x="252" y="126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6350"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376092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342" name="Round Same Side Corner Rectangle 55"/>
            <p:cNvSpPr/>
            <p:nvPr/>
          </p:nvSpPr>
          <p:spPr>
            <a:xfrm>
              <a:off x="720360" y="1534680"/>
              <a:ext cx="7695720" cy="381240"/>
            </a:xfrm>
            <a:prstGeom prst="round2SameRect">
              <a:avLst>
                <a:gd name="adj1" fmla="val 27778"/>
                <a:gd name="adj2" fmla="val 0"/>
              </a:avLst>
            </a:prstGeom>
            <a:gradFill rotWithShape="0">
              <a:gsLst>
                <a:gs pos="0">
                  <a:srgbClr val="17375e"/>
                </a:gs>
                <a:gs pos="100000">
                  <a:srgbClr val="376092"/>
                </a:gs>
              </a:gsLst>
              <a:lin ang="162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343" name="TextBox 59"/>
            <p:cNvSpPr/>
            <p:nvPr/>
          </p:nvSpPr>
          <p:spPr>
            <a:xfrm>
              <a:off x="3994560" y="1549800"/>
              <a:ext cx="1767600" cy="729000"/>
            </a:xfrm>
            <a:prstGeom prst="rect">
              <a:avLst/>
            </a:prstGeom>
            <a:noFill/>
            <a:ln w="0">
              <a:noFill/>
            </a:ln>
            <a:effectLst>
              <a:outerShdw algn="tl" blurRad="50760" dir="2700000" dist="37674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REPLACE TEXT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4" name="Straight Connector 60"/>
            <p:cNvCxnSpPr/>
            <p:nvPr/>
          </p:nvCxnSpPr>
          <p:spPr>
            <a:xfrm flipH="1">
              <a:off x="2096280" y="1725480"/>
              <a:ext cx="1879920" cy="360"/>
            </a:xfrm>
            <a:prstGeom prst="straightConnector1">
              <a:avLst/>
            </a:prstGeom>
            <a:ln w="6350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345" name="Straight Connector 61"/>
            <p:cNvCxnSpPr/>
            <p:nvPr/>
          </p:nvCxnSpPr>
          <p:spPr>
            <a:xfrm flipH="1">
              <a:off x="5254200" y="1725480"/>
              <a:ext cx="1879920" cy="360"/>
            </a:xfrm>
            <a:prstGeom prst="straightConnector1">
              <a:avLst/>
            </a:prstGeom>
            <a:ln w="6350">
              <a:solidFill>
                <a:srgbClr val="ffffff">
                  <a:lumMod val="85000"/>
                </a:srgbClr>
              </a:solidFill>
              <a:round/>
            </a:ln>
          </p:spPr>
        </p:cxnSp>
      </p:grpSp>
      <p:grpSp>
        <p:nvGrpSpPr>
          <p:cNvPr id="346" name="Group 2"/>
          <p:cNvGrpSpPr/>
          <p:nvPr/>
        </p:nvGrpSpPr>
        <p:grpSpPr>
          <a:xfrm>
            <a:off x="6825240" y="3639600"/>
            <a:ext cx="1546200" cy="881640"/>
            <a:chOff x="6825240" y="3639600"/>
            <a:chExt cx="1546200" cy="881640"/>
          </a:xfrm>
        </p:grpSpPr>
        <p:sp>
          <p:nvSpPr>
            <p:cNvPr id="347" name="Rounded Rectangular Callout 187"/>
            <p:cNvSpPr/>
            <p:nvPr/>
          </p:nvSpPr>
          <p:spPr>
            <a:xfrm>
              <a:off x="6825240" y="3639600"/>
              <a:ext cx="1546200" cy="881640"/>
            </a:xfrm>
            <a:prstGeom prst="wedgeRoundRectCallout">
              <a:avLst>
                <a:gd name="adj1" fmla="val 31721"/>
                <a:gd name="adj2" fmla="val 66340"/>
                <a:gd name="adj3" fmla="val 16667"/>
              </a:avLst>
            </a:prstGeom>
            <a:gradFill rotWithShape="0">
              <a:gsLst>
                <a:gs pos="0">
                  <a:srgbClr val="ca0f1c"/>
                </a:gs>
                <a:gs pos="100000">
                  <a:srgbClr val="ff0000"/>
                </a:gs>
              </a:gsLst>
              <a:lin ang="162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5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348" name="TextBox 188"/>
            <p:cNvSpPr/>
            <p:nvPr/>
          </p:nvSpPr>
          <p:spPr>
            <a:xfrm>
              <a:off x="6850440" y="3721320"/>
              <a:ext cx="148572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f2f2f2"/>
                  </a:solidFill>
                  <a:latin typeface="Calibri"/>
                  <a:ea typeface="ＭＳ Ｐゴシック"/>
                </a:rPr>
                <a:t>Put the text in 2 or 3 Cullum's for a better overview. Bullets to the left 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3"/>
          <p:cNvGrpSpPr/>
          <p:nvPr/>
        </p:nvGrpSpPr>
        <p:grpSpPr>
          <a:xfrm>
            <a:off x="8043120" y="3766320"/>
            <a:ext cx="823320" cy="2049840"/>
            <a:chOff x="8043120" y="3766320"/>
            <a:chExt cx="823320" cy="2049840"/>
          </a:xfrm>
        </p:grpSpPr>
        <p:grpSp>
          <p:nvGrpSpPr>
            <p:cNvPr id="350" name="Group 10"/>
            <p:cNvGrpSpPr/>
            <p:nvPr/>
          </p:nvGrpSpPr>
          <p:grpSpPr>
            <a:xfrm>
              <a:off x="8043120" y="4600080"/>
              <a:ext cx="662040" cy="1216080"/>
              <a:chOff x="8043120" y="4600080"/>
              <a:chExt cx="662040" cy="1216080"/>
            </a:xfrm>
          </p:grpSpPr>
          <p:sp>
            <p:nvSpPr>
              <p:cNvPr id="351" name="Ellipse 68"/>
              <p:cNvSpPr/>
              <p:nvPr/>
            </p:nvSpPr>
            <p:spPr>
              <a:xfrm rot="714000">
                <a:off x="8123760" y="5609160"/>
                <a:ext cx="501480" cy="15660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4901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  <a:ea typeface="ＭＳ Ｐゴシック"/>
                </a:endParaRPr>
              </a:p>
            </p:txBody>
          </p:sp>
          <p:pic>
            <p:nvPicPr>
              <p:cNvPr id="352" name="Picture 51" descr="5.png"/>
              <p:cNvPicPr/>
              <p:nvPr/>
            </p:nvPicPr>
            <p:blipFill>
              <a:blip r:embed="rId1"/>
              <a:stretch/>
            </p:blipFill>
            <p:spPr>
              <a:xfrm>
                <a:off x="8043120" y="4600080"/>
                <a:ext cx="662040" cy="1216080"/>
              </a:xfrm>
              <a:prstGeom prst="rect">
                <a:avLst/>
              </a:prstGeom>
              <a:ln w="0">
                <a:noFill/>
              </a:ln>
              <a:effectLst>
                <a:outerShdw blurRad="50760" dir="2700000" dist="37674" rotWithShape="0">
                  <a:srgbClr val="000000">
                    <a:alpha val="43000"/>
                  </a:srgbClr>
                </a:outerShdw>
              </a:effectLst>
            </p:spPr>
          </p:pic>
        </p:grpSp>
        <p:pic>
          <p:nvPicPr>
            <p:cNvPr id="353" name="Picture 11" descr="red.png"/>
            <p:cNvPicPr/>
            <p:nvPr/>
          </p:nvPicPr>
          <p:blipFill>
            <a:blip r:embed="rId2"/>
            <a:stretch/>
          </p:blipFill>
          <p:spPr>
            <a:xfrm>
              <a:off x="8079120" y="3766320"/>
              <a:ext cx="787320" cy="1279080"/>
            </a:xfrm>
            <a:prstGeom prst="rect">
              <a:avLst/>
            </a:prstGeom>
            <a:ln w="0">
              <a:noFill/>
            </a:ln>
            <a:effectLst>
              <a:outerShdw blurRad="50760" dir="2700000" dist="37674" rotWithShape="0">
                <a:srgbClr val="000000">
                  <a:alpha val="43000"/>
                </a:srgbClr>
              </a:outerShdw>
            </a:effectLst>
          </p:spPr>
        </p:pic>
      </p:grpSp>
      <p:sp>
        <p:nvSpPr>
          <p:cNvPr id="354" name="Text Box 6"/>
          <p:cNvSpPr/>
          <p:nvPr/>
        </p:nvSpPr>
        <p:spPr>
          <a:xfrm>
            <a:off x="1236960" y="64198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3"/>
          <p:cNvSpPr/>
          <p:nvPr/>
        </p:nvSpPr>
        <p:spPr>
          <a:xfrm>
            <a:off x="2997360" y="559800"/>
            <a:ext cx="31662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XT SLIDE WITH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lace this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Straight Connector 4"/>
          <p:cNvCxnSpPr/>
          <p:nvPr/>
        </p:nvCxnSpPr>
        <p:spPr>
          <a:xfrm>
            <a:off x="2963160" y="1073160"/>
            <a:ext cx="3302280" cy="360"/>
          </a:xfrm>
          <a:prstGeom prst="straightConnector1">
            <a:avLst/>
          </a:prstGeom>
          <a:ln w="127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sp>
        <p:nvSpPr>
          <p:cNvPr id="357" name="Rektangel 13"/>
          <p:cNvSpPr/>
          <p:nvPr/>
        </p:nvSpPr>
        <p:spPr>
          <a:xfrm rot="16200000">
            <a:off x="657720" y="6090840"/>
            <a:ext cx="279000" cy="8784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8" name="Rektangel 13"/>
          <p:cNvSpPr/>
          <p:nvPr/>
        </p:nvSpPr>
        <p:spPr>
          <a:xfrm rot="16200000">
            <a:off x="37800" y="6349680"/>
            <a:ext cx="279000" cy="36072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TextBox 17"/>
          <p:cNvSpPr/>
          <p:nvPr/>
        </p:nvSpPr>
        <p:spPr>
          <a:xfrm>
            <a:off x="7560" y="6392880"/>
            <a:ext cx="374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0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8"/>
          <p:cNvSpPr/>
          <p:nvPr/>
        </p:nvSpPr>
        <p:spPr>
          <a:xfrm>
            <a:off x="397080" y="6390360"/>
            <a:ext cx="81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uppieren 2"/>
          <p:cNvGrpSpPr/>
          <p:nvPr/>
        </p:nvGrpSpPr>
        <p:grpSpPr>
          <a:xfrm>
            <a:off x="1599480" y="1534680"/>
            <a:ext cx="6169680" cy="4267440"/>
            <a:chOff x="1599480" y="1534680"/>
            <a:chExt cx="6169680" cy="4267440"/>
          </a:xfrm>
        </p:grpSpPr>
        <p:sp>
          <p:nvSpPr>
            <p:cNvPr id="362" name="Rectangle 5"/>
            <p:cNvSpPr/>
            <p:nvPr/>
          </p:nvSpPr>
          <p:spPr>
            <a:xfrm>
              <a:off x="1599480" y="1939320"/>
              <a:ext cx="5936400" cy="386280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363" name="Rectangle 45"/>
            <p:cNvSpPr/>
            <p:nvPr/>
          </p:nvSpPr>
          <p:spPr>
            <a:xfrm>
              <a:off x="1599480" y="1939320"/>
              <a:ext cx="5936400" cy="3862800"/>
            </a:xfrm>
            <a:prstGeom prst="rect">
              <a:avLst/>
            </a:prstGeom>
            <a:solidFill>
              <a:schemeClr val="bg1">
                <a:lumMod val="85000"/>
                <a:alpha val="58000"/>
              </a:scheme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364" name="Round Same Side Corner Rectangle 26"/>
            <p:cNvSpPr/>
            <p:nvPr/>
          </p:nvSpPr>
          <p:spPr>
            <a:xfrm>
              <a:off x="1599480" y="1534680"/>
              <a:ext cx="5936400" cy="416520"/>
            </a:xfrm>
            <a:prstGeom prst="round2SameRect">
              <a:avLst>
                <a:gd name="adj1" fmla="val 27778"/>
                <a:gd name="adj2" fmla="val 0"/>
              </a:avLst>
            </a:prstGeom>
            <a:gradFill rotWithShape="0">
              <a:gsLst>
                <a:gs pos="0">
                  <a:srgbClr val="17375e"/>
                </a:gs>
                <a:gs pos="100000">
                  <a:srgbClr val="376092"/>
                </a:gs>
              </a:gsLst>
              <a:lin ang="162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cxnSp>
          <p:nvCxnSpPr>
            <p:cNvPr id="365" name="Straight Connector 12"/>
            <p:cNvCxnSpPr/>
            <p:nvPr/>
          </p:nvCxnSpPr>
          <p:spPr>
            <a:xfrm flipH="1">
              <a:off x="3194280" y="4218840"/>
              <a:ext cx="4147920" cy="360"/>
            </a:xfrm>
            <a:prstGeom prst="straightConnector1">
              <a:avLst/>
            </a:prstGeom>
            <a:ln w="6350">
              <a:solidFill>
                <a:srgbClr val="ffffff">
                  <a:lumMod val="75000"/>
                </a:srgbClr>
              </a:solidFill>
              <a:round/>
            </a:ln>
          </p:spPr>
        </p:cxnSp>
        <p:grpSp>
          <p:nvGrpSpPr>
            <p:cNvPr id="366" name="Group 54"/>
            <p:cNvGrpSpPr/>
            <p:nvPr/>
          </p:nvGrpSpPr>
          <p:grpSpPr>
            <a:xfrm>
              <a:off x="1770480" y="1738800"/>
              <a:ext cx="5998680" cy="3897360"/>
              <a:chOff x="1770480" y="1738800"/>
              <a:chExt cx="5998680" cy="3897360"/>
            </a:xfrm>
          </p:grpSpPr>
          <p:pic>
            <p:nvPicPr>
              <p:cNvPr id="367" name="Billede 44" descr="dreamstime_4375761.jpg"/>
              <p:cNvPicPr/>
              <p:nvPr/>
            </p:nvPicPr>
            <p:blipFill>
              <a:blip r:embed="rId1"/>
              <a:srcRect l="0" t="-25575" r="0" b="25575"/>
              <a:stretch/>
            </p:blipFill>
            <p:spPr>
              <a:xfrm>
                <a:off x="3450960" y="4081680"/>
                <a:ext cx="1668960" cy="155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Billede 8" descr="dreamstime_846204.jpg"/>
              <p:cNvPicPr/>
              <p:nvPr/>
            </p:nvPicPr>
            <p:blipFill>
              <a:blip r:embed="rId2"/>
              <a:srcRect l="0" t="-25570" r="0" b="25570"/>
              <a:stretch/>
            </p:blipFill>
            <p:spPr>
              <a:xfrm>
                <a:off x="5137200" y="4081680"/>
                <a:ext cx="2153880" cy="155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Billede 44" descr="dreamstime_4375761.jpg"/>
              <p:cNvPicPr/>
              <p:nvPr/>
            </p:nvPicPr>
            <p:blipFill>
              <a:blip r:embed="rId3"/>
              <a:srcRect l="0" t="-25575" r="0" b="25575"/>
              <a:stretch/>
            </p:blipFill>
            <p:spPr>
              <a:xfrm>
                <a:off x="5622480" y="2910960"/>
                <a:ext cx="1668960" cy="155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Billede 8" descr="dreamstime_846204.jpg"/>
              <p:cNvPicPr/>
              <p:nvPr/>
            </p:nvPicPr>
            <p:blipFill>
              <a:blip r:embed="rId4"/>
              <a:srcRect l="0" t="-25570" r="0" b="25570"/>
              <a:stretch/>
            </p:blipFill>
            <p:spPr>
              <a:xfrm>
                <a:off x="3450960" y="2910960"/>
                <a:ext cx="2153880" cy="155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Billede 44" descr="dreamstime_4375761.jpg"/>
              <p:cNvPicPr/>
              <p:nvPr/>
            </p:nvPicPr>
            <p:blipFill>
              <a:blip r:embed="rId5"/>
              <a:srcRect l="0" t="-25575" r="0" b="25575"/>
              <a:stretch/>
            </p:blipFill>
            <p:spPr>
              <a:xfrm>
                <a:off x="1770480" y="2910960"/>
                <a:ext cx="1668960" cy="155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Billede 8" descr="dreamstime_846204.jpg"/>
              <p:cNvPicPr/>
              <p:nvPr/>
            </p:nvPicPr>
            <p:blipFill>
              <a:blip r:embed="rId6"/>
              <a:srcRect l="22130" t="-25570" r="-22130" b="25570"/>
              <a:stretch/>
            </p:blipFill>
            <p:spPr>
              <a:xfrm>
                <a:off x="1770480" y="4081680"/>
                <a:ext cx="2146680" cy="155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Billede 44" descr="dreamstime_4375761.jpg"/>
              <p:cNvPicPr/>
              <p:nvPr/>
            </p:nvPicPr>
            <p:blipFill>
              <a:blip r:embed="rId7"/>
              <a:srcRect l="0" t="-25575" r="0" b="25575"/>
              <a:stretch/>
            </p:blipFill>
            <p:spPr>
              <a:xfrm>
                <a:off x="3936240" y="1738800"/>
                <a:ext cx="1668960" cy="155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Billede 8" descr="dreamstime_846204.jpg"/>
              <p:cNvPicPr/>
              <p:nvPr/>
            </p:nvPicPr>
            <p:blipFill>
              <a:blip r:embed="rId8"/>
              <a:srcRect l="0" t="-25570" r="0" b="25570"/>
              <a:stretch/>
            </p:blipFill>
            <p:spPr>
              <a:xfrm>
                <a:off x="1771560" y="1742760"/>
                <a:ext cx="2153880" cy="155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5" name="Billede 8" descr="dreamstime_846204.jpg"/>
              <p:cNvPicPr/>
              <p:nvPr/>
            </p:nvPicPr>
            <p:blipFill>
              <a:blip r:embed="rId9"/>
              <a:srcRect l="22130" t="-25570" r="-22130" b="25570"/>
              <a:stretch/>
            </p:blipFill>
            <p:spPr>
              <a:xfrm>
                <a:off x="5622480" y="1738800"/>
                <a:ext cx="2146680" cy="1554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6" name="Rectangle 55"/>
            <p:cNvSpPr/>
            <p:nvPr/>
          </p:nvSpPr>
          <p:spPr>
            <a:xfrm>
              <a:off x="2393640" y="3035160"/>
              <a:ext cx="2105640" cy="184464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377" name="TextBox 9"/>
            <p:cNvSpPr/>
            <p:nvPr/>
          </p:nvSpPr>
          <p:spPr>
            <a:xfrm>
              <a:off x="2525040" y="3517200"/>
              <a:ext cx="187704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Lorem Ipsum</a:t>
              </a:r>
              <a:r>
                <a:rPr b="0" lang="en-US" sz="10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s simply dummy text of the printing and typesetting industry. Lorem Ipsum has been the industry's standard dummy text ever since the 1500s, when an unknow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56"/>
            <p:cNvSpPr/>
            <p:nvPr/>
          </p:nvSpPr>
          <p:spPr>
            <a:xfrm>
              <a:off x="2550240" y="3082320"/>
              <a:ext cx="193068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LACE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EXT HERE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Straight Connector 67"/>
            <p:cNvCxnSpPr/>
            <p:nvPr/>
          </p:nvCxnSpPr>
          <p:spPr>
            <a:xfrm flipH="1">
              <a:off x="2581200" y="3458520"/>
              <a:ext cx="814680" cy="360"/>
            </a:xfrm>
            <a:prstGeom prst="straightConnector1">
              <a:avLst/>
            </a:prstGeom>
            <a:ln w="6350">
              <a:solidFill>
                <a:srgbClr val="ffffff">
                  <a:lumMod val="75000"/>
                </a:srgbClr>
              </a:solidFill>
              <a:round/>
            </a:ln>
          </p:spPr>
        </p:cxnSp>
        <p:sp>
          <p:nvSpPr>
            <p:cNvPr id="380" name="Oval 69"/>
            <p:cNvSpPr/>
            <p:nvPr/>
          </p:nvSpPr>
          <p:spPr>
            <a:xfrm>
              <a:off x="3455280" y="3434760"/>
              <a:ext cx="49680" cy="49680"/>
            </a:xfrm>
            <a:prstGeom prst="ellipse">
              <a:avLst/>
            </a:prstGeom>
            <a:solidFill>
              <a:schemeClr val="bg1">
                <a:lumMod val="75000"/>
                <a:alpha val="90000"/>
              </a:schemeClr>
            </a:solidFill>
            <a:ln w="6350">
              <a:noFill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endParaRPr>
            </a:p>
          </p:txBody>
        </p:sp>
        <p:cxnSp>
          <p:nvCxnSpPr>
            <p:cNvPr id="381" name="Straight Connector 70"/>
            <p:cNvCxnSpPr/>
            <p:nvPr/>
          </p:nvCxnSpPr>
          <p:spPr>
            <a:xfrm flipH="1">
              <a:off x="3555000" y="3457080"/>
              <a:ext cx="813960" cy="360"/>
            </a:xfrm>
            <a:prstGeom prst="straightConnector1">
              <a:avLst/>
            </a:prstGeom>
            <a:ln w="6350">
              <a:solidFill>
                <a:srgbClr val="ffffff">
                  <a:lumMod val="75000"/>
                </a:srgbClr>
              </a:solidFill>
              <a:round/>
            </a:ln>
          </p:spPr>
        </p:cxnSp>
      </p:grpSp>
      <p:grpSp>
        <p:nvGrpSpPr>
          <p:cNvPr id="382" name="Group 1"/>
          <p:cNvGrpSpPr/>
          <p:nvPr/>
        </p:nvGrpSpPr>
        <p:grpSpPr>
          <a:xfrm>
            <a:off x="6426000" y="3872880"/>
            <a:ext cx="1546200" cy="881640"/>
            <a:chOff x="6426000" y="3872880"/>
            <a:chExt cx="1546200" cy="881640"/>
          </a:xfrm>
        </p:grpSpPr>
        <p:sp>
          <p:nvSpPr>
            <p:cNvPr id="383" name="Rounded Rectangular Callout 129"/>
            <p:cNvSpPr/>
            <p:nvPr/>
          </p:nvSpPr>
          <p:spPr>
            <a:xfrm>
              <a:off x="6426000" y="3872880"/>
              <a:ext cx="1546200" cy="881640"/>
            </a:xfrm>
            <a:prstGeom prst="wedgeRoundRectCallout">
              <a:avLst>
                <a:gd name="adj1" fmla="val 31721"/>
                <a:gd name="adj2" fmla="val 66340"/>
                <a:gd name="adj3" fmla="val 16667"/>
              </a:avLst>
            </a:prstGeom>
            <a:gradFill rotWithShape="0">
              <a:gsLst>
                <a:gs pos="0">
                  <a:srgbClr val="26628d"/>
                </a:gs>
                <a:gs pos="100000">
                  <a:srgbClr val="3ba0e5"/>
                </a:gs>
              </a:gsLst>
              <a:lin ang="162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5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384" name="TextBox 130"/>
            <p:cNvSpPr/>
            <p:nvPr/>
          </p:nvSpPr>
          <p:spPr>
            <a:xfrm>
              <a:off x="6450840" y="4005360"/>
              <a:ext cx="1485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f2f2f2"/>
                  </a:solidFill>
                  <a:latin typeface="Calibri"/>
                  <a:ea typeface="ＭＳ Ｐゴシック"/>
                </a:rPr>
                <a:t>Text with pictures is always good to describe an event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TextBox 131"/>
          <p:cNvSpPr/>
          <p:nvPr/>
        </p:nvSpPr>
        <p:spPr>
          <a:xfrm>
            <a:off x="3994560" y="1549800"/>
            <a:ext cx="1767600" cy="7290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PLACE TEXT</a:t>
            </a:r>
            <a:r>
              <a:rPr b="1" lang="en-US" sz="14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	</a:t>
            </a:r>
            <a:r>
              <a:rPr b="1" lang="en-US" sz="14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Connector 132"/>
          <p:cNvCxnSpPr/>
          <p:nvPr/>
        </p:nvCxnSpPr>
        <p:spPr>
          <a:xfrm flipH="1">
            <a:off x="2096280" y="1725480"/>
            <a:ext cx="1879920" cy="360"/>
          </a:xfrm>
          <a:prstGeom prst="straightConnector1">
            <a:avLst/>
          </a:prstGeom>
          <a:ln w="6350"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387" name="Straight Connector 133"/>
          <p:cNvCxnSpPr/>
          <p:nvPr/>
        </p:nvCxnSpPr>
        <p:spPr>
          <a:xfrm flipH="1">
            <a:off x="5254200" y="1725480"/>
            <a:ext cx="1879920" cy="360"/>
          </a:xfrm>
          <a:prstGeom prst="straightConnector1">
            <a:avLst/>
          </a:prstGeom>
          <a:ln w="6350">
            <a:solidFill>
              <a:srgbClr val="ffffff">
                <a:lumMod val="85000"/>
              </a:srgbClr>
            </a:solidFill>
            <a:round/>
          </a:ln>
        </p:spPr>
      </p:cxnSp>
      <p:grpSp>
        <p:nvGrpSpPr>
          <p:cNvPr id="388" name="Group 568"/>
          <p:cNvGrpSpPr/>
          <p:nvPr/>
        </p:nvGrpSpPr>
        <p:grpSpPr>
          <a:xfrm>
            <a:off x="7124760" y="4592160"/>
            <a:ext cx="1288800" cy="1515600"/>
            <a:chOff x="7124760" y="4592160"/>
            <a:chExt cx="1288800" cy="1515600"/>
          </a:xfrm>
        </p:grpSpPr>
        <p:sp>
          <p:nvSpPr>
            <p:cNvPr id="389" name="Oval 71"/>
            <p:cNvSpPr/>
            <p:nvPr/>
          </p:nvSpPr>
          <p:spPr>
            <a:xfrm>
              <a:off x="7429320" y="5853600"/>
              <a:ext cx="716040" cy="232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a4c1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pic>
          <p:nvPicPr>
            <p:cNvPr id="390" name="Picture 4" descr="H:\SLIDESHOP\3D man\rev1\3\2.png"/>
            <p:cNvPicPr/>
            <p:nvPr/>
          </p:nvPicPr>
          <p:blipFill>
            <a:blip r:embed="rId10"/>
            <a:stretch/>
          </p:blipFill>
          <p:spPr>
            <a:xfrm>
              <a:off x="7333920" y="4879080"/>
              <a:ext cx="855360" cy="1228680"/>
            </a:xfrm>
            <a:prstGeom prst="rect">
              <a:avLst/>
            </a:prstGeom>
            <a:ln w="0">
              <a:noFill/>
            </a:ln>
            <a:effectLst>
              <a:outerShdw blurRad="50760" dir="2700000" dist="37674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391" name="Picture 5" descr="H:\SLIDESHOP\3D man\rev1\3\red.png"/>
            <p:cNvPicPr/>
            <p:nvPr/>
          </p:nvPicPr>
          <p:blipFill>
            <a:blip r:embed="rId11"/>
            <a:stretch/>
          </p:blipFill>
          <p:spPr>
            <a:xfrm>
              <a:off x="7124760" y="4592160"/>
              <a:ext cx="1288800" cy="1091160"/>
            </a:xfrm>
            <a:prstGeom prst="rect">
              <a:avLst/>
            </a:prstGeom>
            <a:ln w="0">
              <a:noFill/>
            </a:ln>
            <a:effectLst>
              <a:outerShdw blurRad="50760" dir="2700000" dist="37674" rotWithShape="0">
                <a:srgbClr val="000000">
                  <a:alpha val="43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324000" y="1917720"/>
            <a:ext cx="8496000" cy="3524040"/>
          </a:xfrm>
          <a:prstGeom prst="rect">
            <a:avLst/>
          </a:prstGeom>
          <a:solidFill>
            <a:schemeClr val="bg1"/>
          </a:solidFill>
          <a:ln w="6350">
            <a:solidFill>
              <a:srgbClr val="ffffff">
                <a:lumMod val="8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sp>
        <p:nvSpPr>
          <p:cNvPr id="393" name="TextBox 5"/>
          <p:cNvSpPr/>
          <p:nvPr/>
        </p:nvSpPr>
        <p:spPr>
          <a:xfrm>
            <a:off x="2997360" y="559800"/>
            <a:ext cx="31662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LY ONE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lace this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Straight Connector 9"/>
          <p:cNvCxnSpPr/>
          <p:nvPr/>
        </p:nvCxnSpPr>
        <p:spPr>
          <a:xfrm>
            <a:off x="2963160" y="1073160"/>
            <a:ext cx="3302280" cy="360"/>
          </a:xfrm>
          <a:prstGeom prst="straightConnector1">
            <a:avLst/>
          </a:prstGeom>
          <a:ln w="127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sp>
        <p:nvSpPr>
          <p:cNvPr id="395" name="Rektangel 13"/>
          <p:cNvSpPr/>
          <p:nvPr/>
        </p:nvSpPr>
        <p:spPr>
          <a:xfrm rot="16200000">
            <a:off x="657720" y="6090840"/>
            <a:ext cx="279000" cy="8784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6" name="Rektangel 13"/>
          <p:cNvSpPr/>
          <p:nvPr/>
        </p:nvSpPr>
        <p:spPr>
          <a:xfrm rot="16200000">
            <a:off x="37800" y="6349680"/>
            <a:ext cx="279000" cy="36072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7" name="TextBox 12"/>
          <p:cNvSpPr/>
          <p:nvPr/>
        </p:nvSpPr>
        <p:spPr>
          <a:xfrm>
            <a:off x="7560" y="6392880"/>
            <a:ext cx="374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3"/>
          <p:cNvSpPr/>
          <p:nvPr/>
        </p:nvSpPr>
        <p:spPr>
          <a:xfrm>
            <a:off x="397080" y="6390360"/>
            <a:ext cx="81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Billede 8" descr="dreamstime_846204.jpg"/>
          <p:cNvPicPr/>
          <p:nvPr/>
        </p:nvPicPr>
        <p:blipFill>
          <a:blip r:embed="rId1"/>
          <a:srcRect l="1776" t="44556" r="-1776" b="-51853"/>
          <a:stretch/>
        </p:blipFill>
        <p:spPr>
          <a:xfrm>
            <a:off x="307080" y="1918800"/>
            <a:ext cx="8667360" cy="6778440"/>
          </a:xfrm>
          <a:prstGeom prst="rect">
            <a:avLst/>
          </a:prstGeom>
          <a:ln w="0">
            <a:noFill/>
          </a:ln>
        </p:spPr>
      </p:pic>
      <p:sp>
        <p:nvSpPr>
          <p:cNvPr id="400" name="Round Same Side Corner Rectangle 26"/>
          <p:cNvSpPr/>
          <p:nvPr/>
        </p:nvSpPr>
        <p:spPr>
          <a:xfrm>
            <a:off x="304920" y="1534680"/>
            <a:ext cx="8517600" cy="381240"/>
          </a:xfrm>
          <a:prstGeom prst="round2SameRect">
            <a:avLst>
              <a:gd name="adj1" fmla="val 27778"/>
              <a:gd name="adj2" fmla="val 0"/>
            </a:avLst>
          </a:prstGeom>
          <a:gradFill rotWithShape="0">
            <a:gsLst>
              <a:gs pos="0">
                <a:srgbClr val="17375e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401" name="TextBox 27"/>
          <p:cNvSpPr/>
          <p:nvPr/>
        </p:nvSpPr>
        <p:spPr>
          <a:xfrm>
            <a:off x="3994560" y="1549800"/>
            <a:ext cx="1767600" cy="7290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PLACE TEXT</a:t>
            </a:r>
            <a:r>
              <a:rPr b="1" lang="en-US" sz="14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	</a:t>
            </a:r>
            <a:r>
              <a:rPr b="1" lang="en-US" sz="14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Straight Connector 28"/>
          <p:cNvCxnSpPr/>
          <p:nvPr/>
        </p:nvCxnSpPr>
        <p:spPr>
          <a:xfrm flipH="1">
            <a:off x="2096280" y="1725480"/>
            <a:ext cx="1879920" cy="360"/>
          </a:xfrm>
          <a:prstGeom prst="straightConnector1">
            <a:avLst/>
          </a:prstGeom>
          <a:ln w="6350"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403" name="Straight Connector 29"/>
          <p:cNvCxnSpPr/>
          <p:nvPr/>
        </p:nvCxnSpPr>
        <p:spPr>
          <a:xfrm flipH="1">
            <a:off x="5254200" y="1725480"/>
            <a:ext cx="1879920" cy="360"/>
          </a:xfrm>
          <a:prstGeom prst="straightConnector1">
            <a:avLst/>
          </a:prstGeom>
          <a:ln w="6350">
            <a:solidFill>
              <a:srgbClr val="ffffff">
                <a:lumMod val="85000"/>
              </a:srgbClr>
            </a:solidFill>
            <a:round/>
          </a:ln>
        </p:spPr>
      </p:cxnSp>
      <p:grpSp>
        <p:nvGrpSpPr>
          <p:cNvPr id="404" name="Group 1"/>
          <p:cNvGrpSpPr/>
          <p:nvPr/>
        </p:nvGrpSpPr>
        <p:grpSpPr>
          <a:xfrm>
            <a:off x="3258000" y="3747600"/>
            <a:ext cx="1546200" cy="881640"/>
            <a:chOff x="3258000" y="3747600"/>
            <a:chExt cx="1546200" cy="881640"/>
          </a:xfrm>
        </p:grpSpPr>
        <p:sp>
          <p:nvSpPr>
            <p:cNvPr id="405" name="Rounded Rectangular Callout 103"/>
            <p:cNvSpPr/>
            <p:nvPr/>
          </p:nvSpPr>
          <p:spPr>
            <a:xfrm>
              <a:off x="3258000" y="3747600"/>
              <a:ext cx="1546200" cy="881640"/>
            </a:xfrm>
            <a:prstGeom prst="wedgeRoundRectCallout">
              <a:avLst>
                <a:gd name="adj1" fmla="val 31721"/>
                <a:gd name="adj2" fmla="val 66340"/>
                <a:gd name="adj3" fmla="val 16667"/>
              </a:avLst>
            </a:prstGeom>
            <a:gradFill rotWithShape="0">
              <a:gsLst>
                <a:gs pos="0">
                  <a:srgbClr val="507b0e"/>
                </a:gs>
                <a:gs pos="100000">
                  <a:srgbClr val="84c916"/>
                </a:gs>
              </a:gsLst>
              <a:lin ang="162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5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406" name="TextBox 104"/>
            <p:cNvSpPr/>
            <p:nvPr/>
          </p:nvSpPr>
          <p:spPr>
            <a:xfrm>
              <a:off x="3282840" y="3821040"/>
              <a:ext cx="148572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f2f2f2"/>
                  </a:solidFill>
                  <a:latin typeface="Calibri"/>
                  <a:ea typeface="ＭＳ Ｐゴシック"/>
                </a:rPr>
                <a:t>Replace the picture with one of your own. Show people or products in the photo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49"/>
          <p:cNvGrpSpPr/>
          <p:nvPr/>
        </p:nvGrpSpPr>
        <p:grpSpPr>
          <a:xfrm>
            <a:off x="4248720" y="4525560"/>
            <a:ext cx="880200" cy="1574640"/>
            <a:chOff x="4248720" y="4525560"/>
            <a:chExt cx="880200" cy="1574640"/>
          </a:xfrm>
        </p:grpSpPr>
        <p:grpSp>
          <p:nvGrpSpPr>
            <p:cNvPr id="408" name="Group 25"/>
            <p:cNvGrpSpPr/>
            <p:nvPr/>
          </p:nvGrpSpPr>
          <p:grpSpPr>
            <a:xfrm>
              <a:off x="4365720" y="4582080"/>
              <a:ext cx="763200" cy="1265760"/>
              <a:chOff x="4365720" y="4582080"/>
              <a:chExt cx="763200" cy="1265760"/>
            </a:xfrm>
          </p:grpSpPr>
          <p:sp>
            <p:nvSpPr>
              <p:cNvPr id="409" name="Ellipse 68"/>
              <p:cNvSpPr/>
              <p:nvPr/>
            </p:nvSpPr>
            <p:spPr>
              <a:xfrm>
                <a:off x="4416120" y="5713200"/>
                <a:ext cx="237240" cy="7092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4901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  <a:ea typeface="ＭＳ Ｐゴシック"/>
                </a:endParaRPr>
              </a:p>
            </p:txBody>
          </p:sp>
          <p:pic>
            <p:nvPicPr>
              <p:cNvPr id="410" name="Picture 41" descr="BL.png"/>
              <p:cNvPicPr/>
              <p:nvPr/>
            </p:nvPicPr>
            <p:blipFill>
              <a:blip r:embed="rId2"/>
              <a:stretch/>
            </p:blipFill>
            <p:spPr>
              <a:xfrm>
                <a:off x="4365720" y="4582080"/>
                <a:ext cx="763200" cy="1265760"/>
              </a:xfrm>
              <a:prstGeom prst="rect">
                <a:avLst/>
              </a:prstGeom>
              <a:ln w="0">
                <a:noFill/>
              </a:ln>
              <a:effectLst>
                <a:outerShdw blurRad="50760" dir="2700000" dist="25455" rotWithShape="0">
                  <a:srgbClr val="000000">
                    <a:alpha val="43000"/>
                  </a:srgbClr>
                </a:outerShdw>
              </a:effectLst>
            </p:spPr>
          </p:pic>
        </p:grpSp>
        <p:grpSp>
          <p:nvGrpSpPr>
            <p:cNvPr id="411" name="Group 54"/>
            <p:cNvGrpSpPr/>
            <p:nvPr/>
          </p:nvGrpSpPr>
          <p:grpSpPr>
            <a:xfrm>
              <a:off x="4248720" y="4525560"/>
              <a:ext cx="729000" cy="1574640"/>
              <a:chOff x="4248720" y="4525560"/>
              <a:chExt cx="729000" cy="1574640"/>
            </a:xfrm>
          </p:grpSpPr>
          <p:grpSp>
            <p:nvGrpSpPr>
              <p:cNvPr id="412" name="Group 19"/>
              <p:cNvGrpSpPr/>
              <p:nvPr/>
            </p:nvGrpSpPr>
            <p:grpSpPr>
              <a:xfrm>
                <a:off x="4248720" y="5869800"/>
                <a:ext cx="613080" cy="187200"/>
                <a:chOff x="4248720" y="5869800"/>
                <a:chExt cx="613080" cy="187200"/>
              </a:xfrm>
            </p:grpSpPr>
            <p:sp>
              <p:nvSpPr>
                <p:cNvPr id="413" name="Ellipse 68"/>
                <p:cNvSpPr/>
                <p:nvPr/>
              </p:nvSpPr>
              <p:spPr>
                <a:xfrm>
                  <a:off x="4248720" y="5869800"/>
                  <a:ext cx="404640" cy="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>
                        <a:alpha val="4901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ffffff"/>
                    </a:solidFill>
                    <a:latin typeface="Calibri"/>
                    <a:ea typeface="ＭＳ Ｐゴシック"/>
                  </a:endParaRPr>
                </a:p>
              </p:txBody>
            </p:sp>
            <p:sp>
              <p:nvSpPr>
                <p:cNvPr id="414" name="Ellipse 68"/>
                <p:cNvSpPr/>
                <p:nvPr/>
              </p:nvSpPr>
              <p:spPr>
                <a:xfrm>
                  <a:off x="4613040" y="5869800"/>
                  <a:ext cx="248760" cy="187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>
                        <a:alpha val="4901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ffffff"/>
                    </a:solidFill>
                    <a:latin typeface="Calibri"/>
                    <a:ea typeface="ＭＳ Ｐゴシック"/>
                  </a:endParaRPr>
                </a:p>
              </p:txBody>
            </p:sp>
          </p:grpSp>
          <p:pic>
            <p:nvPicPr>
              <p:cNvPr id="415" name="Picture 48" descr="2.png"/>
              <p:cNvPicPr/>
              <p:nvPr/>
            </p:nvPicPr>
            <p:blipFill>
              <a:blip r:embed="rId3"/>
              <a:stretch/>
            </p:blipFill>
            <p:spPr>
              <a:xfrm>
                <a:off x="4329000" y="4525560"/>
                <a:ext cx="648720" cy="1574640"/>
              </a:xfrm>
              <a:prstGeom prst="rect">
                <a:avLst/>
              </a:prstGeom>
              <a:ln w="0">
                <a:noFill/>
              </a:ln>
              <a:effectLst>
                <a:outerShdw blurRad="50760" dir="2700000" dist="37674" rotWithShape="0">
                  <a:srgbClr val="000000">
                    <a:alpha val="43000"/>
                  </a:srgbClr>
                </a:outerShdw>
              </a:effectLst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4"/>
          <p:cNvSpPr/>
          <p:nvPr/>
        </p:nvSpPr>
        <p:spPr>
          <a:xfrm>
            <a:off x="324000" y="1917720"/>
            <a:ext cx="8496000" cy="3524040"/>
          </a:xfrm>
          <a:prstGeom prst="rect">
            <a:avLst/>
          </a:prstGeom>
          <a:solidFill>
            <a:schemeClr val="bg1"/>
          </a:solidFill>
          <a:ln w="6350">
            <a:solidFill>
              <a:srgbClr val="ffffff">
                <a:lumMod val="8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pic>
        <p:nvPicPr>
          <p:cNvPr id="417" name="Billede 8" descr="dreamstime_846204.jpg"/>
          <p:cNvPicPr/>
          <p:nvPr/>
        </p:nvPicPr>
        <p:blipFill>
          <a:blip r:embed="rId1"/>
          <a:srcRect l="41185" t="19108" r="-1776" b="14115"/>
          <a:stretch/>
        </p:blipFill>
        <p:spPr>
          <a:xfrm>
            <a:off x="4506120" y="1917720"/>
            <a:ext cx="4431600" cy="35600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5"/>
          <p:cNvSpPr/>
          <p:nvPr/>
        </p:nvSpPr>
        <p:spPr>
          <a:xfrm>
            <a:off x="2997360" y="559800"/>
            <a:ext cx="31662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icture an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lace this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Straight Connector 9"/>
          <p:cNvCxnSpPr/>
          <p:nvPr/>
        </p:nvCxnSpPr>
        <p:spPr>
          <a:xfrm>
            <a:off x="2963160" y="1073160"/>
            <a:ext cx="3302280" cy="360"/>
          </a:xfrm>
          <a:prstGeom prst="straightConnector1">
            <a:avLst/>
          </a:prstGeom>
          <a:ln w="127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sp>
        <p:nvSpPr>
          <p:cNvPr id="420" name="Rektangel 13"/>
          <p:cNvSpPr/>
          <p:nvPr/>
        </p:nvSpPr>
        <p:spPr>
          <a:xfrm rot="16200000">
            <a:off x="657720" y="6090840"/>
            <a:ext cx="279000" cy="8784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1" name="Rektangel 13"/>
          <p:cNvSpPr/>
          <p:nvPr/>
        </p:nvSpPr>
        <p:spPr>
          <a:xfrm rot="16200000">
            <a:off x="37800" y="6349680"/>
            <a:ext cx="279000" cy="36072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2" name="TextBox 12"/>
          <p:cNvSpPr/>
          <p:nvPr/>
        </p:nvSpPr>
        <p:spPr>
          <a:xfrm>
            <a:off x="7560" y="6392880"/>
            <a:ext cx="374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3"/>
          <p:cNvSpPr/>
          <p:nvPr/>
        </p:nvSpPr>
        <p:spPr>
          <a:xfrm>
            <a:off x="397080" y="6390360"/>
            <a:ext cx="81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ound Same Side Corner Rectangle 26"/>
          <p:cNvSpPr/>
          <p:nvPr/>
        </p:nvSpPr>
        <p:spPr>
          <a:xfrm>
            <a:off x="304920" y="1534680"/>
            <a:ext cx="8517600" cy="381240"/>
          </a:xfrm>
          <a:prstGeom prst="round2SameRect">
            <a:avLst>
              <a:gd name="adj1" fmla="val 27778"/>
              <a:gd name="adj2" fmla="val 0"/>
            </a:avLst>
          </a:prstGeom>
          <a:gradFill rotWithShape="0">
            <a:gsLst>
              <a:gs pos="0">
                <a:srgbClr val="17375e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425" name="TextBox 27"/>
          <p:cNvSpPr/>
          <p:nvPr/>
        </p:nvSpPr>
        <p:spPr>
          <a:xfrm>
            <a:off x="3994560" y="1549800"/>
            <a:ext cx="1767600" cy="7290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PLACE TEXT</a:t>
            </a:r>
            <a:r>
              <a:rPr b="1" lang="en-US" sz="14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	</a:t>
            </a:r>
            <a:r>
              <a:rPr b="1" lang="en-US" sz="14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Straight Connector 28"/>
          <p:cNvCxnSpPr/>
          <p:nvPr/>
        </p:nvCxnSpPr>
        <p:spPr>
          <a:xfrm flipH="1">
            <a:off x="2096280" y="1725480"/>
            <a:ext cx="1879920" cy="360"/>
          </a:xfrm>
          <a:prstGeom prst="straightConnector1">
            <a:avLst/>
          </a:prstGeom>
          <a:ln w="6350"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427" name="Straight Connector 29"/>
          <p:cNvCxnSpPr/>
          <p:nvPr/>
        </p:nvCxnSpPr>
        <p:spPr>
          <a:xfrm flipH="1">
            <a:off x="5254200" y="1725480"/>
            <a:ext cx="1879920" cy="360"/>
          </a:xfrm>
          <a:prstGeom prst="straightConnector1">
            <a:avLst/>
          </a:prstGeom>
          <a:ln w="6350"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428" name="Rectangle 55"/>
          <p:cNvSpPr/>
          <p:nvPr/>
        </p:nvSpPr>
        <p:spPr>
          <a:xfrm>
            <a:off x="324000" y="1916280"/>
            <a:ext cx="4181760" cy="356148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ＭＳ Ｐゴシック"/>
            </a:endParaRPr>
          </a:p>
        </p:txBody>
      </p:sp>
      <p:sp>
        <p:nvSpPr>
          <p:cNvPr id="429" name="TextBox 56"/>
          <p:cNvSpPr/>
          <p:nvPr/>
        </p:nvSpPr>
        <p:spPr>
          <a:xfrm>
            <a:off x="634680" y="2091600"/>
            <a:ext cx="3834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REPLACE TEXT HERE</a:t>
            </a:r>
            <a:r>
              <a:rPr b="1" lang="en-US" sz="14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	</a:t>
            </a:r>
            <a:r>
              <a:rPr b="1" lang="en-US" sz="14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22"/>
          <p:cNvSpPr/>
          <p:nvPr/>
        </p:nvSpPr>
        <p:spPr>
          <a:xfrm>
            <a:off x="654480" y="2574000"/>
            <a:ext cx="35492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Lorem Ipsum</a:t>
            </a:r>
            <a:r>
              <a:rPr b="0" lang="en-US" sz="11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 simply dummy text of the printing and typesetting industry. Lorem Ipsum has been the industry's standard dummy text ever since the 1500s, when an unknown printer took a galley of type and scrambled it to mak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ly five centuries, but also the leap into electronic typesetting.Remaining essentially unchanged. It w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Straight Connector 67"/>
          <p:cNvCxnSpPr/>
          <p:nvPr/>
        </p:nvCxnSpPr>
        <p:spPr>
          <a:xfrm flipH="1">
            <a:off x="605880" y="4227120"/>
            <a:ext cx="3640680" cy="360"/>
          </a:xfrm>
          <a:prstGeom prst="straightConnector1">
            <a:avLst/>
          </a:prstGeom>
          <a:ln w="6350"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432" name="Straight Connector 67"/>
          <p:cNvCxnSpPr/>
          <p:nvPr/>
        </p:nvCxnSpPr>
        <p:spPr>
          <a:xfrm flipH="1">
            <a:off x="654480" y="2406600"/>
            <a:ext cx="3640680" cy="360"/>
          </a:xfrm>
          <a:prstGeom prst="straightConnector1">
            <a:avLst/>
          </a:prstGeom>
          <a:ln w="6350"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433" name="Freeform 12"/>
          <p:cNvSpPr/>
          <p:nvPr/>
        </p:nvSpPr>
        <p:spPr>
          <a:xfrm rot="5400000">
            <a:off x="724320" y="4826160"/>
            <a:ext cx="94680" cy="51840"/>
          </a:xfrm>
          <a:custGeom>
            <a:avLst/>
            <a:gdLst>
              <a:gd name="textAreaLeft" fmla="*/ 0 w 94680"/>
              <a:gd name="textAreaRight" fmla="*/ 95040 w 9468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252" h="126">
                <a:moveTo>
                  <a:pt x="252" y="126"/>
                </a:moveTo>
                <a:lnTo>
                  <a:pt x="126" y="0"/>
                </a:lnTo>
                <a:lnTo>
                  <a:pt x="0" y="126"/>
                </a:lnTo>
                <a:lnTo>
                  <a:pt x="252" y="12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34" name="TextBox 53"/>
          <p:cNvSpPr/>
          <p:nvPr/>
        </p:nvSpPr>
        <p:spPr>
          <a:xfrm>
            <a:off x="851400" y="4767480"/>
            <a:ext cx="16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rem Ipsum</a:t>
            </a:r>
            <a:r>
              <a:rPr b="0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replace te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12"/>
          <p:cNvSpPr/>
          <p:nvPr/>
        </p:nvSpPr>
        <p:spPr>
          <a:xfrm rot="5400000">
            <a:off x="724320" y="5046480"/>
            <a:ext cx="94680" cy="51840"/>
          </a:xfrm>
          <a:custGeom>
            <a:avLst/>
            <a:gdLst>
              <a:gd name="textAreaLeft" fmla="*/ 0 w 94680"/>
              <a:gd name="textAreaRight" fmla="*/ 95040 w 9468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252" h="126">
                <a:moveTo>
                  <a:pt x="252" y="126"/>
                </a:moveTo>
                <a:lnTo>
                  <a:pt x="126" y="0"/>
                </a:lnTo>
                <a:lnTo>
                  <a:pt x="0" y="126"/>
                </a:lnTo>
                <a:lnTo>
                  <a:pt x="252" y="12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36" name="Freeform 12"/>
          <p:cNvSpPr/>
          <p:nvPr/>
        </p:nvSpPr>
        <p:spPr>
          <a:xfrm rot="5400000">
            <a:off x="2620800" y="4826160"/>
            <a:ext cx="94680" cy="51840"/>
          </a:xfrm>
          <a:custGeom>
            <a:avLst/>
            <a:gdLst>
              <a:gd name="textAreaLeft" fmla="*/ 0 w 94680"/>
              <a:gd name="textAreaRight" fmla="*/ 95040 w 9468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252" h="126">
                <a:moveTo>
                  <a:pt x="252" y="126"/>
                </a:moveTo>
                <a:lnTo>
                  <a:pt x="126" y="0"/>
                </a:lnTo>
                <a:lnTo>
                  <a:pt x="0" y="126"/>
                </a:lnTo>
                <a:lnTo>
                  <a:pt x="252" y="12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37" name="TextBox 56"/>
          <p:cNvSpPr/>
          <p:nvPr/>
        </p:nvSpPr>
        <p:spPr>
          <a:xfrm>
            <a:off x="2747880" y="4767480"/>
            <a:ext cx="16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rem Ipsum</a:t>
            </a:r>
            <a:r>
              <a:rPr b="0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replace te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12"/>
          <p:cNvSpPr/>
          <p:nvPr/>
        </p:nvSpPr>
        <p:spPr>
          <a:xfrm rot="5400000">
            <a:off x="2620800" y="5046480"/>
            <a:ext cx="94680" cy="51840"/>
          </a:xfrm>
          <a:custGeom>
            <a:avLst/>
            <a:gdLst>
              <a:gd name="textAreaLeft" fmla="*/ 0 w 94680"/>
              <a:gd name="textAreaRight" fmla="*/ 95040 w 94680"/>
              <a:gd name="textAreaTop" fmla="*/ 0 h 51840"/>
              <a:gd name="textAreaBottom" fmla="*/ 52200 h 51840"/>
            </a:gdLst>
            <a:ahLst/>
            <a:rect l="textAreaLeft" t="textAreaTop" r="textAreaRight" b="textAreaBottom"/>
            <a:pathLst>
              <a:path w="252" h="126">
                <a:moveTo>
                  <a:pt x="252" y="126"/>
                </a:moveTo>
                <a:lnTo>
                  <a:pt x="126" y="0"/>
                </a:lnTo>
                <a:lnTo>
                  <a:pt x="0" y="126"/>
                </a:lnTo>
                <a:lnTo>
                  <a:pt x="252" y="12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39" name="TextBox 58"/>
          <p:cNvSpPr/>
          <p:nvPr/>
        </p:nvSpPr>
        <p:spPr>
          <a:xfrm>
            <a:off x="2743560" y="4539960"/>
            <a:ext cx="16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rem Ipsum</a:t>
            </a:r>
            <a:r>
              <a:rPr b="0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replace te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59"/>
          <p:cNvSpPr/>
          <p:nvPr/>
        </p:nvSpPr>
        <p:spPr>
          <a:xfrm>
            <a:off x="654480" y="4323240"/>
            <a:ext cx="3528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TEXT:</a:t>
            </a:r>
            <a:r>
              <a:rPr b="1" lang="en-US" sz="14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	</a:t>
            </a:r>
            <a:r>
              <a:rPr b="1" lang="en-US" sz="1400" spc="-1" strike="noStrike">
                <a:solidFill>
                  <a:schemeClr val="accent1">
                    <a:lumMod val="75000"/>
                  </a:schemeClr>
                </a:solidFill>
                <a:latin typeface="Calibri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60"/>
          <p:cNvSpPr/>
          <p:nvPr/>
        </p:nvSpPr>
        <p:spPr>
          <a:xfrm>
            <a:off x="851400" y="4539960"/>
            <a:ext cx="16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rem Ipsum</a:t>
            </a:r>
            <a:r>
              <a:rPr b="0" lang="en-US" sz="105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replace tex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1"/>
          <p:cNvGrpSpPr/>
          <p:nvPr/>
        </p:nvGrpSpPr>
        <p:grpSpPr>
          <a:xfrm>
            <a:off x="6801480" y="4045320"/>
            <a:ext cx="1546200" cy="881640"/>
            <a:chOff x="6801480" y="4045320"/>
            <a:chExt cx="1546200" cy="881640"/>
          </a:xfrm>
        </p:grpSpPr>
        <p:sp>
          <p:nvSpPr>
            <p:cNvPr id="443" name="Rounded Rectangular Callout 120"/>
            <p:cNvSpPr/>
            <p:nvPr/>
          </p:nvSpPr>
          <p:spPr>
            <a:xfrm>
              <a:off x="6801480" y="4045320"/>
              <a:ext cx="1546200" cy="881640"/>
            </a:xfrm>
            <a:prstGeom prst="wedgeRoundRectCallout">
              <a:avLst>
                <a:gd name="adj1" fmla="val 31721"/>
                <a:gd name="adj2" fmla="val 66340"/>
                <a:gd name="adj3" fmla="val 16667"/>
              </a:avLst>
            </a:prstGeom>
            <a:gradFill rotWithShape="0">
              <a:gsLst>
                <a:gs pos="0">
                  <a:srgbClr val="26628d"/>
                </a:gs>
                <a:gs pos="100000">
                  <a:srgbClr val="3ba0e5"/>
                </a:gs>
              </a:gsLst>
              <a:lin ang="162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5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444" name="TextBox 121"/>
            <p:cNvSpPr/>
            <p:nvPr/>
          </p:nvSpPr>
          <p:spPr>
            <a:xfrm>
              <a:off x="6826680" y="4177800"/>
              <a:ext cx="1485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f2f2f2"/>
                  </a:solidFill>
                  <a:latin typeface="Calibri"/>
                  <a:ea typeface="ＭＳ Ｐゴシック"/>
                </a:rPr>
                <a:t>Put in your own picture and rearrange the text so it fits your purpose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568"/>
          <p:cNvGrpSpPr/>
          <p:nvPr/>
        </p:nvGrpSpPr>
        <p:grpSpPr>
          <a:xfrm>
            <a:off x="7530840" y="4720320"/>
            <a:ext cx="1288800" cy="1515600"/>
            <a:chOff x="7530840" y="4720320"/>
            <a:chExt cx="1288800" cy="1515600"/>
          </a:xfrm>
        </p:grpSpPr>
        <p:sp>
          <p:nvSpPr>
            <p:cNvPr id="446" name="Oval 64"/>
            <p:cNvSpPr/>
            <p:nvPr/>
          </p:nvSpPr>
          <p:spPr>
            <a:xfrm>
              <a:off x="7835400" y="5981400"/>
              <a:ext cx="716040" cy="23256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a4c1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pic>
          <p:nvPicPr>
            <p:cNvPr id="447" name="Picture 4" descr="H:\SLIDESHOP\3D man\rev1\3\2.png"/>
            <p:cNvPicPr/>
            <p:nvPr/>
          </p:nvPicPr>
          <p:blipFill>
            <a:blip r:embed="rId2"/>
            <a:stretch/>
          </p:blipFill>
          <p:spPr>
            <a:xfrm>
              <a:off x="7740000" y="5007240"/>
              <a:ext cx="855360" cy="1228680"/>
            </a:xfrm>
            <a:prstGeom prst="rect">
              <a:avLst/>
            </a:prstGeom>
            <a:ln w="0">
              <a:noFill/>
            </a:ln>
            <a:effectLst>
              <a:outerShdw blurRad="50760" dir="2700000" dist="37674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448" name="Picture 5" descr="H:\SLIDESHOP\3D man\rev1\3\red.png"/>
            <p:cNvPicPr/>
            <p:nvPr/>
          </p:nvPicPr>
          <p:blipFill>
            <a:blip r:embed="rId3"/>
            <a:stretch/>
          </p:blipFill>
          <p:spPr>
            <a:xfrm>
              <a:off x="7530840" y="4720320"/>
              <a:ext cx="1288800" cy="1091160"/>
            </a:xfrm>
            <a:prstGeom prst="rect">
              <a:avLst/>
            </a:prstGeom>
            <a:ln w="0">
              <a:noFill/>
            </a:ln>
            <a:effectLst>
              <a:outerShdw blurRad="50760" dir="2700000" dist="37674" rotWithShape="0">
                <a:srgbClr val="000000">
                  <a:alpha val="43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49" name="Straight Connector 5"/>
          <p:cNvCxnSpPr/>
          <p:nvPr/>
        </p:nvCxnSpPr>
        <p:spPr>
          <a:xfrm>
            <a:off x="2963160" y="1073160"/>
            <a:ext cx="3302280" cy="360"/>
          </a:xfrm>
          <a:prstGeom prst="straightConnector1">
            <a:avLst/>
          </a:prstGeom>
          <a:ln w="127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sp>
        <p:nvSpPr>
          <p:cNvPr id="450" name="Rektangel 13"/>
          <p:cNvSpPr/>
          <p:nvPr/>
        </p:nvSpPr>
        <p:spPr>
          <a:xfrm rot="16200000">
            <a:off x="657720" y="6090840"/>
            <a:ext cx="279000" cy="8784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1" name="Rektangel 13"/>
          <p:cNvSpPr/>
          <p:nvPr/>
        </p:nvSpPr>
        <p:spPr>
          <a:xfrm rot="16200000">
            <a:off x="37800" y="6349680"/>
            <a:ext cx="279000" cy="36072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2" name="TextBox 8"/>
          <p:cNvSpPr/>
          <p:nvPr/>
        </p:nvSpPr>
        <p:spPr>
          <a:xfrm>
            <a:off x="7560" y="6392880"/>
            <a:ext cx="374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9"/>
          <p:cNvSpPr/>
          <p:nvPr/>
        </p:nvSpPr>
        <p:spPr>
          <a:xfrm>
            <a:off x="397080" y="6390360"/>
            <a:ext cx="81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0"/>
          <p:cNvSpPr/>
          <p:nvPr/>
        </p:nvSpPr>
        <p:spPr>
          <a:xfrm>
            <a:off x="2997360" y="564480"/>
            <a:ext cx="31662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D PI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lace this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"/>
          <p:cNvGrpSpPr/>
          <p:nvPr/>
        </p:nvGrpSpPr>
        <p:grpSpPr>
          <a:xfrm>
            <a:off x="-852120" y="1447920"/>
            <a:ext cx="9983160" cy="5073480"/>
            <a:chOff x="-852120" y="1447920"/>
            <a:chExt cx="9983160" cy="5073480"/>
          </a:xfrm>
        </p:grpSpPr>
        <p:sp>
          <p:nvSpPr>
            <p:cNvPr id="456" name="Ellipse 15"/>
            <p:cNvSpPr/>
            <p:nvPr/>
          </p:nvSpPr>
          <p:spPr>
            <a:xfrm>
              <a:off x="2170080" y="3910320"/>
              <a:ext cx="4441680" cy="247968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>
                    <a:alpha val="38039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da-DK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graphicFrame>
          <p:nvGraphicFramePr>
            <p:cNvPr id="457" name="Diagram 4"/>
            <p:cNvGraphicFramePr/>
            <p:nvPr/>
          </p:nvGraphicFramePr>
          <p:xfrm>
            <a:off x="-852120" y="1447920"/>
            <a:ext cx="9983160" cy="507348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458" name="Rounded Rectangle 20"/>
            <p:cNvSpPr/>
            <p:nvPr/>
          </p:nvSpPr>
          <p:spPr>
            <a:xfrm>
              <a:off x="6009840" y="2338560"/>
              <a:ext cx="1714680" cy="41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>
              <a:solidFill>
                <a:srgbClr val="ffffff">
                  <a:lumMod val="7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pic>
          <p:nvPicPr>
            <p:cNvPr id="459" name="Picture 21" descr="excel-logo-titu-dk.png"/>
            <p:cNvPicPr/>
            <p:nvPr/>
          </p:nvPicPr>
          <p:blipFill>
            <a:blip r:embed="rId2"/>
            <a:stretch/>
          </p:blipFill>
          <p:spPr>
            <a:xfrm>
              <a:off x="5895360" y="2530080"/>
              <a:ext cx="337320" cy="33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Box 24"/>
            <p:cNvSpPr/>
            <p:nvPr/>
          </p:nvSpPr>
          <p:spPr>
            <a:xfrm>
              <a:off x="6154920" y="2399400"/>
              <a:ext cx="1436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mpatible with exce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2"/>
          <p:cNvGrpSpPr/>
          <p:nvPr/>
        </p:nvGrpSpPr>
        <p:grpSpPr>
          <a:xfrm>
            <a:off x="3160440" y="4154400"/>
            <a:ext cx="1546200" cy="881640"/>
            <a:chOff x="3160440" y="4154400"/>
            <a:chExt cx="1546200" cy="881640"/>
          </a:xfrm>
        </p:grpSpPr>
        <p:sp>
          <p:nvSpPr>
            <p:cNvPr id="462" name="Rounded Rectangular Callout 93"/>
            <p:cNvSpPr/>
            <p:nvPr/>
          </p:nvSpPr>
          <p:spPr>
            <a:xfrm>
              <a:off x="3160440" y="4154400"/>
              <a:ext cx="1546200" cy="881640"/>
            </a:xfrm>
            <a:prstGeom prst="wedgeRoundRectCallout">
              <a:avLst>
                <a:gd name="adj1" fmla="val 31721"/>
                <a:gd name="adj2" fmla="val 66340"/>
                <a:gd name="adj3" fmla="val 16667"/>
              </a:avLst>
            </a:prstGeom>
            <a:gradFill rotWithShape="0">
              <a:gsLst>
                <a:gs pos="0">
                  <a:srgbClr val="ca0f1c"/>
                </a:gs>
                <a:gs pos="100000">
                  <a:srgbClr val="ff0000"/>
                </a:gs>
              </a:gsLst>
              <a:lin ang="162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5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463" name="TextBox 94"/>
            <p:cNvSpPr/>
            <p:nvPr/>
          </p:nvSpPr>
          <p:spPr>
            <a:xfrm>
              <a:off x="3185280" y="4286880"/>
              <a:ext cx="1485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f2f2f2"/>
                  </a:solidFill>
                  <a:latin typeface="Calibri"/>
                  <a:ea typeface="ＭＳ Ｐゴシック"/>
                </a:rPr>
                <a:t>Show your revenue in this pie chart for a better overlook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3"/>
          <p:cNvGrpSpPr/>
          <p:nvPr/>
        </p:nvGrpSpPr>
        <p:grpSpPr>
          <a:xfrm>
            <a:off x="4304160" y="4342680"/>
            <a:ext cx="823320" cy="2049480"/>
            <a:chOff x="4304160" y="4342680"/>
            <a:chExt cx="823320" cy="2049480"/>
          </a:xfrm>
        </p:grpSpPr>
        <p:grpSp>
          <p:nvGrpSpPr>
            <p:cNvPr id="465" name="Group 10"/>
            <p:cNvGrpSpPr/>
            <p:nvPr/>
          </p:nvGrpSpPr>
          <p:grpSpPr>
            <a:xfrm>
              <a:off x="4304160" y="5176080"/>
              <a:ext cx="662040" cy="1216080"/>
              <a:chOff x="4304160" y="5176080"/>
              <a:chExt cx="662040" cy="1216080"/>
            </a:xfrm>
          </p:grpSpPr>
          <p:sp>
            <p:nvSpPr>
              <p:cNvPr id="466" name="Ellipse 68"/>
              <p:cNvSpPr/>
              <p:nvPr/>
            </p:nvSpPr>
            <p:spPr>
              <a:xfrm rot="714000">
                <a:off x="4384800" y="6185160"/>
                <a:ext cx="501480" cy="15660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4901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  <a:ea typeface="ＭＳ Ｐゴシック"/>
                </a:endParaRPr>
              </a:p>
            </p:txBody>
          </p:sp>
          <p:pic>
            <p:nvPicPr>
              <p:cNvPr id="467" name="Picture 51" descr="5.png"/>
              <p:cNvPicPr/>
              <p:nvPr/>
            </p:nvPicPr>
            <p:blipFill>
              <a:blip r:embed="rId3"/>
              <a:stretch/>
            </p:blipFill>
            <p:spPr>
              <a:xfrm>
                <a:off x="4304160" y="5176080"/>
                <a:ext cx="662040" cy="1216080"/>
              </a:xfrm>
              <a:prstGeom prst="rect">
                <a:avLst/>
              </a:prstGeom>
              <a:ln w="0">
                <a:noFill/>
              </a:ln>
              <a:effectLst>
                <a:outerShdw blurRad="50760" dir="2700000" dist="37674" rotWithShape="0">
                  <a:srgbClr val="000000">
                    <a:alpha val="43000"/>
                  </a:srgbClr>
                </a:outerShdw>
              </a:effectLst>
            </p:spPr>
          </p:pic>
        </p:grpSp>
        <p:pic>
          <p:nvPicPr>
            <p:cNvPr id="468" name="Picture 11" descr="red.png"/>
            <p:cNvPicPr/>
            <p:nvPr/>
          </p:nvPicPr>
          <p:blipFill>
            <a:blip r:embed="rId4"/>
            <a:stretch/>
          </p:blipFill>
          <p:spPr>
            <a:xfrm>
              <a:off x="4340160" y="4342680"/>
              <a:ext cx="787320" cy="1279080"/>
            </a:xfrm>
            <a:prstGeom prst="rect">
              <a:avLst/>
            </a:prstGeom>
            <a:ln w="0">
              <a:noFill/>
            </a:ln>
            <a:effectLst>
              <a:outerShdw blurRad="50760" dir="2700000" dist="37674" rotWithShape="0">
                <a:srgbClr val="000000">
                  <a:alpha val="43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9" name="Straight Connector 6"/>
          <p:cNvCxnSpPr/>
          <p:nvPr/>
        </p:nvCxnSpPr>
        <p:spPr>
          <a:xfrm>
            <a:off x="2963160" y="1073160"/>
            <a:ext cx="3302280" cy="360"/>
          </a:xfrm>
          <a:prstGeom prst="straightConnector1">
            <a:avLst/>
          </a:prstGeom>
          <a:ln w="12700">
            <a:solidFill>
              <a:srgbClr val="000000">
                <a:lumMod val="95000"/>
                <a:lumOff val="5000"/>
              </a:srgbClr>
            </a:solidFill>
            <a:round/>
          </a:ln>
        </p:spPr>
      </p:cxnSp>
      <p:sp>
        <p:nvSpPr>
          <p:cNvPr id="470" name="Rektangel 13"/>
          <p:cNvSpPr/>
          <p:nvPr/>
        </p:nvSpPr>
        <p:spPr>
          <a:xfrm rot="16200000">
            <a:off x="657720" y="6090840"/>
            <a:ext cx="279000" cy="8784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1" name="Rektangel 13"/>
          <p:cNvSpPr/>
          <p:nvPr/>
        </p:nvSpPr>
        <p:spPr>
          <a:xfrm rot="16200000">
            <a:off x="37800" y="6349680"/>
            <a:ext cx="279000" cy="36072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376092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nb-N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2" name="TextBox 12"/>
          <p:cNvSpPr/>
          <p:nvPr/>
        </p:nvSpPr>
        <p:spPr>
          <a:xfrm>
            <a:off x="7560" y="6392880"/>
            <a:ext cx="374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3"/>
          <p:cNvSpPr/>
          <p:nvPr/>
        </p:nvSpPr>
        <p:spPr>
          <a:xfrm>
            <a:off x="397080" y="6390360"/>
            <a:ext cx="81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1"/>
          <p:cNvGrpSpPr/>
          <p:nvPr/>
        </p:nvGrpSpPr>
        <p:grpSpPr>
          <a:xfrm>
            <a:off x="304920" y="1534680"/>
            <a:ext cx="8517600" cy="3907080"/>
            <a:chOff x="304920" y="1534680"/>
            <a:chExt cx="8517600" cy="3907080"/>
          </a:xfrm>
        </p:grpSpPr>
        <p:sp>
          <p:nvSpPr>
            <p:cNvPr id="475" name="Rectangle 4"/>
            <p:cNvSpPr/>
            <p:nvPr/>
          </p:nvSpPr>
          <p:spPr>
            <a:xfrm>
              <a:off x="304920" y="1866960"/>
              <a:ext cx="8515080" cy="3574800"/>
            </a:xfrm>
            <a:prstGeom prst="rect">
              <a:avLst/>
            </a:prstGeom>
            <a:solidFill>
              <a:schemeClr val="bg1"/>
            </a:solidFill>
            <a:ln w="6350">
              <a:solidFill>
                <a:srgbClr val="ffffff">
                  <a:lumMod val="8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476" name="Round Same Side Corner Rectangle 29"/>
            <p:cNvSpPr/>
            <p:nvPr/>
          </p:nvSpPr>
          <p:spPr>
            <a:xfrm>
              <a:off x="304920" y="1534680"/>
              <a:ext cx="8517600" cy="381240"/>
            </a:xfrm>
            <a:prstGeom prst="round2SameRect">
              <a:avLst>
                <a:gd name="adj1" fmla="val 27778"/>
                <a:gd name="adj2" fmla="val 0"/>
              </a:avLst>
            </a:prstGeom>
            <a:gradFill rotWithShape="0">
              <a:gsLst>
                <a:gs pos="0">
                  <a:srgbClr val="17375e"/>
                </a:gs>
                <a:gs pos="100000">
                  <a:srgbClr val="376092"/>
                </a:gs>
              </a:gsLst>
              <a:lin ang="162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477" name="TextBox 30"/>
            <p:cNvSpPr/>
            <p:nvPr/>
          </p:nvSpPr>
          <p:spPr>
            <a:xfrm>
              <a:off x="3994560" y="1549800"/>
              <a:ext cx="1767600" cy="729000"/>
            </a:xfrm>
            <a:prstGeom prst="rect">
              <a:avLst/>
            </a:prstGeom>
            <a:noFill/>
            <a:ln w="0">
              <a:noFill/>
            </a:ln>
            <a:effectLst>
              <a:outerShdw algn="tl" blurRad="50760" dir="2700000" dist="37674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REPLACE TEXT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r>
                <a:rPr b="1" lang="en-US" sz="1400" spc="-1" strike="noStrike">
                  <a:solidFill>
                    <a:schemeClr val="accent1">
                      <a:lumMod val="75000"/>
                    </a:schemeClr>
                  </a:solidFill>
                  <a:latin typeface="Calibri"/>
                  <a:ea typeface="ＭＳ Ｐゴシック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8" name="Straight Connector 31"/>
            <p:cNvCxnSpPr/>
            <p:nvPr/>
          </p:nvCxnSpPr>
          <p:spPr>
            <a:xfrm flipH="1">
              <a:off x="2096280" y="1725480"/>
              <a:ext cx="1879920" cy="360"/>
            </a:xfrm>
            <a:prstGeom prst="straightConnector1">
              <a:avLst/>
            </a:prstGeom>
            <a:ln w="6350"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479" name="Straight Connector 32"/>
            <p:cNvCxnSpPr/>
            <p:nvPr/>
          </p:nvCxnSpPr>
          <p:spPr>
            <a:xfrm flipH="1">
              <a:off x="5254200" y="1725480"/>
              <a:ext cx="1879920" cy="360"/>
            </a:xfrm>
            <a:prstGeom prst="straightConnector1">
              <a:avLst/>
            </a:prstGeom>
            <a:ln w="6350">
              <a:solidFill>
                <a:srgbClr val="ffffff">
                  <a:lumMod val="85000"/>
                </a:srgbClr>
              </a:solidFill>
              <a:round/>
            </a:ln>
          </p:spPr>
        </p:cxnSp>
        <p:graphicFrame>
          <p:nvGraphicFramePr>
            <p:cNvPr id="480" name="Content Placeholder 5"/>
            <p:cNvGraphicFramePr/>
            <p:nvPr/>
          </p:nvGraphicFramePr>
          <p:xfrm>
            <a:off x="592560" y="2122200"/>
            <a:ext cx="8015760" cy="307296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481" name="Rounded Rectangle 7"/>
            <p:cNvSpPr/>
            <p:nvPr/>
          </p:nvSpPr>
          <p:spPr>
            <a:xfrm>
              <a:off x="6276600" y="2122560"/>
              <a:ext cx="1714680" cy="41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16200000"/>
            </a:gradFill>
            <a:ln>
              <a:solidFill>
                <a:srgbClr val="ffffff">
                  <a:lumMod val="75000"/>
                </a:srgbClr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pic>
          <p:nvPicPr>
            <p:cNvPr id="482" name="Picture 8" descr="excel-logo-titu-dk.png"/>
            <p:cNvPicPr/>
            <p:nvPr/>
          </p:nvPicPr>
          <p:blipFill>
            <a:blip r:embed="rId2"/>
            <a:stretch/>
          </p:blipFill>
          <p:spPr>
            <a:xfrm>
              <a:off x="6162120" y="2314080"/>
              <a:ext cx="337320" cy="33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TextBox 9"/>
            <p:cNvSpPr/>
            <p:nvPr/>
          </p:nvSpPr>
          <p:spPr>
            <a:xfrm>
              <a:off x="6421680" y="2183760"/>
              <a:ext cx="1436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mpatible with exce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Box 35"/>
          <p:cNvSpPr/>
          <p:nvPr/>
        </p:nvSpPr>
        <p:spPr>
          <a:xfrm>
            <a:off x="2997360" y="564480"/>
            <a:ext cx="31662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ATA DRIVE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lace this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"/>
          <p:cNvGrpSpPr/>
          <p:nvPr/>
        </p:nvGrpSpPr>
        <p:grpSpPr>
          <a:xfrm>
            <a:off x="6766200" y="3668400"/>
            <a:ext cx="1546200" cy="881640"/>
            <a:chOff x="6766200" y="3668400"/>
            <a:chExt cx="1546200" cy="881640"/>
          </a:xfrm>
        </p:grpSpPr>
        <p:sp>
          <p:nvSpPr>
            <p:cNvPr id="486" name="Rounded Rectangular Callout 98"/>
            <p:cNvSpPr/>
            <p:nvPr/>
          </p:nvSpPr>
          <p:spPr>
            <a:xfrm>
              <a:off x="6766200" y="3668400"/>
              <a:ext cx="1546200" cy="881640"/>
            </a:xfrm>
            <a:prstGeom prst="wedgeRoundRectCallout">
              <a:avLst>
                <a:gd name="adj1" fmla="val 31721"/>
                <a:gd name="adj2" fmla="val 66340"/>
                <a:gd name="adj3" fmla="val 16667"/>
              </a:avLst>
            </a:prstGeom>
            <a:gradFill rotWithShape="0">
              <a:gsLst>
                <a:gs pos="0">
                  <a:srgbClr val="507b0e"/>
                </a:gs>
                <a:gs pos="100000">
                  <a:srgbClr val="84c916"/>
                </a:gs>
              </a:gsLst>
              <a:lin ang="16200000"/>
            </a:gradFill>
            <a:ln>
              <a:noFill/>
            </a:ln>
            <a:effectLst>
              <a:outerShdw blurRad="39960" dir="5400000" dist="23040" rotWithShape="0">
                <a:srgbClr val="000000">
                  <a:alpha val="5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endParaRPr>
            </a:p>
          </p:txBody>
        </p:sp>
        <p:sp>
          <p:nvSpPr>
            <p:cNvPr id="487" name="TextBox 99"/>
            <p:cNvSpPr/>
            <p:nvPr/>
          </p:nvSpPr>
          <p:spPr>
            <a:xfrm>
              <a:off x="6826680" y="3834720"/>
              <a:ext cx="1485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f2f2f2"/>
                  </a:solidFill>
                  <a:latin typeface="Calibri"/>
                  <a:ea typeface="ＭＳ Ｐゴシック"/>
                </a:rPr>
                <a:t>Show your revenue in this bar chart for a better overlook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53"/>
          <p:cNvGrpSpPr/>
          <p:nvPr/>
        </p:nvGrpSpPr>
        <p:grpSpPr>
          <a:xfrm>
            <a:off x="7728120" y="4482360"/>
            <a:ext cx="880200" cy="1574640"/>
            <a:chOff x="7728120" y="4482360"/>
            <a:chExt cx="880200" cy="1574640"/>
          </a:xfrm>
        </p:grpSpPr>
        <p:grpSp>
          <p:nvGrpSpPr>
            <p:cNvPr id="489" name="Group 25"/>
            <p:cNvGrpSpPr/>
            <p:nvPr/>
          </p:nvGrpSpPr>
          <p:grpSpPr>
            <a:xfrm>
              <a:off x="7845120" y="4538520"/>
              <a:ext cx="763200" cy="1265760"/>
              <a:chOff x="7845120" y="4538520"/>
              <a:chExt cx="763200" cy="1265760"/>
            </a:xfrm>
          </p:grpSpPr>
          <p:sp>
            <p:nvSpPr>
              <p:cNvPr id="490" name="Ellipse 68"/>
              <p:cNvSpPr/>
              <p:nvPr/>
            </p:nvSpPr>
            <p:spPr>
              <a:xfrm>
                <a:off x="7895520" y="5670000"/>
                <a:ext cx="237240" cy="70920"/>
              </a:xfrm>
              <a:prstGeom prst="ellipse">
                <a:avLst/>
              </a:prstGeom>
              <a:gradFill rotWithShape="0">
                <a:gsLst>
                  <a:gs pos="0">
                    <a:srgbClr val="808080">
                      <a:alpha val="4901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da-DK" sz="1800" spc="-1" strike="noStrike">
                  <a:solidFill>
                    <a:srgbClr val="ffffff"/>
                  </a:solidFill>
                  <a:latin typeface="Calibri"/>
                  <a:ea typeface="ＭＳ Ｐゴシック"/>
                </a:endParaRPr>
              </a:p>
            </p:txBody>
          </p:sp>
          <p:pic>
            <p:nvPicPr>
              <p:cNvPr id="491" name="Picture 41" descr="BL.png"/>
              <p:cNvPicPr/>
              <p:nvPr/>
            </p:nvPicPr>
            <p:blipFill>
              <a:blip r:embed="rId3"/>
              <a:stretch/>
            </p:blipFill>
            <p:spPr>
              <a:xfrm>
                <a:off x="7845120" y="4538520"/>
                <a:ext cx="763200" cy="1265760"/>
              </a:xfrm>
              <a:prstGeom prst="rect">
                <a:avLst/>
              </a:prstGeom>
              <a:ln w="0">
                <a:noFill/>
              </a:ln>
              <a:effectLst>
                <a:outerShdw blurRad="50760" dir="2700000" dist="25455" rotWithShape="0">
                  <a:srgbClr val="000000">
                    <a:alpha val="43000"/>
                  </a:srgbClr>
                </a:outerShdw>
              </a:effectLst>
            </p:spPr>
          </p:pic>
        </p:grpSp>
        <p:grpSp>
          <p:nvGrpSpPr>
            <p:cNvPr id="492" name="Group 54"/>
            <p:cNvGrpSpPr/>
            <p:nvPr/>
          </p:nvGrpSpPr>
          <p:grpSpPr>
            <a:xfrm>
              <a:off x="7728120" y="4482360"/>
              <a:ext cx="729360" cy="1574640"/>
              <a:chOff x="7728120" y="4482360"/>
              <a:chExt cx="729360" cy="1574640"/>
            </a:xfrm>
          </p:grpSpPr>
          <p:grpSp>
            <p:nvGrpSpPr>
              <p:cNvPr id="493" name="Group 19"/>
              <p:cNvGrpSpPr/>
              <p:nvPr/>
            </p:nvGrpSpPr>
            <p:grpSpPr>
              <a:xfrm>
                <a:off x="7728120" y="5826240"/>
                <a:ext cx="613440" cy="187200"/>
                <a:chOff x="7728120" y="5826240"/>
                <a:chExt cx="613440" cy="187200"/>
              </a:xfrm>
            </p:grpSpPr>
            <p:sp>
              <p:nvSpPr>
                <p:cNvPr id="494" name="Ellipse 68"/>
                <p:cNvSpPr/>
                <p:nvPr/>
              </p:nvSpPr>
              <p:spPr>
                <a:xfrm>
                  <a:off x="7728120" y="5826240"/>
                  <a:ext cx="404640" cy="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>
                        <a:alpha val="4901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ffffff"/>
                    </a:solidFill>
                    <a:latin typeface="Calibri"/>
                    <a:ea typeface="ＭＳ Ｐゴシック"/>
                  </a:endParaRPr>
                </a:p>
              </p:txBody>
            </p:sp>
            <p:sp>
              <p:nvSpPr>
                <p:cNvPr id="495" name="Ellipse 68"/>
                <p:cNvSpPr/>
                <p:nvPr/>
              </p:nvSpPr>
              <p:spPr>
                <a:xfrm>
                  <a:off x="8092800" y="5826240"/>
                  <a:ext cx="248760" cy="187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>
                        <a:alpha val="49019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da-DK" sz="1800" spc="-1" strike="noStrike">
                    <a:solidFill>
                      <a:srgbClr val="ffffff"/>
                    </a:solidFill>
                    <a:latin typeface="Calibri"/>
                    <a:ea typeface="ＭＳ Ｐゴシック"/>
                  </a:endParaRPr>
                </a:p>
              </p:txBody>
            </p:sp>
          </p:grpSp>
          <p:pic>
            <p:nvPicPr>
              <p:cNvPr id="496" name="Picture 48" descr="2.png"/>
              <p:cNvPicPr/>
              <p:nvPr/>
            </p:nvPicPr>
            <p:blipFill>
              <a:blip r:embed="rId4"/>
              <a:stretch/>
            </p:blipFill>
            <p:spPr>
              <a:xfrm>
                <a:off x="7808760" y="4482360"/>
                <a:ext cx="648720" cy="1574640"/>
              </a:xfrm>
              <a:prstGeom prst="rect">
                <a:avLst/>
              </a:prstGeom>
              <a:ln w="0">
                <a:noFill/>
              </a:ln>
              <a:effectLst>
                <a:outerShdw blurRad="50760" dir="2700000" dist="37674" rotWithShape="0">
                  <a:srgbClr val="000000">
                    <a:alpha val="43000"/>
                  </a:srgbClr>
                </a:outerShdw>
              </a:effectLst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Default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Default Theme.thmx</Template>
  <TotalTime>587</TotalTime>
  <Application>LibreOffice/7.4.7.2$Linux_X86_64 LibreOffice_project/40$Build-2</Application>
  <AppVersion>15.0000</AppVersion>
  <Words>1263</Words>
  <Paragraphs>23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11:43:45Z</dcterms:created>
  <dc:creator>Anders Kabel</dc:creator>
  <dc:description/>
  <dc:language>en-US</dc:language>
  <cp:lastModifiedBy>yu wang</cp:lastModifiedBy>
  <dcterms:modified xsi:type="dcterms:W3CDTF">2015-08-08T10:05:05Z</dcterms:modified>
  <cp:revision>1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4</vt:r8>
  </property>
</Properties>
</file>