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2A5B-719A-4A11-9CAF-D988B8231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C3F6-FB56-4950-8775-2B5F4C78A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D282-8104-4242-99B3-81EB5D62D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C34D-0C9F-4F8D-804C-8D9AC27A4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E1B2-314F-41F9-9D47-AE8E34FA1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B16A-9F44-4AEB-A9EC-AD783B17A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ED41-81B2-4CA4-A0F9-CB33A8032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7A69-D68C-4CED-B541-CB630AA64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7100-A966-478E-91E4-EAE4C69D0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D118-F5C2-42BF-B07D-96F698164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7DED-2CC6-4D9F-9054-7521D1F16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EB75-846C-42DC-9D31-E4CB32D5A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4" descr="red"/>
          <p:cNvPicPr/>
          <p:nvPr/>
        </p:nvPicPr>
        <p:blipFill>
          <a:blip r:embed="rId2"/>
          <a:stretch/>
        </p:blipFill>
        <p:spPr>
          <a:xfrm>
            <a:off x="0" y="0"/>
            <a:ext cx="115221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95"/>
          <p:cNvGrpSpPr/>
          <p:nvPr/>
        </p:nvGrpSpPr>
        <p:grpSpPr>
          <a:xfrm>
            <a:off x="-640800" y="-5952960"/>
            <a:ext cx="15095880" cy="13034520"/>
            <a:chOff x="-640800" y="-5952960"/>
            <a:chExt cx="15095880" cy="13034520"/>
          </a:xfrm>
        </p:grpSpPr>
        <p:sp>
          <p:nvSpPr>
            <p:cNvPr id="2" name="Freeform 196"/>
            <p:cNvSpPr/>
            <p:nvPr/>
          </p:nvSpPr>
          <p:spPr>
            <a:xfrm rot="19782000">
              <a:off x="350280" y="-1629720"/>
              <a:ext cx="10010160" cy="663948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Freeform 197"/>
            <p:cNvSpPr/>
            <p:nvPr/>
          </p:nvSpPr>
          <p:spPr>
            <a:xfrm rot="19782000">
              <a:off x="369360" y="-1574640"/>
              <a:ext cx="10098360" cy="64947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Freeform 198"/>
            <p:cNvSpPr/>
            <p:nvPr/>
          </p:nvSpPr>
          <p:spPr>
            <a:xfrm rot="19782000">
              <a:off x="385560" y="-1522080"/>
              <a:ext cx="10186560" cy="63489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Freeform 199"/>
            <p:cNvSpPr/>
            <p:nvPr/>
          </p:nvSpPr>
          <p:spPr>
            <a:xfrm rot="19782000">
              <a:off x="404640" y="-1461600"/>
              <a:ext cx="10272240" cy="619452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Freeform 200"/>
            <p:cNvSpPr/>
            <p:nvPr/>
          </p:nvSpPr>
          <p:spPr>
            <a:xfrm rot="19782000">
              <a:off x="425880" y="-1405080"/>
              <a:ext cx="10356480" cy="604872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Freeform 201"/>
            <p:cNvSpPr/>
            <p:nvPr/>
          </p:nvSpPr>
          <p:spPr>
            <a:xfrm rot="19782000">
              <a:off x="449280" y="-1345320"/>
              <a:ext cx="10436040" cy="589392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Freeform 202"/>
            <p:cNvSpPr/>
            <p:nvPr/>
          </p:nvSpPr>
          <p:spPr>
            <a:xfrm rot="19782000">
              <a:off x="471960" y="-1284120"/>
              <a:ext cx="10513800" cy="574020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Freeform 203"/>
            <p:cNvSpPr/>
            <p:nvPr/>
          </p:nvSpPr>
          <p:spPr>
            <a:xfrm rot="19782000">
              <a:off x="496800" y="-1224000"/>
              <a:ext cx="10591200" cy="558972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Freeform 204"/>
            <p:cNvSpPr/>
            <p:nvPr/>
          </p:nvSpPr>
          <p:spPr>
            <a:xfrm rot="19782000">
              <a:off x="523080" y="-1162440"/>
              <a:ext cx="10658520" cy="543132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Freeform 205"/>
            <p:cNvSpPr/>
            <p:nvPr/>
          </p:nvSpPr>
          <p:spPr>
            <a:xfrm rot="19782000">
              <a:off x="549720" y="-1097280"/>
              <a:ext cx="10729800" cy="527292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Freeform 206"/>
            <p:cNvSpPr/>
            <p:nvPr/>
          </p:nvSpPr>
          <p:spPr>
            <a:xfrm rot="19782000">
              <a:off x="580320" y="-1037160"/>
              <a:ext cx="10796400" cy="512316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Freeform 207"/>
            <p:cNvSpPr/>
            <p:nvPr/>
          </p:nvSpPr>
          <p:spPr>
            <a:xfrm rot="19782000">
              <a:off x="608760" y="-979200"/>
              <a:ext cx="10857960" cy="497232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Freeform 208"/>
            <p:cNvSpPr/>
            <p:nvPr/>
          </p:nvSpPr>
          <p:spPr>
            <a:xfrm rot="19782000">
              <a:off x="636840" y="-920880"/>
              <a:ext cx="10918800" cy="48178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Freeform 209"/>
            <p:cNvSpPr/>
            <p:nvPr/>
          </p:nvSpPr>
          <p:spPr>
            <a:xfrm rot="19782000">
              <a:off x="668160" y="-864360"/>
              <a:ext cx="10977480" cy="467280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Freeform 210"/>
            <p:cNvSpPr/>
            <p:nvPr/>
          </p:nvSpPr>
          <p:spPr>
            <a:xfrm rot="19782000">
              <a:off x="700200" y="-811440"/>
              <a:ext cx="11032200" cy="45270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Freeform 211"/>
            <p:cNvSpPr/>
            <p:nvPr/>
          </p:nvSpPr>
          <p:spPr>
            <a:xfrm rot="19782000">
              <a:off x="731160" y="-756000"/>
              <a:ext cx="11082600" cy="437652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Freeform 212"/>
            <p:cNvSpPr/>
            <p:nvPr/>
          </p:nvSpPr>
          <p:spPr>
            <a:xfrm rot="19782000">
              <a:off x="766080" y="-702720"/>
              <a:ext cx="11130480" cy="423540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Freeform 213"/>
            <p:cNvSpPr/>
            <p:nvPr/>
          </p:nvSpPr>
          <p:spPr>
            <a:xfrm rot="19782000">
              <a:off x="801360" y="-648720"/>
              <a:ext cx="11174400" cy="408564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Freeform 214"/>
            <p:cNvSpPr/>
            <p:nvPr/>
          </p:nvSpPr>
          <p:spPr>
            <a:xfrm rot="19782000">
              <a:off x="836280" y="-598320"/>
              <a:ext cx="11216520" cy="394380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Freeform 215"/>
            <p:cNvSpPr/>
            <p:nvPr/>
          </p:nvSpPr>
          <p:spPr>
            <a:xfrm rot="19782000">
              <a:off x="874440" y="-547920"/>
              <a:ext cx="11254320" cy="380592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Freeform 216"/>
            <p:cNvSpPr/>
            <p:nvPr/>
          </p:nvSpPr>
          <p:spPr>
            <a:xfrm rot="19782000">
              <a:off x="912600" y="-498240"/>
              <a:ext cx="11287800" cy="366084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Freeform 217"/>
            <p:cNvSpPr/>
            <p:nvPr/>
          </p:nvSpPr>
          <p:spPr>
            <a:xfrm rot="19782000">
              <a:off x="953640" y="-451080"/>
              <a:ext cx="11316960" cy="35240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Freeform 218"/>
            <p:cNvSpPr/>
            <p:nvPr/>
          </p:nvSpPr>
          <p:spPr>
            <a:xfrm rot="19782000">
              <a:off x="994680" y="-405000"/>
              <a:ext cx="11346480" cy="339084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Freeform 219"/>
            <p:cNvSpPr/>
            <p:nvPr/>
          </p:nvSpPr>
          <p:spPr>
            <a:xfrm rot="19782000">
              <a:off x="1037880" y="-355320"/>
              <a:ext cx="11374200" cy="324972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Freeform 220"/>
            <p:cNvSpPr/>
            <p:nvPr/>
          </p:nvSpPr>
          <p:spPr>
            <a:xfrm rot="19782000">
              <a:off x="1079640" y="-307440"/>
              <a:ext cx="11392920" cy="310788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Freeform 221"/>
            <p:cNvSpPr/>
            <p:nvPr/>
          </p:nvSpPr>
          <p:spPr>
            <a:xfrm rot="19782000">
              <a:off x="1125720" y="-268920"/>
              <a:ext cx="11409840" cy="298332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Freeform 222"/>
            <p:cNvSpPr/>
            <p:nvPr/>
          </p:nvSpPr>
          <p:spPr>
            <a:xfrm rot="19782000">
              <a:off x="1170360" y="-222480"/>
              <a:ext cx="11428200" cy="284616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Freeform 223"/>
            <p:cNvSpPr/>
            <p:nvPr/>
          </p:nvSpPr>
          <p:spPr>
            <a:xfrm rot="19782000">
              <a:off x="1218240" y="-179280"/>
              <a:ext cx="11436840" cy="271404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Freeform 224"/>
            <p:cNvSpPr/>
            <p:nvPr/>
          </p:nvSpPr>
          <p:spPr>
            <a:xfrm rot="19782000">
              <a:off x="1265040" y="-139320"/>
              <a:ext cx="11447280" cy="258480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Freeform 225"/>
            <p:cNvSpPr/>
            <p:nvPr/>
          </p:nvSpPr>
          <p:spPr>
            <a:xfrm rot="19782000">
              <a:off x="1317600" y="-97200"/>
              <a:ext cx="11451600" cy="24555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Freeform 226"/>
            <p:cNvSpPr/>
            <p:nvPr/>
          </p:nvSpPr>
          <p:spPr>
            <a:xfrm rot="19782000">
              <a:off x="1367640" y="-59040"/>
              <a:ext cx="11455560" cy="233208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Freeform 227"/>
            <p:cNvSpPr/>
            <p:nvPr/>
          </p:nvSpPr>
          <p:spPr>
            <a:xfrm rot="19782000">
              <a:off x="1420560" y="-19440"/>
              <a:ext cx="11451600" cy="22028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Freeform 228"/>
            <p:cNvSpPr/>
            <p:nvPr/>
          </p:nvSpPr>
          <p:spPr>
            <a:xfrm rot="19782000">
              <a:off x="1477080" y="19080"/>
              <a:ext cx="11442960" cy="207936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Freeform 229"/>
            <p:cNvSpPr/>
            <p:nvPr/>
          </p:nvSpPr>
          <p:spPr>
            <a:xfrm rot="19782000">
              <a:off x="1521360" y="19080"/>
              <a:ext cx="11434320" cy="199260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Freeform 230"/>
            <p:cNvSpPr/>
            <p:nvPr/>
          </p:nvSpPr>
          <p:spPr>
            <a:xfrm rot="19782000">
              <a:off x="1530360" y="-121320"/>
              <a:ext cx="11426400" cy="206568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Freeform 231"/>
            <p:cNvSpPr/>
            <p:nvPr/>
          </p:nvSpPr>
          <p:spPr>
            <a:xfrm rot="19782000">
              <a:off x="1545480" y="-259560"/>
              <a:ext cx="11409120" cy="213084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Freeform 232"/>
            <p:cNvSpPr/>
            <p:nvPr/>
          </p:nvSpPr>
          <p:spPr>
            <a:xfrm rot="19782000">
              <a:off x="1561320" y="-400320"/>
              <a:ext cx="11388240" cy="219888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Freeform 233"/>
            <p:cNvSpPr/>
            <p:nvPr/>
          </p:nvSpPr>
          <p:spPr>
            <a:xfrm rot="19782000">
              <a:off x="1581840" y="-544320"/>
              <a:ext cx="11365560" cy="227160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Freeform 234"/>
            <p:cNvSpPr/>
            <p:nvPr/>
          </p:nvSpPr>
          <p:spPr>
            <a:xfrm rot="19782000">
              <a:off x="1604520" y="-683280"/>
              <a:ext cx="11336040" cy="233676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Freeform 235"/>
            <p:cNvSpPr/>
            <p:nvPr/>
          </p:nvSpPr>
          <p:spPr>
            <a:xfrm rot="19782000">
              <a:off x="1631160" y="-828360"/>
              <a:ext cx="11306880" cy="240984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Freeform 236"/>
            <p:cNvSpPr/>
            <p:nvPr/>
          </p:nvSpPr>
          <p:spPr>
            <a:xfrm rot="19782000">
              <a:off x="1660320" y="-973440"/>
              <a:ext cx="11271240" cy="248652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Freeform 237"/>
            <p:cNvSpPr/>
            <p:nvPr/>
          </p:nvSpPr>
          <p:spPr>
            <a:xfrm rot="19782000">
              <a:off x="1728360" y="-1127880"/>
              <a:ext cx="11233080" cy="270432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Freeform 238"/>
            <p:cNvSpPr/>
            <p:nvPr/>
          </p:nvSpPr>
          <p:spPr>
            <a:xfrm rot="19782000">
              <a:off x="1806480" y="-1281240"/>
              <a:ext cx="11191320" cy="294948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Freeform 239"/>
            <p:cNvSpPr/>
            <p:nvPr/>
          </p:nvSpPr>
          <p:spPr>
            <a:xfrm rot="19782000">
              <a:off x="1884960" y="-1438920"/>
              <a:ext cx="11147040" cy="319428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Freeform 240"/>
            <p:cNvSpPr/>
            <p:nvPr/>
          </p:nvSpPr>
          <p:spPr>
            <a:xfrm rot="19782000">
              <a:off x="1965600" y="-1596600"/>
              <a:ext cx="11099160" cy="344232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Freeform 241"/>
            <p:cNvSpPr/>
            <p:nvPr/>
          </p:nvSpPr>
          <p:spPr>
            <a:xfrm rot="19782000">
              <a:off x="2052000" y="-1750320"/>
              <a:ext cx="11044440" cy="368640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Freeform 242"/>
            <p:cNvSpPr/>
            <p:nvPr/>
          </p:nvSpPr>
          <p:spPr>
            <a:xfrm rot="19782000">
              <a:off x="2135880" y="-1907640"/>
              <a:ext cx="10989720" cy="393516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Freeform 243"/>
            <p:cNvSpPr/>
            <p:nvPr/>
          </p:nvSpPr>
          <p:spPr>
            <a:xfrm rot="19782000">
              <a:off x="2222640" y="-2066040"/>
              <a:ext cx="10931760" cy="418392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Freeform 244"/>
            <p:cNvSpPr/>
            <p:nvPr/>
          </p:nvSpPr>
          <p:spPr>
            <a:xfrm rot="19782000">
              <a:off x="2312280" y="-2223000"/>
              <a:ext cx="10864080" cy="443268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Freeform 245"/>
            <p:cNvSpPr/>
            <p:nvPr/>
          </p:nvSpPr>
          <p:spPr>
            <a:xfrm rot="19782000">
              <a:off x="2400480" y="-2381400"/>
              <a:ext cx="10801440" cy="467676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Freeform 246"/>
            <p:cNvSpPr/>
            <p:nvPr/>
          </p:nvSpPr>
          <p:spPr>
            <a:xfrm rot="19782000">
              <a:off x="2494440" y="-2538360"/>
              <a:ext cx="10725840" cy="492588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Freeform 247"/>
            <p:cNvSpPr/>
            <p:nvPr/>
          </p:nvSpPr>
          <p:spPr>
            <a:xfrm rot="19782000">
              <a:off x="2588040" y="-2691360"/>
              <a:ext cx="10654200" cy="516960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Freeform 248"/>
            <p:cNvSpPr/>
            <p:nvPr/>
          </p:nvSpPr>
          <p:spPr>
            <a:xfrm rot="19782000">
              <a:off x="2682360" y="-2848320"/>
              <a:ext cx="10576800" cy="541476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Freeform 249"/>
            <p:cNvSpPr/>
            <p:nvPr/>
          </p:nvSpPr>
          <p:spPr>
            <a:xfrm rot="19782000">
              <a:off x="2783880" y="-3002400"/>
              <a:ext cx="10492560" cy="565884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Freeform 250"/>
            <p:cNvSpPr/>
            <p:nvPr/>
          </p:nvSpPr>
          <p:spPr>
            <a:xfrm rot="19782000">
              <a:off x="2881440" y="-3159360"/>
              <a:ext cx="10408680" cy="590652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Freeform 251"/>
            <p:cNvSpPr/>
            <p:nvPr/>
          </p:nvSpPr>
          <p:spPr>
            <a:xfrm rot="19782000">
              <a:off x="2982240" y="-3318120"/>
              <a:ext cx="10322640" cy="61516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Freeform 252"/>
            <p:cNvSpPr/>
            <p:nvPr/>
          </p:nvSpPr>
          <p:spPr>
            <a:xfrm rot="19782000">
              <a:off x="3087360" y="-3471840"/>
              <a:ext cx="10226520" cy="639648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Freeform 253"/>
            <p:cNvSpPr/>
            <p:nvPr/>
          </p:nvSpPr>
          <p:spPr>
            <a:xfrm rot="19782000">
              <a:off x="3191760" y="-3625200"/>
              <a:ext cx="10134360" cy="663588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Freeform 254"/>
            <p:cNvSpPr/>
            <p:nvPr/>
          </p:nvSpPr>
          <p:spPr>
            <a:xfrm rot="19782000">
              <a:off x="3299400" y="-3782880"/>
              <a:ext cx="10031760" cy="688068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Freeform 255"/>
            <p:cNvSpPr/>
            <p:nvPr/>
          </p:nvSpPr>
          <p:spPr>
            <a:xfrm rot="19782000">
              <a:off x="3407040" y="-3934800"/>
              <a:ext cx="9928440" cy="712476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2" name="Rectangle 256"/>
          <p:cNvSpPr/>
          <p:nvPr/>
        </p:nvSpPr>
        <p:spPr>
          <a:xfrm>
            <a:off x="0" y="282600"/>
            <a:ext cx="11522160" cy="65088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3" name="Group 333"/>
          <p:cNvGrpSpPr/>
          <p:nvPr/>
        </p:nvGrpSpPr>
        <p:grpSpPr>
          <a:xfrm>
            <a:off x="-14400" y="-54720"/>
            <a:ext cx="11576880" cy="6895080"/>
            <a:chOff x="-14400" y="-54720"/>
            <a:chExt cx="11576880" cy="6895080"/>
          </a:xfrm>
        </p:grpSpPr>
        <p:sp>
          <p:nvSpPr>
            <p:cNvPr id="64" name="Rectangle 257"/>
            <p:cNvSpPr/>
            <p:nvPr/>
          </p:nvSpPr>
          <p:spPr>
            <a:xfrm>
              <a:off x="0" y="976320"/>
              <a:ext cx="11522160" cy="5864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Rectangle 324"/>
            <p:cNvSpPr/>
            <p:nvPr/>
          </p:nvSpPr>
          <p:spPr>
            <a:xfrm>
              <a:off x="9013680" y="487440"/>
              <a:ext cx="2508480" cy="623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" name="AutoShape 325"/>
            <p:cNvSpPr/>
            <p:nvPr/>
          </p:nvSpPr>
          <p:spPr>
            <a:xfrm rot="16030200">
              <a:off x="8380080" y="362880"/>
              <a:ext cx="535320" cy="79560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AutoShape 326"/>
            <p:cNvSpPr/>
            <p:nvPr/>
          </p:nvSpPr>
          <p:spPr>
            <a:xfrm rot="16030200">
              <a:off x="10856520" y="-129960"/>
              <a:ext cx="534960" cy="79560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Group 330"/>
            <p:cNvGrpSpPr/>
            <p:nvPr/>
          </p:nvGrpSpPr>
          <p:grpSpPr>
            <a:xfrm>
              <a:off x="-14400" y="-54720"/>
              <a:ext cx="11576880" cy="1048320"/>
              <a:chOff x="-14400" y="-54720"/>
              <a:chExt cx="11576880" cy="1048320"/>
            </a:xfrm>
          </p:grpSpPr>
          <p:sp>
            <p:nvSpPr>
              <p:cNvPr id="69" name="Rectangle 318"/>
              <p:cNvSpPr/>
              <p:nvPr/>
            </p:nvSpPr>
            <p:spPr>
              <a:xfrm>
                <a:off x="-14400" y="922320"/>
                <a:ext cx="8447040" cy="712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Rectangle 319"/>
              <p:cNvSpPr/>
              <p:nvPr/>
            </p:nvSpPr>
            <p:spPr>
              <a:xfrm rot="19388400">
                <a:off x="10745640" y="204480"/>
                <a:ext cx="885960" cy="6516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Rectangle 321"/>
              <p:cNvSpPr/>
              <p:nvPr/>
            </p:nvSpPr>
            <p:spPr>
              <a:xfrm>
                <a:off x="9029520" y="457200"/>
                <a:ext cx="1828800" cy="730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Rectangle 320"/>
              <p:cNvSpPr/>
              <p:nvPr/>
            </p:nvSpPr>
            <p:spPr>
              <a:xfrm rot="19388400">
                <a:off x="8321400" y="696960"/>
                <a:ext cx="795600" cy="601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3" name="Rectangle 336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87F-9823-4A6D-8967-7A3C0A05A5C2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red"/>
          <p:cNvPicPr/>
          <p:nvPr/>
        </p:nvPicPr>
        <p:blipFill>
          <a:blip r:embed="rId2"/>
          <a:stretch/>
        </p:blipFill>
        <p:spPr>
          <a:xfrm>
            <a:off x="0" y="-520560"/>
            <a:ext cx="1152216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53"/>
          <p:cNvGrpSpPr/>
          <p:nvPr/>
        </p:nvGrpSpPr>
        <p:grpSpPr>
          <a:xfrm>
            <a:off x="-91080" y="-6398640"/>
            <a:ext cx="14430600" cy="13480560"/>
            <a:chOff x="-91080" y="-6398640"/>
            <a:chExt cx="14430600" cy="13480560"/>
          </a:xfrm>
        </p:grpSpPr>
        <p:sp>
          <p:nvSpPr>
            <p:cNvPr id="113" name="Freeform 54"/>
            <p:cNvSpPr/>
            <p:nvPr/>
          </p:nvSpPr>
          <p:spPr>
            <a:xfrm rot="19433400">
              <a:off x="968400" y="-1794240"/>
              <a:ext cx="9545760" cy="670752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" name="Freeform 55"/>
            <p:cNvSpPr/>
            <p:nvPr/>
          </p:nvSpPr>
          <p:spPr>
            <a:xfrm rot="19433400">
              <a:off x="984960" y="-1742400"/>
              <a:ext cx="9629640" cy="65613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 rot="19433400">
              <a:off x="998280" y="-1693800"/>
              <a:ext cx="9713880" cy="64137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 rot="19433400">
              <a:off x="1015560" y="-1636560"/>
              <a:ext cx="9795600" cy="625788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 rot="19433400">
              <a:off x="1034640" y="-1584000"/>
              <a:ext cx="9875880" cy="611028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 rot="19433400">
              <a:off x="1055160" y="-1527840"/>
              <a:ext cx="9951840" cy="595440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 rot="19433400">
              <a:off x="1076040" y="-1470240"/>
              <a:ext cx="10026000" cy="579924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 rot="19433400">
              <a:off x="1098360" y="-1413720"/>
              <a:ext cx="10099440" cy="564696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 rot="19433400">
              <a:off x="1121760" y="-1355760"/>
              <a:ext cx="10163880" cy="548676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 rot="19433400">
              <a:off x="1145880" y="-1294200"/>
              <a:ext cx="10231920" cy="532656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 rot="19433400">
              <a:off x="1174320" y="-1238040"/>
              <a:ext cx="10295640" cy="517536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 rot="19433400">
              <a:off x="1199880" y="-1182960"/>
              <a:ext cx="10353960" cy="502308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 rot="19433400">
              <a:off x="1225080" y="-1128240"/>
              <a:ext cx="10412280" cy="486720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 rot="19433400">
              <a:off x="1253880" y="-1074960"/>
              <a:ext cx="10468080" cy="472068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 rot="19433400">
              <a:off x="1282320" y="-1025280"/>
              <a:ext cx="10519920" cy="457344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 rot="19433400">
              <a:off x="1309680" y="-973080"/>
              <a:ext cx="10568160" cy="442116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 rot="19433400">
              <a:off x="1342080" y="-923400"/>
              <a:ext cx="10613880" cy="42789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 rot="19433400">
              <a:off x="1373760" y="-872280"/>
              <a:ext cx="10655640" cy="412776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 rot="19433400">
              <a:off x="1405080" y="-825120"/>
              <a:ext cx="10695960" cy="398412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 rot="19433400">
              <a:off x="1440000" y="-777960"/>
              <a:ext cx="10731960" cy="384480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 rot="19433400">
              <a:off x="1474200" y="-731520"/>
              <a:ext cx="10764000" cy="369828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 rot="19433400">
              <a:off x="1510920" y="-687240"/>
              <a:ext cx="10791720" cy="35600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 rot="19433400">
              <a:off x="1548000" y="-644760"/>
              <a:ext cx="10819800" cy="342540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 rot="19433400">
              <a:off x="1587600" y="-598320"/>
              <a:ext cx="10846080" cy="328284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 rot="19433400">
              <a:off x="1625040" y="-553320"/>
              <a:ext cx="10864440" cy="313956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 rot="19433400">
              <a:off x="1666080" y="-517680"/>
              <a:ext cx="10880280" cy="301392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 rot="19433400">
              <a:off x="1707120" y="-474120"/>
              <a:ext cx="10897920" cy="287532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 rot="19433400">
              <a:off x="1750680" y="-433800"/>
              <a:ext cx="10906200" cy="27417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 rot="19433400">
              <a:off x="1792440" y="-397440"/>
              <a:ext cx="10915920" cy="261108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 rot="19433400">
              <a:off x="1840680" y="-357840"/>
              <a:ext cx="10920240" cy="24807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 rot="19433400">
              <a:off x="1886400" y="-322560"/>
              <a:ext cx="10923840" cy="235584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 rot="19433400">
              <a:off x="1934280" y="-285120"/>
              <a:ext cx="10920240" cy="222516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 rot="19433400">
              <a:off x="1985400" y="-249840"/>
              <a:ext cx="10911960" cy="210060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 rot="19433400">
              <a:off x="2023200" y="-251640"/>
              <a:ext cx="10903680" cy="201312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 rot="19433400">
              <a:off x="2018520" y="-392400"/>
              <a:ext cx="10896120" cy="208692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Freeform 89"/>
            <p:cNvSpPr/>
            <p:nvPr/>
          </p:nvSpPr>
          <p:spPr>
            <a:xfrm rot="19433400">
              <a:off x="2019240" y="-529920"/>
              <a:ext cx="10879920" cy="215244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Freeform 90"/>
            <p:cNvSpPr/>
            <p:nvPr/>
          </p:nvSpPr>
          <p:spPr>
            <a:xfrm rot="19433400">
              <a:off x="2021400" y="-670320"/>
              <a:ext cx="10859760" cy="222120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0" name="Freeform 91"/>
            <p:cNvSpPr/>
            <p:nvPr/>
          </p:nvSpPr>
          <p:spPr>
            <a:xfrm rot="19433400">
              <a:off x="2027520" y="-813960"/>
              <a:ext cx="10838160" cy="229500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" name="Freeform 92"/>
            <p:cNvSpPr/>
            <p:nvPr/>
          </p:nvSpPr>
          <p:spPr>
            <a:xfrm rot="19433400">
              <a:off x="2036160" y="-952560"/>
              <a:ext cx="10810080" cy="236088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Freeform 93"/>
            <p:cNvSpPr/>
            <p:nvPr/>
          </p:nvSpPr>
          <p:spPr>
            <a:xfrm rot="19433400">
              <a:off x="2047680" y="-1097640"/>
              <a:ext cx="10782360" cy="243432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" name="Freeform 94"/>
            <p:cNvSpPr/>
            <p:nvPr/>
          </p:nvSpPr>
          <p:spPr>
            <a:xfrm rot="19433400">
              <a:off x="2062800" y="-1242720"/>
              <a:ext cx="10748160" cy="251208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" name="Freeform 95"/>
            <p:cNvSpPr/>
            <p:nvPr/>
          </p:nvSpPr>
          <p:spPr>
            <a:xfrm rot="19433400">
              <a:off x="2122560" y="-1401120"/>
              <a:ext cx="10711800" cy="273204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" name="Freeform 96"/>
            <p:cNvSpPr/>
            <p:nvPr/>
          </p:nvSpPr>
          <p:spPr>
            <a:xfrm rot="19433400">
              <a:off x="2193480" y="-1559520"/>
              <a:ext cx="10672200" cy="297936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" name="Freeform 97"/>
            <p:cNvSpPr/>
            <p:nvPr/>
          </p:nvSpPr>
          <p:spPr>
            <a:xfrm rot="19433400">
              <a:off x="2264400" y="-1722600"/>
              <a:ext cx="10629720" cy="322704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" name="Freeform 98"/>
            <p:cNvSpPr/>
            <p:nvPr/>
          </p:nvSpPr>
          <p:spPr>
            <a:xfrm rot="19433400">
              <a:off x="2337840" y="-1884960"/>
              <a:ext cx="10584000" cy="347760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" name="Freeform 99"/>
            <p:cNvSpPr/>
            <p:nvPr/>
          </p:nvSpPr>
          <p:spPr>
            <a:xfrm rot="19433400">
              <a:off x="2417400" y="-2044080"/>
              <a:ext cx="10531800" cy="372384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" name="Freeform 100"/>
            <p:cNvSpPr/>
            <p:nvPr/>
          </p:nvSpPr>
          <p:spPr>
            <a:xfrm rot="19433400">
              <a:off x="2493720" y="-2206440"/>
              <a:ext cx="10479600" cy="397548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" name="Freeform 101"/>
            <p:cNvSpPr/>
            <p:nvPr/>
          </p:nvSpPr>
          <p:spPr>
            <a:xfrm rot="19433400">
              <a:off x="2572560" y="-2370240"/>
              <a:ext cx="10424520" cy="422676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" name="Freeform 102"/>
            <p:cNvSpPr/>
            <p:nvPr/>
          </p:nvSpPr>
          <p:spPr>
            <a:xfrm rot="19433400">
              <a:off x="2655000" y="-2532240"/>
              <a:ext cx="10360080" cy="44780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" name="Freeform 103"/>
            <p:cNvSpPr/>
            <p:nvPr/>
          </p:nvSpPr>
          <p:spPr>
            <a:xfrm rot="19433400">
              <a:off x="2735280" y="-2695320"/>
              <a:ext cx="10299960" cy="472464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" name="Freeform 104"/>
            <p:cNvSpPr/>
            <p:nvPr/>
          </p:nvSpPr>
          <p:spPr>
            <a:xfrm rot="19433400">
              <a:off x="2821320" y="-2857320"/>
              <a:ext cx="10227960" cy="497628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" name="Freeform 105"/>
            <p:cNvSpPr/>
            <p:nvPr/>
          </p:nvSpPr>
          <p:spPr>
            <a:xfrm rot="19433400">
              <a:off x="2906640" y="-3015360"/>
              <a:ext cx="10159920" cy="522252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" name="Freeform 106"/>
            <p:cNvSpPr/>
            <p:nvPr/>
          </p:nvSpPr>
          <p:spPr>
            <a:xfrm rot="19433400">
              <a:off x="2993400" y="-3177720"/>
              <a:ext cx="10086120" cy="547020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" name="Freeform 107"/>
            <p:cNvSpPr/>
            <p:nvPr/>
          </p:nvSpPr>
          <p:spPr>
            <a:xfrm rot="19433400">
              <a:off x="3087000" y="-3336480"/>
              <a:ext cx="10005480" cy="571644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Freeform 108"/>
            <p:cNvSpPr/>
            <p:nvPr/>
          </p:nvSpPr>
          <p:spPr>
            <a:xfrm rot="19433400">
              <a:off x="3176640" y="-3498840"/>
              <a:ext cx="9925920" cy="596700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8" name="Freeform 109"/>
            <p:cNvSpPr/>
            <p:nvPr/>
          </p:nvSpPr>
          <p:spPr>
            <a:xfrm rot="19433400">
              <a:off x="3268800" y="-3662280"/>
              <a:ext cx="9843840" cy="62146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9" name="Freeform 110"/>
            <p:cNvSpPr/>
            <p:nvPr/>
          </p:nvSpPr>
          <p:spPr>
            <a:xfrm rot="19433400">
              <a:off x="3366000" y="-3821040"/>
              <a:ext cx="9752040" cy="646200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Freeform 111"/>
            <p:cNvSpPr/>
            <p:nvPr/>
          </p:nvSpPr>
          <p:spPr>
            <a:xfrm rot="19433400">
              <a:off x="3461760" y="-3979440"/>
              <a:ext cx="9664200" cy="670356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1" name="Freeform 112"/>
            <p:cNvSpPr/>
            <p:nvPr/>
          </p:nvSpPr>
          <p:spPr>
            <a:xfrm rot="19433400">
              <a:off x="3560760" y="-4142160"/>
              <a:ext cx="9565920" cy="695124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2" name="Freeform 113"/>
            <p:cNvSpPr/>
            <p:nvPr/>
          </p:nvSpPr>
          <p:spPr>
            <a:xfrm rot="19433400">
              <a:off x="3660480" y="-4299480"/>
              <a:ext cx="9467640" cy="719748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73" name="Picture 115" descr="영문간지"/>
          <p:cNvPicPr/>
          <p:nvPr/>
        </p:nvPicPr>
        <p:blipFill>
          <a:blip r:embed="rId3"/>
          <a:stretch/>
        </p:blipFill>
        <p:spPr>
          <a:xfrm>
            <a:off x="363600" y="-336600"/>
            <a:ext cx="35766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14"/>
          <p:cNvSpPr/>
          <p:nvPr/>
        </p:nvSpPr>
        <p:spPr>
          <a:xfrm>
            <a:off x="0" y="1601640"/>
            <a:ext cx="11522160" cy="1764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ectangle 116"/>
          <p:cNvSpPr/>
          <p:nvPr/>
        </p:nvSpPr>
        <p:spPr>
          <a:xfrm>
            <a:off x="0" y="-520560"/>
            <a:ext cx="11522160" cy="10872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6" name="Group 194"/>
          <p:cNvGrpSpPr/>
          <p:nvPr/>
        </p:nvGrpSpPr>
        <p:grpSpPr>
          <a:xfrm>
            <a:off x="-19080" y="3416400"/>
            <a:ext cx="11555280" cy="142920"/>
            <a:chOff x="-19080" y="3416400"/>
            <a:chExt cx="11555280" cy="142920"/>
          </a:xfrm>
        </p:grpSpPr>
        <p:sp>
          <p:nvSpPr>
            <p:cNvPr id="177" name="Rectangle 184"/>
            <p:cNvSpPr/>
            <p:nvPr/>
          </p:nvSpPr>
          <p:spPr>
            <a:xfrm>
              <a:off x="0" y="3416400"/>
              <a:ext cx="11522160" cy="14292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Rectangle 118"/>
            <p:cNvSpPr/>
            <p:nvPr/>
          </p:nvSpPr>
          <p:spPr>
            <a:xfrm>
              <a:off x="-19080" y="3418560"/>
              <a:ext cx="11555280" cy="134280"/>
            </a:xfrm>
            <a:prstGeom prst="rect">
              <a:avLst/>
            </a:prstGeom>
            <a:blipFill rotWithShape="0">
              <a:blip r:embed="rId5">
                <a:alphaModFix amt="3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9" name="Rectangle 193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1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61B1-3332-4443-80B5-72A86CB3AEE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Oval 29"/>
          <p:cNvSpPr/>
          <p:nvPr/>
        </p:nvSpPr>
        <p:spPr>
          <a:xfrm flipV="1">
            <a:off x="9631440" y="5938200"/>
            <a:ext cx="1603440" cy="6541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8" name="Group 22"/>
          <p:cNvGrpSpPr/>
          <p:nvPr/>
        </p:nvGrpSpPr>
        <p:grpSpPr>
          <a:xfrm>
            <a:off x="595440" y="5175360"/>
            <a:ext cx="1218960" cy="1222200"/>
            <a:chOff x="595440" y="5175360"/>
            <a:chExt cx="1218960" cy="1222200"/>
          </a:xfrm>
        </p:grpSpPr>
        <p:pic>
          <p:nvPicPr>
            <p:cNvPr id="219" name="Picture 9" descr="png-2021"/>
            <p:cNvPicPr/>
            <p:nvPr/>
          </p:nvPicPr>
          <p:blipFill>
            <a:blip r:embed="rId1"/>
            <a:stretch/>
          </p:blipFill>
          <p:spPr>
            <a:xfrm>
              <a:off x="595440" y="51753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2" descr="c"/>
            <p:cNvPicPr/>
            <p:nvPr/>
          </p:nvPicPr>
          <p:blipFill>
            <a:blip r:embed="rId2"/>
            <a:srcRect l="0" t="50659" r="54791" b="0"/>
            <a:stretch/>
          </p:blipFill>
          <p:spPr>
            <a:xfrm>
              <a:off x="596880" y="5791320"/>
              <a:ext cx="5554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23"/>
          <p:cNvGrpSpPr/>
          <p:nvPr/>
        </p:nvGrpSpPr>
        <p:grpSpPr>
          <a:xfrm>
            <a:off x="595440" y="5172120"/>
            <a:ext cx="1228680" cy="1228680"/>
            <a:chOff x="595440" y="5172120"/>
            <a:chExt cx="1228680" cy="1228680"/>
          </a:xfrm>
        </p:grpSpPr>
        <p:pic>
          <p:nvPicPr>
            <p:cNvPr id="222" name="Picture 10" descr="a"/>
            <p:cNvPicPr/>
            <p:nvPr/>
          </p:nvPicPr>
          <p:blipFill>
            <a:blip r:embed="rId3"/>
            <a:stretch/>
          </p:blipFill>
          <p:spPr>
            <a:xfrm>
              <a:off x="595440" y="5172120"/>
              <a:ext cx="12286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3" descr="c"/>
            <p:cNvPicPr/>
            <p:nvPr/>
          </p:nvPicPr>
          <p:blipFill>
            <a:blip r:embed="rId4"/>
            <a:srcRect l="0" t="50659" r="54791" b="0"/>
            <a:stretch/>
          </p:blipFill>
          <p:spPr>
            <a:xfrm>
              <a:off x="597240" y="5786280"/>
              <a:ext cx="555480" cy="6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16" descr="b"/>
          <p:cNvPicPr/>
          <p:nvPr/>
        </p:nvPicPr>
        <p:blipFill>
          <a:blip r:embed="rId5"/>
          <a:stretch/>
        </p:blipFill>
        <p:spPr>
          <a:xfrm rot="1387200">
            <a:off x="739440" y="457668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225" name="Oval 18"/>
          <p:cNvSpPr/>
          <p:nvPr/>
        </p:nvSpPr>
        <p:spPr>
          <a:xfrm flipV="1">
            <a:off x="10139400" y="6189840"/>
            <a:ext cx="2084400" cy="480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26" descr="png-0151"/>
          <p:cNvPicPr/>
          <p:nvPr/>
        </p:nvPicPr>
        <p:blipFill>
          <a:blip r:embed="rId6"/>
          <a:stretch/>
        </p:blipFill>
        <p:spPr>
          <a:xfrm>
            <a:off x="8874000" y="3948120"/>
            <a:ext cx="2648160" cy="2647800"/>
          </a:xfrm>
          <a:prstGeom prst="rect">
            <a:avLst/>
          </a:prstGeom>
          <a:ln w="0">
            <a:noFill/>
          </a:ln>
        </p:spPr>
      </p:pic>
      <p:sp>
        <p:nvSpPr>
          <p:cNvPr id="227" name="Oval 30"/>
          <p:cNvSpPr/>
          <p:nvPr/>
        </p:nvSpPr>
        <p:spPr>
          <a:xfrm flipV="1">
            <a:off x="10310760" y="3481560"/>
            <a:ext cx="324000" cy="187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3489840" y="1090440"/>
            <a:ext cx="51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毕业答辩古典风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496 -0.00975 L 0.28265 -0.41365 E">
                                      <p:cBhvr>
                                        <p:cTn id="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879 -0.40863 L 0.32924 -0.40585 L 0.30692 -0.40306 L 0.30774 -0.34045 L 0.33834 -0.41976 L 0.33917 -0.33627 L 0.34413 -0.37941 L 0.35157 -0.39054 L 0.35984 -0.38636 L 0.36149 -0.36271 L 0.36563 -0.33488 L 0.3739 -0.35436 L 0.39953 -0.37245 L 0.39705 -0.38497 L 0.37968 -0.37941 L 0.37968 -0.36549 L 0.37803 -0.34323 L 0.39043 -0.33906 L 0.40036 -0.35019 L 0.47395 -0.41559 L 0.44914 -0.4128 L 0.44253 -0.38358 L 0.44501 -0.37245 L 0.46734 -0.37662 L 0.44418 -0.36688 L 0.44336 -0.34323 L 0.47064 -0.33766 L 0.48139 -0.38636 L 0.48139 -0.33349 L 0.48635 -0.37802 L 0.50041 -0.38915 L 0.50537 -0.37523 L 0.5062 -0.33071 L 0.54093 -0.37662 L 0.53597 -0.3808 L 0.52026 -0.37802 L 0.51778 -0.35158 L 0.5277 -0.33766 L 0.53928 -0.34601 L 0.54424 -0.41419 C 0.54506 -0.38915 0.54672 -0.33906 0.54672 -0.33882 E">
                                      <p:cBhvr>
                                        <p:cTn id="39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03 -0.2129 L 0.0379 -0.2129 L 0.02467 -0.20362 L 0.02467 -0.15909 L 0.05223 -0.21661 L 0.05333 -0.15724 L 0.05664 -0.18692 L 0.06215 -0.19991 L 0.07097 -0.19991 L 0.07428 -0.15724 L 0.09192 -0.15909 L 0.10846 -0.16837 L 0.10625 -0.19249 L 0.08641 -0.1795 L 0.08972 -0.1628 L 0.10956 -0.16095 L 0.11508 -0.15167 L 0.125 -0.20362 L 0.1239 -0.15724 L 0.12831 -0.19805 L 0.14154 -0.20362 L 0.14374 -0.15724 L 0.15794 -0.21475 L 0.15918 -0.15538 L 0.17558 -0.19991 L 0.1691 -0.17208 L 0.18123 -0.15538 L 0.2121 -0.19805 L 0.19446 -0.20362 L 0.18881 -0.18507 L 0.20769 -0.17579 L 0.20659 -0.15724 L 0.19666 -0.15538 L 0.19115 -0.1628 L 0.26723 -0.2129 L 0.24297 -0.2129 L 0.24517 -0.15724 L 0.24738 -0.19249 L 0.26502 -0.19249 L 0.28597 -0.20176 L 0.27715 -0.18692 L 0.27825 -0.16837 L 0.28928 -0.15909 L 0.2992 -0.16466 L 0.30016 -0.18321 L 0.28928 -0.19991 L 0.31353 -0.1962 L 0.31353 -0.16095 L 0.32015 -0.19805 L 0.32662 -0.20362 L 0.35433 -0.21661 L 0.36756 -0.18692 L 0.38478 -0.2129 L 0.36866 -0.18507 L 0.36866 -0.14982 L 0.40173 -0.19805 L 0.38961 -0.17579 L 0.40725 -0.15353 L 0.41607 -0.17393 L 0.41607 -0.19434 L 0.40504 -0.20176 L 0.4315 -0.19991 L 0.43178 -0.15538 L 0.44363 -0.15909 L 0.44942 -0.1962 L 0.45231 -0.1628 L 0.46678 -0.1962 L 0.46899 -0.15167 L 0.4734 -0.19434 L 0.48332 -0.19991 L 0.52191 -0.21661 L 0.50537 -0.15909 L 0.52632 -0.21475 L 0.53735 -0.15353 L 0.5175 -0.17579 L 0.53183 -0.1795 L 0.55058 -0.21104 L 0.55388 -0.15909 L 0.56381 -0.16095 L 0.57483 -0.21475 L 0.57483 -0.1628 L 0.58586 -0.15724 L 0.59647 -0.17764 L 0.61673 -0.18321 L 0.61411 -0.19805 L 0.60019 -0.20176 L 0.59344 -0.19063 L 0.59647 -0.16466 L 0.60901 -0.15909 L 0.61783 -0.16651 L 0.63327 -0.1962 L 0.63175 -0.16095 L 0.63988 -0.20362 L 0.65201 -0.20176 L 0.65201 -0.15353 L 0.67186 -0.21104 L 0.66965 -0.15909 L 0.68068 -0.15909 L 0.6928 -0.21846 L 0.6928 -0.15538 L 0.70824 -0.20362 L 0.70714 -0.18507 L 0.70603 -0.16651 L 0.71692 -0.16095 L 0.73029 -0.16651 L 0.72808 -0.19434 L 0.71485 -0.20362 L 0.74462 -0.20176 L 0.74352 -0.16095 L 0.75014 -0.19805 L 0.76116 -0.20362 L 0.76116 -0.15909 E">
                                      <p:cBhvr>
                                        <p:cTn id="42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7200000">
                                      <p:cBhvr>
                                        <p:cTn id="4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76116 -0.15916 L 0.82397 -0.31529 E">
                                      <p:cBhvr>
                                        <p:cTn id="47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82800" y="358920"/>
            <a:ext cx="775656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42960" y="1379160"/>
            <a:ext cx="84362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Gulim"/>
              </a:rPr>
              <a:t>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幻灯片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ppt背景图片素材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bei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ppt动态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dongtai/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通用ppt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tongyong/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ppt 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ppt设计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chuangyi/ 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ppt模板素材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sucai/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毕业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dab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1"/>
              </a:rPr>
              <a:t>企业文化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qiye/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2"/>
              </a:rPr>
              <a:t>月工作总结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gongzuo/ 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3"/>
              </a:rPr>
              <a:t>商务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shangwu/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4"/>
              </a:rPr>
              <a:t>精品ppt模板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jingpin/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5"/>
              </a:rPr>
              <a:t>ppt课件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kejian/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6"/>
              </a:rPr>
              <a:t>中国风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zhongguofeng/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7"/>
              </a:rPr>
              <a:t>活动策划方案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yingxiao/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8"/>
              </a:rPr>
              <a:t>ppt免费下载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mianfe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Gulim"/>
                <a:hlinkClick r:id="rId19"/>
              </a:rPr>
              <a:t>工业制造ppt模板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gongye/ 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会议报告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hui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交通安全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jiaotong/ 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教育培训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卡通动漫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katong/ 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体育运动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ulim"/>
              </a:rPr>
              <a:t>http://www.eeppt.com/moban/yundo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8326440" y="495360"/>
            <a:ext cx="1312920" cy="33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>廉玮晟</dc:creator>
  <dc:description/>
  <dc:language>en-US</dc:language>
  <cp:lastModifiedBy>yu wang</cp:lastModifiedBy>
  <dcterms:modified xsi:type="dcterms:W3CDTF">2015-08-08T10:06:15Z</dcterms:modified>
  <cp:revision>462</cp:revision>
  <dc:subject/>
  <dc:title>答辩幻灯</dc:title>
</cp:coreProperties>
</file>