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7451640" y="368280"/>
            <a:ext cx="12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2"/>
          <p:cNvSpPr/>
          <p:nvPr/>
        </p:nvSpPr>
        <p:spPr>
          <a:xfrm>
            <a:off x="7380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WordArt 2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485040" cy="804600"/>
          </a:xfrm>
          <a:prstGeom prst="rect">
            <a:avLst/>
          </a:prstGeom>
          <a:ln w="0">
            <a:noFill/>
          </a:ln>
        </p:spPr>
      </p:pic>
      <p:sp>
        <p:nvSpPr>
          <p:cNvPr id="80" name="WordArt 3"/>
          <p:cNvSpPr txBox="1"/>
          <p:nvPr/>
        </p:nvSpPr>
        <p:spPr>
          <a:xfrm>
            <a:off x="-2048040" y="2345760"/>
            <a:ext cx="31640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5f5f5f">
                        <a:alpha val="20000"/>
                      </a:srgbClr>
                    </a:gs>
                  </a:gsLst>
                  <a:lin ang="5400000"/>
                </a:gradFill>
                <a:latin typeface="黑体"/>
              </a:rPr>
              <a:t>毕业答辩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5f5f5f">
                      <a:alpha val="20000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771560" y="3718080"/>
            <a:ext cx="5826240" cy="18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姓名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号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院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班级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××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95280" y="476280"/>
            <a:ext cx="48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方法与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">
            <a:hlinkClick r:id="rId1" action="ppaction://hlinksldjump"/>
          </p:cNvPr>
          <p:cNvSpPr/>
          <p:nvPr/>
        </p:nvSpPr>
        <p:spPr>
          <a:xfrm>
            <a:off x="8748720" y="638172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5982"/>
                </a:moveTo>
                <a:lnTo>
                  <a:pt x="13376" y="8593"/>
                </a:ln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lnTo>
                  <a:pt x="17763" y="12945"/>
                </a:lnTo>
                <a:lnTo>
                  <a:pt x="16109" y="12945"/>
                </a:lnTo>
                <a:lnTo>
                  <a:pt x="16109" y="20134"/>
                </a:lnTo>
                <a:lnTo>
                  <a:pt x="5491" y="20134"/>
                </a:lnTo>
                <a:lnTo>
                  <a:pt x="5491" y="12945"/>
                </a:lnTo>
                <a:lnTo>
                  <a:pt x="3837" y="12945"/>
                </a:lnTo>
                <a:close/>
              </a:path>
              <a:path fill="darkenLess" w="21600" h="25890">
                <a:moveTo>
                  <a:pt x="13376" y="8593"/>
                </a:move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close/>
              </a:path>
              <a:path fill="darkenLess" w="21600" h="25890">
                <a:moveTo>
                  <a:pt x="9877" y="16444"/>
                </a:moveTo>
                <a:lnTo>
                  <a:pt x="11723" y="16444"/>
                </a:lnTo>
                <a:lnTo>
                  <a:pt x="11723" y="20134"/>
                </a:lnTo>
                <a:lnTo>
                  <a:pt x="16109" y="20134"/>
                </a:lnTo>
                <a:lnTo>
                  <a:pt x="16109" y="12945"/>
                </a:lnTo>
                <a:lnTo>
                  <a:pt x="5491" y="12945"/>
                </a:lnTo>
                <a:lnTo>
                  <a:pt x="5491" y="20134"/>
                </a:lnTo>
                <a:lnTo>
                  <a:pt x="9877" y="2013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要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rId1" action="ppaction://hlinksldjump"/>
          </p:cNvPr>
          <p:cNvSpPr/>
          <p:nvPr/>
        </p:nvSpPr>
        <p:spPr>
          <a:xfrm>
            <a:off x="8748720" y="638172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5982"/>
                </a:moveTo>
                <a:lnTo>
                  <a:pt x="13376" y="8593"/>
                </a:ln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lnTo>
                  <a:pt x="17763" y="12945"/>
                </a:lnTo>
                <a:lnTo>
                  <a:pt x="16109" y="12945"/>
                </a:lnTo>
                <a:lnTo>
                  <a:pt x="16109" y="20134"/>
                </a:lnTo>
                <a:lnTo>
                  <a:pt x="5491" y="20134"/>
                </a:lnTo>
                <a:lnTo>
                  <a:pt x="5491" y="12945"/>
                </a:lnTo>
                <a:lnTo>
                  <a:pt x="3837" y="12945"/>
                </a:lnTo>
                <a:close/>
              </a:path>
              <a:path fill="darkenLess" w="21600" h="25890">
                <a:moveTo>
                  <a:pt x="13376" y="8593"/>
                </a:move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close/>
              </a:path>
              <a:path fill="darkenLess" w="21600" h="25890">
                <a:moveTo>
                  <a:pt x="9877" y="16444"/>
                </a:moveTo>
                <a:lnTo>
                  <a:pt x="11723" y="16444"/>
                </a:lnTo>
                <a:lnTo>
                  <a:pt x="11723" y="20134"/>
                </a:lnTo>
                <a:lnTo>
                  <a:pt x="16109" y="20134"/>
                </a:lnTo>
                <a:lnTo>
                  <a:pt x="16109" y="12945"/>
                </a:lnTo>
                <a:lnTo>
                  <a:pt x="5491" y="12945"/>
                </a:lnTo>
                <a:lnTo>
                  <a:pt x="5491" y="20134"/>
                </a:lnTo>
                <a:lnTo>
                  <a:pt x="9877" y="2013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问题讨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>
            <a:hlinkClick r:id="rId1" action="ppaction://hlinksldjump"/>
          </p:cNvPr>
          <p:cNvSpPr/>
          <p:nvPr/>
        </p:nvSpPr>
        <p:spPr>
          <a:xfrm>
            <a:off x="8748720" y="638172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5982"/>
                </a:moveTo>
                <a:lnTo>
                  <a:pt x="13376" y="8593"/>
                </a:ln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lnTo>
                  <a:pt x="17763" y="12945"/>
                </a:lnTo>
                <a:lnTo>
                  <a:pt x="16109" y="12945"/>
                </a:lnTo>
                <a:lnTo>
                  <a:pt x="16109" y="20134"/>
                </a:lnTo>
                <a:lnTo>
                  <a:pt x="5491" y="20134"/>
                </a:lnTo>
                <a:lnTo>
                  <a:pt x="5491" y="12945"/>
                </a:lnTo>
                <a:lnTo>
                  <a:pt x="3837" y="12945"/>
                </a:lnTo>
                <a:close/>
              </a:path>
              <a:path fill="darkenLess" w="21600" h="25890">
                <a:moveTo>
                  <a:pt x="13376" y="8593"/>
                </a:move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close/>
              </a:path>
              <a:path fill="darkenLess" w="21600" h="25890">
                <a:moveTo>
                  <a:pt x="9877" y="16444"/>
                </a:moveTo>
                <a:lnTo>
                  <a:pt x="11723" y="16444"/>
                </a:lnTo>
                <a:lnTo>
                  <a:pt x="11723" y="20134"/>
                </a:lnTo>
                <a:lnTo>
                  <a:pt x="16109" y="20134"/>
                </a:lnTo>
                <a:lnTo>
                  <a:pt x="16109" y="12945"/>
                </a:lnTo>
                <a:lnTo>
                  <a:pt x="5491" y="12945"/>
                </a:lnTo>
                <a:lnTo>
                  <a:pt x="5491" y="20134"/>
                </a:lnTo>
                <a:lnTo>
                  <a:pt x="9877" y="2013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致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">
            <a:hlinkClick r:id="rId1" action="ppaction://hlinksldjump"/>
          </p:cNvPr>
          <p:cNvSpPr/>
          <p:nvPr/>
        </p:nvSpPr>
        <p:spPr>
          <a:xfrm>
            <a:off x="8748720" y="638172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5982"/>
                </a:moveTo>
                <a:lnTo>
                  <a:pt x="13376" y="8593"/>
                </a:ln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lnTo>
                  <a:pt x="17763" y="12945"/>
                </a:lnTo>
                <a:lnTo>
                  <a:pt x="16109" y="12945"/>
                </a:lnTo>
                <a:lnTo>
                  <a:pt x="16109" y="20134"/>
                </a:lnTo>
                <a:lnTo>
                  <a:pt x="5491" y="20134"/>
                </a:lnTo>
                <a:lnTo>
                  <a:pt x="5491" y="12945"/>
                </a:lnTo>
                <a:lnTo>
                  <a:pt x="3837" y="12945"/>
                </a:lnTo>
                <a:close/>
              </a:path>
              <a:path fill="darkenLess" w="21600" h="25890">
                <a:moveTo>
                  <a:pt x="13376" y="8593"/>
                </a:move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close/>
              </a:path>
              <a:path fill="darkenLess" w="21600" h="25890">
                <a:moveTo>
                  <a:pt x="9877" y="16444"/>
                </a:moveTo>
                <a:lnTo>
                  <a:pt x="11723" y="16444"/>
                </a:lnTo>
                <a:lnTo>
                  <a:pt x="11723" y="20134"/>
                </a:lnTo>
                <a:lnTo>
                  <a:pt x="16109" y="20134"/>
                </a:lnTo>
                <a:lnTo>
                  <a:pt x="16109" y="12945"/>
                </a:lnTo>
                <a:lnTo>
                  <a:pt x="5491" y="12945"/>
                </a:lnTo>
                <a:lnTo>
                  <a:pt x="5491" y="20134"/>
                </a:lnTo>
                <a:lnTo>
                  <a:pt x="9877" y="2013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2" name="Picture 3" descr="2008-5-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oup 4"/>
            <p:cNvGrpSpPr/>
            <p:nvPr/>
          </p:nvGrpSpPr>
          <p:grpSpPr>
            <a:xfrm>
              <a:off x="2412360" y="2277000"/>
              <a:ext cx="4320360" cy="1728000"/>
              <a:chOff x="2412360" y="2277000"/>
              <a:chExt cx="4320360" cy="1728000"/>
            </a:xfrm>
          </p:grpSpPr>
          <p:sp>
            <p:nvSpPr>
              <p:cNvPr id="164" name="WordArt 5"/>
              <p:cNvSpPr txBox="1"/>
              <p:nvPr/>
            </p:nvSpPr>
            <p:spPr>
              <a:xfrm>
                <a:off x="2412360" y="2277000"/>
                <a:ext cx="4320360" cy="914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800" spc="1" strike="noStrike">
                    <a:ln w="3240">
                      <a:solidFill>
                        <a:srgbClr val="ffffff"/>
                      </a:solidFill>
                      <a:miter/>
                    </a:ln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e8f5f6"/>
                        </a:gs>
                      </a:gsLst>
                      <a:lin ang="5400000"/>
                    </a:gradFill>
                    <a:latin typeface="黑体"/>
                  </a:rPr>
                  <a:t>谢谢观赏</a:t>
                </a:r>
                <a:endParaRPr b="0" i="1" lang="en-US" sz="1800" spc="1" strike="noStrike">
                  <a:ln w="32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bbe0e3"/>
                      </a:gs>
                      <a:gs pos="100000">
                        <a:srgbClr val="e8f5f6"/>
                      </a:gs>
                    </a:gsLst>
                    <a:lin ang="5400000"/>
                  </a:gradFill>
                  <a:latin typeface="黑体"/>
                  <a:ea typeface="黑体"/>
                </a:endParaRPr>
              </a:p>
            </p:txBody>
          </p:sp>
          <p:sp>
            <p:nvSpPr>
              <p:cNvPr id="165" name="WordArt 6"/>
              <p:cNvSpPr txBox="1"/>
              <p:nvPr/>
            </p:nvSpPr>
            <p:spPr>
              <a:xfrm>
                <a:off x="-1908000" y="2376360"/>
                <a:ext cx="4320360" cy="813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bbe0e3">
                            <a:alpha val="0"/>
                          </a:srgbClr>
                        </a:gs>
                        <a:gs pos="100000">
                          <a:srgbClr val="e8f5f6">
                            <a:alpha val="32156"/>
                          </a:srgbClr>
                        </a:gs>
                      </a:gsLst>
                      <a:lin ang="5400000"/>
                    </a:gradFill>
                    <a:latin typeface="黑体"/>
                  </a:rPr>
                  <a:t>谢谢观赏</a:t>
                </a:r>
                <a:endParaRPr b="0" i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bbe0e3">
                          <a:alpha val="0"/>
                        </a:srgbClr>
                      </a:gs>
                      <a:gs pos="100000">
                        <a:srgbClr val="e8f5f6">
                          <a:alpha val="32156"/>
                        </a:srgbClr>
                      </a:gs>
                    </a:gsLst>
                    <a:lin ang="5400000"/>
                  </a:gradFill>
                  <a:latin typeface="黑体"/>
                  <a:ea typeface="黑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研究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研究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研究的展开思路和框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论文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相关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7" action="ppaction://hlinksldjump"/>
              </a:rPr>
              <a:t>研究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8" action="ppaction://hlinksldjump"/>
              </a:rPr>
              <a:t>研究方法与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9" action="ppaction://hlinksldjump"/>
              </a:rPr>
              <a:t>主要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10" action="ppaction://hlinksldjump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hlinkClick r:id="rId11" action="ppaction://hlinksldjump"/>
              </a:rPr>
              <a:t>致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13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41440" y="1125000"/>
            <a:ext cx="81374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547640" y="3960720"/>
            <a:ext cx="1657440" cy="1197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请输入内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未知"/>
          <p:cNvSpPr/>
          <p:nvPr/>
        </p:nvSpPr>
        <p:spPr>
          <a:xfrm flipH="1" rot="14494800">
            <a:off x="3987360" y="4089960"/>
            <a:ext cx="712800" cy="536760"/>
          </a:xfrm>
          <a:custGeom>
            <a:avLst/>
            <a:gdLst/>
            <a:ahLst/>
            <a:rect l="l" t="t" r="r" b="b"/>
            <a:pathLst>
              <a:path w="984" h="420">
                <a:moveTo>
                  <a:pt x="0" y="219"/>
                </a:moveTo>
                <a:lnTo>
                  <a:pt x="810" y="102"/>
                </a:lnTo>
                <a:lnTo>
                  <a:pt x="810" y="0"/>
                </a:lnTo>
                <a:lnTo>
                  <a:pt x="984" y="222"/>
                </a:lnTo>
                <a:lnTo>
                  <a:pt x="810" y="420"/>
                </a:lnTo>
                <a:lnTo>
                  <a:pt x="810" y="321"/>
                </a:lnTo>
                <a:lnTo>
                  <a:pt x="0" y="21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未知"/>
          <p:cNvSpPr/>
          <p:nvPr/>
        </p:nvSpPr>
        <p:spPr>
          <a:xfrm flipH="1" rot="12547800">
            <a:off x="3330000" y="4756320"/>
            <a:ext cx="430200" cy="450720"/>
          </a:xfrm>
          <a:custGeom>
            <a:avLst/>
            <a:gdLst/>
            <a:ahLst/>
            <a:rect l="l" t="t" r="r" b="b"/>
            <a:pathLst>
              <a:path w="984" h="420">
                <a:moveTo>
                  <a:pt x="0" y="219"/>
                </a:moveTo>
                <a:lnTo>
                  <a:pt x="810" y="102"/>
                </a:lnTo>
                <a:lnTo>
                  <a:pt x="810" y="0"/>
                </a:lnTo>
                <a:lnTo>
                  <a:pt x="984" y="222"/>
                </a:lnTo>
                <a:lnTo>
                  <a:pt x="810" y="420"/>
                </a:lnTo>
                <a:lnTo>
                  <a:pt x="810" y="321"/>
                </a:lnTo>
                <a:lnTo>
                  <a:pt x="0" y="21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3780000" y="4797360"/>
            <a:ext cx="1793880" cy="819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 rot="9052200">
            <a:off x="5677920" y="4756320"/>
            <a:ext cx="430200" cy="450720"/>
          </a:xfrm>
          <a:custGeom>
            <a:avLst/>
            <a:gdLst/>
            <a:ahLst/>
            <a:rect l="l" t="t" r="r" b="b"/>
            <a:pathLst>
              <a:path w="984" h="420">
                <a:moveTo>
                  <a:pt x="0" y="219"/>
                </a:moveTo>
                <a:lnTo>
                  <a:pt x="810" y="102"/>
                </a:lnTo>
                <a:lnTo>
                  <a:pt x="810" y="0"/>
                </a:lnTo>
                <a:lnTo>
                  <a:pt x="984" y="222"/>
                </a:lnTo>
                <a:lnTo>
                  <a:pt x="810" y="420"/>
                </a:lnTo>
                <a:lnTo>
                  <a:pt x="810" y="321"/>
                </a:lnTo>
                <a:lnTo>
                  <a:pt x="0" y="21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300720" y="3960720"/>
            <a:ext cx="1728720" cy="1197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请输入内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2109960" y="1774800"/>
            <a:ext cx="2547720" cy="2660760"/>
            <a:chOff x="2109960" y="1774800"/>
            <a:chExt cx="2547720" cy="2660760"/>
          </a:xfrm>
        </p:grpSpPr>
        <p:sp>
          <p:nvSpPr>
            <p:cNvPr id="95" name="未知"/>
            <p:cNvSpPr/>
            <p:nvPr/>
          </p:nvSpPr>
          <p:spPr>
            <a:xfrm>
              <a:off x="2109960" y="1774800"/>
              <a:ext cx="2547720" cy="2660760"/>
            </a:xfrm>
            <a:custGeom>
              <a:avLst/>
              <a:gdLst/>
              <a:ahLst/>
              <a:rect l="l" t="t" r="r" b="b"/>
              <a:pathLst>
                <a:path w="1739" h="1676">
                  <a:moveTo>
                    <a:pt x="0" y="910"/>
                  </a:moveTo>
                  <a:lnTo>
                    <a:pt x="1075" y="1676"/>
                  </a:lnTo>
                  <a:lnTo>
                    <a:pt x="1151" y="1620"/>
                  </a:lnTo>
                  <a:lnTo>
                    <a:pt x="1235" y="1552"/>
                  </a:lnTo>
                  <a:lnTo>
                    <a:pt x="1327" y="1496"/>
                  </a:lnTo>
                  <a:lnTo>
                    <a:pt x="1427" y="1448"/>
                  </a:lnTo>
                  <a:lnTo>
                    <a:pt x="1523" y="1412"/>
                  </a:lnTo>
                  <a:lnTo>
                    <a:pt x="1605" y="1388"/>
                  </a:lnTo>
                  <a:lnTo>
                    <a:pt x="1683" y="1376"/>
                  </a:lnTo>
                  <a:lnTo>
                    <a:pt x="1739" y="1368"/>
                  </a:lnTo>
                  <a:lnTo>
                    <a:pt x="1739" y="0"/>
                  </a:lnTo>
                  <a:lnTo>
                    <a:pt x="0" y="91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2111040" y="1774800"/>
              <a:ext cx="2546280" cy="1444680"/>
            </a:xfrm>
            <a:custGeom>
              <a:avLst/>
              <a:gdLst/>
              <a:ahLst/>
              <a:rect l="l" t="t" r="r" b="b"/>
              <a:pathLst>
                <a:path w="1610" h="910">
                  <a:moveTo>
                    <a:pt x="0" y="910"/>
                  </a:moveTo>
                  <a:cubicBezTo>
                    <a:pt x="54" y="835"/>
                    <a:pt x="112" y="761"/>
                    <a:pt x="196" y="677"/>
                  </a:cubicBezTo>
                  <a:cubicBezTo>
                    <a:pt x="281" y="593"/>
                    <a:pt x="409" y="480"/>
                    <a:pt x="509" y="403"/>
                  </a:cubicBezTo>
                  <a:cubicBezTo>
                    <a:pt x="608" y="326"/>
                    <a:pt x="701" y="262"/>
                    <a:pt x="794" y="211"/>
                  </a:cubicBezTo>
                  <a:cubicBezTo>
                    <a:pt x="887" y="160"/>
                    <a:pt x="959" y="129"/>
                    <a:pt x="1064" y="97"/>
                  </a:cubicBezTo>
                  <a:cubicBezTo>
                    <a:pt x="1169" y="65"/>
                    <a:pt x="1335" y="32"/>
                    <a:pt x="1426" y="16"/>
                  </a:cubicBezTo>
                  <a:cubicBezTo>
                    <a:pt x="1517" y="0"/>
                    <a:pt x="1572" y="6"/>
                    <a:pt x="1610" y="4"/>
                  </a:cubicBez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AutoShape 13"/>
          <p:cNvSpPr/>
          <p:nvPr/>
        </p:nvSpPr>
        <p:spPr>
          <a:xfrm>
            <a:off x="2916360" y="2276640"/>
            <a:ext cx="1728720" cy="1295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请输入内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未知"/>
          <p:cNvSpPr/>
          <p:nvPr/>
        </p:nvSpPr>
        <p:spPr>
          <a:xfrm rot="7105200">
            <a:off x="4845600" y="4091760"/>
            <a:ext cx="711360" cy="534960"/>
          </a:xfrm>
          <a:custGeom>
            <a:avLst/>
            <a:gdLst/>
            <a:ahLst/>
            <a:rect l="l" t="t" r="r" b="b"/>
            <a:pathLst>
              <a:path w="984" h="420">
                <a:moveTo>
                  <a:pt x="0" y="219"/>
                </a:moveTo>
                <a:lnTo>
                  <a:pt x="810" y="102"/>
                </a:lnTo>
                <a:lnTo>
                  <a:pt x="810" y="0"/>
                </a:lnTo>
                <a:lnTo>
                  <a:pt x="984" y="222"/>
                </a:lnTo>
                <a:lnTo>
                  <a:pt x="810" y="420"/>
                </a:lnTo>
                <a:lnTo>
                  <a:pt x="810" y="321"/>
                </a:lnTo>
                <a:lnTo>
                  <a:pt x="0" y="21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5"/>
          <p:cNvGrpSpPr/>
          <p:nvPr/>
        </p:nvGrpSpPr>
        <p:grpSpPr>
          <a:xfrm>
            <a:off x="4787640" y="1774800"/>
            <a:ext cx="2547720" cy="2660760"/>
            <a:chOff x="4787640" y="1774800"/>
            <a:chExt cx="2547720" cy="2660760"/>
          </a:xfrm>
        </p:grpSpPr>
        <p:sp>
          <p:nvSpPr>
            <p:cNvPr id="100" name="未知"/>
            <p:cNvSpPr/>
            <p:nvPr/>
          </p:nvSpPr>
          <p:spPr>
            <a:xfrm flipH="1">
              <a:off x="4787280" y="1774800"/>
              <a:ext cx="2547720" cy="2660760"/>
            </a:xfrm>
            <a:custGeom>
              <a:avLst/>
              <a:gdLst/>
              <a:ahLst/>
              <a:rect l="l" t="t" r="r" b="b"/>
              <a:pathLst>
                <a:path w="1739" h="1676">
                  <a:moveTo>
                    <a:pt x="0" y="910"/>
                  </a:moveTo>
                  <a:lnTo>
                    <a:pt x="1075" y="1676"/>
                  </a:lnTo>
                  <a:lnTo>
                    <a:pt x="1151" y="1620"/>
                  </a:lnTo>
                  <a:lnTo>
                    <a:pt x="1235" y="1552"/>
                  </a:lnTo>
                  <a:lnTo>
                    <a:pt x="1327" y="1496"/>
                  </a:lnTo>
                  <a:lnTo>
                    <a:pt x="1427" y="1448"/>
                  </a:lnTo>
                  <a:lnTo>
                    <a:pt x="1523" y="1412"/>
                  </a:lnTo>
                  <a:lnTo>
                    <a:pt x="1605" y="1388"/>
                  </a:lnTo>
                  <a:lnTo>
                    <a:pt x="1683" y="1376"/>
                  </a:lnTo>
                  <a:lnTo>
                    <a:pt x="1739" y="1368"/>
                  </a:lnTo>
                  <a:lnTo>
                    <a:pt x="1739" y="0"/>
                  </a:lnTo>
                  <a:lnTo>
                    <a:pt x="0" y="91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 flipH="1">
              <a:off x="4787640" y="1774800"/>
              <a:ext cx="2546280" cy="1444680"/>
            </a:xfrm>
            <a:custGeom>
              <a:avLst/>
              <a:gdLst/>
              <a:ahLst/>
              <a:rect l="l" t="t" r="r" b="b"/>
              <a:pathLst>
                <a:path w="1610" h="910">
                  <a:moveTo>
                    <a:pt x="0" y="910"/>
                  </a:moveTo>
                  <a:cubicBezTo>
                    <a:pt x="54" y="835"/>
                    <a:pt x="112" y="761"/>
                    <a:pt x="196" y="677"/>
                  </a:cubicBezTo>
                  <a:cubicBezTo>
                    <a:pt x="281" y="593"/>
                    <a:pt x="409" y="480"/>
                    <a:pt x="509" y="403"/>
                  </a:cubicBezTo>
                  <a:cubicBezTo>
                    <a:pt x="608" y="326"/>
                    <a:pt x="701" y="262"/>
                    <a:pt x="794" y="211"/>
                  </a:cubicBezTo>
                  <a:cubicBezTo>
                    <a:pt x="887" y="160"/>
                    <a:pt x="959" y="129"/>
                    <a:pt x="1064" y="97"/>
                  </a:cubicBezTo>
                  <a:cubicBezTo>
                    <a:pt x="1169" y="65"/>
                    <a:pt x="1335" y="32"/>
                    <a:pt x="1426" y="16"/>
                  </a:cubicBezTo>
                  <a:cubicBezTo>
                    <a:pt x="1517" y="0"/>
                    <a:pt x="1572" y="6"/>
                    <a:pt x="1610" y="4"/>
                  </a:cubicBez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AutoShape 18"/>
          <p:cNvSpPr/>
          <p:nvPr/>
        </p:nvSpPr>
        <p:spPr>
          <a:xfrm>
            <a:off x="4788000" y="2276640"/>
            <a:ext cx="1728720" cy="1295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请输入内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9">
            <a:hlinkClick r:id="rId1" action="ppaction://hlinksldjump"/>
          </p:cNvPr>
          <p:cNvSpPr/>
          <p:nvPr/>
        </p:nvSpPr>
        <p:spPr>
          <a:xfrm>
            <a:off x="8748720" y="638172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5982"/>
                </a:moveTo>
                <a:lnTo>
                  <a:pt x="13376" y="8593"/>
                </a:ln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lnTo>
                  <a:pt x="17763" y="12945"/>
                </a:lnTo>
                <a:lnTo>
                  <a:pt x="16109" y="12945"/>
                </a:lnTo>
                <a:lnTo>
                  <a:pt x="16109" y="20134"/>
                </a:lnTo>
                <a:lnTo>
                  <a:pt x="5491" y="20134"/>
                </a:lnTo>
                <a:lnTo>
                  <a:pt x="5491" y="12945"/>
                </a:lnTo>
                <a:lnTo>
                  <a:pt x="3837" y="12945"/>
                </a:lnTo>
                <a:close/>
              </a:path>
              <a:path fill="darkenLess" w="21600" h="25890">
                <a:moveTo>
                  <a:pt x="13376" y="8593"/>
                </a:move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close/>
              </a:path>
              <a:path fill="darkenLess" w="21600" h="25890">
                <a:moveTo>
                  <a:pt x="9877" y="16444"/>
                </a:moveTo>
                <a:lnTo>
                  <a:pt x="11723" y="16444"/>
                </a:lnTo>
                <a:lnTo>
                  <a:pt x="11723" y="20134"/>
                </a:lnTo>
                <a:lnTo>
                  <a:pt x="16109" y="20134"/>
                </a:lnTo>
                <a:lnTo>
                  <a:pt x="16109" y="12945"/>
                </a:lnTo>
                <a:lnTo>
                  <a:pt x="5491" y="12945"/>
                </a:lnTo>
                <a:lnTo>
                  <a:pt x="5491" y="20134"/>
                </a:lnTo>
                <a:lnTo>
                  <a:pt x="9877" y="2013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>
            <a:hlinkClick r:id="rId1" action="ppaction://hlinksldjump"/>
          </p:cNvPr>
          <p:cNvSpPr/>
          <p:nvPr/>
        </p:nvSpPr>
        <p:spPr>
          <a:xfrm>
            <a:off x="8748720" y="638172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5982"/>
                </a:moveTo>
                <a:lnTo>
                  <a:pt x="13376" y="8593"/>
                </a:ln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lnTo>
                  <a:pt x="17763" y="12945"/>
                </a:lnTo>
                <a:lnTo>
                  <a:pt x="16109" y="12945"/>
                </a:lnTo>
                <a:lnTo>
                  <a:pt x="16109" y="20134"/>
                </a:lnTo>
                <a:lnTo>
                  <a:pt x="5491" y="20134"/>
                </a:lnTo>
                <a:lnTo>
                  <a:pt x="5491" y="12945"/>
                </a:lnTo>
                <a:lnTo>
                  <a:pt x="3837" y="12945"/>
                </a:lnTo>
                <a:close/>
              </a:path>
              <a:path fill="darkenLess" w="21600" h="25890">
                <a:moveTo>
                  <a:pt x="13376" y="8593"/>
                </a:move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close/>
              </a:path>
              <a:path fill="darkenLess" w="21600" h="25890">
                <a:moveTo>
                  <a:pt x="9877" y="16444"/>
                </a:moveTo>
                <a:lnTo>
                  <a:pt x="11723" y="16444"/>
                </a:lnTo>
                <a:lnTo>
                  <a:pt x="11723" y="20134"/>
                </a:lnTo>
                <a:lnTo>
                  <a:pt x="16109" y="20134"/>
                </a:lnTo>
                <a:lnTo>
                  <a:pt x="16109" y="12945"/>
                </a:lnTo>
                <a:lnTo>
                  <a:pt x="5491" y="12945"/>
                </a:lnTo>
                <a:lnTo>
                  <a:pt x="5491" y="20134"/>
                </a:lnTo>
                <a:lnTo>
                  <a:pt x="9877" y="2013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50920" y="63817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rId1" action="ppaction://hlinksldjump"/>
          </p:cNvPr>
          <p:cNvSpPr/>
          <p:nvPr/>
        </p:nvSpPr>
        <p:spPr>
          <a:xfrm>
            <a:off x="8748720" y="638172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5982"/>
                </a:moveTo>
                <a:lnTo>
                  <a:pt x="13376" y="8593"/>
                </a:ln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lnTo>
                  <a:pt x="17763" y="12945"/>
                </a:lnTo>
                <a:lnTo>
                  <a:pt x="16109" y="12945"/>
                </a:lnTo>
                <a:lnTo>
                  <a:pt x="16109" y="20134"/>
                </a:lnTo>
                <a:lnTo>
                  <a:pt x="5491" y="20134"/>
                </a:lnTo>
                <a:lnTo>
                  <a:pt x="5491" y="12945"/>
                </a:lnTo>
                <a:lnTo>
                  <a:pt x="3837" y="12945"/>
                </a:lnTo>
                <a:close/>
              </a:path>
              <a:path fill="darkenLess" w="21600" h="25890">
                <a:moveTo>
                  <a:pt x="13376" y="8593"/>
                </a:move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close/>
              </a:path>
              <a:path fill="darkenLess" w="21600" h="25890">
                <a:moveTo>
                  <a:pt x="9877" y="16444"/>
                </a:moveTo>
                <a:lnTo>
                  <a:pt x="11723" y="16444"/>
                </a:lnTo>
                <a:lnTo>
                  <a:pt x="11723" y="20134"/>
                </a:lnTo>
                <a:lnTo>
                  <a:pt x="16109" y="20134"/>
                </a:lnTo>
                <a:lnTo>
                  <a:pt x="16109" y="12945"/>
                </a:lnTo>
                <a:lnTo>
                  <a:pt x="5491" y="12945"/>
                </a:lnTo>
                <a:lnTo>
                  <a:pt x="5491" y="20134"/>
                </a:lnTo>
                <a:lnTo>
                  <a:pt x="9877" y="2013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71391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的展开思路和框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110040" y="2919240"/>
            <a:ext cx="2936880" cy="139860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468360" y="1125360"/>
            <a:ext cx="4037040" cy="2387880"/>
          </a:xfrm>
          <a:custGeom>
            <a:avLst/>
            <a:gdLst/>
            <a:ahLst/>
            <a:rect l="l" t="t" r="r" b="b"/>
            <a:pathLst>
              <a:path w="2444" h="1014">
                <a:moveTo>
                  <a:pt x="0" y="1014"/>
                </a:moveTo>
                <a:lnTo>
                  <a:pt x="1518" y="1014"/>
                </a:lnTo>
                <a:lnTo>
                  <a:pt x="1518" y="696"/>
                </a:lnTo>
                <a:lnTo>
                  <a:pt x="2444" y="696"/>
                </a:lnTo>
                <a:lnTo>
                  <a:pt x="2444" y="0"/>
                </a:lnTo>
                <a:lnTo>
                  <a:pt x="0" y="0"/>
                </a:lnTo>
                <a:lnTo>
                  <a:pt x="0" y="1014"/>
                </a:lnTo>
              </a:path>
            </a:pathLst>
          </a:custGeom>
          <a:noFill/>
          <a:ln w="64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未知"/>
          <p:cNvSpPr/>
          <p:nvPr/>
        </p:nvSpPr>
        <p:spPr>
          <a:xfrm>
            <a:off x="4640400" y="1125360"/>
            <a:ext cx="4037040" cy="2387880"/>
          </a:xfrm>
          <a:custGeom>
            <a:avLst/>
            <a:gdLst/>
            <a:ahLst/>
            <a:rect l="l" t="t" r="r" b="b"/>
            <a:pathLst>
              <a:path w="2444" h="1014">
                <a:moveTo>
                  <a:pt x="2444" y="1014"/>
                </a:moveTo>
                <a:lnTo>
                  <a:pt x="926" y="1014"/>
                </a:lnTo>
                <a:lnTo>
                  <a:pt x="926" y="696"/>
                </a:lnTo>
                <a:lnTo>
                  <a:pt x="0" y="696"/>
                </a:lnTo>
                <a:lnTo>
                  <a:pt x="0" y="0"/>
                </a:lnTo>
                <a:lnTo>
                  <a:pt x="2444" y="0"/>
                </a:lnTo>
                <a:lnTo>
                  <a:pt x="2444" y="1014"/>
                </a:lnTo>
              </a:path>
            </a:pathLst>
          </a:custGeom>
          <a:noFill/>
          <a:ln w="64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468360" y="3687840"/>
            <a:ext cx="4037040" cy="2405160"/>
          </a:xfrm>
          <a:custGeom>
            <a:avLst/>
            <a:gdLst/>
            <a:ahLst/>
            <a:rect l="l" t="t" r="r" b="b"/>
            <a:pathLst>
              <a:path w="2444" h="1022">
                <a:moveTo>
                  <a:pt x="0" y="0"/>
                </a:moveTo>
                <a:lnTo>
                  <a:pt x="1518" y="0"/>
                </a:lnTo>
                <a:lnTo>
                  <a:pt x="1518" y="326"/>
                </a:lnTo>
                <a:lnTo>
                  <a:pt x="2444" y="326"/>
                </a:lnTo>
                <a:lnTo>
                  <a:pt x="2444" y="1022"/>
                </a:lnTo>
                <a:lnTo>
                  <a:pt x="0" y="1022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未知"/>
          <p:cNvSpPr/>
          <p:nvPr/>
        </p:nvSpPr>
        <p:spPr>
          <a:xfrm>
            <a:off x="4640400" y="3687840"/>
            <a:ext cx="4037040" cy="2405160"/>
          </a:xfrm>
          <a:custGeom>
            <a:avLst/>
            <a:gdLst/>
            <a:ahLst/>
            <a:rect l="l" t="t" r="r" b="b"/>
            <a:pathLst>
              <a:path w="2444" h="1022">
                <a:moveTo>
                  <a:pt x="2444" y="0"/>
                </a:moveTo>
                <a:lnTo>
                  <a:pt x="926" y="0"/>
                </a:lnTo>
                <a:lnTo>
                  <a:pt x="926" y="326"/>
                </a:lnTo>
                <a:lnTo>
                  <a:pt x="0" y="326"/>
                </a:lnTo>
                <a:lnTo>
                  <a:pt x="0" y="1022"/>
                </a:lnTo>
                <a:lnTo>
                  <a:pt x="2444" y="1022"/>
                </a:lnTo>
                <a:lnTo>
                  <a:pt x="2444" y="0"/>
                </a:lnTo>
                <a:close/>
              </a:path>
            </a:pathLst>
          </a:custGeom>
          <a:noFill/>
          <a:ln w="64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4803840" y="1695600"/>
            <a:ext cx="369720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90440" indent="-189000">
              <a:spcBef>
                <a:spcPts val="49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spcBef>
                <a:spcPts val="499"/>
              </a:spcBef>
              <a:tabLst>
                <a:tab algn="l" pos="0"/>
                <a:tab algn="r" pos="8521560"/>
                <a:tab algn="l" pos="8585280"/>
                <a:tab algn="l" pos="8915400"/>
                <a:tab algn="l" pos="9245520"/>
                <a:tab algn="l" pos="9575640"/>
                <a:tab algn="l" pos="9906120"/>
                <a:tab algn="l" pos="10236240"/>
                <a:tab algn="l" pos="10566360"/>
                <a:tab algn="l" pos="1089648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68360" y="1125360"/>
            <a:ext cx="4035240" cy="460440"/>
          </a:xfrm>
          <a:prstGeom prst="rect">
            <a:avLst/>
          </a:prstGeom>
          <a:noFill/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4641840" y="1125360"/>
            <a:ext cx="4035600" cy="460440"/>
          </a:xfrm>
          <a:prstGeom prst="rect">
            <a:avLst/>
          </a:prstGeom>
          <a:noFill/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468360" y="5632560"/>
            <a:ext cx="4037040" cy="460440"/>
          </a:xfrm>
          <a:prstGeom prst="rect">
            <a:avLst/>
          </a:prstGeom>
          <a:noFill/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4640400" y="5632560"/>
            <a:ext cx="4037040" cy="460440"/>
          </a:xfrm>
          <a:prstGeom prst="rect">
            <a:avLst/>
          </a:prstGeom>
          <a:noFill/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6334200" y="39258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6396120" y="28494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593640" y="3870360"/>
            <a:ext cx="21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593640" y="2941560"/>
            <a:ext cx="21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7">
            <a:hlinkClick r:id="rId1" action="ppaction://hlinksldjump"/>
          </p:cNvPr>
          <p:cNvSpPr/>
          <p:nvPr/>
        </p:nvSpPr>
        <p:spPr>
          <a:xfrm>
            <a:off x="8748720" y="638172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5982"/>
                </a:moveTo>
                <a:lnTo>
                  <a:pt x="13376" y="8593"/>
                </a:ln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lnTo>
                  <a:pt x="17763" y="12945"/>
                </a:lnTo>
                <a:lnTo>
                  <a:pt x="16109" y="12945"/>
                </a:lnTo>
                <a:lnTo>
                  <a:pt x="16109" y="20134"/>
                </a:lnTo>
                <a:lnTo>
                  <a:pt x="5491" y="20134"/>
                </a:lnTo>
                <a:lnTo>
                  <a:pt x="5491" y="12945"/>
                </a:lnTo>
                <a:lnTo>
                  <a:pt x="3837" y="12945"/>
                </a:lnTo>
                <a:close/>
              </a:path>
              <a:path fill="darkenLess" w="21600" h="25890">
                <a:moveTo>
                  <a:pt x="13376" y="8593"/>
                </a:move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close/>
              </a:path>
              <a:path fill="darkenLess" w="21600" h="25890">
                <a:moveTo>
                  <a:pt x="9877" y="16444"/>
                </a:moveTo>
                <a:lnTo>
                  <a:pt x="11723" y="16444"/>
                </a:lnTo>
                <a:lnTo>
                  <a:pt x="11723" y="20134"/>
                </a:lnTo>
                <a:lnTo>
                  <a:pt x="16109" y="20134"/>
                </a:lnTo>
                <a:lnTo>
                  <a:pt x="16109" y="12945"/>
                </a:lnTo>
                <a:lnTo>
                  <a:pt x="5491" y="12945"/>
                </a:lnTo>
                <a:lnTo>
                  <a:pt x="5491" y="20134"/>
                </a:lnTo>
                <a:lnTo>
                  <a:pt x="9877" y="2013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论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1743120" y="1824120"/>
            <a:ext cx="5216400" cy="402120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5c7a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826920" y="2554200"/>
            <a:ext cx="2051280" cy="130032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96762" dir="679359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1741320" y="4791240"/>
            <a:ext cx="2051280" cy="12999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02388" dir="7183193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 flipH="1">
            <a:off x="1887480" y="5270040"/>
            <a:ext cx="178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请输入内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3325680" y="1268280"/>
            <a:ext cx="2051280" cy="130032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5940360" y="2554200"/>
            <a:ext cx="2051280" cy="130032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99192" dir="301805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 flipH="1">
            <a:off x="6076800" y="3084120"/>
            <a:ext cx="178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请输入内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"/>
          <p:cNvSpPr/>
          <p:nvPr/>
        </p:nvSpPr>
        <p:spPr>
          <a:xfrm>
            <a:off x="4894200" y="4791240"/>
            <a:ext cx="2051280" cy="1299960"/>
          </a:xfrm>
          <a:prstGeom prst="ellipse">
            <a:avLst/>
          </a:prstGeom>
          <a:solidFill>
            <a:srgbClr val="ffff99"/>
          </a:solidFill>
          <a:ln w="0">
            <a:noFill/>
          </a:ln>
          <a:effectLst>
            <a:outerShdw dist="99192" dir="301805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 flipH="1">
            <a:off x="5055480" y="5222880"/>
            <a:ext cx="17874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 flipH="1">
            <a:off x="3116160" y="3523680"/>
            <a:ext cx="2470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请输入内容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 flipH="1">
            <a:off x="5014800" y="5229000"/>
            <a:ext cx="178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请输入内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 flipH="1">
            <a:off x="896760" y="3067200"/>
            <a:ext cx="178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请输入内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 flipH="1">
            <a:off x="3501360" y="1771200"/>
            <a:ext cx="178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请输入内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>
            <a:hlinkClick r:id="rId1" action="ppaction://hlinksldjump"/>
          </p:cNvPr>
          <p:cNvSpPr/>
          <p:nvPr/>
        </p:nvSpPr>
        <p:spPr>
          <a:xfrm>
            <a:off x="8748720" y="638172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5982"/>
                </a:moveTo>
                <a:lnTo>
                  <a:pt x="13376" y="8593"/>
                </a:ln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lnTo>
                  <a:pt x="17763" y="12945"/>
                </a:lnTo>
                <a:lnTo>
                  <a:pt x="16109" y="12945"/>
                </a:lnTo>
                <a:lnTo>
                  <a:pt x="16109" y="20134"/>
                </a:lnTo>
                <a:lnTo>
                  <a:pt x="5491" y="20134"/>
                </a:lnTo>
                <a:lnTo>
                  <a:pt x="5491" y="12945"/>
                </a:lnTo>
                <a:lnTo>
                  <a:pt x="3837" y="12945"/>
                </a:lnTo>
                <a:close/>
              </a:path>
              <a:path fill="darkenLess" w="21600" h="25890">
                <a:moveTo>
                  <a:pt x="13376" y="8593"/>
                </a:move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close/>
              </a:path>
              <a:path fill="darkenLess" w="21600" h="25890">
                <a:moveTo>
                  <a:pt x="9877" y="16444"/>
                </a:moveTo>
                <a:lnTo>
                  <a:pt x="11723" y="16444"/>
                </a:lnTo>
                <a:lnTo>
                  <a:pt x="11723" y="20134"/>
                </a:lnTo>
                <a:lnTo>
                  <a:pt x="16109" y="20134"/>
                </a:lnTo>
                <a:lnTo>
                  <a:pt x="16109" y="12945"/>
                </a:lnTo>
                <a:lnTo>
                  <a:pt x="5491" y="12945"/>
                </a:lnTo>
                <a:lnTo>
                  <a:pt x="5491" y="20134"/>
                </a:lnTo>
                <a:lnTo>
                  <a:pt x="9877" y="2013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相关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>
            <a:hlinkClick r:id="rId1" action="ppaction://hlinksldjump"/>
          </p:cNvPr>
          <p:cNvSpPr/>
          <p:nvPr/>
        </p:nvSpPr>
        <p:spPr>
          <a:xfrm>
            <a:off x="8748720" y="638172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5982"/>
                </a:moveTo>
                <a:lnTo>
                  <a:pt x="13376" y="8593"/>
                </a:ln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lnTo>
                  <a:pt x="17763" y="12945"/>
                </a:lnTo>
                <a:lnTo>
                  <a:pt x="16109" y="12945"/>
                </a:lnTo>
                <a:lnTo>
                  <a:pt x="16109" y="20134"/>
                </a:lnTo>
                <a:lnTo>
                  <a:pt x="5491" y="20134"/>
                </a:lnTo>
                <a:lnTo>
                  <a:pt x="5491" y="12945"/>
                </a:lnTo>
                <a:lnTo>
                  <a:pt x="3837" y="12945"/>
                </a:lnTo>
                <a:close/>
              </a:path>
              <a:path fill="darkenLess" w="21600" h="25890">
                <a:moveTo>
                  <a:pt x="13376" y="8593"/>
                </a:move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close/>
              </a:path>
              <a:path fill="darkenLess" w="21600" h="25890">
                <a:moveTo>
                  <a:pt x="9877" y="16444"/>
                </a:moveTo>
                <a:lnTo>
                  <a:pt x="11723" y="16444"/>
                </a:lnTo>
                <a:lnTo>
                  <a:pt x="11723" y="20134"/>
                </a:lnTo>
                <a:lnTo>
                  <a:pt x="16109" y="20134"/>
                </a:lnTo>
                <a:lnTo>
                  <a:pt x="16109" y="12945"/>
                </a:lnTo>
                <a:lnTo>
                  <a:pt x="5491" y="12945"/>
                </a:lnTo>
                <a:lnTo>
                  <a:pt x="5491" y="20134"/>
                </a:lnTo>
                <a:lnTo>
                  <a:pt x="9877" y="2013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>
            <a:hlinkClick r:id="rId1" action="ppaction://hlinksldjump"/>
          </p:cNvPr>
          <p:cNvSpPr/>
          <p:nvPr/>
        </p:nvSpPr>
        <p:spPr>
          <a:xfrm>
            <a:off x="8748720" y="638172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10800" y="5982"/>
                </a:moveTo>
                <a:lnTo>
                  <a:pt x="13376" y="8593"/>
                </a:ln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lnTo>
                  <a:pt x="17763" y="12945"/>
                </a:lnTo>
                <a:lnTo>
                  <a:pt x="16109" y="12945"/>
                </a:lnTo>
                <a:lnTo>
                  <a:pt x="16109" y="20134"/>
                </a:lnTo>
                <a:lnTo>
                  <a:pt x="5491" y="20134"/>
                </a:lnTo>
                <a:lnTo>
                  <a:pt x="5491" y="12945"/>
                </a:lnTo>
                <a:lnTo>
                  <a:pt x="3837" y="12945"/>
                </a:lnTo>
                <a:close/>
              </a:path>
              <a:path fill="darkenLess" w="21600" h="25890">
                <a:moveTo>
                  <a:pt x="13376" y="8593"/>
                </a:moveTo>
                <a:lnTo>
                  <a:pt x="13376" y="6852"/>
                </a:lnTo>
                <a:lnTo>
                  <a:pt x="15152" y="6852"/>
                </a:lnTo>
                <a:lnTo>
                  <a:pt x="15152" y="10369"/>
                </a:lnTo>
                <a:close/>
              </a:path>
              <a:path fill="darkenLess" w="21600" h="25890">
                <a:moveTo>
                  <a:pt x="9877" y="16444"/>
                </a:moveTo>
                <a:lnTo>
                  <a:pt x="11723" y="16444"/>
                </a:lnTo>
                <a:lnTo>
                  <a:pt x="11723" y="20134"/>
                </a:lnTo>
                <a:lnTo>
                  <a:pt x="16109" y="20134"/>
                </a:lnTo>
                <a:lnTo>
                  <a:pt x="16109" y="12945"/>
                </a:lnTo>
                <a:lnTo>
                  <a:pt x="5491" y="12945"/>
                </a:lnTo>
                <a:lnTo>
                  <a:pt x="5491" y="20134"/>
                </a:lnTo>
                <a:lnTo>
                  <a:pt x="9877" y="2013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/>
  <dc:description>三联素材-www.3lian.com</dc:description>
  <cp:keywords/>
  <dc:language>en-US</dc:language>
  <cp:lastModifiedBy>yu wang</cp:lastModifiedBy>
  <cp:lastPrinted>1899-12-30T00:00:00Z</cp:lastPrinted>
  <dcterms:modified xsi:type="dcterms:W3CDTF">2015-08-08T10:06:10Z</dcterms:modified>
  <cp:revision>23</cp:revision>
  <dc:subject/>
  <dc:title>三联素材-www.3l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ba02000000000001024140</vt:lpwstr>
  </property>
</Properties>
</file>