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98969400"/>
        <c:axId val="82945360"/>
      </c:barChart>
      <c:catAx>
        <c:axId val="989694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2945360"/>
        <c:crosses val="autoZero"/>
        <c:auto val="1"/>
        <c:lblAlgn val="ctr"/>
        <c:lblOffset val="100"/>
        <c:noMultiLvlLbl val="0"/>
      </c:catAx>
      <c:valAx>
        <c:axId val="82945360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896940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14296806"/>
        <c:axId val="7813354"/>
      </c:barChart>
      <c:catAx>
        <c:axId val="142968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813354"/>
        <c:crosses val="autoZero"/>
        <c:auto val="1"/>
        <c:lblAlgn val="ctr"/>
        <c:lblOffset val="100"/>
        <c:noMultiLvlLbl val="0"/>
      </c:catAx>
      <c:valAx>
        <c:axId val="781335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4296806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17205774"/>
        <c:axId val="61099953"/>
      </c:lineChart>
      <c:catAx>
        <c:axId val="172057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1099953"/>
        <c:crosses val="autoZero"/>
        <c:auto val="1"/>
        <c:lblAlgn val="ctr"/>
        <c:lblOffset val="100"/>
        <c:noMultiLvlLbl val="0"/>
      </c:catAx>
      <c:valAx>
        <c:axId val="61099953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720577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209770"/>
        <c:axId val="5030207"/>
      </c:barChart>
      <c:catAx>
        <c:axId val="72097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030207"/>
        <c:crosses val="autoZero"/>
        <c:auto val="1"/>
        <c:lblAlgn val="ctr"/>
        <c:lblOffset val="100"/>
        <c:noMultiLvlLbl val="0"/>
      </c:catAx>
      <c:valAx>
        <c:axId val="503020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209770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7E3C81-C292-45E0-A764-ACC3D64DA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52C8F79A-82D8-4630-BB94-73705A0794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E79-3879-489E-AA89-6BA49C4C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F9B-46FC-4493-8CB0-C71365D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B6D-3E42-4077-B78E-93A2D2A1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C72-F558-451C-9700-71662F60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81A1-BA3C-45A7-A2B6-185BEF71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C5D-5812-4675-8DDF-DAF4CB1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BE32-E2D0-4634-BB3B-7ED06663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E1B-7C6B-4ECE-89B6-D2DB68B4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E29-4501-4ACE-BE4E-B296219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63B-DE74-4CD9-9B93-3115F8A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9014-D516-4C6D-BE54-182877E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590-AA22-4810-B532-39FA329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5B3-41E6-4739-B559-0599FB7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5B3B-37F7-4841-BF41-3C53CA54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15AF-B988-46DE-85D0-E7812C2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2DC4-1AC1-43F7-B7C5-13CC9E1F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B66-9FAA-4DD1-B53F-B5CF1136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4FC2-6C4C-44D9-A20A-F32C66C2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FF09-7796-41A0-97A8-8CF2442C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8497-A7EF-4D68-9B37-8440EF6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2EBD-7F32-4CDC-9E2E-D047309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BAEC-375C-4018-8659-13A46FB0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E2F-6152-44C3-BF5F-D70D65C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C540-E9E6-4227-8397-3CCECF0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8F9B-06DE-4C93-8F6E-4470731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1D54-88EA-4C06-A1AE-C4825263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6D8F-9AC1-496C-92F4-DDC2B94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5F3B-4C59-4E40-BB79-279535F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D09C-DF2B-4B43-BCAF-6D85211D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AA14-72E7-4B4E-BABF-C4A400DB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1536-A162-4BE0-B090-29F7528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04AC-DD26-43C6-A6A1-75FEBB2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CBE9-B303-4C04-9870-88FC1E94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F14-9728-4BEC-A247-E40D954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588B-7707-4E2E-A34A-5C73ACB1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3AF2-5461-409D-BA8C-3D025D3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B6E4-7E78-4BF3-ADB6-3261654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D23A-E51B-4290-BA8F-9E6E35D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FA3B-3E1B-4745-AA99-0F22768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6511-79D6-490F-B667-C9585C3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0E13-39D5-4000-8403-A7AA6D8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0B24-5041-4FDC-A9A6-800B8B55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C359-EA3B-4CED-B0D3-2A4373CB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C0F1-C5D1-4165-A4C5-84CFA6F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BCF-8414-4E30-9F0D-6DBF4C31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A5F0-F779-4C80-8D74-515DBA5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9B90-DEBC-4E6F-9440-9DD6F4D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D64F-1251-4805-9618-68F9838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0399-395F-4CCE-BD92-D45362A3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9857-7C8A-47F4-B5FC-E2D0C37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7C19-2D7D-41FC-B3A3-500A90F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0034-304F-492C-BD36-8A14D68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6D09-60F4-48D7-AEE0-C3B24CF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E601-C3EE-4855-B2D3-6D2FA76D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F101-5207-4FBD-BE5D-224C750D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CA1-CA33-413F-9954-34383681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542A-6547-4AEC-8145-2E0CF20A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3B135-20B3-41B2-97C5-DC980C50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2107-140E-4DF8-9950-DC0270C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F664-FF11-46D2-8A44-42CA9CF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674A-C538-493A-B48A-16281B8E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6AC1-A082-4298-A4B3-B99F707F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6C630-405F-4DFD-BB32-F4D5060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D7EB-77B6-4D28-89B6-D56F38CF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A4FA-5EBE-4C7B-97AA-EC10C9E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CEE4-F012-4C4C-9314-6133AE7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56D-2722-4F6A-B6D9-12C2524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266D-F7B0-4A59-ADA6-AE070DE1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4191-809A-4913-9C90-F3E747B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5FAE-6466-4185-B44E-F10B53B5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66A92-2776-4322-AE6E-65482972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496D1-682C-4F3F-96BC-A9F56BF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15D3-6C0B-4CAC-84C9-E98CA21F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CB5D-105B-424E-B568-36E512B0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162A-0731-4DB1-BB10-927693B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8DF5-C998-4454-B84D-7A945C69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2D4F-373C-47CE-82F9-CD5FC2E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BBE-A717-4CB1-9C86-E6953045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9144-E821-4D81-A357-845AAAD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C2B9-FAFA-4C3B-9AF5-21507F4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FAE0-5CBD-40A5-98F5-E71DB0B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DF13-035B-4968-974B-E7B293D2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DA72-0F97-4AFB-946D-207E1081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E772D-7DF3-4E07-90B6-8D533591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6D964-83FF-499D-8C13-CD7BC778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B9BAC-571E-451C-913D-91EE99A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0DC30-E4B4-40C6-8B10-B409AE6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1E25-CF6C-488C-AEB1-678082C6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B4F-895B-4DFB-9398-F545A490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DFD5-A1D2-4FAC-B938-D4E0A24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35E9-EBF7-4369-BCEA-34ACDB7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D1A78-0F86-4D97-B161-92CC735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F32F-9371-479E-B4A7-9437F7E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8D76-D5AD-44DB-816C-5373AB16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E7662-5719-4D9D-AF87-01A39974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5F3C-9265-49DF-9B51-F8CA89CF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18)\bg\bg14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12976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5213E1C-F38C-49AF-9683-B05D2A15105B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85AE3-1D00-47A3-ABD1-625767CE167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8)\bg\bg14-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70D2210-AD46-4E0D-A247-9D549C503704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9892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971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4F3CAB-38B8-4BB0-9A6C-8CDF642F22A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0E4AA63-CA82-44F6-BAD1-302D482F03A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08B08E-900F-4258-9893-536DC749D517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062BD-CA92-4718-B1AB-53C358FAADC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18)\bg\bg14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138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0972CB-2221-4221-B8A7-8506FE4E3FB2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212976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抽象放射线简洁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完整版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92176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DE5CA10-6F5E-4EFB-B689-2AFED08519C7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E77152-11BA-4198-8819-129F73C7456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10480" y="59893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186-E650-411B-AB07-35BDD6CBCF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7B0199C-1AD3-4083-AF3C-327135B736B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2138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9304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2E7C-9356-4D13-A5AF-E9B02D2DC1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C7FF3AF7-D84C-4836-B174-BFB8E3F5A714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 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 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 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zhongguofeng/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mianfei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ye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tong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atong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undong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423EB30-19E2-46D8-B944-76B7317863F3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FF5C5D-E827-403B-A272-9A434F2FF19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ff6600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c000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9892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971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605520" y="6118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7B9B-2BFC-4CAA-ABFD-7B5C4167B2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9534876D-64C4-4195-8414-FF441A20C99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B502-7CC0-44E1-ADC0-16D21BDE8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C1B9AF82-B1EB-4847-A55A-9A63A8347AC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29526453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7565-BDA4-4D5B-8A90-CA4BDAEFE3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16D25B5-FA89-43EB-B610-2578BFE53E6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114911170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0CFB-32DC-414E-8CC9-B0D4963156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F16225C8-12AB-4C3B-B619-9FBEF119BFA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20E2-378D-43E0-8FC9-A8163DB9D8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BD9556A-A090-433B-AA2E-8F59B1DEBF4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26FD-3281-4B26-9BAB-9290C5123F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EA81FECB-8FCD-4007-BD9D-185721D70A7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6887-1CAE-483E-A21D-EEC4BC3397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38B007D-64CB-456D-A4B7-65D9D27624C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8</Template>
  <TotalTime>196</TotalTime>
  <Application>LibreOffice/7.4.7.2$Linux_X86_64 LibreOffice_project/40$Build-2</Application>
  <AppVersion>15.0000</AppVersion>
  <Words>1004</Words>
  <Paragraphs>2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49:52Z</dcterms:created>
  <dc:creator>lenovo</dc:creator>
  <dc:description>我爱PPT中文网</dc:description>
  <cp:keywords>XS-普屏 4：3 SC-淡橙色 BG-浅色 DH-静态 XJ-二级</cp:keywords>
  <dc:language>en-US</dc:language>
  <cp:lastModifiedBy>yu wang</cp:lastModifiedBy>
  <dcterms:modified xsi:type="dcterms:W3CDTF">2015-08-08T10:07:05Z</dcterms:modified>
  <cp:revision>4</cp:revision>
  <dc:subject>TP-通用纹理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