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D70-1853-47EF-A55E-88C5E7CC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BB0-9733-42BD-BE44-1D491ADA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C1552-9E30-4941-92F0-FAF287E5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E4248-56E6-4A90-BB05-9F946C5A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1545E-B1E9-4F55-AD58-F8FD1CAB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1E16D-1101-42C5-AABF-34F708F2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2ED3A-B874-44CC-BF43-6D6DD79D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B9DC3-FDEB-437B-82D0-F1167B12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24FCF-55C2-4844-A564-E840E5DD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C5BB3-2309-4266-8248-185DE6BE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C0118-75E3-4280-8603-646C8016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F1EAC-95A3-4058-88D1-DFD470A4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E06-142F-4B20-9E10-746E313A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D3EE3-1A09-495C-824E-F887C48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12238-B052-4BC8-A11F-D6716B23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32D76-4593-48AC-9E47-EF8417EC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4AA2B-789C-4BF3-AA6D-BBFD7F27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4E385-ED6B-4078-9D15-F3CE6FDC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DB0E8-161E-41A6-BE5C-3E99167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5355D-557E-4A92-A855-14954355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0D9A3-D3E3-4452-87A2-07309572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259EF-2A55-405E-BA13-67A288A4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0675F-5F24-4CC2-AB68-2A96E339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C2E-B600-4390-8598-31BCCA6A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16FA1-1CA0-460E-976A-FBE19B02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E1B42-7272-4974-9E78-9DF32C18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6611E-2A48-4BEA-9CF2-D7385D78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6EAD6-8EF1-4A05-B33E-287CE640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BB032-2465-457F-B302-2A708C19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18C32-70B4-4AE1-BA38-EC124924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21EFE-9017-431F-A41A-4B1E8C93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CE899-9F62-4EB0-A52A-E9200378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B827E-733A-47C2-BA99-D37C9A6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FF74B-8A01-4EC1-A7D8-08DF0225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8116-8D0A-4277-A929-DCB11873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89C99-503B-41B9-B47A-62780889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BC483-E5C0-4B98-8EF9-A6F3A513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7ABDA-E09A-4525-A429-FBB231CB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30626-DE31-4A0D-A1FD-51A9D8EB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6243B-223F-434F-AC9A-16840E77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54A9D-A670-4025-B261-77717D24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880FB-8A6D-4556-AA43-A9B31D6F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5AF79-0773-4F77-A00C-2A089E34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1A543-8F93-4EE3-8F05-3CCEE71D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BDC45-BA70-4C83-A661-9C60EA2B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6B3B-9E41-4623-B008-24B1E38C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4F0D7-1098-43F0-89E4-131E1AC9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44B7D-23E1-4EAD-AFB7-AA0DF185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20260-45F0-4C72-87F1-66D003E1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DA110-E115-4CDB-B94B-DE3F27AF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B761C-1149-4838-8596-5582235D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1F9AD-BD01-4AC3-9A35-D043A082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5055F-B34C-4E2F-9432-43012A55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F5DE7-7914-4927-83CE-EF602F3A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88AE0-DEEE-4565-9F22-4B943A56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7AA99-87BD-44E5-AF23-D33FFE5A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ED9B-A4DF-4F9D-A7FA-B2365177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88694-726B-4597-BBCD-A7F5B725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83FEC-7ABC-449C-B4F3-98367637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ABDEF-05E4-41B0-A238-6ED8AFF1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B7202-D4C7-4043-9E48-6AFD9C1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F5744-389A-4197-BE90-C39DD559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04BCC-5C67-40E5-9146-F5EB5F7A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C7438-50DF-4307-9269-C810304E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2D3A-59F3-4A2D-B5DE-0FBBBE3D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54BC-FA76-45A0-84E2-88C0A747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41F9-48ED-4699-9925-3F1EA8F6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EEF5-6980-40D8-ABE0-5A67AFDB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863-2C52-4E8A-A2A1-C89FD5CD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6D86-088B-49B4-BAD2-B6C8D17B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6F0D-7AF8-41EF-A394-341AEBF6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05C1-6712-4D04-9395-3F769D95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D275-66D2-4123-AB94-5D3F0AA9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749D-B30F-41FD-B4AB-DFEBEBF5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C638-AD10-485B-BAEA-CDF6DF67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7494-A512-4505-8652-0EE1966B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507DC-55A3-47D7-89F5-F2E4CCA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ED2C-E66B-46AB-ACEB-0B3145DE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F434-4AEB-442B-B36E-5D09E684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501-DF5C-4A35-AF54-BA3FF823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F3E2-2446-4E1C-958F-257D14D1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FEF7E-51FD-41CC-8FB8-1181BBF0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BDC61-A6D2-4514-AE6F-65FFB58A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6877-AB35-433A-964A-42569346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1095-D40D-4174-A45D-86C84C36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6B2A-B5EE-4DF1-A99C-DDAA47C8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BB46-6B4D-4564-889A-C94B4271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A86A1-27AC-4558-9B27-EFA21EBF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76D14-0DF8-4AAE-9B68-B8342564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80F8-3BBD-4E16-B62C-AE8E2CD3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0FA-4900-42BB-9C67-D6CC9E27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64F8-280A-4BD1-9D2C-1BB18C37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4B3A1-D907-4D8D-8279-4C2C7494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E0C76-C6DB-4F53-B88B-FF10BA17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2B33F-CC51-4AF0-AA5C-BAA0669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0C1FE-A7EC-4DF9-915F-7FFB9068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4F4D-6D89-421E-88CC-36546BD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D0326-18C7-4015-AA70-BA075B97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A53A-B04A-490F-AAD3-DB25D681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F4BB6-B587-44C5-B467-6B3BB286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DE22E-2CDE-49BF-B730-880D3CE6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294-7680-4B19-8DF4-FE354AF5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C60FB-D8FC-400E-86C1-95A14F7F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6ABC-E9DB-4891-B35E-130226A9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60F47-FE39-44E2-9AFE-FAC922BD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D23EE-573A-4881-9AF0-D26C4B72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46714-910E-40BD-8A7B-839B8132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259A-170E-4EAF-B6C4-A72DF157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7CBDD-1DD3-4958-BF1D-F7675402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BAC1-914D-4FCB-BAA9-CD63EB92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FCF6-889C-44B2-8A06-40ABB807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A114-BE00-4CDE-9736-56E4E0D4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84C-4AAB-435C-B60C-C4B4D9F7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EAEFD-489F-4FCF-8EAA-67F684DD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D61B-5DEE-49B6-8386-CA3F7295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F665-059A-4B95-97E8-E762C070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3D362-D31E-4598-8C87-2D9C479B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DE332-338A-457C-A980-9237E785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448EA-0E58-4DB7-829B-45A704F3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6D29-271E-46F5-B526-67DB8445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FA217-124A-47B8-A80E-42E21FB3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6AB22-8896-4ED4-9EB7-7C9FEEE8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9A487-DD85-472D-90BC-3BB4E9CC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8C2-3F2D-44A1-A876-DF2ADD9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7B0E-9FC5-4A3F-973A-E3E2C7B4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19364-1259-4C0E-8396-48532D2E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8BDBD-1A87-4291-986B-AC5672E1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57340-4526-422A-B036-948BC601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8C8B8-2B69-4363-9EAD-7F463F2C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83D9E-9E91-4BF4-A044-4AFDD18E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51775-BA05-4500-B962-03844D2D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8A026-CD2A-439C-9EB6-AEDAD147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347AF-F914-4EF1-B5F8-B77BE533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DB9E4-DA44-4418-9DD1-1D1E9E7C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0C6-6A48-40A7-AEC4-5A20F9F8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E195A-9A06-454A-A69C-C00D766D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8921F-C251-4D8D-B351-1ED0F76A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ED55-4FD6-410F-B0C4-C88C200B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7D42-EDAD-4719-8DF2-A86F0D2B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F1099-D773-439E-9F42-98718186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4A3E5-6D29-45A4-B21E-CDC814A6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E45EC-DF4F-400C-B0BA-E059A4DA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425F2-60A6-44E1-B768-25F9918C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8001A-DD74-4655-A7A5-9014BE2A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BDFD3-2171-4EC5-A408-E3056B1E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C6B-B156-4E79-BC95-B80DEBB9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A7196-DC8E-476C-9E7E-15A81D99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7E4F2-4C56-4BCA-8558-3639E224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7C67-08EA-4720-95D2-029E7EBF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6B7BD-3EB2-43FA-AFEF-F8FC2B2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AE6FA-9DD0-4240-9AF9-38402F75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B2F5A-6BDF-42EA-8DE0-AB4E05EA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80D38-4A89-46C2-AB2E-C8D72DB4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65448-65F5-446D-BBB9-53FCF2DC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5E746-C51D-4D19-9047-1296FD64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B494D-27FD-4635-86DA-0B5A9DF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FBEC-E374-43E1-853E-CBC34F8671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88EA-3ABA-41EB-8651-3468DB5082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95B0-F8DF-485A-BBD6-C32250DFFE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86E2-D5EA-43C9-8D69-75232CDF15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D4D1-302B-4A0C-A83A-0CE700BD431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0F0D-DFC6-467B-9188-3CB953AFAF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0FFB-8A29-49BC-BCC0-57E61A1105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4140-0B07-4308-99C9-90FAFED839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9565-E957-4395-AE0A-649CDCA1FA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46D2-BDD2-4AD4-92CB-93E32F2267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0556-124C-4E01-8174-516147BFB41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7E13-86C9-4785-BEB4-9683C72609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F719-455F-43A3-A69B-A4F960CC7A3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BE7B-A0FE-441A-9D2B-B4D2815224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55CA-0368-4C4E-91D8-74BE0752439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99E8-6B69-43F0-A5C3-2FD035D5B0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22CF-967A-47FF-9700-E2B9659C0E4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497A-9811-4026-8528-EED36E0B2C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746D-AB1D-4D55-954C-6DDE5FBBEF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0D24-278B-4D09-941C-6F4689D028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CE54-A4EB-41D6-B20D-5B84D2C6F5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268A-1EFC-4C16-83EF-B98AFE2284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DD58-0CC7-4DFE-B6AB-21AA9DE4EE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E49B-A323-41A3-A720-F74F05B6DD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6E1-DB93-4E9B-A918-9A988C7E4F7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3A73-C4D0-41D6-B2A9-C25F174EF4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534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41" name="标题 1"/>
          <p:cNvSpPr/>
          <p:nvPr/>
        </p:nvSpPr>
        <p:spPr>
          <a:xfrm>
            <a:off x="2921040" y="1562040"/>
            <a:ext cx="450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标题 1"/>
          <p:cNvSpPr/>
          <p:nvPr/>
        </p:nvSpPr>
        <p:spPr>
          <a:xfrm>
            <a:off x="2824200" y="2125800"/>
            <a:ext cx="6427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大气简洁商务</a:t>
            </a:r>
            <a:r>
              <a:rPr b="1" lang="en-US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12"/>
          <p:cNvSpPr/>
          <p:nvPr/>
        </p:nvSpPr>
        <p:spPr>
          <a:xfrm>
            <a:off x="239760" y="538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49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5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556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4"/>
          <p:cNvSpPr/>
          <p:nvPr/>
        </p:nvSpPr>
        <p:spPr>
          <a:xfrm>
            <a:off x="8054640" y="80964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564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566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567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TextBox 25"/>
              <p:cNvSpPr/>
              <p:nvPr/>
            </p:nvSpPr>
            <p:spPr>
              <a:xfrm rot="19641000">
                <a:off x="1866240" y="1772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571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573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574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Box 32"/>
              <p:cNvSpPr/>
              <p:nvPr/>
            </p:nvSpPr>
            <p:spPr>
              <a:xfrm rot="19641000">
                <a:off x="1866240" y="26848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578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580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581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585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587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588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TextBox 46"/>
              <p:cNvSpPr/>
              <p:nvPr/>
            </p:nvSpPr>
            <p:spPr>
              <a:xfrm rot="19641000">
                <a:off x="1865880" y="4508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TextBox 49"/>
          <p:cNvSpPr/>
          <p:nvPr/>
        </p:nvSpPr>
        <p:spPr>
          <a:xfrm>
            <a:off x="3844440" y="1766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0"/>
          <p:cNvSpPr/>
          <p:nvPr/>
        </p:nvSpPr>
        <p:spPr>
          <a:xfrm>
            <a:off x="3844440" y="2681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51"/>
          <p:cNvSpPr/>
          <p:nvPr/>
        </p:nvSpPr>
        <p:spPr>
          <a:xfrm>
            <a:off x="3844440" y="3595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2"/>
          <p:cNvSpPr/>
          <p:nvPr/>
        </p:nvSpPr>
        <p:spPr>
          <a:xfrm>
            <a:off x="3844440" y="4508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96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0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17"/>
          <p:cNvGrpSpPr/>
          <p:nvPr/>
        </p:nvGrpSpPr>
        <p:grpSpPr>
          <a:xfrm>
            <a:off x="193680" y="1557360"/>
            <a:ext cx="2747880" cy="3355920"/>
            <a:chOff x="193680" y="1557360"/>
            <a:chExt cx="2747880" cy="3355920"/>
          </a:xfrm>
        </p:grpSpPr>
        <p:sp>
          <p:nvSpPr>
            <p:cNvPr id="611" name="圆角矩形 53"/>
            <p:cNvSpPr/>
            <p:nvPr/>
          </p:nvSpPr>
          <p:spPr>
            <a:xfrm>
              <a:off x="193680" y="1557360"/>
              <a:ext cx="2747880" cy="3355920"/>
            </a:xfrm>
            <a:custGeom>
              <a:avLst/>
              <a:gdLst>
                <a:gd name="textAreaLeft" fmla="*/ 47520 w 2747880"/>
                <a:gd name="textAreaRight" fmla="*/ 2700360 w 27478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79">
                  <a:moveTo>
                    <a:pt x="1278" y="0"/>
                  </a:moveTo>
                  <a:arcTo wR="1278" hR="1278" stAng="16200000" swAng="-5400000"/>
                  <a:lnTo>
                    <a:pt x="0" y="25101"/>
                  </a:lnTo>
                  <a:arcTo wR="1278" hR="1278" stAng="10800000" swAng="-5400000"/>
                  <a:lnTo>
                    <a:pt x="20322" y="26379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1"/>
          <p:cNvGrpSpPr/>
          <p:nvPr/>
        </p:nvGrpSpPr>
        <p:grpSpPr>
          <a:xfrm>
            <a:off x="3133800" y="1557360"/>
            <a:ext cx="2747880" cy="3355920"/>
            <a:chOff x="3133800" y="1557360"/>
            <a:chExt cx="2747880" cy="3355920"/>
          </a:xfrm>
        </p:grpSpPr>
        <p:sp>
          <p:nvSpPr>
            <p:cNvPr id="613" name="圆角矩形 65"/>
            <p:cNvSpPr/>
            <p:nvPr/>
          </p:nvSpPr>
          <p:spPr>
            <a:xfrm>
              <a:off x="3133800" y="1557360"/>
              <a:ext cx="2747880" cy="3355920"/>
            </a:xfrm>
            <a:custGeom>
              <a:avLst/>
              <a:gdLst>
                <a:gd name="textAreaLeft" fmla="*/ 47520 w 2747880"/>
                <a:gd name="textAreaRight" fmla="*/ 2700360 w 27478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79">
                  <a:moveTo>
                    <a:pt x="1278" y="0"/>
                  </a:moveTo>
                  <a:arcTo wR="1278" hR="1278" stAng="16200000" swAng="-5400000"/>
                  <a:lnTo>
                    <a:pt x="0" y="25101"/>
                  </a:lnTo>
                  <a:arcTo wR="1278" hR="1278" stAng="10800000" swAng="-5400000"/>
                  <a:lnTo>
                    <a:pt x="20322" y="26379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25"/>
          <p:cNvGrpSpPr/>
          <p:nvPr/>
        </p:nvGrpSpPr>
        <p:grpSpPr>
          <a:xfrm>
            <a:off x="6073920" y="1557360"/>
            <a:ext cx="2746080" cy="3355920"/>
            <a:chOff x="6073920" y="1557360"/>
            <a:chExt cx="2746080" cy="3355920"/>
          </a:xfrm>
        </p:grpSpPr>
        <p:sp>
          <p:nvSpPr>
            <p:cNvPr id="615" name="圆角矩形 71"/>
            <p:cNvSpPr/>
            <p:nvPr/>
          </p:nvSpPr>
          <p:spPr>
            <a:xfrm>
              <a:off x="6073920" y="1557360"/>
              <a:ext cx="2746080" cy="3355920"/>
            </a:xfrm>
            <a:custGeom>
              <a:avLst/>
              <a:gdLst>
                <a:gd name="textAreaLeft" fmla="*/ 47520 w 2746080"/>
                <a:gd name="textAreaRight" fmla="*/ 2698560 w 2746080"/>
                <a:gd name="textAreaTop" fmla="*/ 47520 h 3355920"/>
                <a:gd name="textAreaBottom" fmla="*/ 3308400 h 3355920"/>
              </a:gdLst>
              <a:ahLst/>
              <a:rect l="textAreaLeft" t="textAreaTop" r="textAreaRight" b="textAreaBottom"/>
              <a:pathLst>
                <a:path w="21600" h="26396">
                  <a:moveTo>
                    <a:pt x="1278" y="0"/>
                  </a:moveTo>
                  <a:arcTo wR="1278" hR="1278" stAng="16200000" swAng="-5400000"/>
                  <a:lnTo>
                    <a:pt x="0" y="25118"/>
                  </a:lnTo>
                  <a:arcTo wR="1278" hR="1278" stAng="10800000" swAng="-5400000"/>
                  <a:lnTo>
                    <a:pt x="20322" y="26396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617" name="椭圆 90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91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92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3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94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95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2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17"/>
          <p:cNvGrpSpPr/>
          <p:nvPr/>
        </p:nvGrpSpPr>
        <p:grpSpPr>
          <a:xfrm>
            <a:off x="925560" y="1560600"/>
            <a:ext cx="2076480" cy="1044360"/>
            <a:chOff x="925560" y="1560600"/>
            <a:chExt cx="2076480" cy="1044360"/>
          </a:xfrm>
        </p:grpSpPr>
        <p:sp>
          <p:nvSpPr>
            <p:cNvPr id="632" name="椭圆 10"/>
            <p:cNvSpPr/>
            <p:nvPr/>
          </p:nvSpPr>
          <p:spPr>
            <a:xfrm>
              <a:off x="925560" y="1560600"/>
              <a:ext cx="2076480" cy="10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23"/>
          <p:cNvGrpSpPr/>
          <p:nvPr/>
        </p:nvGrpSpPr>
        <p:grpSpPr>
          <a:xfrm>
            <a:off x="838080" y="2855880"/>
            <a:ext cx="2279880" cy="1285920"/>
            <a:chOff x="838080" y="2855880"/>
            <a:chExt cx="2279880" cy="1285920"/>
          </a:xfrm>
        </p:grpSpPr>
        <p:sp>
          <p:nvSpPr>
            <p:cNvPr id="634" name="椭圆 10"/>
            <p:cNvSpPr/>
            <p:nvPr/>
          </p:nvSpPr>
          <p:spPr>
            <a:xfrm>
              <a:off x="838080" y="2855880"/>
              <a:ext cx="2279880" cy="128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29"/>
          <p:cNvGrpSpPr/>
          <p:nvPr/>
        </p:nvGrpSpPr>
        <p:grpSpPr>
          <a:xfrm>
            <a:off x="650880" y="4141800"/>
            <a:ext cx="2622600" cy="1770120"/>
            <a:chOff x="650880" y="4141800"/>
            <a:chExt cx="2622600" cy="1770120"/>
          </a:xfrm>
        </p:grpSpPr>
        <p:sp>
          <p:nvSpPr>
            <p:cNvPr id="636" name="椭圆 10"/>
            <p:cNvSpPr/>
            <p:nvPr/>
          </p:nvSpPr>
          <p:spPr>
            <a:xfrm>
              <a:off x="650880" y="4141800"/>
              <a:ext cx="2622600" cy="1770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638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32"/>
            <p:cNvSpPr/>
            <p:nvPr/>
          </p:nvSpPr>
          <p:spPr>
            <a:xfrm>
              <a:off x="5162400" y="147960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645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Rectangle 32"/>
            <p:cNvSpPr/>
            <p:nvPr/>
          </p:nvSpPr>
          <p:spPr>
            <a:xfrm>
              <a:off x="5162400" y="29019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652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Rectangle 32"/>
            <p:cNvSpPr/>
            <p:nvPr/>
          </p:nvSpPr>
          <p:spPr>
            <a:xfrm>
              <a:off x="5162400" y="432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662" name="椭圆 75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椭圆 76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椭圆 77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78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椭圆 79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0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8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677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678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680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2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5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6" name="TextBox 60"/>
            <p:cNvSpPr/>
            <p:nvPr/>
          </p:nvSpPr>
          <p:spPr>
            <a:xfrm rot="20959800">
              <a:off x="644004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688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689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691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3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5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7" name="TextBox 94"/>
            <p:cNvSpPr/>
            <p:nvPr/>
          </p:nvSpPr>
          <p:spPr>
            <a:xfrm rot="20959800">
              <a:off x="3350520" y="3525840"/>
              <a:ext cx="1140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699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700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1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702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04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6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7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8" name="TextBox 95"/>
            <p:cNvSpPr/>
            <p:nvPr/>
          </p:nvSpPr>
          <p:spPr>
            <a:xfrm rot="20959800">
              <a:off x="850680" y="315720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11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0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718" name="椭圆 106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07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108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109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110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111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4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25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733" name="圆角矩形 52"/>
            <p:cNvSpPr/>
            <p:nvPr/>
          </p:nvSpPr>
          <p:spPr>
            <a:xfrm>
              <a:off x="5216400" y="2155680"/>
              <a:ext cx="3316320" cy="6494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Box 57"/>
            <p:cNvSpPr/>
            <p:nvPr/>
          </p:nvSpPr>
          <p:spPr>
            <a:xfrm>
              <a:off x="650952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9"/>
          <p:cNvGrpSpPr/>
          <p:nvPr/>
        </p:nvGrpSpPr>
        <p:grpSpPr>
          <a:xfrm>
            <a:off x="5216400" y="3784680"/>
            <a:ext cx="3316320" cy="659880"/>
            <a:chOff x="5216400" y="3784680"/>
            <a:chExt cx="3316320" cy="659880"/>
          </a:xfrm>
        </p:grpSpPr>
        <p:sp>
          <p:nvSpPr>
            <p:cNvPr id="737" name="圆角矩形 59"/>
            <p:cNvSpPr/>
            <p:nvPr/>
          </p:nvSpPr>
          <p:spPr>
            <a:xfrm>
              <a:off x="5216400" y="3784680"/>
              <a:ext cx="33163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8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Box 65"/>
            <p:cNvSpPr/>
            <p:nvPr/>
          </p:nvSpPr>
          <p:spPr>
            <a:xfrm>
              <a:off x="6509520" y="392400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33"/>
          <p:cNvGrpSpPr/>
          <p:nvPr/>
        </p:nvGrpSpPr>
        <p:grpSpPr>
          <a:xfrm>
            <a:off x="411840" y="3798720"/>
            <a:ext cx="3315600" cy="649440"/>
            <a:chOff x="411840" y="3798720"/>
            <a:chExt cx="3315600" cy="649440"/>
          </a:xfrm>
        </p:grpSpPr>
        <p:sp>
          <p:nvSpPr>
            <p:cNvPr id="741" name="圆角矩形 96"/>
            <p:cNvSpPr/>
            <p:nvPr/>
          </p:nvSpPr>
          <p:spPr>
            <a:xfrm>
              <a:off x="411840" y="3798720"/>
              <a:ext cx="331560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Box 98"/>
            <p:cNvSpPr/>
            <p:nvPr/>
          </p:nvSpPr>
          <p:spPr>
            <a:xfrm>
              <a:off x="4996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37"/>
          <p:cNvGrpSpPr/>
          <p:nvPr/>
        </p:nvGrpSpPr>
        <p:grpSpPr>
          <a:xfrm>
            <a:off x="411840" y="2171880"/>
            <a:ext cx="3315600" cy="647640"/>
            <a:chOff x="411840" y="2171880"/>
            <a:chExt cx="3315600" cy="647640"/>
          </a:xfrm>
        </p:grpSpPr>
        <p:sp>
          <p:nvSpPr>
            <p:cNvPr id="745" name="圆角矩形 102"/>
            <p:cNvSpPr/>
            <p:nvPr/>
          </p:nvSpPr>
          <p:spPr>
            <a:xfrm>
              <a:off x="411840" y="2171880"/>
              <a:ext cx="331560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6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TextBox 104"/>
            <p:cNvSpPr/>
            <p:nvPr/>
          </p:nvSpPr>
          <p:spPr>
            <a:xfrm>
              <a:off x="4996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Text Box 3"/>
          <p:cNvSpPr/>
          <p:nvPr/>
        </p:nvSpPr>
        <p:spPr>
          <a:xfrm>
            <a:off x="446040" y="5489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750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9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757" name="椭圆 22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椭圆 23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椭圆 24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椭圆 25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椭圆 26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椭圆 27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76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12"/>
          <p:cNvSpPr/>
          <p:nvPr/>
        </p:nvSpPr>
        <p:spPr>
          <a:xfrm>
            <a:off x="1321560" y="392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13"/>
          <p:cNvSpPr/>
          <p:nvPr/>
        </p:nvSpPr>
        <p:spPr>
          <a:xfrm>
            <a:off x="6197040" y="5014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14"/>
          <p:cNvSpPr/>
          <p:nvPr/>
        </p:nvSpPr>
        <p:spPr>
          <a:xfrm>
            <a:off x="8003520" y="8096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772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73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74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775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776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778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780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2" name="TextBox 48"/>
          <p:cNvSpPr/>
          <p:nvPr/>
        </p:nvSpPr>
        <p:spPr>
          <a:xfrm>
            <a:off x="1220760" y="3714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5"/>
          <p:cNvSpPr/>
          <p:nvPr/>
        </p:nvSpPr>
        <p:spPr>
          <a:xfrm>
            <a:off x="870120" y="4386240"/>
            <a:ext cx="73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785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1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792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5"/>
          <p:cNvSpPr/>
          <p:nvPr/>
        </p:nvSpPr>
        <p:spPr>
          <a:xfrm>
            <a:off x="3581640" y="1508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再次感谢指导和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6"/>
          <p:cNvSpPr/>
          <p:nvPr/>
        </p:nvSpPr>
        <p:spPr>
          <a:xfrm>
            <a:off x="3663720" y="202248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Windows 用户</dc:creator>
  <dc:description/>
  <cp:keywords/>
  <dc:language>en-US</dc:language>
  <cp:lastModifiedBy>yu wang</cp:lastModifiedBy>
  <cp:lastPrinted>1899-12-30T00:00:00Z</cp:lastPrinted>
  <dcterms:modified xsi:type="dcterms:W3CDTF">2015-08-08T10:05:25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