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C551-8BDF-4FBB-9CFA-2542396E1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B326-9D03-4FF1-91E8-25DC2E97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3399-78A5-4001-9C7B-24FF0F3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4AF5-2A57-4FC8-9FF4-EAEE91FDFD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66A92-6672-4186-8C96-4347F59A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B1BA3-15E2-43B4-AF9F-20E655D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95919-09B8-4393-8A6D-37868AD1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F7F18-54EB-4908-B51E-991AAA3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B8B7-D0AC-4C6B-AC2E-C415A2A3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9AF83-9487-473A-AB3B-58E01319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4CE3-6EE9-4022-91FB-ABB1E68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8F7F-401D-458F-A03F-D39509C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2069-BD93-4F04-9ACA-E11DEF5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AF593-7BB3-41C1-B38E-C66F2CD3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EBDEC-B83F-4FF9-95B6-0A1D88A5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419C6-18A4-45D1-9B3B-5EAAC158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A4B54-1762-4313-AA39-DACC3F05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E89C-B052-4F2D-BA8A-68F1EF2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19B6-2F6C-4B6E-B94A-1126B54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C702-7751-4544-86F6-2DDB7915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2280-A0A5-4062-B47A-F5911536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1ECB-3B87-451E-B39F-F407BF5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0FCF-97BE-46D8-9CA2-F185FF60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52B1-356A-461D-B65F-0A09AFFE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48B-609A-4C1F-91BC-69C841267303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1A1-85A5-41A4-9942-269DA7F8727A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5838-381D-4ACE-9F27-7D6CAC82AD42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3E83-0112-4D1B-8EE2-4C7B6F6E688E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77724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淡雅花朵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简洁模板免费下载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290520" y="295200"/>
            <a:ext cx="1401840" cy="397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4508640"/>
            <a:ext cx="6975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C38-DA0A-440C-B289-493E007EE1E4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4"/>
          <p:cNvSpPr/>
          <p:nvPr/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83E4-31AE-4C76-BE6E-F9D643A658BE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4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加阴影；副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加阴影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）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2195640" y="3114720"/>
            <a:ext cx="4713120" cy="160956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微软雅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微软雅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1:49Z</dcterms:created>
  <dc:creator>微软中国</dc:creator>
  <dc:description/>
  <dc:language>en-US</dc:language>
  <cp:lastModifiedBy>yu wang</cp:lastModifiedBy>
  <dcterms:modified xsi:type="dcterms:W3CDTF">2015-08-08T10:07:10Z</dcterms:modified>
  <cp:revision>11</cp:revision>
  <dc:subject/>
  <dc:title>幻灯片 1</dc:title>
</cp:coreProperties>
</file>