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663D-DB2B-4845-ADF2-674E3F82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9E5A-80A1-4223-BBA2-A292DD49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49CB-413E-48A0-811E-C61E438B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2217-6406-4DBC-850B-E3332B6F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F14E-3790-4572-A7AB-F1114D22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27C2-F42B-406E-85FB-A4A3097B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B6C-B00F-4CE9-B4AC-12663F83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B88-4F8C-4777-801E-1D1B3005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D950-30E1-43E5-9E97-F73F613A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9B7-4504-4C0D-A6F9-CC55D008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C6DB-41C3-4B83-9F75-5EC1C424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F984-43D4-4518-B35C-243305A6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8EF3-9694-4D71-BE03-8C0AB81E3CA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直接连接符 7"/>
          <p:cNvSpPr/>
          <p:nvPr/>
        </p:nvSpPr>
        <p:spPr>
          <a:xfrm>
            <a:off x="395280" y="692280"/>
            <a:ext cx="8569440" cy="0"/>
          </a:xfrm>
          <a:prstGeom prst="line">
            <a:avLst/>
          </a:prstGeom>
          <a:ln w="381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接连接符 8"/>
          <p:cNvSpPr/>
          <p:nvPr/>
        </p:nvSpPr>
        <p:spPr>
          <a:xfrm>
            <a:off x="3348000" y="6237360"/>
            <a:ext cx="5616720" cy="0"/>
          </a:xfrm>
          <a:prstGeom prst="line">
            <a:avLst/>
          </a:prstGeom>
          <a:ln w="381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6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3095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3" descr=""/>
          <p:cNvPicPr/>
          <p:nvPr/>
        </p:nvPicPr>
        <p:blipFill>
          <a:blip r:embed="rId1"/>
          <a:stretch/>
        </p:blipFill>
        <p:spPr>
          <a:xfrm>
            <a:off x="6659640" y="6211800"/>
            <a:ext cx="253800" cy="292320"/>
          </a:xfrm>
          <a:prstGeom prst="rect">
            <a:avLst/>
          </a:prstGeom>
          <a:ln w="0">
            <a:noFill/>
          </a:ln>
        </p:spPr>
      </p:pic>
      <p:sp>
        <p:nvSpPr>
          <p:cNvPr id="161" name="矩形 1"/>
          <p:cNvSpPr/>
          <p:nvPr/>
        </p:nvSpPr>
        <p:spPr>
          <a:xfrm>
            <a:off x="2471760" y="1341360"/>
            <a:ext cx="42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古典桃花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395280" y="1159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模板使用说明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2"/>
          <p:cNvSpPr/>
          <p:nvPr/>
        </p:nvSpPr>
        <p:spPr>
          <a:xfrm>
            <a:off x="611280" y="1125360"/>
            <a:ext cx="78483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7937640" y="6308640"/>
            <a:ext cx="109836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 O G 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extBox 1" descr=""/>
          <p:cNvPicPr/>
          <p:nvPr/>
        </p:nvPicPr>
        <p:blipFill>
          <a:blip r:embed="rId1"/>
          <a:stretch/>
        </p:blipFill>
        <p:spPr>
          <a:xfrm>
            <a:off x="1116000" y="2620800"/>
            <a:ext cx="748512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8"/>
          <p:cNvSpPr/>
          <p:nvPr/>
        </p:nvSpPr>
        <p:spPr>
          <a:xfrm>
            <a:off x="971640" y="602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yu wang</cp:lastModifiedBy>
  <dcterms:modified xsi:type="dcterms:W3CDTF">2015-08-08T10:01:57Z</dcterms:modified>
  <cp:revision>11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6000000000001024140</vt:lpwstr>
  </property>
</Properties>
</file>