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A3F2-6051-4671-9834-06B43661C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AB2B-8702-4C28-A036-5E532934B79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4C93C-3C37-4F19-835C-1CA03A00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B462A-3813-46D0-91AC-303295E9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FB204-5E35-488C-BAE0-B864DE69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30C8B-04CC-4878-B972-610D6C7A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13A25-C495-4B97-BBCE-E366C891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66493-F931-41FC-A578-C702C68F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9B6F3-9CE5-4626-93AB-6B6D60FE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7D7C4-2629-42B2-9CA1-CF26D846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E5413-759B-4797-B409-21D89ADA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CBB5C-6DBA-4D70-A231-55714568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5F0C-04F0-4C40-8262-8953450CA8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9BF2D-313A-4181-9802-0447205B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C6CA1-C05B-4D50-B97B-7A337903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399A6-9F7C-4402-B302-1D254491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FA0E8-E279-4F04-9831-89A5EF1A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AB7B88-064B-465F-9C1E-58DFEFD1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06CA31-5A25-4EBD-9228-73EF6AD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42E2C-C346-40D8-AFBD-F704D680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5E414-0CD9-4A7D-9F78-A681C236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4C023-7FBB-4F0D-B810-BB33BDA3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92F68-319A-4503-A9F6-97E452E0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EC09-C0D5-476C-BEE0-A2532460ED4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EB964-8A1E-4FF3-B82D-3F34230F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2857A5-3556-46CF-A5BA-FFF15757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E10949-91C4-4FE1-AC2D-48CBECC3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F34236-95AF-4741-8E84-E3BF3A0A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AD62B6-7DAE-45F5-9F76-357C19E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CF69A8-302D-4CB0-8A7D-C17B2465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EE033C-443E-46B0-83C1-FAA762E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779A9B-5B7F-4539-83C6-093CFEE6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6360C7-C8C1-4624-BC68-92D7098C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FCA53C-1050-4DAA-957E-CA09F987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9631A-A316-4422-8D50-27083EFA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D709D9-B824-47F6-92F4-9C1885AE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ABDE81-2C67-4E39-AD49-9A147C6B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2BBB3B-C7A4-44CE-A1EF-119DA946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3B16F-2F07-4752-99CF-742C20C9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4389D-2D39-4434-A02B-AD89C4E9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E7CD5-65A3-4FC3-8D0C-A596C248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2D679-C245-449E-9BC4-B130E916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8E0BF-BD62-4C53-910B-86860BA0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6E835-0C16-4895-B720-905A1484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DB7231-6DFE-4A1D-B6FC-191B7906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C7225-6005-4D02-8559-EAA05DBE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2A955-ABE1-407F-A1A1-7064253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4129B-4D30-41BC-8C00-55EC1F4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2AAB3-E582-4755-B461-8119711B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BC70C-FB9C-4925-BD33-CE7E45AA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8C62A-3702-42EE-B7DF-14010ACF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D1EC6-BD78-419E-8400-B36DD05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317E1-CA6B-4D36-9F4B-DEF7896D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A0DEC-1427-4760-93C5-5D01700B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D085C-A2FD-4C24-9AA7-F2F71BFE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AA69A-D3F3-483D-B6A0-9205677E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72F5-2373-4F97-AB4E-CDEBCEDFA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1A76C-6D31-4948-95FD-0D670D3D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082F1-5A21-44D0-9FAA-4C6336B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30F31-80C6-412D-90D6-7650EA7C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5BAFC-9754-4BA3-A9D7-FF1D8E91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5305B-E27B-4835-B0B7-91C6A035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C7B2EC-8CF5-457D-BE75-ACC9FAA5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CC903-F098-48DD-AE0A-B3992436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E5668-4236-4197-9EF6-471DF00B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8E324D-5ABB-4C08-A78B-5254EF05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D6886A-356B-4541-A5FE-005E69DB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094C-9360-41E8-94B4-57622ACC66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C7F04-3F91-438D-AB98-8E13FFF5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8E6DD-8A67-4D07-B5E2-D7E294E4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F5300-405E-484A-938D-931A502C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A5D0F-8F27-4413-A23C-2A9E7F20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61C3D-7979-48AB-BA7F-31FF0E0D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F6D8C3-16EF-43B0-80DE-ABA5E32B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097C8-734F-494B-8A24-F898AB97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DA6DF8-E5F7-4413-95B0-56A5D0FD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45AD5-7003-483D-9573-E76BE19A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C7C10-0AAF-46D2-BD1A-AB485DBC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C4AF-EC99-4CB6-88DB-F680948E19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0AD34-3579-4EDF-87A9-849E6B85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5D0873-28E8-4B05-B2E5-16A254FD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82B67-7E42-4661-B13C-804F282B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54F35-B788-4264-8C0A-8575C3D7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CACD3-4BBD-49EF-827A-A3535245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EABDC-79E5-4C15-ADE1-772E3F22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8439B-235F-4FD4-8FD7-B927AEDD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F31A7-4576-4C50-A1AE-8473E34A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935C0-03AD-4EA3-96A4-68B035EB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1B4A18-CD7A-403A-A57B-CBD5E467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10B4-B7F9-45BB-96EF-4252A3B7BB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9D422B-2B1B-4A42-B0F0-3BDB2626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938091-650E-453F-9E82-FD9A3F3F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A9CC83-A2A6-4D2B-8F3E-602C2839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3836E8-60B2-4AC3-8DD5-30C75139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0168FF-C255-44D7-A92A-5F0D47D9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3207E7-B61E-47DC-8D87-47D2ED45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6708E8-A322-45D3-8B87-DF5A7BAB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85B86-827E-45C0-8E5D-873E4A78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9039E-6190-40BB-ACFF-6EEAA43F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81619-5365-401F-A4EF-E4F4A24D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581E-DBE6-4B6B-AEE2-A203E0BA9F2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8C2D7A-34ED-47E3-88E3-AF0E3853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E45658-84BD-4BB7-B83B-77A38EA5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0F3B17-CAEB-4F12-BB01-EEE5148F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B4B8F7-51AC-43B0-9B3F-27429936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9EC167-933D-4BCA-8228-81B8249F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22388E-738F-4521-B16D-13D38462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6421F5-CDA9-4D3C-BA71-E52B60DE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A65A34-E9EF-42F8-BC2E-FBA5EF80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19033B-3F27-4B1E-9454-BF43530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3B380C-DCD2-4D5D-AAF8-4516DA98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7179-CF4F-42FA-8DCC-AA1D9D27EE4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914DE5-B1C9-49ED-A79A-8BD465FD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5CCB41-57A0-4F64-8069-EFAE60A2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4D5440-C6A6-471A-80AB-13E11FC0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8251A0-741C-421A-B78E-4C1E2E90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D41139-B18B-41A4-AEF2-D62F9F95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F78E91-392F-4E8B-AF88-A56F569F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F563CC-7DE8-44A8-91A0-97248CC4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94B276-8E0A-4F07-801C-ECCFE88F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649212-3B27-4783-80BB-A7032863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7DE5FB-C7B7-4869-A1AC-40899BD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87D0-CF8A-4A0C-AD66-30D725A00E7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C205B6-6DD4-4591-BADC-3734D14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2D4C48-7E36-45BC-A35E-F9C40E21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8BD457-D14C-44EF-A5C2-ED9D6F1E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9EEB9B-53CD-4115-8808-FA9096B2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141D94-277D-4F80-8A18-4C312DBE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034518-DA1A-4B64-B3EC-90C8894C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C505BB-5D12-466D-AB49-FF1F6E61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2B1B35-4B65-40DB-958C-1D7EF651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095AA7-9698-4C1E-9888-0BD38ECF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A5C45F-2481-4B92-9DA9-D5E52C56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C863-FC0C-440C-B014-EB48070646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671174-1F1E-4FFE-A9E6-89BD7F32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90FCA4-7796-480D-A415-8B8B11AB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826BBC-F0F3-41D4-9284-5BD977B3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BCC10C-EBDA-4CA6-8786-86434551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004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F3BD46-F02F-4019-AB0A-C418C495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00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71708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9E9A9E-7B22-4E07-96F4-6B576EE1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24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6492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000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24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6492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DEA933-A652-4FF6-BC3B-D961761B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4552F-9698-4BA0-924A-5C78E2E1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8391D-2AC6-4A1E-8453-A819C598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72D89-EE50-4E2A-8E24-ABA28B2F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C57E-C08F-47C9-A9B8-4DF40B606CBB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8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11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479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482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8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52DB-0435-49B8-8E8E-EE3E6CD91539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532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535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1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CF4B-4BF8-48AC-83D3-152A137D6FB5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585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588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4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EF85-373B-44DC-86A1-6B8B702094C1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56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59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4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1B7C-9AD6-48FA-B6EA-1A8EC1D1FD22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109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112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7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EEBD-8C35-4E1B-B5E1-B3BA148AF61B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162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165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0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4148-5587-4EC9-82BC-72F826F6F4C5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215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218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3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FA2C-0C66-48C8-9648-3622D7419963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268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271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6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3C20-5AB2-4A91-950D-135EDA7334FC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3" descr="未标题-2.png"/>
          <p:cNvPicPr/>
          <p:nvPr/>
        </p:nvPicPr>
        <p:blipFill>
          <a:blip r:embed="rId2"/>
          <a:srcRect l="958" t="-17" r="292" b="720"/>
          <a:stretch/>
        </p:blipFill>
        <p:spPr>
          <a:xfrm>
            <a:off x="142920" y="0"/>
            <a:ext cx="9001080" cy="61437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17" name="TextBox 16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5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椭圆 16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320" name="椭圆 16" descr=""/>
            <p:cNvPicPr/>
            <p:nvPr/>
          </p:nvPicPr>
          <p:blipFill>
            <a:blip r:embed="rId3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椭圆 17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323" name="椭圆 17" descr=""/>
            <p:cNvPicPr/>
            <p:nvPr/>
          </p:nvPicPr>
          <p:blipFill>
            <a:blip r:embed="rId4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20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1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9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33CF-F594-4225-A45F-EE30C5DBE30C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373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376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2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BDD0-6A80-451F-8B9D-CA936A86C854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圆角矩形 6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66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7"/>
          <p:cNvSpPr/>
          <p:nvPr/>
        </p:nvSpPr>
        <p:spPr>
          <a:xfrm rot="10800000">
            <a:off x="7429320" y="6000480"/>
            <a:ext cx="642600" cy="21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8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面包竞岗报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10"/>
          <p:cNvSpPr/>
          <p:nvPr/>
        </p:nvSpPr>
        <p:spPr>
          <a:xfrm flipV="1">
            <a:off x="6524640" y="618336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椭圆 11"/>
          <p:cNvGrpSpPr/>
          <p:nvPr/>
        </p:nvGrpSpPr>
        <p:grpSpPr>
          <a:xfrm>
            <a:off x="6340320" y="6351480"/>
            <a:ext cx="298440" cy="304920"/>
            <a:chOff x="6340320" y="6351480"/>
            <a:chExt cx="298440" cy="304920"/>
          </a:xfrm>
        </p:grpSpPr>
        <p:pic>
          <p:nvPicPr>
            <p:cNvPr id="426" name="椭圆 11" descr=""/>
            <p:cNvPicPr/>
            <p:nvPr/>
          </p:nvPicPr>
          <p:blipFill>
            <a:blip r:embed="rId2"/>
            <a:stretch/>
          </p:blipFill>
          <p:spPr>
            <a:xfrm>
              <a:off x="6340320" y="6351480"/>
              <a:ext cx="2984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462720" y="6480000"/>
              <a:ext cx="5076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椭圆 12"/>
          <p:cNvGrpSpPr/>
          <p:nvPr/>
        </p:nvGrpSpPr>
        <p:grpSpPr>
          <a:xfrm>
            <a:off x="6838920" y="6040440"/>
            <a:ext cx="300240" cy="304920"/>
            <a:chOff x="6838920" y="6040440"/>
            <a:chExt cx="300240" cy="304920"/>
          </a:xfrm>
        </p:grpSpPr>
        <p:pic>
          <p:nvPicPr>
            <p:cNvPr id="429" name="椭圆 12" descr=""/>
            <p:cNvPicPr/>
            <p:nvPr/>
          </p:nvPicPr>
          <p:blipFill>
            <a:blip r:embed="rId3"/>
            <a:stretch/>
          </p:blipFill>
          <p:spPr>
            <a:xfrm>
              <a:off x="6838920" y="6040440"/>
              <a:ext cx="30024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6964200" y="6168960"/>
              <a:ext cx="493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13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14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0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5"/>
          </p:nvPr>
        </p:nvSpPr>
        <p:spPr>
          <a:xfrm>
            <a:off x="28584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D5C0-E001-438D-9951-456710F074C6}" type="slidenum">
              <a:rPr b="0" lang="zh-CN" sz="1200" spc="-1" strike="noStrike">
                <a:solidFill>
                  <a:srgbClr val="fffff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5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6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Verdana"/>
              </a:rPr>
              <a:t>岗位竞聘精选</a:t>
            </a:r>
            <a:r>
              <a:rPr b="1" lang="en-US" sz="4000" spc="-1" strike="noStrike">
                <a:solidFill>
                  <a:srgbClr val="ff3399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f3399"/>
                </a:solidFill>
                <a:latin typeface="Verdana"/>
              </a:rPr>
              <a:t>模板免费下载</a:t>
            </a:r>
            <a:endParaRPr b="0" lang="en-US" sz="40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71280" y="292860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Verdana"/>
              </a:rPr>
              <a:t>abcdef</a:t>
            </a:r>
            <a:r>
              <a:rPr b="1" lang="zh-CN" sz="2000" spc="-1" strike="noStrike">
                <a:solidFill>
                  <a:srgbClr val="898989"/>
                </a:solidFill>
                <a:latin typeface="Verdana"/>
              </a:rPr>
              <a:t>竞岗报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1148760" y="4000680"/>
            <a:ext cx="16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市场管理部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梯形 34"/>
          <p:cNvSpPr/>
          <p:nvPr/>
        </p:nvSpPr>
        <p:spPr>
          <a:xfrm>
            <a:off x="428760" y="3286080"/>
            <a:ext cx="8429400" cy="285840"/>
          </a:xfrm>
          <a:custGeom>
            <a:avLst/>
            <a:gdLst/>
            <a:ahLst/>
            <a:rect l="l" t="t" r="r" b="b"/>
            <a:pathLst>
              <a:path w="8429625" h="285750">
                <a:moveTo>
                  <a:pt x="0" y="285750"/>
                </a:moveTo>
                <a:lnTo>
                  <a:pt x="931402" y="0"/>
                </a:lnTo>
                <a:lnTo>
                  <a:pt x="7498223" y="0"/>
                </a:lnTo>
                <a:lnTo>
                  <a:pt x="8429625" y="285750"/>
                </a:lnTo>
                <a:lnTo>
                  <a:pt x="0" y="28575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32"/>
          <p:cNvSpPr/>
          <p:nvPr/>
        </p:nvSpPr>
        <p:spPr>
          <a:xfrm>
            <a:off x="428760" y="3571920"/>
            <a:ext cx="8429400" cy="1428840"/>
          </a:xfrm>
          <a:prstGeom prst="rect">
            <a:avLst/>
          </a:prstGeom>
          <a:solidFill>
            <a:srgbClr val="eeece1"/>
          </a:solidFill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6"/>
          <p:cNvSpPr/>
          <p:nvPr/>
        </p:nvSpPr>
        <p:spPr>
          <a:xfrm>
            <a:off x="3843000" y="28584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Verdana"/>
                <a:ea typeface="微软雅黑"/>
              </a:rPr>
              <a:t>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9"/>
          <p:cNvSpPr/>
          <p:nvPr/>
        </p:nvSpPr>
        <p:spPr>
          <a:xfrm>
            <a:off x="3906360" y="14940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某大学 市场营销专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4237560" y="1089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Verdana"/>
                <a:ea typeface="微软雅黑"/>
              </a:rPr>
              <a:t>现有岗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3"/>
          <p:cNvSpPr/>
          <p:nvPr/>
        </p:nvSpPr>
        <p:spPr>
          <a:xfrm>
            <a:off x="642960" y="233532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Verdana"/>
                <a:ea typeface="微软雅黑"/>
              </a:rPr>
              <a:t>自信、见解独特，行动力十足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Verdana"/>
                <a:ea typeface="微软雅黑"/>
              </a:rPr>
              <a:t>热情开朗、正直、思考、具创新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6"/>
          <p:cNvSpPr/>
          <p:nvPr/>
        </p:nvSpPr>
        <p:spPr>
          <a:xfrm>
            <a:off x="4176720" y="185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管理学学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图表 17"/>
          <p:cNvGraphicFramePr/>
          <p:nvPr/>
        </p:nvGraphicFramePr>
        <p:xfrm>
          <a:off x="6597720" y="3471840"/>
          <a:ext cx="2108160" cy="166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5" name="图表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7720" y="3471840"/>
                    <a:ext cx="21081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图表 19"/>
          <p:cNvGraphicFramePr/>
          <p:nvPr/>
        </p:nvGraphicFramePr>
        <p:xfrm>
          <a:off x="4621320" y="3471840"/>
          <a:ext cx="2108160" cy="1663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7" name="图表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1320" y="3471840"/>
                    <a:ext cx="21081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TextBox 21"/>
          <p:cNvSpPr/>
          <p:nvPr/>
        </p:nvSpPr>
        <p:spPr>
          <a:xfrm>
            <a:off x="135540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  <a:ea typeface="微软雅黑"/>
              </a:rPr>
              <a:t>专业理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2"/>
          <p:cNvSpPr/>
          <p:nvPr/>
        </p:nvSpPr>
        <p:spPr>
          <a:xfrm>
            <a:off x="335592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  <a:ea typeface="微软雅黑"/>
              </a:rPr>
              <a:t>职业技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3"/>
          <p:cNvSpPr/>
          <p:nvPr/>
        </p:nvSpPr>
        <p:spPr>
          <a:xfrm>
            <a:off x="535608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  <a:ea typeface="微软雅黑"/>
              </a:rPr>
              <a:t>业务能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4"/>
          <p:cNvSpPr/>
          <p:nvPr/>
        </p:nvSpPr>
        <p:spPr>
          <a:xfrm>
            <a:off x="733248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  <a:ea typeface="微软雅黑"/>
              </a:rPr>
              <a:t>工作态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图表 25"/>
          <p:cNvGraphicFramePr/>
          <p:nvPr/>
        </p:nvGraphicFramePr>
        <p:xfrm>
          <a:off x="2597040" y="3471840"/>
          <a:ext cx="2108160" cy="166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53" name="图表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7040" y="3471840"/>
                    <a:ext cx="21081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图表 26"/>
          <p:cNvGraphicFramePr/>
          <p:nvPr/>
        </p:nvGraphicFramePr>
        <p:xfrm>
          <a:off x="4597560" y="3471840"/>
          <a:ext cx="2108160" cy="1663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55" name="图表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97560" y="3471840"/>
                    <a:ext cx="21081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图表 27"/>
          <p:cNvGraphicFramePr/>
          <p:nvPr/>
        </p:nvGraphicFramePr>
        <p:xfrm>
          <a:off x="596880" y="3471840"/>
          <a:ext cx="2108160" cy="1663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57" name="图表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880" y="3471840"/>
                    <a:ext cx="210816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Box 28"/>
          <p:cNvSpPr/>
          <p:nvPr/>
        </p:nvSpPr>
        <p:spPr>
          <a:xfrm>
            <a:off x="1445760" y="3843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29"/>
          <p:cNvSpPr/>
          <p:nvPr/>
        </p:nvSpPr>
        <p:spPr>
          <a:xfrm>
            <a:off x="3446280" y="380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30"/>
          <p:cNvSpPr/>
          <p:nvPr/>
        </p:nvSpPr>
        <p:spPr>
          <a:xfrm>
            <a:off x="5416200" y="377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31"/>
          <p:cNvSpPr/>
          <p:nvPr/>
        </p:nvSpPr>
        <p:spPr>
          <a:xfrm>
            <a:off x="7416360" y="377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940840" y="52862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竞聘：某个岗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我在某公司的历程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64" name="直接连接符 4"/>
          <p:cNvSpPr/>
          <p:nvPr/>
        </p:nvSpPr>
        <p:spPr>
          <a:xfrm>
            <a:off x="928800" y="4157640"/>
            <a:ext cx="728640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椭圆 5"/>
          <p:cNvSpPr/>
          <p:nvPr/>
        </p:nvSpPr>
        <p:spPr>
          <a:xfrm>
            <a:off x="1787400" y="4051440"/>
            <a:ext cx="214560" cy="214200"/>
          </a:xfrm>
          <a:prstGeom prst="ellipse">
            <a:avLst/>
          </a:prstGeom>
          <a:solidFill>
            <a:srgbClr val="00b0f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椭圆 6"/>
          <p:cNvSpPr/>
          <p:nvPr/>
        </p:nvSpPr>
        <p:spPr>
          <a:xfrm>
            <a:off x="3273480" y="4051440"/>
            <a:ext cx="214200" cy="214200"/>
          </a:xfrm>
          <a:prstGeom prst="ellipse">
            <a:avLst/>
          </a:prstGeom>
          <a:solidFill>
            <a:srgbClr val="ff21b5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椭圆 8"/>
          <p:cNvSpPr/>
          <p:nvPr/>
        </p:nvSpPr>
        <p:spPr>
          <a:xfrm>
            <a:off x="6702480" y="4051440"/>
            <a:ext cx="214200" cy="214200"/>
          </a:xfrm>
          <a:prstGeom prst="ellipse">
            <a:avLst/>
          </a:prstGeom>
          <a:solidFill>
            <a:srgbClr val="ffc00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椭圆 9"/>
          <p:cNvSpPr/>
          <p:nvPr/>
        </p:nvSpPr>
        <p:spPr>
          <a:xfrm>
            <a:off x="857160" y="4051440"/>
            <a:ext cx="214560" cy="214200"/>
          </a:xfrm>
          <a:prstGeom prst="ellipse">
            <a:avLst/>
          </a:prstGeom>
          <a:solidFill>
            <a:srgbClr val="92d05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792720" y="4276080"/>
            <a:ext cx="362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1"/>
          <p:cNvSpPr/>
          <p:nvPr/>
        </p:nvSpPr>
        <p:spPr>
          <a:xfrm>
            <a:off x="1708920" y="4281840"/>
            <a:ext cx="36288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"/>
          <p:cNvSpPr/>
          <p:nvPr/>
        </p:nvSpPr>
        <p:spPr>
          <a:xfrm>
            <a:off x="3137400" y="4347720"/>
            <a:ext cx="362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2008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3"/>
          <p:cNvSpPr/>
          <p:nvPr/>
        </p:nvSpPr>
        <p:spPr>
          <a:xfrm>
            <a:off x="6566400" y="4347720"/>
            <a:ext cx="362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2010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微软雅黑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21"/>
          <p:cNvGrpSpPr/>
          <p:nvPr/>
        </p:nvGrpSpPr>
        <p:grpSpPr>
          <a:xfrm>
            <a:off x="642960" y="1714680"/>
            <a:ext cx="3857760" cy="1857240"/>
            <a:chOff x="642960" y="1714680"/>
            <a:chExt cx="3857760" cy="1857240"/>
          </a:xfrm>
        </p:grpSpPr>
        <p:sp>
          <p:nvSpPr>
            <p:cNvPr id="674" name="TextBox 16"/>
            <p:cNvSpPr/>
            <p:nvPr/>
          </p:nvSpPr>
          <p:spPr>
            <a:xfrm>
              <a:off x="64296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6ca62c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入职实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矩形 20"/>
            <p:cNvSpPr/>
            <p:nvPr/>
          </p:nvSpPr>
          <p:spPr>
            <a:xfrm>
              <a:off x="64296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22"/>
          <p:cNvGrpSpPr/>
          <p:nvPr/>
        </p:nvGrpSpPr>
        <p:grpSpPr>
          <a:xfrm>
            <a:off x="1857240" y="1714680"/>
            <a:ext cx="3857760" cy="1857240"/>
            <a:chOff x="1857240" y="1714680"/>
            <a:chExt cx="3857760" cy="1857240"/>
          </a:xfrm>
        </p:grpSpPr>
        <p:sp>
          <p:nvSpPr>
            <p:cNvPr id="677" name="TextBox 23"/>
            <p:cNvSpPr/>
            <p:nvPr/>
          </p:nvSpPr>
          <p:spPr>
            <a:xfrm>
              <a:off x="185724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8bbc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矩形 24"/>
            <p:cNvSpPr/>
            <p:nvPr/>
          </p:nvSpPr>
          <p:spPr>
            <a:xfrm>
              <a:off x="185724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25"/>
          <p:cNvGrpSpPr/>
          <p:nvPr/>
        </p:nvGrpSpPr>
        <p:grpSpPr>
          <a:xfrm>
            <a:off x="3286080" y="1714680"/>
            <a:ext cx="3857760" cy="1857240"/>
            <a:chOff x="3286080" y="1714680"/>
            <a:chExt cx="3857760" cy="1857240"/>
          </a:xfrm>
        </p:grpSpPr>
        <p:sp>
          <p:nvSpPr>
            <p:cNvPr id="680" name="TextBox 26"/>
            <p:cNvSpPr/>
            <p:nvPr/>
          </p:nvSpPr>
          <p:spPr>
            <a:xfrm>
              <a:off x="3286080" y="1714680"/>
              <a:ext cx="3857760" cy="33732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21b5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27"/>
            <p:cNvSpPr/>
            <p:nvPr/>
          </p:nvSpPr>
          <p:spPr>
            <a:xfrm>
              <a:off x="3286080" y="2071800"/>
              <a:ext cx="385776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28"/>
          <p:cNvGrpSpPr/>
          <p:nvPr/>
        </p:nvGrpSpPr>
        <p:grpSpPr>
          <a:xfrm>
            <a:off x="4857840" y="1714680"/>
            <a:ext cx="3857400" cy="1857240"/>
            <a:chOff x="4857840" y="1714680"/>
            <a:chExt cx="3857400" cy="1857240"/>
          </a:xfrm>
        </p:grpSpPr>
        <p:sp>
          <p:nvSpPr>
            <p:cNvPr id="683" name="TextBox 29"/>
            <p:cNvSpPr/>
            <p:nvPr/>
          </p:nvSpPr>
          <p:spPr>
            <a:xfrm>
              <a:off x="4857840" y="1714680"/>
              <a:ext cx="3857400" cy="3373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5c02b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30"/>
            <p:cNvSpPr/>
            <p:nvPr/>
          </p:nvSpPr>
          <p:spPr>
            <a:xfrm>
              <a:off x="4857840" y="2071800"/>
              <a:ext cx="3857400" cy="1500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buClr>
                  <a:srgbClr val="008bb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图片 17" descr="幻灯片1.JPG"/>
          <p:cNvPicPr/>
          <p:nvPr/>
        </p:nvPicPr>
        <p:blipFill>
          <a:blip r:embed="rId1"/>
          <a:stretch/>
        </p:blipFill>
        <p:spPr>
          <a:xfrm>
            <a:off x="4087800" y="928800"/>
            <a:ext cx="1644840" cy="1233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686" name="图片 18" descr="幻灯片3.JPG"/>
          <p:cNvPicPr/>
          <p:nvPr/>
        </p:nvPicPr>
        <p:blipFill>
          <a:blip r:embed="rId2"/>
          <a:stretch/>
        </p:blipFill>
        <p:spPr>
          <a:xfrm>
            <a:off x="4087800" y="3703680"/>
            <a:ext cx="1644840" cy="1233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687" name="图片 19" descr="幻灯片5.JPG"/>
          <p:cNvPicPr/>
          <p:nvPr/>
        </p:nvPicPr>
        <p:blipFill>
          <a:blip r:embed="rId3"/>
          <a:stretch/>
        </p:blipFill>
        <p:spPr>
          <a:xfrm>
            <a:off x="4087800" y="2306520"/>
            <a:ext cx="1644840" cy="1233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grpSp>
        <p:nvGrpSpPr>
          <p:cNvPr id="688" name="组合 34"/>
          <p:cNvGrpSpPr/>
          <p:nvPr/>
        </p:nvGrpSpPr>
        <p:grpSpPr>
          <a:xfrm>
            <a:off x="428760" y="928800"/>
            <a:ext cx="8250120" cy="4019400"/>
            <a:chOff x="428760" y="928800"/>
            <a:chExt cx="8250120" cy="4019400"/>
          </a:xfrm>
        </p:grpSpPr>
        <p:pic>
          <p:nvPicPr>
            <p:cNvPr id="689" name="图片 8" descr="幻灯片1.JPG"/>
            <p:cNvPicPr/>
            <p:nvPr/>
          </p:nvPicPr>
          <p:blipFill>
            <a:blip r:embed="rId4"/>
            <a:srcRect l="0" t="0" r="0" b="3273"/>
            <a:stretch/>
          </p:blipFill>
          <p:spPr>
            <a:xfrm>
              <a:off x="2286000" y="939600"/>
              <a:ext cx="16318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0" name="图片 9" descr="幻灯片2.JPG"/>
            <p:cNvPicPr/>
            <p:nvPr/>
          </p:nvPicPr>
          <p:blipFill>
            <a:blip r:embed="rId5"/>
            <a:stretch/>
          </p:blipFill>
          <p:spPr>
            <a:xfrm>
              <a:off x="2286000" y="232740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1" name="图片 10" descr="幻灯片64.JPG"/>
            <p:cNvPicPr/>
            <p:nvPr/>
          </p:nvPicPr>
          <p:blipFill>
            <a:blip r:embed="rId6"/>
            <a:stretch/>
          </p:blipFill>
          <p:spPr>
            <a:xfrm>
              <a:off x="2286000" y="37148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2" name="图片 13" descr="2010工作报告02081600定稿.jpg"/>
            <p:cNvPicPr/>
            <p:nvPr/>
          </p:nvPicPr>
          <p:blipFill>
            <a:blip r:embed="rId7"/>
            <a:stretch/>
          </p:blipFill>
          <p:spPr>
            <a:xfrm>
              <a:off x="463680" y="9302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3" name="图片 15" descr="2010工作报告020816010定稿.jpg"/>
            <p:cNvPicPr/>
            <p:nvPr/>
          </p:nvPicPr>
          <p:blipFill>
            <a:blip r:embed="rId8"/>
            <a:stretch/>
          </p:blipFill>
          <p:spPr>
            <a:xfrm>
              <a:off x="471600" y="231768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4" name="图片 14" descr="2010工作报告02081600定稿.jpg"/>
            <p:cNvPicPr/>
            <p:nvPr/>
          </p:nvPicPr>
          <p:blipFill>
            <a:blip r:embed="rId9"/>
            <a:stretch/>
          </p:blipFill>
          <p:spPr>
            <a:xfrm>
              <a:off x="428760" y="3714840"/>
              <a:ext cx="1644480" cy="123336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695" name="Picture 5" descr=""/>
            <p:cNvPicPr/>
            <p:nvPr/>
          </p:nvPicPr>
          <p:blipFill>
            <a:blip r:embed="rId10"/>
            <a:stretch/>
          </p:blipFill>
          <p:spPr>
            <a:xfrm>
              <a:off x="5895360" y="3006720"/>
              <a:ext cx="2757600" cy="19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6" descr=""/>
            <p:cNvPicPr/>
            <p:nvPr/>
          </p:nvPicPr>
          <p:blipFill>
            <a:blip r:embed="rId11"/>
            <a:stretch/>
          </p:blipFill>
          <p:spPr>
            <a:xfrm>
              <a:off x="7282440" y="928800"/>
              <a:ext cx="1396440" cy="195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7" descr=""/>
            <p:cNvPicPr/>
            <p:nvPr/>
          </p:nvPicPr>
          <p:blipFill>
            <a:blip r:embed="rId12"/>
            <a:stretch/>
          </p:blipFill>
          <p:spPr>
            <a:xfrm>
              <a:off x="5895360" y="928800"/>
              <a:ext cx="137952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8" name="矩形 27"/>
          <p:cNvSpPr/>
          <p:nvPr/>
        </p:nvSpPr>
        <p:spPr>
          <a:xfrm>
            <a:off x="181080" y="857160"/>
            <a:ext cx="8820000" cy="4464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6"/>
          <p:cNvSpPr/>
          <p:nvPr/>
        </p:nvSpPr>
        <p:spPr>
          <a:xfrm>
            <a:off x="3595320" y="24782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年分公司月度经营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8"/>
          <p:cNvSpPr/>
          <p:nvPr/>
        </p:nvSpPr>
        <p:spPr>
          <a:xfrm>
            <a:off x="3653640" y="107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Verdana"/>
                <a:ea typeface="微软雅黑"/>
              </a:rPr>
              <a:t>主要工作业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7"/>
          <p:cNvSpPr/>
          <p:nvPr/>
        </p:nvSpPr>
        <p:spPr>
          <a:xfrm>
            <a:off x="3851280" y="32418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客户关系管理实施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0"/>
          <p:cNvSpPr/>
          <p:nvPr/>
        </p:nvSpPr>
        <p:spPr>
          <a:xfrm>
            <a:off x="3717360" y="2859120"/>
            <a:ext cx="16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年分公司工作思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1"/>
          <p:cNvSpPr/>
          <p:nvPr/>
        </p:nvSpPr>
        <p:spPr>
          <a:xfrm>
            <a:off x="3947760" y="3622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网格化营销专题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2"/>
          <p:cNvSpPr/>
          <p:nvPr/>
        </p:nvSpPr>
        <p:spPr>
          <a:xfrm>
            <a:off x="3973320" y="400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月度市场分析月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33"/>
          <p:cNvSpPr/>
          <p:nvPr/>
        </p:nvSpPr>
        <p:spPr>
          <a:xfrm>
            <a:off x="4360320" y="43862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620640" y="643572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5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5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5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5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5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5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http://www.freecoupons.com/wp-content/uploads/2009/08/target.jpg"/>
          <p:cNvPicPr/>
          <p:nvPr/>
        </p:nvPicPr>
        <p:blipFill>
          <a:blip r:embed="rId1"/>
          <a:stretch/>
        </p:blipFill>
        <p:spPr>
          <a:xfrm>
            <a:off x="785880" y="2643120"/>
            <a:ext cx="2081160" cy="165744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近期工作目标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09" name="任意多边形 5"/>
          <p:cNvSpPr/>
          <p:nvPr/>
        </p:nvSpPr>
        <p:spPr>
          <a:xfrm>
            <a:off x="2071800" y="1643040"/>
            <a:ext cx="1770120" cy="1298520"/>
          </a:xfrm>
          <a:custGeom>
            <a:avLst/>
            <a:gdLst/>
            <a:ahLst/>
            <a:rect l="l" t="t" r="r" b="b"/>
            <a:pathLst>
              <a:path w="1770743" h="798286">
                <a:moveTo>
                  <a:pt x="0" y="798286"/>
                </a:moveTo>
                <a:lnTo>
                  <a:pt x="740229" y="0"/>
                </a:lnTo>
                <a:lnTo>
                  <a:pt x="1770743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6"/>
          <p:cNvSpPr/>
          <p:nvPr/>
        </p:nvSpPr>
        <p:spPr>
          <a:xfrm>
            <a:off x="4077000" y="142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1b5"/>
                </a:solidFill>
                <a:latin typeface="Verdana"/>
                <a:ea typeface="微软雅黑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任意多边形 7"/>
          <p:cNvSpPr/>
          <p:nvPr/>
        </p:nvSpPr>
        <p:spPr>
          <a:xfrm flipV="1">
            <a:off x="2000160" y="3870360"/>
            <a:ext cx="1770120" cy="272880"/>
          </a:xfrm>
          <a:custGeom>
            <a:avLst/>
            <a:gdLst/>
            <a:ahLst/>
            <a:rect l="l" t="t" r="r" b="b"/>
            <a:pathLst>
              <a:path w="1770743" h="798286">
                <a:moveTo>
                  <a:pt x="0" y="798286"/>
                </a:moveTo>
                <a:lnTo>
                  <a:pt x="740229" y="0"/>
                </a:lnTo>
                <a:lnTo>
                  <a:pt x="1770743" y="0"/>
                </a:lnTo>
              </a:path>
            </a:pathLst>
          </a:custGeom>
          <a:noFill/>
          <a:ln w="936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8"/>
          <p:cNvSpPr/>
          <p:nvPr/>
        </p:nvSpPr>
        <p:spPr>
          <a:xfrm>
            <a:off x="4077000" y="3786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1b5"/>
                </a:solidFill>
                <a:latin typeface="Verdana"/>
                <a:ea typeface="微软雅黑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9"/>
          <p:cNvSpPr/>
          <p:nvPr/>
        </p:nvSpPr>
        <p:spPr>
          <a:xfrm>
            <a:off x="4000680" y="2000160"/>
            <a:ext cx="464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10"/>
          <p:cNvSpPr/>
          <p:nvPr/>
        </p:nvSpPr>
        <p:spPr>
          <a:xfrm>
            <a:off x="3929040" y="4357800"/>
            <a:ext cx="4643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组合 3"/>
          <p:cNvGrpSpPr/>
          <p:nvPr/>
        </p:nvGrpSpPr>
        <p:grpSpPr>
          <a:xfrm>
            <a:off x="1500120" y="4470480"/>
            <a:ext cx="6786720" cy="1316520"/>
            <a:chOff x="1500120" y="4470480"/>
            <a:chExt cx="6786720" cy="1316520"/>
          </a:xfrm>
        </p:grpSpPr>
        <p:sp>
          <p:nvSpPr>
            <p:cNvPr id="716" name="圆角矩形 14"/>
            <p:cNvSpPr/>
            <p:nvPr/>
          </p:nvSpPr>
          <p:spPr>
            <a:xfrm>
              <a:off x="1500120" y="4470480"/>
              <a:ext cx="6786720" cy="114300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Box 20"/>
            <p:cNvSpPr/>
            <p:nvPr/>
          </p:nvSpPr>
          <p:spPr>
            <a:xfrm>
              <a:off x="2500200" y="4597920"/>
              <a:ext cx="55724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2"/>
          <p:cNvGrpSpPr/>
          <p:nvPr/>
        </p:nvGrpSpPr>
        <p:grpSpPr>
          <a:xfrm>
            <a:off x="1428840" y="2857680"/>
            <a:ext cx="6786360" cy="1326240"/>
            <a:chOff x="1428840" y="2857680"/>
            <a:chExt cx="6786360" cy="1326240"/>
          </a:xfrm>
        </p:grpSpPr>
        <p:sp>
          <p:nvSpPr>
            <p:cNvPr id="719" name="圆角矩形 12"/>
            <p:cNvSpPr/>
            <p:nvPr/>
          </p:nvSpPr>
          <p:spPr>
            <a:xfrm>
              <a:off x="1428840" y="2857680"/>
              <a:ext cx="6786360" cy="128592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Box 18"/>
            <p:cNvSpPr/>
            <p:nvPr/>
          </p:nvSpPr>
          <p:spPr>
            <a:xfrm>
              <a:off x="2500200" y="2994840"/>
              <a:ext cx="55008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1"/>
          <p:cNvGrpSpPr/>
          <p:nvPr/>
        </p:nvGrpSpPr>
        <p:grpSpPr>
          <a:xfrm>
            <a:off x="1428840" y="1285920"/>
            <a:ext cx="6786360" cy="1285920"/>
            <a:chOff x="1428840" y="1285920"/>
            <a:chExt cx="6786360" cy="1285920"/>
          </a:xfrm>
        </p:grpSpPr>
        <p:sp>
          <p:nvSpPr>
            <p:cNvPr id="722" name="圆角矩形 13"/>
            <p:cNvSpPr/>
            <p:nvPr/>
          </p:nvSpPr>
          <p:spPr>
            <a:xfrm>
              <a:off x="1428840" y="1285920"/>
              <a:ext cx="6786360" cy="128592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Box 17"/>
            <p:cNvSpPr/>
            <p:nvPr/>
          </p:nvSpPr>
          <p:spPr>
            <a:xfrm>
              <a:off x="2500200" y="1285920"/>
              <a:ext cx="557208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Box 19"/>
            <p:cNvSpPr/>
            <p:nvPr/>
          </p:nvSpPr>
          <p:spPr>
            <a:xfrm>
              <a:off x="2500200" y="2000160"/>
              <a:ext cx="56433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应聘新岗位的设想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26" name="TextBox 7"/>
          <p:cNvSpPr/>
          <p:nvPr/>
        </p:nvSpPr>
        <p:spPr>
          <a:xfrm>
            <a:off x="1000080" y="1214280"/>
            <a:ext cx="1357200" cy="13575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8"/>
          <p:cNvSpPr/>
          <p:nvPr/>
        </p:nvSpPr>
        <p:spPr>
          <a:xfrm>
            <a:off x="1000080" y="2786040"/>
            <a:ext cx="1357200" cy="1357200"/>
          </a:xfrm>
          <a:prstGeom prst="ellipse">
            <a:avLst/>
          </a:prstGeom>
          <a:solidFill>
            <a:srgbClr val="f5c02b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技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9"/>
          <p:cNvSpPr/>
          <p:nvPr/>
        </p:nvSpPr>
        <p:spPr>
          <a:xfrm>
            <a:off x="1000080" y="4286160"/>
            <a:ext cx="1357200" cy="13575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工作态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使用规范说明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6:11:11Z</dcterms:created>
  <dc:creator>Sophie</dc:creator>
  <dc:description/>
  <dc:language>en-US</dc:language>
  <cp:lastModifiedBy>yu wang</cp:lastModifiedBy>
  <dcterms:modified xsi:type="dcterms:W3CDTF">2015-08-08T10:03:50Z</dcterms:modified>
  <cp:revision>15</cp:revision>
  <dc:subject/>
  <dc:title>幻灯片 1</dc:title>
</cp:coreProperties>
</file>