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7E2D9-8FD3-4B91-8F98-C425D7F5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AE2A2-DFFE-410E-9DB6-0FBE4D3E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2C945-6466-44CD-814D-9F6AAE95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CDCCD-E53C-495E-B70C-D4E6FE61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F78E9-0334-46F5-9023-E1F5032F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5EA22-65BA-4CC5-B544-2CEB1EEF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99F88-4B5B-4EF4-9807-D94B20F8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B1CE2-BF7A-40A0-B998-F4B2CCF19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6232E-803D-40F7-A95E-7ACB398F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49930-9895-41D6-98A8-E2F010F59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91CF6-3B33-4DDC-8354-0EB9341A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E0E6E-E17B-4392-8CA1-C4D94571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E676C-9E05-4E90-A919-E0397A54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581CA-C460-4DE7-95E9-4E0C0C78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D6657-97D0-4866-A178-39A75D6A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2C33D-F3B9-4960-97F0-E16FFC3D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7567A-E6D0-48D9-9881-F03546CC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B34B1-FC15-45E7-BB4D-7E1DDC4B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C3ABB-5723-46AC-8EC1-F3FD3C63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8C3D9-26D6-4110-A4A7-A5E142B7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B3E95-0ED9-4F19-9CD1-EBC315116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EBABA-9C7C-42FD-B96C-89AD60F1D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9F1BF-25E5-4937-A807-BA08CC0C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7D797D-882B-4449-8E73-B685564E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44228-569D-4F2C-BF31-7128115E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4E3C6B-8883-4EB1-8378-654D555C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9BE592-42B2-4333-839A-3EF7B6AE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B338B-A4D3-4921-BC1A-1D27401A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61A3F-B109-420F-8666-F1CDE01C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607E1-3C5B-4BD0-A587-50370585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A8E7-83EB-4B55-BA57-0ECFC301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C86FF-9ED7-4C81-9D47-EFCEBA99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61AA6-6749-44E8-B233-F115C2D80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2A573C-FC48-413E-BD6E-8993667A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154F1-3200-47BB-A017-986A2ABB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9700B-DC6F-43FB-83FA-AEDEDC51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7C3F8-C8D4-46CC-9111-F7E356C6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FFF1E-448E-4CF9-890A-0529D4BB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62A4F-FFF0-4F81-993D-571BC004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783E9-CB56-4EFB-B1ED-16E3D023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E1FE1-3F6A-4051-914F-7DB783A9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3CEF-191A-4146-B610-E0CA9CBD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9AD0B-3773-4B9E-9A5B-C905B69D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2FE93-0F61-42AA-B48C-B18C07A4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D119A-9D48-499A-B19A-78AA54A7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43849-30E4-48B1-966D-75E54D5D3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EA474-E049-498A-8B1E-60D4FF93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AC48-81DE-40FC-88A8-76806B9E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13F2-A24D-4B36-8958-6E05DFA0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C23D-5638-41A8-8815-A2EDA29F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63E7-95D8-4E5C-9285-D5E84F71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309E-BB8D-403D-A2FA-E7880C7F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00BB-AAAC-48E6-BA82-E1FBB42B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F6CC-B36D-40F7-958E-62E5B591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9F4C-F4EC-43B5-8D4E-5FE63ECA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A4AD-151F-4796-B0D0-4C022B88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CB80-F693-4ABA-8E03-6818A783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767F-6692-4841-98B3-AB67DA75F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8C95-ADBE-4092-A6B6-BAC9F5DD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2591-C634-431F-8165-A850D612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05B6-0866-4838-9337-1796A038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40BA-AA88-4C44-AEF2-22DE7D98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3580-0E40-41B3-90BB-C731DD59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56F7-0469-4661-AAD4-17FF50F2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1456-57BF-4CAE-AFE3-400775D4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6EBB-DC85-43A5-8919-BD6D1DFB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8A6E-4C3A-469C-8F96-A0ED4626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468F-C743-4F32-BF06-67DD616A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9A10-0EDA-452E-89EC-9EEBBFDE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DC570-4C18-4808-8930-502482D71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95C71-40A5-4AAD-A9AF-4BA1CDCB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16D71-173D-4BD6-9BEE-D90D17AB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59D3D-2D4E-4366-893A-6D5BBBD7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25D6B-8270-46FC-9127-3BA3AE46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2B412-10BC-42DE-BE41-9FCC3CA5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032DD-1171-4B8A-8838-530D47BC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1793D-F9FB-4FB2-AD9D-AD4A3661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11C44-00A4-4D69-A581-D552A2E2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16AF9-7178-4417-8099-4ABCAA08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5C9D3-E950-4A4F-A563-A59EF6E2D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A98FD-FCB2-446A-B79E-C222141B5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8789B-5B30-450D-89EA-69AE7E544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BE6DA-E710-4617-9B38-87562DCE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BAAAE-2D21-4F4B-AD16-F206493F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7EBC7-7677-42FD-8F2D-DCAF9448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5F0DA-BFB9-4655-9E85-CBD944E1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5C33C-CB01-4CA2-9713-DE9FE593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6CF6C-E0AA-48FB-ABF6-B6CAD02C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CF6BE-04CC-4337-9DF3-276A7B4C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02197-1EF3-49FD-A06D-911E7F3E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640D5-8899-479D-85B1-CB2D1F47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66042-F4B4-48D2-907C-E0B043F6D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8E23E-D391-46EC-A7EB-1D7E78A5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2E735-7E6A-44B8-8E31-5ACE037E4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41A24-41FC-45B1-938B-21B137C7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73393-3EE0-4D6C-8B25-33118847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545D9-3702-4D57-A63B-5CDCFDCF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84521-1BFB-46EA-A1CC-33C1DD87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4E123-E96F-45CF-88BF-91DE7E4A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DF5E8-EDD3-45CD-BA4F-2DF24FD8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2F509-91A1-435B-B037-672AED2C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09002-A777-43CD-AC39-A142BC78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C7C47-806D-49CA-B8FB-5EA1C661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27BEC-0B9A-432D-8D4C-5DBF1218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776DA-DA63-415F-AB8A-C1FC2295A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6C317-0B76-4E72-88FA-96232C19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5FD37-BE0C-45D1-B65B-C83047F9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45A7D-A814-4125-8C6E-8BD1300D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3795F-A134-463B-AC2C-DF900422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26D21-8029-414C-95A4-39BF1397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D8CE8-467F-4825-BBDE-13BC0187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A8761-D96F-4BCF-9A43-A1FD6B7F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1377C-0465-4D06-BD64-4449CBE9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D6E74-AB0A-494D-8206-16224771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E6EBB-F972-4AAF-B267-FA2074B1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010F7-FB65-4834-8392-297173FB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B25E2-A70F-42B0-967B-C23817CA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62681-7E21-4ABE-A925-1C859BEA1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B22F1-CB33-4022-B5FB-CF369CB2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6FFE0-B200-4EDB-81BE-9FC656DC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99383-826A-42DE-BE49-421F381B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51F35-0D7D-42E0-8B5B-F9E4BE38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5A2C7-4308-4B3C-9C7B-6180E18B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9AC4D-C3B0-40D1-8DED-0574F6DF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0B390-A015-4B14-A43D-12F5E897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89B7C-6A9E-4C65-A84D-3DE6F731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7BC8D-98BE-4C08-B9CB-68EAF72A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2A4CE-3114-4E47-8B85-64FDEED88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48DDC-CB1C-4F6B-ABA8-A4143B68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0551F-A80D-49FA-BEF9-3B08ED339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C86F4-235B-4308-9658-FD5F474F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2AF06-3F08-48F4-AB8E-5D3D0171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对角圆角矩形 6"/>
          <p:cNvSpPr/>
          <p:nvPr/>
        </p:nvSpPr>
        <p:spPr>
          <a:xfrm>
            <a:off x="88920" y="115920"/>
            <a:ext cx="8929800" cy="6626160"/>
          </a:xfrm>
          <a:custGeom>
            <a:avLst/>
            <a:gdLst/>
            <a:ahLst/>
            <a:rect l="l" t="t" r="r" b="b"/>
            <a:pathLst>
              <a:path w="8928992" h="6624736">
                <a:moveTo>
                  <a:pt x="1104145" y="0"/>
                </a:moveTo>
                <a:lnTo>
                  <a:pt x="8928992" y="0"/>
                </a:lnTo>
                <a:lnTo>
                  <a:pt x="8928992" y="5520591"/>
                </a:lnTo>
                <a:cubicBezTo>
                  <a:pt x="8928992" y="6130393"/>
                  <a:pt x="8434649" y="6624736"/>
                  <a:pt x="7824847" y="6624736"/>
                </a:cubicBezTo>
                <a:lnTo>
                  <a:pt x="0" y="6624736"/>
                </a:lnTo>
                <a:lnTo>
                  <a:pt x="0" y="1104145"/>
                </a:lnTo>
                <a:cubicBezTo>
                  <a:pt x="0" y="494343"/>
                  <a:pt x="494343" y="0"/>
                  <a:pt x="110414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对角圆角矩形 6"/>
          <p:cNvSpPr/>
          <p:nvPr/>
        </p:nvSpPr>
        <p:spPr>
          <a:xfrm>
            <a:off x="88920" y="115920"/>
            <a:ext cx="8929800" cy="6626160"/>
          </a:xfrm>
          <a:custGeom>
            <a:avLst/>
            <a:gdLst/>
            <a:ahLst/>
            <a:rect l="l" t="t" r="r" b="b"/>
            <a:pathLst>
              <a:path w="8928992" h="6624736">
                <a:moveTo>
                  <a:pt x="1104145" y="0"/>
                </a:moveTo>
                <a:lnTo>
                  <a:pt x="8928992" y="0"/>
                </a:lnTo>
                <a:lnTo>
                  <a:pt x="8928992" y="5520591"/>
                </a:lnTo>
                <a:cubicBezTo>
                  <a:pt x="8928992" y="6130393"/>
                  <a:pt x="8434649" y="6624736"/>
                  <a:pt x="7824847" y="6624736"/>
                </a:cubicBezTo>
                <a:lnTo>
                  <a:pt x="0" y="6624736"/>
                </a:lnTo>
                <a:lnTo>
                  <a:pt x="0" y="1104145"/>
                </a:lnTo>
                <a:cubicBezTo>
                  <a:pt x="0" y="494343"/>
                  <a:pt x="494343" y="0"/>
                  <a:pt x="110414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24C1-7C5E-4C3A-9FFC-3C013683549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对角圆角矩形 6"/>
          <p:cNvSpPr/>
          <p:nvPr/>
        </p:nvSpPr>
        <p:spPr>
          <a:xfrm>
            <a:off x="88920" y="115920"/>
            <a:ext cx="8929800" cy="6626160"/>
          </a:xfrm>
          <a:custGeom>
            <a:avLst/>
            <a:gdLst/>
            <a:ahLst/>
            <a:rect l="l" t="t" r="r" b="b"/>
            <a:pathLst>
              <a:path w="8928992" h="6624736">
                <a:moveTo>
                  <a:pt x="1104145" y="0"/>
                </a:moveTo>
                <a:lnTo>
                  <a:pt x="8928992" y="0"/>
                </a:lnTo>
                <a:lnTo>
                  <a:pt x="8928992" y="5520591"/>
                </a:lnTo>
                <a:cubicBezTo>
                  <a:pt x="8928992" y="6130393"/>
                  <a:pt x="8434649" y="6624736"/>
                  <a:pt x="7824847" y="6624736"/>
                </a:cubicBezTo>
                <a:lnTo>
                  <a:pt x="0" y="6624736"/>
                </a:lnTo>
                <a:lnTo>
                  <a:pt x="0" y="1104145"/>
                </a:lnTo>
                <a:cubicBezTo>
                  <a:pt x="0" y="494343"/>
                  <a:pt x="494343" y="0"/>
                  <a:pt x="110414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BA21-2104-40C7-B247-A1BBB331833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对角圆角矩形 6"/>
          <p:cNvSpPr/>
          <p:nvPr/>
        </p:nvSpPr>
        <p:spPr>
          <a:xfrm>
            <a:off x="88920" y="115920"/>
            <a:ext cx="8929800" cy="6626160"/>
          </a:xfrm>
          <a:custGeom>
            <a:avLst/>
            <a:gdLst/>
            <a:ahLst/>
            <a:rect l="l" t="t" r="r" b="b"/>
            <a:pathLst>
              <a:path w="8928992" h="6624736">
                <a:moveTo>
                  <a:pt x="1104145" y="0"/>
                </a:moveTo>
                <a:lnTo>
                  <a:pt x="8928992" y="0"/>
                </a:lnTo>
                <a:lnTo>
                  <a:pt x="8928992" y="5520591"/>
                </a:lnTo>
                <a:cubicBezTo>
                  <a:pt x="8928992" y="6130393"/>
                  <a:pt x="8434649" y="6624736"/>
                  <a:pt x="7824847" y="6624736"/>
                </a:cubicBezTo>
                <a:lnTo>
                  <a:pt x="0" y="6624736"/>
                </a:lnTo>
                <a:lnTo>
                  <a:pt x="0" y="1104145"/>
                </a:lnTo>
                <a:cubicBezTo>
                  <a:pt x="0" y="494343"/>
                  <a:pt x="494343" y="0"/>
                  <a:pt x="110414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2558-CFEC-4C03-BCF4-BCB63031048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对角圆角矩形 6"/>
          <p:cNvSpPr/>
          <p:nvPr/>
        </p:nvSpPr>
        <p:spPr>
          <a:xfrm>
            <a:off x="88920" y="115920"/>
            <a:ext cx="8929800" cy="6626160"/>
          </a:xfrm>
          <a:custGeom>
            <a:avLst/>
            <a:gdLst/>
            <a:ahLst/>
            <a:rect l="l" t="t" r="r" b="b"/>
            <a:pathLst>
              <a:path w="8928992" h="6624736">
                <a:moveTo>
                  <a:pt x="1104145" y="0"/>
                </a:moveTo>
                <a:lnTo>
                  <a:pt x="8928992" y="0"/>
                </a:lnTo>
                <a:lnTo>
                  <a:pt x="8928992" y="5520591"/>
                </a:lnTo>
                <a:cubicBezTo>
                  <a:pt x="8928992" y="6130393"/>
                  <a:pt x="8434649" y="6624736"/>
                  <a:pt x="7824847" y="6624736"/>
                </a:cubicBezTo>
                <a:lnTo>
                  <a:pt x="0" y="6624736"/>
                </a:lnTo>
                <a:lnTo>
                  <a:pt x="0" y="1104145"/>
                </a:lnTo>
                <a:cubicBezTo>
                  <a:pt x="0" y="494343"/>
                  <a:pt x="494343" y="0"/>
                  <a:pt x="110414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A026-83CD-40A3-81ED-83E74864695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对角圆角矩形 6"/>
          <p:cNvSpPr/>
          <p:nvPr/>
        </p:nvSpPr>
        <p:spPr>
          <a:xfrm>
            <a:off x="88920" y="115920"/>
            <a:ext cx="8929800" cy="6626160"/>
          </a:xfrm>
          <a:custGeom>
            <a:avLst/>
            <a:gdLst/>
            <a:ahLst/>
            <a:rect l="l" t="t" r="r" b="b"/>
            <a:pathLst>
              <a:path w="8928992" h="6624736">
                <a:moveTo>
                  <a:pt x="1104145" y="0"/>
                </a:moveTo>
                <a:lnTo>
                  <a:pt x="8928992" y="0"/>
                </a:lnTo>
                <a:lnTo>
                  <a:pt x="8928992" y="5520591"/>
                </a:lnTo>
                <a:cubicBezTo>
                  <a:pt x="8928992" y="6130393"/>
                  <a:pt x="8434649" y="6624736"/>
                  <a:pt x="7824847" y="6624736"/>
                </a:cubicBezTo>
                <a:lnTo>
                  <a:pt x="0" y="6624736"/>
                </a:lnTo>
                <a:lnTo>
                  <a:pt x="0" y="1104145"/>
                </a:lnTo>
                <a:cubicBezTo>
                  <a:pt x="0" y="494343"/>
                  <a:pt x="494343" y="0"/>
                  <a:pt x="110414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51E1-B93E-48D5-9D65-F999E63A39B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对角圆角矩形 6"/>
          <p:cNvSpPr/>
          <p:nvPr/>
        </p:nvSpPr>
        <p:spPr>
          <a:xfrm>
            <a:off x="88920" y="115920"/>
            <a:ext cx="8929800" cy="6626160"/>
          </a:xfrm>
          <a:custGeom>
            <a:avLst/>
            <a:gdLst/>
            <a:ahLst/>
            <a:rect l="l" t="t" r="r" b="b"/>
            <a:pathLst>
              <a:path w="8928992" h="6624736">
                <a:moveTo>
                  <a:pt x="1104145" y="0"/>
                </a:moveTo>
                <a:lnTo>
                  <a:pt x="8928992" y="0"/>
                </a:lnTo>
                <a:lnTo>
                  <a:pt x="8928992" y="5520591"/>
                </a:lnTo>
                <a:cubicBezTo>
                  <a:pt x="8928992" y="6130393"/>
                  <a:pt x="8434649" y="6624736"/>
                  <a:pt x="7824847" y="6624736"/>
                </a:cubicBezTo>
                <a:lnTo>
                  <a:pt x="0" y="6624736"/>
                </a:lnTo>
                <a:lnTo>
                  <a:pt x="0" y="1104145"/>
                </a:lnTo>
                <a:cubicBezTo>
                  <a:pt x="0" y="494343"/>
                  <a:pt x="494343" y="0"/>
                  <a:pt x="110414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D46D-C7DC-460E-8F1E-8E9721627D3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对角圆角矩形 6"/>
          <p:cNvSpPr/>
          <p:nvPr/>
        </p:nvSpPr>
        <p:spPr>
          <a:xfrm>
            <a:off x="88920" y="115920"/>
            <a:ext cx="8929800" cy="6626160"/>
          </a:xfrm>
          <a:custGeom>
            <a:avLst/>
            <a:gdLst/>
            <a:ahLst/>
            <a:rect l="l" t="t" r="r" b="b"/>
            <a:pathLst>
              <a:path w="8928992" h="6624736">
                <a:moveTo>
                  <a:pt x="1104145" y="0"/>
                </a:moveTo>
                <a:lnTo>
                  <a:pt x="8928992" y="0"/>
                </a:lnTo>
                <a:lnTo>
                  <a:pt x="8928992" y="5520591"/>
                </a:lnTo>
                <a:cubicBezTo>
                  <a:pt x="8928992" y="6130393"/>
                  <a:pt x="8434649" y="6624736"/>
                  <a:pt x="7824847" y="6624736"/>
                </a:cubicBezTo>
                <a:lnTo>
                  <a:pt x="0" y="6624736"/>
                </a:lnTo>
                <a:lnTo>
                  <a:pt x="0" y="1104145"/>
                </a:lnTo>
                <a:cubicBezTo>
                  <a:pt x="0" y="494343"/>
                  <a:pt x="494343" y="0"/>
                  <a:pt x="110414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4765-4253-4E09-9002-B7B08B5F6F5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对角圆角矩形 6"/>
          <p:cNvSpPr/>
          <p:nvPr/>
        </p:nvSpPr>
        <p:spPr>
          <a:xfrm>
            <a:off x="88920" y="115920"/>
            <a:ext cx="8929800" cy="6626160"/>
          </a:xfrm>
          <a:custGeom>
            <a:avLst/>
            <a:gdLst/>
            <a:ahLst/>
            <a:rect l="l" t="t" r="r" b="b"/>
            <a:pathLst>
              <a:path w="8928992" h="6624736">
                <a:moveTo>
                  <a:pt x="1104145" y="0"/>
                </a:moveTo>
                <a:lnTo>
                  <a:pt x="8928992" y="0"/>
                </a:lnTo>
                <a:lnTo>
                  <a:pt x="8928992" y="5520591"/>
                </a:lnTo>
                <a:cubicBezTo>
                  <a:pt x="8928992" y="6130393"/>
                  <a:pt x="8434649" y="6624736"/>
                  <a:pt x="7824847" y="6624736"/>
                </a:cubicBezTo>
                <a:lnTo>
                  <a:pt x="0" y="6624736"/>
                </a:lnTo>
                <a:lnTo>
                  <a:pt x="0" y="1104145"/>
                </a:lnTo>
                <a:cubicBezTo>
                  <a:pt x="0" y="494343"/>
                  <a:pt x="494343" y="0"/>
                  <a:pt x="110414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A185-A23D-47C4-9CA7-F6C441E9143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对角圆角矩形 6"/>
          <p:cNvSpPr/>
          <p:nvPr/>
        </p:nvSpPr>
        <p:spPr>
          <a:xfrm>
            <a:off x="88920" y="115920"/>
            <a:ext cx="8929800" cy="6626160"/>
          </a:xfrm>
          <a:custGeom>
            <a:avLst/>
            <a:gdLst/>
            <a:ahLst/>
            <a:rect l="l" t="t" r="r" b="b"/>
            <a:pathLst>
              <a:path w="8928992" h="6624736">
                <a:moveTo>
                  <a:pt x="1104145" y="0"/>
                </a:moveTo>
                <a:lnTo>
                  <a:pt x="8928992" y="0"/>
                </a:lnTo>
                <a:lnTo>
                  <a:pt x="8928992" y="5520591"/>
                </a:lnTo>
                <a:cubicBezTo>
                  <a:pt x="8928992" y="6130393"/>
                  <a:pt x="8434649" y="6624736"/>
                  <a:pt x="7824847" y="6624736"/>
                </a:cubicBezTo>
                <a:lnTo>
                  <a:pt x="0" y="6624736"/>
                </a:lnTo>
                <a:lnTo>
                  <a:pt x="0" y="1104145"/>
                </a:lnTo>
                <a:cubicBezTo>
                  <a:pt x="0" y="494343"/>
                  <a:pt x="494343" y="0"/>
                  <a:pt x="110414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6B9F-4FC1-4C16-99D1-E9C6DDAAAA5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对角圆角矩形 6"/>
          <p:cNvSpPr/>
          <p:nvPr/>
        </p:nvSpPr>
        <p:spPr>
          <a:xfrm>
            <a:off x="88920" y="115920"/>
            <a:ext cx="8929800" cy="6626160"/>
          </a:xfrm>
          <a:custGeom>
            <a:avLst/>
            <a:gdLst/>
            <a:ahLst/>
            <a:rect l="l" t="t" r="r" b="b"/>
            <a:pathLst>
              <a:path w="8928992" h="6624736">
                <a:moveTo>
                  <a:pt x="1104145" y="0"/>
                </a:moveTo>
                <a:lnTo>
                  <a:pt x="8928992" y="0"/>
                </a:lnTo>
                <a:lnTo>
                  <a:pt x="8928992" y="5520591"/>
                </a:lnTo>
                <a:cubicBezTo>
                  <a:pt x="8928992" y="6130393"/>
                  <a:pt x="8434649" y="6624736"/>
                  <a:pt x="7824847" y="6624736"/>
                </a:cubicBezTo>
                <a:lnTo>
                  <a:pt x="0" y="6624736"/>
                </a:lnTo>
                <a:lnTo>
                  <a:pt x="0" y="1104145"/>
                </a:lnTo>
                <a:cubicBezTo>
                  <a:pt x="0" y="494343"/>
                  <a:pt x="494343" y="0"/>
                  <a:pt x="110414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CB81-1BE5-4262-9B5D-CEBE4E2382F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对角圆角矩形 6"/>
          <p:cNvSpPr/>
          <p:nvPr/>
        </p:nvSpPr>
        <p:spPr>
          <a:xfrm>
            <a:off x="88920" y="115920"/>
            <a:ext cx="8929800" cy="6626160"/>
          </a:xfrm>
          <a:custGeom>
            <a:avLst/>
            <a:gdLst/>
            <a:ahLst/>
            <a:rect l="l" t="t" r="r" b="b"/>
            <a:pathLst>
              <a:path w="8928992" h="6624736">
                <a:moveTo>
                  <a:pt x="1104145" y="0"/>
                </a:moveTo>
                <a:lnTo>
                  <a:pt x="8928992" y="0"/>
                </a:lnTo>
                <a:lnTo>
                  <a:pt x="8928992" y="5520591"/>
                </a:lnTo>
                <a:cubicBezTo>
                  <a:pt x="8928992" y="6130393"/>
                  <a:pt x="8434649" y="6624736"/>
                  <a:pt x="7824847" y="6624736"/>
                </a:cubicBezTo>
                <a:lnTo>
                  <a:pt x="0" y="6624736"/>
                </a:lnTo>
                <a:lnTo>
                  <a:pt x="0" y="1104145"/>
                </a:lnTo>
                <a:cubicBezTo>
                  <a:pt x="0" y="494343"/>
                  <a:pt x="494343" y="0"/>
                  <a:pt x="110414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74D9-B51E-44C2-9DD4-8F01A366075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直接连接符 7"/>
          <p:cNvSpPr/>
          <p:nvPr/>
        </p:nvSpPr>
        <p:spPr>
          <a:xfrm>
            <a:off x="395280" y="3645000"/>
            <a:ext cx="856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extBox 10"/>
          <p:cNvSpPr/>
          <p:nvPr/>
        </p:nvSpPr>
        <p:spPr>
          <a:xfrm>
            <a:off x="5374080" y="487044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位名称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TextBox 11"/>
          <p:cNvSpPr/>
          <p:nvPr/>
        </p:nvSpPr>
        <p:spPr>
          <a:xfrm>
            <a:off x="5579640" y="5256360"/>
            <a:ext cx="76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报告人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2" name="Group 7"/>
          <p:cNvGrpSpPr/>
          <p:nvPr/>
        </p:nvGrpSpPr>
        <p:grpSpPr>
          <a:xfrm>
            <a:off x="1116000" y="115920"/>
            <a:ext cx="7559280" cy="1512720"/>
            <a:chOff x="1116000" y="115920"/>
            <a:chExt cx="7559280" cy="1512720"/>
          </a:xfrm>
        </p:grpSpPr>
        <p:sp>
          <p:nvSpPr>
            <p:cNvPr id="483" name="矩形 12"/>
            <p:cNvSpPr/>
            <p:nvPr/>
          </p:nvSpPr>
          <p:spPr>
            <a:xfrm>
              <a:off x="1116000" y="115920"/>
              <a:ext cx="35964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矩形 13"/>
            <p:cNvSpPr/>
            <p:nvPr/>
          </p:nvSpPr>
          <p:spPr>
            <a:xfrm>
              <a:off x="1620000" y="115920"/>
              <a:ext cx="359640" cy="79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矩形 14"/>
            <p:cNvSpPr/>
            <p:nvPr/>
          </p:nvSpPr>
          <p:spPr>
            <a:xfrm>
              <a:off x="2124000" y="115920"/>
              <a:ext cx="35964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矩形 15"/>
            <p:cNvSpPr/>
            <p:nvPr/>
          </p:nvSpPr>
          <p:spPr>
            <a:xfrm>
              <a:off x="3203640" y="115920"/>
              <a:ext cx="359640" cy="10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矩形 16"/>
            <p:cNvSpPr/>
            <p:nvPr/>
          </p:nvSpPr>
          <p:spPr>
            <a:xfrm>
              <a:off x="3707640" y="115920"/>
              <a:ext cx="35964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矩形 17"/>
            <p:cNvSpPr/>
            <p:nvPr/>
          </p:nvSpPr>
          <p:spPr>
            <a:xfrm>
              <a:off x="4211640" y="115920"/>
              <a:ext cx="359640" cy="151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矩形 18"/>
            <p:cNvSpPr/>
            <p:nvPr/>
          </p:nvSpPr>
          <p:spPr>
            <a:xfrm>
              <a:off x="5275080" y="115920"/>
              <a:ext cx="35964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矩形 19"/>
            <p:cNvSpPr/>
            <p:nvPr/>
          </p:nvSpPr>
          <p:spPr>
            <a:xfrm>
              <a:off x="5779080" y="115920"/>
              <a:ext cx="35964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矩形 20"/>
            <p:cNvSpPr/>
            <p:nvPr/>
          </p:nvSpPr>
          <p:spPr>
            <a:xfrm>
              <a:off x="6283080" y="115920"/>
              <a:ext cx="35964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矩形 21"/>
            <p:cNvSpPr/>
            <p:nvPr/>
          </p:nvSpPr>
          <p:spPr>
            <a:xfrm>
              <a:off x="7307640" y="115920"/>
              <a:ext cx="359640" cy="9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矩形 22"/>
            <p:cNvSpPr/>
            <p:nvPr/>
          </p:nvSpPr>
          <p:spPr>
            <a:xfrm>
              <a:off x="7811640" y="115920"/>
              <a:ext cx="35964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矩形 23"/>
            <p:cNvSpPr/>
            <p:nvPr/>
          </p:nvSpPr>
          <p:spPr>
            <a:xfrm>
              <a:off x="8315640" y="115920"/>
              <a:ext cx="35964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5" name="TextBox 19"/>
          <p:cNvSpPr/>
          <p:nvPr/>
        </p:nvSpPr>
        <p:spPr>
          <a:xfrm>
            <a:off x="928800" y="1285920"/>
            <a:ext cx="55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非凡图库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ffpic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矩形 1"/>
          <p:cNvSpPr/>
          <p:nvPr/>
        </p:nvSpPr>
        <p:spPr>
          <a:xfrm>
            <a:off x="1873440" y="2759040"/>
            <a:ext cx="546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黑白对比强烈商务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2484360" y="1557360"/>
            <a:ext cx="4464000" cy="4464000"/>
            <a:chOff x="2484360" y="1557360"/>
            <a:chExt cx="4464000" cy="4464000"/>
          </a:xfrm>
        </p:grpSpPr>
        <p:sp>
          <p:nvSpPr>
            <p:cNvPr id="499" name="AutoShape 26"/>
            <p:cNvSpPr/>
            <p:nvPr/>
          </p:nvSpPr>
          <p:spPr>
            <a:xfrm flipH="1" rot="16200000">
              <a:off x="1614960" y="3131640"/>
              <a:ext cx="3002400" cy="1263600"/>
            </a:xfrm>
            <a:custGeom>
              <a:avLst/>
              <a:gdLst>
                <a:gd name="textAreaLeft" fmla="*/ 625320 w 3002400"/>
                <a:gd name="textAreaRight" fmla="*/ 2377080 w 3002400"/>
                <a:gd name="textAreaTop" fmla="*/ 263160 h 1263600"/>
                <a:gd name="textAreaBottom" fmla="*/ 1000440 h 126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AutoShape 22"/>
            <p:cNvSpPr/>
            <p:nvPr/>
          </p:nvSpPr>
          <p:spPr>
            <a:xfrm>
              <a:off x="3214080" y="1557360"/>
              <a:ext cx="3004560" cy="1263600"/>
            </a:xfrm>
            <a:custGeom>
              <a:avLst/>
              <a:gdLst>
                <a:gd name="textAreaLeft" fmla="*/ 625680 w 3004560"/>
                <a:gd name="textAreaRight" fmla="*/ 2378880 w 3004560"/>
                <a:gd name="textAreaTop" fmla="*/ 263160 h 1263600"/>
                <a:gd name="textAreaBottom" fmla="*/ 1000440 h 126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AutoShape 24"/>
            <p:cNvSpPr/>
            <p:nvPr/>
          </p:nvSpPr>
          <p:spPr>
            <a:xfrm flipV="1">
              <a:off x="3214080" y="4757760"/>
              <a:ext cx="3004560" cy="1263600"/>
            </a:xfrm>
            <a:custGeom>
              <a:avLst/>
              <a:gdLst>
                <a:gd name="textAreaLeft" fmla="*/ 625680 w 3004560"/>
                <a:gd name="textAreaRight" fmla="*/ 2378880 w 3004560"/>
                <a:gd name="textAreaTop" fmla="*/ 263160 h 1263600"/>
                <a:gd name="textAreaBottom" fmla="*/ 1000440 h 126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AutoShape 25"/>
            <p:cNvSpPr/>
            <p:nvPr/>
          </p:nvSpPr>
          <p:spPr>
            <a:xfrm rot="5400000">
              <a:off x="4815360" y="3133800"/>
              <a:ext cx="3002400" cy="1263600"/>
            </a:xfrm>
            <a:custGeom>
              <a:avLst/>
              <a:gdLst>
                <a:gd name="textAreaLeft" fmla="*/ 625320 w 3002400"/>
                <a:gd name="textAreaRight" fmla="*/ 2377080 w 3002400"/>
                <a:gd name="textAreaTop" fmla="*/ 263160 h 1263600"/>
                <a:gd name="textAreaBottom" fmla="*/ 1000440 h 126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Rectangle 21"/>
            <p:cNvSpPr/>
            <p:nvPr/>
          </p:nvSpPr>
          <p:spPr>
            <a:xfrm>
              <a:off x="3738960" y="2818440"/>
              <a:ext cx="1954800" cy="195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Rectangle 23"/>
            <p:cNvSpPr/>
            <p:nvPr/>
          </p:nvSpPr>
          <p:spPr>
            <a:xfrm>
              <a:off x="3963960" y="3016800"/>
              <a:ext cx="1504440" cy="1506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5" name="TextBox 15"/>
          <p:cNvSpPr/>
          <p:nvPr/>
        </p:nvSpPr>
        <p:spPr>
          <a:xfrm>
            <a:off x="1215360" y="260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直接连接符 17"/>
          <p:cNvSpPr/>
          <p:nvPr/>
        </p:nvSpPr>
        <p:spPr>
          <a:xfrm>
            <a:off x="250920" y="1197000"/>
            <a:ext cx="856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直接连接符 18"/>
          <p:cNvSpPr/>
          <p:nvPr/>
        </p:nvSpPr>
        <p:spPr>
          <a:xfrm>
            <a:off x="250920" y="6237360"/>
            <a:ext cx="856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19"/>
          <p:cNvSpPr/>
          <p:nvPr/>
        </p:nvSpPr>
        <p:spPr>
          <a:xfrm>
            <a:off x="4320360" y="19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Box 20"/>
          <p:cNvSpPr/>
          <p:nvPr/>
        </p:nvSpPr>
        <p:spPr>
          <a:xfrm>
            <a:off x="2693880" y="35622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21"/>
          <p:cNvSpPr/>
          <p:nvPr/>
        </p:nvSpPr>
        <p:spPr>
          <a:xfrm>
            <a:off x="5946120" y="35622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22"/>
          <p:cNvSpPr/>
          <p:nvPr/>
        </p:nvSpPr>
        <p:spPr>
          <a:xfrm>
            <a:off x="4467960" y="51894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Box 23"/>
          <p:cNvSpPr/>
          <p:nvPr/>
        </p:nvSpPr>
        <p:spPr>
          <a:xfrm>
            <a:off x="4320360" y="3595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Box 24"/>
          <p:cNvSpPr/>
          <p:nvPr/>
        </p:nvSpPr>
        <p:spPr>
          <a:xfrm>
            <a:off x="565200" y="15890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Box 25"/>
          <p:cNvSpPr/>
          <p:nvPr/>
        </p:nvSpPr>
        <p:spPr>
          <a:xfrm>
            <a:off x="471240" y="19890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Box 26"/>
          <p:cNvSpPr/>
          <p:nvPr/>
        </p:nvSpPr>
        <p:spPr>
          <a:xfrm>
            <a:off x="7410240" y="30225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7316640" y="34225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2"/>
          <p:cNvGrpSpPr/>
          <p:nvPr/>
        </p:nvGrpSpPr>
        <p:grpSpPr>
          <a:xfrm>
            <a:off x="421920" y="5229360"/>
            <a:ext cx="7561080" cy="1512720"/>
            <a:chOff x="421920" y="5229360"/>
            <a:chExt cx="7561080" cy="1512720"/>
          </a:xfrm>
        </p:grpSpPr>
        <p:sp>
          <p:nvSpPr>
            <p:cNvPr id="518" name="矩形 2"/>
            <p:cNvSpPr/>
            <p:nvPr/>
          </p:nvSpPr>
          <p:spPr>
            <a:xfrm rot="10800000">
              <a:off x="7623000" y="6165720"/>
              <a:ext cx="36000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矩形 3"/>
            <p:cNvSpPr/>
            <p:nvPr/>
          </p:nvSpPr>
          <p:spPr>
            <a:xfrm rot="10800000">
              <a:off x="7119000" y="5949720"/>
              <a:ext cx="360000" cy="79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矩形 4"/>
            <p:cNvSpPr/>
            <p:nvPr/>
          </p:nvSpPr>
          <p:spPr>
            <a:xfrm rot="10800000">
              <a:off x="6615000" y="6454080"/>
              <a:ext cx="36000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矩形 5"/>
            <p:cNvSpPr/>
            <p:nvPr/>
          </p:nvSpPr>
          <p:spPr>
            <a:xfrm rot="10800000">
              <a:off x="5534640" y="5661360"/>
              <a:ext cx="360000" cy="10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矩形 6"/>
            <p:cNvSpPr/>
            <p:nvPr/>
          </p:nvSpPr>
          <p:spPr>
            <a:xfrm rot="10800000">
              <a:off x="5030640" y="6454080"/>
              <a:ext cx="36000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矩形 7"/>
            <p:cNvSpPr/>
            <p:nvPr/>
          </p:nvSpPr>
          <p:spPr>
            <a:xfrm rot="10800000">
              <a:off x="4526640" y="5229360"/>
              <a:ext cx="360000" cy="151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矩形 8"/>
            <p:cNvSpPr/>
            <p:nvPr/>
          </p:nvSpPr>
          <p:spPr>
            <a:xfrm rot="10800000">
              <a:off x="3463200" y="6454080"/>
              <a:ext cx="36000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矩形 9"/>
            <p:cNvSpPr/>
            <p:nvPr/>
          </p:nvSpPr>
          <p:spPr>
            <a:xfrm rot="10800000">
              <a:off x="2959200" y="6454080"/>
              <a:ext cx="36000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矩形 10"/>
            <p:cNvSpPr/>
            <p:nvPr/>
          </p:nvSpPr>
          <p:spPr>
            <a:xfrm rot="10800000">
              <a:off x="2454840" y="6454080"/>
              <a:ext cx="36000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矩形 11"/>
            <p:cNvSpPr/>
            <p:nvPr/>
          </p:nvSpPr>
          <p:spPr>
            <a:xfrm rot="10800000">
              <a:off x="1429920" y="5805720"/>
              <a:ext cx="360000" cy="9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矩形 12"/>
            <p:cNvSpPr/>
            <p:nvPr/>
          </p:nvSpPr>
          <p:spPr>
            <a:xfrm rot="10800000">
              <a:off x="925920" y="6454080"/>
              <a:ext cx="36000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矩形 13"/>
            <p:cNvSpPr/>
            <p:nvPr/>
          </p:nvSpPr>
          <p:spPr>
            <a:xfrm rot="10800000">
              <a:off x="421920" y="6454080"/>
              <a:ext cx="36000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0" name="TextBox 14"/>
          <p:cNvSpPr/>
          <p:nvPr/>
        </p:nvSpPr>
        <p:spPr>
          <a:xfrm>
            <a:off x="3749040" y="203040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直接连接符 15"/>
          <p:cNvSpPr/>
          <p:nvPr/>
        </p:nvSpPr>
        <p:spPr>
          <a:xfrm>
            <a:off x="395280" y="3645000"/>
            <a:ext cx="856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Box 16"/>
          <p:cNvSpPr/>
          <p:nvPr/>
        </p:nvSpPr>
        <p:spPr>
          <a:xfrm>
            <a:off x="5613840" y="376236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位名称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TextBox 17"/>
          <p:cNvSpPr/>
          <p:nvPr/>
        </p:nvSpPr>
        <p:spPr>
          <a:xfrm>
            <a:off x="5819400" y="4149720"/>
            <a:ext cx="76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报告人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 Box 9"/>
          <p:cNvSpPr/>
          <p:nvPr/>
        </p:nvSpPr>
        <p:spPr>
          <a:xfrm>
            <a:off x="395280" y="60069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0T09:15:15Z</dcterms:created>
  <dc:creator>PPT STORE</dc:creator>
  <dc:description>
  ☆ 感谢您使用PPT STORE网站平台上发布的免费原创作品，作品仅供个人或公司使用，为了您和PPT STORE以及原创作者的利益，请勿复制、传播、销售，否则将承担法律责任！
  ☆ 其他网站或个人若进行转载发布PPT STORE平台的免费原创作品，请保留此文件和注释的完整性，并注明来源于 PPT STORE 官方网站：http://www.pptstore.net和PPT STORE 官方微博：http://weibo.com/pptstore
     未按照要求转发或发布，PPT STORE平台将和原创作者共同维权，索取赔偿！
  ☆ 感谢您支持原创设计事业，支持设计版权产品 ！
  ☆ 本模板由PPT STORE官方网站 原创设计
  ☆ PPT STORE 官方网站：http://www.pptstore.net
  ☆ PPT STORE 官方微博：http://weibo.com/pptstore</dc:description>
  <cp:keywords>黑白 对比  强烈 商务 PPT模板</cp:keywords>
  <dc:language>en-US</dc:language>
  <cp:lastModifiedBy>yu wang</cp:lastModifiedBy>
  <cp:lastPrinted>1899-12-30T00:00:00Z</cp:lastPrinted>
  <dcterms:modified xsi:type="dcterms:W3CDTF">2015-08-08T10:05:58Z</dcterms:modified>
  <cp:revision>7</cp:revision>
  <dc:subject>商务PPT模板</dc:subject>
  <dc:title>黑白对比强烈商务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