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0DE-6234-41CE-B7C6-44699459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FF3-4A0D-4E81-857B-6099BA07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660-E848-410F-AD00-3353F5B0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6F06-61E6-437A-AACB-DC278DDE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E8CE-2CDA-4EDC-AECD-DE7DA78D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4D28-64DF-4C88-BA98-1295F1D2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7324-6EBA-4BBA-9A06-8CDEB077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45FC-7BEF-4D4B-8B56-329B7C73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CB8A-09D5-4A59-A473-ECA57BD6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F38E-018F-4EE1-9E13-8215BE76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16B7-9C3C-4E0A-95C1-C48FD619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61C-5976-48D5-B113-8E3830FA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1E51-179E-4E9D-A7C7-80E4426E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14ED-7254-41AC-B6D1-A4DBB5D5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51A8-50EA-4BD5-8B85-C51B706A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52BA-1A1D-4889-BD9A-5782CF78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35CF-2CFC-4792-94CA-423CEBD9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43F-72D5-4139-96C1-6D2C224A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0D7-FD8F-4D63-A9E6-0B12103F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565D-9968-40CA-B2E0-C843685E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7A5-AAAE-4C91-B222-A1158F58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BA1-D492-461E-AEB3-96FEBDC6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28F-BD74-4B4C-9291-9F381069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A62-3553-46D1-8589-CEF1A30E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2608D4-6144-429F-8CDC-394786E9B389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9E141F-00FF-4D92-9636-F42FBCE1EC8E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0" y="-20520"/>
            <a:ext cx="9143640" cy="2952000"/>
          </a:xfrm>
          <a:prstGeom prst="rect">
            <a:avLst/>
          </a:prstGeom>
          <a:solidFill>
            <a:srgbClr val="e61c2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84" name="图片 9" descr=""/>
          <p:cNvPicPr/>
          <p:nvPr/>
        </p:nvPicPr>
        <p:blipFill>
          <a:blip r:embed="rId1"/>
          <a:srcRect l="0" t="5882" r="0" b="3750"/>
          <a:stretch/>
        </p:blipFill>
        <p:spPr>
          <a:xfrm>
            <a:off x="1115640" y="2931840"/>
            <a:ext cx="7211160" cy="2211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0"/>
          <p:cNvSpPr/>
          <p:nvPr/>
        </p:nvSpPr>
        <p:spPr>
          <a:xfrm>
            <a:off x="1274040" y="2283840"/>
            <a:ext cx="7067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红灰简约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316800" y="4731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6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0" y="0"/>
            <a:ext cx="9143640" cy="5551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100000">
                <a:srgbClr val="cfcfcf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88" name="直角三角形 3"/>
          <p:cNvSpPr/>
          <p:nvPr/>
        </p:nvSpPr>
        <p:spPr>
          <a:xfrm flipV="1">
            <a:off x="0" y="0"/>
            <a:ext cx="395280" cy="411120"/>
          </a:xfrm>
          <a:prstGeom prst="rtTriangle">
            <a:avLst/>
          </a:prstGeom>
          <a:solidFill>
            <a:srgbClr val="d6d6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67640" y="78840"/>
            <a:ext cx="134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6"/>
          <p:cNvGrpSpPr/>
          <p:nvPr/>
        </p:nvGrpSpPr>
        <p:grpSpPr>
          <a:xfrm>
            <a:off x="1767960" y="405000"/>
            <a:ext cx="5107680" cy="1430280"/>
            <a:chOff x="1767960" y="405000"/>
            <a:chExt cx="5107680" cy="1430280"/>
          </a:xfrm>
        </p:grpSpPr>
        <p:sp>
          <p:nvSpPr>
            <p:cNvPr id="91" name="TextBox 7"/>
            <p:cNvSpPr/>
            <p:nvPr/>
          </p:nvSpPr>
          <p:spPr>
            <a:xfrm>
              <a:off x="1767960" y="405000"/>
              <a:ext cx="7480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8800" spc="-1" strike="noStrike">
                  <a:solidFill>
                    <a:srgbClr val="ff0000"/>
                  </a:solidFill>
                  <a:latin typeface="Calibri"/>
                  <a:ea typeface="微软雅黑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9"/>
            <p:cNvSpPr/>
            <p:nvPr/>
          </p:nvSpPr>
          <p:spPr>
            <a:xfrm>
              <a:off x="2483640" y="1014840"/>
              <a:ext cx="4392000" cy="555120"/>
            </a:xfrm>
            <a:prstGeom prst="rect">
              <a:avLst/>
            </a:prstGeom>
            <a:solidFill>
              <a:srgbClr val="9494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请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24"/>
            <p:cNvGrpSpPr/>
            <p:nvPr/>
          </p:nvGrpSpPr>
          <p:grpSpPr>
            <a:xfrm>
              <a:off x="2336760" y="847080"/>
              <a:ext cx="532080" cy="910080"/>
              <a:chOff x="2336760" y="847080"/>
              <a:chExt cx="532080" cy="910080"/>
            </a:xfrm>
          </p:grpSpPr>
          <p:sp>
            <p:nvSpPr>
              <p:cNvPr id="94" name="直角三角形 20"/>
              <p:cNvSpPr/>
              <p:nvPr/>
            </p:nvSpPr>
            <p:spPr>
              <a:xfrm flipV="1">
                <a:off x="2483640" y="964440"/>
                <a:ext cx="338040" cy="546840"/>
              </a:xfrm>
              <a:prstGeom prst="rtTriangle">
                <a:avLst/>
              </a:prstGeom>
              <a:solidFill>
                <a:srgbClr val="d6d6d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cxnSp>
            <p:nvCxnSpPr>
              <p:cNvPr id="95" name="直接连接符 10"/>
              <p:cNvCxnSpPr/>
              <p:nvPr/>
            </p:nvCxnSpPr>
            <p:spPr>
              <a:xfrm flipH="1">
                <a:off x="2336760" y="847080"/>
                <a:ext cx="532440" cy="910440"/>
              </a:xfrm>
              <a:prstGeom prst="straightConnector1">
                <a:avLst/>
              </a:prstGeom>
              <a:ln w="38100">
                <a:solidFill>
                  <a:srgbClr val="000000"/>
                </a:solidFill>
                <a:round/>
              </a:ln>
            </p:spPr>
          </p:cxnSp>
        </p:grpSp>
      </p:grpSp>
      <p:grpSp>
        <p:nvGrpSpPr>
          <p:cNvPr id="96" name="组合 27"/>
          <p:cNvGrpSpPr/>
          <p:nvPr/>
        </p:nvGrpSpPr>
        <p:grpSpPr>
          <a:xfrm>
            <a:off x="1767960" y="1923840"/>
            <a:ext cx="5107680" cy="1430280"/>
            <a:chOff x="1767960" y="1923840"/>
            <a:chExt cx="5107680" cy="1430280"/>
          </a:xfrm>
        </p:grpSpPr>
        <p:sp>
          <p:nvSpPr>
            <p:cNvPr id="97" name="TextBox 28"/>
            <p:cNvSpPr/>
            <p:nvPr/>
          </p:nvSpPr>
          <p:spPr>
            <a:xfrm>
              <a:off x="1767960" y="1923840"/>
              <a:ext cx="7480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8800" spc="-1" strike="noStrike">
                  <a:solidFill>
                    <a:srgbClr val="ff0000"/>
                  </a:solidFill>
                  <a:latin typeface="Calibri"/>
                  <a:ea typeface="微软雅黑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29"/>
            <p:cNvSpPr/>
            <p:nvPr/>
          </p:nvSpPr>
          <p:spPr>
            <a:xfrm>
              <a:off x="2483640" y="2533320"/>
              <a:ext cx="4392000" cy="555120"/>
            </a:xfrm>
            <a:prstGeom prst="rect">
              <a:avLst/>
            </a:prstGeom>
            <a:solidFill>
              <a:srgbClr val="9494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请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组合 30"/>
            <p:cNvGrpSpPr/>
            <p:nvPr/>
          </p:nvGrpSpPr>
          <p:grpSpPr>
            <a:xfrm>
              <a:off x="2336760" y="2365560"/>
              <a:ext cx="532080" cy="910080"/>
              <a:chOff x="2336760" y="2365560"/>
              <a:chExt cx="532080" cy="910080"/>
            </a:xfrm>
          </p:grpSpPr>
          <p:sp>
            <p:nvSpPr>
              <p:cNvPr id="100" name="直角三角形 31"/>
              <p:cNvSpPr/>
              <p:nvPr/>
            </p:nvSpPr>
            <p:spPr>
              <a:xfrm flipV="1">
                <a:off x="2483640" y="2482920"/>
                <a:ext cx="338040" cy="546840"/>
              </a:xfrm>
              <a:prstGeom prst="rtTriangle">
                <a:avLst/>
              </a:prstGeom>
              <a:solidFill>
                <a:srgbClr val="d6d6d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cxnSp>
            <p:nvCxnSpPr>
              <p:cNvPr id="101" name="直接连接符 32"/>
              <p:cNvCxnSpPr/>
              <p:nvPr/>
            </p:nvCxnSpPr>
            <p:spPr>
              <a:xfrm flipH="1">
                <a:off x="2336760" y="2365560"/>
                <a:ext cx="532440" cy="910440"/>
              </a:xfrm>
              <a:prstGeom prst="straightConnector1">
                <a:avLst/>
              </a:prstGeom>
              <a:ln w="38100">
                <a:solidFill>
                  <a:srgbClr val="000000"/>
                </a:solidFill>
                <a:round/>
              </a:ln>
            </p:spPr>
          </p:cxnSp>
        </p:grpSp>
      </p:grpSp>
      <p:grpSp>
        <p:nvGrpSpPr>
          <p:cNvPr id="102" name="组合 33"/>
          <p:cNvGrpSpPr/>
          <p:nvPr/>
        </p:nvGrpSpPr>
        <p:grpSpPr>
          <a:xfrm>
            <a:off x="1839960" y="3423240"/>
            <a:ext cx="5035680" cy="1430280"/>
            <a:chOff x="1839960" y="3423240"/>
            <a:chExt cx="5035680" cy="1430280"/>
          </a:xfrm>
        </p:grpSpPr>
        <p:sp>
          <p:nvSpPr>
            <p:cNvPr id="103" name="TextBox 34"/>
            <p:cNvSpPr/>
            <p:nvPr/>
          </p:nvSpPr>
          <p:spPr>
            <a:xfrm>
              <a:off x="1839960" y="3423240"/>
              <a:ext cx="7480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800" spc="-1" strike="noStrike">
                  <a:solidFill>
                    <a:srgbClr val="ff0000"/>
                  </a:solidFill>
                  <a:latin typeface="Calibri"/>
                  <a:ea typeface="微软雅黑"/>
                </a:rPr>
                <a:t>3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35"/>
            <p:cNvSpPr/>
            <p:nvPr/>
          </p:nvSpPr>
          <p:spPr>
            <a:xfrm>
              <a:off x="2483640" y="4032720"/>
              <a:ext cx="4392000" cy="555120"/>
            </a:xfrm>
            <a:prstGeom prst="rect">
              <a:avLst/>
            </a:prstGeom>
            <a:solidFill>
              <a:srgbClr val="9494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请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组合 36"/>
            <p:cNvGrpSpPr/>
            <p:nvPr/>
          </p:nvGrpSpPr>
          <p:grpSpPr>
            <a:xfrm>
              <a:off x="2336760" y="3864960"/>
              <a:ext cx="532080" cy="910080"/>
              <a:chOff x="2336760" y="3864960"/>
              <a:chExt cx="532080" cy="910080"/>
            </a:xfrm>
          </p:grpSpPr>
          <p:sp>
            <p:nvSpPr>
              <p:cNvPr id="106" name="直角三角形 37"/>
              <p:cNvSpPr/>
              <p:nvPr/>
            </p:nvSpPr>
            <p:spPr>
              <a:xfrm flipV="1">
                <a:off x="2483640" y="3982320"/>
                <a:ext cx="338040" cy="546840"/>
              </a:xfrm>
              <a:prstGeom prst="rtTriangle">
                <a:avLst/>
              </a:prstGeom>
              <a:solidFill>
                <a:srgbClr val="d6d6d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cxnSp>
            <p:nvCxnSpPr>
              <p:cNvPr id="107" name="直接连接符 38"/>
              <p:cNvCxnSpPr/>
              <p:nvPr/>
            </p:nvCxnSpPr>
            <p:spPr>
              <a:xfrm flipH="1">
                <a:off x="2336760" y="3864960"/>
                <a:ext cx="532440" cy="910440"/>
              </a:xfrm>
              <a:prstGeom prst="straightConnector1">
                <a:avLst/>
              </a:prstGeom>
              <a:ln w="38100">
                <a:solidFill>
                  <a:srgbClr val="000000"/>
                </a:solidFill>
                <a:round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6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0" y="0"/>
            <a:ext cx="9143640" cy="5551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100000">
                <a:srgbClr val="cfcfcf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9" name="直角三角形 3"/>
          <p:cNvSpPr/>
          <p:nvPr/>
        </p:nvSpPr>
        <p:spPr>
          <a:xfrm flipV="1">
            <a:off x="0" y="0"/>
            <a:ext cx="395280" cy="411120"/>
          </a:xfrm>
          <a:prstGeom prst="rtTriangle">
            <a:avLst/>
          </a:prstGeom>
          <a:solidFill>
            <a:srgbClr val="d6d6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67640" y="78840"/>
            <a:ext cx="134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26"/>
          <p:cNvGrpSpPr/>
          <p:nvPr/>
        </p:nvGrpSpPr>
        <p:grpSpPr>
          <a:xfrm>
            <a:off x="1911960" y="1894320"/>
            <a:ext cx="5107680" cy="1430280"/>
            <a:chOff x="1911960" y="1894320"/>
            <a:chExt cx="5107680" cy="1430280"/>
          </a:xfrm>
        </p:grpSpPr>
        <p:sp>
          <p:nvSpPr>
            <p:cNvPr id="112" name="TextBox 7"/>
            <p:cNvSpPr/>
            <p:nvPr/>
          </p:nvSpPr>
          <p:spPr>
            <a:xfrm>
              <a:off x="1911960" y="1894320"/>
              <a:ext cx="7480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8800" spc="-1" strike="noStrike">
                  <a:solidFill>
                    <a:srgbClr val="ff0000"/>
                  </a:solidFill>
                  <a:latin typeface="Calibri"/>
                  <a:ea typeface="微软雅黑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19"/>
            <p:cNvSpPr/>
            <p:nvPr/>
          </p:nvSpPr>
          <p:spPr>
            <a:xfrm>
              <a:off x="2627640" y="2504160"/>
              <a:ext cx="4392000" cy="555120"/>
            </a:xfrm>
            <a:prstGeom prst="rect">
              <a:avLst/>
            </a:prstGeom>
            <a:solidFill>
              <a:srgbClr val="9494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请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24"/>
            <p:cNvGrpSpPr/>
            <p:nvPr/>
          </p:nvGrpSpPr>
          <p:grpSpPr>
            <a:xfrm>
              <a:off x="2480760" y="2336400"/>
              <a:ext cx="532080" cy="910080"/>
              <a:chOff x="2480760" y="2336400"/>
              <a:chExt cx="532080" cy="910080"/>
            </a:xfrm>
          </p:grpSpPr>
          <p:sp>
            <p:nvSpPr>
              <p:cNvPr id="115" name="直角三角形 20"/>
              <p:cNvSpPr/>
              <p:nvPr/>
            </p:nvSpPr>
            <p:spPr>
              <a:xfrm flipV="1">
                <a:off x="2627640" y="2453760"/>
                <a:ext cx="338040" cy="546840"/>
              </a:xfrm>
              <a:prstGeom prst="rtTriangle">
                <a:avLst/>
              </a:prstGeom>
              <a:solidFill>
                <a:srgbClr val="d6d6d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cxnSp>
            <p:nvCxnSpPr>
              <p:cNvPr id="116" name="直接连接符 10"/>
              <p:cNvCxnSpPr/>
              <p:nvPr/>
            </p:nvCxnSpPr>
            <p:spPr>
              <a:xfrm flipH="1">
                <a:off x="2480760" y="2336400"/>
                <a:ext cx="532440" cy="910440"/>
              </a:xfrm>
              <a:prstGeom prst="straightConnector1">
                <a:avLst/>
              </a:prstGeom>
              <a:ln w="38100">
                <a:solidFill>
                  <a:srgbClr val="000000"/>
                </a:solidFill>
                <a:round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6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"/>
          <p:cNvSpPr/>
          <p:nvPr/>
        </p:nvSpPr>
        <p:spPr>
          <a:xfrm>
            <a:off x="0" y="0"/>
            <a:ext cx="9143640" cy="5551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100000">
                <a:srgbClr val="cfcfcf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18" name="直角三角形 3"/>
          <p:cNvSpPr/>
          <p:nvPr/>
        </p:nvSpPr>
        <p:spPr>
          <a:xfrm flipV="1">
            <a:off x="0" y="0"/>
            <a:ext cx="395280" cy="411120"/>
          </a:xfrm>
          <a:prstGeom prst="rtTriangle">
            <a:avLst/>
          </a:prstGeom>
          <a:solidFill>
            <a:srgbClr val="d6d6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467640" y="78840"/>
            <a:ext cx="32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广州中医药大学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539640" y="550080"/>
            <a:ext cx="8064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广州中医药大学位于美丽的羊城，成立于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1956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年，为新中国首批兴建的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所中医药高等学府之一，原属卫生部、国家中医药管理局领导，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2000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年转为中央和地方共建、以广东省管理为主，是国内首批有硕士、博士学位授予权以及临床医学专业学位、非医攻博试点单位，拥有硕士研究生推荐免试资格，两次接受教育部本科教学工作水平评估结果均为优秀，属广东拾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211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工程”重点建设高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校主页：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http://www.gzhtcm.edu.c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6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18"/>
          <p:cNvGrpSpPr/>
          <p:nvPr/>
        </p:nvGrpSpPr>
        <p:grpSpPr>
          <a:xfrm>
            <a:off x="2880000" y="807840"/>
            <a:ext cx="3031560" cy="3031560"/>
            <a:chOff x="2880000" y="807840"/>
            <a:chExt cx="3031560" cy="3031560"/>
          </a:xfrm>
        </p:grpSpPr>
        <p:sp>
          <p:nvSpPr>
            <p:cNvPr id="122" name="AutoShape 19"/>
            <p:cNvSpPr/>
            <p:nvPr/>
          </p:nvSpPr>
          <p:spPr>
            <a:xfrm rot="18492000">
              <a:off x="3359160" y="1287000"/>
              <a:ext cx="2072520" cy="207252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34925">
              <a:solidFill>
                <a:srgbClr val="ffff00"/>
              </a:solidFill>
              <a:miter/>
            </a:ln>
            <a:effectLst>
              <a:outerShdw algn="ctr" blurRad="317520" dir="0">
                <a:srgbClr val="000000">
                  <a:alpha val="43000"/>
                </a:srgbClr>
              </a:outerShdw>
            </a:effectLst>
            <a:scene3d>
              <a:camera prst="orthographicFront"/>
              <a:lightRig rig="threePt" dir="t"/>
            </a:scene3d>
            <a:sp3d extrusionH="38100" prstMaterial="clear">
              <a:bevelT prst="softRound" w="260350" h="50800"/>
              <a:bevelB prst="softRound"/>
            </a:sp3d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3" name="Group 20"/>
            <p:cNvGrpSpPr/>
            <p:nvPr/>
          </p:nvGrpSpPr>
          <p:grpSpPr>
            <a:xfrm>
              <a:off x="3086640" y="807840"/>
              <a:ext cx="2618280" cy="3031560"/>
              <a:chOff x="3086640" y="807840"/>
              <a:chExt cx="2618280" cy="3031560"/>
            </a:xfrm>
          </p:grpSpPr>
          <p:sp>
            <p:nvSpPr>
              <p:cNvPr id="124" name="AutoShape 21"/>
              <p:cNvSpPr/>
              <p:nvPr/>
            </p:nvSpPr>
            <p:spPr>
              <a:xfrm rot="13092000">
                <a:off x="4765680" y="974160"/>
                <a:ext cx="776160" cy="77328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ff0000"/>
              </a:solidFill>
              <a:ln w="34925">
                <a:solidFill>
                  <a:srgbClr val="ffff00"/>
                </a:solidFill>
                <a:miter/>
              </a:ln>
              <a:effectLst>
                <a:outerShdw algn="ctr" blurRad="317520" dir="0">
                  <a:srgbClr val="000000">
                    <a:alpha val="43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38100" prstMaterial="clear">
                <a:bevelT prst="softRound" w="260350" h="50800"/>
                <a:bevelB prst="softRound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AutoShape 22"/>
              <p:cNvSpPr/>
              <p:nvPr/>
            </p:nvSpPr>
            <p:spPr>
              <a:xfrm rot="13092000">
                <a:off x="4772880" y="964800"/>
                <a:ext cx="776160" cy="77328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ff0000"/>
              </a:solidFill>
              <a:ln w="34925">
                <a:solidFill>
                  <a:srgbClr val="ffff00"/>
                </a:solidFill>
                <a:miter/>
              </a:ln>
              <a:effectLst>
                <a:outerShdw algn="ctr" blurRad="317520" dir="0">
                  <a:srgbClr val="000000">
                    <a:alpha val="43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38100" prstMaterial="clear">
                <a:bevelT prst="softRound" w="260350" h="50800"/>
                <a:bevelB prst="softRound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AutoShape 23"/>
              <p:cNvSpPr/>
              <p:nvPr/>
            </p:nvSpPr>
            <p:spPr>
              <a:xfrm rot="2292000">
                <a:off x="3249360" y="2899440"/>
                <a:ext cx="776160" cy="77328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ff0000"/>
              </a:solidFill>
              <a:ln w="34925">
                <a:solidFill>
                  <a:srgbClr val="ffff00"/>
                </a:solidFill>
                <a:miter/>
              </a:ln>
              <a:effectLst>
                <a:outerShdw algn="ctr" blurRad="317520" dir="0">
                  <a:srgbClr val="000000">
                    <a:alpha val="43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38100" prstMaterial="clear">
                <a:bevelT prst="softRound" w="260350" h="50800"/>
                <a:bevelB prst="softRound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AutoShape 24"/>
              <p:cNvSpPr/>
              <p:nvPr/>
            </p:nvSpPr>
            <p:spPr>
              <a:xfrm rot="2292000">
                <a:off x="3242160" y="2908800"/>
                <a:ext cx="776160" cy="77328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ff0000"/>
              </a:solidFill>
              <a:ln w="34925">
                <a:solidFill>
                  <a:srgbClr val="ffff00"/>
                </a:solidFill>
                <a:miter/>
              </a:ln>
              <a:effectLst>
                <a:outerShdw algn="ctr" blurRad="317520" dir="0">
                  <a:srgbClr val="000000">
                    <a:alpha val="43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38100" prstMaterial="clear">
                <a:bevelT prst="softRound" w="260350" h="50800"/>
                <a:bevelB prst="softRound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8" name="Group 25"/>
            <p:cNvGrpSpPr/>
            <p:nvPr/>
          </p:nvGrpSpPr>
          <p:grpSpPr>
            <a:xfrm>
              <a:off x="2880000" y="1014480"/>
              <a:ext cx="3031560" cy="2618280"/>
              <a:chOff x="2880000" y="1014480"/>
              <a:chExt cx="3031560" cy="2618280"/>
            </a:xfrm>
          </p:grpSpPr>
          <p:sp>
            <p:nvSpPr>
              <p:cNvPr id="129" name="AutoShape 26"/>
              <p:cNvSpPr/>
              <p:nvPr/>
            </p:nvSpPr>
            <p:spPr>
              <a:xfrm rot="18492000">
                <a:off x="4970160" y="2694600"/>
                <a:ext cx="776160" cy="77328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ff0000"/>
              </a:solidFill>
              <a:ln w="34925">
                <a:solidFill>
                  <a:srgbClr val="ffff00"/>
                </a:solidFill>
                <a:miter/>
              </a:ln>
              <a:effectLst>
                <a:outerShdw algn="ctr" blurRad="317520" dir="0">
                  <a:srgbClr val="000000">
                    <a:alpha val="43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38100" prstMaterial="clear">
                <a:bevelT prst="softRound" w="260350" h="50800"/>
                <a:bevelB prst="softRound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AutoShape 27"/>
              <p:cNvSpPr/>
              <p:nvPr/>
            </p:nvSpPr>
            <p:spPr>
              <a:xfrm rot="18492000">
                <a:off x="4979520" y="2702160"/>
                <a:ext cx="776160" cy="77328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ff0000"/>
              </a:solidFill>
              <a:ln w="34925">
                <a:solidFill>
                  <a:srgbClr val="ffff00"/>
                </a:solidFill>
                <a:miter/>
              </a:ln>
              <a:effectLst>
                <a:outerShdw algn="ctr" blurRad="317520" dir="0">
                  <a:srgbClr val="000000">
                    <a:alpha val="43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38100" prstMaterial="clear">
                <a:bevelT prst="softRound" w="260350" h="50800"/>
                <a:bevelB prst="softRound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AutoShape 28"/>
              <p:cNvSpPr/>
              <p:nvPr/>
            </p:nvSpPr>
            <p:spPr>
              <a:xfrm rot="7692000">
                <a:off x="3044880" y="1178640"/>
                <a:ext cx="776160" cy="77328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ff0000"/>
              </a:solidFill>
              <a:ln w="34925">
                <a:solidFill>
                  <a:srgbClr val="ffff00"/>
                </a:solidFill>
                <a:miter/>
              </a:ln>
              <a:effectLst>
                <a:outerShdw algn="ctr" blurRad="317520" dir="0">
                  <a:srgbClr val="000000">
                    <a:alpha val="43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38100" prstMaterial="clear">
                <a:bevelT prst="softRound" w="260350" h="50800"/>
                <a:bevelB prst="softRound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AutoShape 29"/>
              <p:cNvSpPr/>
              <p:nvPr/>
            </p:nvSpPr>
            <p:spPr>
              <a:xfrm rot="7692000">
                <a:off x="3035520" y="1171440"/>
                <a:ext cx="776160" cy="77328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ff0000"/>
              </a:solidFill>
              <a:ln w="34925">
                <a:solidFill>
                  <a:srgbClr val="ffff00"/>
                </a:solidFill>
                <a:miter/>
              </a:ln>
              <a:effectLst>
                <a:outerShdw algn="ctr" blurRad="317520" dir="0">
                  <a:srgbClr val="000000">
                    <a:alpha val="43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38100" prstMaterial="clear">
                <a:bevelT prst="softRound" w="260350" h="50800"/>
                <a:bevelB prst="softRound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3" name="矩形 1"/>
          <p:cNvSpPr/>
          <p:nvPr/>
        </p:nvSpPr>
        <p:spPr>
          <a:xfrm>
            <a:off x="0" y="0"/>
            <a:ext cx="9143640" cy="5551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100000">
                <a:srgbClr val="cfcfcf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4" name="直角三角形 3"/>
          <p:cNvSpPr/>
          <p:nvPr/>
        </p:nvSpPr>
        <p:spPr>
          <a:xfrm flipV="1">
            <a:off x="0" y="0"/>
            <a:ext cx="395280" cy="411120"/>
          </a:xfrm>
          <a:prstGeom prst="rtTriangle">
            <a:avLst/>
          </a:prstGeom>
          <a:solidFill>
            <a:srgbClr val="d6d6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67640" y="78840"/>
            <a:ext cx="2448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请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172520" y="293184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因素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7"/>
          <p:cNvSpPr/>
          <p:nvPr/>
        </p:nvSpPr>
        <p:spPr>
          <a:xfrm>
            <a:off x="2423160" y="130896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因素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8"/>
          <p:cNvSpPr/>
          <p:nvPr/>
        </p:nvSpPr>
        <p:spPr>
          <a:xfrm>
            <a:off x="5076000" y="334260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因素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9"/>
          <p:cNvSpPr/>
          <p:nvPr/>
        </p:nvSpPr>
        <p:spPr>
          <a:xfrm>
            <a:off x="5652000" y="154188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因素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0"/>
          <p:cNvSpPr/>
          <p:nvPr/>
        </p:nvSpPr>
        <p:spPr>
          <a:xfrm>
            <a:off x="3634200" y="213876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一个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98520" y="47296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3"/>
          <p:cNvSpPr/>
          <p:nvPr/>
        </p:nvSpPr>
        <p:spPr>
          <a:xfrm>
            <a:off x="0" y="-20520"/>
            <a:ext cx="9143640" cy="5163840"/>
          </a:xfrm>
          <a:prstGeom prst="rect">
            <a:avLst/>
          </a:prstGeom>
          <a:solidFill>
            <a:srgbClr val="e61c2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518760" y="1203480"/>
            <a:ext cx="70671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"/>
          <p:cNvSpPr/>
          <p:nvPr/>
        </p:nvSpPr>
        <p:spPr>
          <a:xfrm>
            <a:off x="0" y="3219840"/>
            <a:ext cx="9143640" cy="1923480"/>
          </a:xfrm>
          <a:prstGeom prst="rect">
            <a:avLst/>
          </a:prstGeom>
          <a:gradFill rotWithShape="0">
            <a:gsLst>
              <a:gs pos="0">
                <a:srgbClr val="d4d4d4"/>
              </a:gs>
              <a:gs pos="100000">
                <a:srgbClr val="d6d6d6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518760" y="2111760"/>
            <a:ext cx="7067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for your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微软雅黑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微软雅黑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微软雅黑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  <Words>647</Words>
  <Paragraphs>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1:07:04Z</dcterms:created>
  <dc:creator>HHQ</dc:creator>
  <dc:description/>
  <dc:language>en-US</dc:language>
  <cp:lastModifiedBy>yu wang</cp:lastModifiedBy>
  <dcterms:modified xsi:type="dcterms:W3CDTF">2015-08-08T10:07:19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7</vt:r8>
  </property>
</Properties>
</file>